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5E2-8D61-4F83-BB55-04EF7FE7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B57-CABD-466A-B675-C12F43BC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927B8-29CC-456A-9DFB-33140507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1E276-ED21-45A2-9217-E415CDBF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B3630-2229-42EC-AD33-F7CF602E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902E8-46DB-411F-AB21-1C053A2C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EA0E5-0CAA-401E-8F06-B5A922DB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47BF0-C529-4036-B41B-1394A5A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F435E-9F86-4E24-8E03-1E36CAA9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69DE4-672B-4EDE-90C1-03C2652A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2E372-DD8C-48B2-980A-9C505B97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72E80-81B5-4FEA-9154-35095FF9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D65-1D89-48AD-BE59-6CFFF1DE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49BFC-60DE-4403-821E-A829BB4C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694A2-EF8F-4F58-9A4D-FC020A65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56DC8-95E0-4EFF-B5F7-AA0EE986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83165-CD30-4234-8E81-CD11426B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B628F-4A05-46E3-AC13-BC08ECAF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7B50F-0A51-46FC-BC16-95460E74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53D40-07C3-4A62-9041-A560C2F3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684B6-04AE-457E-BE84-3B5E958A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5209D-0EF3-4E20-B5B9-E3EF79BB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1EC6B-86CD-4A09-AEF3-77CC7E67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074-B5B9-4A18-B281-CE2BA7C1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E83B9-F102-482E-9E89-3E936F41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2D861-2011-4508-A8AF-A438C3DC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F4A74-57B5-4D1B-AFBE-7BD1D979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72407-DC69-4550-B25D-18C8C1C3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2CCB9-9E3E-42DA-8787-FC426931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9CE96-E235-4A90-B99F-0CC8A858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90944-F15A-450F-8CE0-63677F67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4741A-CCD7-43FB-8E30-07120013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E1E47-5A6A-494D-885E-D6A51C9E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13A11-23E3-45A8-9C05-F4BB950F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6056-18C1-40E9-A8EF-D3AE9071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5A422-7748-4D44-A719-F0F10981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7AAFF-D4D3-4794-94AC-3ABF1F0F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32F35-EF1C-412C-951E-8C54E22A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E0657-8C8A-4E6B-AAB3-D1D176F2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86EC8-8675-4757-B4C2-373EA3D6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5A1C1-F59E-47CF-94E3-936F6C4A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83BB3-A2D3-4132-AA43-28BE2144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D8171-FCFF-40C8-B496-79912ECF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EFA78-5AA1-42A7-9216-5A46F477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39E2A-9C57-4689-A397-8347B4D9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12A0-2C54-4F2D-B86D-5126F481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099C4-7C12-4BD9-9B88-4085C1E1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F42E6-E9CC-4C97-A371-5A971795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E0BB0-2CCD-4D13-B5E4-87C18305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59E7E-AD08-4808-9F5F-FEAFA77E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49424-140E-4225-8CF4-D81EA12A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FA150-0948-49BA-B78C-AFC72234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5F333-DE24-4F79-A688-692E0F9D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1A7D6-E88B-4D2D-B346-33C5F11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72BCF-C7D5-4931-864A-BB3A0A72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00F37-C9C7-4BD4-B3AC-CA095CB5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6484-B302-4696-906F-AA95D011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481A4-C4C0-49B0-AE6B-6B305941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18ECB-BB36-4E30-8BF4-2038671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8E933-DD60-454B-A0F4-4D9E9DB0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B9682-7E5C-44C0-95C0-038F912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D3357-7D36-432D-825E-F6DE8905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4F57E-4C44-4083-A80B-C489AB83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1E4BB-6426-444B-88F2-0EC92954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545E-1AF9-48AF-B0A7-D4B68582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45D3-2E9D-4BAF-A277-3BE3B8C2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3C7C-A206-44B0-94A9-0E20D684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59C0-2101-43F0-9E4D-55E54411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B83-5081-48BC-AE8E-2533C725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4042-9334-4638-BB04-D553AD98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F10D-F1A5-4B56-A767-CB85483F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B339-31FC-4F07-BC8B-7C4BBB5C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C21A-F2A6-487B-86A6-CECE01A4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3D7F-006B-4CE8-8177-55B11266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F3C0B-655B-4C42-BC6B-2218BEFC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39B4-8DAB-4022-A28E-4A80941B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7AD6-A8D9-4A86-BB65-0E488EB9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A250-91E9-477B-A2C2-44C76A5A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FD0FE-30D8-4E01-B84C-B809587E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374-4D50-4C99-81E0-CAE50738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A91F-A8F2-4F38-B852-86258726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6D23-BA63-4927-B55C-A8CF7233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370DF-A10E-4270-B936-EEC3CE2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69EC-ABD9-4142-8952-16F1317A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B650-2330-4588-BA56-DF23E449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DBB30-73F4-4568-803E-47F05B39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B5BE-88BF-432A-ADA1-ABB1A816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0877-C476-4145-9C8A-FA772131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5CD4-9717-40DC-BF13-C948DF20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7B6E-3F45-48C8-AB85-D4BDCE72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4B3-1821-41B3-AA13-ED5BA5EB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4CDFB-981F-465D-A8F0-696C84EC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2DAC-7578-454D-ADA9-C24EC3DA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A1647-72DA-4E09-92A1-B65F04A5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E2B55-942C-49D8-B426-3CDF1CFA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7DCC-D6E6-43E7-A4FA-42792F7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E023-DDBD-4CA6-9F92-735D9A0F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00963-03C4-42A3-848D-50E9A6C4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64B5-F704-44D2-A2EA-E8211004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979C0-0F73-4DDC-B914-46E527CB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CDC72-C478-4FB0-B57B-695CC743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0EA-2C71-4718-B83B-2C3A931E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73D82-5C41-4968-8D11-CE071491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A77B9-192B-4B65-B66E-1F60B21F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D8537-C80D-4797-A8D4-516F2710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D3CD-5B38-4F17-AE1E-D8FA1EB5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7AB4E-CA2B-45C3-91B9-F111C04B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C57C6-43B5-44A7-82CA-142B069A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2E79C-7243-4969-BF17-B92C32EC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8123A-7BCF-4609-9C0D-27DA314D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608B7-D3A5-4F5D-AD3E-A98DDD06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990B6-7912-4DF5-8DDB-2689BB79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EED-4F11-47F8-9D00-3B9019E2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860BE-9AC8-4A19-B9FC-F2E7EEBB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3D4E1-B182-48A0-BA40-DE17B650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D373F-789A-4C1A-A944-1038CEF0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05CA3-CF12-4160-90E3-CFA84997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9BD05-F14E-4366-BDF8-16025CAF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95212-A43F-48BD-80AD-895C1D9B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2FCDF-3101-4568-8D39-E1924210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24CD2-1685-4073-A6F7-1D3F09AA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62F7-9C5C-49BF-83BA-F7B17B0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B2908-4137-4E5B-8F4F-869F9232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15E-B429-49FB-AB10-432F5A75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B7523-7D66-43A3-B614-68650868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810D3-2122-4B79-8F2D-CB1F67CE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9D6E4-7330-4B1F-AD2A-DECF0500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1670B-087F-4778-B138-22475E98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93BBB-10FF-49F4-AE76-ACBE06EB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43462-BF40-4401-8975-75DFBBCB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41B14-54D1-44CD-8FAB-516863B4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5EB48-C60A-4BDD-8FC6-12AE7CC1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3D895-09E3-4388-8A89-43F6435C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141BB-48B6-4BDD-9970-2396CFB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3F7-F330-4EEE-8F6F-4D790688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38758-7814-4C7B-A096-2EEE1970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90726-FC1C-4C0B-A57E-388084A4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4F8E4-15F9-41C3-980B-F8D90546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02733-7887-4EBA-AAC0-83C94C81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C90E-9CEB-494D-AD94-4304FED9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20698-7A62-4541-B012-8868A9B5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11CC2-9103-4CFF-ACE0-D2190F90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0898B-1E67-4BDE-8DCE-1734B23C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795D-2BDB-4CF2-BCDB-18E53340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424CE-EE06-44A4-9220-BCF95180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A10-4E2F-43DD-BBA9-343909C9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65703-DD6D-4D45-AD57-F923DA56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E7B2C-8A4A-4462-824B-7F2FB7A2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76E2E-0490-458F-A1AC-9110F2A1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79EDD-C02A-48A1-9A59-56600785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88EE5-4862-4865-B233-E87821AE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18635-5B40-4D1E-B66F-F8D2DE83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20595-0BBA-464B-BC4E-241078D9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5796E-1FB4-4D82-BBAE-298A88D5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A1B91-FAF2-48A5-A6EC-067B6392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D562B-0168-4B2D-B25E-EE7B4068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8037-0EA7-4E1F-ADF8-994C294A37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43CA-1EA6-4836-AFF6-A31ACC0D75DF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90D1-E9C8-44B9-8645-7385765500B9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C5B1-8AC2-48F9-9440-BEF27CCA0CC9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76EF-CE29-4D91-A176-DBA3A550B0C8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C95B-05B6-4AF9-9166-F3E8107072A0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E7CD-1FE3-48DF-AFCE-52E5DAB74666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EB09-72CA-49A2-BE46-CF50D4CA5B52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AC3A-A163-425F-B9EE-F13E28734292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1755-4812-41B3-80DD-E67A4BCA5721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FBB5-D286-4073-88F1-41FBDD439F16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4FAC-A947-4A1F-9B4D-3B342B801FCF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D96-C9EA-40DF-8AAE-0C1D69F59F84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bfa2"/>
            </a:gs>
            <a:gs pos="100000">
              <a:srgbClr val="e1db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42c"/>
                </a:solidFill>
                <a:latin typeface="微软雅黑"/>
                <a:ea typeface="微软雅黑"/>
              </a:rPr>
              <a:t>office</a:t>
            </a:r>
            <a:r>
              <a:rPr b="1" lang="zh-CN" sz="4000" spc="-1" strike="noStrike">
                <a:solidFill>
                  <a:srgbClr val="66642c"/>
                </a:solidFill>
                <a:latin typeface="微软雅黑"/>
                <a:ea typeface="微软雅黑"/>
              </a:rPr>
              <a:t>小人故事之加班</a:t>
            </a:r>
            <a:r>
              <a:rPr b="1" lang="en-US" sz="4000" spc="-1" strike="noStrike">
                <a:solidFill>
                  <a:srgbClr val="66642c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66642c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0" y="574668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/>
          <p:cNvSpPr/>
          <p:nvPr/>
        </p:nvSpPr>
        <p:spPr>
          <a:xfrm>
            <a:off x="7164360" y="539640"/>
            <a:ext cx="1800360" cy="93672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还睡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09720" y="167760"/>
            <a:ext cx="732456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88960" y="1133640"/>
            <a:ext cx="7966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6994440" y="297000"/>
            <a:ext cx="1239840" cy="31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6:51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42:0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