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D91-0E51-47CB-BB2D-8CC0A467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A56-05B0-477B-9C3A-747DD5A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1ED-A050-4DF8-9FAB-7F23F032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0B2-2906-49E2-AB40-BA4D84B1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1D9-39C7-4B67-B961-58F55CF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C5F-A039-4493-B7DE-C6E87E4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A14-58B8-496A-BB5E-6A650C14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B8C-DA20-403E-9E4E-D56A2731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FBB-34E5-4DEB-AFF0-CA20E74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A3E-E487-4533-AEDF-3422C8F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065-C143-48F7-9421-3267E43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C2F-9587-44BF-947D-9D94734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ABE-6825-485F-8E97-5A96A47501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3F0-5928-4417-A451-1D74B20F29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7"/>
          <p:cNvSpPr/>
          <p:nvPr/>
        </p:nvSpPr>
        <p:spPr>
          <a:xfrm>
            <a:off x="2228760" y="63914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5937120" y="1844640"/>
            <a:ext cx="346320" cy="345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5584680" y="2190600"/>
            <a:ext cx="346320" cy="3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937120" y="2198520"/>
            <a:ext cx="346320" cy="3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6296040" y="2190600"/>
            <a:ext cx="345960" cy="3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6654960" y="2527200"/>
            <a:ext cx="345960" cy="3463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296040" y="2544840"/>
            <a:ext cx="345960" cy="345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5937120" y="2550960"/>
            <a:ext cx="346320" cy="3463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584680" y="2544840"/>
            <a:ext cx="346320" cy="345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5227560" y="2549520"/>
            <a:ext cx="346320" cy="345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867200" y="2909880"/>
            <a:ext cx="346320" cy="345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5227560" y="2901960"/>
            <a:ext cx="346320" cy="3459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584680" y="2897280"/>
            <a:ext cx="346320" cy="345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5937120" y="2903400"/>
            <a:ext cx="346320" cy="3463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6296040" y="2897280"/>
            <a:ext cx="345960" cy="345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654960" y="2886120"/>
            <a:ext cx="345960" cy="3459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7010280" y="2886120"/>
            <a:ext cx="346320" cy="3459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7370640" y="3252960"/>
            <a:ext cx="346320" cy="3459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7010280" y="3246480"/>
            <a:ext cx="346320" cy="345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6654960" y="3243240"/>
            <a:ext cx="345960" cy="3459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296040" y="3249720"/>
            <a:ext cx="345960" cy="345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5937120" y="3255840"/>
            <a:ext cx="346320" cy="3463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584680" y="3249720"/>
            <a:ext cx="346320" cy="3459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27560" y="3254400"/>
            <a:ext cx="346320" cy="3459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4867200" y="3262320"/>
            <a:ext cx="346320" cy="3459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4508640" y="3262320"/>
            <a:ext cx="345960" cy="3459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4867200" y="3614760"/>
            <a:ext cx="346320" cy="3459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227560" y="3606840"/>
            <a:ext cx="346320" cy="3459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5584680" y="3602160"/>
            <a:ext cx="346320" cy="3459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5937120" y="3608280"/>
            <a:ext cx="346320" cy="3463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6296040" y="3602160"/>
            <a:ext cx="345960" cy="3459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654960" y="3602160"/>
            <a:ext cx="345960" cy="3459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7010280" y="3605040"/>
            <a:ext cx="346320" cy="34632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6654960" y="3960720"/>
            <a:ext cx="345960" cy="34632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6296040" y="3954600"/>
            <a:ext cx="345960" cy="3459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5937120" y="3960720"/>
            <a:ext cx="346320" cy="3463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584680" y="3954600"/>
            <a:ext cx="346320" cy="3459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227560" y="3959280"/>
            <a:ext cx="346320" cy="3459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84680" y="4307040"/>
            <a:ext cx="346320" cy="3459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5937120" y="4314960"/>
            <a:ext cx="346320" cy="3459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296040" y="4307040"/>
            <a:ext cx="345960" cy="3459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5937120" y="4667400"/>
            <a:ext cx="346320" cy="3459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1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2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3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4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55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20" y="652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8360" y="21420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倒计时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 repeatCount="5000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 repeatCount="5000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16" repeatCount="5000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 repeatCount="5000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3" presetSubtype="16" repeatCount="5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3" presetSubtype="16" repeatCount="5000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 repeatCount="5000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 repeatCount="5000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 repeatCount="5000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16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 repeatCount="5000">
                                  <p:stCondLst>
                                    <p:cond delay="1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 repeatCount="5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 repeatCount="5000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16" repeatCount="5000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16" repeatCount="5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3" presetSubtype="16" repeatCount="5000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16" repeatCount="5000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16" repeatCount="5000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 repeatCount="5000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3" presetSubtype="16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3" presetSubtype="16" repeatCount="5000">
                                  <p:stCondLst>
                                    <p:cond delay="21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3" presetSubtype="16" repeatCount="5000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3" presetSubtype="16" repeatCount="5000">
                                  <p:stCondLst>
                                    <p:cond delay="23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16" repeatCount="5000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3" presetSubtype="16" repeatCount="5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16" repeatCount="5000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 repeatCount="5000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 repeatCount="5000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3" presetSubtype="16" repeatCount="5000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16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 repeatCount="5000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3" presetSubtype="16" repeatCount="5000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3" presetSubtype="16" repeatCount="5000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3" presetSubtype="16" repeatCount="5000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3" presetSubtype="16" repeatCount="5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16" repeatCount="5000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3" presetSubtype="16" repeatCount="5000">
                                  <p:stCondLst>
                                    <p:cond delay="37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3" presetSubtype="16" repeatCount="5000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3" presetSubtype="16" repeatCount="5000">
                                  <p:stCondLst>
                                    <p:cond delay="39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3" presetSubtype="16" repeatCount="5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3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16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3" presetSubtype="16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5423040" y="5405400"/>
            <a:ext cx="36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http://weibo.com/huzhan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423040" y="459432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璞石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@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璞石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4" descr=""/>
          <p:cNvPicPr/>
          <p:nvPr/>
        </p:nvPicPr>
        <p:blipFill>
          <a:blip r:embed="rId1"/>
          <a:stretch/>
        </p:blipFill>
        <p:spPr>
          <a:xfrm>
            <a:off x="5002200" y="461340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002200" y="5425920"/>
            <a:ext cx="385920" cy="3477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4975200" y="4968720"/>
            <a:ext cx="3848040" cy="530280"/>
            <a:chOff x="4975200" y="4968720"/>
            <a:chExt cx="3848040" cy="530280"/>
          </a:xfrm>
        </p:grpSpPr>
        <p:sp>
          <p:nvSpPr>
            <p:cNvPr id="96" name="TextBox 12"/>
            <p:cNvSpPr/>
            <p:nvPr/>
          </p:nvSpPr>
          <p:spPr>
            <a:xfrm>
              <a:off x="5420160" y="5047200"/>
              <a:ext cx="34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ttp://pushi.yanj.c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"/>
            <p:cNvPicPr/>
            <p:nvPr/>
          </p:nvPicPr>
          <p:blipFill>
            <a:blip r:embed="rId3"/>
            <a:stretch/>
          </p:blipFill>
          <p:spPr>
            <a:xfrm>
              <a:off x="4992120" y="5062680"/>
              <a:ext cx="3600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矩形 14"/>
            <p:cNvSpPr/>
            <p:nvPr/>
          </p:nvSpPr>
          <p:spPr>
            <a:xfrm>
              <a:off x="4975200" y="4968720"/>
              <a:ext cx="36039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5"/>
          <p:cNvSpPr/>
          <p:nvPr/>
        </p:nvSpPr>
        <p:spPr>
          <a:xfrm>
            <a:off x="5002200" y="5405400"/>
            <a:ext cx="3897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6" descr=""/>
          <p:cNvPicPr/>
          <p:nvPr/>
        </p:nvPicPr>
        <p:blipFill>
          <a:blip r:embed="rId4"/>
          <a:stretch/>
        </p:blipFill>
        <p:spPr>
          <a:xfrm>
            <a:off x="3502080" y="4516560"/>
            <a:ext cx="1316160" cy="1330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17"/>
          <p:cNvSpPr/>
          <p:nvPr/>
        </p:nvSpPr>
        <p:spPr>
          <a:xfrm>
            <a:off x="4902120" y="4516560"/>
            <a:ext cx="3997440" cy="1330200"/>
          </a:xfrm>
          <a:prstGeom prst="rect">
            <a:avLst/>
          </a:prstGeom>
          <a:noFill/>
          <a:ln w="3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8" descr=""/>
          <p:cNvPicPr/>
          <p:nvPr/>
        </p:nvPicPr>
        <p:blipFill>
          <a:blip r:embed="rId5"/>
          <a:srcRect l="0" t="4231" r="0" b="15963"/>
          <a:stretch/>
        </p:blipFill>
        <p:spPr>
          <a:xfrm>
            <a:off x="3502080" y="1550880"/>
            <a:ext cx="5397480" cy="28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200" y="6391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852-648B-4CCE-82CD-C0BCA6068D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7:12:00Z</dcterms:created>
  <dc:creator>胡占利</dc:creator>
  <dc:description/>
  <dc:language>en-US</dc:language>
  <cp:lastModifiedBy>ppt宝藏 www.pptbz.com提供漂亮ppt模板下载</cp:lastModifiedBy>
  <dcterms:modified xsi:type="dcterms:W3CDTF">2015-07-20T07:35:1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