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D12-99DE-458B-9793-34B97431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50B-C691-4934-9E9A-D8E19912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F86D7-42C3-402A-A1FB-FEF9F2C2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AA193-3DB9-4A59-8343-E692E09E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127A5-61CD-40F3-9BB5-765BC648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C3898-869B-4021-8F77-63FA8D1F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B2098-5606-4DF9-BE18-E1FF3EBB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99899-F5B8-435C-BA41-336F09B7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984EB-5215-43C9-AA21-7178D00B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5B8EA-9F87-439B-A0EC-E3C9547E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BAD7E-E4A6-4A6C-96AD-767AF983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7FF4B-FFA0-4DB8-8DB1-EB467350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E93-7CC6-4BC9-AC94-4E65595A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7E110-D7A7-42C4-8838-5D1308E2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AB787-9CED-4A63-8B86-5F99B412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95489-1F26-450F-B71F-3A211A54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43027-8D59-4D3D-A453-61DB82A8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06678-E2B9-4F7F-AFA4-B44BE167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E0F48-BA5B-4D8C-9E1B-DC367327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A633C-06E6-479E-9C4E-9D793DD4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CC764-512A-4E26-B366-4F2DF38E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1C7D6-1862-4709-BE02-7184BB11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FC9E3-60A4-4FBA-92FF-49778DC1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C98-950B-45C1-AC37-015FB996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72549-58B8-46EB-B58F-7EFC223E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895D5-B04E-460C-8D73-B71EF578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579E8-31DC-4A55-A8EF-47962B71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CA056-0B73-44ED-BDE6-3A0FCCA0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C646F-0439-4E9F-BCD0-CE58F8EA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3468B-AB4A-476C-8257-21EB9833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C9E0E-77F1-4015-A38A-DA4D61AA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BC718-945E-4D51-9873-D0EDFC6A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A3992-F8BC-4DC0-BC52-B1C5136C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86A4D-4BC2-49E0-827D-414996E8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92C5-AB7C-4972-BB96-242F4362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8B205-F7FE-4F7A-A407-4800E9A2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8E1D0-3FB6-4C2F-B832-42615B61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DBBFB-34F2-42AC-9AA6-8641A0E1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280F6-FEF9-4CFD-887E-241937A1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4BFAC-A5CE-4A78-85C0-9601BD08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26FD3-502D-41ED-B702-DB62F11E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4EE9F-3E59-40AA-A7AD-20DE8D30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07D1C-41CF-4F06-B5EE-35C0C122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F1E8F-A823-46E1-A70F-4E82AD86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BEAF9-E8BC-43A9-9F83-5727E454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B19D-296B-4B48-8EE4-66F34A1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78948-344F-4462-B31E-74961061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C06CE-5FE7-4110-BC03-DC847148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E4205-BCC5-4549-9F5C-B8FB89BA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C5EB4-2CC5-43FF-9FA5-E139D052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46E37-272A-4F6F-A1C7-3915D2D8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637F9-DD8A-4409-9562-F6E5D90D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102EE-C185-4DF1-825B-4B7188CE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0A022-81E1-4DF6-B2FE-1A508F18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B84D4-95EB-404D-9B45-823282F1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8E904-4CF1-4591-B1B4-68A77FDE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DD49-F3E9-4FF7-A37B-89E39298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2C9BF-BCE9-4F3C-9305-D5BC5B13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D97E0-FB3C-4A20-AFFB-8D748570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7ECB2-E14D-4C98-AFE3-9EBCBC10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C52BC-F6DC-424B-A3A3-3FA943F0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586DB-C9B8-4C16-9C57-CDDC53F8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35740-1F4D-4360-B929-C02047A4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BD6EC-0A52-4F94-ABB0-C4572614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0D2E9-672A-47F4-B2CB-8B07E7BE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51251-24A2-415E-9E0A-39C856F7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98C60-F22F-4D3A-A0B1-237538CC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74DA-7D9C-4B3C-96FA-4EF03B74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A36FD-032D-425B-BD15-6A357993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DB480-C72D-401F-8751-2AF8A4E7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9EE08-767E-43D2-A041-A41344F9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46249-5B33-41AE-8C73-1B41A64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71DE4-B4E2-447A-952A-805FC1E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79081-CF58-4143-A008-50FA656D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E8801-998B-4763-B747-7604C1F7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8EA0A-437D-41C1-A4F9-08187EF3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AA7B4-6C0A-40B6-8773-7D48CFDD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3931-841D-4F61-8B47-19C8A720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CE08-09B0-439A-8BDF-9F45ECE3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C914-A9F1-410B-9E63-C70077D0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B3F-FA1F-4D25-ABFB-C0D29519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82F4-8951-4865-BE24-17B7C744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E660-BB1E-4232-B46A-DC2884D2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5AF2-6ACC-48A5-B729-8B711209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D59E-E405-460D-839E-45269BB2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3F52-5BA4-4AB7-9BE1-BC3D8266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3AA9F-50A0-4C19-B0C9-6065528D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D223-D3C9-429D-A42C-28DA2B43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AC3A-6DD4-4631-82A0-A9DD43C1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F809-58F0-4B27-B59C-8097D2C1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8A784-D584-4CEC-9B47-7EE3CBC9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BBB-D5E3-4AD4-9C62-10085EDE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9357-5D10-4465-9172-CD312C6E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9782-E843-4A42-8558-CC671953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1AC74-7BD5-45BF-BA1B-AEB4ACCF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E8DE6-4667-4BCB-ABEF-0D460E52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BA68-E1B2-42B0-B0B4-2E23DFA6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0E51-4FD0-44C6-B3C7-0ACC96CC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275AA-3D30-41E2-9A76-8016C7C7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CDA0-4C67-4735-8FC8-A75875D9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0704-7B56-4BB6-AC5D-1ACDDD84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1D4E-6E85-4324-8751-CEA2EEAA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183-2AAA-4951-991D-494C4F0A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1C3A3-CE72-410F-8E7B-5BC9223D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24E1-4E58-4655-918D-0EA0CE68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86CAA-515E-487E-B067-51609EF8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C8B2-91ED-427B-86B5-7F0EE399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7990-7239-473D-ACE6-9AB3FF6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1399-FBC2-4C3A-AC2A-9F95A9D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0E393-E495-4725-8992-18D09F53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EC023-E242-4A5B-9494-739D2592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FEE5D-23FC-4677-903C-468A3266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513AA-5965-42D5-B2FB-E8DCA91E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8C7-0C69-4018-9B65-6AAE951C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B6C4-3D96-4844-9EE7-2CB9EFEB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A780E-2416-4348-A498-2DEF6EC5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E7A01-E71C-4EAF-86FE-565CDB2C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F5B91-EBED-4B55-AC4B-6CF84C53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46FB7-DBCE-4B24-A0F7-F9765198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CD8DF-7730-439F-B1AC-89AF69A1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05775-BDBC-471E-9DBD-305FA986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105DC-72CA-4E6B-BFE8-DEDB90FD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262DF-777D-4A36-A06B-44A60FA1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3F29B-DF49-40A2-91EC-01E71B5D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36A-0788-486F-BD20-C17C1680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109FD-CCA3-4509-9EA1-53EBEBED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0F00-A7E4-4170-BE51-73BD9C53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7B73-8CDC-4306-BB73-3C40761C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00C2-69B9-4858-9B37-EDD35A5B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AF1D7-FE75-44FE-A684-D7391C22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1A85F-5377-4F59-9BE4-48E2741F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6444-338E-4973-99A7-FC7B4857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0897B-ADA8-44A3-AF52-92FB0C7F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3FF1E-3852-4BCA-9DC4-7C91C2E7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6643C-437B-43D2-B22F-A5073C9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E73-9D8B-4926-9F64-0C3468E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F59DC-39AA-44AF-B9CC-89195812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EEE7F-31DF-4E31-A733-ADE1E106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EE14D-D276-4DF5-BD07-1E0FC499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70124-E6C8-4F7B-863F-AFBFCBC6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439AC-850E-4A45-8322-CC18639F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B6620-6CD2-4F5F-8DF5-4780146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2C474-2FEF-46EA-87F0-FED1B438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DA0CC-879D-4DFB-AE16-2FCF7D93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CE94B-1AC9-4924-AD3B-BF02C781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75824-88FB-422C-ACDA-2134F408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EC0-2B13-4421-BA13-5F006EC9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FC081-9E3B-4914-BFF9-CED63F11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CE882-7F55-4BE6-971E-C46CA2EA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45DCD-7C9E-4F48-B02C-1561D6BA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B586F-131E-4E25-BEC0-78852E20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9A370-37A4-4C29-8BFA-FF6EC0E5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CBB5E-5577-476A-9009-C881AFA4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6B3FF-9F03-4DD3-AECD-D20AD0D1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24D5F-AAEF-4601-BACC-D3BB94BB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61B43-804E-432E-AFBC-738E0A0D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17E3A-8C4A-4E88-82B6-2646C60B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793-4FCF-4A93-896F-A9F3F127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B9842-66DC-41C8-9B84-05229528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29EA3-FFAB-4201-9A51-CA0E2A38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E8057-77E5-4A4C-9272-B874DF2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56DF2-3EAD-4B28-B5DE-2E4BE797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CBFE4-B32D-4167-A58D-4938A940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4405C-8B67-4F89-9B71-34B7DBF9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CFF86-B86F-42E5-B9CB-11D578BA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7198E-349F-406E-92C5-82C6754E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B5F0F-C8EF-423D-8455-754EE5B5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B9216-56DD-4793-941A-9D960039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9017-58BE-49E6-AD5B-B3F5F068D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08F4-074B-4B2B-9195-4262154132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344F-FBB7-435C-BF94-E495457A8F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08E6-A9DF-459C-8EA1-A1CE336316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7013-9FDA-46FA-96FB-5492995254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DB76-E107-47EC-B672-FD5C74B7AA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6808-0E0A-48AA-A247-23914CC63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3ADD-465F-4E32-A5BA-7D7CF74D54A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0455-7CC2-4869-B73B-B38B1B942C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0B29-B795-4099-8610-72B542460A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7FFB-6FF2-4DEA-B8EC-79931D1BDF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4569-A76F-4FDC-8346-4D986654FA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B6D4-EC86-4C56-B5D2-B4C25BB4EF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6AD8-B892-49DD-82D1-E81AF098F8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00761421374181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矩形 1"/>
          <p:cNvSpPr/>
          <p:nvPr/>
        </p:nvSpPr>
        <p:spPr>
          <a:xfrm>
            <a:off x="2627280" y="26028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爬山虎的脚</a:t>
            </a:r>
            <a:r>
              <a:rPr b="0" lang="en-US" sz="40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模板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76" name="矩形 5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7236000" y="765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叶柄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3851280" y="1341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枝状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476360" y="1341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反面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468360" y="18446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蜗牛的触角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0" y="2421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嫩红的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3132000" y="3213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触着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395280" y="37893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头上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4716360" y="3789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巴住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7885080" y="4292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拉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0" y="4292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的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1908000" y="4941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紧贴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4211640" y="620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茎上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2627280" y="4365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弯曲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0" y="76500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爬山虎的脚长在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。茎上长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的地方，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伸出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的六七根丝</a:t>
            </a: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每根丝像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_______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细丝跟新叶子一样</a:t>
            </a: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也是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__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。这就是爬山虎脚。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爬山虎的脚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墙的时候</a:t>
            </a: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六七根细丝的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就变成小圆片</a:t>
            </a:r>
            <a:r>
              <a:rPr b="1" lang="en-US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墙。细丝原先是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，现在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了，把爬山虎的嫩茎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一把，使它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_____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在墙上。爬山虎就是这样一脚一脚地往上爬。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20069291826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" descr="龙3"/>
          <p:cNvPicPr/>
          <p:nvPr/>
        </p:nvPicPr>
        <p:blipFill>
          <a:blip r:embed="rId2"/>
          <a:srcRect l="25111" t="20123" r="33335" b="21213"/>
          <a:stretch/>
        </p:blipFill>
        <p:spPr>
          <a:xfrm>
            <a:off x="4067280" y="1125360"/>
            <a:ext cx="5076720" cy="5732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pshj"/>
          <p:cNvPicPr/>
          <p:nvPr/>
        </p:nvPicPr>
        <p:blipFill>
          <a:blip r:embed="rId3"/>
          <a:srcRect l="43394" t="0" r="3245" b="3406"/>
          <a:stretch/>
        </p:blipFill>
        <p:spPr>
          <a:xfrm>
            <a:off x="-36360" y="0"/>
            <a:ext cx="4103640" cy="4221000"/>
          </a:xfrm>
          <a:prstGeom prst="rect">
            <a:avLst/>
          </a:prstGeom>
          <a:ln w="0">
            <a:noFill/>
          </a:ln>
        </p:spPr>
      </p:pic>
      <p:sp>
        <p:nvSpPr>
          <p:cNvPr id="617" name="Oval 8"/>
          <p:cNvSpPr/>
          <p:nvPr/>
        </p:nvSpPr>
        <p:spPr>
          <a:xfrm>
            <a:off x="5724360" y="2565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18" name="Oval 9"/>
          <p:cNvSpPr/>
          <p:nvPr/>
        </p:nvSpPr>
        <p:spPr>
          <a:xfrm>
            <a:off x="5148360" y="1844640"/>
            <a:ext cx="1224000" cy="107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脚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DSC04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爬山虎的脚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长在茎上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茎上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长叶柄的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地方，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反面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伸出枝状的六七根细丝，</a:t>
            </a: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每根细丝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像</a:t>
            </a: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蜗牛的触角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4" descr="d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17"/>
          <p:cNvGrpSpPr/>
          <p:nvPr/>
        </p:nvGrpSpPr>
        <p:grpSpPr>
          <a:xfrm>
            <a:off x="4343400" y="990720"/>
            <a:ext cx="4800600" cy="4710960"/>
            <a:chOff x="4343400" y="990720"/>
            <a:chExt cx="4800600" cy="4710960"/>
          </a:xfrm>
        </p:grpSpPr>
        <p:sp>
          <p:nvSpPr>
            <p:cNvPr id="624" name="AutoShape 15"/>
            <p:cNvSpPr/>
            <p:nvPr/>
          </p:nvSpPr>
          <p:spPr>
            <a:xfrm>
              <a:off x="4343400" y="990720"/>
              <a:ext cx="4038480" cy="3047760"/>
            </a:xfrm>
            <a:prstGeom prst="wedgeEllipseCallout">
              <a:avLst>
                <a:gd name="adj1" fmla="val 37148"/>
                <a:gd name="adj2" fmla="val 75106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25" name="Text Box 16"/>
            <p:cNvSpPr/>
            <p:nvPr/>
          </p:nvSpPr>
          <p:spPr>
            <a:xfrm>
              <a:off x="7467480" y="48765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触角</a:t>
              </a:r>
              <a:endParaRPr b="0" lang="en-US" sz="4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539640" y="100476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爬山虎的脚触着墙的时候，六七根细丝的头上就变成小圆片，巴住墙。细丝原先是直的，现在弯曲了，把爬山虎的嫩茎拉一把，使它紧贴在墙上。爬山虎就是这样一脚一脚地往上爬。如果你仔细看那些细小的脚，你会想起图画上蛟龙的爪子。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685800" y="7621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爬山虎的脚触着墙的时候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七根细丝的头上就变成小圆片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巴住墙。细丝原先是直的，现在弯曲了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爬山虎的嫩茎拉一把，使它紧贴在墙上。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755640" y="26028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爬山虎是怎样一脚一脚往上爬的 （                                                                                                                              ）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838080" y="4038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爬山虎的脚要是没触着墙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几天就萎了，后来连痕迹也没有了。触着墙的，细丝和小圆片逐渐变成灰色。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611280" y="26776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爬山虎的脚没触着墙和触着墙时的变化（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  <a:ea typeface="华文新魏"/>
              </a:rPr>
              <a:t>www.eeppt.com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20069291826371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3"/>
          <p:cNvSpPr/>
          <p:nvPr/>
        </p:nvSpPr>
        <p:spPr>
          <a:xfrm>
            <a:off x="6018120" y="1039680"/>
            <a:ext cx="1552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着墙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成小圆片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住墙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把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紧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在墙上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34" name="Line 4"/>
          <p:cNvSpPr/>
          <p:nvPr/>
        </p:nvSpPr>
        <p:spPr>
          <a:xfrm>
            <a:off x="6372360" y="1773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35" name="Line 5"/>
          <p:cNvSpPr/>
          <p:nvPr/>
        </p:nvSpPr>
        <p:spPr>
          <a:xfrm>
            <a:off x="6372360" y="2852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36" name="Line 6"/>
          <p:cNvSpPr/>
          <p:nvPr/>
        </p:nvSpPr>
        <p:spPr>
          <a:xfrm>
            <a:off x="630072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37" name="Line 7"/>
          <p:cNvSpPr/>
          <p:nvPr/>
        </p:nvSpPr>
        <p:spPr>
          <a:xfrm>
            <a:off x="6300720" y="501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4067280" y="285264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瞧不起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5076720" y="34290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相当牢固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3203640" y="407664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不费一点劲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468360" y="981000"/>
            <a:ext cx="81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爬山虎的脚要是没触着墙，不几天就</a:t>
            </a:r>
            <a:r>
              <a:rPr b="1" lang="en-US" sz="4000" spc="-1" strike="noStrike">
                <a:solidFill>
                  <a:srgbClr val="336600"/>
                </a:solidFill>
                <a:latin typeface="宋体"/>
                <a:ea typeface="宋体"/>
              </a:rPr>
              <a:t>____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，后来连痕迹也没有了。触着墙的，细丝和小圆片逐渐</a:t>
            </a:r>
            <a:r>
              <a:rPr b="1" lang="en-US" sz="4000" spc="-1" strike="noStrike">
                <a:solidFill>
                  <a:srgbClr val="336600"/>
                </a:solidFill>
                <a:latin typeface="宋体"/>
                <a:ea typeface="宋体"/>
              </a:rPr>
              <a:t>________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。不要</a:t>
            </a:r>
            <a:r>
              <a:rPr b="1" lang="en-US" sz="4000" spc="-1" strike="noStrike">
                <a:solidFill>
                  <a:srgbClr val="336600"/>
                </a:solidFill>
                <a:latin typeface="宋体"/>
                <a:ea typeface="宋体"/>
              </a:rPr>
              <a:t>_______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那些灰色的脚，那些脚巴在墙上</a:t>
            </a:r>
            <a:r>
              <a:rPr b="1" lang="en-US" sz="4000" spc="-1" strike="noStrike">
                <a:solidFill>
                  <a:srgbClr val="336600"/>
                </a:solidFill>
                <a:latin typeface="宋体"/>
                <a:ea typeface="宋体"/>
              </a:rPr>
              <a:t>_________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，要是你的手指</a:t>
            </a:r>
            <a:r>
              <a:rPr b="1" lang="en-US" sz="4000" spc="-1" strike="noStrike">
                <a:solidFill>
                  <a:srgbClr val="336600"/>
                </a:solidFill>
                <a:latin typeface="宋体"/>
                <a:ea typeface="宋体"/>
              </a:rPr>
              <a:t>___________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休想拉下爬山虎的一根茎。</a:t>
            </a:r>
            <a:r>
              <a:rPr b="1" lang="zh-CN" sz="36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054800" y="270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变成灰色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2527560" y="155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萎了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44" name="AutoShape 8">
            <a:hlinkClick r:id="" action="ppaction://hlinkshowjump?jump=previous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hangye/ </a:t>
            </a:r>
            <a:endParaRPr b="0" lang="en-US" sz="1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sucai/</a:t>
            </a:r>
            <a:endParaRPr b="0" lang="en-US" sz="1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tubiao/      </a:t>
            </a:r>
            <a:endParaRPr b="0" lang="en-US" sz="1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powerpoint/      </a:t>
            </a:r>
            <a:endParaRPr b="0" lang="en-US" sz="1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excel/  </a:t>
            </a:r>
            <a:endParaRPr b="0" lang="en-US" sz="1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kejian/ </a:t>
            </a:r>
            <a:endParaRPr b="0" lang="en-US" sz="1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shiti/  </a:t>
            </a:r>
            <a:endParaRPr b="0" lang="en-US" sz="1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www.1ppt.com/jiaoan/  </a:t>
            </a:r>
            <a:endParaRPr b="0" lang="en-US" sz="1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endParaRPr b="0" lang="en-US" sz="1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578" name="Picture 2" descr="未标题2"/>
          <p:cNvPicPr/>
          <p:nvPr/>
        </p:nvPicPr>
        <p:blipFill>
          <a:blip r:embed="rId1"/>
          <a:srcRect l="0" t="5315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5961240" y="2349360"/>
            <a:ext cx="915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2340000" y="2205000"/>
            <a:ext cx="4968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539640" y="100476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爬山虎的脚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时候，六七根细丝的头上就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小圆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巴住墙。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细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先是直的，现在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弯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把爬山虎的嫩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茎拉一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它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紧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墙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爬山虎就是这样一脚一脚地往上爬。如果你仔细看那些细小的脚，你会想起图画上蛟龙的爪子。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395280" y="170064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☆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读下面的句子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体会哪句话用词准确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并讲出理由。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爬山虎就是这样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一脚一脚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地往上爬。  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爬山虎就是这样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一步一步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地往上爬。</a:t>
            </a:r>
            <a:r>
              <a:rPr b="0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682560" y="24217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不要瞧不起那些灰色的脚，那些脚巴在墙上相当</a:t>
            </a:r>
            <a:r>
              <a:rPr b="1" lang="zh-CN" sz="4000" spc="-1" strike="noStrike" u="sng">
                <a:solidFill>
                  <a:srgbClr val="990099"/>
                </a:solidFill>
                <a:uFillTx/>
                <a:latin typeface="楷体_GB2312"/>
                <a:ea typeface="楷体_GB2312"/>
              </a:rPr>
              <a:t>牢固</a:t>
            </a:r>
            <a:r>
              <a:rPr b="1" lang="zh-CN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，要是你的手指不费一点儿劲，</a:t>
            </a:r>
            <a:r>
              <a:rPr b="1" lang="zh-CN" sz="4000" spc="-1" strike="noStrike" u="sng">
                <a:solidFill>
                  <a:srgbClr val="990099"/>
                </a:solidFill>
                <a:uFillTx/>
                <a:latin typeface="楷体_GB2312"/>
                <a:ea typeface="楷体_GB2312"/>
              </a:rPr>
              <a:t>休想</a:t>
            </a:r>
            <a:r>
              <a:rPr b="1" lang="zh-CN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拉下爬山虎的一根茎。 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  <a:ea typeface="华文新魏"/>
              </a:rPr>
              <a:t>www.eeppt.com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3059280" y="4941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漾 起 波 纹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5364000" y="4365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拂过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2268360" y="4292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空隙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2340000" y="3789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均匀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1332000" y="3213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舒服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4859280" y="2708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新鲜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971640" y="15573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嫩绿的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755640" y="54936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爬山虎刚长出来的叶子是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不几天叶子长大，就变成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______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爬山虎的嫩叶不大引人注意，引人注意的是长大了的叶子。那些叶子绿的那么　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_____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看着非常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_____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叶尖一顺朝下，在墙上铺的那么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_____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没有重叠起来，也不留一点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_____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一阵风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_____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一墙的叶子就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_________,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好看得很</a:t>
            </a:r>
            <a:r>
              <a:rPr b="1" lang="zh-CN" sz="32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。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826920" y="9810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99"/>
                </a:solidFill>
                <a:latin typeface="Times New Roman"/>
                <a:ea typeface="楷体_GB2312"/>
              </a:rPr>
              <a:t>嫩红的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3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3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3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5" descr="DSC04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4"/>
          <p:cNvSpPr/>
          <p:nvPr/>
        </p:nvSpPr>
        <p:spPr>
          <a:xfrm>
            <a:off x="755640" y="126828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叶子（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绿得那么新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让人看着（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非常舒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还（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一顺儿朝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（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均匀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铺在墙上，没有（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重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也不留一点儿（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空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一阵风（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拂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一墙的叶子就（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漾起波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好看得很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1044720" y="652608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华文新魏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华文新魏"/>
              </a:rPr>
              <a:t>www.eeppt.com</a:t>
            </a:r>
            <a:endParaRPr b="0" lang="en-US" sz="14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爬山虎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6f4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05968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爬山虎”是一种攀援在墙壁上的供观赏的植物。也叫巴山虎、地绵、常春藤。属葡萄科。是高攀的落叶藤本植物，卷须前端有吸盘，叶片是广卵形，有的叶的边缘开两三裂。夏季开花，花很小，黄绿色。结的果实是紫黑色浆果。产于我国各地，日本也有。茎和根可以入药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k"/>
          <p:cNvPicPr/>
          <p:nvPr/>
        </p:nvPicPr>
        <p:blipFill>
          <a:blip r:embed="rId1"/>
          <a:stretch/>
        </p:blipFill>
        <p:spPr>
          <a:xfrm>
            <a:off x="0" y="0"/>
            <a:ext cx="2890800" cy="36450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3564000" y="692280"/>
            <a:ext cx="53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叶圣陶（</a:t>
            </a:r>
            <a:r>
              <a:rPr b="1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1894-1988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）， 现代作家、儿童文学作家、教育家。原名绍钧，字圣陶。江苏苏州人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1940040" y="3540240"/>
            <a:ext cx="63086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叶圣陶曾写过以下童话：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稻草人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》        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旅行家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小白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》        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古代英雄的石像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一粒种子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》       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皇帝的新衣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 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玫瑰和金鱼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》   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月亮姑娘的亲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含羞草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》          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快乐的人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》</a:t>
            </a:r>
            <a:br>
              <a:rPr sz="3200"/>
            </a:b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026" descr="0240010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1027"/>
          <p:cNvSpPr/>
          <p:nvPr/>
        </p:nvSpPr>
        <p:spPr>
          <a:xfrm>
            <a:off x="1403280" y="1916280"/>
            <a:ext cx="67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默读课文，自学生字词。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思考：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作者是在哪里观察爬山虎的？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课文给我们介绍了爬山虎的哪方面内容？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588" name="WordArt 1028" descr=""/>
          <p:cNvPicPr/>
          <p:nvPr/>
        </p:nvPicPr>
        <p:blipFill>
          <a:blip r:embed="rId2"/>
          <a:stretch/>
        </p:blipFill>
        <p:spPr>
          <a:xfrm>
            <a:off x="1749600" y="822240"/>
            <a:ext cx="3651120" cy="93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3"/>
          <p:cNvSpPr/>
          <p:nvPr/>
        </p:nvSpPr>
        <p:spPr>
          <a:xfrm>
            <a:off x="2673720" y="873000"/>
            <a:ext cx="46872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爬山虎   侵占   铺开    均匀 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重叠   空隙   花茎  叶柄   触角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痕迹   逐渐   休想   引人注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838080" y="147780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用横线画出具体描写以下特点的语句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爬山虎脚的位置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爬山虎脚的样子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爬山虎脚的颜色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914400" y="792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）初读感知抓特点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971640" y="2924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茎上长叶柄的地方，反面伸出枝状的六七根细丝，每根细丝象蜗牛的触角。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4038480" y="219384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爬山虎的脚长在茎上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684360" y="43657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细丝跟新叶子一样，也是嫩红的。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  <a:ea typeface="华文新魏"/>
              </a:rPr>
              <a:t>www.eeppt.com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2:37:37Z</dcterms:created>
  <dc:creator/>
  <dc:description/>
  <cp:keywords>幻灯片之家 http:/www.eeppt.com</cp:keywords>
  <dc:language>en-US</dc:language>
  <cp:lastModifiedBy/>
  <dcterms:modified xsi:type="dcterms:W3CDTF">2015-07-20T06:38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