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58F6-F50A-471A-A3C1-2B2E0BC6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073-2D37-454F-9214-7D3DF3D1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74911-0600-497B-8F97-ACCBF066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FF190-6411-486D-9A1F-19F09208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632B6-168B-4CF9-80F7-0C24326A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22A27-CA18-4182-A817-20DAFA5E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4FD41-D574-464E-B67D-AF48A4EA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AB71E-507C-4A69-9FF7-F925A4C4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ECB68-3BFB-42BF-A45E-5320F05C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9F467-E316-447E-9D86-C83B53CA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684AE-F6F5-47E2-A3E0-D2774364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7E15C-BE13-4AFE-97DD-0912C6D7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C89-BAFA-4C08-8395-04C4C280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66892-1244-481E-B718-47EB9BD3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1BBF1-B39A-4E3A-9E7F-02E2F555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460D1-BD28-415D-9F27-C8F9D961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37306-2BF7-4973-A8ED-33907DE7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D0394-37A3-41CD-92AD-ACF04A39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50C15-2037-48BA-A05F-2CCFEDD6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342BB-F39A-4A80-8B55-4C764C51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80C2F-7718-4418-8F0D-F53F5A90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060E6-4C8D-4E6B-9264-9708F0D6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265CF-0AEA-4461-A7BB-922750D4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CC5A-F5C2-4CA3-991D-13EAE9F0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23AE4-2D2D-440C-948B-AEBF7B50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543EF-4238-434C-93FF-FD4EB4F7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FA4C4-F9D7-4BC9-9A01-C26E370A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BAF52-2A8A-4477-97C1-6016C8FB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C8FCC-86F1-49C4-9230-BF70B332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2F92B-4F7E-4CC5-A85A-D6A2A458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771CC-2512-4365-A7ED-9A4ECA69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7D278-2360-48D1-84F4-656DE28B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C5A88-CF3F-46A3-B4B7-EEC3815D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FF7D0-CA66-4707-8526-6779F559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D4E2-4765-4633-A813-EC60E513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417F8-CF86-4764-A451-CA0BB4B3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456A8-714D-414B-AAD5-B07383D7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26964-FA61-4AC3-BA82-326A1C09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0C120-0D21-4974-8BCA-F9F11551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E462A-3A97-44E0-906F-CC6B60D7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7AB74-5A7F-46A6-9818-A823227F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FF571-B19E-4A3C-89D7-4D29A703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0FD6D-07B6-4D77-A197-BE366CDE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F3BD3-1110-45D0-AD2C-DC4CE6E8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CCB15-E068-4678-9822-06ED0A62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EAE0-9EA7-4C9F-853A-705AF97B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14DAF-7F28-422B-B5A4-A47A5298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414C2-C145-4064-9163-8E18BD95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53D2B-32BA-4BDB-9490-B86539E6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EB6B8-3158-41A9-980B-DED2D1AE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6B586-AA95-4855-AC1B-060EAD63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A54FD7-00D4-4B58-8432-F206FB44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9DAF3-E987-4086-AE0C-14285A1F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80B20F-1EED-4170-B49C-F92EED2C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B74CD8-28CF-4B4A-A414-669144A4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FDC09A-18BC-414A-B716-B1E0317C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FB55-794C-4AC7-808B-6867ED16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73E3C-88C3-411A-8A47-4958D3FF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775087-C305-44F3-9593-1CEFDA4E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36865-CDCA-4AB7-BC09-64D1E8E7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0AE5FC-2FB7-43E0-B11B-22DF7004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1013BE-18FD-4CDE-8D8D-150B51ED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D1B32D-37D9-4856-A350-1E02A072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47879A-8A3E-42DA-9D60-E637C13C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0105-D93A-4407-90A9-0FB0D645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84D7-792E-4DC0-A38C-B6B767F2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1C29-8A25-4E5F-8506-8C57B50F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716A-1CD4-4F3D-84A8-7A6F5CC0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C670-364D-45A8-B5C7-D469B04F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C70C-ACBF-416E-B8CE-F0026882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53A7-F0E2-4968-833F-D21BA41E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D4DA-4FCF-4579-A3E4-54003AD5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5AF4-374D-4FF1-B404-A073DE7A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D8B3-ADEC-4D63-B914-0556B248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DF500-3C90-42F3-97CC-D5AB431C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24CF9-DE17-4BEE-B53E-F400656C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52759-6CA2-415E-B0EB-275E5CC3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7736A-7D3C-468E-904B-186FB20E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037FC-92E0-473E-A0CA-3AC07713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5A04-834A-442A-84FC-A7351F13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D6D78-547A-41A3-A66F-1A7DC170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8A839-8761-4D20-9DD6-DD05408F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C5CA9-9B23-430D-AD38-49A11E2E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CC7F8-018B-49F1-9E59-FEC4406D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C52D8-EE47-4D72-8312-8BCFB14B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171EE-F6A5-4297-82F5-BD682481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91136-A8F5-4EC6-BCF7-EBCB2A29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01D6D-7748-41B7-B00B-50D8E515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07508-3437-46F6-87EC-BC2F33C4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C6755-3719-4A35-99C1-590D2144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51B2-52A7-49C6-A847-B34A8B29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A03C5-F540-4DA9-8F23-DC328656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3FEE1-9154-4A20-99DB-3D59152F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B7D75-9738-48D5-9A6D-1CCD5883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8590B-95C9-44C2-91DA-56E545FF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E1CF6-C0BE-4B20-8627-23EA2C8C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CC914-1961-45E9-84D0-00B12795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BAEFB-440E-46E1-BE6E-4D556CBB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BE033-BC47-496F-89AF-32804771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7A726-53DE-4984-B7BC-91B9E4E0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A60C6-7C6F-4C27-9302-112681F5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A302-73FB-472C-852B-89351A4D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78FB4-1C01-454E-B2BF-5C48FFB2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44323-BF51-495B-8EF1-B3A90062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09FDD-08CC-46B2-8421-267DD391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2092C-CBD2-42DB-A13F-0C8020FE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CB794-9179-4409-B0E9-26580774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61F88-A987-4561-A63E-97C74974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83B48-AB15-4DD4-83C7-77A7554A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A8247-8A67-4B65-9D65-C52C93DE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C5BFE-F92C-4EE0-89D0-4773EB2E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98471-A79D-4784-ADF8-E5F4EEE1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522-E158-402A-B3DE-31493910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A3369-1BCE-43C0-84E6-60455FF8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94316-803C-4628-B10E-1F71BA75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C45C0-63E6-41B8-8DEF-A5A55CE4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B7944-3192-4C97-AADE-DF37C82A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EFE49-7D0D-4FCC-9BB6-F2BCF785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38741-4E1A-4B1C-95B1-CC057D61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7F69D-0556-4316-81FA-C4886539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7DCE6-519C-4D15-B69C-CE9920D1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8F58E-D17A-4292-91BB-C6866B72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50C1E-F8BF-443B-BB0E-8F5DB026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B4B-6A3B-4633-9DDF-1E96F41E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AD32A-94EF-434B-A850-FEFA1C72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5730A-5623-45E9-BAF9-03C84BDD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29B3D-370A-42A6-B320-FFA38390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071D3-CC9F-4962-B9C1-9E8ECF82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027B3-6676-4EFE-B8A0-0DCDC93C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0443D-93A2-48BF-992D-EF13BFE5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F1E8E-BFA9-467B-9768-C52A2DF3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C3AD3-40B6-43ED-B88F-91CE808E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D2C8E-82A5-4C74-B9A1-2494C5C2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B0640-1819-4CBC-9FBB-A97807C0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2A3-C76E-4B78-BCC8-1424E3BD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5E72B-4D2C-4991-9D52-3EB3EAEC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4BBDA-B025-49D8-9A2D-B8875657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6DF4C-48B6-4581-9864-ED1C2E27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B330F-D908-44FF-B983-2881E9CB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1C386-BBB6-4F88-94DD-28FF69FA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A8176-10CC-4735-BB3C-3770BB58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4F259-3A70-4924-A69B-0612C53F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A7CDB-D14E-43D8-BBBF-4EDF8245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AE6D0-F4AE-46A6-947D-F8384B64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C148C-2C25-42F8-8627-FA117654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BD5-46E1-4817-9326-5E864A2D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471E5-50A1-4671-8C2F-7C6E5D63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36017-4185-457C-BCC6-FEE43BCB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49994-DE5A-4BE7-9F4D-94FEFE7E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5DF93-84A7-43A7-B8E4-D639E6C3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3F4F3-F196-4AA1-BAE0-DB23004F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588AF-8801-4133-ADB1-EECB337F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09B0D-1099-4CB6-9EEC-B33EED3A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F803E-F1F4-43C3-AE79-B93682CF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3C63F-79BA-4C2F-BA9D-AFB4A25D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933CF-1F9B-44D0-A349-55D789BA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2AFE-7C52-493C-B7A6-1B98CA5CD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6B7E-3EBE-4FEA-ADF3-3A038713F75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6E6B-F9DB-4BCD-87EE-47E25A1CCDA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03C4-46BB-40B0-B941-D9BBFFA8D61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671B-5877-4F15-8844-7EBCC708151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2918-30A5-4C1B-807D-FBA043D9CA3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7B0A-CF6F-42C2-8887-F64326CED33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78AB-3359-465C-803D-8B9EC83671E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6B32-BA96-47DA-B003-2191360D19D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1108-789D-4321-A8C6-CC8311D8C1F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EAAB-7C8F-45BA-A621-2103100C81B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44B0-FED0-49BF-A47E-53DB91FADA6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2239-B753-468F-BA49-443B1FC104E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7" descr="C:\My Documents\My Pictures\天都峰.jpg"/>
          <p:cNvPicPr/>
          <p:nvPr/>
        </p:nvPicPr>
        <p:blipFill>
          <a:blip r:embed="rId1"/>
          <a:srcRect l="0" t="0" r="0" b="6946"/>
          <a:stretch/>
        </p:blipFill>
        <p:spPr>
          <a:xfrm>
            <a:off x="0" y="0"/>
            <a:ext cx="66294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8"/>
          <p:cNvSpPr/>
          <p:nvPr/>
        </p:nvSpPr>
        <p:spPr>
          <a:xfrm>
            <a:off x="7323840" y="549360"/>
            <a:ext cx="139932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爬天都峰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PPT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矩形 4"/>
          <p:cNvSpPr/>
          <p:nvPr/>
        </p:nvSpPr>
        <p:spPr>
          <a:xfrm>
            <a:off x="302400" y="645336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762120" y="91440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我奋力向峰顶爬去，</a:t>
            </a:r>
            <a:r>
              <a:rPr b="1" lang="zh-CN" sz="44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一会儿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攀着铁链上，</a:t>
            </a:r>
            <a:r>
              <a:rPr b="1" lang="zh-CN" sz="44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一会儿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手脚并用向上爬，像小猴子一样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1066680" y="38862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想一想：你从“奋力”  “手脚并用”中体会到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4" descr="C:\My Documents\My Pictures\仙女.gif"/>
          <p:cNvPicPr/>
          <p:nvPr/>
        </p:nvPicPr>
        <p:blipFill>
          <a:blip r:embed="rId1"/>
          <a:stretch/>
        </p:blipFill>
        <p:spPr>
          <a:xfrm>
            <a:off x="685800" y="3141720"/>
            <a:ext cx="990720" cy="89388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5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C:\My Documents\My Pictures\老夫子.jpg"/>
          <p:cNvPicPr/>
          <p:nvPr/>
        </p:nvPicPr>
        <p:blipFill>
          <a:blip r:embed="rId1"/>
          <a:stretch/>
        </p:blipFill>
        <p:spPr>
          <a:xfrm>
            <a:off x="457200" y="1981080"/>
            <a:ext cx="1066680" cy="12956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" descr="C:\My Documents\My Pictures\小妹妹.jpg"/>
          <p:cNvPicPr/>
          <p:nvPr/>
        </p:nvPicPr>
        <p:blipFill>
          <a:blip r:embed="rId2"/>
          <a:stretch/>
        </p:blipFill>
        <p:spPr>
          <a:xfrm>
            <a:off x="533520" y="4114800"/>
            <a:ext cx="990360" cy="121932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4"/>
          <p:cNvSpPr/>
          <p:nvPr/>
        </p:nvSpPr>
        <p:spPr>
          <a:xfrm>
            <a:off x="1066680" y="53352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再读读老爷爷和小姑娘的对话，想想他们为什么要互相道谢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1676520" y="1828800"/>
            <a:ext cx="71625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“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谢谢你啦，小朋友，要不是你的勇气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鼓舞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我，我还下不了决心哩！现在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居然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爬上来了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“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不，老爷爷，我是看您也要爬天都峰，才有勇气向上爬的！我应该谢谢您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C:\My Documents\My Pictures\爸爸.jpg"/>
          <p:cNvPicPr/>
          <p:nvPr/>
        </p:nvPicPr>
        <p:blipFill>
          <a:blip r:embed="rId1"/>
          <a:stretch/>
        </p:blipFill>
        <p:spPr>
          <a:xfrm>
            <a:off x="380880" y="762120"/>
            <a:ext cx="1447920" cy="175248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3"/>
          <p:cNvSpPr/>
          <p:nvPr/>
        </p:nvSpPr>
        <p:spPr>
          <a:xfrm>
            <a:off x="1981080" y="7621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爸爸听了，笑着说：“你们这一老一小真有意思，都会从别人身上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汲取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力量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1066680" y="3581280"/>
            <a:ext cx="6782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我知道“汲取”的意思是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我还知道“我”和老爷爷是这样互相汲取力量的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8"/>
          <p:cNvSpPr/>
          <p:nvPr/>
        </p:nvSpPr>
        <p:spPr>
          <a:xfrm>
            <a:off x="2124000" y="544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2" descr="C:\My Documents\My Pictures\tiandufeng.jpg"/>
          <p:cNvPicPr/>
          <p:nvPr/>
        </p:nvPicPr>
        <p:blipFill>
          <a:blip r:embed="rId1"/>
          <a:stretch/>
        </p:blipFill>
        <p:spPr>
          <a:xfrm>
            <a:off x="0" y="0"/>
            <a:ext cx="3352680" cy="263700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3"/>
          <p:cNvSpPr/>
          <p:nvPr/>
        </p:nvSpPr>
        <p:spPr>
          <a:xfrm>
            <a:off x="304920" y="2666880"/>
            <a:ext cx="8534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                                   </a:t>
            </a:r>
            <a:r>
              <a:rPr b="1" lang="zh-CN" sz="28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天都峰在黄山东南部，西对莲花峰，东联钵盂峰， 海拔</a:t>
            </a:r>
            <a:r>
              <a:rPr b="1" lang="en-US" sz="28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1,810</a:t>
            </a:r>
            <a:r>
              <a:rPr b="1" lang="zh-CN" sz="28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米，为三大主峰（莲花、天都、光明顶）中最险峻者，古称群仙所都，意为天上都会。峰顶平如掌，有“登峰造极”石刻，中有天然石室，可容百人，室外有石，象醉汉斜卧，名“仙人把洞门”。 以往顶极难登，后人凿石开路，装置石柱、铁链扶栏，今游人可安全登顶。峰头远眺，云山相接，俯瞰群山，千峰竞秀，古有诗赞到：“任他五岳归来客，一见天都也叫奇”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4038480" y="12952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我知道的天都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5" descr="C:\My Documents\戴崇洁\小动画\天使.gif"/>
          <p:cNvPicPr/>
          <p:nvPr/>
        </p:nvPicPr>
        <p:blipFill>
          <a:blip r:embed="rId2"/>
          <a:stretch/>
        </p:blipFill>
        <p:spPr>
          <a:xfrm>
            <a:off x="7696080" y="304920"/>
            <a:ext cx="1249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C:\My Documents\戴崇洁\小动画\进入梦想世界.gif"/>
          <p:cNvPicPr/>
          <p:nvPr/>
        </p:nvPicPr>
        <p:blipFill>
          <a:blip r:embed="rId1"/>
          <a:stretch/>
        </p:blipFill>
        <p:spPr>
          <a:xfrm>
            <a:off x="228600" y="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3"/>
          <p:cNvSpPr/>
          <p:nvPr/>
        </p:nvSpPr>
        <p:spPr>
          <a:xfrm>
            <a:off x="838080" y="838080"/>
            <a:ext cx="75438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笔陡   铁链    峰顶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石级  发颤   奋力   攀着    鲫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纪念   鼓舞   居然   汲取力量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似乎   咱们   爬山   白发苍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辫子  勇气    仰起脸    笑呵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990720" y="35053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s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2743200" y="1447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chà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7"/>
          <p:cNvSpPr/>
          <p:nvPr/>
        </p:nvSpPr>
        <p:spPr>
          <a:xfrm>
            <a:off x="7162920" y="1371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j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56386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j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C:\My Documents\戴崇洁\小动画\进入梦想世界.gif"/>
          <p:cNvPicPr/>
          <p:nvPr/>
        </p:nvPicPr>
        <p:blipFill>
          <a:blip r:embed="rId1"/>
          <a:stretch/>
        </p:blipFill>
        <p:spPr>
          <a:xfrm>
            <a:off x="228600" y="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2209680" y="6858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我觉得这几个字有点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1676520" y="16765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链     颤    攀    鲫    陡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685800" y="27432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比一比，再组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1143000" y="3657600"/>
            <a:ext cx="43434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辫（            </a:t>
            </a: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辨  </a:t>
            </a: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(         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辩  </a:t>
            </a: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(         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5105520" y="3809880"/>
            <a:ext cx="3352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峰（  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蜂（  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1981080" y="35812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6600cc"/>
                </a:solidFill>
                <a:latin typeface="Times New Roman"/>
              </a:rPr>
              <a:t>小辫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2438280" y="45720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</a:rPr>
              <a:t>辨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2362320" y="5562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</a:rPr>
              <a:t>辩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1"/>
          <p:cNvSpPr/>
          <p:nvPr/>
        </p:nvSpPr>
        <p:spPr>
          <a:xfrm>
            <a:off x="6172200" y="38098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</a:rPr>
              <a:t>山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6248520" y="47242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</a:rPr>
              <a:t>蜜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C:\My Documents\戴崇洁\小动画\进入梦想世界.gif"/>
          <p:cNvPicPr/>
          <p:nvPr/>
        </p:nvPicPr>
        <p:blipFill>
          <a:blip r:embed="rId1"/>
          <a:stretch/>
        </p:blipFill>
        <p:spPr>
          <a:xfrm>
            <a:off x="304920" y="1522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3"/>
          <p:cNvSpPr/>
          <p:nvPr/>
        </p:nvSpPr>
        <p:spPr>
          <a:xfrm>
            <a:off x="2209680" y="76212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陡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4191120" y="762120"/>
            <a:ext cx="14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攀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6172200" y="762120"/>
            <a:ext cx="146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颤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626400" y="2057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山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11"/>
          <p:cNvSpPr/>
          <p:nvPr/>
        </p:nvSpPr>
        <p:spPr>
          <a:xfrm>
            <a:off x="2455200" y="1981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辫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4436640" y="1981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呵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3"/>
          <p:cNvSpPr/>
          <p:nvPr/>
        </p:nvSpPr>
        <p:spPr>
          <a:xfrm>
            <a:off x="6417720" y="1981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仰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4"/>
          <p:cNvSpPr/>
          <p:nvPr/>
        </p:nvSpPr>
        <p:spPr>
          <a:xfrm>
            <a:off x="457200" y="3276720"/>
            <a:ext cx="14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苍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5"/>
          <p:cNvSpPr/>
          <p:nvPr/>
        </p:nvSpPr>
        <p:spPr>
          <a:xfrm>
            <a:off x="2455200" y="3200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忽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16"/>
          <p:cNvSpPr/>
          <p:nvPr/>
        </p:nvSpPr>
        <p:spPr>
          <a:xfrm>
            <a:off x="4267080" y="3124080"/>
            <a:ext cx="14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终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17"/>
          <p:cNvSpPr/>
          <p:nvPr/>
        </p:nvSpPr>
        <p:spPr>
          <a:xfrm>
            <a:off x="6417720" y="30481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奋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8"/>
          <p:cNvSpPr/>
          <p:nvPr/>
        </p:nvSpPr>
        <p:spPr>
          <a:xfrm>
            <a:off x="702720" y="4495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勇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9"/>
          <p:cNvSpPr/>
          <p:nvPr/>
        </p:nvSpPr>
        <p:spPr>
          <a:xfrm>
            <a:off x="2455200" y="4419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居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20"/>
          <p:cNvSpPr/>
          <p:nvPr/>
        </p:nvSpPr>
        <p:spPr>
          <a:xfrm>
            <a:off x="4512600" y="4419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相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21"/>
          <p:cNvSpPr/>
          <p:nvPr/>
        </p:nvSpPr>
        <p:spPr>
          <a:xfrm>
            <a:off x="6494040" y="4267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咱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22"/>
          <p:cNvSpPr/>
          <p:nvPr/>
        </p:nvSpPr>
        <p:spPr>
          <a:xfrm>
            <a:off x="779040" y="5562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鲫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23"/>
          <p:cNvSpPr/>
          <p:nvPr/>
        </p:nvSpPr>
        <p:spPr>
          <a:xfrm>
            <a:off x="2531520" y="5562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爬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5"/>
          <p:cNvSpPr/>
          <p:nvPr/>
        </p:nvSpPr>
        <p:spPr>
          <a:xfrm>
            <a:off x="4588920" y="5486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铁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6"/>
          <p:cNvSpPr/>
          <p:nvPr/>
        </p:nvSpPr>
        <p:spPr>
          <a:xfrm>
            <a:off x="6494040" y="5410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房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22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C:\My Documents\戴崇洁\小动画\进入梦想世界.gif"/>
          <p:cNvPicPr/>
          <p:nvPr/>
        </p:nvPicPr>
        <p:blipFill>
          <a:blip r:embed="rId1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583" name="WordArt 3"/>
          <p:cNvSpPr txBox="1"/>
          <p:nvPr/>
        </p:nvSpPr>
        <p:spPr>
          <a:xfrm>
            <a:off x="1752480" y="380880"/>
            <a:ext cx="1524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知道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1066680" y="1219320"/>
            <a:ext cx="76201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居然：表示出乎意料，没有想到的事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终于：表示经过 种种变化和等待之后出现的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鼓舞：使人振作起来，增强信心和勇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发颤：心在颤抖，说明心里害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石级：石头台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仰望：抬头向上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鲫鱼背：是天都峰最险的地方，它是一道长十几米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宽不过一米的狭长光滑的石脊，石脊两旁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万丈深渊。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4876920" y="838080"/>
            <a:ext cx="426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我站在天都峰脚下抬头望：啊，峰顶这么高，</a:t>
            </a: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华文中宋"/>
              </a:rPr>
              <a:t>在云彩上面哩！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我爬得上去吗？再看看</a:t>
            </a: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华文中宋"/>
              </a:rPr>
              <a:t>笔陡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的石级，石级边上的铁链，</a:t>
            </a: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华文中宋"/>
              </a:rPr>
              <a:t>似乎是从天上挂下来的，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真叫人发颤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Picture 3" descr="C:\My Documents\My Pictures\天都峰.jpg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C:\My Documents\My Pictures\小妹妹.jpg"/>
          <p:cNvPicPr/>
          <p:nvPr/>
        </p:nvPicPr>
        <p:blipFill>
          <a:blip r:embed="rId1"/>
          <a:stretch/>
        </p:blipFill>
        <p:spPr>
          <a:xfrm>
            <a:off x="533520" y="3352680"/>
            <a:ext cx="704880" cy="83844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"/>
          <p:cNvSpPr/>
          <p:nvPr/>
        </p:nvSpPr>
        <p:spPr>
          <a:xfrm>
            <a:off x="990720" y="9144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9966ff"/>
                </a:solidFill>
                <a:latin typeface="Times New Roman"/>
              </a:rPr>
              <a:t>读读老爷爷和小妹妹的对话，说说你感受到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1295280" y="2514600"/>
            <a:ext cx="66294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“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小朋友，你也来爬天都峰？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“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老爷爷，您也来爬天都峰？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“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对，咱们一起爬吧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5" descr="C:\My Documents\My Pictures\老夫子.jpg"/>
          <p:cNvPicPr/>
          <p:nvPr/>
        </p:nvPicPr>
        <p:blipFill>
          <a:blip r:embed="rId2"/>
          <a:stretch/>
        </p:blipFill>
        <p:spPr>
          <a:xfrm>
            <a:off x="533520" y="2362320"/>
            <a:ext cx="685800" cy="8380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" descr="C:\My Documents\My Pictures\老夫子.jpg"/>
          <p:cNvPicPr/>
          <p:nvPr/>
        </p:nvPicPr>
        <p:blipFill>
          <a:blip r:embed="rId3"/>
          <a:stretch/>
        </p:blipFill>
        <p:spPr>
          <a:xfrm>
            <a:off x="533520" y="4267080"/>
            <a:ext cx="6858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0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38:2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