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59C0-A95E-4C04-9B1A-EA81B59A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DBA3-6D32-4787-A46A-5474FC71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249-6513-4A6E-95D3-D98195ED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20F6-15D2-48E7-B2A6-3A8A09EC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5A98-B6E7-4D1C-9DFC-1CE30333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DF9-4BA7-4F58-80F3-51F13F2C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BCC6-8BC4-4450-9381-0D17B8A7D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9427-42E9-4DB2-85A6-C125383CA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051-616B-41C7-94A5-7687CEBA4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0093-6A2F-4711-93D3-5348AAE0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16C4-F3C8-441F-AC02-E788EE64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3735-B504-4F16-B17D-A83CC641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3C76-3263-4DC4-95F2-749862CAC3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072040" y="4098960"/>
            <a:ext cx="5286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49068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835280" y="63104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3480" y="404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拼图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220-F658-49E6-B8EA-4282A02489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35280" y="6310440"/>
            <a:ext cx="705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hong</cp:lastModifiedBy>
  <dcterms:modified xsi:type="dcterms:W3CDTF">2015-07-20T11:56:38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