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3003213" cy="888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8BB92-09D4-4E16-82BF-B1F2D6B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68AA0-EEDF-47E8-9CE1-0B29229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30B81-FFD1-42C7-B3C7-B465EAE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90029-686E-4FF7-922A-F9DDD97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2534-EF95-422D-9CB7-EEF7702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D4466-6AB4-48FB-9E57-E979F0D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4D805-5AF1-4E92-B429-34734685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3751B-9DBA-4331-9F52-30DD440A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7984-208D-4FAB-A5D8-CD99AA52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B5294-2A5B-4373-9376-09E236D2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667A9-6ECE-4758-A63C-E7D3732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5C8A-64F9-40A0-8A70-41EC87C1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6FEDA-9FD6-4BC7-9616-975B9EC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941B5-70C0-4F44-9A33-DBA4E92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3CA87-9956-479E-BC5F-445624EE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3CD9-21F5-4577-8F86-640DF36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5C185-C944-48B3-A8B7-B03B7FC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BC55-1C11-4447-A82C-F7B0E73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86016-8320-4154-AB9B-79A87785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902DE-7EA6-4326-91EB-57F926D8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67CF8-0D8E-48C7-BE98-A67D5AE8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3E713-FDE3-40CA-BC2E-5B19FD3B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4A4C2-4330-4485-A3B2-DC5B5988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DF564-4EA3-4CE1-B4A4-82349D4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45865-6C51-4997-BFFD-90791D58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C4FF2-70E2-4024-82E2-6326C32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5532F-EFEA-44F0-B510-639EAF5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67E64-91DB-4D91-BC81-B2D77C0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1809B-595A-434A-9FD4-4A5E0E4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90DE0-1B49-4433-BF97-CD716DB9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776-A604-4E46-9915-BE3EB74C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A2830-0745-435B-A4E8-B8A8C2E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C0B57-56D4-462A-8E10-7E1F4E44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7A8F3-BB54-4536-B3F4-CFA2477A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89F0-DF6D-4E85-BC02-DD8123E2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CCE75-6366-4B69-91D4-CADD903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BE339-784D-4D42-8FBF-BAD7280D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3F724-B52F-445B-B929-1E2AA61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8A9DE-346C-4178-B800-AE64EA30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C096-E6BF-47C3-B50B-A37080CE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6685-88A2-4B51-86A4-B9FF773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896-BBF3-4325-9560-565F5FA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3AB83-73B7-4284-BF72-4D12206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5977-A723-42D0-9F96-E831675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60F0D-533D-4305-82D0-070004D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ACE5A-93B2-405F-9F55-F34EFEE0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D1D73-5988-4203-A643-11B7590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2E968-24A7-44B2-9657-C7C67255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A57AC-4929-4DD1-994B-0E75438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50086-AC20-47F7-B33B-5ECB04C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610F6-ABA8-42C0-B8FA-9FB3E62A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EF842-8E85-45AA-B001-70C48CF4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DFB-EF72-4348-8C41-1E59A8E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F35E2-9132-4795-9D91-3AE9B635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C898E-59A0-4739-9DD8-D25E59A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1898F-D2BE-4CCD-BD5B-A2D3513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30581-20E2-4AF0-9ADE-B6A54E1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978E4-147C-4B96-86F8-C19894D4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56587-2AE9-42CB-ABE2-EDDD515F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9445B-F785-49C4-A3F5-6B6A1DA1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2B9-8C99-43B5-8745-EC5EF3F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8A3-9ADF-4AF5-AD81-3BCCF0DE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C95-91AE-4116-8C28-7DA29FE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553-3BA5-4C5E-84BF-84060BB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31C-616E-4DAF-842B-8D7B90A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E7E-8CF0-420D-8FAF-443A39B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285-E52B-4F22-B32C-D9CAE5E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4C7-07D7-4C48-BA5F-E9D07DC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74E-219F-499C-AF01-07BF3647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0A78-4C9C-4F97-826A-783CC98E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7FA7-3261-4C5B-B339-8E6A8701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2B05-4EC4-4BEE-9348-08A8148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806-19AA-454D-833B-9F9E1F68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7386-FC90-418A-91B2-F54DAEE5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D2D5-61E2-44A7-BAE3-B836C86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766C-97D3-4CC9-9CCB-60563AF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AA2-90D3-42C5-AD56-2134B86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9127-B5DA-4004-81FE-EB194C6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1F4D-10F7-4AE0-9D8A-52DAE3D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34F0-DFC1-4803-91D9-A1E15219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094B-7A3F-451C-BAD0-7CC56E80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C00D-9CC7-450C-A579-01790E05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65F0-7F67-4E25-A36E-FED020A3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F87C-76A0-4CDC-87F7-7C4777FC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4376-89D1-4ADA-AB02-7E3B7FDB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A5C6-388C-4889-B71F-C407F816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EF4F-8D9A-438B-855B-52D08B51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F972-F4A9-40C6-94D8-3D6576E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497E-B29D-4D26-BF9F-0AF0F97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8C8C-9A86-4EB3-ABE5-7B2E93EE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DCB7-24D5-4790-9FD5-AB723687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6E21A-5E66-4052-8350-CEEDC99E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DD2B-51F3-47DE-9A5D-3A4DEB7D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74AE6-539F-4733-A2B0-DD00C7EF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DA39-6F3E-4F3B-80ED-1283085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49B1-777D-4B8F-904C-86E1380B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EA10-037F-47C8-9EF5-FAA16D4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AC00-61CF-4CA3-ADFD-5743F97E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6A75-A504-42C6-8BEC-DE8C1525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92C8-9CC7-4A53-BEFE-F42FFA7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BE8D-CAFB-494D-BCAB-60963FF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7941-DEEE-4CCF-B47A-A4E581A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A877-0446-4F75-B05F-6F22C19F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9664-DB07-4951-8B41-544C42DF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F033-B1D7-4129-B223-41A49EBB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E067-D3C3-4A3B-AF4C-2DD33127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54B2-FFCF-4010-8BBB-F9A4684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36C0-0193-4CCF-AA77-E27576F7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0331-9B54-4D29-B076-F8C46CC0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C8D1-CEB5-4631-8671-8BC76213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72E8-A3F2-45CF-B658-EF0E16B3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CCFA-5C7A-45CF-81A7-6EDE3B6B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33115-1466-404A-A898-91C15CB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529F-1853-419E-B89C-5212C0D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977F-3058-4E35-AC1F-65C1F29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06BF-B084-46BA-B7CB-AD16FD94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A81E-6A99-46C0-B9B9-248EDF66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37F59-25E6-46EF-8B22-2D36E443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41542-0EB7-488E-92CF-6EE752AC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D184-4506-4308-B181-D7D263B9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D058-E67F-4164-83E0-6736613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C7B1-66F2-4D3E-91C0-C09600ED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564E-331F-4376-9521-4D2A2608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4FDE-A75B-4B6D-8764-6DA9969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947D-7D9E-4B52-B259-6D141BC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C003-ED5A-444A-91E7-C5E1DDCA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C226-72DD-4219-9439-0EB0F7D3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4EA7-2971-4DB9-93FC-B9847066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DE92-28DA-487A-8E7A-14448194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EE8D-009E-4016-B676-E33EBCF3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DDB8-651D-4379-A8BE-B40FF5A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406FF-2A72-4577-B6B7-B850FE13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7F67B-2E5A-4B60-977C-2DEE7DD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3F78-07A6-422C-87F1-3C5DAEE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0C29-5EEB-434D-A382-AA5050E7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17FE-0403-4D61-A3B1-099A729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0139-9287-4F48-A8AA-077C151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880C-FEA7-49DE-B8D8-9329A8A4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B0F7-B037-4867-8862-87E5CDF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E24E-22EB-4C0A-841F-4583EEAA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5049F-16F6-4441-8C88-449D48EC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5E90-8F7A-4510-A9CB-415A304E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29ED-D84D-4284-BB65-595EC822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4F9F2-DE5A-4C02-B838-9D7ECE7D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453-6503-4A51-AAF9-1D1C17649DC9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CE98-E99B-4468-9C8A-980504379F78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D81-DB5C-473B-A85D-D97CF209F9CA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DE12-96C6-411A-8EFC-F40972D57049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A512-6134-48F9-B995-95D117AFA8C8}" type="slidenum">
              <a:rPr b="0" lang="zh-CN" sz="1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0776-54ED-4327-95C0-D26834E3779A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7F1-7A4C-46A1-BE03-42E738B5FF9A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A25A-570E-4F42-87DE-59F3579F9198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B7B-902D-4EB3-8AFD-4CD98088DDB0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0DD-29B0-45D8-B938-3AAE6C880724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E9AB-0497-453D-888C-9CD2D03670AE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96D7-ADA2-4592-B4BA-F1D64E5B2325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529" name="矩形 1"/>
          <p:cNvSpPr/>
          <p:nvPr/>
        </p:nvSpPr>
        <p:spPr>
          <a:xfrm>
            <a:off x="4849200" y="14209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ill Sans"/>
              </a:rPr>
              <a:t>培训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ill Sans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矩形 4"/>
          <p:cNvSpPr/>
          <p:nvPr/>
        </p:nvSpPr>
        <p:spPr>
          <a:xfrm>
            <a:off x="99720" y="853740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ill Sans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165240" y="8118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2325600" y="8550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82600" y="244080"/>
            <a:ext cx="1063944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15680" y="1646280"/>
            <a:ext cx="11572920" cy="67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8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0022040" y="431640"/>
            <a:ext cx="1800000" cy="4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Ligh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165240" y="8118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2:35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