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7E9-B231-4775-8B89-C0D68942673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536-B19B-4B74-AB8A-DA2FFC132D9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-3797280" y="0"/>
            <a:ext cx="7810560" cy="58579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212400" y="571680"/>
            <a:ext cx="5645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-3905280" y="0"/>
            <a:ext cx="8794800" cy="65959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 rot="20922000">
            <a:off x="394560" y="968040"/>
            <a:ext cx="321156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CA-E2A9-4639-A93A-C55010EA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D19-EEB1-49B9-A049-7A36682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B4ADA-DB1A-48AD-9BBF-2A0DA97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E880-EF95-467D-8470-7558E4DA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24C26-29A5-426B-A466-C58FFBB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84D47-A738-40E5-90FC-AABC6DB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BE31D-3B22-4F0F-8346-FDBFE30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D8E4B-5E55-4375-9F4E-0A1CCE7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8E8A1-A38B-42DF-9558-C427F0B6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16388-3DD5-4905-A14D-740E4B8F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5A18A-05CE-4F40-AABC-FEEFADAA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2C7B3-373C-4E2D-A050-A2C67B7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5C5-DD84-4AE8-B3C9-72EF1402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6EFF3-EE25-4CEB-AF7A-31D8E84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2AC80-C844-49B9-A696-BDED922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6D679-E060-4AD2-BC66-38920CD1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A17EB-CBA7-4C57-933F-FD32C40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B0EDB-288D-4C98-B7EC-5979DBB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8D90E-EFB6-420E-9C37-9549C415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0FAD7-3025-4941-A39B-ED02DC9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5D833-849A-44C7-B97F-210C9DE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50D33-422A-4A1F-8E56-03A08FE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B28FD-0588-43A5-9BD0-AD0B8A31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513-4D69-4439-AB80-8653F0E8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C19E6-22F7-44DE-AF30-B24BDB08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140FF-228B-4E3B-A1C0-F78BDDB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F9139-D723-48EA-85F8-12099B3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2E6D-1EBD-4883-9760-3D0BECE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C8EC7-A7B9-4570-9953-9A03BA1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AF9D0-5729-4688-A758-1D76CF7C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4B017-7E3B-43EC-8F82-2E84113F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4DC72-8119-4CE0-ABDE-831F933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4F06-6107-4A83-9F32-09C3B339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F0938-4E0A-4800-B6B0-6043A42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BDF9-E714-486A-82C8-A6FE192D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E6609-7DA2-4AC8-8DC0-DCCD4F4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B156F-7C16-4F95-9C32-1F4EEFE9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744C-4DA4-4FAE-AC15-1E2E68C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27663-2686-4513-8A4F-593BB463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AA608-3194-4EF5-91F4-34AB0D0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6698B-3C42-48BE-A8DD-13645B17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D788-E9CD-4479-8875-F78D4E4B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1027-BF2D-40DA-9189-1815FB71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473D-BAC6-4BEB-9E8A-B7E62ED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89708-6B02-44A1-BD3D-8D88493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EAEC-6BD1-438B-812E-A581803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46BD8-D566-43CD-91FC-F02D5CA3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2138B-2A2F-43A9-BD61-3F0C713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FE15-9BFC-4018-BC23-EBF8924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64509-769C-4160-8FF0-2E30D341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6A3EC-7B3F-4063-A90B-16AFDB97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23FCC-5624-4D9E-A6A7-D470E7BA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C1244-9945-475A-A04B-D3FDE54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75740-68B8-473F-BB79-B6C9EDC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F443-3E90-4224-B5F7-708CAD6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F3990-6FA7-4CA6-9444-B25A768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7EE1-36F1-49D0-BDE6-3516B2D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5CA86-BDCC-4E14-B355-5A2D94F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11F29-DD61-4AD9-B295-8B94132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DA7F-5668-4AEA-A19C-482D528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B2B39-A02D-495F-857D-37EAA69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C28A6-EA17-46E6-8740-18EC8723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EFCCF-2867-4A29-A77D-C1CF6FD2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82DCC-4D90-4F87-91AA-A8395B90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D21-9170-45BD-B66C-1DD4588E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93D-3313-4EEF-BF0D-F8127303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939E-F927-4385-A26B-50CA2E9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3206-664F-4D74-A872-09167D3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7B3-3955-43E9-8832-4CE616F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C753-BE60-4D03-A364-4404307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486-E263-481E-BFF4-9D6245B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600E-F773-4ED8-A395-207A54F9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DE7-F3C5-42E3-9800-8F2A774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6C1E-3A63-4110-9EB0-B74782D5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5AC0-2D28-4956-BDAD-36F2B448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2395-5B43-438D-9E72-755876D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06C4-663F-4190-8E6C-7632FAC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F64D-B645-43DA-8B88-3F6C84F0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0D6B-D8DA-42C6-91C8-EFFA2CA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552-971C-482A-9CD9-D865362A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3D94-7CF4-4277-971F-F198574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6880-72A9-49DB-8474-425AA6E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EABD-48B0-42A9-9800-22C85B1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BFA0-E058-4AD1-BCC0-E8F44C2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DCB3-EEA6-4DD5-872F-23BC88C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52E4-8A79-4A21-8BE7-FB0EEE9F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DA4C-53D7-4B99-8873-6C41B5BE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2F1D-CAA6-4945-ACA1-5E1F7347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14BC-8CA2-42C3-989D-5348D73F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8F8B7-5D91-45CD-9EE3-1F0C505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C2D-1A59-4387-8864-E32A68B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CCC59-934D-449C-870B-F40F41A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1F08-206D-48BD-BC92-3D5783B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EAEF-4CD3-40CA-B2F7-1D8C60D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B006-8D65-4C06-96C7-61AF177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DFCA-FDF8-4F8D-99DD-863CA13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8F58-2CB1-4ADC-8126-A563D04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1167-0D03-4D6D-9844-EC5602AB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275C-57A5-4CB5-A35C-69CA7B3B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9292-CC6F-4C63-A82A-9E1414F2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CCF11-0348-4A49-AAAB-2E57B6C8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65C-7ADC-40AB-8D28-8640559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1ACD3-3268-4C02-A28E-6BF1F5A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94FE-3860-46C9-B049-79A2B41E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26E9-5B06-4893-9928-D0ED35A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A5C3-B065-47D1-A4FA-7368539E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172F-7691-48C2-8BA5-6FA53F5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B9B4-3C20-461D-96FD-E523036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8425-94FD-4C9D-BC21-89E699B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1685-8BC6-43CE-9013-7839A0CF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AB26C-ED14-4023-9C5A-5CFC86C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1818-568E-4C72-8780-1B76EDDF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14A-AE3C-465B-A204-11AC8C03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EFEE-6E4D-4DC0-8B22-6FB89443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867D5-E4BA-42A0-B7EE-D9ECB0F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5D14-E5CB-4FBA-88A7-A14C2700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A70C2-1C29-40AB-B41D-DB3559FA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296ED-92D3-4699-A6AF-E57539F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10F9-4F76-4C1F-96B6-6934FBDC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D50B-37F4-48BB-BC9E-4BE86F7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7FB91-3794-4234-9B63-AE63235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E2AF-7722-43FB-852F-3FBD3E1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AB035-790F-49CB-87BF-812773D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216-66AF-4114-A705-E588DC5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3242-9D2C-4A1D-B2B9-528B8CD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6FD9-5994-4C9D-85E1-F2603F15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C25B-1077-49C5-8233-8096B850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70EB-D347-4C92-8875-24902DEF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56F2-50B8-4EC4-A101-B6EA34D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7BC2-A7AB-4BC4-AA95-5AD1BBC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B8EAB-CACC-4336-A031-2D64A37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3939-C4C2-44BA-90BD-369C37DF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6FC6-6940-42D1-8F56-6EDF9E4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F0D4-A720-4F8E-8E09-7C7A967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3E7-3F1E-465B-B6E0-E7579F3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D84E-ED03-4C39-B8B6-592F3537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F5E4-0C80-4FE9-8CC3-C952390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6AADB-93F0-429F-A286-773D371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D031-F97B-4B3D-BC74-9E2BD052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10E6-A31B-4E43-85FD-9F672CB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479AE-167B-4D45-8D58-807785F1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C4BE-37D0-4966-B108-4D33BD0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6165-4BCF-4CFD-9C82-8BB44CEA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D52E-6F33-4A21-985F-57F11C0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3F1A-5E47-4020-9940-647FE53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D84-C64F-4D0C-84DE-9F27D7C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31FFB-9896-4CF6-A528-41DE629A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E7AF8-2C6C-48A4-9E38-12338B4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A7AA0-EEB0-4FAD-9ED3-C3CD771B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5E169-F4CA-46D7-ADAD-2FD8367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FEB1E-2325-4B57-A4A9-7156D7D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2680C-4721-4ABA-90A0-AE1058AD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0DD0-8045-4712-89CF-296870FA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A063D-94FB-45D5-B4A3-F2003CF1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6C9B9-CD6E-4791-A128-C20613D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63E9C-0F6B-4C14-A354-4E987EE5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701-0F04-402E-A851-788246FAF4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837D-5B09-4A3C-BBBA-12492D230C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4657-5991-4430-B9D9-AF324BD027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453-AA75-45EE-817D-EA36FAD9C2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067-78C6-4ACE-8B16-5B5E70B5FA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0597-59EE-4016-B949-6293EB793A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7EB-6472-4B86-A772-43D707E4AB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ADA8-03FC-47E0-9033-01C802A99F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2C7-BBB6-4AEB-B532-5A66C7B5D9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1452-415F-484E-AB51-D6157259C8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B6D-7175-423E-A90C-075304861D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507F-4EB6-438A-8BBF-70A3014EC5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8597-1F97-46F0-B947-CF989D7D9E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159-65C6-4C4A-8E5B-D072E2764F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2AC7-0755-4899-975E-3058668933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09B-7409-477D-BA2C-812A621F3A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A91-5F72-4468-A22F-79DFCE7820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5C0E-1D89-4ECE-B0A5-2DD3967D69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E4BC-FE7D-4D22-98D8-7EDE44428A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BAF-0AD3-4E92-B867-F38245FDB7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906-33B6-4697-AD66-C8721535F5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A91-1CBA-402E-9D95-E0DD019781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D7A-BAA9-4AA8-A6B2-86D079D3B5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1E4-11F2-4A3A-950B-12A4B91112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E65-6C11-43B0-860C-4925E39E63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DD2-46FD-4BBE-BBA8-523449C404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7" descr=""/>
          <p:cNvPicPr/>
          <p:nvPr/>
        </p:nvPicPr>
        <p:blipFill>
          <a:blip r:embed="rId1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542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8" descr="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546" name="矩形 17"/>
          <p:cNvSpPr/>
          <p:nvPr/>
        </p:nvSpPr>
        <p:spPr>
          <a:xfrm>
            <a:off x="-139680" y="23572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0" descr=""/>
          <p:cNvPicPr/>
          <p:nvPr/>
        </p:nvPicPr>
        <p:blipFill>
          <a:blip r:embed="rId3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49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1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占位符 7" descr=""/>
          <p:cNvPicPr/>
          <p:nvPr/>
        </p:nvPicPr>
        <p:blipFill>
          <a:blip r:embed="rId5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2" descr=""/>
          <p:cNvPicPr/>
          <p:nvPr/>
        </p:nvPicPr>
        <p:blipFill>
          <a:blip r:embed="rId6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  <p:sp>
        <p:nvSpPr>
          <p:cNvPr id="554" name="矩形 1"/>
          <p:cNvSpPr/>
          <p:nvPr/>
        </p:nvSpPr>
        <p:spPr>
          <a:xfrm>
            <a:off x="2467440" y="1722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浅色调生日派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7AD-0B8D-49BA-A53B-E0F3F8A27D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577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F72-5382-4786-8D95-25C770823B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4"/>
          <p:cNvSpPr/>
          <p:nvPr/>
        </p:nvSpPr>
        <p:spPr>
          <a:xfrm rot="5166600">
            <a:off x="5443920" y="145476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011-2DA7-4B19-8F8E-6B41A724EF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588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589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590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597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604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611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618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625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632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639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646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653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660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667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674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681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688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695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702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8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1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713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22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31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"/>
          <p:cNvGrpSpPr/>
          <p:nvPr/>
        </p:nvGrpSpPr>
        <p:grpSpPr>
          <a:xfrm>
            <a:off x="-9360" y="3997440"/>
            <a:ext cx="9153360" cy="2789280"/>
            <a:chOff x="-9360" y="3997440"/>
            <a:chExt cx="9153360" cy="2789280"/>
          </a:xfrm>
        </p:grpSpPr>
        <p:pic>
          <p:nvPicPr>
            <p:cNvPr id="733" name="图片 11" descr=""/>
            <p:cNvPicPr/>
            <p:nvPr/>
          </p:nvPicPr>
          <p:blipFill>
            <a:blip r:embed="rId2"/>
            <a:stretch/>
          </p:blipFill>
          <p:spPr>
            <a:xfrm>
              <a:off x="-9360" y="4926240"/>
              <a:ext cx="501192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12" descr=""/>
            <p:cNvPicPr/>
            <p:nvPr/>
          </p:nvPicPr>
          <p:blipFill>
            <a:blip r:embed="rId3"/>
            <a:stretch/>
          </p:blipFill>
          <p:spPr>
            <a:xfrm>
              <a:off x="4132080" y="4926240"/>
              <a:ext cx="501192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图片 13" descr=""/>
            <p:cNvPicPr/>
            <p:nvPr/>
          </p:nvPicPr>
          <p:blipFill>
            <a:blip r:embed="rId4"/>
            <a:stretch/>
          </p:blipFill>
          <p:spPr>
            <a:xfrm>
              <a:off x="4060800" y="3997440"/>
              <a:ext cx="277992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738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35Z</dcterms:modified>
  <cp:revision>0</cp:revision>
  <dc:subject/>
  <dc:title/>
</cp:coreProperties>
</file>