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wind.wav" ContentType="audio/x-wav"/>
  <Override PartName="/ppt/media/chimes.wav" ContentType="audio/x-wav"/>
  <Override PartName="/ppt/media/image16.jpeg" ContentType="image/jpeg"/>
  <Override PartName="/ppt/media/image7.jpeg" ContentType="image/jpeg"/>
  <Override PartName="/ppt/media/image17.jpeg" ContentType="image/jpeg"/>
  <Override PartName="/ppt/media/image14.gif" ContentType="image/gif"/>
  <Override PartName="/ppt/media/image12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3D2-4E9D-4717-9007-23E9223D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99E-65CC-4608-B956-A1B8A412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6C5-12CB-4A62-A2B8-DCF1A69E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90E-7D58-4A43-AEC0-E890F9C9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A4C7-6DA4-40EA-AD90-6A45A0E6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9DA7-054E-4657-966F-ECE1C095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D834-004A-401B-9301-7CD972C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3506-D091-4656-97F0-76725C05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8857-1486-407D-9D2F-E0AF7AF2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1EED-2F9E-44D9-85FB-0A370037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E76-0AF1-4706-9759-041F4D2B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73E-5370-4EED-98A8-59401448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98CF-5476-421D-B025-80247141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65B0-9814-4AC7-97A2-D43F1994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97C-FC35-4762-AAE9-13524FC6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78CF-4DB3-4A8B-8F44-88CD1196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1E09-CF26-41D5-B04C-1C1FA515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8FFE-777B-48A4-8C80-B855890E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CAB0-9136-43FF-9FBA-3CB78454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CB36-8F44-4B80-B2BC-A29C46E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3528-B721-48E9-A7BE-4FBAC892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CAC7C-D988-44CC-ADDC-5DB380A5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D25-58BB-4116-9F40-16AD54E8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7318-F10B-455B-898C-8612746E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981B-FDD7-4A0D-B312-6D727C6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8D9A-462C-49ED-8B9B-6C0D7CB1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239A-B5F3-4AB3-A267-0EFC6A97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2B7A-D50B-440B-90DB-F652B2CD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8002-3E36-48C3-A1D4-609BB0CB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FE09-D350-424D-80F8-E85F0B4F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6AC-9586-42E9-9ACA-57AFEA66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FBF-533F-4629-A131-DF04CE01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765-6BCD-47C3-8B56-A1F0A1DD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A5B-1322-4671-A473-2627FE64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16B-7DD0-492C-AE77-6747BA65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0D0-5ACF-48CC-BC4F-63E32296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D580-34D1-4C43-B7E7-0588A49AE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7B50-C58A-4815-98F1-3744C6DBE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BBC1-F646-4C76-819A-9AB7F8A5DB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WordArt 5" descr=""/>
          <p:cNvPicPr/>
          <p:nvPr/>
        </p:nvPicPr>
        <p:blipFill>
          <a:blip r:embed="rId2"/>
          <a:stretch/>
        </p:blipFill>
        <p:spPr>
          <a:xfrm>
            <a:off x="1133640" y="1371600"/>
            <a:ext cx="6699240" cy="235260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2495160" y="13842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泉水完整版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J0229389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533520" y="8380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泉水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514600" y="1143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瓦罐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95680" y="1143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天然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553080" y="838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水塔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762120" y="35053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杜鹃花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35268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结苹果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762120" y="21337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清脆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52880" y="35812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股清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609480" y="4648320"/>
            <a:ext cx="8915040" cy="1724760"/>
            <a:chOff x="609480" y="4648320"/>
            <a:chExt cx="8915040" cy="1724760"/>
          </a:xfrm>
        </p:grpSpPr>
        <p:grpSp>
          <p:nvGrpSpPr>
            <p:cNvPr id="178" name="Group 12"/>
            <p:cNvGrpSpPr/>
            <p:nvPr/>
          </p:nvGrpSpPr>
          <p:grpSpPr>
            <a:xfrm>
              <a:off x="609480" y="4651920"/>
              <a:ext cx="3884400" cy="1667880"/>
              <a:chOff x="609480" y="4651920"/>
              <a:chExt cx="3884400" cy="1667880"/>
            </a:xfrm>
          </p:grpSpPr>
          <p:grpSp>
            <p:nvGrpSpPr>
              <p:cNvPr id="179" name="Group 13"/>
              <p:cNvGrpSpPr/>
              <p:nvPr/>
            </p:nvGrpSpPr>
            <p:grpSpPr>
              <a:xfrm>
                <a:off x="1868760" y="5213160"/>
                <a:ext cx="595440" cy="673920"/>
                <a:chOff x="1868760" y="5213160"/>
                <a:chExt cx="595440" cy="673920"/>
              </a:xfrm>
            </p:grpSpPr>
            <p:sp>
              <p:nvSpPr>
                <p:cNvPr id="180" name="Line 14"/>
                <p:cNvSpPr/>
                <p:nvPr/>
              </p:nvSpPr>
              <p:spPr>
                <a:xfrm flipV="1">
                  <a:off x="1868760" y="5213160"/>
                  <a:ext cx="595440" cy="31104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1868760" y="5628600"/>
                  <a:ext cx="595440" cy="25848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6"/>
              <p:cNvGrpSpPr/>
              <p:nvPr/>
            </p:nvGrpSpPr>
            <p:grpSpPr>
              <a:xfrm>
                <a:off x="609480" y="4651920"/>
                <a:ext cx="3884400" cy="1667880"/>
                <a:chOff x="609480" y="4651920"/>
                <a:chExt cx="3884400" cy="1667880"/>
              </a:xfrm>
            </p:grpSpPr>
            <p:grpSp>
              <p:nvGrpSpPr>
                <p:cNvPr id="183" name="Group 17"/>
                <p:cNvGrpSpPr/>
                <p:nvPr/>
              </p:nvGrpSpPr>
              <p:grpSpPr>
                <a:xfrm>
                  <a:off x="609480" y="5100480"/>
                  <a:ext cx="1259280" cy="1068480"/>
                  <a:chOff x="609480" y="5100480"/>
                  <a:chExt cx="1259280" cy="1068480"/>
                </a:xfrm>
              </p:grpSpPr>
              <p:sp>
                <p:nvSpPr>
                  <p:cNvPr id="184" name="Oval 18"/>
                  <p:cNvSpPr/>
                  <p:nvPr/>
                </p:nvSpPr>
                <p:spPr>
                  <a:xfrm>
                    <a:off x="609480" y="5100480"/>
                    <a:ext cx="1259280" cy="1068480"/>
                  </a:xfrm>
                  <a:prstGeom prst="ellipse">
                    <a:avLst/>
                  </a:prstGeom>
                  <a:solidFill>
                    <a:srgbClr val="ffccff"/>
                  </a:solidFill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Text Box 19"/>
                  <p:cNvSpPr/>
                  <p:nvPr/>
                </p:nvSpPr>
                <p:spPr>
                  <a:xfrm>
                    <a:off x="811080" y="5212080"/>
                    <a:ext cx="85284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800" spc="-1" strike="noStrike">
                        <a:solidFill>
                          <a:srgbClr val="0033cc"/>
                        </a:solidFill>
                        <a:latin typeface="楷体_GB2312"/>
                        <a:ea typeface="楷体_GB2312"/>
                      </a:rPr>
                      <a:t>结</a:t>
                    </a:r>
                    <a:endParaRPr b="0" lang="en-US" sz="4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20"/>
                <p:cNvGrpSpPr/>
                <p:nvPr/>
              </p:nvGrpSpPr>
              <p:grpSpPr>
                <a:xfrm>
                  <a:off x="2402280" y="4651920"/>
                  <a:ext cx="2091600" cy="1667880"/>
                  <a:chOff x="2402280" y="4651920"/>
                  <a:chExt cx="2091600" cy="1667880"/>
                </a:xfrm>
              </p:grpSpPr>
              <p:sp>
                <p:nvSpPr>
                  <p:cNvPr id="187" name="Text Box 21"/>
                  <p:cNvSpPr/>
                  <p:nvPr/>
                </p:nvSpPr>
                <p:spPr>
                  <a:xfrm>
                    <a:off x="2402280" y="4651920"/>
                    <a:ext cx="145476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800" spc="-1" strike="noStrike">
                        <a:solidFill>
                          <a:srgbClr val="0033cc"/>
                        </a:solidFill>
                        <a:latin typeface="宋体"/>
                      </a:rPr>
                      <a:t>jié</a:t>
                    </a:r>
                    <a:endParaRPr b="0" lang="en-US" sz="4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Text Box 22"/>
                  <p:cNvSpPr/>
                  <p:nvPr/>
                </p:nvSpPr>
                <p:spPr>
                  <a:xfrm>
                    <a:off x="2405160" y="5494680"/>
                    <a:ext cx="208872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800" spc="-1" strike="noStrike">
                        <a:solidFill>
                          <a:srgbClr val="0033cc"/>
                        </a:solidFill>
                        <a:latin typeface="宋体"/>
                      </a:rPr>
                      <a:t>jiē</a:t>
                    </a:r>
                    <a:endParaRPr b="0" lang="en-US" sz="4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9" name="Text Box 23"/>
            <p:cNvSpPr/>
            <p:nvPr/>
          </p:nvSpPr>
          <p:spPr>
            <a:xfrm>
              <a:off x="3222360" y="4648320"/>
              <a:ext cx="630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（蝴蝶</a:t>
              </a:r>
              <a:r>
                <a:rPr b="1" lang="zh-CN" sz="48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结</a:t>
              </a:r>
              <a:r>
                <a:rPr b="1" lang="zh-CN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）</a:t>
              </a:r>
              <a:r>
                <a:rPr b="1" lang="en-US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48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结</a:t>
              </a:r>
              <a:r>
                <a:rPr b="1" lang="zh-CN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尾</a:t>
              </a:r>
              <a:r>
                <a:rPr b="1" lang="en-US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)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3160440" y="5547960"/>
              <a:ext cx="587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48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结</a:t>
              </a:r>
              <a:r>
                <a:rPr b="1" lang="zh-CN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果子）</a:t>
              </a:r>
              <a:r>
                <a:rPr b="1" lang="en-US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48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结</a:t>
              </a:r>
              <a:r>
                <a:rPr b="1" lang="zh-CN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实</a:t>
              </a:r>
              <a:r>
                <a:rPr b="1" lang="en-US" sz="4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)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1" name="Text Box 25"/>
          <p:cNvSpPr/>
          <p:nvPr/>
        </p:nvSpPr>
        <p:spPr>
          <a:xfrm>
            <a:off x="6477120" y="20574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石缝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ownRibbonSharp"/>
          <p:cNvSpPr/>
          <p:nvPr/>
        </p:nvSpPr>
        <p:spPr>
          <a:xfrm>
            <a:off x="2987640" y="981000"/>
            <a:ext cx="403236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隶书"/>
              </a:rPr>
              <a:t>多音字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476360" y="2852640"/>
            <a:ext cx="792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195640" y="2637000"/>
            <a:ext cx="360360" cy="143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411280" y="2417760"/>
            <a:ext cx="2665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t</a:t>
            </a:r>
            <a:r>
              <a:rPr b="1" lang="en-US" sz="3200" spc="-1" strike="noStrike">
                <a:solidFill>
                  <a:srgbClr val="06521e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 (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484360" y="3573360"/>
            <a:ext cx="216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d</a:t>
            </a:r>
            <a:r>
              <a:rPr b="1" lang="en-US" sz="3200" spc="-1" strike="noStrike">
                <a:solidFill>
                  <a:srgbClr val="06521e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(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364000" y="2852640"/>
            <a:ext cx="1152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间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6156360" y="263700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6300720" y="2417760"/>
            <a:ext cx="25192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ji</a:t>
            </a:r>
            <a:r>
              <a:rPr b="1" lang="en-US" sz="32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(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227640" y="3500280"/>
            <a:ext cx="259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ji</a:t>
            </a:r>
            <a:r>
              <a:rPr b="1" lang="en-US" sz="3200" spc="-1" strike="noStrike">
                <a:solidFill>
                  <a:srgbClr val="06521e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(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547640" y="5157720"/>
            <a:ext cx="792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冲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2195640" y="4867200"/>
            <a:ext cx="358560" cy="1441440"/>
          </a:xfrm>
          <a:custGeom>
            <a:avLst/>
            <a:gdLst>
              <a:gd name="textAreaLeft" fmla="*/ 228960 w 358560"/>
              <a:gd name="textAreaRight" fmla="*/ 358560 w 3585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698920" y="4653000"/>
            <a:ext cx="252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06521e"/>
                </a:solidFill>
                <a:latin typeface="宋体"/>
              </a:rPr>
              <a:t>ō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6521e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700360" y="5873760"/>
            <a:ext cx="2448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06521e"/>
                </a:solidFill>
                <a:latin typeface="宋体"/>
              </a:rPr>
              <a:t>ò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6521e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374832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弹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3513600" y="3508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炸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7618680" y="2427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中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754560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间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4108680" y="45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冲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4108680" y="580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冲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065"/>
          <p:cNvPicPr/>
          <p:nvPr/>
        </p:nvPicPr>
        <p:blipFill>
          <a:blip r:embed="rId1"/>
          <a:stretch/>
        </p:blipFill>
        <p:spPr>
          <a:xfrm>
            <a:off x="7419960" y="1413000"/>
            <a:ext cx="1425600" cy="178740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3"/>
          <p:cNvGrpSpPr/>
          <p:nvPr/>
        </p:nvGrpSpPr>
        <p:grpSpPr>
          <a:xfrm>
            <a:off x="5867280" y="457200"/>
            <a:ext cx="2546640" cy="1535040"/>
            <a:chOff x="5867280" y="457200"/>
            <a:chExt cx="2546640" cy="1535040"/>
          </a:xfrm>
        </p:grpSpPr>
        <p:pic>
          <p:nvPicPr>
            <p:cNvPr id="214" name="Picture 4" descr="03"/>
            <p:cNvPicPr/>
            <p:nvPr/>
          </p:nvPicPr>
          <p:blipFill>
            <a:blip r:embed="rId2"/>
            <a:stretch/>
          </p:blipFill>
          <p:spPr>
            <a:xfrm>
              <a:off x="5867280" y="457200"/>
              <a:ext cx="25466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6341400" y="660600"/>
              <a:ext cx="162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读读说说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16" name="Text Box 6"/>
          <p:cNvSpPr/>
          <p:nvPr/>
        </p:nvSpPr>
        <p:spPr>
          <a:xfrm>
            <a:off x="1371600" y="1219320"/>
            <a:ext cx="43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</a:t>
            </a: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</a:t>
            </a: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295280" y="228600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</a:t>
            </a: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清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</a:t>
            </a: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清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295280" y="3429000"/>
            <a:ext cx="403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</a:t>
            </a: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甜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</a:t>
            </a: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甜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1219320" y="4572000"/>
            <a:ext cx="5146560" cy="1099440"/>
            <a:chOff x="1219320" y="4572000"/>
            <a:chExt cx="5146560" cy="1099440"/>
          </a:xfrm>
        </p:grpSpPr>
        <p:sp>
          <p:nvSpPr>
            <p:cNvPr id="220" name="Text Box 10"/>
            <p:cNvSpPr/>
            <p:nvPr/>
          </p:nvSpPr>
          <p:spPr>
            <a:xfrm>
              <a:off x="1219320" y="4572000"/>
              <a:ext cx="514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很  很</a:t>
              </a:r>
              <a:endParaRPr b="0" lang="en-US" sz="6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2124360" y="5516640"/>
              <a:ext cx="934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3851280" y="5516640"/>
              <a:ext cx="9352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23" name="Text Box 13"/>
          <p:cNvSpPr/>
          <p:nvPr/>
        </p:nvSpPr>
        <p:spPr>
          <a:xfrm>
            <a:off x="2050920" y="4508640"/>
            <a:ext cx="10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美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780000" y="450864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美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1483920"/>
            <a:ext cx="8839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会读：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阳光灿烂的世界　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火红的杜鹃花         美丽的身影　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明亮的大镜子　大口大口地喝水　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更大更甜的果子　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静静的山谷　    尽情地歌唱　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清脆的歌声　    欢快的泉水　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900000" y="-171360"/>
            <a:ext cx="342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33cc"/>
                </a:solidFill>
                <a:latin typeface="Arial"/>
                <a:ea typeface="楷体_GB2312"/>
              </a:rPr>
              <a:t>瓦</a:t>
            </a:r>
            <a:endParaRPr b="0" lang="en-US" sz="22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140360" y="3500280"/>
          <a:ext cx="3673440" cy="3048120"/>
        </p:xfrm>
        <a:graphic>
          <a:graphicData uri="http://schemas.openxmlformats.org/drawingml/2006/table">
            <a:tbl>
              <a:tblPr/>
              <a:tblGrid>
                <a:gridCol w="1846080"/>
                <a:gridCol w="1827360"/>
              </a:tblGrid>
              <a:tr h="15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14"/>
          <p:cNvSpPr/>
          <p:nvPr/>
        </p:nvSpPr>
        <p:spPr>
          <a:xfrm>
            <a:off x="4643280" y="3141720"/>
            <a:ext cx="3276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33cc"/>
                </a:solidFill>
                <a:latin typeface="Arial"/>
                <a:ea typeface="楷体_GB2312"/>
              </a:rPr>
              <a:t>泉</a:t>
            </a:r>
            <a:endParaRPr b="0" lang="en-US" sz="22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5280" y="189000"/>
          <a:ext cx="3673440" cy="3252600"/>
        </p:xfrm>
        <a:graphic>
          <a:graphicData uri="http://schemas.openxmlformats.org/drawingml/2006/table">
            <a:tbl>
              <a:tblPr/>
              <a:tblGrid>
                <a:gridCol w="1846440"/>
                <a:gridCol w="182700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5" name="Group 26"/>
          <p:cNvGrpSpPr/>
          <p:nvPr/>
        </p:nvGrpSpPr>
        <p:grpSpPr>
          <a:xfrm>
            <a:off x="5435640" y="907920"/>
            <a:ext cx="2233440" cy="1512720"/>
            <a:chOff x="5435640" y="907920"/>
            <a:chExt cx="2233440" cy="1512720"/>
          </a:xfrm>
        </p:grpSpPr>
        <p:sp>
          <p:nvSpPr>
            <p:cNvPr id="236" name="AutoShape 27"/>
            <p:cNvSpPr/>
            <p:nvPr/>
          </p:nvSpPr>
          <p:spPr>
            <a:xfrm>
              <a:off x="5435640" y="907920"/>
              <a:ext cx="2162160" cy="1512720"/>
            </a:xfrm>
            <a:prstGeom prst="cloudCallout">
              <a:avLst>
                <a:gd name="adj1" fmla="val 101541"/>
                <a:gd name="adj2" fmla="val 19569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Text Box 28"/>
            <p:cNvSpPr/>
            <p:nvPr/>
          </p:nvSpPr>
          <p:spPr>
            <a:xfrm>
              <a:off x="5724720" y="134136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d7da9"/>
                  </a:solidFill>
                  <a:latin typeface="Times New Roman"/>
                </a:rPr>
                <a:t>我会写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900000" y="692280"/>
            <a:ext cx="7128000" cy="60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池　（杨万里）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泉眼无声惜细流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树阴照水爱晴柔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荷才露尖尖角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有蜻蜓立上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  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　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900000" y="692280"/>
            <a:ext cx="71280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　         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míng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山居秋暝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空山新雨后，天气晚来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明月松间照，清泉石上流。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　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8"/>
          <p:cNvSpPr/>
          <p:nvPr/>
        </p:nvSpPr>
        <p:spPr>
          <a:xfrm>
            <a:off x="154764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Picture 4" descr="FR2009"/>
          <p:cNvPicPr/>
          <p:nvPr/>
        </p:nvPicPr>
        <p:blipFill>
          <a:blip r:embed="rId1"/>
          <a:stretch/>
        </p:blipFill>
        <p:spPr>
          <a:xfrm>
            <a:off x="-324000" y="-1395360"/>
            <a:ext cx="9936360" cy="8496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755640" y="112536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黑体"/>
                <a:ea typeface="黑体"/>
              </a:rPr>
              <a:t>自读注意</a:t>
            </a:r>
            <a:r>
              <a:rPr b="1" lang="en-US" sz="6000" spc="-1" strike="noStrike">
                <a:solidFill>
                  <a:srgbClr val="cc0066"/>
                </a:solidFill>
                <a:latin typeface="黑体"/>
                <a:ea typeface="黑体"/>
              </a:rPr>
              <a:t>: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619280" y="2421000"/>
            <a:ext cx="55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华文楷体"/>
                <a:ea typeface="华文楷体"/>
              </a:rPr>
              <a:t>注意“我会读”的字在课文中的词组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3635280" y="1125360"/>
            <a:ext cx="24465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楷体_GB2312"/>
              </a:rPr>
              <a:t>会读的字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834920" y="2000520"/>
            <a:ext cx="7006320" cy="314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ò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</a:t>
            </a:r>
            <a:r>
              <a:rPr b="0" lang="en-US" sz="3200" spc="-1" strike="noStrike">
                <a:solidFill>
                  <a:srgbClr val="06521e"/>
                </a:solidFill>
                <a:latin typeface="Shruti"/>
                <a:ea typeface="楷体_GB2312"/>
              </a:rPr>
              <a:t>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ǔ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è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200" spc="-1" strike="noStrike">
                <a:solidFill>
                  <a:srgbClr val="06521e"/>
                </a:solidFill>
                <a:latin typeface="Shruti"/>
                <a:ea typeface="楷体_GB2312"/>
              </a:rPr>
              <a:t>g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0" lang="en-US" sz="3200" spc="-1" strike="noStrike">
                <a:solidFill>
                  <a:srgbClr val="06521e"/>
                </a:solidFill>
                <a:latin typeface="Shruti"/>
                <a:ea typeface="楷体_GB2312"/>
              </a:rPr>
              <a:t>g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哦　 股　 缝　 罐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d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ù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j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u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塔　 杜　 鹃　  脆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979640" y="3213000"/>
            <a:ext cx="180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WordArt 3"/>
          <p:cNvSpPr txBox="1"/>
          <p:nvPr/>
        </p:nvSpPr>
        <p:spPr>
          <a:xfrm>
            <a:off x="3492360" y="981000"/>
            <a:ext cx="280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楷体_GB2312"/>
              </a:rPr>
              <a:t>读词语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95280" y="1197000"/>
            <a:ext cx="216072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瓦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2050920" y="2349360"/>
            <a:ext cx="2160720" cy="19432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一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284720" y="2349360"/>
            <a:ext cx="2160360" cy="19432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清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1116000" y="4508640"/>
            <a:ext cx="216072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结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227640" y="3789360"/>
            <a:ext cx="2772000" cy="26640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天然水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6156360" y="1413000"/>
            <a:ext cx="216072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清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3492360" y="4292640"/>
            <a:ext cx="216072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杜鹃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宋体"/>
              </a:rPr>
              <a:t>W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ǎ  guàn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华文楷体"/>
                <a:ea typeface="华文楷体"/>
              </a:rPr>
              <a:t>瓦    罐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8" name="Picture 4" descr="urrN37neLjJqcGc=_5IUcCwSfCiJD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1" name="Picture 4" descr="pic_254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900000" y="18446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42920" y="155736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华文楷体"/>
              </a:rPr>
              <a:t>一股清泉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4436640"/>
            <a:ext cx="249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572"/>
                </a:solidFill>
                <a:latin typeface="Arial"/>
                <a:ea typeface="华文楷体"/>
              </a:rPr>
              <a:t>水塔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5" name="Picture 3" descr="10"/>
          <p:cNvPicPr/>
          <p:nvPr/>
        </p:nvPicPr>
        <p:blipFill>
          <a:blip r:embed="rId1"/>
          <a:stretch/>
        </p:blipFill>
        <p:spPr>
          <a:xfrm>
            <a:off x="250920" y="0"/>
            <a:ext cx="4032000" cy="429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shuichi 1"/>
          <p:cNvPicPr/>
          <p:nvPr/>
        </p:nvPicPr>
        <p:blipFill>
          <a:blip r:embed="rId2"/>
          <a:stretch/>
        </p:blipFill>
        <p:spPr>
          <a:xfrm>
            <a:off x="4788000" y="0"/>
            <a:ext cx="4140000" cy="42926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5219640" y="4365720"/>
            <a:ext cx="356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572"/>
                </a:solidFill>
                <a:latin typeface="Arial"/>
                <a:ea typeface="华文楷体"/>
              </a:rPr>
              <a:t>天然水塔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33cc"/>
                </a:solidFill>
                <a:latin typeface="华文楷体"/>
                <a:ea typeface="华文楷体"/>
              </a:rPr>
              <a:t>cuì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华文楷体"/>
                <a:ea typeface="华文楷体"/>
              </a:rPr>
              <a:t>清  脆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华文楷体"/>
                <a:ea typeface="华文楷体"/>
              </a:rPr>
              <a:t>清脆的</a:t>
            </a:r>
            <a:r>
              <a:rPr b="1" lang="en-US" sz="5400" spc="-1" strike="noStrike">
                <a:solidFill>
                  <a:srgbClr val="0033cc"/>
                </a:solidFill>
                <a:latin typeface="华文楷体"/>
                <a:ea typeface="华文楷体"/>
              </a:rPr>
              <a:t>(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                     )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284720" y="3789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284720" y="386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348000" y="242100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歌声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292720" y="242100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叫声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userid9522time2003042320051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3"/>
          <p:cNvGrpSpPr/>
          <p:nvPr/>
        </p:nvGrpSpPr>
        <p:grpSpPr>
          <a:xfrm>
            <a:off x="4038480" y="1219320"/>
            <a:ext cx="4572000" cy="2501280"/>
            <a:chOff x="4038480" y="1219320"/>
            <a:chExt cx="4572000" cy="2501280"/>
          </a:xfrm>
        </p:grpSpPr>
        <p:sp>
          <p:nvSpPr>
            <p:cNvPr id="165" name="Text Box 4"/>
            <p:cNvSpPr/>
            <p:nvPr/>
          </p:nvSpPr>
          <p:spPr>
            <a:xfrm>
              <a:off x="4572000" y="2286000"/>
              <a:ext cx="3809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杜鹃花</a:t>
              </a:r>
              <a:endParaRPr b="0" lang="en-US" sz="8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Text Box 5"/>
            <p:cNvSpPr/>
            <p:nvPr/>
          </p:nvSpPr>
          <p:spPr>
            <a:xfrm>
              <a:off x="4038480" y="1219320"/>
              <a:ext cx="45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48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</a:rPr>
                <a:t>ù</a:t>
              </a:r>
              <a:r>
                <a:rPr b="1" lang="en-US" sz="4800" spc="-1" strike="noStrike">
                  <a:solidFill>
                    <a:srgbClr val="ffffff"/>
                  </a:solidFill>
                  <a:latin typeface="宋体"/>
                </a:rPr>
                <a:t> juān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7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1:30:08Z</dcterms:created>
  <dc:creator/>
  <dc:description/>
  <cp:keywords>幻灯片之家 http:/www.eeppt.com</cp:keywords>
  <dc:language>en-US</dc:language>
  <cp:lastModifiedBy/>
  <dcterms:modified xsi:type="dcterms:W3CDTF">2015-07-20T02:51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