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dfw.wa.gov/gallery/albums/Flora/LEAF.sized.jpg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dfw.wa.gov/gallery/albums/Flora/LEAF.sized.jpg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dfw.wa.gov/gallery/albums/Flora/LEAF.sized.jpg" TargetMode="External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未知"/>
          <p:cNvSpPr/>
          <p:nvPr/>
        </p:nvSpPr>
        <p:spPr>
          <a:xfrm>
            <a:off x="0" y="4686480"/>
            <a:ext cx="9144000" cy="457200"/>
          </a:xfrm>
          <a:custGeom>
            <a:avLst/>
            <a:gdLst/>
            <a:ahLst/>
            <a:rect l="l" t="t" r="r" b="b"/>
            <a:pathLst>
              <a:path w="4763" h="166">
                <a:moveTo>
                  <a:pt x="1928" y="68"/>
                </a:moveTo>
                <a:cubicBezTo>
                  <a:pt x="1928" y="66"/>
                  <a:pt x="1928" y="65"/>
                  <a:pt x="1928" y="64"/>
                </a:cubicBezTo>
                <a:cubicBezTo>
                  <a:pt x="1928" y="65"/>
                  <a:pt x="1928" y="66"/>
                  <a:pt x="1928" y="68"/>
                </a:cubicBezTo>
                <a:close/>
                <a:moveTo>
                  <a:pt x="1972" y="61"/>
                </a:moveTo>
                <a:cubicBezTo>
                  <a:pt x="1972" y="55"/>
                  <a:pt x="1971" y="49"/>
                  <a:pt x="1970" y="44"/>
                </a:cubicBezTo>
                <a:cubicBezTo>
                  <a:pt x="1970" y="44"/>
                  <a:pt x="1971" y="51"/>
                  <a:pt x="1972" y="61"/>
                </a:cubicBezTo>
                <a:close/>
                <a:moveTo>
                  <a:pt x="1907" y="90"/>
                </a:moveTo>
                <a:cubicBezTo>
                  <a:pt x="1907" y="89"/>
                  <a:pt x="1906" y="87"/>
                  <a:pt x="1905" y="86"/>
                </a:cubicBezTo>
                <a:cubicBezTo>
                  <a:pt x="1906" y="87"/>
                  <a:pt x="1906" y="89"/>
                  <a:pt x="1907" y="90"/>
                </a:cubicBezTo>
                <a:close/>
                <a:moveTo>
                  <a:pt x="1733" y="109"/>
                </a:moveTo>
                <a:cubicBezTo>
                  <a:pt x="1732" y="104"/>
                  <a:pt x="1732" y="99"/>
                  <a:pt x="1731" y="95"/>
                </a:cubicBezTo>
                <a:cubicBezTo>
                  <a:pt x="1731" y="99"/>
                  <a:pt x="1732" y="104"/>
                  <a:pt x="1733" y="109"/>
                </a:cubicBezTo>
                <a:close/>
                <a:moveTo>
                  <a:pt x="1412" y="88"/>
                </a:moveTo>
                <a:cubicBezTo>
                  <a:pt x="1411" y="86"/>
                  <a:pt x="1410" y="83"/>
                  <a:pt x="1408" y="81"/>
                </a:cubicBezTo>
                <a:cubicBezTo>
                  <a:pt x="1409" y="83"/>
                  <a:pt x="1411" y="86"/>
                  <a:pt x="1412" y="88"/>
                </a:cubicBezTo>
                <a:close/>
                <a:moveTo>
                  <a:pt x="1519" y="102"/>
                </a:moveTo>
                <a:cubicBezTo>
                  <a:pt x="1518" y="100"/>
                  <a:pt x="1517" y="97"/>
                  <a:pt x="1516" y="96"/>
                </a:cubicBezTo>
                <a:cubicBezTo>
                  <a:pt x="1517" y="98"/>
                  <a:pt x="1518" y="100"/>
                  <a:pt x="1519" y="102"/>
                </a:cubicBezTo>
                <a:close/>
                <a:moveTo>
                  <a:pt x="1280" y="79"/>
                </a:moveTo>
                <a:cubicBezTo>
                  <a:pt x="1279" y="76"/>
                  <a:pt x="1278" y="73"/>
                  <a:pt x="1276" y="70"/>
                </a:cubicBezTo>
                <a:cubicBezTo>
                  <a:pt x="1278" y="73"/>
                  <a:pt x="1279" y="76"/>
                  <a:pt x="1280" y="79"/>
                </a:cubicBezTo>
                <a:close/>
                <a:moveTo>
                  <a:pt x="1270" y="81"/>
                </a:moveTo>
                <a:cubicBezTo>
                  <a:pt x="1264" y="61"/>
                  <a:pt x="1253" y="46"/>
                  <a:pt x="1237" y="25"/>
                </a:cubicBezTo>
                <a:cubicBezTo>
                  <a:pt x="1253" y="48"/>
                  <a:pt x="1263" y="64"/>
                  <a:pt x="1270" y="81"/>
                </a:cubicBezTo>
                <a:close/>
                <a:moveTo>
                  <a:pt x="1572" y="100"/>
                </a:moveTo>
                <a:cubicBezTo>
                  <a:pt x="1572" y="97"/>
                  <a:pt x="1571" y="95"/>
                  <a:pt x="1570" y="93"/>
                </a:cubicBezTo>
                <a:cubicBezTo>
                  <a:pt x="1571" y="96"/>
                  <a:pt x="1572" y="98"/>
                  <a:pt x="1572" y="100"/>
                </a:cubicBezTo>
                <a:close/>
                <a:moveTo>
                  <a:pt x="1812" y="81"/>
                </a:moveTo>
                <a:cubicBezTo>
                  <a:pt x="1810" y="75"/>
                  <a:pt x="1808" y="70"/>
                  <a:pt x="1806" y="67"/>
                </a:cubicBezTo>
                <a:cubicBezTo>
                  <a:pt x="1806" y="67"/>
                  <a:pt x="1809" y="72"/>
                  <a:pt x="1812" y="81"/>
                </a:cubicBezTo>
                <a:close/>
                <a:moveTo>
                  <a:pt x="1850" y="13"/>
                </a:moveTo>
                <a:cubicBezTo>
                  <a:pt x="1850" y="12"/>
                  <a:pt x="1850" y="12"/>
                  <a:pt x="1850" y="12"/>
                </a:cubicBezTo>
                <a:cubicBezTo>
                  <a:pt x="1850" y="12"/>
                  <a:pt x="1850" y="13"/>
                  <a:pt x="1850" y="13"/>
                </a:cubicBezTo>
                <a:close/>
                <a:moveTo>
                  <a:pt x="1974" y="100"/>
                </a:moveTo>
                <a:cubicBezTo>
                  <a:pt x="1975" y="98"/>
                  <a:pt x="1975" y="96"/>
                  <a:pt x="1976" y="93"/>
                </a:cubicBezTo>
                <a:cubicBezTo>
                  <a:pt x="1975" y="95"/>
                  <a:pt x="1975" y="97"/>
                  <a:pt x="1974" y="100"/>
                </a:cubicBezTo>
                <a:close/>
                <a:moveTo>
                  <a:pt x="2660" y="105"/>
                </a:moveTo>
                <a:cubicBezTo>
                  <a:pt x="2660" y="103"/>
                  <a:pt x="2660" y="101"/>
                  <a:pt x="2659" y="99"/>
                </a:cubicBezTo>
                <a:cubicBezTo>
                  <a:pt x="2659" y="101"/>
                  <a:pt x="2660" y="103"/>
                  <a:pt x="2660" y="105"/>
                </a:cubicBezTo>
                <a:close/>
                <a:moveTo>
                  <a:pt x="2371" y="66"/>
                </a:moveTo>
                <a:cubicBezTo>
                  <a:pt x="2371" y="63"/>
                  <a:pt x="2371" y="61"/>
                  <a:pt x="2372" y="59"/>
                </a:cubicBezTo>
                <a:cubicBezTo>
                  <a:pt x="2372" y="59"/>
                  <a:pt x="2371" y="62"/>
                  <a:pt x="2371" y="66"/>
                </a:cubicBezTo>
                <a:close/>
                <a:moveTo>
                  <a:pt x="2380" y="100"/>
                </a:moveTo>
                <a:cubicBezTo>
                  <a:pt x="2380" y="97"/>
                  <a:pt x="2379" y="95"/>
                  <a:pt x="2379" y="93"/>
                </a:cubicBezTo>
                <a:cubicBezTo>
                  <a:pt x="2379" y="96"/>
                  <a:pt x="2380" y="98"/>
                  <a:pt x="2380" y="100"/>
                </a:cubicBezTo>
                <a:close/>
                <a:moveTo>
                  <a:pt x="2413" y="68"/>
                </a:moveTo>
                <a:cubicBezTo>
                  <a:pt x="2413" y="65"/>
                  <a:pt x="2412" y="64"/>
                  <a:pt x="2412" y="64"/>
                </a:cubicBezTo>
                <a:cubicBezTo>
                  <a:pt x="2412" y="64"/>
                  <a:pt x="2413" y="66"/>
                  <a:pt x="2413" y="68"/>
                </a:cubicBezTo>
                <a:close/>
                <a:moveTo>
                  <a:pt x="2486" y="61"/>
                </a:moveTo>
                <a:cubicBezTo>
                  <a:pt x="2486" y="55"/>
                  <a:pt x="2485" y="49"/>
                  <a:pt x="2484" y="44"/>
                </a:cubicBezTo>
                <a:cubicBezTo>
                  <a:pt x="2484" y="44"/>
                  <a:pt x="2485" y="51"/>
                  <a:pt x="2486" y="61"/>
                </a:cubicBezTo>
                <a:close/>
                <a:moveTo>
                  <a:pt x="2562" y="68"/>
                </a:moveTo>
                <a:cubicBezTo>
                  <a:pt x="2562" y="68"/>
                  <a:pt x="2562" y="71"/>
                  <a:pt x="2562" y="75"/>
                </a:cubicBezTo>
                <a:cubicBezTo>
                  <a:pt x="2562" y="72"/>
                  <a:pt x="2562" y="70"/>
                  <a:pt x="2562" y="68"/>
                </a:cubicBezTo>
                <a:close/>
                <a:moveTo>
                  <a:pt x="2197" y="44"/>
                </a:moveTo>
                <a:cubicBezTo>
                  <a:pt x="2197" y="43"/>
                  <a:pt x="2197" y="41"/>
                  <a:pt x="2197" y="40"/>
                </a:cubicBezTo>
                <a:cubicBezTo>
                  <a:pt x="2197" y="40"/>
                  <a:pt x="2197" y="42"/>
                  <a:pt x="2197" y="44"/>
                </a:cubicBezTo>
                <a:close/>
                <a:moveTo>
                  <a:pt x="2125" y="83"/>
                </a:moveTo>
                <a:cubicBezTo>
                  <a:pt x="2124" y="81"/>
                  <a:pt x="2123" y="79"/>
                  <a:pt x="2122" y="78"/>
                </a:cubicBezTo>
                <a:cubicBezTo>
                  <a:pt x="2123" y="79"/>
                  <a:pt x="2124" y="81"/>
                  <a:pt x="2125" y="83"/>
                </a:cubicBezTo>
                <a:close/>
                <a:moveTo>
                  <a:pt x="2569" y="62"/>
                </a:moveTo>
                <a:cubicBezTo>
                  <a:pt x="2569" y="61"/>
                  <a:pt x="2569" y="60"/>
                  <a:pt x="2569" y="60"/>
                </a:cubicBezTo>
                <a:cubicBezTo>
                  <a:pt x="2569" y="60"/>
                  <a:pt x="2569" y="61"/>
                  <a:pt x="2569" y="62"/>
                </a:cubicBezTo>
                <a:close/>
                <a:moveTo>
                  <a:pt x="2158" y="52"/>
                </a:moveTo>
                <a:cubicBezTo>
                  <a:pt x="2158" y="50"/>
                  <a:pt x="2158" y="49"/>
                  <a:pt x="2158" y="49"/>
                </a:cubicBezTo>
                <a:cubicBezTo>
                  <a:pt x="2158" y="50"/>
                  <a:pt x="2158" y="51"/>
                  <a:pt x="2158" y="52"/>
                </a:cubicBezTo>
                <a:close/>
                <a:moveTo>
                  <a:pt x="2143" y="33"/>
                </a:moveTo>
                <a:cubicBezTo>
                  <a:pt x="2143" y="30"/>
                  <a:pt x="2143" y="28"/>
                  <a:pt x="2142" y="25"/>
                </a:cubicBezTo>
                <a:cubicBezTo>
                  <a:pt x="2142" y="25"/>
                  <a:pt x="2143" y="28"/>
                  <a:pt x="2143" y="33"/>
                </a:cubicBezTo>
                <a:close/>
                <a:moveTo>
                  <a:pt x="2441" y="67"/>
                </a:moveTo>
                <a:cubicBezTo>
                  <a:pt x="2442" y="66"/>
                  <a:pt x="2442" y="65"/>
                  <a:pt x="2441" y="64"/>
                </a:cubicBezTo>
                <a:cubicBezTo>
                  <a:pt x="2441" y="64"/>
                  <a:pt x="2441" y="65"/>
                  <a:pt x="2441" y="67"/>
                </a:cubicBezTo>
                <a:close/>
                <a:moveTo>
                  <a:pt x="130" y="68"/>
                </a:moveTo>
                <a:cubicBezTo>
                  <a:pt x="130" y="66"/>
                  <a:pt x="130" y="65"/>
                  <a:pt x="130" y="64"/>
                </a:cubicBezTo>
                <a:cubicBezTo>
                  <a:pt x="130" y="64"/>
                  <a:pt x="130" y="65"/>
                  <a:pt x="130" y="68"/>
                </a:cubicBezTo>
                <a:close/>
                <a:moveTo>
                  <a:pt x="360" y="52"/>
                </a:moveTo>
                <a:cubicBezTo>
                  <a:pt x="360" y="50"/>
                  <a:pt x="360" y="49"/>
                  <a:pt x="360" y="49"/>
                </a:cubicBezTo>
                <a:cubicBezTo>
                  <a:pt x="360" y="50"/>
                  <a:pt x="360" y="51"/>
                  <a:pt x="360" y="52"/>
                </a:cubicBezTo>
                <a:close/>
                <a:moveTo>
                  <a:pt x="345" y="33"/>
                </a:moveTo>
                <a:cubicBezTo>
                  <a:pt x="345" y="30"/>
                  <a:pt x="345" y="28"/>
                  <a:pt x="344" y="25"/>
                </a:cubicBezTo>
                <a:cubicBezTo>
                  <a:pt x="344" y="25"/>
                  <a:pt x="345" y="28"/>
                  <a:pt x="345" y="33"/>
                </a:cubicBezTo>
                <a:close/>
                <a:moveTo>
                  <a:pt x="327" y="83"/>
                </a:moveTo>
                <a:cubicBezTo>
                  <a:pt x="326" y="81"/>
                  <a:pt x="325" y="79"/>
                  <a:pt x="324" y="78"/>
                </a:cubicBezTo>
                <a:cubicBezTo>
                  <a:pt x="325" y="79"/>
                  <a:pt x="326" y="81"/>
                  <a:pt x="327" y="83"/>
                </a:cubicBezTo>
                <a:close/>
                <a:moveTo>
                  <a:pt x="399" y="44"/>
                </a:moveTo>
                <a:cubicBezTo>
                  <a:pt x="399" y="43"/>
                  <a:pt x="399" y="41"/>
                  <a:pt x="399" y="40"/>
                </a:cubicBezTo>
                <a:cubicBezTo>
                  <a:pt x="399" y="40"/>
                  <a:pt x="399" y="42"/>
                  <a:pt x="399" y="44"/>
                </a:cubicBezTo>
                <a:close/>
                <a:moveTo>
                  <a:pt x="176" y="100"/>
                </a:moveTo>
                <a:cubicBezTo>
                  <a:pt x="177" y="98"/>
                  <a:pt x="177" y="96"/>
                  <a:pt x="178" y="93"/>
                </a:cubicBezTo>
                <a:cubicBezTo>
                  <a:pt x="177" y="95"/>
                  <a:pt x="177" y="97"/>
                  <a:pt x="176" y="100"/>
                </a:cubicBezTo>
                <a:close/>
                <a:moveTo>
                  <a:pt x="573" y="66"/>
                </a:moveTo>
                <a:cubicBezTo>
                  <a:pt x="573" y="63"/>
                  <a:pt x="574" y="61"/>
                  <a:pt x="574" y="59"/>
                </a:cubicBezTo>
                <a:cubicBezTo>
                  <a:pt x="574" y="59"/>
                  <a:pt x="573" y="62"/>
                  <a:pt x="573" y="66"/>
                </a:cubicBezTo>
                <a:close/>
                <a:moveTo>
                  <a:pt x="14" y="81"/>
                </a:moveTo>
                <a:cubicBezTo>
                  <a:pt x="12" y="75"/>
                  <a:pt x="10" y="70"/>
                  <a:pt x="9" y="67"/>
                </a:cubicBezTo>
                <a:cubicBezTo>
                  <a:pt x="9" y="67"/>
                  <a:pt x="11" y="72"/>
                  <a:pt x="14" y="81"/>
                </a:cubicBezTo>
                <a:close/>
                <a:moveTo>
                  <a:pt x="52" y="13"/>
                </a:moveTo>
                <a:cubicBezTo>
                  <a:pt x="52" y="12"/>
                  <a:pt x="52" y="12"/>
                  <a:pt x="52" y="12"/>
                </a:cubicBezTo>
                <a:cubicBezTo>
                  <a:pt x="52" y="12"/>
                  <a:pt x="52" y="13"/>
                  <a:pt x="52" y="13"/>
                </a:cubicBezTo>
                <a:close/>
                <a:moveTo>
                  <a:pt x="583" y="100"/>
                </a:moveTo>
                <a:cubicBezTo>
                  <a:pt x="582" y="97"/>
                  <a:pt x="582" y="95"/>
                  <a:pt x="581" y="93"/>
                </a:cubicBezTo>
                <a:cubicBezTo>
                  <a:pt x="581" y="96"/>
                  <a:pt x="582" y="98"/>
                  <a:pt x="583" y="100"/>
                </a:cubicBezTo>
                <a:close/>
                <a:moveTo>
                  <a:pt x="2668" y="65"/>
                </a:moveTo>
                <a:cubicBezTo>
                  <a:pt x="2668" y="64"/>
                  <a:pt x="2668" y="63"/>
                  <a:pt x="2668" y="63"/>
                </a:cubicBezTo>
                <a:cubicBezTo>
                  <a:pt x="2668" y="63"/>
                  <a:pt x="2668" y="64"/>
                  <a:pt x="2668" y="65"/>
                </a:cubicBezTo>
                <a:close/>
                <a:moveTo>
                  <a:pt x="109" y="90"/>
                </a:moveTo>
                <a:cubicBezTo>
                  <a:pt x="109" y="89"/>
                  <a:pt x="108" y="87"/>
                  <a:pt x="107" y="86"/>
                </a:cubicBezTo>
                <a:cubicBezTo>
                  <a:pt x="108" y="87"/>
                  <a:pt x="109" y="89"/>
                  <a:pt x="109" y="90"/>
                </a:cubicBezTo>
                <a:close/>
                <a:moveTo>
                  <a:pt x="174" y="61"/>
                </a:moveTo>
                <a:cubicBezTo>
                  <a:pt x="174" y="55"/>
                  <a:pt x="174" y="49"/>
                  <a:pt x="172" y="44"/>
                </a:cubicBezTo>
                <a:cubicBezTo>
                  <a:pt x="172" y="44"/>
                  <a:pt x="173" y="51"/>
                  <a:pt x="174" y="61"/>
                </a:cubicBezTo>
                <a:close/>
                <a:moveTo>
                  <a:pt x="615" y="68"/>
                </a:moveTo>
                <a:cubicBezTo>
                  <a:pt x="615" y="65"/>
                  <a:pt x="614" y="64"/>
                  <a:pt x="614" y="64"/>
                </a:cubicBezTo>
                <a:cubicBezTo>
                  <a:pt x="614" y="64"/>
                  <a:pt x="615" y="66"/>
                  <a:pt x="615" y="68"/>
                </a:cubicBezTo>
                <a:close/>
                <a:moveTo>
                  <a:pt x="922" y="54"/>
                </a:moveTo>
                <a:cubicBezTo>
                  <a:pt x="922" y="53"/>
                  <a:pt x="922" y="52"/>
                  <a:pt x="922" y="52"/>
                </a:cubicBezTo>
                <a:cubicBezTo>
                  <a:pt x="922" y="53"/>
                  <a:pt x="922" y="53"/>
                  <a:pt x="922" y="54"/>
                </a:cubicBezTo>
                <a:close/>
                <a:moveTo>
                  <a:pt x="870" y="65"/>
                </a:moveTo>
                <a:cubicBezTo>
                  <a:pt x="870" y="64"/>
                  <a:pt x="870" y="63"/>
                  <a:pt x="870" y="63"/>
                </a:cubicBezTo>
                <a:cubicBezTo>
                  <a:pt x="870" y="63"/>
                  <a:pt x="870" y="64"/>
                  <a:pt x="870" y="65"/>
                </a:cubicBezTo>
                <a:close/>
                <a:moveTo>
                  <a:pt x="874" y="52"/>
                </a:moveTo>
                <a:cubicBezTo>
                  <a:pt x="874" y="50"/>
                  <a:pt x="874" y="49"/>
                  <a:pt x="874" y="49"/>
                </a:cubicBezTo>
                <a:cubicBezTo>
                  <a:pt x="874" y="50"/>
                  <a:pt x="874" y="51"/>
                  <a:pt x="874" y="52"/>
                </a:cubicBezTo>
                <a:close/>
                <a:moveTo>
                  <a:pt x="918" y="90"/>
                </a:moveTo>
                <a:cubicBezTo>
                  <a:pt x="917" y="89"/>
                  <a:pt x="916" y="87"/>
                  <a:pt x="915" y="86"/>
                </a:cubicBezTo>
                <a:cubicBezTo>
                  <a:pt x="916" y="87"/>
                  <a:pt x="917" y="89"/>
                  <a:pt x="918" y="90"/>
                </a:cubicBezTo>
                <a:close/>
                <a:moveTo>
                  <a:pt x="1037" y="54"/>
                </a:moveTo>
                <a:cubicBezTo>
                  <a:pt x="1037" y="54"/>
                  <a:pt x="1037" y="65"/>
                  <a:pt x="1036" y="84"/>
                </a:cubicBezTo>
                <a:cubicBezTo>
                  <a:pt x="1038" y="72"/>
                  <a:pt x="1039" y="60"/>
                  <a:pt x="1037" y="54"/>
                </a:cubicBezTo>
                <a:close/>
                <a:moveTo>
                  <a:pt x="998" y="47"/>
                </a:moveTo>
                <a:cubicBezTo>
                  <a:pt x="997" y="39"/>
                  <a:pt x="997" y="33"/>
                  <a:pt x="996" y="30"/>
                </a:cubicBezTo>
                <a:cubicBezTo>
                  <a:pt x="996" y="30"/>
                  <a:pt x="996" y="37"/>
                  <a:pt x="998" y="47"/>
                </a:cubicBezTo>
                <a:close/>
                <a:moveTo>
                  <a:pt x="688" y="61"/>
                </a:moveTo>
                <a:cubicBezTo>
                  <a:pt x="688" y="55"/>
                  <a:pt x="687" y="49"/>
                  <a:pt x="686" y="44"/>
                </a:cubicBezTo>
                <a:cubicBezTo>
                  <a:pt x="686" y="44"/>
                  <a:pt x="687" y="51"/>
                  <a:pt x="688" y="61"/>
                </a:cubicBezTo>
                <a:close/>
                <a:moveTo>
                  <a:pt x="862" y="105"/>
                </a:moveTo>
                <a:cubicBezTo>
                  <a:pt x="862" y="103"/>
                  <a:pt x="862" y="101"/>
                  <a:pt x="861" y="99"/>
                </a:cubicBezTo>
                <a:cubicBezTo>
                  <a:pt x="861" y="101"/>
                  <a:pt x="862" y="103"/>
                  <a:pt x="862" y="105"/>
                </a:cubicBezTo>
                <a:close/>
                <a:moveTo>
                  <a:pt x="644" y="67"/>
                </a:moveTo>
                <a:cubicBezTo>
                  <a:pt x="644" y="66"/>
                  <a:pt x="644" y="65"/>
                  <a:pt x="644" y="64"/>
                </a:cubicBezTo>
                <a:cubicBezTo>
                  <a:pt x="644" y="64"/>
                  <a:pt x="644" y="65"/>
                  <a:pt x="644" y="67"/>
                </a:cubicBezTo>
                <a:close/>
                <a:moveTo>
                  <a:pt x="1092" y="106"/>
                </a:moveTo>
                <a:cubicBezTo>
                  <a:pt x="1092" y="103"/>
                  <a:pt x="1092" y="100"/>
                  <a:pt x="1091" y="96"/>
                </a:cubicBezTo>
                <a:cubicBezTo>
                  <a:pt x="1091" y="99"/>
                  <a:pt x="1092" y="103"/>
                  <a:pt x="1092" y="106"/>
                </a:cubicBezTo>
                <a:close/>
                <a:moveTo>
                  <a:pt x="764" y="68"/>
                </a:moveTo>
                <a:cubicBezTo>
                  <a:pt x="764" y="68"/>
                  <a:pt x="764" y="71"/>
                  <a:pt x="764" y="75"/>
                </a:cubicBezTo>
                <a:cubicBezTo>
                  <a:pt x="764" y="72"/>
                  <a:pt x="764" y="70"/>
                  <a:pt x="764" y="68"/>
                </a:cubicBezTo>
                <a:close/>
                <a:moveTo>
                  <a:pt x="771" y="62"/>
                </a:moveTo>
                <a:cubicBezTo>
                  <a:pt x="771" y="61"/>
                  <a:pt x="771" y="60"/>
                  <a:pt x="771" y="60"/>
                </a:cubicBezTo>
                <a:cubicBezTo>
                  <a:pt x="771" y="60"/>
                  <a:pt x="771" y="61"/>
                  <a:pt x="771" y="62"/>
                </a:cubicBezTo>
                <a:close/>
                <a:moveTo>
                  <a:pt x="4239" y="67"/>
                </a:moveTo>
                <a:cubicBezTo>
                  <a:pt x="4239" y="66"/>
                  <a:pt x="4240" y="65"/>
                  <a:pt x="4239" y="64"/>
                </a:cubicBezTo>
                <a:cubicBezTo>
                  <a:pt x="4239" y="64"/>
                  <a:pt x="4239" y="65"/>
                  <a:pt x="4239" y="67"/>
                </a:cubicBezTo>
                <a:close/>
                <a:moveTo>
                  <a:pt x="4593" y="47"/>
                </a:moveTo>
                <a:cubicBezTo>
                  <a:pt x="4593" y="39"/>
                  <a:pt x="4593" y="33"/>
                  <a:pt x="4591" y="30"/>
                </a:cubicBezTo>
                <a:cubicBezTo>
                  <a:pt x="4591" y="30"/>
                  <a:pt x="4592" y="37"/>
                  <a:pt x="4593" y="47"/>
                </a:cubicBezTo>
                <a:close/>
                <a:moveTo>
                  <a:pt x="4518" y="54"/>
                </a:moveTo>
                <a:cubicBezTo>
                  <a:pt x="4518" y="53"/>
                  <a:pt x="4517" y="52"/>
                  <a:pt x="4517" y="52"/>
                </a:cubicBezTo>
                <a:cubicBezTo>
                  <a:pt x="4518" y="53"/>
                  <a:pt x="4518" y="53"/>
                  <a:pt x="4518" y="54"/>
                </a:cubicBezTo>
                <a:close/>
                <a:moveTo>
                  <a:pt x="4633" y="54"/>
                </a:moveTo>
                <a:cubicBezTo>
                  <a:pt x="4633" y="54"/>
                  <a:pt x="4633" y="65"/>
                  <a:pt x="4632" y="84"/>
                </a:cubicBezTo>
                <a:cubicBezTo>
                  <a:pt x="4634" y="72"/>
                  <a:pt x="4635" y="60"/>
                  <a:pt x="4633" y="54"/>
                </a:cubicBezTo>
                <a:close/>
                <a:moveTo>
                  <a:pt x="4513" y="90"/>
                </a:moveTo>
                <a:cubicBezTo>
                  <a:pt x="4513" y="89"/>
                  <a:pt x="4512" y="87"/>
                  <a:pt x="4511" y="86"/>
                </a:cubicBezTo>
                <a:cubicBezTo>
                  <a:pt x="4512" y="87"/>
                  <a:pt x="4513" y="89"/>
                  <a:pt x="4513" y="90"/>
                </a:cubicBezTo>
                <a:close/>
                <a:moveTo>
                  <a:pt x="4688" y="106"/>
                </a:moveTo>
                <a:cubicBezTo>
                  <a:pt x="4688" y="103"/>
                  <a:pt x="4687" y="100"/>
                  <a:pt x="4687" y="96"/>
                </a:cubicBezTo>
                <a:cubicBezTo>
                  <a:pt x="4687" y="99"/>
                  <a:pt x="4688" y="103"/>
                  <a:pt x="4688" y="106"/>
                </a:cubicBezTo>
                <a:close/>
                <a:moveTo>
                  <a:pt x="886" y="106"/>
                </a:moveTo>
                <a:cubicBezTo>
                  <a:pt x="886" y="103"/>
                  <a:pt x="885" y="101"/>
                  <a:pt x="885" y="99"/>
                </a:cubicBezTo>
                <a:cubicBezTo>
                  <a:pt x="885" y="101"/>
                  <a:pt x="885" y="103"/>
                  <a:pt x="886" y="106"/>
                </a:cubicBezTo>
                <a:close/>
                <a:moveTo>
                  <a:pt x="4284" y="61"/>
                </a:moveTo>
                <a:cubicBezTo>
                  <a:pt x="4284" y="55"/>
                  <a:pt x="4283" y="49"/>
                  <a:pt x="4282" y="44"/>
                </a:cubicBezTo>
                <a:cubicBezTo>
                  <a:pt x="4282" y="44"/>
                  <a:pt x="4283" y="51"/>
                  <a:pt x="4284" y="61"/>
                </a:cubicBezTo>
                <a:close/>
                <a:moveTo>
                  <a:pt x="4367" y="62"/>
                </a:moveTo>
                <a:cubicBezTo>
                  <a:pt x="4367" y="61"/>
                  <a:pt x="4367" y="60"/>
                  <a:pt x="4367" y="60"/>
                </a:cubicBezTo>
                <a:cubicBezTo>
                  <a:pt x="4367" y="60"/>
                  <a:pt x="4367" y="61"/>
                  <a:pt x="4367" y="62"/>
                </a:cubicBezTo>
                <a:close/>
                <a:moveTo>
                  <a:pt x="4470" y="52"/>
                </a:moveTo>
                <a:cubicBezTo>
                  <a:pt x="4470" y="50"/>
                  <a:pt x="4470" y="49"/>
                  <a:pt x="4470" y="49"/>
                </a:cubicBezTo>
                <a:cubicBezTo>
                  <a:pt x="4470" y="50"/>
                  <a:pt x="4470" y="51"/>
                  <a:pt x="4470" y="52"/>
                </a:cubicBezTo>
                <a:close/>
                <a:moveTo>
                  <a:pt x="4360" y="68"/>
                </a:moveTo>
                <a:cubicBezTo>
                  <a:pt x="4360" y="68"/>
                  <a:pt x="4360" y="71"/>
                  <a:pt x="4360" y="75"/>
                </a:cubicBezTo>
                <a:cubicBezTo>
                  <a:pt x="4360" y="72"/>
                  <a:pt x="4360" y="70"/>
                  <a:pt x="4360" y="68"/>
                </a:cubicBezTo>
                <a:close/>
                <a:moveTo>
                  <a:pt x="4748" y="85"/>
                </a:moveTo>
                <a:cubicBezTo>
                  <a:pt x="4748" y="84"/>
                  <a:pt x="4748" y="84"/>
                  <a:pt x="4747" y="83"/>
                </a:cubicBezTo>
                <a:cubicBezTo>
                  <a:pt x="4748" y="84"/>
                  <a:pt x="4748" y="84"/>
                  <a:pt x="4748" y="85"/>
                </a:cubicBezTo>
                <a:close/>
                <a:moveTo>
                  <a:pt x="4748" y="85"/>
                </a:moveTo>
                <a:cubicBezTo>
                  <a:pt x="4750" y="92"/>
                  <a:pt x="4750" y="108"/>
                  <a:pt x="4750" y="115"/>
                </a:cubicBezTo>
                <a:cubicBezTo>
                  <a:pt x="4750" y="127"/>
                  <a:pt x="4750" y="138"/>
                  <a:pt x="4752" y="150"/>
                </a:cubicBezTo>
                <a:cubicBezTo>
                  <a:pt x="4743" y="126"/>
                  <a:pt x="4740" y="99"/>
                  <a:pt x="4733" y="74"/>
                </a:cubicBezTo>
                <a:cubicBezTo>
                  <a:pt x="4736" y="91"/>
                  <a:pt x="4732" y="110"/>
                  <a:pt x="4732" y="128"/>
                </a:cubicBezTo>
                <a:cubicBezTo>
                  <a:pt x="4732" y="132"/>
                  <a:pt x="4733" y="136"/>
                  <a:pt x="4733" y="140"/>
                </a:cubicBezTo>
                <a:cubicBezTo>
                  <a:pt x="4733" y="145"/>
                  <a:pt x="4734" y="149"/>
                  <a:pt x="4735" y="154"/>
                </a:cubicBezTo>
                <a:cubicBezTo>
                  <a:pt x="4734" y="149"/>
                  <a:pt x="4733" y="145"/>
                  <a:pt x="4733" y="140"/>
                </a:cubicBezTo>
                <a:cubicBezTo>
                  <a:pt x="4730" y="120"/>
                  <a:pt x="4727" y="99"/>
                  <a:pt x="4722" y="80"/>
                </a:cubicBezTo>
                <a:cubicBezTo>
                  <a:pt x="4724" y="102"/>
                  <a:pt x="4714" y="126"/>
                  <a:pt x="4714" y="149"/>
                </a:cubicBezTo>
                <a:cubicBezTo>
                  <a:pt x="4714" y="156"/>
                  <a:pt x="4714" y="156"/>
                  <a:pt x="4714" y="156"/>
                </a:cubicBezTo>
                <a:cubicBezTo>
                  <a:pt x="4710" y="147"/>
                  <a:pt x="4710" y="132"/>
                  <a:pt x="4710" y="122"/>
                </a:cubicBezTo>
                <a:cubicBezTo>
                  <a:pt x="4710" y="100"/>
                  <a:pt x="4712" y="79"/>
                  <a:pt x="4711" y="57"/>
                </a:cubicBezTo>
                <a:cubicBezTo>
                  <a:pt x="4708" y="62"/>
                  <a:pt x="4707" y="112"/>
                  <a:pt x="4707" y="120"/>
                </a:cubicBezTo>
                <a:cubicBezTo>
                  <a:pt x="4707" y="133"/>
                  <a:pt x="4708" y="146"/>
                  <a:pt x="4711" y="159"/>
                </a:cubicBezTo>
                <a:cubicBezTo>
                  <a:pt x="4706" y="135"/>
                  <a:pt x="4700" y="108"/>
                  <a:pt x="4688" y="85"/>
                </a:cubicBezTo>
                <a:cubicBezTo>
                  <a:pt x="4699" y="106"/>
                  <a:pt x="4694" y="132"/>
                  <a:pt x="4701" y="154"/>
                </a:cubicBezTo>
                <a:cubicBezTo>
                  <a:pt x="4693" y="142"/>
                  <a:pt x="4691" y="122"/>
                  <a:pt x="4688" y="106"/>
                </a:cubicBezTo>
                <a:cubicBezTo>
                  <a:pt x="4690" y="120"/>
                  <a:pt x="4688" y="134"/>
                  <a:pt x="4690" y="148"/>
                </a:cubicBezTo>
                <a:cubicBezTo>
                  <a:pt x="4691" y="151"/>
                  <a:pt x="4692" y="153"/>
                  <a:pt x="4692" y="155"/>
                </a:cubicBezTo>
                <a:cubicBezTo>
                  <a:pt x="4691" y="153"/>
                  <a:pt x="4691" y="151"/>
                  <a:pt x="4690" y="148"/>
                </a:cubicBezTo>
                <a:cubicBezTo>
                  <a:pt x="4685" y="128"/>
                  <a:pt x="4673" y="75"/>
                  <a:pt x="4661" y="68"/>
                </a:cubicBezTo>
                <a:cubicBezTo>
                  <a:pt x="4678" y="90"/>
                  <a:pt x="4676" y="127"/>
                  <a:pt x="4680" y="153"/>
                </a:cubicBezTo>
                <a:cubicBezTo>
                  <a:pt x="4676" y="134"/>
                  <a:pt x="4669" y="113"/>
                  <a:pt x="4660" y="95"/>
                </a:cubicBezTo>
                <a:cubicBezTo>
                  <a:pt x="4667" y="115"/>
                  <a:pt x="4666" y="136"/>
                  <a:pt x="4675" y="155"/>
                </a:cubicBezTo>
                <a:cubicBezTo>
                  <a:pt x="4662" y="144"/>
                  <a:pt x="4655" y="117"/>
                  <a:pt x="4651" y="102"/>
                </a:cubicBezTo>
                <a:cubicBezTo>
                  <a:pt x="4651" y="120"/>
                  <a:pt x="4656" y="143"/>
                  <a:pt x="4667" y="158"/>
                </a:cubicBezTo>
                <a:cubicBezTo>
                  <a:pt x="4653" y="144"/>
                  <a:pt x="4648" y="103"/>
                  <a:pt x="4643" y="85"/>
                </a:cubicBezTo>
                <a:cubicBezTo>
                  <a:pt x="4642" y="88"/>
                  <a:pt x="4642" y="91"/>
                  <a:pt x="4642" y="94"/>
                </a:cubicBezTo>
                <a:cubicBezTo>
                  <a:pt x="4642" y="113"/>
                  <a:pt x="4647" y="142"/>
                  <a:pt x="4659" y="159"/>
                </a:cubicBezTo>
                <a:cubicBezTo>
                  <a:pt x="4645" y="143"/>
                  <a:pt x="4640" y="123"/>
                  <a:pt x="4634" y="104"/>
                </a:cubicBezTo>
                <a:cubicBezTo>
                  <a:pt x="4638" y="122"/>
                  <a:pt x="4638" y="140"/>
                  <a:pt x="4647" y="158"/>
                </a:cubicBezTo>
                <a:cubicBezTo>
                  <a:pt x="4637" y="147"/>
                  <a:pt x="4632" y="132"/>
                  <a:pt x="4628" y="117"/>
                </a:cubicBezTo>
                <a:cubicBezTo>
                  <a:pt x="4630" y="105"/>
                  <a:pt x="4631" y="93"/>
                  <a:pt x="4632" y="84"/>
                </a:cubicBezTo>
                <a:cubicBezTo>
                  <a:pt x="4630" y="92"/>
                  <a:pt x="4628" y="101"/>
                  <a:pt x="4626" y="109"/>
                </a:cubicBezTo>
                <a:cubicBezTo>
                  <a:pt x="4625" y="102"/>
                  <a:pt x="4623" y="95"/>
                  <a:pt x="4621" y="89"/>
                </a:cubicBezTo>
                <a:cubicBezTo>
                  <a:pt x="4624" y="64"/>
                  <a:pt x="4628" y="40"/>
                  <a:pt x="4628" y="40"/>
                </a:cubicBezTo>
                <a:cubicBezTo>
                  <a:pt x="4623" y="51"/>
                  <a:pt x="4618" y="77"/>
                  <a:pt x="4615" y="100"/>
                </a:cubicBezTo>
                <a:cubicBezTo>
                  <a:pt x="4613" y="95"/>
                  <a:pt x="4610" y="90"/>
                  <a:pt x="4609" y="86"/>
                </a:cubicBezTo>
                <a:cubicBezTo>
                  <a:pt x="4608" y="70"/>
                  <a:pt x="4606" y="58"/>
                  <a:pt x="4606" y="60"/>
                </a:cubicBezTo>
                <a:cubicBezTo>
                  <a:pt x="4606" y="61"/>
                  <a:pt x="4606" y="69"/>
                  <a:pt x="4605" y="80"/>
                </a:cubicBezTo>
                <a:cubicBezTo>
                  <a:pt x="4604" y="79"/>
                  <a:pt x="4604" y="78"/>
                  <a:pt x="4603" y="78"/>
                </a:cubicBezTo>
                <a:cubicBezTo>
                  <a:pt x="4604" y="79"/>
                  <a:pt x="4604" y="80"/>
                  <a:pt x="4605" y="81"/>
                </a:cubicBezTo>
                <a:cubicBezTo>
                  <a:pt x="4604" y="87"/>
                  <a:pt x="4604" y="95"/>
                  <a:pt x="4603" y="102"/>
                </a:cubicBezTo>
                <a:cubicBezTo>
                  <a:pt x="4603" y="102"/>
                  <a:pt x="4603" y="102"/>
                  <a:pt x="4603" y="102"/>
                </a:cubicBezTo>
                <a:cubicBezTo>
                  <a:pt x="4603" y="103"/>
                  <a:pt x="4603" y="103"/>
                  <a:pt x="4603" y="103"/>
                </a:cubicBezTo>
                <a:cubicBezTo>
                  <a:pt x="4602" y="113"/>
                  <a:pt x="4602" y="123"/>
                  <a:pt x="4601" y="130"/>
                </a:cubicBezTo>
                <a:cubicBezTo>
                  <a:pt x="4601" y="130"/>
                  <a:pt x="4600" y="129"/>
                  <a:pt x="4600" y="128"/>
                </a:cubicBezTo>
                <a:cubicBezTo>
                  <a:pt x="4600" y="107"/>
                  <a:pt x="4596" y="69"/>
                  <a:pt x="4593" y="47"/>
                </a:cubicBezTo>
                <a:cubicBezTo>
                  <a:pt x="4594" y="64"/>
                  <a:pt x="4593" y="87"/>
                  <a:pt x="4592" y="107"/>
                </a:cubicBezTo>
                <a:cubicBezTo>
                  <a:pt x="4591" y="105"/>
                  <a:pt x="4590" y="104"/>
                  <a:pt x="4589" y="102"/>
                </a:cubicBezTo>
                <a:cubicBezTo>
                  <a:pt x="4590" y="104"/>
                  <a:pt x="4591" y="106"/>
                  <a:pt x="4591" y="107"/>
                </a:cubicBezTo>
                <a:cubicBezTo>
                  <a:pt x="4591" y="114"/>
                  <a:pt x="4591" y="121"/>
                  <a:pt x="4590" y="126"/>
                </a:cubicBezTo>
                <a:cubicBezTo>
                  <a:pt x="4590" y="125"/>
                  <a:pt x="4589" y="123"/>
                  <a:pt x="4589" y="122"/>
                </a:cubicBezTo>
                <a:cubicBezTo>
                  <a:pt x="4588" y="93"/>
                  <a:pt x="4584" y="46"/>
                  <a:pt x="4584" y="46"/>
                </a:cubicBezTo>
                <a:cubicBezTo>
                  <a:pt x="4583" y="65"/>
                  <a:pt x="4577" y="142"/>
                  <a:pt x="4577" y="142"/>
                </a:cubicBezTo>
                <a:cubicBezTo>
                  <a:pt x="4571" y="106"/>
                  <a:pt x="4578" y="0"/>
                  <a:pt x="4578" y="0"/>
                </a:cubicBezTo>
                <a:cubicBezTo>
                  <a:pt x="4572" y="16"/>
                  <a:pt x="4566" y="131"/>
                  <a:pt x="4566" y="131"/>
                </a:cubicBezTo>
                <a:cubicBezTo>
                  <a:pt x="4564" y="36"/>
                  <a:pt x="4560" y="32"/>
                  <a:pt x="4560" y="32"/>
                </a:cubicBezTo>
                <a:cubicBezTo>
                  <a:pt x="4562" y="43"/>
                  <a:pt x="4559" y="76"/>
                  <a:pt x="4556" y="103"/>
                </a:cubicBezTo>
                <a:cubicBezTo>
                  <a:pt x="4555" y="102"/>
                  <a:pt x="4554" y="100"/>
                  <a:pt x="4553" y="99"/>
                </a:cubicBezTo>
                <a:cubicBezTo>
                  <a:pt x="4554" y="101"/>
                  <a:pt x="4555" y="103"/>
                  <a:pt x="4556" y="104"/>
                </a:cubicBezTo>
                <a:cubicBezTo>
                  <a:pt x="4555" y="112"/>
                  <a:pt x="4554" y="120"/>
                  <a:pt x="4553" y="126"/>
                </a:cubicBezTo>
                <a:cubicBezTo>
                  <a:pt x="4553" y="124"/>
                  <a:pt x="4553" y="123"/>
                  <a:pt x="4553" y="122"/>
                </a:cubicBezTo>
                <a:cubicBezTo>
                  <a:pt x="4553" y="94"/>
                  <a:pt x="4552" y="48"/>
                  <a:pt x="4552" y="48"/>
                </a:cubicBezTo>
                <a:cubicBezTo>
                  <a:pt x="4551" y="55"/>
                  <a:pt x="4548" y="82"/>
                  <a:pt x="4545" y="106"/>
                </a:cubicBezTo>
                <a:cubicBezTo>
                  <a:pt x="4544" y="104"/>
                  <a:pt x="4543" y="102"/>
                  <a:pt x="4543" y="100"/>
                </a:cubicBezTo>
                <a:cubicBezTo>
                  <a:pt x="4546" y="60"/>
                  <a:pt x="4550" y="9"/>
                  <a:pt x="4550" y="9"/>
                </a:cubicBezTo>
                <a:cubicBezTo>
                  <a:pt x="4545" y="23"/>
                  <a:pt x="4538" y="83"/>
                  <a:pt x="4535" y="117"/>
                </a:cubicBezTo>
                <a:cubicBezTo>
                  <a:pt x="4534" y="114"/>
                  <a:pt x="4533" y="111"/>
                  <a:pt x="4532" y="108"/>
                </a:cubicBezTo>
                <a:cubicBezTo>
                  <a:pt x="4532" y="90"/>
                  <a:pt x="4530" y="72"/>
                  <a:pt x="4530" y="72"/>
                </a:cubicBezTo>
                <a:cubicBezTo>
                  <a:pt x="4530" y="76"/>
                  <a:pt x="4530" y="84"/>
                  <a:pt x="4529" y="94"/>
                </a:cubicBezTo>
                <a:cubicBezTo>
                  <a:pt x="4528" y="91"/>
                  <a:pt x="4526" y="88"/>
                  <a:pt x="4525" y="84"/>
                </a:cubicBezTo>
                <a:cubicBezTo>
                  <a:pt x="4526" y="88"/>
                  <a:pt x="4528" y="92"/>
                  <a:pt x="4528" y="96"/>
                </a:cubicBezTo>
                <a:cubicBezTo>
                  <a:pt x="4528" y="99"/>
                  <a:pt x="4528" y="103"/>
                  <a:pt x="4527" y="107"/>
                </a:cubicBezTo>
                <a:cubicBezTo>
                  <a:pt x="4527" y="106"/>
                  <a:pt x="4527" y="106"/>
                  <a:pt x="4527" y="105"/>
                </a:cubicBezTo>
                <a:cubicBezTo>
                  <a:pt x="4526" y="107"/>
                  <a:pt x="4526" y="112"/>
                  <a:pt x="4526" y="116"/>
                </a:cubicBezTo>
                <a:cubicBezTo>
                  <a:pt x="4525" y="121"/>
                  <a:pt x="4525" y="126"/>
                  <a:pt x="4524" y="130"/>
                </a:cubicBezTo>
                <a:cubicBezTo>
                  <a:pt x="4524" y="129"/>
                  <a:pt x="4524" y="128"/>
                  <a:pt x="4524" y="127"/>
                </a:cubicBezTo>
                <a:cubicBezTo>
                  <a:pt x="4524" y="101"/>
                  <a:pt x="4519" y="63"/>
                  <a:pt x="4518" y="54"/>
                </a:cubicBezTo>
                <a:cubicBezTo>
                  <a:pt x="4518" y="61"/>
                  <a:pt x="4517" y="79"/>
                  <a:pt x="4516" y="96"/>
                </a:cubicBezTo>
                <a:cubicBezTo>
                  <a:pt x="4515" y="94"/>
                  <a:pt x="4514" y="92"/>
                  <a:pt x="4513" y="90"/>
                </a:cubicBezTo>
                <a:cubicBezTo>
                  <a:pt x="4514" y="93"/>
                  <a:pt x="4515" y="95"/>
                  <a:pt x="4516" y="97"/>
                </a:cubicBezTo>
                <a:cubicBezTo>
                  <a:pt x="4514" y="118"/>
                  <a:pt x="4511" y="137"/>
                  <a:pt x="4511" y="137"/>
                </a:cubicBezTo>
                <a:cubicBezTo>
                  <a:pt x="4511" y="136"/>
                  <a:pt x="4511" y="134"/>
                  <a:pt x="4511" y="133"/>
                </a:cubicBezTo>
                <a:cubicBezTo>
                  <a:pt x="4511" y="125"/>
                  <a:pt x="4511" y="118"/>
                  <a:pt x="4510" y="110"/>
                </a:cubicBezTo>
                <a:cubicBezTo>
                  <a:pt x="4509" y="76"/>
                  <a:pt x="4508" y="40"/>
                  <a:pt x="4508" y="40"/>
                </a:cubicBezTo>
                <a:cubicBezTo>
                  <a:pt x="4508" y="49"/>
                  <a:pt x="4503" y="79"/>
                  <a:pt x="4499" y="104"/>
                </a:cubicBezTo>
                <a:cubicBezTo>
                  <a:pt x="4499" y="99"/>
                  <a:pt x="4498" y="95"/>
                  <a:pt x="4497" y="90"/>
                </a:cubicBezTo>
                <a:cubicBezTo>
                  <a:pt x="4498" y="67"/>
                  <a:pt x="4499" y="45"/>
                  <a:pt x="4499" y="45"/>
                </a:cubicBezTo>
                <a:cubicBezTo>
                  <a:pt x="4499" y="53"/>
                  <a:pt x="4493" y="75"/>
                  <a:pt x="4486" y="96"/>
                </a:cubicBezTo>
                <a:cubicBezTo>
                  <a:pt x="4485" y="93"/>
                  <a:pt x="4484" y="89"/>
                  <a:pt x="4482" y="85"/>
                </a:cubicBezTo>
                <a:cubicBezTo>
                  <a:pt x="4489" y="51"/>
                  <a:pt x="4497" y="17"/>
                  <a:pt x="4497" y="17"/>
                </a:cubicBezTo>
                <a:cubicBezTo>
                  <a:pt x="4492" y="24"/>
                  <a:pt x="4477" y="95"/>
                  <a:pt x="4470" y="130"/>
                </a:cubicBezTo>
                <a:cubicBezTo>
                  <a:pt x="4470" y="130"/>
                  <a:pt x="4470" y="130"/>
                  <a:pt x="4470" y="130"/>
                </a:cubicBezTo>
                <a:cubicBezTo>
                  <a:pt x="4474" y="100"/>
                  <a:pt x="4471" y="63"/>
                  <a:pt x="4470" y="52"/>
                </a:cubicBezTo>
                <a:cubicBezTo>
                  <a:pt x="4472" y="72"/>
                  <a:pt x="4466" y="109"/>
                  <a:pt x="4462" y="128"/>
                </a:cubicBezTo>
                <a:cubicBezTo>
                  <a:pt x="4462" y="126"/>
                  <a:pt x="4462" y="123"/>
                  <a:pt x="4461" y="120"/>
                </a:cubicBezTo>
                <a:cubicBezTo>
                  <a:pt x="4463" y="99"/>
                  <a:pt x="4465" y="71"/>
                  <a:pt x="4466" y="65"/>
                </a:cubicBezTo>
                <a:cubicBezTo>
                  <a:pt x="4465" y="71"/>
                  <a:pt x="4462" y="89"/>
                  <a:pt x="4458" y="105"/>
                </a:cubicBezTo>
                <a:cubicBezTo>
                  <a:pt x="4458" y="105"/>
                  <a:pt x="4458" y="105"/>
                  <a:pt x="4458" y="105"/>
                </a:cubicBezTo>
                <a:cubicBezTo>
                  <a:pt x="4458" y="105"/>
                  <a:pt x="4458" y="105"/>
                  <a:pt x="4458" y="105"/>
                </a:cubicBezTo>
                <a:cubicBezTo>
                  <a:pt x="4454" y="125"/>
                  <a:pt x="4451" y="143"/>
                  <a:pt x="4451" y="143"/>
                </a:cubicBezTo>
                <a:cubicBezTo>
                  <a:pt x="4461" y="38"/>
                  <a:pt x="4454" y="25"/>
                  <a:pt x="4454" y="25"/>
                </a:cubicBezTo>
                <a:cubicBezTo>
                  <a:pt x="4457" y="42"/>
                  <a:pt x="4454" y="72"/>
                  <a:pt x="4449" y="96"/>
                </a:cubicBezTo>
                <a:cubicBezTo>
                  <a:pt x="4448" y="89"/>
                  <a:pt x="4446" y="80"/>
                  <a:pt x="4443" y="73"/>
                </a:cubicBezTo>
                <a:cubicBezTo>
                  <a:pt x="4442" y="65"/>
                  <a:pt x="4442" y="60"/>
                  <a:pt x="4442" y="60"/>
                </a:cubicBezTo>
                <a:cubicBezTo>
                  <a:pt x="4442" y="63"/>
                  <a:pt x="4442" y="67"/>
                  <a:pt x="4441" y="71"/>
                </a:cubicBezTo>
                <a:cubicBezTo>
                  <a:pt x="4440" y="69"/>
                  <a:pt x="4439" y="67"/>
                  <a:pt x="4437" y="65"/>
                </a:cubicBezTo>
                <a:cubicBezTo>
                  <a:pt x="4439" y="67"/>
                  <a:pt x="4440" y="70"/>
                  <a:pt x="4441" y="73"/>
                </a:cubicBezTo>
                <a:cubicBezTo>
                  <a:pt x="4441" y="82"/>
                  <a:pt x="4440" y="92"/>
                  <a:pt x="4438" y="101"/>
                </a:cubicBezTo>
                <a:cubicBezTo>
                  <a:pt x="4438" y="95"/>
                  <a:pt x="4435" y="88"/>
                  <a:pt x="4430" y="83"/>
                </a:cubicBezTo>
                <a:cubicBezTo>
                  <a:pt x="4430" y="74"/>
                  <a:pt x="4431" y="68"/>
                  <a:pt x="4431" y="68"/>
                </a:cubicBezTo>
                <a:cubicBezTo>
                  <a:pt x="4430" y="72"/>
                  <a:pt x="4429" y="76"/>
                  <a:pt x="4428" y="81"/>
                </a:cubicBezTo>
                <a:cubicBezTo>
                  <a:pt x="4428" y="81"/>
                  <a:pt x="4427" y="81"/>
                  <a:pt x="4427" y="80"/>
                </a:cubicBezTo>
                <a:cubicBezTo>
                  <a:pt x="4427" y="81"/>
                  <a:pt x="4428" y="81"/>
                  <a:pt x="4428" y="82"/>
                </a:cubicBezTo>
                <a:cubicBezTo>
                  <a:pt x="4425" y="101"/>
                  <a:pt x="4424" y="130"/>
                  <a:pt x="4424" y="142"/>
                </a:cubicBezTo>
                <a:cubicBezTo>
                  <a:pt x="4424" y="143"/>
                  <a:pt x="4423" y="144"/>
                  <a:pt x="4423" y="144"/>
                </a:cubicBezTo>
                <a:cubicBezTo>
                  <a:pt x="4422" y="141"/>
                  <a:pt x="4422" y="136"/>
                  <a:pt x="4422" y="131"/>
                </a:cubicBezTo>
                <a:cubicBezTo>
                  <a:pt x="4423" y="121"/>
                  <a:pt x="4425" y="112"/>
                  <a:pt x="4426" y="103"/>
                </a:cubicBezTo>
                <a:cubicBezTo>
                  <a:pt x="4425" y="108"/>
                  <a:pt x="4424" y="112"/>
                  <a:pt x="4423" y="117"/>
                </a:cubicBezTo>
                <a:cubicBezTo>
                  <a:pt x="4424" y="85"/>
                  <a:pt x="4430" y="45"/>
                  <a:pt x="4430" y="45"/>
                </a:cubicBezTo>
                <a:cubicBezTo>
                  <a:pt x="4423" y="60"/>
                  <a:pt x="4418" y="95"/>
                  <a:pt x="4416" y="120"/>
                </a:cubicBezTo>
                <a:cubicBezTo>
                  <a:pt x="4416" y="123"/>
                  <a:pt x="4415" y="125"/>
                  <a:pt x="4414" y="127"/>
                </a:cubicBezTo>
                <a:cubicBezTo>
                  <a:pt x="4413" y="103"/>
                  <a:pt x="4413" y="70"/>
                  <a:pt x="4413" y="70"/>
                </a:cubicBezTo>
                <a:cubicBezTo>
                  <a:pt x="4413" y="72"/>
                  <a:pt x="4413" y="76"/>
                  <a:pt x="4412" y="81"/>
                </a:cubicBezTo>
                <a:cubicBezTo>
                  <a:pt x="4411" y="73"/>
                  <a:pt x="4409" y="66"/>
                  <a:pt x="4406" y="60"/>
                </a:cubicBezTo>
                <a:cubicBezTo>
                  <a:pt x="4407" y="52"/>
                  <a:pt x="4407" y="46"/>
                  <a:pt x="4407" y="46"/>
                </a:cubicBezTo>
                <a:cubicBezTo>
                  <a:pt x="4405" y="51"/>
                  <a:pt x="4403" y="64"/>
                  <a:pt x="4402" y="79"/>
                </a:cubicBezTo>
                <a:cubicBezTo>
                  <a:pt x="4401" y="77"/>
                  <a:pt x="4401" y="75"/>
                  <a:pt x="4400" y="74"/>
                </a:cubicBezTo>
                <a:cubicBezTo>
                  <a:pt x="4399" y="83"/>
                  <a:pt x="4399" y="92"/>
                  <a:pt x="4399" y="102"/>
                </a:cubicBezTo>
                <a:cubicBezTo>
                  <a:pt x="4399" y="108"/>
                  <a:pt x="4398" y="115"/>
                  <a:pt x="4397" y="121"/>
                </a:cubicBezTo>
                <a:cubicBezTo>
                  <a:pt x="4397" y="123"/>
                  <a:pt x="4396" y="125"/>
                  <a:pt x="4396" y="127"/>
                </a:cubicBezTo>
                <a:cubicBezTo>
                  <a:pt x="4396" y="35"/>
                  <a:pt x="4394" y="34"/>
                  <a:pt x="4394" y="34"/>
                </a:cubicBezTo>
                <a:cubicBezTo>
                  <a:pt x="4396" y="49"/>
                  <a:pt x="4392" y="77"/>
                  <a:pt x="4388" y="102"/>
                </a:cubicBezTo>
                <a:cubicBezTo>
                  <a:pt x="4387" y="94"/>
                  <a:pt x="4385" y="85"/>
                  <a:pt x="4381" y="76"/>
                </a:cubicBezTo>
                <a:cubicBezTo>
                  <a:pt x="4382" y="70"/>
                  <a:pt x="4382" y="66"/>
                  <a:pt x="4382" y="66"/>
                </a:cubicBezTo>
                <a:cubicBezTo>
                  <a:pt x="4382" y="68"/>
                  <a:pt x="4381" y="71"/>
                  <a:pt x="4380" y="74"/>
                </a:cubicBezTo>
                <a:cubicBezTo>
                  <a:pt x="4380" y="73"/>
                  <a:pt x="4379" y="72"/>
                  <a:pt x="4378" y="71"/>
                </a:cubicBezTo>
                <a:cubicBezTo>
                  <a:pt x="4379" y="73"/>
                  <a:pt x="4379" y="74"/>
                  <a:pt x="4380" y="76"/>
                </a:cubicBezTo>
                <a:cubicBezTo>
                  <a:pt x="4378" y="83"/>
                  <a:pt x="4376" y="93"/>
                  <a:pt x="4374" y="103"/>
                </a:cubicBezTo>
                <a:cubicBezTo>
                  <a:pt x="4374" y="98"/>
                  <a:pt x="4373" y="94"/>
                  <a:pt x="4372" y="89"/>
                </a:cubicBezTo>
                <a:cubicBezTo>
                  <a:pt x="4373" y="96"/>
                  <a:pt x="4371" y="104"/>
                  <a:pt x="4369" y="112"/>
                </a:cubicBezTo>
                <a:cubicBezTo>
                  <a:pt x="4369" y="92"/>
                  <a:pt x="4368" y="70"/>
                  <a:pt x="4367" y="62"/>
                </a:cubicBezTo>
                <a:cubicBezTo>
                  <a:pt x="4367" y="67"/>
                  <a:pt x="4367" y="74"/>
                  <a:pt x="4367" y="82"/>
                </a:cubicBezTo>
                <a:cubicBezTo>
                  <a:pt x="4365" y="87"/>
                  <a:pt x="4362" y="94"/>
                  <a:pt x="4360" y="101"/>
                </a:cubicBezTo>
                <a:cubicBezTo>
                  <a:pt x="4360" y="91"/>
                  <a:pt x="4360" y="82"/>
                  <a:pt x="4360" y="75"/>
                </a:cubicBezTo>
                <a:cubicBezTo>
                  <a:pt x="4359" y="86"/>
                  <a:pt x="4357" y="102"/>
                  <a:pt x="4355" y="116"/>
                </a:cubicBezTo>
                <a:cubicBezTo>
                  <a:pt x="4353" y="123"/>
                  <a:pt x="4351" y="130"/>
                  <a:pt x="4349" y="136"/>
                </a:cubicBezTo>
                <a:cubicBezTo>
                  <a:pt x="4349" y="118"/>
                  <a:pt x="4352" y="89"/>
                  <a:pt x="4352" y="89"/>
                </a:cubicBezTo>
                <a:cubicBezTo>
                  <a:pt x="4351" y="93"/>
                  <a:pt x="4349" y="99"/>
                  <a:pt x="4347" y="106"/>
                </a:cubicBezTo>
                <a:cubicBezTo>
                  <a:pt x="4347" y="104"/>
                  <a:pt x="4347" y="101"/>
                  <a:pt x="4346" y="99"/>
                </a:cubicBezTo>
                <a:cubicBezTo>
                  <a:pt x="4346" y="96"/>
                  <a:pt x="4346" y="96"/>
                  <a:pt x="4346" y="96"/>
                </a:cubicBezTo>
                <a:cubicBezTo>
                  <a:pt x="4345" y="95"/>
                  <a:pt x="4345" y="95"/>
                  <a:pt x="4345" y="95"/>
                </a:cubicBezTo>
                <a:cubicBezTo>
                  <a:pt x="4345" y="104"/>
                  <a:pt x="4343" y="113"/>
                  <a:pt x="4341" y="122"/>
                </a:cubicBezTo>
                <a:cubicBezTo>
                  <a:pt x="4339" y="127"/>
                  <a:pt x="4338" y="131"/>
                  <a:pt x="4336" y="134"/>
                </a:cubicBezTo>
                <a:cubicBezTo>
                  <a:pt x="4336" y="130"/>
                  <a:pt x="4336" y="126"/>
                  <a:pt x="4336" y="122"/>
                </a:cubicBezTo>
                <a:cubicBezTo>
                  <a:pt x="4340" y="102"/>
                  <a:pt x="4347" y="76"/>
                  <a:pt x="4347" y="76"/>
                </a:cubicBezTo>
                <a:cubicBezTo>
                  <a:pt x="4342" y="82"/>
                  <a:pt x="4337" y="94"/>
                  <a:pt x="4333" y="105"/>
                </a:cubicBezTo>
                <a:cubicBezTo>
                  <a:pt x="4332" y="102"/>
                  <a:pt x="4331" y="98"/>
                  <a:pt x="4330" y="95"/>
                </a:cubicBezTo>
                <a:cubicBezTo>
                  <a:pt x="4331" y="74"/>
                  <a:pt x="4327" y="62"/>
                  <a:pt x="4327" y="62"/>
                </a:cubicBezTo>
                <a:cubicBezTo>
                  <a:pt x="4329" y="69"/>
                  <a:pt x="4329" y="78"/>
                  <a:pt x="4328" y="88"/>
                </a:cubicBezTo>
                <a:cubicBezTo>
                  <a:pt x="4325" y="83"/>
                  <a:pt x="4322" y="78"/>
                  <a:pt x="4318" y="73"/>
                </a:cubicBezTo>
                <a:cubicBezTo>
                  <a:pt x="4322" y="80"/>
                  <a:pt x="4325" y="92"/>
                  <a:pt x="4326" y="102"/>
                </a:cubicBezTo>
                <a:cubicBezTo>
                  <a:pt x="4325" y="108"/>
                  <a:pt x="4324" y="115"/>
                  <a:pt x="4323" y="120"/>
                </a:cubicBezTo>
                <a:cubicBezTo>
                  <a:pt x="4322" y="113"/>
                  <a:pt x="4321" y="106"/>
                  <a:pt x="4319" y="100"/>
                </a:cubicBezTo>
                <a:cubicBezTo>
                  <a:pt x="4320" y="89"/>
                  <a:pt x="4320" y="82"/>
                  <a:pt x="4320" y="82"/>
                </a:cubicBezTo>
                <a:cubicBezTo>
                  <a:pt x="4319" y="98"/>
                  <a:pt x="4319" y="98"/>
                  <a:pt x="4319" y="98"/>
                </a:cubicBezTo>
                <a:cubicBezTo>
                  <a:pt x="4318" y="94"/>
                  <a:pt x="4317" y="91"/>
                  <a:pt x="4315" y="88"/>
                </a:cubicBezTo>
                <a:cubicBezTo>
                  <a:pt x="4315" y="73"/>
                  <a:pt x="4314" y="60"/>
                  <a:pt x="4314" y="60"/>
                </a:cubicBezTo>
                <a:cubicBezTo>
                  <a:pt x="4314" y="72"/>
                  <a:pt x="4311" y="90"/>
                  <a:pt x="4311" y="90"/>
                </a:cubicBezTo>
                <a:cubicBezTo>
                  <a:pt x="4309" y="84"/>
                  <a:pt x="4309" y="64"/>
                  <a:pt x="4309" y="64"/>
                </a:cubicBezTo>
                <a:cubicBezTo>
                  <a:pt x="4309" y="68"/>
                  <a:pt x="4308" y="83"/>
                  <a:pt x="4306" y="98"/>
                </a:cubicBezTo>
                <a:cubicBezTo>
                  <a:pt x="4306" y="96"/>
                  <a:pt x="4305" y="95"/>
                  <a:pt x="4305" y="93"/>
                </a:cubicBezTo>
                <a:cubicBezTo>
                  <a:pt x="4304" y="88"/>
                  <a:pt x="4302" y="82"/>
                  <a:pt x="4300" y="76"/>
                </a:cubicBezTo>
                <a:cubicBezTo>
                  <a:pt x="4300" y="57"/>
                  <a:pt x="4300" y="42"/>
                  <a:pt x="4300" y="42"/>
                </a:cubicBezTo>
                <a:cubicBezTo>
                  <a:pt x="4300" y="49"/>
                  <a:pt x="4300" y="59"/>
                  <a:pt x="4299" y="70"/>
                </a:cubicBezTo>
                <a:cubicBezTo>
                  <a:pt x="4296" y="64"/>
                  <a:pt x="4294" y="57"/>
                  <a:pt x="4291" y="51"/>
                </a:cubicBezTo>
                <a:cubicBezTo>
                  <a:pt x="4290" y="52"/>
                  <a:pt x="4290" y="54"/>
                  <a:pt x="4290" y="55"/>
                </a:cubicBezTo>
                <a:cubicBezTo>
                  <a:pt x="4293" y="65"/>
                  <a:pt x="4296" y="74"/>
                  <a:pt x="4297" y="82"/>
                </a:cubicBezTo>
                <a:cubicBezTo>
                  <a:pt x="4297" y="88"/>
                  <a:pt x="4296" y="94"/>
                  <a:pt x="4295" y="100"/>
                </a:cubicBezTo>
                <a:cubicBezTo>
                  <a:pt x="4294" y="96"/>
                  <a:pt x="4293" y="92"/>
                  <a:pt x="4292" y="88"/>
                </a:cubicBezTo>
                <a:cubicBezTo>
                  <a:pt x="4293" y="78"/>
                  <a:pt x="4294" y="70"/>
                  <a:pt x="4294" y="70"/>
                </a:cubicBezTo>
                <a:cubicBezTo>
                  <a:pt x="4293" y="72"/>
                  <a:pt x="4292" y="78"/>
                  <a:pt x="4291" y="85"/>
                </a:cubicBezTo>
                <a:cubicBezTo>
                  <a:pt x="4289" y="82"/>
                  <a:pt x="4287" y="79"/>
                  <a:pt x="4285" y="76"/>
                </a:cubicBezTo>
                <a:cubicBezTo>
                  <a:pt x="4284" y="71"/>
                  <a:pt x="4284" y="66"/>
                  <a:pt x="4284" y="61"/>
                </a:cubicBezTo>
                <a:cubicBezTo>
                  <a:pt x="4283" y="73"/>
                  <a:pt x="4281" y="87"/>
                  <a:pt x="4279" y="101"/>
                </a:cubicBezTo>
                <a:cubicBezTo>
                  <a:pt x="4277" y="95"/>
                  <a:pt x="4275" y="90"/>
                  <a:pt x="4273" y="86"/>
                </a:cubicBezTo>
                <a:cubicBezTo>
                  <a:pt x="4274" y="73"/>
                  <a:pt x="4274" y="64"/>
                  <a:pt x="4274" y="64"/>
                </a:cubicBezTo>
                <a:cubicBezTo>
                  <a:pt x="4274" y="71"/>
                  <a:pt x="4272" y="82"/>
                  <a:pt x="4270" y="95"/>
                </a:cubicBezTo>
                <a:cubicBezTo>
                  <a:pt x="4268" y="87"/>
                  <a:pt x="4266" y="79"/>
                  <a:pt x="4262" y="71"/>
                </a:cubicBezTo>
                <a:cubicBezTo>
                  <a:pt x="4264" y="49"/>
                  <a:pt x="4265" y="30"/>
                  <a:pt x="4265" y="30"/>
                </a:cubicBezTo>
                <a:cubicBezTo>
                  <a:pt x="4263" y="35"/>
                  <a:pt x="4261" y="49"/>
                  <a:pt x="4259" y="65"/>
                </a:cubicBezTo>
                <a:cubicBezTo>
                  <a:pt x="4258" y="62"/>
                  <a:pt x="4256" y="59"/>
                  <a:pt x="4254" y="56"/>
                </a:cubicBezTo>
                <a:cubicBezTo>
                  <a:pt x="4254" y="63"/>
                  <a:pt x="4256" y="70"/>
                  <a:pt x="4258" y="78"/>
                </a:cubicBezTo>
                <a:cubicBezTo>
                  <a:pt x="4257" y="87"/>
                  <a:pt x="4256" y="97"/>
                  <a:pt x="4255" y="106"/>
                </a:cubicBezTo>
                <a:cubicBezTo>
                  <a:pt x="4255" y="105"/>
                  <a:pt x="4255" y="104"/>
                  <a:pt x="4254" y="103"/>
                </a:cubicBezTo>
                <a:cubicBezTo>
                  <a:pt x="4255" y="104"/>
                  <a:pt x="4255" y="106"/>
                  <a:pt x="4255" y="109"/>
                </a:cubicBezTo>
                <a:cubicBezTo>
                  <a:pt x="4254" y="120"/>
                  <a:pt x="4253" y="131"/>
                  <a:pt x="4253" y="138"/>
                </a:cubicBezTo>
                <a:cubicBezTo>
                  <a:pt x="4253" y="137"/>
                  <a:pt x="4252" y="135"/>
                  <a:pt x="4252" y="134"/>
                </a:cubicBezTo>
                <a:cubicBezTo>
                  <a:pt x="4251" y="99"/>
                  <a:pt x="4245" y="41"/>
                  <a:pt x="4245" y="41"/>
                </a:cubicBezTo>
                <a:cubicBezTo>
                  <a:pt x="4247" y="58"/>
                  <a:pt x="4246" y="86"/>
                  <a:pt x="4244" y="108"/>
                </a:cubicBezTo>
                <a:cubicBezTo>
                  <a:pt x="4242" y="105"/>
                  <a:pt x="4241" y="102"/>
                  <a:pt x="4239" y="99"/>
                </a:cubicBezTo>
                <a:cubicBezTo>
                  <a:pt x="4239" y="86"/>
                  <a:pt x="4239" y="73"/>
                  <a:pt x="4239" y="67"/>
                </a:cubicBezTo>
                <a:cubicBezTo>
                  <a:pt x="4239" y="75"/>
                  <a:pt x="4238" y="85"/>
                  <a:pt x="4237" y="94"/>
                </a:cubicBezTo>
                <a:cubicBezTo>
                  <a:pt x="4236" y="92"/>
                  <a:pt x="4235" y="91"/>
                  <a:pt x="4234" y="89"/>
                </a:cubicBezTo>
                <a:cubicBezTo>
                  <a:pt x="4235" y="91"/>
                  <a:pt x="4236" y="94"/>
                  <a:pt x="4236" y="97"/>
                </a:cubicBezTo>
                <a:cubicBezTo>
                  <a:pt x="4235" y="103"/>
                  <a:pt x="4234" y="110"/>
                  <a:pt x="4232" y="116"/>
                </a:cubicBezTo>
                <a:cubicBezTo>
                  <a:pt x="4231" y="110"/>
                  <a:pt x="4230" y="105"/>
                  <a:pt x="4228" y="101"/>
                </a:cubicBezTo>
                <a:cubicBezTo>
                  <a:pt x="4229" y="91"/>
                  <a:pt x="4230" y="83"/>
                  <a:pt x="4230" y="83"/>
                </a:cubicBezTo>
                <a:cubicBezTo>
                  <a:pt x="4230" y="86"/>
                  <a:pt x="4229" y="92"/>
                  <a:pt x="4227" y="98"/>
                </a:cubicBezTo>
                <a:cubicBezTo>
                  <a:pt x="4226" y="94"/>
                  <a:pt x="4225" y="91"/>
                  <a:pt x="4224" y="89"/>
                </a:cubicBezTo>
                <a:cubicBezTo>
                  <a:pt x="4225" y="74"/>
                  <a:pt x="4226" y="62"/>
                  <a:pt x="4226" y="62"/>
                </a:cubicBezTo>
                <a:cubicBezTo>
                  <a:pt x="4225" y="65"/>
                  <a:pt x="4224" y="75"/>
                  <a:pt x="4222" y="87"/>
                </a:cubicBezTo>
                <a:cubicBezTo>
                  <a:pt x="4220" y="83"/>
                  <a:pt x="4218" y="81"/>
                  <a:pt x="4215" y="78"/>
                </a:cubicBezTo>
                <a:cubicBezTo>
                  <a:pt x="4218" y="81"/>
                  <a:pt x="4220" y="84"/>
                  <a:pt x="4222" y="89"/>
                </a:cubicBezTo>
                <a:cubicBezTo>
                  <a:pt x="4221" y="96"/>
                  <a:pt x="4220" y="105"/>
                  <a:pt x="4219" y="113"/>
                </a:cubicBezTo>
                <a:cubicBezTo>
                  <a:pt x="4218" y="108"/>
                  <a:pt x="4217" y="104"/>
                  <a:pt x="4215" y="100"/>
                </a:cubicBezTo>
                <a:cubicBezTo>
                  <a:pt x="4214" y="86"/>
                  <a:pt x="4212" y="74"/>
                  <a:pt x="4211" y="68"/>
                </a:cubicBezTo>
                <a:cubicBezTo>
                  <a:pt x="4211" y="71"/>
                  <a:pt x="4212" y="76"/>
                  <a:pt x="4211" y="86"/>
                </a:cubicBezTo>
                <a:cubicBezTo>
                  <a:pt x="4211" y="87"/>
                  <a:pt x="4211" y="88"/>
                  <a:pt x="4211" y="90"/>
                </a:cubicBezTo>
                <a:cubicBezTo>
                  <a:pt x="4210" y="87"/>
                  <a:pt x="4208" y="84"/>
                  <a:pt x="4206" y="81"/>
                </a:cubicBezTo>
                <a:cubicBezTo>
                  <a:pt x="4209" y="85"/>
                  <a:pt x="4210" y="91"/>
                  <a:pt x="4210" y="96"/>
                </a:cubicBezTo>
                <a:cubicBezTo>
                  <a:pt x="4209" y="105"/>
                  <a:pt x="4207" y="115"/>
                  <a:pt x="4205" y="124"/>
                </a:cubicBezTo>
                <a:cubicBezTo>
                  <a:pt x="4205" y="113"/>
                  <a:pt x="4204" y="102"/>
                  <a:pt x="4202" y="91"/>
                </a:cubicBezTo>
                <a:cubicBezTo>
                  <a:pt x="4202" y="77"/>
                  <a:pt x="4202" y="77"/>
                  <a:pt x="4202" y="77"/>
                </a:cubicBezTo>
                <a:cubicBezTo>
                  <a:pt x="4205" y="35"/>
                  <a:pt x="4198" y="19"/>
                  <a:pt x="4198" y="19"/>
                </a:cubicBezTo>
                <a:cubicBezTo>
                  <a:pt x="4198" y="19"/>
                  <a:pt x="4201" y="31"/>
                  <a:pt x="4200" y="54"/>
                </a:cubicBezTo>
                <a:cubicBezTo>
                  <a:pt x="4199" y="59"/>
                  <a:pt x="4199" y="68"/>
                  <a:pt x="4197" y="78"/>
                </a:cubicBezTo>
                <a:cubicBezTo>
                  <a:pt x="4195" y="72"/>
                  <a:pt x="4192" y="66"/>
                  <a:pt x="4188" y="60"/>
                </a:cubicBezTo>
                <a:cubicBezTo>
                  <a:pt x="4188" y="61"/>
                  <a:pt x="4188" y="61"/>
                  <a:pt x="4188" y="61"/>
                </a:cubicBezTo>
                <a:cubicBezTo>
                  <a:pt x="4188" y="62"/>
                  <a:pt x="4188" y="63"/>
                  <a:pt x="4188" y="64"/>
                </a:cubicBezTo>
                <a:cubicBezTo>
                  <a:pt x="4186" y="44"/>
                  <a:pt x="4179" y="40"/>
                  <a:pt x="4179" y="40"/>
                </a:cubicBezTo>
                <a:cubicBezTo>
                  <a:pt x="4179" y="40"/>
                  <a:pt x="4185" y="44"/>
                  <a:pt x="4185" y="70"/>
                </a:cubicBezTo>
                <a:cubicBezTo>
                  <a:pt x="4185" y="76"/>
                  <a:pt x="4184" y="85"/>
                  <a:pt x="4182" y="94"/>
                </a:cubicBezTo>
                <a:cubicBezTo>
                  <a:pt x="4180" y="90"/>
                  <a:pt x="4177" y="86"/>
                  <a:pt x="4174" y="83"/>
                </a:cubicBezTo>
                <a:cubicBezTo>
                  <a:pt x="4177" y="87"/>
                  <a:pt x="4180" y="92"/>
                  <a:pt x="4182" y="97"/>
                </a:cubicBezTo>
                <a:cubicBezTo>
                  <a:pt x="4181" y="100"/>
                  <a:pt x="4181" y="103"/>
                  <a:pt x="4180" y="106"/>
                </a:cubicBezTo>
                <a:cubicBezTo>
                  <a:pt x="4179" y="104"/>
                  <a:pt x="4179" y="102"/>
                  <a:pt x="4178" y="100"/>
                </a:cubicBezTo>
                <a:cubicBezTo>
                  <a:pt x="4179" y="102"/>
                  <a:pt x="4179" y="105"/>
                  <a:pt x="4180" y="108"/>
                </a:cubicBezTo>
                <a:cubicBezTo>
                  <a:pt x="4179" y="111"/>
                  <a:pt x="4178" y="114"/>
                  <a:pt x="4177" y="117"/>
                </a:cubicBezTo>
                <a:cubicBezTo>
                  <a:pt x="4176" y="113"/>
                  <a:pt x="4174" y="108"/>
                  <a:pt x="4172" y="104"/>
                </a:cubicBezTo>
                <a:cubicBezTo>
                  <a:pt x="4173" y="87"/>
                  <a:pt x="4174" y="71"/>
                  <a:pt x="4174" y="71"/>
                </a:cubicBezTo>
                <a:cubicBezTo>
                  <a:pt x="4173" y="73"/>
                  <a:pt x="4171" y="84"/>
                  <a:pt x="4169" y="97"/>
                </a:cubicBezTo>
                <a:cubicBezTo>
                  <a:pt x="4168" y="95"/>
                  <a:pt x="4167" y="93"/>
                  <a:pt x="4166" y="92"/>
                </a:cubicBezTo>
                <a:cubicBezTo>
                  <a:pt x="4167" y="81"/>
                  <a:pt x="4168" y="72"/>
                  <a:pt x="4169" y="66"/>
                </a:cubicBezTo>
                <a:cubicBezTo>
                  <a:pt x="4168" y="73"/>
                  <a:pt x="4167" y="81"/>
                  <a:pt x="4165" y="90"/>
                </a:cubicBezTo>
                <a:cubicBezTo>
                  <a:pt x="4164" y="88"/>
                  <a:pt x="4162" y="86"/>
                  <a:pt x="4160" y="83"/>
                </a:cubicBezTo>
                <a:cubicBezTo>
                  <a:pt x="4164" y="26"/>
                  <a:pt x="4162" y="12"/>
                  <a:pt x="4162" y="12"/>
                </a:cubicBezTo>
                <a:cubicBezTo>
                  <a:pt x="4162" y="12"/>
                  <a:pt x="4162" y="18"/>
                  <a:pt x="4159" y="56"/>
                </a:cubicBezTo>
                <a:cubicBezTo>
                  <a:pt x="4158" y="64"/>
                  <a:pt x="4157" y="71"/>
                  <a:pt x="4156" y="78"/>
                </a:cubicBezTo>
                <a:cubicBezTo>
                  <a:pt x="4154" y="76"/>
                  <a:pt x="4151" y="73"/>
                  <a:pt x="4149" y="71"/>
                </a:cubicBezTo>
                <a:cubicBezTo>
                  <a:pt x="4150" y="48"/>
                  <a:pt x="4151" y="31"/>
                  <a:pt x="4151" y="31"/>
                </a:cubicBezTo>
                <a:cubicBezTo>
                  <a:pt x="4149" y="37"/>
                  <a:pt x="4147" y="52"/>
                  <a:pt x="4146" y="68"/>
                </a:cubicBezTo>
                <a:cubicBezTo>
                  <a:pt x="4144" y="66"/>
                  <a:pt x="4142" y="65"/>
                  <a:pt x="4140" y="63"/>
                </a:cubicBezTo>
                <a:cubicBezTo>
                  <a:pt x="4142" y="65"/>
                  <a:pt x="4144" y="67"/>
                  <a:pt x="4146" y="69"/>
                </a:cubicBezTo>
                <a:cubicBezTo>
                  <a:pt x="4145" y="82"/>
                  <a:pt x="4145" y="96"/>
                  <a:pt x="4144" y="109"/>
                </a:cubicBezTo>
                <a:cubicBezTo>
                  <a:pt x="4143" y="104"/>
                  <a:pt x="4141" y="99"/>
                  <a:pt x="4140" y="96"/>
                </a:cubicBezTo>
                <a:cubicBezTo>
                  <a:pt x="4141" y="104"/>
                  <a:pt x="4142" y="112"/>
                  <a:pt x="4144" y="120"/>
                </a:cubicBezTo>
                <a:cubicBezTo>
                  <a:pt x="4144" y="123"/>
                  <a:pt x="4144" y="126"/>
                  <a:pt x="4144" y="128"/>
                </a:cubicBezTo>
                <a:cubicBezTo>
                  <a:pt x="4143" y="125"/>
                  <a:pt x="4141" y="122"/>
                  <a:pt x="4140" y="118"/>
                </a:cubicBezTo>
                <a:cubicBezTo>
                  <a:pt x="4135" y="80"/>
                  <a:pt x="4128" y="28"/>
                  <a:pt x="4128" y="28"/>
                </a:cubicBezTo>
                <a:cubicBezTo>
                  <a:pt x="4128" y="39"/>
                  <a:pt x="4126" y="72"/>
                  <a:pt x="4124" y="100"/>
                </a:cubicBezTo>
                <a:cubicBezTo>
                  <a:pt x="4124" y="98"/>
                  <a:pt x="4123" y="97"/>
                  <a:pt x="4122" y="96"/>
                </a:cubicBezTo>
                <a:cubicBezTo>
                  <a:pt x="4123" y="97"/>
                  <a:pt x="4124" y="99"/>
                  <a:pt x="4124" y="100"/>
                </a:cubicBezTo>
                <a:cubicBezTo>
                  <a:pt x="4124" y="110"/>
                  <a:pt x="4123" y="120"/>
                  <a:pt x="4122" y="128"/>
                </a:cubicBezTo>
                <a:cubicBezTo>
                  <a:pt x="4122" y="128"/>
                  <a:pt x="4122" y="127"/>
                  <a:pt x="4122" y="127"/>
                </a:cubicBezTo>
                <a:cubicBezTo>
                  <a:pt x="4122" y="109"/>
                  <a:pt x="4120" y="87"/>
                  <a:pt x="4119" y="71"/>
                </a:cubicBezTo>
                <a:cubicBezTo>
                  <a:pt x="4120" y="68"/>
                  <a:pt x="4121" y="66"/>
                  <a:pt x="4122" y="64"/>
                </a:cubicBezTo>
                <a:cubicBezTo>
                  <a:pt x="4121" y="65"/>
                  <a:pt x="4120" y="67"/>
                  <a:pt x="4118" y="69"/>
                </a:cubicBezTo>
                <a:cubicBezTo>
                  <a:pt x="4118" y="61"/>
                  <a:pt x="4117" y="55"/>
                  <a:pt x="4117" y="53"/>
                </a:cubicBezTo>
                <a:cubicBezTo>
                  <a:pt x="4117" y="52"/>
                  <a:pt x="4118" y="52"/>
                  <a:pt x="4118" y="51"/>
                </a:cubicBezTo>
                <a:cubicBezTo>
                  <a:pt x="4118" y="51"/>
                  <a:pt x="4117" y="52"/>
                  <a:pt x="4117" y="52"/>
                </a:cubicBezTo>
                <a:cubicBezTo>
                  <a:pt x="4117" y="52"/>
                  <a:pt x="4117" y="52"/>
                  <a:pt x="4117" y="52"/>
                </a:cubicBezTo>
                <a:cubicBezTo>
                  <a:pt x="4117" y="52"/>
                  <a:pt x="4117" y="52"/>
                  <a:pt x="4117" y="52"/>
                </a:cubicBezTo>
                <a:cubicBezTo>
                  <a:pt x="4115" y="54"/>
                  <a:pt x="4113" y="56"/>
                  <a:pt x="4111" y="57"/>
                </a:cubicBezTo>
                <a:cubicBezTo>
                  <a:pt x="4112" y="54"/>
                  <a:pt x="4112" y="52"/>
                  <a:pt x="4112" y="50"/>
                </a:cubicBezTo>
                <a:cubicBezTo>
                  <a:pt x="4116" y="46"/>
                  <a:pt x="4119" y="42"/>
                  <a:pt x="4123" y="38"/>
                </a:cubicBezTo>
                <a:cubicBezTo>
                  <a:pt x="4119" y="41"/>
                  <a:pt x="4116" y="44"/>
                  <a:pt x="4113" y="47"/>
                </a:cubicBezTo>
                <a:cubicBezTo>
                  <a:pt x="4113" y="43"/>
                  <a:pt x="4114" y="40"/>
                  <a:pt x="4114" y="40"/>
                </a:cubicBezTo>
                <a:cubicBezTo>
                  <a:pt x="4113" y="43"/>
                  <a:pt x="4111" y="46"/>
                  <a:pt x="4110" y="50"/>
                </a:cubicBezTo>
                <a:cubicBezTo>
                  <a:pt x="4103" y="58"/>
                  <a:pt x="4098" y="66"/>
                  <a:pt x="4094" y="75"/>
                </a:cubicBezTo>
                <a:cubicBezTo>
                  <a:pt x="4093" y="70"/>
                  <a:pt x="4093" y="66"/>
                  <a:pt x="4093" y="63"/>
                </a:cubicBezTo>
                <a:cubicBezTo>
                  <a:pt x="4096" y="57"/>
                  <a:pt x="4099" y="50"/>
                  <a:pt x="4103" y="42"/>
                </a:cubicBezTo>
                <a:cubicBezTo>
                  <a:pt x="4094" y="52"/>
                  <a:pt x="4088" y="61"/>
                  <a:pt x="4084" y="71"/>
                </a:cubicBezTo>
                <a:cubicBezTo>
                  <a:pt x="4083" y="70"/>
                  <a:pt x="4082" y="70"/>
                  <a:pt x="4082" y="69"/>
                </a:cubicBezTo>
                <a:cubicBezTo>
                  <a:pt x="4082" y="68"/>
                  <a:pt x="4082" y="67"/>
                  <a:pt x="4081" y="65"/>
                </a:cubicBezTo>
                <a:cubicBezTo>
                  <a:pt x="4088" y="53"/>
                  <a:pt x="4096" y="41"/>
                  <a:pt x="4107" y="25"/>
                </a:cubicBezTo>
                <a:cubicBezTo>
                  <a:pt x="4096" y="40"/>
                  <a:pt x="4088" y="51"/>
                  <a:pt x="4081" y="64"/>
                </a:cubicBezTo>
                <a:cubicBezTo>
                  <a:pt x="4079" y="45"/>
                  <a:pt x="4077" y="30"/>
                  <a:pt x="4077" y="30"/>
                </a:cubicBezTo>
                <a:cubicBezTo>
                  <a:pt x="4078" y="35"/>
                  <a:pt x="4078" y="49"/>
                  <a:pt x="4078" y="65"/>
                </a:cubicBezTo>
                <a:cubicBezTo>
                  <a:pt x="4078" y="65"/>
                  <a:pt x="4077" y="65"/>
                  <a:pt x="4077" y="65"/>
                </a:cubicBezTo>
                <a:cubicBezTo>
                  <a:pt x="4077" y="65"/>
                  <a:pt x="4078" y="65"/>
                  <a:pt x="4078" y="65"/>
                </a:cubicBezTo>
                <a:cubicBezTo>
                  <a:pt x="4078" y="67"/>
                  <a:pt x="4078" y="69"/>
                  <a:pt x="4077" y="71"/>
                </a:cubicBezTo>
                <a:cubicBezTo>
                  <a:pt x="4076" y="74"/>
                  <a:pt x="4075" y="78"/>
                  <a:pt x="4074" y="81"/>
                </a:cubicBezTo>
                <a:cubicBezTo>
                  <a:pt x="4075" y="78"/>
                  <a:pt x="4076" y="76"/>
                  <a:pt x="4077" y="73"/>
                </a:cubicBezTo>
                <a:cubicBezTo>
                  <a:pt x="4077" y="79"/>
                  <a:pt x="4077" y="85"/>
                  <a:pt x="4077" y="91"/>
                </a:cubicBezTo>
                <a:cubicBezTo>
                  <a:pt x="4076" y="93"/>
                  <a:pt x="4076" y="95"/>
                  <a:pt x="4076" y="97"/>
                </a:cubicBezTo>
                <a:cubicBezTo>
                  <a:pt x="4075" y="96"/>
                  <a:pt x="4074" y="95"/>
                  <a:pt x="4074" y="94"/>
                </a:cubicBezTo>
                <a:cubicBezTo>
                  <a:pt x="4073" y="91"/>
                  <a:pt x="4073" y="88"/>
                  <a:pt x="4073" y="85"/>
                </a:cubicBezTo>
                <a:cubicBezTo>
                  <a:pt x="4073" y="83"/>
                  <a:pt x="4074" y="82"/>
                  <a:pt x="4074" y="81"/>
                </a:cubicBezTo>
                <a:cubicBezTo>
                  <a:pt x="4074" y="82"/>
                  <a:pt x="4073" y="83"/>
                  <a:pt x="4073" y="84"/>
                </a:cubicBezTo>
                <a:cubicBezTo>
                  <a:pt x="4072" y="72"/>
                  <a:pt x="4071" y="62"/>
                  <a:pt x="4071" y="55"/>
                </a:cubicBezTo>
                <a:cubicBezTo>
                  <a:pt x="4072" y="54"/>
                  <a:pt x="4073" y="53"/>
                  <a:pt x="4075" y="52"/>
                </a:cubicBezTo>
                <a:cubicBezTo>
                  <a:pt x="4073" y="53"/>
                  <a:pt x="4072" y="54"/>
                  <a:pt x="4071" y="54"/>
                </a:cubicBezTo>
                <a:cubicBezTo>
                  <a:pt x="4071" y="49"/>
                  <a:pt x="4070" y="46"/>
                  <a:pt x="4070" y="46"/>
                </a:cubicBezTo>
                <a:cubicBezTo>
                  <a:pt x="4070" y="48"/>
                  <a:pt x="4070" y="51"/>
                  <a:pt x="4070" y="55"/>
                </a:cubicBezTo>
                <a:cubicBezTo>
                  <a:pt x="4067" y="57"/>
                  <a:pt x="4064" y="59"/>
                  <a:pt x="4061" y="62"/>
                </a:cubicBezTo>
                <a:cubicBezTo>
                  <a:pt x="4061" y="58"/>
                  <a:pt x="4061" y="54"/>
                  <a:pt x="4061" y="50"/>
                </a:cubicBezTo>
                <a:cubicBezTo>
                  <a:pt x="4065" y="45"/>
                  <a:pt x="4070" y="40"/>
                  <a:pt x="4075" y="34"/>
                </a:cubicBezTo>
                <a:cubicBezTo>
                  <a:pt x="4070" y="39"/>
                  <a:pt x="4065" y="44"/>
                  <a:pt x="4061" y="48"/>
                </a:cubicBezTo>
                <a:cubicBezTo>
                  <a:pt x="4062" y="21"/>
                  <a:pt x="4064" y="0"/>
                  <a:pt x="4064" y="0"/>
                </a:cubicBezTo>
                <a:cubicBezTo>
                  <a:pt x="4060" y="10"/>
                  <a:pt x="4058" y="35"/>
                  <a:pt x="4057" y="53"/>
                </a:cubicBezTo>
                <a:cubicBezTo>
                  <a:pt x="4056" y="54"/>
                  <a:pt x="4055" y="55"/>
                  <a:pt x="4055" y="56"/>
                </a:cubicBezTo>
                <a:cubicBezTo>
                  <a:pt x="4053" y="44"/>
                  <a:pt x="4050" y="33"/>
                  <a:pt x="4050" y="33"/>
                </a:cubicBezTo>
                <a:cubicBezTo>
                  <a:pt x="4051" y="39"/>
                  <a:pt x="4051" y="49"/>
                  <a:pt x="4050" y="62"/>
                </a:cubicBezTo>
                <a:cubicBezTo>
                  <a:pt x="4048" y="63"/>
                  <a:pt x="4047" y="65"/>
                  <a:pt x="4046" y="67"/>
                </a:cubicBezTo>
                <a:cubicBezTo>
                  <a:pt x="4045" y="65"/>
                  <a:pt x="4044" y="63"/>
                  <a:pt x="4043" y="62"/>
                </a:cubicBezTo>
                <a:cubicBezTo>
                  <a:pt x="4043" y="63"/>
                  <a:pt x="4044" y="65"/>
                  <a:pt x="4045" y="68"/>
                </a:cubicBezTo>
                <a:cubicBezTo>
                  <a:pt x="4042" y="72"/>
                  <a:pt x="4040" y="75"/>
                  <a:pt x="4039" y="78"/>
                </a:cubicBezTo>
                <a:cubicBezTo>
                  <a:pt x="4038" y="61"/>
                  <a:pt x="4038" y="48"/>
                  <a:pt x="4038" y="48"/>
                </a:cubicBezTo>
                <a:cubicBezTo>
                  <a:pt x="4037" y="52"/>
                  <a:pt x="4036" y="65"/>
                  <a:pt x="4034" y="80"/>
                </a:cubicBezTo>
                <a:cubicBezTo>
                  <a:pt x="4033" y="82"/>
                  <a:pt x="4033" y="85"/>
                  <a:pt x="4032" y="87"/>
                </a:cubicBezTo>
                <a:cubicBezTo>
                  <a:pt x="4031" y="86"/>
                  <a:pt x="4031" y="86"/>
                  <a:pt x="4030" y="85"/>
                </a:cubicBezTo>
                <a:cubicBezTo>
                  <a:pt x="4033" y="48"/>
                  <a:pt x="4036" y="9"/>
                  <a:pt x="4036" y="9"/>
                </a:cubicBezTo>
                <a:cubicBezTo>
                  <a:pt x="4032" y="20"/>
                  <a:pt x="4028" y="57"/>
                  <a:pt x="4024" y="89"/>
                </a:cubicBezTo>
                <a:cubicBezTo>
                  <a:pt x="4023" y="91"/>
                  <a:pt x="4022" y="92"/>
                  <a:pt x="4022" y="93"/>
                </a:cubicBezTo>
                <a:cubicBezTo>
                  <a:pt x="4021" y="92"/>
                  <a:pt x="4020" y="90"/>
                  <a:pt x="4019" y="89"/>
                </a:cubicBezTo>
                <a:cubicBezTo>
                  <a:pt x="4022" y="72"/>
                  <a:pt x="4025" y="55"/>
                  <a:pt x="4025" y="37"/>
                </a:cubicBezTo>
                <a:cubicBezTo>
                  <a:pt x="4025" y="34"/>
                  <a:pt x="4025" y="30"/>
                  <a:pt x="4025" y="26"/>
                </a:cubicBezTo>
                <a:cubicBezTo>
                  <a:pt x="4018" y="45"/>
                  <a:pt x="4017" y="66"/>
                  <a:pt x="4013" y="86"/>
                </a:cubicBezTo>
                <a:cubicBezTo>
                  <a:pt x="4012" y="85"/>
                  <a:pt x="4012" y="84"/>
                  <a:pt x="4011" y="84"/>
                </a:cubicBezTo>
                <a:cubicBezTo>
                  <a:pt x="4012" y="84"/>
                  <a:pt x="4012" y="85"/>
                  <a:pt x="4013" y="86"/>
                </a:cubicBezTo>
                <a:cubicBezTo>
                  <a:pt x="4012" y="88"/>
                  <a:pt x="4012" y="90"/>
                  <a:pt x="4012" y="92"/>
                </a:cubicBezTo>
                <a:cubicBezTo>
                  <a:pt x="4011" y="94"/>
                  <a:pt x="4011" y="96"/>
                  <a:pt x="4010" y="98"/>
                </a:cubicBezTo>
                <a:cubicBezTo>
                  <a:pt x="4010" y="97"/>
                  <a:pt x="4009" y="96"/>
                  <a:pt x="4008" y="94"/>
                </a:cubicBezTo>
                <a:cubicBezTo>
                  <a:pt x="4008" y="86"/>
                  <a:pt x="4007" y="78"/>
                  <a:pt x="4006" y="72"/>
                </a:cubicBezTo>
                <a:cubicBezTo>
                  <a:pt x="4009" y="67"/>
                  <a:pt x="4013" y="63"/>
                  <a:pt x="4017" y="59"/>
                </a:cubicBezTo>
                <a:cubicBezTo>
                  <a:pt x="4013" y="62"/>
                  <a:pt x="4009" y="66"/>
                  <a:pt x="4006" y="70"/>
                </a:cubicBezTo>
                <a:cubicBezTo>
                  <a:pt x="4005" y="64"/>
                  <a:pt x="4005" y="60"/>
                  <a:pt x="4004" y="57"/>
                </a:cubicBezTo>
                <a:cubicBezTo>
                  <a:pt x="4005" y="54"/>
                  <a:pt x="4007" y="52"/>
                  <a:pt x="4008" y="50"/>
                </a:cubicBezTo>
                <a:cubicBezTo>
                  <a:pt x="4007" y="51"/>
                  <a:pt x="4005" y="53"/>
                  <a:pt x="4004" y="54"/>
                </a:cubicBezTo>
                <a:cubicBezTo>
                  <a:pt x="4004" y="53"/>
                  <a:pt x="4004" y="52"/>
                  <a:pt x="4004" y="52"/>
                </a:cubicBezTo>
                <a:cubicBezTo>
                  <a:pt x="4004" y="53"/>
                  <a:pt x="4004" y="54"/>
                  <a:pt x="4004" y="54"/>
                </a:cubicBezTo>
                <a:cubicBezTo>
                  <a:pt x="4002" y="56"/>
                  <a:pt x="4000" y="58"/>
                  <a:pt x="3998" y="60"/>
                </a:cubicBezTo>
                <a:cubicBezTo>
                  <a:pt x="3997" y="54"/>
                  <a:pt x="3996" y="48"/>
                  <a:pt x="3995" y="44"/>
                </a:cubicBezTo>
                <a:cubicBezTo>
                  <a:pt x="3996" y="49"/>
                  <a:pt x="3995" y="56"/>
                  <a:pt x="3994" y="64"/>
                </a:cubicBezTo>
                <a:cubicBezTo>
                  <a:pt x="3993" y="66"/>
                  <a:pt x="3992" y="68"/>
                  <a:pt x="3991" y="69"/>
                </a:cubicBezTo>
                <a:cubicBezTo>
                  <a:pt x="3989" y="67"/>
                  <a:pt x="3988" y="66"/>
                  <a:pt x="3986" y="64"/>
                </a:cubicBezTo>
                <a:cubicBezTo>
                  <a:pt x="3988" y="66"/>
                  <a:pt x="3989" y="67"/>
                  <a:pt x="3991" y="69"/>
                </a:cubicBezTo>
                <a:cubicBezTo>
                  <a:pt x="3989" y="71"/>
                  <a:pt x="3988" y="73"/>
                  <a:pt x="3987" y="75"/>
                </a:cubicBezTo>
                <a:cubicBezTo>
                  <a:pt x="3987" y="75"/>
                  <a:pt x="3987" y="75"/>
                  <a:pt x="3987" y="75"/>
                </a:cubicBezTo>
                <a:cubicBezTo>
                  <a:pt x="3987" y="75"/>
                  <a:pt x="3987" y="75"/>
                  <a:pt x="3987" y="75"/>
                </a:cubicBezTo>
                <a:cubicBezTo>
                  <a:pt x="3986" y="76"/>
                  <a:pt x="3985" y="77"/>
                  <a:pt x="3984" y="79"/>
                </a:cubicBezTo>
                <a:cubicBezTo>
                  <a:pt x="3984" y="79"/>
                  <a:pt x="3984" y="79"/>
                  <a:pt x="3984" y="79"/>
                </a:cubicBezTo>
                <a:cubicBezTo>
                  <a:pt x="3985" y="60"/>
                  <a:pt x="3985" y="45"/>
                  <a:pt x="3985" y="45"/>
                </a:cubicBezTo>
                <a:cubicBezTo>
                  <a:pt x="3985" y="50"/>
                  <a:pt x="3983" y="61"/>
                  <a:pt x="3980" y="73"/>
                </a:cubicBezTo>
                <a:cubicBezTo>
                  <a:pt x="3979" y="73"/>
                  <a:pt x="3979" y="73"/>
                  <a:pt x="3978" y="72"/>
                </a:cubicBezTo>
                <a:cubicBezTo>
                  <a:pt x="3979" y="70"/>
                  <a:pt x="3979" y="68"/>
                  <a:pt x="3979" y="66"/>
                </a:cubicBezTo>
                <a:cubicBezTo>
                  <a:pt x="3979" y="65"/>
                  <a:pt x="3979" y="65"/>
                  <a:pt x="3980" y="65"/>
                </a:cubicBezTo>
                <a:cubicBezTo>
                  <a:pt x="3979" y="65"/>
                  <a:pt x="3979" y="65"/>
                  <a:pt x="3979" y="66"/>
                </a:cubicBezTo>
                <a:cubicBezTo>
                  <a:pt x="3979" y="64"/>
                  <a:pt x="3979" y="63"/>
                  <a:pt x="3979" y="61"/>
                </a:cubicBezTo>
                <a:cubicBezTo>
                  <a:pt x="3979" y="55"/>
                  <a:pt x="3979" y="49"/>
                  <a:pt x="3978" y="42"/>
                </a:cubicBezTo>
                <a:cubicBezTo>
                  <a:pt x="3981" y="27"/>
                  <a:pt x="3983" y="17"/>
                  <a:pt x="3983" y="17"/>
                </a:cubicBezTo>
                <a:cubicBezTo>
                  <a:pt x="3980" y="22"/>
                  <a:pt x="3973" y="49"/>
                  <a:pt x="3967" y="78"/>
                </a:cubicBezTo>
                <a:cubicBezTo>
                  <a:pt x="3967" y="78"/>
                  <a:pt x="3967" y="79"/>
                  <a:pt x="3966" y="79"/>
                </a:cubicBezTo>
                <a:cubicBezTo>
                  <a:pt x="3965" y="76"/>
                  <a:pt x="3962" y="72"/>
                  <a:pt x="3960" y="69"/>
                </a:cubicBezTo>
                <a:cubicBezTo>
                  <a:pt x="3961" y="67"/>
                  <a:pt x="3963" y="66"/>
                  <a:pt x="3965" y="64"/>
                </a:cubicBezTo>
                <a:cubicBezTo>
                  <a:pt x="3963" y="66"/>
                  <a:pt x="3961" y="67"/>
                  <a:pt x="3960" y="69"/>
                </a:cubicBezTo>
                <a:cubicBezTo>
                  <a:pt x="3959" y="68"/>
                  <a:pt x="3958" y="67"/>
                  <a:pt x="3957" y="66"/>
                </a:cubicBezTo>
                <a:cubicBezTo>
                  <a:pt x="3957" y="60"/>
                  <a:pt x="3956" y="55"/>
                  <a:pt x="3956" y="52"/>
                </a:cubicBezTo>
                <a:cubicBezTo>
                  <a:pt x="3956" y="56"/>
                  <a:pt x="3956" y="60"/>
                  <a:pt x="3956" y="64"/>
                </a:cubicBezTo>
                <a:cubicBezTo>
                  <a:pt x="3952" y="60"/>
                  <a:pt x="3948" y="55"/>
                  <a:pt x="3943" y="50"/>
                </a:cubicBezTo>
                <a:cubicBezTo>
                  <a:pt x="3945" y="55"/>
                  <a:pt x="3949" y="60"/>
                  <a:pt x="3952" y="65"/>
                </a:cubicBezTo>
                <a:cubicBezTo>
                  <a:pt x="3951" y="68"/>
                  <a:pt x="3951" y="71"/>
                  <a:pt x="3950" y="76"/>
                </a:cubicBezTo>
                <a:cubicBezTo>
                  <a:pt x="3948" y="74"/>
                  <a:pt x="3946" y="71"/>
                  <a:pt x="3943" y="68"/>
                </a:cubicBezTo>
                <a:cubicBezTo>
                  <a:pt x="3943" y="54"/>
                  <a:pt x="3942" y="41"/>
                  <a:pt x="3941" y="33"/>
                </a:cubicBezTo>
                <a:cubicBezTo>
                  <a:pt x="3942" y="42"/>
                  <a:pt x="3941" y="53"/>
                  <a:pt x="3940" y="65"/>
                </a:cubicBezTo>
                <a:cubicBezTo>
                  <a:pt x="3938" y="63"/>
                  <a:pt x="3936" y="61"/>
                  <a:pt x="3934" y="59"/>
                </a:cubicBezTo>
                <a:cubicBezTo>
                  <a:pt x="3936" y="61"/>
                  <a:pt x="3938" y="63"/>
                  <a:pt x="3940" y="65"/>
                </a:cubicBezTo>
                <a:cubicBezTo>
                  <a:pt x="3939" y="72"/>
                  <a:pt x="3938" y="80"/>
                  <a:pt x="3937" y="87"/>
                </a:cubicBezTo>
                <a:cubicBezTo>
                  <a:pt x="3937" y="87"/>
                  <a:pt x="3937" y="87"/>
                  <a:pt x="3937" y="87"/>
                </a:cubicBezTo>
                <a:cubicBezTo>
                  <a:pt x="3936" y="85"/>
                  <a:pt x="3936" y="84"/>
                  <a:pt x="3935" y="83"/>
                </a:cubicBezTo>
                <a:cubicBezTo>
                  <a:pt x="3936" y="82"/>
                  <a:pt x="3936" y="82"/>
                  <a:pt x="3936" y="81"/>
                </a:cubicBezTo>
                <a:cubicBezTo>
                  <a:pt x="3936" y="82"/>
                  <a:pt x="3936" y="82"/>
                  <a:pt x="3935" y="83"/>
                </a:cubicBezTo>
                <a:cubicBezTo>
                  <a:pt x="3935" y="81"/>
                  <a:pt x="3934" y="79"/>
                  <a:pt x="3933" y="77"/>
                </a:cubicBezTo>
                <a:cubicBezTo>
                  <a:pt x="3934" y="79"/>
                  <a:pt x="3934" y="81"/>
                  <a:pt x="3935" y="83"/>
                </a:cubicBezTo>
                <a:cubicBezTo>
                  <a:pt x="3934" y="85"/>
                  <a:pt x="3933" y="86"/>
                  <a:pt x="3932" y="88"/>
                </a:cubicBezTo>
                <a:cubicBezTo>
                  <a:pt x="3933" y="86"/>
                  <a:pt x="3934" y="85"/>
                  <a:pt x="3935" y="83"/>
                </a:cubicBezTo>
                <a:cubicBezTo>
                  <a:pt x="3935" y="85"/>
                  <a:pt x="3936" y="86"/>
                  <a:pt x="3936" y="88"/>
                </a:cubicBezTo>
                <a:cubicBezTo>
                  <a:pt x="3934" y="91"/>
                  <a:pt x="3933" y="95"/>
                  <a:pt x="3931" y="98"/>
                </a:cubicBezTo>
                <a:cubicBezTo>
                  <a:pt x="3931" y="97"/>
                  <a:pt x="3931" y="97"/>
                  <a:pt x="3930" y="97"/>
                </a:cubicBezTo>
                <a:cubicBezTo>
                  <a:pt x="3930" y="95"/>
                  <a:pt x="3930" y="94"/>
                  <a:pt x="3930" y="93"/>
                </a:cubicBezTo>
                <a:cubicBezTo>
                  <a:pt x="3930" y="91"/>
                  <a:pt x="3931" y="89"/>
                  <a:pt x="3932" y="88"/>
                </a:cubicBezTo>
                <a:cubicBezTo>
                  <a:pt x="3931" y="89"/>
                  <a:pt x="3930" y="91"/>
                  <a:pt x="3929" y="92"/>
                </a:cubicBezTo>
                <a:cubicBezTo>
                  <a:pt x="3929" y="92"/>
                  <a:pt x="3929" y="91"/>
                  <a:pt x="3929" y="91"/>
                </a:cubicBezTo>
                <a:cubicBezTo>
                  <a:pt x="3929" y="74"/>
                  <a:pt x="3928" y="60"/>
                  <a:pt x="3928" y="60"/>
                </a:cubicBezTo>
                <a:cubicBezTo>
                  <a:pt x="3928" y="65"/>
                  <a:pt x="3927" y="73"/>
                  <a:pt x="3927" y="81"/>
                </a:cubicBezTo>
                <a:cubicBezTo>
                  <a:pt x="3926" y="79"/>
                  <a:pt x="3926" y="76"/>
                  <a:pt x="3925" y="74"/>
                </a:cubicBezTo>
                <a:cubicBezTo>
                  <a:pt x="3926" y="79"/>
                  <a:pt x="3926" y="83"/>
                  <a:pt x="3926" y="88"/>
                </a:cubicBezTo>
                <a:cubicBezTo>
                  <a:pt x="3925" y="86"/>
                  <a:pt x="3924" y="84"/>
                  <a:pt x="3923" y="83"/>
                </a:cubicBezTo>
                <a:cubicBezTo>
                  <a:pt x="3924" y="85"/>
                  <a:pt x="3925" y="87"/>
                  <a:pt x="3926" y="89"/>
                </a:cubicBezTo>
                <a:cubicBezTo>
                  <a:pt x="3926" y="89"/>
                  <a:pt x="3926" y="89"/>
                  <a:pt x="3926" y="89"/>
                </a:cubicBezTo>
                <a:cubicBezTo>
                  <a:pt x="3926" y="93"/>
                  <a:pt x="3925" y="97"/>
                  <a:pt x="3925" y="101"/>
                </a:cubicBezTo>
                <a:cubicBezTo>
                  <a:pt x="3924" y="103"/>
                  <a:pt x="3923" y="104"/>
                  <a:pt x="3923" y="106"/>
                </a:cubicBezTo>
                <a:cubicBezTo>
                  <a:pt x="3921" y="100"/>
                  <a:pt x="3920" y="95"/>
                  <a:pt x="3918" y="90"/>
                </a:cubicBezTo>
                <a:cubicBezTo>
                  <a:pt x="3919" y="88"/>
                  <a:pt x="3921" y="85"/>
                  <a:pt x="3922" y="83"/>
                </a:cubicBezTo>
                <a:cubicBezTo>
                  <a:pt x="3921" y="85"/>
                  <a:pt x="3919" y="87"/>
                  <a:pt x="3917" y="89"/>
                </a:cubicBezTo>
                <a:cubicBezTo>
                  <a:pt x="3917" y="88"/>
                  <a:pt x="3916" y="87"/>
                  <a:pt x="3916" y="87"/>
                </a:cubicBezTo>
                <a:cubicBezTo>
                  <a:pt x="3916" y="76"/>
                  <a:pt x="3917" y="68"/>
                  <a:pt x="3917" y="68"/>
                </a:cubicBezTo>
                <a:cubicBezTo>
                  <a:pt x="3916" y="72"/>
                  <a:pt x="3915" y="77"/>
                  <a:pt x="3914" y="82"/>
                </a:cubicBezTo>
                <a:cubicBezTo>
                  <a:pt x="3914" y="81"/>
                  <a:pt x="3914" y="80"/>
                  <a:pt x="3914" y="80"/>
                </a:cubicBezTo>
                <a:cubicBezTo>
                  <a:pt x="3914" y="80"/>
                  <a:pt x="3914" y="81"/>
                  <a:pt x="3914" y="82"/>
                </a:cubicBezTo>
                <a:cubicBezTo>
                  <a:pt x="3913" y="80"/>
                  <a:pt x="3912" y="78"/>
                  <a:pt x="3910" y="75"/>
                </a:cubicBezTo>
                <a:cubicBezTo>
                  <a:pt x="3911" y="65"/>
                  <a:pt x="3912" y="56"/>
                  <a:pt x="3913" y="48"/>
                </a:cubicBezTo>
                <a:cubicBezTo>
                  <a:pt x="3912" y="55"/>
                  <a:pt x="3910" y="64"/>
                  <a:pt x="3909" y="73"/>
                </a:cubicBezTo>
                <a:cubicBezTo>
                  <a:pt x="3907" y="70"/>
                  <a:pt x="3905" y="67"/>
                  <a:pt x="3903" y="64"/>
                </a:cubicBezTo>
                <a:cubicBezTo>
                  <a:pt x="3903" y="62"/>
                  <a:pt x="3903" y="59"/>
                  <a:pt x="3903" y="57"/>
                </a:cubicBezTo>
                <a:cubicBezTo>
                  <a:pt x="3902" y="58"/>
                  <a:pt x="3902" y="60"/>
                  <a:pt x="3901" y="62"/>
                </a:cubicBezTo>
                <a:cubicBezTo>
                  <a:pt x="3899" y="59"/>
                  <a:pt x="3896" y="55"/>
                  <a:pt x="3893" y="52"/>
                </a:cubicBezTo>
                <a:cubicBezTo>
                  <a:pt x="3893" y="48"/>
                  <a:pt x="3893" y="46"/>
                  <a:pt x="3893" y="46"/>
                </a:cubicBezTo>
                <a:cubicBezTo>
                  <a:pt x="3893" y="48"/>
                  <a:pt x="3893" y="49"/>
                  <a:pt x="3892" y="51"/>
                </a:cubicBezTo>
                <a:cubicBezTo>
                  <a:pt x="3889" y="47"/>
                  <a:pt x="3885" y="43"/>
                  <a:pt x="3881" y="39"/>
                </a:cubicBezTo>
                <a:cubicBezTo>
                  <a:pt x="3881" y="37"/>
                  <a:pt x="3881" y="35"/>
                  <a:pt x="3880" y="34"/>
                </a:cubicBezTo>
                <a:cubicBezTo>
                  <a:pt x="3880" y="34"/>
                  <a:pt x="3881" y="36"/>
                  <a:pt x="3881" y="39"/>
                </a:cubicBezTo>
                <a:cubicBezTo>
                  <a:pt x="3879" y="37"/>
                  <a:pt x="3878" y="36"/>
                  <a:pt x="3876" y="34"/>
                </a:cubicBezTo>
                <a:cubicBezTo>
                  <a:pt x="3878" y="36"/>
                  <a:pt x="3879" y="38"/>
                  <a:pt x="3881" y="40"/>
                </a:cubicBezTo>
                <a:cubicBezTo>
                  <a:pt x="3881" y="40"/>
                  <a:pt x="3881" y="40"/>
                  <a:pt x="3881" y="41"/>
                </a:cubicBezTo>
                <a:cubicBezTo>
                  <a:pt x="3881" y="40"/>
                  <a:pt x="3881" y="40"/>
                  <a:pt x="3881" y="40"/>
                </a:cubicBezTo>
                <a:cubicBezTo>
                  <a:pt x="3885" y="45"/>
                  <a:pt x="3888" y="49"/>
                  <a:pt x="3892" y="53"/>
                </a:cubicBezTo>
                <a:cubicBezTo>
                  <a:pt x="3891" y="55"/>
                  <a:pt x="3890" y="59"/>
                  <a:pt x="3890" y="62"/>
                </a:cubicBezTo>
                <a:cubicBezTo>
                  <a:pt x="3887" y="60"/>
                  <a:pt x="3885" y="58"/>
                  <a:pt x="3882" y="56"/>
                </a:cubicBezTo>
                <a:cubicBezTo>
                  <a:pt x="3881" y="50"/>
                  <a:pt x="3881" y="44"/>
                  <a:pt x="3881" y="41"/>
                </a:cubicBezTo>
                <a:cubicBezTo>
                  <a:pt x="3881" y="45"/>
                  <a:pt x="3881" y="50"/>
                  <a:pt x="3880" y="55"/>
                </a:cubicBezTo>
                <a:cubicBezTo>
                  <a:pt x="3879" y="54"/>
                  <a:pt x="3878" y="53"/>
                  <a:pt x="3876" y="52"/>
                </a:cubicBezTo>
                <a:cubicBezTo>
                  <a:pt x="3878" y="53"/>
                  <a:pt x="3879" y="54"/>
                  <a:pt x="3880" y="55"/>
                </a:cubicBezTo>
                <a:cubicBezTo>
                  <a:pt x="3880" y="64"/>
                  <a:pt x="3879" y="73"/>
                  <a:pt x="3877" y="83"/>
                </a:cubicBezTo>
                <a:cubicBezTo>
                  <a:pt x="3877" y="82"/>
                  <a:pt x="3877" y="81"/>
                  <a:pt x="3877" y="81"/>
                </a:cubicBezTo>
                <a:cubicBezTo>
                  <a:pt x="3877" y="82"/>
                  <a:pt x="3877" y="82"/>
                  <a:pt x="3877" y="83"/>
                </a:cubicBezTo>
                <a:cubicBezTo>
                  <a:pt x="3876" y="88"/>
                  <a:pt x="3876" y="92"/>
                  <a:pt x="3875" y="97"/>
                </a:cubicBezTo>
                <a:cubicBezTo>
                  <a:pt x="3873" y="89"/>
                  <a:pt x="3871" y="81"/>
                  <a:pt x="3868" y="73"/>
                </a:cubicBezTo>
                <a:cubicBezTo>
                  <a:pt x="3868" y="72"/>
                  <a:pt x="3868" y="71"/>
                  <a:pt x="3868" y="71"/>
                </a:cubicBezTo>
                <a:cubicBezTo>
                  <a:pt x="3869" y="70"/>
                  <a:pt x="3870" y="69"/>
                  <a:pt x="3871" y="68"/>
                </a:cubicBezTo>
                <a:cubicBezTo>
                  <a:pt x="3873" y="72"/>
                  <a:pt x="3875" y="76"/>
                  <a:pt x="3877" y="81"/>
                </a:cubicBezTo>
                <a:cubicBezTo>
                  <a:pt x="3875" y="76"/>
                  <a:pt x="3873" y="72"/>
                  <a:pt x="3871" y="67"/>
                </a:cubicBezTo>
                <a:cubicBezTo>
                  <a:pt x="3872" y="67"/>
                  <a:pt x="3872" y="66"/>
                  <a:pt x="3873" y="65"/>
                </a:cubicBezTo>
                <a:cubicBezTo>
                  <a:pt x="3872" y="66"/>
                  <a:pt x="3872" y="66"/>
                  <a:pt x="3871" y="67"/>
                </a:cubicBezTo>
                <a:cubicBezTo>
                  <a:pt x="3865" y="54"/>
                  <a:pt x="3855" y="41"/>
                  <a:pt x="3843" y="25"/>
                </a:cubicBezTo>
                <a:cubicBezTo>
                  <a:pt x="3855" y="42"/>
                  <a:pt x="3864" y="55"/>
                  <a:pt x="3870" y="68"/>
                </a:cubicBezTo>
                <a:cubicBezTo>
                  <a:pt x="3870" y="68"/>
                  <a:pt x="3869" y="69"/>
                  <a:pt x="3868" y="70"/>
                </a:cubicBezTo>
                <a:cubicBezTo>
                  <a:pt x="3868" y="68"/>
                  <a:pt x="3868" y="66"/>
                  <a:pt x="3868" y="66"/>
                </a:cubicBezTo>
                <a:cubicBezTo>
                  <a:pt x="3868" y="68"/>
                  <a:pt x="3868" y="69"/>
                  <a:pt x="3867" y="71"/>
                </a:cubicBezTo>
                <a:cubicBezTo>
                  <a:pt x="3867" y="71"/>
                  <a:pt x="3867" y="71"/>
                  <a:pt x="3867" y="71"/>
                </a:cubicBezTo>
                <a:cubicBezTo>
                  <a:pt x="3863" y="61"/>
                  <a:pt x="3856" y="52"/>
                  <a:pt x="3847" y="42"/>
                </a:cubicBezTo>
                <a:cubicBezTo>
                  <a:pt x="3854" y="55"/>
                  <a:pt x="3859" y="65"/>
                  <a:pt x="3863" y="75"/>
                </a:cubicBezTo>
                <a:cubicBezTo>
                  <a:pt x="3862" y="76"/>
                  <a:pt x="3861" y="77"/>
                  <a:pt x="3860" y="77"/>
                </a:cubicBezTo>
                <a:cubicBezTo>
                  <a:pt x="3858" y="73"/>
                  <a:pt x="3856" y="70"/>
                  <a:pt x="3854" y="68"/>
                </a:cubicBezTo>
                <a:cubicBezTo>
                  <a:pt x="3853" y="63"/>
                  <a:pt x="3853" y="60"/>
                  <a:pt x="3853" y="60"/>
                </a:cubicBezTo>
                <a:cubicBezTo>
                  <a:pt x="3853" y="62"/>
                  <a:pt x="3853" y="64"/>
                  <a:pt x="3853" y="67"/>
                </a:cubicBezTo>
                <a:cubicBezTo>
                  <a:pt x="3847" y="57"/>
                  <a:pt x="3839" y="47"/>
                  <a:pt x="3828" y="38"/>
                </a:cubicBezTo>
                <a:cubicBezTo>
                  <a:pt x="3838" y="49"/>
                  <a:pt x="3846" y="60"/>
                  <a:pt x="3852" y="71"/>
                </a:cubicBezTo>
                <a:cubicBezTo>
                  <a:pt x="3852" y="75"/>
                  <a:pt x="3852" y="80"/>
                  <a:pt x="3851" y="85"/>
                </a:cubicBezTo>
                <a:cubicBezTo>
                  <a:pt x="3851" y="84"/>
                  <a:pt x="3851" y="83"/>
                  <a:pt x="3850" y="83"/>
                </a:cubicBezTo>
                <a:cubicBezTo>
                  <a:pt x="3850" y="84"/>
                  <a:pt x="3851" y="85"/>
                  <a:pt x="3851" y="86"/>
                </a:cubicBezTo>
                <a:cubicBezTo>
                  <a:pt x="3851" y="87"/>
                  <a:pt x="3851" y="88"/>
                  <a:pt x="3851" y="89"/>
                </a:cubicBezTo>
                <a:cubicBezTo>
                  <a:pt x="3849" y="92"/>
                  <a:pt x="3848" y="94"/>
                  <a:pt x="3846" y="97"/>
                </a:cubicBezTo>
                <a:cubicBezTo>
                  <a:pt x="3846" y="93"/>
                  <a:pt x="3846" y="90"/>
                  <a:pt x="3846" y="87"/>
                </a:cubicBezTo>
                <a:cubicBezTo>
                  <a:pt x="3847" y="84"/>
                  <a:pt x="3848" y="82"/>
                  <a:pt x="3848" y="80"/>
                </a:cubicBezTo>
                <a:cubicBezTo>
                  <a:pt x="3849" y="81"/>
                  <a:pt x="3849" y="82"/>
                  <a:pt x="3850" y="83"/>
                </a:cubicBezTo>
                <a:cubicBezTo>
                  <a:pt x="3849" y="81"/>
                  <a:pt x="3849" y="80"/>
                  <a:pt x="3848" y="79"/>
                </a:cubicBezTo>
                <a:cubicBezTo>
                  <a:pt x="3849" y="79"/>
                  <a:pt x="3849" y="78"/>
                  <a:pt x="3849" y="77"/>
                </a:cubicBezTo>
                <a:cubicBezTo>
                  <a:pt x="3849" y="77"/>
                  <a:pt x="3848" y="78"/>
                  <a:pt x="3848" y="79"/>
                </a:cubicBezTo>
                <a:cubicBezTo>
                  <a:pt x="3847" y="77"/>
                  <a:pt x="3847" y="76"/>
                  <a:pt x="3846" y="75"/>
                </a:cubicBezTo>
                <a:cubicBezTo>
                  <a:pt x="3847" y="77"/>
                  <a:pt x="3847" y="78"/>
                  <a:pt x="3848" y="79"/>
                </a:cubicBezTo>
                <a:cubicBezTo>
                  <a:pt x="3847" y="80"/>
                  <a:pt x="3846" y="81"/>
                  <a:pt x="3846" y="82"/>
                </a:cubicBezTo>
                <a:cubicBezTo>
                  <a:pt x="3846" y="73"/>
                  <a:pt x="3846" y="68"/>
                  <a:pt x="3846" y="68"/>
                </a:cubicBezTo>
                <a:cubicBezTo>
                  <a:pt x="3845" y="72"/>
                  <a:pt x="3845" y="78"/>
                  <a:pt x="3844" y="85"/>
                </a:cubicBezTo>
                <a:cubicBezTo>
                  <a:pt x="3841" y="90"/>
                  <a:pt x="3839" y="94"/>
                  <a:pt x="3838" y="99"/>
                </a:cubicBezTo>
                <a:cubicBezTo>
                  <a:pt x="3837" y="98"/>
                  <a:pt x="3837" y="97"/>
                  <a:pt x="3837" y="96"/>
                </a:cubicBezTo>
                <a:cubicBezTo>
                  <a:pt x="3837" y="92"/>
                  <a:pt x="3838" y="89"/>
                  <a:pt x="3838" y="89"/>
                </a:cubicBezTo>
                <a:cubicBezTo>
                  <a:pt x="3838" y="91"/>
                  <a:pt x="3837" y="92"/>
                  <a:pt x="3837" y="94"/>
                </a:cubicBezTo>
                <a:cubicBezTo>
                  <a:pt x="3836" y="91"/>
                  <a:pt x="3835" y="88"/>
                  <a:pt x="3835" y="85"/>
                </a:cubicBezTo>
                <a:cubicBezTo>
                  <a:pt x="3834" y="88"/>
                  <a:pt x="3834" y="91"/>
                  <a:pt x="3834" y="94"/>
                </a:cubicBezTo>
                <a:cubicBezTo>
                  <a:pt x="3834" y="97"/>
                  <a:pt x="3834" y="100"/>
                  <a:pt x="3834" y="103"/>
                </a:cubicBezTo>
                <a:cubicBezTo>
                  <a:pt x="3833" y="107"/>
                  <a:pt x="3831" y="112"/>
                  <a:pt x="3830" y="116"/>
                </a:cubicBezTo>
                <a:cubicBezTo>
                  <a:pt x="3828" y="112"/>
                  <a:pt x="3827" y="108"/>
                  <a:pt x="3826" y="104"/>
                </a:cubicBezTo>
                <a:cubicBezTo>
                  <a:pt x="3827" y="109"/>
                  <a:pt x="3828" y="115"/>
                  <a:pt x="3828" y="120"/>
                </a:cubicBezTo>
                <a:cubicBezTo>
                  <a:pt x="3827" y="124"/>
                  <a:pt x="3825" y="127"/>
                  <a:pt x="3824" y="130"/>
                </a:cubicBezTo>
                <a:cubicBezTo>
                  <a:pt x="3823" y="128"/>
                  <a:pt x="3822" y="126"/>
                  <a:pt x="3822" y="123"/>
                </a:cubicBezTo>
                <a:cubicBezTo>
                  <a:pt x="3823" y="115"/>
                  <a:pt x="3825" y="106"/>
                  <a:pt x="3827" y="98"/>
                </a:cubicBezTo>
                <a:cubicBezTo>
                  <a:pt x="3828" y="98"/>
                  <a:pt x="3828" y="97"/>
                  <a:pt x="3828" y="96"/>
                </a:cubicBezTo>
                <a:cubicBezTo>
                  <a:pt x="3828" y="96"/>
                  <a:pt x="3828" y="97"/>
                  <a:pt x="3827" y="97"/>
                </a:cubicBezTo>
                <a:cubicBezTo>
                  <a:pt x="3830" y="86"/>
                  <a:pt x="3833" y="76"/>
                  <a:pt x="3833" y="76"/>
                </a:cubicBezTo>
                <a:cubicBezTo>
                  <a:pt x="3828" y="83"/>
                  <a:pt x="3822" y="96"/>
                  <a:pt x="3818" y="109"/>
                </a:cubicBezTo>
                <a:cubicBezTo>
                  <a:pt x="3818" y="107"/>
                  <a:pt x="3817" y="106"/>
                  <a:pt x="3817" y="104"/>
                </a:cubicBezTo>
                <a:cubicBezTo>
                  <a:pt x="3819" y="97"/>
                  <a:pt x="3822" y="90"/>
                  <a:pt x="3825" y="84"/>
                </a:cubicBezTo>
                <a:cubicBezTo>
                  <a:pt x="3822" y="90"/>
                  <a:pt x="3819" y="96"/>
                  <a:pt x="3817" y="102"/>
                </a:cubicBezTo>
                <a:cubicBezTo>
                  <a:pt x="3816" y="102"/>
                  <a:pt x="3816" y="101"/>
                  <a:pt x="3816" y="101"/>
                </a:cubicBezTo>
                <a:cubicBezTo>
                  <a:pt x="3818" y="77"/>
                  <a:pt x="3814" y="62"/>
                  <a:pt x="3814" y="62"/>
                </a:cubicBezTo>
                <a:cubicBezTo>
                  <a:pt x="3815" y="69"/>
                  <a:pt x="3815" y="80"/>
                  <a:pt x="3813" y="91"/>
                </a:cubicBezTo>
                <a:cubicBezTo>
                  <a:pt x="3813" y="89"/>
                  <a:pt x="3813" y="88"/>
                  <a:pt x="3812" y="87"/>
                </a:cubicBezTo>
                <a:cubicBezTo>
                  <a:pt x="3812" y="88"/>
                  <a:pt x="3812" y="88"/>
                  <a:pt x="3812" y="88"/>
                </a:cubicBezTo>
                <a:cubicBezTo>
                  <a:pt x="3812" y="90"/>
                  <a:pt x="3812" y="93"/>
                  <a:pt x="3813" y="96"/>
                </a:cubicBezTo>
                <a:cubicBezTo>
                  <a:pt x="3812" y="101"/>
                  <a:pt x="3812" y="105"/>
                  <a:pt x="3811" y="110"/>
                </a:cubicBezTo>
                <a:cubicBezTo>
                  <a:pt x="3810" y="109"/>
                  <a:pt x="3810" y="107"/>
                  <a:pt x="3809" y="106"/>
                </a:cubicBezTo>
                <a:cubicBezTo>
                  <a:pt x="3810" y="103"/>
                  <a:pt x="3810" y="99"/>
                  <a:pt x="3811" y="96"/>
                </a:cubicBezTo>
                <a:cubicBezTo>
                  <a:pt x="3810" y="98"/>
                  <a:pt x="3809" y="100"/>
                  <a:pt x="3808" y="103"/>
                </a:cubicBezTo>
                <a:cubicBezTo>
                  <a:pt x="3807" y="101"/>
                  <a:pt x="3806" y="99"/>
                  <a:pt x="3806" y="98"/>
                </a:cubicBezTo>
                <a:cubicBezTo>
                  <a:pt x="3806" y="89"/>
                  <a:pt x="3807" y="82"/>
                  <a:pt x="3807" y="82"/>
                </a:cubicBezTo>
                <a:cubicBezTo>
                  <a:pt x="3805" y="97"/>
                  <a:pt x="3805" y="97"/>
                  <a:pt x="3805" y="97"/>
                </a:cubicBezTo>
                <a:cubicBezTo>
                  <a:pt x="3804" y="94"/>
                  <a:pt x="3803" y="92"/>
                  <a:pt x="3802" y="90"/>
                </a:cubicBezTo>
                <a:cubicBezTo>
                  <a:pt x="3802" y="90"/>
                  <a:pt x="3802" y="90"/>
                  <a:pt x="3802" y="90"/>
                </a:cubicBezTo>
                <a:cubicBezTo>
                  <a:pt x="3802" y="90"/>
                  <a:pt x="3802" y="90"/>
                  <a:pt x="3802" y="90"/>
                </a:cubicBezTo>
                <a:cubicBezTo>
                  <a:pt x="3802" y="89"/>
                  <a:pt x="3802" y="89"/>
                  <a:pt x="3801" y="88"/>
                </a:cubicBezTo>
                <a:cubicBezTo>
                  <a:pt x="3801" y="83"/>
                  <a:pt x="3801" y="78"/>
                  <a:pt x="3801" y="73"/>
                </a:cubicBezTo>
                <a:cubicBezTo>
                  <a:pt x="3804" y="70"/>
                  <a:pt x="3807" y="66"/>
                  <a:pt x="3810" y="63"/>
                </a:cubicBezTo>
                <a:cubicBezTo>
                  <a:pt x="3807" y="66"/>
                  <a:pt x="3804" y="69"/>
                  <a:pt x="3801" y="71"/>
                </a:cubicBezTo>
                <a:cubicBezTo>
                  <a:pt x="3801" y="65"/>
                  <a:pt x="3800" y="60"/>
                  <a:pt x="3800" y="60"/>
                </a:cubicBezTo>
                <a:cubicBezTo>
                  <a:pt x="3800" y="64"/>
                  <a:pt x="3800" y="68"/>
                  <a:pt x="3800" y="72"/>
                </a:cubicBezTo>
                <a:cubicBezTo>
                  <a:pt x="3798" y="74"/>
                  <a:pt x="3797" y="75"/>
                  <a:pt x="3796" y="77"/>
                </a:cubicBezTo>
                <a:cubicBezTo>
                  <a:pt x="3795" y="70"/>
                  <a:pt x="3795" y="64"/>
                  <a:pt x="3795" y="64"/>
                </a:cubicBezTo>
                <a:cubicBezTo>
                  <a:pt x="3795" y="66"/>
                  <a:pt x="3795" y="71"/>
                  <a:pt x="3794" y="78"/>
                </a:cubicBezTo>
                <a:cubicBezTo>
                  <a:pt x="3791" y="81"/>
                  <a:pt x="3789" y="85"/>
                  <a:pt x="3787" y="88"/>
                </a:cubicBezTo>
                <a:cubicBezTo>
                  <a:pt x="3787" y="64"/>
                  <a:pt x="3786" y="42"/>
                  <a:pt x="3786" y="42"/>
                </a:cubicBezTo>
                <a:cubicBezTo>
                  <a:pt x="3787" y="55"/>
                  <a:pt x="3784" y="77"/>
                  <a:pt x="3782" y="96"/>
                </a:cubicBezTo>
                <a:cubicBezTo>
                  <a:pt x="3780" y="100"/>
                  <a:pt x="3778" y="104"/>
                  <a:pt x="3777" y="107"/>
                </a:cubicBezTo>
                <a:cubicBezTo>
                  <a:pt x="3776" y="107"/>
                  <a:pt x="3776" y="106"/>
                  <a:pt x="3776" y="106"/>
                </a:cubicBezTo>
                <a:cubicBezTo>
                  <a:pt x="3777" y="87"/>
                  <a:pt x="3780" y="70"/>
                  <a:pt x="3780" y="70"/>
                </a:cubicBezTo>
                <a:cubicBezTo>
                  <a:pt x="3778" y="74"/>
                  <a:pt x="3775" y="98"/>
                  <a:pt x="3773" y="117"/>
                </a:cubicBezTo>
                <a:cubicBezTo>
                  <a:pt x="3773" y="118"/>
                  <a:pt x="3773" y="119"/>
                  <a:pt x="3773" y="120"/>
                </a:cubicBezTo>
                <a:cubicBezTo>
                  <a:pt x="3773" y="119"/>
                  <a:pt x="3773" y="119"/>
                  <a:pt x="3773" y="118"/>
                </a:cubicBezTo>
                <a:cubicBezTo>
                  <a:pt x="3773" y="119"/>
                  <a:pt x="3773" y="119"/>
                  <a:pt x="3773" y="120"/>
                </a:cubicBezTo>
                <a:cubicBezTo>
                  <a:pt x="3772" y="121"/>
                  <a:pt x="3772" y="121"/>
                  <a:pt x="3772" y="122"/>
                </a:cubicBezTo>
                <a:cubicBezTo>
                  <a:pt x="3772" y="115"/>
                  <a:pt x="3772" y="108"/>
                  <a:pt x="3772" y="101"/>
                </a:cubicBezTo>
                <a:cubicBezTo>
                  <a:pt x="3772" y="101"/>
                  <a:pt x="3772" y="100"/>
                  <a:pt x="3772" y="100"/>
                </a:cubicBezTo>
                <a:cubicBezTo>
                  <a:pt x="3772" y="100"/>
                  <a:pt x="3772" y="101"/>
                  <a:pt x="3772" y="101"/>
                </a:cubicBezTo>
                <a:cubicBezTo>
                  <a:pt x="3772" y="98"/>
                  <a:pt x="3772" y="94"/>
                  <a:pt x="3771" y="91"/>
                </a:cubicBezTo>
                <a:cubicBezTo>
                  <a:pt x="3773" y="88"/>
                  <a:pt x="3775" y="85"/>
                  <a:pt x="3777" y="83"/>
                </a:cubicBezTo>
                <a:cubicBezTo>
                  <a:pt x="3775" y="85"/>
                  <a:pt x="3773" y="87"/>
                  <a:pt x="3771" y="90"/>
                </a:cubicBezTo>
                <a:cubicBezTo>
                  <a:pt x="3771" y="79"/>
                  <a:pt x="3770" y="69"/>
                  <a:pt x="3770" y="61"/>
                </a:cubicBezTo>
                <a:cubicBezTo>
                  <a:pt x="3769" y="73"/>
                  <a:pt x="3767" y="87"/>
                  <a:pt x="3765" y="100"/>
                </a:cubicBezTo>
                <a:cubicBezTo>
                  <a:pt x="3761" y="107"/>
                  <a:pt x="3758" y="115"/>
                  <a:pt x="3756" y="123"/>
                </a:cubicBezTo>
                <a:cubicBezTo>
                  <a:pt x="3757" y="109"/>
                  <a:pt x="3758" y="92"/>
                  <a:pt x="3759" y="80"/>
                </a:cubicBezTo>
                <a:cubicBezTo>
                  <a:pt x="3761" y="73"/>
                  <a:pt x="3762" y="67"/>
                  <a:pt x="3762" y="61"/>
                </a:cubicBezTo>
                <a:cubicBezTo>
                  <a:pt x="3762" y="60"/>
                  <a:pt x="3762" y="60"/>
                  <a:pt x="3762" y="60"/>
                </a:cubicBezTo>
                <a:cubicBezTo>
                  <a:pt x="3753" y="75"/>
                  <a:pt x="3749" y="88"/>
                  <a:pt x="3747" y="102"/>
                </a:cubicBezTo>
                <a:cubicBezTo>
                  <a:pt x="3747" y="102"/>
                  <a:pt x="3747" y="101"/>
                  <a:pt x="3747" y="101"/>
                </a:cubicBezTo>
                <a:cubicBezTo>
                  <a:pt x="3748" y="68"/>
                  <a:pt x="3751" y="30"/>
                  <a:pt x="3751" y="30"/>
                </a:cubicBezTo>
                <a:cubicBezTo>
                  <a:pt x="3748" y="38"/>
                  <a:pt x="3746" y="60"/>
                  <a:pt x="3743" y="83"/>
                </a:cubicBezTo>
                <a:cubicBezTo>
                  <a:pt x="3741" y="87"/>
                  <a:pt x="3738" y="92"/>
                  <a:pt x="3736" y="97"/>
                </a:cubicBezTo>
                <a:cubicBezTo>
                  <a:pt x="3736" y="91"/>
                  <a:pt x="3735" y="85"/>
                  <a:pt x="3735" y="79"/>
                </a:cubicBezTo>
                <a:cubicBezTo>
                  <a:pt x="3735" y="78"/>
                  <a:pt x="3735" y="78"/>
                  <a:pt x="3736" y="78"/>
                </a:cubicBezTo>
                <a:cubicBezTo>
                  <a:pt x="3735" y="78"/>
                  <a:pt x="3735" y="78"/>
                  <a:pt x="3735" y="78"/>
                </a:cubicBezTo>
                <a:cubicBezTo>
                  <a:pt x="3733" y="58"/>
                  <a:pt x="3732" y="41"/>
                  <a:pt x="3732" y="41"/>
                </a:cubicBezTo>
                <a:cubicBezTo>
                  <a:pt x="3733" y="52"/>
                  <a:pt x="3733" y="67"/>
                  <a:pt x="3732" y="82"/>
                </a:cubicBezTo>
                <a:cubicBezTo>
                  <a:pt x="3730" y="84"/>
                  <a:pt x="3728" y="87"/>
                  <a:pt x="3726" y="92"/>
                </a:cubicBezTo>
                <a:cubicBezTo>
                  <a:pt x="3725" y="82"/>
                  <a:pt x="3726" y="72"/>
                  <a:pt x="3726" y="68"/>
                </a:cubicBezTo>
                <a:cubicBezTo>
                  <a:pt x="3725" y="77"/>
                  <a:pt x="3724" y="88"/>
                  <a:pt x="3722" y="99"/>
                </a:cubicBezTo>
                <a:cubicBezTo>
                  <a:pt x="3720" y="94"/>
                  <a:pt x="3719" y="89"/>
                  <a:pt x="3717" y="84"/>
                </a:cubicBezTo>
                <a:cubicBezTo>
                  <a:pt x="3719" y="90"/>
                  <a:pt x="3720" y="96"/>
                  <a:pt x="3721" y="101"/>
                </a:cubicBezTo>
                <a:cubicBezTo>
                  <a:pt x="3721" y="105"/>
                  <a:pt x="3720" y="109"/>
                  <a:pt x="3719" y="113"/>
                </a:cubicBezTo>
                <a:cubicBezTo>
                  <a:pt x="3719" y="110"/>
                  <a:pt x="3719" y="108"/>
                  <a:pt x="3719" y="105"/>
                </a:cubicBezTo>
                <a:cubicBezTo>
                  <a:pt x="3718" y="108"/>
                  <a:pt x="3718" y="115"/>
                  <a:pt x="3718" y="119"/>
                </a:cubicBezTo>
                <a:cubicBezTo>
                  <a:pt x="3717" y="120"/>
                  <a:pt x="3717" y="122"/>
                  <a:pt x="3717" y="124"/>
                </a:cubicBezTo>
                <a:cubicBezTo>
                  <a:pt x="3716" y="125"/>
                  <a:pt x="3716" y="127"/>
                  <a:pt x="3716" y="128"/>
                </a:cubicBezTo>
                <a:cubicBezTo>
                  <a:pt x="3715" y="124"/>
                  <a:pt x="3714" y="120"/>
                  <a:pt x="3713" y="116"/>
                </a:cubicBezTo>
                <a:cubicBezTo>
                  <a:pt x="3714" y="108"/>
                  <a:pt x="3714" y="100"/>
                  <a:pt x="3715" y="94"/>
                </a:cubicBezTo>
                <a:cubicBezTo>
                  <a:pt x="3716" y="92"/>
                  <a:pt x="3716" y="91"/>
                  <a:pt x="3717" y="89"/>
                </a:cubicBezTo>
                <a:cubicBezTo>
                  <a:pt x="3716" y="90"/>
                  <a:pt x="3716" y="91"/>
                  <a:pt x="3715" y="92"/>
                </a:cubicBezTo>
                <a:cubicBezTo>
                  <a:pt x="3716" y="87"/>
                  <a:pt x="3716" y="83"/>
                  <a:pt x="3716" y="83"/>
                </a:cubicBezTo>
                <a:cubicBezTo>
                  <a:pt x="3716" y="85"/>
                  <a:pt x="3715" y="89"/>
                  <a:pt x="3714" y="93"/>
                </a:cubicBezTo>
                <a:cubicBezTo>
                  <a:pt x="3713" y="96"/>
                  <a:pt x="3711" y="99"/>
                  <a:pt x="3710" y="102"/>
                </a:cubicBezTo>
                <a:cubicBezTo>
                  <a:pt x="3709" y="101"/>
                  <a:pt x="3709" y="100"/>
                  <a:pt x="3709" y="99"/>
                </a:cubicBezTo>
                <a:cubicBezTo>
                  <a:pt x="3711" y="80"/>
                  <a:pt x="3713" y="62"/>
                  <a:pt x="3713" y="62"/>
                </a:cubicBezTo>
                <a:cubicBezTo>
                  <a:pt x="3711" y="66"/>
                  <a:pt x="3709" y="80"/>
                  <a:pt x="3707" y="95"/>
                </a:cubicBezTo>
                <a:cubicBezTo>
                  <a:pt x="3707" y="94"/>
                  <a:pt x="3706" y="92"/>
                  <a:pt x="3705" y="90"/>
                </a:cubicBezTo>
                <a:cubicBezTo>
                  <a:pt x="3706" y="92"/>
                  <a:pt x="3707" y="94"/>
                  <a:pt x="3707" y="96"/>
                </a:cubicBezTo>
                <a:cubicBezTo>
                  <a:pt x="3707" y="101"/>
                  <a:pt x="3706" y="106"/>
                  <a:pt x="3706" y="110"/>
                </a:cubicBezTo>
                <a:cubicBezTo>
                  <a:pt x="3705" y="113"/>
                  <a:pt x="3704" y="116"/>
                  <a:pt x="3703" y="118"/>
                </a:cubicBezTo>
                <a:cubicBezTo>
                  <a:pt x="3701" y="94"/>
                  <a:pt x="3696" y="64"/>
                  <a:pt x="3696" y="64"/>
                </a:cubicBezTo>
                <a:cubicBezTo>
                  <a:pt x="3696" y="64"/>
                  <a:pt x="3696" y="73"/>
                  <a:pt x="3697" y="82"/>
                </a:cubicBezTo>
                <a:cubicBezTo>
                  <a:pt x="3698" y="88"/>
                  <a:pt x="3697" y="98"/>
                  <a:pt x="3695" y="108"/>
                </a:cubicBezTo>
                <a:cubicBezTo>
                  <a:pt x="3694" y="111"/>
                  <a:pt x="3693" y="114"/>
                  <a:pt x="3692" y="117"/>
                </a:cubicBezTo>
                <a:cubicBezTo>
                  <a:pt x="3692" y="108"/>
                  <a:pt x="3691" y="99"/>
                  <a:pt x="3689" y="90"/>
                </a:cubicBezTo>
                <a:cubicBezTo>
                  <a:pt x="3692" y="78"/>
                  <a:pt x="3697" y="66"/>
                  <a:pt x="3696" y="56"/>
                </a:cubicBezTo>
                <a:cubicBezTo>
                  <a:pt x="3693" y="62"/>
                  <a:pt x="3690" y="67"/>
                  <a:pt x="3688" y="72"/>
                </a:cubicBezTo>
                <a:cubicBezTo>
                  <a:pt x="3691" y="34"/>
                  <a:pt x="3684" y="19"/>
                  <a:pt x="3684" y="19"/>
                </a:cubicBezTo>
                <a:cubicBezTo>
                  <a:pt x="3684" y="19"/>
                  <a:pt x="3687" y="31"/>
                  <a:pt x="3686" y="54"/>
                </a:cubicBezTo>
                <a:cubicBezTo>
                  <a:pt x="3685" y="61"/>
                  <a:pt x="3684" y="74"/>
                  <a:pt x="3682" y="88"/>
                </a:cubicBezTo>
                <a:cubicBezTo>
                  <a:pt x="3681" y="92"/>
                  <a:pt x="3680" y="97"/>
                  <a:pt x="3680" y="101"/>
                </a:cubicBezTo>
                <a:cubicBezTo>
                  <a:pt x="3679" y="98"/>
                  <a:pt x="3678" y="95"/>
                  <a:pt x="3676" y="91"/>
                </a:cubicBezTo>
                <a:cubicBezTo>
                  <a:pt x="3677" y="89"/>
                  <a:pt x="3677" y="87"/>
                  <a:pt x="3678" y="85"/>
                </a:cubicBezTo>
                <a:cubicBezTo>
                  <a:pt x="3677" y="87"/>
                  <a:pt x="3677" y="88"/>
                  <a:pt x="3676" y="90"/>
                </a:cubicBezTo>
                <a:cubicBezTo>
                  <a:pt x="3676" y="89"/>
                  <a:pt x="3675" y="88"/>
                  <a:pt x="3675" y="87"/>
                </a:cubicBezTo>
                <a:cubicBezTo>
                  <a:pt x="3675" y="83"/>
                  <a:pt x="3675" y="78"/>
                  <a:pt x="3675" y="74"/>
                </a:cubicBezTo>
                <a:cubicBezTo>
                  <a:pt x="3675" y="46"/>
                  <a:pt x="3665" y="40"/>
                  <a:pt x="3665" y="40"/>
                </a:cubicBezTo>
                <a:cubicBezTo>
                  <a:pt x="3665" y="40"/>
                  <a:pt x="3671" y="44"/>
                  <a:pt x="3671" y="70"/>
                </a:cubicBezTo>
                <a:cubicBezTo>
                  <a:pt x="3671" y="84"/>
                  <a:pt x="3666" y="108"/>
                  <a:pt x="3661" y="125"/>
                </a:cubicBezTo>
                <a:cubicBezTo>
                  <a:pt x="3661" y="123"/>
                  <a:pt x="3661" y="120"/>
                  <a:pt x="3660" y="118"/>
                </a:cubicBezTo>
                <a:cubicBezTo>
                  <a:pt x="3661" y="111"/>
                  <a:pt x="3662" y="105"/>
                  <a:pt x="3662" y="98"/>
                </a:cubicBezTo>
                <a:cubicBezTo>
                  <a:pt x="3661" y="101"/>
                  <a:pt x="3660" y="104"/>
                  <a:pt x="3660" y="107"/>
                </a:cubicBezTo>
                <a:cubicBezTo>
                  <a:pt x="3660" y="107"/>
                  <a:pt x="3660" y="106"/>
                  <a:pt x="3660" y="106"/>
                </a:cubicBezTo>
                <a:cubicBezTo>
                  <a:pt x="3660" y="97"/>
                  <a:pt x="3661" y="83"/>
                  <a:pt x="3667" y="75"/>
                </a:cubicBezTo>
                <a:cubicBezTo>
                  <a:pt x="3664" y="77"/>
                  <a:pt x="3661" y="82"/>
                  <a:pt x="3659" y="87"/>
                </a:cubicBezTo>
                <a:cubicBezTo>
                  <a:pt x="3660" y="78"/>
                  <a:pt x="3660" y="71"/>
                  <a:pt x="3660" y="71"/>
                </a:cubicBezTo>
                <a:cubicBezTo>
                  <a:pt x="3659" y="75"/>
                  <a:pt x="3656" y="97"/>
                  <a:pt x="3652" y="116"/>
                </a:cubicBezTo>
                <a:cubicBezTo>
                  <a:pt x="3652" y="114"/>
                  <a:pt x="3652" y="112"/>
                  <a:pt x="3651" y="110"/>
                </a:cubicBezTo>
                <a:cubicBezTo>
                  <a:pt x="3652" y="99"/>
                  <a:pt x="3653" y="87"/>
                  <a:pt x="3654" y="78"/>
                </a:cubicBezTo>
                <a:cubicBezTo>
                  <a:pt x="3656" y="71"/>
                  <a:pt x="3658" y="63"/>
                  <a:pt x="3660" y="55"/>
                </a:cubicBezTo>
                <a:cubicBezTo>
                  <a:pt x="3660" y="54"/>
                  <a:pt x="3660" y="52"/>
                  <a:pt x="3660" y="51"/>
                </a:cubicBezTo>
                <a:cubicBezTo>
                  <a:pt x="3658" y="54"/>
                  <a:pt x="3657" y="57"/>
                  <a:pt x="3656" y="60"/>
                </a:cubicBezTo>
                <a:cubicBezTo>
                  <a:pt x="3656" y="60"/>
                  <a:pt x="3656" y="59"/>
                  <a:pt x="3656" y="59"/>
                </a:cubicBezTo>
                <a:cubicBezTo>
                  <a:pt x="3656" y="60"/>
                  <a:pt x="3656" y="60"/>
                  <a:pt x="3656" y="60"/>
                </a:cubicBezTo>
                <a:cubicBezTo>
                  <a:pt x="3652" y="70"/>
                  <a:pt x="3649" y="80"/>
                  <a:pt x="3646" y="89"/>
                </a:cubicBezTo>
                <a:cubicBezTo>
                  <a:pt x="3652" y="30"/>
                  <a:pt x="3649" y="15"/>
                  <a:pt x="3648" y="13"/>
                </a:cubicBezTo>
                <a:cubicBezTo>
                  <a:pt x="3648" y="15"/>
                  <a:pt x="3649" y="22"/>
                  <a:pt x="3645" y="56"/>
                </a:cubicBezTo>
                <a:cubicBezTo>
                  <a:pt x="3643" y="68"/>
                  <a:pt x="3642" y="80"/>
                  <a:pt x="3640" y="91"/>
                </a:cubicBezTo>
                <a:cubicBezTo>
                  <a:pt x="3639" y="85"/>
                  <a:pt x="3637" y="79"/>
                  <a:pt x="3635" y="74"/>
                </a:cubicBezTo>
                <a:cubicBezTo>
                  <a:pt x="3636" y="51"/>
                  <a:pt x="3637" y="31"/>
                  <a:pt x="3637" y="31"/>
                </a:cubicBezTo>
                <a:cubicBezTo>
                  <a:pt x="3635" y="38"/>
                  <a:pt x="3633" y="53"/>
                  <a:pt x="3632" y="69"/>
                </a:cubicBezTo>
                <a:cubicBezTo>
                  <a:pt x="3631" y="68"/>
                  <a:pt x="3630" y="67"/>
                  <a:pt x="3629" y="65"/>
                </a:cubicBezTo>
                <a:cubicBezTo>
                  <a:pt x="3630" y="67"/>
                  <a:pt x="3631" y="69"/>
                  <a:pt x="3632" y="71"/>
                </a:cubicBezTo>
                <a:cubicBezTo>
                  <a:pt x="3632" y="71"/>
                  <a:pt x="3632" y="72"/>
                  <a:pt x="3632" y="73"/>
                </a:cubicBezTo>
                <a:cubicBezTo>
                  <a:pt x="3629" y="77"/>
                  <a:pt x="3626" y="81"/>
                  <a:pt x="3624" y="86"/>
                </a:cubicBezTo>
                <a:cubicBezTo>
                  <a:pt x="3623" y="85"/>
                  <a:pt x="3623" y="84"/>
                  <a:pt x="3622" y="83"/>
                </a:cubicBezTo>
                <a:cubicBezTo>
                  <a:pt x="3619" y="61"/>
                  <a:pt x="3617" y="38"/>
                  <a:pt x="3614" y="28"/>
                </a:cubicBezTo>
                <a:cubicBezTo>
                  <a:pt x="3614" y="28"/>
                  <a:pt x="3617" y="54"/>
                  <a:pt x="3621" y="83"/>
                </a:cubicBezTo>
                <a:cubicBezTo>
                  <a:pt x="3620" y="82"/>
                  <a:pt x="3619" y="81"/>
                  <a:pt x="3618" y="80"/>
                </a:cubicBezTo>
                <a:cubicBezTo>
                  <a:pt x="3620" y="81"/>
                  <a:pt x="3621" y="82"/>
                  <a:pt x="3622" y="84"/>
                </a:cubicBezTo>
                <a:cubicBezTo>
                  <a:pt x="3622" y="85"/>
                  <a:pt x="3622" y="86"/>
                  <a:pt x="3622" y="88"/>
                </a:cubicBezTo>
                <a:cubicBezTo>
                  <a:pt x="3622" y="86"/>
                  <a:pt x="3622" y="85"/>
                  <a:pt x="3622" y="84"/>
                </a:cubicBezTo>
                <a:cubicBezTo>
                  <a:pt x="3622" y="85"/>
                  <a:pt x="3623" y="86"/>
                  <a:pt x="3624" y="87"/>
                </a:cubicBezTo>
                <a:cubicBezTo>
                  <a:pt x="3623" y="88"/>
                  <a:pt x="3623" y="89"/>
                  <a:pt x="3622" y="90"/>
                </a:cubicBezTo>
                <a:cubicBezTo>
                  <a:pt x="3622" y="89"/>
                  <a:pt x="3622" y="88"/>
                  <a:pt x="3622" y="88"/>
                </a:cubicBezTo>
                <a:cubicBezTo>
                  <a:pt x="3622" y="88"/>
                  <a:pt x="3622" y="89"/>
                  <a:pt x="3622" y="90"/>
                </a:cubicBezTo>
                <a:cubicBezTo>
                  <a:pt x="3620" y="95"/>
                  <a:pt x="3619" y="100"/>
                  <a:pt x="3617" y="105"/>
                </a:cubicBezTo>
                <a:cubicBezTo>
                  <a:pt x="3617" y="105"/>
                  <a:pt x="3617" y="105"/>
                  <a:pt x="3617" y="105"/>
                </a:cubicBezTo>
                <a:cubicBezTo>
                  <a:pt x="3617" y="104"/>
                  <a:pt x="3617" y="104"/>
                  <a:pt x="3617" y="103"/>
                </a:cubicBezTo>
                <a:cubicBezTo>
                  <a:pt x="3617" y="104"/>
                  <a:pt x="3617" y="104"/>
                  <a:pt x="3617" y="105"/>
                </a:cubicBezTo>
                <a:cubicBezTo>
                  <a:pt x="3614" y="95"/>
                  <a:pt x="3612" y="87"/>
                  <a:pt x="3610" y="81"/>
                </a:cubicBezTo>
                <a:cubicBezTo>
                  <a:pt x="3611" y="85"/>
                  <a:pt x="3612" y="90"/>
                  <a:pt x="3613" y="95"/>
                </a:cubicBezTo>
                <a:cubicBezTo>
                  <a:pt x="3613" y="100"/>
                  <a:pt x="3612" y="104"/>
                  <a:pt x="3611" y="109"/>
                </a:cubicBezTo>
                <a:cubicBezTo>
                  <a:pt x="3612" y="104"/>
                  <a:pt x="3613" y="100"/>
                  <a:pt x="3613" y="95"/>
                </a:cubicBezTo>
                <a:cubicBezTo>
                  <a:pt x="3614" y="100"/>
                  <a:pt x="3615" y="105"/>
                  <a:pt x="3616" y="110"/>
                </a:cubicBezTo>
                <a:cubicBezTo>
                  <a:pt x="3616" y="110"/>
                  <a:pt x="3616" y="111"/>
                  <a:pt x="3616" y="111"/>
                </a:cubicBezTo>
                <a:cubicBezTo>
                  <a:pt x="3615" y="116"/>
                  <a:pt x="3613" y="122"/>
                  <a:pt x="3610" y="127"/>
                </a:cubicBezTo>
                <a:cubicBezTo>
                  <a:pt x="3610" y="125"/>
                  <a:pt x="3609" y="123"/>
                  <a:pt x="3609" y="120"/>
                </a:cubicBezTo>
                <a:cubicBezTo>
                  <a:pt x="3610" y="117"/>
                  <a:pt x="3611" y="113"/>
                  <a:pt x="3611" y="109"/>
                </a:cubicBezTo>
                <a:cubicBezTo>
                  <a:pt x="3611" y="112"/>
                  <a:pt x="3610" y="116"/>
                  <a:pt x="3609" y="119"/>
                </a:cubicBezTo>
                <a:cubicBezTo>
                  <a:pt x="3607" y="111"/>
                  <a:pt x="3605" y="103"/>
                  <a:pt x="3605" y="95"/>
                </a:cubicBezTo>
                <a:cubicBezTo>
                  <a:pt x="3605" y="96"/>
                  <a:pt x="3605" y="96"/>
                  <a:pt x="3605" y="96"/>
                </a:cubicBezTo>
                <a:cubicBezTo>
                  <a:pt x="3605" y="98"/>
                  <a:pt x="3605" y="98"/>
                  <a:pt x="3605" y="98"/>
                </a:cubicBezTo>
                <a:cubicBezTo>
                  <a:pt x="3605" y="97"/>
                  <a:pt x="3605" y="96"/>
                  <a:pt x="3605" y="95"/>
                </a:cubicBezTo>
                <a:cubicBezTo>
                  <a:pt x="3605" y="84"/>
                  <a:pt x="3603" y="69"/>
                  <a:pt x="3597" y="60"/>
                </a:cubicBezTo>
                <a:cubicBezTo>
                  <a:pt x="3601" y="70"/>
                  <a:pt x="3603" y="82"/>
                  <a:pt x="3603" y="93"/>
                </a:cubicBezTo>
                <a:cubicBezTo>
                  <a:pt x="3603" y="101"/>
                  <a:pt x="3601" y="109"/>
                  <a:pt x="3599" y="116"/>
                </a:cubicBezTo>
                <a:cubicBezTo>
                  <a:pt x="3597" y="115"/>
                  <a:pt x="3597" y="117"/>
                  <a:pt x="3598" y="120"/>
                </a:cubicBezTo>
                <a:cubicBezTo>
                  <a:pt x="3598" y="121"/>
                  <a:pt x="3597" y="121"/>
                  <a:pt x="3597" y="122"/>
                </a:cubicBezTo>
                <a:cubicBezTo>
                  <a:pt x="3596" y="119"/>
                  <a:pt x="3595" y="115"/>
                  <a:pt x="3594" y="112"/>
                </a:cubicBezTo>
                <a:cubicBezTo>
                  <a:pt x="3595" y="107"/>
                  <a:pt x="3595" y="103"/>
                  <a:pt x="3595" y="98"/>
                </a:cubicBezTo>
                <a:cubicBezTo>
                  <a:pt x="3595" y="90"/>
                  <a:pt x="3594" y="82"/>
                  <a:pt x="3592" y="74"/>
                </a:cubicBezTo>
                <a:cubicBezTo>
                  <a:pt x="3591" y="83"/>
                  <a:pt x="3591" y="93"/>
                  <a:pt x="3591" y="102"/>
                </a:cubicBezTo>
                <a:cubicBezTo>
                  <a:pt x="3588" y="94"/>
                  <a:pt x="3585" y="86"/>
                  <a:pt x="3583" y="81"/>
                </a:cubicBezTo>
                <a:cubicBezTo>
                  <a:pt x="3583" y="86"/>
                  <a:pt x="3583" y="86"/>
                  <a:pt x="3583" y="86"/>
                </a:cubicBezTo>
                <a:cubicBezTo>
                  <a:pt x="3583" y="97"/>
                  <a:pt x="3586" y="108"/>
                  <a:pt x="3590" y="118"/>
                </a:cubicBezTo>
                <a:cubicBezTo>
                  <a:pt x="3589" y="119"/>
                  <a:pt x="3589" y="120"/>
                  <a:pt x="3589" y="121"/>
                </a:cubicBezTo>
                <a:cubicBezTo>
                  <a:pt x="3589" y="123"/>
                  <a:pt x="3588" y="126"/>
                  <a:pt x="3587" y="128"/>
                </a:cubicBezTo>
                <a:cubicBezTo>
                  <a:pt x="3584" y="121"/>
                  <a:pt x="3582" y="113"/>
                  <a:pt x="3580" y="106"/>
                </a:cubicBezTo>
                <a:cubicBezTo>
                  <a:pt x="3580" y="101"/>
                  <a:pt x="3579" y="96"/>
                  <a:pt x="3578" y="92"/>
                </a:cubicBezTo>
                <a:cubicBezTo>
                  <a:pt x="3578" y="91"/>
                  <a:pt x="3578" y="90"/>
                  <a:pt x="3578" y="89"/>
                </a:cubicBezTo>
                <a:cubicBezTo>
                  <a:pt x="3578" y="90"/>
                  <a:pt x="3578" y="90"/>
                  <a:pt x="3578" y="91"/>
                </a:cubicBezTo>
                <a:cubicBezTo>
                  <a:pt x="3577" y="85"/>
                  <a:pt x="3575" y="79"/>
                  <a:pt x="3572" y="73"/>
                </a:cubicBezTo>
                <a:cubicBezTo>
                  <a:pt x="3572" y="72"/>
                  <a:pt x="3572" y="72"/>
                  <a:pt x="3572" y="71"/>
                </a:cubicBezTo>
                <a:cubicBezTo>
                  <a:pt x="3572" y="71"/>
                  <a:pt x="3571" y="72"/>
                  <a:pt x="3571" y="73"/>
                </a:cubicBezTo>
                <a:cubicBezTo>
                  <a:pt x="3571" y="72"/>
                  <a:pt x="3571" y="71"/>
                  <a:pt x="3570" y="71"/>
                </a:cubicBezTo>
                <a:cubicBezTo>
                  <a:pt x="3570" y="72"/>
                  <a:pt x="3571" y="73"/>
                  <a:pt x="3571" y="73"/>
                </a:cubicBezTo>
                <a:cubicBezTo>
                  <a:pt x="3568" y="79"/>
                  <a:pt x="3566" y="85"/>
                  <a:pt x="3564" y="91"/>
                </a:cubicBezTo>
                <a:cubicBezTo>
                  <a:pt x="3564" y="90"/>
                  <a:pt x="3564" y="90"/>
                  <a:pt x="3564" y="89"/>
                </a:cubicBezTo>
                <a:cubicBezTo>
                  <a:pt x="3564" y="90"/>
                  <a:pt x="3564" y="91"/>
                  <a:pt x="3564" y="92"/>
                </a:cubicBezTo>
                <a:cubicBezTo>
                  <a:pt x="3563" y="96"/>
                  <a:pt x="3563" y="101"/>
                  <a:pt x="3562" y="106"/>
                </a:cubicBezTo>
                <a:cubicBezTo>
                  <a:pt x="3561" y="113"/>
                  <a:pt x="3558" y="121"/>
                  <a:pt x="3555" y="128"/>
                </a:cubicBezTo>
                <a:cubicBezTo>
                  <a:pt x="3554" y="126"/>
                  <a:pt x="3554" y="123"/>
                  <a:pt x="3553" y="121"/>
                </a:cubicBezTo>
                <a:cubicBezTo>
                  <a:pt x="3553" y="120"/>
                  <a:pt x="3553" y="119"/>
                  <a:pt x="3553" y="118"/>
                </a:cubicBezTo>
                <a:cubicBezTo>
                  <a:pt x="3556" y="108"/>
                  <a:pt x="3559" y="97"/>
                  <a:pt x="3559" y="86"/>
                </a:cubicBezTo>
                <a:cubicBezTo>
                  <a:pt x="3559" y="81"/>
                  <a:pt x="3559" y="81"/>
                  <a:pt x="3559" y="81"/>
                </a:cubicBezTo>
                <a:cubicBezTo>
                  <a:pt x="3557" y="86"/>
                  <a:pt x="3554" y="94"/>
                  <a:pt x="3551" y="102"/>
                </a:cubicBezTo>
                <a:cubicBezTo>
                  <a:pt x="3551" y="93"/>
                  <a:pt x="3551" y="83"/>
                  <a:pt x="3550" y="74"/>
                </a:cubicBezTo>
                <a:cubicBezTo>
                  <a:pt x="3548" y="82"/>
                  <a:pt x="3547" y="90"/>
                  <a:pt x="3547" y="98"/>
                </a:cubicBezTo>
                <a:cubicBezTo>
                  <a:pt x="3547" y="103"/>
                  <a:pt x="3548" y="107"/>
                  <a:pt x="3548" y="112"/>
                </a:cubicBezTo>
                <a:cubicBezTo>
                  <a:pt x="3547" y="115"/>
                  <a:pt x="3546" y="119"/>
                  <a:pt x="3545" y="122"/>
                </a:cubicBezTo>
                <a:cubicBezTo>
                  <a:pt x="3542" y="112"/>
                  <a:pt x="3539" y="103"/>
                  <a:pt x="3539" y="93"/>
                </a:cubicBezTo>
                <a:cubicBezTo>
                  <a:pt x="3539" y="82"/>
                  <a:pt x="3541" y="70"/>
                  <a:pt x="3545" y="60"/>
                </a:cubicBezTo>
                <a:cubicBezTo>
                  <a:pt x="3540" y="69"/>
                  <a:pt x="3538" y="84"/>
                  <a:pt x="3538" y="95"/>
                </a:cubicBezTo>
                <a:cubicBezTo>
                  <a:pt x="3538" y="96"/>
                  <a:pt x="3538" y="97"/>
                  <a:pt x="3538" y="98"/>
                </a:cubicBezTo>
                <a:cubicBezTo>
                  <a:pt x="3537" y="96"/>
                  <a:pt x="3537" y="96"/>
                  <a:pt x="3537" y="96"/>
                </a:cubicBezTo>
                <a:cubicBezTo>
                  <a:pt x="3537" y="95"/>
                  <a:pt x="3537" y="95"/>
                  <a:pt x="3537" y="95"/>
                </a:cubicBezTo>
                <a:cubicBezTo>
                  <a:pt x="3537" y="103"/>
                  <a:pt x="3536" y="111"/>
                  <a:pt x="3534" y="119"/>
                </a:cubicBezTo>
                <a:cubicBezTo>
                  <a:pt x="3533" y="116"/>
                  <a:pt x="3532" y="112"/>
                  <a:pt x="3531" y="109"/>
                </a:cubicBezTo>
                <a:cubicBezTo>
                  <a:pt x="3532" y="113"/>
                  <a:pt x="3533" y="117"/>
                  <a:pt x="3533" y="120"/>
                </a:cubicBezTo>
                <a:cubicBezTo>
                  <a:pt x="3533" y="123"/>
                  <a:pt x="3532" y="125"/>
                  <a:pt x="3532" y="127"/>
                </a:cubicBezTo>
                <a:cubicBezTo>
                  <a:pt x="3530" y="122"/>
                  <a:pt x="3528" y="116"/>
                  <a:pt x="3526" y="111"/>
                </a:cubicBezTo>
                <a:cubicBezTo>
                  <a:pt x="3526" y="109"/>
                  <a:pt x="3526" y="108"/>
                  <a:pt x="3525" y="107"/>
                </a:cubicBezTo>
                <a:cubicBezTo>
                  <a:pt x="3525" y="106"/>
                  <a:pt x="3525" y="104"/>
                  <a:pt x="3525" y="103"/>
                </a:cubicBezTo>
                <a:cubicBezTo>
                  <a:pt x="3525" y="104"/>
                  <a:pt x="3525" y="105"/>
                  <a:pt x="3525" y="105"/>
                </a:cubicBezTo>
                <a:cubicBezTo>
                  <a:pt x="3524" y="99"/>
                  <a:pt x="3522" y="93"/>
                  <a:pt x="3519" y="87"/>
                </a:cubicBezTo>
                <a:cubicBezTo>
                  <a:pt x="3520" y="84"/>
                  <a:pt x="3522" y="82"/>
                  <a:pt x="3524" y="80"/>
                </a:cubicBezTo>
                <a:cubicBezTo>
                  <a:pt x="3522" y="82"/>
                  <a:pt x="3520" y="84"/>
                  <a:pt x="3518" y="86"/>
                </a:cubicBezTo>
                <a:cubicBezTo>
                  <a:pt x="3516" y="81"/>
                  <a:pt x="3513" y="77"/>
                  <a:pt x="3510" y="73"/>
                </a:cubicBezTo>
                <a:cubicBezTo>
                  <a:pt x="3513" y="77"/>
                  <a:pt x="3515" y="83"/>
                  <a:pt x="3516" y="90"/>
                </a:cubicBezTo>
                <a:cubicBezTo>
                  <a:pt x="3514" y="94"/>
                  <a:pt x="3512" y="99"/>
                  <a:pt x="3512" y="103"/>
                </a:cubicBezTo>
                <a:cubicBezTo>
                  <a:pt x="3510" y="97"/>
                  <a:pt x="3508" y="91"/>
                  <a:pt x="3506" y="85"/>
                </a:cubicBezTo>
                <a:cubicBezTo>
                  <a:pt x="3508" y="91"/>
                  <a:pt x="3508" y="97"/>
                  <a:pt x="3508" y="103"/>
                </a:cubicBezTo>
                <a:cubicBezTo>
                  <a:pt x="3508" y="108"/>
                  <a:pt x="3507" y="114"/>
                  <a:pt x="3507" y="119"/>
                </a:cubicBezTo>
                <a:cubicBezTo>
                  <a:pt x="3505" y="111"/>
                  <a:pt x="3504" y="104"/>
                  <a:pt x="3504" y="96"/>
                </a:cubicBezTo>
                <a:cubicBezTo>
                  <a:pt x="3504" y="87"/>
                  <a:pt x="3508" y="73"/>
                  <a:pt x="3513" y="65"/>
                </a:cubicBezTo>
                <a:cubicBezTo>
                  <a:pt x="3504" y="76"/>
                  <a:pt x="3500" y="96"/>
                  <a:pt x="3500" y="108"/>
                </a:cubicBezTo>
                <a:cubicBezTo>
                  <a:pt x="3500" y="119"/>
                  <a:pt x="3503" y="130"/>
                  <a:pt x="3503" y="141"/>
                </a:cubicBezTo>
                <a:cubicBezTo>
                  <a:pt x="3503" y="146"/>
                  <a:pt x="3503" y="150"/>
                  <a:pt x="3502" y="154"/>
                </a:cubicBezTo>
                <a:cubicBezTo>
                  <a:pt x="3496" y="135"/>
                  <a:pt x="3501" y="113"/>
                  <a:pt x="3497" y="93"/>
                </a:cubicBezTo>
                <a:cubicBezTo>
                  <a:pt x="3494" y="79"/>
                  <a:pt x="3489" y="64"/>
                  <a:pt x="3483" y="51"/>
                </a:cubicBezTo>
                <a:cubicBezTo>
                  <a:pt x="3482" y="52"/>
                  <a:pt x="3482" y="54"/>
                  <a:pt x="3482" y="55"/>
                </a:cubicBezTo>
                <a:cubicBezTo>
                  <a:pt x="3489" y="76"/>
                  <a:pt x="3491" y="92"/>
                  <a:pt x="3492" y="105"/>
                </a:cubicBezTo>
                <a:cubicBezTo>
                  <a:pt x="3491" y="109"/>
                  <a:pt x="3490" y="114"/>
                  <a:pt x="3490" y="118"/>
                </a:cubicBezTo>
                <a:cubicBezTo>
                  <a:pt x="3488" y="101"/>
                  <a:pt x="3484" y="82"/>
                  <a:pt x="3475" y="75"/>
                </a:cubicBezTo>
                <a:cubicBezTo>
                  <a:pt x="3481" y="83"/>
                  <a:pt x="3483" y="97"/>
                  <a:pt x="3483" y="106"/>
                </a:cubicBezTo>
                <a:cubicBezTo>
                  <a:pt x="3483" y="106"/>
                  <a:pt x="3483" y="107"/>
                  <a:pt x="3483" y="107"/>
                </a:cubicBezTo>
                <a:cubicBezTo>
                  <a:pt x="3482" y="104"/>
                  <a:pt x="3481" y="101"/>
                  <a:pt x="3481" y="98"/>
                </a:cubicBezTo>
                <a:cubicBezTo>
                  <a:pt x="3481" y="105"/>
                  <a:pt x="3481" y="111"/>
                  <a:pt x="3482" y="118"/>
                </a:cubicBezTo>
                <a:cubicBezTo>
                  <a:pt x="3482" y="122"/>
                  <a:pt x="3481" y="126"/>
                  <a:pt x="3480" y="130"/>
                </a:cubicBezTo>
                <a:cubicBezTo>
                  <a:pt x="3479" y="124"/>
                  <a:pt x="3477" y="118"/>
                  <a:pt x="3476" y="113"/>
                </a:cubicBezTo>
                <a:cubicBezTo>
                  <a:pt x="3477" y="121"/>
                  <a:pt x="3479" y="128"/>
                  <a:pt x="3479" y="136"/>
                </a:cubicBezTo>
                <a:cubicBezTo>
                  <a:pt x="3478" y="140"/>
                  <a:pt x="3477" y="144"/>
                  <a:pt x="3477" y="148"/>
                </a:cubicBezTo>
                <a:cubicBezTo>
                  <a:pt x="3477" y="147"/>
                  <a:pt x="3476" y="147"/>
                  <a:pt x="3476" y="146"/>
                </a:cubicBezTo>
                <a:cubicBezTo>
                  <a:pt x="3477" y="129"/>
                  <a:pt x="3474" y="106"/>
                  <a:pt x="3467" y="91"/>
                </a:cubicBezTo>
                <a:cubicBezTo>
                  <a:pt x="3468" y="88"/>
                  <a:pt x="3468" y="85"/>
                  <a:pt x="3470" y="83"/>
                </a:cubicBezTo>
                <a:cubicBezTo>
                  <a:pt x="3468" y="85"/>
                  <a:pt x="3467" y="88"/>
                  <a:pt x="3466" y="90"/>
                </a:cubicBezTo>
                <a:cubicBezTo>
                  <a:pt x="3466" y="88"/>
                  <a:pt x="3465" y="87"/>
                  <a:pt x="3464" y="85"/>
                </a:cubicBezTo>
                <a:cubicBezTo>
                  <a:pt x="3465" y="87"/>
                  <a:pt x="3466" y="89"/>
                  <a:pt x="3466" y="91"/>
                </a:cubicBezTo>
                <a:cubicBezTo>
                  <a:pt x="3465" y="95"/>
                  <a:pt x="3464" y="98"/>
                  <a:pt x="3463" y="101"/>
                </a:cubicBezTo>
                <a:cubicBezTo>
                  <a:pt x="3461" y="94"/>
                  <a:pt x="3460" y="87"/>
                  <a:pt x="3457" y="79"/>
                </a:cubicBezTo>
                <a:cubicBezTo>
                  <a:pt x="3457" y="78"/>
                  <a:pt x="3457" y="76"/>
                  <a:pt x="3457" y="75"/>
                </a:cubicBezTo>
                <a:cubicBezTo>
                  <a:pt x="3457" y="76"/>
                  <a:pt x="3457" y="77"/>
                  <a:pt x="3456" y="78"/>
                </a:cubicBezTo>
                <a:cubicBezTo>
                  <a:pt x="3454" y="71"/>
                  <a:pt x="3450" y="64"/>
                  <a:pt x="3446" y="56"/>
                </a:cubicBezTo>
                <a:cubicBezTo>
                  <a:pt x="3446" y="66"/>
                  <a:pt x="3450" y="78"/>
                  <a:pt x="3453" y="90"/>
                </a:cubicBezTo>
                <a:cubicBezTo>
                  <a:pt x="3451" y="99"/>
                  <a:pt x="3451" y="108"/>
                  <a:pt x="3450" y="117"/>
                </a:cubicBezTo>
                <a:cubicBezTo>
                  <a:pt x="3449" y="112"/>
                  <a:pt x="3447" y="107"/>
                  <a:pt x="3446" y="103"/>
                </a:cubicBezTo>
                <a:cubicBezTo>
                  <a:pt x="3448" y="109"/>
                  <a:pt x="3446" y="132"/>
                  <a:pt x="3446" y="140"/>
                </a:cubicBezTo>
                <a:cubicBezTo>
                  <a:pt x="3446" y="144"/>
                  <a:pt x="3446" y="147"/>
                  <a:pt x="3446" y="151"/>
                </a:cubicBezTo>
                <a:cubicBezTo>
                  <a:pt x="3446" y="151"/>
                  <a:pt x="3446" y="151"/>
                  <a:pt x="3446" y="151"/>
                </a:cubicBezTo>
                <a:cubicBezTo>
                  <a:pt x="3446" y="144"/>
                  <a:pt x="3445" y="137"/>
                  <a:pt x="3443" y="129"/>
                </a:cubicBezTo>
                <a:cubicBezTo>
                  <a:pt x="3441" y="119"/>
                  <a:pt x="3440" y="110"/>
                  <a:pt x="3441" y="100"/>
                </a:cubicBezTo>
                <a:cubicBezTo>
                  <a:pt x="3440" y="107"/>
                  <a:pt x="3440" y="113"/>
                  <a:pt x="3440" y="119"/>
                </a:cubicBezTo>
                <a:cubicBezTo>
                  <a:pt x="3438" y="114"/>
                  <a:pt x="3436" y="108"/>
                  <a:pt x="3434" y="103"/>
                </a:cubicBezTo>
                <a:cubicBezTo>
                  <a:pt x="3434" y="99"/>
                  <a:pt x="3435" y="95"/>
                  <a:pt x="3437" y="90"/>
                </a:cubicBezTo>
                <a:cubicBezTo>
                  <a:pt x="3435" y="94"/>
                  <a:pt x="3434" y="98"/>
                  <a:pt x="3433" y="102"/>
                </a:cubicBezTo>
                <a:cubicBezTo>
                  <a:pt x="3430" y="97"/>
                  <a:pt x="3428" y="93"/>
                  <a:pt x="3425" y="89"/>
                </a:cubicBezTo>
                <a:cubicBezTo>
                  <a:pt x="3428" y="93"/>
                  <a:pt x="3428" y="99"/>
                  <a:pt x="3428" y="103"/>
                </a:cubicBezTo>
                <a:cubicBezTo>
                  <a:pt x="3428" y="104"/>
                  <a:pt x="3429" y="109"/>
                  <a:pt x="3429" y="115"/>
                </a:cubicBezTo>
                <a:cubicBezTo>
                  <a:pt x="3428" y="120"/>
                  <a:pt x="3427" y="124"/>
                  <a:pt x="3427" y="129"/>
                </a:cubicBezTo>
                <a:cubicBezTo>
                  <a:pt x="3426" y="125"/>
                  <a:pt x="3425" y="122"/>
                  <a:pt x="3425" y="119"/>
                </a:cubicBezTo>
                <a:cubicBezTo>
                  <a:pt x="3425" y="115"/>
                  <a:pt x="3425" y="108"/>
                  <a:pt x="3424" y="105"/>
                </a:cubicBezTo>
                <a:cubicBezTo>
                  <a:pt x="3423" y="108"/>
                  <a:pt x="3423" y="110"/>
                  <a:pt x="3423" y="113"/>
                </a:cubicBezTo>
                <a:cubicBezTo>
                  <a:pt x="3422" y="109"/>
                  <a:pt x="3421" y="106"/>
                  <a:pt x="3421" y="103"/>
                </a:cubicBezTo>
                <a:cubicBezTo>
                  <a:pt x="3422" y="97"/>
                  <a:pt x="3423" y="90"/>
                  <a:pt x="3426" y="84"/>
                </a:cubicBezTo>
                <a:cubicBezTo>
                  <a:pt x="3423" y="90"/>
                  <a:pt x="3421" y="95"/>
                  <a:pt x="3420" y="101"/>
                </a:cubicBezTo>
                <a:cubicBezTo>
                  <a:pt x="3415" y="86"/>
                  <a:pt x="3412" y="83"/>
                  <a:pt x="3407" y="78"/>
                </a:cubicBezTo>
                <a:cubicBezTo>
                  <a:pt x="3414" y="84"/>
                  <a:pt x="3417" y="97"/>
                  <a:pt x="3418" y="107"/>
                </a:cubicBezTo>
                <a:cubicBezTo>
                  <a:pt x="3417" y="114"/>
                  <a:pt x="3415" y="120"/>
                  <a:pt x="3414" y="126"/>
                </a:cubicBezTo>
                <a:cubicBezTo>
                  <a:pt x="3413" y="121"/>
                  <a:pt x="3412" y="115"/>
                  <a:pt x="3410" y="109"/>
                </a:cubicBezTo>
                <a:cubicBezTo>
                  <a:pt x="3411" y="106"/>
                  <a:pt x="3411" y="103"/>
                  <a:pt x="3412" y="100"/>
                </a:cubicBezTo>
                <a:cubicBezTo>
                  <a:pt x="3411" y="102"/>
                  <a:pt x="3411" y="104"/>
                  <a:pt x="3410" y="108"/>
                </a:cubicBezTo>
                <a:cubicBezTo>
                  <a:pt x="3409" y="106"/>
                  <a:pt x="3408" y="103"/>
                  <a:pt x="3408" y="101"/>
                </a:cubicBezTo>
                <a:cubicBezTo>
                  <a:pt x="3408" y="100"/>
                  <a:pt x="3408" y="99"/>
                  <a:pt x="3409" y="98"/>
                </a:cubicBezTo>
                <a:cubicBezTo>
                  <a:pt x="3408" y="99"/>
                  <a:pt x="3408" y="100"/>
                  <a:pt x="3408" y="101"/>
                </a:cubicBezTo>
                <a:cubicBezTo>
                  <a:pt x="3405" y="94"/>
                  <a:pt x="3402" y="87"/>
                  <a:pt x="3398" y="81"/>
                </a:cubicBezTo>
                <a:cubicBezTo>
                  <a:pt x="3402" y="88"/>
                  <a:pt x="3403" y="99"/>
                  <a:pt x="3403" y="106"/>
                </a:cubicBezTo>
                <a:cubicBezTo>
                  <a:pt x="3403" y="111"/>
                  <a:pt x="3402" y="115"/>
                  <a:pt x="3402" y="120"/>
                </a:cubicBezTo>
                <a:cubicBezTo>
                  <a:pt x="3400" y="126"/>
                  <a:pt x="3398" y="133"/>
                  <a:pt x="3397" y="139"/>
                </a:cubicBezTo>
                <a:cubicBezTo>
                  <a:pt x="3397" y="135"/>
                  <a:pt x="3397" y="135"/>
                  <a:pt x="3397" y="135"/>
                </a:cubicBezTo>
                <a:cubicBezTo>
                  <a:pt x="3398" y="127"/>
                  <a:pt x="3398" y="120"/>
                  <a:pt x="3399" y="113"/>
                </a:cubicBezTo>
                <a:cubicBezTo>
                  <a:pt x="3398" y="117"/>
                  <a:pt x="3398" y="123"/>
                  <a:pt x="3397" y="129"/>
                </a:cubicBezTo>
                <a:cubicBezTo>
                  <a:pt x="3397" y="120"/>
                  <a:pt x="3397" y="111"/>
                  <a:pt x="3395" y="103"/>
                </a:cubicBezTo>
                <a:cubicBezTo>
                  <a:pt x="3396" y="101"/>
                  <a:pt x="3397" y="100"/>
                  <a:pt x="3397" y="99"/>
                </a:cubicBezTo>
                <a:cubicBezTo>
                  <a:pt x="3397" y="100"/>
                  <a:pt x="3396" y="101"/>
                  <a:pt x="3395" y="102"/>
                </a:cubicBezTo>
                <a:cubicBezTo>
                  <a:pt x="3393" y="88"/>
                  <a:pt x="3389" y="75"/>
                  <a:pt x="3380" y="60"/>
                </a:cubicBezTo>
                <a:cubicBezTo>
                  <a:pt x="3380" y="61"/>
                  <a:pt x="3380" y="61"/>
                  <a:pt x="3380" y="61"/>
                </a:cubicBezTo>
                <a:cubicBezTo>
                  <a:pt x="3380" y="76"/>
                  <a:pt x="3390" y="94"/>
                  <a:pt x="3390" y="111"/>
                </a:cubicBezTo>
                <a:cubicBezTo>
                  <a:pt x="3389" y="115"/>
                  <a:pt x="3388" y="120"/>
                  <a:pt x="3387" y="125"/>
                </a:cubicBezTo>
                <a:cubicBezTo>
                  <a:pt x="3383" y="109"/>
                  <a:pt x="3376" y="94"/>
                  <a:pt x="3365" y="83"/>
                </a:cubicBezTo>
                <a:cubicBezTo>
                  <a:pt x="3372" y="90"/>
                  <a:pt x="3376" y="101"/>
                  <a:pt x="3378" y="111"/>
                </a:cubicBezTo>
                <a:cubicBezTo>
                  <a:pt x="3377" y="111"/>
                  <a:pt x="3377" y="110"/>
                  <a:pt x="3377" y="109"/>
                </a:cubicBezTo>
                <a:cubicBezTo>
                  <a:pt x="3377" y="117"/>
                  <a:pt x="3378" y="126"/>
                  <a:pt x="3378" y="134"/>
                </a:cubicBezTo>
                <a:cubicBezTo>
                  <a:pt x="3378" y="136"/>
                  <a:pt x="3378" y="138"/>
                  <a:pt x="3378" y="140"/>
                </a:cubicBezTo>
                <a:cubicBezTo>
                  <a:pt x="3375" y="127"/>
                  <a:pt x="3374" y="113"/>
                  <a:pt x="3370" y="100"/>
                </a:cubicBezTo>
                <a:cubicBezTo>
                  <a:pt x="3372" y="109"/>
                  <a:pt x="3372" y="123"/>
                  <a:pt x="3372" y="135"/>
                </a:cubicBezTo>
                <a:cubicBezTo>
                  <a:pt x="3373" y="138"/>
                  <a:pt x="3373" y="141"/>
                  <a:pt x="3373" y="144"/>
                </a:cubicBezTo>
                <a:cubicBezTo>
                  <a:pt x="3373" y="143"/>
                  <a:pt x="3373" y="142"/>
                  <a:pt x="3373" y="142"/>
                </a:cubicBezTo>
                <a:cubicBezTo>
                  <a:pt x="3372" y="139"/>
                  <a:pt x="3372" y="137"/>
                  <a:pt x="3372" y="135"/>
                </a:cubicBezTo>
                <a:cubicBezTo>
                  <a:pt x="3372" y="130"/>
                  <a:pt x="3371" y="125"/>
                  <a:pt x="3370" y="120"/>
                </a:cubicBezTo>
                <a:cubicBezTo>
                  <a:pt x="3370" y="119"/>
                  <a:pt x="3370" y="119"/>
                  <a:pt x="3370" y="118"/>
                </a:cubicBezTo>
                <a:cubicBezTo>
                  <a:pt x="3370" y="119"/>
                  <a:pt x="3370" y="119"/>
                  <a:pt x="3370" y="120"/>
                </a:cubicBezTo>
                <a:cubicBezTo>
                  <a:pt x="3369" y="116"/>
                  <a:pt x="3367" y="112"/>
                  <a:pt x="3366" y="108"/>
                </a:cubicBezTo>
                <a:cubicBezTo>
                  <a:pt x="3366" y="106"/>
                  <a:pt x="3367" y="105"/>
                  <a:pt x="3368" y="103"/>
                </a:cubicBezTo>
                <a:cubicBezTo>
                  <a:pt x="3367" y="105"/>
                  <a:pt x="3366" y="106"/>
                  <a:pt x="3366" y="107"/>
                </a:cubicBezTo>
                <a:cubicBezTo>
                  <a:pt x="3359" y="91"/>
                  <a:pt x="3349" y="76"/>
                  <a:pt x="3332" y="63"/>
                </a:cubicBezTo>
                <a:cubicBezTo>
                  <a:pt x="3338" y="68"/>
                  <a:pt x="3342" y="74"/>
                  <a:pt x="3346" y="79"/>
                </a:cubicBezTo>
                <a:cubicBezTo>
                  <a:pt x="3345" y="81"/>
                  <a:pt x="3343" y="85"/>
                  <a:pt x="3340" y="90"/>
                </a:cubicBezTo>
                <a:cubicBezTo>
                  <a:pt x="3340" y="90"/>
                  <a:pt x="3340" y="90"/>
                  <a:pt x="3340" y="90"/>
                </a:cubicBezTo>
                <a:cubicBezTo>
                  <a:pt x="3340" y="90"/>
                  <a:pt x="3340" y="90"/>
                  <a:pt x="3340" y="90"/>
                </a:cubicBezTo>
                <a:cubicBezTo>
                  <a:pt x="3338" y="94"/>
                  <a:pt x="3336" y="98"/>
                  <a:pt x="3334" y="103"/>
                </a:cubicBezTo>
                <a:cubicBezTo>
                  <a:pt x="3333" y="100"/>
                  <a:pt x="3333" y="98"/>
                  <a:pt x="3332" y="96"/>
                </a:cubicBezTo>
                <a:cubicBezTo>
                  <a:pt x="3332" y="99"/>
                  <a:pt x="3333" y="103"/>
                  <a:pt x="3333" y="106"/>
                </a:cubicBezTo>
                <a:cubicBezTo>
                  <a:pt x="3332" y="108"/>
                  <a:pt x="3331" y="111"/>
                  <a:pt x="3330" y="113"/>
                </a:cubicBezTo>
                <a:cubicBezTo>
                  <a:pt x="3329" y="111"/>
                  <a:pt x="3329" y="109"/>
                  <a:pt x="3328" y="107"/>
                </a:cubicBezTo>
                <a:cubicBezTo>
                  <a:pt x="3329" y="100"/>
                  <a:pt x="3330" y="93"/>
                  <a:pt x="3330" y="88"/>
                </a:cubicBezTo>
                <a:cubicBezTo>
                  <a:pt x="3330" y="87"/>
                  <a:pt x="3330" y="87"/>
                  <a:pt x="3330" y="87"/>
                </a:cubicBezTo>
                <a:cubicBezTo>
                  <a:pt x="3328" y="92"/>
                  <a:pt x="3327" y="97"/>
                  <a:pt x="3326" y="102"/>
                </a:cubicBezTo>
                <a:cubicBezTo>
                  <a:pt x="3323" y="96"/>
                  <a:pt x="3321" y="90"/>
                  <a:pt x="3318" y="84"/>
                </a:cubicBezTo>
                <a:cubicBezTo>
                  <a:pt x="3321" y="90"/>
                  <a:pt x="3323" y="97"/>
                  <a:pt x="3325" y="104"/>
                </a:cubicBezTo>
                <a:cubicBezTo>
                  <a:pt x="3324" y="108"/>
                  <a:pt x="3324" y="111"/>
                  <a:pt x="3323" y="115"/>
                </a:cubicBezTo>
                <a:cubicBezTo>
                  <a:pt x="3321" y="110"/>
                  <a:pt x="3319" y="106"/>
                  <a:pt x="3317" y="102"/>
                </a:cubicBezTo>
                <a:cubicBezTo>
                  <a:pt x="3319" y="107"/>
                  <a:pt x="3320" y="114"/>
                  <a:pt x="3321" y="121"/>
                </a:cubicBezTo>
                <a:cubicBezTo>
                  <a:pt x="3320" y="126"/>
                  <a:pt x="3318" y="131"/>
                  <a:pt x="3317" y="135"/>
                </a:cubicBezTo>
                <a:cubicBezTo>
                  <a:pt x="3315" y="132"/>
                  <a:pt x="3314" y="129"/>
                  <a:pt x="3313" y="125"/>
                </a:cubicBezTo>
                <a:cubicBezTo>
                  <a:pt x="3314" y="118"/>
                  <a:pt x="3315" y="111"/>
                  <a:pt x="3316" y="104"/>
                </a:cubicBezTo>
                <a:cubicBezTo>
                  <a:pt x="3315" y="109"/>
                  <a:pt x="3313" y="114"/>
                  <a:pt x="3311" y="120"/>
                </a:cubicBezTo>
                <a:cubicBezTo>
                  <a:pt x="3310" y="115"/>
                  <a:pt x="3309" y="111"/>
                  <a:pt x="3308" y="107"/>
                </a:cubicBezTo>
                <a:cubicBezTo>
                  <a:pt x="3308" y="103"/>
                  <a:pt x="3309" y="98"/>
                  <a:pt x="3309" y="94"/>
                </a:cubicBezTo>
                <a:cubicBezTo>
                  <a:pt x="3309" y="91"/>
                  <a:pt x="3308" y="88"/>
                  <a:pt x="3308" y="85"/>
                </a:cubicBezTo>
                <a:cubicBezTo>
                  <a:pt x="3307" y="89"/>
                  <a:pt x="3306" y="93"/>
                  <a:pt x="3305" y="99"/>
                </a:cubicBezTo>
                <a:cubicBezTo>
                  <a:pt x="3302" y="91"/>
                  <a:pt x="3298" y="84"/>
                  <a:pt x="3293" y="77"/>
                </a:cubicBezTo>
                <a:cubicBezTo>
                  <a:pt x="3296" y="86"/>
                  <a:pt x="3300" y="95"/>
                  <a:pt x="3303" y="104"/>
                </a:cubicBezTo>
                <a:cubicBezTo>
                  <a:pt x="3303" y="106"/>
                  <a:pt x="3303" y="107"/>
                  <a:pt x="3303" y="109"/>
                </a:cubicBezTo>
                <a:cubicBezTo>
                  <a:pt x="3302" y="107"/>
                  <a:pt x="3301" y="105"/>
                  <a:pt x="3300" y="103"/>
                </a:cubicBezTo>
                <a:cubicBezTo>
                  <a:pt x="3300" y="103"/>
                  <a:pt x="3300" y="102"/>
                  <a:pt x="3300" y="102"/>
                </a:cubicBezTo>
                <a:cubicBezTo>
                  <a:pt x="3300" y="102"/>
                  <a:pt x="3300" y="103"/>
                  <a:pt x="3300" y="103"/>
                </a:cubicBezTo>
                <a:cubicBezTo>
                  <a:pt x="3295" y="94"/>
                  <a:pt x="3290" y="86"/>
                  <a:pt x="3283" y="79"/>
                </a:cubicBezTo>
                <a:cubicBezTo>
                  <a:pt x="3285" y="75"/>
                  <a:pt x="3287" y="71"/>
                  <a:pt x="3289" y="68"/>
                </a:cubicBezTo>
                <a:cubicBezTo>
                  <a:pt x="3287" y="69"/>
                  <a:pt x="3284" y="73"/>
                  <a:pt x="3282" y="77"/>
                </a:cubicBezTo>
                <a:cubicBezTo>
                  <a:pt x="3278" y="73"/>
                  <a:pt x="3274" y="69"/>
                  <a:pt x="3269" y="65"/>
                </a:cubicBezTo>
                <a:cubicBezTo>
                  <a:pt x="3274" y="70"/>
                  <a:pt x="3278" y="75"/>
                  <a:pt x="3281" y="79"/>
                </a:cubicBezTo>
                <a:cubicBezTo>
                  <a:pt x="3278" y="86"/>
                  <a:pt x="3275" y="96"/>
                  <a:pt x="3272" y="105"/>
                </a:cubicBezTo>
                <a:cubicBezTo>
                  <a:pt x="3269" y="99"/>
                  <a:pt x="3265" y="94"/>
                  <a:pt x="3262" y="88"/>
                </a:cubicBezTo>
                <a:cubicBezTo>
                  <a:pt x="3262" y="87"/>
                  <a:pt x="3262" y="86"/>
                  <a:pt x="3263" y="85"/>
                </a:cubicBezTo>
                <a:cubicBezTo>
                  <a:pt x="3262" y="86"/>
                  <a:pt x="3262" y="87"/>
                  <a:pt x="3262" y="88"/>
                </a:cubicBezTo>
                <a:cubicBezTo>
                  <a:pt x="3261" y="87"/>
                  <a:pt x="3260" y="86"/>
                  <a:pt x="3259" y="85"/>
                </a:cubicBezTo>
                <a:cubicBezTo>
                  <a:pt x="3260" y="86"/>
                  <a:pt x="3261" y="87"/>
                  <a:pt x="3261" y="88"/>
                </a:cubicBezTo>
                <a:cubicBezTo>
                  <a:pt x="3260" y="91"/>
                  <a:pt x="3259" y="93"/>
                  <a:pt x="3258" y="95"/>
                </a:cubicBezTo>
                <a:cubicBezTo>
                  <a:pt x="3257" y="94"/>
                  <a:pt x="3257" y="92"/>
                  <a:pt x="3256" y="91"/>
                </a:cubicBezTo>
                <a:cubicBezTo>
                  <a:pt x="3257" y="92"/>
                  <a:pt x="3257" y="94"/>
                  <a:pt x="3258" y="95"/>
                </a:cubicBezTo>
                <a:cubicBezTo>
                  <a:pt x="3254" y="103"/>
                  <a:pt x="3251" y="112"/>
                  <a:pt x="3249" y="121"/>
                </a:cubicBezTo>
                <a:cubicBezTo>
                  <a:pt x="3248" y="112"/>
                  <a:pt x="3247" y="103"/>
                  <a:pt x="3247" y="97"/>
                </a:cubicBezTo>
                <a:cubicBezTo>
                  <a:pt x="3245" y="100"/>
                  <a:pt x="3244" y="105"/>
                  <a:pt x="3243" y="110"/>
                </a:cubicBezTo>
                <a:cubicBezTo>
                  <a:pt x="3243" y="92"/>
                  <a:pt x="3242" y="61"/>
                  <a:pt x="3240" y="57"/>
                </a:cubicBezTo>
                <a:cubicBezTo>
                  <a:pt x="3239" y="79"/>
                  <a:pt x="3240" y="100"/>
                  <a:pt x="3240" y="122"/>
                </a:cubicBezTo>
                <a:cubicBezTo>
                  <a:pt x="3240" y="123"/>
                  <a:pt x="3240" y="124"/>
                  <a:pt x="3240" y="125"/>
                </a:cubicBezTo>
                <a:cubicBezTo>
                  <a:pt x="3238" y="114"/>
                  <a:pt x="3234" y="103"/>
                  <a:pt x="3229" y="94"/>
                </a:cubicBezTo>
                <a:cubicBezTo>
                  <a:pt x="3228" y="89"/>
                  <a:pt x="3228" y="84"/>
                  <a:pt x="3229" y="80"/>
                </a:cubicBezTo>
                <a:cubicBezTo>
                  <a:pt x="3228" y="83"/>
                  <a:pt x="3227" y="87"/>
                  <a:pt x="3226" y="90"/>
                </a:cubicBezTo>
                <a:cubicBezTo>
                  <a:pt x="3224" y="88"/>
                  <a:pt x="3222" y="85"/>
                  <a:pt x="3220" y="83"/>
                </a:cubicBezTo>
                <a:cubicBezTo>
                  <a:pt x="3222" y="86"/>
                  <a:pt x="3224" y="89"/>
                  <a:pt x="3226" y="92"/>
                </a:cubicBezTo>
                <a:cubicBezTo>
                  <a:pt x="3225" y="96"/>
                  <a:pt x="3224" y="100"/>
                  <a:pt x="3224" y="103"/>
                </a:cubicBezTo>
                <a:cubicBezTo>
                  <a:pt x="3223" y="102"/>
                  <a:pt x="3223" y="101"/>
                  <a:pt x="3223" y="100"/>
                </a:cubicBezTo>
                <a:cubicBezTo>
                  <a:pt x="3223" y="101"/>
                  <a:pt x="3223" y="102"/>
                  <a:pt x="3224" y="104"/>
                </a:cubicBezTo>
                <a:cubicBezTo>
                  <a:pt x="3223" y="106"/>
                  <a:pt x="3223" y="109"/>
                  <a:pt x="3222" y="111"/>
                </a:cubicBezTo>
                <a:cubicBezTo>
                  <a:pt x="3220" y="107"/>
                  <a:pt x="3219" y="103"/>
                  <a:pt x="3217" y="99"/>
                </a:cubicBezTo>
                <a:cubicBezTo>
                  <a:pt x="3216" y="91"/>
                  <a:pt x="3216" y="82"/>
                  <a:pt x="3217" y="74"/>
                </a:cubicBezTo>
                <a:cubicBezTo>
                  <a:pt x="3216" y="80"/>
                  <a:pt x="3214" y="86"/>
                  <a:pt x="3213" y="92"/>
                </a:cubicBezTo>
                <a:cubicBezTo>
                  <a:pt x="3212" y="91"/>
                  <a:pt x="3211" y="89"/>
                  <a:pt x="3210" y="88"/>
                </a:cubicBezTo>
                <a:cubicBezTo>
                  <a:pt x="3211" y="89"/>
                  <a:pt x="3212" y="91"/>
                  <a:pt x="3213" y="93"/>
                </a:cubicBezTo>
                <a:cubicBezTo>
                  <a:pt x="3212" y="95"/>
                  <a:pt x="3212" y="97"/>
                  <a:pt x="3212" y="98"/>
                </a:cubicBezTo>
                <a:cubicBezTo>
                  <a:pt x="3209" y="93"/>
                  <a:pt x="3207" y="88"/>
                  <a:pt x="3203" y="84"/>
                </a:cubicBezTo>
                <a:cubicBezTo>
                  <a:pt x="3206" y="88"/>
                  <a:pt x="3208" y="95"/>
                  <a:pt x="3211" y="103"/>
                </a:cubicBezTo>
                <a:cubicBezTo>
                  <a:pt x="3210" y="106"/>
                  <a:pt x="3209" y="110"/>
                  <a:pt x="3209" y="113"/>
                </a:cubicBezTo>
                <a:cubicBezTo>
                  <a:pt x="3206" y="108"/>
                  <a:pt x="3204" y="102"/>
                  <a:pt x="3201" y="96"/>
                </a:cubicBezTo>
                <a:cubicBezTo>
                  <a:pt x="3201" y="91"/>
                  <a:pt x="3202" y="86"/>
                  <a:pt x="3203" y="83"/>
                </a:cubicBezTo>
                <a:cubicBezTo>
                  <a:pt x="3202" y="87"/>
                  <a:pt x="3201" y="90"/>
                  <a:pt x="3199" y="93"/>
                </a:cubicBezTo>
                <a:cubicBezTo>
                  <a:pt x="3194" y="83"/>
                  <a:pt x="3187" y="74"/>
                  <a:pt x="3178" y="64"/>
                </a:cubicBezTo>
                <a:cubicBezTo>
                  <a:pt x="3187" y="74"/>
                  <a:pt x="3193" y="86"/>
                  <a:pt x="3198" y="97"/>
                </a:cubicBezTo>
                <a:cubicBezTo>
                  <a:pt x="3197" y="99"/>
                  <a:pt x="3197" y="101"/>
                  <a:pt x="3196" y="103"/>
                </a:cubicBezTo>
                <a:cubicBezTo>
                  <a:pt x="3195" y="98"/>
                  <a:pt x="3194" y="93"/>
                  <a:pt x="3192" y="88"/>
                </a:cubicBezTo>
                <a:cubicBezTo>
                  <a:pt x="3192" y="91"/>
                  <a:pt x="3193" y="98"/>
                  <a:pt x="3195" y="106"/>
                </a:cubicBezTo>
                <a:cubicBezTo>
                  <a:pt x="3195" y="108"/>
                  <a:pt x="3194" y="109"/>
                  <a:pt x="3194" y="110"/>
                </a:cubicBezTo>
                <a:cubicBezTo>
                  <a:pt x="3188" y="97"/>
                  <a:pt x="3181" y="83"/>
                  <a:pt x="3170" y="72"/>
                </a:cubicBezTo>
                <a:cubicBezTo>
                  <a:pt x="3168" y="61"/>
                  <a:pt x="3166" y="51"/>
                  <a:pt x="3164" y="41"/>
                </a:cubicBezTo>
                <a:cubicBezTo>
                  <a:pt x="3164" y="48"/>
                  <a:pt x="3164" y="55"/>
                  <a:pt x="3164" y="61"/>
                </a:cubicBezTo>
                <a:cubicBezTo>
                  <a:pt x="3164" y="63"/>
                  <a:pt x="3164" y="64"/>
                  <a:pt x="3164" y="66"/>
                </a:cubicBezTo>
                <a:cubicBezTo>
                  <a:pt x="3163" y="65"/>
                  <a:pt x="3163" y="65"/>
                  <a:pt x="3163" y="65"/>
                </a:cubicBezTo>
                <a:cubicBezTo>
                  <a:pt x="3163" y="65"/>
                  <a:pt x="3163" y="65"/>
                  <a:pt x="3164" y="66"/>
                </a:cubicBezTo>
                <a:cubicBezTo>
                  <a:pt x="3164" y="75"/>
                  <a:pt x="3165" y="85"/>
                  <a:pt x="3165" y="94"/>
                </a:cubicBezTo>
                <a:cubicBezTo>
                  <a:pt x="3163" y="88"/>
                  <a:pt x="3160" y="81"/>
                  <a:pt x="3156" y="75"/>
                </a:cubicBezTo>
                <a:cubicBezTo>
                  <a:pt x="3156" y="75"/>
                  <a:pt x="3156" y="75"/>
                  <a:pt x="3156" y="75"/>
                </a:cubicBezTo>
                <a:cubicBezTo>
                  <a:pt x="3156" y="75"/>
                  <a:pt x="3156" y="75"/>
                  <a:pt x="3156" y="75"/>
                </a:cubicBezTo>
                <a:cubicBezTo>
                  <a:pt x="3151" y="67"/>
                  <a:pt x="3144" y="59"/>
                  <a:pt x="3134" y="50"/>
                </a:cubicBezTo>
                <a:cubicBezTo>
                  <a:pt x="3137" y="54"/>
                  <a:pt x="3139" y="58"/>
                  <a:pt x="3141" y="61"/>
                </a:cubicBezTo>
                <a:cubicBezTo>
                  <a:pt x="3140" y="64"/>
                  <a:pt x="3140" y="68"/>
                  <a:pt x="3139" y="73"/>
                </a:cubicBezTo>
                <a:cubicBezTo>
                  <a:pt x="3137" y="70"/>
                  <a:pt x="3134" y="67"/>
                  <a:pt x="3132" y="65"/>
                </a:cubicBezTo>
                <a:cubicBezTo>
                  <a:pt x="3132" y="64"/>
                  <a:pt x="3132" y="64"/>
                  <a:pt x="3132" y="64"/>
                </a:cubicBezTo>
                <a:cubicBezTo>
                  <a:pt x="3132" y="64"/>
                  <a:pt x="3132" y="64"/>
                  <a:pt x="3131" y="64"/>
                </a:cubicBezTo>
                <a:cubicBezTo>
                  <a:pt x="3130" y="62"/>
                  <a:pt x="3128" y="61"/>
                  <a:pt x="3126" y="59"/>
                </a:cubicBezTo>
                <a:cubicBezTo>
                  <a:pt x="3128" y="61"/>
                  <a:pt x="3129" y="63"/>
                  <a:pt x="3131" y="65"/>
                </a:cubicBezTo>
                <a:cubicBezTo>
                  <a:pt x="3130" y="67"/>
                  <a:pt x="3128" y="69"/>
                  <a:pt x="3127" y="72"/>
                </a:cubicBezTo>
                <a:cubicBezTo>
                  <a:pt x="3126" y="66"/>
                  <a:pt x="3126" y="61"/>
                  <a:pt x="3125" y="56"/>
                </a:cubicBezTo>
                <a:cubicBezTo>
                  <a:pt x="3126" y="54"/>
                  <a:pt x="3127" y="53"/>
                  <a:pt x="3128" y="51"/>
                </a:cubicBezTo>
                <a:cubicBezTo>
                  <a:pt x="3127" y="52"/>
                  <a:pt x="3126" y="53"/>
                  <a:pt x="3124" y="55"/>
                </a:cubicBezTo>
                <a:cubicBezTo>
                  <a:pt x="3123" y="45"/>
                  <a:pt x="3121" y="35"/>
                  <a:pt x="3118" y="26"/>
                </a:cubicBezTo>
                <a:cubicBezTo>
                  <a:pt x="3117" y="30"/>
                  <a:pt x="3117" y="34"/>
                  <a:pt x="3117" y="37"/>
                </a:cubicBezTo>
                <a:cubicBezTo>
                  <a:pt x="3117" y="45"/>
                  <a:pt x="3118" y="53"/>
                  <a:pt x="3119" y="60"/>
                </a:cubicBezTo>
                <a:cubicBezTo>
                  <a:pt x="3115" y="64"/>
                  <a:pt x="3111" y="69"/>
                  <a:pt x="3106" y="74"/>
                </a:cubicBezTo>
                <a:cubicBezTo>
                  <a:pt x="3106" y="72"/>
                  <a:pt x="3105" y="70"/>
                  <a:pt x="3104" y="67"/>
                </a:cubicBezTo>
                <a:cubicBezTo>
                  <a:pt x="3104" y="70"/>
                  <a:pt x="3105" y="73"/>
                  <a:pt x="3105" y="76"/>
                </a:cubicBezTo>
                <a:cubicBezTo>
                  <a:pt x="3104" y="77"/>
                  <a:pt x="3104" y="77"/>
                  <a:pt x="3104" y="78"/>
                </a:cubicBezTo>
                <a:cubicBezTo>
                  <a:pt x="3102" y="75"/>
                  <a:pt x="3100" y="72"/>
                  <a:pt x="3098" y="68"/>
                </a:cubicBezTo>
                <a:cubicBezTo>
                  <a:pt x="3098" y="65"/>
                  <a:pt x="3099" y="63"/>
                  <a:pt x="3099" y="62"/>
                </a:cubicBezTo>
                <a:cubicBezTo>
                  <a:pt x="3098" y="63"/>
                  <a:pt x="3097" y="65"/>
                  <a:pt x="3096" y="67"/>
                </a:cubicBezTo>
                <a:cubicBezTo>
                  <a:pt x="3090" y="57"/>
                  <a:pt x="3081" y="47"/>
                  <a:pt x="3068" y="34"/>
                </a:cubicBezTo>
                <a:cubicBezTo>
                  <a:pt x="3081" y="49"/>
                  <a:pt x="3089" y="60"/>
                  <a:pt x="3096" y="69"/>
                </a:cubicBezTo>
                <a:cubicBezTo>
                  <a:pt x="3095" y="72"/>
                  <a:pt x="3094" y="75"/>
                  <a:pt x="3094" y="79"/>
                </a:cubicBezTo>
                <a:cubicBezTo>
                  <a:pt x="3088" y="68"/>
                  <a:pt x="3080" y="58"/>
                  <a:pt x="3068" y="52"/>
                </a:cubicBezTo>
                <a:cubicBezTo>
                  <a:pt x="3082" y="60"/>
                  <a:pt x="3089" y="72"/>
                  <a:pt x="3094" y="84"/>
                </a:cubicBezTo>
                <a:cubicBezTo>
                  <a:pt x="3094" y="86"/>
                  <a:pt x="3094" y="89"/>
                  <a:pt x="3094" y="91"/>
                </a:cubicBezTo>
                <a:cubicBezTo>
                  <a:pt x="3092" y="94"/>
                  <a:pt x="3090" y="97"/>
                  <a:pt x="3088" y="100"/>
                </a:cubicBezTo>
                <a:cubicBezTo>
                  <a:pt x="3087" y="96"/>
                  <a:pt x="3087" y="93"/>
                  <a:pt x="3086" y="90"/>
                </a:cubicBezTo>
                <a:cubicBezTo>
                  <a:pt x="3087" y="93"/>
                  <a:pt x="3087" y="97"/>
                  <a:pt x="3087" y="101"/>
                </a:cubicBezTo>
                <a:cubicBezTo>
                  <a:pt x="3086" y="102"/>
                  <a:pt x="3085" y="104"/>
                  <a:pt x="3085" y="105"/>
                </a:cubicBezTo>
                <a:cubicBezTo>
                  <a:pt x="3084" y="104"/>
                  <a:pt x="3084" y="103"/>
                  <a:pt x="3083" y="102"/>
                </a:cubicBezTo>
                <a:cubicBezTo>
                  <a:pt x="3082" y="97"/>
                  <a:pt x="3081" y="93"/>
                  <a:pt x="3080" y="88"/>
                </a:cubicBezTo>
                <a:cubicBezTo>
                  <a:pt x="3081" y="83"/>
                  <a:pt x="3082" y="79"/>
                  <a:pt x="3082" y="75"/>
                </a:cubicBezTo>
                <a:cubicBezTo>
                  <a:pt x="3081" y="78"/>
                  <a:pt x="3080" y="80"/>
                  <a:pt x="3079" y="82"/>
                </a:cubicBezTo>
                <a:cubicBezTo>
                  <a:pt x="3078" y="81"/>
                  <a:pt x="3078" y="80"/>
                  <a:pt x="3078" y="79"/>
                </a:cubicBezTo>
                <a:cubicBezTo>
                  <a:pt x="3078" y="80"/>
                  <a:pt x="3078" y="82"/>
                  <a:pt x="3078" y="83"/>
                </a:cubicBezTo>
                <a:cubicBezTo>
                  <a:pt x="3078" y="84"/>
                  <a:pt x="3077" y="86"/>
                  <a:pt x="3076" y="87"/>
                </a:cubicBezTo>
                <a:cubicBezTo>
                  <a:pt x="3074" y="83"/>
                  <a:pt x="3073" y="79"/>
                  <a:pt x="3071" y="75"/>
                </a:cubicBezTo>
                <a:cubicBezTo>
                  <a:pt x="3071" y="80"/>
                  <a:pt x="3072" y="86"/>
                  <a:pt x="3073" y="93"/>
                </a:cubicBezTo>
                <a:cubicBezTo>
                  <a:pt x="3073" y="94"/>
                  <a:pt x="3073" y="94"/>
                  <a:pt x="3073" y="94"/>
                </a:cubicBezTo>
                <a:cubicBezTo>
                  <a:pt x="3072" y="90"/>
                  <a:pt x="3070" y="85"/>
                  <a:pt x="3068" y="81"/>
                </a:cubicBezTo>
                <a:cubicBezTo>
                  <a:pt x="3070" y="86"/>
                  <a:pt x="3071" y="91"/>
                  <a:pt x="3072" y="97"/>
                </a:cubicBezTo>
                <a:cubicBezTo>
                  <a:pt x="3070" y="100"/>
                  <a:pt x="3069" y="102"/>
                  <a:pt x="3068" y="105"/>
                </a:cubicBezTo>
                <a:cubicBezTo>
                  <a:pt x="3065" y="83"/>
                  <a:pt x="3059" y="63"/>
                  <a:pt x="3039" y="42"/>
                </a:cubicBezTo>
                <a:cubicBezTo>
                  <a:pt x="3047" y="58"/>
                  <a:pt x="3053" y="70"/>
                  <a:pt x="3057" y="81"/>
                </a:cubicBezTo>
                <a:cubicBezTo>
                  <a:pt x="3057" y="83"/>
                  <a:pt x="3057" y="86"/>
                  <a:pt x="3057" y="89"/>
                </a:cubicBezTo>
                <a:cubicBezTo>
                  <a:pt x="3055" y="86"/>
                  <a:pt x="3053" y="84"/>
                  <a:pt x="3052" y="81"/>
                </a:cubicBezTo>
                <a:cubicBezTo>
                  <a:pt x="3051" y="79"/>
                  <a:pt x="3049" y="76"/>
                  <a:pt x="3048" y="73"/>
                </a:cubicBezTo>
                <a:cubicBezTo>
                  <a:pt x="3048" y="71"/>
                  <a:pt x="3048" y="69"/>
                  <a:pt x="3048" y="67"/>
                </a:cubicBezTo>
                <a:cubicBezTo>
                  <a:pt x="3048" y="69"/>
                  <a:pt x="3047" y="70"/>
                  <a:pt x="3047" y="72"/>
                </a:cubicBezTo>
                <a:cubicBezTo>
                  <a:pt x="3044" y="66"/>
                  <a:pt x="3040" y="59"/>
                  <a:pt x="3035" y="53"/>
                </a:cubicBezTo>
                <a:cubicBezTo>
                  <a:pt x="3035" y="48"/>
                  <a:pt x="3035" y="42"/>
                  <a:pt x="3035" y="37"/>
                </a:cubicBezTo>
                <a:cubicBezTo>
                  <a:pt x="3035" y="34"/>
                  <a:pt x="3035" y="30"/>
                  <a:pt x="3035" y="26"/>
                </a:cubicBezTo>
                <a:cubicBezTo>
                  <a:pt x="3032" y="33"/>
                  <a:pt x="3031" y="40"/>
                  <a:pt x="3029" y="47"/>
                </a:cubicBezTo>
                <a:cubicBezTo>
                  <a:pt x="3026" y="44"/>
                  <a:pt x="3023" y="41"/>
                  <a:pt x="3020" y="38"/>
                </a:cubicBezTo>
                <a:cubicBezTo>
                  <a:pt x="3023" y="41"/>
                  <a:pt x="3026" y="45"/>
                  <a:pt x="3029" y="49"/>
                </a:cubicBezTo>
                <a:cubicBezTo>
                  <a:pt x="3029" y="51"/>
                  <a:pt x="3028" y="53"/>
                  <a:pt x="3028" y="55"/>
                </a:cubicBezTo>
                <a:cubicBezTo>
                  <a:pt x="3027" y="53"/>
                  <a:pt x="3025" y="52"/>
                  <a:pt x="3024" y="51"/>
                </a:cubicBezTo>
                <a:cubicBezTo>
                  <a:pt x="3025" y="53"/>
                  <a:pt x="3027" y="54"/>
                  <a:pt x="3028" y="56"/>
                </a:cubicBezTo>
                <a:cubicBezTo>
                  <a:pt x="3027" y="61"/>
                  <a:pt x="3026" y="66"/>
                  <a:pt x="3026" y="72"/>
                </a:cubicBezTo>
                <a:cubicBezTo>
                  <a:pt x="3024" y="69"/>
                  <a:pt x="3022" y="66"/>
                  <a:pt x="3021" y="64"/>
                </a:cubicBezTo>
                <a:cubicBezTo>
                  <a:pt x="3021" y="66"/>
                  <a:pt x="3023" y="70"/>
                  <a:pt x="3025" y="74"/>
                </a:cubicBezTo>
                <a:cubicBezTo>
                  <a:pt x="3024" y="80"/>
                  <a:pt x="3023" y="86"/>
                  <a:pt x="3022" y="92"/>
                </a:cubicBezTo>
                <a:cubicBezTo>
                  <a:pt x="3018" y="109"/>
                  <a:pt x="3014" y="126"/>
                  <a:pt x="3012" y="143"/>
                </a:cubicBezTo>
                <a:cubicBezTo>
                  <a:pt x="3013" y="126"/>
                  <a:pt x="3014" y="109"/>
                  <a:pt x="3014" y="91"/>
                </a:cubicBezTo>
                <a:cubicBezTo>
                  <a:pt x="3014" y="87"/>
                  <a:pt x="3014" y="61"/>
                  <a:pt x="3010" y="59"/>
                </a:cubicBezTo>
                <a:cubicBezTo>
                  <a:pt x="3015" y="76"/>
                  <a:pt x="3001" y="122"/>
                  <a:pt x="2998" y="146"/>
                </a:cubicBezTo>
                <a:cubicBezTo>
                  <a:pt x="2998" y="148"/>
                  <a:pt x="2998" y="150"/>
                  <a:pt x="2997" y="152"/>
                </a:cubicBezTo>
                <a:cubicBezTo>
                  <a:pt x="2997" y="150"/>
                  <a:pt x="2998" y="148"/>
                  <a:pt x="2998" y="146"/>
                </a:cubicBezTo>
                <a:cubicBezTo>
                  <a:pt x="3000" y="123"/>
                  <a:pt x="2998" y="98"/>
                  <a:pt x="2997" y="75"/>
                </a:cubicBezTo>
                <a:cubicBezTo>
                  <a:pt x="2994" y="97"/>
                  <a:pt x="2986" y="119"/>
                  <a:pt x="2986" y="141"/>
                </a:cubicBezTo>
                <a:cubicBezTo>
                  <a:pt x="2986" y="146"/>
                  <a:pt x="2986" y="152"/>
                  <a:pt x="2987" y="158"/>
                </a:cubicBezTo>
                <a:cubicBezTo>
                  <a:pt x="2985" y="150"/>
                  <a:pt x="2985" y="140"/>
                  <a:pt x="2985" y="133"/>
                </a:cubicBezTo>
                <a:cubicBezTo>
                  <a:pt x="2985" y="109"/>
                  <a:pt x="2989" y="85"/>
                  <a:pt x="2989" y="61"/>
                </a:cubicBezTo>
                <a:cubicBezTo>
                  <a:pt x="2989" y="55"/>
                  <a:pt x="2989" y="48"/>
                  <a:pt x="2988" y="41"/>
                </a:cubicBezTo>
                <a:cubicBezTo>
                  <a:pt x="2981" y="71"/>
                  <a:pt x="2977" y="110"/>
                  <a:pt x="2977" y="140"/>
                </a:cubicBezTo>
                <a:cubicBezTo>
                  <a:pt x="2977" y="145"/>
                  <a:pt x="2977" y="149"/>
                  <a:pt x="2977" y="153"/>
                </a:cubicBezTo>
                <a:cubicBezTo>
                  <a:pt x="2976" y="135"/>
                  <a:pt x="2972" y="116"/>
                  <a:pt x="2968" y="98"/>
                </a:cubicBezTo>
                <a:cubicBezTo>
                  <a:pt x="2970" y="110"/>
                  <a:pt x="2966" y="124"/>
                  <a:pt x="2966" y="136"/>
                </a:cubicBezTo>
                <a:cubicBezTo>
                  <a:pt x="2966" y="140"/>
                  <a:pt x="2966" y="143"/>
                  <a:pt x="2966" y="147"/>
                </a:cubicBezTo>
                <a:cubicBezTo>
                  <a:pt x="2963" y="125"/>
                  <a:pt x="2958" y="103"/>
                  <a:pt x="2949" y="83"/>
                </a:cubicBezTo>
                <a:cubicBezTo>
                  <a:pt x="2952" y="90"/>
                  <a:pt x="2952" y="108"/>
                  <a:pt x="2952" y="115"/>
                </a:cubicBezTo>
                <a:cubicBezTo>
                  <a:pt x="2952" y="127"/>
                  <a:pt x="2952" y="138"/>
                  <a:pt x="2954" y="150"/>
                </a:cubicBezTo>
                <a:cubicBezTo>
                  <a:pt x="2945" y="126"/>
                  <a:pt x="2942" y="99"/>
                  <a:pt x="2935" y="74"/>
                </a:cubicBezTo>
                <a:cubicBezTo>
                  <a:pt x="2938" y="91"/>
                  <a:pt x="2934" y="110"/>
                  <a:pt x="2934" y="128"/>
                </a:cubicBezTo>
                <a:cubicBezTo>
                  <a:pt x="2934" y="132"/>
                  <a:pt x="2935" y="136"/>
                  <a:pt x="2935" y="140"/>
                </a:cubicBezTo>
                <a:cubicBezTo>
                  <a:pt x="2935" y="145"/>
                  <a:pt x="2936" y="149"/>
                  <a:pt x="2937" y="154"/>
                </a:cubicBezTo>
                <a:cubicBezTo>
                  <a:pt x="2936" y="149"/>
                  <a:pt x="2935" y="145"/>
                  <a:pt x="2935" y="140"/>
                </a:cubicBezTo>
                <a:cubicBezTo>
                  <a:pt x="2932" y="120"/>
                  <a:pt x="2929" y="99"/>
                  <a:pt x="2924" y="80"/>
                </a:cubicBezTo>
                <a:cubicBezTo>
                  <a:pt x="2926" y="102"/>
                  <a:pt x="2916" y="126"/>
                  <a:pt x="2916" y="149"/>
                </a:cubicBezTo>
                <a:cubicBezTo>
                  <a:pt x="2916" y="156"/>
                  <a:pt x="2916" y="156"/>
                  <a:pt x="2916" y="156"/>
                </a:cubicBezTo>
                <a:cubicBezTo>
                  <a:pt x="2912" y="147"/>
                  <a:pt x="2912" y="132"/>
                  <a:pt x="2912" y="122"/>
                </a:cubicBezTo>
                <a:cubicBezTo>
                  <a:pt x="2912" y="100"/>
                  <a:pt x="2914" y="79"/>
                  <a:pt x="2913" y="57"/>
                </a:cubicBezTo>
                <a:cubicBezTo>
                  <a:pt x="2910" y="62"/>
                  <a:pt x="2909" y="112"/>
                  <a:pt x="2909" y="120"/>
                </a:cubicBezTo>
                <a:cubicBezTo>
                  <a:pt x="2909" y="133"/>
                  <a:pt x="2910" y="146"/>
                  <a:pt x="2913" y="159"/>
                </a:cubicBezTo>
                <a:cubicBezTo>
                  <a:pt x="2908" y="135"/>
                  <a:pt x="2902" y="108"/>
                  <a:pt x="2890" y="85"/>
                </a:cubicBezTo>
                <a:cubicBezTo>
                  <a:pt x="2901" y="106"/>
                  <a:pt x="2896" y="132"/>
                  <a:pt x="2903" y="154"/>
                </a:cubicBezTo>
                <a:cubicBezTo>
                  <a:pt x="2895" y="142"/>
                  <a:pt x="2893" y="122"/>
                  <a:pt x="2890" y="106"/>
                </a:cubicBezTo>
                <a:cubicBezTo>
                  <a:pt x="2892" y="120"/>
                  <a:pt x="2890" y="134"/>
                  <a:pt x="2892" y="148"/>
                </a:cubicBezTo>
                <a:cubicBezTo>
                  <a:pt x="2893" y="151"/>
                  <a:pt x="2894" y="153"/>
                  <a:pt x="2894" y="155"/>
                </a:cubicBezTo>
                <a:cubicBezTo>
                  <a:pt x="2893" y="153"/>
                  <a:pt x="2893" y="151"/>
                  <a:pt x="2892" y="148"/>
                </a:cubicBezTo>
                <a:cubicBezTo>
                  <a:pt x="2887" y="128"/>
                  <a:pt x="2875" y="75"/>
                  <a:pt x="2863" y="68"/>
                </a:cubicBezTo>
                <a:cubicBezTo>
                  <a:pt x="2880" y="90"/>
                  <a:pt x="2878" y="127"/>
                  <a:pt x="2882" y="153"/>
                </a:cubicBezTo>
                <a:cubicBezTo>
                  <a:pt x="2878" y="134"/>
                  <a:pt x="2871" y="113"/>
                  <a:pt x="2862" y="95"/>
                </a:cubicBezTo>
                <a:cubicBezTo>
                  <a:pt x="2869" y="115"/>
                  <a:pt x="2868" y="136"/>
                  <a:pt x="2877" y="155"/>
                </a:cubicBezTo>
                <a:cubicBezTo>
                  <a:pt x="2864" y="144"/>
                  <a:pt x="2857" y="117"/>
                  <a:pt x="2853" y="102"/>
                </a:cubicBezTo>
                <a:cubicBezTo>
                  <a:pt x="2853" y="120"/>
                  <a:pt x="2858" y="143"/>
                  <a:pt x="2869" y="158"/>
                </a:cubicBezTo>
                <a:cubicBezTo>
                  <a:pt x="2855" y="144"/>
                  <a:pt x="2850" y="103"/>
                  <a:pt x="2845" y="85"/>
                </a:cubicBezTo>
                <a:cubicBezTo>
                  <a:pt x="2844" y="88"/>
                  <a:pt x="2844" y="91"/>
                  <a:pt x="2844" y="94"/>
                </a:cubicBezTo>
                <a:cubicBezTo>
                  <a:pt x="2844" y="113"/>
                  <a:pt x="2849" y="142"/>
                  <a:pt x="2861" y="159"/>
                </a:cubicBezTo>
                <a:cubicBezTo>
                  <a:pt x="2847" y="143"/>
                  <a:pt x="2842" y="123"/>
                  <a:pt x="2836" y="104"/>
                </a:cubicBezTo>
                <a:cubicBezTo>
                  <a:pt x="2840" y="122"/>
                  <a:pt x="2840" y="140"/>
                  <a:pt x="2849" y="158"/>
                </a:cubicBezTo>
                <a:cubicBezTo>
                  <a:pt x="2839" y="147"/>
                  <a:pt x="2834" y="132"/>
                  <a:pt x="2830" y="117"/>
                </a:cubicBezTo>
                <a:cubicBezTo>
                  <a:pt x="2832" y="105"/>
                  <a:pt x="2833" y="93"/>
                  <a:pt x="2834" y="84"/>
                </a:cubicBezTo>
                <a:cubicBezTo>
                  <a:pt x="2832" y="92"/>
                  <a:pt x="2830" y="101"/>
                  <a:pt x="2828" y="109"/>
                </a:cubicBezTo>
                <a:cubicBezTo>
                  <a:pt x="2827" y="102"/>
                  <a:pt x="2825" y="95"/>
                  <a:pt x="2823" y="89"/>
                </a:cubicBezTo>
                <a:cubicBezTo>
                  <a:pt x="2826" y="64"/>
                  <a:pt x="2830" y="40"/>
                  <a:pt x="2830" y="40"/>
                </a:cubicBezTo>
                <a:cubicBezTo>
                  <a:pt x="2825" y="51"/>
                  <a:pt x="2820" y="77"/>
                  <a:pt x="2817" y="100"/>
                </a:cubicBezTo>
                <a:cubicBezTo>
                  <a:pt x="2815" y="95"/>
                  <a:pt x="2812" y="90"/>
                  <a:pt x="2811" y="86"/>
                </a:cubicBezTo>
                <a:cubicBezTo>
                  <a:pt x="2810" y="70"/>
                  <a:pt x="2808" y="58"/>
                  <a:pt x="2808" y="60"/>
                </a:cubicBezTo>
                <a:cubicBezTo>
                  <a:pt x="2808" y="61"/>
                  <a:pt x="2808" y="69"/>
                  <a:pt x="2807" y="80"/>
                </a:cubicBezTo>
                <a:cubicBezTo>
                  <a:pt x="2806" y="79"/>
                  <a:pt x="2806" y="78"/>
                  <a:pt x="2805" y="78"/>
                </a:cubicBezTo>
                <a:cubicBezTo>
                  <a:pt x="2806" y="79"/>
                  <a:pt x="2806" y="80"/>
                  <a:pt x="2807" y="81"/>
                </a:cubicBezTo>
                <a:cubicBezTo>
                  <a:pt x="2806" y="87"/>
                  <a:pt x="2806" y="95"/>
                  <a:pt x="2805" y="102"/>
                </a:cubicBezTo>
                <a:cubicBezTo>
                  <a:pt x="2805" y="102"/>
                  <a:pt x="2805" y="102"/>
                  <a:pt x="2805" y="102"/>
                </a:cubicBezTo>
                <a:cubicBezTo>
                  <a:pt x="2805" y="103"/>
                  <a:pt x="2805" y="103"/>
                  <a:pt x="2805" y="103"/>
                </a:cubicBezTo>
                <a:cubicBezTo>
                  <a:pt x="2804" y="113"/>
                  <a:pt x="2804" y="123"/>
                  <a:pt x="2803" y="130"/>
                </a:cubicBezTo>
                <a:cubicBezTo>
                  <a:pt x="2803" y="130"/>
                  <a:pt x="2802" y="129"/>
                  <a:pt x="2802" y="128"/>
                </a:cubicBezTo>
                <a:cubicBezTo>
                  <a:pt x="2802" y="107"/>
                  <a:pt x="2798" y="69"/>
                  <a:pt x="2795" y="47"/>
                </a:cubicBezTo>
                <a:cubicBezTo>
                  <a:pt x="2796" y="64"/>
                  <a:pt x="2795" y="87"/>
                  <a:pt x="2794" y="107"/>
                </a:cubicBezTo>
                <a:cubicBezTo>
                  <a:pt x="2793" y="105"/>
                  <a:pt x="2792" y="104"/>
                  <a:pt x="2791" y="102"/>
                </a:cubicBezTo>
                <a:cubicBezTo>
                  <a:pt x="2792" y="104"/>
                  <a:pt x="2793" y="106"/>
                  <a:pt x="2793" y="107"/>
                </a:cubicBezTo>
                <a:cubicBezTo>
                  <a:pt x="2793" y="114"/>
                  <a:pt x="2793" y="121"/>
                  <a:pt x="2792" y="126"/>
                </a:cubicBezTo>
                <a:cubicBezTo>
                  <a:pt x="2792" y="125"/>
                  <a:pt x="2791" y="123"/>
                  <a:pt x="2791" y="122"/>
                </a:cubicBezTo>
                <a:cubicBezTo>
                  <a:pt x="2790" y="93"/>
                  <a:pt x="2786" y="46"/>
                  <a:pt x="2786" y="46"/>
                </a:cubicBezTo>
                <a:cubicBezTo>
                  <a:pt x="2785" y="65"/>
                  <a:pt x="2779" y="142"/>
                  <a:pt x="2779" y="142"/>
                </a:cubicBezTo>
                <a:cubicBezTo>
                  <a:pt x="2773" y="106"/>
                  <a:pt x="2780" y="0"/>
                  <a:pt x="2780" y="0"/>
                </a:cubicBezTo>
                <a:cubicBezTo>
                  <a:pt x="2774" y="16"/>
                  <a:pt x="2768" y="131"/>
                  <a:pt x="2768" y="131"/>
                </a:cubicBezTo>
                <a:cubicBezTo>
                  <a:pt x="2766" y="36"/>
                  <a:pt x="2762" y="32"/>
                  <a:pt x="2762" y="32"/>
                </a:cubicBezTo>
                <a:cubicBezTo>
                  <a:pt x="2764" y="43"/>
                  <a:pt x="2761" y="76"/>
                  <a:pt x="2758" y="103"/>
                </a:cubicBezTo>
                <a:cubicBezTo>
                  <a:pt x="2757" y="102"/>
                  <a:pt x="2756" y="100"/>
                  <a:pt x="2755" y="99"/>
                </a:cubicBezTo>
                <a:cubicBezTo>
                  <a:pt x="2756" y="101"/>
                  <a:pt x="2757" y="103"/>
                  <a:pt x="2758" y="104"/>
                </a:cubicBezTo>
                <a:cubicBezTo>
                  <a:pt x="2757" y="112"/>
                  <a:pt x="2756" y="120"/>
                  <a:pt x="2755" y="126"/>
                </a:cubicBezTo>
                <a:cubicBezTo>
                  <a:pt x="2755" y="124"/>
                  <a:pt x="2755" y="123"/>
                  <a:pt x="2755" y="122"/>
                </a:cubicBezTo>
                <a:cubicBezTo>
                  <a:pt x="2755" y="94"/>
                  <a:pt x="2754" y="48"/>
                  <a:pt x="2754" y="48"/>
                </a:cubicBezTo>
                <a:cubicBezTo>
                  <a:pt x="2753" y="55"/>
                  <a:pt x="2750" y="82"/>
                  <a:pt x="2747" y="106"/>
                </a:cubicBezTo>
                <a:cubicBezTo>
                  <a:pt x="2746" y="104"/>
                  <a:pt x="2745" y="102"/>
                  <a:pt x="2745" y="100"/>
                </a:cubicBezTo>
                <a:cubicBezTo>
                  <a:pt x="2748" y="60"/>
                  <a:pt x="2752" y="9"/>
                  <a:pt x="2752" y="9"/>
                </a:cubicBezTo>
                <a:cubicBezTo>
                  <a:pt x="2747" y="23"/>
                  <a:pt x="2740" y="83"/>
                  <a:pt x="2737" y="117"/>
                </a:cubicBezTo>
                <a:cubicBezTo>
                  <a:pt x="2736" y="114"/>
                  <a:pt x="2735" y="111"/>
                  <a:pt x="2734" y="108"/>
                </a:cubicBezTo>
                <a:cubicBezTo>
                  <a:pt x="2734" y="90"/>
                  <a:pt x="2732" y="72"/>
                  <a:pt x="2732" y="72"/>
                </a:cubicBezTo>
                <a:cubicBezTo>
                  <a:pt x="2732" y="76"/>
                  <a:pt x="2732" y="84"/>
                  <a:pt x="2731" y="94"/>
                </a:cubicBezTo>
                <a:cubicBezTo>
                  <a:pt x="2730" y="91"/>
                  <a:pt x="2728" y="88"/>
                  <a:pt x="2727" y="84"/>
                </a:cubicBezTo>
                <a:cubicBezTo>
                  <a:pt x="2728" y="88"/>
                  <a:pt x="2730" y="92"/>
                  <a:pt x="2730" y="96"/>
                </a:cubicBezTo>
                <a:cubicBezTo>
                  <a:pt x="2730" y="99"/>
                  <a:pt x="2730" y="103"/>
                  <a:pt x="2729" y="107"/>
                </a:cubicBezTo>
                <a:cubicBezTo>
                  <a:pt x="2729" y="106"/>
                  <a:pt x="2729" y="106"/>
                  <a:pt x="2729" y="105"/>
                </a:cubicBezTo>
                <a:cubicBezTo>
                  <a:pt x="2728" y="107"/>
                  <a:pt x="2728" y="112"/>
                  <a:pt x="2728" y="116"/>
                </a:cubicBezTo>
                <a:cubicBezTo>
                  <a:pt x="2727" y="121"/>
                  <a:pt x="2727" y="126"/>
                  <a:pt x="2726" y="130"/>
                </a:cubicBezTo>
                <a:cubicBezTo>
                  <a:pt x="2726" y="129"/>
                  <a:pt x="2726" y="128"/>
                  <a:pt x="2726" y="127"/>
                </a:cubicBezTo>
                <a:cubicBezTo>
                  <a:pt x="2726" y="101"/>
                  <a:pt x="2721" y="63"/>
                  <a:pt x="2720" y="54"/>
                </a:cubicBezTo>
                <a:cubicBezTo>
                  <a:pt x="2720" y="61"/>
                  <a:pt x="2719" y="79"/>
                  <a:pt x="2718" y="96"/>
                </a:cubicBezTo>
                <a:cubicBezTo>
                  <a:pt x="2717" y="94"/>
                  <a:pt x="2716" y="92"/>
                  <a:pt x="2715" y="90"/>
                </a:cubicBezTo>
                <a:cubicBezTo>
                  <a:pt x="2716" y="93"/>
                  <a:pt x="2717" y="95"/>
                  <a:pt x="2718" y="97"/>
                </a:cubicBezTo>
                <a:cubicBezTo>
                  <a:pt x="2716" y="118"/>
                  <a:pt x="2714" y="137"/>
                  <a:pt x="2714" y="137"/>
                </a:cubicBezTo>
                <a:cubicBezTo>
                  <a:pt x="2713" y="136"/>
                  <a:pt x="2713" y="134"/>
                  <a:pt x="2713" y="133"/>
                </a:cubicBezTo>
                <a:cubicBezTo>
                  <a:pt x="2713" y="125"/>
                  <a:pt x="2713" y="118"/>
                  <a:pt x="2712" y="110"/>
                </a:cubicBezTo>
                <a:cubicBezTo>
                  <a:pt x="2711" y="76"/>
                  <a:pt x="2710" y="40"/>
                  <a:pt x="2710" y="40"/>
                </a:cubicBezTo>
                <a:cubicBezTo>
                  <a:pt x="2710" y="49"/>
                  <a:pt x="2705" y="79"/>
                  <a:pt x="2701" y="104"/>
                </a:cubicBezTo>
                <a:cubicBezTo>
                  <a:pt x="2701" y="99"/>
                  <a:pt x="2700" y="95"/>
                  <a:pt x="2699" y="90"/>
                </a:cubicBezTo>
                <a:cubicBezTo>
                  <a:pt x="2700" y="67"/>
                  <a:pt x="2701" y="45"/>
                  <a:pt x="2701" y="45"/>
                </a:cubicBezTo>
                <a:cubicBezTo>
                  <a:pt x="2701" y="53"/>
                  <a:pt x="2695" y="75"/>
                  <a:pt x="2688" y="96"/>
                </a:cubicBezTo>
                <a:cubicBezTo>
                  <a:pt x="2687" y="93"/>
                  <a:pt x="2686" y="89"/>
                  <a:pt x="2684" y="85"/>
                </a:cubicBezTo>
                <a:cubicBezTo>
                  <a:pt x="2691" y="51"/>
                  <a:pt x="2699" y="17"/>
                  <a:pt x="2699" y="17"/>
                </a:cubicBezTo>
                <a:cubicBezTo>
                  <a:pt x="2694" y="24"/>
                  <a:pt x="2679" y="95"/>
                  <a:pt x="2672" y="130"/>
                </a:cubicBezTo>
                <a:cubicBezTo>
                  <a:pt x="2672" y="130"/>
                  <a:pt x="2672" y="130"/>
                  <a:pt x="2672" y="130"/>
                </a:cubicBezTo>
                <a:cubicBezTo>
                  <a:pt x="2676" y="100"/>
                  <a:pt x="2673" y="63"/>
                  <a:pt x="2672" y="52"/>
                </a:cubicBezTo>
                <a:cubicBezTo>
                  <a:pt x="2674" y="72"/>
                  <a:pt x="2668" y="109"/>
                  <a:pt x="2664" y="128"/>
                </a:cubicBezTo>
                <a:cubicBezTo>
                  <a:pt x="2664" y="126"/>
                  <a:pt x="2664" y="123"/>
                  <a:pt x="2663" y="120"/>
                </a:cubicBezTo>
                <a:cubicBezTo>
                  <a:pt x="2665" y="99"/>
                  <a:pt x="2667" y="71"/>
                  <a:pt x="2668" y="65"/>
                </a:cubicBezTo>
                <a:cubicBezTo>
                  <a:pt x="2667" y="71"/>
                  <a:pt x="2664" y="89"/>
                  <a:pt x="2660" y="105"/>
                </a:cubicBezTo>
                <a:cubicBezTo>
                  <a:pt x="2660" y="105"/>
                  <a:pt x="2660" y="105"/>
                  <a:pt x="2660" y="105"/>
                </a:cubicBezTo>
                <a:cubicBezTo>
                  <a:pt x="2660" y="105"/>
                  <a:pt x="2660" y="105"/>
                  <a:pt x="2660" y="105"/>
                </a:cubicBezTo>
                <a:cubicBezTo>
                  <a:pt x="2656" y="125"/>
                  <a:pt x="2653" y="143"/>
                  <a:pt x="2653" y="143"/>
                </a:cubicBezTo>
                <a:cubicBezTo>
                  <a:pt x="2663" y="38"/>
                  <a:pt x="2656" y="25"/>
                  <a:pt x="2656" y="25"/>
                </a:cubicBezTo>
                <a:cubicBezTo>
                  <a:pt x="2659" y="42"/>
                  <a:pt x="2656" y="72"/>
                  <a:pt x="2651" y="96"/>
                </a:cubicBezTo>
                <a:cubicBezTo>
                  <a:pt x="2650" y="89"/>
                  <a:pt x="2648" y="80"/>
                  <a:pt x="2645" y="73"/>
                </a:cubicBezTo>
                <a:cubicBezTo>
                  <a:pt x="2644" y="65"/>
                  <a:pt x="2644" y="60"/>
                  <a:pt x="2644" y="60"/>
                </a:cubicBezTo>
                <a:cubicBezTo>
                  <a:pt x="2644" y="63"/>
                  <a:pt x="2644" y="67"/>
                  <a:pt x="2643" y="71"/>
                </a:cubicBezTo>
                <a:cubicBezTo>
                  <a:pt x="2642" y="69"/>
                  <a:pt x="2641" y="67"/>
                  <a:pt x="2639" y="65"/>
                </a:cubicBezTo>
                <a:cubicBezTo>
                  <a:pt x="2641" y="67"/>
                  <a:pt x="2642" y="70"/>
                  <a:pt x="2643" y="73"/>
                </a:cubicBezTo>
                <a:cubicBezTo>
                  <a:pt x="2643" y="82"/>
                  <a:pt x="2642" y="92"/>
                  <a:pt x="2640" y="101"/>
                </a:cubicBezTo>
                <a:cubicBezTo>
                  <a:pt x="2640" y="95"/>
                  <a:pt x="2637" y="88"/>
                  <a:pt x="2632" y="83"/>
                </a:cubicBezTo>
                <a:cubicBezTo>
                  <a:pt x="2632" y="74"/>
                  <a:pt x="2633" y="68"/>
                  <a:pt x="2633" y="68"/>
                </a:cubicBezTo>
                <a:cubicBezTo>
                  <a:pt x="2632" y="72"/>
                  <a:pt x="2631" y="76"/>
                  <a:pt x="2630" y="81"/>
                </a:cubicBezTo>
                <a:cubicBezTo>
                  <a:pt x="2630" y="81"/>
                  <a:pt x="2629" y="81"/>
                  <a:pt x="2629" y="80"/>
                </a:cubicBezTo>
                <a:cubicBezTo>
                  <a:pt x="2629" y="81"/>
                  <a:pt x="2630" y="81"/>
                  <a:pt x="2630" y="82"/>
                </a:cubicBezTo>
                <a:cubicBezTo>
                  <a:pt x="2627" y="101"/>
                  <a:pt x="2626" y="130"/>
                  <a:pt x="2626" y="142"/>
                </a:cubicBezTo>
                <a:cubicBezTo>
                  <a:pt x="2626" y="143"/>
                  <a:pt x="2625" y="144"/>
                  <a:pt x="2625" y="144"/>
                </a:cubicBezTo>
                <a:cubicBezTo>
                  <a:pt x="2624" y="141"/>
                  <a:pt x="2624" y="136"/>
                  <a:pt x="2624" y="131"/>
                </a:cubicBezTo>
                <a:cubicBezTo>
                  <a:pt x="2625" y="121"/>
                  <a:pt x="2627" y="112"/>
                  <a:pt x="2628" y="103"/>
                </a:cubicBezTo>
                <a:cubicBezTo>
                  <a:pt x="2627" y="108"/>
                  <a:pt x="2626" y="112"/>
                  <a:pt x="2625" y="117"/>
                </a:cubicBezTo>
                <a:cubicBezTo>
                  <a:pt x="2626" y="85"/>
                  <a:pt x="2632" y="45"/>
                  <a:pt x="2632" y="45"/>
                </a:cubicBezTo>
                <a:cubicBezTo>
                  <a:pt x="2625" y="60"/>
                  <a:pt x="2620" y="95"/>
                  <a:pt x="2618" y="120"/>
                </a:cubicBezTo>
                <a:cubicBezTo>
                  <a:pt x="2618" y="123"/>
                  <a:pt x="2617" y="125"/>
                  <a:pt x="2616" y="127"/>
                </a:cubicBezTo>
                <a:cubicBezTo>
                  <a:pt x="2616" y="103"/>
                  <a:pt x="2615" y="70"/>
                  <a:pt x="2615" y="70"/>
                </a:cubicBezTo>
                <a:cubicBezTo>
                  <a:pt x="2615" y="72"/>
                  <a:pt x="2615" y="76"/>
                  <a:pt x="2614" y="81"/>
                </a:cubicBezTo>
                <a:cubicBezTo>
                  <a:pt x="2613" y="73"/>
                  <a:pt x="2611" y="66"/>
                  <a:pt x="2608" y="60"/>
                </a:cubicBezTo>
                <a:cubicBezTo>
                  <a:pt x="2609" y="52"/>
                  <a:pt x="2609" y="46"/>
                  <a:pt x="2609" y="46"/>
                </a:cubicBezTo>
                <a:cubicBezTo>
                  <a:pt x="2607" y="51"/>
                  <a:pt x="2605" y="64"/>
                  <a:pt x="2604" y="79"/>
                </a:cubicBezTo>
                <a:cubicBezTo>
                  <a:pt x="2603" y="77"/>
                  <a:pt x="2603" y="75"/>
                  <a:pt x="2602" y="74"/>
                </a:cubicBezTo>
                <a:cubicBezTo>
                  <a:pt x="2601" y="83"/>
                  <a:pt x="2601" y="92"/>
                  <a:pt x="2601" y="102"/>
                </a:cubicBezTo>
                <a:cubicBezTo>
                  <a:pt x="2601" y="108"/>
                  <a:pt x="2600" y="115"/>
                  <a:pt x="2599" y="121"/>
                </a:cubicBezTo>
                <a:cubicBezTo>
                  <a:pt x="2599" y="123"/>
                  <a:pt x="2599" y="125"/>
                  <a:pt x="2598" y="127"/>
                </a:cubicBezTo>
                <a:cubicBezTo>
                  <a:pt x="2598" y="35"/>
                  <a:pt x="2596" y="34"/>
                  <a:pt x="2596" y="34"/>
                </a:cubicBezTo>
                <a:cubicBezTo>
                  <a:pt x="2598" y="49"/>
                  <a:pt x="2594" y="77"/>
                  <a:pt x="2590" y="102"/>
                </a:cubicBezTo>
                <a:cubicBezTo>
                  <a:pt x="2589" y="94"/>
                  <a:pt x="2587" y="85"/>
                  <a:pt x="2583" y="76"/>
                </a:cubicBezTo>
                <a:cubicBezTo>
                  <a:pt x="2584" y="70"/>
                  <a:pt x="2584" y="66"/>
                  <a:pt x="2584" y="66"/>
                </a:cubicBezTo>
                <a:cubicBezTo>
                  <a:pt x="2584" y="68"/>
                  <a:pt x="2583" y="71"/>
                  <a:pt x="2582" y="74"/>
                </a:cubicBezTo>
                <a:cubicBezTo>
                  <a:pt x="2582" y="73"/>
                  <a:pt x="2581" y="72"/>
                  <a:pt x="2580" y="71"/>
                </a:cubicBezTo>
                <a:cubicBezTo>
                  <a:pt x="2581" y="73"/>
                  <a:pt x="2581" y="74"/>
                  <a:pt x="2582" y="76"/>
                </a:cubicBezTo>
                <a:cubicBezTo>
                  <a:pt x="2580" y="83"/>
                  <a:pt x="2578" y="93"/>
                  <a:pt x="2577" y="103"/>
                </a:cubicBezTo>
                <a:cubicBezTo>
                  <a:pt x="2576" y="98"/>
                  <a:pt x="2575" y="94"/>
                  <a:pt x="2574" y="89"/>
                </a:cubicBezTo>
                <a:cubicBezTo>
                  <a:pt x="2575" y="96"/>
                  <a:pt x="2573" y="104"/>
                  <a:pt x="2571" y="112"/>
                </a:cubicBezTo>
                <a:cubicBezTo>
                  <a:pt x="2571" y="92"/>
                  <a:pt x="2570" y="70"/>
                  <a:pt x="2569" y="62"/>
                </a:cubicBezTo>
                <a:cubicBezTo>
                  <a:pt x="2569" y="67"/>
                  <a:pt x="2569" y="74"/>
                  <a:pt x="2569" y="82"/>
                </a:cubicBezTo>
                <a:cubicBezTo>
                  <a:pt x="2567" y="87"/>
                  <a:pt x="2564" y="94"/>
                  <a:pt x="2562" y="101"/>
                </a:cubicBezTo>
                <a:cubicBezTo>
                  <a:pt x="2562" y="91"/>
                  <a:pt x="2562" y="82"/>
                  <a:pt x="2562" y="75"/>
                </a:cubicBezTo>
                <a:cubicBezTo>
                  <a:pt x="2561" y="86"/>
                  <a:pt x="2559" y="102"/>
                  <a:pt x="2557" y="116"/>
                </a:cubicBezTo>
                <a:cubicBezTo>
                  <a:pt x="2555" y="123"/>
                  <a:pt x="2553" y="130"/>
                  <a:pt x="2551" y="136"/>
                </a:cubicBezTo>
                <a:cubicBezTo>
                  <a:pt x="2551" y="118"/>
                  <a:pt x="2554" y="89"/>
                  <a:pt x="2554" y="89"/>
                </a:cubicBezTo>
                <a:cubicBezTo>
                  <a:pt x="2553" y="93"/>
                  <a:pt x="2552" y="99"/>
                  <a:pt x="2549" y="106"/>
                </a:cubicBezTo>
                <a:cubicBezTo>
                  <a:pt x="2549" y="104"/>
                  <a:pt x="2549" y="101"/>
                  <a:pt x="2548" y="99"/>
                </a:cubicBezTo>
                <a:cubicBezTo>
                  <a:pt x="2548" y="96"/>
                  <a:pt x="2548" y="96"/>
                  <a:pt x="2548" y="96"/>
                </a:cubicBezTo>
                <a:cubicBezTo>
                  <a:pt x="2547" y="95"/>
                  <a:pt x="2547" y="95"/>
                  <a:pt x="2547" y="95"/>
                </a:cubicBezTo>
                <a:cubicBezTo>
                  <a:pt x="2547" y="104"/>
                  <a:pt x="2545" y="113"/>
                  <a:pt x="2543" y="122"/>
                </a:cubicBezTo>
                <a:cubicBezTo>
                  <a:pt x="2541" y="127"/>
                  <a:pt x="2540" y="131"/>
                  <a:pt x="2538" y="134"/>
                </a:cubicBezTo>
                <a:cubicBezTo>
                  <a:pt x="2538" y="130"/>
                  <a:pt x="2538" y="126"/>
                  <a:pt x="2538" y="122"/>
                </a:cubicBezTo>
                <a:cubicBezTo>
                  <a:pt x="2542" y="102"/>
                  <a:pt x="2549" y="76"/>
                  <a:pt x="2549" y="76"/>
                </a:cubicBezTo>
                <a:cubicBezTo>
                  <a:pt x="2544" y="82"/>
                  <a:pt x="2539" y="94"/>
                  <a:pt x="2535" y="105"/>
                </a:cubicBezTo>
                <a:cubicBezTo>
                  <a:pt x="2535" y="102"/>
                  <a:pt x="2534" y="98"/>
                  <a:pt x="2532" y="95"/>
                </a:cubicBezTo>
                <a:cubicBezTo>
                  <a:pt x="2533" y="74"/>
                  <a:pt x="2529" y="62"/>
                  <a:pt x="2529" y="62"/>
                </a:cubicBezTo>
                <a:cubicBezTo>
                  <a:pt x="2531" y="69"/>
                  <a:pt x="2531" y="78"/>
                  <a:pt x="2530" y="88"/>
                </a:cubicBezTo>
                <a:cubicBezTo>
                  <a:pt x="2527" y="83"/>
                  <a:pt x="2524" y="78"/>
                  <a:pt x="2520" y="73"/>
                </a:cubicBezTo>
                <a:cubicBezTo>
                  <a:pt x="2524" y="80"/>
                  <a:pt x="2527" y="92"/>
                  <a:pt x="2528" y="102"/>
                </a:cubicBezTo>
                <a:cubicBezTo>
                  <a:pt x="2527" y="108"/>
                  <a:pt x="2526" y="115"/>
                  <a:pt x="2525" y="120"/>
                </a:cubicBezTo>
                <a:cubicBezTo>
                  <a:pt x="2524" y="113"/>
                  <a:pt x="2523" y="106"/>
                  <a:pt x="2521" y="100"/>
                </a:cubicBezTo>
                <a:cubicBezTo>
                  <a:pt x="2522" y="89"/>
                  <a:pt x="2522" y="82"/>
                  <a:pt x="2522" y="82"/>
                </a:cubicBezTo>
                <a:cubicBezTo>
                  <a:pt x="2521" y="98"/>
                  <a:pt x="2521" y="98"/>
                  <a:pt x="2521" y="98"/>
                </a:cubicBezTo>
                <a:cubicBezTo>
                  <a:pt x="2520" y="94"/>
                  <a:pt x="2519" y="91"/>
                  <a:pt x="2517" y="88"/>
                </a:cubicBezTo>
                <a:cubicBezTo>
                  <a:pt x="2517" y="73"/>
                  <a:pt x="2516" y="60"/>
                  <a:pt x="2516" y="60"/>
                </a:cubicBezTo>
                <a:cubicBezTo>
                  <a:pt x="2516" y="72"/>
                  <a:pt x="2513" y="90"/>
                  <a:pt x="2513" y="90"/>
                </a:cubicBezTo>
                <a:cubicBezTo>
                  <a:pt x="2511" y="84"/>
                  <a:pt x="2511" y="64"/>
                  <a:pt x="2511" y="64"/>
                </a:cubicBezTo>
                <a:cubicBezTo>
                  <a:pt x="2511" y="68"/>
                  <a:pt x="2510" y="83"/>
                  <a:pt x="2508" y="98"/>
                </a:cubicBezTo>
                <a:cubicBezTo>
                  <a:pt x="2508" y="96"/>
                  <a:pt x="2507" y="95"/>
                  <a:pt x="2507" y="93"/>
                </a:cubicBezTo>
                <a:cubicBezTo>
                  <a:pt x="2506" y="88"/>
                  <a:pt x="2504" y="82"/>
                  <a:pt x="2502" y="76"/>
                </a:cubicBezTo>
                <a:cubicBezTo>
                  <a:pt x="2502" y="57"/>
                  <a:pt x="2502" y="42"/>
                  <a:pt x="2502" y="42"/>
                </a:cubicBezTo>
                <a:cubicBezTo>
                  <a:pt x="2502" y="49"/>
                  <a:pt x="2502" y="59"/>
                  <a:pt x="2501" y="70"/>
                </a:cubicBezTo>
                <a:cubicBezTo>
                  <a:pt x="2498" y="64"/>
                  <a:pt x="2496" y="57"/>
                  <a:pt x="2493" y="51"/>
                </a:cubicBezTo>
                <a:cubicBezTo>
                  <a:pt x="2492" y="52"/>
                  <a:pt x="2492" y="54"/>
                  <a:pt x="2492" y="55"/>
                </a:cubicBezTo>
                <a:cubicBezTo>
                  <a:pt x="2496" y="65"/>
                  <a:pt x="2498" y="74"/>
                  <a:pt x="2499" y="82"/>
                </a:cubicBezTo>
                <a:cubicBezTo>
                  <a:pt x="2499" y="88"/>
                  <a:pt x="2498" y="94"/>
                  <a:pt x="2497" y="100"/>
                </a:cubicBezTo>
                <a:cubicBezTo>
                  <a:pt x="2496" y="96"/>
                  <a:pt x="2495" y="92"/>
                  <a:pt x="2494" y="88"/>
                </a:cubicBezTo>
                <a:cubicBezTo>
                  <a:pt x="2495" y="78"/>
                  <a:pt x="2496" y="70"/>
                  <a:pt x="2496" y="70"/>
                </a:cubicBezTo>
                <a:cubicBezTo>
                  <a:pt x="2495" y="72"/>
                  <a:pt x="2494" y="78"/>
                  <a:pt x="2493" y="85"/>
                </a:cubicBezTo>
                <a:cubicBezTo>
                  <a:pt x="2491" y="82"/>
                  <a:pt x="2489" y="79"/>
                  <a:pt x="2487" y="76"/>
                </a:cubicBezTo>
                <a:cubicBezTo>
                  <a:pt x="2486" y="71"/>
                  <a:pt x="2486" y="66"/>
                  <a:pt x="2486" y="61"/>
                </a:cubicBezTo>
                <a:cubicBezTo>
                  <a:pt x="2485" y="73"/>
                  <a:pt x="2483" y="87"/>
                  <a:pt x="2481" y="101"/>
                </a:cubicBezTo>
                <a:cubicBezTo>
                  <a:pt x="2479" y="95"/>
                  <a:pt x="2477" y="90"/>
                  <a:pt x="2475" y="86"/>
                </a:cubicBezTo>
                <a:cubicBezTo>
                  <a:pt x="2476" y="73"/>
                  <a:pt x="2476" y="64"/>
                  <a:pt x="2476" y="64"/>
                </a:cubicBezTo>
                <a:cubicBezTo>
                  <a:pt x="2476" y="71"/>
                  <a:pt x="2474" y="82"/>
                  <a:pt x="2472" y="95"/>
                </a:cubicBezTo>
                <a:cubicBezTo>
                  <a:pt x="2470" y="87"/>
                  <a:pt x="2468" y="79"/>
                  <a:pt x="2464" y="71"/>
                </a:cubicBezTo>
                <a:cubicBezTo>
                  <a:pt x="2466" y="49"/>
                  <a:pt x="2467" y="30"/>
                  <a:pt x="2467" y="30"/>
                </a:cubicBezTo>
                <a:cubicBezTo>
                  <a:pt x="2465" y="35"/>
                  <a:pt x="2463" y="49"/>
                  <a:pt x="2461" y="65"/>
                </a:cubicBezTo>
                <a:cubicBezTo>
                  <a:pt x="2460" y="62"/>
                  <a:pt x="2458" y="59"/>
                  <a:pt x="2456" y="56"/>
                </a:cubicBezTo>
                <a:cubicBezTo>
                  <a:pt x="2456" y="63"/>
                  <a:pt x="2458" y="70"/>
                  <a:pt x="2460" y="78"/>
                </a:cubicBezTo>
                <a:cubicBezTo>
                  <a:pt x="2459" y="87"/>
                  <a:pt x="2458" y="97"/>
                  <a:pt x="2457" y="106"/>
                </a:cubicBezTo>
                <a:cubicBezTo>
                  <a:pt x="2457" y="105"/>
                  <a:pt x="2457" y="104"/>
                  <a:pt x="2456" y="103"/>
                </a:cubicBezTo>
                <a:cubicBezTo>
                  <a:pt x="2457" y="104"/>
                  <a:pt x="2457" y="106"/>
                  <a:pt x="2457" y="109"/>
                </a:cubicBezTo>
                <a:cubicBezTo>
                  <a:pt x="2456" y="120"/>
                  <a:pt x="2455" y="131"/>
                  <a:pt x="2455" y="138"/>
                </a:cubicBezTo>
                <a:cubicBezTo>
                  <a:pt x="2455" y="137"/>
                  <a:pt x="2454" y="135"/>
                  <a:pt x="2454" y="134"/>
                </a:cubicBezTo>
                <a:cubicBezTo>
                  <a:pt x="2453" y="99"/>
                  <a:pt x="2448" y="41"/>
                  <a:pt x="2448" y="41"/>
                </a:cubicBezTo>
                <a:cubicBezTo>
                  <a:pt x="2449" y="58"/>
                  <a:pt x="2448" y="86"/>
                  <a:pt x="2446" y="108"/>
                </a:cubicBezTo>
                <a:cubicBezTo>
                  <a:pt x="2444" y="105"/>
                  <a:pt x="2443" y="102"/>
                  <a:pt x="2441" y="99"/>
                </a:cubicBezTo>
                <a:cubicBezTo>
                  <a:pt x="2441" y="86"/>
                  <a:pt x="2441" y="73"/>
                  <a:pt x="2441" y="67"/>
                </a:cubicBezTo>
                <a:cubicBezTo>
                  <a:pt x="2441" y="75"/>
                  <a:pt x="2440" y="85"/>
                  <a:pt x="2439" y="94"/>
                </a:cubicBezTo>
                <a:cubicBezTo>
                  <a:pt x="2438" y="92"/>
                  <a:pt x="2437" y="91"/>
                  <a:pt x="2436" y="89"/>
                </a:cubicBezTo>
                <a:cubicBezTo>
                  <a:pt x="2437" y="91"/>
                  <a:pt x="2438" y="94"/>
                  <a:pt x="2438" y="97"/>
                </a:cubicBezTo>
                <a:cubicBezTo>
                  <a:pt x="2437" y="104"/>
                  <a:pt x="2436" y="110"/>
                  <a:pt x="2434" y="116"/>
                </a:cubicBezTo>
                <a:cubicBezTo>
                  <a:pt x="2433" y="110"/>
                  <a:pt x="2432" y="105"/>
                  <a:pt x="2430" y="101"/>
                </a:cubicBezTo>
                <a:cubicBezTo>
                  <a:pt x="2431" y="91"/>
                  <a:pt x="2432" y="83"/>
                  <a:pt x="2432" y="83"/>
                </a:cubicBezTo>
                <a:cubicBezTo>
                  <a:pt x="2432" y="86"/>
                  <a:pt x="2431" y="92"/>
                  <a:pt x="2429" y="98"/>
                </a:cubicBezTo>
                <a:cubicBezTo>
                  <a:pt x="2428" y="94"/>
                  <a:pt x="2427" y="91"/>
                  <a:pt x="2426" y="89"/>
                </a:cubicBezTo>
                <a:cubicBezTo>
                  <a:pt x="2427" y="74"/>
                  <a:pt x="2428" y="62"/>
                  <a:pt x="2428" y="62"/>
                </a:cubicBezTo>
                <a:cubicBezTo>
                  <a:pt x="2427" y="65"/>
                  <a:pt x="2426" y="75"/>
                  <a:pt x="2424" y="87"/>
                </a:cubicBezTo>
                <a:cubicBezTo>
                  <a:pt x="2422" y="83"/>
                  <a:pt x="2420" y="81"/>
                  <a:pt x="2417" y="78"/>
                </a:cubicBezTo>
                <a:cubicBezTo>
                  <a:pt x="2420" y="81"/>
                  <a:pt x="2422" y="84"/>
                  <a:pt x="2424" y="89"/>
                </a:cubicBezTo>
                <a:cubicBezTo>
                  <a:pt x="2423" y="96"/>
                  <a:pt x="2422" y="105"/>
                  <a:pt x="2421" y="113"/>
                </a:cubicBezTo>
                <a:cubicBezTo>
                  <a:pt x="2420" y="108"/>
                  <a:pt x="2419" y="104"/>
                  <a:pt x="2417" y="100"/>
                </a:cubicBezTo>
                <a:cubicBezTo>
                  <a:pt x="2416" y="86"/>
                  <a:pt x="2414" y="74"/>
                  <a:pt x="2413" y="68"/>
                </a:cubicBezTo>
                <a:cubicBezTo>
                  <a:pt x="2413" y="71"/>
                  <a:pt x="2414" y="76"/>
                  <a:pt x="2413" y="86"/>
                </a:cubicBezTo>
                <a:cubicBezTo>
                  <a:pt x="2413" y="87"/>
                  <a:pt x="2413" y="88"/>
                  <a:pt x="2413" y="90"/>
                </a:cubicBezTo>
                <a:cubicBezTo>
                  <a:pt x="2412" y="87"/>
                  <a:pt x="2410" y="84"/>
                  <a:pt x="2408" y="81"/>
                </a:cubicBezTo>
                <a:cubicBezTo>
                  <a:pt x="2411" y="85"/>
                  <a:pt x="2412" y="91"/>
                  <a:pt x="2412" y="96"/>
                </a:cubicBezTo>
                <a:cubicBezTo>
                  <a:pt x="2411" y="105"/>
                  <a:pt x="2409" y="115"/>
                  <a:pt x="2407" y="124"/>
                </a:cubicBezTo>
                <a:cubicBezTo>
                  <a:pt x="2407" y="113"/>
                  <a:pt x="2406" y="102"/>
                  <a:pt x="2404" y="91"/>
                </a:cubicBezTo>
                <a:cubicBezTo>
                  <a:pt x="2404" y="77"/>
                  <a:pt x="2404" y="77"/>
                  <a:pt x="2404" y="77"/>
                </a:cubicBezTo>
                <a:cubicBezTo>
                  <a:pt x="2407" y="35"/>
                  <a:pt x="2400" y="19"/>
                  <a:pt x="2400" y="19"/>
                </a:cubicBezTo>
                <a:cubicBezTo>
                  <a:pt x="2400" y="19"/>
                  <a:pt x="2403" y="31"/>
                  <a:pt x="2402" y="54"/>
                </a:cubicBezTo>
                <a:cubicBezTo>
                  <a:pt x="2401" y="59"/>
                  <a:pt x="2401" y="68"/>
                  <a:pt x="2400" y="78"/>
                </a:cubicBezTo>
                <a:cubicBezTo>
                  <a:pt x="2397" y="72"/>
                  <a:pt x="2394" y="66"/>
                  <a:pt x="2390" y="60"/>
                </a:cubicBezTo>
                <a:cubicBezTo>
                  <a:pt x="2390" y="61"/>
                  <a:pt x="2390" y="61"/>
                  <a:pt x="2390" y="61"/>
                </a:cubicBezTo>
                <a:cubicBezTo>
                  <a:pt x="2390" y="62"/>
                  <a:pt x="2390" y="63"/>
                  <a:pt x="2390" y="64"/>
                </a:cubicBezTo>
                <a:cubicBezTo>
                  <a:pt x="2388" y="44"/>
                  <a:pt x="2381" y="40"/>
                  <a:pt x="2381" y="40"/>
                </a:cubicBezTo>
                <a:cubicBezTo>
                  <a:pt x="2381" y="40"/>
                  <a:pt x="2387" y="44"/>
                  <a:pt x="2387" y="70"/>
                </a:cubicBezTo>
                <a:cubicBezTo>
                  <a:pt x="2387" y="76"/>
                  <a:pt x="2386" y="85"/>
                  <a:pt x="2384" y="94"/>
                </a:cubicBezTo>
                <a:cubicBezTo>
                  <a:pt x="2382" y="90"/>
                  <a:pt x="2379" y="86"/>
                  <a:pt x="2376" y="83"/>
                </a:cubicBezTo>
                <a:cubicBezTo>
                  <a:pt x="2379" y="87"/>
                  <a:pt x="2382" y="92"/>
                  <a:pt x="2384" y="97"/>
                </a:cubicBezTo>
                <a:cubicBezTo>
                  <a:pt x="2383" y="100"/>
                  <a:pt x="2383" y="103"/>
                  <a:pt x="2382" y="106"/>
                </a:cubicBezTo>
                <a:cubicBezTo>
                  <a:pt x="2381" y="104"/>
                  <a:pt x="2381" y="102"/>
                  <a:pt x="2380" y="100"/>
                </a:cubicBezTo>
                <a:cubicBezTo>
                  <a:pt x="2381" y="102"/>
                  <a:pt x="2381" y="105"/>
                  <a:pt x="2382" y="108"/>
                </a:cubicBezTo>
                <a:cubicBezTo>
                  <a:pt x="2381" y="111"/>
                  <a:pt x="2380" y="114"/>
                  <a:pt x="2379" y="117"/>
                </a:cubicBezTo>
                <a:cubicBezTo>
                  <a:pt x="2378" y="113"/>
                  <a:pt x="2376" y="108"/>
                  <a:pt x="2374" y="104"/>
                </a:cubicBezTo>
                <a:cubicBezTo>
                  <a:pt x="2375" y="87"/>
                  <a:pt x="2376" y="71"/>
                  <a:pt x="2376" y="71"/>
                </a:cubicBezTo>
                <a:cubicBezTo>
                  <a:pt x="2375" y="73"/>
                  <a:pt x="2373" y="84"/>
                  <a:pt x="2371" y="97"/>
                </a:cubicBezTo>
                <a:cubicBezTo>
                  <a:pt x="2370" y="95"/>
                  <a:pt x="2369" y="93"/>
                  <a:pt x="2368" y="92"/>
                </a:cubicBezTo>
                <a:cubicBezTo>
                  <a:pt x="2369" y="81"/>
                  <a:pt x="2370" y="72"/>
                  <a:pt x="2371" y="66"/>
                </a:cubicBezTo>
                <a:cubicBezTo>
                  <a:pt x="2370" y="73"/>
                  <a:pt x="2369" y="81"/>
                  <a:pt x="2367" y="90"/>
                </a:cubicBezTo>
                <a:cubicBezTo>
                  <a:pt x="2366" y="88"/>
                  <a:pt x="2364" y="86"/>
                  <a:pt x="2362" y="83"/>
                </a:cubicBezTo>
                <a:cubicBezTo>
                  <a:pt x="2366" y="26"/>
                  <a:pt x="2364" y="12"/>
                  <a:pt x="2364" y="12"/>
                </a:cubicBezTo>
                <a:cubicBezTo>
                  <a:pt x="2364" y="12"/>
                  <a:pt x="2364" y="18"/>
                  <a:pt x="2361" y="56"/>
                </a:cubicBezTo>
                <a:cubicBezTo>
                  <a:pt x="2360" y="64"/>
                  <a:pt x="2359" y="71"/>
                  <a:pt x="2358" y="78"/>
                </a:cubicBezTo>
                <a:cubicBezTo>
                  <a:pt x="2356" y="76"/>
                  <a:pt x="2353" y="73"/>
                  <a:pt x="2351" y="71"/>
                </a:cubicBezTo>
                <a:cubicBezTo>
                  <a:pt x="2352" y="48"/>
                  <a:pt x="2353" y="31"/>
                  <a:pt x="2353" y="31"/>
                </a:cubicBezTo>
                <a:cubicBezTo>
                  <a:pt x="2351" y="37"/>
                  <a:pt x="2349" y="52"/>
                  <a:pt x="2348" y="68"/>
                </a:cubicBezTo>
                <a:cubicBezTo>
                  <a:pt x="2346" y="66"/>
                  <a:pt x="2344" y="65"/>
                  <a:pt x="2342" y="63"/>
                </a:cubicBezTo>
                <a:cubicBezTo>
                  <a:pt x="2344" y="65"/>
                  <a:pt x="2346" y="67"/>
                  <a:pt x="2348" y="69"/>
                </a:cubicBezTo>
                <a:cubicBezTo>
                  <a:pt x="2347" y="82"/>
                  <a:pt x="2347" y="96"/>
                  <a:pt x="2346" y="109"/>
                </a:cubicBezTo>
                <a:cubicBezTo>
                  <a:pt x="2345" y="104"/>
                  <a:pt x="2343" y="99"/>
                  <a:pt x="2342" y="96"/>
                </a:cubicBezTo>
                <a:cubicBezTo>
                  <a:pt x="2343" y="104"/>
                  <a:pt x="2344" y="112"/>
                  <a:pt x="2346" y="120"/>
                </a:cubicBezTo>
                <a:cubicBezTo>
                  <a:pt x="2346" y="123"/>
                  <a:pt x="2346" y="126"/>
                  <a:pt x="2346" y="128"/>
                </a:cubicBezTo>
                <a:cubicBezTo>
                  <a:pt x="2345" y="125"/>
                  <a:pt x="2343" y="122"/>
                  <a:pt x="2342" y="118"/>
                </a:cubicBezTo>
                <a:cubicBezTo>
                  <a:pt x="2337" y="80"/>
                  <a:pt x="2330" y="28"/>
                  <a:pt x="2330" y="28"/>
                </a:cubicBezTo>
                <a:cubicBezTo>
                  <a:pt x="2330" y="39"/>
                  <a:pt x="2328" y="72"/>
                  <a:pt x="2326" y="100"/>
                </a:cubicBezTo>
                <a:cubicBezTo>
                  <a:pt x="2326" y="98"/>
                  <a:pt x="2325" y="97"/>
                  <a:pt x="2324" y="96"/>
                </a:cubicBezTo>
                <a:cubicBezTo>
                  <a:pt x="2325" y="97"/>
                  <a:pt x="2326" y="99"/>
                  <a:pt x="2326" y="100"/>
                </a:cubicBezTo>
                <a:cubicBezTo>
                  <a:pt x="2326" y="110"/>
                  <a:pt x="2325" y="120"/>
                  <a:pt x="2324" y="128"/>
                </a:cubicBezTo>
                <a:cubicBezTo>
                  <a:pt x="2324" y="128"/>
                  <a:pt x="2324" y="127"/>
                  <a:pt x="2324" y="127"/>
                </a:cubicBezTo>
                <a:cubicBezTo>
                  <a:pt x="2324" y="109"/>
                  <a:pt x="2322" y="87"/>
                  <a:pt x="2321" y="71"/>
                </a:cubicBezTo>
                <a:cubicBezTo>
                  <a:pt x="2322" y="68"/>
                  <a:pt x="2323" y="66"/>
                  <a:pt x="2324" y="64"/>
                </a:cubicBezTo>
                <a:cubicBezTo>
                  <a:pt x="2323" y="65"/>
                  <a:pt x="2322" y="67"/>
                  <a:pt x="2320" y="69"/>
                </a:cubicBezTo>
                <a:cubicBezTo>
                  <a:pt x="2320" y="61"/>
                  <a:pt x="2319" y="55"/>
                  <a:pt x="2319" y="53"/>
                </a:cubicBezTo>
                <a:cubicBezTo>
                  <a:pt x="2319" y="52"/>
                  <a:pt x="2320" y="52"/>
                  <a:pt x="2320" y="51"/>
                </a:cubicBezTo>
                <a:cubicBezTo>
                  <a:pt x="2320" y="51"/>
                  <a:pt x="2319" y="52"/>
                  <a:pt x="2319" y="52"/>
                </a:cubicBezTo>
                <a:cubicBezTo>
                  <a:pt x="2319" y="52"/>
                  <a:pt x="2319" y="52"/>
                  <a:pt x="2319" y="52"/>
                </a:cubicBezTo>
                <a:cubicBezTo>
                  <a:pt x="2319" y="52"/>
                  <a:pt x="2319" y="52"/>
                  <a:pt x="2319" y="52"/>
                </a:cubicBezTo>
                <a:cubicBezTo>
                  <a:pt x="2317" y="54"/>
                  <a:pt x="2315" y="56"/>
                  <a:pt x="2313" y="57"/>
                </a:cubicBezTo>
                <a:cubicBezTo>
                  <a:pt x="2314" y="54"/>
                  <a:pt x="2314" y="52"/>
                  <a:pt x="2314" y="50"/>
                </a:cubicBezTo>
                <a:cubicBezTo>
                  <a:pt x="2318" y="46"/>
                  <a:pt x="2321" y="42"/>
                  <a:pt x="2325" y="38"/>
                </a:cubicBezTo>
                <a:cubicBezTo>
                  <a:pt x="2321" y="41"/>
                  <a:pt x="2318" y="44"/>
                  <a:pt x="2315" y="47"/>
                </a:cubicBezTo>
                <a:cubicBezTo>
                  <a:pt x="2315" y="43"/>
                  <a:pt x="2316" y="40"/>
                  <a:pt x="2316" y="40"/>
                </a:cubicBezTo>
                <a:cubicBezTo>
                  <a:pt x="2315" y="43"/>
                  <a:pt x="2313" y="46"/>
                  <a:pt x="2312" y="50"/>
                </a:cubicBezTo>
                <a:cubicBezTo>
                  <a:pt x="2305" y="58"/>
                  <a:pt x="2300" y="66"/>
                  <a:pt x="2296" y="75"/>
                </a:cubicBezTo>
                <a:cubicBezTo>
                  <a:pt x="2295" y="70"/>
                  <a:pt x="2295" y="66"/>
                  <a:pt x="2295" y="63"/>
                </a:cubicBezTo>
                <a:cubicBezTo>
                  <a:pt x="2298" y="57"/>
                  <a:pt x="2301" y="50"/>
                  <a:pt x="2305" y="42"/>
                </a:cubicBezTo>
                <a:cubicBezTo>
                  <a:pt x="2296" y="52"/>
                  <a:pt x="2290" y="61"/>
                  <a:pt x="2286" y="71"/>
                </a:cubicBezTo>
                <a:cubicBezTo>
                  <a:pt x="2285" y="70"/>
                  <a:pt x="2284" y="70"/>
                  <a:pt x="2284" y="69"/>
                </a:cubicBezTo>
                <a:cubicBezTo>
                  <a:pt x="2284" y="68"/>
                  <a:pt x="2284" y="67"/>
                  <a:pt x="2283" y="65"/>
                </a:cubicBezTo>
                <a:cubicBezTo>
                  <a:pt x="2290" y="53"/>
                  <a:pt x="2298" y="41"/>
                  <a:pt x="2309" y="25"/>
                </a:cubicBezTo>
                <a:cubicBezTo>
                  <a:pt x="2298" y="40"/>
                  <a:pt x="2290" y="51"/>
                  <a:pt x="2283" y="63"/>
                </a:cubicBezTo>
                <a:cubicBezTo>
                  <a:pt x="2281" y="45"/>
                  <a:pt x="2279" y="30"/>
                  <a:pt x="2279" y="30"/>
                </a:cubicBezTo>
                <a:cubicBezTo>
                  <a:pt x="2280" y="35"/>
                  <a:pt x="2280" y="49"/>
                  <a:pt x="2280" y="65"/>
                </a:cubicBezTo>
                <a:cubicBezTo>
                  <a:pt x="2280" y="65"/>
                  <a:pt x="2279" y="65"/>
                  <a:pt x="2279" y="65"/>
                </a:cubicBezTo>
                <a:cubicBezTo>
                  <a:pt x="2279" y="65"/>
                  <a:pt x="2280" y="65"/>
                  <a:pt x="2280" y="65"/>
                </a:cubicBezTo>
                <a:cubicBezTo>
                  <a:pt x="2280" y="67"/>
                  <a:pt x="2280" y="69"/>
                  <a:pt x="2279" y="71"/>
                </a:cubicBezTo>
                <a:cubicBezTo>
                  <a:pt x="2278" y="74"/>
                  <a:pt x="2277" y="78"/>
                  <a:pt x="2276" y="81"/>
                </a:cubicBezTo>
                <a:cubicBezTo>
                  <a:pt x="2277" y="78"/>
                  <a:pt x="2278" y="76"/>
                  <a:pt x="2279" y="73"/>
                </a:cubicBezTo>
                <a:cubicBezTo>
                  <a:pt x="2279" y="79"/>
                  <a:pt x="2279" y="85"/>
                  <a:pt x="2279" y="91"/>
                </a:cubicBezTo>
                <a:cubicBezTo>
                  <a:pt x="2278" y="93"/>
                  <a:pt x="2278" y="95"/>
                  <a:pt x="2278" y="97"/>
                </a:cubicBezTo>
                <a:cubicBezTo>
                  <a:pt x="2277" y="96"/>
                  <a:pt x="2276" y="95"/>
                  <a:pt x="2276" y="94"/>
                </a:cubicBezTo>
                <a:cubicBezTo>
                  <a:pt x="2275" y="91"/>
                  <a:pt x="2275" y="88"/>
                  <a:pt x="2275" y="85"/>
                </a:cubicBezTo>
                <a:cubicBezTo>
                  <a:pt x="2275" y="83"/>
                  <a:pt x="2276" y="82"/>
                  <a:pt x="2276" y="81"/>
                </a:cubicBezTo>
                <a:cubicBezTo>
                  <a:pt x="2276" y="82"/>
                  <a:pt x="2275" y="83"/>
                  <a:pt x="2275" y="84"/>
                </a:cubicBezTo>
                <a:cubicBezTo>
                  <a:pt x="2274" y="72"/>
                  <a:pt x="2273" y="62"/>
                  <a:pt x="2273" y="55"/>
                </a:cubicBezTo>
                <a:cubicBezTo>
                  <a:pt x="2274" y="54"/>
                  <a:pt x="2275" y="53"/>
                  <a:pt x="2277" y="52"/>
                </a:cubicBezTo>
                <a:cubicBezTo>
                  <a:pt x="2275" y="53"/>
                  <a:pt x="2274" y="54"/>
                  <a:pt x="2273" y="54"/>
                </a:cubicBezTo>
                <a:cubicBezTo>
                  <a:pt x="2273" y="49"/>
                  <a:pt x="2272" y="46"/>
                  <a:pt x="2272" y="46"/>
                </a:cubicBezTo>
                <a:cubicBezTo>
                  <a:pt x="2272" y="48"/>
                  <a:pt x="2272" y="51"/>
                  <a:pt x="2272" y="55"/>
                </a:cubicBezTo>
                <a:cubicBezTo>
                  <a:pt x="2269" y="57"/>
                  <a:pt x="2266" y="59"/>
                  <a:pt x="2263" y="62"/>
                </a:cubicBezTo>
                <a:cubicBezTo>
                  <a:pt x="2263" y="58"/>
                  <a:pt x="2263" y="54"/>
                  <a:pt x="2263" y="50"/>
                </a:cubicBezTo>
                <a:cubicBezTo>
                  <a:pt x="2267" y="45"/>
                  <a:pt x="2272" y="40"/>
                  <a:pt x="2277" y="34"/>
                </a:cubicBezTo>
                <a:cubicBezTo>
                  <a:pt x="2272" y="39"/>
                  <a:pt x="2267" y="44"/>
                  <a:pt x="2263" y="48"/>
                </a:cubicBezTo>
                <a:cubicBezTo>
                  <a:pt x="2265" y="21"/>
                  <a:pt x="2266" y="0"/>
                  <a:pt x="2266" y="0"/>
                </a:cubicBezTo>
                <a:cubicBezTo>
                  <a:pt x="2262" y="10"/>
                  <a:pt x="2260" y="35"/>
                  <a:pt x="2259" y="53"/>
                </a:cubicBezTo>
                <a:cubicBezTo>
                  <a:pt x="2258" y="54"/>
                  <a:pt x="2257" y="55"/>
                  <a:pt x="2257" y="56"/>
                </a:cubicBezTo>
                <a:cubicBezTo>
                  <a:pt x="2255" y="44"/>
                  <a:pt x="2252" y="33"/>
                  <a:pt x="2252" y="33"/>
                </a:cubicBezTo>
                <a:cubicBezTo>
                  <a:pt x="2253" y="39"/>
                  <a:pt x="2253" y="49"/>
                  <a:pt x="2252" y="62"/>
                </a:cubicBezTo>
                <a:cubicBezTo>
                  <a:pt x="2250" y="63"/>
                  <a:pt x="2249" y="65"/>
                  <a:pt x="2248" y="67"/>
                </a:cubicBezTo>
                <a:cubicBezTo>
                  <a:pt x="2247" y="65"/>
                  <a:pt x="2246" y="63"/>
                  <a:pt x="2245" y="62"/>
                </a:cubicBezTo>
                <a:cubicBezTo>
                  <a:pt x="2245" y="63"/>
                  <a:pt x="2246" y="65"/>
                  <a:pt x="2247" y="68"/>
                </a:cubicBezTo>
                <a:cubicBezTo>
                  <a:pt x="2244" y="72"/>
                  <a:pt x="2242" y="75"/>
                  <a:pt x="2241" y="78"/>
                </a:cubicBezTo>
                <a:cubicBezTo>
                  <a:pt x="2240" y="61"/>
                  <a:pt x="2240" y="48"/>
                  <a:pt x="2240" y="48"/>
                </a:cubicBezTo>
                <a:cubicBezTo>
                  <a:pt x="2239" y="52"/>
                  <a:pt x="2238" y="65"/>
                  <a:pt x="2236" y="80"/>
                </a:cubicBezTo>
                <a:cubicBezTo>
                  <a:pt x="2235" y="82"/>
                  <a:pt x="2235" y="85"/>
                  <a:pt x="2234" y="87"/>
                </a:cubicBezTo>
                <a:cubicBezTo>
                  <a:pt x="2233" y="86"/>
                  <a:pt x="2233" y="86"/>
                  <a:pt x="2232" y="85"/>
                </a:cubicBezTo>
                <a:cubicBezTo>
                  <a:pt x="2235" y="48"/>
                  <a:pt x="2238" y="9"/>
                  <a:pt x="2238" y="9"/>
                </a:cubicBezTo>
                <a:cubicBezTo>
                  <a:pt x="2234" y="20"/>
                  <a:pt x="2230" y="57"/>
                  <a:pt x="2226" y="89"/>
                </a:cubicBezTo>
                <a:cubicBezTo>
                  <a:pt x="2225" y="91"/>
                  <a:pt x="2224" y="92"/>
                  <a:pt x="2224" y="93"/>
                </a:cubicBezTo>
                <a:cubicBezTo>
                  <a:pt x="2223" y="92"/>
                  <a:pt x="2222" y="90"/>
                  <a:pt x="2221" y="89"/>
                </a:cubicBezTo>
                <a:cubicBezTo>
                  <a:pt x="2224" y="72"/>
                  <a:pt x="2227" y="55"/>
                  <a:pt x="2227" y="37"/>
                </a:cubicBezTo>
                <a:cubicBezTo>
                  <a:pt x="2227" y="34"/>
                  <a:pt x="2227" y="30"/>
                  <a:pt x="2227" y="26"/>
                </a:cubicBezTo>
                <a:cubicBezTo>
                  <a:pt x="2220" y="45"/>
                  <a:pt x="2219" y="66"/>
                  <a:pt x="2215" y="86"/>
                </a:cubicBezTo>
                <a:cubicBezTo>
                  <a:pt x="2214" y="85"/>
                  <a:pt x="2214" y="84"/>
                  <a:pt x="2214" y="84"/>
                </a:cubicBezTo>
                <a:cubicBezTo>
                  <a:pt x="2214" y="84"/>
                  <a:pt x="2214" y="85"/>
                  <a:pt x="2215" y="86"/>
                </a:cubicBezTo>
                <a:cubicBezTo>
                  <a:pt x="2214" y="88"/>
                  <a:pt x="2214" y="90"/>
                  <a:pt x="2214" y="92"/>
                </a:cubicBezTo>
                <a:cubicBezTo>
                  <a:pt x="2213" y="94"/>
                  <a:pt x="2213" y="96"/>
                  <a:pt x="2212" y="98"/>
                </a:cubicBezTo>
                <a:cubicBezTo>
                  <a:pt x="2212" y="97"/>
                  <a:pt x="2211" y="96"/>
                  <a:pt x="2210" y="95"/>
                </a:cubicBezTo>
                <a:cubicBezTo>
                  <a:pt x="2210" y="86"/>
                  <a:pt x="2209" y="78"/>
                  <a:pt x="2208" y="72"/>
                </a:cubicBezTo>
                <a:cubicBezTo>
                  <a:pt x="2211" y="67"/>
                  <a:pt x="2215" y="63"/>
                  <a:pt x="2219" y="59"/>
                </a:cubicBezTo>
                <a:cubicBezTo>
                  <a:pt x="2215" y="62"/>
                  <a:pt x="2211" y="66"/>
                  <a:pt x="2208" y="70"/>
                </a:cubicBezTo>
                <a:cubicBezTo>
                  <a:pt x="2207" y="64"/>
                  <a:pt x="2207" y="60"/>
                  <a:pt x="2206" y="57"/>
                </a:cubicBezTo>
                <a:cubicBezTo>
                  <a:pt x="2207" y="54"/>
                  <a:pt x="2209" y="52"/>
                  <a:pt x="2210" y="50"/>
                </a:cubicBezTo>
                <a:cubicBezTo>
                  <a:pt x="2209" y="51"/>
                  <a:pt x="2207" y="53"/>
                  <a:pt x="2206" y="54"/>
                </a:cubicBezTo>
                <a:cubicBezTo>
                  <a:pt x="2206" y="53"/>
                  <a:pt x="2206" y="52"/>
                  <a:pt x="2206" y="52"/>
                </a:cubicBezTo>
                <a:cubicBezTo>
                  <a:pt x="2206" y="53"/>
                  <a:pt x="2206" y="54"/>
                  <a:pt x="2206" y="54"/>
                </a:cubicBezTo>
                <a:cubicBezTo>
                  <a:pt x="2204" y="56"/>
                  <a:pt x="2202" y="58"/>
                  <a:pt x="2200" y="60"/>
                </a:cubicBezTo>
                <a:cubicBezTo>
                  <a:pt x="2199" y="54"/>
                  <a:pt x="2198" y="48"/>
                  <a:pt x="2197" y="44"/>
                </a:cubicBezTo>
                <a:cubicBezTo>
                  <a:pt x="2198" y="49"/>
                  <a:pt x="2197" y="56"/>
                  <a:pt x="2196" y="64"/>
                </a:cubicBezTo>
                <a:cubicBezTo>
                  <a:pt x="2195" y="66"/>
                  <a:pt x="2194" y="68"/>
                  <a:pt x="2193" y="69"/>
                </a:cubicBezTo>
                <a:cubicBezTo>
                  <a:pt x="2191" y="67"/>
                  <a:pt x="2190" y="66"/>
                  <a:pt x="2188" y="64"/>
                </a:cubicBezTo>
                <a:cubicBezTo>
                  <a:pt x="2190" y="66"/>
                  <a:pt x="2191" y="67"/>
                  <a:pt x="2193" y="69"/>
                </a:cubicBezTo>
                <a:cubicBezTo>
                  <a:pt x="2191" y="71"/>
                  <a:pt x="2190" y="73"/>
                  <a:pt x="2189" y="75"/>
                </a:cubicBezTo>
                <a:cubicBezTo>
                  <a:pt x="2189" y="75"/>
                  <a:pt x="2189" y="75"/>
                  <a:pt x="2189" y="75"/>
                </a:cubicBezTo>
                <a:cubicBezTo>
                  <a:pt x="2189" y="75"/>
                  <a:pt x="2189" y="75"/>
                  <a:pt x="2189" y="75"/>
                </a:cubicBezTo>
                <a:cubicBezTo>
                  <a:pt x="2188" y="76"/>
                  <a:pt x="2187" y="77"/>
                  <a:pt x="2186" y="79"/>
                </a:cubicBezTo>
                <a:cubicBezTo>
                  <a:pt x="2186" y="79"/>
                  <a:pt x="2186" y="79"/>
                  <a:pt x="2186" y="79"/>
                </a:cubicBezTo>
                <a:cubicBezTo>
                  <a:pt x="2187" y="60"/>
                  <a:pt x="2187" y="45"/>
                  <a:pt x="2187" y="45"/>
                </a:cubicBezTo>
                <a:cubicBezTo>
                  <a:pt x="2187" y="50"/>
                  <a:pt x="2185" y="61"/>
                  <a:pt x="2182" y="73"/>
                </a:cubicBezTo>
                <a:cubicBezTo>
                  <a:pt x="2181" y="73"/>
                  <a:pt x="2181" y="73"/>
                  <a:pt x="2180" y="72"/>
                </a:cubicBezTo>
                <a:cubicBezTo>
                  <a:pt x="2181" y="70"/>
                  <a:pt x="2181" y="68"/>
                  <a:pt x="2181" y="66"/>
                </a:cubicBezTo>
                <a:cubicBezTo>
                  <a:pt x="2181" y="65"/>
                  <a:pt x="2181" y="65"/>
                  <a:pt x="2182" y="65"/>
                </a:cubicBezTo>
                <a:cubicBezTo>
                  <a:pt x="2181" y="65"/>
                  <a:pt x="2181" y="65"/>
                  <a:pt x="2181" y="66"/>
                </a:cubicBezTo>
                <a:cubicBezTo>
                  <a:pt x="2181" y="64"/>
                  <a:pt x="2181" y="63"/>
                  <a:pt x="2181" y="61"/>
                </a:cubicBezTo>
                <a:cubicBezTo>
                  <a:pt x="2181" y="55"/>
                  <a:pt x="2181" y="49"/>
                  <a:pt x="2180" y="42"/>
                </a:cubicBezTo>
                <a:cubicBezTo>
                  <a:pt x="2183" y="27"/>
                  <a:pt x="2185" y="17"/>
                  <a:pt x="2185" y="17"/>
                </a:cubicBezTo>
                <a:cubicBezTo>
                  <a:pt x="2182" y="22"/>
                  <a:pt x="2175" y="49"/>
                  <a:pt x="2169" y="78"/>
                </a:cubicBezTo>
                <a:cubicBezTo>
                  <a:pt x="2169" y="78"/>
                  <a:pt x="2169" y="78"/>
                  <a:pt x="2168" y="79"/>
                </a:cubicBezTo>
                <a:cubicBezTo>
                  <a:pt x="2167" y="76"/>
                  <a:pt x="2164" y="72"/>
                  <a:pt x="2162" y="69"/>
                </a:cubicBezTo>
                <a:cubicBezTo>
                  <a:pt x="2163" y="67"/>
                  <a:pt x="2165" y="66"/>
                  <a:pt x="2167" y="64"/>
                </a:cubicBezTo>
                <a:cubicBezTo>
                  <a:pt x="2165" y="66"/>
                  <a:pt x="2163" y="67"/>
                  <a:pt x="2162" y="69"/>
                </a:cubicBezTo>
                <a:cubicBezTo>
                  <a:pt x="2161" y="68"/>
                  <a:pt x="2160" y="67"/>
                  <a:pt x="2159" y="66"/>
                </a:cubicBezTo>
                <a:cubicBezTo>
                  <a:pt x="2159" y="60"/>
                  <a:pt x="2158" y="55"/>
                  <a:pt x="2158" y="52"/>
                </a:cubicBezTo>
                <a:cubicBezTo>
                  <a:pt x="2158" y="56"/>
                  <a:pt x="2158" y="60"/>
                  <a:pt x="2158" y="64"/>
                </a:cubicBezTo>
                <a:cubicBezTo>
                  <a:pt x="2154" y="60"/>
                  <a:pt x="2150" y="55"/>
                  <a:pt x="2145" y="50"/>
                </a:cubicBezTo>
                <a:cubicBezTo>
                  <a:pt x="2148" y="55"/>
                  <a:pt x="2151" y="60"/>
                  <a:pt x="2154" y="65"/>
                </a:cubicBezTo>
                <a:cubicBezTo>
                  <a:pt x="2153" y="68"/>
                  <a:pt x="2153" y="71"/>
                  <a:pt x="2152" y="76"/>
                </a:cubicBezTo>
                <a:cubicBezTo>
                  <a:pt x="2150" y="74"/>
                  <a:pt x="2148" y="71"/>
                  <a:pt x="2145" y="68"/>
                </a:cubicBezTo>
                <a:cubicBezTo>
                  <a:pt x="2145" y="54"/>
                  <a:pt x="2144" y="41"/>
                  <a:pt x="2143" y="33"/>
                </a:cubicBezTo>
                <a:cubicBezTo>
                  <a:pt x="2144" y="42"/>
                  <a:pt x="2143" y="53"/>
                  <a:pt x="2142" y="65"/>
                </a:cubicBezTo>
                <a:cubicBezTo>
                  <a:pt x="2140" y="63"/>
                  <a:pt x="2138" y="61"/>
                  <a:pt x="2136" y="59"/>
                </a:cubicBezTo>
                <a:cubicBezTo>
                  <a:pt x="2138" y="61"/>
                  <a:pt x="2140" y="63"/>
                  <a:pt x="2142" y="65"/>
                </a:cubicBezTo>
                <a:cubicBezTo>
                  <a:pt x="2141" y="72"/>
                  <a:pt x="2140" y="80"/>
                  <a:pt x="2139" y="87"/>
                </a:cubicBezTo>
                <a:cubicBezTo>
                  <a:pt x="2139" y="87"/>
                  <a:pt x="2139" y="87"/>
                  <a:pt x="2139" y="87"/>
                </a:cubicBezTo>
                <a:cubicBezTo>
                  <a:pt x="2138" y="85"/>
                  <a:pt x="2138" y="84"/>
                  <a:pt x="2137" y="83"/>
                </a:cubicBezTo>
                <a:cubicBezTo>
                  <a:pt x="2138" y="82"/>
                  <a:pt x="2138" y="82"/>
                  <a:pt x="2138" y="81"/>
                </a:cubicBezTo>
                <a:cubicBezTo>
                  <a:pt x="2138" y="82"/>
                  <a:pt x="2138" y="82"/>
                  <a:pt x="2137" y="83"/>
                </a:cubicBezTo>
                <a:cubicBezTo>
                  <a:pt x="2137" y="81"/>
                  <a:pt x="2136" y="79"/>
                  <a:pt x="2135" y="77"/>
                </a:cubicBezTo>
                <a:cubicBezTo>
                  <a:pt x="2136" y="79"/>
                  <a:pt x="2136" y="81"/>
                  <a:pt x="2137" y="83"/>
                </a:cubicBezTo>
                <a:cubicBezTo>
                  <a:pt x="2136" y="85"/>
                  <a:pt x="2135" y="86"/>
                  <a:pt x="2134" y="88"/>
                </a:cubicBezTo>
                <a:cubicBezTo>
                  <a:pt x="2135" y="86"/>
                  <a:pt x="2136" y="85"/>
                  <a:pt x="2137" y="83"/>
                </a:cubicBezTo>
                <a:cubicBezTo>
                  <a:pt x="2137" y="85"/>
                  <a:pt x="2138" y="86"/>
                  <a:pt x="2138" y="88"/>
                </a:cubicBezTo>
                <a:cubicBezTo>
                  <a:pt x="2136" y="91"/>
                  <a:pt x="2135" y="95"/>
                  <a:pt x="2133" y="98"/>
                </a:cubicBezTo>
                <a:cubicBezTo>
                  <a:pt x="2133" y="97"/>
                  <a:pt x="2133" y="97"/>
                  <a:pt x="2132" y="97"/>
                </a:cubicBezTo>
                <a:cubicBezTo>
                  <a:pt x="2132" y="95"/>
                  <a:pt x="2132" y="94"/>
                  <a:pt x="2132" y="93"/>
                </a:cubicBezTo>
                <a:cubicBezTo>
                  <a:pt x="2132" y="91"/>
                  <a:pt x="2133" y="89"/>
                  <a:pt x="2134" y="88"/>
                </a:cubicBezTo>
                <a:cubicBezTo>
                  <a:pt x="2133" y="89"/>
                  <a:pt x="2132" y="91"/>
                  <a:pt x="2131" y="92"/>
                </a:cubicBezTo>
                <a:cubicBezTo>
                  <a:pt x="2131" y="92"/>
                  <a:pt x="2131" y="91"/>
                  <a:pt x="2131" y="91"/>
                </a:cubicBezTo>
                <a:cubicBezTo>
                  <a:pt x="2131" y="74"/>
                  <a:pt x="2130" y="60"/>
                  <a:pt x="2130" y="60"/>
                </a:cubicBezTo>
                <a:cubicBezTo>
                  <a:pt x="2130" y="65"/>
                  <a:pt x="2130" y="73"/>
                  <a:pt x="2129" y="81"/>
                </a:cubicBezTo>
                <a:cubicBezTo>
                  <a:pt x="2128" y="79"/>
                  <a:pt x="2128" y="76"/>
                  <a:pt x="2127" y="74"/>
                </a:cubicBezTo>
                <a:cubicBezTo>
                  <a:pt x="2128" y="79"/>
                  <a:pt x="2128" y="83"/>
                  <a:pt x="2128" y="88"/>
                </a:cubicBezTo>
                <a:cubicBezTo>
                  <a:pt x="2127" y="86"/>
                  <a:pt x="2126" y="84"/>
                  <a:pt x="2125" y="83"/>
                </a:cubicBezTo>
                <a:cubicBezTo>
                  <a:pt x="2126" y="85"/>
                  <a:pt x="2127" y="87"/>
                  <a:pt x="2128" y="89"/>
                </a:cubicBezTo>
                <a:cubicBezTo>
                  <a:pt x="2128" y="89"/>
                  <a:pt x="2128" y="89"/>
                  <a:pt x="2128" y="89"/>
                </a:cubicBezTo>
                <a:cubicBezTo>
                  <a:pt x="2128" y="93"/>
                  <a:pt x="2127" y="97"/>
                  <a:pt x="2127" y="101"/>
                </a:cubicBezTo>
                <a:cubicBezTo>
                  <a:pt x="2126" y="103"/>
                  <a:pt x="2125" y="104"/>
                  <a:pt x="2125" y="106"/>
                </a:cubicBezTo>
                <a:cubicBezTo>
                  <a:pt x="2123" y="100"/>
                  <a:pt x="2122" y="95"/>
                  <a:pt x="2120" y="90"/>
                </a:cubicBezTo>
                <a:cubicBezTo>
                  <a:pt x="2121" y="88"/>
                  <a:pt x="2123" y="85"/>
                  <a:pt x="2124" y="83"/>
                </a:cubicBezTo>
                <a:cubicBezTo>
                  <a:pt x="2123" y="85"/>
                  <a:pt x="2121" y="87"/>
                  <a:pt x="2119" y="89"/>
                </a:cubicBezTo>
                <a:cubicBezTo>
                  <a:pt x="2119" y="88"/>
                  <a:pt x="2118" y="87"/>
                  <a:pt x="2118" y="87"/>
                </a:cubicBezTo>
                <a:cubicBezTo>
                  <a:pt x="2118" y="76"/>
                  <a:pt x="2119" y="68"/>
                  <a:pt x="2119" y="68"/>
                </a:cubicBezTo>
                <a:cubicBezTo>
                  <a:pt x="2118" y="72"/>
                  <a:pt x="2117" y="77"/>
                  <a:pt x="2116" y="82"/>
                </a:cubicBezTo>
                <a:cubicBezTo>
                  <a:pt x="2116" y="81"/>
                  <a:pt x="2116" y="80"/>
                  <a:pt x="2116" y="80"/>
                </a:cubicBezTo>
                <a:cubicBezTo>
                  <a:pt x="2116" y="80"/>
                  <a:pt x="2116" y="81"/>
                  <a:pt x="2116" y="82"/>
                </a:cubicBezTo>
                <a:cubicBezTo>
                  <a:pt x="2115" y="80"/>
                  <a:pt x="2114" y="78"/>
                  <a:pt x="2112" y="75"/>
                </a:cubicBezTo>
                <a:cubicBezTo>
                  <a:pt x="2113" y="65"/>
                  <a:pt x="2114" y="56"/>
                  <a:pt x="2115" y="48"/>
                </a:cubicBezTo>
                <a:cubicBezTo>
                  <a:pt x="2114" y="55"/>
                  <a:pt x="2112" y="64"/>
                  <a:pt x="2111" y="73"/>
                </a:cubicBezTo>
                <a:cubicBezTo>
                  <a:pt x="2109" y="70"/>
                  <a:pt x="2107" y="67"/>
                  <a:pt x="2105" y="64"/>
                </a:cubicBezTo>
                <a:cubicBezTo>
                  <a:pt x="2105" y="62"/>
                  <a:pt x="2105" y="59"/>
                  <a:pt x="2105" y="57"/>
                </a:cubicBezTo>
                <a:cubicBezTo>
                  <a:pt x="2104" y="58"/>
                  <a:pt x="2104" y="60"/>
                  <a:pt x="2103" y="62"/>
                </a:cubicBezTo>
                <a:cubicBezTo>
                  <a:pt x="2101" y="59"/>
                  <a:pt x="2098" y="55"/>
                  <a:pt x="2095" y="52"/>
                </a:cubicBezTo>
                <a:cubicBezTo>
                  <a:pt x="2095" y="48"/>
                  <a:pt x="2095" y="46"/>
                  <a:pt x="2095" y="46"/>
                </a:cubicBezTo>
                <a:cubicBezTo>
                  <a:pt x="2095" y="48"/>
                  <a:pt x="2095" y="49"/>
                  <a:pt x="2094" y="51"/>
                </a:cubicBezTo>
                <a:cubicBezTo>
                  <a:pt x="2091" y="47"/>
                  <a:pt x="2087" y="43"/>
                  <a:pt x="2083" y="39"/>
                </a:cubicBezTo>
                <a:cubicBezTo>
                  <a:pt x="2083" y="37"/>
                  <a:pt x="2083" y="35"/>
                  <a:pt x="2082" y="34"/>
                </a:cubicBezTo>
                <a:cubicBezTo>
                  <a:pt x="2082" y="34"/>
                  <a:pt x="2083" y="36"/>
                  <a:pt x="2083" y="39"/>
                </a:cubicBezTo>
                <a:cubicBezTo>
                  <a:pt x="2081" y="37"/>
                  <a:pt x="2080" y="36"/>
                  <a:pt x="2078" y="34"/>
                </a:cubicBezTo>
                <a:cubicBezTo>
                  <a:pt x="2080" y="36"/>
                  <a:pt x="2081" y="38"/>
                  <a:pt x="2083" y="40"/>
                </a:cubicBezTo>
                <a:cubicBezTo>
                  <a:pt x="2083" y="40"/>
                  <a:pt x="2083" y="40"/>
                  <a:pt x="2083" y="41"/>
                </a:cubicBezTo>
                <a:cubicBezTo>
                  <a:pt x="2083" y="40"/>
                  <a:pt x="2083" y="40"/>
                  <a:pt x="2083" y="40"/>
                </a:cubicBezTo>
                <a:cubicBezTo>
                  <a:pt x="2087" y="45"/>
                  <a:pt x="2090" y="49"/>
                  <a:pt x="2094" y="53"/>
                </a:cubicBezTo>
                <a:cubicBezTo>
                  <a:pt x="2093" y="55"/>
                  <a:pt x="2092" y="59"/>
                  <a:pt x="2092" y="62"/>
                </a:cubicBezTo>
                <a:cubicBezTo>
                  <a:pt x="2089" y="60"/>
                  <a:pt x="2087" y="58"/>
                  <a:pt x="2084" y="56"/>
                </a:cubicBezTo>
                <a:cubicBezTo>
                  <a:pt x="2083" y="50"/>
                  <a:pt x="2083" y="44"/>
                  <a:pt x="2083" y="41"/>
                </a:cubicBezTo>
                <a:cubicBezTo>
                  <a:pt x="2083" y="45"/>
                  <a:pt x="2083" y="50"/>
                  <a:pt x="2082" y="55"/>
                </a:cubicBezTo>
                <a:cubicBezTo>
                  <a:pt x="2081" y="54"/>
                  <a:pt x="2080" y="53"/>
                  <a:pt x="2078" y="52"/>
                </a:cubicBezTo>
                <a:cubicBezTo>
                  <a:pt x="2080" y="53"/>
                  <a:pt x="2081" y="54"/>
                  <a:pt x="2082" y="55"/>
                </a:cubicBezTo>
                <a:cubicBezTo>
                  <a:pt x="2082" y="64"/>
                  <a:pt x="2081" y="73"/>
                  <a:pt x="2079" y="83"/>
                </a:cubicBezTo>
                <a:cubicBezTo>
                  <a:pt x="2079" y="82"/>
                  <a:pt x="2079" y="81"/>
                  <a:pt x="2079" y="81"/>
                </a:cubicBezTo>
                <a:cubicBezTo>
                  <a:pt x="2079" y="82"/>
                  <a:pt x="2079" y="82"/>
                  <a:pt x="2079" y="83"/>
                </a:cubicBezTo>
                <a:cubicBezTo>
                  <a:pt x="2078" y="88"/>
                  <a:pt x="2078" y="92"/>
                  <a:pt x="2077" y="97"/>
                </a:cubicBezTo>
                <a:cubicBezTo>
                  <a:pt x="2075" y="89"/>
                  <a:pt x="2073" y="81"/>
                  <a:pt x="2070" y="73"/>
                </a:cubicBezTo>
                <a:cubicBezTo>
                  <a:pt x="2070" y="72"/>
                  <a:pt x="2070" y="71"/>
                  <a:pt x="2070" y="71"/>
                </a:cubicBezTo>
                <a:cubicBezTo>
                  <a:pt x="2071" y="70"/>
                  <a:pt x="2072" y="69"/>
                  <a:pt x="2073" y="68"/>
                </a:cubicBezTo>
                <a:cubicBezTo>
                  <a:pt x="2075" y="72"/>
                  <a:pt x="2077" y="76"/>
                  <a:pt x="2079" y="81"/>
                </a:cubicBezTo>
                <a:cubicBezTo>
                  <a:pt x="2077" y="76"/>
                  <a:pt x="2075" y="72"/>
                  <a:pt x="2073" y="67"/>
                </a:cubicBezTo>
                <a:cubicBezTo>
                  <a:pt x="2074" y="67"/>
                  <a:pt x="2074" y="66"/>
                  <a:pt x="2075" y="65"/>
                </a:cubicBezTo>
                <a:cubicBezTo>
                  <a:pt x="2074" y="66"/>
                  <a:pt x="2074" y="66"/>
                  <a:pt x="2073" y="67"/>
                </a:cubicBezTo>
                <a:cubicBezTo>
                  <a:pt x="2067" y="54"/>
                  <a:pt x="2057" y="41"/>
                  <a:pt x="2045" y="25"/>
                </a:cubicBezTo>
                <a:cubicBezTo>
                  <a:pt x="2057" y="42"/>
                  <a:pt x="2066" y="55"/>
                  <a:pt x="2072" y="68"/>
                </a:cubicBezTo>
                <a:cubicBezTo>
                  <a:pt x="2072" y="68"/>
                  <a:pt x="2071" y="69"/>
                  <a:pt x="2070" y="70"/>
                </a:cubicBezTo>
                <a:cubicBezTo>
                  <a:pt x="2070" y="68"/>
                  <a:pt x="2070" y="66"/>
                  <a:pt x="2070" y="66"/>
                </a:cubicBezTo>
                <a:cubicBezTo>
                  <a:pt x="2070" y="68"/>
                  <a:pt x="2070" y="69"/>
                  <a:pt x="2069" y="71"/>
                </a:cubicBezTo>
                <a:cubicBezTo>
                  <a:pt x="2069" y="71"/>
                  <a:pt x="2069" y="71"/>
                  <a:pt x="2069" y="71"/>
                </a:cubicBezTo>
                <a:cubicBezTo>
                  <a:pt x="2065" y="61"/>
                  <a:pt x="2058" y="52"/>
                  <a:pt x="2049" y="42"/>
                </a:cubicBezTo>
                <a:cubicBezTo>
                  <a:pt x="2056" y="55"/>
                  <a:pt x="2061" y="65"/>
                  <a:pt x="2065" y="75"/>
                </a:cubicBezTo>
                <a:cubicBezTo>
                  <a:pt x="2064" y="76"/>
                  <a:pt x="2063" y="77"/>
                  <a:pt x="2062" y="77"/>
                </a:cubicBezTo>
                <a:cubicBezTo>
                  <a:pt x="2060" y="73"/>
                  <a:pt x="2058" y="70"/>
                  <a:pt x="2056" y="68"/>
                </a:cubicBezTo>
                <a:cubicBezTo>
                  <a:pt x="2055" y="63"/>
                  <a:pt x="2055" y="60"/>
                  <a:pt x="2055" y="60"/>
                </a:cubicBezTo>
                <a:cubicBezTo>
                  <a:pt x="2055" y="61"/>
                  <a:pt x="2055" y="64"/>
                  <a:pt x="2055" y="67"/>
                </a:cubicBezTo>
                <a:cubicBezTo>
                  <a:pt x="2049" y="57"/>
                  <a:pt x="2041" y="47"/>
                  <a:pt x="2030" y="38"/>
                </a:cubicBezTo>
                <a:cubicBezTo>
                  <a:pt x="2040" y="49"/>
                  <a:pt x="2048" y="60"/>
                  <a:pt x="2054" y="71"/>
                </a:cubicBezTo>
                <a:cubicBezTo>
                  <a:pt x="2054" y="75"/>
                  <a:pt x="2054" y="80"/>
                  <a:pt x="2053" y="85"/>
                </a:cubicBezTo>
                <a:cubicBezTo>
                  <a:pt x="2053" y="84"/>
                  <a:pt x="2053" y="84"/>
                  <a:pt x="2052" y="83"/>
                </a:cubicBezTo>
                <a:cubicBezTo>
                  <a:pt x="2052" y="84"/>
                  <a:pt x="2053" y="85"/>
                  <a:pt x="2053" y="86"/>
                </a:cubicBezTo>
                <a:cubicBezTo>
                  <a:pt x="2053" y="87"/>
                  <a:pt x="2053" y="88"/>
                  <a:pt x="2053" y="89"/>
                </a:cubicBezTo>
                <a:cubicBezTo>
                  <a:pt x="2051" y="92"/>
                  <a:pt x="2050" y="94"/>
                  <a:pt x="2048" y="97"/>
                </a:cubicBezTo>
                <a:cubicBezTo>
                  <a:pt x="2048" y="93"/>
                  <a:pt x="2048" y="90"/>
                  <a:pt x="2048" y="87"/>
                </a:cubicBezTo>
                <a:cubicBezTo>
                  <a:pt x="2049" y="84"/>
                  <a:pt x="2050" y="82"/>
                  <a:pt x="2050" y="80"/>
                </a:cubicBezTo>
                <a:cubicBezTo>
                  <a:pt x="2051" y="81"/>
                  <a:pt x="2051" y="82"/>
                  <a:pt x="2052" y="83"/>
                </a:cubicBezTo>
                <a:cubicBezTo>
                  <a:pt x="2052" y="81"/>
                  <a:pt x="2051" y="80"/>
                  <a:pt x="2050" y="79"/>
                </a:cubicBezTo>
                <a:cubicBezTo>
                  <a:pt x="2051" y="79"/>
                  <a:pt x="2051" y="78"/>
                  <a:pt x="2051" y="77"/>
                </a:cubicBezTo>
                <a:cubicBezTo>
                  <a:pt x="2051" y="77"/>
                  <a:pt x="2050" y="78"/>
                  <a:pt x="2050" y="79"/>
                </a:cubicBezTo>
                <a:cubicBezTo>
                  <a:pt x="2049" y="77"/>
                  <a:pt x="2049" y="76"/>
                  <a:pt x="2048" y="75"/>
                </a:cubicBezTo>
                <a:cubicBezTo>
                  <a:pt x="2049" y="77"/>
                  <a:pt x="2049" y="78"/>
                  <a:pt x="2050" y="79"/>
                </a:cubicBezTo>
                <a:cubicBezTo>
                  <a:pt x="2049" y="80"/>
                  <a:pt x="2048" y="81"/>
                  <a:pt x="2048" y="82"/>
                </a:cubicBezTo>
                <a:cubicBezTo>
                  <a:pt x="2048" y="73"/>
                  <a:pt x="2048" y="68"/>
                  <a:pt x="2048" y="68"/>
                </a:cubicBezTo>
                <a:cubicBezTo>
                  <a:pt x="2047" y="72"/>
                  <a:pt x="2047" y="78"/>
                  <a:pt x="2046" y="85"/>
                </a:cubicBezTo>
                <a:cubicBezTo>
                  <a:pt x="2043" y="90"/>
                  <a:pt x="2041" y="94"/>
                  <a:pt x="2040" y="99"/>
                </a:cubicBezTo>
                <a:cubicBezTo>
                  <a:pt x="2040" y="98"/>
                  <a:pt x="2039" y="97"/>
                  <a:pt x="2039" y="96"/>
                </a:cubicBezTo>
                <a:cubicBezTo>
                  <a:pt x="2039" y="92"/>
                  <a:pt x="2040" y="89"/>
                  <a:pt x="2040" y="89"/>
                </a:cubicBezTo>
                <a:cubicBezTo>
                  <a:pt x="2040" y="91"/>
                  <a:pt x="2039" y="92"/>
                  <a:pt x="2039" y="94"/>
                </a:cubicBezTo>
                <a:cubicBezTo>
                  <a:pt x="2038" y="91"/>
                  <a:pt x="2037" y="88"/>
                  <a:pt x="2037" y="85"/>
                </a:cubicBezTo>
                <a:cubicBezTo>
                  <a:pt x="2036" y="88"/>
                  <a:pt x="2036" y="91"/>
                  <a:pt x="2036" y="94"/>
                </a:cubicBezTo>
                <a:cubicBezTo>
                  <a:pt x="2036" y="97"/>
                  <a:pt x="2036" y="100"/>
                  <a:pt x="2036" y="103"/>
                </a:cubicBezTo>
                <a:cubicBezTo>
                  <a:pt x="2035" y="107"/>
                  <a:pt x="2033" y="112"/>
                  <a:pt x="2032" y="116"/>
                </a:cubicBezTo>
                <a:cubicBezTo>
                  <a:pt x="2030" y="112"/>
                  <a:pt x="2029" y="108"/>
                  <a:pt x="2028" y="104"/>
                </a:cubicBezTo>
                <a:cubicBezTo>
                  <a:pt x="2029" y="109"/>
                  <a:pt x="2030" y="115"/>
                  <a:pt x="2030" y="120"/>
                </a:cubicBezTo>
                <a:cubicBezTo>
                  <a:pt x="2029" y="124"/>
                  <a:pt x="2027" y="127"/>
                  <a:pt x="2026" y="130"/>
                </a:cubicBezTo>
                <a:cubicBezTo>
                  <a:pt x="2025" y="128"/>
                  <a:pt x="2024" y="126"/>
                  <a:pt x="2024" y="123"/>
                </a:cubicBezTo>
                <a:cubicBezTo>
                  <a:pt x="2025" y="115"/>
                  <a:pt x="2027" y="106"/>
                  <a:pt x="2029" y="98"/>
                </a:cubicBezTo>
                <a:cubicBezTo>
                  <a:pt x="2030" y="98"/>
                  <a:pt x="2030" y="97"/>
                  <a:pt x="2030" y="96"/>
                </a:cubicBezTo>
                <a:cubicBezTo>
                  <a:pt x="2030" y="96"/>
                  <a:pt x="2030" y="97"/>
                  <a:pt x="2029" y="97"/>
                </a:cubicBezTo>
                <a:cubicBezTo>
                  <a:pt x="2032" y="86"/>
                  <a:pt x="2035" y="76"/>
                  <a:pt x="2035" y="76"/>
                </a:cubicBezTo>
                <a:cubicBezTo>
                  <a:pt x="2030" y="83"/>
                  <a:pt x="2024" y="96"/>
                  <a:pt x="2020" y="109"/>
                </a:cubicBezTo>
                <a:cubicBezTo>
                  <a:pt x="2020" y="107"/>
                  <a:pt x="2019" y="106"/>
                  <a:pt x="2019" y="104"/>
                </a:cubicBezTo>
                <a:cubicBezTo>
                  <a:pt x="2021" y="97"/>
                  <a:pt x="2024" y="90"/>
                  <a:pt x="2027" y="84"/>
                </a:cubicBezTo>
                <a:cubicBezTo>
                  <a:pt x="2024" y="90"/>
                  <a:pt x="2021" y="96"/>
                  <a:pt x="2019" y="102"/>
                </a:cubicBezTo>
                <a:cubicBezTo>
                  <a:pt x="2018" y="102"/>
                  <a:pt x="2018" y="101"/>
                  <a:pt x="2018" y="101"/>
                </a:cubicBezTo>
                <a:cubicBezTo>
                  <a:pt x="2020" y="77"/>
                  <a:pt x="2016" y="62"/>
                  <a:pt x="2016" y="62"/>
                </a:cubicBezTo>
                <a:cubicBezTo>
                  <a:pt x="2017" y="69"/>
                  <a:pt x="2017" y="80"/>
                  <a:pt x="2015" y="91"/>
                </a:cubicBezTo>
                <a:cubicBezTo>
                  <a:pt x="2015" y="89"/>
                  <a:pt x="2015" y="88"/>
                  <a:pt x="2014" y="87"/>
                </a:cubicBezTo>
                <a:cubicBezTo>
                  <a:pt x="2014" y="88"/>
                  <a:pt x="2014" y="88"/>
                  <a:pt x="2014" y="88"/>
                </a:cubicBezTo>
                <a:cubicBezTo>
                  <a:pt x="2014" y="90"/>
                  <a:pt x="2014" y="93"/>
                  <a:pt x="2015" y="96"/>
                </a:cubicBezTo>
                <a:cubicBezTo>
                  <a:pt x="2014" y="101"/>
                  <a:pt x="2014" y="105"/>
                  <a:pt x="2013" y="110"/>
                </a:cubicBezTo>
                <a:cubicBezTo>
                  <a:pt x="2012" y="109"/>
                  <a:pt x="2012" y="107"/>
                  <a:pt x="2011" y="106"/>
                </a:cubicBezTo>
                <a:cubicBezTo>
                  <a:pt x="2012" y="103"/>
                  <a:pt x="2012" y="99"/>
                  <a:pt x="2013" y="96"/>
                </a:cubicBezTo>
                <a:cubicBezTo>
                  <a:pt x="2012" y="98"/>
                  <a:pt x="2011" y="100"/>
                  <a:pt x="2010" y="103"/>
                </a:cubicBezTo>
                <a:cubicBezTo>
                  <a:pt x="2009" y="101"/>
                  <a:pt x="2008" y="99"/>
                  <a:pt x="2008" y="98"/>
                </a:cubicBezTo>
                <a:cubicBezTo>
                  <a:pt x="2008" y="89"/>
                  <a:pt x="2009" y="82"/>
                  <a:pt x="2009" y="82"/>
                </a:cubicBezTo>
                <a:cubicBezTo>
                  <a:pt x="2007" y="97"/>
                  <a:pt x="2007" y="97"/>
                  <a:pt x="2007" y="97"/>
                </a:cubicBezTo>
                <a:cubicBezTo>
                  <a:pt x="2006" y="94"/>
                  <a:pt x="2005" y="92"/>
                  <a:pt x="2004" y="90"/>
                </a:cubicBezTo>
                <a:cubicBezTo>
                  <a:pt x="2004" y="90"/>
                  <a:pt x="2004" y="90"/>
                  <a:pt x="2004" y="90"/>
                </a:cubicBezTo>
                <a:cubicBezTo>
                  <a:pt x="2004" y="90"/>
                  <a:pt x="2004" y="90"/>
                  <a:pt x="2004" y="90"/>
                </a:cubicBezTo>
                <a:cubicBezTo>
                  <a:pt x="2004" y="89"/>
                  <a:pt x="2004" y="89"/>
                  <a:pt x="2003" y="88"/>
                </a:cubicBezTo>
                <a:cubicBezTo>
                  <a:pt x="2003" y="83"/>
                  <a:pt x="2003" y="78"/>
                  <a:pt x="2003" y="73"/>
                </a:cubicBezTo>
                <a:cubicBezTo>
                  <a:pt x="2006" y="70"/>
                  <a:pt x="2009" y="66"/>
                  <a:pt x="2012" y="63"/>
                </a:cubicBezTo>
                <a:cubicBezTo>
                  <a:pt x="2009" y="66"/>
                  <a:pt x="2006" y="69"/>
                  <a:pt x="2003" y="71"/>
                </a:cubicBezTo>
                <a:cubicBezTo>
                  <a:pt x="2003" y="65"/>
                  <a:pt x="2002" y="60"/>
                  <a:pt x="2002" y="60"/>
                </a:cubicBezTo>
                <a:cubicBezTo>
                  <a:pt x="2002" y="64"/>
                  <a:pt x="2002" y="68"/>
                  <a:pt x="2002" y="72"/>
                </a:cubicBezTo>
                <a:cubicBezTo>
                  <a:pt x="2000" y="74"/>
                  <a:pt x="1999" y="75"/>
                  <a:pt x="1998" y="77"/>
                </a:cubicBezTo>
                <a:cubicBezTo>
                  <a:pt x="1997" y="70"/>
                  <a:pt x="1997" y="64"/>
                  <a:pt x="1997" y="64"/>
                </a:cubicBezTo>
                <a:cubicBezTo>
                  <a:pt x="1997" y="66"/>
                  <a:pt x="1997" y="71"/>
                  <a:pt x="1996" y="78"/>
                </a:cubicBezTo>
                <a:cubicBezTo>
                  <a:pt x="1993" y="81"/>
                  <a:pt x="1991" y="85"/>
                  <a:pt x="1989" y="88"/>
                </a:cubicBezTo>
                <a:cubicBezTo>
                  <a:pt x="1989" y="64"/>
                  <a:pt x="1988" y="42"/>
                  <a:pt x="1988" y="42"/>
                </a:cubicBezTo>
                <a:cubicBezTo>
                  <a:pt x="1989" y="55"/>
                  <a:pt x="1986" y="77"/>
                  <a:pt x="1984" y="96"/>
                </a:cubicBezTo>
                <a:cubicBezTo>
                  <a:pt x="1982" y="100"/>
                  <a:pt x="1980" y="104"/>
                  <a:pt x="1979" y="107"/>
                </a:cubicBezTo>
                <a:cubicBezTo>
                  <a:pt x="1978" y="107"/>
                  <a:pt x="1978" y="106"/>
                  <a:pt x="1978" y="106"/>
                </a:cubicBezTo>
                <a:cubicBezTo>
                  <a:pt x="1979" y="87"/>
                  <a:pt x="1982" y="70"/>
                  <a:pt x="1982" y="70"/>
                </a:cubicBezTo>
                <a:cubicBezTo>
                  <a:pt x="1980" y="74"/>
                  <a:pt x="1977" y="98"/>
                  <a:pt x="1975" y="117"/>
                </a:cubicBezTo>
                <a:cubicBezTo>
                  <a:pt x="1975" y="118"/>
                  <a:pt x="1975" y="119"/>
                  <a:pt x="1975" y="120"/>
                </a:cubicBezTo>
                <a:cubicBezTo>
                  <a:pt x="1975" y="119"/>
                  <a:pt x="1975" y="119"/>
                  <a:pt x="1975" y="118"/>
                </a:cubicBezTo>
                <a:cubicBezTo>
                  <a:pt x="1975" y="119"/>
                  <a:pt x="1975" y="119"/>
                  <a:pt x="1975" y="120"/>
                </a:cubicBezTo>
                <a:cubicBezTo>
                  <a:pt x="1974" y="121"/>
                  <a:pt x="1974" y="121"/>
                  <a:pt x="1974" y="122"/>
                </a:cubicBezTo>
                <a:cubicBezTo>
                  <a:pt x="1974" y="115"/>
                  <a:pt x="1974" y="108"/>
                  <a:pt x="1974" y="101"/>
                </a:cubicBezTo>
                <a:cubicBezTo>
                  <a:pt x="1974" y="101"/>
                  <a:pt x="1974" y="100"/>
                  <a:pt x="1974" y="100"/>
                </a:cubicBezTo>
                <a:cubicBezTo>
                  <a:pt x="1974" y="100"/>
                  <a:pt x="1974" y="101"/>
                  <a:pt x="1974" y="101"/>
                </a:cubicBezTo>
                <a:cubicBezTo>
                  <a:pt x="1974" y="98"/>
                  <a:pt x="1974" y="94"/>
                  <a:pt x="1973" y="91"/>
                </a:cubicBezTo>
                <a:cubicBezTo>
                  <a:pt x="1975" y="88"/>
                  <a:pt x="1977" y="85"/>
                  <a:pt x="1979" y="83"/>
                </a:cubicBezTo>
                <a:cubicBezTo>
                  <a:pt x="1977" y="85"/>
                  <a:pt x="1975" y="87"/>
                  <a:pt x="1973" y="90"/>
                </a:cubicBezTo>
                <a:cubicBezTo>
                  <a:pt x="1973" y="79"/>
                  <a:pt x="1972" y="69"/>
                  <a:pt x="1972" y="61"/>
                </a:cubicBezTo>
                <a:cubicBezTo>
                  <a:pt x="1971" y="73"/>
                  <a:pt x="1969" y="87"/>
                  <a:pt x="1967" y="100"/>
                </a:cubicBezTo>
                <a:cubicBezTo>
                  <a:pt x="1963" y="107"/>
                  <a:pt x="1960" y="115"/>
                  <a:pt x="1958" y="123"/>
                </a:cubicBezTo>
                <a:cubicBezTo>
                  <a:pt x="1959" y="109"/>
                  <a:pt x="1960" y="92"/>
                  <a:pt x="1961" y="80"/>
                </a:cubicBezTo>
                <a:cubicBezTo>
                  <a:pt x="1963" y="73"/>
                  <a:pt x="1964" y="67"/>
                  <a:pt x="1964" y="61"/>
                </a:cubicBezTo>
                <a:cubicBezTo>
                  <a:pt x="1964" y="60"/>
                  <a:pt x="1964" y="60"/>
                  <a:pt x="1964" y="60"/>
                </a:cubicBezTo>
                <a:cubicBezTo>
                  <a:pt x="1955" y="75"/>
                  <a:pt x="1951" y="88"/>
                  <a:pt x="1949" y="102"/>
                </a:cubicBezTo>
                <a:cubicBezTo>
                  <a:pt x="1949" y="102"/>
                  <a:pt x="1949" y="101"/>
                  <a:pt x="1949" y="101"/>
                </a:cubicBezTo>
                <a:cubicBezTo>
                  <a:pt x="1950" y="68"/>
                  <a:pt x="1953" y="30"/>
                  <a:pt x="1953" y="30"/>
                </a:cubicBezTo>
                <a:cubicBezTo>
                  <a:pt x="1951" y="38"/>
                  <a:pt x="1948" y="60"/>
                  <a:pt x="1946" y="83"/>
                </a:cubicBezTo>
                <a:cubicBezTo>
                  <a:pt x="1943" y="87"/>
                  <a:pt x="1940" y="92"/>
                  <a:pt x="1938" y="97"/>
                </a:cubicBezTo>
                <a:cubicBezTo>
                  <a:pt x="1938" y="91"/>
                  <a:pt x="1937" y="85"/>
                  <a:pt x="1937" y="79"/>
                </a:cubicBezTo>
                <a:cubicBezTo>
                  <a:pt x="1937" y="78"/>
                  <a:pt x="1937" y="78"/>
                  <a:pt x="1938" y="78"/>
                </a:cubicBezTo>
                <a:cubicBezTo>
                  <a:pt x="1937" y="78"/>
                  <a:pt x="1937" y="78"/>
                  <a:pt x="1937" y="78"/>
                </a:cubicBezTo>
                <a:cubicBezTo>
                  <a:pt x="1935" y="58"/>
                  <a:pt x="1934" y="41"/>
                  <a:pt x="1934" y="41"/>
                </a:cubicBezTo>
                <a:cubicBezTo>
                  <a:pt x="1935" y="52"/>
                  <a:pt x="1935" y="67"/>
                  <a:pt x="1934" y="82"/>
                </a:cubicBezTo>
                <a:cubicBezTo>
                  <a:pt x="1932" y="84"/>
                  <a:pt x="1930" y="87"/>
                  <a:pt x="1928" y="92"/>
                </a:cubicBezTo>
                <a:cubicBezTo>
                  <a:pt x="1927" y="82"/>
                  <a:pt x="1928" y="72"/>
                  <a:pt x="1928" y="68"/>
                </a:cubicBezTo>
                <a:cubicBezTo>
                  <a:pt x="1927" y="77"/>
                  <a:pt x="1926" y="88"/>
                  <a:pt x="1924" y="99"/>
                </a:cubicBezTo>
                <a:cubicBezTo>
                  <a:pt x="1922" y="94"/>
                  <a:pt x="1921" y="89"/>
                  <a:pt x="1919" y="84"/>
                </a:cubicBezTo>
                <a:cubicBezTo>
                  <a:pt x="1921" y="90"/>
                  <a:pt x="1922" y="96"/>
                  <a:pt x="1923" y="101"/>
                </a:cubicBezTo>
                <a:cubicBezTo>
                  <a:pt x="1923" y="105"/>
                  <a:pt x="1922" y="109"/>
                  <a:pt x="1921" y="113"/>
                </a:cubicBezTo>
                <a:cubicBezTo>
                  <a:pt x="1921" y="110"/>
                  <a:pt x="1921" y="108"/>
                  <a:pt x="1921" y="105"/>
                </a:cubicBezTo>
                <a:cubicBezTo>
                  <a:pt x="1920" y="108"/>
                  <a:pt x="1920" y="115"/>
                  <a:pt x="1920" y="119"/>
                </a:cubicBezTo>
                <a:cubicBezTo>
                  <a:pt x="1919" y="120"/>
                  <a:pt x="1919" y="122"/>
                  <a:pt x="1919" y="124"/>
                </a:cubicBezTo>
                <a:cubicBezTo>
                  <a:pt x="1918" y="125"/>
                  <a:pt x="1918" y="127"/>
                  <a:pt x="1918" y="128"/>
                </a:cubicBezTo>
                <a:cubicBezTo>
                  <a:pt x="1917" y="124"/>
                  <a:pt x="1916" y="120"/>
                  <a:pt x="1915" y="116"/>
                </a:cubicBezTo>
                <a:cubicBezTo>
                  <a:pt x="1916" y="108"/>
                  <a:pt x="1917" y="100"/>
                  <a:pt x="1917" y="94"/>
                </a:cubicBezTo>
                <a:cubicBezTo>
                  <a:pt x="1918" y="92"/>
                  <a:pt x="1918" y="91"/>
                  <a:pt x="1919" y="89"/>
                </a:cubicBezTo>
                <a:cubicBezTo>
                  <a:pt x="1918" y="90"/>
                  <a:pt x="1918" y="91"/>
                  <a:pt x="1917" y="92"/>
                </a:cubicBezTo>
                <a:cubicBezTo>
                  <a:pt x="1918" y="87"/>
                  <a:pt x="1918" y="83"/>
                  <a:pt x="1918" y="83"/>
                </a:cubicBezTo>
                <a:cubicBezTo>
                  <a:pt x="1918" y="85"/>
                  <a:pt x="1917" y="89"/>
                  <a:pt x="1916" y="93"/>
                </a:cubicBezTo>
                <a:cubicBezTo>
                  <a:pt x="1915" y="96"/>
                  <a:pt x="1913" y="99"/>
                  <a:pt x="1912" y="102"/>
                </a:cubicBezTo>
                <a:cubicBezTo>
                  <a:pt x="1911" y="101"/>
                  <a:pt x="1911" y="100"/>
                  <a:pt x="1911" y="99"/>
                </a:cubicBezTo>
                <a:cubicBezTo>
                  <a:pt x="1913" y="80"/>
                  <a:pt x="1915" y="62"/>
                  <a:pt x="1915" y="62"/>
                </a:cubicBezTo>
                <a:cubicBezTo>
                  <a:pt x="1913" y="66"/>
                  <a:pt x="1911" y="80"/>
                  <a:pt x="1909" y="95"/>
                </a:cubicBezTo>
                <a:cubicBezTo>
                  <a:pt x="1909" y="94"/>
                  <a:pt x="1908" y="92"/>
                  <a:pt x="1907" y="90"/>
                </a:cubicBezTo>
                <a:cubicBezTo>
                  <a:pt x="1908" y="92"/>
                  <a:pt x="1909" y="94"/>
                  <a:pt x="1909" y="96"/>
                </a:cubicBezTo>
                <a:cubicBezTo>
                  <a:pt x="1909" y="101"/>
                  <a:pt x="1908" y="106"/>
                  <a:pt x="1908" y="110"/>
                </a:cubicBezTo>
                <a:cubicBezTo>
                  <a:pt x="1907" y="113"/>
                  <a:pt x="1906" y="116"/>
                  <a:pt x="1905" y="118"/>
                </a:cubicBezTo>
                <a:cubicBezTo>
                  <a:pt x="1903" y="94"/>
                  <a:pt x="1898" y="64"/>
                  <a:pt x="1898" y="64"/>
                </a:cubicBezTo>
                <a:cubicBezTo>
                  <a:pt x="1898" y="64"/>
                  <a:pt x="1898" y="73"/>
                  <a:pt x="1899" y="82"/>
                </a:cubicBezTo>
                <a:cubicBezTo>
                  <a:pt x="1900" y="88"/>
                  <a:pt x="1899" y="98"/>
                  <a:pt x="1897" y="108"/>
                </a:cubicBezTo>
                <a:cubicBezTo>
                  <a:pt x="1896" y="111"/>
                  <a:pt x="1895" y="114"/>
                  <a:pt x="1894" y="117"/>
                </a:cubicBezTo>
                <a:cubicBezTo>
                  <a:pt x="1894" y="108"/>
                  <a:pt x="1893" y="99"/>
                  <a:pt x="1891" y="90"/>
                </a:cubicBezTo>
                <a:cubicBezTo>
                  <a:pt x="1894" y="78"/>
                  <a:pt x="1899" y="66"/>
                  <a:pt x="1898" y="56"/>
                </a:cubicBezTo>
                <a:cubicBezTo>
                  <a:pt x="1895" y="62"/>
                  <a:pt x="1892" y="67"/>
                  <a:pt x="1890" y="72"/>
                </a:cubicBezTo>
                <a:cubicBezTo>
                  <a:pt x="1893" y="34"/>
                  <a:pt x="1886" y="19"/>
                  <a:pt x="1886" y="19"/>
                </a:cubicBezTo>
                <a:cubicBezTo>
                  <a:pt x="1886" y="19"/>
                  <a:pt x="1889" y="31"/>
                  <a:pt x="1888" y="54"/>
                </a:cubicBezTo>
                <a:cubicBezTo>
                  <a:pt x="1887" y="61"/>
                  <a:pt x="1886" y="74"/>
                  <a:pt x="1885" y="88"/>
                </a:cubicBezTo>
                <a:cubicBezTo>
                  <a:pt x="1883" y="92"/>
                  <a:pt x="1882" y="97"/>
                  <a:pt x="1882" y="101"/>
                </a:cubicBezTo>
                <a:cubicBezTo>
                  <a:pt x="1881" y="98"/>
                  <a:pt x="1880" y="95"/>
                  <a:pt x="1878" y="91"/>
                </a:cubicBezTo>
                <a:cubicBezTo>
                  <a:pt x="1879" y="89"/>
                  <a:pt x="1879" y="87"/>
                  <a:pt x="1880" y="85"/>
                </a:cubicBezTo>
                <a:cubicBezTo>
                  <a:pt x="1879" y="87"/>
                  <a:pt x="1879" y="88"/>
                  <a:pt x="1878" y="90"/>
                </a:cubicBezTo>
                <a:cubicBezTo>
                  <a:pt x="1878" y="89"/>
                  <a:pt x="1877" y="88"/>
                  <a:pt x="1877" y="87"/>
                </a:cubicBezTo>
                <a:cubicBezTo>
                  <a:pt x="1877" y="83"/>
                  <a:pt x="1877" y="78"/>
                  <a:pt x="1877" y="74"/>
                </a:cubicBezTo>
                <a:cubicBezTo>
                  <a:pt x="1877" y="46"/>
                  <a:pt x="1867" y="40"/>
                  <a:pt x="1867" y="40"/>
                </a:cubicBezTo>
                <a:cubicBezTo>
                  <a:pt x="1867" y="40"/>
                  <a:pt x="1873" y="44"/>
                  <a:pt x="1873" y="70"/>
                </a:cubicBezTo>
                <a:cubicBezTo>
                  <a:pt x="1873" y="84"/>
                  <a:pt x="1868" y="108"/>
                  <a:pt x="1863" y="125"/>
                </a:cubicBezTo>
                <a:cubicBezTo>
                  <a:pt x="1863" y="123"/>
                  <a:pt x="1863" y="120"/>
                  <a:pt x="1862" y="118"/>
                </a:cubicBezTo>
                <a:cubicBezTo>
                  <a:pt x="1863" y="111"/>
                  <a:pt x="1864" y="105"/>
                  <a:pt x="1864" y="98"/>
                </a:cubicBezTo>
                <a:cubicBezTo>
                  <a:pt x="1863" y="101"/>
                  <a:pt x="1862" y="104"/>
                  <a:pt x="1862" y="107"/>
                </a:cubicBezTo>
                <a:cubicBezTo>
                  <a:pt x="1862" y="107"/>
                  <a:pt x="1862" y="106"/>
                  <a:pt x="1862" y="106"/>
                </a:cubicBezTo>
                <a:cubicBezTo>
                  <a:pt x="1862" y="97"/>
                  <a:pt x="1863" y="83"/>
                  <a:pt x="1869" y="75"/>
                </a:cubicBezTo>
                <a:cubicBezTo>
                  <a:pt x="1866" y="77"/>
                  <a:pt x="1863" y="82"/>
                  <a:pt x="1861" y="87"/>
                </a:cubicBezTo>
                <a:cubicBezTo>
                  <a:pt x="1862" y="78"/>
                  <a:pt x="1862" y="71"/>
                  <a:pt x="1862" y="71"/>
                </a:cubicBezTo>
                <a:cubicBezTo>
                  <a:pt x="1861" y="75"/>
                  <a:pt x="1858" y="97"/>
                  <a:pt x="1854" y="116"/>
                </a:cubicBezTo>
                <a:cubicBezTo>
                  <a:pt x="1854" y="114"/>
                  <a:pt x="1854" y="112"/>
                  <a:pt x="1853" y="110"/>
                </a:cubicBezTo>
                <a:cubicBezTo>
                  <a:pt x="1854" y="99"/>
                  <a:pt x="1855" y="87"/>
                  <a:pt x="1856" y="78"/>
                </a:cubicBezTo>
                <a:cubicBezTo>
                  <a:pt x="1858" y="71"/>
                  <a:pt x="1860" y="63"/>
                  <a:pt x="1862" y="55"/>
                </a:cubicBezTo>
                <a:cubicBezTo>
                  <a:pt x="1862" y="54"/>
                  <a:pt x="1862" y="52"/>
                  <a:pt x="1862" y="51"/>
                </a:cubicBezTo>
                <a:cubicBezTo>
                  <a:pt x="1860" y="54"/>
                  <a:pt x="1859" y="57"/>
                  <a:pt x="1858" y="60"/>
                </a:cubicBezTo>
                <a:cubicBezTo>
                  <a:pt x="1858" y="60"/>
                  <a:pt x="1858" y="59"/>
                  <a:pt x="1858" y="59"/>
                </a:cubicBezTo>
                <a:cubicBezTo>
                  <a:pt x="1858" y="60"/>
                  <a:pt x="1858" y="60"/>
                  <a:pt x="1858" y="60"/>
                </a:cubicBezTo>
                <a:cubicBezTo>
                  <a:pt x="1854" y="70"/>
                  <a:pt x="1851" y="80"/>
                  <a:pt x="1848" y="89"/>
                </a:cubicBezTo>
                <a:cubicBezTo>
                  <a:pt x="1854" y="30"/>
                  <a:pt x="1851" y="15"/>
                  <a:pt x="1850" y="13"/>
                </a:cubicBezTo>
                <a:cubicBezTo>
                  <a:pt x="1850" y="15"/>
                  <a:pt x="1851" y="22"/>
                  <a:pt x="1847" y="56"/>
                </a:cubicBezTo>
                <a:cubicBezTo>
                  <a:pt x="1845" y="68"/>
                  <a:pt x="1844" y="80"/>
                  <a:pt x="1842" y="91"/>
                </a:cubicBezTo>
                <a:cubicBezTo>
                  <a:pt x="1841" y="85"/>
                  <a:pt x="1839" y="79"/>
                  <a:pt x="1837" y="74"/>
                </a:cubicBezTo>
                <a:cubicBezTo>
                  <a:pt x="1838" y="51"/>
                  <a:pt x="1839" y="31"/>
                  <a:pt x="1839" y="31"/>
                </a:cubicBezTo>
                <a:cubicBezTo>
                  <a:pt x="1837" y="38"/>
                  <a:pt x="1835" y="53"/>
                  <a:pt x="1834" y="69"/>
                </a:cubicBezTo>
                <a:cubicBezTo>
                  <a:pt x="1833" y="68"/>
                  <a:pt x="1832" y="67"/>
                  <a:pt x="1831" y="65"/>
                </a:cubicBezTo>
                <a:cubicBezTo>
                  <a:pt x="1832" y="67"/>
                  <a:pt x="1833" y="69"/>
                  <a:pt x="1834" y="71"/>
                </a:cubicBezTo>
                <a:cubicBezTo>
                  <a:pt x="1834" y="71"/>
                  <a:pt x="1834" y="72"/>
                  <a:pt x="1834" y="73"/>
                </a:cubicBezTo>
                <a:cubicBezTo>
                  <a:pt x="1831" y="77"/>
                  <a:pt x="1828" y="81"/>
                  <a:pt x="1826" y="86"/>
                </a:cubicBezTo>
                <a:cubicBezTo>
                  <a:pt x="1825" y="85"/>
                  <a:pt x="1825" y="84"/>
                  <a:pt x="1824" y="83"/>
                </a:cubicBezTo>
                <a:cubicBezTo>
                  <a:pt x="1822" y="61"/>
                  <a:pt x="1819" y="38"/>
                  <a:pt x="1816" y="28"/>
                </a:cubicBezTo>
                <a:cubicBezTo>
                  <a:pt x="1816" y="28"/>
                  <a:pt x="1820" y="54"/>
                  <a:pt x="1823" y="83"/>
                </a:cubicBezTo>
                <a:cubicBezTo>
                  <a:pt x="1822" y="82"/>
                  <a:pt x="1821" y="81"/>
                  <a:pt x="1820" y="80"/>
                </a:cubicBezTo>
                <a:cubicBezTo>
                  <a:pt x="1822" y="81"/>
                  <a:pt x="1823" y="82"/>
                  <a:pt x="1824" y="84"/>
                </a:cubicBezTo>
                <a:cubicBezTo>
                  <a:pt x="1824" y="85"/>
                  <a:pt x="1824" y="86"/>
                  <a:pt x="1824" y="88"/>
                </a:cubicBezTo>
                <a:cubicBezTo>
                  <a:pt x="1824" y="86"/>
                  <a:pt x="1824" y="85"/>
                  <a:pt x="1824" y="84"/>
                </a:cubicBezTo>
                <a:cubicBezTo>
                  <a:pt x="1824" y="85"/>
                  <a:pt x="1825" y="86"/>
                  <a:pt x="1826" y="87"/>
                </a:cubicBezTo>
                <a:cubicBezTo>
                  <a:pt x="1825" y="88"/>
                  <a:pt x="1825" y="89"/>
                  <a:pt x="1824" y="90"/>
                </a:cubicBezTo>
                <a:cubicBezTo>
                  <a:pt x="1824" y="88"/>
                  <a:pt x="1824" y="88"/>
                  <a:pt x="1824" y="88"/>
                </a:cubicBezTo>
                <a:cubicBezTo>
                  <a:pt x="1824" y="88"/>
                  <a:pt x="1824" y="89"/>
                  <a:pt x="1824" y="90"/>
                </a:cubicBezTo>
                <a:cubicBezTo>
                  <a:pt x="1822" y="95"/>
                  <a:pt x="1821" y="100"/>
                  <a:pt x="1819" y="105"/>
                </a:cubicBezTo>
                <a:cubicBezTo>
                  <a:pt x="1819" y="105"/>
                  <a:pt x="1819" y="105"/>
                  <a:pt x="1819" y="105"/>
                </a:cubicBezTo>
                <a:cubicBezTo>
                  <a:pt x="1819" y="104"/>
                  <a:pt x="1819" y="104"/>
                  <a:pt x="1819" y="103"/>
                </a:cubicBezTo>
                <a:cubicBezTo>
                  <a:pt x="1819" y="104"/>
                  <a:pt x="1819" y="104"/>
                  <a:pt x="1819" y="105"/>
                </a:cubicBezTo>
                <a:cubicBezTo>
                  <a:pt x="1816" y="95"/>
                  <a:pt x="1814" y="87"/>
                  <a:pt x="1812" y="81"/>
                </a:cubicBezTo>
                <a:cubicBezTo>
                  <a:pt x="1813" y="85"/>
                  <a:pt x="1814" y="90"/>
                  <a:pt x="1815" y="95"/>
                </a:cubicBezTo>
                <a:cubicBezTo>
                  <a:pt x="1815" y="100"/>
                  <a:pt x="1814" y="104"/>
                  <a:pt x="1813" y="109"/>
                </a:cubicBezTo>
                <a:cubicBezTo>
                  <a:pt x="1814" y="104"/>
                  <a:pt x="1815" y="100"/>
                  <a:pt x="1815" y="95"/>
                </a:cubicBezTo>
                <a:cubicBezTo>
                  <a:pt x="1816" y="100"/>
                  <a:pt x="1817" y="105"/>
                  <a:pt x="1818" y="110"/>
                </a:cubicBezTo>
                <a:cubicBezTo>
                  <a:pt x="1818" y="110"/>
                  <a:pt x="1818" y="111"/>
                  <a:pt x="1818" y="111"/>
                </a:cubicBezTo>
                <a:cubicBezTo>
                  <a:pt x="1817" y="116"/>
                  <a:pt x="1815" y="122"/>
                  <a:pt x="1812" y="127"/>
                </a:cubicBezTo>
                <a:cubicBezTo>
                  <a:pt x="1812" y="125"/>
                  <a:pt x="1811" y="123"/>
                  <a:pt x="1811" y="120"/>
                </a:cubicBezTo>
                <a:cubicBezTo>
                  <a:pt x="1812" y="117"/>
                  <a:pt x="1813" y="113"/>
                  <a:pt x="1813" y="109"/>
                </a:cubicBezTo>
                <a:cubicBezTo>
                  <a:pt x="1813" y="112"/>
                  <a:pt x="1812" y="116"/>
                  <a:pt x="1811" y="119"/>
                </a:cubicBezTo>
                <a:cubicBezTo>
                  <a:pt x="1809" y="111"/>
                  <a:pt x="1807" y="103"/>
                  <a:pt x="1807" y="95"/>
                </a:cubicBezTo>
                <a:cubicBezTo>
                  <a:pt x="1807" y="96"/>
                  <a:pt x="1807" y="96"/>
                  <a:pt x="1807" y="96"/>
                </a:cubicBezTo>
                <a:cubicBezTo>
                  <a:pt x="1807" y="98"/>
                  <a:pt x="1807" y="98"/>
                  <a:pt x="1807" y="98"/>
                </a:cubicBezTo>
                <a:cubicBezTo>
                  <a:pt x="1807" y="97"/>
                  <a:pt x="1807" y="96"/>
                  <a:pt x="1807" y="95"/>
                </a:cubicBezTo>
                <a:cubicBezTo>
                  <a:pt x="1807" y="84"/>
                  <a:pt x="1805" y="69"/>
                  <a:pt x="1799" y="60"/>
                </a:cubicBezTo>
                <a:cubicBezTo>
                  <a:pt x="1803" y="70"/>
                  <a:pt x="1805" y="82"/>
                  <a:pt x="1805" y="93"/>
                </a:cubicBezTo>
                <a:cubicBezTo>
                  <a:pt x="1805" y="101"/>
                  <a:pt x="1803" y="109"/>
                  <a:pt x="1801" y="116"/>
                </a:cubicBezTo>
                <a:cubicBezTo>
                  <a:pt x="1799" y="115"/>
                  <a:pt x="1799" y="117"/>
                  <a:pt x="1800" y="120"/>
                </a:cubicBezTo>
                <a:cubicBezTo>
                  <a:pt x="1800" y="121"/>
                  <a:pt x="1799" y="121"/>
                  <a:pt x="1799" y="122"/>
                </a:cubicBezTo>
                <a:cubicBezTo>
                  <a:pt x="1798" y="119"/>
                  <a:pt x="1797" y="115"/>
                  <a:pt x="1796" y="112"/>
                </a:cubicBezTo>
                <a:cubicBezTo>
                  <a:pt x="1797" y="107"/>
                  <a:pt x="1797" y="103"/>
                  <a:pt x="1797" y="98"/>
                </a:cubicBezTo>
                <a:cubicBezTo>
                  <a:pt x="1797" y="90"/>
                  <a:pt x="1796" y="82"/>
                  <a:pt x="1794" y="74"/>
                </a:cubicBezTo>
                <a:cubicBezTo>
                  <a:pt x="1793" y="83"/>
                  <a:pt x="1793" y="93"/>
                  <a:pt x="1793" y="102"/>
                </a:cubicBezTo>
                <a:cubicBezTo>
                  <a:pt x="1790" y="94"/>
                  <a:pt x="1787" y="86"/>
                  <a:pt x="1785" y="81"/>
                </a:cubicBezTo>
                <a:cubicBezTo>
                  <a:pt x="1785" y="86"/>
                  <a:pt x="1785" y="86"/>
                  <a:pt x="1785" y="86"/>
                </a:cubicBezTo>
                <a:cubicBezTo>
                  <a:pt x="1785" y="97"/>
                  <a:pt x="1788" y="108"/>
                  <a:pt x="1792" y="118"/>
                </a:cubicBezTo>
                <a:cubicBezTo>
                  <a:pt x="1791" y="119"/>
                  <a:pt x="1791" y="120"/>
                  <a:pt x="1791" y="121"/>
                </a:cubicBezTo>
                <a:cubicBezTo>
                  <a:pt x="1791" y="123"/>
                  <a:pt x="1790" y="126"/>
                  <a:pt x="1789" y="128"/>
                </a:cubicBezTo>
                <a:cubicBezTo>
                  <a:pt x="1786" y="121"/>
                  <a:pt x="1784" y="113"/>
                  <a:pt x="1782" y="106"/>
                </a:cubicBezTo>
                <a:cubicBezTo>
                  <a:pt x="1782" y="101"/>
                  <a:pt x="1781" y="96"/>
                  <a:pt x="1780" y="92"/>
                </a:cubicBezTo>
                <a:cubicBezTo>
                  <a:pt x="1780" y="91"/>
                  <a:pt x="1780" y="90"/>
                  <a:pt x="1780" y="89"/>
                </a:cubicBezTo>
                <a:cubicBezTo>
                  <a:pt x="1780" y="90"/>
                  <a:pt x="1780" y="90"/>
                  <a:pt x="1780" y="91"/>
                </a:cubicBezTo>
                <a:cubicBezTo>
                  <a:pt x="1779" y="85"/>
                  <a:pt x="1777" y="79"/>
                  <a:pt x="1774" y="73"/>
                </a:cubicBezTo>
                <a:cubicBezTo>
                  <a:pt x="1774" y="73"/>
                  <a:pt x="1774" y="72"/>
                  <a:pt x="1774" y="71"/>
                </a:cubicBezTo>
                <a:cubicBezTo>
                  <a:pt x="1774" y="71"/>
                  <a:pt x="1773" y="72"/>
                  <a:pt x="1773" y="73"/>
                </a:cubicBezTo>
                <a:cubicBezTo>
                  <a:pt x="1773" y="72"/>
                  <a:pt x="1773" y="71"/>
                  <a:pt x="1772" y="71"/>
                </a:cubicBezTo>
                <a:cubicBezTo>
                  <a:pt x="1772" y="72"/>
                  <a:pt x="1773" y="73"/>
                  <a:pt x="1773" y="73"/>
                </a:cubicBezTo>
                <a:cubicBezTo>
                  <a:pt x="1770" y="79"/>
                  <a:pt x="1768" y="85"/>
                  <a:pt x="1766" y="91"/>
                </a:cubicBezTo>
                <a:cubicBezTo>
                  <a:pt x="1766" y="90"/>
                  <a:pt x="1766" y="90"/>
                  <a:pt x="1766" y="89"/>
                </a:cubicBezTo>
                <a:cubicBezTo>
                  <a:pt x="1766" y="90"/>
                  <a:pt x="1766" y="91"/>
                  <a:pt x="1766" y="92"/>
                </a:cubicBezTo>
                <a:cubicBezTo>
                  <a:pt x="1765" y="96"/>
                  <a:pt x="1765" y="101"/>
                  <a:pt x="1764" y="106"/>
                </a:cubicBezTo>
                <a:cubicBezTo>
                  <a:pt x="1763" y="113"/>
                  <a:pt x="1760" y="121"/>
                  <a:pt x="1757" y="128"/>
                </a:cubicBezTo>
                <a:cubicBezTo>
                  <a:pt x="1756" y="126"/>
                  <a:pt x="1756" y="123"/>
                  <a:pt x="1755" y="121"/>
                </a:cubicBezTo>
                <a:cubicBezTo>
                  <a:pt x="1755" y="120"/>
                  <a:pt x="1755" y="119"/>
                  <a:pt x="1755" y="118"/>
                </a:cubicBezTo>
                <a:cubicBezTo>
                  <a:pt x="1758" y="108"/>
                  <a:pt x="1761" y="97"/>
                  <a:pt x="1761" y="86"/>
                </a:cubicBezTo>
                <a:cubicBezTo>
                  <a:pt x="1761" y="81"/>
                  <a:pt x="1761" y="81"/>
                  <a:pt x="1761" y="81"/>
                </a:cubicBezTo>
                <a:cubicBezTo>
                  <a:pt x="1759" y="86"/>
                  <a:pt x="1756" y="94"/>
                  <a:pt x="1753" y="102"/>
                </a:cubicBezTo>
                <a:cubicBezTo>
                  <a:pt x="1753" y="93"/>
                  <a:pt x="1754" y="83"/>
                  <a:pt x="1752" y="74"/>
                </a:cubicBezTo>
                <a:cubicBezTo>
                  <a:pt x="1750" y="82"/>
                  <a:pt x="1749" y="90"/>
                  <a:pt x="1749" y="98"/>
                </a:cubicBezTo>
                <a:cubicBezTo>
                  <a:pt x="1749" y="103"/>
                  <a:pt x="1750" y="107"/>
                  <a:pt x="1750" y="112"/>
                </a:cubicBezTo>
                <a:cubicBezTo>
                  <a:pt x="1749" y="115"/>
                  <a:pt x="1748" y="119"/>
                  <a:pt x="1747" y="122"/>
                </a:cubicBezTo>
                <a:cubicBezTo>
                  <a:pt x="1744" y="112"/>
                  <a:pt x="1741" y="103"/>
                  <a:pt x="1741" y="93"/>
                </a:cubicBezTo>
                <a:cubicBezTo>
                  <a:pt x="1741" y="82"/>
                  <a:pt x="1743" y="70"/>
                  <a:pt x="1747" y="60"/>
                </a:cubicBezTo>
                <a:cubicBezTo>
                  <a:pt x="1742" y="69"/>
                  <a:pt x="1740" y="84"/>
                  <a:pt x="1740" y="95"/>
                </a:cubicBezTo>
                <a:cubicBezTo>
                  <a:pt x="1740" y="96"/>
                  <a:pt x="1740" y="97"/>
                  <a:pt x="1740" y="98"/>
                </a:cubicBezTo>
                <a:cubicBezTo>
                  <a:pt x="1739" y="96"/>
                  <a:pt x="1739" y="96"/>
                  <a:pt x="1739" y="96"/>
                </a:cubicBezTo>
                <a:cubicBezTo>
                  <a:pt x="1739" y="95"/>
                  <a:pt x="1739" y="95"/>
                  <a:pt x="1739" y="95"/>
                </a:cubicBezTo>
                <a:cubicBezTo>
                  <a:pt x="1739" y="103"/>
                  <a:pt x="1738" y="111"/>
                  <a:pt x="1736" y="119"/>
                </a:cubicBezTo>
                <a:cubicBezTo>
                  <a:pt x="1735" y="116"/>
                  <a:pt x="1734" y="112"/>
                  <a:pt x="1733" y="109"/>
                </a:cubicBezTo>
                <a:cubicBezTo>
                  <a:pt x="1734" y="113"/>
                  <a:pt x="1735" y="117"/>
                  <a:pt x="1735" y="120"/>
                </a:cubicBezTo>
                <a:cubicBezTo>
                  <a:pt x="1735" y="123"/>
                  <a:pt x="1734" y="125"/>
                  <a:pt x="1734" y="127"/>
                </a:cubicBezTo>
                <a:cubicBezTo>
                  <a:pt x="1732" y="122"/>
                  <a:pt x="1730" y="116"/>
                  <a:pt x="1728" y="111"/>
                </a:cubicBezTo>
                <a:cubicBezTo>
                  <a:pt x="1728" y="109"/>
                  <a:pt x="1728" y="108"/>
                  <a:pt x="1727" y="107"/>
                </a:cubicBezTo>
                <a:cubicBezTo>
                  <a:pt x="1727" y="106"/>
                  <a:pt x="1727" y="104"/>
                  <a:pt x="1727" y="103"/>
                </a:cubicBezTo>
                <a:cubicBezTo>
                  <a:pt x="1727" y="104"/>
                  <a:pt x="1727" y="105"/>
                  <a:pt x="1727" y="105"/>
                </a:cubicBezTo>
                <a:cubicBezTo>
                  <a:pt x="1726" y="99"/>
                  <a:pt x="1724" y="93"/>
                  <a:pt x="1721" y="87"/>
                </a:cubicBezTo>
                <a:cubicBezTo>
                  <a:pt x="1722" y="84"/>
                  <a:pt x="1724" y="82"/>
                  <a:pt x="1726" y="80"/>
                </a:cubicBezTo>
                <a:cubicBezTo>
                  <a:pt x="1724" y="82"/>
                  <a:pt x="1722" y="84"/>
                  <a:pt x="1720" y="86"/>
                </a:cubicBezTo>
                <a:cubicBezTo>
                  <a:pt x="1718" y="81"/>
                  <a:pt x="1715" y="77"/>
                  <a:pt x="1712" y="73"/>
                </a:cubicBezTo>
                <a:cubicBezTo>
                  <a:pt x="1715" y="77"/>
                  <a:pt x="1717" y="83"/>
                  <a:pt x="1718" y="90"/>
                </a:cubicBezTo>
                <a:cubicBezTo>
                  <a:pt x="1716" y="94"/>
                  <a:pt x="1714" y="99"/>
                  <a:pt x="1714" y="103"/>
                </a:cubicBezTo>
                <a:cubicBezTo>
                  <a:pt x="1712" y="97"/>
                  <a:pt x="1710" y="91"/>
                  <a:pt x="1708" y="85"/>
                </a:cubicBezTo>
                <a:cubicBezTo>
                  <a:pt x="1710" y="91"/>
                  <a:pt x="1710" y="97"/>
                  <a:pt x="1710" y="103"/>
                </a:cubicBezTo>
                <a:cubicBezTo>
                  <a:pt x="1710" y="108"/>
                  <a:pt x="1709" y="114"/>
                  <a:pt x="1709" y="119"/>
                </a:cubicBezTo>
                <a:cubicBezTo>
                  <a:pt x="1707" y="111"/>
                  <a:pt x="1706" y="104"/>
                  <a:pt x="1706" y="96"/>
                </a:cubicBezTo>
                <a:cubicBezTo>
                  <a:pt x="1706" y="87"/>
                  <a:pt x="1710" y="73"/>
                  <a:pt x="1715" y="65"/>
                </a:cubicBezTo>
                <a:cubicBezTo>
                  <a:pt x="1706" y="76"/>
                  <a:pt x="1702" y="96"/>
                  <a:pt x="1702" y="108"/>
                </a:cubicBezTo>
                <a:cubicBezTo>
                  <a:pt x="1702" y="119"/>
                  <a:pt x="1705" y="130"/>
                  <a:pt x="1705" y="141"/>
                </a:cubicBezTo>
                <a:cubicBezTo>
                  <a:pt x="1705" y="146"/>
                  <a:pt x="1705" y="150"/>
                  <a:pt x="1704" y="154"/>
                </a:cubicBezTo>
                <a:cubicBezTo>
                  <a:pt x="1698" y="135"/>
                  <a:pt x="1703" y="113"/>
                  <a:pt x="1699" y="93"/>
                </a:cubicBezTo>
                <a:cubicBezTo>
                  <a:pt x="1696" y="79"/>
                  <a:pt x="1691" y="64"/>
                  <a:pt x="1685" y="51"/>
                </a:cubicBezTo>
                <a:cubicBezTo>
                  <a:pt x="1684" y="52"/>
                  <a:pt x="1684" y="54"/>
                  <a:pt x="1684" y="55"/>
                </a:cubicBezTo>
                <a:cubicBezTo>
                  <a:pt x="1691" y="76"/>
                  <a:pt x="1693" y="92"/>
                  <a:pt x="1694" y="105"/>
                </a:cubicBezTo>
                <a:cubicBezTo>
                  <a:pt x="1693" y="109"/>
                  <a:pt x="1692" y="114"/>
                  <a:pt x="1692" y="118"/>
                </a:cubicBezTo>
                <a:cubicBezTo>
                  <a:pt x="1690" y="101"/>
                  <a:pt x="1686" y="82"/>
                  <a:pt x="1677" y="75"/>
                </a:cubicBezTo>
                <a:cubicBezTo>
                  <a:pt x="1683" y="83"/>
                  <a:pt x="1685" y="97"/>
                  <a:pt x="1685" y="106"/>
                </a:cubicBezTo>
                <a:cubicBezTo>
                  <a:pt x="1685" y="106"/>
                  <a:pt x="1685" y="107"/>
                  <a:pt x="1685" y="107"/>
                </a:cubicBezTo>
                <a:cubicBezTo>
                  <a:pt x="1684" y="104"/>
                  <a:pt x="1683" y="101"/>
                  <a:pt x="1683" y="98"/>
                </a:cubicBezTo>
                <a:cubicBezTo>
                  <a:pt x="1683" y="105"/>
                  <a:pt x="1683" y="111"/>
                  <a:pt x="1684" y="118"/>
                </a:cubicBezTo>
                <a:cubicBezTo>
                  <a:pt x="1684" y="122"/>
                  <a:pt x="1683" y="126"/>
                  <a:pt x="1682" y="130"/>
                </a:cubicBezTo>
                <a:cubicBezTo>
                  <a:pt x="1681" y="124"/>
                  <a:pt x="1679" y="118"/>
                  <a:pt x="1678" y="113"/>
                </a:cubicBezTo>
                <a:cubicBezTo>
                  <a:pt x="1679" y="121"/>
                  <a:pt x="1681" y="128"/>
                  <a:pt x="1681" y="136"/>
                </a:cubicBezTo>
                <a:cubicBezTo>
                  <a:pt x="1680" y="140"/>
                  <a:pt x="1679" y="144"/>
                  <a:pt x="1679" y="148"/>
                </a:cubicBezTo>
                <a:cubicBezTo>
                  <a:pt x="1679" y="147"/>
                  <a:pt x="1678" y="147"/>
                  <a:pt x="1678" y="146"/>
                </a:cubicBezTo>
                <a:cubicBezTo>
                  <a:pt x="1679" y="129"/>
                  <a:pt x="1676" y="106"/>
                  <a:pt x="1669" y="91"/>
                </a:cubicBezTo>
                <a:cubicBezTo>
                  <a:pt x="1670" y="88"/>
                  <a:pt x="1670" y="85"/>
                  <a:pt x="1672" y="83"/>
                </a:cubicBezTo>
                <a:cubicBezTo>
                  <a:pt x="1670" y="85"/>
                  <a:pt x="1669" y="88"/>
                  <a:pt x="1668" y="90"/>
                </a:cubicBezTo>
                <a:cubicBezTo>
                  <a:pt x="1668" y="88"/>
                  <a:pt x="1667" y="87"/>
                  <a:pt x="1666" y="85"/>
                </a:cubicBezTo>
                <a:cubicBezTo>
                  <a:pt x="1667" y="87"/>
                  <a:pt x="1668" y="89"/>
                  <a:pt x="1668" y="91"/>
                </a:cubicBezTo>
                <a:cubicBezTo>
                  <a:pt x="1667" y="95"/>
                  <a:pt x="1666" y="98"/>
                  <a:pt x="1665" y="101"/>
                </a:cubicBezTo>
                <a:cubicBezTo>
                  <a:pt x="1664" y="94"/>
                  <a:pt x="1662" y="87"/>
                  <a:pt x="1659" y="79"/>
                </a:cubicBezTo>
                <a:cubicBezTo>
                  <a:pt x="1659" y="78"/>
                  <a:pt x="1659" y="76"/>
                  <a:pt x="1659" y="75"/>
                </a:cubicBezTo>
                <a:cubicBezTo>
                  <a:pt x="1659" y="76"/>
                  <a:pt x="1659" y="77"/>
                  <a:pt x="1658" y="78"/>
                </a:cubicBezTo>
                <a:cubicBezTo>
                  <a:pt x="1656" y="71"/>
                  <a:pt x="1653" y="64"/>
                  <a:pt x="1648" y="56"/>
                </a:cubicBezTo>
                <a:cubicBezTo>
                  <a:pt x="1648" y="66"/>
                  <a:pt x="1652" y="78"/>
                  <a:pt x="1655" y="90"/>
                </a:cubicBezTo>
                <a:cubicBezTo>
                  <a:pt x="1653" y="99"/>
                  <a:pt x="1653" y="108"/>
                  <a:pt x="1652" y="117"/>
                </a:cubicBezTo>
                <a:cubicBezTo>
                  <a:pt x="1651" y="112"/>
                  <a:pt x="1649" y="107"/>
                  <a:pt x="1648" y="103"/>
                </a:cubicBezTo>
                <a:cubicBezTo>
                  <a:pt x="1650" y="109"/>
                  <a:pt x="1648" y="132"/>
                  <a:pt x="1648" y="140"/>
                </a:cubicBezTo>
                <a:cubicBezTo>
                  <a:pt x="1648" y="144"/>
                  <a:pt x="1648" y="147"/>
                  <a:pt x="1648" y="151"/>
                </a:cubicBezTo>
                <a:cubicBezTo>
                  <a:pt x="1648" y="151"/>
                  <a:pt x="1648" y="151"/>
                  <a:pt x="1648" y="151"/>
                </a:cubicBezTo>
                <a:cubicBezTo>
                  <a:pt x="1648" y="144"/>
                  <a:pt x="1647" y="137"/>
                  <a:pt x="1645" y="129"/>
                </a:cubicBezTo>
                <a:cubicBezTo>
                  <a:pt x="1643" y="119"/>
                  <a:pt x="1642" y="110"/>
                  <a:pt x="1643" y="100"/>
                </a:cubicBezTo>
                <a:cubicBezTo>
                  <a:pt x="1642" y="107"/>
                  <a:pt x="1642" y="113"/>
                  <a:pt x="1642" y="119"/>
                </a:cubicBezTo>
                <a:cubicBezTo>
                  <a:pt x="1640" y="114"/>
                  <a:pt x="1638" y="108"/>
                  <a:pt x="1636" y="103"/>
                </a:cubicBezTo>
                <a:cubicBezTo>
                  <a:pt x="1636" y="99"/>
                  <a:pt x="1637" y="95"/>
                  <a:pt x="1639" y="90"/>
                </a:cubicBezTo>
                <a:cubicBezTo>
                  <a:pt x="1637" y="94"/>
                  <a:pt x="1636" y="98"/>
                  <a:pt x="1635" y="102"/>
                </a:cubicBezTo>
                <a:cubicBezTo>
                  <a:pt x="1632" y="97"/>
                  <a:pt x="1630" y="93"/>
                  <a:pt x="1627" y="89"/>
                </a:cubicBezTo>
                <a:cubicBezTo>
                  <a:pt x="1630" y="93"/>
                  <a:pt x="1630" y="99"/>
                  <a:pt x="1630" y="103"/>
                </a:cubicBezTo>
                <a:cubicBezTo>
                  <a:pt x="1630" y="104"/>
                  <a:pt x="1631" y="109"/>
                  <a:pt x="1631" y="115"/>
                </a:cubicBezTo>
                <a:cubicBezTo>
                  <a:pt x="1630" y="120"/>
                  <a:pt x="1630" y="124"/>
                  <a:pt x="1629" y="129"/>
                </a:cubicBezTo>
                <a:cubicBezTo>
                  <a:pt x="1628" y="125"/>
                  <a:pt x="1627" y="122"/>
                  <a:pt x="1627" y="119"/>
                </a:cubicBezTo>
                <a:cubicBezTo>
                  <a:pt x="1627" y="115"/>
                  <a:pt x="1627" y="108"/>
                  <a:pt x="1626" y="105"/>
                </a:cubicBezTo>
                <a:cubicBezTo>
                  <a:pt x="1625" y="108"/>
                  <a:pt x="1625" y="110"/>
                  <a:pt x="1625" y="113"/>
                </a:cubicBezTo>
                <a:cubicBezTo>
                  <a:pt x="1624" y="109"/>
                  <a:pt x="1623" y="106"/>
                  <a:pt x="1623" y="103"/>
                </a:cubicBezTo>
                <a:cubicBezTo>
                  <a:pt x="1624" y="97"/>
                  <a:pt x="1625" y="90"/>
                  <a:pt x="1628" y="84"/>
                </a:cubicBezTo>
                <a:cubicBezTo>
                  <a:pt x="1625" y="90"/>
                  <a:pt x="1623" y="95"/>
                  <a:pt x="1622" y="101"/>
                </a:cubicBezTo>
                <a:cubicBezTo>
                  <a:pt x="1617" y="86"/>
                  <a:pt x="1614" y="83"/>
                  <a:pt x="1609" y="78"/>
                </a:cubicBezTo>
                <a:cubicBezTo>
                  <a:pt x="1616" y="84"/>
                  <a:pt x="1619" y="97"/>
                  <a:pt x="1620" y="107"/>
                </a:cubicBezTo>
                <a:cubicBezTo>
                  <a:pt x="1619" y="114"/>
                  <a:pt x="1617" y="120"/>
                  <a:pt x="1616" y="126"/>
                </a:cubicBezTo>
                <a:cubicBezTo>
                  <a:pt x="1615" y="121"/>
                  <a:pt x="1614" y="115"/>
                  <a:pt x="1612" y="109"/>
                </a:cubicBezTo>
                <a:cubicBezTo>
                  <a:pt x="1613" y="106"/>
                  <a:pt x="1613" y="103"/>
                  <a:pt x="1614" y="100"/>
                </a:cubicBezTo>
                <a:cubicBezTo>
                  <a:pt x="1613" y="102"/>
                  <a:pt x="1613" y="104"/>
                  <a:pt x="1612" y="108"/>
                </a:cubicBezTo>
                <a:cubicBezTo>
                  <a:pt x="1611" y="106"/>
                  <a:pt x="1610" y="103"/>
                  <a:pt x="1610" y="101"/>
                </a:cubicBezTo>
                <a:cubicBezTo>
                  <a:pt x="1610" y="100"/>
                  <a:pt x="1610" y="99"/>
                  <a:pt x="1611" y="98"/>
                </a:cubicBezTo>
                <a:cubicBezTo>
                  <a:pt x="1610" y="99"/>
                  <a:pt x="1610" y="100"/>
                  <a:pt x="1610" y="101"/>
                </a:cubicBezTo>
                <a:cubicBezTo>
                  <a:pt x="1607" y="94"/>
                  <a:pt x="1604" y="87"/>
                  <a:pt x="1600" y="81"/>
                </a:cubicBezTo>
                <a:cubicBezTo>
                  <a:pt x="1604" y="88"/>
                  <a:pt x="1605" y="99"/>
                  <a:pt x="1605" y="106"/>
                </a:cubicBezTo>
                <a:cubicBezTo>
                  <a:pt x="1605" y="111"/>
                  <a:pt x="1604" y="115"/>
                  <a:pt x="1604" y="120"/>
                </a:cubicBezTo>
                <a:cubicBezTo>
                  <a:pt x="1602" y="126"/>
                  <a:pt x="1600" y="133"/>
                  <a:pt x="1599" y="139"/>
                </a:cubicBezTo>
                <a:cubicBezTo>
                  <a:pt x="1599" y="137"/>
                  <a:pt x="1599" y="136"/>
                  <a:pt x="1599" y="135"/>
                </a:cubicBezTo>
                <a:cubicBezTo>
                  <a:pt x="1600" y="127"/>
                  <a:pt x="1600" y="120"/>
                  <a:pt x="1601" y="113"/>
                </a:cubicBezTo>
                <a:cubicBezTo>
                  <a:pt x="1600" y="117"/>
                  <a:pt x="1600" y="123"/>
                  <a:pt x="1599" y="129"/>
                </a:cubicBezTo>
                <a:cubicBezTo>
                  <a:pt x="1599" y="120"/>
                  <a:pt x="1599" y="111"/>
                  <a:pt x="1597" y="103"/>
                </a:cubicBezTo>
                <a:cubicBezTo>
                  <a:pt x="1598" y="101"/>
                  <a:pt x="1599" y="100"/>
                  <a:pt x="1599" y="99"/>
                </a:cubicBezTo>
                <a:cubicBezTo>
                  <a:pt x="1599" y="100"/>
                  <a:pt x="1598" y="101"/>
                  <a:pt x="1597" y="102"/>
                </a:cubicBezTo>
                <a:cubicBezTo>
                  <a:pt x="1595" y="88"/>
                  <a:pt x="1591" y="75"/>
                  <a:pt x="1582" y="60"/>
                </a:cubicBezTo>
                <a:cubicBezTo>
                  <a:pt x="1582" y="61"/>
                  <a:pt x="1582" y="61"/>
                  <a:pt x="1582" y="61"/>
                </a:cubicBezTo>
                <a:cubicBezTo>
                  <a:pt x="1582" y="76"/>
                  <a:pt x="1592" y="94"/>
                  <a:pt x="1592" y="111"/>
                </a:cubicBezTo>
                <a:cubicBezTo>
                  <a:pt x="1591" y="115"/>
                  <a:pt x="1590" y="120"/>
                  <a:pt x="1589" y="125"/>
                </a:cubicBezTo>
                <a:cubicBezTo>
                  <a:pt x="1585" y="109"/>
                  <a:pt x="1578" y="94"/>
                  <a:pt x="1567" y="83"/>
                </a:cubicBezTo>
                <a:cubicBezTo>
                  <a:pt x="1574" y="90"/>
                  <a:pt x="1578" y="101"/>
                  <a:pt x="1580" y="111"/>
                </a:cubicBezTo>
                <a:cubicBezTo>
                  <a:pt x="1579" y="111"/>
                  <a:pt x="1579" y="110"/>
                  <a:pt x="1579" y="109"/>
                </a:cubicBezTo>
                <a:cubicBezTo>
                  <a:pt x="1579" y="117"/>
                  <a:pt x="1580" y="126"/>
                  <a:pt x="1580" y="134"/>
                </a:cubicBezTo>
                <a:cubicBezTo>
                  <a:pt x="1580" y="136"/>
                  <a:pt x="1580" y="138"/>
                  <a:pt x="1580" y="140"/>
                </a:cubicBezTo>
                <a:cubicBezTo>
                  <a:pt x="1577" y="127"/>
                  <a:pt x="1576" y="113"/>
                  <a:pt x="1572" y="100"/>
                </a:cubicBezTo>
                <a:cubicBezTo>
                  <a:pt x="1574" y="109"/>
                  <a:pt x="1574" y="123"/>
                  <a:pt x="1574" y="135"/>
                </a:cubicBezTo>
                <a:cubicBezTo>
                  <a:pt x="1575" y="138"/>
                  <a:pt x="1575" y="141"/>
                  <a:pt x="1575" y="144"/>
                </a:cubicBezTo>
                <a:cubicBezTo>
                  <a:pt x="1575" y="143"/>
                  <a:pt x="1575" y="142"/>
                  <a:pt x="1575" y="142"/>
                </a:cubicBezTo>
                <a:cubicBezTo>
                  <a:pt x="1574" y="139"/>
                  <a:pt x="1574" y="137"/>
                  <a:pt x="1574" y="135"/>
                </a:cubicBezTo>
                <a:cubicBezTo>
                  <a:pt x="1574" y="130"/>
                  <a:pt x="1573" y="125"/>
                  <a:pt x="1572" y="120"/>
                </a:cubicBezTo>
                <a:cubicBezTo>
                  <a:pt x="1572" y="119"/>
                  <a:pt x="1572" y="119"/>
                  <a:pt x="1572" y="118"/>
                </a:cubicBezTo>
                <a:cubicBezTo>
                  <a:pt x="1572" y="119"/>
                  <a:pt x="1572" y="119"/>
                  <a:pt x="1572" y="120"/>
                </a:cubicBezTo>
                <a:cubicBezTo>
                  <a:pt x="1571" y="116"/>
                  <a:pt x="1569" y="112"/>
                  <a:pt x="1568" y="108"/>
                </a:cubicBezTo>
                <a:cubicBezTo>
                  <a:pt x="1569" y="106"/>
                  <a:pt x="1569" y="105"/>
                  <a:pt x="1570" y="103"/>
                </a:cubicBezTo>
                <a:cubicBezTo>
                  <a:pt x="1569" y="105"/>
                  <a:pt x="1568" y="106"/>
                  <a:pt x="1568" y="107"/>
                </a:cubicBezTo>
                <a:cubicBezTo>
                  <a:pt x="1561" y="91"/>
                  <a:pt x="1551" y="76"/>
                  <a:pt x="1534" y="63"/>
                </a:cubicBezTo>
                <a:cubicBezTo>
                  <a:pt x="1540" y="68"/>
                  <a:pt x="1544" y="74"/>
                  <a:pt x="1548" y="79"/>
                </a:cubicBezTo>
                <a:cubicBezTo>
                  <a:pt x="1547" y="81"/>
                  <a:pt x="1545" y="85"/>
                  <a:pt x="1542" y="90"/>
                </a:cubicBezTo>
                <a:cubicBezTo>
                  <a:pt x="1542" y="90"/>
                  <a:pt x="1542" y="90"/>
                  <a:pt x="1542" y="90"/>
                </a:cubicBezTo>
                <a:cubicBezTo>
                  <a:pt x="1542" y="90"/>
                  <a:pt x="1542" y="90"/>
                  <a:pt x="1542" y="90"/>
                </a:cubicBezTo>
                <a:cubicBezTo>
                  <a:pt x="1540" y="94"/>
                  <a:pt x="1538" y="98"/>
                  <a:pt x="1536" y="103"/>
                </a:cubicBezTo>
                <a:cubicBezTo>
                  <a:pt x="1535" y="100"/>
                  <a:pt x="1535" y="98"/>
                  <a:pt x="1534" y="96"/>
                </a:cubicBezTo>
                <a:cubicBezTo>
                  <a:pt x="1534" y="99"/>
                  <a:pt x="1535" y="103"/>
                  <a:pt x="1535" y="106"/>
                </a:cubicBezTo>
                <a:cubicBezTo>
                  <a:pt x="1534" y="108"/>
                  <a:pt x="1533" y="111"/>
                  <a:pt x="1532" y="113"/>
                </a:cubicBezTo>
                <a:cubicBezTo>
                  <a:pt x="1531" y="111"/>
                  <a:pt x="1531" y="109"/>
                  <a:pt x="1530" y="107"/>
                </a:cubicBezTo>
                <a:cubicBezTo>
                  <a:pt x="1531" y="100"/>
                  <a:pt x="1532" y="93"/>
                  <a:pt x="1532" y="88"/>
                </a:cubicBezTo>
                <a:cubicBezTo>
                  <a:pt x="1532" y="87"/>
                  <a:pt x="1532" y="87"/>
                  <a:pt x="1532" y="87"/>
                </a:cubicBezTo>
                <a:cubicBezTo>
                  <a:pt x="1530" y="92"/>
                  <a:pt x="1529" y="97"/>
                  <a:pt x="1528" y="102"/>
                </a:cubicBezTo>
                <a:cubicBezTo>
                  <a:pt x="1525" y="96"/>
                  <a:pt x="1523" y="90"/>
                  <a:pt x="1520" y="84"/>
                </a:cubicBezTo>
                <a:cubicBezTo>
                  <a:pt x="1523" y="90"/>
                  <a:pt x="1525" y="97"/>
                  <a:pt x="1527" y="104"/>
                </a:cubicBezTo>
                <a:cubicBezTo>
                  <a:pt x="1526" y="108"/>
                  <a:pt x="1526" y="111"/>
                  <a:pt x="1525" y="115"/>
                </a:cubicBezTo>
                <a:cubicBezTo>
                  <a:pt x="1523" y="110"/>
                  <a:pt x="1521" y="106"/>
                  <a:pt x="1519" y="102"/>
                </a:cubicBezTo>
                <a:cubicBezTo>
                  <a:pt x="1521" y="107"/>
                  <a:pt x="1522" y="114"/>
                  <a:pt x="1523" y="121"/>
                </a:cubicBezTo>
                <a:cubicBezTo>
                  <a:pt x="1522" y="126"/>
                  <a:pt x="1520" y="131"/>
                  <a:pt x="1519" y="135"/>
                </a:cubicBezTo>
                <a:cubicBezTo>
                  <a:pt x="1517" y="132"/>
                  <a:pt x="1516" y="129"/>
                  <a:pt x="1515" y="125"/>
                </a:cubicBezTo>
                <a:cubicBezTo>
                  <a:pt x="1516" y="118"/>
                  <a:pt x="1517" y="111"/>
                  <a:pt x="1518" y="104"/>
                </a:cubicBezTo>
                <a:cubicBezTo>
                  <a:pt x="1517" y="109"/>
                  <a:pt x="1515" y="114"/>
                  <a:pt x="1513" y="120"/>
                </a:cubicBezTo>
                <a:cubicBezTo>
                  <a:pt x="1512" y="115"/>
                  <a:pt x="1511" y="111"/>
                  <a:pt x="1510" y="107"/>
                </a:cubicBezTo>
                <a:cubicBezTo>
                  <a:pt x="1510" y="103"/>
                  <a:pt x="1511" y="98"/>
                  <a:pt x="1511" y="94"/>
                </a:cubicBezTo>
                <a:cubicBezTo>
                  <a:pt x="1511" y="91"/>
                  <a:pt x="1510" y="88"/>
                  <a:pt x="1510" y="85"/>
                </a:cubicBezTo>
                <a:cubicBezTo>
                  <a:pt x="1509" y="89"/>
                  <a:pt x="1508" y="93"/>
                  <a:pt x="1507" y="99"/>
                </a:cubicBezTo>
                <a:cubicBezTo>
                  <a:pt x="1504" y="91"/>
                  <a:pt x="1500" y="84"/>
                  <a:pt x="1495" y="77"/>
                </a:cubicBezTo>
                <a:cubicBezTo>
                  <a:pt x="1498" y="86"/>
                  <a:pt x="1502" y="95"/>
                  <a:pt x="1505" y="104"/>
                </a:cubicBezTo>
                <a:cubicBezTo>
                  <a:pt x="1505" y="106"/>
                  <a:pt x="1505" y="107"/>
                  <a:pt x="1505" y="109"/>
                </a:cubicBezTo>
                <a:cubicBezTo>
                  <a:pt x="1504" y="107"/>
                  <a:pt x="1503" y="105"/>
                  <a:pt x="1502" y="103"/>
                </a:cubicBezTo>
                <a:cubicBezTo>
                  <a:pt x="1502" y="103"/>
                  <a:pt x="1502" y="102"/>
                  <a:pt x="1502" y="102"/>
                </a:cubicBezTo>
                <a:cubicBezTo>
                  <a:pt x="1502" y="102"/>
                  <a:pt x="1502" y="103"/>
                  <a:pt x="1502" y="103"/>
                </a:cubicBezTo>
                <a:cubicBezTo>
                  <a:pt x="1497" y="94"/>
                  <a:pt x="1492" y="86"/>
                  <a:pt x="1485" y="79"/>
                </a:cubicBezTo>
                <a:cubicBezTo>
                  <a:pt x="1487" y="75"/>
                  <a:pt x="1489" y="71"/>
                  <a:pt x="1491" y="68"/>
                </a:cubicBezTo>
                <a:cubicBezTo>
                  <a:pt x="1489" y="69"/>
                  <a:pt x="1486" y="73"/>
                  <a:pt x="1484" y="77"/>
                </a:cubicBezTo>
                <a:cubicBezTo>
                  <a:pt x="1480" y="73"/>
                  <a:pt x="1476" y="69"/>
                  <a:pt x="1471" y="65"/>
                </a:cubicBezTo>
                <a:cubicBezTo>
                  <a:pt x="1476" y="70"/>
                  <a:pt x="1480" y="75"/>
                  <a:pt x="1483" y="79"/>
                </a:cubicBezTo>
                <a:cubicBezTo>
                  <a:pt x="1480" y="86"/>
                  <a:pt x="1477" y="96"/>
                  <a:pt x="1474" y="105"/>
                </a:cubicBezTo>
                <a:cubicBezTo>
                  <a:pt x="1471" y="99"/>
                  <a:pt x="1467" y="94"/>
                  <a:pt x="1464" y="88"/>
                </a:cubicBezTo>
                <a:cubicBezTo>
                  <a:pt x="1464" y="87"/>
                  <a:pt x="1464" y="86"/>
                  <a:pt x="1465" y="85"/>
                </a:cubicBezTo>
                <a:cubicBezTo>
                  <a:pt x="1464" y="86"/>
                  <a:pt x="1464" y="87"/>
                  <a:pt x="1464" y="88"/>
                </a:cubicBezTo>
                <a:cubicBezTo>
                  <a:pt x="1463" y="87"/>
                  <a:pt x="1462" y="86"/>
                  <a:pt x="1461" y="85"/>
                </a:cubicBezTo>
                <a:cubicBezTo>
                  <a:pt x="1462" y="86"/>
                  <a:pt x="1463" y="87"/>
                  <a:pt x="1463" y="88"/>
                </a:cubicBezTo>
                <a:cubicBezTo>
                  <a:pt x="1462" y="91"/>
                  <a:pt x="1461" y="93"/>
                  <a:pt x="1460" y="95"/>
                </a:cubicBezTo>
                <a:cubicBezTo>
                  <a:pt x="1459" y="94"/>
                  <a:pt x="1459" y="92"/>
                  <a:pt x="1458" y="91"/>
                </a:cubicBezTo>
                <a:cubicBezTo>
                  <a:pt x="1459" y="92"/>
                  <a:pt x="1459" y="94"/>
                  <a:pt x="1460" y="95"/>
                </a:cubicBezTo>
                <a:cubicBezTo>
                  <a:pt x="1456" y="103"/>
                  <a:pt x="1453" y="112"/>
                  <a:pt x="1451" y="121"/>
                </a:cubicBezTo>
                <a:cubicBezTo>
                  <a:pt x="1450" y="112"/>
                  <a:pt x="1449" y="103"/>
                  <a:pt x="1449" y="97"/>
                </a:cubicBezTo>
                <a:cubicBezTo>
                  <a:pt x="1447" y="100"/>
                  <a:pt x="1446" y="105"/>
                  <a:pt x="1445" y="110"/>
                </a:cubicBezTo>
                <a:cubicBezTo>
                  <a:pt x="1445" y="92"/>
                  <a:pt x="1444" y="61"/>
                  <a:pt x="1442" y="57"/>
                </a:cubicBezTo>
                <a:cubicBezTo>
                  <a:pt x="1441" y="79"/>
                  <a:pt x="1442" y="100"/>
                  <a:pt x="1442" y="122"/>
                </a:cubicBezTo>
                <a:cubicBezTo>
                  <a:pt x="1442" y="123"/>
                  <a:pt x="1442" y="124"/>
                  <a:pt x="1442" y="125"/>
                </a:cubicBezTo>
                <a:cubicBezTo>
                  <a:pt x="1440" y="114"/>
                  <a:pt x="1436" y="103"/>
                  <a:pt x="1431" y="94"/>
                </a:cubicBezTo>
                <a:cubicBezTo>
                  <a:pt x="1430" y="89"/>
                  <a:pt x="1430" y="84"/>
                  <a:pt x="1431" y="80"/>
                </a:cubicBezTo>
                <a:cubicBezTo>
                  <a:pt x="1430" y="83"/>
                  <a:pt x="1429" y="87"/>
                  <a:pt x="1428" y="90"/>
                </a:cubicBezTo>
                <a:cubicBezTo>
                  <a:pt x="1426" y="88"/>
                  <a:pt x="1424" y="85"/>
                  <a:pt x="1422" y="83"/>
                </a:cubicBezTo>
                <a:cubicBezTo>
                  <a:pt x="1424" y="86"/>
                  <a:pt x="1426" y="89"/>
                  <a:pt x="1428" y="92"/>
                </a:cubicBezTo>
                <a:cubicBezTo>
                  <a:pt x="1427" y="96"/>
                  <a:pt x="1426" y="100"/>
                  <a:pt x="1426" y="103"/>
                </a:cubicBezTo>
                <a:cubicBezTo>
                  <a:pt x="1425" y="102"/>
                  <a:pt x="1425" y="101"/>
                  <a:pt x="1425" y="100"/>
                </a:cubicBezTo>
                <a:cubicBezTo>
                  <a:pt x="1425" y="101"/>
                  <a:pt x="1425" y="102"/>
                  <a:pt x="1426" y="104"/>
                </a:cubicBezTo>
                <a:cubicBezTo>
                  <a:pt x="1425" y="106"/>
                  <a:pt x="1425" y="109"/>
                  <a:pt x="1424" y="111"/>
                </a:cubicBezTo>
                <a:cubicBezTo>
                  <a:pt x="1422" y="107"/>
                  <a:pt x="1421" y="103"/>
                  <a:pt x="1419" y="99"/>
                </a:cubicBezTo>
                <a:cubicBezTo>
                  <a:pt x="1418" y="91"/>
                  <a:pt x="1418" y="82"/>
                  <a:pt x="1419" y="74"/>
                </a:cubicBezTo>
                <a:cubicBezTo>
                  <a:pt x="1418" y="80"/>
                  <a:pt x="1416" y="86"/>
                  <a:pt x="1415" y="92"/>
                </a:cubicBezTo>
                <a:cubicBezTo>
                  <a:pt x="1414" y="91"/>
                  <a:pt x="1413" y="89"/>
                  <a:pt x="1412" y="88"/>
                </a:cubicBezTo>
                <a:cubicBezTo>
                  <a:pt x="1413" y="89"/>
                  <a:pt x="1414" y="91"/>
                  <a:pt x="1415" y="93"/>
                </a:cubicBezTo>
                <a:cubicBezTo>
                  <a:pt x="1414" y="95"/>
                  <a:pt x="1414" y="97"/>
                  <a:pt x="1414" y="98"/>
                </a:cubicBezTo>
                <a:cubicBezTo>
                  <a:pt x="1411" y="93"/>
                  <a:pt x="1409" y="88"/>
                  <a:pt x="1405" y="84"/>
                </a:cubicBezTo>
                <a:cubicBezTo>
                  <a:pt x="1408" y="88"/>
                  <a:pt x="1410" y="95"/>
                  <a:pt x="1413" y="103"/>
                </a:cubicBezTo>
                <a:cubicBezTo>
                  <a:pt x="1412" y="106"/>
                  <a:pt x="1411" y="110"/>
                  <a:pt x="1411" y="113"/>
                </a:cubicBezTo>
                <a:cubicBezTo>
                  <a:pt x="1408" y="108"/>
                  <a:pt x="1406" y="102"/>
                  <a:pt x="1403" y="96"/>
                </a:cubicBezTo>
                <a:cubicBezTo>
                  <a:pt x="1403" y="91"/>
                  <a:pt x="1404" y="86"/>
                  <a:pt x="1405" y="83"/>
                </a:cubicBezTo>
                <a:cubicBezTo>
                  <a:pt x="1404" y="87"/>
                  <a:pt x="1403" y="90"/>
                  <a:pt x="1401" y="93"/>
                </a:cubicBezTo>
                <a:cubicBezTo>
                  <a:pt x="1396" y="83"/>
                  <a:pt x="1389" y="74"/>
                  <a:pt x="1380" y="64"/>
                </a:cubicBezTo>
                <a:cubicBezTo>
                  <a:pt x="1389" y="74"/>
                  <a:pt x="1395" y="86"/>
                  <a:pt x="1400" y="97"/>
                </a:cubicBezTo>
                <a:cubicBezTo>
                  <a:pt x="1399" y="99"/>
                  <a:pt x="1399" y="101"/>
                  <a:pt x="1398" y="103"/>
                </a:cubicBezTo>
                <a:cubicBezTo>
                  <a:pt x="1397" y="98"/>
                  <a:pt x="1396" y="93"/>
                  <a:pt x="1394" y="88"/>
                </a:cubicBezTo>
                <a:cubicBezTo>
                  <a:pt x="1394" y="91"/>
                  <a:pt x="1395" y="98"/>
                  <a:pt x="1397" y="106"/>
                </a:cubicBezTo>
                <a:cubicBezTo>
                  <a:pt x="1397" y="108"/>
                  <a:pt x="1396" y="109"/>
                  <a:pt x="1396" y="110"/>
                </a:cubicBezTo>
                <a:cubicBezTo>
                  <a:pt x="1390" y="97"/>
                  <a:pt x="1383" y="83"/>
                  <a:pt x="1372" y="72"/>
                </a:cubicBezTo>
                <a:cubicBezTo>
                  <a:pt x="1370" y="61"/>
                  <a:pt x="1368" y="51"/>
                  <a:pt x="1366" y="41"/>
                </a:cubicBezTo>
                <a:cubicBezTo>
                  <a:pt x="1366" y="48"/>
                  <a:pt x="1366" y="55"/>
                  <a:pt x="1366" y="61"/>
                </a:cubicBezTo>
                <a:cubicBezTo>
                  <a:pt x="1366" y="63"/>
                  <a:pt x="1366" y="64"/>
                  <a:pt x="1366" y="66"/>
                </a:cubicBezTo>
                <a:cubicBezTo>
                  <a:pt x="1365" y="65"/>
                  <a:pt x="1365" y="65"/>
                  <a:pt x="1365" y="65"/>
                </a:cubicBezTo>
                <a:cubicBezTo>
                  <a:pt x="1365" y="65"/>
                  <a:pt x="1365" y="65"/>
                  <a:pt x="1366" y="66"/>
                </a:cubicBezTo>
                <a:cubicBezTo>
                  <a:pt x="1366" y="75"/>
                  <a:pt x="1367" y="85"/>
                  <a:pt x="1367" y="94"/>
                </a:cubicBezTo>
                <a:cubicBezTo>
                  <a:pt x="1365" y="88"/>
                  <a:pt x="1362" y="81"/>
                  <a:pt x="1358" y="75"/>
                </a:cubicBezTo>
                <a:cubicBezTo>
                  <a:pt x="1358" y="75"/>
                  <a:pt x="1358" y="75"/>
                  <a:pt x="1358" y="75"/>
                </a:cubicBezTo>
                <a:cubicBezTo>
                  <a:pt x="1358" y="75"/>
                  <a:pt x="1358" y="75"/>
                  <a:pt x="1358" y="75"/>
                </a:cubicBezTo>
                <a:cubicBezTo>
                  <a:pt x="1353" y="67"/>
                  <a:pt x="1346" y="59"/>
                  <a:pt x="1336" y="50"/>
                </a:cubicBezTo>
                <a:cubicBezTo>
                  <a:pt x="1339" y="54"/>
                  <a:pt x="1341" y="58"/>
                  <a:pt x="1343" y="61"/>
                </a:cubicBezTo>
                <a:cubicBezTo>
                  <a:pt x="1342" y="64"/>
                  <a:pt x="1342" y="68"/>
                  <a:pt x="1341" y="73"/>
                </a:cubicBezTo>
                <a:cubicBezTo>
                  <a:pt x="1339" y="70"/>
                  <a:pt x="1336" y="67"/>
                  <a:pt x="1334" y="65"/>
                </a:cubicBezTo>
                <a:cubicBezTo>
                  <a:pt x="1334" y="64"/>
                  <a:pt x="1334" y="64"/>
                  <a:pt x="1334" y="64"/>
                </a:cubicBezTo>
                <a:cubicBezTo>
                  <a:pt x="1334" y="64"/>
                  <a:pt x="1334" y="64"/>
                  <a:pt x="1334" y="64"/>
                </a:cubicBezTo>
                <a:cubicBezTo>
                  <a:pt x="1332" y="62"/>
                  <a:pt x="1330" y="61"/>
                  <a:pt x="1328" y="59"/>
                </a:cubicBezTo>
                <a:cubicBezTo>
                  <a:pt x="1330" y="61"/>
                  <a:pt x="1332" y="63"/>
                  <a:pt x="1333" y="65"/>
                </a:cubicBezTo>
                <a:cubicBezTo>
                  <a:pt x="1332" y="67"/>
                  <a:pt x="1330" y="69"/>
                  <a:pt x="1329" y="72"/>
                </a:cubicBezTo>
                <a:cubicBezTo>
                  <a:pt x="1328" y="67"/>
                  <a:pt x="1328" y="61"/>
                  <a:pt x="1327" y="56"/>
                </a:cubicBezTo>
                <a:cubicBezTo>
                  <a:pt x="1328" y="54"/>
                  <a:pt x="1329" y="53"/>
                  <a:pt x="1330" y="51"/>
                </a:cubicBezTo>
                <a:cubicBezTo>
                  <a:pt x="1329" y="52"/>
                  <a:pt x="1328" y="53"/>
                  <a:pt x="1327" y="55"/>
                </a:cubicBezTo>
                <a:cubicBezTo>
                  <a:pt x="1325" y="45"/>
                  <a:pt x="1323" y="35"/>
                  <a:pt x="1320" y="26"/>
                </a:cubicBezTo>
                <a:cubicBezTo>
                  <a:pt x="1319" y="30"/>
                  <a:pt x="1319" y="34"/>
                  <a:pt x="1319" y="37"/>
                </a:cubicBezTo>
                <a:cubicBezTo>
                  <a:pt x="1319" y="45"/>
                  <a:pt x="1320" y="53"/>
                  <a:pt x="1321" y="60"/>
                </a:cubicBezTo>
                <a:cubicBezTo>
                  <a:pt x="1317" y="65"/>
                  <a:pt x="1313" y="69"/>
                  <a:pt x="1308" y="75"/>
                </a:cubicBezTo>
                <a:cubicBezTo>
                  <a:pt x="1308" y="72"/>
                  <a:pt x="1307" y="70"/>
                  <a:pt x="1306" y="67"/>
                </a:cubicBezTo>
                <a:cubicBezTo>
                  <a:pt x="1306" y="70"/>
                  <a:pt x="1307" y="73"/>
                  <a:pt x="1307" y="76"/>
                </a:cubicBezTo>
                <a:cubicBezTo>
                  <a:pt x="1306" y="77"/>
                  <a:pt x="1306" y="78"/>
                  <a:pt x="1306" y="78"/>
                </a:cubicBezTo>
                <a:cubicBezTo>
                  <a:pt x="1304" y="75"/>
                  <a:pt x="1302" y="72"/>
                  <a:pt x="1300" y="68"/>
                </a:cubicBezTo>
                <a:cubicBezTo>
                  <a:pt x="1300" y="65"/>
                  <a:pt x="1301" y="63"/>
                  <a:pt x="1301" y="62"/>
                </a:cubicBezTo>
                <a:cubicBezTo>
                  <a:pt x="1300" y="63"/>
                  <a:pt x="1299" y="65"/>
                  <a:pt x="1298" y="67"/>
                </a:cubicBezTo>
                <a:cubicBezTo>
                  <a:pt x="1292" y="57"/>
                  <a:pt x="1283" y="47"/>
                  <a:pt x="1270" y="34"/>
                </a:cubicBezTo>
                <a:cubicBezTo>
                  <a:pt x="1283" y="49"/>
                  <a:pt x="1291" y="60"/>
                  <a:pt x="1298" y="69"/>
                </a:cubicBezTo>
                <a:cubicBezTo>
                  <a:pt x="1297" y="72"/>
                  <a:pt x="1296" y="75"/>
                  <a:pt x="1296" y="79"/>
                </a:cubicBezTo>
                <a:cubicBezTo>
                  <a:pt x="1290" y="68"/>
                  <a:pt x="1282" y="58"/>
                  <a:pt x="1270" y="52"/>
                </a:cubicBezTo>
                <a:cubicBezTo>
                  <a:pt x="1284" y="60"/>
                  <a:pt x="1291" y="72"/>
                  <a:pt x="1296" y="84"/>
                </a:cubicBezTo>
                <a:cubicBezTo>
                  <a:pt x="1296" y="86"/>
                  <a:pt x="1296" y="89"/>
                  <a:pt x="1296" y="92"/>
                </a:cubicBezTo>
                <a:cubicBezTo>
                  <a:pt x="1294" y="94"/>
                  <a:pt x="1292" y="97"/>
                  <a:pt x="1290" y="100"/>
                </a:cubicBezTo>
                <a:cubicBezTo>
                  <a:pt x="1289" y="96"/>
                  <a:pt x="1289" y="93"/>
                  <a:pt x="1288" y="90"/>
                </a:cubicBezTo>
                <a:cubicBezTo>
                  <a:pt x="1289" y="93"/>
                  <a:pt x="1289" y="97"/>
                  <a:pt x="1289" y="101"/>
                </a:cubicBezTo>
                <a:cubicBezTo>
                  <a:pt x="1288" y="102"/>
                  <a:pt x="1288" y="104"/>
                  <a:pt x="1287" y="105"/>
                </a:cubicBezTo>
                <a:cubicBezTo>
                  <a:pt x="1286" y="104"/>
                  <a:pt x="1286" y="103"/>
                  <a:pt x="1285" y="102"/>
                </a:cubicBezTo>
                <a:cubicBezTo>
                  <a:pt x="1284" y="97"/>
                  <a:pt x="1283" y="93"/>
                  <a:pt x="1282" y="88"/>
                </a:cubicBezTo>
                <a:cubicBezTo>
                  <a:pt x="1283" y="84"/>
                  <a:pt x="1284" y="79"/>
                  <a:pt x="1284" y="75"/>
                </a:cubicBezTo>
                <a:cubicBezTo>
                  <a:pt x="1283" y="78"/>
                  <a:pt x="1282" y="80"/>
                  <a:pt x="1281" y="83"/>
                </a:cubicBezTo>
                <a:cubicBezTo>
                  <a:pt x="1280" y="81"/>
                  <a:pt x="1280" y="80"/>
                  <a:pt x="1280" y="79"/>
                </a:cubicBezTo>
                <a:cubicBezTo>
                  <a:pt x="1280" y="81"/>
                  <a:pt x="1280" y="82"/>
                  <a:pt x="1280" y="83"/>
                </a:cubicBezTo>
                <a:cubicBezTo>
                  <a:pt x="1280" y="84"/>
                  <a:pt x="1279" y="86"/>
                  <a:pt x="1278" y="87"/>
                </a:cubicBezTo>
                <a:cubicBezTo>
                  <a:pt x="1276" y="83"/>
                  <a:pt x="1275" y="79"/>
                  <a:pt x="1273" y="75"/>
                </a:cubicBezTo>
                <a:cubicBezTo>
                  <a:pt x="1273" y="80"/>
                  <a:pt x="1274" y="86"/>
                  <a:pt x="1276" y="93"/>
                </a:cubicBezTo>
                <a:cubicBezTo>
                  <a:pt x="1275" y="94"/>
                  <a:pt x="1275" y="94"/>
                  <a:pt x="1275" y="95"/>
                </a:cubicBezTo>
                <a:cubicBezTo>
                  <a:pt x="1274" y="90"/>
                  <a:pt x="1272" y="85"/>
                  <a:pt x="1270" y="81"/>
                </a:cubicBezTo>
                <a:cubicBezTo>
                  <a:pt x="1272" y="86"/>
                  <a:pt x="1273" y="91"/>
                  <a:pt x="1274" y="97"/>
                </a:cubicBezTo>
                <a:cubicBezTo>
                  <a:pt x="1272" y="100"/>
                  <a:pt x="1271" y="103"/>
                  <a:pt x="1270" y="105"/>
                </a:cubicBezTo>
                <a:cubicBezTo>
                  <a:pt x="1267" y="84"/>
                  <a:pt x="1261" y="63"/>
                  <a:pt x="1241" y="42"/>
                </a:cubicBezTo>
                <a:cubicBezTo>
                  <a:pt x="1249" y="58"/>
                  <a:pt x="1255" y="70"/>
                  <a:pt x="1259" y="81"/>
                </a:cubicBezTo>
                <a:cubicBezTo>
                  <a:pt x="1259" y="84"/>
                  <a:pt x="1259" y="86"/>
                  <a:pt x="1259" y="89"/>
                </a:cubicBezTo>
                <a:cubicBezTo>
                  <a:pt x="1257" y="86"/>
                  <a:pt x="1256" y="84"/>
                  <a:pt x="1254" y="81"/>
                </a:cubicBezTo>
                <a:cubicBezTo>
                  <a:pt x="1253" y="79"/>
                  <a:pt x="1251" y="76"/>
                  <a:pt x="1250" y="74"/>
                </a:cubicBezTo>
                <a:cubicBezTo>
                  <a:pt x="1250" y="72"/>
                  <a:pt x="1250" y="69"/>
                  <a:pt x="1250" y="67"/>
                </a:cubicBezTo>
                <a:cubicBezTo>
                  <a:pt x="1250" y="69"/>
                  <a:pt x="1250" y="70"/>
                  <a:pt x="1249" y="72"/>
                </a:cubicBezTo>
                <a:cubicBezTo>
                  <a:pt x="1246" y="66"/>
                  <a:pt x="1242" y="59"/>
                  <a:pt x="1237" y="53"/>
                </a:cubicBezTo>
                <a:cubicBezTo>
                  <a:pt x="1237" y="48"/>
                  <a:pt x="1237" y="42"/>
                  <a:pt x="1237" y="37"/>
                </a:cubicBezTo>
                <a:cubicBezTo>
                  <a:pt x="1237" y="34"/>
                  <a:pt x="1237" y="30"/>
                  <a:pt x="1237" y="26"/>
                </a:cubicBezTo>
                <a:cubicBezTo>
                  <a:pt x="1235" y="33"/>
                  <a:pt x="1233" y="40"/>
                  <a:pt x="1232" y="47"/>
                </a:cubicBezTo>
                <a:cubicBezTo>
                  <a:pt x="1229" y="44"/>
                  <a:pt x="1225" y="41"/>
                  <a:pt x="1222" y="38"/>
                </a:cubicBezTo>
                <a:cubicBezTo>
                  <a:pt x="1225" y="41"/>
                  <a:pt x="1228" y="45"/>
                  <a:pt x="1231" y="49"/>
                </a:cubicBezTo>
                <a:cubicBezTo>
                  <a:pt x="1231" y="51"/>
                  <a:pt x="1231" y="53"/>
                  <a:pt x="1230" y="55"/>
                </a:cubicBezTo>
                <a:cubicBezTo>
                  <a:pt x="1229" y="53"/>
                  <a:pt x="1228" y="52"/>
                  <a:pt x="1226" y="51"/>
                </a:cubicBezTo>
                <a:cubicBezTo>
                  <a:pt x="1227" y="53"/>
                  <a:pt x="1229" y="54"/>
                  <a:pt x="1230" y="56"/>
                </a:cubicBezTo>
                <a:cubicBezTo>
                  <a:pt x="1229" y="61"/>
                  <a:pt x="1228" y="67"/>
                  <a:pt x="1228" y="72"/>
                </a:cubicBezTo>
                <a:cubicBezTo>
                  <a:pt x="1226" y="69"/>
                  <a:pt x="1224" y="66"/>
                  <a:pt x="1223" y="64"/>
                </a:cubicBezTo>
                <a:cubicBezTo>
                  <a:pt x="1223" y="67"/>
                  <a:pt x="1225" y="70"/>
                  <a:pt x="1227" y="74"/>
                </a:cubicBezTo>
                <a:cubicBezTo>
                  <a:pt x="1226" y="81"/>
                  <a:pt x="1225" y="87"/>
                  <a:pt x="1224" y="92"/>
                </a:cubicBezTo>
                <a:cubicBezTo>
                  <a:pt x="1220" y="109"/>
                  <a:pt x="1216" y="126"/>
                  <a:pt x="1214" y="143"/>
                </a:cubicBezTo>
                <a:cubicBezTo>
                  <a:pt x="1215" y="126"/>
                  <a:pt x="1216" y="109"/>
                  <a:pt x="1216" y="91"/>
                </a:cubicBezTo>
                <a:cubicBezTo>
                  <a:pt x="1216" y="87"/>
                  <a:pt x="1216" y="61"/>
                  <a:pt x="1212" y="59"/>
                </a:cubicBezTo>
                <a:cubicBezTo>
                  <a:pt x="1217" y="76"/>
                  <a:pt x="1203" y="122"/>
                  <a:pt x="1200" y="146"/>
                </a:cubicBezTo>
                <a:cubicBezTo>
                  <a:pt x="1200" y="148"/>
                  <a:pt x="1200" y="150"/>
                  <a:pt x="1200" y="152"/>
                </a:cubicBezTo>
                <a:cubicBezTo>
                  <a:pt x="1200" y="150"/>
                  <a:pt x="1200" y="148"/>
                  <a:pt x="1200" y="146"/>
                </a:cubicBezTo>
                <a:cubicBezTo>
                  <a:pt x="1202" y="123"/>
                  <a:pt x="1201" y="97"/>
                  <a:pt x="1199" y="75"/>
                </a:cubicBezTo>
                <a:cubicBezTo>
                  <a:pt x="1196" y="97"/>
                  <a:pt x="1188" y="119"/>
                  <a:pt x="1188" y="141"/>
                </a:cubicBezTo>
                <a:cubicBezTo>
                  <a:pt x="1188" y="146"/>
                  <a:pt x="1189" y="152"/>
                  <a:pt x="1189" y="158"/>
                </a:cubicBezTo>
                <a:cubicBezTo>
                  <a:pt x="1187" y="150"/>
                  <a:pt x="1187" y="140"/>
                  <a:pt x="1187" y="133"/>
                </a:cubicBezTo>
                <a:cubicBezTo>
                  <a:pt x="1187" y="109"/>
                  <a:pt x="1191" y="85"/>
                  <a:pt x="1191" y="61"/>
                </a:cubicBezTo>
                <a:cubicBezTo>
                  <a:pt x="1191" y="55"/>
                  <a:pt x="1191" y="48"/>
                  <a:pt x="1191" y="41"/>
                </a:cubicBezTo>
                <a:cubicBezTo>
                  <a:pt x="1183" y="71"/>
                  <a:pt x="1179" y="110"/>
                  <a:pt x="1179" y="140"/>
                </a:cubicBezTo>
                <a:cubicBezTo>
                  <a:pt x="1179" y="145"/>
                  <a:pt x="1179" y="149"/>
                  <a:pt x="1180" y="153"/>
                </a:cubicBezTo>
                <a:cubicBezTo>
                  <a:pt x="1179" y="135"/>
                  <a:pt x="1174" y="116"/>
                  <a:pt x="1170" y="98"/>
                </a:cubicBezTo>
                <a:cubicBezTo>
                  <a:pt x="1172" y="110"/>
                  <a:pt x="1168" y="124"/>
                  <a:pt x="1168" y="136"/>
                </a:cubicBezTo>
                <a:cubicBezTo>
                  <a:pt x="1168" y="140"/>
                  <a:pt x="1168" y="143"/>
                  <a:pt x="1168" y="147"/>
                </a:cubicBezTo>
                <a:cubicBezTo>
                  <a:pt x="1165" y="125"/>
                  <a:pt x="1160" y="103"/>
                  <a:pt x="1151" y="83"/>
                </a:cubicBezTo>
                <a:cubicBezTo>
                  <a:pt x="1154" y="90"/>
                  <a:pt x="1154" y="108"/>
                  <a:pt x="1154" y="115"/>
                </a:cubicBezTo>
                <a:cubicBezTo>
                  <a:pt x="1154" y="127"/>
                  <a:pt x="1154" y="138"/>
                  <a:pt x="1156" y="150"/>
                </a:cubicBezTo>
                <a:cubicBezTo>
                  <a:pt x="1147" y="126"/>
                  <a:pt x="1144" y="99"/>
                  <a:pt x="1137" y="74"/>
                </a:cubicBezTo>
                <a:cubicBezTo>
                  <a:pt x="1140" y="91"/>
                  <a:pt x="1137" y="110"/>
                  <a:pt x="1137" y="128"/>
                </a:cubicBezTo>
                <a:cubicBezTo>
                  <a:pt x="1137" y="132"/>
                  <a:pt x="1137" y="136"/>
                  <a:pt x="1137" y="140"/>
                </a:cubicBezTo>
                <a:cubicBezTo>
                  <a:pt x="1138" y="145"/>
                  <a:pt x="1138" y="149"/>
                  <a:pt x="1139" y="154"/>
                </a:cubicBezTo>
                <a:cubicBezTo>
                  <a:pt x="1138" y="149"/>
                  <a:pt x="1137" y="145"/>
                  <a:pt x="1137" y="140"/>
                </a:cubicBezTo>
                <a:cubicBezTo>
                  <a:pt x="1134" y="120"/>
                  <a:pt x="1131" y="99"/>
                  <a:pt x="1126" y="80"/>
                </a:cubicBezTo>
                <a:cubicBezTo>
                  <a:pt x="1128" y="102"/>
                  <a:pt x="1118" y="126"/>
                  <a:pt x="1118" y="149"/>
                </a:cubicBezTo>
                <a:cubicBezTo>
                  <a:pt x="1118" y="156"/>
                  <a:pt x="1118" y="156"/>
                  <a:pt x="1118" y="156"/>
                </a:cubicBezTo>
                <a:cubicBezTo>
                  <a:pt x="1114" y="147"/>
                  <a:pt x="1114" y="132"/>
                  <a:pt x="1114" y="122"/>
                </a:cubicBezTo>
                <a:cubicBezTo>
                  <a:pt x="1114" y="100"/>
                  <a:pt x="1116" y="79"/>
                  <a:pt x="1115" y="57"/>
                </a:cubicBezTo>
                <a:cubicBezTo>
                  <a:pt x="1112" y="62"/>
                  <a:pt x="1111" y="112"/>
                  <a:pt x="1111" y="120"/>
                </a:cubicBezTo>
                <a:cubicBezTo>
                  <a:pt x="1111" y="133"/>
                  <a:pt x="1112" y="146"/>
                  <a:pt x="1115" y="159"/>
                </a:cubicBezTo>
                <a:cubicBezTo>
                  <a:pt x="1110" y="135"/>
                  <a:pt x="1104" y="108"/>
                  <a:pt x="1092" y="85"/>
                </a:cubicBezTo>
                <a:cubicBezTo>
                  <a:pt x="1103" y="106"/>
                  <a:pt x="1098" y="132"/>
                  <a:pt x="1105" y="154"/>
                </a:cubicBezTo>
                <a:cubicBezTo>
                  <a:pt x="1097" y="142"/>
                  <a:pt x="1095" y="122"/>
                  <a:pt x="1092" y="106"/>
                </a:cubicBezTo>
                <a:cubicBezTo>
                  <a:pt x="1094" y="120"/>
                  <a:pt x="1092" y="134"/>
                  <a:pt x="1094" y="148"/>
                </a:cubicBezTo>
                <a:cubicBezTo>
                  <a:pt x="1095" y="151"/>
                  <a:pt x="1096" y="153"/>
                  <a:pt x="1096" y="155"/>
                </a:cubicBezTo>
                <a:cubicBezTo>
                  <a:pt x="1095" y="153"/>
                  <a:pt x="1095" y="151"/>
                  <a:pt x="1094" y="148"/>
                </a:cubicBezTo>
                <a:cubicBezTo>
                  <a:pt x="1090" y="127"/>
                  <a:pt x="1077" y="75"/>
                  <a:pt x="1066" y="68"/>
                </a:cubicBezTo>
                <a:cubicBezTo>
                  <a:pt x="1083" y="90"/>
                  <a:pt x="1080" y="127"/>
                  <a:pt x="1085" y="153"/>
                </a:cubicBezTo>
                <a:cubicBezTo>
                  <a:pt x="1080" y="134"/>
                  <a:pt x="1073" y="113"/>
                  <a:pt x="1064" y="95"/>
                </a:cubicBezTo>
                <a:cubicBezTo>
                  <a:pt x="1071" y="115"/>
                  <a:pt x="1070" y="136"/>
                  <a:pt x="1079" y="155"/>
                </a:cubicBezTo>
                <a:cubicBezTo>
                  <a:pt x="1066" y="144"/>
                  <a:pt x="1059" y="117"/>
                  <a:pt x="1055" y="102"/>
                </a:cubicBezTo>
                <a:cubicBezTo>
                  <a:pt x="1056" y="120"/>
                  <a:pt x="1060" y="143"/>
                  <a:pt x="1071" y="158"/>
                </a:cubicBezTo>
                <a:cubicBezTo>
                  <a:pt x="1057" y="144"/>
                  <a:pt x="1052" y="103"/>
                  <a:pt x="1047" y="85"/>
                </a:cubicBezTo>
                <a:cubicBezTo>
                  <a:pt x="1046" y="88"/>
                  <a:pt x="1046" y="91"/>
                  <a:pt x="1046" y="94"/>
                </a:cubicBezTo>
                <a:cubicBezTo>
                  <a:pt x="1046" y="113"/>
                  <a:pt x="1052" y="142"/>
                  <a:pt x="1063" y="159"/>
                </a:cubicBezTo>
                <a:cubicBezTo>
                  <a:pt x="1050" y="143"/>
                  <a:pt x="1044" y="123"/>
                  <a:pt x="1038" y="104"/>
                </a:cubicBezTo>
                <a:cubicBezTo>
                  <a:pt x="1042" y="122"/>
                  <a:pt x="1042" y="140"/>
                  <a:pt x="1051" y="158"/>
                </a:cubicBezTo>
                <a:cubicBezTo>
                  <a:pt x="1041" y="147"/>
                  <a:pt x="1037" y="132"/>
                  <a:pt x="1033" y="117"/>
                </a:cubicBezTo>
                <a:cubicBezTo>
                  <a:pt x="1034" y="105"/>
                  <a:pt x="1035" y="93"/>
                  <a:pt x="1036" y="84"/>
                </a:cubicBezTo>
                <a:cubicBezTo>
                  <a:pt x="1034" y="92"/>
                  <a:pt x="1033" y="101"/>
                  <a:pt x="1031" y="109"/>
                </a:cubicBezTo>
                <a:cubicBezTo>
                  <a:pt x="1029" y="102"/>
                  <a:pt x="1027" y="95"/>
                  <a:pt x="1025" y="89"/>
                </a:cubicBezTo>
                <a:cubicBezTo>
                  <a:pt x="1028" y="64"/>
                  <a:pt x="1032" y="40"/>
                  <a:pt x="1032" y="40"/>
                </a:cubicBezTo>
                <a:cubicBezTo>
                  <a:pt x="1027" y="51"/>
                  <a:pt x="1022" y="77"/>
                  <a:pt x="1019" y="100"/>
                </a:cubicBezTo>
                <a:cubicBezTo>
                  <a:pt x="1017" y="95"/>
                  <a:pt x="1015" y="90"/>
                  <a:pt x="1013" y="86"/>
                </a:cubicBezTo>
                <a:cubicBezTo>
                  <a:pt x="1012" y="70"/>
                  <a:pt x="1011" y="58"/>
                  <a:pt x="1011" y="60"/>
                </a:cubicBezTo>
                <a:cubicBezTo>
                  <a:pt x="1011" y="61"/>
                  <a:pt x="1010" y="69"/>
                  <a:pt x="1009" y="80"/>
                </a:cubicBezTo>
                <a:cubicBezTo>
                  <a:pt x="1008" y="79"/>
                  <a:pt x="1008" y="78"/>
                  <a:pt x="1007" y="78"/>
                </a:cubicBezTo>
                <a:cubicBezTo>
                  <a:pt x="1008" y="79"/>
                  <a:pt x="1008" y="80"/>
                  <a:pt x="1009" y="81"/>
                </a:cubicBezTo>
                <a:cubicBezTo>
                  <a:pt x="1009" y="87"/>
                  <a:pt x="1008" y="95"/>
                  <a:pt x="1007" y="102"/>
                </a:cubicBezTo>
                <a:cubicBezTo>
                  <a:pt x="1007" y="102"/>
                  <a:pt x="1007" y="102"/>
                  <a:pt x="1007" y="102"/>
                </a:cubicBezTo>
                <a:cubicBezTo>
                  <a:pt x="1007" y="103"/>
                  <a:pt x="1007" y="103"/>
                  <a:pt x="1007" y="103"/>
                </a:cubicBezTo>
                <a:cubicBezTo>
                  <a:pt x="1006" y="113"/>
                  <a:pt x="1006" y="123"/>
                  <a:pt x="1005" y="130"/>
                </a:cubicBezTo>
                <a:cubicBezTo>
                  <a:pt x="1005" y="130"/>
                  <a:pt x="1005" y="129"/>
                  <a:pt x="1004" y="128"/>
                </a:cubicBezTo>
                <a:cubicBezTo>
                  <a:pt x="1004" y="107"/>
                  <a:pt x="1000" y="69"/>
                  <a:pt x="998" y="47"/>
                </a:cubicBezTo>
                <a:cubicBezTo>
                  <a:pt x="998" y="64"/>
                  <a:pt x="997" y="87"/>
                  <a:pt x="996" y="107"/>
                </a:cubicBezTo>
                <a:cubicBezTo>
                  <a:pt x="995" y="105"/>
                  <a:pt x="994" y="104"/>
                  <a:pt x="994" y="102"/>
                </a:cubicBezTo>
                <a:cubicBezTo>
                  <a:pt x="994" y="104"/>
                  <a:pt x="995" y="106"/>
                  <a:pt x="996" y="107"/>
                </a:cubicBezTo>
                <a:cubicBezTo>
                  <a:pt x="995" y="114"/>
                  <a:pt x="995" y="121"/>
                  <a:pt x="994" y="126"/>
                </a:cubicBezTo>
                <a:cubicBezTo>
                  <a:pt x="994" y="125"/>
                  <a:pt x="993" y="123"/>
                  <a:pt x="993" y="122"/>
                </a:cubicBezTo>
                <a:cubicBezTo>
                  <a:pt x="992" y="93"/>
                  <a:pt x="988" y="46"/>
                  <a:pt x="988" y="46"/>
                </a:cubicBezTo>
                <a:cubicBezTo>
                  <a:pt x="988" y="65"/>
                  <a:pt x="981" y="142"/>
                  <a:pt x="981" y="142"/>
                </a:cubicBezTo>
                <a:cubicBezTo>
                  <a:pt x="975" y="106"/>
                  <a:pt x="982" y="0"/>
                  <a:pt x="982" y="0"/>
                </a:cubicBezTo>
                <a:cubicBezTo>
                  <a:pt x="976" y="16"/>
                  <a:pt x="970" y="131"/>
                  <a:pt x="970" y="131"/>
                </a:cubicBezTo>
                <a:cubicBezTo>
                  <a:pt x="968" y="36"/>
                  <a:pt x="964" y="32"/>
                  <a:pt x="964" y="32"/>
                </a:cubicBezTo>
                <a:cubicBezTo>
                  <a:pt x="966" y="43"/>
                  <a:pt x="963" y="76"/>
                  <a:pt x="960" y="103"/>
                </a:cubicBezTo>
                <a:cubicBezTo>
                  <a:pt x="959" y="102"/>
                  <a:pt x="958" y="100"/>
                  <a:pt x="957" y="99"/>
                </a:cubicBezTo>
                <a:cubicBezTo>
                  <a:pt x="958" y="101"/>
                  <a:pt x="959" y="103"/>
                  <a:pt x="960" y="104"/>
                </a:cubicBezTo>
                <a:cubicBezTo>
                  <a:pt x="959" y="112"/>
                  <a:pt x="958" y="120"/>
                  <a:pt x="957" y="126"/>
                </a:cubicBezTo>
                <a:cubicBezTo>
                  <a:pt x="957" y="124"/>
                  <a:pt x="957" y="123"/>
                  <a:pt x="957" y="122"/>
                </a:cubicBezTo>
                <a:cubicBezTo>
                  <a:pt x="958" y="94"/>
                  <a:pt x="956" y="48"/>
                  <a:pt x="956" y="48"/>
                </a:cubicBezTo>
                <a:cubicBezTo>
                  <a:pt x="955" y="55"/>
                  <a:pt x="952" y="82"/>
                  <a:pt x="949" y="106"/>
                </a:cubicBezTo>
                <a:cubicBezTo>
                  <a:pt x="948" y="104"/>
                  <a:pt x="948" y="102"/>
                  <a:pt x="947" y="100"/>
                </a:cubicBezTo>
                <a:cubicBezTo>
                  <a:pt x="950" y="60"/>
                  <a:pt x="954" y="9"/>
                  <a:pt x="954" y="9"/>
                </a:cubicBezTo>
                <a:cubicBezTo>
                  <a:pt x="949" y="23"/>
                  <a:pt x="942" y="83"/>
                  <a:pt x="939" y="117"/>
                </a:cubicBezTo>
                <a:cubicBezTo>
                  <a:pt x="938" y="114"/>
                  <a:pt x="937" y="111"/>
                  <a:pt x="937" y="108"/>
                </a:cubicBezTo>
                <a:cubicBezTo>
                  <a:pt x="936" y="90"/>
                  <a:pt x="934" y="72"/>
                  <a:pt x="934" y="72"/>
                </a:cubicBezTo>
                <a:cubicBezTo>
                  <a:pt x="935" y="76"/>
                  <a:pt x="934" y="84"/>
                  <a:pt x="933" y="94"/>
                </a:cubicBezTo>
                <a:cubicBezTo>
                  <a:pt x="932" y="91"/>
                  <a:pt x="930" y="88"/>
                  <a:pt x="929" y="84"/>
                </a:cubicBezTo>
                <a:cubicBezTo>
                  <a:pt x="931" y="88"/>
                  <a:pt x="932" y="92"/>
                  <a:pt x="933" y="96"/>
                </a:cubicBezTo>
                <a:cubicBezTo>
                  <a:pt x="932" y="99"/>
                  <a:pt x="932" y="103"/>
                  <a:pt x="931" y="107"/>
                </a:cubicBezTo>
                <a:cubicBezTo>
                  <a:pt x="931" y="106"/>
                  <a:pt x="931" y="106"/>
                  <a:pt x="931" y="105"/>
                </a:cubicBezTo>
                <a:cubicBezTo>
                  <a:pt x="930" y="107"/>
                  <a:pt x="930" y="112"/>
                  <a:pt x="930" y="116"/>
                </a:cubicBezTo>
                <a:cubicBezTo>
                  <a:pt x="929" y="121"/>
                  <a:pt x="929" y="126"/>
                  <a:pt x="928" y="130"/>
                </a:cubicBezTo>
                <a:cubicBezTo>
                  <a:pt x="928" y="129"/>
                  <a:pt x="928" y="128"/>
                  <a:pt x="928" y="127"/>
                </a:cubicBezTo>
                <a:cubicBezTo>
                  <a:pt x="928" y="101"/>
                  <a:pt x="923" y="63"/>
                  <a:pt x="922" y="54"/>
                </a:cubicBezTo>
                <a:cubicBezTo>
                  <a:pt x="923" y="61"/>
                  <a:pt x="921" y="79"/>
                  <a:pt x="920" y="96"/>
                </a:cubicBezTo>
                <a:cubicBezTo>
                  <a:pt x="919" y="94"/>
                  <a:pt x="918" y="92"/>
                  <a:pt x="918" y="90"/>
                </a:cubicBezTo>
                <a:cubicBezTo>
                  <a:pt x="918" y="92"/>
                  <a:pt x="919" y="95"/>
                  <a:pt x="920" y="97"/>
                </a:cubicBezTo>
                <a:cubicBezTo>
                  <a:pt x="918" y="118"/>
                  <a:pt x="916" y="137"/>
                  <a:pt x="916" y="137"/>
                </a:cubicBezTo>
                <a:cubicBezTo>
                  <a:pt x="916" y="136"/>
                  <a:pt x="916" y="134"/>
                  <a:pt x="915" y="133"/>
                </a:cubicBezTo>
                <a:cubicBezTo>
                  <a:pt x="915" y="125"/>
                  <a:pt x="915" y="118"/>
                  <a:pt x="915" y="110"/>
                </a:cubicBezTo>
                <a:cubicBezTo>
                  <a:pt x="913" y="76"/>
                  <a:pt x="913" y="40"/>
                  <a:pt x="913" y="40"/>
                </a:cubicBezTo>
                <a:cubicBezTo>
                  <a:pt x="912" y="49"/>
                  <a:pt x="908" y="79"/>
                  <a:pt x="903" y="104"/>
                </a:cubicBezTo>
                <a:cubicBezTo>
                  <a:pt x="903" y="99"/>
                  <a:pt x="902" y="95"/>
                  <a:pt x="902" y="90"/>
                </a:cubicBezTo>
                <a:cubicBezTo>
                  <a:pt x="903" y="67"/>
                  <a:pt x="903" y="45"/>
                  <a:pt x="903" y="45"/>
                </a:cubicBezTo>
                <a:cubicBezTo>
                  <a:pt x="903" y="53"/>
                  <a:pt x="897" y="75"/>
                  <a:pt x="891" y="96"/>
                </a:cubicBezTo>
                <a:cubicBezTo>
                  <a:pt x="889" y="93"/>
                  <a:pt x="888" y="89"/>
                  <a:pt x="886" y="85"/>
                </a:cubicBezTo>
                <a:cubicBezTo>
                  <a:pt x="893" y="51"/>
                  <a:pt x="901" y="17"/>
                  <a:pt x="901" y="17"/>
                </a:cubicBezTo>
                <a:cubicBezTo>
                  <a:pt x="896" y="24"/>
                  <a:pt x="881" y="95"/>
                  <a:pt x="874" y="130"/>
                </a:cubicBezTo>
                <a:cubicBezTo>
                  <a:pt x="874" y="130"/>
                  <a:pt x="874" y="130"/>
                  <a:pt x="874" y="130"/>
                </a:cubicBezTo>
                <a:cubicBezTo>
                  <a:pt x="878" y="100"/>
                  <a:pt x="875" y="63"/>
                  <a:pt x="874" y="52"/>
                </a:cubicBezTo>
                <a:cubicBezTo>
                  <a:pt x="876" y="72"/>
                  <a:pt x="870" y="109"/>
                  <a:pt x="866" y="128"/>
                </a:cubicBezTo>
                <a:cubicBezTo>
                  <a:pt x="866" y="126"/>
                  <a:pt x="866" y="123"/>
                  <a:pt x="865" y="120"/>
                </a:cubicBezTo>
                <a:cubicBezTo>
                  <a:pt x="867" y="99"/>
                  <a:pt x="869" y="71"/>
                  <a:pt x="870" y="65"/>
                </a:cubicBezTo>
                <a:cubicBezTo>
                  <a:pt x="869" y="71"/>
                  <a:pt x="866" y="89"/>
                  <a:pt x="862" y="105"/>
                </a:cubicBezTo>
                <a:cubicBezTo>
                  <a:pt x="862" y="105"/>
                  <a:pt x="862" y="105"/>
                  <a:pt x="862" y="105"/>
                </a:cubicBezTo>
                <a:cubicBezTo>
                  <a:pt x="862" y="105"/>
                  <a:pt x="862" y="105"/>
                  <a:pt x="862" y="105"/>
                </a:cubicBezTo>
                <a:cubicBezTo>
                  <a:pt x="859" y="125"/>
                  <a:pt x="855" y="143"/>
                  <a:pt x="855" y="143"/>
                </a:cubicBezTo>
                <a:cubicBezTo>
                  <a:pt x="865" y="38"/>
                  <a:pt x="858" y="25"/>
                  <a:pt x="858" y="25"/>
                </a:cubicBezTo>
                <a:cubicBezTo>
                  <a:pt x="861" y="42"/>
                  <a:pt x="858" y="72"/>
                  <a:pt x="853" y="96"/>
                </a:cubicBezTo>
                <a:cubicBezTo>
                  <a:pt x="852" y="89"/>
                  <a:pt x="850" y="80"/>
                  <a:pt x="847" y="73"/>
                </a:cubicBezTo>
                <a:cubicBezTo>
                  <a:pt x="846" y="65"/>
                  <a:pt x="846" y="60"/>
                  <a:pt x="846" y="60"/>
                </a:cubicBezTo>
                <a:cubicBezTo>
                  <a:pt x="846" y="63"/>
                  <a:pt x="846" y="67"/>
                  <a:pt x="846" y="71"/>
                </a:cubicBezTo>
                <a:cubicBezTo>
                  <a:pt x="844" y="69"/>
                  <a:pt x="843" y="67"/>
                  <a:pt x="842" y="65"/>
                </a:cubicBezTo>
                <a:cubicBezTo>
                  <a:pt x="843" y="67"/>
                  <a:pt x="844" y="70"/>
                  <a:pt x="845" y="73"/>
                </a:cubicBezTo>
                <a:cubicBezTo>
                  <a:pt x="845" y="82"/>
                  <a:pt x="844" y="92"/>
                  <a:pt x="843" y="101"/>
                </a:cubicBezTo>
                <a:cubicBezTo>
                  <a:pt x="842" y="95"/>
                  <a:pt x="839" y="88"/>
                  <a:pt x="834" y="83"/>
                </a:cubicBezTo>
                <a:cubicBezTo>
                  <a:pt x="834" y="74"/>
                  <a:pt x="835" y="68"/>
                  <a:pt x="835" y="68"/>
                </a:cubicBezTo>
                <a:cubicBezTo>
                  <a:pt x="834" y="72"/>
                  <a:pt x="833" y="76"/>
                  <a:pt x="832" y="81"/>
                </a:cubicBezTo>
                <a:cubicBezTo>
                  <a:pt x="832" y="81"/>
                  <a:pt x="831" y="81"/>
                  <a:pt x="831" y="80"/>
                </a:cubicBezTo>
                <a:cubicBezTo>
                  <a:pt x="831" y="81"/>
                  <a:pt x="832" y="81"/>
                  <a:pt x="832" y="82"/>
                </a:cubicBezTo>
                <a:cubicBezTo>
                  <a:pt x="830" y="101"/>
                  <a:pt x="828" y="130"/>
                  <a:pt x="828" y="142"/>
                </a:cubicBezTo>
                <a:cubicBezTo>
                  <a:pt x="828" y="143"/>
                  <a:pt x="827" y="144"/>
                  <a:pt x="827" y="144"/>
                </a:cubicBezTo>
                <a:cubicBezTo>
                  <a:pt x="827" y="140"/>
                  <a:pt x="826" y="136"/>
                  <a:pt x="826" y="131"/>
                </a:cubicBezTo>
                <a:cubicBezTo>
                  <a:pt x="828" y="121"/>
                  <a:pt x="829" y="112"/>
                  <a:pt x="830" y="103"/>
                </a:cubicBezTo>
                <a:cubicBezTo>
                  <a:pt x="829" y="108"/>
                  <a:pt x="828" y="112"/>
                  <a:pt x="827" y="117"/>
                </a:cubicBezTo>
                <a:cubicBezTo>
                  <a:pt x="828" y="85"/>
                  <a:pt x="834" y="45"/>
                  <a:pt x="834" y="45"/>
                </a:cubicBezTo>
                <a:cubicBezTo>
                  <a:pt x="827" y="60"/>
                  <a:pt x="823" y="95"/>
                  <a:pt x="820" y="120"/>
                </a:cubicBezTo>
                <a:cubicBezTo>
                  <a:pt x="820" y="123"/>
                  <a:pt x="819" y="125"/>
                  <a:pt x="818" y="127"/>
                </a:cubicBezTo>
                <a:cubicBezTo>
                  <a:pt x="818" y="103"/>
                  <a:pt x="818" y="70"/>
                  <a:pt x="818" y="70"/>
                </a:cubicBezTo>
                <a:cubicBezTo>
                  <a:pt x="817" y="72"/>
                  <a:pt x="817" y="76"/>
                  <a:pt x="816" y="81"/>
                </a:cubicBezTo>
                <a:cubicBezTo>
                  <a:pt x="815" y="73"/>
                  <a:pt x="813" y="66"/>
                  <a:pt x="810" y="60"/>
                </a:cubicBezTo>
                <a:cubicBezTo>
                  <a:pt x="811" y="52"/>
                  <a:pt x="812" y="46"/>
                  <a:pt x="812" y="46"/>
                </a:cubicBezTo>
                <a:cubicBezTo>
                  <a:pt x="809" y="51"/>
                  <a:pt x="807" y="64"/>
                  <a:pt x="806" y="79"/>
                </a:cubicBezTo>
                <a:cubicBezTo>
                  <a:pt x="805" y="77"/>
                  <a:pt x="805" y="75"/>
                  <a:pt x="805" y="74"/>
                </a:cubicBezTo>
                <a:cubicBezTo>
                  <a:pt x="803" y="83"/>
                  <a:pt x="803" y="92"/>
                  <a:pt x="803" y="102"/>
                </a:cubicBezTo>
                <a:cubicBezTo>
                  <a:pt x="803" y="108"/>
                  <a:pt x="802" y="115"/>
                  <a:pt x="802" y="121"/>
                </a:cubicBezTo>
                <a:cubicBezTo>
                  <a:pt x="801" y="123"/>
                  <a:pt x="801" y="125"/>
                  <a:pt x="800" y="127"/>
                </a:cubicBezTo>
                <a:cubicBezTo>
                  <a:pt x="801" y="35"/>
                  <a:pt x="798" y="34"/>
                  <a:pt x="798" y="34"/>
                </a:cubicBezTo>
                <a:cubicBezTo>
                  <a:pt x="800" y="49"/>
                  <a:pt x="796" y="77"/>
                  <a:pt x="792" y="102"/>
                </a:cubicBezTo>
                <a:cubicBezTo>
                  <a:pt x="791" y="94"/>
                  <a:pt x="790" y="85"/>
                  <a:pt x="785" y="76"/>
                </a:cubicBezTo>
                <a:cubicBezTo>
                  <a:pt x="786" y="70"/>
                  <a:pt x="786" y="66"/>
                  <a:pt x="786" y="66"/>
                </a:cubicBezTo>
                <a:cubicBezTo>
                  <a:pt x="786" y="68"/>
                  <a:pt x="785" y="71"/>
                  <a:pt x="784" y="74"/>
                </a:cubicBezTo>
                <a:cubicBezTo>
                  <a:pt x="784" y="73"/>
                  <a:pt x="783" y="72"/>
                  <a:pt x="783" y="71"/>
                </a:cubicBezTo>
                <a:cubicBezTo>
                  <a:pt x="783" y="73"/>
                  <a:pt x="784" y="74"/>
                  <a:pt x="784" y="76"/>
                </a:cubicBezTo>
                <a:cubicBezTo>
                  <a:pt x="782" y="83"/>
                  <a:pt x="780" y="93"/>
                  <a:pt x="779" y="103"/>
                </a:cubicBezTo>
                <a:cubicBezTo>
                  <a:pt x="778" y="98"/>
                  <a:pt x="778" y="94"/>
                  <a:pt x="776" y="89"/>
                </a:cubicBezTo>
                <a:cubicBezTo>
                  <a:pt x="777" y="96"/>
                  <a:pt x="776" y="104"/>
                  <a:pt x="773" y="112"/>
                </a:cubicBezTo>
                <a:cubicBezTo>
                  <a:pt x="773" y="92"/>
                  <a:pt x="772" y="70"/>
                  <a:pt x="771" y="62"/>
                </a:cubicBezTo>
                <a:cubicBezTo>
                  <a:pt x="772" y="67"/>
                  <a:pt x="771" y="74"/>
                  <a:pt x="771" y="82"/>
                </a:cubicBezTo>
                <a:cubicBezTo>
                  <a:pt x="769" y="87"/>
                  <a:pt x="767" y="94"/>
                  <a:pt x="764" y="101"/>
                </a:cubicBezTo>
                <a:cubicBezTo>
                  <a:pt x="764" y="91"/>
                  <a:pt x="764" y="82"/>
                  <a:pt x="764" y="75"/>
                </a:cubicBezTo>
                <a:cubicBezTo>
                  <a:pt x="763" y="86"/>
                  <a:pt x="761" y="102"/>
                  <a:pt x="759" y="116"/>
                </a:cubicBezTo>
                <a:cubicBezTo>
                  <a:pt x="757" y="123"/>
                  <a:pt x="755" y="130"/>
                  <a:pt x="753" y="136"/>
                </a:cubicBezTo>
                <a:cubicBezTo>
                  <a:pt x="753" y="118"/>
                  <a:pt x="756" y="89"/>
                  <a:pt x="756" y="89"/>
                </a:cubicBezTo>
                <a:cubicBezTo>
                  <a:pt x="755" y="93"/>
                  <a:pt x="754" y="99"/>
                  <a:pt x="751" y="106"/>
                </a:cubicBezTo>
                <a:cubicBezTo>
                  <a:pt x="751" y="104"/>
                  <a:pt x="751" y="101"/>
                  <a:pt x="750" y="99"/>
                </a:cubicBezTo>
                <a:cubicBezTo>
                  <a:pt x="750" y="96"/>
                  <a:pt x="750" y="96"/>
                  <a:pt x="750" y="96"/>
                </a:cubicBezTo>
                <a:cubicBezTo>
                  <a:pt x="749" y="95"/>
                  <a:pt x="749" y="95"/>
                  <a:pt x="749" y="95"/>
                </a:cubicBezTo>
                <a:cubicBezTo>
                  <a:pt x="749" y="104"/>
                  <a:pt x="747" y="113"/>
                  <a:pt x="745" y="122"/>
                </a:cubicBezTo>
                <a:cubicBezTo>
                  <a:pt x="744" y="127"/>
                  <a:pt x="742" y="131"/>
                  <a:pt x="741" y="134"/>
                </a:cubicBezTo>
                <a:cubicBezTo>
                  <a:pt x="741" y="130"/>
                  <a:pt x="740" y="126"/>
                  <a:pt x="740" y="122"/>
                </a:cubicBezTo>
                <a:cubicBezTo>
                  <a:pt x="744" y="102"/>
                  <a:pt x="751" y="76"/>
                  <a:pt x="751" y="76"/>
                </a:cubicBezTo>
                <a:cubicBezTo>
                  <a:pt x="746" y="82"/>
                  <a:pt x="742" y="94"/>
                  <a:pt x="737" y="105"/>
                </a:cubicBezTo>
                <a:cubicBezTo>
                  <a:pt x="737" y="102"/>
                  <a:pt x="736" y="98"/>
                  <a:pt x="734" y="95"/>
                </a:cubicBezTo>
                <a:cubicBezTo>
                  <a:pt x="735" y="74"/>
                  <a:pt x="732" y="62"/>
                  <a:pt x="732" y="62"/>
                </a:cubicBezTo>
                <a:cubicBezTo>
                  <a:pt x="733" y="69"/>
                  <a:pt x="733" y="78"/>
                  <a:pt x="732" y="88"/>
                </a:cubicBezTo>
                <a:cubicBezTo>
                  <a:pt x="729" y="83"/>
                  <a:pt x="726" y="78"/>
                  <a:pt x="722" y="73"/>
                </a:cubicBezTo>
                <a:cubicBezTo>
                  <a:pt x="727" y="80"/>
                  <a:pt x="729" y="92"/>
                  <a:pt x="730" y="102"/>
                </a:cubicBezTo>
                <a:cubicBezTo>
                  <a:pt x="729" y="108"/>
                  <a:pt x="728" y="115"/>
                  <a:pt x="727" y="120"/>
                </a:cubicBezTo>
                <a:cubicBezTo>
                  <a:pt x="726" y="113"/>
                  <a:pt x="725" y="106"/>
                  <a:pt x="723" y="100"/>
                </a:cubicBezTo>
                <a:cubicBezTo>
                  <a:pt x="724" y="89"/>
                  <a:pt x="725" y="82"/>
                  <a:pt x="725" y="82"/>
                </a:cubicBezTo>
                <a:cubicBezTo>
                  <a:pt x="723" y="98"/>
                  <a:pt x="723" y="98"/>
                  <a:pt x="723" y="98"/>
                </a:cubicBezTo>
                <a:cubicBezTo>
                  <a:pt x="722" y="94"/>
                  <a:pt x="721" y="91"/>
                  <a:pt x="719" y="88"/>
                </a:cubicBezTo>
                <a:cubicBezTo>
                  <a:pt x="719" y="73"/>
                  <a:pt x="719" y="60"/>
                  <a:pt x="719" y="60"/>
                </a:cubicBezTo>
                <a:cubicBezTo>
                  <a:pt x="719" y="72"/>
                  <a:pt x="716" y="90"/>
                  <a:pt x="716" y="90"/>
                </a:cubicBezTo>
                <a:cubicBezTo>
                  <a:pt x="714" y="84"/>
                  <a:pt x="714" y="64"/>
                  <a:pt x="714" y="64"/>
                </a:cubicBezTo>
                <a:cubicBezTo>
                  <a:pt x="714" y="68"/>
                  <a:pt x="712" y="83"/>
                  <a:pt x="710" y="98"/>
                </a:cubicBezTo>
                <a:cubicBezTo>
                  <a:pt x="710" y="96"/>
                  <a:pt x="710" y="95"/>
                  <a:pt x="709" y="93"/>
                </a:cubicBezTo>
                <a:cubicBezTo>
                  <a:pt x="708" y="88"/>
                  <a:pt x="706" y="82"/>
                  <a:pt x="705" y="76"/>
                </a:cubicBezTo>
                <a:cubicBezTo>
                  <a:pt x="705" y="57"/>
                  <a:pt x="704" y="42"/>
                  <a:pt x="704" y="42"/>
                </a:cubicBezTo>
                <a:cubicBezTo>
                  <a:pt x="705" y="49"/>
                  <a:pt x="704" y="59"/>
                  <a:pt x="703" y="70"/>
                </a:cubicBezTo>
                <a:cubicBezTo>
                  <a:pt x="701" y="64"/>
                  <a:pt x="698" y="57"/>
                  <a:pt x="695" y="51"/>
                </a:cubicBezTo>
                <a:cubicBezTo>
                  <a:pt x="695" y="52"/>
                  <a:pt x="694" y="54"/>
                  <a:pt x="694" y="55"/>
                </a:cubicBezTo>
                <a:cubicBezTo>
                  <a:pt x="698" y="65"/>
                  <a:pt x="700" y="74"/>
                  <a:pt x="702" y="82"/>
                </a:cubicBezTo>
                <a:cubicBezTo>
                  <a:pt x="701" y="88"/>
                  <a:pt x="700" y="94"/>
                  <a:pt x="699" y="100"/>
                </a:cubicBezTo>
                <a:cubicBezTo>
                  <a:pt x="698" y="96"/>
                  <a:pt x="697" y="92"/>
                  <a:pt x="696" y="88"/>
                </a:cubicBezTo>
                <a:cubicBezTo>
                  <a:pt x="697" y="78"/>
                  <a:pt x="698" y="70"/>
                  <a:pt x="698" y="70"/>
                </a:cubicBezTo>
                <a:cubicBezTo>
                  <a:pt x="697" y="72"/>
                  <a:pt x="696" y="78"/>
                  <a:pt x="695" y="85"/>
                </a:cubicBezTo>
                <a:cubicBezTo>
                  <a:pt x="693" y="82"/>
                  <a:pt x="691" y="79"/>
                  <a:pt x="689" y="76"/>
                </a:cubicBezTo>
                <a:cubicBezTo>
                  <a:pt x="688" y="71"/>
                  <a:pt x="688" y="66"/>
                  <a:pt x="688" y="61"/>
                </a:cubicBezTo>
                <a:cubicBezTo>
                  <a:pt x="688" y="73"/>
                  <a:pt x="685" y="88"/>
                  <a:pt x="683" y="101"/>
                </a:cubicBezTo>
                <a:cubicBezTo>
                  <a:pt x="681" y="95"/>
                  <a:pt x="679" y="90"/>
                  <a:pt x="677" y="86"/>
                </a:cubicBezTo>
                <a:cubicBezTo>
                  <a:pt x="678" y="73"/>
                  <a:pt x="678" y="64"/>
                  <a:pt x="678" y="64"/>
                </a:cubicBezTo>
                <a:cubicBezTo>
                  <a:pt x="678" y="71"/>
                  <a:pt x="676" y="82"/>
                  <a:pt x="674" y="95"/>
                </a:cubicBezTo>
                <a:cubicBezTo>
                  <a:pt x="672" y="87"/>
                  <a:pt x="670" y="79"/>
                  <a:pt x="666" y="71"/>
                </a:cubicBezTo>
                <a:cubicBezTo>
                  <a:pt x="668" y="49"/>
                  <a:pt x="669" y="30"/>
                  <a:pt x="669" y="30"/>
                </a:cubicBezTo>
                <a:cubicBezTo>
                  <a:pt x="667" y="35"/>
                  <a:pt x="665" y="49"/>
                  <a:pt x="663" y="65"/>
                </a:cubicBezTo>
                <a:cubicBezTo>
                  <a:pt x="662" y="62"/>
                  <a:pt x="660" y="59"/>
                  <a:pt x="658" y="56"/>
                </a:cubicBezTo>
                <a:cubicBezTo>
                  <a:pt x="658" y="63"/>
                  <a:pt x="660" y="70"/>
                  <a:pt x="662" y="78"/>
                </a:cubicBezTo>
                <a:cubicBezTo>
                  <a:pt x="661" y="87"/>
                  <a:pt x="660" y="97"/>
                  <a:pt x="659" y="106"/>
                </a:cubicBezTo>
                <a:cubicBezTo>
                  <a:pt x="659" y="105"/>
                  <a:pt x="659" y="104"/>
                  <a:pt x="658" y="103"/>
                </a:cubicBezTo>
                <a:cubicBezTo>
                  <a:pt x="659" y="104"/>
                  <a:pt x="659" y="106"/>
                  <a:pt x="659" y="109"/>
                </a:cubicBezTo>
                <a:cubicBezTo>
                  <a:pt x="658" y="120"/>
                  <a:pt x="657" y="131"/>
                  <a:pt x="657" y="138"/>
                </a:cubicBezTo>
                <a:cubicBezTo>
                  <a:pt x="657" y="137"/>
                  <a:pt x="656" y="135"/>
                  <a:pt x="656" y="134"/>
                </a:cubicBezTo>
                <a:cubicBezTo>
                  <a:pt x="655" y="99"/>
                  <a:pt x="650" y="41"/>
                  <a:pt x="650" y="41"/>
                </a:cubicBezTo>
                <a:cubicBezTo>
                  <a:pt x="652" y="58"/>
                  <a:pt x="650" y="86"/>
                  <a:pt x="648" y="108"/>
                </a:cubicBezTo>
                <a:cubicBezTo>
                  <a:pt x="647" y="105"/>
                  <a:pt x="645" y="102"/>
                  <a:pt x="644" y="99"/>
                </a:cubicBezTo>
                <a:cubicBezTo>
                  <a:pt x="644" y="86"/>
                  <a:pt x="644" y="73"/>
                  <a:pt x="644" y="67"/>
                </a:cubicBezTo>
                <a:cubicBezTo>
                  <a:pt x="643" y="75"/>
                  <a:pt x="642" y="85"/>
                  <a:pt x="641" y="94"/>
                </a:cubicBezTo>
                <a:cubicBezTo>
                  <a:pt x="640" y="92"/>
                  <a:pt x="639" y="91"/>
                  <a:pt x="638" y="89"/>
                </a:cubicBezTo>
                <a:cubicBezTo>
                  <a:pt x="639" y="91"/>
                  <a:pt x="640" y="94"/>
                  <a:pt x="640" y="97"/>
                </a:cubicBezTo>
                <a:cubicBezTo>
                  <a:pt x="639" y="104"/>
                  <a:pt x="638" y="110"/>
                  <a:pt x="636" y="116"/>
                </a:cubicBezTo>
                <a:cubicBezTo>
                  <a:pt x="635" y="110"/>
                  <a:pt x="634" y="105"/>
                  <a:pt x="632" y="101"/>
                </a:cubicBezTo>
                <a:cubicBezTo>
                  <a:pt x="633" y="91"/>
                  <a:pt x="634" y="83"/>
                  <a:pt x="634" y="83"/>
                </a:cubicBezTo>
                <a:cubicBezTo>
                  <a:pt x="634" y="86"/>
                  <a:pt x="633" y="92"/>
                  <a:pt x="631" y="98"/>
                </a:cubicBezTo>
                <a:cubicBezTo>
                  <a:pt x="630" y="94"/>
                  <a:pt x="629" y="91"/>
                  <a:pt x="628" y="89"/>
                </a:cubicBezTo>
                <a:cubicBezTo>
                  <a:pt x="629" y="74"/>
                  <a:pt x="631" y="62"/>
                  <a:pt x="631" y="62"/>
                </a:cubicBezTo>
                <a:cubicBezTo>
                  <a:pt x="629" y="65"/>
                  <a:pt x="628" y="75"/>
                  <a:pt x="626" y="87"/>
                </a:cubicBezTo>
                <a:cubicBezTo>
                  <a:pt x="624" y="83"/>
                  <a:pt x="622" y="81"/>
                  <a:pt x="619" y="78"/>
                </a:cubicBezTo>
                <a:cubicBezTo>
                  <a:pt x="622" y="81"/>
                  <a:pt x="624" y="84"/>
                  <a:pt x="626" y="89"/>
                </a:cubicBezTo>
                <a:cubicBezTo>
                  <a:pt x="625" y="96"/>
                  <a:pt x="624" y="105"/>
                  <a:pt x="623" y="113"/>
                </a:cubicBezTo>
                <a:cubicBezTo>
                  <a:pt x="622" y="108"/>
                  <a:pt x="621" y="104"/>
                  <a:pt x="619" y="100"/>
                </a:cubicBezTo>
                <a:cubicBezTo>
                  <a:pt x="618" y="86"/>
                  <a:pt x="616" y="73"/>
                  <a:pt x="615" y="68"/>
                </a:cubicBezTo>
                <a:cubicBezTo>
                  <a:pt x="615" y="71"/>
                  <a:pt x="616" y="76"/>
                  <a:pt x="615" y="86"/>
                </a:cubicBezTo>
                <a:cubicBezTo>
                  <a:pt x="615" y="87"/>
                  <a:pt x="615" y="88"/>
                  <a:pt x="615" y="90"/>
                </a:cubicBezTo>
                <a:cubicBezTo>
                  <a:pt x="614" y="87"/>
                  <a:pt x="612" y="84"/>
                  <a:pt x="610" y="81"/>
                </a:cubicBezTo>
                <a:cubicBezTo>
                  <a:pt x="613" y="85"/>
                  <a:pt x="614" y="91"/>
                  <a:pt x="614" y="96"/>
                </a:cubicBezTo>
                <a:cubicBezTo>
                  <a:pt x="613" y="105"/>
                  <a:pt x="611" y="115"/>
                  <a:pt x="609" y="124"/>
                </a:cubicBezTo>
                <a:cubicBezTo>
                  <a:pt x="609" y="113"/>
                  <a:pt x="608" y="102"/>
                  <a:pt x="606" y="91"/>
                </a:cubicBezTo>
                <a:cubicBezTo>
                  <a:pt x="606" y="77"/>
                  <a:pt x="606" y="77"/>
                  <a:pt x="606" y="77"/>
                </a:cubicBezTo>
                <a:cubicBezTo>
                  <a:pt x="609" y="35"/>
                  <a:pt x="602" y="19"/>
                  <a:pt x="602" y="19"/>
                </a:cubicBezTo>
                <a:cubicBezTo>
                  <a:pt x="602" y="19"/>
                  <a:pt x="605" y="31"/>
                  <a:pt x="604" y="54"/>
                </a:cubicBezTo>
                <a:cubicBezTo>
                  <a:pt x="604" y="59"/>
                  <a:pt x="603" y="68"/>
                  <a:pt x="602" y="78"/>
                </a:cubicBezTo>
                <a:cubicBezTo>
                  <a:pt x="599" y="72"/>
                  <a:pt x="596" y="66"/>
                  <a:pt x="592" y="60"/>
                </a:cubicBezTo>
                <a:cubicBezTo>
                  <a:pt x="592" y="61"/>
                  <a:pt x="592" y="61"/>
                  <a:pt x="592" y="61"/>
                </a:cubicBezTo>
                <a:cubicBezTo>
                  <a:pt x="592" y="62"/>
                  <a:pt x="592" y="63"/>
                  <a:pt x="592" y="64"/>
                </a:cubicBezTo>
                <a:cubicBezTo>
                  <a:pt x="591" y="44"/>
                  <a:pt x="583" y="40"/>
                  <a:pt x="583" y="40"/>
                </a:cubicBezTo>
                <a:cubicBezTo>
                  <a:pt x="583" y="40"/>
                  <a:pt x="589" y="44"/>
                  <a:pt x="589" y="70"/>
                </a:cubicBezTo>
                <a:cubicBezTo>
                  <a:pt x="589" y="76"/>
                  <a:pt x="588" y="85"/>
                  <a:pt x="586" y="94"/>
                </a:cubicBezTo>
                <a:cubicBezTo>
                  <a:pt x="584" y="90"/>
                  <a:pt x="581" y="86"/>
                  <a:pt x="578" y="83"/>
                </a:cubicBezTo>
                <a:cubicBezTo>
                  <a:pt x="581" y="87"/>
                  <a:pt x="584" y="92"/>
                  <a:pt x="586" y="97"/>
                </a:cubicBezTo>
                <a:cubicBezTo>
                  <a:pt x="585" y="100"/>
                  <a:pt x="585" y="103"/>
                  <a:pt x="584" y="106"/>
                </a:cubicBezTo>
                <a:cubicBezTo>
                  <a:pt x="584" y="104"/>
                  <a:pt x="583" y="102"/>
                  <a:pt x="583" y="100"/>
                </a:cubicBezTo>
                <a:cubicBezTo>
                  <a:pt x="583" y="102"/>
                  <a:pt x="583" y="105"/>
                  <a:pt x="584" y="108"/>
                </a:cubicBezTo>
                <a:cubicBezTo>
                  <a:pt x="583" y="111"/>
                  <a:pt x="582" y="114"/>
                  <a:pt x="581" y="117"/>
                </a:cubicBezTo>
                <a:cubicBezTo>
                  <a:pt x="580" y="113"/>
                  <a:pt x="579" y="108"/>
                  <a:pt x="577" y="104"/>
                </a:cubicBezTo>
                <a:cubicBezTo>
                  <a:pt x="577" y="87"/>
                  <a:pt x="578" y="71"/>
                  <a:pt x="578" y="71"/>
                </a:cubicBezTo>
                <a:cubicBezTo>
                  <a:pt x="578" y="73"/>
                  <a:pt x="576" y="84"/>
                  <a:pt x="573" y="97"/>
                </a:cubicBezTo>
                <a:cubicBezTo>
                  <a:pt x="572" y="95"/>
                  <a:pt x="571" y="93"/>
                  <a:pt x="570" y="92"/>
                </a:cubicBezTo>
                <a:cubicBezTo>
                  <a:pt x="571" y="81"/>
                  <a:pt x="572" y="72"/>
                  <a:pt x="573" y="66"/>
                </a:cubicBezTo>
                <a:cubicBezTo>
                  <a:pt x="572" y="73"/>
                  <a:pt x="571" y="81"/>
                  <a:pt x="569" y="90"/>
                </a:cubicBezTo>
                <a:cubicBezTo>
                  <a:pt x="568" y="88"/>
                  <a:pt x="566" y="86"/>
                  <a:pt x="565" y="83"/>
                </a:cubicBezTo>
                <a:cubicBezTo>
                  <a:pt x="568" y="26"/>
                  <a:pt x="566" y="12"/>
                  <a:pt x="566" y="12"/>
                </a:cubicBezTo>
                <a:cubicBezTo>
                  <a:pt x="566" y="12"/>
                  <a:pt x="566" y="18"/>
                  <a:pt x="563" y="56"/>
                </a:cubicBezTo>
                <a:cubicBezTo>
                  <a:pt x="562" y="64"/>
                  <a:pt x="561" y="71"/>
                  <a:pt x="560" y="78"/>
                </a:cubicBezTo>
                <a:cubicBezTo>
                  <a:pt x="558" y="76"/>
                  <a:pt x="556" y="73"/>
                  <a:pt x="553" y="71"/>
                </a:cubicBezTo>
                <a:cubicBezTo>
                  <a:pt x="554" y="48"/>
                  <a:pt x="555" y="31"/>
                  <a:pt x="555" y="31"/>
                </a:cubicBezTo>
                <a:cubicBezTo>
                  <a:pt x="553" y="37"/>
                  <a:pt x="551" y="52"/>
                  <a:pt x="550" y="68"/>
                </a:cubicBezTo>
                <a:cubicBezTo>
                  <a:pt x="548" y="66"/>
                  <a:pt x="546" y="65"/>
                  <a:pt x="544" y="63"/>
                </a:cubicBezTo>
                <a:cubicBezTo>
                  <a:pt x="547" y="65"/>
                  <a:pt x="548" y="67"/>
                  <a:pt x="550" y="69"/>
                </a:cubicBezTo>
                <a:cubicBezTo>
                  <a:pt x="549" y="82"/>
                  <a:pt x="549" y="96"/>
                  <a:pt x="548" y="109"/>
                </a:cubicBezTo>
                <a:cubicBezTo>
                  <a:pt x="547" y="104"/>
                  <a:pt x="545" y="99"/>
                  <a:pt x="544" y="96"/>
                </a:cubicBezTo>
                <a:cubicBezTo>
                  <a:pt x="545" y="104"/>
                  <a:pt x="546" y="112"/>
                  <a:pt x="548" y="120"/>
                </a:cubicBezTo>
                <a:cubicBezTo>
                  <a:pt x="548" y="123"/>
                  <a:pt x="548" y="126"/>
                  <a:pt x="548" y="128"/>
                </a:cubicBezTo>
                <a:cubicBezTo>
                  <a:pt x="547" y="125"/>
                  <a:pt x="545" y="122"/>
                  <a:pt x="544" y="118"/>
                </a:cubicBezTo>
                <a:cubicBezTo>
                  <a:pt x="539" y="80"/>
                  <a:pt x="532" y="28"/>
                  <a:pt x="532" y="28"/>
                </a:cubicBezTo>
                <a:cubicBezTo>
                  <a:pt x="532" y="39"/>
                  <a:pt x="530" y="72"/>
                  <a:pt x="528" y="100"/>
                </a:cubicBezTo>
                <a:cubicBezTo>
                  <a:pt x="528" y="98"/>
                  <a:pt x="527" y="97"/>
                  <a:pt x="526" y="96"/>
                </a:cubicBezTo>
                <a:cubicBezTo>
                  <a:pt x="527" y="97"/>
                  <a:pt x="528" y="99"/>
                  <a:pt x="528" y="100"/>
                </a:cubicBezTo>
                <a:cubicBezTo>
                  <a:pt x="528" y="110"/>
                  <a:pt x="527" y="120"/>
                  <a:pt x="526" y="128"/>
                </a:cubicBezTo>
                <a:cubicBezTo>
                  <a:pt x="526" y="128"/>
                  <a:pt x="526" y="127"/>
                  <a:pt x="526" y="127"/>
                </a:cubicBezTo>
                <a:cubicBezTo>
                  <a:pt x="526" y="109"/>
                  <a:pt x="524" y="87"/>
                  <a:pt x="523" y="71"/>
                </a:cubicBezTo>
                <a:cubicBezTo>
                  <a:pt x="524" y="68"/>
                  <a:pt x="525" y="66"/>
                  <a:pt x="526" y="64"/>
                </a:cubicBezTo>
                <a:cubicBezTo>
                  <a:pt x="525" y="65"/>
                  <a:pt x="524" y="67"/>
                  <a:pt x="523" y="69"/>
                </a:cubicBezTo>
                <a:cubicBezTo>
                  <a:pt x="522" y="61"/>
                  <a:pt x="521" y="55"/>
                  <a:pt x="521" y="53"/>
                </a:cubicBezTo>
                <a:cubicBezTo>
                  <a:pt x="521" y="52"/>
                  <a:pt x="522" y="52"/>
                  <a:pt x="522" y="51"/>
                </a:cubicBezTo>
                <a:cubicBezTo>
                  <a:pt x="522" y="51"/>
                  <a:pt x="521" y="52"/>
                  <a:pt x="521" y="52"/>
                </a:cubicBezTo>
                <a:cubicBezTo>
                  <a:pt x="521" y="52"/>
                  <a:pt x="521" y="52"/>
                  <a:pt x="521" y="52"/>
                </a:cubicBezTo>
                <a:cubicBezTo>
                  <a:pt x="521" y="52"/>
                  <a:pt x="521" y="52"/>
                  <a:pt x="521" y="52"/>
                </a:cubicBezTo>
                <a:cubicBezTo>
                  <a:pt x="519" y="54"/>
                  <a:pt x="517" y="56"/>
                  <a:pt x="516" y="57"/>
                </a:cubicBezTo>
                <a:cubicBezTo>
                  <a:pt x="516" y="54"/>
                  <a:pt x="516" y="52"/>
                  <a:pt x="517" y="50"/>
                </a:cubicBezTo>
                <a:cubicBezTo>
                  <a:pt x="520" y="46"/>
                  <a:pt x="523" y="42"/>
                  <a:pt x="527" y="38"/>
                </a:cubicBezTo>
                <a:cubicBezTo>
                  <a:pt x="523" y="41"/>
                  <a:pt x="520" y="44"/>
                  <a:pt x="517" y="47"/>
                </a:cubicBezTo>
                <a:cubicBezTo>
                  <a:pt x="517" y="43"/>
                  <a:pt x="518" y="40"/>
                  <a:pt x="518" y="40"/>
                </a:cubicBezTo>
                <a:cubicBezTo>
                  <a:pt x="517" y="43"/>
                  <a:pt x="516" y="46"/>
                  <a:pt x="515" y="50"/>
                </a:cubicBezTo>
                <a:cubicBezTo>
                  <a:pt x="507" y="58"/>
                  <a:pt x="502" y="66"/>
                  <a:pt x="498" y="75"/>
                </a:cubicBezTo>
                <a:cubicBezTo>
                  <a:pt x="498" y="70"/>
                  <a:pt x="497" y="66"/>
                  <a:pt x="497" y="63"/>
                </a:cubicBezTo>
                <a:cubicBezTo>
                  <a:pt x="500" y="57"/>
                  <a:pt x="503" y="50"/>
                  <a:pt x="507" y="42"/>
                </a:cubicBezTo>
                <a:cubicBezTo>
                  <a:pt x="498" y="52"/>
                  <a:pt x="492" y="61"/>
                  <a:pt x="488" y="71"/>
                </a:cubicBezTo>
                <a:cubicBezTo>
                  <a:pt x="487" y="70"/>
                  <a:pt x="487" y="70"/>
                  <a:pt x="486" y="69"/>
                </a:cubicBezTo>
                <a:cubicBezTo>
                  <a:pt x="486" y="68"/>
                  <a:pt x="486" y="67"/>
                  <a:pt x="486" y="65"/>
                </a:cubicBezTo>
                <a:cubicBezTo>
                  <a:pt x="492" y="53"/>
                  <a:pt x="500" y="41"/>
                  <a:pt x="511" y="25"/>
                </a:cubicBezTo>
                <a:cubicBezTo>
                  <a:pt x="500" y="40"/>
                  <a:pt x="492" y="51"/>
                  <a:pt x="485" y="63"/>
                </a:cubicBezTo>
                <a:cubicBezTo>
                  <a:pt x="483" y="45"/>
                  <a:pt x="482" y="30"/>
                  <a:pt x="482" y="30"/>
                </a:cubicBezTo>
                <a:cubicBezTo>
                  <a:pt x="482" y="35"/>
                  <a:pt x="482" y="49"/>
                  <a:pt x="482" y="65"/>
                </a:cubicBezTo>
                <a:cubicBezTo>
                  <a:pt x="482" y="65"/>
                  <a:pt x="482" y="65"/>
                  <a:pt x="482" y="65"/>
                </a:cubicBezTo>
                <a:cubicBezTo>
                  <a:pt x="482" y="65"/>
                  <a:pt x="482" y="65"/>
                  <a:pt x="482" y="65"/>
                </a:cubicBezTo>
                <a:cubicBezTo>
                  <a:pt x="482" y="67"/>
                  <a:pt x="482" y="69"/>
                  <a:pt x="482" y="71"/>
                </a:cubicBezTo>
                <a:cubicBezTo>
                  <a:pt x="480" y="74"/>
                  <a:pt x="479" y="78"/>
                  <a:pt x="478" y="81"/>
                </a:cubicBezTo>
                <a:cubicBezTo>
                  <a:pt x="479" y="78"/>
                  <a:pt x="480" y="76"/>
                  <a:pt x="482" y="73"/>
                </a:cubicBezTo>
                <a:cubicBezTo>
                  <a:pt x="481" y="79"/>
                  <a:pt x="481" y="85"/>
                  <a:pt x="481" y="91"/>
                </a:cubicBezTo>
                <a:cubicBezTo>
                  <a:pt x="481" y="93"/>
                  <a:pt x="480" y="95"/>
                  <a:pt x="480" y="97"/>
                </a:cubicBezTo>
                <a:cubicBezTo>
                  <a:pt x="479" y="96"/>
                  <a:pt x="478" y="95"/>
                  <a:pt x="478" y="94"/>
                </a:cubicBezTo>
                <a:cubicBezTo>
                  <a:pt x="478" y="91"/>
                  <a:pt x="477" y="88"/>
                  <a:pt x="477" y="85"/>
                </a:cubicBezTo>
                <a:cubicBezTo>
                  <a:pt x="477" y="83"/>
                  <a:pt x="478" y="82"/>
                  <a:pt x="478" y="81"/>
                </a:cubicBezTo>
                <a:cubicBezTo>
                  <a:pt x="478" y="82"/>
                  <a:pt x="477" y="83"/>
                  <a:pt x="477" y="84"/>
                </a:cubicBezTo>
                <a:cubicBezTo>
                  <a:pt x="476" y="72"/>
                  <a:pt x="476" y="62"/>
                  <a:pt x="475" y="55"/>
                </a:cubicBezTo>
                <a:cubicBezTo>
                  <a:pt x="476" y="54"/>
                  <a:pt x="477" y="53"/>
                  <a:pt x="479" y="52"/>
                </a:cubicBezTo>
                <a:cubicBezTo>
                  <a:pt x="477" y="53"/>
                  <a:pt x="476" y="54"/>
                  <a:pt x="475" y="54"/>
                </a:cubicBezTo>
                <a:cubicBezTo>
                  <a:pt x="475" y="49"/>
                  <a:pt x="475" y="46"/>
                  <a:pt x="475" y="46"/>
                </a:cubicBezTo>
                <a:cubicBezTo>
                  <a:pt x="475" y="48"/>
                  <a:pt x="474" y="51"/>
                  <a:pt x="474" y="55"/>
                </a:cubicBezTo>
                <a:cubicBezTo>
                  <a:pt x="471" y="57"/>
                  <a:pt x="468" y="59"/>
                  <a:pt x="465" y="62"/>
                </a:cubicBezTo>
                <a:cubicBezTo>
                  <a:pt x="465" y="58"/>
                  <a:pt x="465" y="54"/>
                  <a:pt x="466" y="50"/>
                </a:cubicBezTo>
                <a:cubicBezTo>
                  <a:pt x="469" y="45"/>
                  <a:pt x="474" y="40"/>
                  <a:pt x="479" y="34"/>
                </a:cubicBezTo>
                <a:cubicBezTo>
                  <a:pt x="474" y="39"/>
                  <a:pt x="470" y="44"/>
                  <a:pt x="466" y="48"/>
                </a:cubicBezTo>
                <a:cubicBezTo>
                  <a:pt x="467" y="21"/>
                  <a:pt x="468" y="0"/>
                  <a:pt x="468" y="0"/>
                </a:cubicBezTo>
                <a:cubicBezTo>
                  <a:pt x="464" y="10"/>
                  <a:pt x="462" y="35"/>
                  <a:pt x="461" y="53"/>
                </a:cubicBezTo>
                <a:cubicBezTo>
                  <a:pt x="460" y="54"/>
                  <a:pt x="459" y="55"/>
                  <a:pt x="459" y="56"/>
                </a:cubicBezTo>
                <a:cubicBezTo>
                  <a:pt x="457" y="44"/>
                  <a:pt x="454" y="33"/>
                  <a:pt x="454" y="33"/>
                </a:cubicBezTo>
                <a:cubicBezTo>
                  <a:pt x="456" y="39"/>
                  <a:pt x="455" y="49"/>
                  <a:pt x="454" y="62"/>
                </a:cubicBezTo>
                <a:cubicBezTo>
                  <a:pt x="452" y="63"/>
                  <a:pt x="451" y="65"/>
                  <a:pt x="450" y="67"/>
                </a:cubicBezTo>
                <a:cubicBezTo>
                  <a:pt x="449" y="65"/>
                  <a:pt x="448" y="63"/>
                  <a:pt x="447" y="62"/>
                </a:cubicBezTo>
                <a:cubicBezTo>
                  <a:pt x="447" y="63"/>
                  <a:pt x="448" y="65"/>
                  <a:pt x="449" y="68"/>
                </a:cubicBezTo>
                <a:cubicBezTo>
                  <a:pt x="447" y="72"/>
                  <a:pt x="445" y="75"/>
                  <a:pt x="443" y="78"/>
                </a:cubicBezTo>
                <a:cubicBezTo>
                  <a:pt x="442" y="61"/>
                  <a:pt x="442" y="48"/>
                  <a:pt x="442" y="48"/>
                </a:cubicBezTo>
                <a:cubicBezTo>
                  <a:pt x="442" y="52"/>
                  <a:pt x="440" y="65"/>
                  <a:pt x="438" y="80"/>
                </a:cubicBezTo>
                <a:cubicBezTo>
                  <a:pt x="438" y="82"/>
                  <a:pt x="437" y="85"/>
                  <a:pt x="436" y="87"/>
                </a:cubicBezTo>
                <a:cubicBezTo>
                  <a:pt x="435" y="86"/>
                  <a:pt x="435" y="86"/>
                  <a:pt x="434" y="85"/>
                </a:cubicBezTo>
                <a:cubicBezTo>
                  <a:pt x="437" y="48"/>
                  <a:pt x="440" y="9"/>
                  <a:pt x="440" y="9"/>
                </a:cubicBezTo>
                <a:cubicBezTo>
                  <a:pt x="436" y="20"/>
                  <a:pt x="432" y="57"/>
                  <a:pt x="428" y="89"/>
                </a:cubicBezTo>
                <a:cubicBezTo>
                  <a:pt x="427" y="91"/>
                  <a:pt x="427" y="92"/>
                  <a:pt x="426" y="93"/>
                </a:cubicBezTo>
                <a:cubicBezTo>
                  <a:pt x="425" y="92"/>
                  <a:pt x="424" y="90"/>
                  <a:pt x="423" y="89"/>
                </a:cubicBezTo>
                <a:cubicBezTo>
                  <a:pt x="426" y="72"/>
                  <a:pt x="429" y="55"/>
                  <a:pt x="429" y="37"/>
                </a:cubicBezTo>
                <a:cubicBezTo>
                  <a:pt x="429" y="34"/>
                  <a:pt x="429" y="30"/>
                  <a:pt x="429" y="26"/>
                </a:cubicBezTo>
                <a:cubicBezTo>
                  <a:pt x="422" y="45"/>
                  <a:pt x="421" y="66"/>
                  <a:pt x="417" y="86"/>
                </a:cubicBezTo>
                <a:cubicBezTo>
                  <a:pt x="417" y="85"/>
                  <a:pt x="416" y="84"/>
                  <a:pt x="416" y="84"/>
                </a:cubicBezTo>
                <a:cubicBezTo>
                  <a:pt x="416" y="84"/>
                  <a:pt x="417" y="85"/>
                  <a:pt x="417" y="86"/>
                </a:cubicBezTo>
                <a:cubicBezTo>
                  <a:pt x="417" y="88"/>
                  <a:pt x="416" y="90"/>
                  <a:pt x="416" y="92"/>
                </a:cubicBezTo>
                <a:cubicBezTo>
                  <a:pt x="415" y="94"/>
                  <a:pt x="415" y="96"/>
                  <a:pt x="414" y="98"/>
                </a:cubicBezTo>
                <a:cubicBezTo>
                  <a:pt x="414" y="97"/>
                  <a:pt x="413" y="96"/>
                  <a:pt x="412" y="95"/>
                </a:cubicBezTo>
                <a:cubicBezTo>
                  <a:pt x="412" y="86"/>
                  <a:pt x="411" y="78"/>
                  <a:pt x="410" y="72"/>
                </a:cubicBezTo>
                <a:cubicBezTo>
                  <a:pt x="413" y="67"/>
                  <a:pt x="417" y="63"/>
                  <a:pt x="421" y="59"/>
                </a:cubicBezTo>
                <a:cubicBezTo>
                  <a:pt x="417" y="62"/>
                  <a:pt x="413" y="66"/>
                  <a:pt x="410" y="70"/>
                </a:cubicBezTo>
                <a:cubicBezTo>
                  <a:pt x="409" y="64"/>
                  <a:pt x="409" y="60"/>
                  <a:pt x="408" y="57"/>
                </a:cubicBezTo>
                <a:cubicBezTo>
                  <a:pt x="410" y="54"/>
                  <a:pt x="411" y="52"/>
                  <a:pt x="412" y="50"/>
                </a:cubicBezTo>
                <a:cubicBezTo>
                  <a:pt x="411" y="51"/>
                  <a:pt x="409" y="53"/>
                  <a:pt x="408" y="54"/>
                </a:cubicBezTo>
                <a:cubicBezTo>
                  <a:pt x="408" y="53"/>
                  <a:pt x="408" y="52"/>
                  <a:pt x="408" y="52"/>
                </a:cubicBezTo>
                <a:cubicBezTo>
                  <a:pt x="408" y="53"/>
                  <a:pt x="408" y="54"/>
                  <a:pt x="408" y="54"/>
                </a:cubicBezTo>
                <a:cubicBezTo>
                  <a:pt x="406" y="56"/>
                  <a:pt x="404" y="58"/>
                  <a:pt x="402" y="60"/>
                </a:cubicBezTo>
                <a:cubicBezTo>
                  <a:pt x="401" y="54"/>
                  <a:pt x="400" y="48"/>
                  <a:pt x="399" y="44"/>
                </a:cubicBezTo>
                <a:cubicBezTo>
                  <a:pt x="400" y="49"/>
                  <a:pt x="399" y="56"/>
                  <a:pt x="398" y="64"/>
                </a:cubicBezTo>
                <a:cubicBezTo>
                  <a:pt x="397" y="66"/>
                  <a:pt x="396" y="68"/>
                  <a:pt x="395" y="69"/>
                </a:cubicBezTo>
                <a:cubicBezTo>
                  <a:pt x="393" y="67"/>
                  <a:pt x="392" y="66"/>
                  <a:pt x="390" y="64"/>
                </a:cubicBezTo>
                <a:cubicBezTo>
                  <a:pt x="392" y="66"/>
                  <a:pt x="393" y="67"/>
                  <a:pt x="395" y="69"/>
                </a:cubicBezTo>
                <a:cubicBezTo>
                  <a:pt x="393" y="71"/>
                  <a:pt x="392" y="73"/>
                  <a:pt x="391" y="75"/>
                </a:cubicBezTo>
                <a:cubicBezTo>
                  <a:pt x="391" y="75"/>
                  <a:pt x="391" y="75"/>
                  <a:pt x="391" y="75"/>
                </a:cubicBezTo>
                <a:cubicBezTo>
                  <a:pt x="391" y="75"/>
                  <a:pt x="391" y="75"/>
                  <a:pt x="391" y="75"/>
                </a:cubicBezTo>
                <a:cubicBezTo>
                  <a:pt x="390" y="76"/>
                  <a:pt x="389" y="77"/>
                  <a:pt x="388" y="79"/>
                </a:cubicBezTo>
                <a:cubicBezTo>
                  <a:pt x="388" y="79"/>
                  <a:pt x="388" y="79"/>
                  <a:pt x="388" y="79"/>
                </a:cubicBezTo>
                <a:cubicBezTo>
                  <a:pt x="389" y="60"/>
                  <a:pt x="389" y="45"/>
                  <a:pt x="389" y="45"/>
                </a:cubicBezTo>
                <a:cubicBezTo>
                  <a:pt x="389" y="50"/>
                  <a:pt x="387" y="61"/>
                  <a:pt x="384" y="73"/>
                </a:cubicBezTo>
                <a:cubicBezTo>
                  <a:pt x="383" y="73"/>
                  <a:pt x="383" y="73"/>
                  <a:pt x="383" y="72"/>
                </a:cubicBezTo>
                <a:cubicBezTo>
                  <a:pt x="383" y="70"/>
                  <a:pt x="383" y="68"/>
                  <a:pt x="383" y="66"/>
                </a:cubicBezTo>
                <a:cubicBezTo>
                  <a:pt x="383" y="65"/>
                  <a:pt x="383" y="65"/>
                  <a:pt x="384" y="65"/>
                </a:cubicBezTo>
                <a:cubicBezTo>
                  <a:pt x="383" y="65"/>
                  <a:pt x="383" y="65"/>
                  <a:pt x="383" y="66"/>
                </a:cubicBezTo>
                <a:cubicBezTo>
                  <a:pt x="383" y="64"/>
                  <a:pt x="383" y="63"/>
                  <a:pt x="383" y="61"/>
                </a:cubicBezTo>
                <a:cubicBezTo>
                  <a:pt x="383" y="55"/>
                  <a:pt x="383" y="49"/>
                  <a:pt x="382" y="42"/>
                </a:cubicBezTo>
                <a:cubicBezTo>
                  <a:pt x="385" y="27"/>
                  <a:pt x="387" y="17"/>
                  <a:pt x="387" y="17"/>
                </a:cubicBezTo>
                <a:cubicBezTo>
                  <a:pt x="384" y="22"/>
                  <a:pt x="377" y="49"/>
                  <a:pt x="371" y="78"/>
                </a:cubicBezTo>
                <a:cubicBezTo>
                  <a:pt x="371" y="78"/>
                  <a:pt x="371" y="79"/>
                  <a:pt x="371" y="79"/>
                </a:cubicBezTo>
                <a:cubicBezTo>
                  <a:pt x="369" y="76"/>
                  <a:pt x="367" y="72"/>
                  <a:pt x="364" y="69"/>
                </a:cubicBezTo>
                <a:cubicBezTo>
                  <a:pt x="366" y="67"/>
                  <a:pt x="367" y="66"/>
                  <a:pt x="369" y="64"/>
                </a:cubicBezTo>
                <a:cubicBezTo>
                  <a:pt x="367" y="66"/>
                  <a:pt x="365" y="67"/>
                  <a:pt x="364" y="69"/>
                </a:cubicBezTo>
                <a:cubicBezTo>
                  <a:pt x="363" y="68"/>
                  <a:pt x="362" y="67"/>
                  <a:pt x="361" y="66"/>
                </a:cubicBezTo>
                <a:cubicBezTo>
                  <a:pt x="361" y="60"/>
                  <a:pt x="361" y="55"/>
                  <a:pt x="360" y="52"/>
                </a:cubicBezTo>
                <a:cubicBezTo>
                  <a:pt x="361" y="56"/>
                  <a:pt x="361" y="60"/>
                  <a:pt x="360" y="64"/>
                </a:cubicBezTo>
                <a:cubicBezTo>
                  <a:pt x="357" y="60"/>
                  <a:pt x="352" y="55"/>
                  <a:pt x="347" y="50"/>
                </a:cubicBezTo>
                <a:cubicBezTo>
                  <a:pt x="350" y="55"/>
                  <a:pt x="353" y="60"/>
                  <a:pt x="356" y="65"/>
                </a:cubicBezTo>
                <a:cubicBezTo>
                  <a:pt x="355" y="68"/>
                  <a:pt x="355" y="71"/>
                  <a:pt x="354" y="76"/>
                </a:cubicBezTo>
                <a:cubicBezTo>
                  <a:pt x="352" y="74"/>
                  <a:pt x="350" y="71"/>
                  <a:pt x="348" y="68"/>
                </a:cubicBezTo>
                <a:cubicBezTo>
                  <a:pt x="347" y="54"/>
                  <a:pt x="346" y="41"/>
                  <a:pt x="345" y="33"/>
                </a:cubicBezTo>
                <a:cubicBezTo>
                  <a:pt x="346" y="42"/>
                  <a:pt x="345" y="53"/>
                  <a:pt x="344" y="65"/>
                </a:cubicBezTo>
                <a:cubicBezTo>
                  <a:pt x="342" y="63"/>
                  <a:pt x="340" y="61"/>
                  <a:pt x="338" y="59"/>
                </a:cubicBezTo>
                <a:cubicBezTo>
                  <a:pt x="340" y="61"/>
                  <a:pt x="342" y="63"/>
                  <a:pt x="344" y="65"/>
                </a:cubicBezTo>
                <a:cubicBezTo>
                  <a:pt x="343" y="72"/>
                  <a:pt x="342" y="80"/>
                  <a:pt x="341" y="87"/>
                </a:cubicBezTo>
                <a:cubicBezTo>
                  <a:pt x="341" y="87"/>
                  <a:pt x="341" y="87"/>
                  <a:pt x="341" y="87"/>
                </a:cubicBezTo>
                <a:cubicBezTo>
                  <a:pt x="341" y="85"/>
                  <a:pt x="340" y="84"/>
                  <a:pt x="340" y="83"/>
                </a:cubicBezTo>
                <a:cubicBezTo>
                  <a:pt x="340" y="82"/>
                  <a:pt x="340" y="82"/>
                  <a:pt x="340" y="81"/>
                </a:cubicBezTo>
                <a:cubicBezTo>
                  <a:pt x="340" y="82"/>
                  <a:pt x="340" y="82"/>
                  <a:pt x="340" y="83"/>
                </a:cubicBezTo>
                <a:cubicBezTo>
                  <a:pt x="339" y="81"/>
                  <a:pt x="338" y="79"/>
                  <a:pt x="337" y="77"/>
                </a:cubicBezTo>
                <a:cubicBezTo>
                  <a:pt x="338" y="79"/>
                  <a:pt x="339" y="81"/>
                  <a:pt x="339" y="83"/>
                </a:cubicBezTo>
                <a:cubicBezTo>
                  <a:pt x="338" y="85"/>
                  <a:pt x="337" y="86"/>
                  <a:pt x="336" y="88"/>
                </a:cubicBezTo>
                <a:cubicBezTo>
                  <a:pt x="337" y="86"/>
                  <a:pt x="338" y="85"/>
                  <a:pt x="339" y="83"/>
                </a:cubicBezTo>
                <a:cubicBezTo>
                  <a:pt x="340" y="85"/>
                  <a:pt x="340" y="86"/>
                  <a:pt x="340" y="88"/>
                </a:cubicBezTo>
                <a:cubicBezTo>
                  <a:pt x="338" y="91"/>
                  <a:pt x="337" y="95"/>
                  <a:pt x="335" y="98"/>
                </a:cubicBezTo>
                <a:cubicBezTo>
                  <a:pt x="335" y="97"/>
                  <a:pt x="335" y="97"/>
                  <a:pt x="334" y="97"/>
                </a:cubicBezTo>
                <a:cubicBezTo>
                  <a:pt x="334" y="95"/>
                  <a:pt x="334" y="94"/>
                  <a:pt x="334" y="93"/>
                </a:cubicBezTo>
                <a:cubicBezTo>
                  <a:pt x="334" y="91"/>
                  <a:pt x="335" y="89"/>
                  <a:pt x="336" y="88"/>
                </a:cubicBezTo>
                <a:cubicBezTo>
                  <a:pt x="335" y="89"/>
                  <a:pt x="334" y="91"/>
                  <a:pt x="334" y="92"/>
                </a:cubicBezTo>
                <a:cubicBezTo>
                  <a:pt x="333" y="92"/>
                  <a:pt x="333" y="91"/>
                  <a:pt x="333" y="91"/>
                </a:cubicBezTo>
                <a:cubicBezTo>
                  <a:pt x="333" y="74"/>
                  <a:pt x="332" y="60"/>
                  <a:pt x="332" y="60"/>
                </a:cubicBezTo>
                <a:cubicBezTo>
                  <a:pt x="332" y="65"/>
                  <a:pt x="332" y="73"/>
                  <a:pt x="331" y="81"/>
                </a:cubicBezTo>
                <a:cubicBezTo>
                  <a:pt x="330" y="79"/>
                  <a:pt x="330" y="76"/>
                  <a:pt x="329" y="74"/>
                </a:cubicBezTo>
                <a:cubicBezTo>
                  <a:pt x="330" y="79"/>
                  <a:pt x="330" y="83"/>
                  <a:pt x="330" y="88"/>
                </a:cubicBezTo>
                <a:cubicBezTo>
                  <a:pt x="329" y="86"/>
                  <a:pt x="328" y="84"/>
                  <a:pt x="327" y="83"/>
                </a:cubicBezTo>
                <a:cubicBezTo>
                  <a:pt x="328" y="85"/>
                  <a:pt x="329" y="87"/>
                  <a:pt x="330" y="89"/>
                </a:cubicBezTo>
                <a:cubicBezTo>
                  <a:pt x="330" y="89"/>
                  <a:pt x="330" y="89"/>
                  <a:pt x="330" y="89"/>
                </a:cubicBezTo>
                <a:cubicBezTo>
                  <a:pt x="330" y="93"/>
                  <a:pt x="329" y="97"/>
                  <a:pt x="329" y="101"/>
                </a:cubicBezTo>
                <a:cubicBezTo>
                  <a:pt x="328" y="103"/>
                  <a:pt x="327" y="104"/>
                  <a:pt x="327" y="106"/>
                </a:cubicBezTo>
                <a:cubicBezTo>
                  <a:pt x="325" y="100"/>
                  <a:pt x="324" y="95"/>
                  <a:pt x="322" y="90"/>
                </a:cubicBezTo>
                <a:cubicBezTo>
                  <a:pt x="323" y="88"/>
                  <a:pt x="325" y="85"/>
                  <a:pt x="327" y="83"/>
                </a:cubicBezTo>
                <a:cubicBezTo>
                  <a:pt x="325" y="85"/>
                  <a:pt x="323" y="87"/>
                  <a:pt x="321" y="89"/>
                </a:cubicBezTo>
                <a:cubicBezTo>
                  <a:pt x="321" y="88"/>
                  <a:pt x="321" y="87"/>
                  <a:pt x="320" y="87"/>
                </a:cubicBezTo>
                <a:cubicBezTo>
                  <a:pt x="320" y="76"/>
                  <a:pt x="321" y="68"/>
                  <a:pt x="321" y="68"/>
                </a:cubicBezTo>
                <a:cubicBezTo>
                  <a:pt x="320" y="72"/>
                  <a:pt x="319" y="77"/>
                  <a:pt x="318" y="82"/>
                </a:cubicBezTo>
                <a:cubicBezTo>
                  <a:pt x="318" y="81"/>
                  <a:pt x="318" y="80"/>
                  <a:pt x="318" y="80"/>
                </a:cubicBezTo>
                <a:cubicBezTo>
                  <a:pt x="318" y="80"/>
                  <a:pt x="318" y="81"/>
                  <a:pt x="318" y="82"/>
                </a:cubicBezTo>
                <a:cubicBezTo>
                  <a:pt x="317" y="80"/>
                  <a:pt x="316" y="78"/>
                  <a:pt x="314" y="75"/>
                </a:cubicBezTo>
                <a:cubicBezTo>
                  <a:pt x="315" y="65"/>
                  <a:pt x="316" y="56"/>
                  <a:pt x="317" y="48"/>
                </a:cubicBezTo>
                <a:cubicBezTo>
                  <a:pt x="316" y="55"/>
                  <a:pt x="315" y="64"/>
                  <a:pt x="313" y="73"/>
                </a:cubicBezTo>
                <a:cubicBezTo>
                  <a:pt x="311" y="70"/>
                  <a:pt x="309" y="67"/>
                  <a:pt x="307" y="64"/>
                </a:cubicBezTo>
                <a:cubicBezTo>
                  <a:pt x="307" y="62"/>
                  <a:pt x="307" y="59"/>
                  <a:pt x="307" y="57"/>
                </a:cubicBezTo>
                <a:cubicBezTo>
                  <a:pt x="306" y="58"/>
                  <a:pt x="306" y="60"/>
                  <a:pt x="305" y="62"/>
                </a:cubicBezTo>
                <a:cubicBezTo>
                  <a:pt x="303" y="59"/>
                  <a:pt x="300" y="55"/>
                  <a:pt x="297" y="52"/>
                </a:cubicBezTo>
                <a:cubicBezTo>
                  <a:pt x="297" y="48"/>
                  <a:pt x="298" y="46"/>
                  <a:pt x="298" y="46"/>
                </a:cubicBezTo>
                <a:cubicBezTo>
                  <a:pt x="297" y="48"/>
                  <a:pt x="297" y="49"/>
                  <a:pt x="296" y="51"/>
                </a:cubicBezTo>
                <a:cubicBezTo>
                  <a:pt x="293" y="47"/>
                  <a:pt x="289" y="43"/>
                  <a:pt x="285" y="39"/>
                </a:cubicBezTo>
                <a:cubicBezTo>
                  <a:pt x="285" y="37"/>
                  <a:pt x="285" y="35"/>
                  <a:pt x="285" y="34"/>
                </a:cubicBezTo>
                <a:cubicBezTo>
                  <a:pt x="285" y="34"/>
                  <a:pt x="285" y="36"/>
                  <a:pt x="285" y="39"/>
                </a:cubicBezTo>
                <a:cubicBezTo>
                  <a:pt x="283" y="37"/>
                  <a:pt x="282" y="36"/>
                  <a:pt x="280" y="34"/>
                </a:cubicBezTo>
                <a:cubicBezTo>
                  <a:pt x="282" y="36"/>
                  <a:pt x="283" y="38"/>
                  <a:pt x="285" y="40"/>
                </a:cubicBezTo>
                <a:cubicBezTo>
                  <a:pt x="285" y="40"/>
                  <a:pt x="285" y="40"/>
                  <a:pt x="285" y="41"/>
                </a:cubicBezTo>
                <a:cubicBezTo>
                  <a:pt x="285" y="40"/>
                  <a:pt x="285" y="40"/>
                  <a:pt x="285" y="40"/>
                </a:cubicBezTo>
                <a:cubicBezTo>
                  <a:pt x="289" y="45"/>
                  <a:pt x="293" y="49"/>
                  <a:pt x="296" y="53"/>
                </a:cubicBezTo>
                <a:cubicBezTo>
                  <a:pt x="295" y="55"/>
                  <a:pt x="295" y="59"/>
                  <a:pt x="294" y="62"/>
                </a:cubicBezTo>
                <a:cubicBezTo>
                  <a:pt x="292" y="60"/>
                  <a:pt x="289" y="58"/>
                  <a:pt x="286" y="56"/>
                </a:cubicBezTo>
                <a:cubicBezTo>
                  <a:pt x="285" y="50"/>
                  <a:pt x="285" y="44"/>
                  <a:pt x="285" y="41"/>
                </a:cubicBezTo>
                <a:cubicBezTo>
                  <a:pt x="285" y="45"/>
                  <a:pt x="285" y="50"/>
                  <a:pt x="284" y="55"/>
                </a:cubicBezTo>
                <a:cubicBezTo>
                  <a:pt x="283" y="54"/>
                  <a:pt x="282" y="53"/>
                  <a:pt x="280" y="52"/>
                </a:cubicBezTo>
                <a:cubicBezTo>
                  <a:pt x="282" y="53"/>
                  <a:pt x="283" y="54"/>
                  <a:pt x="284" y="55"/>
                </a:cubicBezTo>
                <a:cubicBezTo>
                  <a:pt x="284" y="64"/>
                  <a:pt x="283" y="73"/>
                  <a:pt x="281" y="83"/>
                </a:cubicBezTo>
                <a:cubicBezTo>
                  <a:pt x="281" y="82"/>
                  <a:pt x="281" y="81"/>
                  <a:pt x="281" y="81"/>
                </a:cubicBezTo>
                <a:cubicBezTo>
                  <a:pt x="281" y="82"/>
                  <a:pt x="281" y="82"/>
                  <a:pt x="281" y="83"/>
                </a:cubicBezTo>
                <a:cubicBezTo>
                  <a:pt x="281" y="88"/>
                  <a:pt x="280" y="92"/>
                  <a:pt x="279" y="97"/>
                </a:cubicBezTo>
                <a:cubicBezTo>
                  <a:pt x="278" y="89"/>
                  <a:pt x="275" y="81"/>
                  <a:pt x="272" y="73"/>
                </a:cubicBezTo>
                <a:cubicBezTo>
                  <a:pt x="272" y="72"/>
                  <a:pt x="272" y="71"/>
                  <a:pt x="272" y="71"/>
                </a:cubicBezTo>
                <a:cubicBezTo>
                  <a:pt x="273" y="70"/>
                  <a:pt x="274" y="69"/>
                  <a:pt x="275" y="68"/>
                </a:cubicBezTo>
                <a:cubicBezTo>
                  <a:pt x="277" y="72"/>
                  <a:pt x="279" y="76"/>
                  <a:pt x="281" y="81"/>
                </a:cubicBezTo>
                <a:cubicBezTo>
                  <a:pt x="279" y="76"/>
                  <a:pt x="278" y="72"/>
                  <a:pt x="275" y="67"/>
                </a:cubicBezTo>
                <a:cubicBezTo>
                  <a:pt x="276" y="67"/>
                  <a:pt x="277" y="66"/>
                  <a:pt x="277" y="65"/>
                </a:cubicBezTo>
                <a:cubicBezTo>
                  <a:pt x="277" y="66"/>
                  <a:pt x="276" y="66"/>
                  <a:pt x="275" y="67"/>
                </a:cubicBezTo>
                <a:cubicBezTo>
                  <a:pt x="269" y="54"/>
                  <a:pt x="259" y="41"/>
                  <a:pt x="247" y="25"/>
                </a:cubicBezTo>
                <a:cubicBezTo>
                  <a:pt x="259" y="42"/>
                  <a:pt x="268" y="55"/>
                  <a:pt x="275" y="68"/>
                </a:cubicBezTo>
                <a:cubicBezTo>
                  <a:pt x="274" y="68"/>
                  <a:pt x="273" y="69"/>
                  <a:pt x="272" y="70"/>
                </a:cubicBezTo>
                <a:cubicBezTo>
                  <a:pt x="272" y="68"/>
                  <a:pt x="272" y="66"/>
                  <a:pt x="272" y="66"/>
                </a:cubicBezTo>
                <a:cubicBezTo>
                  <a:pt x="272" y="68"/>
                  <a:pt x="272" y="69"/>
                  <a:pt x="271" y="71"/>
                </a:cubicBezTo>
                <a:cubicBezTo>
                  <a:pt x="271" y="71"/>
                  <a:pt x="271" y="71"/>
                  <a:pt x="271" y="71"/>
                </a:cubicBezTo>
                <a:cubicBezTo>
                  <a:pt x="267" y="61"/>
                  <a:pt x="260" y="52"/>
                  <a:pt x="251" y="42"/>
                </a:cubicBezTo>
                <a:cubicBezTo>
                  <a:pt x="258" y="55"/>
                  <a:pt x="263" y="65"/>
                  <a:pt x="267" y="75"/>
                </a:cubicBezTo>
                <a:cubicBezTo>
                  <a:pt x="266" y="76"/>
                  <a:pt x="265" y="77"/>
                  <a:pt x="264" y="77"/>
                </a:cubicBezTo>
                <a:cubicBezTo>
                  <a:pt x="262" y="73"/>
                  <a:pt x="260" y="70"/>
                  <a:pt x="258" y="68"/>
                </a:cubicBezTo>
                <a:cubicBezTo>
                  <a:pt x="258" y="63"/>
                  <a:pt x="257" y="60"/>
                  <a:pt x="257" y="60"/>
                </a:cubicBezTo>
                <a:cubicBezTo>
                  <a:pt x="257" y="62"/>
                  <a:pt x="257" y="64"/>
                  <a:pt x="257" y="67"/>
                </a:cubicBezTo>
                <a:cubicBezTo>
                  <a:pt x="251" y="57"/>
                  <a:pt x="243" y="47"/>
                  <a:pt x="232" y="38"/>
                </a:cubicBezTo>
                <a:cubicBezTo>
                  <a:pt x="243" y="49"/>
                  <a:pt x="251" y="60"/>
                  <a:pt x="257" y="71"/>
                </a:cubicBezTo>
                <a:cubicBezTo>
                  <a:pt x="256" y="75"/>
                  <a:pt x="256" y="80"/>
                  <a:pt x="256" y="85"/>
                </a:cubicBezTo>
                <a:cubicBezTo>
                  <a:pt x="255" y="84"/>
                  <a:pt x="255" y="84"/>
                  <a:pt x="254" y="83"/>
                </a:cubicBezTo>
                <a:cubicBezTo>
                  <a:pt x="255" y="84"/>
                  <a:pt x="255" y="85"/>
                  <a:pt x="256" y="86"/>
                </a:cubicBezTo>
                <a:cubicBezTo>
                  <a:pt x="255" y="87"/>
                  <a:pt x="255" y="88"/>
                  <a:pt x="255" y="89"/>
                </a:cubicBezTo>
                <a:cubicBezTo>
                  <a:pt x="253" y="92"/>
                  <a:pt x="252" y="94"/>
                  <a:pt x="250" y="97"/>
                </a:cubicBezTo>
                <a:cubicBezTo>
                  <a:pt x="250" y="93"/>
                  <a:pt x="250" y="90"/>
                  <a:pt x="250" y="87"/>
                </a:cubicBezTo>
                <a:cubicBezTo>
                  <a:pt x="251" y="84"/>
                  <a:pt x="252" y="82"/>
                  <a:pt x="253" y="80"/>
                </a:cubicBezTo>
                <a:cubicBezTo>
                  <a:pt x="253" y="81"/>
                  <a:pt x="254" y="82"/>
                  <a:pt x="254" y="83"/>
                </a:cubicBezTo>
                <a:cubicBezTo>
                  <a:pt x="254" y="81"/>
                  <a:pt x="253" y="80"/>
                  <a:pt x="253" y="79"/>
                </a:cubicBezTo>
                <a:cubicBezTo>
                  <a:pt x="253" y="79"/>
                  <a:pt x="253" y="78"/>
                  <a:pt x="254" y="77"/>
                </a:cubicBezTo>
                <a:cubicBezTo>
                  <a:pt x="253" y="77"/>
                  <a:pt x="253" y="78"/>
                  <a:pt x="252" y="79"/>
                </a:cubicBezTo>
                <a:cubicBezTo>
                  <a:pt x="251" y="77"/>
                  <a:pt x="251" y="76"/>
                  <a:pt x="250" y="75"/>
                </a:cubicBezTo>
                <a:cubicBezTo>
                  <a:pt x="251" y="77"/>
                  <a:pt x="251" y="78"/>
                  <a:pt x="252" y="79"/>
                </a:cubicBezTo>
                <a:cubicBezTo>
                  <a:pt x="251" y="80"/>
                  <a:pt x="251" y="81"/>
                  <a:pt x="250" y="82"/>
                </a:cubicBezTo>
                <a:cubicBezTo>
                  <a:pt x="250" y="73"/>
                  <a:pt x="250" y="68"/>
                  <a:pt x="250" y="68"/>
                </a:cubicBezTo>
                <a:cubicBezTo>
                  <a:pt x="250" y="72"/>
                  <a:pt x="249" y="78"/>
                  <a:pt x="248" y="85"/>
                </a:cubicBezTo>
                <a:cubicBezTo>
                  <a:pt x="246" y="90"/>
                  <a:pt x="244" y="94"/>
                  <a:pt x="242" y="99"/>
                </a:cubicBezTo>
                <a:cubicBezTo>
                  <a:pt x="242" y="98"/>
                  <a:pt x="241" y="97"/>
                  <a:pt x="241" y="96"/>
                </a:cubicBezTo>
                <a:cubicBezTo>
                  <a:pt x="242" y="92"/>
                  <a:pt x="242" y="89"/>
                  <a:pt x="242" y="89"/>
                </a:cubicBezTo>
                <a:cubicBezTo>
                  <a:pt x="242" y="91"/>
                  <a:pt x="241" y="92"/>
                  <a:pt x="241" y="94"/>
                </a:cubicBezTo>
                <a:cubicBezTo>
                  <a:pt x="240" y="91"/>
                  <a:pt x="239" y="88"/>
                  <a:pt x="239" y="85"/>
                </a:cubicBezTo>
                <a:cubicBezTo>
                  <a:pt x="238" y="88"/>
                  <a:pt x="238" y="91"/>
                  <a:pt x="238" y="94"/>
                </a:cubicBezTo>
                <a:cubicBezTo>
                  <a:pt x="238" y="97"/>
                  <a:pt x="238" y="100"/>
                  <a:pt x="238" y="103"/>
                </a:cubicBezTo>
                <a:cubicBezTo>
                  <a:pt x="237" y="107"/>
                  <a:pt x="236" y="112"/>
                  <a:pt x="234" y="116"/>
                </a:cubicBezTo>
                <a:cubicBezTo>
                  <a:pt x="233" y="112"/>
                  <a:pt x="231" y="108"/>
                  <a:pt x="230" y="104"/>
                </a:cubicBezTo>
                <a:cubicBezTo>
                  <a:pt x="231" y="109"/>
                  <a:pt x="232" y="115"/>
                  <a:pt x="233" y="120"/>
                </a:cubicBezTo>
                <a:cubicBezTo>
                  <a:pt x="231" y="124"/>
                  <a:pt x="230" y="127"/>
                  <a:pt x="228" y="130"/>
                </a:cubicBezTo>
                <a:cubicBezTo>
                  <a:pt x="227" y="128"/>
                  <a:pt x="227" y="126"/>
                  <a:pt x="226" y="123"/>
                </a:cubicBezTo>
                <a:cubicBezTo>
                  <a:pt x="227" y="115"/>
                  <a:pt x="229" y="106"/>
                  <a:pt x="231" y="99"/>
                </a:cubicBezTo>
                <a:cubicBezTo>
                  <a:pt x="232" y="98"/>
                  <a:pt x="232" y="97"/>
                  <a:pt x="232" y="96"/>
                </a:cubicBezTo>
                <a:cubicBezTo>
                  <a:pt x="232" y="96"/>
                  <a:pt x="232" y="97"/>
                  <a:pt x="232" y="97"/>
                </a:cubicBezTo>
                <a:cubicBezTo>
                  <a:pt x="234" y="86"/>
                  <a:pt x="237" y="76"/>
                  <a:pt x="237" y="76"/>
                </a:cubicBezTo>
                <a:cubicBezTo>
                  <a:pt x="232" y="83"/>
                  <a:pt x="227" y="96"/>
                  <a:pt x="222" y="109"/>
                </a:cubicBezTo>
                <a:cubicBezTo>
                  <a:pt x="222" y="107"/>
                  <a:pt x="222" y="106"/>
                  <a:pt x="221" y="104"/>
                </a:cubicBezTo>
                <a:cubicBezTo>
                  <a:pt x="223" y="97"/>
                  <a:pt x="226" y="90"/>
                  <a:pt x="229" y="84"/>
                </a:cubicBezTo>
                <a:cubicBezTo>
                  <a:pt x="226" y="90"/>
                  <a:pt x="223" y="96"/>
                  <a:pt x="221" y="102"/>
                </a:cubicBezTo>
                <a:cubicBezTo>
                  <a:pt x="221" y="102"/>
                  <a:pt x="220" y="101"/>
                  <a:pt x="220" y="101"/>
                </a:cubicBezTo>
                <a:cubicBezTo>
                  <a:pt x="222" y="77"/>
                  <a:pt x="218" y="62"/>
                  <a:pt x="218" y="62"/>
                </a:cubicBezTo>
                <a:cubicBezTo>
                  <a:pt x="219" y="69"/>
                  <a:pt x="219" y="80"/>
                  <a:pt x="218" y="91"/>
                </a:cubicBezTo>
                <a:cubicBezTo>
                  <a:pt x="217" y="89"/>
                  <a:pt x="217" y="88"/>
                  <a:pt x="216" y="87"/>
                </a:cubicBezTo>
                <a:cubicBezTo>
                  <a:pt x="216" y="88"/>
                  <a:pt x="216" y="88"/>
                  <a:pt x="216" y="88"/>
                </a:cubicBezTo>
                <a:cubicBezTo>
                  <a:pt x="216" y="90"/>
                  <a:pt x="217" y="93"/>
                  <a:pt x="217" y="96"/>
                </a:cubicBezTo>
                <a:cubicBezTo>
                  <a:pt x="216" y="101"/>
                  <a:pt x="216" y="105"/>
                  <a:pt x="215" y="110"/>
                </a:cubicBezTo>
                <a:cubicBezTo>
                  <a:pt x="214" y="109"/>
                  <a:pt x="214" y="107"/>
                  <a:pt x="213" y="106"/>
                </a:cubicBezTo>
                <a:cubicBezTo>
                  <a:pt x="214" y="103"/>
                  <a:pt x="214" y="99"/>
                  <a:pt x="215" y="96"/>
                </a:cubicBezTo>
                <a:cubicBezTo>
                  <a:pt x="214" y="98"/>
                  <a:pt x="213" y="100"/>
                  <a:pt x="212" y="103"/>
                </a:cubicBezTo>
                <a:cubicBezTo>
                  <a:pt x="211" y="101"/>
                  <a:pt x="210" y="99"/>
                  <a:pt x="210" y="98"/>
                </a:cubicBezTo>
                <a:cubicBezTo>
                  <a:pt x="210" y="89"/>
                  <a:pt x="211" y="82"/>
                  <a:pt x="211" y="82"/>
                </a:cubicBezTo>
                <a:cubicBezTo>
                  <a:pt x="209" y="97"/>
                  <a:pt x="209" y="97"/>
                  <a:pt x="209" y="97"/>
                </a:cubicBezTo>
                <a:cubicBezTo>
                  <a:pt x="208" y="94"/>
                  <a:pt x="207" y="92"/>
                  <a:pt x="206" y="90"/>
                </a:cubicBezTo>
                <a:cubicBezTo>
                  <a:pt x="206" y="90"/>
                  <a:pt x="206" y="90"/>
                  <a:pt x="206" y="90"/>
                </a:cubicBezTo>
                <a:cubicBezTo>
                  <a:pt x="206" y="90"/>
                  <a:pt x="206" y="90"/>
                  <a:pt x="206" y="90"/>
                </a:cubicBezTo>
                <a:cubicBezTo>
                  <a:pt x="206" y="89"/>
                  <a:pt x="206" y="89"/>
                  <a:pt x="205" y="88"/>
                </a:cubicBezTo>
                <a:cubicBezTo>
                  <a:pt x="205" y="83"/>
                  <a:pt x="205" y="78"/>
                  <a:pt x="205" y="73"/>
                </a:cubicBezTo>
                <a:cubicBezTo>
                  <a:pt x="208" y="70"/>
                  <a:pt x="211" y="66"/>
                  <a:pt x="214" y="63"/>
                </a:cubicBezTo>
                <a:cubicBezTo>
                  <a:pt x="211" y="66"/>
                  <a:pt x="208" y="69"/>
                  <a:pt x="205" y="71"/>
                </a:cubicBezTo>
                <a:cubicBezTo>
                  <a:pt x="205" y="65"/>
                  <a:pt x="205" y="60"/>
                  <a:pt x="205" y="60"/>
                </a:cubicBezTo>
                <a:cubicBezTo>
                  <a:pt x="205" y="64"/>
                  <a:pt x="204" y="68"/>
                  <a:pt x="204" y="72"/>
                </a:cubicBezTo>
                <a:cubicBezTo>
                  <a:pt x="203" y="74"/>
                  <a:pt x="201" y="75"/>
                  <a:pt x="200" y="77"/>
                </a:cubicBezTo>
                <a:cubicBezTo>
                  <a:pt x="200" y="70"/>
                  <a:pt x="200" y="64"/>
                  <a:pt x="200" y="64"/>
                </a:cubicBezTo>
                <a:cubicBezTo>
                  <a:pt x="200" y="66"/>
                  <a:pt x="199" y="71"/>
                  <a:pt x="198" y="78"/>
                </a:cubicBezTo>
                <a:cubicBezTo>
                  <a:pt x="196" y="81"/>
                  <a:pt x="193" y="85"/>
                  <a:pt x="191" y="88"/>
                </a:cubicBezTo>
                <a:cubicBezTo>
                  <a:pt x="191" y="64"/>
                  <a:pt x="191" y="42"/>
                  <a:pt x="191" y="42"/>
                </a:cubicBezTo>
                <a:cubicBezTo>
                  <a:pt x="191" y="55"/>
                  <a:pt x="188" y="77"/>
                  <a:pt x="186" y="96"/>
                </a:cubicBezTo>
                <a:cubicBezTo>
                  <a:pt x="184" y="100"/>
                  <a:pt x="182" y="104"/>
                  <a:pt x="181" y="107"/>
                </a:cubicBezTo>
                <a:cubicBezTo>
                  <a:pt x="181" y="107"/>
                  <a:pt x="180" y="106"/>
                  <a:pt x="180" y="106"/>
                </a:cubicBezTo>
                <a:cubicBezTo>
                  <a:pt x="182" y="87"/>
                  <a:pt x="184" y="70"/>
                  <a:pt x="184" y="70"/>
                </a:cubicBezTo>
                <a:cubicBezTo>
                  <a:pt x="182" y="74"/>
                  <a:pt x="179" y="98"/>
                  <a:pt x="177" y="118"/>
                </a:cubicBezTo>
                <a:cubicBezTo>
                  <a:pt x="177" y="118"/>
                  <a:pt x="177" y="119"/>
                  <a:pt x="177" y="120"/>
                </a:cubicBezTo>
                <a:cubicBezTo>
                  <a:pt x="177" y="119"/>
                  <a:pt x="177" y="119"/>
                  <a:pt x="177" y="118"/>
                </a:cubicBezTo>
                <a:cubicBezTo>
                  <a:pt x="177" y="119"/>
                  <a:pt x="177" y="119"/>
                  <a:pt x="177" y="120"/>
                </a:cubicBezTo>
                <a:cubicBezTo>
                  <a:pt x="177" y="121"/>
                  <a:pt x="176" y="121"/>
                  <a:pt x="176" y="122"/>
                </a:cubicBezTo>
                <a:cubicBezTo>
                  <a:pt x="176" y="115"/>
                  <a:pt x="176" y="108"/>
                  <a:pt x="176" y="101"/>
                </a:cubicBezTo>
                <a:cubicBezTo>
                  <a:pt x="176" y="101"/>
                  <a:pt x="176" y="100"/>
                  <a:pt x="176" y="100"/>
                </a:cubicBezTo>
                <a:cubicBezTo>
                  <a:pt x="176" y="100"/>
                  <a:pt x="176" y="101"/>
                  <a:pt x="176" y="101"/>
                </a:cubicBezTo>
                <a:cubicBezTo>
                  <a:pt x="176" y="98"/>
                  <a:pt x="176" y="94"/>
                  <a:pt x="176" y="91"/>
                </a:cubicBezTo>
                <a:cubicBezTo>
                  <a:pt x="177" y="88"/>
                  <a:pt x="179" y="85"/>
                  <a:pt x="181" y="83"/>
                </a:cubicBezTo>
                <a:cubicBezTo>
                  <a:pt x="179" y="85"/>
                  <a:pt x="177" y="87"/>
                  <a:pt x="176" y="90"/>
                </a:cubicBezTo>
                <a:cubicBezTo>
                  <a:pt x="175" y="79"/>
                  <a:pt x="174" y="69"/>
                  <a:pt x="174" y="61"/>
                </a:cubicBezTo>
                <a:cubicBezTo>
                  <a:pt x="174" y="73"/>
                  <a:pt x="172" y="87"/>
                  <a:pt x="169" y="100"/>
                </a:cubicBezTo>
                <a:cubicBezTo>
                  <a:pt x="165" y="107"/>
                  <a:pt x="162" y="115"/>
                  <a:pt x="160" y="123"/>
                </a:cubicBezTo>
                <a:cubicBezTo>
                  <a:pt x="161" y="109"/>
                  <a:pt x="162" y="92"/>
                  <a:pt x="163" y="80"/>
                </a:cubicBezTo>
                <a:cubicBezTo>
                  <a:pt x="165" y="73"/>
                  <a:pt x="167" y="67"/>
                  <a:pt x="167" y="61"/>
                </a:cubicBezTo>
                <a:cubicBezTo>
                  <a:pt x="166" y="60"/>
                  <a:pt x="166" y="60"/>
                  <a:pt x="166" y="60"/>
                </a:cubicBezTo>
                <a:cubicBezTo>
                  <a:pt x="157" y="75"/>
                  <a:pt x="153" y="88"/>
                  <a:pt x="151" y="102"/>
                </a:cubicBezTo>
                <a:cubicBezTo>
                  <a:pt x="151" y="102"/>
                  <a:pt x="151" y="101"/>
                  <a:pt x="151" y="101"/>
                </a:cubicBezTo>
                <a:cubicBezTo>
                  <a:pt x="152" y="68"/>
                  <a:pt x="155" y="30"/>
                  <a:pt x="155" y="30"/>
                </a:cubicBezTo>
                <a:cubicBezTo>
                  <a:pt x="153" y="38"/>
                  <a:pt x="150" y="60"/>
                  <a:pt x="148" y="83"/>
                </a:cubicBezTo>
                <a:cubicBezTo>
                  <a:pt x="145" y="87"/>
                  <a:pt x="143" y="92"/>
                  <a:pt x="140" y="97"/>
                </a:cubicBezTo>
                <a:cubicBezTo>
                  <a:pt x="140" y="91"/>
                  <a:pt x="139" y="85"/>
                  <a:pt x="139" y="79"/>
                </a:cubicBezTo>
                <a:cubicBezTo>
                  <a:pt x="139" y="78"/>
                  <a:pt x="139" y="78"/>
                  <a:pt x="140" y="78"/>
                </a:cubicBezTo>
                <a:cubicBezTo>
                  <a:pt x="139" y="78"/>
                  <a:pt x="139" y="78"/>
                  <a:pt x="139" y="78"/>
                </a:cubicBezTo>
                <a:cubicBezTo>
                  <a:pt x="137" y="58"/>
                  <a:pt x="136" y="41"/>
                  <a:pt x="136" y="41"/>
                </a:cubicBezTo>
                <a:cubicBezTo>
                  <a:pt x="137" y="52"/>
                  <a:pt x="137" y="67"/>
                  <a:pt x="136" y="82"/>
                </a:cubicBezTo>
                <a:cubicBezTo>
                  <a:pt x="134" y="84"/>
                  <a:pt x="132" y="87"/>
                  <a:pt x="130" y="92"/>
                </a:cubicBezTo>
                <a:cubicBezTo>
                  <a:pt x="130" y="82"/>
                  <a:pt x="130" y="72"/>
                  <a:pt x="130" y="68"/>
                </a:cubicBezTo>
                <a:cubicBezTo>
                  <a:pt x="129" y="77"/>
                  <a:pt x="128" y="88"/>
                  <a:pt x="126" y="99"/>
                </a:cubicBezTo>
                <a:cubicBezTo>
                  <a:pt x="125" y="94"/>
                  <a:pt x="123" y="89"/>
                  <a:pt x="121" y="84"/>
                </a:cubicBezTo>
                <a:cubicBezTo>
                  <a:pt x="123" y="90"/>
                  <a:pt x="125" y="96"/>
                  <a:pt x="126" y="101"/>
                </a:cubicBezTo>
                <a:cubicBezTo>
                  <a:pt x="125" y="105"/>
                  <a:pt x="124" y="109"/>
                  <a:pt x="123" y="113"/>
                </a:cubicBezTo>
                <a:cubicBezTo>
                  <a:pt x="123" y="110"/>
                  <a:pt x="123" y="108"/>
                  <a:pt x="123" y="105"/>
                </a:cubicBezTo>
                <a:cubicBezTo>
                  <a:pt x="122" y="108"/>
                  <a:pt x="122" y="115"/>
                  <a:pt x="122" y="119"/>
                </a:cubicBezTo>
                <a:cubicBezTo>
                  <a:pt x="122" y="120"/>
                  <a:pt x="121" y="122"/>
                  <a:pt x="121" y="124"/>
                </a:cubicBezTo>
                <a:cubicBezTo>
                  <a:pt x="120" y="125"/>
                  <a:pt x="120" y="127"/>
                  <a:pt x="120" y="128"/>
                </a:cubicBezTo>
                <a:cubicBezTo>
                  <a:pt x="119" y="124"/>
                  <a:pt x="118" y="120"/>
                  <a:pt x="117" y="116"/>
                </a:cubicBezTo>
                <a:cubicBezTo>
                  <a:pt x="118" y="108"/>
                  <a:pt x="119" y="100"/>
                  <a:pt x="119" y="94"/>
                </a:cubicBezTo>
                <a:cubicBezTo>
                  <a:pt x="120" y="92"/>
                  <a:pt x="120" y="91"/>
                  <a:pt x="121" y="89"/>
                </a:cubicBezTo>
                <a:cubicBezTo>
                  <a:pt x="121" y="90"/>
                  <a:pt x="120" y="91"/>
                  <a:pt x="119" y="92"/>
                </a:cubicBezTo>
                <a:cubicBezTo>
                  <a:pt x="120" y="87"/>
                  <a:pt x="120" y="83"/>
                  <a:pt x="120" y="83"/>
                </a:cubicBezTo>
                <a:cubicBezTo>
                  <a:pt x="120" y="85"/>
                  <a:pt x="119" y="89"/>
                  <a:pt x="118" y="93"/>
                </a:cubicBezTo>
                <a:cubicBezTo>
                  <a:pt x="117" y="96"/>
                  <a:pt x="115" y="99"/>
                  <a:pt x="114" y="102"/>
                </a:cubicBezTo>
                <a:cubicBezTo>
                  <a:pt x="113" y="101"/>
                  <a:pt x="113" y="100"/>
                  <a:pt x="113" y="99"/>
                </a:cubicBezTo>
                <a:cubicBezTo>
                  <a:pt x="115" y="80"/>
                  <a:pt x="117" y="62"/>
                  <a:pt x="117" y="62"/>
                </a:cubicBezTo>
                <a:cubicBezTo>
                  <a:pt x="115" y="66"/>
                  <a:pt x="113" y="80"/>
                  <a:pt x="111" y="95"/>
                </a:cubicBezTo>
                <a:cubicBezTo>
                  <a:pt x="111" y="94"/>
                  <a:pt x="110" y="92"/>
                  <a:pt x="109" y="90"/>
                </a:cubicBezTo>
                <a:cubicBezTo>
                  <a:pt x="110" y="92"/>
                  <a:pt x="111" y="94"/>
                  <a:pt x="111" y="96"/>
                </a:cubicBezTo>
                <a:cubicBezTo>
                  <a:pt x="111" y="101"/>
                  <a:pt x="110" y="106"/>
                  <a:pt x="110" y="110"/>
                </a:cubicBezTo>
                <a:cubicBezTo>
                  <a:pt x="109" y="113"/>
                  <a:pt x="108" y="116"/>
                  <a:pt x="107" y="118"/>
                </a:cubicBezTo>
                <a:cubicBezTo>
                  <a:pt x="106" y="94"/>
                  <a:pt x="101" y="64"/>
                  <a:pt x="101" y="64"/>
                </a:cubicBezTo>
                <a:cubicBezTo>
                  <a:pt x="101" y="64"/>
                  <a:pt x="101" y="73"/>
                  <a:pt x="101" y="82"/>
                </a:cubicBezTo>
                <a:cubicBezTo>
                  <a:pt x="102" y="88"/>
                  <a:pt x="101" y="98"/>
                  <a:pt x="99" y="108"/>
                </a:cubicBezTo>
                <a:cubicBezTo>
                  <a:pt x="98" y="111"/>
                  <a:pt x="97" y="114"/>
                  <a:pt x="96" y="117"/>
                </a:cubicBezTo>
                <a:cubicBezTo>
                  <a:pt x="96" y="108"/>
                  <a:pt x="95" y="99"/>
                  <a:pt x="93" y="90"/>
                </a:cubicBezTo>
                <a:cubicBezTo>
                  <a:pt x="97" y="78"/>
                  <a:pt x="101" y="66"/>
                  <a:pt x="100" y="56"/>
                </a:cubicBezTo>
                <a:cubicBezTo>
                  <a:pt x="97" y="62"/>
                  <a:pt x="95" y="67"/>
                  <a:pt x="92" y="72"/>
                </a:cubicBezTo>
                <a:cubicBezTo>
                  <a:pt x="95" y="34"/>
                  <a:pt x="88" y="19"/>
                  <a:pt x="88" y="19"/>
                </a:cubicBezTo>
                <a:cubicBezTo>
                  <a:pt x="88" y="19"/>
                  <a:pt x="92" y="31"/>
                  <a:pt x="90" y="54"/>
                </a:cubicBezTo>
                <a:cubicBezTo>
                  <a:pt x="89" y="61"/>
                  <a:pt x="88" y="74"/>
                  <a:pt x="87" y="88"/>
                </a:cubicBezTo>
                <a:cubicBezTo>
                  <a:pt x="85" y="92"/>
                  <a:pt x="85" y="97"/>
                  <a:pt x="84" y="101"/>
                </a:cubicBezTo>
                <a:cubicBezTo>
                  <a:pt x="83" y="98"/>
                  <a:pt x="82" y="95"/>
                  <a:pt x="81" y="91"/>
                </a:cubicBezTo>
                <a:cubicBezTo>
                  <a:pt x="81" y="89"/>
                  <a:pt x="81" y="87"/>
                  <a:pt x="82" y="85"/>
                </a:cubicBezTo>
                <a:cubicBezTo>
                  <a:pt x="81" y="87"/>
                  <a:pt x="81" y="88"/>
                  <a:pt x="80" y="90"/>
                </a:cubicBezTo>
                <a:cubicBezTo>
                  <a:pt x="80" y="89"/>
                  <a:pt x="79" y="88"/>
                  <a:pt x="79" y="87"/>
                </a:cubicBezTo>
                <a:cubicBezTo>
                  <a:pt x="79" y="83"/>
                  <a:pt x="79" y="78"/>
                  <a:pt x="79" y="74"/>
                </a:cubicBezTo>
                <a:cubicBezTo>
                  <a:pt x="79" y="46"/>
                  <a:pt x="69" y="40"/>
                  <a:pt x="69" y="40"/>
                </a:cubicBezTo>
                <a:cubicBezTo>
                  <a:pt x="69" y="40"/>
                  <a:pt x="75" y="44"/>
                  <a:pt x="75" y="70"/>
                </a:cubicBezTo>
                <a:cubicBezTo>
                  <a:pt x="75" y="84"/>
                  <a:pt x="70" y="108"/>
                  <a:pt x="65" y="125"/>
                </a:cubicBezTo>
                <a:cubicBezTo>
                  <a:pt x="65" y="123"/>
                  <a:pt x="65" y="120"/>
                  <a:pt x="64" y="118"/>
                </a:cubicBezTo>
                <a:cubicBezTo>
                  <a:pt x="65" y="111"/>
                  <a:pt x="66" y="105"/>
                  <a:pt x="66" y="98"/>
                </a:cubicBezTo>
                <a:cubicBezTo>
                  <a:pt x="65" y="101"/>
                  <a:pt x="64" y="104"/>
                  <a:pt x="64" y="107"/>
                </a:cubicBezTo>
                <a:cubicBezTo>
                  <a:pt x="64" y="107"/>
                  <a:pt x="64" y="106"/>
                  <a:pt x="64" y="106"/>
                </a:cubicBezTo>
                <a:cubicBezTo>
                  <a:pt x="64" y="97"/>
                  <a:pt x="65" y="83"/>
                  <a:pt x="72" y="75"/>
                </a:cubicBezTo>
                <a:cubicBezTo>
                  <a:pt x="68" y="77"/>
                  <a:pt x="65" y="82"/>
                  <a:pt x="63" y="87"/>
                </a:cubicBezTo>
                <a:cubicBezTo>
                  <a:pt x="64" y="78"/>
                  <a:pt x="64" y="71"/>
                  <a:pt x="64" y="71"/>
                </a:cubicBezTo>
                <a:cubicBezTo>
                  <a:pt x="64" y="75"/>
                  <a:pt x="60" y="97"/>
                  <a:pt x="56" y="116"/>
                </a:cubicBezTo>
                <a:cubicBezTo>
                  <a:pt x="56" y="114"/>
                  <a:pt x="56" y="112"/>
                  <a:pt x="55" y="110"/>
                </a:cubicBezTo>
                <a:cubicBezTo>
                  <a:pt x="56" y="99"/>
                  <a:pt x="57" y="87"/>
                  <a:pt x="58" y="78"/>
                </a:cubicBezTo>
                <a:cubicBezTo>
                  <a:pt x="60" y="71"/>
                  <a:pt x="62" y="63"/>
                  <a:pt x="65" y="55"/>
                </a:cubicBezTo>
                <a:cubicBezTo>
                  <a:pt x="65" y="54"/>
                  <a:pt x="64" y="52"/>
                  <a:pt x="64" y="51"/>
                </a:cubicBezTo>
                <a:cubicBezTo>
                  <a:pt x="62" y="54"/>
                  <a:pt x="61" y="57"/>
                  <a:pt x="60" y="60"/>
                </a:cubicBezTo>
                <a:cubicBezTo>
                  <a:pt x="60" y="60"/>
                  <a:pt x="60" y="59"/>
                  <a:pt x="60" y="59"/>
                </a:cubicBezTo>
                <a:cubicBezTo>
                  <a:pt x="60" y="60"/>
                  <a:pt x="60" y="60"/>
                  <a:pt x="60" y="60"/>
                </a:cubicBezTo>
                <a:cubicBezTo>
                  <a:pt x="56" y="70"/>
                  <a:pt x="53" y="80"/>
                  <a:pt x="51" y="89"/>
                </a:cubicBezTo>
                <a:cubicBezTo>
                  <a:pt x="56" y="30"/>
                  <a:pt x="53" y="15"/>
                  <a:pt x="52" y="13"/>
                </a:cubicBezTo>
                <a:cubicBezTo>
                  <a:pt x="52" y="15"/>
                  <a:pt x="53" y="22"/>
                  <a:pt x="49" y="56"/>
                </a:cubicBezTo>
                <a:cubicBezTo>
                  <a:pt x="47" y="68"/>
                  <a:pt x="46" y="80"/>
                  <a:pt x="44" y="91"/>
                </a:cubicBezTo>
                <a:cubicBezTo>
                  <a:pt x="43" y="85"/>
                  <a:pt x="41" y="79"/>
                  <a:pt x="39" y="74"/>
                </a:cubicBezTo>
                <a:cubicBezTo>
                  <a:pt x="40" y="51"/>
                  <a:pt x="41" y="31"/>
                  <a:pt x="41" y="31"/>
                </a:cubicBezTo>
                <a:cubicBezTo>
                  <a:pt x="39" y="38"/>
                  <a:pt x="38" y="53"/>
                  <a:pt x="36" y="69"/>
                </a:cubicBezTo>
                <a:cubicBezTo>
                  <a:pt x="35" y="68"/>
                  <a:pt x="34" y="67"/>
                  <a:pt x="33" y="65"/>
                </a:cubicBezTo>
                <a:cubicBezTo>
                  <a:pt x="34" y="67"/>
                  <a:pt x="35" y="69"/>
                  <a:pt x="36" y="71"/>
                </a:cubicBezTo>
                <a:cubicBezTo>
                  <a:pt x="36" y="71"/>
                  <a:pt x="36" y="72"/>
                  <a:pt x="36" y="73"/>
                </a:cubicBezTo>
                <a:cubicBezTo>
                  <a:pt x="33" y="77"/>
                  <a:pt x="31" y="81"/>
                  <a:pt x="28" y="86"/>
                </a:cubicBezTo>
                <a:cubicBezTo>
                  <a:pt x="28" y="85"/>
                  <a:pt x="27" y="84"/>
                  <a:pt x="26" y="83"/>
                </a:cubicBezTo>
                <a:cubicBezTo>
                  <a:pt x="24" y="61"/>
                  <a:pt x="21" y="38"/>
                  <a:pt x="18" y="28"/>
                </a:cubicBezTo>
                <a:cubicBezTo>
                  <a:pt x="18" y="28"/>
                  <a:pt x="22" y="54"/>
                  <a:pt x="26" y="83"/>
                </a:cubicBezTo>
                <a:cubicBezTo>
                  <a:pt x="25" y="82"/>
                  <a:pt x="24" y="81"/>
                  <a:pt x="22" y="80"/>
                </a:cubicBezTo>
                <a:cubicBezTo>
                  <a:pt x="24" y="81"/>
                  <a:pt x="25" y="82"/>
                  <a:pt x="26" y="84"/>
                </a:cubicBezTo>
                <a:cubicBezTo>
                  <a:pt x="26" y="85"/>
                  <a:pt x="26" y="86"/>
                  <a:pt x="26" y="88"/>
                </a:cubicBezTo>
                <a:cubicBezTo>
                  <a:pt x="26" y="86"/>
                  <a:pt x="26" y="85"/>
                  <a:pt x="26" y="84"/>
                </a:cubicBezTo>
                <a:cubicBezTo>
                  <a:pt x="27" y="85"/>
                  <a:pt x="27" y="86"/>
                  <a:pt x="28" y="87"/>
                </a:cubicBezTo>
                <a:cubicBezTo>
                  <a:pt x="27" y="88"/>
                  <a:pt x="27" y="89"/>
                  <a:pt x="26" y="90"/>
                </a:cubicBezTo>
                <a:cubicBezTo>
                  <a:pt x="26" y="89"/>
                  <a:pt x="26" y="88"/>
                  <a:pt x="26" y="88"/>
                </a:cubicBezTo>
                <a:cubicBezTo>
                  <a:pt x="26" y="88"/>
                  <a:pt x="26" y="89"/>
                  <a:pt x="26" y="90"/>
                </a:cubicBezTo>
                <a:cubicBezTo>
                  <a:pt x="24" y="95"/>
                  <a:pt x="23" y="100"/>
                  <a:pt x="21" y="105"/>
                </a:cubicBezTo>
                <a:cubicBezTo>
                  <a:pt x="21" y="105"/>
                  <a:pt x="21" y="105"/>
                  <a:pt x="21" y="105"/>
                </a:cubicBezTo>
                <a:cubicBezTo>
                  <a:pt x="21" y="104"/>
                  <a:pt x="22" y="104"/>
                  <a:pt x="22" y="103"/>
                </a:cubicBezTo>
                <a:cubicBezTo>
                  <a:pt x="22" y="104"/>
                  <a:pt x="21" y="104"/>
                  <a:pt x="21" y="105"/>
                </a:cubicBezTo>
                <a:cubicBezTo>
                  <a:pt x="19" y="95"/>
                  <a:pt x="16" y="87"/>
                  <a:pt x="14" y="81"/>
                </a:cubicBezTo>
                <a:cubicBezTo>
                  <a:pt x="15" y="85"/>
                  <a:pt x="16" y="90"/>
                  <a:pt x="17" y="95"/>
                </a:cubicBezTo>
                <a:cubicBezTo>
                  <a:pt x="17" y="100"/>
                  <a:pt x="16" y="104"/>
                  <a:pt x="15" y="109"/>
                </a:cubicBezTo>
                <a:cubicBezTo>
                  <a:pt x="17" y="104"/>
                  <a:pt x="17" y="100"/>
                  <a:pt x="17" y="95"/>
                </a:cubicBezTo>
                <a:cubicBezTo>
                  <a:pt x="18" y="100"/>
                  <a:pt x="19" y="105"/>
                  <a:pt x="20" y="110"/>
                </a:cubicBezTo>
                <a:cubicBezTo>
                  <a:pt x="20" y="110"/>
                  <a:pt x="20" y="111"/>
                  <a:pt x="20" y="111"/>
                </a:cubicBezTo>
                <a:cubicBezTo>
                  <a:pt x="19" y="116"/>
                  <a:pt x="17" y="122"/>
                  <a:pt x="15" y="127"/>
                </a:cubicBezTo>
                <a:cubicBezTo>
                  <a:pt x="14" y="125"/>
                  <a:pt x="14" y="123"/>
                  <a:pt x="13" y="120"/>
                </a:cubicBezTo>
                <a:cubicBezTo>
                  <a:pt x="14" y="117"/>
                  <a:pt x="15" y="113"/>
                  <a:pt x="15" y="109"/>
                </a:cubicBezTo>
                <a:cubicBezTo>
                  <a:pt x="15" y="112"/>
                  <a:pt x="14" y="116"/>
                  <a:pt x="13" y="119"/>
                </a:cubicBezTo>
                <a:cubicBezTo>
                  <a:pt x="11" y="111"/>
                  <a:pt x="10" y="103"/>
                  <a:pt x="10" y="95"/>
                </a:cubicBezTo>
                <a:cubicBezTo>
                  <a:pt x="9" y="96"/>
                  <a:pt x="9" y="96"/>
                  <a:pt x="9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7"/>
                  <a:pt x="9" y="96"/>
                  <a:pt x="9" y="95"/>
                </a:cubicBezTo>
                <a:cubicBezTo>
                  <a:pt x="9" y="84"/>
                  <a:pt x="7" y="69"/>
                  <a:pt x="1" y="60"/>
                </a:cubicBezTo>
                <a:cubicBezTo>
                  <a:pt x="6" y="70"/>
                  <a:pt x="7" y="82"/>
                  <a:pt x="7" y="93"/>
                </a:cubicBezTo>
                <a:cubicBezTo>
                  <a:pt x="7" y="101"/>
                  <a:pt x="5" y="109"/>
                  <a:pt x="3" y="116"/>
                </a:cubicBezTo>
                <a:cubicBezTo>
                  <a:pt x="1" y="115"/>
                  <a:pt x="1" y="117"/>
                  <a:pt x="2" y="120"/>
                </a:cubicBezTo>
                <a:cubicBezTo>
                  <a:pt x="2" y="121"/>
                  <a:pt x="2" y="121"/>
                  <a:pt x="1" y="122"/>
                </a:cubicBezTo>
                <a:cubicBezTo>
                  <a:pt x="1" y="121"/>
                  <a:pt x="1" y="120"/>
                  <a:pt x="0" y="119"/>
                </a:cubicBezTo>
                <a:cubicBezTo>
                  <a:pt x="0" y="166"/>
                  <a:pt x="0" y="166"/>
                  <a:pt x="0" y="166"/>
                </a:cubicBezTo>
                <a:cubicBezTo>
                  <a:pt x="90" y="166"/>
                  <a:pt x="179" y="166"/>
                  <a:pt x="269" y="166"/>
                </a:cubicBezTo>
                <a:cubicBezTo>
                  <a:pt x="269" y="166"/>
                  <a:pt x="269" y="166"/>
                  <a:pt x="269" y="166"/>
                </a:cubicBezTo>
                <a:cubicBezTo>
                  <a:pt x="306" y="166"/>
                  <a:pt x="342" y="166"/>
                  <a:pt x="379" y="166"/>
                </a:cubicBezTo>
                <a:cubicBezTo>
                  <a:pt x="416" y="166"/>
                  <a:pt x="453" y="166"/>
                  <a:pt x="490" y="166"/>
                </a:cubicBezTo>
                <a:cubicBezTo>
                  <a:pt x="490" y="166"/>
                  <a:pt x="490" y="166"/>
                  <a:pt x="490" y="166"/>
                </a:cubicBezTo>
                <a:cubicBezTo>
                  <a:pt x="746" y="166"/>
                  <a:pt x="1002" y="166"/>
                  <a:pt x="1258" y="166"/>
                </a:cubicBezTo>
                <a:cubicBezTo>
                  <a:pt x="1258" y="166"/>
                  <a:pt x="1258" y="166"/>
                  <a:pt x="1258" y="166"/>
                </a:cubicBezTo>
                <a:cubicBezTo>
                  <a:pt x="1430" y="166"/>
                  <a:pt x="1602" y="166"/>
                  <a:pt x="1773" y="166"/>
                </a:cubicBezTo>
                <a:cubicBezTo>
                  <a:pt x="1871" y="166"/>
                  <a:pt x="1969" y="166"/>
                  <a:pt x="2066" y="166"/>
                </a:cubicBezTo>
                <a:cubicBezTo>
                  <a:pt x="2066" y="166"/>
                  <a:pt x="2066" y="166"/>
                  <a:pt x="2066" y="166"/>
                </a:cubicBezTo>
                <a:cubicBezTo>
                  <a:pt x="2103" y="166"/>
                  <a:pt x="2140" y="166"/>
                  <a:pt x="2177" y="166"/>
                </a:cubicBezTo>
                <a:cubicBezTo>
                  <a:pt x="2214" y="166"/>
                  <a:pt x="2251" y="166"/>
                  <a:pt x="2288" y="166"/>
                </a:cubicBezTo>
                <a:cubicBezTo>
                  <a:pt x="2288" y="166"/>
                  <a:pt x="2288" y="166"/>
                  <a:pt x="2288" y="166"/>
                </a:cubicBezTo>
                <a:cubicBezTo>
                  <a:pt x="2544" y="166"/>
                  <a:pt x="2800" y="166"/>
                  <a:pt x="3056" y="166"/>
                </a:cubicBezTo>
                <a:cubicBezTo>
                  <a:pt x="3056" y="166"/>
                  <a:pt x="3056" y="166"/>
                  <a:pt x="3056" y="166"/>
                </a:cubicBezTo>
                <a:cubicBezTo>
                  <a:pt x="3228" y="166"/>
                  <a:pt x="3400" y="166"/>
                  <a:pt x="3571" y="166"/>
                </a:cubicBezTo>
                <a:cubicBezTo>
                  <a:pt x="3669" y="166"/>
                  <a:pt x="3767" y="166"/>
                  <a:pt x="3864" y="166"/>
                </a:cubicBezTo>
                <a:cubicBezTo>
                  <a:pt x="3864" y="166"/>
                  <a:pt x="3864" y="166"/>
                  <a:pt x="3864" y="166"/>
                </a:cubicBezTo>
                <a:cubicBezTo>
                  <a:pt x="3901" y="166"/>
                  <a:pt x="3938" y="166"/>
                  <a:pt x="3975" y="166"/>
                </a:cubicBezTo>
                <a:cubicBezTo>
                  <a:pt x="4012" y="166"/>
                  <a:pt x="4049" y="166"/>
                  <a:pt x="4086" y="166"/>
                </a:cubicBezTo>
                <a:cubicBezTo>
                  <a:pt x="4086" y="166"/>
                  <a:pt x="4086" y="166"/>
                  <a:pt x="4086" y="166"/>
                </a:cubicBezTo>
                <a:cubicBezTo>
                  <a:pt x="4312" y="166"/>
                  <a:pt x="4537" y="166"/>
                  <a:pt x="4763" y="166"/>
                </a:cubicBezTo>
                <a:cubicBezTo>
                  <a:pt x="4763" y="137"/>
                  <a:pt x="4763" y="137"/>
                  <a:pt x="4763" y="137"/>
                </a:cubicBezTo>
                <a:cubicBezTo>
                  <a:pt x="4760" y="119"/>
                  <a:pt x="4755" y="101"/>
                  <a:pt x="4748" y="85"/>
                </a:cubicBezTo>
                <a:close/>
                <a:moveTo>
                  <a:pt x="1" y="154"/>
                </a:moveTo>
                <a:cubicBezTo>
                  <a:pt x="1" y="154"/>
                  <a:pt x="1" y="154"/>
                  <a:pt x="1" y="154"/>
                </a:cubicBezTo>
                <a:cubicBezTo>
                  <a:pt x="1" y="152"/>
                  <a:pt x="2" y="151"/>
                  <a:pt x="2" y="150"/>
                </a:cubicBezTo>
                <a:cubicBezTo>
                  <a:pt x="2" y="150"/>
                  <a:pt x="2" y="151"/>
                  <a:pt x="2" y="151"/>
                </a:cubicBezTo>
                <a:cubicBezTo>
                  <a:pt x="2" y="152"/>
                  <a:pt x="1" y="153"/>
                  <a:pt x="1" y="154"/>
                </a:cubicBezTo>
                <a:close/>
                <a:moveTo>
                  <a:pt x="7" y="119"/>
                </a:moveTo>
                <a:cubicBezTo>
                  <a:pt x="7" y="120"/>
                  <a:pt x="7" y="120"/>
                  <a:pt x="7" y="120"/>
                </a:cubicBezTo>
                <a:cubicBezTo>
                  <a:pt x="7" y="120"/>
                  <a:pt x="7" y="120"/>
                  <a:pt x="7" y="120"/>
                </a:cubicBezTo>
                <a:cubicBezTo>
                  <a:pt x="7" y="120"/>
                  <a:pt x="7" y="120"/>
                  <a:pt x="7" y="119"/>
                </a:cubicBezTo>
                <a:close/>
                <a:moveTo>
                  <a:pt x="6" y="138"/>
                </a:moveTo>
                <a:cubicBezTo>
                  <a:pt x="6" y="137"/>
                  <a:pt x="5" y="135"/>
                  <a:pt x="5" y="134"/>
                </a:cubicBezTo>
                <a:cubicBezTo>
                  <a:pt x="5" y="134"/>
                  <a:pt x="5" y="134"/>
                  <a:pt x="5" y="133"/>
                </a:cubicBezTo>
                <a:cubicBezTo>
                  <a:pt x="5" y="134"/>
                  <a:pt x="6" y="135"/>
                  <a:pt x="6" y="137"/>
                </a:cubicBezTo>
                <a:cubicBezTo>
                  <a:pt x="6" y="137"/>
                  <a:pt x="6" y="138"/>
                  <a:pt x="6" y="138"/>
                </a:cubicBezTo>
                <a:close/>
                <a:moveTo>
                  <a:pt x="5" y="133"/>
                </a:moveTo>
                <a:cubicBezTo>
                  <a:pt x="5" y="132"/>
                  <a:pt x="5" y="131"/>
                  <a:pt x="6" y="130"/>
                </a:cubicBezTo>
                <a:cubicBezTo>
                  <a:pt x="6" y="131"/>
                  <a:pt x="7" y="133"/>
                  <a:pt x="7" y="134"/>
                </a:cubicBezTo>
                <a:cubicBezTo>
                  <a:pt x="7" y="135"/>
                  <a:pt x="7" y="135"/>
                  <a:pt x="7" y="136"/>
                </a:cubicBezTo>
                <a:cubicBezTo>
                  <a:pt x="6" y="134"/>
                  <a:pt x="5" y="133"/>
                  <a:pt x="5" y="133"/>
                </a:cubicBezTo>
                <a:close/>
                <a:moveTo>
                  <a:pt x="8" y="145"/>
                </a:moveTo>
                <a:cubicBezTo>
                  <a:pt x="8" y="144"/>
                  <a:pt x="7" y="143"/>
                  <a:pt x="7" y="143"/>
                </a:cubicBezTo>
                <a:cubicBezTo>
                  <a:pt x="8" y="142"/>
                  <a:pt x="8" y="141"/>
                  <a:pt x="8" y="140"/>
                </a:cubicBezTo>
                <a:cubicBezTo>
                  <a:pt x="8" y="140"/>
                  <a:pt x="8" y="140"/>
                  <a:pt x="8" y="140"/>
                </a:cubicBezTo>
                <a:cubicBezTo>
                  <a:pt x="8" y="141"/>
                  <a:pt x="8" y="142"/>
                  <a:pt x="8" y="143"/>
                </a:cubicBezTo>
                <a:cubicBezTo>
                  <a:pt x="8" y="143"/>
                  <a:pt x="8" y="144"/>
                  <a:pt x="8" y="145"/>
                </a:cubicBezTo>
                <a:close/>
                <a:moveTo>
                  <a:pt x="18" y="134"/>
                </a:moveTo>
                <a:cubicBezTo>
                  <a:pt x="18" y="134"/>
                  <a:pt x="18" y="133"/>
                  <a:pt x="18" y="133"/>
                </a:cubicBezTo>
                <a:cubicBezTo>
                  <a:pt x="18" y="132"/>
                  <a:pt x="18" y="130"/>
                  <a:pt x="18" y="129"/>
                </a:cubicBezTo>
                <a:cubicBezTo>
                  <a:pt x="18" y="130"/>
                  <a:pt x="18" y="132"/>
                  <a:pt x="18" y="134"/>
                </a:cubicBezTo>
                <a:close/>
                <a:moveTo>
                  <a:pt x="28" y="120"/>
                </a:moveTo>
                <a:cubicBezTo>
                  <a:pt x="28" y="117"/>
                  <a:pt x="28" y="115"/>
                  <a:pt x="28" y="112"/>
                </a:cubicBezTo>
                <a:cubicBezTo>
                  <a:pt x="28" y="111"/>
                  <a:pt x="28" y="111"/>
                  <a:pt x="28" y="110"/>
                </a:cubicBezTo>
                <a:cubicBezTo>
                  <a:pt x="28" y="114"/>
                  <a:pt x="29" y="116"/>
                  <a:pt x="29" y="119"/>
                </a:cubicBezTo>
                <a:cubicBezTo>
                  <a:pt x="29" y="119"/>
                  <a:pt x="29" y="120"/>
                  <a:pt x="28" y="120"/>
                </a:cubicBezTo>
                <a:close/>
                <a:moveTo>
                  <a:pt x="30" y="115"/>
                </a:moveTo>
                <a:cubicBezTo>
                  <a:pt x="29" y="112"/>
                  <a:pt x="29" y="108"/>
                  <a:pt x="28" y="104"/>
                </a:cubicBezTo>
                <a:cubicBezTo>
                  <a:pt x="29" y="101"/>
                  <a:pt x="29" y="97"/>
                  <a:pt x="30" y="93"/>
                </a:cubicBezTo>
                <a:cubicBezTo>
                  <a:pt x="31" y="98"/>
                  <a:pt x="32" y="102"/>
                  <a:pt x="32" y="104"/>
                </a:cubicBezTo>
                <a:cubicBezTo>
                  <a:pt x="32" y="108"/>
                  <a:pt x="31" y="111"/>
                  <a:pt x="30" y="115"/>
                </a:cubicBezTo>
                <a:close/>
                <a:moveTo>
                  <a:pt x="35" y="102"/>
                </a:moveTo>
                <a:cubicBezTo>
                  <a:pt x="35" y="102"/>
                  <a:pt x="35" y="102"/>
                  <a:pt x="35" y="103"/>
                </a:cubicBezTo>
                <a:cubicBezTo>
                  <a:pt x="34" y="99"/>
                  <a:pt x="33" y="94"/>
                  <a:pt x="31" y="90"/>
                </a:cubicBezTo>
                <a:cubicBezTo>
                  <a:pt x="32" y="84"/>
                  <a:pt x="34" y="78"/>
                  <a:pt x="36" y="73"/>
                </a:cubicBezTo>
                <a:cubicBezTo>
                  <a:pt x="36" y="83"/>
                  <a:pt x="35" y="93"/>
                  <a:pt x="35" y="102"/>
                </a:cubicBezTo>
                <a:close/>
                <a:moveTo>
                  <a:pt x="41" y="111"/>
                </a:moveTo>
                <a:cubicBezTo>
                  <a:pt x="41" y="111"/>
                  <a:pt x="41" y="111"/>
                  <a:pt x="41" y="111"/>
                </a:cubicBezTo>
                <a:cubicBezTo>
                  <a:pt x="41" y="114"/>
                  <a:pt x="40" y="116"/>
                  <a:pt x="40" y="119"/>
                </a:cubicBezTo>
                <a:cubicBezTo>
                  <a:pt x="39" y="114"/>
                  <a:pt x="39" y="108"/>
                  <a:pt x="39" y="103"/>
                </a:cubicBezTo>
                <a:cubicBezTo>
                  <a:pt x="39" y="97"/>
                  <a:pt x="39" y="91"/>
                  <a:pt x="41" y="85"/>
                </a:cubicBezTo>
                <a:cubicBezTo>
                  <a:pt x="40" y="87"/>
                  <a:pt x="39" y="89"/>
                  <a:pt x="38" y="92"/>
                </a:cubicBezTo>
                <a:cubicBezTo>
                  <a:pt x="38" y="87"/>
                  <a:pt x="39" y="82"/>
                  <a:pt x="39" y="77"/>
                </a:cubicBezTo>
                <a:cubicBezTo>
                  <a:pt x="41" y="83"/>
                  <a:pt x="43" y="90"/>
                  <a:pt x="43" y="96"/>
                </a:cubicBezTo>
                <a:cubicBezTo>
                  <a:pt x="43" y="101"/>
                  <a:pt x="42" y="106"/>
                  <a:pt x="41" y="111"/>
                </a:cubicBezTo>
                <a:close/>
                <a:moveTo>
                  <a:pt x="48" y="127"/>
                </a:moveTo>
                <a:cubicBezTo>
                  <a:pt x="47" y="132"/>
                  <a:pt x="46" y="134"/>
                  <a:pt x="46" y="134"/>
                </a:cubicBezTo>
                <a:cubicBezTo>
                  <a:pt x="47" y="129"/>
                  <a:pt x="47" y="125"/>
                  <a:pt x="48" y="120"/>
                </a:cubicBezTo>
                <a:cubicBezTo>
                  <a:pt x="48" y="123"/>
                  <a:pt x="48" y="125"/>
                  <a:pt x="48" y="127"/>
                </a:cubicBezTo>
                <a:close/>
                <a:moveTo>
                  <a:pt x="79" y="92"/>
                </a:moveTo>
                <a:cubicBezTo>
                  <a:pt x="79" y="91"/>
                  <a:pt x="79" y="90"/>
                  <a:pt x="79" y="89"/>
                </a:cubicBezTo>
                <a:cubicBezTo>
                  <a:pt x="79" y="89"/>
                  <a:pt x="79" y="90"/>
                  <a:pt x="80" y="91"/>
                </a:cubicBezTo>
                <a:cubicBezTo>
                  <a:pt x="79" y="91"/>
                  <a:pt x="79" y="92"/>
                  <a:pt x="79" y="92"/>
                </a:cubicBezTo>
                <a:close/>
                <a:moveTo>
                  <a:pt x="82" y="130"/>
                </a:moveTo>
                <a:cubicBezTo>
                  <a:pt x="81" y="132"/>
                  <a:pt x="81" y="134"/>
                  <a:pt x="81" y="136"/>
                </a:cubicBezTo>
                <a:cubicBezTo>
                  <a:pt x="80" y="127"/>
                  <a:pt x="80" y="119"/>
                  <a:pt x="80" y="110"/>
                </a:cubicBezTo>
                <a:cubicBezTo>
                  <a:pt x="80" y="105"/>
                  <a:pt x="80" y="99"/>
                  <a:pt x="80" y="93"/>
                </a:cubicBezTo>
                <a:cubicBezTo>
                  <a:pt x="82" y="99"/>
                  <a:pt x="82" y="104"/>
                  <a:pt x="83" y="109"/>
                </a:cubicBezTo>
                <a:cubicBezTo>
                  <a:pt x="82" y="116"/>
                  <a:pt x="82" y="123"/>
                  <a:pt x="82" y="130"/>
                </a:cubicBezTo>
                <a:close/>
                <a:moveTo>
                  <a:pt x="91" y="140"/>
                </a:moveTo>
                <a:cubicBezTo>
                  <a:pt x="91" y="140"/>
                  <a:pt x="91" y="139"/>
                  <a:pt x="91" y="139"/>
                </a:cubicBezTo>
                <a:cubicBezTo>
                  <a:pt x="92" y="100"/>
                  <a:pt x="92" y="100"/>
                  <a:pt x="92" y="100"/>
                </a:cubicBezTo>
                <a:cubicBezTo>
                  <a:pt x="92" y="106"/>
                  <a:pt x="93" y="113"/>
                  <a:pt x="93" y="119"/>
                </a:cubicBezTo>
                <a:cubicBezTo>
                  <a:pt x="93" y="122"/>
                  <a:pt x="93" y="126"/>
                  <a:pt x="93" y="129"/>
                </a:cubicBezTo>
                <a:cubicBezTo>
                  <a:pt x="92" y="133"/>
                  <a:pt x="92" y="136"/>
                  <a:pt x="91" y="140"/>
                </a:cubicBezTo>
                <a:close/>
                <a:moveTo>
                  <a:pt x="112" y="105"/>
                </a:moveTo>
                <a:cubicBezTo>
                  <a:pt x="112" y="104"/>
                  <a:pt x="112" y="102"/>
                  <a:pt x="112" y="101"/>
                </a:cubicBezTo>
                <a:cubicBezTo>
                  <a:pt x="113" y="102"/>
                  <a:pt x="113" y="103"/>
                  <a:pt x="113" y="103"/>
                </a:cubicBezTo>
                <a:cubicBezTo>
                  <a:pt x="113" y="104"/>
                  <a:pt x="112" y="105"/>
                  <a:pt x="112" y="105"/>
                </a:cubicBezTo>
                <a:close/>
                <a:moveTo>
                  <a:pt x="135" y="101"/>
                </a:moveTo>
                <a:cubicBezTo>
                  <a:pt x="135" y="101"/>
                  <a:pt x="135" y="101"/>
                  <a:pt x="134" y="100"/>
                </a:cubicBezTo>
                <a:cubicBezTo>
                  <a:pt x="135" y="101"/>
                  <a:pt x="135" y="101"/>
                  <a:pt x="135" y="101"/>
                </a:cubicBezTo>
                <a:cubicBezTo>
                  <a:pt x="134" y="111"/>
                  <a:pt x="133" y="119"/>
                  <a:pt x="132" y="126"/>
                </a:cubicBezTo>
                <a:cubicBezTo>
                  <a:pt x="131" y="122"/>
                  <a:pt x="131" y="118"/>
                  <a:pt x="130" y="114"/>
                </a:cubicBezTo>
                <a:cubicBezTo>
                  <a:pt x="130" y="109"/>
                  <a:pt x="130" y="103"/>
                  <a:pt x="130" y="98"/>
                </a:cubicBezTo>
                <a:cubicBezTo>
                  <a:pt x="131" y="92"/>
                  <a:pt x="133" y="87"/>
                  <a:pt x="136" y="82"/>
                </a:cubicBezTo>
                <a:cubicBezTo>
                  <a:pt x="136" y="89"/>
                  <a:pt x="135" y="95"/>
                  <a:pt x="135" y="101"/>
                </a:cubicBezTo>
                <a:close/>
                <a:moveTo>
                  <a:pt x="145" y="117"/>
                </a:moveTo>
                <a:cubicBezTo>
                  <a:pt x="144" y="114"/>
                  <a:pt x="144" y="110"/>
                  <a:pt x="144" y="106"/>
                </a:cubicBezTo>
                <a:cubicBezTo>
                  <a:pt x="144" y="99"/>
                  <a:pt x="144" y="90"/>
                  <a:pt x="148" y="83"/>
                </a:cubicBezTo>
                <a:cubicBezTo>
                  <a:pt x="146" y="95"/>
                  <a:pt x="145" y="107"/>
                  <a:pt x="145" y="117"/>
                </a:cubicBezTo>
                <a:close/>
                <a:moveTo>
                  <a:pt x="150" y="108"/>
                </a:moveTo>
                <a:cubicBezTo>
                  <a:pt x="150" y="106"/>
                  <a:pt x="151" y="104"/>
                  <a:pt x="151" y="102"/>
                </a:cubicBezTo>
                <a:cubicBezTo>
                  <a:pt x="151" y="102"/>
                  <a:pt x="151" y="102"/>
                  <a:pt x="151" y="103"/>
                </a:cubicBezTo>
                <a:cubicBezTo>
                  <a:pt x="151" y="104"/>
                  <a:pt x="151" y="106"/>
                  <a:pt x="150" y="108"/>
                </a:cubicBezTo>
                <a:close/>
                <a:moveTo>
                  <a:pt x="156" y="111"/>
                </a:moveTo>
                <a:cubicBezTo>
                  <a:pt x="156" y="103"/>
                  <a:pt x="159" y="95"/>
                  <a:pt x="161" y="87"/>
                </a:cubicBezTo>
                <a:cubicBezTo>
                  <a:pt x="160" y="95"/>
                  <a:pt x="158" y="104"/>
                  <a:pt x="157" y="113"/>
                </a:cubicBezTo>
                <a:cubicBezTo>
                  <a:pt x="156" y="112"/>
                  <a:pt x="156" y="112"/>
                  <a:pt x="156" y="111"/>
                </a:cubicBezTo>
                <a:close/>
                <a:moveTo>
                  <a:pt x="180" y="110"/>
                </a:moveTo>
                <a:cubicBezTo>
                  <a:pt x="180" y="109"/>
                  <a:pt x="180" y="108"/>
                  <a:pt x="180" y="107"/>
                </a:cubicBezTo>
                <a:cubicBezTo>
                  <a:pt x="180" y="107"/>
                  <a:pt x="180" y="108"/>
                  <a:pt x="180" y="108"/>
                </a:cubicBezTo>
                <a:cubicBezTo>
                  <a:pt x="180" y="109"/>
                  <a:pt x="180" y="109"/>
                  <a:pt x="180" y="110"/>
                </a:cubicBezTo>
                <a:close/>
                <a:moveTo>
                  <a:pt x="191" y="125"/>
                </a:moveTo>
                <a:cubicBezTo>
                  <a:pt x="191" y="123"/>
                  <a:pt x="191" y="122"/>
                  <a:pt x="191" y="120"/>
                </a:cubicBezTo>
                <a:cubicBezTo>
                  <a:pt x="191" y="121"/>
                  <a:pt x="191" y="122"/>
                  <a:pt x="191" y="123"/>
                </a:cubicBezTo>
                <a:cubicBezTo>
                  <a:pt x="191" y="123"/>
                  <a:pt x="191" y="124"/>
                  <a:pt x="191" y="125"/>
                </a:cubicBezTo>
                <a:close/>
                <a:moveTo>
                  <a:pt x="194" y="115"/>
                </a:moveTo>
                <a:cubicBezTo>
                  <a:pt x="194" y="117"/>
                  <a:pt x="193" y="118"/>
                  <a:pt x="193" y="119"/>
                </a:cubicBezTo>
                <a:cubicBezTo>
                  <a:pt x="192" y="118"/>
                  <a:pt x="191" y="116"/>
                  <a:pt x="191" y="114"/>
                </a:cubicBezTo>
                <a:cubicBezTo>
                  <a:pt x="191" y="110"/>
                  <a:pt x="191" y="105"/>
                  <a:pt x="191" y="100"/>
                </a:cubicBezTo>
                <a:cubicBezTo>
                  <a:pt x="193" y="94"/>
                  <a:pt x="195" y="89"/>
                  <a:pt x="198" y="84"/>
                </a:cubicBezTo>
                <a:cubicBezTo>
                  <a:pt x="197" y="93"/>
                  <a:pt x="195" y="105"/>
                  <a:pt x="194" y="115"/>
                </a:cubicBezTo>
                <a:close/>
                <a:moveTo>
                  <a:pt x="202" y="90"/>
                </a:moveTo>
                <a:cubicBezTo>
                  <a:pt x="201" y="88"/>
                  <a:pt x="200" y="84"/>
                  <a:pt x="200" y="80"/>
                </a:cubicBezTo>
                <a:cubicBezTo>
                  <a:pt x="200" y="80"/>
                  <a:pt x="200" y="80"/>
                  <a:pt x="200" y="80"/>
                </a:cubicBezTo>
                <a:cubicBezTo>
                  <a:pt x="201" y="81"/>
                  <a:pt x="202" y="83"/>
                  <a:pt x="203" y="84"/>
                </a:cubicBezTo>
                <a:cubicBezTo>
                  <a:pt x="202" y="88"/>
                  <a:pt x="202" y="90"/>
                  <a:pt x="202" y="90"/>
                </a:cubicBezTo>
                <a:close/>
                <a:moveTo>
                  <a:pt x="203" y="83"/>
                </a:moveTo>
                <a:cubicBezTo>
                  <a:pt x="202" y="81"/>
                  <a:pt x="201" y="80"/>
                  <a:pt x="201" y="79"/>
                </a:cubicBezTo>
                <a:cubicBezTo>
                  <a:pt x="202" y="78"/>
                  <a:pt x="203" y="76"/>
                  <a:pt x="204" y="75"/>
                </a:cubicBezTo>
                <a:cubicBezTo>
                  <a:pt x="203" y="78"/>
                  <a:pt x="203" y="81"/>
                  <a:pt x="203" y="83"/>
                </a:cubicBezTo>
                <a:close/>
                <a:moveTo>
                  <a:pt x="209" y="104"/>
                </a:moveTo>
                <a:cubicBezTo>
                  <a:pt x="210" y="105"/>
                  <a:pt x="210" y="107"/>
                  <a:pt x="210" y="109"/>
                </a:cubicBezTo>
                <a:cubicBezTo>
                  <a:pt x="210" y="111"/>
                  <a:pt x="209" y="112"/>
                  <a:pt x="209" y="114"/>
                </a:cubicBezTo>
                <a:cubicBezTo>
                  <a:pt x="209" y="110"/>
                  <a:pt x="209" y="107"/>
                  <a:pt x="209" y="104"/>
                </a:cubicBezTo>
                <a:close/>
                <a:moveTo>
                  <a:pt x="205" y="91"/>
                </a:moveTo>
                <a:cubicBezTo>
                  <a:pt x="206" y="91"/>
                  <a:pt x="206" y="91"/>
                  <a:pt x="206" y="91"/>
                </a:cubicBezTo>
                <a:cubicBezTo>
                  <a:pt x="206" y="91"/>
                  <a:pt x="206" y="91"/>
                  <a:pt x="205" y="91"/>
                </a:cubicBezTo>
                <a:close/>
                <a:moveTo>
                  <a:pt x="206" y="124"/>
                </a:moveTo>
                <a:cubicBezTo>
                  <a:pt x="206" y="114"/>
                  <a:pt x="206" y="102"/>
                  <a:pt x="205" y="91"/>
                </a:cubicBezTo>
                <a:cubicBezTo>
                  <a:pt x="206" y="91"/>
                  <a:pt x="206" y="91"/>
                  <a:pt x="206" y="91"/>
                </a:cubicBezTo>
                <a:cubicBezTo>
                  <a:pt x="207" y="94"/>
                  <a:pt x="208" y="98"/>
                  <a:pt x="209" y="101"/>
                </a:cubicBezTo>
                <a:cubicBezTo>
                  <a:pt x="207" y="120"/>
                  <a:pt x="207" y="120"/>
                  <a:pt x="207" y="120"/>
                </a:cubicBezTo>
                <a:cubicBezTo>
                  <a:pt x="206" y="121"/>
                  <a:pt x="206" y="122"/>
                  <a:pt x="206" y="124"/>
                </a:cubicBezTo>
                <a:close/>
                <a:moveTo>
                  <a:pt x="208" y="136"/>
                </a:moveTo>
                <a:cubicBezTo>
                  <a:pt x="208" y="134"/>
                  <a:pt x="208" y="133"/>
                  <a:pt x="208" y="131"/>
                </a:cubicBezTo>
                <a:cubicBezTo>
                  <a:pt x="209" y="126"/>
                  <a:pt x="211" y="121"/>
                  <a:pt x="212" y="116"/>
                </a:cubicBezTo>
                <a:cubicBezTo>
                  <a:pt x="212" y="118"/>
                  <a:pt x="212" y="121"/>
                  <a:pt x="213" y="123"/>
                </a:cubicBezTo>
                <a:cubicBezTo>
                  <a:pt x="213" y="124"/>
                  <a:pt x="212" y="124"/>
                  <a:pt x="212" y="124"/>
                </a:cubicBezTo>
                <a:cubicBezTo>
                  <a:pt x="211" y="128"/>
                  <a:pt x="210" y="132"/>
                  <a:pt x="208" y="136"/>
                </a:cubicBezTo>
                <a:close/>
                <a:moveTo>
                  <a:pt x="212" y="141"/>
                </a:moveTo>
                <a:cubicBezTo>
                  <a:pt x="212" y="141"/>
                  <a:pt x="213" y="141"/>
                  <a:pt x="213" y="140"/>
                </a:cubicBezTo>
                <a:cubicBezTo>
                  <a:pt x="213" y="139"/>
                  <a:pt x="213" y="137"/>
                  <a:pt x="214" y="135"/>
                </a:cubicBezTo>
                <a:cubicBezTo>
                  <a:pt x="214" y="135"/>
                  <a:pt x="214" y="135"/>
                  <a:pt x="214" y="135"/>
                </a:cubicBezTo>
                <a:cubicBezTo>
                  <a:pt x="214" y="137"/>
                  <a:pt x="213" y="139"/>
                  <a:pt x="212" y="141"/>
                </a:cubicBezTo>
                <a:close/>
                <a:moveTo>
                  <a:pt x="219" y="119"/>
                </a:moveTo>
                <a:cubicBezTo>
                  <a:pt x="219" y="119"/>
                  <a:pt x="218" y="118"/>
                  <a:pt x="218" y="118"/>
                </a:cubicBezTo>
                <a:cubicBezTo>
                  <a:pt x="218" y="116"/>
                  <a:pt x="219" y="115"/>
                  <a:pt x="219" y="113"/>
                </a:cubicBezTo>
                <a:cubicBezTo>
                  <a:pt x="219" y="112"/>
                  <a:pt x="219" y="112"/>
                  <a:pt x="219" y="111"/>
                </a:cubicBezTo>
                <a:cubicBezTo>
                  <a:pt x="220" y="112"/>
                  <a:pt x="220" y="113"/>
                  <a:pt x="220" y="115"/>
                </a:cubicBezTo>
                <a:cubicBezTo>
                  <a:pt x="220" y="116"/>
                  <a:pt x="219" y="118"/>
                  <a:pt x="219" y="119"/>
                </a:cubicBezTo>
                <a:close/>
                <a:moveTo>
                  <a:pt x="226" y="136"/>
                </a:moveTo>
                <a:cubicBezTo>
                  <a:pt x="225" y="135"/>
                  <a:pt x="225" y="134"/>
                  <a:pt x="224" y="133"/>
                </a:cubicBezTo>
                <a:cubicBezTo>
                  <a:pt x="224" y="132"/>
                  <a:pt x="224" y="132"/>
                  <a:pt x="224" y="131"/>
                </a:cubicBezTo>
                <a:cubicBezTo>
                  <a:pt x="225" y="133"/>
                  <a:pt x="225" y="134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lose/>
                <a:moveTo>
                  <a:pt x="240" y="118"/>
                </a:moveTo>
                <a:cubicBezTo>
                  <a:pt x="240" y="118"/>
                  <a:pt x="240" y="117"/>
                  <a:pt x="240" y="117"/>
                </a:cubicBezTo>
                <a:cubicBezTo>
                  <a:pt x="240" y="117"/>
                  <a:pt x="240" y="117"/>
                  <a:pt x="240" y="117"/>
                </a:cubicBezTo>
                <a:cubicBezTo>
                  <a:pt x="240" y="118"/>
                  <a:pt x="240" y="118"/>
                  <a:pt x="240" y="118"/>
                </a:cubicBezTo>
                <a:close/>
                <a:moveTo>
                  <a:pt x="246" y="105"/>
                </a:moveTo>
                <a:cubicBezTo>
                  <a:pt x="245" y="106"/>
                  <a:pt x="244" y="107"/>
                  <a:pt x="244" y="109"/>
                </a:cubicBezTo>
                <a:cubicBezTo>
                  <a:pt x="244" y="107"/>
                  <a:pt x="243" y="106"/>
                  <a:pt x="243" y="104"/>
                </a:cubicBezTo>
                <a:cubicBezTo>
                  <a:pt x="244" y="101"/>
                  <a:pt x="246" y="98"/>
                  <a:pt x="247" y="94"/>
                </a:cubicBezTo>
                <a:cubicBezTo>
                  <a:pt x="247" y="98"/>
                  <a:pt x="246" y="101"/>
                  <a:pt x="246" y="105"/>
                </a:cubicBezTo>
                <a:close/>
                <a:moveTo>
                  <a:pt x="252" y="138"/>
                </a:moveTo>
                <a:cubicBezTo>
                  <a:pt x="251" y="137"/>
                  <a:pt x="251" y="136"/>
                  <a:pt x="251" y="135"/>
                </a:cubicBezTo>
                <a:cubicBezTo>
                  <a:pt x="251" y="133"/>
                  <a:pt x="251" y="131"/>
                  <a:pt x="251" y="129"/>
                </a:cubicBezTo>
                <a:cubicBezTo>
                  <a:pt x="251" y="131"/>
                  <a:pt x="251" y="133"/>
                  <a:pt x="252" y="134"/>
                </a:cubicBezTo>
                <a:cubicBezTo>
                  <a:pt x="252" y="135"/>
                  <a:pt x="252" y="137"/>
                  <a:pt x="252" y="138"/>
                </a:cubicBezTo>
                <a:close/>
                <a:moveTo>
                  <a:pt x="253" y="123"/>
                </a:moveTo>
                <a:cubicBezTo>
                  <a:pt x="252" y="121"/>
                  <a:pt x="251" y="118"/>
                  <a:pt x="251" y="116"/>
                </a:cubicBezTo>
                <a:cubicBezTo>
                  <a:pt x="252" y="112"/>
                  <a:pt x="253" y="107"/>
                  <a:pt x="254" y="103"/>
                </a:cubicBezTo>
                <a:cubicBezTo>
                  <a:pt x="254" y="110"/>
                  <a:pt x="253" y="117"/>
                  <a:pt x="253" y="123"/>
                </a:cubicBezTo>
                <a:close/>
                <a:moveTo>
                  <a:pt x="258" y="69"/>
                </a:moveTo>
                <a:cubicBezTo>
                  <a:pt x="260" y="72"/>
                  <a:pt x="262" y="75"/>
                  <a:pt x="264" y="79"/>
                </a:cubicBezTo>
                <a:cubicBezTo>
                  <a:pt x="263" y="79"/>
                  <a:pt x="263" y="79"/>
                  <a:pt x="263" y="79"/>
                </a:cubicBezTo>
                <a:cubicBezTo>
                  <a:pt x="262" y="76"/>
                  <a:pt x="260" y="72"/>
                  <a:pt x="258" y="69"/>
                </a:cubicBezTo>
                <a:cubicBezTo>
                  <a:pt x="258" y="69"/>
                  <a:pt x="258" y="69"/>
                  <a:pt x="258" y="69"/>
                </a:cubicBezTo>
                <a:close/>
                <a:moveTo>
                  <a:pt x="258" y="74"/>
                </a:moveTo>
                <a:cubicBezTo>
                  <a:pt x="259" y="76"/>
                  <a:pt x="260" y="79"/>
                  <a:pt x="261" y="81"/>
                </a:cubicBezTo>
                <a:cubicBezTo>
                  <a:pt x="260" y="82"/>
                  <a:pt x="259" y="83"/>
                  <a:pt x="259" y="85"/>
                </a:cubicBezTo>
                <a:cubicBezTo>
                  <a:pt x="258" y="81"/>
                  <a:pt x="258" y="77"/>
                  <a:pt x="258" y="74"/>
                </a:cubicBezTo>
                <a:close/>
                <a:moveTo>
                  <a:pt x="259" y="120"/>
                </a:moveTo>
                <a:cubicBezTo>
                  <a:pt x="259" y="115"/>
                  <a:pt x="259" y="111"/>
                  <a:pt x="259" y="106"/>
                </a:cubicBezTo>
                <a:cubicBezTo>
                  <a:pt x="260" y="109"/>
                  <a:pt x="260" y="112"/>
                  <a:pt x="261" y="114"/>
                </a:cubicBezTo>
                <a:cubicBezTo>
                  <a:pt x="260" y="116"/>
                  <a:pt x="260" y="118"/>
                  <a:pt x="259" y="120"/>
                </a:cubicBezTo>
                <a:close/>
                <a:moveTo>
                  <a:pt x="262" y="109"/>
                </a:moveTo>
                <a:cubicBezTo>
                  <a:pt x="261" y="107"/>
                  <a:pt x="260" y="104"/>
                  <a:pt x="259" y="102"/>
                </a:cubicBezTo>
                <a:cubicBezTo>
                  <a:pt x="259" y="99"/>
                  <a:pt x="259" y="97"/>
                  <a:pt x="259" y="94"/>
                </a:cubicBezTo>
                <a:cubicBezTo>
                  <a:pt x="260" y="98"/>
                  <a:pt x="262" y="102"/>
                  <a:pt x="263" y="107"/>
                </a:cubicBezTo>
                <a:cubicBezTo>
                  <a:pt x="263" y="108"/>
                  <a:pt x="262" y="108"/>
                  <a:pt x="262" y="109"/>
                </a:cubicBezTo>
                <a:close/>
                <a:moveTo>
                  <a:pt x="266" y="96"/>
                </a:moveTo>
                <a:cubicBezTo>
                  <a:pt x="265" y="98"/>
                  <a:pt x="264" y="101"/>
                  <a:pt x="264" y="104"/>
                </a:cubicBezTo>
                <a:cubicBezTo>
                  <a:pt x="262" y="100"/>
                  <a:pt x="261" y="96"/>
                  <a:pt x="259" y="92"/>
                </a:cubicBezTo>
                <a:cubicBezTo>
                  <a:pt x="259" y="92"/>
                  <a:pt x="259" y="92"/>
                  <a:pt x="259" y="92"/>
                </a:cubicBezTo>
                <a:cubicBezTo>
                  <a:pt x="260" y="89"/>
                  <a:pt x="261" y="86"/>
                  <a:pt x="263" y="84"/>
                </a:cubicBezTo>
                <a:cubicBezTo>
                  <a:pt x="264" y="87"/>
                  <a:pt x="265" y="90"/>
                  <a:pt x="266" y="93"/>
                </a:cubicBezTo>
                <a:cubicBezTo>
                  <a:pt x="266" y="94"/>
                  <a:pt x="266" y="95"/>
                  <a:pt x="266" y="96"/>
                </a:cubicBezTo>
                <a:close/>
                <a:moveTo>
                  <a:pt x="267" y="90"/>
                </a:moveTo>
                <a:cubicBezTo>
                  <a:pt x="266" y="87"/>
                  <a:pt x="265" y="84"/>
                  <a:pt x="264" y="82"/>
                </a:cubicBezTo>
                <a:cubicBezTo>
                  <a:pt x="264" y="81"/>
                  <a:pt x="264" y="81"/>
                  <a:pt x="265" y="81"/>
                </a:cubicBezTo>
                <a:cubicBezTo>
                  <a:pt x="266" y="83"/>
                  <a:pt x="267" y="86"/>
                  <a:pt x="267" y="89"/>
                </a:cubicBezTo>
                <a:cubicBezTo>
                  <a:pt x="267" y="89"/>
                  <a:pt x="267" y="89"/>
                  <a:pt x="267" y="90"/>
                </a:cubicBezTo>
                <a:close/>
                <a:moveTo>
                  <a:pt x="265" y="79"/>
                </a:moveTo>
                <a:cubicBezTo>
                  <a:pt x="266" y="78"/>
                  <a:pt x="267" y="77"/>
                  <a:pt x="268" y="76"/>
                </a:cubicBezTo>
                <a:cubicBezTo>
                  <a:pt x="268" y="78"/>
                  <a:pt x="269" y="79"/>
                  <a:pt x="269" y="80"/>
                </a:cubicBezTo>
                <a:cubicBezTo>
                  <a:pt x="269" y="82"/>
                  <a:pt x="268" y="84"/>
                  <a:pt x="268" y="85"/>
                </a:cubicBezTo>
                <a:cubicBezTo>
                  <a:pt x="267" y="83"/>
                  <a:pt x="266" y="81"/>
                  <a:pt x="265" y="79"/>
                </a:cubicBezTo>
                <a:close/>
                <a:moveTo>
                  <a:pt x="268" y="116"/>
                </a:moveTo>
                <a:cubicBezTo>
                  <a:pt x="269" y="111"/>
                  <a:pt x="269" y="106"/>
                  <a:pt x="269" y="102"/>
                </a:cubicBezTo>
                <a:cubicBezTo>
                  <a:pt x="270" y="105"/>
                  <a:pt x="271" y="108"/>
                  <a:pt x="272" y="111"/>
                </a:cubicBezTo>
                <a:cubicBezTo>
                  <a:pt x="271" y="113"/>
                  <a:pt x="270" y="116"/>
                  <a:pt x="269" y="118"/>
                </a:cubicBezTo>
                <a:cubicBezTo>
                  <a:pt x="269" y="117"/>
                  <a:pt x="268" y="117"/>
                  <a:pt x="268" y="116"/>
                </a:cubicBezTo>
                <a:close/>
                <a:moveTo>
                  <a:pt x="273" y="130"/>
                </a:moveTo>
                <a:cubicBezTo>
                  <a:pt x="272" y="128"/>
                  <a:pt x="272" y="127"/>
                  <a:pt x="271" y="125"/>
                </a:cubicBezTo>
                <a:cubicBezTo>
                  <a:pt x="272" y="123"/>
                  <a:pt x="272" y="122"/>
                  <a:pt x="273" y="120"/>
                </a:cubicBezTo>
                <a:cubicBezTo>
                  <a:pt x="273" y="122"/>
                  <a:pt x="273" y="124"/>
                  <a:pt x="274" y="127"/>
                </a:cubicBezTo>
                <a:cubicBezTo>
                  <a:pt x="273" y="128"/>
                  <a:pt x="273" y="129"/>
                  <a:pt x="273" y="130"/>
                </a:cubicBezTo>
                <a:close/>
                <a:moveTo>
                  <a:pt x="275" y="105"/>
                </a:moveTo>
                <a:cubicBezTo>
                  <a:pt x="273" y="100"/>
                  <a:pt x="272" y="95"/>
                  <a:pt x="270" y="91"/>
                </a:cubicBezTo>
                <a:cubicBezTo>
                  <a:pt x="270" y="89"/>
                  <a:pt x="270" y="87"/>
                  <a:pt x="271" y="85"/>
                </a:cubicBezTo>
                <a:cubicBezTo>
                  <a:pt x="273" y="91"/>
                  <a:pt x="274" y="97"/>
                  <a:pt x="276" y="103"/>
                </a:cubicBezTo>
                <a:cubicBezTo>
                  <a:pt x="275" y="104"/>
                  <a:pt x="275" y="105"/>
                  <a:pt x="275" y="105"/>
                </a:cubicBezTo>
                <a:close/>
                <a:moveTo>
                  <a:pt x="277" y="111"/>
                </a:moveTo>
                <a:cubicBezTo>
                  <a:pt x="276" y="110"/>
                  <a:pt x="276" y="110"/>
                  <a:pt x="276" y="109"/>
                </a:cubicBezTo>
                <a:cubicBezTo>
                  <a:pt x="276" y="109"/>
                  <a:pt x="276" y="108"/>
                  <a:pt x="277" y="107"/>
                </a:cubicBezTo>
                <a:cubicBezTo>
                  <a:pt x="277" y="108"/>
                  <a:pt x="277" y="109"/>
                  <a:pt x="277" y="109"/>
                </a:cubicBezTo>
                <a:cubicBezTo>
                  <a:pt x="277" y="110"/>
                  <a:pt x="277" y="110"/>
                  <a:pt x="277" y="111"/>
                </a:cubicBezTo>
                <a:close/>
                <a:moveTo>
                  <a:pt x="287" y="94"/>
                </a:moveTo>
                <a:cubicBezTo>
                  <a:pt x="287" y="95"/>
                  <a:pt x="288" y="95"/>
                  <a:pt x="288" y="96"/>
                </a:cubicBezTo>
                <a:cubicBezTo>
                  <a:pt x="288" y="97"/>
                  <a:pt x="287" y="97"/>
                  <a:pt x="287" y="98"/>
                </a:cubicBezTo>
                <a:cubicBezTo>
                  <a:pt x="287" y="96"/>
                  <a:pt x="287" y="95"/>
                  <a:pt x="287" y="94"/>
                </a:cubicBezTo>
                <a:close/>
                <a:moveTo>
                  <a:pt x="289" y="109"/>
                </a:moveTo>
                <a:cubicBezTo>
                  <a:pt x="288" y="106"/>
                  <a:pt x="288" y="104"/>
                  <a:pt x="287" y="102"/>
                </a:cubicBezTo>
                <a:cubicBezTo>
                  <a:pt x="287" y="101"/>
                  <a:pt x="287" y="99"/>
                  <a:pt x="287" y="98"/>
                </a:cubicBezTo>
                <a:cubicBezTo>
                  <a:pt x="287" y="98"/>
                  <a:pt x="288" y="97"/>
                  <a:pt x="288" y="97"/>
                </a:cubicBezTo>
                <a:cubicBezTo>
                  <a:pt x="288" y="98"/>
                  <a:pt x="289" y="100"/>
                  <a:pt x="289" y="102"/>
                </a:cubicBezTo>
                <a:cubicBezTo>
                  <a:pt x="289" y="104"/>
                  <a:pt x="289" y="107"/>
                  <a:pt x="289" y="109"/>
                </a:cubicBezTo>
                <a:close/>
                <a:moveTo>
                  <a:pt x="291" y="84"/>
                </a:moveTo>
                <a:cubicBezTo>
                  <a:pt x="291" y="89"/>
                  <a:pt x="290" y="94"/>
                  <a:pt x="290" y="98"/>
                </a:cubicBezTo>
                <a:cubicBezTo>
                  <a:pt x="289" y="97"/>
                  <a:pt x="289" y="96"/>
                  <a:pt x="288" y="95"/>
                </a:cubicBezTo>
                <a:cubicBezTo>
                  <a:pt x="289" y="94"/>
                  <a:pt x="290" y="92"/>
                  <a:pt x="290" y="91"/>
                </a:cubicBezTo>
                <a:cubicBezTo>
                  <a:pt x="290" y="92"/>
                  <a:pt x="289" y="94"/>
                  <a:pt x="288" y="95"/>
                </a:cubicBezTo>
                <a:cubicBezTo>
                  <a:pt x="288" y="94"/>
                  <a:pt x="287" y="93"/>
                  <a:pt x="287" y="92"/>
                </a:cubicBezTo>
                <a:cubicBezTo>
                  <a:pt x="287" y="90"/>
                  <a:pt x="287" y="88"/>
                  <a:pt x="287" y="85"/>
                </a:cubicBezTo>
                <a:cubicBezTo>
                  <a:pt x="287" y="85"/>
                  <a:pt x="287" y="85"/>
                  <a:pt x="287" y="85"/>
                </a:cubicBezTo>
                <a:cubicBezTo>
                  <a:pt x="287" y="85"/>
                  <a:pt x="287" y="85"/>
                  <a:pt x="287" y="85"/>
                </a:cubicBezTo>
                <a:cubicBezTo>
                  <a:pt x="287" y="75"/>
                  <a:pt x="286" y="65"/>
                  <a:pt x="286" y="56"/>
                </a:cubicBezTo>
                <a:cubicBezTo>
                  <a:pt x="289" y="58"/>
                  <a:pt x="292" y="61"/>
                  <a:pt x="294" y="63"/>
                </a:cubicBezTo>
                <a:cubicBezTo>
                  <a:pt x="293" y="69"/>
                  <a:pt x="292" y="76"/>
                  <a:pt x="291" y="84"/>
                </a:cubicBezTo>
                <a:cubicBezTo>
                  <a:pt x="291" y="82"/>
                  <a:pt x="290" y="81"/>
                  <a:pt x="290" y="79"/>
                </a:cubicBezTo>
                <a:cubicBezTo>
                  <a:pt x="290" y="81"/>
                  <a:pt x="291" y="83"/>
                  <a:pt x="291" y="84"/>
                </a:cubicBezTo>
                <a:close/>
                <a:moveTo>
                  <a:pt x="293" y="139"/>
                </a:moveTo>
                <a:cubicBezTo>
                  <a:pt x="292" y="134"/>
                  <a:pt x="292" y="128"/>
                  <a:pt x="292" y="121"/>
                </a:cubicBezTo>
                <a:cubicBezTo>
                  <a:pt x="292" y="125"/>
                  <a:pt x="293" y="129"/>
                  <a:pt x="293" y="133"/>
                </a:cubicBezTo>
                <a:cubicBezTo>
                  <a:pt x="293" y="135"/>
                  <a:pt x="293" y="137"/>
                  <a:pt x="293" y="139"/>
                </a:cubicBezTo>
                <a:close/>
                <a:moveTo>
                  <a:pt x="292" y="104"/>
                </a:moveTo>
                <a:cubicBezTo>
                  <a:pt x="292" y="102"/>
                  <a:pt x="293" y="99"/>
                  <a:pt x="293" y="96"/>
                </a:cubicBezTo>
                <a:cubicBezTo>
                  <a:pt x="293" y="100"/>
                  <a:pt x="293" y="104"/>
                  <a:pt x="293" y="107"/>
                </a:cubicBezTo>
                <a:cubicBezTo>
                  <a:pt x="293" y="106"/>
                  <a:pt x="293" y="105"/>
                  <a:pt x="292" y="104"/>
                </a:cubicBezTo>
                <a:close/>
                <a:moveTo>
                  <a:pt x="304" y="85"/>
                </a:moveTo>
                <a:cubicBezTo>
                  <a:pt x="303" y="90"/>
                  <a:pt x="303" y="96"/>
                  <a:pt x="302" y="103"/>
                </a:cubicBezTo>
                <a:cubicBezTo>
                  <a:pt x="301" y="101"/>
                  <a:pt x="301" y="100"/>
                  <a:pt x="300" y="99"/>
                </a:cubicBezTo>
                <a:cubicBezTo>
                  <a:pt x="300" y="96"/>
                  <a:pt x="299" y="93"/>
                  <a:pt x="298" y="90"/>
                </a:cubicBezTo>
                <a:cubicBezTo>
                  <a:pt x="299" y="93"/>
                  <a:pt x="299" y="96"/>
                  <a:pt x="299" y="99"/>
                </a:cubicBezTo>
                <a:cubicBezTo>
                  <a:pt x="299" y="104"/>
                  <a:pt x="299" y="112"/>
                  <a:pt x="298" y="120"/>
                </a:cubicBezTo>
                <a:cubicBezTo>
                  <a:pt x="297" y="110"/>
                  <a:pt x="295" y="100"/>
                  <a:pt x="293" y="91"/>
                </a:cubicBezTo>
                <a:cubicBezTo>
                  <a:pt x="294" y="81"/>
                  <a:pt x="295" y="72"/>
                  <a:pt x="295" y="65"/>
                </a:cubicBezTo>
                <a:cubicBezTo>
                  <a:pt x="299" y="69"/>
                  <a:pt x="302" y="74"/>
                  <a:pt x="304" y="79"/>
                </a:cubicBezTo>
                <a:cubicBezTo>
                  <a:pt x="304" y="81"/>
                  <a:pt x="304" y="83"/>
                  <a:pt x="304" y="85"/>
                </a:cubicBezTo>
                <a:close/>
                <a:moveTo>
                  <a:pt x="304" y="75"/>
                </a:moveTo>
                <a:cubicBezTo>
                  <a:pt x="304" y="75"/>
                  <a:pt x="304" y="75"/>
                  <a:pt x="304" y="75"/>
                </a:cubicBezTo>
                <a:cubicBezTo>
                  <a:pt x="304" y="73"/>
                  <a:pt x="304" y="72"/>
                  <a:pt x="304" y="70"/>
                </a:cubicBezTo>
                <a:cubicBezTo>
                  <a:pt x="304" y="70"/>
                  <a:pt x="304" y="72"/>
                  <a:pt x="304" y="75"/>
                </a:cubicBezTo>
                <a:cubicBezTo>
                  <a:pt x="301" y="71"/>
                  <a:pt x="299" y="67"/>
                  <a:pt x="296" y="64"/>
                </a:cubicBezTo>
                <a:cubicBezTo>
                  <a:pt x="296" y="60"/>
                  <a:pt x="296" y="57"/>
                  <a:pt x="297" y="54"/>
                </a:cubicBezTo>
                <a:cubicBezTo>
                  <a:pt x="300" y="58"/>
                  <a:pt x="303" y="62"/>
                  <a:pt x="305" y="65"/>
                </a:cubicBezTo>
                <a:cubicBezTo>
                  <a:pt x="305" y="68"/>
                  <a:pt x="305" y="71"/>
                  <a:pt x="304" y="75"/>
                </a:cubicBezTo>
                <a:close/>
                <a:moveTo>
                  <a:pt x="308" y="117"/>
                </a:moveTo>
                <a:cubicBezTo>
                  <a:pt x="307" y="119"/>
                  <a:pt x="307" y="122"/>
                  <a:pt x="306" y="125"/>
                </a:cubicBezTo>
                <a:cubicBezTo>
                  <a:pt x="306" y="124"/>
                  <a:pt x="306" y="123"/>
                  <a:pt x="306" y="122"/>
                </a:cubicBezTo>
                <a:cubicBezTo>
                  <a:pt x="306" y="110"/>
                  <a:pt x="307" y="98"/>
                  <a:pt x="307" y="87"/>
                </a:cubicBezTo>
                <a:cubicBezTo>
                  <a:pt x="308" y="92"/>
                  <a:pt x="309" y="98"/>
                  <a:pt x="310" y="103"/>
                </a:cubicBezTo>
                <a:cubicBezTo>
                  <a:pt x="309" y="108"/>
                  <a:pt x="309" y="112"/>
                  <a:pt x="308" y="117"/>
                </a:cubicBezTo>
                <a:close/>
                <a:moveTo>
                  <a:pt x="311" y="89"/>
                </a:moveTo>
                <a:cubicBezTo>
                  <a:pt x="310" y="86"/>
                  <a:pt x="309" y="83"/>
                  <a:pt x="307" y="80"/>
                </a:cubicBezTo>
                <a:cubicBezTo>
                  <a:pt x="307" y="76"/>
                  <a:pt x="307" y="72"/>
                  <a:pt x="307" y="68"/>
                </a:cubicBezTo>
                <a:cubicBezTo>
                  <a:pt x="309" y="71"/>
                  <a:pt x="311" y="74"/>
                  <a:pt x="313" y="78"/>
                </a:cubicBezTo>
                <a:cubicBezTo>
                  <a:pt x="312" y="81"/>
                  <a:pt x="312" y="85"/>
                  <a:pt x="311" y="89"/>
                </a:cubicBezTo>
                <a:close/>
                <a:moveTo>
                  <a:pt x="317" y="96"/>
                </a:moveTo>
                <a:cubicBezTo>
                  <a:pt x="316" y="97"/>
                  <a:pt x="315" y="98"/>
                  <a:pt x="315" y="99"/>
                </a:cubicBezTo>
                <a:cubicBezTo>
                  <a:pt x="314" y="98"/>
                  <a:pt x="314" y="97"/>
                  <a:pt x="314" y="96"/>
                </a:cubicBezTo>
                <a:cubicBezTo>
                  <a:pt x="314" y="91"/>
                  <a:pt x="314" y="86"/>
                  <a:pt x="314" y="80"/>
                </a:cubicBezTo>
                <a:cubicBezTo>
                  <a:pt x="315" y="83"/>
                  <a:pt x="317" y="86"/>
                  <a:pt x="317" y="88"/>
                </a:cubicBezTo>
                <a:cubicBezTo>
                  <a:pt x="317" y="91"/>
                  <a:pt x="317" y="93"/>
                  <a:pt x="317" y="96"/>
                </a:cubicBezTo>
                <a:close/>
                <a:moveTo>
                  <a:pt x="338" y="105"/>
                </a:moveTo>
                <a:cubicBezTo>
                  <a:pt x="338" y="103"/>
                  <a:pt x="337" y="102"/>
                  <a:pt x="336" y="101"/>
                </a:cubicBezTo>
                <a:cubicBezTo>
                  <a:pt x="338" y="96"/>
                  <a:pt x="339" y="92"/>
                  <a:pt x="341" y="89"/>
                </a:cubicBezTo>
                <a:cubicBezTo>
                  <a:pt x="341" y="89"/>
                  <a:pt x="341" y="89"/>
                  <a:pt x="341" y="90"/>
                </a:cubicBezTo>
                <a:cubicBezTo>
                  <a:pt x="340" y="95"/>
                  <a:pt x="339" y="100"/>
                  <a:pt x="338" y="105"/>
                </a:cubicBezTo>
                <a:close/>
                <a:moveTo>
                  <a:pt x="354" y="81"/>
                </a:moveTo>
                <a:cubicBezTo>
                  <a:pt x="355" y="81"/>
                  <a:pt x="355" y="81"/>
                  <a:pt x="355" y="81"/>
                </a:cubicBezTo>
                <a:cubicBezTo>
                  <a:pt x="355" y="81"/>
                  <a:pt x="355" y="81"/>
                  <a:pt x="354" y="81"/>
                </a:cubicBezTo>
                <a:cubicBezTo>
                  <a:pt x="354" y="81"/>
                  <a:pt x="354" y="81"/>
                  <a:pt x="354" y="81"/>
                </a:cubicBezTo>
                <a:close/>
                <a:moveTo>
                  <a:pt x="354" y="88"/>
                </a:moveTo>
                <a:cubicBezTo>
                  <a:pt x="354" y="89"/>
                  <a:pt x="354" y="89"/>
                  <a:pt x="354" y="89"/>
                </a:cubicBezTo>
                <a:cubicBezTo>
                  <a:pt x="354" y="90"/>
                  <a:pt x="354" y="91"/>
                  <a:pt x="354" y="91"/>
                </a:cubicBezTo>
                <a:cubicBezTo>
                  <a:pt x="354" y="90"/>
                  <a:pt x="354" y="89"/>
                  <a:pt x="354" y="88"/>
                </a:cubicBezTo>
                <a:close/>
                <a:moveTo>
                  <a:pt x="345" y="122"/>
                </a:moveTo>
                <a:cubicBezTo>
                  <a:pt x="345" y="122"/>
                  <a:pt x="345" y="123"/>
                  <a:pt x="345" y="123"/>
                </a:cubicBezTo>
                <a:cubicBezTo>
                  <a:pt x="345" y="123"/>
                  <a:pt x="345" y="123"/>
                  <a:pt x="345" y="123"/>
                </a:cubicBezTo>
                <a:cubicBezTo>
                  <a:pt x="345" y="123"/>
                  <a:pt x="345" y="122"/>
                  <a:pt x="345" y="122"/>
                </a:cubicBezTo>
                <a:cubicBezTo>
                  <a:pt x="345" y="120"/>
                  <a:pt x="346" y="118"/>
                  <a:pt x="346" y="115"/>
                </a:cubicBezTo>
                <a:cubicBezTo>
                  <a:pt x="346" y="115"/>
                  <a:pt x="346" y="115"/>
                  <a:pt x="346" y="115"/>
                </a:cubicBezTo>
                <a:cubicBezTo>
                  <a:pt x="346" y="116"/>
                  <a:pt x="346" y="117"/>
                  <a:pt x="346" y="118"/>
                </a:cubicBezTo>
                <a:cubicBezTo>
                  <a:pt x="346" y="119"/>
                  <a:pt x="345" y="121"/>
                  <a:pt x="345" y="122"/>
                </a:cubicBezTo>
                <a:close/>
                <a:moveTo>
                  <a:pt x="348" y="70"/>
                </a:moveTo>
                <a:cubicBezTo>
                  <a:pt x="350" y="73"/>
                  <a:pt x="352" y="76"/>
                  <a:pt x="354" y="79"/>
                </a:cubicBezTo>
                <a:cubicBezTo>
                  <a:pt x="353" y="81"/>
                  <a:pt x="353" y="82"/>
                  <a:pt x="353" y="84"/>
                </a:cubicBezTo>
                <a:cubicBezTo>
                  <a:pt x="353" y="84"/>
                  <a:pt x="353" y="84"/>
                  <a:pt x="352" y="84"/>
                </a:cubicBezTo>
                <a:cubicBezTo>
                  <a:pt x="352" y="82"/>
                  <a:pt x="351" y="81"/>
                  <a:pt x="350" y="79"/>
                </a:cubicBezTo>
                <a:cubicBezTo>
                  <a:pt x="351" y="81"/>
                  <a:pt x="352" y="83"/>
                  <a:pt x="352" y="84"/>
                </a:cubicBezTo>
                <a:cubicBezTo>
                  <a:pt x="351" y="87"/>
                  <a:pt x="349" y="90"/>
                  <a:pt x="348" y="93"/>
                </a:cubicBezTo>
                <a:cubicBezTo>
                  <a:pt x="348" y="85"/>
                  <a:pt x="348" y="77"/>
                  <a:pt x="348" y="70"/>
                </a:cubicBezTo>
                <a:close/>
                <a:moveTo>
                  <a:pt x="350" y="98"/>
                </a:moveTo>
                <a:cubicBezTo>
                  <a:pt x="350" y="98"/>
                  <a:pt x="350" y="97"/>
                  <a:pt x="350" y="96"/>
                </a:cubicBezTo>
                <a:cubicBezTo>
                  <a:pt x="350" y="97"/>
                  <a:pt x="350" y="98"/>
                  <a:pt x="350" y="98"/>
                </a:cubicBezTo>
                <a:cubicBezTo>
                  <a:pt x="350" y="99"/>
                  <a:pt x="350" y="100"/>
                  <a:pt x="350" y="100"/>
                </a:cubicBezTo>
                <a:cubicBezTo>
                  <a:pt x="349" y="99"/>
                  <a:pt x="349" y="98"/>
                  <a:pt x="349" y="97"/>
                </a:cubicBezTo>
                <a:cubicBezTo>
                  <a:pt x="349" y="95"/>
                  <a:pt x="350" y="93"/>
                  <a:pt x="351" y="90"/>
                </a:cubicBezTo>
                <a:cubicBezTo>
                  <a:pt x="351" y="93"/>
                  <a:pt x="350" y="96"/>
                  <a:pt x="350" y="98"/>
                </a:cubicBezTo>
                <a:close/>
                <a:moveTo>
                  <a:pt x="357" y="100"/>
                </a:moveTo>
                <a:cubicBezTo>
                  <a:pt x="355" y="104"/>
                  <a:pt x="354" y="107"/>
                  <a:pt x="353" y="110"/>
                </a:cubicBezTo>
                <a:cubicBezTo>
                  <a:pt x="352" y="110"/>
                  <a:pt x="352" y="109"/>
                  <a:pt x="352" y="109"/>
                </a:cubicBezTo>
                <a:cubicBezTo>
                  <a:pt x="352" y="106"/>
                  <a:pt x="353" y="102"/>
                  <a:pt x="353" y="99"/>
                </a:cubicBezTo>
                <a:cubicBezTo>
                  <a:pt x="354" y="95"/>
                  <a:pt x="354" y="92"/>
                  <a:pt x="354" y="90"/>
                </a:cubicBezTo>
                <a:cubicBezTo>
                  <a:pt x="355" y="93"/>
                  <a:pt x="356" y="96"/>
                  <a:pt x="357" y="100"/>
                </a:cubicBezTo>
                <a:cubicBezTo>
                  <a:pt x="357" y="100"/>
                  <a:pt x="357" y="100"/>
                  <a:pt x="357" y="100"/>
                </a:cubicBezTo>
                <a:close/>
                <a:moveTo>
                  <a:pt x="357" y="97"/>
                </a:moveTo>
                <a:cubicBezTo>
                  <a:pt x="356" y="95"/>
                  <a:pt x="355" y="92"/>
                  <a:pt x="354" y="89"/>
                </a:cubicBezTo>
                <a:cubicBezTo>
                  <a:pt x="354" y="89"/>
                  <a:pt x="354" y="89"/>
                  <a:pt x="354" y="88"/>
                </a:cubicBezTo>
                <a:cubicBezTo>
                  <a:pt x="354" y="89"/>
                  <a:pt x="354" y="89"/>
                  <a:pt x="354" y="89"/>
                </a:cubicBezTo>
                <a:cubicBezTo>
                  <a:pt x="354" y="89"/>
                  <a:pt x="354" y="88"/>
                  <a:pt x="354" y="88"/>
                </a:cubicBezTo>
                <a:cubicBezTo>
                  <a:pt x="354" y="87"/>
                  <a:pt x="354" y="86"/>
                  <a:pt x="354" y="85"/>
                </a:cubicBezTo>
                <a:cubicBezTo>
                  <a:pt x="355" y="84"/>
                  <a:pt x="355" y="83"/>
                  <a:pt x="355" y="82"/>
                </a:cubicBezTo>
                <a:cubicBezTo>
                  <a:pt x="357" y="84"/>
                  <a:pt x="358" y="86"/>
                  <a:pt x="358" y="88"/>
                </a:cubicBezTo>
                <a:cubicBezTo>
                  <a:pt x="358" y="91"/>
                  <a:pt x="358" y="94"/>
                  <a:pt x="357" y="97"/>
                </a:cubicBezTo>
                <a:close/>
                <a:moveTo>
                  <a:pt x="360" y="135"/>
                </a:moveTo>
                <a:cubicBezTo>
                  <a:pt x="359" y="136"/>
                  <a:pt x="359" y="137"/>
                  <a:pt x="359" y="138"/>
                </a:cubicBezTo>
                <a:cubicBezTo>
                  <a:pt x="359" y="137"/>
                  <a:pt x="359" y="136"/>
                  <a:pt x="360" y="135"/>
                </a:cubicBezTo>
                <a:cubicBezTo>
                  <a:pt x="360" y="135"/>
                  <a:pt x="360" y="135"/>
                  <a:pt x="360" y="135"/>
                </a:cubicBezTo>
                <a:close/>
                <a:moveTo>
                  <a:pt x="359" y="83"/>
                </a:moveTo>
                <a:cubicBezTo>
                  <a:pt x="358" y="82"/>
                  <a:pt x="358" y="81"/>
                  <a:pt x="357" y="80"/>
                </a:cubicBezTo>
                <a:cubicBezTo>
                  <a:pt x="358" y="78"/>
                  <a:pt x="359" y="77"/>
                  <a:pt x="360" y="75"/>
                </a:cubicBezTo>
                <a:cubicBezTo>
                  <a:pt x="360" y="78"/>
                  <a:pt x="359" y="81"/>
                  <a:pt x="359" y="83"/>
                </a:cubicBezTo>
                <a:close/>
                <a:moveTo>
                  <a:pt x="360" y="74"/>
                </a:moveTo>
                <a:cubicBezTo>
                  <a:pt x="359" y="76"/>
                  <a:pt x="357" y="77"/>
                  <a:pt x="356" y="79"/>
                </a:cubicBezTo>
                <a:cubicBezTo>
                  <a:pt x="356" y="78"/>
                  <a:pt x="355" y="78"/>
                  <a:pt x="355" y="77"/>
                </a:cubicBezTo>
                <a:cubicBezTo>
                  <a:pt x="355" y="72"/>
                  <a:pt x="356" y="67"/>
                  <a:pt x="356" y="65"/>
                </a:cubicBezTo>
                <a:cubicBezTo>
                  <a:pt x="357" y="67"/>
                  <a:pt x="359" y="70"/>
                  <a:pt x="360" y="72"/>
                </a:cubicBezTo>
                <a:cubicBezTo>
                  <a:pt x="360" y="73"/>
                  <a:pt x="360" y="73"/>
                  <a:pt x="360" y="74"/>
                </a:cubicBezTo>
                <a:close/>
                <a:moveTo>
                  <a:pt x="362" y="75"/>
                </a:moveTo>
                <a:cubicBezTo>
                  <a:pt x="364" y="78"/>
                  <a:pt x="365" y="81"/>
                  <a:pt x="367" y="84"/>
                </a:cubicBezTo>
                <a:cubicBezTo>
                  <a:pt x="365" y="86"/>
                  <a:pt x="364" y="88"/>
                  <a:pt x="363" y="90"/>
                </a:cubicBezTo>
                <a:cubicBezTo>
                  <a:pt x="363" y="89"/>
                  <a:pt x="362" y="89"/>
                  <a:pt x="362" y="89"/>
                </a:cubicBezTo>
                <a:cubicBezTo>
                  <a:pt x="362" y="84"/>
                  <a:pt x="362" y="79"/>
                  <a:pt x="362" y="75"/>
                </a:cubicBezTo>
                <a:close/>
                <a:moveTo>
                  <a:pt x="364" y="110"/>
                </a:moveTo>
                <a:cubicBezTo>
                  <a:pt x="364" y="107"/>
                  <a:pt x="363" y="104"/>
                  <a:pt x="362" y="101"/>
                </a:cubicBezTo>
                <a:cubicBezTo>
                  <a:pt x="362" y="101"/>
                  <a:pt x="362" y="100"/>
                  <a:pt x="362" y="100"/>
                </a:cubicBezTo>
                <a:cubicBezTo>
                  <a:pt x="362" y="100"/>
                  <a:pt x="363" y="99"/>
                  <a:pt x="363" y="99"/>
                </a:cubicBezTo>
                <a:cubicBezTo>
                  <a:pt x="364" y="101"/>
                  <a:pt x="365" y="104"/>
                  <a:pt x="365" y="106"/>
                </a:cubicBezTo>
                <a:cubicBezTo>
                  <a:pt x="365" y="108"/>
                  <a:pt x="365" y="109"/>
                  <a:pt x="364" y="110"/>
                </a:cubicBezTo>
                <a:close/>
                <a:moveTo>
                  <a:pt x="365" y="93"/>
                </a:moveTo>
                <a:cubicBezTo>
                  <a:pt x="366" y="91"/>
                  <a:pt x="367" y="88"/>
                  <a:pt x="368" y="86"/>
                </a:cubicBezTo>
                <a:cubicBezTo>
                  <a:pt x="368" y="87"/>
                  <a:pt x="369" y="87"/>
                  <a:pt x="369" y="88"/>
                </a:cubicBezTo>
                <a:cubicBezTo>
                  <a:pt x="368" y="91"/>
                  <a:pt x="368" y="94"/>
                  <a:pt x="367" y="97"/>
                </a:cubicBezTo>
                <a:cubicBezTo>
                  <a:pt x="366" y="96"/>
                  <a:pt x="366" y="95"/>
                  <a:pt x="365" y="93"/>
                </a:cubicBezTo>
                <a:close/>
                <a:moveTo>
                  <a:pt x="368" y="130"/>
                </a:moveTo>
                <a:cubicBezTo>
                  <a:pt x="368" y="129"/>
                  <a:pt x="368" y="128"/>
                  <a:pt x="368" y="126"/>
                </a:cubicBezTo>
                <a:cubicBezTo>
                  <a:pt x="368" y="124"/>
                  <a:pt x="368" y="121"/>
                  <a:pt x="369" y="119"/>
                </a:cubicBezTo>
                <a:cubicBezTo>
                  <a:pt x="369" y="120"/>
                  <a:pt x="370" y="122"/>
                  <a:pt x="370" y="124"/>
                </a:cubicBezTo>
                <a:cubicBezTo>
                  <a:pt x="369" y="126"/>
                  <a:pt x="369" y="128"/>
                  <a:pt x="368" y="130"/>
                </a:cubicBezTo>
                <a:close/>
                <a:moveTo>
                  <a:pt x="372" y="108"/>
                </a:moveTo>
                <a:cubicBezTo>
                  <a:pt x="372" y="107"/>
                  <a:pt x="371" y="106"/>
                  <a:pt x="371" y="105"/>
                </a:cubicBezTo>
                <a:cubicBezTo>
                  <a:pt x="372" y="102"/>
                  <a:pt x="372" y="99"/>
                  <a:pt x="373" y="96"/>
                </a:cubicBezTo>
                <a:cubicBezTo>
                  <a:pt x="373" y="96"/>
                  <a:pt x="373" y="97"/>
                  <a:pt x="373" y="97"/>
                </a:cubicBezTo>
                <a:cubicBezTo>
                  <a:pt x="373" y="101"/>
                  <a:pt x="373" y="105"/>
                  <a:pt x="372" y="108"/>
                </a:cubicBezTo>
                <a:close/>
                <a:moveTo>
                  <a:pt x="374" y="86"/>
                </a:moveTo>
                <a:cubicBezTo>
                  <a:pt x="374" y="86"/>
                  <a:pt x="374" y="86"/>
                  <a:pt x="374" y="86"/>
                </a:cubicBezTo>
                <a:cubicBezTo>
                  <a:pt x="375" y="85"/>
                  <a:pt x="375" y="84"/>
                  <a:pt x="375" y="83"/>
                </a:cubicBezTo>
                <a:cubicBezTo>
                  <a:pt x="375" y="84"/>
                  <a:pt x="375" y="85"/>
                  <a:pt x="374" y="86"/>
                </a:cubicBezTo>
                <a:close/>
                <a:moveTo>
                  <a:pt x="382" y="80"/>
                </a:moveTo>
                <a:cubicBezTo>
                  <a:pt x="382" y="77"/>
                  <a:pt x="382" y="75"/>
                  <a:pt x="383" y="73"/>
                </a:cubicBezTo>
                <a:cubicBezTo>
                  <a:pt x="383" y="73"/>
                  <a:pt x="383" y="74"/>
                  <a:pt x="384" y="74"/>
                </a:cubicBezTo>
                <a:cubicBezTo>
                  <a:pt x="383" y="76"/>
                  <a:pt x="383" y="78"/>
                  <a:pt x="382" y="80"/>
                </a:cubicBezTo>
                <a:close/>
                <a:moveTo>
                  <a:pt x="394" y="93"/>
                </a:moveTo>
                <a:cubicBezTo>
                  <a:pt x="393" y="95"/>
                  <a:pt x="393" y="96"/>
                  <a:pt x="392" y="97"/>
                </a:cubicBezTo>
                <a:cubicBezTo>
                  <a:pt x="392" y="94"/>
                  <a:pt x="392" y="91"/>
                  <a:pt x="392" y="88"/>
                </a:cubicBezTo>
                <a:cubicBezTo>
                  <a:pt x="392" y="89"/>
                  <a:pt x="393" y="91"/>
                  <a:pt x="394" y="93"/>
                </a:cubicBezTo>
                <a:close/>
                <a:moveTo>
                  <a:pt x="395" y="88"/>
                </a:moveTo>
                <a:cubicBezTo>
                  <a:pt x="394" y="86"/>
                  <a:pt x="393" y="85"/>
                  <a:pt x="392" y="84"/>
                </a:cubicBezTo>
                <a:cubicBezTo>
                  <a:pt x="394" y="81"/>
                  <a:pt x="395" y="78"/>
                  <a:pt x="397" y="75"/>
                </a:cubicBezTo>
                <a:cubicBezTo>
                  <a:pt x="396" y="79"/>
                  <a:pt x="396" y="84"/>
                  <a:pt x="395" y="88"/>
                </a:cubicBezTo>
                <a:close/>
                <a:moveTo>
                  <a:pt x="404" y="77"/>
                </a:moveTo>
                <a:cubicBezTo>
                  <a:pt x="404" y="77"/>
                  <a:pt x="404" y="77"/>
                  <a:pt x="404" y="77"/>
                </a:cubicBezTo>
                <a:cubicBezTo>
                  <a:pt x="404" y="74"/>
                  <a:pt x="403" y="70"/>
                  <a:pt x="403" y="66"/>
                </a:cubicBezTo>
                <a:cubicBezTo>
                  <a:pt x="403" y="65"/>
                  <a:pt x="404" y="64"/>
                  <a:pt x="404" y="63"/>
                </a:cubicBezTo>
                <a:cubicBezTo>
                  <a:pt x="405" y="67"/>
                  <a:pt x="405" y="72"/>
                  <a:pt x="404" y="77"/>
                </a:cubicBezTo>
                <a:close/>
                <a:moveTo>
                  <a:pt x="407" y="72"/>
                </a:moveTo>
                <a:cubicBezTo>
                  <a:pt x="407" y="67"/>
                  <a:pt x="406" y="64"/>
                  <a:pt x="405" y="61"/>
                </a:cubicBezTo>
                <a:cubicBezTo>
                  <a:pt x="406" y="60"/>
                  <a:pt x="407" y="58"/>
                  <a:pt x="408" y="57"/>
                </a:cubicBezTo>
                <a:cubicBezTo>
                  <a:pt x="409" y="62"/>
                  <a:pt x="408" y="67"/>
                  <a:pt x="407" y="72"/>
                </a:cubicBezTo>
                <a:close/>
                <a:moveTo>
                  <a:pt x="423" y="89"/>
                </a:moveTo>
                <a:cubicBezTo>
                  <a:pt x="424" y="91"/>
                  <a:pt x="425" y="92"/>
                  <a:pt x="426" y="94"/>
                </a:cubicBezTo>
                <a:cubicBezTo>
                  <a:pt x="425" y="95"/>
                  <a:pt x="424" y="97"/>
                  <a:pt x="424" y="98"/>
                </a:cubicBezTo>
                <a:cubicBezTo>
                  <a:pt x="423" y="97"/>
                  <a:pt x="423" y="96"/>
                  <a:pt x="422" y="95"/>
                </a:cubicBezTo>
                <a:cubicBezTo>
                  <a:pt x="423" y="93"/>
                  <a:pt x="423" y="91"/>
                  <a:pt x="423" y="89"/>
                </a:cubicBezTo>
                <a:close/>
                <a:moveTo>
                  <a:pt x="422" y="101"/>
                </a:moveTo>
                <a:cubicBezTo>
                  <a:pt x="422" y="101"/>
                  <a:pt x="422" y="100"/>
                  <a:pt x="422" y="100"/>
                </a:cubicBezTo>
                <a:cubicBezTo>
                  <a:pt x="422" y="100"/>
                  <a:pt x="422" y="101"/>
                  <a:pt x="423" y="101"/>
                </a:cubicBezTo>
                <a:cubicBezTo>
                  <a:pt x="422" y="101"/>
                  <a:pt x="422" y="101"/>
                  <a:pt x="422" y="101"/>
                </a:cubicBezTo>
                <a:close/>
                <a:moveTo>
                  <a:pt x="424" y="122"/>
                </a:moveTo>
                <a:cubicBezTo>
                  <a:pt x="424" y="121"/>
                  <a:pt x="424" y="120"/>
                  <a:pt x="423" y="119"/>
                </a:cubicBezTo>
                <a:cubicBezTo>
                  <a:pt x="423" y="117"/>
                  <a:pt x="423" y="115"/>
                  <a:pt x="423" y="112"/>
                </a:cubicBezTo>
                <a:cubicBezTo>
                  <a:pt x="423" y="110"/>
                  <a:pt x="424" y="108"/>
                  <a:pt x="424" y="106"/>
                </a:cubicBezTo>
                <a:cubicBezTo>
                  <a:pt x="424" y="108"/>
                  <a:pt x="425" y="110"/>
                  <a:pt x="425" y="112"/>
                </a:cubicBezTo>
                <a:cubicBezTo>
                  <a:pt x="425" y="115"/>
                  <a:pt x="425" y="119"/>
                  <a:pt x="424" y="122"/>
                </a:cubicBezTo>
                <a:close/>
                <a:moveTo>
                  <a:pt x="426" y="103"/>
                </a:moveTo>
                <a:cubicBezTo>
                  <a:pt x="426" y="102"/>
                  <a:pt x="425" y="101"/>
                  <a:pt x="425" y="100"/>
                </a:cubicBezTo>
                <a:cubicBezTo>
                  <a:pt x="425" y="99"/>
                  <a:pt x="426" y="97"/>
                  <a:pt x="426" y="96"/>
                </a:cubicBezTo>
                <a:cubicBezTo>
                  <a:pt x="426" y="97"/>
                  <a:pt x="427" y="97"/>
                  <a:pt x="427" y="98"/>
                </a:cubicBezTo>
                <a:cubicBezTo>
                  <a:pt x="427" y="100"/>
                  <a:pt x="427" y="101"/>
                  <a:pt x="426" y="103"/>
                </a:cubicBezTo>
                <a:close/>
                <a:moveTo>
                  <a:pt x="427" y="96"/>
                </a:moveTo>
                <a:cubicBezTo>
                  <a:pt x="427" y="95"/>
                  <a:pt x="427" y="95"/>
                  <a:pt x="427" y="95"/>
                </a:cubicBezTo>
                <a:cubicBezTo>
                  <a:pt x="427" y="93"/>
                  <a:pt x="427" y="92"/>
                  <a:pt x="428" y="91"/>
                </a:cubicBezTo>
                <a:cubicBezTo>
                  <a:pt x="428" y="93"/>
                  <a:pt x="427" y="94"/>
                  <a:pt x="427" y="96"/>
                </a:cubicBezTo>
                <a:close/>
                <a:moveTo>
                  <a:pt x="433" y="95"/>
                </a:moveTo>
                <a:cubicBezTo>
                  <a:pt x="434" y="92"/>
                  <a:pt x="434" y="89"/>
                  <a:pt x="434" y="86"/>
                </a:cubicBezTo>
                <a:cubicBezTo>
                  <a:pt x="435" y="86"/>
                  <a:pt x="435" y="87"/>
                  <a:pt x="436" y="88"/>
                </a:cubicBezTo>
                <a:cubicBezTo>
                  <a:pt x="435" y="90"/>
                  <a:pt x="434" y="92"/>
                  <a:pt x="433" y="95"/>
                </a:cubicBezTo>
                <a:close/>
                <a:moveTo>
                  <a:pt x="444" y="99"/>
                </a:moveTo>
                <a:cubicBezTo>
                  <a:pt x="444" y="99"/>
                  <a:pt x="443" y="98"/>
                  <a:pt x="443" y="97"/>
                </a:cubicBezTo>
                <a:cubicBezTo>
                  <a:pt x="443" y="93"/>
                  <a:pt x="443" y="89"/>
                  <a:pt x="443" y="84"/>
                </a:cubicBezTo>
                <a:cubicBezTo>
                  <a:pt x="445" y="80"/>
                  <a:pt x="447" y="76"/>
                  <a:pt x="450" y="72"/>
                </a:cubicBezTo>
                <a:cubicBezTo>
                  <a:pt x="450" y="74"/>
                  <a:pt x="450" y="78"/>
                  <a:pt x="451" y="82"/>
                </a:cubicBezTo>
                <a:cubicBezTo>
                  <a:pt x="448" y="88"/>
                  <a:pt x="446" y="93"/>
                  <a:pt x="444" y="99"/>
                </a:cubicBezTo>
                <a:close/>
                <a:moveTo>
                  <a:pt x="452" y="75"/>
                </a:moveTo>
                <a:cubicBezTo>
                  <a:pt x="452" y="73"/>
                  <a:pt x="451" y="71"/>
                  <a:pt x="451" y="69"/>
                </a:cubicBezTo>
                <a:cubicBezTo>
                  <a:pt x="452" y="68"/>
                  <a:pt x="453" y="67"/>
                  <a:pt x="453" y="66"/>
                </a:cubicBezTo>
                <a:cubicBezTo>
                  <a:pt x="453" y="69"/>
                  <a:pt x="453" y="72"/>
                  <a:pt x="452" y="75"/>
                </a:cubicBezTo>
                <a:close/>
                <a:moveTo>
                  <a:pt x="460" y="72"/>
                </a:moveTo>
                <a:cubicBezTo>
                  <a:pt x="460" y="71"/>
                  <a:pt x="460" y="70"/>
                  <a:pt x="460" y="70"/>
                </a:cubicBezTo>
                <a:cubicBezTo>
                  <a:pt x="460" y="69"/>
                  <a:pt x="460" y="69"/>
                  <a:pt x="460" y="69"/>
                </a:cubicBezTo>
                <a:cubicBezTo>
                  <a:pt x="460" y="71"/>
                  <a:pt x="460" y="72"/>
                  <a:pt x="460" y="72"/>
                </a:cubicBezTo>
                <a:close/>
                <a:moveTo>
                  <a:pt x="460" y="67"/>
                </a:moveTo>
                <a:cubicBezTo>
                  <a:pt x="460" y="67"/>
                  <a:pt x="460" y="68"/>
                  <a:pt x="460" y="68"/>
                </a:cubicBezTo>
                <a:cubicBezTo>
                  <a:pt x="460" y="65"/>
                  <a:pt x="459" y="61"/>
                  <a:pt x="459" y="58"/>
                </a:cubicBezTo>
                <a:cubicBezTo>
                  <a:pt x="460" y="57"/>
                  <a:pt x="460" y="56"/>
                  <a:pt x="461" y="56"/>
                </a:cubicBezTo>
                <a:cubicBezTo>
                  <a:pt x="461" y="60"/>
                  <a:pt x="460" y="64"/>
                  <a:pt x="460" y="67"/>
                </a:cubicBezTo>
                <a:close/>
                <a:moveTo>
                  <a:pt x="468" y="123"/>
                </a:moveTo>
                <a:cubicBezTo>
                  <a:pt x="467" y="124"/>
                  <a:pt x="466" y="126"/>
                  <a:pt x="466" y="127"/>
                </a:cubicBezTo>
                <a:cubicBezTo>
                  <a:pt x="466" y="124"/>
                  <a:pt x="466" y="122"/>
                  <a:pt x="466" y="119"/>
                </a:cubicBezTo>
                <a:cubicBezTo>
                  <a:pt x="467" y="116"/>
                  <a:pt x="468" y="112"/>
                  <a:pt x="469" y="109"/>
                </a:cubicBezTo>
                <a:cubicBezTo>
                  <a:pt x="469" y="111"/>
                  <a:pt x="469" y="112"/>
                  <a:pt x="469" y="114"/>
                </a:cubicBezTo>
                <a:cubicBezTo>
                  <a:pt x="469" y="117"/>
                  <a:pt x="468" y="120"/>
                  <a:pt x="468" y="123"/>
                </a:cubicBezTo>
                <a:close/>
                <a:moveTo>
                  <a:pt x="470" y="110"/>
                </a:moveTo>
                <a:cubicBezTo>
                  <a:pt x="470" y="111"/>
                  <a:pt x="470" y="112"/>
                  <a:pt x="470" y="112"/>
                </a:cubicBezTo>
                <a:cubicBezTo>
                  <a:pt x="469" y="111"/>
                  <a:pt x="469" y="110"/>
                  <a:pt x="469" y="109"/>
                </a:cubicBezTo>
                <a:cubicBezTo>
                  <a:pt x="469" y="107"/>
                  <a:pt x="470" y="105"/>
                  <a:pt x="471" y="102"/>
                </a:cubicBezTo>
                <a:cubicBezTo>
                  <a:pt x="470" y="105"/>
                  <a:pt x="470" y="108"/>
                  <a:pt x="470" y="110"/>
                </a:cubicBezTo>
                <a:close/>
                <a:moveTo>
                  <a:pt x="472" y="83"/>
                </a:moveTo>
                <a:cubicBezTo>
                  <a:pt x="472" y="83"/>
                  <a:pt x="472" y="84"/>
                  <a:pt x="471" y="85"/>
                </a:cubicBezTo>
                <a:cubicBezTo>
                  <a:pt x="470" y="87"/>
                  <a:pt x="470" y="89"/>
                  <a:pt x="469" y="91"/>
                </a:cubicBezTo>
                <a:cubicBezTo>
                  <a:pt x="468" y="91"/>
                  <a:pt x="468" y="91"/>
                  <a:pt x="468" y="91"/>
                </a:cubicBezTo>
                <a:cubicBezTo>
                  <a:pt x="468" y="91"/>
                  <a:pt x="468" y="91"/>
                  <a:pt x="469" y="91"/>
                </a:cubicBezTo>
                <a:cubicBezTo>
                  <a:pt x="468" y="92"/>
                  <a:pt x="467" y="94"/>
                  <a:pt x="466" y="96"/>
                </a:cubicBezTo>
                <a:cubicBezTo>
                  <a:pt x="467" y="90"/>
                  <a:pt x="467" y="85"/>
                  <a:pt x="469" y="79"/>
                </a:cubicBezTo>
                <a:cubicBezTo>
                  <a:pt x="467" y="85"/>
                  <a:pt x="466" y="90"/>
                  <a:pt x="465" y="95"/>
                </a:cubicBezTo>
                <a:cubicBezTo>
                  <a:pt x="465" y="85"/>
                  <a:pt x="465" y="74"/>
                  <a:pt x="465" y="63"/>
                </a:cubicBezTo>
                <a:cubicBezTo>
                  <a:pt x="468" y="60"/>
                  <a:pt x="471" y="58"/>
                  <a:pt x="474" y="55"/>
                </a:cubicBezTo>
                <a:cubicBezTo>
                  <a:pt x="474" y="62"/>
                  <a:pt x="473" y="72"/>
                  <a:pt x="472" y="83"/>
                </a:cubicBezTo>
                <a:close/>
                <a:moveTo>
                  <a:pt x="478" y="105"/>
                </a:moveTo>
                <a:cubicBezTo>
                  <a:pt x="478" y="102"/>
                  <a:pt x="478" y="99"/>
                  <a:pt x="478" y="96"/>
                </a:cubicBezTo>
                <a:cubicBezTo>
                  <a:pt x="478" y="97"/>
                  <a:pt x="479" y="99"/>
                  <a:pt x="479" y="100"/>
                </a:cubicBezTo>
                <a:cubicBezTo>
                  <a:pt x="479" y="102"/>
                  <a:pt x="479" y="103"/>
                  <a:pt x="478" y="105"/>
                </a:cubicBezTo>
                <a:cubicBezTo>
                  <a:pt x="478" y="105"/>
                  <a:pt x="478" y="105"/>
                  <a:pt x="478" y="105"/>
                </a:cubicBezTo>
                <a:close/>
                <a:moveTo>
                  <a:pt x="480" y="130"/>
                </a:moveTo>
                <a:cubicBezTo>
                  <a:pt x="480" y="130"/>
                  <a:pt x="479" y="130"/>
                  <a:pt x="479" y="130"/>
                </a:cubicBezTo>
                <a:cubicBezTo>
                  <a:pt x="479" y="129"/>
                  <a:pt x="479" y="128"/>
                  <a:pt x="479" y="127"/>
                </a:cubicBezTo>
                <a:cubicBezTo>
                  <a:pt x="479" y="128"/>
                  <a:pt x="480" y="128"/>
                  <a:pt x="480" y="129"/>
                </a:cubicBezTo>
                <a:cubicBezTo>
                  <a:pt x="480" y="129"/>
                  <a:pt x="480" y="130"/>
                  <a:pt x="480" y="130"/>
                </a:cubicBezTo>
                <a:close/>
                <a:moveTo>
                  <a:pt x="486" y="74"/>
                </a:moveTo>
                <a:cubicBezTo>
                  <a:pt x="486" y="73"/>
                  <a:pt x="486" y="71"/>
                  <a:pt x="486" y="70"/>
                </a:cubicBezTo>
                <a:cubicBezTo>
                  <a:pt x="487" y="70"/>
                  <a:pt x="487" y="71"/>
                  <a:pt x="487" y="72"/>
                </a:cubicBezTo>
                <a:cubicBezTo>
                  <a:pt x="487" y="72"/>
                  <a:pt x="487" y="73"/>
                  <a:pt x="486" y="74"/>
                </a:cubicBezTo>
                <a:close/>
                <a:moveTo>
                  <a:pt x="490" y="139"/>
                </a:moveTo>
                <a:cubicBezTo>
                  <a:pt x="490" y="140"/>
                  <a:pt x="490" y="141"/>
                  <a:pt x="490" y="142"/>
                </a:cubicBezTo>
                <a:cubicBezTo>
                  <a:pt x="490" y="142"/>
                  <a:pt x="490" y="141"/>
                  <a:pt x="490" y="139"/>
                </a:cubicBezTo>
                <a:cubicBezTo>
                  <a:pt x="490" y="138"/>
                  <a:pt x="490" y="137"/>
                  <a:pt x="491" y="136"/>
                </a:cubicBezTo>
                <a:cubicBezTo>
                  <a:pt x="491" y="137"/>
                  <a:pt x="491" y="137"/>
                  <a:pt x="491" y="137"/>
                </a:cubicBezTo>
                <a:cubicBezTo>
                  <a:pt x="491" y="138"/>
                  <a:pt x="490" y="139"/>
                  <a:pt x="490" y="139"/>
                </a:cubicBezTo>
                <a:close/>
                <a:moveTo>
                  <a:pt x="492" y="122"/>
                </a:moveTo>
                <a:cubicBezTo>
                  <a:pt x="492" y="122"/>
                  <a:pt x="492" y="122"/>
                  <a:pt x="492" y="122"/>
                </a:cubicBezTo>
                <a:cubicBezTo>
                  <a:pt x="492" y="121"/>
                  <a:pt x="492" y="121"/>
                  <a:pt x="492" y="121"/>
                </a:cubicBezTo>
                <a:cubicBezTo>
                  <a:pt x="492" y="121"/>
                  <a:pt x="492" y="122"/>
                  <a:pt x="492" y="122"/>
                </a:cubicBezTo>
                <a:close/>
                <a:moveTo>
                  <a:pt x="493" y="110"/>
                </a:moveTo>
                <a:cubicBezTo>
                  <a:pt x="492" y="112"/>
                  <a:pt x="491" y="114"/>
                  <a:pt x="491" y="116"/>
                </a:cubicBezTo>
                <a:cubicBezTo>
                  <a:pt x="490" y="116"/>
                  <a:pt x="490" y="117"/>
                  <a:pt x="490" y="117"/>
                </a:cubicBezTo>
                <a:cubicBezTo>
                  <a:pt x="490" y="113"/>
                  <a:pt x="489" y="108"/>
                  <a:pt x="489" y="104"/>
                </a:cubicBezTo>
                <a:cubicBezTo>
                  <a:pt x="490" y="101"/>
                  <a:pt x="491" y="98"/>
                  <a:pt x="492" y="96"/>
                </a:cubicBezTo>
                <a:cubicBezTo>
                  <a:pt x="492" y="95"/>
                  <a:pt x="492" y="95"/>
                  <a:pt x="492" y="95"/>
                </a:cubicBezTo>
                <a:cubicBezTo>
                  <a:pt x="492" y="98"/>
                  <a:pt x="493" y="101"/>
                  <a:pt x="493" y="104"/>
                </a:cubicBezTo>
                <a:cubicBezTo>
                  <a:pt x="493" y="106"/>
                  <a:pt x="493" y="108"/>
                  <a:pt x="493" y="110"/>
                </a:cubicBezTo>
                <a:close/>
                <a:moveTo>
                  <a:pt x="494" y="99"/>
                </a:moveTo>
                <a:cubicBezTo>
                  <a:pt x="493" y="97"/>
                  <a:pt x="493" y="96"/>
                  <a:pt x="492" y="94"/>
                </a:cubicBezTo>
                <a:cubicBezTo>
                  <a:pt x="493" y="93"/>
                  <a:pt x="494" y="92"/>
                  <a:pt x="494" y="91"/>
                </a:cubicBezTo>
                <a:cubicBezTo>
                  <a:pt x="494" y="94"/>
                  <a:pt x="494" y="96"/>
                  <a:pt x="494" y="99"/>
                </a:cubicBezTo>
                <a:close/>
                <a:moveTo>
                  <a:pt x="488" y="91"/>
                </a:moveTo>
                <a:cubicBezTo>
                  <a:pt x="488" y="89"/>
                  <a:pt x="488" y="88"/>
                  <a:pt x="488" y="87"/>
                </a:cubicBezTo>
                <a:cubicBezTo>
                  <a:pt x="489" y="83"/>
                  <a:pt x="490" y="80"/>
                  <a:pt x="491" y="76"/>
                </a:cubicBezTo>
                <a:cubicBezTo>
                  <a:pt x="493" y="78"/>
                  <a:pt x="494" y="80"/>
                  <a:pt x="495" y="82"/>
                </a:cubicBezTo>
                <a:cubicBezTo>
                  <a:pt x="492" y="85"/>
                  <a:pt x="490" y="88"/>
                  <a:pt x="488" y="91"/>
                </a:cubicBezTo>
                <a:close/>
                <a:moveTo>
                  <a:pt x="495" y="79"/>
                </a:moveTo>
                <a:cubicBezTo>
                  <a:pt x="494" y="77"/>
                  <a:pt x="493" y="76"/>
                  <a:pt x="492" y="75"/>
                </a:cubicBezTo>
                <a:cubicBezTo>
                  <a:pt x="493" y="72"/>
                  <a:pt x="495" y="68"/>
                  <a:pt x="496" y="65"/>
                </a:cubicBezTo>
                <a:cubicBezTo>
                  <a:pt x="496" y="68"/>
                  <a:pt x="496" y="73"/>
                  <a:pt x="495" y="79"/>
                </a:cubicBezTo>
                <a:close/>
                <a:moveTo>
                  <a:pt x="514" y="54"/>
                </a:moveTo>
                <a:cubicBezTo>
                  <a:pt x="513" y="56"/>
                  <a:pt x="512" y="58"/>
                  <a:pt x="512" y="61"/>
                </a:cubicBezTo>
                <a:cubicBezTo>
                  <a:pt x="508" y="65"/>
                  <a:pt x="505" y="69"/>
                  <a:pt x="501" y="74"/>
                </a:cubicBezTo>
                <a:cubicBezTo>
                  <a:pt x="504" y="67"/>
                  <a:pt x="509" y="60"/>
                  <a:pt x="514" y="54"/>
                </a:cubicBezTo>
                <a:close/>
                <a:moveTo>
                  <a:pt x="499" y="89"/>
                </a:moveTo>
                <a:cubicBezTo>
                  <a:pt x="499" y="90"/>
                  <a:pt x="500" y="91"/>
                  <a:pt x="500" y="92"/>
                </a:cubicBezTo>
                <a:cubicBezTo>
                  <a:pt x="500" y="92"/>
                  <a:pt x="500" y="93"/>
                  <a:pt x="499" y="94"/>
                </a:cubicBezTo>
                <a:cubicBezTo>
                  <a:pt x="499" y="92"/>
                  <a:pt x="499" y="91"/>
                  <a:pt x="499" y="89"/>
                </a:cubicBezTo>
                <a:close/>
                <a:moveTo>
                  <a:pt x="502" y="127"/>
                </a:moveTo>
                <a:cubicBezTo>
                  <a:pt x="501" y="125"/>
                  <a:pt x="501" y="124"/>
                  <a:pt x="500" y="122"/>
                </a:cubicBezTo>
                <a:cubicBezTo>
                  <a:pt x="500" y="117"/>
                  <a:pt x="500" y="111"/>
                  <a:pt x="500" y="105"/>
                </a:cubicBezTo>
                <a:cubicBezTo>
                  <a:pt x="501" y="104"/>
                  <a:pt x="502" y="102"/>
                  <a:pt x="503" y="101"/>
                </a:cubicBezTo>
                <a:cubicBezTo>
                  <a:pt x="502" y="102"/>
                  <a:pt x="501" y="103"/>
                  <a:pt x="500" y="105"/>
                </a:cubicBezTo>
                <a:cubicBezTo>
                  <a:pt x="500" y="102"/>
                  <a:pt x="499" y="99"/>
                  <a:pt x="499" y="96"/>
                </a:cubicBezTo>
                <a:cubicBezTo>
                  <a:pt x="500" y="95"/>
                  <a:pt x="500" y="94"/>
                  <a:pt x="501" y="93"/>
                </a:cubicBezTo>
                <a:cubicBezTo>
                  <a:pt x="502" y="95"/>
                  <a:pt x="503" y="97"/>
                  <a:pt x="503" y="100"/>
                </a:cubicBezTo>
                <a:cubicBezTo>
                  <a:pt x="503" y="100"/>
                  <a:pt x="503" y="100"/>
                  <a:pt x="503" y="101"/>
                </a:cubicBezTo>
                <a:cubicBezTo>
                  <a:pt x="503" y="101"/>
                  <a:pt x="503" y="100"/>
                  <a:pt x="503" y="100"/>
                </a:cubicBezTo>
                <a:cubicBezTo>
                  <a:pt x="504" y="101"/>
                  <a:pt x="504" y="102"/>
                  <a:pt x="505" y="103"/>
                </a:cubicBezTo>
                <a:cubicBezTo>
                  <a:pt x="503" y="112"/>
                  <a:pt x="502" y="120"/>
                  <a:pt x="502" y="127"/>
                </a:cubicBezTo>
                <a:close/>
                <a:moveTo>
                  <a:pt x="503" y="87"/>
                </a:moveTo>
                <a:cubicBezTo>
                  <a:pt x="503" y="86"/>
                  <a:pt x="504" y="84"/>
                  <a:pt x="505" y="83"/>
                </a:cubicBezTo>
                <a:cubicBezTo>
                  <a:pt x="504" y="84"/>
                  <a:pt x="503" y="86"/>
                  <a:pt x="502" y="87"/>
                </a:cubicBezTo>
                <a:cubicBezTo>
                  <a:pt x="501" y="86"/>
                  <a:pt x="500" y="85"/>
                  <a:pt x="499" y="83"/>
                </a:cubicBezTo>
                <a:cubicBezTo>
                  <a:pt x="503" y="78"/>
                  <a:pt x="507" y="72"/>
                  <a:pt x="511" y="67"/>
                </a:cubicBezTo>
                <a:cubicBezTo>
                  <a:pt x="510" y="72"/>
                  <a:pt x="509" y="76"/>
                  <a:pt x="508" y="81"/>
                </a:cubicBezTo>
                <a:cubicBezTo>
                  <a:pt x="508" y="80"/>
                  <a:pt x="507" y="79"/>
                  <a:pt x="507" y="79"/>
                </a:cubicBezTo>
                <a:cubicBezTo>
                  <a:pt x="507" y="78"/>
                  <a:pt x="508" y="77"/>
                  <a:pt x="509" y="75"/>
                </a:cubicBezTo>
                <a:cubicBezTo>
                  <a:pt x="508" y="76"/>
                  <a:pt x="507" y="77"/>
                  <a:pt x="507" y="79"/>
                </a:cubicBezTo>
                <a:cubicBezTo>
                  <a:pt x="506" y="78"/>
                  <a:pt x="506" y="77"/>
                  <a:pt x="505" y="77"/>
                </a:cubicBezTo>
                <a:cubicBezTo>
                  <a:pt x="506" y="78"/>
                  <a:pt x="506" y="79"/>
                  <a:pt x="506" y="79"/>
                </a:cubicBezTo>
                <a:cubicBezTo>
                  <a:pt x="506" y="80"/>
                  <a:pt x="505" y="81"/>
                  <a:pt x="505" y="83"/>
                </a:cubicBezTo>
                <a:cubicBezTo>
                  <a:pt x="505" y="82"/>
                  <a:pt x="506" y="81"/>
                  <a:pt x="506" y="80"/>
                </a:cubicBezTo>
                <a:cubicBezTo>
                  <a:pt x="507" y="81"/>
                  <a:pt x="507" y="82"/>
                  <a:pt x="508" y="84"/>
                </a:cubicBezTo>
                <a:cubicBezTo>
                  <a:pt x="507" y="87"/>
                  <a:pt x="507" y="90"/>
                  <a:pt x="506" y="93"/>
                </a:cubicBezTo>
                <a:cubicBezTo>
                  <a:pt x="505" y="91"/>
                  <a:pt x="504" y="89"/>
                  <a:pt x="503" y="87"/>
                </a:cubicBezTo>
                <a:close/>
                <a:moveTo>
                  <a:pt x="508" y="144"/>
                </a:moveTo>
                <a:cubicBezTo>
                  <a:pt x="507" y="144"/>
                  <a:pt x="507" y="143"/>
                  <a:pt x="507" y="143"/>
                </a:cubicBezTo>
                <a:cubicBezTo>
                  <a:pt x="507" y="140"/>
                  <a:pt x="507" y="136"/>
                  <a:pt x="508" y="131"/>
                </a:cubicBezTo>
                <a:cubicBezTo>
                  <a:pt x="509" y="128"/>
                  <a:pt x="509" y="126"/>
                  <a:pt x="509" y="125"/>
                </a:cubicBezTo>
                <a:cubicBezTo>
                  <a:pt x="509" y="125"/>
                  <a:pt x="509" y="124"/>
                  <a:pt x="509" y="124"/>
                </a:cubicBezTo>
                <a:cubicBezTo>
                  <a:pt x="509" y="124"/>
                  <a:pt x="508" y="124"/>
                  <a:pt x="508" y="124"/>
                </a:cubicBezTo>
                <a:cubicBezTo>
                  <a:pt x="508" y="122"/>
                  <a:pt x="508" y="120"/>
                  <a:pt x="509" y="118"/>
                </a:cubicBezTo>
                <a:cubicBezTo>
                  <a:pt x="509" y="121"/>
                  <a:pt x="510" y="125"/>
                  <a:pt x="510" y="128"/>
                </a:cubicBezTo>
                <a:cubicBezTo>
                  <a:pt x="509" y="136"/>
                  <a:pt x="508" y="141"/>
                  <a:pt x="508" y="144"/>
                </a:cubicBezTo>
                <a:close/>
                <a:moveTo>
                  <a:pt x="514" y="107"/>
                </a:moveTo>
                <a:cubicBezTo>
                  <a:pt x="513" y="105"/>
                  <a:pt x="512" y="102"/>
                  <a:pt x="510" y="100"/>
                </a:cubicBezTo>
                <a:cubicBezTo>
                  <a:pt x="511" y="97"/>
                  <a:pt x="511" y="95"/>
                  <a:pt x="511" y="93"/>
                </a:cubicBezTo>
                <a:cubicBezTo>
                  <a:pt x="512" y="96"/>
                  <a:pt x="514" y="99"/>
                  <a:pt x="515" y="102"/>
                </a:cubicBezTo>
                <a:cubicBezTo>
                  <a:pt x="515" y="104"/>
                  <a:pt x="514" y="105"/>
                  <a:pt x="514" y="107"/>
                </a:cubicBezTo>
                <a:close/>
                <a:moveTo>
                  <a:pt x="515" y="159"/>
                </a:moveTo>
                <a:cubicBezTo>
                  <a:pt x="516" y="159"/>
                  <a:pt x="516" y="159"/>
                  <a:pt x="516" y="159"/>
                </a:cubicBezTo>
                <a:cubicBezTo>
                  <a:pt x="516" y="159"/>
                  <a:pt x="516" y="159"/>
                  <a:pt x="516" y="159"/>
                </a:cubicBezTo>
                <a:cubicBezTo>
                  <a:pt x="516" y="159"/>
                  <a:pt x="515" y="159"/>
                  <a:pt x="515" y="159"/>
                </a:cubicBezTo>
                <a:close/>
                <a:moveTo>
                  <a:pt x="516" y="96"/>
                </a:moveTo>
                <a:cubicBezTo>
                  <a:pt x="515" y="93"/>
                  <a:pt x="514" y="91"/>
                  <a:pt x="512" y="88"/>
                </a:cubicBezTo>
                <a:cubicBezTo>
                  <a:pt x="515" y="85"/>
                  <a:pt x="517" y="82"/>
                  <a:pt x="518" y="79"/>
                </a:cubicBezTo>
                <a:cubicBezTo>
                  <a:pt x="518" y="84"/>
                  <a:pt x="517" y="90"/>
                  <a:pt x="516" y="96"/>
                </a:cubicBezTo>
                <a:close/>
                <a:moveTo>
                  <a:pt x="519" y="75"/>
                </a:moveTo>
                <a:cubicBezTo>
                  <a:pt x="517" y="78"/>
                  <a:pt x="514" y="82"/>
                  <a:pt x="512" y="86"/>
                </a:cubicBezTo>
                <a:cubicBezTo>
                  <a:pt x="513" y="77"/>
                  <a:pt x="514" y="68"/>
                  <a:pt x="515" y="61"/>
                </a:cubicBezTo>
                <a:cubicBezTo>
                  <a:pt x="517" y="58"/>
                  <a:pt x="519" y="55"/>
                  <a:pt x="521" y="53"/>
                </a:cubicBezTo>
                <a:cubicBezTo>
                  <a:pt x="521" y="58"/>
                  <a:pt x="520" y="66"/>
                  <a:pt x="519" y="75"/>
                </a:cubicBezTo>
                <a:close/>
                <a:moveTo>
                  <a:pt x="526" y="139"/>
                </a:moveTo>
                <a:cubicBezTo>
                  <a:pt x="526" y="139"/>
                  <a:pt x="526" y="139"/>
                  <a:pt x="526" y="139"/>
                </a:cubicBezTo>
                <a:cubicBezTo>
                  <a:pt x="526" y="138"/>
                  <a:pt x="526" y="138"/>
                  <a:pt x="526" y="138"/>
                </a:cubicBezTo>
                <a:cubicBezTo>
                  <a:pt x="526" y="138"/>
                  <a:pt x="526" y="138"/>
                  <a:pt x="526" y="138"/>
                </a:cubicBezTo>
                <a:cubicBezTo>
                  <a:pt x="526" y="139"/>
                  <a:pt x="526" y="139"/>
                  <a:pt x="526" y="139"/>
                </a:cubicBezTo>
                <a:close/>
                <a:moveTo>
                  <a:pt x="551" y="137"/>
                </a:moveTo>
                <a:cubicBezTo>
                  <a:pt x="551" y="136"/>
                  <a:pt x="550" y="135"/>
                  <a:pt x="550" y="133"/>
                </a:cubicBezTo>
                <a:cubicBezTo>
                  <a:pt x="550" y="132"/>
                  <a:pt x="550" y="130"/>
                  <a:pt x="550" y="128"/>
                </a:cubicBezTo>
                <a:cubicBezTo>
                  <a:pt x="551" y="131"/>
                  <a:pt x="551" y="133"/>
                  <a:pt x="552" y="135"/>
                </a:cubicBezTo>
                <a:cubicBezTo>
                  <a:pt x="552" y="136"/>
                  <a:pt x="552" y="137"/>
                  <a:pt x="551" y="137"/>
                </a:cubicBezTo>
                <a:close/>
                <a:moveTo>
                  <a:pt x="558" y="99"/>
                </a:moveTo>
                <a:cubicBezTo>
                  <a:pt x="556" y="95"/>
                  <a:pt x="554" y="92"/>
                  <a:pt x="552" y="90"/>
                </a:cubicBezTo>
                <a:cubicBezTo>
                  <a:pt x="554" y="93"/>
                  <a:pt x="556" y="97"/>
                  <a:pt x="557" y="101"/>
                </a:cubicBezTo>
                <a:cubicBezTo>
                  <a:pt x="556" y="110"/>
                  <a:pt x="555" y="118"/>
                  <a:pt x="554" y="125"/>
                </a:cubicBezTo>
                <a:cubicBezTo>
                  <a:pt x="553" y="122"/>
                  <a:pt x="552" y="119"/>
                  <a:pt x="551" y="116"/>
                </a:cubicBezTo>
                <a:cubicBezTo>
                  <a:pt x="551" y="102"/>
                  <a:pt x="552" y="86"/>
                  <a:pt x="553" y="72"/>
                </a:cubicBezTo>
                <a:cubicBezTo>
                  <a:pt x="556" y="75"/>
                  <a:pt x="558" y="79"/>
                  <a:pt x="560" y="82"/>
                </a:cubicBezTo>
                <a:cubicBezTo>
                  <a:pt x="559" y="88"/>
                  <a:pt x="558" y="93"/>
                  <a:pt x="558" y="99"/>
                </a:cubicBezTo>
                <a:close/>
                <a:moveTo>
                  <a:pt x="561" y="142"/>
                </a:moveTo>
                <a:cubicBezTo>
                  <a:pt x="561" y="134"/>
                  <a:pt x="562" y="127"/>
                  <a:pt x="562" y="121"/>
                </a:cubicBezTo>
                <a:cubicBezTo>
                  <a:pt x="563" y="123"/>
                  <a:pt x="563" y="125"/>
                  <a:pt x="563" y="127"/>
                </a:cubicBezTo>
                <a:cubicBezTo>
                  <a:pt x="562" y="136"/>
                  <a:pt x="561" y="142"/>
                  <a:pt x="561" y="142"/>
                </a:cubicBezTo>
                <a:close/>
                <a:moveTo>
                  <a:pt x="564" y="144"/>
                </a:moveTo>
                <a:cubicBezTo>
                  <a:pt x="564" y="142"/>
                  <a:pt x="564" y="140"/>
                  <a:pt x="565" y="137"/>
                </a:cubicBezTo>
                <a:cubicBezTo>
                  <a:pt x="565" y="138"/>
                  <a:pt x="565" y="138"/>
                  <a:pt x="565" y="138"/>
                </a:cubicBezTo>
                <a:cubicBezTo>
                  <a:pt x="564" y="142"/>
                  <a:pt x="564" y="144"/>
                  <a:pt x="564" y="144"/>
                </a:cubicBezTo>
                <a:close/>
                <a:moveTo>
                  <a:pt x="563" y="110"/>
                </a:moveTo>
                <a:cubicBezTo>
                  <a:pt x="563" y="103"/>
                  <a:pt x="564" y="96"/>
                  <a:pt x="564" y="90"/>
                </a:cubicBezTo>
                <a:cubicBezTo>
                  <a:pt x="566" y="93"/>
                  <a:pt x="567" y="96"/>
                  <a:pt x="568" y="99"/>
                </a:cubicBezTo>
                <a:cubicBezTo>
                  <a:pt x="567" y="105"/>
                  <a:pt x="566" y="111"/>
                  <a:pt x="565" y="116"/>
                </a:cubicBezTo>
                <a:cubicBezTo>
                  <a:pt x="564" y="114"/>
                  <a:pt x="564" y="112"/>
                  <a:pt x="563" y="110"/>
                </a:cubicBezTo>
                <a:close/>
                <a:moveTo>
                  <a:pt x="568" y="124"/>
                </a:moveTo>
                <a:cubicBezTo>
                  <a:pt x="568" y="123"/>
                  <a:pt x="567" y="122"/>
                  <a:pt x="567" y="121"/>
                </a:cubicBezTo>
                <a:cubicBezTo>
                  <a:pt x="568" y="115"/>
                  <a:pt x="568" y="109"/>
                  <a:pt x="569" y="103"/>
                </a:cubicBezTo>
                <a:cubicBezTo>
                  <a:pt x="570" y="105"/>
                  <a:pt x="570" y="107"/>
                  <a:pt x="571" y="109"/>
                </a:cubicBezTo>
                <a:cubicBezTo>
                  <a:pt x="570" y="114"/>
                  <a:pt x="569" y="119"/>
                  <a:pt x="568" y="124"/>
                </a:cubicBezTo>
                <a:close/>
                <a:moveTo>
                  <a:pt x="574" y="146"/>
                </a:moveTo>
                <a:cubicBezTo>
                  <a:pt x="574" y="145"/>
                  <a:pt x="574" y="145"/>
                  <a:pt x="574" y="145"/>
                </a:cubicBezTo>
                <a:cubicBezTo>
                  <a:pt x="574" y="144"/>
                  <a:pt x="574" y="143"/>
                  <a:pt x="574" y="142"/>
                </a:cubicBezTo>
                <a:cubicBezTo>
                  <a:pt x="574" y="142"/>
                  <a:pt x="574" y="143"/>
                  <a:pt x="574" y="144"/>
                </a:cubicBezTo>
                <a:cubicBezTo>
                  <a:pt x="574" y="145"/>
                  <a:pt x="574" y="145"/>
                  <a:pt x="574" y="146"/>
                </a:cubicBezTo>
                <a:close/>
                <a:moveTo>
                  <a:pt x="597" y="118"/>
                </a:moveTo>
                <a:cubicBezTo>
                  <a:pt x="596" y="114"/>
                  <a:pt x="595" y="111"/>
                  <a:pt x="593" y="107"/>
                </a:cubicBezTo>
                <a:cubicBezTo>
                  <a:pt x="593" y="96"/>
                  <a:pt x="593" y="84"/>
                  <a:pt x="593" y="74"/>
                </a:cubicBezTo>
                <a:cubicBezTo>
                  <a:pt x="593" y="70"/>
                  <a:pt x="593" y="67"/>
                  <a:pt x="592" y="65"/>
                </a:cubicBezTo>
                <a:cubicBezTo>
                  <a:pt x="593" y="74"/>
                  <a:pt x="597" y="84"/>
                  <a:pt x="600" y="94"/>
                </a:cubicBezTo>
                <a:cubicBezTo>
                  <a:pt x="599" y="102"/>
                  <a:pt x="598" y="110"/>
                  <a:pt x="597" y="118"/>
                </a:cubicBezTo>
                <a:close/>
                <a:moveTo>
                  <a:pt x="626" y="124"/>
                </a:moveTo>
                <a:cubicBezTo>
                  <a:pt x="626" y="122"/>
                  <a:pt x="625" y="120"/>
                  <a:pt x="625" y="117"/>
                </a:cubicBezTo>
                <a:cubicBezTo>
                  <a:pt x="626" y="109"/>
                  <a:pt x="627" y="100"/>
                  <a:pt x="627" y="92"/>
                </a:cubicBezTo>
                <a:cubicBezTo>
                  <a:pt x="629" y="96"/>
                  <a:pt x="630" y="100"/>
                  <a:pt x="630" y="104"/>
                </a:cubicBezTo>
                <a:cubicBezTo>
                  <a:pt x="629" y="111"/>
                  <a:pt x="627" y="118"/>
                  <a:pt x="626" y="124"/>
                </a:cubicBezTo>
                <a:close/>
                <a:moveTo>
                  <a:pt x="667" y="133"/>
                </a:moveTo>
                <a:cubicBezTo>
                  <a:pt x="666" y="130"/>
                  <a:pt x="665" y="126"/>
                  <a:pt x="664" y="122"/>
                </a:cubicBezTo>
                <a:cubicBezTo>
                  <a:pt x="664" y="112"/>
                  <a:pt x="665" y="100"/>
                  <a:pt x="665" y="88"/>
                </a:cubicBezTo>
                <a:cubicBezTo>
                  <a:pt x="667" y="96"/>
                  <a:pt x="669" y="104"/>
                  <a:pt x="670" y="111"/>
                </a:cubicBezTo>
                <a:cubicBezTo>
                  <a:pt x="670" y="117"/>
                  <a:pt x="670" y="117"/>
                  <a:pt x="670" y="117"/>
                </a:cubicBezTo>
                <a:cubicBezTo>
                  <a:pt x="668" y="123"/>
                  <a:pt x="667" y="129"/>
                  <a:pt x="667" y="133"/>
                </a:cubicBezTo>
                <a:close/>
                <a:moveTo>
                  <a:pt x="679" y="110"/>
                </a:moveTo>
                <a:cubicBezTo>
                  <a:pt x="679" y="113"/>
                  <a:pt x="679" y="116"/>
                  <a:pt x="679" y="119"/>
                </a:cubicBezTo>
                <a:cubicBezTo>
                  <a:pt x="678" y="122"/>
                  <a:pt x="678" y="124"/>
                  <a:pt x="677" y="127"/>
                </a:cubicBezTo>
                <a:cubicBezTo>
                  <a:pt x="677" y="119"/>
                  <a:pt x="676" y="111"/>
                  <a:pt x="675" y="104"/>
                </a:cubicBezTo>
                <a:cubicBezTo>
                  <a:pt x="676" y="98"/>
                  <a:pt x="676" y="91"/>
                  <a:pt x="677" y="86"/>
                </a:cubicBezTo>
                <a:cubicBezTo>
                  <a:pt x="679" y="93"/>
                  <a:pt x="679" y="102"/>
                  <a:pt x="679" y="110"/>
                </a:cubicBezTo>
                <a:close/>
                <a:moveTo>
                  <a:pt x="689" y="142"/>
                </a:moveTo>
                <a:cubicBezTo>
                  <a:pt x="689" y="142"/>
                  <a:pt x="689" y="141"/>
                  <a:pt x="690" y="138"/>
                </a:cubicBezTo>
                <a:cubicBezTo>
                  <a:pt x="691" y="120"/>
                  <a:pt x="690" y="96"/>
                  <a:pt x="689" y="77"/>
                </a:cubicBezTo>
                <a:cubicBezTo>
                  <a:pt x="691" y="81"/>
                  <a:pt x="693" y="86"/>
                  <a:pt x="694" y="92"/>
                </a:cubicBezTo>
                <a:cubicBezTo>
                  <a:pt x="692" y="108"/>
                  <a:pt x="690" y="129"/>
                  <a:pt x="690" y="138"/>
                </a:cubicBezTo>
                <a:cubicBezTo>
                  <a:pt x="690" y="139"/>
                  <a:pt x="689" y="141"/>
                  <a:pt x="689" y="142"/>
                </a:cubicBezTo>
                <a:close/>
                <a:moveTo>
                  <a:pt x="693" y="129"/>
                </a:moveTo>
                <a:cubicBezTo>
                  <a:pt x="693" y="119"/>
                  <a:pt x="694" y="107"/>
                  <a:pt x="695" y="97"/>
                </a:cubicBezTo>
                <a:cubicBezTo>
                  <a:pt x="695" y="100"/>
                  <a:pt x="695" y="103"/>
                  <a:pt x="695" y="106"/>
                </a:cubicBezTo>
                <a:cubicBezTo>
                  <a:pt x="695" y="114"/>
                  <a:pt x="694" y="121"/>
                  <a:pt x="693" y="129"/>
                </a:cubicBezTo>
                <a:close/>
                <a:moveTo>
                  <a:pt x="705" y="125"/>
                </a:moveTo>
                <a:cubicBezTo>
                  <a:pt x="705" y="120"/>
                  <a:pt x="705" y="113"/>
                  <a:pt x="705" y="107"/>
                </a:cubicBezTo>
                <a:cubicBezTo>
                  <a:pt x="705" y="114"/>
                  <a:pt x="705" y="120"/>
                  <a:pt x="705" y="125"/>
                </a:cubicBezTo>
                <a:close/>
                <a:moveTo>
                  <a:pt x="720" y="112"/>
                </a:moveTo>
                <a:cubicBezTo>
                  <a:pt x="720" y="105"/>
                  <a:pt x="720" y="98"/>
                  <a:pt x="719" y="91"/>
                </a:cubicBezTo>
                <a:cubicBezTo>
                  <a:pt x="720" y="95"/>
                  <a:pt x="720" y="99"/>
                  <a:pt x="720" y="103"/>
                </a:cubicBezTo>
                <a:cubicBezTo>
                  <a:pt x="720" y="106"/>
                  <a:pt x="720" y="109"/>
                  <a:pt x="720" y="112"/>
                </a:cubicBezTo>
                <a:close/>
                <a:moveTo>
                  <a:pt x="730" y="129"/>
                </a:moveTo>
                <a:cubicBezTo>
                  <a:pt x="730" y="129"/>
                  <a:pt x="730" y="129"/>
                  <a:pt x="730" y="130"/>
                </a:cubicBezTo>
                <a:cubicBezTo>
                  <a:pt x="729" y="132"/>
                  <a:pt x="728" y="134"/>
                  <a:pt x="728" y="137"/>
                </a:cubicBezTo>
                <a:cubicBezTo>
                  <a:pt x="728" y="136"/>
                  <a:pt x="728" y="136"/>
                  <a:pt x="728" y="136"/>
                </a:cubicBezTo>
                <a:cubicBezTo>
                  <a:pt x="728" y="134"/>
                  <a:pt x="729" y="132"/>
                  <a:pt x="730" y="130"/>
                </a:cubicBezTo>
                <a:cubicBezTo>
                  <a:pt x="730" y="129"/>
                  <a:pt x="730" y="129"/>
                  <a:pt x="730" y="129"/>
                </a:cubicBezTo>
                <a:cubicBezTo>
                  <a:pt x="730" y="129"/>
                  <a:pt x="730" y="129"/>
                  <a:pt x="730" y="129"/>
                </a:cubicBezTo>
                <a:close/>
                <a:moveTo>
                  <a:pt x="767" y="130"/>
                </a:moveTo>
                <a:cubicBezTo>
                  <a:pt x="766" y="132"/>
                  <a:pt x="765" y="134"/>
                  <a:pt x="765" y="136"/>
                </a:cubicBezTo>
                <a:cubicBezTo>
                  <a:pt x="764" y="131"/>
                  <a:pt x="764" y="126"/>
                  <a:pt x="764" y="121"/>
                </a:cubicBezTo>
                <a:cubicBezTo>
                  <a:pt x="766" y="115"/>
                  <a:pt x="768" y="110"/>
                  <a:pt x="769" y="104"/>
                </a:cubicBezTo>
                <a:cubicBezTo>
                  <a:pt x="768" y="114"/>
                  <a:pt x="767" y="123"/>
                  <a:pt x="767" y="130"/>
                </a:cubicBezTo>
                <a:close/>
                <a:moveTo>
                  <a:pt x="782" y="124"/>
                </a:moveTo>
                <a:cubicBezTo>
                  <a:pt x="782" y="110"/>
                  <a:pt x="784" y="94"/>
                  <a:pt x="785" y="83"/>
                </a:cubicBezTo>
                <a:cubicBezTo>
                  <a:pt x="785" y="87"/>
                  <a:pt x="785" y="91"/>
                  <a:pt x="785" y="95"/>
                </a:cubicBezTo>
                <a:cubicBezTo>
                  <a:pt x="785" y="105"/>
                  <a:pt x="784" y="114"/>
                  <a:pt x="782" y="124"/>
                </a:cubicBezTo>
                <a:close/>
                <a:moveTo>
                  <a:pt x="799" y="160"/>
                </a:moveTo>
                <a:cubicBezTo>
                  <a:pt x="799" y="159"/>
                  <a:pt x="799" y="159"/>
                  <a:pt x="799" y="159"/>
                </a:cubicBezTo>
                <a:cubicBezTo>
                  <a:pt x="799" y="159"/>
                  <a:pt x="799" y="159"/>
                  <a:pt x="799" y="159"/>
                </a:cubicBezTo>
                <a:cubicBezTo>
                  <a:pt x="799" y="159"/>
                  <a:pt x="799" y="159"/>
                  <a:pt x="799" y="160"/>
                </a:cubicBezTo>
                <a:close/>
                <a:moveTo>
                  <a:pt x="811" y="116"/>
                </a:moveTo>
                <a:cubicBezTo>
                  <a:pt x="810" y="121"/>
                  <a:pt x="808" y="127"/>
                  <a:pt x="806" y="132"/>
                </a:cubicBezTo>
                <a:cubicBezTo>
                  <a:pt x="806" y="127"/>
                  <a:pt x="806" y="121"/>
                  <a:pt x="806" y="115"/>
                </a:cubicBezTo>
                <a:cubicBezTo>
                  <a:pt x="807" y="110"/>
                  <a:pt x="808" y="104"/>
                  <a:pt x="808" y="98"/>
                </a:cubicBezTo>
                <a:cubicBezTo>
                  <a:pt x="808" y="95"/>
                  <a:pt x="807" y="92"/>
                  <a:pt x="807" y="89"/>
                </a:cubicBezTo>
                <a:cubicBezTo>
                  <a:pt x="808" y="78"/>
                  <a:pt x="809" y="68"/>
                  <a:pt x="810" y="60"/>
                </a:cubicBezTo>
                <a:cubicBezTo>
                  <a:pt x="813" y="68"/>
                  <a:pt x="815" y="78"/>
                  <a:pt x="815" y="87"/>
                </a:cubicBezTo>
                <a:cubicBezTo>
                  <a:pt x="814" y="95"/>
                  <a:pt x="813" y="106"/>
                  <a:pt x="811" y="116"/>
                </a:cubicBezTo>
                <a:close/>
                <a:moveTo>
                  <a:pt x="819" y="136"/>
                </a:moveTo>
                <a:cubicBezTo>
                  <a:pt x="819" y="137"/>
                  <a:pt x="819" y="138"/>
                  <a:pt x="818" y="139"/>
                </a:cubicBezTo>
                <a:cubicBezTo>
                  <a:pt x="818" y="137"/>
                  <a:pt x="818" y="135"/>
                  <a:pt x="818" y="133"/>
                </a:cubicBezTo>
                <a:cubicBezTo>
                  <a:pt x="819" y="130"/>
                  <a:pt x="819" y="128"/>
                  <a:pt x="820" y="125"/>
                </a:cubicBezTo>
                <a:cubicBezTo>
                  <a:pt x="820" y="129"/>
                  <a:pt x="819" y="133"/>
                  <a:pt x="819" y="136"/>
                </a:cubicBezTo>
                <a:close/>
                <a:moveTo>
                  <a:pt x="835" y="126"/>
                </a:moveTo>
                <a:cubicBezTo>
                  <a:pt x="834" y="113"/>
                  <a:pt x="834" y="96"/>
                  <a:pt x="834" y="84"/>
                </a:cubicBezTo>
                <a:cubicBezTo>
                  <a:pt x="838" y="90"/>
                  <a:pt x="840" y="100"/>
                  <a:pt x="840" y="104"/>
                </a:cubicBezTo>
                <a:cubicBezTo>
                  <a:pt x="840" y="110"/>
                  <a:pt x="838" y="118"/>
                  <a:pt x="835" y="126"/>
                </a:cubicBezTo>
                <a:close/>
                <a:moveTo>
                  <a:pt x="846" y="128"/>
                </a:moveTo>
                <a:cubicBezTo>
                  <a:pt x="848" y="113"/>
                  <a:pt x="847" y="91"/>
                  <a:pt x="847" y="76"/>
                </a:cubicBezTo>
                <a:cubicBezTo>
                  <a:pt x="849" y="83"/>
                  <a:pt x="851" y="90"/>
                  <a:pt x="851" y="96"/>
                </a:cubicBezTo>
                <a:cubicBezTo>
                  <a:pt x="851" y="107"/>
                  <a:pt x="849" y="117"/>
                  <a:pt x="846" y="128"/>
                </a:cubicBezTo>
                <a:close/>
                <a:moveTo>
                  <a:pt x="886" y="112"/>
                </a:moveTo>
                <a:cubicBezTo>
                  <a:pt x="886" y="110"/>
                  <a:pt x="886" y="108"/>
                  <a:pt x="886" y="106"/>
                </a:cubicBezTo>
                <a:cubicBezTo>
                  <a:pt x="886" y="108"/>
                  <a:pt x="885" y="112"/>
                  <a:pt x="885" y="115"/>
                </a:cubicBezTo>
                <a:cubicBezTo>
                  <a:pt x="880" y="131"/>
                  <a:pt x="876" y="144"/>
                  <a:pt x="876" y="144"/>
                </a:cubicBezTo>
                <a:cubicBezTo>
                  <a:pt x="877" y="133"/>
                  <a:pt x="881" y="110"/>
                  <a:pt x="886" y="86"/>
                </a:cubicBezTo>
                <a:cubicBezTo>
                  <a:pt x="888" y="90"/>
                  <a:pt x="889" y="95"/>
                  <a:pt x="890" y="99"/>
                </a:cubicBezTo>
                <a:cubicBezTo>
                  <a:pt x="888" y="103"/>
                  <a:pt x="887" y="108"/>
                  <a:pt x="886" y="112"/>
                </a:cubicBezTo>
                <a:close/>
                <a:moveTo>
                  <a:pt x="899" y="133"/>
                </a:moveTo>
                <a:cubicBezTo>
                  <a:pt x="899" y="133"/>
                  <a:pt x="899" y="134"/>
                  <a:pt x="898" y="134"/>
                </a:cubicBezTo>
                <a:cubicBezTo>
                  <a:pt x="898" y="134"/>
                  <a:pt x="898" y="134"/>
                  <a:pt x="898" y="134"/>
                </a:cubicBezTo>
                <a:cubicBezTo>
                  <a:pt x="898" y="134"/>
                  <a:pt x="899" y="133"/>
                  <a:pt x="899" y="133"/>
                </a:cubicBezTo>
                <a:cubicBezTo>
                  <a:pt x="899" y="126"/>
                  <a:pt x="900" y="117"/>
                  <a:pt x="901" y="107"/>
                </a:cubicBezTo>
                <a:cubicBezTo>
                  <a:pt x="901" y="110"/>
                  <a:pt x="901" y="114"/>
                  <a:pt x="901" y="117"/>
                </a:cubicBezTo>
                <a:cubicBezTo>
                  <a:pt x="900" y="123"/>
                  <a:pt x="899" y="129"/>
                  <a:pt x="899" y="133"/>
                </a:cubicBezTo>
                <a:close/>
                <a:moveTo>
                  <a:pt x="903" y="159"/>
                </a:moveTo>
                <a:cubicBezTo>
                  <a:pt x="903" y="159"/>
                  <a:pt x="903" y="159"/>
                  <a:pt x="903" y="159"/>
                </a:cubicBezTo>
                <a:cubicBezTo>
                  <a:pt x="903" y="159"/>
                  <a:pt x="903" y="159"/>
                  <a:pt x="903" y="159"/>
                </a:cubicBezTo>
                <a:cubicBezTo>
                  <a:pt x="903" y="159"/>
                  <a:pt x="903" y="159"/>
                  <a:pt x="903" y="159"/>
                </a:cubicBezTo>
                <a:close/>
                <a:moveTo>
                  <a:pt x="944" y="143"/>
                </a:moveTo>
                <a:cubicBezTo>
                  <a:pt x="944" y="142"/>
                  <a:pt x="944" y="142"/>
                  <a:pt x="944" y="141"/>
                </a:cubicBezTo>
                <a:cubicBezTo>
                  <a:pt x="944" y="135"/>
                  <a:pt x="945" y="127"/>
                  <a:pt x="946" y="117"/>
                </a:cubicBezTo>
                <a:cubicBezTo>
                  <a:pt x="946" y="121"/>
                  <a:pt x="946" y="125"/>
                  <a:pt x="946" y="129"/>
                </a:cubicBezTo>
                <a:cubicBezTo>
                  <a:pt x="945" y="135"/>
                  <a:pt x="945" y="139"/>
                  <a:pt x="944" y="143"/>
                </a:cubicBezTo>
                <a:close/>
                <a:moveTo>
                  <a:pt x="948" y="117"/>
                </a:moveTo>
                <a:cubicBezTo>
                  <a:pt x="947" y="115"/>
                  <a:pt x="947" y="113"/>
                  <a:pt x="946" y="111"/>
                </a:cubicBezTo>
                <a:cubicBezTo>
                  <a:pt x="946" y="108"/>
                  <a:pt x="947" y="104"/>
                  <a:pt x="947" y="100"/>
                </a:cubicBezTo>
                <a:cubicBezTo>
                  <a:pt x="948" y="103"/>
                  <a:pt x="948" y="106"/>
                  <a:pt x="949" y="108"/>
                </a:cubicBezTo>
                <a:cubicBezTo>
                  <a:pt x="948" y="111"/>
                  <a:pt x="948" y="114"/>
                  <a:pt x="948" y="117"/>
                </a:cubicBezTo>
                <a:close/>
                <a:moveTo>
                  <a:pt x="956" y="133"/>
                </a:moveTo>
                <a:cubicBezTo>
                  <a:pt x="956" y="133"/>
                  <a:pt x="956" y="133"/>
                  <a:pt x="956" y="133"/>
                </a:cubicBezTo>
                <a:cubicBezTo>
                  <a:pt x="957" y="130"/>
                  <a:pt x="957" y="127"/>
                  <a:pt x="957" y="124"/>
                </a:cubicBezTo>
                <a:cubicBezTo>
                  <a:pt x="957" y="125"/>
                  <a:pt x="957" y="126"/>
                  <a:pt x="957" y="128"/>
                </a:cubicBezTo>
                <a:cubicBezTo>
                  <a:pt x="957" y="130"/>
                  <a:pt x="957" y="131"/>
                  <a:pt x="956" y="133"/>
                </a:cubicBezTo>
                <a:close/>
                <a:moveTo>
                  <a:pt x="993" y="142"/>
                </a:moveTo>
                <a:cubicBezTo>
                  <a:pt x="993" y="139"/>
                  <a:pt x="993" y="134"/>
                  <a:pt x="993" y="128"/>
                </a:cubicBezTo>
                <a:cubicBezTo>
                  <a:pt x="993" y="130"/>
                  <a:pt x="994" y="132"/>
                  <a:pt x="994" y="133"/>
                </a:cubicBezTo>
                <a:cubicBezTo>
                  <a:pt x="993" y="139"/>
                  <a:pt x="993" y="142"/>
                  <a:pt x="993" y="142"/>
                </a:cubicBezTo>
                <a:close/>
                <a:moveTo>
                  <a:pt x="1015" y="135"/>
                </a:moveTo>
                <a:cubicBezTo>
                  <a:pt x="1014" y="134"/>
                  <a:pt x="1014" y="134"/>
                  <a:pt x="1014" y="133"/>
                </a:cubicBezTo>
                <a:cubicBezTo>
                  <a:pt x="1014" y="121"/>
                  <a:pt x="1014" y="103"/>
                  <a:pt x="1013" y="88"/>
                </a:cubicBezTo>
                <a:cubicBezTo>
                  <a:pt x="1015" y="94"/>
                  <a:pt x="1017" y="100"/>
                  <a:pt x="1018" y="106"/>
                </a:cubicBezTo>
                <a:cubicBezTo>
                  <a:pt x="1017" y="118"/>
                  <a:pt x="1015" y="128"/>
                  <a:pt x="1015" y="135"/>
                </a:cubicBezTo>
                <a:close/>
                <a:moveTo>
                  <a:pt x="1021" y="145"/>
                </a:moveTo>
                <a:cubicBezTo>
                  <a:pt x="1021" y="141"/>
                  <a:pt x="1021" y="136"/>
                  <a:pt x="1022" y="129"/>
                </a:cubicBezTo>
                <a:cubicBezTo>
                  <a:pt x="1022" y="133"/>
                  <a:pt x="1022" y="136"/>
                  <a:pt x="1023" y="139"/>
                </a:cubicBezTo>
                <a:cubicBezTo>
                  <a:pt x="1022" y="143"/>
                  <a:pt x="1021" y="145"/>
                  <a:pt x="1021" y="145"/>
                </a:cubicBezTo>
                <a:close/>
                <a:moveTo>
                  <a:pt x="1027" y="159"/>
                </a:moveTo>
                <a:cubicBezTo>
                  <a:pt x="1027" y="159"/>
                  <a:pt x="1027" y="159"/>
                  <a:pt x="1027" y="159"/>
                </a:cubicBezTo>
                <a:cubicBezTo>
                  <a:pt x="1027" y="159"/>
                  <a:pt x="1027" y="158"/>
                  <a:pt x="1027" y="158"/>
                </a:cubicBezTo>
                <a:cubicBezTo>
                  <a:pt x="1027" y="159"/>
                  <a:pt x="1028" y="160"/>
                  <a:pt x="1028" y="160"/>
                </a:cubicBezTo>
                <a:cubicBezTo>
                  <a:pt x="1028" y="160"/>
                  <a:pt x="1027" y="159"/>
                  <a:pt x="1027" y="159"/>
                </a:cubicBezTo>
                <a:close/>
                <a:moveTo>
                  <a:pt x="1028" y="121"/>
                </a:moveTo>
                <a:cubicBezTo>
                  <a:pt x="1026" y="117"/>
                  <a:pt x="1025" y="114"/>
                  <a:pt x="1023" y="110"/>
                </a:cubicBezTo>
                <a:cubicBezTo>
                  <a:pt x="1024" y="105"/>
                  <a:pt x="1024" y="99"/>
                  <a:pt x="1025" y="94"/>
                </a:cubicBezTo>
                <a:cubicBezTo>
                  <a:pt x="1026" y="100"/>
                  <a:pt x="1027" y="108"/>
                  <a:pt x="1029" y="116"/>
                </a:cubicBezTo>
                <a:cubicBezTo>
                  <a:pt x="1029" y="118"/>
                  <a:pt x="1028" y="119"/>
                  <a:pt x="1028" y="121"/>
                </a:cubicBezTo>
                <a:close/>
                <a:moveTo>
                  <a:pt x="1036" y="142"/>
                </a:moveTo>
                <a:cubicBezTo>
                  <a:pt x="1035" y="138"/>
                  <a:pt x="1033" y="134"/>
                  <a:pt x="1031" y="129"/>
                </a:cubicBezTo>
                <a:cubicBezTo>
                  <a:pt x="1031" y="129"/>
                  <a:pt x="1031" y="128"/>
                  <a:pt x="1032" y="127"/>
                </a:cubicBezTo>
                <a:cubicBezTo>
                  <a:pt x="1033" y="132"/>
                  <a:pt x="1035" y="137"/>
                  <a:pt x="1036" y="142"/>
                </a:cubicBezTo>
                <a:cubicBezTo>
                  <a:pt x="1039" y="149"/>
                  <a:pt x="1041" y="153"/>
                  <a:pt x="1041" y="155"/>
                </a:cubicBezTo>
                <a:cubicBezTo>
                  <a:pt x="1040" y="151"/>
                  <a:pt x="1038" y="147"/>
                  <a:pt x="1036" y="142"/>
                </a:cubicBezTo>
                <a:close/>
                <a:moveTo>
                  <a:pt x="1261" y="88"/>
                </a:moveTo>
                <a:cubicBezTo>
                  <a:pt x="1262" y="90"/>
                  <a:pt x="1263" y="93"/>
                  <a:pt x="1263" y="95"/>
                </a:cubicBezTo>
                <a:cubicBezTo>
                  <a:pt x="1263" y="94"/>
                  <a:pt x="1262" y="93"/>
                  <a:pt x="1261" y="92"/>
                </a:cubicBezTo>
                <a:cubicBezTo>
                  <a:pt x="1261" y="90"/>
                  <a:pt x="1261" y="89"/>
                  <a:pt x="1261" y="88"/>
                </a:cubicBezTo>
                <a:close/>
                <a:moveTo>
                  <a:pt x="1249" y="84"/>
                </a:moveTo>
                <a:cubicBezTo>
                  <a:pt x="1252" y="88"/>
                  <a:pt x="1254" y="92"/>
                  <a:pt x="1257" y="96"/>
                </a:cubicBezTo>
                <a:cubicBezTo>
                  <a:pt x="1257" y="97"/>
                  <a:pt x="1258" y="99"/>
                  <a:pt x="1258" y="100"/>
                </a:cubicBezTo>
                <a:cubicBezTo>
                  <a:pt x="1258" y="104"/>
                  <a:pt x="1257" y="108"/>
                  <a:pt x="1256" y="112"/>
                </a:cubicBezTo>
                <a:cubicBezTo>
                  <a:pt x="1254" y="105"/>
                  <a:pt x="1251" y="98"/>
                  <a:pt x="1248" y="92"/>
                </a:cubicBezTo>
                <a:cubicBezTo>
                  <a:pt x="1249" y="89"/>
                  <a:pt x="1249" y="86"/>
                  <a:pt x="1249" y="84"/>
                </a:cubicBezTo>
                <a:close/>
                <a:moveTo>
                  <a:pt x="1254" y="111"/>
                </a:moveTo>
                <a:cubicBezTo>
                  <a:pt x="1251" y="108"/>
                  <a:pt x="1249" y="105"/>
                  <a:pt x="1247" y="102"/>
                </a:cubicBezTo>
                <a:cubicBezTo>
                  <a:pt x="1247" y="99"/>
                  <a:pt x="1248" y="96"/>
                  <a:pt x="1248" y="93"/>
                </a:cubicBezTo>
                <a:cubicBezTo>
                  <a:pt x="1250" y="99"/>
                  <a:pt x="1252" y="105"/>
                  <a:pt x="1254" y="111"/>
                </a:cubicBezTo>
                <a:close/>
                <a:moveTo>
                  <a:pt x="1236" y="56"/>
                </a:moveTo>
                <a:cubicBezTo>
                  <a:pt x="1241" y="62"/>
                  <a:pt x="1244" y="68"/>
                  <a:pt x="1248" y="74"/>
                </a:cubicBezTo>
                <a:cubicBezTo>
                  <a:pt x="1244" y="69"/>
                  <a:pt x="1240" y="64"/>
                  <a:pt x="1236" y="60"/>
                </a:cubicBezTo>
                <a:cubicBezTo>
                  <a:pt x="1236" y="59"/>
                  <a:pt x="1236" y="57"/>
                  <a:pt x="1236" y="56"/>
                </a:cubicBezTo>
                <a:close/>
                <a:moveTo>
                  <a:pt x="1235" y="64"/>
                </a:moveTo>
                <a:cubicBezTo>
                  <a:pt x="1239" y="69"/>
                  <a:pt x="1243" y="74"/>
                  <a:pt x="1247" y="80"/>
                </a:cubicBezTo>
                <a:cubicBezTo>
                  <a:pt x="1246" y="82"/>
                  <a:pt x="1245" y="83"/>
                  <a:pt x="1245" y="85"/>
                </a:cubicBezTo>
                <a:cubicBezTo>
                  <a:pt x="1245" y="84"/>
                  <a:pt x="1244" y="83"/>
                  <a:pt x="1244" y="83"/>
                </a:cubicBezTo>
                <a:cubicBezTo>
                  <a:pt x="1244" y="83"/>
                  <a:pt x="1245" y="84"/>
                  <a:pt x="1245" y="85"/>
                </a:cubicBezTo>
                <a:cubicBezTo>
                  <a:pt x="1244" y="88"/>
                  <a:pt x="1243" y="91"/>
                  <a:pt x="1242" y="94"/>
                </a:cubicBezTo>
                <a:cubicBezTo>
                  <a:pt x="1239" y="90"/>
                  <a:pt x="1236" y="85"/>
                  <a:pt x="1233" y="80"/>
                </a:cubicBezTo>
                <a:cubicBezTo>
                  <a:pt x="1234" y="75"/>
                  <a:pt x="1235" y="69"/>
                  <a:pt x="1235" y="64"/>
                </a:cubicBezTo>
                <a:close/>
                <a:moveTo>
                  <a:pt x="1226" y="139"/>
                </a:moveTo>
                <a:cubicBezTo>
                  <a:pt x="1226" y="120"/>
                  <a:pt x="1229" y="101"/>
                  <a:pt x="1233" y="83"/>
                </a:cubicBezTo>
                <a:cubicBezTo>
                  <a:pt x="1235" y="87"/>
                  <a:pt x="1238" y="91"/>
                  <a:pt x="1241" y="95"/>
                </a:cubicBezTo>
                <a:cubicBezTo>
                  <a:pt x="1235" y="114"/>
                  <a:pt x="1229" y="133"/>
                  <a:pt x="1227" y="152"/>
                </a:cubicBezTo>
                <a:cubicBezTo>
                  <a:pt x="1226" y="148"/>
                  <a:pt x="1226" y="143"/>
                  <a:pt x="1226" y="139"/>
                </a:cubicBezTo>
                <a:close/>
                <a:moveTo>
                  <a:pt x="1245" y="143"/>
                </a:moveTo>
                <a:cubicBezTo>
                  <a:pt x="1245" y="142"/>
                  <a:pt x="1244" y="141"/>
                  <a:pt x="1243" y="140"/>
                </a:cubicBezTo>
                <a:cubicBezTo>
                  <a:pt x="1244" y="141"/>
                  <a:pt x="1244" y="143"/>
                  <a:pt x="1245" y="144"/>
                </a:cubicBezTo>
                <a:cubicBezTo>
                  <a:pt x="1243" y="147"/>
                  <a:pt x="1242" y="149"/>
                  <a:pt x="1241" y="152"/>
                </a:cubicBezTo>
                <a:cubicBezTo>
                  <a:pt x="1241" y="146"/>
                  <a:pt x="1242" y="141"/>
                  <a:pt x="1243" y="135"/>
                </a:cubicBezTo>
                <a:cubicBezTo>
                  <a:pt x="1244" y="137"/>
                  <a:pt x="1245" y="139"/>
                  <a:pt x="1246" y="142"/>
                </a:cubicBezTo>
                <a:cubicBezTo>
                  <a:pt x="1246" y="142"/>
                  <a:pt x="1246" y="142"/>
                  <a:pt x="1245" y="143"/>
                </a:cubicBezTo>
                <a:close/>
                <a:moveTo>
                  <a:pt x="1244" y="127"/>
                </a:moveTo>
                <a:cubicBezTo>
                  <a:pt x="1245" y="119"/>
                  <a:pt x="1246" y="111"/>
                  <a:pt x="1247" y="103"/>
                </a:cubicBezTo>
                <a:cubicBezTo>
                  <a:pt x="1250" y="107"/>
                  <a:pt x="1253" y="112"/>
                  <a:pt x="1255" y="116"/>
                </a:cubicBezTo>
                <a:cubicBezTo>
                  <a:pt x="1254" y="122"/>
                  <a:pt x="1252" y="127"/>
                  <a:pt x="1250" y="133"/>
                </a:cubicBezTo>
                <a:cubicBezTo>
                  <a:pt x="1248" y="131"/>
                  <a:pt x="1246" y="128"/>
                  <a:pt x="1244" y="127"/>
                </a:cubicBezTo>
                <a:close/>
                <a:moveTo>
                  <a:pt x="1256" y="140"/>
                </a:moveTo>
                <a:cubicBezTo>
                  <a:pt x="1256" y="140"/>
                  <a:pt x="1255" y="140"/>
                  <a:pt x="1255" y="140"/>
                </a:cubicBezTo>
                <a:cubicBezTo>
                  <a:pt x="1256" y="135"/>
                  <a:pt x="1257" y="130"/>
                  <a:pt x="1258" y="125"/>
                </a:cubicBezTo>
                <a:cubicBezTo>
                  <a:pt x="1258" y="127"/>
                  <a:pt x="1259" y="129"/>
                  <a:pt x="1259" y="130"/>
                </a:cubicBezTo>
                <a:cubicBezTo>
                  <a:pt x="1258" y="134"/>
                  <a:pt x="1257" y="137"/>
                  <a:pt x="1256" y="140"/>
                </a:cubicBezTo>
                <a:close/>
                <a:moveTo>
                  <a:pt x="1262" y="122"/>
                </a:moveTo>
                <a:cubicBezTo>
                  <a:pt x="1261" y="120"/>
                  <a:pt x="1260" y="119"/>
                  <a:pt x="1259" y="117"/>
                </a:cubicBezTo>
                <a:cubicBezTo>
                  <a:pt x="1259" y="114"/>
                  <a:pt x="1260" y="110"/>
                  <a:pt x="1260" y="107"/>
                </a:cubicBezTo>
                <a:cubicBezTo>
                  <a:pt x="1261" y="111"/>
                  <a:pt x="1262" y="115"/>
                  <a:pt x="1263" y="120"/>
                </a:cubicBezTo>
                <a:cubicBezTo>
                  <a:pt x="1263" y="120"/>
                  <a:pt x="1263" y="121"/>
                  <a:pt x="1262" y="122"/>
                </a:cubicBezTo>
                <a:close/>
                <a:moveTo>
                  <a:pt x="1264" y="151"/>
                </a:moveTo>
                <a:cubicBezTo>
                  <a:pt x="1264" y="151"/>
                  <a:pt x="1264" y="151"/>
                  <a:pt x="1264" y="151"/>
                </a:cubicBezTo>
                <a:cubicBezTo>
                  <a:pt x="1264" y="150"/>
                  <a:pt x="1264" y="150"/>
                  <a:pt x="1264" y="149"/>
                </a:cubicBezTo>
                <a:cubicBezTo>
                  <a:pt x="1264" y="149"/>
                  <a:pt x="1264" y="149"/>
                  <a:pt x="1264" y="149"/>
                </a:cubicBezTo>
                <a:cubicBezTo>
                  <a:pt x="1264" y="150"/>
                  <a:pt x="1264" y="150"/>
                  <a:pt x="1264" y="151"/>
                </a:cubicBezTo>
                <a:close/>
                <a:moveTo>
                  <a:pt x="1264" y="118"/>
                </a:moveTo>
                <a:cubicBezTo>
                  <a:pt x="1263" y="112"/>
                  <a:pt x="1262" y="107"/>
                  <a:pt x="1261" y="102"/>
                </a:cubicBezTo>
                <a:cubicBezTo>
                  <a:pt x="1261" y="102"/>
                  <a:pt x="1261" y="102"/>
                  <a:pt x="1261" y="101"/>
                </a:cubicBezTo>
                <a:cubicBezTo>
                  <a:pt x="1263" y="105"/>
                  <a:pt x="1265" y="108"/>
                  <a:pt x="1267" y="112"/>
                </a:cubicBezTo>
                <a:cubicBezTo>
                  <a:pt x="1266" y="113"/>
                  <a:pt x="1265" y="115"/>
                  <a:pt x="1265" y="116"/>
                </a:cubicBezTo>
                <a:cubicBezTo>
                  <a:pt x="1265" y="117"/>
                  <a:pt x="1264" y="117"/>
                  <a:pt x="1264" y="118"/>
                </a:cubicBezTo>
                <a:close/>
                <a:moveTo>
                  <a:pt x="1267" y="143"/>
                </a:moveTo>
                <a:cubicBezTo>
                  <a:pt x="1267" y="143"/>
                  <a:pt x="1266" y="142"/>
                  <a:pt x="1266" y="142"/>
                </a:cubicBezTo>
                <a:cubicBezTo>
                  <a:pt x="1267" y="141"/>
                  <a:pt x="1267" y="141"/>
                  <a:pt x="1267" y="140"/>
                </a:cubicBezTo>
                <a:cubicBezTo>
                  <a:pt x="1267" y="141"/>
                  <a:pt x="1267" y="141"/>
                  <a:pt x="1267" y="142"/>
                </a:cubicBezTo>
                <a:cubicBezTo>
                  <a:pt x="1267" y="142"/>
                  <a:pt x="1267" y="142"/>
                  <a:pt x="1267" y="143"/>
                </a:cubicBezTo>
                <a:close/>
                <a:moveTo>
                  <a:pt x="1272" y="151"/>
                </a:moveTo>
                <a:cubicBezTo>
                  <a:pt x="1272" y="151"/>
                  <a:pt x="1272" y="151"/>
                  <a:pt x="1272" y="151"/>
                </a:cubicBezTo>
                <a:cubicBezTo>
                  <a:pt x="1272" y="151"/>
                  <a:pt x="1272" y="152"/>
                  <a:pt x="1272" y="152"/>
                </a:cubicBezTo>
                <a:cubicBezTo>
                  <a:pt x="1272" y="152"/>
                  <a:pt x="1272" y="152"/>
                  <a:pt x="1272" y="151"/>
                </a:cubicBezTo>
                <a:close/>
                <a:moveTo>
                  <a:pt x="1274" y="126"/>
                </a:moveTo>
                <a:cubicBezTo>
                  <a:pt x="1274" y="128"/>
                  <a:pt x="1273" y="129"/>
                  <a:pt x="1272" y="131"/>
                </a:cubicBezTo>
                <a:cubicBezTo>
                  <a:pt x="1272" y="129"/>
                  <a:pt x="1272" y="127"/>
                  <a:pt x="1272" y="125"/>
                </a:cubicBezTo>
                <a:cubicBezTo>
                  <a:pt x="1272" y="124"/>
                  <a:pt x="1272" y="123"/>
                  <a:pt x="1273" y="122"/>
                </a:cubicBezTo>
                <a:cubicBezTo>
                  <a:pt x="1273" y="123"/>
                  <a:pt x="1274" y="124"/>
                  <a:pt x="1274" y="125"/>
                </a:cubicBezTo>
                <a:lnTo>
                  <a:pt x="1274" y="126"/>
                </a:lnTo>
                <a:close/>
                <a:moveTo>
                  <a:pt x="1282" y="91"/>
                </a:moveTo>
                <a:cubicBezTo>
                  <a:pt x="1282" y="93"/>
                  <a:pt x="1282" y="94"/>
                  <a:pt x="1282" y="96"/>
                </a:cubicBezTo>
                <a:cubicBezTo>
                  <a:pt x="1282" y="95"/>
                  <a:pt x="1282" y="94"/>
                  <a:pt x="1281" y="93"/>
                </a:cubicBezTo>
                <a:cubicBezTo>
                  <a:pt x="1281" y="93"/>
                  <a:pt x="1282" y="92"/>
                  <a:pt x="1282" y="91"/>
                </a:cubicBezTo>
                <a:close/>
                <a:moveTo>
                  <a:pt x="1280" y="117"/>
                </a:moveTo>
                <a:cubicBezTo>
                  <a:pt x="1279" y="113"/>
                  <a:pt x="1278" y="110"/>
                  <a:pt x="1278" y="106"/>
                </a:cubicBezTo>
                <a:cubicBezTo>
                  <a:pt x="1278" y="106"/>
                  <a:pt x="1278" y="105"/>
                  <a:pt x="1278" y="104"/>
                </a:cubicBezTo>
                <a:cubicBezTo>
                  <a:pt x="1279" y="107"/>
                  <a:pt x="1280" y="111"/>
                  <a:pt x="1281" y="114"/>
                </a:cubicBezTo>
                <a:cubicBezTo>
                  <a:pt x="1281" y="115"/>
                  <a:pt x="1280" y="116"/>
                  <a:pt x="1280" y="117"/>
                </a:cubicBezTo>
                <a:close/>
                <a:moveTo>
                  <a:pt x="1283" y="127"/>
                </a:moveTo>
                <a:cubicBezTo>
                  <a:pt x="1282" y="127"/>
                  <a:pt x="1282" y="126"/>
                  <a:pt x="1282" y="126"/>
                </a:cubicBezTo>
                <a:cubicBezTo>
                  <a:pt x="1282" y="125"/>
                  <a:pt x="1282" y="125"/>
                  <a:pt x="1283" y="124"/>
                </a:cubicBezTo>
                <a:cubicBezTo>
                  <a:pt x="1283" y="125"/>
                  <a:pt x="1283" y="126"/>
                  <a:pt x="1283" y="127"/>
                </a:cubicBezTo>
                <a:close/>
                <a:moveTo>
                  <a:pt x="1289" y="141"/>
                </a:moveTo>
                <a:cubicBezTo>
                  <a:pt x="1289" y="140"/>
                  <a:pt x="1289" y="140"/>
                  <a:pt x="1289" y="140"/>
                </a:cubicBezTo>
                <a:cubicBezTo>
                  <a:pt x="1289" y="139"/>
                  <a:pt x="1289" y="139"/>
                  <a:pt x="1289" y="139"/>
                </a:cubicBezTo>
                <a:cubicBezTo>
                  <a:pt x="1289" y="139"/>
                  <a:pt x="1289" y="140"/>
                  <a:pt x="1289" y="141"/>
                </a:cubicBezTo>
                <a:close/>
                <a:moveTo>
                  <a:pt x="1321" y="64"/>
                </a:moveTo>
                <a:cubicBezTo>
                  <a:pt x="1322" y="69"/>
                  <a:pt x="1323" y="75"/>
                  <a:pt x="1324" y="80"/>
                </a:cubicBezTo>
                <a:cubicBezTo>
                  <a:pt x="1322" y="83"/>
                  <a:pt x="1321" y="85"/>
                  <a:pt x="1319" y="87"/>
                </a:cubicBezTo>
                <a:cubicBezTo>
                  <a:pt x="1319" y="86"/>
                  <a:pt x="1318" y="84"/>
                  <a:pt x="1317" y="83"/>
                </a:cubicBezTo>
                <a:cubicBezTo>
                  <a:pt x="1318" y="84"/>
                  <a:pt x="1319" y="86"/>
                  <a:pt x="1319" y="87"/>
                </a:cubicBezTo>
                <a:cubicBezTo>
                  <a:pt x="1318" y="90"/>
                  <a:pt x="1316" y="92"/>
                  <a:pt x="1315" y="94"/>
                </a:cubicBezTo>
                <a:cubicBezTo>
                  <a:pt x="1313" y="89"/>
                  <a:pt x="1312" y="85"/>
                  <a:pt x="1310" y="80"/>
                </a:cubicBezTo>
                <a:cubicBezTo>
                  <a:pt x="1314" y="74"/>
                  <a:pt x="1318" y="69"/>
                  <a:pt x="1321" y="64"/>
                </a:cubicBezTo>
                <a:close/>
                <a:moveTo>
                  <a:pt x="1292" y="108"/>
                </a:moveTo>
                <a:cubicBezTo>
                  <a:pt x="1293" y="106"/>
                  <a:pt x="1295" y="104"/>
                  <a:pt x="1296" y="101"/>
                </a:cubicBezTo>
                <a:cubicBezTo>
                  <a:pt x="1296" y="107"/>
                  <a:pt x="1297" y="112"/>
                  <a:pt x="1298" y="117"/>
                </a:cubicBezTo>
                <a:cubicBezTo>
                  <a:pt x="1297" y="119"/>
                  <a:pt x="1295" y="120"/>
                  <a:pt x="1294" y="122"/>
                </a:cubicBezTo>
                <a:cubicBezTo>
                  <a:pt x="1294" y="117"/>
                  <a:pt x="1293" y="113"/>
                  <a:pt x="1292" y="108"/>
                </a:cubicBezTo>
                <a:close/>
                <a:moveTo>
                  <a:pt x="1299" y="134"/>
                </a:moveTo>
                <a:cubicBezTo>
                  <a:pt x="1298" y="131"/>
                  <a:pt x="1297" y="128"/>
                  <a:pt x="1296" y="126"/>
                </a:cubicBezTo>
                <a:cubicBezTo>
                  <a:pt x="1297" y="125"/>
                  <a:pt x="1298" y="123"/>
                  <a:pt x="1298" y="122"/>
                </a:cubicBezTo>
                <a:cubicBezTo>
                  <a:pt x="1299" y="124"/>
                  <a:pt x="1299" y="125"/>
                  <a:pt x="1299" y="127"/>
                </a:cubicBezTo>
                <a:cubicBezTo>
                  <a:pt x="1299" y="129"/>
                  <a:pt x="1299" y="131"/>
                  <a:pt x="1299" y="134"/>
                </a:cubicBezTo>
                <a:close/>
                <a:moveTo>
                  <a:pt x="1298" y="98"/>
                </a:moveTo>
                <a:cubicBezTo>
                  <a:pt x="1298" y="98"/>
                  <a:pt x="1298" y="98"/>
                  <a:pt x="1299" y="97"/>
                </a:cubicBezTo>
                <a:cubicBezTo>
                  <a:pt x="1299" y="101"/>
                  <a:pt x="1299" y="105"/>
                  <a:pt x="1299" y="108"/>
                </a:cubicBezTo>
                <a:cubicBezTo>
                  <a:pt x="1299" y="105"/>
                  <a:pt x="1298" y="101"/>
                  <a:pt x="1298" y="98"/>
                </a:cubicBezTo>
                <a:close/>
                <a:moveTo>
                  <a:pt x="1298" y="82"/>
                </a:moveTo>
                <a:cubicBezTo>
                  <a:pt x="1298" y="78"/>
                  <a:pt x="1298" y="74"/>
                  <a:pt x="1299" y="72"/>
                </a:cubicBezTo>
                <a:cubicBezTo>
                  <a:pt x="1301" y="75"/>
                  <a:pt x="1302" y="78"/>
                  <a:pt x="1304" y="80"/>
                </a:cubicBezTo>
                <a:cubicBezTo>
                  <a:pt x="1302" y="82"/>
                  <a:pt x="1301" y="84"/>
                  <a:pt x="1299" y="86"/>
                </a:cubicBezTo>
                <a:cubicBezTo>
                  <a:pt x="1299" y="85"/>
                  <a:pt x="1298" y="83"/>
                  <a:pt x="1298" y="82"/>
                </a:cubicBezTo>
                <a:close/>
                <a:moveTo>
                  <a:pt x="1302" y="92"/>
                </a:moveTo>
                <a:cubicBezTo>
                  <a:pt x="1303" y="90"/>
                  <a:pt x="1305" y="88"/>
                  <a:pt x="1306" y="86"/>
                </a:cubicBezTo>
                <a:cubicBezTo>
                  <a:pt x="1307" y="88"/>
                  <a:pt x="1308" y="91"/>
                  <a:pt x="1309" y="93"/>
                </a:cubicBezTo>
                <a:cubicBezTo>
                  <a:pt x="1309" y="96"/>
                  <a:pt x="1309" y="99"/>
                  <a:pt x="1310" y="102"/>
                </a:cubicBezTo>
                <a:cubicBezTo>
                  <a:pt x="1309" y="104"/>
                  <a:pt x="1308" y="105"/>
                  <a:pt x="1306" y="106"/>
                </a:cubicBezTo>
                <a:cubicBezTo>
                  <a:pt x="1305" y="102"/>
                  <a:pt x="1304" y="97"/>
                  <a:pt x="1302" y="92"/>
                </a:cubicBezTo>
                <a:close/>
                <a:moveTo>
                  <a:pt x="1307" y="108"/>
                </a:moveTo>
                <a:cubicBezTo>
                  <a:pt x="1308" y="106"/>
                  <a:pt x="1309" y="104"/>
                  <a:pt x="1310" y="103"/>
                </a:cubicBezTo>
                <a:cubicBezTo>
                  <a:pt x="1312" y="118"/>
                  <a:pt x="1314" y="133"/>
                  <a:pt x="1316" y="149"/>
                </a:cubicBezTo>
                <a:cubicBezTo>
                  <a:pt x="1313" y="137"/>
                  <a:pt x="1311" y="122"/>
                  <a:pt x="1307" y="108"/>
                </a:cubicBezTo>
                <a:close/>
                <a:moveTo>
                  <a:pt x="1315" y="95"/>
                </a:moveTo>
                <a:cubicBezTo>
                  <a:pt x="1317" y="93"/>
                  <a:pt x="1318" y="91"/>
                  <a:pt x="1320" y="89"/>
                </a:cubicBezTo>
                <a:cubicBezTo>
                  <a:pt x="1326" y="103"/>
                  <a:pt x="1327" y="120"/>
                  <a:pt x="1327" y="136"/>
                </a:cubicBezTo>
                <a:cubicBezTo>
                  <a:pt x="1324" y="122"/>
                  <a:pt x="1320" y="109"/>
                  <a:pt x="1315" y="95"/>
                </a:cubicBezTo>
                <a:close/>
                <a:moveTo>
                  <a:pt x="1320" y="89"/>
                </a:moveTo>
                <a:cubicBezTo>
                  <a:pt x="1322" y="87"/>
                  <a:pt x="1323" y="85"/>
                  <a:pt x="1324" y="83"/>
                </a:cubicBezTo>
                <a:cubicBezTo>
                  <a:pt x="1325" y="90"/>
                  <a:pt x="1327" y="98"/>
                  <a:pt x="1328" y="105"/>
                </a:cubicBezTo>
                <a:cubicBezTo>
                  <a:pt x="1325" y="99"/>
                  <a:pt x="1323" y="94"/>
                  <a:pt x="1320" y="89"/>
                </a:cubicBezTo>
                <a:close/>
                <a:moveTo>
                  <a:pt x="1333" y="92"/>
                </a:moveTo>
                <a:cubicBezTo>
                  <a:pt x="1331" y="87"/>
                  <a:pt x="1330" y="81"/>
                  <a:pt x="1329" y="74"/>
                </a:cubicBezTo>
                <a:cubicBezTo>
                  <a:pt x="1331" y="71"/>
                  <a:pt x="1333" y="68"/>
                  <a:pt x="1334" y="65"/>
                </a:cubicBezTo>
                <a:cubicBezTo>
                  <a:pt x="1336" y="69"/>
                  <a:pt x="1339" y="72"/>
                  <a:pt x="1341" y="75"/>
                </a:cubicBezTo>
                <a:cubicBezTo>
                  <a:pt x="1341" y="77"/>
                  <a:pt x="1341" y="79"/>
                  <a:pt x="1341" y="81"/>
                </a:cubicBezTo>
                <a:cubicBezTo>
                  <a:pt x="1340" y="80"/>
                  <a:pt x="1340" y="80"/>
                  <a:pt x="1339" y="79"/>
                </a:cubicBezTo>
                <a:cubicBezTo>
                  <a:pt x="1340" y="80"/>
                  <a:pt x="1340" y="81"/>
                  <a:pt x="1341" y="81"/>
                </a:cubicBezTo>
                <a:cubicBezTo>
                  <a:pt x="1340" y="86"/>
                  <a:pt x="1340" y="90"/>
                  <a:pt x="1340" y="91"/>
                </a:cubicBezTo>
                <a:cubicBezTo>
                  <a:pt x="1340" y="95"/>
                  <a:pt x="1340" y="100"/>
                  <a:pt x="1341" y="104"/>
                </a:cubicBezTo>
                <a:cubicBezTo>
                  <a:pt x="1340" y="101"/>
                  <a:pt x="1340" y="99"/>
                  <a:pt x="1339" y="96"/>
                </a:cubicBezTo>
                <a:cubicBezTo>
                  <a:pt x="1340" y="100"/>
                  <a:pt x="1340" y="104"/>
                  <a:pt x="1341" y="108"/>
                </a:cubicBezTo>
                <a:cubicBezTo>
                  <a:pt x="1341" y="120"/>
                  <a:pt x="1342" y="132"/>
                  <a:pt x="1342" y="143"/>
                </a:cubicBezTo>
                <a:cubicBezTo>
                  <a:pt x="1340" y="126"/>
                  <a:pt x="1337" y="109"/>
                  <a:pt x="1333" y="92"/>
                </a:cubicBezTo>
                <a:close/>
                <a:moveTo>
                  <a:pt x="1356" y="125"/>
                </a:moveTo>
                <a:cubicBezTo>
                  <a:pt x="1353" y="116"/>
                  <a:pt x="1351" y="108"/>
                  <a:pt x="1348" y="99"/>
                </a:cubicBezTo>
                <a:cubicBezTo>
                  <a:pt x="1346" y="93"/>
                  <a:pt x="1345" y="87"/>
                  <a:pt x="1345" y="82"/>
                </a:cubicBezTo>
                <a:cubicBezTo>
                  <a:pt x="1350" y="91"/>
                  <a:pt x="1353" y="100"/>
                  <a:pt x="1356" y="109"/>
                </a:cubicBezTo>
                <a:cubicBezTo>
                  <a:pt x="1356" y="114"/>
                  <a:pt x="1356" y="120"/>
                  <a:pt x="1356" y="125"/>
                </a:cubicBezTo>
                <a:close/>
                <a:moveTo>
                  <a:pt x="1356" y="97"/>
                </a:moveTo>
                <a:cubicBezTo>
                  <a:pt x="1353" y="90"/>
                  <a:pt x="1349" y="83"/>
                  <a:pt x="1344" y="77"/>
                </a:cubicBezTo>
                <a:cubicBezTo>
                  <a:pt x="1344" y="72"/>
                  <a:pt x="1343" y="67"/>
                  <a:pt x="1344" y="63"/>
                </a:cubicBezTo>
                <a:cubicBezTo>
                  <a:pt x="1349" y="70"/>
                  <a:pt x="1353" y="77"/>
                  <a:pt x="1357" y="85"/>
                </a:cubicBezTo>
                <a:cubicBezTo>
                  <a:pt x="1357" y="89"/>
                  <a:pt x="1357" y="93"/>
                  <a:pt x="1356" y="97"/>
                </a:cubicBezTo>
                <a:close/>
                <a:moveTo>
                  <a:pt x="1366" y="119"/>
                </a:moveTo>
                <a:cubicBezTo>
                  <a:pt x="1365" y="110"/>
                  <a:pt x="1363" y="102"/>
                  <a:pt x="1361" y="93"/>
                </a:cubicBezTo>
                <a:cubicBezTo>
                  <a:pt x="1363" y="98"/>
                  <a:pt x="1366" y="104"/>
                  <a:pt x="1367" y="109"/>
                </a:cubicBezTo>
                <a:cubicBezTo>
                  <a:pt x="1368" y="112"/>
                  <a:pt x="1368" y="114"/>
                  <a:pt x="1369" y="116"/>
                </a:cubicBezTo>
                <a:cubicBezTo>
                  <a:pt x="1369" y="120"/>
                  <a:pt x="1369" y="124"/>
                  <a:pt x="1369" y="127"/>
                </a:cubicBezTo>
                <a:cubicBezTo>
                  <a:pt x="1368" y="125"/>
                  <a:pt x="1367" y="122"/>
                  <a:pt x="1366" y="119"/>
                </a:cubicBezTo>
                <a:close/>
                <a:moveTo>
                  <a:pt x="1377" y="151"/>
                </a:moveTo>
                <a:cubicBezTo>
                  <a:pt x="1377" y="151"/>
                  <a:pt x="1377" y="151"/>
                  <a:pt x="1377" y="151"/>
                </a:cubicBezTo>
                <a:cubicBezTo>
                  <a:pt x="1377" y="151"/>
                  <a:pt x="1377" y="150"/>
                  <a:pt x="1377" y="150"/>
                </a:cubicBezTo>
                <a:cubicBezTo>
                  <a:pt x="1377" y="150"/>
                  <a:pt x="1377" y="150"/>
                  <a:pt x="1377" y="150"/>
                </a:cubicBezTo>
                <a:cubicBezTo>
                  <a:pt x="1377" y="151"/>
                  <a:pt x="1377" y="151"/>
                  <a:pt x="1377" y="151"/>
                </a:cubicBezTo>
                <a:close/>
                <a:moveTo>
                  <a:pt x="1383" y="114"/>
                </a:moveTo>
                <a:cubicBezTo>
                  <a:pt x="1381" y="105"/>
                  <a:pt x="1378" y="96"/>
                  <a:pt x="1374" y="88"/>
                </a:cubicBezTo>
                <a:cubicBezTo>
                  <a:pt x="1378" y="97"/>
                  <a:pt x="1380" y="110"/>
                  <a:pt x="1382" y="122"/>
                </a:cubicBezTo>
                <a:cubicBezTo>
                  <a:pt x="1381" y="127"/>
                  <a:pt x="1380" y="132"/>
                  <a:pt x="1379" y="136"/>
                </a:cubicBezTo>
                <a:cubicBezTo>
                  <a:pt x="1378" y="134"/>
                  <a:pt x="1378" y="133"/>
                  <a:pt x="1377" y="131"/>
                </a:cubicBezTo>
                <a:cubicBezTo>
                  <a:pt x="1377" y="117"/>
                  <a:pt x="1376" y="102"/>
                  <a:pt x="1374" y="87"/>
                </a:cubicBezTo>
                <a:cubicBezTo>
                  <a:pt x="1374" y="87"/>
                  <a:pt x="1374" y="88"/>
                  <a:pt x="1374" y="88"/>
                </a:cubicBezTo>
                <a:cubicBezTo>
                  <a:pt x="1374" y="88"/>
                  <a:pt x="1374" y="87"/>
                  <a:pt x="1374" y="87"/>
                </a:cubicBezTo>
                <a:cubicBezTo>
                  <a:pt x="1373" y="82"/>
                  <a:pt x="1373" y="78"/>
                  <a:pt x="1372" y="73"/>
                </a:cubicBezTo>
                <a:cubicBezTo>
                  <a:pt x="1379" y="81"/>
                  <a:pt x="1383" y="91"/>
                  <a:pt x="1386" y="101"/>
                </a:cubicBezTo>
                <a:cubicBezTo>
                  <a:pt x="1385" y="105"/>
                  <a:pt x="1384" y="109"/>
                  <a:pt x="1383" y="114"/>
                </a:cubicBezTo>
                <a:close/>
                <a:moveTo>
                  <a:pt x="1390" y="138"/>
                </a:moveTo>
                <a:cubicBezTo>
                  <a:pt x="1389" y="137"/>
                  <a:pt x="1389" y="136"/>
                  <a:pt x="1389" y="135"/>
                </a:cubicBezTo>
                <a:cubicBezTo>
                  <a:pt x="1389" y="124"/>
                  <a:pt x="1385" y="112"/>
                  <a:pt x="1386" y="101"/>
                </a:cubicBezTo>
                <a:cubicBezTo>
                  <a:pt x="1389" y="110"/>
                  <a:pt x="1391" y="119"/>
                  <a:pt x="1392" y="128"/>
                </a:cubicBezTo>
                <a:cubicBezTo>
                  <a:pt x="1391" y="132"/>
                  <a:pt x="1390" y="135"/>
                  <a:pt x="1390" y="138"/>
                </a:cubicBezTo>
                <a:close/>
                <a:moveTo>
                  <a:pt x="1405" y="136"/>
                </a:moveTo>
                <a:cubicBezTo>
                  <a:pt x="1405" y="135"/>
                  <a:pt x="1404" y="134"/>
                  <a:pt x="1404" y="133"/>
                </a:cubicBezTo>
                <a:cubicBezTo>
                  <a:pt x="1403" y="131"/>
                  <a:pt x="1403" y="129"/>
                  <a:pt x="1402" y="128"/>
                </a:cubicBezTo>
                <a:cubicBezTo>
                  <a:pt x="1402" y="127"/>
                  <a:pt x="1402" y="127"/>
                  <a:pt x="1402" y="127"/>
                </a:cubicBezTo>
                <a:cubicBezTo>
                  <a:pt x="1403" y="129"/>
                  <a:pt x="1403" y="131"/>
                  <a:pt x="1404" y="133"/>
                </a:cubicBezTo>
                <a:cubicBezTo>
                  <a:pt x="1404" y="134"/>
                  <a:pt x="1405" y="135"/>
                  <a:pt x="1405" y="136"/>
                </a:cubicBezTo>
                <a:cubicBezTo>
                  <a:pt x="1405" y="136"/>
                  <a:pt x="1405" y="136"/>
                  <a:pt x="1405" y="136"/>
                </a:cubicBezTo>
                <a:close/>
                <a:moveTo>
                  <a:pt x="1406" y="133"/>
                </a:moveTo>
                <a:cubicBezTo>
                  <a:pt x="1405" y="129"/>
                  <a:pt x="1404" y="125"/>
                  <a:pt x="1402" y="120"/>
                </a:cubicBezTo>
                <a:cubicBezTo>
                  <a:pt x="1402" y="119"/>
                  <a:pt x="1402" y="117"/>
                  <a:pt x="1402" y="115"/>
                </a:cubicBezTo>
                <a:cubicBezTo>
                  <a:pt x="1402" y="112"/>
                  <a:pt x="1402" y="109"/>
                  <a:pt x="1403" y="105"/>
                </a:cubicBezTo>
                <a:cubicBezTo>
                  <a:pt x="1405" y="112"/>
                  <a:pt x="1406" y="119"/>
                  <a:pt x="1408" y="126"/>
                </a:cubicBezTo>
                <a:cubicBezTo>
                  <a:pt x="1407" y="128"/>
                  <a:pt x="1407" y="130"/>
                  <a:pt x="1406" y="133"/>
                </a:cubicBezTo>
                <a:close/>
                <a:moveTo>
                  <a:pt x="1420" y="139"/>
                </a:moveTo>
                <a:cubicBezTo>
                  <a:pt x="1420" y="139"/>
                  <a:pt x="1420" y="139"/>
                  <a:pt x="1420" y="139"/>
                </a:cubicBezTo>
                <a:cubicBezTo>
                  <a:pt x="1420" y="137"/>
                  <a:pt x="1420" y="135"/>
                  <a:pt x="1420" y="133"/>
                </a:cubicBezTo>
                <a:cubicBezTo>
                  <a:pt x="1420" y="134"/>
                  <a:pt x="1420" y="134"/>
                  <a:pt x="1420" y="135"/>
                </a:cubicBezTo>
                <a:cubicBezTo>
                  <a:pt x="1420" y="136"/>
                  <a:pt x="1420" y="138"/>
                  <a:pt x="1420" y="139"/>
                </a:cubicBezTo>
                <a:close/>
                <a:moveTo>
                  <a:pt x="1441" y="150"/>
                </a:moveTo>
                <a:cubicBezTo>
                  <a:pt x="1440" y="148"/>
                  <a:pt x="1439" y="147"/>
                  <a:pt x="1439" y="146"/>
                </a:cubicBezTo>
                <a:cubicBezTo>
                  <a:pt x="1438" y="131"/>
                  <a:pt x="1434" y="116"/>
                  <a:pt x="1432" y="101"/>
                </a:cubicBezTo>
                <a:cubicBezTo>
                  <a:pt x="1437" y="115"/>
                  <a:pt x="1439" y="132"/>
                  <a:pt x="1441" y="146"/>
                </a:cubicBezTo>
                <a:cubicBezTo>
                  <a:pt x="1441" y="147"/>
                  <a:pt x="1441" y="148"/>
                  <a:pt x="1441" y="150"/>
                </a:cubicBezTo>
                <a:close/>
                <a:moveTo>
                  <a:pt x="1445" y="143"/>
                </a:moveTo>
                <a:cubicBezTo>
                  <a:pt x="1445" y="142"/>
                  <a:pt x="1445" y="141"/>
                  <a:pt x="1445" y="140"/>
                </a:cubicBezTo>
                <a:cubicBezTo>
                  <a:pt x="1445" y="139"/>
                  <a:pt x="1445" y="139"/>
                  <a:pt x="1445" y="139"/>
                </a:cubicBezTo>
                <a:cubicBezTo>
                  <a:pt x="1445" y="140"/>
                  <a:pt x="1445" y="141"/>
                  <a:pt x="1445" y="142"/>
                </a:cubicBezTo>
                <a:cubicBezTo>
                  <a:pt x="1445" y="142"/>
                  <a:pt x="1445" y="143"/>
                  <a:pt x="1445" y="143"/>
                </a:cubicBezTo>
                <a:close/>
                <a:moveTo>
                  <a:pt x="1458" y="139"/>
                </a:moveTo>
                <a:cubicBezTo>
                  <a:pt x="1457" y="142"/>
                  <a:pt x="1456" y="145"/>
                  <a:pt x="1455" y="147"/>
                </a:cubicBezTo>
                <a:cubicBezTo>
                  <a:pt x="1455" y="146"/>
                  <a:pt x="1454" y="145"/>
                  <a:pt x="1454" y="144"/>
                </a:cubicBezTo>
                <a:cubicBezTo>
                  <a:pt x="1456" y="132"/>
                  <a:pt x="1456" y="120"/>
                  <a:pt x="1458" y="108"/>
                </a:cubicBezTo>
                <a:cubicBezTo>
                  <a:pt x="1460" y="116"/>
                  <a:pt x="1459" y="128"/>
                  <a:pt x="1458" y="139"/>
                </a:cubicBezTo>
                <a:close/>
                <a:moveTo>
                  <a:pt x="1458" y="108"/>
                </a:moveTo>
                <a:cubicBezTo>
                  <a:pt x="1459" y="104"/>
                  <a:pt x="1459" y="100"/>
                  <a:pt x="1461" y="97"/>
                </a:cubicBezTo>
                <a:cubicBezTo>
                  <a:pt x="1462" y="100"/>
                  <a:pt x="1463" y="103"/>
                  <a:pt x="1464" y="107"/>
                </a:cubicBezTo>
                <a:cubicBezTo>
                  <a:pt x="1463" y="112"/>
                  <a:pt x="1463" y="117"/>
                  <a:pt x="1462" y="122"/>
                </a:cubicBezTo>
                <a:cubicBezTo>
                  <a:pt x="1460" y="116"/>
                  <a:pt x="1459" y="111"/>
                  <a:pt x="1458" y="108"/>
                </a:cubicBezTo>
                <a:close/>
                <a:moveTo>
                  <a:pt x="1466" y="134"/>
                </a:moveTo>
                <a:cubicBezTo>
                  <a:pt x="1465" y="132"/>
                  <a:pt x="1464" y="130"/>
                  <a:pt x="1464" y="128"/>
                </a:cubicBezTo>
                <a:cubicBezTo>
                  <a:pt x="1464" y="121"/>
                  <a:pt x="1464" y="114"/>
                  <a:pt x="1464" y="107"/>
                </a:cubicBezTo>
                <a:cubicBezTo>
                  <a:pt x="1466" y="113"/>
                  <a:pt x="1467" y="118"/>
                  <a:pt x="1468" y="124"/>
                </a:cubicBezTo>
                <a:cubicBezTo>
                  <a:pt x="1467" y="128"/>
                  <a:pt x="1466" y="131"/>
                  <a:pt x="1466" y="134"/>
                </a:cubicBezTo>
                <a:close/>
                <a:moveTo>
                  <a:pt x="1470" y="118"/>
                </a:moveTo>
                <a:cubicBezTo>
                  <a:pt x="1468" y="114"/>
                  <a:pt x="1466" y="109"/>
                  <a:pt x="1464" y="105"/>
                </a:cubicBezTo>
                <a:cubicBezTo>
                  <a:pt x="1465" y="102"/>
                  <a:pt x="1465" y="99"/>
                  <a:pt x="1466" y="96"/>
                </a:cubicBezTo>
                <a:cubicBezTo>
                  <a:pt x="1465" y="99"/>
                  <a:pt x="1465" y="102"/>
                  <a:pt x="1464" y="105"/>
                </a:cubicBezTo>
                <a:cubicBezTo>
                  <a:pt x="1463" y="102"/>
                  <a:pt x="1462" y="99"/>
                  <a:pt x="1461" y="96"/>
                </a:cubicBezTo>
                <a:cubicBezTo>
                  <a:pt x="1461" y="94"/>
                  <a:pt x="1462" y="91"/>
                  <a:pt x="1463" y="89"/>
                </a:cubicBezTo>
                <a:cubicBezTo>
                  <a:pt x="1467" y="95"/>
                  <a:pt x="1470" y="102"/>
                  <a:pt x="1472" y="109"/>
                </a:cubicBezTo>
                <a:cubicBezTo>
                  <a:pt x="1472" y="112"/>
                  <a:pt x="1471" y="115"/>
                  <a:pt x="1470" y="118"/>
                </a:cubicBezTo>
                <a:close/>
                <a:moveTo>
                  <a:pt x="1473" y="151"/>
                </a:moveTo>
                <a:cubicBezTo>
                  <a:pt x="1473" y="151"/>
                  <a:pt x="1473" y="151"/>
                  <a:pt x="1472" y="151"/>
                </a:cubicBezTo>
                <a:cubicBezTo>
                  <a:pt x="1473" y="150"/>
                  <a:pt x="1473" y="148"/>
                  <a:pt x="1473" y="147"/>
                </a:cubicBezTo>
                <a:cubicBezTo>
                  <a:pt x="1473" y="147"/>
                  <a:pt x="1473" y="148"/>
                  <a:pt x="1473" y="148"/>
                </a:cubicBezTo>
                <a:cubicBezTo>
                  <a:pt x="1473" y="149"/>
                  <a:pt x="1473" y="150"/>
                  <a:pt x="1473" y="151"/>
                </a:cubicBezTo>
                <a:close/>
                <a:moveTo>
                  <a:pt x="1477" y="136"/>
                </a:moveTo>
                <a:cubicBezTo>
                  <a:pt x="1476" y="134"/>
                  <a:pt x="1475" y="132"/>
                  <a:pt x="1475" y="130"/>
                </a:cubicBezTo>
                <a:cubicBezTo>
                  <a:pt x="1475" y="127"/>
                  <a:pt x="1475" y="123"/>
                  <a:pt x="1476" y="120"/>
                </a:cubicBezTo>
                <a:cubicBezTo>
                  <a:pt x="1477" y="123"/>
                  <a:pt x="1478" y="127"/>
                  <a:pt x="1479" y="130"/>
                </a:cubicBezTo>
                <a:cubicBezTo>
                  <a:pt x="1478" y="132"/>
                  <a:pt x="1477" y="134"/>
                  <a:pt x="1477" y="136"/>
                </a:cubicBezTo>
                <a:close/>
                <a:moveTo>
                  <a:pt x="1483" y="150"/>
                </a:moveTo>
                <a:cubicBezTo>
                  <a:pt x="1483" y="149"/>
                  <a:pt x="1482" y="147"/>
                  <a:pt x="1481" y="146"/>
                </a:cubicBezTo>
                <a:cubicBezTo>
                  <a:pt x="1482" y="145"/>
                  <a:pt x="1482" y="145"/>
                  <a:pt x="1482" y="144"/>
                </a:cubicBezTo>
                <a:cubicBezTo>
                  <a:pt x="1483" y="146"/>
                  <a:pt x="1483" y="147"/>
                  <a:pt x="1484" y="149"/>
                </a:cubicBezTo>
                <a:cubicBezTo>
                  <a:pt x="1484" y="149"/>
                  <a:pt x="1483" y="149"/>
                  <a:pt x="1483" y="150"/>
                </a:cubicBezTo>
                <a:close/>
                <a:moveTo>
                  <a:pt x="1481" y="122"/>
                </a:moveTo>
                <a:cubicBezTo>
                  <a:pt x="1480" y="118"/>
                  <a:pt x="1478" y="115"/>
                  <a:pt x="1477" y="111"/>
                </a:cubicBezTo>
                <a:cubicBezTo>
                  <a:pt x="1478" y="101"/>
                  <a:pt x="1480" y="90"/>
                  <a:pt x="1484" y="81"/>
                </a:cubicBezTo>
                <a:cubicBezTo>
                  <a:pt x="1487" y="86"/>
                  <a:pt x="1490" y="91"/>
                  <a:pt x="1492" y="97"/>
                </a:cubicBezTo>
                <a:cubicBezTo>
                  <a:pt x="1490" y="101"/>
                  <a:pt x="1488" y="105"/>
                  <a:pt x="1486" y="109"/>
                </a:cubicBezTo>
                <a:cubicBezTo>
                  <a:pt x="1484" y="102"/>
                  <a:pt x="1483" y="96"/>
                  <a:pt x="1481" y="91"/>
                </a:cubicBezTo>
                <a:cubicBezTo>
                  <a:pt x="1482" y="99"/>
                  <a:pt x="1483" y="106"/>
                  <a:pt x="1484" y="114"/>
                </a:cubicBezTo>
                <a:cubicBezTo>
                  <a:pt x="1483" y="117"/>
                  <a:pt x="1482" y="119"/>
                  <a:pt x="1481" y="122"/>
                </a:cubicBezTo>
                <a:close/>
                <a:moveTo>
                  <a:pt x="1488" y="141"/>
                </a:moveTo>
                <a:cubicBezTo>
                  <a:pt x="1487" y="138"/>
                  <a:pt x="1486" y="135"/>
                  <a:pt x="1485" y="131"/>
                </a:cubicBezTo>
                <a:cubicBezTo>
                  <a:pt x="1485" y="129"/>
                  <a:pt x="1486" y="127"/>
                  <a:pt x="1486" y="124"/>
                </a:cubicBezTo>
                <a:cubicBezTo>
                  <a:pt x="1487" y="130"/>
                  <a:pt x="1488" y="135"/>
                  <a:pt x="1489" y="140"/>
                </a:cubicBezTo>
                <a:cubicBezTo>
                  <a:pt x="1489" y="140"/>
                  <a:pt x="1489" y="141"/>
                  <a:pt x="1488" y="141"/>
                </a:cubicBezTo>
                <a:close/>
                <a:moveTo>
                  <a:pt x="1491" y="150"/>
                </a:moveTo>
                <a:cubicBezTo>
                  <a:pt x="1491" y="150"/>
                  <a:pt x="1491" y="149"/>
                  <a:pt x="1491" y="149"/>
                </a:cubicBezTo>
                <a:cubicBezTo>
                  <a:pt x="1491" y="149"/>
                  <a:pt x="1491" y="149"/>
                  <a:pt x="1491" y="149"/>
                </a:cubicBezTo>
                <a:cubicBezTo>
                  <a:pt x="1491" y="149"/>
                  <a:pt x="1491" y="150"/>
                  <a:pt x="1491" y="150"/>
                </a:cubicBezTo>
                <a:cubicBezTo>
                  <a:pt x="1491" y="150"/>
                  <a:pt x="1491" y="150"/>
                  <a:pt x="1491" y="150"/>
                </a:cubicBezTo>
                <a:close/>
                <a:moveTo>
                  <a:pt x="1488" y="114"/>
                </a:moveTo>
                <a:cubicBezTo>
                  <a:pt x="1489" y="108"/>
                  <a:pt x="1490" y="103"/>
                  <a:pt x="1492" y="97"/>
                </a:cubicBezTo>
                <a:cubicBezTo>
                  <a:pt x="1494" y="103"/>
                  <a:pt x="1496" y="110"/>
                  <a:pt x="1498" y="116"/>
                </a:cubicBezTo>
                <a:cubicBezTo>
                  <a:pt x="1496" y="121"/>
                  <a:pt x="1495" y="126"/>
                  <a:pt x="1493" y="131"/>
                </a:cubicBezTo>
                <a:cubicBezTo>
                  <a:pt x="1491" y="126"/>
                  <a:pt x="1489" y="120"/>
                  <a:pt x="1488" y="114"/>
                </a:cubicBezTo>
                <a:close/>
                <a:moveTo>
                  <a:pt x="1495" y="139"/>
                </a:moveTo>
                <a:cubicBezTo>
                  <a:pt x="1497" y="134"/>
                  <a:pt x="1498" y="129"/>
                  <a:pt x="1499" y="124"/>
                </a:cubicBezTo>
                <a:cubicBezTo>
                  <a:pt x="1500" y="125"/>
                  <a:pt x="1500" y="126"/>
                  <a:pt x="1500" y="128"/>
                </a:cubicBezTo>
                <a:cubicBezTo>
                  <a:pt x="1499" y="132"/>
                  <a:pt x="1497" y="136"/>
                  <a:pt x="1496" y="141"/>
                </a:cubicBezTo>
                <a:cubicBezTo>
                  <a:pt x="1496" y="140"/>
                  <a:pt x="1495" y="139"/>
                  <a:pt x="1495" y="139"/>
                </a:cubicBezTo>
                <a:close/>
                <a:moveTo>
                  <a:pt x="1500" y="150"/>
                </a:moveTo>
                <a:cubicBezTo>
                  <a:pt x="1500" y="150"/>
                  <a:pt x="1499" y="149"/>
                  <a:pt x="1499" y="149"/>
                </a:cubicBezTo>
                <a:cubicBezTo>
                  <a:pt x="1500" y="147"/>
                  <a:pt x="1501" y="144"/>
                  <a:pt x="1502" y="141"/>
                </a:cubicBezTo>
                <a:cubicBezTo>
                  <a:pt x="1502" y="143"/>
                  <a:pt x="1503" y="144"/>
                  <a:pt x="1503" y="145"/>
                </a:cubicBezTo>
                <a:cubicBezTo>
                  <a:pt x="1502" y="147"/>
                  <a:pt x="1501" y="149"/>
                  <a:pt x="1500" y="150"/>
                </a:cubicBezTo>
                <a:close/>
                <a:moveTo>
                  <a:pt x="1511" y="126"/>
                </a:moveTo>
                <a:cubicBezTo>
                  <a:pt x="1510" y="123"/>
                  <a:pt x="1509" y="120"/>
                  <a:pt x="1508" y="117"/>
                </a:cubicBezTo>
                <a:cubicBezTo>
                  <a:pt x="1509" y="116"/>
                  <a:pt x="1509" y="115"/>
                  <a:pt x="1509" y="114"/>
                </a:cubicBezTo>
                <a:cubicBezTo>
                  <a:pt x="1509" y="116"/>
                  <a:pt x="1510" y="117"/>
                  <a:pt x="1510" y="119"/>
                </a:cubicBezTo>
                <a:cubicBezTo>
                  <a:pt x="1511" y="121"/>
                  <a:pt x="1511" y="123"/>
                  <a:pt x="1512" y="125"/>
                </a:cubicBezTo>
                <a:cubicBezTo>
                  <a:pt x="1512" y="125"/>
                  <a:pt x="1511" y="125"/>
                  <a:pt x="1511" y="126"/>
                </a:cubicBezTo>
                <a:close/>
                <a:moveTo>
                  <a:pt x="1516" y="142"/>
                </a:moveTo>
                <a:cubicBezTo>
                  <a:pt x="1515" y="139"/>
                  <a:pt x="1515" y="136"/>
                  <a:pt x="1514" y="133"/>
                </a:cubicBezTo>
                <a:cubicBezTo>
                  <a:pt x="1514" y="133"/>
                  <a:pt x="1514" y="133"/>
                  <a:pt x="1514" y="133"/>
                </a:cubicBezTo>
                <a:cubicBezTo>
                  <a:pt x="1515" y="136"/>
                  <a:pt x="1516" y="138"/>
                  <a:pt x="1516" y="141"/>
                </a:cubicBezTo>
                <a:cubicBezTo>
                  <a:pt x="1516" y="141"/>
                  <a:pt x="1516" y="141"/>
                  <a:pt x="1516" y="142"/>
                </a:cubicBezTo>
                <a:close/>
                <a:moveTo>
                  <a:pt x="1518" y="148"/>
                </a:moveTo>
                <a:cubicBezTo>
                  <a:pt x="1518" y="148"/>
                  <a:pt x="1518" y="148"/>
                  <a:pt x="1518" y="148"/>
                </a:cubicBezTo>
                <a:cubicBezTo>
                  <a:pt x="1518" y="148"/>
                  <a:pt x="1518" y="148"/>
                  <a:pt x="1518" y="148"/>
                </a:cubicBezTo>
                <a:cubicBezTo>
                  <a:pt x="1518" y="148"/>
                  <a:pt x="1518" y="148"/>
                  <a:pt x="1518" y="148"/>
                </a:cubicBezTo>
                <a:cubicBezTo>
                  <a:pt x="1518" y="148"/>
                  <a:pt x="1518" y="148"/>
                  <a:pt x="1518" y="148"/>
                </a:cubicBezTo>
                <a:close/>
                <a:moveTo>
                  <a:pt x="1521" y="141"/>
                </a:moveTo>
                <a:cubicBezTo>
                  <a:pt x="1521" y="141"/>
                  <a:pt x="1521" y="141"/>
                  <a:pt x="1521" y="141"/>
                </a:cubicBezTo>
                <a:cubicBezTo>
                  <a:pt x="1522" y="137"/>
                  <a:pt x="1523" y="133"/>
                  <a:pt x="1525" y="129"/>
                </a:cubicBezTo>
                <a:cubicBezTo>
                  <a:pt x="1525" y="129"/>
                  <a:pt x="1525" y="130"/>
                  <a:pt x="1525" y="131"/>
                </a:cubicBezTo>
                <a:cubicBezTo>
                  <a:pt x="1523" y="135"/>
                  <a:pt x="1522" y="138"/>
                  <a:pt x="1521" y="141"/>
                </a:cubicBezTo>
                <a:close/>
                <a:moveTo>
                  <a:pt x="1528" y="122"/>
                </a:moveTo>
                <a:cubicBezTo>
                  <a:pt x="1528" y="121"/>
                  <a:pt x="1527" y="120"/>
                  <a:pt x="1527" y="119"/>
                </a:cubicBezTo>
                <a:cubicBezTo>
                  <a:pt x="1528" y="117"/>
                  <a:pt x="1528" y="114"/>
                  <a:pt x="1529" y="111"/>
                </a:cubicBezTo>
                <a:cubicBezTo>
                  <a:pt x="1530" y="113"/>
                  <a:pt x="1530" y="115"/>
                  <a:pt x="1531" y="117"/>
                </a:cubicBezTo>
                <a:cubicBezTo>
                  <a:pt x="1530" y="119"/>
                  <a:pt x="1529" y="121"/>
                  <a:pt x="1528" y="122"/>
                </a:cubicBezTo>
                <a:close/>
                <a:moveTo>
                  <a:pt x="1538" y="147"/>
                </a:moveTo>
                <a:cubicBezTo>
                  <a:pt x="1537" y="145"/>
                  <a:pt x="1537" y="144"/>
                  <a:pt x="1536" y="142"/>
                </a:cubicBezTo>
                <a:cubicBezTo>
                  <a:pt x="1536" y="140"/>
                  <a:pt x="1535" y="138"/>
                  <a:pt x="1534" y="136"/>
                </a:cubicBezTo>
                <a:cubicBezTo>
                  <a:pt x="1534" y="136"/>
                  <a:pt x="1534" y="135"/>
                  <a:pt x="1534" y="134"/>
                </a:cubicBezTo>
                <a:cubicBezTo>
                  <a:pt x="1535" y="137"/>
                  <a:pt x="1536" y="139"/>
                  <a:pt x="1536" y="142"/>
                </a:cubicBezTo>
                <a:cubicBezTo>
                  <a:pt x="1537" y="143"/>
                  <a:pt x="1537" y="145"/>
                  <a:pt x="1538" y="147"/>
                </a:cubicBezTo>
                <a:cubicBezTo>
                  <a:pt x="1538" y="147"/>
                  <a:pt x="1538" y="147"/>
                  <a:pt x="1538" y="147"/>
                </a:cubicBezTo>
                <a:close/>
                <a:moveTo>
                  <a:pt x="1541" y="138"/>
                </a:moveTo>
                <a:cubicBezTo>
                  <a:pt x="1539" y="133"/>
                  <a:pt x="1538" y="128"/>
                  <a:pt x="1536" y="124"/>
                </a:cubicBezTo>
                <a:cubicBezTo>
                  <a:pt x="1536" y="121"/>
                  <a:pt x="1537" y="118"/>
                  <a:pt x="1537" y="116"/>
                </a:cubicBezTo>
                <a:cubicBezTo>
                  <a:pt x="1538" y="123"/>
                  <a:pt x="1540" y="129"/>
                  <a:pt x="1542" y="136"/>
                </a:cubicBezTo>
                <a:cubicBezTo>
                  <a:pt x="1542" y="137"/>
                  <a:pt x="1541" y="137"/>
                  <a:pt x="1541" y="138"/>
                </a:cubicBezTo>
                <a:close/>
                <a:moveTo>
                  <a:pt x="1538" y="109"/>
                </a:moveTo>
                <a:cubicBezTo>
                  <a:pt x="1539" y="103"/>
                  <a:pt x="1541" y="97"/>
                  <a:pt x="1543" y="91"/>
                </a:cubicBezTo>
                <a:cubicBezTo>
                  <a:pt x="1545" y="96"/>
                  <a:pt x="1547" y="101"/>
                  <a:pt x="1549" y="106"/>
                </a:cubicBezTo>
                <a:cubicBezTo>
                  <a:pt x="1547" y="112"/>
                  <a:pt x="1546" y="120"/>
                  <a:pt x="1544" y="127"/>
                </a:cubicBezTo>
                <a:cubicBezTo>
                  <a:pt x="1542" y="121"/>
                  <a:pt x="1540" y="115"/>
                  <a:pt x="1538" y="109"/>
                </a:cubicBezTo>
                <a:close/>
                <a:moveTo>
                  <a:pt x="1545" y="148"/>
                </a:moveTo>
                <a:cubicBezTo>
                  <a:pt x="1545" y="147"/>
                  <a:pt x="1545" y="147"/>
                  <a:pt x="1545" y="147"/>
                </a:cubicBezTo>
                <a:cubicBezTo>
                  <a:pt x="1545" y="147"/>
                  <a:pt x="1545" y="147"/>
                  <a:pt x="1545" y="147"/>
                </a:cubicBezTo>
                <a:cubicBezTo>
                  <a:pt x="1545" y="147"/>
                  <a:pt x="1545" y="147"/>
                  <a:pt x="1545" y="147"/>
                </a:cubicBezTo>
                <a:cubicBezTo>
                  <a:pt x="1545" y="147"/>
                  <a:pt x="1545" y="148"/>
                  <a:pt x="1545" y="148"/>
                </a:cubicBezTo>
                <a:close/>
                <a:moveTo>
                  <a:pt x="1547" y="136"/>
                </a:moveTo>
                <a:cubicBezTo>
                  <a:pt x="1549" y="127"/>
                  <a:pt x="1549" y="118"/>
                  <a:pt x="1549" y="109"/>
                </a:cubicBezTo>
                <a:cubicBezTo>
                  <a:pt x="1551" y="115"/>
                  <a:pt x="1552" y="121"/>
                  <a:pt x="1553" y="127"/>
                </a:cubicBezTo>
                <a:cubicBezTo>
                  <a:pt x="1551" y="131"/>
                  <a:pt x="1550" y="135"/>
                  <a:pt x="1549" y="139"/>
                </a:cubicBezTo>
                <a:cubicBezTo>
                  <a:pt x="1548" y="138"/>
                  <a:pt x="1548" y="137"/>
                  <a:pt x="1547" y="136"/>
                </a:cubicBezTo>
                <a:close/>
                <a:moveTo>
                  <a:pt x="1554" y="148"/>
                </a:moveTo>
                <a:cubicBezTo>
                  <a:pt x="1553" y="148"/>
                  <a:pt x="1553" y="147"/>
                  <a:pt x="1552" y="146"/>
                </a:cubicBezTo>
                <a:cubicBezTo>
                  <a:pt x="1553" y="143"/>
                  <a:pt x="1554" y="140"/>
                  <a:pt x="1554" y="137"/>
                </a:cubicBezTo>
                <a:cubicBezTo>
                  <a:pt x="1555" y="140"/>
                  <a:pt x="1555" y="142"/>
                  <a:pt x="1556" y="144"/>
                </a:cubicBezTo>
                <a:cubicBezTo>
                  <a:pt x="1555" y="146"/>
                  <a:pt x="1554" y="147"/>
                  <a:pt x="1554" y="148"/>
                </a:cubicBezTo>
                <a:close/>
                <a:moveTo>
                  <a:pt x="1549" y="103"/>
                </a:moveTo>
                <a:cubicBezTo>
                  <a:pt x="1549" y="102"/>
                  <a:pt x="1549" y="102"/>
                  <a:pt x="1549" y="102"/>
                </a:cubicBezTo>
                <a:cubicBezTo>
                  <a:pt x="1549" y="102"/>
                  <a:pt x="1549" y="103"/>
                  <a:pt x="1549" y="103"/>
                </a:cubicBezTo>
                <a:cubicBezTo>
                  <a:pt x="1547" y="98"/>
                  <a:pt x="1545" y="94"/>
                  <a:pt x="1543" y="91"/>
                </a:cubicBezTo>
                <a:cubicBezTo>
                  <a:pt x="1544" y="87"/>
                  <a:pt x="1546" y="83"/>
                  <a:pt x="1548" y="80"/>
                </a:cubicBezTo>
                <a:cubicBezTo>
                  <a:pt x="1554" y="89"/>
                  <a:pt x="1558" y="99"/>
                  <a:pt x="1560" y="109"/>
                </a:cubicBezTo>
                <a:cubicBezTo>
                  <a:pt x="1559" y="112"/>
                  <a:pt x="1557" y="116"/>
                  <a:pt x="1556" y="119"/>
                </a:cubicBezTo>
                <a:cubicBezTo>
                  <a:pt x="1554" y="114"/>
                  <a:pt x="1552" y="108"/>
                  <a:pt x="1549" y="103"/>
                </a:cubicBezTo>
                <a:close/>
                <a:moveTo>
                  <a:pt x="1557" y="123"/>
                </a:moveTo>
                <a:cubicBezTo>
                  <a:pt x="1558" y="118"/>
                  <a:pt x="1559" y="114"/>
                  <a:pt x="1560" y="110"/>
                </a:cubicBezTo>
                <a:cubicBezTo>
                  <a:pt x="1561" y="115"/>
                  <a:pt x="1562" y="120"/>
                  <a:pt x="1563" y="125"/>
                </a:cubicBezTo>
                <a:cubicBezTo>
                  <a:pt x="1562" y="128"/>
                  <a:pt x="1561" y="130"/>
                  <a:pt x="1560" y="133"/>
                </a:cubicBezTo>
                <a:cubicBezTo>
                  <a:pt x="1559" y="129"/>
                  <a:pt x="1558" y="126"/>
                  <a:pt x="1557" y="123"/>
                </a:cubicBezTo>
                <a:close/>
                <a:moveTo>
                  <a:pt x="1564" y="150"/>
                </a:moveTo>
                <a:cubicBezTo>
                  <a:pt x="1564" y="147"/>
                  <a:pt x="1563" y="144"/>
                  <a:pt x="1562" y="140"/>
                </a:cubicBezTo>
                <a:cubicBezTo>
                  <a:pt x="1563" y="137"/>
                  <a:pt x="1563" y="135"/>
                  <a:pt x="1563" y="132"/>
                </a:cubicBezTo>
                <a:cubicBezTo>
                  <a:pt x="1564" y="137"/>
                  <a:pt x="1564" y="143"/>
                  <a:pt x="1564" y="149"/>
                </a:cubicBezTo>
                <a:cubicBezTo>
                  <a:pt x="1564" y="150"/>
                  <a:pt x="1564" y="150"/>
                  <a:pt x="1564" y="150"/>
                </a:cubicBezTo>
                <a:close/>
                <a:moveTo>
                  <a:pt x="1593" y="152"/>
                </a:moveTo>
                <a:cubicBezTo>
                  <a:pt x="1593" y="148"/>
                  <a:pt x="1593" y="145"/>
                  <a:pt x="1592" y="141"/>
                </a:cubicBezTo>
                <a:cubicBezTo>
                  <a:pt x="1592" y="136"/>
                  <a:pt x="1593" y="131"/>
                  <a:pt x="1593" y="125"/>
                </a:cubicBezTo>
                <a:cubicBezTo>
                  <a:pt x="1593" y="134"/>
                  <a:pt x="1593" y="142"/>
                  <a:pt x="1593" y="151"/>
                </a:cubicBezTo>
                <a:cubicBezTo>
                  <a:pt x="1593" y="151"/>
                  <a:pt x="1593" y="151"/>
                  <a:pt x="1593" y="152"/>
                </a:cubicBezTo>
                <a:close/>
                <a:moveTo>
                  <a:pt x="1659" y="128"/>
                </a:moveTo>
                <a:cubicBezTo>
                  <a:pt x="1659" y="132"/>
                  <a:pt x="1658" y="136"/>
                  <a:pt x="1657" y="140"/>
                </a:cubicBezTo>
                <a:cubicBezTo>
                  <a:pt x="1657" y="136"/>
                  <a:pt x="1656" y="133"/>
                  <a:pt x="1655" y="129"/>
                </a:cubicBezTo>
                <a:cubicBezTo>
                  <a:pt x="1655" y="126"/>
                  <a:pt x="1655" y="122"/>
                  <a:pt x="1655" y="119"/>
                </a:cubicBezTo>
                <a:cubicBezTo>
                  <a:pt x="1655" y="112"/>
                  <a:pt x="1656" y="104"/>
                  <a:pt x="1657" y="97"/>
                </a:cubicBezTo>
                <a:cubicBezTo>
                  <a:pt x="1658" y="102"/>
                  <a:pt x="1659" y="107"/>
                  <a:pt x="1659" y="111"/>
                </a:cubicBezTo>
                <a:cubicBezTo>
                  <a:pt x="1659" y="122"/>
                  <a:pt x="1659" y="122"/>
                  <a:pt x="1659" y="122"/>
                </a:cubicBezTo>
                <a:cubicBezTo>
                  <a:pt x="1659" y="124"/>
                  <a:pt x="1659" y="126"/>
                  <a:pt x="1659" y="128"/>
                </a:cubicBezTo>
                <a:close/>
                <a:moveTo>
                  <a:pt x="1667" y="151"/>
                </a:moveTo>
                <a:cubicBezTo>
                  <a:pt x="1667" y="152"/>
                  <a:pt x="1667" y="152"/>
                  <a:pt x="1667" y="152"/>
                </a:cubicBezTo>
                <a:cubicBezTo>
                  <a:pt x="1667" y="152"/>
                  <a:pt x="1667" y="152"/>
                  <a:pt x="1667" y="152"/>
                </a:cubicBezTo>
                <a:cubicBezTo>
                  <a:pt x="1667" y="136"/>
                  <a:pt x="1667" y="123"/>
                  <a:pt x="1666" y="109"/>
                </a:cubicBezTo>
                <a:cubicBezTo>
                  <a:pt x="1666" y="104"/>
                  <a:pt x="1667" y="99"/>
                  <a:pt x="1668" y="93"/>
                </a:cubicBezTo>
                <a:cubicBezTo>
                  <a:pt x="1669" y="99"/>
                  <a:pt x="1669" y="105"/>
                  <a:pt x="1669" y="110"/>
                </a:cubicBezTo>
                <a:cubicBezTo>
                  <a:pt x="1669" y="124"/>
                  <a:pt x="1667" y="138"/>
                  <a:pt x="1667" y="151"/>
                </a:cubicBezTo>
                <a:close/>
                <a:moveTo>
                  <a:pt x="1694" y="110"/>
                </a:moveTo>
                <a:cubicBezTo>
                  <a:pt x="1694" y="109"/>
                  <a:pt x="1694" y="107"/>
                  <a:pt x="1694" y="106"/>
                </a:cubicBezTo>
                <a:cubicBezTo>
                  <a:pt x="1694" y="110"/>
                  <a:pt x="1695" y="113"/>
                  <a:pt x="1695" y="116"/>
                </a:cubicBezTo>
                <a:cubicBezTo>
                  <a:pt x="1694" y="114"/>
                  <a:pt x="1694" y="112"/>
                  <a:pt x="1694" y="110"/>
                </a:cubicBezTo>
                <a:close/>
                <a:moveTo>
                  <a:pt x="1720" y="120"/>
                </a:moveTo>
                <a:cubicBezTo>
                  <a:pt x="1718" y="114"/>
                  <a:pt x="1717" y="109"/>
                  <a:pt x="1717" y="104"/>
                </a:cubicBezTo>
                <a:cubicBezTo>
                  <a:pt x="1717" y="102"/>
                  <a:pt x="1717" y="98"/>
                  <a:pt x="1719" y="93"/>
                </a:cubicBezTo>
                <a:cubicBezTo>
                  <a:pt x="1720" y="100"/>
                  <a:pt x="1720" y="107"/>
                  <a:pt x="1720" y="112"/>
                </a:cubicBezTo>
                <a:cubicBezTo>
                  <a:pt x="1720" y="115"/>
                  <a:pt x="1720" y="117"/>
                  <a:pt x="1720" y="120"/>
                </a:cubicBezTo>
                <a:close/>
                <a:moveTo>
                  <a:pt x="1730" y="145"/>
                </a:moveTo>
                <a:cubicBezTo>
                  <a:pt x="1730" y="145"/>
                  <a:pt x="1730" y="145"/>
                  <a:pt x="1730" y="144"/>
                </a:cubicBezTo>
                <a:cubicBezTo>
                  <a:pt x="1730" y="139"/>
                  <a:pt x="1730" y="134"/>
                  <a:pt x="1730" y="129"/>
                </a:cubicBezTo>
                <a:cubicBezTo>
                  <a:pt x="1731" y="132"/>
                  <a:pt x="1731" y="135"/>
                  <a:pt x="1731" y="137"/>
                </a:cubicBezTo>
                <a:cubicBezTo>
                  <a:pt x="1731" y="140"/>
                  <a:pt x="1730" y="142"/>
                  <a:pt x="1730" y="145"/>
                </a:cubicBezTo>
                <a:close/>
                <a:moveTo>
                  <a:pt x="1741" y="145"/>
                </a:moveTo>
                <a:cubicBezTo>
                  <a:pt x="1741" y="144"/>
                  <a:pt x="1740" y="143"/>
                  <a:pt x="1740" y="143"/>
                </a:cubicBezTo>
                <a:cubicBezTo>
                  <a:pt x="1740" y="142"/>
                  <a:pt x="1740" y="141"/>
                  <a:pt x="1740" y="140"/>
                </a:cubicBezTo>
                <a:cubicBezTo>
                  <a:pt x="1741" y="141"/>
                  <a:pt x="1741" y="142"/>
                  <a:pt x="1741" y="143"/>
                </a:cubicBezTo>
                <a:cubicBezTo>
                  <a:pt x="1741" y="143"/>
                  <a:pt x="1741" y="144"/>
                  <a:pt x="1741" y="145"/>
                </a:cubicBezTo>
                <a:close/>
                <a:moveTo>
                  <a:pt x="1742" y="138"/>
                </a:moveTo>
                <a:cubicBezTo>
                  <a:pt x="1742" y="136"/>
                  <a:pt x="1741" y="135"/>
                  <a:pt x="1741" y="133"/>
                </a:cubicBezTo>
                <a:cubicBezTo>
                  <a:pt x="1741" y="129"/>
                  <a:pt x="1741" y="124"/>
                  <a:pt x="1741" y="119"/>
                </a:cubicBezTo>
                <a:cubicBezTo>
                  <a:pt x="1742" y="124"/>
                  <a:pt x="1743" y="129"/>
                  <a:pt x="1744" y="134"/>
                </a:cubicBezTo>
                <a:cubicBezTo>
                  <a:pt x="1743" y="135"/>
                  <a:pt x="1743" y="137"/>
                  <a:pt x="1742" y="138"/>
                </a:cubicBezTo>
                <a:close/>
                <a:moveTo>
                  <a:pt x="1747" y="154"/>
                </a:moveTo>
                <a:cubicBezTo>
                  <a:pt x="1747" y="153"/>
                  <a:pt x="1747" y="152"/>
                  <a:pt x="1747" y="151"/>
                </a:cubicBezTo>
                <a:cubicBezTo>
                  <a:pt x="1747" y="151"/>
                  <a:pt x="1747" y="150"/>
                  <a:pt x="1747" y="150"/>
                </a:cubicBezTo>
                <a:cubicBezTo>
                  <a:pt x="1747" y="151"/>
                  <a:pt x="1747" y="152"/>
                  <a:pt x="1747" y="154"/>
                </a:cubicBezTo>
                <a:cubicBezTo>
                  <a:pt x="1747" y="154"/>
                  <a:pt x="1747" y="154"/>
                  <a:pt x="1747" y="154"/>
                </a:cubicBezTo>
                <a:close/>
                <a:moveTo>
                  <a:pt x="1753" y="139"/>
                </a:moveTo>
                <a:cubicBezTo>
                  <a:pt x="1752" y="136"/>
                  <a:pt x="1751" y="134"/>
                  <a:pt x="1751" y="132"/>
                </a:cubicBezTo>
                <a:cubicBezTo>
                  <a:pt x="1751" y="129"/>
                  <a:pt x="1752" y="127"/>
                  <a:pt x="1753" y="125"/>
                </a:cubicBezTo>
                <a:cubicBezTo>
                  <a:pt x="1753" y="128"/>
                  <a:pt x="1754" y="131"/>
                  <a:pt x="1755" y="134"/>
                </a:cubicBezTo>
                <a:cubicBezTo>
                  <a:pt x="1754" y="136"/>
                  <a:pt x="1754" y="137"/>
                  <a:pt x="1753" y="139"/>
                </a:cubicBezTo>
                <a:close/>
                <a:moveTo>
                  <a:pt x="1773" y="114"/>
                </a:moveTo>
                <a:cubicBezTo>
                  <a:pt x="1772" y="108"/>
                  <a:pt x="1771" y="101"/>
                  <a:pt x="1771" y="95"/>
                </a:cubicBezTo>
                <a:cubicBezTo>
                  <a:pt x="1771" y="88"/>
                  <a:pt x="1772" y="81"/>
                  <a:pt x="1773" y="75"/>
                </a:cubicBezTo>
                <a:cubicBezTo>
                  <a:pt x="1775" y="81"/>
                  <a:pt x="1775" y="88"/>
                  <a:pt x="1775" y="95"/>
                </a:cubicBezTo>
                <a:cubicBezTo>
                  <a:pt x="1775" y="101"/>
                  <a:pt x="1774" y="108"/>
                  <a:pt x="1773" y="114"/>
                </a:cubicBezTo>
                <a:close/>
                <a:moveTo>
                  <a:pt x="1793" y="139"/>
                </a:moveTo>
                <a:cubicBezTo>
                  <a:pt x="1793" y="137"/>
                  <a:pt x="1792" y="136"/>
                  <a:pt x="1792" y="134"/>
                </a:cubicBezTo>
                <a:cubicBezTo>
                  <a:pt x="1792" y="131"/>
                  <a:pt x="1793" y="128"/>
                  <a:pt x="1794" y="125"/>
                </a:cubicBezTo>
                <a:cubicBezTo>
                  <a:pt x="1794" y="127"/>
                  <a:pt x="1795" y="129"/>
                  <a:pt x="1796" y="132"/>
                </a:cubicBezTo>
                <a:cubicBezTo>
                  <a:pt x="1795" y="134"/>
                  <a:pt x="1794" y="136"/>
                  <a:pt x="1793" y="139"/>
                </a:cubicBezTo>
                <a:close/>
                <a:moveTo>
                  <a:pt x="1799" y="154"/>
                </a:moveTo>
                <a:cubicBezTo>
                  <a:pt x="1799" y="154"/>
                  <a:pt x="1799" y="154"/>
                  <a:pt x="1799" y="154"/>
                </a:cubicBezTo>
                <a:cubicBezTo>
                  <a:pt x="1799" y="152"/>
                  <a:pt x="1799" y="151"/>
                  <a:pt x="1800" y="150"/>
                </a:cubicBezTo>
                <a:cubicBezTo>
                  <a:pt x="1800" y="150"/>
                  <a:pt x="1800" y="151"/>
                  <a:pt x="1800" y="151"/>
                </a:cubicBezTo>
                <a:cubicBezTo>
                  <a:pt x="1799" y="152"/>
                  <a:pt x="1799" y="153"/>
                  <a:pt x="1799" y="154"/>
                </a:cubicBezTo>
                <a:close/>
                <a:moveTo>
                  <a:pt x="1805" y="119"/>
                </a:moveTo>
                <a:cubicBezTo>
                  <a:pt x="1805" y="120"/>
                  <a:pt x="1805" y="120"/>
                  <a:pt x="1805" y="120"/>
                </a:cubicBezTo>
                <a:cubicBezTo>
                  <a:pt x="1805" y="120"/>
                  <a:pt x="1805" y="120"/>
                  <a:pt x="1805" y="120"/>
                </a:cubicBezTo>
                <a:cubicBezTo>
                  <a:pt x="1805" y="120"/>
                  <a:pt x="1805" y="120"/>
                  <a:pt x="1805" y="119"/>
                </a:cubicBezTo>
                <a:close/>
                <a:moveTo>
                  <a:pt x="1804" y="138"/>
                </a:moveTo>
                <a:cubicBezTo>
                  <a:pt x="1804" y="137"/>
                  <a:pt x="1803" y="135"/>
                  <a:pt x="1803" y="134"/>
                </a:cubicBezTo>
                <a:cubicBezTo>
                  <a:pt x="1803" y="134"/>
                  <a:pt x="1803" y="134"/>
                  <a:pt x="1803" y="133"/>
                </a:cubicBezTo>
                <a:cubicBezTo>
                  <a:pt x="1803" y="134"/>
                  <a:pt x="1804" y="135"/>
                  <a:pt x="1804" y="137"/>
                </a:cubicBezTo>
                <a:cubicBezTo>
                  <a:pt x="1804" y="137"/>
                  <a:pt x="1804" y="138"/>
                  <a:pt x="1804" y="138"/>
                </a:cubicBezTo>
                <a:close/>
                <a:moveTo>
                  <a:pt x="1803" y="133"/>
                </a:moveTo>
                <a:cubicBezTo>
                  <a:pt x="1803" y="132"/>
                  <a:pt x="1803" y="131"/>
                  <a:pt x="1803" y="130"/>
                </a:cubicBezTo>
                <a:cubicBezTo>
                  <a:pt x="1804" y="131"/>
                  <a:pt x="1805" y="133"/>
                  <a:pt x="1805" y="134"/>
                </a:cubicBezTo>
                <a:cubicBezTo>
                  <a:pt x="1805" y="135"/>
                  <a:pt x="1805" y="135"/>
                  <a:pt x="1805" y="136"/>
                </a:cubicBezTo>
                <a:cubicBezTo>
                  <a:pt x="1804" y="134"/>
                  <a:pt x="1803" y="133"/>
                  <a:pt x="1803" y="133"/>
                </a:cubicBezTo>
                <a:close/>
                <a:moveTo>
                  <a:pt x="1806" y="145"/>
                </a:moveTo>
                <a:cubicBezTo>
                  <a:pt x="1805" y="144"/>
                  <a:pt x="1805" y="143"/>
                  <a:pt x="1805" y="143"/>
                </a:cubicBezTo>
                <a:cubicBezTo>
                  <a:pt x="1805" y="142"/>
                  <a:pt x="1806" y="141"/>
                  <a:pt x="1806" y="140"/>
                </a:cubicBezTo>
                <a:cubicBezTo>
                  <a:pt x="1806" y="140"/>
                  <a:pt x="1806" y="140"/>
                  <a:pt x="1806" y="140"/>
                </a:cubicBezTo>
                <a:cubicBezTo>
                  <a:pt x="1806" y="141"/>
                  <a:pt x="1806" y="142"/>
                  <a:pt x="1806" y="143"/>
                </a:cubicBezTo>
                <a:cubicBezTo>
                  <a:pt x="1806" y="143"/>
                  <a:pt x="1806" y="144"/>
                  <a:pt x="1806" y="145"/>
                </a:cubicBezTo>
                <a:close/>
                <a:moveTo>
                  <a:pt x="1816" y="134"/>
                </a:moveTo>
                <a:cubicBezTo>
                  <a:pt x="1816" y="134"/>
                  <a:pt x="1816" y="133"/>
                  <a:pt x="1816" y="133"/>
                </a:cubicBezTo>
                <a:cubicBezTo>
                  <a:pt x="1816" y="132"/>
                  <a:pt x="1816" y="130"/>
                  <a:pt x="1816" y="129"/>
                </a:cubicBezTo>
                <a:cubicBezTo>
                  <a:pt x="1816" y="130"/>
                  <a:pt x="1816" y="132"/>
                  <a:pt x="1816" y="134"/>
                </a:cubicBezTo>
                <a:close/>
                <a:moveTo>
                  <a:pt x="1826" y="120"/>
                </a:moveTo>
                <a:cubicBezTo>
                  <a:pt x="1826" y="117"/>
                  <a:pt x="1826" y="115"/>
                  <a:pt x="1826" y="112"/>
                </a:cubicBezTo>
                <a:cubicBezTo>
                  <a:pt x="1826" y="111"/>
                  <a:pt x="1826" y="111"/>
                  <a:pt x="1826" y="110"/>
                </a:cubicBezTo>
                <a:cubicBezTo>
                  <a:pt x="1826" y="113"/>
                  <a:pt x="1826" y="116"/>
                  <a:pt x="1827" y="119"/>
                </a:cubicBezTo>
                <a:cubicBezTo>
                  <a:pt x="1827" y="119"/>
                  <a:pt x="1826" y="120"/>
                  <a:pt x="1826" y="120"/>
                </a:cubicBezTo>
                <a:close/>
                <a:moveTo>
                  <a:pt x="1828" y="115"/>
                </a:moveTo>
                <a:cubicBezTo>
                  <a:pt x="1827" y="112"/>
                  <a:pt x="1827" y="108"/>
                  <a:pt x="1826" y="104"/>
                </a:cubicBezTo>
                <a:cubicBezTo>
                  <a:pt x="1827" y="101"/>
                  <a:pt x="1827" y="97"/>
                  <a:pt x="1828" y="93"/>
                </a:cubicBezTo>
                <a:cubicBezTo>
                  <a:pt x="1829" y="98"/>
                  <a:pt x="1829" y="102"/>
                  <a:pt x="1829" y="104"/>
                </a:cubicBezTo>
                <a:cubicBezTo>
                  <a:pt x="1829" y="108"/>
                  <a:pt x="1829" y="111"/>
                  <a:pt x="1828" y="115"/>
                </a:cubicBezTo>
                <a:close/>
                <a:moveTo>
                  <a:pt x="1833" y="102"/>
                </a:moveTo>
                <a:cubicBezTo>
                  <a:pt x="1833" y="102"/>
                  <a:pt x="1833" y="102"/>
                  <a:pt x="1832" y="103"/>
                </a:cubicBezTo>
                <a:cubicBezTo>
                  <a:pt x="1832" y="99"/>
                  <a:pt x="1831" y="94"/>
                  <a:pt x="1828" y="90"/>
                </a:cubicBezTo>
                <a:cubicBezTo>
                  <a:pt x="1830" y="84"/>
                  <a:pt x="1832" y="78"/>
                  <a:pt x="1834" y="73"/>
                </a:cubicBezTo>
                <a:cubicBezTo>
                  <a:pt x="1833" y="83"/>
                  <a:pt x="1833" y="93"/>
                  <a:pt x="1833" y="102"/>
                </a:cubicBezTo>
                <a:close/>
                <a:moveTo>
                  <a:pt x="1839" y="111"/>
                </a:moveTo>
                <a:cubicBezTo>
                  <a:pt x="1839" y="111"/>
                  <a:pt x="1839" y="111"/>
                  <a:pt x="1839" y="111"/>
                </a:cubicBezTo>
                <a:cubicBezTo>
                  <a:pt x="1839" y="114"/>
                  <a:pt x="1838" y="116"/>
                  <a:pt x="1838" y="119"/>
                </a:cubicBezTo>
                <a:cubicBezTo>
                  <a:pt x="1837" y="114"/>
                  <a:pt x="1837" y="108"/>
                  <a:pt x="1837" y="103"/>
                </a:cubicBezTo>
                <a:cubicBezTo>
                  <a:pt x="1837" y="97"/>
                  <a:pt x="1837" y="91"/>
                  <a:pt x="1839" y="85"/>
                </a:cubicBezTo>
                <a:cubicBezTo>
                  <a:pt x="1838" y="87"/>
                  <a:pt x="1837" y="89"/>
                  <a:pt x="1836" y="92"/>
                </a:cubicBezTo>
                <a:cubicBezTo>
                  <a:pt x="1836" y="87"/>
                  <a:pt x="1836" y="82"/>
                  <a:pt x="1837" y="77"/>
                </a:cubicBezTo>
                <a:cubicBezTo>
                  <a:pt x="1839" y="83"/>
                  <a:pt x="1840" y="90"/>
                  <a:pt x="1840" y="96"/>
                </a:cubicBezTo>
                <a:cubicBezTo>
                  <a:pt x="1840" y="101"/>
                  <a:pt x="1840" y="106"/>
                  <a:pt x="1839" y="111"/>
                </a:cubicBezTo>
                <a:close/>
                <a:moveTo>
                  <a:pt x="1845" y="127"/>
                </a:moveTo>
                <a:cubicBezTo>
                  <a:pt x="1844" y="132"/>
                  <a:pt x="1844" y="134"/>
                  <a:pt x="1844" y="134"/>
                </a:cubicBezTo>
                <a:cubicBezTo>
                  <a:pt x="1844" y="129"/>
                  <a:pt x="1845" y="125"/>
                  <a:pt x="1845" y="120"/>
                </a:cubicBezTo>
                <a:cubicBezTo>
                  <a:pt x="1845" y="123"/>
                  <a:pt x="1845" y="125"/>
                  <a:pt x="1845" y="127"/>
                </a:cubicBezTo>
                <a:close/>
                <a:moveTo>
                  <a:pt x="1877" y="92"/>
                </a:moveTo>
                <a:cubicBezTo>
                  <a:pt x="1877" y="91"/>
                  <a:pt x="1877" y="90"/>
                  <a:pt x="1877" y="89"/>
                </a:cubicBezTo>
                <a:cubicBezTo>
                  <a:pt x="1877" y="89"/>
                  <a:pt x="1877" y="90"/>
                  <a:pt x="1877" y="91"/>
                </a:cubicBezTo>
                <a:cubicBezTo>
                  <a:pt x="1877" y="91"/>
                  <a:pt x="1877" y="92"/>
                  <a:pt x="1877" y="92"/>
                </a:cubicBezTo>
                <a:close/>
                <a:moveTo>
                  <a:pt x="1880" y="130"/>
                </a:moveTo>
                <a:cubicBezTo>
                  <a:pt x="1879" y="132"/>
                  <a:pt x="1879" y="134"/>
                  <a:pt x="1879" y="136"/>
                </a:cubicBezTo>
                <a:cubicBezTo>
                  <a:pt x="1878" y="127"/>
                  <a:pt x="1877" y="119"/>
                  <a:pt x="1877" y="110"/>
                </a:cubicBezTo>
                <a:cubicBezTo>
                  <a:pt x="1877" y="105"/>
                  <a:pt x="1877" y="99"/>
                  <a:pt x="1878" y="93"/>
                </a:cubicBezTo>
                <a:cubicBezTo>
                  <a:pt x="1879" y="99"/>
                  <a:pt x="1880" y="104"/>
                  <a:pt x="1881" y="109"/>
                </a:cubicBezTo>
                <a:cubicBezTo>
                  <a:pt x="1880" y="116"/>
                  <a:pt x="1880" y="123"/>
                  <a:pt x="1880" y="130"/>
                </a:cubicBezTo>
                <a:close/>
                <a:moveTo>
                  <a:pt x="1889" y="140"/>
                </a:moveTo>
                <a:cubicBezTo>
                  <a:pt x="1889" y="140"/>
                  <a:pt x="1889" y="139"/>
                  <a:pt x="1889" y="139"/>
                </a:cubicBezTo>
                <a:cubicBezTo>
                  <a:pt x="1890" y="100"/>
                  <a:pt x="1890" y="100"/>
                  <a:pt x="1890" y="100"/>
                </a:cubicBezTo>
                <a:cubicBezTo>
                  <a:pt x="1890" y="106"/>
                  <a:pt x="1891" y="113"/>
                  <a:pt x="1891" y="119"/>
                </a:cubicBezTo>
                <a:cubicBezTo>
                  <a:pt x="1891" y="122"/>
                  <a:pt x="1891" y="126"/>
                  <a:pt x="1891" y="129"/>
                </a:cubicBezTo>
                <a:cubicBezTo>
                  <a:pt x="1890" y="133"/>
                  <a:pt x="1890" y="136"/>
                  <a:pt x="1889" y="140"/>
                </a:cubicBezTo>
                <a:close/>
                <a:moveTo>
                  <a:pt x="1910" y="105"/>
                </a:moveTo>
                <a:cubicBezTo>
                  <a:pt x="1910" y="104"/>
                  <a:pt x="1910" y="102"/>
                  <a:pt x="1910" y="101"/>
                </a:cubicBezTo>
                <a:cubicBezTo>
                  <a:pt x="1910" y="102"/>
                  <a:pt x="1911" y="103"/>
                  <a:pt x="1911" y="103"/>
                </a:cubicBezTo>
                <a:cubicBezTo>
                  <a:pt x="1910" y="104"/>
                  <a:pt x="1910" y="105"/>
                  <a:pt x="1910" y="105"/>
                </a:cubicBezTo>
                <a:close/>
                <a:moveTo>
                  <a:pt x="1933" y="101"/>
                </a:moveTo>
                <a:cubicBezTo>
                  <a:pt x="1932" y="101"/>
                  <a:pt x="1932" y="101"/>
                  <a:pt x="1932" y="100"/>
                </a:cubicBezTo>
                <a:cubicBezTo>
                  <a:pt x="1932" y="101"/>
                  <a:pt x="1932" y="101"/>
                  <a:pt x="1933" y="101"/>
                </a:cubicBezTo>
                <a:cubicBezTo>
                  <a:pt x="1932" y="111"/>
                  <a:pt x="1931" y="119"/>
                  <a:pt x="1930" y="126"/>
                </a:cubicBezTo>
                <a:cubicBezTo>
                  <a:pt x="1929" y="122"/>
                  <a:pt x="1929" y="118"/>
                  <a:pt x="1928" y="114"/>
                </a:cubicBezTo>
                <a:cubicBezTo>
                  <a:pt x="1928" y="109"/>
                  <a:pt x="1928" y="103"/>
                  <a:pt x="1928" y="98"/>
                </a:cubicBezTo>
                <a:cubicBezTo>
                  <a:pt x="1929" y="92"/>
                  <a:pt x="1931" y="87"/>
                  <a:pt x="1934" y="82"/>
                </a:cubicBezTo>
                <a:cubicBezTo>
                  <a:pt x="1933" y="89"/>
                  <a:pt x="1933" y="95"/>
                  <a:pt x="1933" y="101"/>
                </a:cubicBezTo>
                <a:close/>
                <a:moveTo>
                  <a:pt x="1942" y="117"/>
                </a:moveTo>
                <a:cubicBezTo>
                  <a:pt x="1942" y="114"/>
                  <a:pt x="1942" y="110"/>
                  <a:pt x="1942" y="106"/>
                </a:cubicBezTo>
                <a:cubicBezTo>
                  <a:pt x="1942" y="99"/>
                  <a:pt x="1942" y="90"/>
                  <a:pt x="1945" y="83"/>
                </a:cubicBezTo>
                <a:cubicBezTo>
                  <a:pt x="1944" y="95"/>
                  <a:pt x="1943" y="107"/>
                  <a:pt x="1942" y="117"/>
                </a:cubicBezTo>
                <a:close/>
                <a:moveTo>
                  <a:pt x="1948" y="108"/>
                </a:moveTo>
                <a:cubicBezTo>
                  <a:pt x="1948" y="106"/>
                  <a:pt x="1948" y="104"/>
                  <a:pt x="1949" y="102"/>
                </a:cubicBezTo>
                <a:cubicBezTo>
                  <a:pt x="1949" y="102"/>
                  <a:pt x="1949" y="102"/>
                  <a:pt x="1949" y="103"/>
                </a:cubicBezTo>
                <a:cubicBezTo>
                  <a:pt x="1949" y="104"/>
                  <a:pt x="1948" y="106"/>
                  <a:pt x="1948" y="108"/>
                </a:cubicBezTo>
                <a:close/>
                <a:moveTo>
                  <a:pt x="1954" y="111"/>
                </a:moveTo>
                <a:cubicBezTo>
                  <a:pt x="1954" y="103"/>
                  <a:pt x="1957" y="95"/>
                  <a:pt x="1959" y="87"/>
                </a:cubicBezTo>
                <a:cubicBezTo>
                  <a:pt x="1958" y="95"/>
                  <a:pt x="1956" y="104"/>
                  <a:pt x="1954" y="113"/>
                </a:cubicBezTo>
                <a:cubicBezTo>
                  <a:pt x="1954" y="112"/>
                  <a:pt x="1954" y="112"/>
                  <a:pt x="1954" y="111"/>
                </a:cubicBezTo>
                <a:close/>
                <a:moveTo>
                  <a:pt x="1978" y="110"/>
                </a:moveTo>
                <a:cubicBezTo>
                  <a:pt x="1978" y="109"/>
                  <a:pt x="1978" y="108"/>
                  <a:pt x="1978" y="107"/>
                </a:cubicBezTo>
                <a:cubicBezTo>
                  <a:pt x="1978" y="107"/>
                  <a:pt x="1978" y="108"/>
                  <a:pt x="1978" y="108"/>
                </a:cubicBezTo>
                <a:cubicBezTo>
                  <a:pt x="1978" y="109"/>
                  <a:pt x="1978" y="109"/>
                  <a:pt x="1978" y="110"/>
                </a:cubicBezTo>
                <a:close/>
                <a:moveTo>
                  <a:pt x="1989" y="125"/>
                </a:moveTo>
                <a:cubicBezTo>
                  <a:pt x="1989" y="123"/>
                  <a:pt x="1989" y="122"/>
                  <a:pt x="1989" y="120"/>
                </a:cubicBezTo>
                <a:cubicBezTo>
                  <a:pt x="1989" y="121"/>
                  <a:pt x="1989" y="122"/>
                  <a:pt x="1989" y="123"/>
                </a:cubicBezTo>
                <a:cubicBezTo>
                  <a:pt x="1989" y="123"/>
                  <a:pt x="1989" y="124"/>
                  <a:pt x="1989" y="125"/>
                </a:cubicBezTo>
                <a:close/>
                <a:moveTo>
                  <a:pt x="1992" y="115"/>
                </a:moveTo>
                <a:cubicBezTo>
                  <a:pt x="1991" y="117"/>
                  <a:pt x="1991" y="118"/>
                  <a:pt x="1990" y="119"/>
                </a:cubicBezTo>
                <a:cubicBezTo>
                  <a:pt x="1990" y="118"/>
                  <a:pt x="1989" y="116"/>
                  <a:pt x="1989" y="114"/>
                </a:cubicBezTo>
                <a:cubicBezTo>
                  <a:pt x="1989" y="110"/>
                  <a:pt x="1989" y="105"/>
                  <a:pt x="1989" y="100"/>
                </a:cubicBezTo>
                <a:cubicBezTo>
                  <a:pt x="1990" y="94"/>
                  <a:pt x="1993" y="89"/>
                  <a:pt x="1996" y="84"/>
                </a:cubicBezTo>
                <a:cubicBezTo>
                  <a:pt x="1995" y="93"/>
                  <a:pt x="1993" y="105"/>
                  <a:pt x="1992" y="115"/>
                </a:cubicBezTo>
                <a:close/>
                <a:moveTo>
                  <a:pt x="1999" y="90"/>
                </a:moveTo>
                <a:cubicBezTo>
                  <a:pt x="1999" y="88"/>
                  <a:pt x="1998" y="84"/>
                  <a:pt x="1998" y="80"/>
                </a:cubicBezTo>
                <a:cubicBezTo>
                  <a:pt x="1998" y="80"/>
                  <a:pt x="1998" y="80"/>
                  <a:pt x="1998" y="80"/>
                </a:cubicBezTo>
                <a:cubicBezTo>
                  <a:pt x="1999" y="81"/>
                  <a:pt x="2000" y="83"/>
                  <a:pt x="2000" y="84"/>
                </a:cubicBezTo>
                <a:cubicBezTo>
                  <a:pt x="2000" y="88"/>
                  <a:pt x="1999" y="90"/>
                  <a:pt x="1999" y="90"/>
                </a:cubicBezTo>
                <a:close/>
                <a:moveTo>
                  <a:pt x="2001" y="83"/>
                </a:moveTo>
                <a:cubicBezTo>
                  <a:pt x="2000" y="81"/>
                  <a:pt x="1999" y="80"/>
                  <a:pt x="1998" y="79"/>
                </a:cubicBezTo>
                <a:cubicBezTo>
                  <a:pt x="1999" y="78"/>
                  <a:pt x="2000" y="76"/>
                  <a:pt x="2002" y="75"/>
                </a:cubicBezTo>
                <a:cubicBezTo>
                  <a:pt x="2001" y="78"/>
                  <a:pt x="2001" y="81"/>
                  <a:pt x="2001" y="83"/>
                </a:cubicBezTo>
                <a:close/>
                <a:moveTo>
                  <a:pt x="2007" y="104"/>
                </a:moveTo>
                <a:cubicBezTo>
                  <a:pt x="2008" y="105"/>
                  <a:pt x="2008" y="107"/>
                  <a:pt x="2008" y="109"/>
                </a:cubicBezTo>
                <a:cubicBezTo>
                  <a:pt x="2008" y="111"/>
                  <a:pt x="2007" y="112"/>
                  <a:pt x="2007" y="114"/>
                </a:cubicBezTo>
                <a:cubicBezTo>
                  <a:pt x="2007" y="110"/>
                  <a:pt x="2007" y="107"/>
                  <a:pt x="2007" y="104"/>
                </a:cubicBezTo>
                <a:close/>
                <a:moveTo>
                  <a:pt x="2003" y="91"/>
                </a:moveTo>
                <a:cubicBezTo>
                  <a:pt x="2003" y="91"/>
                  <a:pt x="2003" y="91"/>
                  <a:pt x="2003" y="91"/>
                </a:cubicBezTo>
                <a:cubicBezTo>
                  <a:pt x="2003" y="91"/>
                  <a:pt x="2003" y="91"/>
                  <a:pt x="2003" y="91"/>
                </a:cubicBezTo>
                <a:close/>
                <a:moveTo>
                  <a:pt x="2003" y="124"/>
                </a:moveTo>
                <a:cubicBezTo>
                  <a:pt x="2004" y="114"/>
                  <a:pt x="2004" y="102"/>
                  <a:pt x="2003" y="91"/>
                </a:cubicBezTo>
                <a:cubicBezTo>
                  <a:pt x="2003" y="91"/>
                  <a:pt x="2003" y="91"/>
                  <a:pt x="2003" y="91"/>
                </a:cubicBezTo>
                <a:cubicBezTo>
                  <a:pt x="2005" y="94"/>
                  <a:pt x="2006" y="98"/>
                  <a:pt x="2007" y="101"/>
                </a:cubicBezTo>
                <a:cubicBezTo>
                  <a:pt x="2005" y="120"/>
                  <a:pt x="2005" y="120"/>
                  <a:pt x="2005" y="120"/>
                </a:cubicBezTo>
                <a:cubicBezTo>
                  <a:pt x="2004" y="121"/>
                  <a:pt x="2004" y="122"/>
                  <a:pt x="2003" y="124"/>
                </a:cubicBezTo>
                <a:close/>
                <a:moveTo>
                  <a:pt x="2006" y="136"/>
                </a:moveTo>
                <a:cubicBezTo>
                  <a:pt x="2006" y="134"/>
                  <a:pt x="2006" y="133"/>
                  <a:pt x="2006" y="131"/>
                </a:cubicBezTo>
                <a:cubicBezTo>
                  <a:pt x="2007" y="126"/>
                  <a:pt x="2008" y="121"/>
                  <a:pt x="2009" y="116"/>
                </a:cubicBezTo>
                <a:cubicBezTo>
                  <a:pt x="2010" y="118"/>
                  <a:pt x="2010" y="121"/>
                  <a:pt x="2010" y="123"/>
                </a:cubicBezTo>
                <a:cubicBezTo>
                  <a:pt x="2010" y="124"/>
                  <a:pt x="2010" y="124"/>
                  <a:pt x="2010" y="124"/>
                </a:cubicBezTo>
                <a:cubicBezTo>
                  <a:pt x="2009" y="128"/>
                  <a:pt x="2007" y="132"/>
                  <a:pt x="2006" y="136"/>
                </a:cubicBezTo>
                <a:close/>
                <a:moveTo>
                  <a:pt x="2010" y="141"/>
                </a:moveTo>
                <a:cubicBezTo>
                  <a:pt x="2010" y="141"/>
                  <a:pt x="2010" y="141"/>
                  <a:pt x="2010" y="141"/>
                </a:cubicBezTo>
                <a:cubicBezTo>
                  <a:pt x="2011" y="139"/>
                  <a:pt x="2011" y="137"/>
                  <a:pt x="2012" y="135"/>
                </a:cubicBezTo>
                <a:cubicBezTo>
                  <a:pt x="2012" y="135"/>
                  <a:pt x="2012" y="135"/>
                  <a:pt x="2012" y="135"/>
                </a:cubicBezTo>
                <a:cubicBezTo>
                  <a:pt x="2012" y="137"/>
                  <a:pt x="2011" y="139"/>
                  <a:pt x="2010" y="141"/>
                </a:cubicBezTo>
                <a:close/>
                <a:moveTo>
                  <a:pt x="2017" y="119"/>
                </a:moveTo>
                <a:cubicBezTo>
                  <a:pt x="2016" y="119"/>
                  <a:pt x="2016" y="118"/>
                  <a:pt x="2016" y="118"/>
                </a:cubicBezTo>
                <a:cubicBezTo>
                  <a:pt x="2016" y="116"/>
                  <a:pt x="2017" y="115"/>
                  <a:pt x="2017" y="113"/>
                </a:cubicBezTo>
                <a:cubicBezTo>
                  <a:pt x="2017" y="112"/>
                  <a:pt x="2017" y="112"/>
                  <a:pt x="2017" y="111"/>
                </a:cubicBezTo>
                <a:cubicBezTo>
                  <a:pt x="2018" y="112"/>
                  <a:pt x="2018" y="113"/>
                  <a:pt x="2018" y="115"/>
                </a:cubicBezTo>
                <a:cubicBezTo>
                  <a:pt x="2018" y="116"/>
                  <a:pt x="2017" y="118"/>
                  <a:pt x="2017" y="119"/>
                </a:cubicBezTo>
                <a:close/>
                <a:moveTo>
                  <a:pt x="2024" y="136"/>
                </a:moveTo>
                <a:cubicBezTo>
                  <a:pt x="2023" y="135"/>
                  <a:pt x="2023" y="134"/>
                  <a:pt x="2022" y="133"/>
                </a:cubicBezTo>
                <a:cubicBezTo>
                  <a:pt x="2022" y="132"/>
                  <a:pt x="2022" y="132"/>
                  <a:pt x="2022" y="131"/>
                </a:cubicBezTo>
                <a:cubicBezTo>
                  <a:pt x="2023" y="133"/>
                  <a:pt x="2023" y="134"/>
                  <a:pt x="2024" y="136"/>
                </a:cubicBezTo>
                <a:cubicBezTo>
                  <a:pt x="2024" y="136"/>
                  <a:pt x="2024" y="136"/>
                  <a:pt x="2024" y="136"/>
                </a:cubicBezTo>
                <a:close/>
                <a:moveTo>
                  <a:pt x="2038" y="118"/>
                </a:moveTo>
                <a:cubicBezTo>
                  <a:pt x="2038" y="118"/>
                  <a:pt x="2038" y="117"/>
                  <a:pt x="2038" y="117"/>
                </a:cubicBezTo>
                <a:cubicBezTo>
                  <a:pt x="2038" y="117"/>
                  <a:pt x="2038" y="117"/>
                  <a:pt x="2038" y="117"/>
                </a:cubicBezTo>
                <a:cubicBezTo>
                  <a:pt x="2038" y="118"/>
                  <a:pt x="2038" y="118"/>
                  <a:pt x="2038" y="118"/>
                </a:cubicBezTo>
                <a:close/>
                <a:moveTo>
                  <a:pt x="2044" y="105"/>
                </a:moveTo>
                <a:cubicBezTo>
                  <a:pt x="2043" y="106"/>
                  <a:pt x="2042" y="107"/>
                  <a:pt x="2042" y="109"/>
                </a:cubicBezTo>
                <a:cubicBezTo>
                  <a:pt x="2041" y="107"/>
                  <a:pt x="2041" y="106"/>
                  <a:pt x="2041" y="104"/>
                </a:cubicBezTo>
                <a:cubicBezTo>
                  <a:pt x="2042" y="101"/>
                  <a:pt x="2044" y="98"/>
                  <a:pt x="2045" y="94"/>
                </a:cubicBezTo>
                <a:cubicBezTo>
                  <a:pt x="2044" y="98"/>
                  <a:pt x="2044" y="101"/>
                  <a:pt x="2044" y="105"/>
                </a:cubicBezTo>
                <a:close/>
                <a:moveTo>
                  <a:pt x="2049" y="138"/>
                </a:moveTo>
                <a:cubicBezTo>
                  <a:pt x="2049" y="137"/>
                  <a:pt x="2049" y="136"/>
                  <a:pt x="2048" y="135"/>
                </a:cubicBezTo>
                <a:cubicBezTo>
                  <a:pt x="2048" y="133"/>
                  <a:pt x="2048" y="131"/>
                  <a:pt x="2048" y="129"/>
                </a:cubicBezTo>
                <a:cubicBezTo>
                  <a:pt x="2049" y="131"/>
                  <a:pt x="2049" y="133"/>
                  <a:pt x="2050" y="134"/>
                </a:cubicBezTo>
                <a:cubicBezTo>
                  <a:pt x="2050" y="135"/>
                  <a:pt x="2050" y="137"/>
                  <a:pt x="2049" y="138"/>
                </a:cubicBezTo>
                <a:close/>
                <a:moveTo>
                  <a:pt x="2051" y="123"/>
                </a:moveTo>
                <a:cubicBezTo>
                  <a:pt x="2050" y="121"/>
                  <a:pt x="2049" y="118"/>
                  <a:pt x="2049" y="116"/>
                </a:cubicBezTo>
                <a:cubicBezTo>
                  <a:pt x="2050" y="112"/>
                  <a:pt x="2051" y="107"/>
                  <a:pt x="2052" y="103"/>
                </a:cubicBezTo>
                <a:cubicBezTo>
                  <a:pt x="2052" y="110"/>
                  <a:pt x="2051" y="117"/>
                  <a:pt x="2051" y="123"/>
                </a:cubicBezTo>
                <a:close/>
                <a:moveTo>
                  <a:pt x="2056" y="69"/>
                </a:moveTo>
                <a:cubicBezTo>
                  <a:pt x="2058" y="72"/>
                  <a:pt x="2060" y="75"/>
                  <a:pt x="2061" y="79"/>
                </a:cubicBezTo>
                <a:cubicBezTo>
                  <a:pt x="2061" y="79"/>
                  <a:pt x="2061" y="79"/>
                  <a:pt x="2061" y="79"/>
                </a:cubicBezTo>
                <a:cubicBezTo>
                  <a:pt x="2059" y="76"/>
                  <a:pt x="2058" y="72"/>
                  <a:pt x="2056" y="69"/>
                </a:cubicBezTo>
                <a:cubicBezTo>
                  <a:pt x="2056" y="69"/>
                  <a:pt x="2056" y="69"/>
                  <a:pt x="2056" y="69"/>
                </a:cubicBezTo>
                <a:close/>
                <a:moveTo>
                  <a:pt x="2056" y="74"/>
                </a:moveTo>
                <a:cubicBezTo>
                  <a:pt x="2057" y="76"/>
                  <a:pt x="2058" y="79"/>
                  <a:pt x="2059" y="81"/>
                </a:cubicBezTo>
                <a:cubicBezTo>
                  <a:pt x="2058" y="82"/>
                  <a:pt x="2057" y="83"/>
                  <a:pt x="2056" y="85"/>
                </a:cubicBezTo>
                <a:cubicBezTo>
                  <a:pt x="2056" y="81"/>
                  <a:pt x="2056" y="77"/>
                  <a:pt x="2056" y="74"/>
                </a:cubicBezTo>
                <a:close/>
                <a:moveTo>
                  <a:pt x="2057" y="120"/>
                </a:moveTo>
                <a:cubicBezTo>
                  <a:pt x="2057" y="115"/>
                  <a:pt x="2057" y="111"/>
                  <a:pt x="2057" y="106"/>
                </a:cubicBezTo>
                <a:cubicBezTo>
                  <a:pt x="2058" y="109"/>
                  <a:pt x="2058" y="112"/>
                  <a:pt x="2059" y="114"/>
                </a:cubicBezTo>
                <a:cubicBezTo>
                  <a:pt x="2058" y="116"/>
                  <a:pt x="2058" y="118"/>
                  <a:pt x="2057" y="120"/>
                </a:cubicBezTo>
                <a:close/>
                <a:moveTo>
                  <a:pt x="2060" y="109"/>
                </a:moveTo>
                <a:cubicBezTo>
                  <a:pt x="2059" y="107"/>
                  <a:pt x="2058" y="104"/>
                  <a:pt x="2057" y="102"/>
                </a:cubicBezTo>
                <a:cubicBezTo>
                  <a:pt x="2057" y="99"/>
                  <a:pt x="2057" y="97"/>
                  <a:pt x="2057" y="94"/>
                </a:cubicBezTo>
                <a:cubicBezTo>
                  <a:pt x="2058" y="98"/>
                  <a:pt x="2059" y="102"/>
                  <a:pt x="2061" y="107"/>
                </a:cubicBezTo>
                <a:cubicBezTo>
                  <a:pt x="2061" y="108"/>
                  <a:pt x="2060" y="108"/>
                  <a:pt x="2060" y="109"/>
                </a:cubicBezTo>
                <a:close/>
                <a:moveTo>
                  <a:pt x="2064" y="96"/>
                </a:moveTo>
                <a:cubicBezTo>
                  <a:pt x="2063" y="98"/>
                  <a:pt x="2062" y="101"/>
                  <a:pt x="2062" y="104"/>
                </a:cubicBezTo>
                <a:cubicBezTo>
                  <a:pt x="2060" y="100"/>
                  <a:pt x="2058" y="96"/>
                  <a:pt x="2057" y="92"/>
                </a:cubicBezTo>
                <a:cubicBezTo>
                  <a:pt x="2057" y="92"/>
                  <a:pt x="2057" y="92"/>
                  <a:pt x="2057" y="92"/>
                </a:cubicBezTo>
                <a:cubicBezTo>
                  <a:pt x="2058" y="89"/>
                  <a:pt x="2059" y="86"/>
                  <a:pt x="2061" y="84"/>
                </a:cubicBezTo>
                <a:cubicBezTo>
                  <a:pt x="2062" y="87"/>
                  <a:pt x="2063" y="90"/>
                  <a:pt x="2064" y="93"/>
                </a:cubicBezTo>
                <a:cubicBezTo>
                  <a:pt x="2064" y="94"/>
                  <a:pt x="2064" y="95"/>
                  <a:pt x="2064" y="96"/>
                </a:cubicBezTo>
                <a:close/>
                <a:moveTo>
                  <a:pt x="2065" y="90"/>
                </a:moveTo>
                <a:cubicBezTo>
                  <a:pt x="2064" y="87"/>
                  <a:pt x="2063" y="84"/>
                  <a:pt x="2062" y="82"/>
                </a:cubicBezTo>
                <a:cubicBezTo>
                  <a:pt x="2062" y="81"/>
                  <a:pt x="2062" y="81"/>
                  <a:pt x="2062" y="81"/>
                </a:cubicBezTo>
                <a:cubicBezTo>
                  <a:pt x="2063" y="83"/>
                  <a:pt x="2064" y="86"/>
                  <a:pt x="2065" y="89"/>
                </a:cubicBezTo>
                <a:cubicBezTo>
                  <a:pt x="2065" y="89"/>
                  <a:pt x="2065" y="89"/>
                  <a:pt x="2065" y="90"/>
                </a:cubicBezTo>
                <a:close/>
                <a:moveTo>
                  <a:pt x="2063" y="79"/>
                </a:moveTo>
                <a:cubicBezTo>
                  <a:pt x="2064" y="78"/>
                  <a:pt x="2065" y="77"/>
                  <a:pt x="2065" y="77"/>
                </a:cubicBezTo>
                <a:cubicBezTo>
                  <a:pt x="2066" y="78"/>
                  <a:pt x="2066" y="79"/>
                  <a:pt x="2067" y="80"/>
                </a:cubicBezTo>
                <a:cubicBezTo>
                  <a:pt x="2067" y="82"/>
                  <a:pt x="2066" y="84"/>
                  <a:pt x="2066" y="85"/>
                </a:cubicBezTo>
                <a:cubicBezTo>
                  <a:pt x="2065" y="83"/>
                  <a:pt x="2064" y="81"/>
                  <a:pt x="2063" y="79"/>
                </a:cubicBezTo>
                <a:close/>
                <a:moveTo>
                  <a:pt x="2066" y="116"/>
                </a:moveTo>
                <a:cubicBezTo>
                  <a:pt x="2066" y="111"/>
                  <a:pt x="2067" y="106"/>
                  <a:pt x="2067" y="102"/>
                </a:cubicBezTo>
                <a:cubicBezTo>
                  <a:pt x="2068" y="105"/>
                  <a:pt x="2069" y="108"/>
                  <a:pt x="2070" y="111"/>
                </a:cubicBezTo>
                <a:cubicBezTo>
                  <a:pt x="2069" y="113"/>
                  <a:pt x="2068" y="116"/>
                  <a:pt x="2067" y="118"/>
                </a:cubicBezTo>
                <a:cubicBezTo>
                  <a:pt x="2067" y="117"/>
                  <a:pt x="2066" y="117"/>
                  <a:pt x="2066" y="116"/>
                </a:cubicBezTo>
                <a:close/>
                <a:moveTo>
                  <a:pt x="2071" y="130"/>
                </a:moveTo>
                <a:cubicBezTo>
                  <a:pt x="2070" y="128"/>
                  <a:pt x="2070" y="127"/>
                  <a:pt x="2069" y="125"/>
                </a:cubicBezTo>
                <a:cubicBezTo>
                  <a:pt x="2070" y="123"/>
                  <a:pt x="2070" y="122"/>
                  <a:pt x="2071" y="120"/>
                </a:cubicBezTo>
                <a:cubicBezTo>
                  <a:pt x="2071" y="122"/>
                  <a:pt x="2071" y="124"/>
                  <a:pt x="2071" y="127"/>
                </a:cubicBezTo>
                <a:cubicBezTo>
                  <a:pt x="2071" y="128"/>
                  <a:pt x="2071" y="129"/>
                  <a:pt x="2071" y="130"/>
                </a:cubicBezTo>
                <a:close/>
                <a:moveTo>
                  <a:pt x="2073" y="105"/>
                </a:moveTo>
                <a:cubicBezTo>
                  <a:pt x="2071" y="100"/>
                  <a:pt x="2070" y="95"/>
                  <a:pt x="2068" y="91"/>
                </a:cubicBezTo>
                <a:cubicBezTo>
                  <a:pt x="2068" y="89"/>
                  <a:pt x="2068" y="87"/>
                  <a:pt x="2069" y="85"/>
                </a:cubicBezTo>
                <a:cubicBezTo>
                  <a:pt x="2071" y="91"/>
                  <a:pt x="2072" y="97"/>
                  <a:pt x="2074" y="103"/>
                </a:cubicBezTo>
                <a:cubicBezTo>
                  <a:pt x="2073" y="104"/>
                  <a:pt x="2073" y="105"/>
                  <a:pt x="2073" y="105"/>
                </a:cubicBezTo>
                <a:close/>
                <a:moveTo>
                  <a:pt x="2074" y="111"/>
                </a:moveTo>
                <a:cubicBezTo>
                  <a:pt x="2074" y="110"/>
                  <a:pt x="2074" y="110"/>
                  <a:pt x="2074" y="109"/>
                </a:cubicBezTo>
                <a:cubicBezTo>
                  <a:pt x="2074" y="109"/>
                  <a:pt x="2074" y="108"/>
                  <a:pt x="2075" y="107"/>
                </a:cubicBezTo>
                <a:cubicBezTo>
                  <a:pt x="2075" y="108"/>
                  <a:pt x="2075" y="109"/>
                  <a:pt x="2075" y="109"/>
                </a:cubicBezTo>
                <a:cubicBezTo>
                  <a:pt x="2075" y="110"/>
                  <a:pt x="2075" y="110"/>
                  <a:pt x="2074" y="111"/>
                </a:cubicBezTo>
                <a:close/>
                <a:moveTo>
                  <a:pt x="2085" y="94"/>
                </a:moveTo>
                <a:cubicBezTo>
                  <a:pt x="2085" y="95"/>
                  <a:pt x="2085" y="95"/>
                  <a:pt x="2086" y="96"/>
                </a:cubicBezTo>
                <a:cubicBezTo>
                  <a:pt x="2085" y="97"/>
                  <a:pt x="2085" y="97"/>
                  <a:pt x="2085" y="98"/>
                </a:cubicBezTo>
                <a:cubicBezTo>
                  <a:pt x="2085" y="96"/>
                  <a:pt x="2085" y="95"/>
                  <a:pt x="2085" y="94"/>
                </a:cubicBezTo>
                <a:close/>
                <a:moveTo>
                  <a:pt x="2087" y="109"/>
                </a:moveTo>
                <a:cubicBezTo>
                  <a:pt x="2086" y="106"/>
                  <a:pt x="2086" y="104"/>
                  <a:pt x="2085" y="102"/>
                </a:cubicBezTo>
                <a:cubicBezTo>
                  <a:pt x="2085" y="101"/>
                  <a:pt x="2085" y="99"/>
                  <a:pt x="2085" y="98"/>
                </a:cubicBezTo>
                <a:cubicBezTo>
                  <a:pt x="2085" y="98"/>
                  <a:pt x="2086" y="97"/>
                  <a:pt x="2086" y="97"/>
                </a:cubicBezTo>
                <a:cubicBezTo>
                  <a:pt x="2086" y="98"/>
                  <a:pt x="2087" y="100"/>
                  <a:pt x="2087" y="102"/>
                </a:cubicBezTo>
                <a:cubicBezTo>
                  <a:pt x="2087" y="104"/>
                  <a:pt x="2087" y="107"/>
                  <a:pt x="2087" y="109"/>
                </a:cubicBezTo>
                <a:close/>
                <a:moveTo>
                  <a:pt x="2089" y="84"/>
                </a:moveTo>
                <a:cubicBezTo>
                  <a:pt x="2089" y="89"/>
                  <a:pt x="2088" y="94"/>
                  <a:pt x="2088" y="98"/>
                </a:cubicBezTo>
                <a:cubicBezTo>
                  <a:pt x="2087" y="97"/>
                  <a:pt x="2087" y="96"/>
                  <a:pt x="2086" y="95"/>
                </a:cubicBezTo>
                <a:cubicBezTo>
                  <a:pt x="2087" y="94"/>
                  <a:pt x="2088" y="92"/>
                  <a:pt x="2088" y="91"/>
                </a:cubicBezTo>
                <a:cubicBezTo>
                  <a:pt x="2088" y="92"/>
                  <a:pt x="2087" y="94"/>
                  <a:pt x="2086" y="95"/>
                </a:cubicBezTo>
                <a:cubicBezTo>
                  <a:pt x="2086" y="94"/>
                  <a:pt x="2085" y="93"/>
                  <a:pt x="2085" y="92"/>
                </a:cubicBezTo>
                <a:cubicBezTo>
                  <a:pt x="2085" y="90"/>
                  <a:pt x="2085" y="88"/>
                  <a:pt x="2085" y="85"/>
                </a:cubicBezTo>
                <a:cubicBezTo>
                  <a:pt x="2085" y="85"/>
                  <a:pt x="2085" y="85"/>
                  <a:pt x="2085" y="85"/>
                </a:cubicBezTo>
                <a:cubicBezTo>
                  <a:pt x="2085" y="85"/>
                  <a:pt x="2085" y="85"/>
                  <a:pt x="2085" y="85"/>
                </a:cubicBezTo>
                <a:cubicBezTo>
                  <a:pt x="2084" y="75"/>
                  <a:pt x="2084" y="65"/>
                  <a:pt x="2084" y="56"/>
                </a:cubicBezTo>
                <a:cubicBezTo>
                  <a:pt x="2087" y="58"/>
                  <a:pt x="2089" y="61"/>
                  <a:pt x="2092" y="63"/>
                </a:cubicBezTo>
                <a:cubicBezTo>
                  <a:pt x="2091" y="69"/>
                  <a:pt x="2090" y="76"/>
                  <a:pt x="2089" y="84"/>
                </a:cubicBezTo>
                <a:cubicBezTo>
                  <a:pt x="2089" y="82"/>
                  <a:pt x="2088" y="81"/>
                  <a:pt x="2088" y="79"/>
                </a:cubicBezTo>
                <a:cubicBezTo>
                  <a:pt x="2088" y="81"/>
                  <a:pt x="2089" y="83"/>
                  <a:pt x="2089" y="84"/>
                </a:cubicBezTo>
                <a:close/>
                <a:moveTo>
                  <a:pt x="2090" y="139"/>
                </a:moveTo>
                <a:cubicBezTo>
                  <a:pt x="2090" y="134"/>
                  <a:pt x="2090" y="128"/>
                  <a:pt x="2090" y="121"/>
                </a:cubicBezTo>
                <a:cubicBezTo>
                  <a:pt x="2090" y="125"/>
                  <a:pt x="2090" y="129"/>
                  <a:pt x="2091" y="133"/>
                </a:cubicBezTo>
                <a:cubicBezTo>
                  <a:pt x="2091" y="135"/>
                  <a:pt x="2091" y="137"/>
                  <a:pt x="2090" y="139"/>
                </a:cubicBezTo>
                <a:close/>
                <a:moveTo>
                  <a:pt x="2090" y="104"/>
                </a:moveTo>
                <a:cubicBezTo>
                  <a:pt x="2090" y="102"/>
                  <a:pt x="2090" y="99"/>
                  <a:pt x="2091" y="96"/>
                </a:cubicBezTo>
                <a:cubicBezTo>
                  <a:pt x="2091" y="100"/>
                  <a:pt x="2091" y="104"/>
                  <a:pt x="2091" y="107"/>
                </a:cubicBezTo>
                <a:cubicBezTo>
                  <a:pt x="2091" y="106"/>
                  <a:pt x="2091" y="105"/>
                  <a:pt x="2090" y="104"/>
                </a:cubicBezTo>
                <a:close/>
                <a:moveTo>
                  <a:pt x="2102" y="85"/>
                </a:moveTo>
                <a:cubicBezTo>
                  <a:pt x="2101" y="90"/>
                  <a:pt x="2100" y="96"/>
                  <a:pt x="2099" y="103"/>
                </a:cubicBezTo>
                <a:cubicBezTo>
                  <a:pt x="2099" y="101"/>
                  <a:pt x="2099" y="100"/>
                  <a:pt x="2098" y="99"/>
                </a:cubicBezTo>
                <a:cubicBezTo>
                  <a:pt x="2098" y="96"/>
                  <a:pt x="2097" y="93"/>
                  <a:pt x="2096" y="90"/>
                </a:cubicBezTo>
                <a:cubicBezTo>
                  <a:pt x="2097" y="93"/>
                  <a:pt x="2097" y="96"/>
                  <a:pt x="2097" y="99"/>
                </a:cubicBezTo>
                <a:cubicBezTo>
                  <a:pt x="2097" y="104"/>
                  <a:pt x="2096" y="112"/>
                  <a:pt x="2096" y="120"/>
                </a:cubicBezTo>
                <a:cubicBezTo>
                  <a:pt x="2095" y="110"/>
                  <a:pt x="2093" y="100"/>
                  <a:pt x="2091" y="91"/>
                </a:cubicBezTo>
                <a:cubicBezTo>
                  <a:pt x="2092" y="81"/>
                  <a:pt x="2093" y="72"/>
                  <a:pt x="2093" y="65"/>
                </a:cubicBezTo>
                <a:cubicBezTo>
                  <a:pt x="2097" y="69"/>
                  <a:pt x="2100" y="74"/>
                  <a:pt x="2102" y="79"/>
                </a:cubicBezTo>
                <a:cubicBezTo>
                  <a:pt x="2102" y="81"/>
                  <a:pt x="2102" y="83"/>
                  <a:pt x="2102" y="85"/>
                </a:cubicBezTo>
                <a:close/>
                <a:moveTo>
                  <a:pt x="2102" y="75"/>
                </a:moveTo>
                <a:cubicBezTo>
                  <a:pt x="2102" y="75"/>
                  <a:pt x="2102" y="75"/>
                  <a:pt x="2102" y="75"/>
                </a:cubicBezTo>
                <a:cubicBezTo>
                  <a:pt x="2102" y="73"/>
                  <a:pt x="2102" y="72"/>
                  <a:pt x="2101" y="70"/>
                </a:cubicBezTo>
                <a:cubicBezTo>
                  <a:pt x="2101" y="70"/>
                  <a:pt x="2102" y="72"/>
                  <a:pt x="2102" y="75"/>
                </a:cubicBezTo>
                <a:cubicBezTo>
                  <a:pt x="2099" y="71"/>
                  <a:pt x="2097" y="67"/>
                  <a:pt x="2093" y="64"/>
                </a:cubicBezTo>
                <a:cubicBezTo>
                  <a:pt x="2094" y="60"/>
                  <a:pt x="2094" y="57"/>
                  <a:pt x="2095" y="54"/>
                </a:cubicBezTo>
                <a:cubicBezTo>
                  <a:pt x="2098" y="58"/>
                  <a:pt x="2101" y="62"/>
                  <a:pt x="2103" y="65"/>
                </a:cubicBezTo>
                <a:cubicBezTo>
                  <a:pt x="2103" y="68"/>
                  <a:pt x="2102" y="71"/>
                  <a:pt x="2102" y="75"/>
                </a:cubicBezTo>
                <a:close/>
                <a:moveTo>
                  <a:pt x="2106" y="117"/>
                </a:moveTo>
                <a:cubicBezTo>
                  <a:pt x="2105" y="120"/>
                  <a:pt x="2104" y="122"/>
                  <a:pt x="2104" y="125"/>
                </a:cubicBezTo>
                <a:cubicBezTo>
                  <a:pt x="2104" y="124"/>
                  <a:pt x="2104" y="123"/>
                  <a:pt x="2104" y="122"/>
                </a:cubicBezTo>
                <a:cubicBezTo>
                  <a:pt x="2104" y="110"/>
                  <a:pt x="2104" y="98"/>
                  <a:pt x="2105" y="87"/>
                </a:cubicBezTo>
                <a:cubicBezTo>
                  <a:pt x="2106" y="92"/>
                  <a:pt x="2107" y="98"/>
                  <a:pt x="2108" y="103"/>
                </a:cubicBezTo>
                <a:cubicBezTo>
                  <a:pt x="2107" y="108"/>
                  <a:pt x="2106" y="112"/>
                  <a:pt x="2106" y="117"/>
                </a:cubicBezTo>
                <a:close/>
                <a:moveTo>
                  <a:pt x="2109" y="89"/>
                </a:moveTo>
                <a:cubicBezTo>
                  <a:pt x="2108" y="86"/>
                  <a:pt x="2106" y="83"/>
                  <a:pt x="2105" y="80"/>
                </a:cubicBezTo>
                <a:cubicBezTo>
                  <a:pt x="2105" y="76"/>
                  <a:pt x="2105" y="72"/>
                  <a:pt x="2105" y="68"/>
                </a:cubicBezTo>
                <a:cubicBezTo>
                  <a:pt x="2107" y="71"/>
                  <a:pt x="2109" y="74"/>
                  <a:pt x="2111" y="78"/>
                </a:cubicBezTo>
                <a:cubicBezTo>
                  <a:pt x="2110" y="81"/>
                  <a:pt x="2110" y="85"/>
                  <a:pt x="2109" y="89"/>
                </a:cubicBezTo>
                <a:close/>
                <a:moveTo>
                  <a:pt x="2114" y="96"/>
                </a:moveTo>
                <a:cubicBezTo>
                  <a:pt x="2114" y="97"/>
                  <a:pt x="2113" y="98"/>
                  <a:pt x="2113" y="99"/>
                </a:cubicBezTo>
                <a:cubicBezTo>
                  <a:pt x="2112" y="98"/>
                  <a:pt x="2112" y="97"/>
                  <a:pt x="2112" y="96"/>
                </a:cubicBezTo>
                <a:cubicBezTo>
                  <a:pt x="2112" y="91"/>
                  <a:pt x="2112" y="86"/>
                  <a:pt x="2112" y="80"/>
                </a:cubicBezTo>
                <a:cubicBezTo>
                  <a:pt x="2113" y="83"/>
                  <a:pt x="2114" y="86"/>
                  <a:pt x="2115" y="88"/>
                </a:cubicBezTo>
                <a:cubicBezTo>
                  <a:pt x="2115" y="91"/>
                  <a:pt x="2115" y="93"/>
                  <a:pt x="2114" y="96"/>
                </a:cubicBezTo>
                <a:close/>
                <a:moveTo>
                  <a:pt x="2136" y="105"/>
                </a:moveTo>
                <a:cubicBezTo>
                  <a:pt x="2135" y="103"/>
                  <a:pt x="2135" y="102"/>
                  <a:pt x="2134" y="101"/>
                </a:cubicBezTo>
                <a:cubicBezTo>
                  <a:pt x="2136" y="96"/>
                  <a:pt x="2137" y="92"/>
                  <a:pt x="2138" y="89"/>
                </a:cubicBezTo>
                <a:cubicBezTo>
                  <a:pt x="2138" y="89"/>
                  <a:pt x="2139" y="89"/>
                  <a:pt x="2139" y="90"/>
                </a:cubicBezTo>
                <a:cubicBezTo>
                  <a:pt x="2138" y="95"/>
                  <a:pt x="2137" y="100"/>
                  <a:pt x="2136" y="105"/>
                </a:cubicBezTo>
                <a:close/>
                <a:moveTo>
                  <a:pt x="2152" y="81"/>
                </a:moveTo>
                <a:cubicBezTo>
                  <a:pt x="2152" y="81"/>
                  <a:pt x="2153" y="81"/>
                  <a:pt x="2153" y="81"/>
                </a:cubicBezTo>
                <a:cubicBezTo>
                  <a:pt x="2152" y="81"/>
                  <a:pt x="2152" y="81"/>
                  <a:pt x="2152" y="81"/>
                </a:cubicBezTo>
                <a:cubicBezTo>
                  <a:pt x="2152" y="81"/>
                  <a:pt x="2152" y="81"/>
                  <a:pt x="2152" y="81"/>
                </a:cubicBezTo>
                <a:close/>
                <a:moveTo>
                  <a:pt x="2152" y="88"/>
                </a:moveTo>
                <a:cubicBezTo>
                  <a:pt x="2152" y="89"/>
                  <a:pt x="2152" y="89"/>
                  <a:pt x="2152" y="89"/>
                </a:cubicBezTo>
                <a:cubicBezTo>
                  <a:pt x="2152" y="90"/>
                  <a:pt x="2152" y="91"/>
                  <a:pt x="2152" y="91"/>
                </a:cubicBezTo>
                <a:cubicBezTo>
                  <a:pt x="2152" y="90"/>
                  <a:pt x="2152" y="89"/>
                  <a:pt x="2152" y="88"/>
                </a:cubicBezTo>
                <a:close/>
                <a:moveTo>
                  <a:pt x="2143" y="122"/>
                </a:moveTo>
                <a:cubicBezTo>
                  <a:pt x="2143" y="122"/>
                  <a:pt x="2143" y="123"/>
                  <a:pt x="2143" y="123"/>
                </a:cubicBezTo>
                <a:cubicBezTo>
                  <a:pt x="2143" y="123"/>
                  <a:pt x="2143" y="123"/>
                  <a:pt x="2143" y="123"/>
                </a:cubicBezTo>
                <a:cubicBezTo>
                  <a:pt x="2143" y="123"/>
                  <a:pt x="2143" y="122"/>
                  <a:pt x="2143" y="122"/>
                </a:cubicBezTo>
                <a:cubicBezTo>
                  <a:pt x="2143" y="120"/>
                  <a:pt x="2144" y="118"/>
                  <a:pt x="2144" y="115"/>
                </a:cubicBezTo>
                <a:cubicBezTo>
                  <a:pt x="2144" y="115"/>
                  <a:pt x="2144" y="115"/>
                  <a:pt x="2144" y="115"/>
                </a:cubicBezTo>
                <a:cubicBezTo>
                  <a:pt x="2144" y="116"/>
                  <a:pt x="2144" y="117"/>
                  <a:pt x="2144" y="118"/>
                </a:cubicBezTo>
                <a:cubicBezTo>
                  <a:pt x="2144" y="119"/>
                  <a:pt x="2143" y="121"/>
                  <a:pt x="2143" y="122"/>
                </a:cubicBezTo>
                <a:close/>
                <a:moveTo>
                  <a:pt x="2145" y="70"/>
                </a:moveTo>
                <a:cubicBezTo>
                  <a:pt x="2148" y="73"/>
                  <a:pt x="2150" y="76"/>
                  <a:pt x="2151" y="79"/>
                </a:cubicBezTo>
                <a:cubicBezTo>
                  <a:pt x="2151" y="81"/>
                  <a:pt x="2151" y="82"/>
                  <a:pt x="2150" y="84"/>
                </a:cubicBezTo>
                <a:cubicBezTo>
                  <a:pt x="2150" y="84"/>
                  <a:pt x="2150" y="84"/>
                  <a:pt x="2150" y="84"/>
                </a:cubicBezTo>
                <a:cubicBezTo>
                  <a:pt x="2150" y="82"/>
                  <a:pt x="2149" y="81"/>
                  <a:pt x="2148" y="79"/>
                </a:cubicBezTo>
                <a:cubicBezTo>
                  <a:pt x="2149" y="81"/>
                  <a:pt x="2149" y="83"/>
                  <a:pt x="2150" y="84"/>
                </a:cubicBezTo>
                <a:cubicBezTo>
                  <a:pt x="2149" y="87"/>
                  <a:pt x="2147" y="90"/>
                  <a:pt x="2145" y="93"/>
                </a:cubicBezTo>
                <a:cubicBezTo>
                  <a:pt x="2146" y="85"/>
                  <a:pt x="2146" y="77"/>
                  <a:pt x="2145" y="70"/>
                </a:cubicBezTo>
                <a:close/>
                <a:moveTo>
                  <a:pt x="2148" y="98"/>
                </a:moveTo>
                <a:cubicBezTo>
                  <a:pt x="2148" y="98"/>
                  <a:pt x="2148" y="97"/>
                  <a:pt x="2147" y="96"/>
                </a:cubicBezTo>
                <a:cubicBezTo>
                  <a:pt x="2148" y="97"/>
                  <a:pt x="2148" y="98"/>
                  <a:pt x="2148" y="98"/>
                </a:cubicBezTo>
                <a:cubicBezTo>
                  <a:pt x="2148" y="99"/>
                  <a:pt x="2148" y="100"/>
                  <a:pt x="2147" y="100"/>
                </a:cubicBezTo>
                <a:cubicBezTo>
                  <a:pt x="2147" y="99"/>
                  <a:pt x="2147" y="98"/>
                  <a:pt x="2146" y="97"/>
                </a:cubicBezTo>
                <a:cubicBezTo>
                  <a:pt x="2147" y="95"/>
                  <a:pt x="2148" y="93"/>
                  <a:pt x="2149" y="90"/>
                </a:cubicBezTo>
                <a:cubicBezTo>
                  <a:pt x="2149" y="93"/>
                  <a:pt x="2148" y="96"/>
                  <a:pt x="2148" y="98"/>
                </a:cubicBezTo>
                <a:close/>
                <a:moveTo>
                  <a:pt x="2155" y="100"/>
                </a:moveTo>
                <a:cubicBezTo>
                  <a:pt x="2153" y="104"/>
                  <a:pt x="2152" y="107"/>
                  <a:pt x="2150" y="110"/>
                </a:cubicBezTo>
                <a:cubicBezTo>
                  <a:pt x="2150" y="110"/>
                  <a:pt x="2150" y="109"/>
                  <a:pt x="2150" y="109"/>
                </a:cubicBezTo>
                <a:cubicBezTo>
                  <a:pt x="2150" y="106"/>
                  <a:pt x="2151" y="102"/>
                  <a:pt x="2151" y="99"/>
                </a:cubicBezTo>
                <a:cubicBezTo>
                  <a:pt x="2152" y="95"/>
                  <a:pt x="2152" y="92"/>
                  <a:pt x="2152" y="90"/>
                </a:cubicBezTo>
                <a:cubicBezTo>
                  <a:pt x="2153" y="93"/>
                  <a:pt x="2154" y="96"/>
                  <a:pt x="2155" y="100"/>
                </a:cubicBezTo>
                <a:cubicBezTo>
                  <a:pt x="2155" y="100"/>
                  <a:pt x="2155" y="100"/>
                  <a:pt x="2155" y="100"/>
                </a:cubicBezTo>
                <a:close/>
                <a:moveTo>
                  <a:pt x="2155" y="97"/>
                </a:moveTo>
                <a:cubicBezTo>
                  <a:pt x="2154" y="95"/>
                  <a:pt x="2153" y="92"/>
                  <a:pt x="2152" y="89"/>
                </a:cubicBezTo>
                <a:cubicBezTo>
                  <a:pt x="2152" y="89"/>
                  <a:pt x="2152" y="89"/>
                  <a:pt x="2152" y="88"/>
                </a:cubicBezTo>
                <a:cubicBezTo>
                  <a:pt x="2152" y="89"/>
                  <a:pt x="2152" y="89"/>
                  <a:pt x="2152" y="89"/>
                </a:cubicBezTo>
                <a:cubicBezTo>
                  <a:pt x="2152" y="89"/>
                  <a:pt x="2152" y="88"/>
                  <a:pt x="2152" y="88"/>
                </a:cubicBezTo>
                <a:cubicBezTo>
                  <a:pt x="2152" y="87"/>
                  <a:pt x="2152" y="86"/>
                  <a:pt x="2152" y="85"/>
                </a:cubicBezTo>
                <a:cubicBezTo>
                  <a:pt x="2152" y="84"/>
                  <a:pt x="2153" y="83"/>
                  <a:pt x="2153" y="82"/>
                </a:cubicBezTo>
                <a:cubicBezTo>
                  <a:pt x="2154" y="84"/>
                  <a:pt x="2155" y="86"/>
                  <a:pt x="2156" y="88"/>
                </a:cubicBezTo>
                <a:cubicBezTo>
                  <a:pt x="2156" y="91"/>
                  <a:pt x="2156" y="94"/>
                  <a:pt x="2155" y="97"/>
                </a:cubicBezTo>
                <a:close/>
                <a:moveTo>
                  <a:pt x="2157" y="135"/>
                </a:moveTo>
                <a:cubicBezTo>
                  <a:pt x="2157" y="136"/>
                  <a:pt x="2157" y="137"/>
                  <a:pt x="2157" y="138"/>
                </a:cubicBezTo>
                <a:cubicBezTo>
                  <a:pt x="2157" y="137"/>
                  <a:pt x="2157" y="136"/>
                  <a:pt x="2157" y="135"/>
                </a:cubicBezTo>
                <a:cubicBezTo>
                  <a:pt x="2157" y="135"/>
                  <a:pt x="2157" y="135"/>
                  <a:pt x="2157" y="135"/>
                </a:cubicBezTo>
                <a:close/>
                <a:moveTo>
                  <a:pt x="2157" y="83"/>
                </a:moveTo>
                <a:cubicBezTo>
                  <a:pt x="2156" y="82"/>
                  <a:pt x="2155" y="81"/>
                  <a:pt x="2155" y="80"/>
                </a:cubicBezTo>
                <a:cubicBezTo>
                  <a:pt x="2156" y="78"/>
                  <a:pt x="2157" y="77"/>
                  <a:pt x="2158" y="75"/>
                </a:cubicBezTo>
                <a:cubicBezTo>
                  <a:pt x="2157" y="78"/>
                  <a:pt x="2157" y="81"/>
                  <a:pt x="2157" y="83"/>
                </a:cubicBezTo>
                <a:close/>
                <a:moveTo>
                  <a:pt x="2158" y="74"/>
                </a:moveTo>
                <a:cubicBezTo>
                  <a:pt x="2156" y="76"/>
                  <a:pt x="2155" y="77"/>
                  <a:pt x="2154" y="79"/>
                </a:cubicBezTo>
                <a:cubicBezTo>
                  <a:pt x="2153" y="78"/>
                  <a:pt x="2153" y="78"/>
                  <a:pt x="2153" y="77"/>
                </a:cubicBezTo>
                <a:cubicBezTo>
                  <a:pt x="2153" y="72"/>
                  <a:pt x="2153" y="67"/>
                  <a:pt x="2154" y="65"/>
                </a:cubicBezTo>
                <a:cubicBezTo>
                  <a:pt x="2155" y="67"/>
                  <a:pt x="2156" y="70"/>
                  <a:pt x="2158" y="72"/>
                </a:cubicBezTo>
                <a:cubicBezTo>
                  <a:pt x="2158" y="73"/>
                  <a:pt x="2158" y="73"/>
                  <a:pt x="2158" y="74"/>
                </a:cubicBezTo>
                <a:close/>
                <a:moveTo>
                  <a:pt x="2160" y="75"/>
                </a:moveTo>
                <a:cubicBezTo>
                  <a:pt x="2161" y="78"/>
                  <a:pt x="2163" y="81"/>
                  <a:pt x="2165" y="84"/>
                </a:cubicBezTo>
                <a:cubicBezTo>
                  <a:pt x="2163" y="86"/>
                  <a:pt x="2162" y="88"/>
                  <a:pt x="2161" y="90"/>
                </a:cubicBezTo>
                <a:cubicBezTo>
                  <a:pt x="2161" y="89"/>
                  <a:pt x="2160" y="89"/>
                  <a:pt x="2160" y="89"/>
                </a:cubicBezTo>
                <a:cubicBezTo>
                  <a:pt x="2160" y="84"/>
                  <a:pt x="2160" y="79"/>
                  <a:pt x="2160" y="75"/>
                </a:cubicBezTo>
                <a:close/>
                <a:moveTo>
                  <a:pt x="2162" y="110"/>
                </a:moveTo>
                <a:cubicBezTo>
                  <a:pt x="2162" y="107"/>
                  <a:pt x="2161" y="104"/>
                  <a:pt x="2160" y="101"/>
                </a:cubicBezTo>
                <a:cubicBezTo>
                  <a:pt x="2160" y="101"/>
                  <a:pt x="2160" y="100"/>
                  <a:pt x="2160" y="100"/>
                </a:cubicBezTo>
                <a:cubicBezTo>
                  <a:pt x="2160" y="100"/>
                  <a:pt x="2161" y="99"/>
                  <a:pt x="2161" y="99"/>
                </a:cubicBezTo>
                <a:cubicBezTo>
                  <a:pt x="2162" y="101"/>
                  <a:pt x="2162" y="104"/>
                  <a:pt x="2163" y="106"/>
                </a:cubicBezTo>
                <a:cubicBezTo>
                  <a:pt x="2163" y="108"/>
                  <a:pt x="2163" y="109"/>
                  <a:pt x="2162" y="110"/>
                </a:cubicBezTo>
                <a:close/>
                <a:moveTo>
                  <a:pt x="2163" y="93"/>
                </a:moveTo>
                <a:cubicBezTo>
                  <a:pt x="2164" y="91"/>
                  <a:pt x="2165" y="88"/>
                  <a:pt x="2166" y="86"/>
                </a:cubicBezTo>
                <a:cubicBezTo>
                  <a:pt x="2166" y="87"/>
                  <a:pt x="2167" y="87"/>
                  <a:pt x="2167" y="88"/>
                </a:cubicBezTo>
                <a:cubicBezTo>
                  <a:pt x="2166" y="91"/>
                  <a:pt x="2166" y="94"/>
                  <a:pt x="2165" y="97"/>
                </a:cubicBezTo>
                <a:cubicBezTo>
                  <a:pt x="2164" y="96"/>
                  <a:pt x="2163" y="95"/>
                  <a:pt x="2163" y="93"/>
                </a:cubicBezTo>
                <a:close/>
                <a:moveTo>
                  <a:pt x="2166" y="130"/>
                </a:moveTo>
                <a:cubicBezTo>
                  <a:pt x="2166" y="129"/>
                  <a:pt x="2166" y="128"/>
                  <a:pt x="2166" y="126"/>
                </a:cubicBezTo>
                <a:cubicBezTo>
                  <a:pt x="2166" y="124"/>
                  <a:pt x="2166" y="121"/>
                  <a:pt x="2167" y="119"/>
                </a:cubicBezTo>
                <a:cubicBezTo>
                  <a:pt x="2167" y="120"/>
                  <a:pt x="2168" y="122"/>
                  <a:pt x="2168" y="124"/>
                </a:cubicBezTo>
                <a:cubicBezTo>
                  <a:pt x="2167" y="126"/>
                  <a:pt x="2167" y="128"/>
                  <a:pt x="2166" y="130"/>
                </a:cubicBezTo>
                <a:close/>
                <a:moveTo>
                  <a:pt x="2170" y="108"/>
                </a:moveTo>
                <a:cubicBezTo>
                  <a:pt x="2170" y="107"/>
                  <a:pt x="2169" y="106"/>
                  <a:pt x="2169" y="105"/>
                </a:cubicBezTo>
                <a:cubicBezTo>
                  <a:pt x="2169" y="102"/>
                  <a:pt x="2170" y="99"/>
                  <a:pt x="2171" y="96"/>
                </a:cubicBezTo>
                <a:cubicBezTo>
                  <a:pt x="2171" y="96"/>
                  <a:pt x="2171" y="97"/>
                  <a:pt x="2171" y="97"/>
                </a:cubicBezTo>
                <a:cubicBezTo>
                  <a:pt x="2171" y="101"/>
                  <a:pt x="2170" y="105"/>
                  <a:pt x="2170" y="108"/>
                </a:cubicBezTo>
                <a:close/>
                <a:moveTo>
                  <a:pt x="2172" y="86"/>
                </a:moveTo>
                <a:cubicBezTo>
                  <a:pt x="2172" y="86"/>
                  <a:pt x="2172" y="86"/>
                  <a:pt x="2172" y="86"/>
                </a:cubicBezTo>
                <a:cubicBezTo>
                  <a:pt x="2172" y="85"/>
                  <a:pt x="2173" y="84"/>
                  <a:pt x="2173" y="83"/>
                </a:cubicBezTo>
                <a:cubicBezTo>
                  <a:pt x="2173" y="84"/>
                  <a:pt x="2172" y="85"/>
                  <a:pt x="2172" y="86"/>
                </a:cubicBezTo>
                <a:close/>
                <a:moveTo>
                  <a:pt x="2180" y="80"/>
                </a:moveTo>
                <a:cubicBezTo>
                  <a:pt x="2180" y="77"/>
                  <a:pt x="2180" y="75"/>
                  <a:pt x="2180" y="73"/>
                </a:cubicBezTo>
                <a:cubicBezTo>
                  <a:pt x="2181" y="73"/>
                  <a:pt x="2181" y="74"/>
                  <a:pt x="2181" y="74"/>
                </a:cubicBezTo>
                <a:cubicBezTo>
                  <a:pt x="2181" y="76"/>
                  <a:pt x="2181" y="78"/>
                  <a:pt x="2180" y="80"/>
                </a:cubicBezTo>
                <a:close/>
                <a:moveTo>
                  <a:pt x="2192" y="93"/>
                </a:moveTo>
                <a:cubicBezTo>
                  <a:pt x="2191" y="95"/>
                  <a:pt x="2191" y="96"/>
                  <a:pt x="2190" y="97"/>
                </a:cubicBezTo>
                <a:cubicBezTo>
                  <a:pt x="2190" y="94"/>
                  <a:pt x="2190" y="91"/>
                  <a:pt x="2189" y="88"/>
                </a:cubicBezTo>
                <a:cubicBezTo>
                  <a:pt x="2190" y="89"/>
                  <a:pt x="2191" y="91"/>
                  <a:pt x="2192" y="93"/>
                </a:cubicBezTo>
                <a:cubicBezTo>
                  <a:pt x="2192" y="93"/>
                  <a:pt x="2192" y="93"/>
                  <a:pt x="2192" y="93"/>
                </a:cubicBezTo>
                <a:close/>
                <a:moveTo>
                  <a:pt x="2193" y="88"/>
                </a:moveTo>
                <a:cubicBezTo>
                  <a:pt x="2192" y="86"/>
                  <a:pt x="2191" y="85"/>
                  <a:pt x="2190" y="84"/>
                </a:cubicBezTo>
                <a:cubicBezTo>
                  <a:pt x="2191" y="81"/>
                  <a:pt x="2193" y="78"/>
                  <a:pt x="2195" y="75"/>
                </a:cubicBezTo>
                <a:cubicBezTo>
                  <a:pt x="2194" y="79"/>
                  <a:pt x="2193" y="84"/>
                  <a:pt x="2193" y="88"/>
                </a:cubicBezTo>
                <a:close/>
                <a:moveTo>
                  <a:pt x="2202" y="77"/>
                </a:moveTo>
                <a:cubicBezTo>
                  <a:pt x="2202" y="77"/>
                  <a:pt x="2202" y="77"/>
                  <a:pt x="2202" y="77"/>
                </a:cubicBezTo>
                <a:cubicBezTo>
                  <a:pt x="2202" y="74"/>
                  <a:pt x="2201" y="70"/>
                  <a:pt x="2201" y="66"/>
                </a:cubicBezTo>
                <a:cubicBezTo>
                  <a:pt x="2201" y="65"/>
                  <a:pt x="2202" y="64"/>
                  <a:pt x="2202" y="63"/>
                </a:cubicBezTo>
                <a:cubicBezTo>
                  <a:pt x="2203" y="67"/>
                  <a:pt x="2203" y="72"/>
                  <a:pt x="2202" y="77"/>
                </a:cubicBezTo>
                <a:close/>
                <a:moveTo>
                  <a:pt x="2205" y="72"/>
                </a:moveTo>
                <a:cubicBezTo>
                  <a:pt x="2205" y="67"/>
                  <a:pt x="2204" y="64"/>
                  <a:pt x="2203" y="61"/>
                </a:cubicBezTo>
                <a:cubicBezTo>
                  <a:pt x="2204" y="60"/>
                  <a:pt x="2205" y="58"/>
                  <a:pt x="2206" y="57"/>
                </a:cubicBezTo>
                <a:cubicBezTo>
                  <a:pt x="2206" y="62"/>
                  <a:pt x="2206" y="67"/>
                  <a:pt x="2205" y="72"/>
                </a:cubicBezTo>
                <a:close/>
                <a:moveTo>
                  <a:pt x="2221" y="89"/>
                </a:moveTo>
                <a:cubicBezTo>
                  <a:pt x="2222" y="91"/>
                  <a:pt x="2223" y="92"/>
                  <a:pt x="2223" y="94"/>
                </a:cubicBezTo>
                <a:cubicBezTo>
                  <a:pt x="2223" y="95"/>
                  <a:pt x="2222" y="97"/>
                  <a:pt x="2222" y="98"/>
                </a:cubicBezTo>
                <a:cubicBezTo>
                  <a:pt x="2221" y="97"/>
                  <a:pt x="2221" y="96"/>
                  <a:pt x="2220" y="95"/>
                </a:cubicBezTo>
                <a:cubicBezTo>
                  <a:pt x="2220" y="93"/>
                  <a:pt x="2221" y="91"/>
                  <a:pt x="2221" y="89"/>
                </a:cubicBezTo>
                <a:close/>
                <a:moveTo>
                  <a:pt x="2220" y="101"/>
                </a:moveTo>
                <a:cubicBezTo>
                  <a:pt x="2220" y="101"/>
                  <a:pt x="2220" y="100"/>
                  <a:pt x="2220" y="100"/>
                </a:cubicBezTo>
                <a:cubicBezTo>
                  <a:pt x="2220" y="100"/>
                  <a:pt x="2220" y="101"/>
                  <a:pt x="2220" y="101"/>
                </a:cubicBezTo>
                <a:cubicBezTo>
                  <a:pt x="2220" y="101"/>
                  <a:pt x="2220" y="101"/>
                  <a:pt x="2220" y="101"/>
                </a:cubicBezTo>
                <a:close/>
                <a:moveTo>
                  <a:pt x="2222" y="122"/>
                </a:moveTo>
                <a:cubicBezTo>
                  <a:pt x="2222" y="121"/>
                  <a:pt x="2221" y="120"/>
                  <a:pt x="2221" y="119"/>
                </a:cubicBezTo>
                <a:cubicBezTo>
                  <a:pt x="2221" y="117"/>
                  <a:pt x="2221" y="115"/>
                  <a:pt x="2221" y="112"/>
                </a:cubicBezTo>
                <a:cubicBezTo>
                  <a:pt x="2221" y="110"/>
                  <a:pt x="2221" y="108"/>
                  <a:pt x="2222" y="106"/>
                </a:cubicBezTo>
                <a:cubicBezTo>
                  <a:pt x="2222" y="108"/>
                  <a:pt x="2223" y="110"/>
                  <a:pt x="2223" y="112"/>
                </a:cubicBezTo>
                <a:cubicBezTo>
                  <a:pt x="2223" y="115"/>
                  <a:pt x="2223" y="119"/>
                  <a:pt x="2222" y="122"/>
                </a:cubicBezTo>
                <a:close/>
                <a:moveTo>
                  <a:pt x="2224" y="103"/>
                </a:moveTo>
                <a:cubicBezTo>
                  <a:pt x="2224" y="102"/>
                  <a:pt x="2223" y="101"/>
                  <a:pt x="2223" y="100"/>
                </a:cubicBezTo>
                <a:cubicBezTo>
                  <a:pt x="2223" y="99"/>
                  <a:pt x="2224" y="97"/>
                  <a:pt x="2224" y="96"/>
                </a:cubicBezTo>
                <a:cubicBezTo>
                  <a:pt x="2224" y="97"/>
                  <a:pt x="2225" y="97"/>
                  <a:pt x="2225" y="98"/>
                </a:cubicBezTo>
                <a:cubicBezTo>
                  <a:pt x="2225" y="100"/>
                  <a:pt x="2224" y="101"/>
                  <a:pt x="2224" y="103"/>
                </a:cubicBezTo>
                <a:close/>
                <a:moveTo>
                  <a:pt x="2225" y="96"/>
                </a:moveTo>
                <a:cubicBezTo>
                  <a:pt x="2225" y="95"/>
                  <a:pt x="2225" y="95"/>
                  <a:pt x="2224" y="95"/>
                </a:cubicBezTo>
                <a:cubicBezTo>
                  <a:pt x="2225" y="93"/>
                  <a:pt x="2225" y="92"/>
                  <a:pt x="2226" y="91"/>
                </a:cubicBezTo>
                <a:cubicBezTo>
                  <a:pt x="2225" y="93"/>
                  <a:pt x="2225" y="94"/>
                  <a:pt x="2225" y="96"/>
                </a:cubicBezTo>
                <a:close/>
                <a:moveTo>
                  <a:pt x="2231" y="95"/>
                </a:moveTo>
                <a:cubicBezTo>
                  <a:pt x="2231" y="92"/>
                  <a:pt x="2232" y="89"/>
                  <a:pt x="2232" y="86"/>
                </a:cubicBezTo>
                <a:cubicBezTo>
                  <a:pt x="2232" y="86"/>
                  <a:pt x="2233" y="87"/>
                  <a:pt x="2233" y="88"/>
                </a:cubicBezTo>
                <a:cubicBezTo>
                  <a:pt x="2233" y="90"/>
                  <a:pt x="2232" y="92"/>
                  <a:pt x="2231" y="95"/>
                </a:cubicBezTo>
                <a:close/>
                <a:moveTo>
                  <a:pt x="2242" y="99"/>
                </a:moveTo>
                <a:cubicBezTo>
                  <a:pt x="2242" y="99"/>
                  <a:pt x="2241" y="98"/>
                  <a:pt x="2241" y="97"/>
                </a:cubicBezTo>
                <a:cubicBezTo>
                  <a:pt x="2241" y="93"/>
                  <a:pt x="2241" y="89"/>
                  <a:pt x="2241" y="84"/>
                </a:cubicBezTo>
                <a:cubicBezTo>
                  <a:pt x="2242" y="80"/>
                  <a:pt x="2245" y="76"/>
                  <a:pt x="2247" y="72"/>
                </a:cubicBezTo>
                <a:cubicBezTo>
                  <a:pt x="2248" y="74"/>
                  <a:pt x="2248" y="78"/>
                  <a:pt x="2249" y="82"/>
                </a:cubicBezTo>
                <a:cubicBezTo>
                  <a:pt x="2246" y="88"/>
                  <a:pt x="2244" y="93"/>
                  <a:pt x="2242" y="99"/>
                </a:cubicBezTo>
                <a:close/>
                <a:moveTo>
                  <a:pt x="2250" y="75"/>
                </a:moveTo>
                <a:cubicBezTo>
                  <a:pt x="2250" y="73"/>
                  <a:pt x="2249" y="71"/>
                  <a:pt x="2249" y="69"/>
                </a:cubicBezTo>
                <a:cubicBezTo>
                  <a:pt x="2250" y="68"/>
                  <a:pt x="2250" y="67"/>
                  <a:pt x="2251" y="66"/>
                </a:cubicBezTo>
                <a:cubicBezTo>
                  <a:pt x="2251" y="69"/>
                  <a:pt x="2250" y="72"/>
                  <a:pt x="2250" y="75"/>
                </a:cubicBezTo>
                <a:close/>
                <a:moveTo>
                  <a:pt x="2258" y="72"/>
                </a:moveTo>
                <a:cubicBezTo>
                  <a:pt x="2258" y="71"/>
                  <a:pt x="2258" y="70"/>
                  <a:pt x="2258" y="70"/>
                </a:cubicBezTo>
                <a:cubicBezTo>
                  <a:pt x="2258" y="69"/>
                  <a:pt x="2258" y="69"/>
                  <a:pt x="2258" y="69"/>
                </a:cubicBezTo>
                <a:cubicBezTo>
                  <a:pt x="2258" y="71"/>
                  <a:pt x="2258" y="72"/>
                  <a:pt x="2258" y="72"/>
                </a:cubicBezTo>
                <a:close/>
                <a:moveTo>
                  <a:pt x="2258" y="67"/>
                </a:moveTo>
                <a:cubicBezTo>
                  <a:pt x="2258" y="67"/>
                  <a:pt x="2258" y="68"/>
                  <a:pt x="2258" y="68"/>
                </a:cubicBezTo>
                <a:cubicBezTo>
                  <a:pt x="2258" y="65"/>
                  <a:pt x="2257" y="61"/>
                  <a:pt x="2257" y="58"/>
                </a:cubicBezTo>
                <a:cubicBezTo>
                  <a:pt x="2257" y="57"/>
                  <a:pt x="2258" y="56"/>
                  <a:pt x="2259" y="56"/>
                </a:cubicBezTo>
                <a:cubicBezTo>
                  <a:pt x="2258" y="60"/>
                  <a:pt x="2258" y="64"/>
                  <a:pt x="2258" y="67"/>
                </a:cubicBezTo>
                <a:close/>
                <a:moveTo>
                  <a:pt x="2266" y="123"/>
                </a:moveTo>
                <a:cubicBezTo>
                  <a:pt x="2265" y="124"/>
                  <a:pt x="2264" y="126"/>
                  <a:pt x="2264" y="127"/>
                </a:cubicBezTo>
                <a:cubicBezTo>
                  <a:pt x="2264" y="124"/>
                  <a:pt x="2264" y="122"/>
                  <a:pt x="2264" y="119"/>
                </a:cubicBezTo>
                <a:cubicBezTo>
                  <a:pt x="2265" y="116"/>
                  <a:pt x="2266" y="112"/>
                  <a:pt x="2267" y="109"/>
                </a:cubicBezTo>
                <a:cubicBezTo>
                  <a:pt x="2267" y="111"/>
                  <a:pt x="2267" y="112"/>
                  <a:pt x="2267" y="114"/>
                </a:cubicBezTo>
                <a:cubicBezTo>
                  <a:pt x="2267" y="117"/>
                  <a:pt x="2266" y="120"/>
                  <a:pt x="2266" y="123"/>
                </a:cubicBezTo>
                <a:close/>
                <a:moveTo>
                  <a:pt x="2268" y="110"/>
                </a:moveTo>
                <a:cubicBezTo>
                  <a:pt x="2268" y="111"/>
                  <a:pt x="2268" y="112"/>
                  <a:pt x="2267" y="112"/>
                </a:cubicBezTo>
                <a:cubicBezTo>
                  <a:pt x="2267" y="111"/>
                  <a:pt x="2267" y="110"/>
                  <a:pt x="2267" y="109"/>
                </a:cubicBezTo>
                <a:cubicBezTo>
                  <a:pt x="2267" y="107"/>
                  <a:pt x="2268" y="105"/>
                  <a:pt x="2268" y="102"/>
                </a:cubicBezTo>
                <a:cubicBezTo>
                  <a:pt x="2268" y="105"/>
                  <a:pt x="2268" y="107"/>
                  <a:pt x="2268" y="110"/>
                </a:cubicBezTo>
                <a:close/>
                <a:moveTo>
                  <a:pt x="2270" y="83"/>
                </a:moveTo>
                <a:cubicBezTo>
                  <a:pt x="2270" y="83"/>
                  <a:pt x="2270" y="84"/>
                  <a:pt x="2269" y="85"/>
                </a:cubicBezTo>
                <a:cubicBezTo>
                  <a:pt x="2268" y="87"/>
                  <a:pt x="2267" y="89"/>
                  <a:pt x="2266" y="91"/>
                </a:cubicBezTo>
                <a:cubicBezTo>
                  <a:pt x="2266" y="91"/>
                  <a:pt x="2266" y="91"/>
                  <a:pt x="2266" y="91"/>
                </a:cubicBezTo>
                <a:cubicBezTo>
                  <a:pt x="2266" y="91"/>
                  <a:pt x="2266" y="91"/>
                  <a:pt x="2266" y="91"/>
                </a:cubicBezTo>
                <a:cubicBezTo>
                  <a:pt x="2266" y="92"/>
                  <a:pt x="2265" y="94"/>
                  <a:pt x="2264" y="96"/>
                </a:cubicBezTo>
                <a:cubicBezTo>
                  <a:pt x="2264" y="90"/>
                  <a:pt x="2265" y="85"/>
                  <a:pt x="2267" y="79"/>
                </a:cubicBezTo>
                <a:cubicBezTo>
                  <a:pt x="2265" y="85"/>
                  <a:pt x="2264" y="90"/>
                  <a:pt x="2262" y="95"/>
                </a:cubicBezTo>
                <a:cubicBezTo>
                  <a:pt x="2262" y="85"/>
                  <a:pt x="2263" y="74"/>
                  <a:pt x="2263" y="63"/>
                </a:cubicBezTo>
                <a:cubicBezTo>
                  <a:pt x="2266" y="60"/>
                  <a:pt x="2269" y="58"/>
                  <a:pt x="2272" y="55"/>
                </a:cubicBezTo>
                <a:cubicBezTo>
                  <a:pt x="2272" y="62"/>
                  <a:pt x="2271" y="72"/>
                  <a:pt x="2270" y="83"/>
                </a:cubicBezTo>
                <a:close/>
                <a:moveTo>
                  <a:pt x="2276" y="105"/>
                </a:moveTo>
                <a:cubicBezTo>
                  <a:pt x="2276" y="102"/>
                  <a:pt x="2276" y="99"/>
                  <a:pt x="2276" y="96"/>
                </a:cubicBezTo>
                <a:cubicBezTo>
                  <a:pt x="2276" y="97"/>
                  <a:pt x="2277" y="99"/>
                  <a:pt x="2277" y="100"/>
                </a:cubicBezTo>
                <a:cubicBezTo>
                  <a:pt x="2277" y="102"/>
                  <a:pt x="2277" y="103"/>
                  <a:pt x="2276" y="105"/>
                </a:cubicBezTo>
                <a:cubicBezTo>
                  <a:pt x="2276" y="105"/>
                  <a:pt x="2276" y="105"/>
                  <a:pt x="2276" y="105"/>
                </a:cubicBezTo>
                <a:close/>
                <a:moveTo>
                  <a:pt x="2277" y="130"/>
                </a:moveTo>
                <a:cubicBezTo>
                  <a:pt x="2277" y="130"/>
                  <a:pt x="2277" y="130"/>
                  <a:pt x="2277" y="130"/>
                </a:cubicBezTo>
                <a:cubicBezTo>
                  <a:pt x="2277" y="129"/>
                  <a:pt x="2277" y="128"/>
                  <a:pt x="2277" y="127"/>
                </a:cubicBezTo>
                <a:cubicBezTo>
                  <a:pt x="2277" y="128"/>
                  <a:pt x="2277" y="128"/>
                  <a:pt x="2278" y="129"/>
                </a:cubicBezTo>
                <a:cubicBezTo>
                  <a:pt x="2277" y="129"/>
                  <a:pt x="2277" y="130"/>
                  <a:pt x="2277" y="130"/>
                </a:cubicBezTo>
                <a:close/>
                <a:moveTo>
                  <a:pt x="2284" y="74"/>
                </a:moveTo>
                <a:cubicBezTo>
                  <a:pt x="2284" y="73"/>
                  <a:pt x="2284" y="71"/>
                  <a:pt x="2284" y="70"/>
                </a:cubicBezTo>
                <a:cubicBezTo>
                  <a:pt x="2284" y="70"/>
                  <a:pt x="2285" y="71"/>
                  <a:pt x="2285" y="72"/>
                </a:cubicBezTo>
                <a:cubicBezTo>
                  <a:pt x="2285" y="72"/>
                  <a:pt x="2285" y="73"/>
                  <a:pt x="2284" y="74"/>
                </a:cubicBezTo>
                <a:close/>
                <a:moveTo>
                  <a:pt x="2288" y="139"/>
                </a:moveTo>
                <a:cubicBezTo>
                  <a:pt x="2288" y="140"/>
                  <a:pt x="2288" y="141"/>
                  <a:pt x="2288" y="142"/>
                </a:cubicBezTo>
                <a:cubicBezTo>
                  <a:pt x="2288" y="142"/>
                  <a:pt x="2288" y="141"/>
                  <a:pt x="2288" y="139"/>
                </a:cubicBezTo>
                <a:cubicBezTo>
                  <a:pt x="2288" y="138"/>
                  <a:pt x="2288" y="137"/>
                  <a:pt x="2288" y="136"/>
                </a:cubicBezTo>
                <a:cubicBezTo>
                  <a:pt x="2288" y="137"/>
                  <a:pt x="2288" y="137"/>
                  <a:pt x="2288" y="137"/>
                </a:cubicBezTo>
                <a:cubicBezTo>
                  <a:pt x="2288" y="138"/>
                  <a:pt x="2288" y="139"/>
                  <a:pt x="2288" y="139"/>
                </a:cubicBezTo>
                <a:close/>
                <a:moveTo>
                  <a:pt x="2290" y="122"/>
                </a:moveTo>
                <a:cubicBezTo>
                  <a:pt x="2290" y="122"/>
                  <a:pt x="2290" y="122"/>
                  <a:pt x="2290" y="122"/>
                </a:cubicBezTo>
                <a:cubicBezTo>
                  <a:pt x="2290" y="121"/>
                  <a:pt x="2290" y="121"/>
                  <a:pt x="2290" y="121"/>
                </a:cubicBezTo>
                <a:cubicBezTo>
                  <a:pt x="2290" y="121"/>
                  <a:pt x="2290" y="122"/>
                  <a:pt x="2290" y="122"/>
                </a:cubicBezTo>
                <a:close/>
                <a:moveTo>
                  <a:pt x="2291" y="110"/>
                </a:moveTo>
                <a:cubicBezTo>
                  <a:pt x="2290" y="112"/>
                  <a:pt x="2289" y="114"/>
                  <a:pt x="2288" y="116"/>
                </a:cubicBezTo>
                <a:cubicBezTo>
                  <a:pt x="2288" y="116"/>
                  <a:pt x="2288" y="117"/>
                  <a:pt x="2288" y="117"/>
                </a:cubicBezTo>
                <a:cubicBezTo>
                  <a:pt x="2288" y="113"/>
                  <a:pt x="2287" y="108"/>
                  <a:pt x="2287" y="104"/>
                </a:cubicBezTo>
                <a:cubicBezTo>
                  <a:pt x="2288" y="101"/>
                  <a:pt x="2288" y="98"/>
                  <a:pt x="2289" y="96"/>
                </a:cubicBezTo>
                <a:cubicBezTo>
                  <a:pt x="2290" y="95"/>
                  <a:pt x="2290" y="95"/>
                  <a:pt x="2290" y="95"/>
                </a:cubicBezTo>
                <a:cubicBezTo>
                  <a:pt x="2290" y="98"/>
                  <a:pt x="2291" y="101"/>
                  <a:pt x="2291" y="104"/>
                </a:cubicBezTo>
                <a:cubicBezTo>
                  <a:pt x="2291" y="106"/>
                  <a:pt x="2291" y="108"/>
                  <a:pt x="2291" y="110"/>
                </a:cubicBezTo>
                <a:close/>
                <a:moveTo>
                  <a:pt x="2292" y="99"/>
                </a:moveTo>
                <a:cubicBezTo>
                  <a:pt x="2291" y="97"/>
                  <a:pt x="2291" y="96"/>
                  <a:pt x="2290" y="94"/>
                </a:cubicBezTo>
                <a:cubicBezTo>
                  <a:pt x="2291" y="93"/>
                  <a:pt x="2292" y="92"/>
                  <a:pt x="2292" y="91"/>
                </a:cubicBezTo>
                <a:cubicBezTo>
                  <a:pt x="2292" y="94"/>
                  <a:pt x="2292" y="96"/>
                  <a:pt x="2292" y="99"/>
                </a:cubicBezTo>
                <a:close/>
                <a:moveTo>
                  <a:pt x="2286" y="91"/>
                </a:moveTo>
                <a:cubicBezTo>
                  <a:pt x="2286" y="89"/>
                  <a:pt x="2286" y="88"/>
                  <a:pt x="2285" y="87"/>
                </a:cubicBezTo>
                <a:cubicBezTo>
                  <a:pt x="2287" y="83"/>
                  <a:pt x="2288" y="80"/>
                  <a:pt x="2289" y="76"/>
                </a:cubicBezTo>
                <a:cubicBezTo>
                  <a:pt x="2290" y="78"/>
                  <a:pt x="2292" y="80"/>
                  <a:pt x="2293" y="82"/>
                </a:cubicBezTo>
                <a:cubicBezTo>
                  <a:pt x="2290" y="85"/>
                  <a:pt x="2288" y="88"/>
                  <a:pt x="2286" y="91"/>
                </a:cubicBezTo>
                <a:close/>
                <a:moveTo>
                  <a:pt x="2293" y="79"/>
                </a:moveTo>
                <a:cubicBezTo>
                  <a:pt x="2292" y="77"/>
                  <a:pt x="2291" y="76"/>
                  <a:pt x="2290" y="75"/>
                </a:cubicBezTo>
                <a:cubicBezTo>
                  <a:pt x="2291" y="72"/>
                  <a:pt x="2293" y="68"/>
                  <a:pt x="2294" y="65"/>
                </a:cubicBezTo>
                <a:cubicBezTo>
                  <a:pt x="2294" y="68"/>
                  <a:pt x="2294" y="73"/>
                  <a:pt x="2293" y="79"/>
                </a:cubicBezTo>
                <a:close/>
                <a:moveTo>
                  <a:pt x="2311" y="54"/>
                </a:moveTo>
                <a:cubicBezTo>
                  <a:pt x="2311" y="56"/>
                  <a:pt x="2310" y="58"/>
                  <a:pt x="2310" y="61"/>
                </a:cubicBezTo>
                <a:cubicBezTo>
                  <a:pt x="2306" y="65"/>
                  <a:pt x="2302" y="69"/>
                  <a:pt x="2299" y="74"/>
                </a:cubicBezTo>
                <a:cubicBezTo>
                  <a:pt x="2302" y="67"/>
                  <a:pt x="2306" y="60"/>
                  <a:pt x="2311" y="54"/>
                </a:cubicBezTo>
                <a:close/>
                <a:moveTo>
                  <a:pt x="2297" y="89"/>
                </a:moveTo>
                <a:cubicBezTo>
                  <a:pt x="2297" y="90"/>
                  <a:pt x="2298" y="91"/>
                  <a:pt x="2298" y="92"/>
                </a:cubicBezTo>
                <a:cubicBezTo>
                  <a:pt x="2298" y="92"/>
                  <a:pt x="2297" y="93"/>
                  <a:pt x="2297" y="94"/>
                </a:cubicBezTo>
                <a:cubicBezTo>
                  <a:pt x="2297" y="92"/>
                  <a:pt x="2297" y="91"/>
                  <a:pt x="2297" y="89"/>
                </a:cubicBezTo>
                <a:close/>
                <a:moveTo>
                  <a:pt x="2299" y="127"/>
                </a:moveTo>
                <a:cubicBezTo>
                  <a:pt x="2299" y="125"/>
                  <a:pt x="2299" y="124"/>
                  <a:pt x="2298" y="122"/>
                </a:cubicBezTo>
                <a:cubicBezTo>
                  <a:pt x="2298" y="117"/>
                  <a:pt x="2298" y="111"/>
                  <a:pt x="2298" y="105"/>
                </a:cubicBezTo>
                <a:cubicBezTo>
                  <a:pt x="2299" y="104"/>
                  <a:pt x="2299" y="102"/>
                  <a:pt x="2300" y="101"/>
                </a:cubicBezTo>
                <a:cubicBezTo>
                  <a:pt x="2299" y="102"/>
                  <a:pt x="2299" y="103"/>
                  <a:pt x="2298" y="105"/>
                </a:cubicBezTo>
                <a:cubicBezTo>
                  <a:pt x="2297" y="102"/>
                  <a:pt x="2297" y="99"/>
                  <a:pt x="2297" y="96"/>
                </a:cubicBezTo>
                <a:cubicBezTo>
                  <a:pt x="2298" y="95"/>
                  <a:pt x="2298" y="94"/>
                  <a:pt x="2298" y="93"/>
                </a:cubicBezTo>
                <a:cubicBezTo>
                  <a:pt x="2299" y="95"/>
                  <a:pt x="2300" y="97"/>
                  <a:pt x="2301" y="100"/>
                </a:cubicBezTo>
                <a:cubicBezTo>
                  <a:pt x="2301" y="100"/>
                  <a:pt x="2301" y="100"/>
                  <a:pt x="2300" y="101"/>
                </a:cubicBezTo>
                <a:cubicBezTo>
                  <a:pt x="2301" y="101"/>
                  <a:pt x="2301" y="100"/>
                  <a:pt x="2301" y="100"/>
                </a:cubicBezTo>
                <a:cubicBezTo>
                  <a:pt x="2302" y="101"/>
                  <a:pt x="2302" y="102"/>
                  <a:pt x="2303" y="103"/>
                </a:cubicBezTo>
                <a:cubicBezTo>
                  <a:pt x="2301" y="112"/>
                  <a:pt x="2300" y="120"/>
                  <a:pt x="2299" y="127"/>
                </a:cubicBezTo>
                <a:close/>
                <a:moveTo>
                  <a:pt x="2300" y="87"/>
                </a:moveTo>
                <a:cubicBezTo>
                  <a:pt x="2301" y="86"/>
                  <a:pt x="2302" y="84"/>
                  <a:pt x="2303" y="83"/>
                </a:cubicBezTo>
                <a:cubicBezTo>
                  <a:pt x="2302" y="84"/>
                  <a:pt x="2301" y="86"/>
                  <a:pt x="2300" y="87"/>
                </a:cubicBezTo>
                <a:cubicBezTo>
                  <a:pt x="2299" y="86"/>
                  <a:pt x="2298" y="85"/>
                  <a:pt x="2297" y="83"/>
                </a:cubicBezTo>
                <a:cubicBezTo>
                  <a:pt x="2301" y="78"/>
                  <a:pt x="2305" y="72"/>
                  <a:pt x="2308" y="67"/>
                </a:cubicBezTo>
                <a:cubicBezTo>
                  <a:pt x="2308" y="72"/>
                  <a:pt x="2307" y="76"/>
                  <a:pt x="2306" y="81"/>
                </a:cubicBezTo>
                <a:cubicBezTo>
                  <a:pt x="2306" y="80"/>
                  <a:pt x="2305" y="79"/>
                  <a:pt x="2305" y="79"/>
                </a:cubicBezTo>
                <a:cubicBezTo>
                  <a:pt x="2305" y="78"/>
                  <a:pt x="2306" y="77"/>
                  <a:pt x="2307" y="75"/>
                </a:cubicBezTo>
                <a:cubicBezTo>
                  <a:pt x="2306" y="76"/>
                  <a:pt x="2305" y="77"/>
                  <a:pt x="2305" y="79"/>
                </a:cubicBezTo>
                <a:cubicBezTo>
                  <a:pt x="2304" y="78"/>
                  <a:pt x="2304" y="77"/>
                  <a:pt x="2303" y="77"/>
                </a:cubicBezTo>
                <a:cubicBezTo>
                  <a:pt x="2303" y="78"/>
                  <a:pt x="2304" y="79"/>
                  <a:pt x="2304" y="79"/>
                </a:cubicBezTo>
                <a:cubicBezTo>
                  <a:pt x="2304" y="80"/>
                  <a:pt x="2303" y="81"/>
                  <a:pt x="2303" y="83"/>
                </a:cubicBezTo>
                <a:cubicBezTo>
                  <a:pt x="2303" y="82"/>
                  <a:pt x="2304" y="81"/>
                  <a:pt x="2304" y="80"/>
                </a:cubicBezTo>
                <a:cubicBezTo>
                  <a:pt x="2305" y="81"/>
                  <a:pt x="2305" y="82"/>
                  <a:pt x="2306" y="84"/>
                </a:cubicBezTo>
                <a:cubicBezTo>
                  <a:pt x="2305" y="87"/>
                  <a:pt x="2305" y="90"/>
                  <a:pt x="2304" y="93"/>
                </a:cubicBezTo>
                <a:cubicBezTo>
                  <a:pt x="2303" y="91"/>
                  <a:pt x="2302" y="89"/>
                  <a:pt x="2300" y="87"/>
                </a:cubicBezTo>
                <a:close/>
                <a:moveTo>
                  <a:pt x="2305" y="144"/>
                </a:moveTo>
                <a:cubicBezTo>
                  <a:pt x="2305" y="144"/>
                  <a:pt x="2305" y="143"/>
                  <a:pt x="2305" y="143"/>
                </a:cubicBezTo>
                <a:cubicBezTo>
                  <a:pt x="2305" y="140"/>
                  <a:pt x="2305" y="136"/>
                  <a:pt x="2305" y="131"/>
                </a:cubicBezTo>
                <a:cubicBezTo>
                  <a:pt x="2306" y="128"/>
                  <a:pt x="2307" y="126"/>
                  <a:pt x="2307" y="125"/>
                </a:cubicBezTo>
                <a:cubicBezTo>
                  <a:pt x="2307" y="125"/>
                  <a:pt x="2307" y="124"/>
                  <a:pt x="2307" y="124"/>
                </a:cubicBezTo>
                <a:cubicBezTo>
                  <a:pt x="2306" y="124"/>
                  <a:pt x="2306" y="124"/>
                  <a:pt x="2306" y="124"/>
                </a:cubicBezTo>
                <a:cubicBezTo>
                  <a:pt x="2306" y="122"/>
                  <a:pt x="2306" y="120"/>
                  <a:pt x="2306" y="118"/>
                </a:cubicBezTo>
                <a:cubicBezTo>
                  <a:pt x="2307" y="121"/>
                  <a:pt x="2308" y="125"/>
                  <a:pt x="2308" y="128"/>
                </a:cubicBezTo>
                <a:cubicBezTo>
                  <a:pt x="2307" y="136"/>
                  <a:pt x="2306" y="141"/>
                  <a:pt x="2305" y="144"/>
                </a:cubicBezTo>
                <a:close/>
                <a:moveTo>
                  <a:pt x="2312" y="107"/>
                </a:moveTo>
                <a:cubicBezTo>
                  <a:pt x="2311" y="105"/>
                  <a:pt x="2310" y="102"/>
                  <a:pt x="2308" y="100"/>
                </a:cubicBezTo>
                <a:cubicBezTo>
                  <a:pt x="2309" y="97"/>
                  <a:pt x="2309" y="95"/>
                  <a:pt x="2309" y="93"/>
                </a:cubicBezTo>
                <a:cubicBezTo>
                  <a:pt x="2310" y="96"/>
                  <a:pt x="2312" y="99"/>
                  <a:pt x="2313" y="102"/>
                </a:cubicBezTo>
                <a:cubicBezTo>
                  <a:pt x="2313" y="104"/>
                  <a:pt x="2312" y="105"/>
                  <a:pt x="2312" y="107"/>
                </a:cubicBezTo>
                <a:close/>
                <a:moveTo>
                  <a:pt x="2313" y="159"/>
                </a:moveTo>
                <a:cubicBezTo>
                  <a:pt x="2313" y="159"/>
                  <a:pt x="2313" y="159"/>
                  <a:pt x="2313" y="159"/>
                </a:cubicBezTo>
                <a:cubicBezTo>
                  <a:pt x="2313" y="159"/>
                  <a:pt x="2313" y="159"/>
                  <a:pt x="2314" y="159"/>
                </a:cubicBezTo>
                <a:cubicBezTo>
                  <a:pt x="2313" y="159"/>
                  <a:pt x="2313" y="159"/>
                  <a:pt x="2313" y="159"/>
                </a:cubicBezTo>
                <a:close/>
                <a:moveTo>
                  <a:pt x="2314" y="96"/>
                </a:moveTo>
                <a:cubicBezTo>
                  <a:pt x="2313" y="93"/>
                  <a:pt x="2311" y="91"/>
                  <a:pt x="2310" y="88"/>
                </a:cubicBezTo>
                <a:cubicBezTo>
                  <a:pt x="2312" y="85"/>
                  <a:pt x="2314" y="82"/>
                  <a:pt x="2316" y="79"/>
                </a:cubicBezTo>
                <a:cubicBezTo>
                  <a:pt x="2316" y="84"/>
                  <a:pt x="2315" y="90"/>
                  <a:pt x="2314" y="96"/>
                </a:cubicBezTo>
                <a:close/>
                <a:moveTo>
                  <a:pt x="2317" y="75"/>
                </a:moveTo>
                <a:cubicBezTo>
                  <a:pt x="2315" y="78"/>
                  <a:pt x="2312" y="82"/>
                  <a:pt x="2310" y="86"/>
                </a:cubicBezTo>
                <a:cubicBezTo>
                  <a:pt x="2311" y="77"/>
                  <a:pt x="2312" y="68"/>
                  <a:pt x="2313" y="61"/>
                </a:cubicBezTo>
                <a:cubicBezTo>
                  <a:pt x="2315" y="58"/>
                  <a:pt x="2317" y="55"/>
                  <a:pt x="2319" y="53"/>
                </a:cubicBezTo>
                <a:cubicBezTo>
                  <a:pt x="2319" y="58"/>
                  <a:pt x="2318" y="66"/>
                  <a:pt x="2317" y="75"/>
                </a:cubicBezTo>
                <a:close/>
                <a:moveTo>
                  <a:pt x="2324" y="139"/>
                </a:moveTo>
                <a:cubicBezTo>
                  <a:pt x="2324" y="139"/>
                  <a:pt x="2324" y="139"/>
                  <a:pt x="2323" y="139"/>
                </a:cubicBezTo>
                <a:cubicBezTo>
                  <a:pt x="2323" y="138"/>
                  <a:pt x="2323" y="138"/>
                  <a:pt x="2324" y="138"/>
                </a:cubicBezTo>
                <a:cubicBezTo>
                  <a:pt x="2324" y="138"/>
                  <a:pt x="2324" y="138"/>
                  <a:pt x="2324" y="138"/>
                </a:cubicBezTo>
                <a:cubicBezTo>
                  <a:pt x="2324" y="139"/>
                  <a:pt x="2324" y="139"/>
                  <a:pt x="2324" y="139"/>
                </a:cubicBezTo>
                <a:close/>
                <a:moveTo>
                  <a:pt x="2349" y="137"/>
                </a:moveTo>
                <a:cubicBezTo>
                  <a:pt x="2349" y="136"/>
                  <a:pt x="2348" y="135"/>
                  <a:pt x="2348" y="133"/>
                </a:cubicBezTo>
                <a:cubicBezTo>
                  <a:pt x="2348" y="132"/>
                  <a:pt x="2348" y="130"/>
                  <a:pt x="2348" y="128"/>
                </a:cubicBezTo>
                <a:cubicBezTo>
                  <a:pt x="2348" y="131"/>
                  <a:pt x="2349" y="133"/>
                  <a:pt x="2350" y="135"/>
                </a:cubicBezTo>
                <a:cubicBezTo>
                  <a:pt x="2350" y="136"/>
                  <a:pt x="2349" y="137"/>
                  <a:pt x="2349" y="137"/>
                </a:cubicBezTo>
                <a:close/>
                <a:moveTo>
                  <a:pt x="2355" y="99"/>
                </a:moveTo>
                <a:cubicBezTo>
                  <a:pt x="2354" y="95"/>
                  <a:pt x="2352" y="92"/>
                  <a:pt x="2350" y="90"/>
                </a:cubicBezTo>
                <a:cubicBezTo>
                  <a:pt x="2352" y="93"/>
                  <a:pt x="2354" y="97"/>
                  <a:pt x="2355" y="101"/>
                </a:cubicBezTo>
                <a:cubicBezTo>
                  <a:pt x="2354" y="110"/>
                  <a:pt x="2353" y="118"/>
                  <a:pt x="2351" y="125"/>
                </a:cubicBezTo>
                <a:cubicBezTo>
                  <a:pt x="2350" y="122"/>
                  <a:pt x="2349" y="119"/>
                  <a:pt x="2349" y="116"/>
                </a:cubicBezTo>
                <a:cubicBezTo>
                  <a:pt x="2349" y="102"/>
                  <a:pt x="2350" y="86"/>
                  <a:pt x="2351" y="72"/>
                </a:cubicBezTo>
                <a:cubicBezTo>
                  <a:pt x="2353" y="75"/>
                  <a:pt x="2356" y="79"/>
                  <a:pt x="2358" y="82"/>
                </a:cubicBezTo>
                <a:cubicBezTo>
                  <a:pt x="2357" y="88"/>
                  <a:pt x="2356" y="93"/>
                  <a:pt x="2355" y="99"/>
                </a:cubicBezTo>
                <a:close/>
                <a:moveTo>
                  <a:pt x="2358" y="142"/>
                </a:moveTo>
                <a:cubicBezTo>
                  <a:pt x="2359" y="134"/>
                  <a:pt x="2360" y="127"/>
                  <a:pt x="2360" y="121"/>
                </a:cubicBezTo>
                <a:cubicBezTo>
                  <a:pt x="2360" y="123"/>
                  <a:pt x="2361" y="125"/>
                  <a:pt x="2361" y="127"/>
                </a:cubicBezTo>
                <a:cubicBezTo>
                  <a:pt x="2360" y="136"/>
                  <a:pt x="2358" y="142"/>
                  <a:pt x="2358" y="142"/>
                </a:cubicBezTo>
                <a:close/>
                <a:moveTo>
                  <a:pt x="2362" y="144"/>
                </a:moveTo>
                <a:cubicBezTo>
                  <a:pt x="2362" y="142"/>
                  <a:pt x="2362" y="140"/>
                  <a:pt x="2363" y="137"/>
                </a:cubicBezTo>
                <a:cubicBezTo>
                  <a:pt x="2363" y="138"/>
                  <a:pt x="2363" y="138"/>
                  <a:pt x="2363" y="138"/>
                </a:cubicBezTo>
                <a:cubicBezTo>
                  <a:pt x="2362" y="142"/>
                  <a:pt x="2362" y="144"/>
                  <a:pt x="2362" y="144"/>
                </a:cubicBezTo>
                <a:close/>
                <a:moveTo>
                  <a:pt x="2361" y="110"/>
                </a:moveTo>
                <a:cubicBezTo>
                  <a:pt x="2361" y="103"/>
                  <a:pt x="2362" y="96"/>
                  <a:pt x="2362" y="90"/>
                </a:cubicBezTo>
                <a:cubicBezTo>
                  <a:pt x="2364" y="93"/>
                  <a:pt x="2365" y="96"/>
                  <a:pt x="2366" y="99"/>
                </a:cubicBezTo>
                <a:cubicBezTo>
                  <a:pt x="2365" y="105"/>
                  <a:pt x="2364" y="111"/>
                  <a:pt x="2363" y="116"/>
                </a:cubicBezTo>
                <a:cubicBezTo>
                  <a:pt x="2362" y="114"/>
                  <a:pt x="2362" y="112"/>
                  <a:pt x="2361" y="110"/>
                </a:cubicBezTo>
                <a:close/>
                <a:moveTo>
                  <a:pt x="2366" y="124"/>
                </a:moveTo>
                <a:cubicBezTo>
                  <a:pt x="2365" y="123"/>
                  <a:pt x="2365" y="122"/>
                  <a:pt x="2365" y="121"/>
                </a:cubicBezTo>
                <a:cubicBezTo>
                  <a:pt x="2365" y="115"/>
                  <a:pt x="2366" y="109"/>
                  <a:pt x="2367" y="103"/>
                </a:cubicBezTo>
                <a:cubicBezTo>
                  <a:pt x="2368" y="105"/>
                  <a:pt x="2368" y="107"/>
                  <a:pt x="2369" y="109"/>
                </a:cubicBezTo>
                <a:cubicBezTo>
                  <a:pt x="2368" y="114"/>
                  <a:pt x="2367" y="119"/>
                  <a:pt x="2366" y="124"/>
                </a:cubicBezTo>
                <a:close/>
                <a:moveTo>
                  <a:pt x="2371" y="146"/>
                </a:moveTo>
                <a:cubicBezTo>
                  <a:pt x="2371" y="145"/>
                  <a:pt x="2371" y="145"/>
                  <a:pt x="2371" y="145"/>
                </a:cubicBezTo>
                <a:cubicBezTo>
                  <a:pt x="2372" y="144"/>
                  <a:pt x="2372" y="143"/>
                  <a:pt x="2372" y="141"/>
                </a:cubicBezTo>
                <a:cubicBezTo>
                  <a:pt x="2372" y="142"/>
                  <a:pt x="2372" y="143"/>
                  <a:pt x="2372" y="144"/>
                </a:cubicBezTo>
                <a:cubicBezTo>
                  <a:pt x="2372" y="145"/>
                  <a:pt x="2372" y="145"/>
                  <a:pt x="2371" y="146"/>
                </a:cubicBezTo>
                <a:close/>
                <a:moveTo>
                  <a:pt x="2395" y="118"/>
                </a:moveTo>
                <a:cubicBezTo>
                  <a:pt x="2394" y="114"/>
                  <a:pt x="2392" y="111"/>
                  <a:pt x="2391" y="107"/>
                </a:cubicBezTo>
                <a:cubicBezTo>
                  <a:pt x="2391" y="96"/>
                  <a:pt x="2391" y="84"/>
                  <a:pt x="2391" y="74"/>
                </a:cubicBezTo>
                <a:cubicBezTo>
                  <a:pt x="2391" y="70"/>
                  <a:pt x="2391" y="67"/>
                  <a:pt x="2390" y="65"/>
                </a:cubicBezTo>
                <a:cubicBezTo>
                  <a:pt x="2391" y="74"/>
                  <a:pt x="2395" y="84"/>
                  <a:pt x="2398" y="94"/>
                </a:cubicBezTo>
                <a:cubicBezTo>
                  <a:pt x="2397" y="102"/>
                  <a:pt x="2396" y="110"/>
                  <a:pt x="2395" y="118"/>
                </a:cubicBezTo>
                <a:close/>
                <a:moveTo>
                  <a:pt x="2424" y="124"/>
                </a:moveTo>
                <a:cubicBezTo>
                  <a:pt x="2423" y="122"/>
                  <a:pt x="2423" y="120"/>
                  <a:pt x="2422" y="117"/>
                </a:cubicBezTo>
                <a:cubicBezTo>
                  <a:pt x="2423" y="109"/>
                  <a:pt x="2424" y="100"/>
                  <a:pt x="2425" y="92"/>
                </a:cubicBezTo>
                <a:cubicBezTo>
                  <a:pt x="2427" y="96"/>
                  <a:pt x="2428" y="100"/>
                  <a:pt x="2428" y="104"/>
                </a:cubicBezTo>
                <a:cubicBezTo>
                  <a:pt x="2427" y="111"/>
                  <a:pt x="2425" y="118"/>
                  <a:pt x="2424" y="124"/>
                </a:cubicBezTo>
                <a:close/>
                <a:moveTo>
                  <a:pt x="2464" y="133"/>
                </a:moveTo>
                <a:cubicBezTo>
                  <a:pt x="2464" y="130"/>
                  <a:pt x="2463" y="126"/>
                  <a:pt x="2462" y="122"/>
                </a:cubicBezTo>
                <a:cubicBezTo>
                  <a:pt x="2462" y="112"/>
                  <a:pt x="2462" y="100"/>
                  <a:pt x="2463" y="88"/>
                </a:cubicBezTo>
                <a:cubicBezTo>
                  <a:pt x="2465" y="96"/>
                  <a:pt x="2467" y="104"/>
                  <a:pt x="2467" y="111"/>
                </a:cubicBezTo>
                <a:cubicBezTo>
                  <a:pt x="2468" y="117"/>
                  <a:pt x="2468" y="117"/>
                  <a:pt x="2468" y="117"/>
                </a:cubicBezTo>
                <a:cubicBezTo>
                  <a:pt x="2466" y="123"/>
                  <a:pt x="2465" y="129"/>
                  <a:pt x="2464" y="133"/>
                </a:cubicBezTo>
                <a:close/>
                <a:moveTo>
                  <a:pt x="2477" y="110"/>
                </a:moveTo>
                <a:cubicBezTo>
                  <a:pt x="2477" y="113"/>
                  <a:pt x="2477" y="116"/>
                  <a:pt x="2477" y="119"/>
                </a:cubicBezTo>
                <a:cubicBezTo>
                  <a:pt x="2476" y="122"/>
                  <a:pt x="2476" y="124"/>
                  <a:pt x="2475" y="127"/>
                </a:cubicBezTo>
                <a:cubicBezTo>
                  <a:pt x="2475" y="119"/>
                  <a:pt x="2474" y="111"/>
                  <a:pt x="2473" y="104"/>
                </a:cubicBezTo>
                <a:cubicBezTo>
                  <a:pt x="2474" y="98"/>
                  <a:pt x="2474" y="91"/>
                  <a:pt x="2475" y="86"/>
                </a:cubicBezTo>
                <a:cubicBezTo>
                  <a:pt x="2477" y="93"/>
                  <a:pt x="2477" y="102"/>
                  <a:pt x="2477" y="110"/>
                </a:cubicBezTo>
                <a:close/>
                <a:moveTo>
                  <a:pt x="2487" y="142"/>
                </a:moveTo>
                <a:cubicBezTo>
                  <a:pt x="2487" y="142"/>
                  <a:pt x="2487" y="141"/>
                  <a:pt x="2488" y="138"/>
                </a:cubicBezTo>
                <a:cubicBezTo>
                  <a:pt x="2489" y="120"/>
                  <a:pt x="2488" y="96"/>
                  <a:pt x="2487" y="77"/>
                </a:cubicBezTo>
                <a:cubicBezTo>
                  <a:pt x="2489" y="81"/>
                  <a:pt x="2491" y="86"/>
                  <a:pt x="2492" y="92"/>
                </a:cubicBezTo>
                <a:cubicBezTo>
                  <a:pt x="2490" y="108"/>
                  <a:pt x="2488" y="129"/>
                  <a:pt x="2488" y="138"/>
                </a:cubicBezTo>
                <a:cubicBezTo>
                  <a:pt x="2487" y="139"/>
                  <a:pt x="2487" y="141"/>
                  <a:pt x="2487" y="142"/>
                </a:cubicBezTo>
                <a:close/>
                <a:moveTo>
                  <a:pt x="2491" y="129"/>
                </a:moveTo>
                <a:cubicBezTo>
                  <a:pt x="2491" y="119"/>
                  <a:pt x="2492" y="107"/>
                  <a:pt x="2493" y="97"/>
                </a:cubicBezTo>
                <a:cubicBezTo>
                  <a:pt x="2493" y="100"/>
                  <a:pt x="2493" y="103"/>
                  <a:pt x="2493" y="106"/>
                </a:cubicBezTo>
                <a:cubicBezTo>
                  <a:pt x="2493" y="114"/>
                  <a:pt x="2492" y="121"/>
                  <a:pt x="2491" y="129"/>
                </a:cubicBezTo>
                <a:close/>
                <a:moveTo>
                  <a:pt x="2502" y="125"/>
                </a:moveTo>
                <a:cubicBezTo>
                  <a:pt x="2503" y="120"/>
                  <a:pt x="2503" y="113"/>
                  <a:pt x="2503" y="107"/>
                </a:cubicBezTo>
                <a:cubicBezTo>
                  <a:pt x="2503" y="114"/>
                  <a:pt x="2503" y="120"/>
                  <a:pt x="2502" y="125"/>
                </a:cubicBezTo>
                <a:close/>
                <a:moveTo>
                  <a:pt x="2517" y="112"/>
                </a:moveTo>
                <a:cubicBezTo>
                  <a:pt x="2517" y="105"/>
                  <a:pt x="2517" y="98"/>
                  <a:pt x="2517" y="91"/>
                </a:cubicBezTo>
                <a:cubicBezTo>
                  <a:pt x="2518" y="95"/>
                  <a:pt x="2518" y="99"/>
                  <a:pt x="2518" y="103"/>
                </a:cubicBezTo>
                <a:cubicBezTo>
                  <a:pt x="2518" y="106"/>
                  <a:pt x="2518" y="109"/>
                  <a:pt x="2517" y="112"/>
                </a:cubicBezTo>
                <a:close/>
                <a:moveTo>
                  <a:pt x="2528" y="129"/>
                </a:moveTo>
                <a:cubicBezTo>
                  <a:pt x="2528" y="129"/>
                  <a:pt x="2528" y="129"/>
                  <a:pt x="2527" y="130"/>
                </a:cubicBezTo>
                <a:cubicBezTo>
                  <a:pt x="2527" y="132"/>
                  <a:pt x="2526" y="134"/>
                  <a:pt x="2526" y="137"/>
                </a:cubicBezTo>
                <a:cubicBezTo>
                  <a:pt x="2526" y="136"/>
                  <a:pt x="2526" y="136"/>
                  <a:pt x="2526" y="136"/>
                </a:cubicBezTo>
                <a:cubicBezTo>
                  <a:pt x="2526" y="134"/>
                  <a:pt x="2527" y="132"/>
                  <a:pt x="2527" y="130"/>
                </a:cubicBezTo>
                <a:cubicBezTo>
                  <a:pt x="2528" y="129"/>
                  <a:pt x="2528" y="129"/>
                  <a:pt x="2528" y="129"/>
                </a:cubicBezTo>
                <a:cubicBezTo>
                  <a:pt x="2528" y="129"/>
                  <a:pt x="2528" y="129"/>
                  <a:pt x="2528" y="129"/>
                </a:cubicBezTo>
                <a:close/>
                <a:moveTo>
                  <a:pt x="2564" y="130"/>
                </a:moveTo>
                <a:cubicBezTo>
                  <a:pt x="2564" y="132"/>
                  <a:pt x="2563" y="134"/>
                  <a:pt x="2562" y="136"/>
                </a:cubicBezTo>
                <a:cubicBezTo>
                  <a:pt x="2562" y="131"/>
                  <a:pt x="2562" y="126"/>
                  <a:pt x="2562" y="121"/>
                </a:cubicBezTo>
                <a:cubicBezTo>
                  <a:pt x="2564" y="115"/>
                  <a:pt x="2566" y="110"/>
                  <a:pt x="2567" y="104"/>
                </a:cubicBezTo>
                <a:cubicBezTo>
                  <a:pt x="2566" y="114"/>
                  <a:pt x="2565" y="123"/>
                  <a:pt x="2564" y="130"/>
                </a:cubicBezTo>
                <a:close/>
                <a:moveTo>
                  <a:pt x="2580" y="124"/>
                </a:moveTo>
                <a:cubicBezTo>
                  <a:pt x="2580" y="110"/>
                  <a:pt x="2582" y="94"/>
                  <a:pt x="2583" y="83"/>
                </a:cubicBezTo>
                <a:cubicBezTo>
                  <a:pt x="2583" y="87"/>
                  <a:pt x="2583" y="91"/>
                  <a:pt x="2583" y="95"/>
                </a:cubicBezTo>
                <a:cubicBezTo>
                  <a:pt x="2583" y="105"/>
                  <a:pt x="2582" y="114"/>
                  <a:pt x="2580" y="124"/>
                </a:cubicBezTo>
                <a:close/>
                <a:moveTo>
                  <a:pt x="2596" y="160"/>
                </a:moveTo>
                <a:cubicBezTo>
                  <a:pt x="2596" y="159"/>
                  <a:pt x="2597" y="159"/>
                  <a:pt x="2597" y="159"/>
                </a:cubicBezTo>
                <a:cubicBezTo>
                  <a:pt x="2597" y="159"/>
                  <a:pt x="2597" y="159"/>
                  <a:pt x="2597" y="159"/>
                </a:cubicBezTo>
                <a:cubicBezTo>
                  <a:pt x="2597" y="159"/>
                  <a:pt x="2597" y="159"/>
                  <a:pt x="2596" y="160"/>
                </a:cubicBezTo>
                <a:close/>
                <a:moveTo>
                  <a:pt x="2609" y="116"/>
                </a:moveTo>
                <a:cubicBezTo>
                  <a:pt x="2608" y="121"/>
                  <a:pt x="2606" y="127"/>
                  <a:pt x="2604" y="132"/>
                </a:cubicBezTo>
                <a:cubicBezTo>
                  <a:pt x="2604" y="127"/>
                  <a:pt x="2604" y="121"/>
                  <a:pt x="2604" y="115"/>
                </a:cubicBezTo>
                <a:cubicBezTo>
                  <a:pt x="2605" y="110"/>
                  <a:pt x="2605" y="104"/>
                  <a:pt x="2605" y="98"/>
                </a:cubicBezTo>
                <a:cubicBezTo>
                  <a:pt x="2605" y="95"/>
                  <a:pt x="2605" y="92"/>
                  <a:pt x="2605" y="89"/>
                </a:cubicBezTo>
                <a:cubicBezTo>
                  <a:pt x="2606" y="78"/>
                  <a:pt x="2607" y="68"/>
                  <a:pt x="2608" y="60"/>
                </a:cubicBezTo>
                <a:cubicBezTo>
                  <a:pt x="2611" y="68"/>
                  <a:pt x="2613" y="78"/>
                  <a:pt x="2613" y="87"/>
                </a:cubicBezTo>
                <a:cubicBezTo>
                  <a:pt x="2612" y="95"/>
                  <a:pt x="2611" y="106"/>
                  <a:pt x="2609" y="116"/>
                </a:cubicBezTo>
                <a:close/>
                <a:moveTo>
                  <a:pt x="2617" y="136"/>
                </a:moveTo>
                <a:cubicBezTo>
                  <a:pt x="2617" y="137"/>
                  <a:pt x="2616" y="138"/>
                  <a:pt x="2616" y="139"/>
                </a:cubicBezTo>
                <a:cubicBezTo>
                  <a:pt x="2616" y="137"/>
                  <a:pt x="2616" y="135"/>
                  <a:pt x="2616" y="133"/>
                </a:cubicBezTo>
                <a:cubicBezTo>
                  <a:pt x="2617" y="130"/>
                  <a:pt x="2617" y="128"/>
                  <a:pt x="2618" y="125"/>
                </a:cubicBezTo>
                <a:cubicBezTo>
                  <a:pt x="2618" y="129"/>
                  <a:pt x="2617" y="133"/>
                  <a:pt x="2617" y="136"/>
                </a:cubicBezTo>
                <a:close/>
                <a:moveTo>
                  <a:pt x="2633" y="126"/>
                </a:moveTo>
                <a:cubicBezTo>
                  <a:pt x="2632" y="113"/>
                  <a:pt x="2632" y="96"/>
                  <a:pt x="2632" y="84"/>
                </a:cubicBezTo>
                <a:cubicBezTo>
                  <a:pt x="2636" y="90"/>
                  <a:pt x="2638" y="100"/>
                  <a:pt x="2638" y="104"/>
                </a:cubicBezTo>
                <a:cubicBezTo>
                  <a:pt x="2638" y="110"/>
                  <a:pt x="2635" y="118"/>
                  <a:pt x="2633" y="126"/>
                </a:cubicBezTo>
                <a:close/>
                <a:moveTo>
                  <a:pt x="2644" y="128"/>
                </a:moveTo>
                <a:cubicBezTo>
                  <a:pt x="2645" y="113"/>
                  <a:pt x="2645" y="91"/>
                  <a:pt x="2645" y="76"/>
                </a:cubicBezTo>
                <a:cubicBezTo>
                  <a:pt x="2647" y="83"/>
                  <a:pt x="2649" y="90"/>
                  <a:pt x="2649" y="96"/>
                </a:cubicBezTo>
                <a:cubicBezTo>
                  <a:pt x="2649" y="107"/>
                  <a:pt x="2646" y="117"/>
                  <a:pt x="2644" y="128"/>
                </a:cubicBezTo>
                <a:close/>
                <a:moveTo>
                  <a:pt x="2684" y="112"/>
                </a:moveTo>
                <a:cubicBezTo>
                  <a:pt x="2684" y="110"/>
                  <a:pt x="2684" y="108"/>
                  <a:pt x="2683" y="105"/>
                </a:cubicBezTo>
                <a:cubicBezTo>
                  <a:pt x="2684" y="108"/>
                  <a:pt x="2683" y="112"/>
                  <a:pt x="2683" y="115"/>
                </a:cubicBezTo>
                <a:cubicBezTo>
                  <a:pt x="2678" y="131"/>
                  <a:pt x="2674" y="144"/>
                  <a:pt x="2674" y="144"/>
                </a:cubicBezTo>
                <a:cubicBezTo>
                  <a:pt x="2675" y="133"/>
                  <a:pt x="2679" y="110"/>
                  <a:pt x="2684" y="86"/>
                </a:cubicBezTo>
                <a:cubicBezTo>
                  <a:pt x="2686" y="90"/>
                  <a:pt x="2687" y="95"/>
                  <a:pt x="2688" y="99"/>
                </a:cubicBezTo>
                <a:cubicBezTo>
                  <a:pt x="2686" y="103"/>
                  <a:pt x="2685" y="108"/>
                  <a:pt x="2684" y="112"/>
                </a:cubicBezTo>
                <a:close/>
                <a:moveTo>
                  <a:pt x="2696" y="133"/>
                </a:moveTo>
                <a:cubicBezTo>
                  <a:pt x="2696" y="133"/>
                  <a:pt x="2696" y="134"/>
                  <a:pt x="2696" y="134"/>
                </a:cubicBezTo>
                <a:cubicBezTo>
                  <a:pt x="2696" y="134"/>
                  <a:pt x="2696" y="134"/>
                  <a:pt x="2696" y="134"/>
                </a:cubicBezTo>
                <a:cubicBezTo>
                  <a:pt x="2696" y="134"/>
                  <a:pt x="2696" y="133"/>
                  <a:pt x="2696" y="133"/>
                </a:cubicBezTo>
                <a:cubicBezTo>
                  <a:pt x="2697" y="126"/>
                  <a:pt x="2698" y="117"/>
                  <a:pt x="2699" y="107"/>
                </a:cubicBezTo>
                <a:cubicBezTo>
                  <a:pt x="2699" y="110"/>
                  <a:pt x="2699" y="114"/>
                  <a:pt x="2699" y="117"/>
                </a:cubicBezTo>
                <a:cubicBezTo>
                  <a:pt x="2698" y="123"/>
                  <a:pt x="2697" y="129"/>
                  <a:pt x="2696" y="133"/>
                </a:cubicBezTo>
                <a:close/>
                <a:moveTo>
                  <a:pt x="2701" y="159"/>
                </a:moveTo>
                <a:cubicBezTo>
                  <a:pt x="2701" y="159"/>
                  <a:pt x="2701" y="159"/>
                  <a:pt x="2701" y="159"/>
                </a:cubicBezTo>
                <a:cubicBezTo>
                  <a:pt x="2701" y="159"/>
                  <a:pt x="2701" y="159"/>
                  <a:pt x="2701" y="159"/>
                </a:cubicBezTo>
                <a:cubicBezTo>
                  <a:pt x="2701" y="159"/>
                  <a:pt x="2701" y="159"/>
                  <a:pt x="2701" y="159"/>
                </a:cubicBezTo>
                <a:close/>
                <a:moveTo>
                  <a:pt x="2742" y="143"/>
                </a:moveTo>
                <a:cubicBezTo>
                  <a:pt x="2742" y="142"/>
                  <a:pt x="2742" y="142"/>
                  <a:pt x="2742" y="141"/>
                </a:cubicBezTo>
                <a:cubicBezTo>
                  <a:pt x="2742" y="135"/>
                  <a:pt x="2743" y="127"/>
                  <a:pt x="2743" y="117"/>
                </a:cubicBezTo>
                <a:cubicBezTo>
                  <a:pt x="2744" y="121"/>
                  <a:pt x="2744" y="125"/>
                  <a:pt x="2744" y="129"/>
                </a:cubicBezTo>
                <a:cubicBezTo>
                  <a:pt x="2743" y="135"/>
                  <a:pt x="2743" y="139"/>
                  <a:pt x="2742" y="143"/>
                </a:cubicBezTo>
                <a:close/>
                <a:moveTo>
                  <a:pt x="2746" y="117"/>
                </a:moveTo>
                <a:cubicBezTo>
                  <a:pt x="2745" y="115"/>
                  <a:pt x="2744" y="113"/>
                  <a:pt x="2744" y="111"/>
                </a:cubicBezTo>
                <a:cubicBezTo>
                  <a:pt x="2744" y="108"/>
                  <a:pt x="2744" y="104"/>
                  <a:pt x="2745" y="100"/>
                </a:cubicBezTo>
                <a:cubicBezTo>
                  <a:pt x="2746" y="103"/>
                  <a:pt x="2746" y="106"/>
                  <a:pt x="2747" y="108"/>
                </a:cubicBezTo>
                <a:cubicBezTo>
                  <a:pt x="2746" y="111"/>
                  <a:pt x="2746" y="114"/>
                  <a:pt x="2746" y="117"/>
                </a:cubicBezTo>
                <a:close/>
                <a:moveTo>
                  <a:pt x="2754" y="133"/>
                </a:moveTo>
                <a:cubicBezTo>
                  <a:pt x="2754" y="133"/>
                  <a:pt x="2754" y="133"/>
                  <a:pt x="2754" y="133"/>
                </a:cubicBezTo>
                <a:cubicBezTo>
                  <a:pt x="2754" y="130"/>
                  <a:pt x="2755" y="127"/>
                  <a:pt x="2755" y="124"/>
                </a:cubicBezTo>
                <a:cubicBezTo>
                  <a:pt x="2755" y="125"/>
                  <a:pt x="2755" y="126"/>
                  <a:pt x="2755" y="128"/>
                </a:cubicBezTo>
                <a:cubicBezTo>
                  <a:pt x="2755" y="130"/>
                  <a:pt x="2754" y="131"/>
                  <a:pt x="2754" y="133"/>
                </a:cubicBezTo>
                <a:close/>
                <a:moveTo>
                  <a:pt x="2791" y="142"/>
                </a:moveTo>
                <a:cubicBezTo>
                  <a:pt x="2791" y="139"/>
                  <a:pt x="2791" y="134"/>
                  <a:pt x="2791" y="128"/>
                </a:cubicBezTo>
                <a:cubicBezTo>
                  <a:pt x="2791" y="130"/>
                  <a:pt x="2791" y="132"/>
                  <a:pt x="2792" y="133"/>
                </a:cubicBezTo>
                <a:cubicBezTo>
                  <a:pt x="2791" y="139"/>
                  <a:pt x="2791" y="142"/>
                  <a:pt x="2791" y="142"/>
                </a:cubicBezTo>
                <a:close/>
                <a:moveTo>
                  <a:pt x="2812" y="135"/>
                </a:moveTo>
                <a:cubicBezTo>
                  <a:pt x="2812" y="134"/>
                  <a:pt x="2812" y="134"/>
                  <a:pt x="2812" y="133"/>
                </a:cubicBezTo>
                <a:cubicBezTo>
                  <a:pt x="2812" y="121"/>
                  <a:pt x="2812" y="103"/>
                  <a:pt x="2811" y="88"/>
                </a:cubicBezTo>
                <a:cubicBezTo>
                  <a:pt x="2813" y="94"/>
                  <a:pt x="2815" y="100"/>
                  <a:pt x="2816" y="106"/>
                </a:cubicBezTo>
                <a:cubicBezTo>
                  <a:pt x="2814" y="118"/>
                  <a:pt x="2813" y="128"/>
                  <a:pt x="2812" y="135"/>
                </a:cubicBezTo>
                <a:close/>
                <a:moveTo>
                  <a:pt x="2819" y="145"/>
                </a:moveTo>
                <a:cubicBezTo>
                  <a:pt x="2819" y="141"/>
                  <a:pt x="2819" y="136"/>
                  <a:pt x="2819" y="129"/>
                </a:cubicBezTo>
                <a:cubicBezTo>
                  <a:pt x="2820" y="133"/>
                  <a:pt x="2820" y="136"/>
                  <a:pt x="2821" y="139"/>
                </a:cubicBezTo>
                <a:cubicBezTo>
                  <a:pt x="2820" y="143"/>
                  <a:pt x="2819" y="145"/>
                  <a:pt x="2819" y="145"/>
                </a:cubicBezTo>
                <a:close/>
                <a:moveTo>
                  <a:pt x="2824" y="159"/>
                </a:moveTo>
                <a:cubicBezTo>
                  <a:pt x="2825" y="159"/>
                  <a:pt x="2825" y="159"/>
                  <a:pt x="2825" y="159"/>
                </a:cubicBezTo>
                <a:cubicBezTo>
                  <a:pt x="2825" y="159"/>
                  <a:pt x="2825" y="158"/>
                  <a:pt x="2825" y="158"/>
                </a:cubicBezTo>
                <a:cubicBezTo>
                  <a:pt x="2825" y="159"/>
                  <a:pt x="2826" y="160"/>
                  <a:pt x="2826" y="160"/>
                </a:cubicBezTo>
                <a:cubicBezTo>
                  <a:pt x="2825" y="160"/>
                  <a:pt x="2825" y="159"/>
                  <a:pt x="2824" y="159"/>
                </a:cubicBezTo>
                <a:close/>
                <a:moveTo>
                  <a:pt x="2826" y="121"/>
                </a:moveTo>
                <a:cubicBezTo>
                  <a:pt x="2824" y="117"/>
                  <a:pt x="2823" y="114"/>
                  <a:pt x="2821" y="110"/>
                </a:cubicBezTo>
                <a:cubicBezTo>
                  <a:pt x="2822" y="105"/>
                  <a:pt x="2822" y="99"/>
                  <a:pt x="2823" y="94"/>
                </a:cubicBezTo>
                <a:cubicBezTo>
                  <a:pt x="2823" y="100"/>
                  <a:pt x="2825" y="108"/>
                  <a:pt x="2827" y="116"/>
                </a:cubicBezTo>
                <a:cubicBezTo>
                  <a:pt x="2826" y="118"/>
                  <a:pt x="2826" y="119"/>
                  <a:pt x="2826" y="121"/>
                </a:cubicBezTo>
                <a:close/>
                <a:moveTo>
                  <a:pt x="2834" y="142"/>
                </a:moveTo>
                <a:cubicBezTo>
                  <a:pt x="2833" y="138"/>
                  <a:pt x="2831" y="134"/>
                  <a:pt x="2829" y="129"/>
                </a:cubicBezTo>
                <a:cubicBezTo>
                  <a:pt x="2829" y="129"/>
                  <a:pt x="2829" y="128"/>
                  <a:pt x="2829" y="127"/>
                </a:cubicBezTo>
                <a:cubicBezTo>
                  <a:pt x="2831" y="132"/>
                  <a:pt x="2832" y="137"/>
                  <a:pt x="2834" y="142"/>
                </a:cubicBezTo>
                <a:cubicBezTo>
                  <a:pt x="2837" y="149"/>
                  <a:pt x="2839" y="153"/>
                  <a:pt x="2839" y="155"/>
                </a:cubicBezTo>
                <a:cubicBezTo>
                  <a:pt x="2837" y="151"/>
                  <a:pt x="2836" y="147"/>
                  <a:pt x="2834" y="142"/>
                </a:cubicBezTo>
                <a:close/>
                <a:moveTo>
                  <a:pt x="3059" y="87"/>
                </a:moveTo>
                <a:cubicBezTo>
                  <a:pt x="3060" y="90"/>
                  <a:pt x="3061" y="92"/>
                  <a:pt x="3061" y="95"/>
                </a:cubicBezTo>
                <a:cubicBezTo>
                  <a:pt x="3061" y="94"/>
                  <a:pt x="3060" y="93"/>
                  <a:pt x="3059" y="92"/>
                </a:cubicBezTo>
                <a:cubicBezTo>
                  <a:pt x="3059" y="90"/>
                  <a:pt x="3059" y="89"/>
                  <a:pt x="3059" y="87"/>
                </a:cubicBezTo>
                <a:close/>
                <a:moveTo>
                  <a:pt x="3047" y="84"/>
                </a:moveTo>
                <a:cubicBezTo>
                  <a:pt x="3050" y="87"/>
                  <a:pt x="3052" y="92"/>
                  <a:pt x="3055" y="96"/>
                </a:cubicBezTo>
                <a:cubicBezTo>
                  <a:pt x="3055" y="97"/>
                  <a:pt x="3056" y="99"/>
                  <a:pt x="3056" y="100"/>
                </a:cubicBezTo>
                <a:cubicBezTo>
                  <a:pt x="3056" y="104"/>
                  <a:pt x="3055" y="108"/>
                  <a:pt x="3054" y="112"/>
                </a:cubicBezTo>
                <a:cubicBezTo>
                  <a:pt x="3052" y="105"/>
                  <a:pt x="3049" y="98"/>
                  <a:pt x="3046" y="91"/>
                </a:cubicBezTo>
                <a:cubicBezTo>
                  <a:pt x="3046" y="89"/>
                  <a:pt x="3047" y="86"/>
                  <a:pt x="3047" y="84"/>
                </a:cubicBezTo>
                <a:close/>
                <a:moveTo>
                  <a:pt x="3052" y="111"/>
                </a:moveTo>
                <a:cubicBezTo>
                  <a:pt x="3049" y="108"/>
                  <a:pt x="3047" y="105"/>
                  <a:pt x="3045" y="102"/>
                </a:cubicBezTo>
                <a:cubicBezTo>
                  <a:pt x="3045" y="99"/>
                  <a:pt x="3046" y="96"/>
                  <a:pt x="3046" y="93"/>
                </a:cubicBezTo>
                <a:cubicBezTo>
                  <a:pt x="3048" y="98"/>
                  <a:pt x="3050" y="105"/>
                  <a:pt x="3052" y="111"/>
                </a:cubicBezTo>
                <a:close/>
                <a:moveTo>
                  <a:pt x="3034" y="56"/>
                </a:moveTo>
                <a:cubicBezTo>
                  <a:pt x="3039" y="62"/>
                  <a:pt x="3042" y="68"/>
                  <a:pt x="3045" y="74"/>
                </a:cubicBezTo>
                <a:cubicBezTo>
                  <a:pt x="3042" y="69"/>
                  <a:pt x="3038" y="64"/>
                  <a:pt x="3034" y="60"/>
                </a:cubicBezTo>
                <a:cubicBezTo>
                  <a:pt x="3034" y="59"/>
                  <a:pt x="3034" y="57"/>
                  <a:pt x="3034" y="56"/>
                </a:cubicBezTo>
                <a:close/>
                <a:moveTo>
                  <a:pt x="3033" y="64"/>
                </a:moveTo>
                <a:cubicBezTo>
                  <a:pt x="3037" y="69"/>
                  <a:pt x="3041" y="74"/>
                  <a:pt x="3044" y="80"/>
                </a:cubicBezTo>
                <a:cubicBezTo>
                  <a:pt x="3044" y="81"/>
                  <a:pt x="3043" y="83"/>
                  <a:pt x="3043" y="85"/>
                </a:cubicBezTo>
                <a:cubicBezTo>
                  <a:pt x="3042" y="84"/>
                  <a:pt x="3042" y="83"/>
                  <a:pt x="3042" y="83"/>
                </a:cubicBezTo>
                <a:cubicBezTo>
                  <a:pt x="3042" y="83"/>
                  <a:pt x="3042" y="84"/>
                  <a:pt x="3043" y="85"/>
                </a:cubicBezTo>
                <a:cubicBezTo>
                  <a:pt x="3042" y="88"/>
                  <a:pt x="3041" y="91"/>
                  <a:pt x="3040" y="94"/>
                </a:cubicBezTo>
                <a:cubicBezTo>
                  <a:pt x="3037" y="89"/>
                  <a:pt x="3034" y="85"/>
                  <a:pt x="3031" y="80"/>
                </a:cubicBezTo>
                <a:cubicBezTo>
                  <a:pt x="3032" y="75"/>
                  <a:pt x="3033" y="69"/>
                  <a:pt x="3033" y="64"/>
                </a:cubicBezTo>
                <a:close/>
                <a:moveTo>
                  <a:pt x="3024" y="139"/>
                </a:moveTo>
                <a:cubicBezTo>
                  <a:pt x="3024" y="120"/>
                  <a:pt x="3027" y="101"/>
                  <a:pt x="3030" y="83"/>
                </a:cubicBezTo>
                <a:cubicBezTo>
                  <a:pt x="3033" y="87"/>
                  <a:pt x="3036" y="91"/>
                  <a:pt x="3039" y="95"/>
                </a:cubicBezTo>
                <a:cubicBezTo>
                  <a:pt x="3033" y="114"/>
                  <a:pt x="3027" y="133"/>
                  <a:pt x="3025" y="152"/>
                </a:cubicBezTo>
                <a:cubicBezTo>
                  <a:pt x="3024" y="148"/>
                  <a:pt x="3024" y="143"/>
                  <a:pt x="3024" y="139"/>
                </a:cubicBezTo>
                <a:close/>
                <a:moveTo>
                  <a:pt x="3043" y="143"/>
                </a:moveTo>
                <a:cubicBezTo>
                  <a:pt x="3043" y="142"/>
                  <a:pt x="3042" y="141"/>
                  <a:pt x="3041" y="140"/>
                </a:cubicBezTo>
                <a:cubicBezTo>
                  <a:pt x="3042" y="141"/>
                  <a:pt x="3042" y="143"/>
                  <a:pt x="3043" y="144"/>
                </a:cubicBezTo>
                <a:cubicBezTo>
                  <a:pt x="3041" y="146"/>
                  <a:pt x="3040" y="149"/>
                  <a:pt x="3038" y="152"/>
                </a:cubicBezTo>
                <a:cubicBezTo>
                  <a:pt x="3039" y="146"/>
                  <a:pt x="3040" y="140"/>
                  <a:pt x="3041" y="135"/>
                </a:cubicBezTo>
                <a:cubicBezTo>
                  <a:pt x="3042" y="137"/>
                  <a:pt x="3043" y="139"/>
                  <a:pt x="3044" y="142"/>
                </a:cubicBezTo>
                <a:cubicBezTo>
                  <a:pt x="3044" y="142"/>
                  <a:pt x="3043" y="142"/>
                  <a:pt x="3043" y="143"/>
                </a:cubicBezTo>
                <a:close/>
                <a:moveTo>
                  <a:pt x="3042" y="126"/>
                </a:moveTo>
                <a:cubicBezTo>
                  <a:pt x="3043" y="118"/>
                  <a:pt x="3044" y="110"/>
                  <a:pt x="3045" y="102"/>
                </a:cubicBezTo>
                <a:cubicBezTo>
                  <a:pt x="3048" y="107"/>
                  <a:pt x="3051" y="112"/>
                  <a:pt x="3053" y="116"/>
                </a:cubicBezTo>
                <a:cubicBezTo>
                  <a:pt x="3052" y="122"/>
                  <a:pt x="3050" y="127"/>
                  <a:pt x="3048" y="133"/>
                </a:cubicBezTo>
                <a:cubicBezTo>
                  <a:pt x="3045" y="130"/>
                  <a:pt x="3043" y="128"/>
                  <a:pt x="3042" y="126"/>
                </a:cubicBezTo>
                <a:close/>
                <a:moveTo>
                  <a:pt x="3054" y="140"/>
                </a:moveTo>
                <a:cubicBezTo>
                  <a:pt x="3053" y="140"/>
                  <a:pt x="3053" y="140"/>
                  <a:pt x="3053" y="140"/>
                </a:cubicBezTo>
                <a:cubicBezTo>
                  <a:pt x="3054" y="135"/>
                  <a:pt x="3055" y="130"/>
                  <a:pt x="3056" y="125"/>
                </a:cubicBezTo>
                <a:cubicBezTo>
                  <a:pt x="3056" y="127"/>
                  <a:pt x="3057" y="128"/>
                  <a:pt x="3057" y="130"/>
                </a:cubicBezTo>
                <a:cubicBezTo>
                  <a:pt x="3056" y="133"/>
                  <a:pt x="3055" y="137"/>
                  <a:pt x="3054" y="140"/>
                </a:cubicBezTo>
                <a:close/>
                <a:moveTo>
                  <a:pt x="3060" y="122"/>
                </a:moveTo>
                <a:cubicBezTo>
                  <a:pt x="3059" y="120"/>
                  <a:pt x="3058" y="119"/>
                  <a:pt x="3057" y="117"/>
                </a:cubicBezTo>
                <a:cubicBezTo>
                  <a:pt x="3057" y="114"/>
                  <a:pt x="3058" y="110"/>
                  <a:pt x="3058" y="106"/>
                </a:cubicBezTo>
                <a:cubicBezTo>
                  <a:pt x="3059" y="111"/>
                  <a:pt x="3060" y="115"/>
                  <a:pt x="3061" y="120"/>
                </a:cubicBezTo>
                <a:cubicBezTo>
                  <a:pt x="3061" y="120"/>
                  <a:pt x="3061" y="121"/>
                  <a:pt x="3060" y="122"/>
                </a:cubicBezTo>
                <a:close/>
                <a:moveTo>
                  <a:pt x="3062" y="151"/>
                </a:moveTo>
                <a:cubicBezTo>
                  <a:pt x="3061" y="151"/>
                  <a:pt x="3061" y="151"/>
                  <a:pt x="3061" y="151"/>
                </a:cubicBezTo>
                <a:cubicBezTo>
                  <a:pt x="3062" y="150"/>
                  <a:pt x="3062" y="150"/>
                  <a:pt x="3062" y="149"/>
                </a:cubicBezTo>
                <a:cubicBezTo>
                  <a:pt x="3062" y="149"/>
                  <a:pt x="3062" y="149"/>
                  <a:pt x="3062" y="149"/>
                </a:cubicBezTo>
                <a:cubicBezTo>
                  <a:pt x="3062" y="150"/>
                  <a:pt x="3062" y="150"/>
                  <a:pt x="3062" y="151"/>
                </a:cubicBezTo>
                <a:close/>
                <a:moveTo>
                  <a:pt x="3062" y="117"/>
                </a:moveTo>
                <a:cubicBezTo>
                  <a:pt x="3061" y="112"/>
                  <a:pt x="3060" y="107"/>
                  <a:pt x="3058" y="102"/>
                </a:cubicBezTo>
                <a:cubicBezTo>
                  <a:pt x="3058" y="102"/>
                  <a:pt x="3059" y="101"/>
                  <a:pt x="3059" y="101"/>
                </a:cubicBezTo>
                <a:cubicBezTo>
                  <a:pt x="3061" y="105"/>
                  <a:pt x="3063" y="108"/>
                  <a:pt x="3065" y="112"/>
                </a:cubicBezTo>
                <a:cubicBezTo>
                  <a:pt x="3064" y="113"/>
                  <a:pt x="3063" y="115"/>
                  <a:pt x="3063" y="116"/>
                </a:cubicBezTo>
                <a:cubicBezTo>
                  <a:pt x="3062" y="117"/>
                  <a:pt x="3062" y="117"/>
                  <a:pt x="3062" y="117"/>
                </a:cubicBezTo>
                <a:close/>
                <a:moveTo>
                  <a:pt x="3065" y="143"/>
                </a:moveTo>
                <a:cubicBezTo>
                  <a:pt x="3064" y="142"/>
                  <a:pt x="3064" y="142"/>
                  <a:pt x="3064" y="142"/>
                </a:cubicBezTo>
                <a:cubicBezTo>
                  <a:pt x="3064" y="141"/>
                  <a:pt x="3065" y="141"/>
                  <a:pt x="3065" y="140"/>
                </a:cubicBezTo>
                <a:cubicBezTo>
                  <a:pt x="3065" y="140"/>
                  <a:pt x="3065" y="141"/>
                  <a:pt x="3065" y="141"/>
                </a:cubicBezTo>
                <a:cubicBezTo>
                  <a:pt x="3065" y="142"/>
                  <a:pt x="3065" y="142"/>
                  <a:pt x="3065" y="143"/>
                </a:cubicBezTo>
                <a:close/>
                <a:moveTo>
                  <a:pt x="3068" y="131"/>
                </a:moveTo>
                <a:cubicBezTo>
                  <a:pt x="3068" y="131"/>
                  <a:pt x="3068" y="131"/>
                  <a:pt x="3068" y="131"/>
                </a:cubicBezTo>
                <a:cubicBezTo>
                  <a:pt x="3068" y="131"/>
                  <a:pt x="3068" y="131"/>
                  <a:pt x="3068" y="131"/>
                </a:cubicBezTo>
                <a:cubicBezTo>
                  <a:pt x="3068" y="131"/>
                  <a:pt x="3068" y="131"/>
                  <a:pt x="3068" y="131"/>
                </a:cubicBezTo>
                <a:close/>
                <a:moveTo>
                  <a:pt x="3070" y="151"/>
                </a:moveTo>
                <a:cubicBezTo>
                  <a:pt x="3070" y="151"/>
                  <a:pt x="3070" y="151"/>
                  <a:pt x="3070" y="151"/>
                </a:cubicBezTo>
                <a:cubicBezTo>
                  <a:pt x="3070" y="151"/>
                  <a:pt x="3070" y="151"/>
                  <a:pt x="3070" y="152"/>
                </a:cubicBezTo>
                <a:cubicBezTo>
                  <a:pt x="3070" y="152"/>
                  <a:pt x="3070" y="151"/>
                  <a:pt x="3070" y="151"/>
                </a:cubicBezTo>
                <a:close/>
                <a:moveTo>
                  <a:pt x="3072" y="126"/>
                </a:moveTo>
                <a:cubicBezTo>
                  <a:pt x="3072" y="128"/>
                  <a:pt x="3071" y="129"/>
                  <a:pt x="3070" y="131"/>
                </a:cubicBezTo>
                <a:cubicBezTo>
                  <a:pt x="3070" y="129"/>
                  <a:pt x="3070" y="127"/>
                  <a:pt x="3070" y="125"/>
                </a:cubicBezTo>
                <a:cubicBezTo>
                  <a:pt x="3070" y="124"/>
                  <a:pt x="3070" y="123"/>
                  <a:pt x="3071" y="122"/>
                </a:cubicBezTo>
                <a:cubicBezTo>
                  <a:pt x="3071" y="123"/>
                  <a:pt x="3072" y="124"/>
                  <a:pt x="3072" y="125"/>
                </a:cubicBezTo>
                <a:lnTo>
                  <a:pt x="3072" y="126"/>
                </a:lnTo>
                <a:close/>
                <a:moveTo>
                  <a:pt x="3080" y="91"/>
                </a:moveTo>
                <a:cubicBezTo>
                  <a:pt x="3080" y="92"/>
                  <a:pt x="3080" y="94"/>
                  <a:pt x="3080" y="96"/>
                </a:cubicBezTo>
                <a:cubicBezTo>
                  <a:pt x="3080" y="95"/>
                  <a:pt x="3080" y="94"/>
                  <a:pt x="3079" y="93"/>
                </a:cubicBezTo>
                <a:cubicBezTo>
                  <a:pt x="3079" y="92"/>
                  <a:pt x="3079" y="91"/>
                  <a:pt x="3080" y="91"/>
                </a:cubicBezTo>
                <a:close/>
                <a:moveTo>
                  <a:pt x="3078" y="117"/>
                </a:moveTo>
                <a:cubicBezTo>
                  <a:pt x="3077" y="113"/>
                  <a:pt x="3076" y="109"/>
                  <a:pt x="3076" y="106"/>
                </a:cubicBezTo>
                <a:cubicBezTo>
                  <a:pt x="3076" y="105"/>
                  <a:pt x="3076" y="105"/>
                  <a:pt x="3076" y="104"/>
                </a:cubicBezTo>
                <a:cubicBezTo>
                  <a:pt x="3077" y="107"/>
                  <a:pt x="3078" y="111"/>
                  <a:pt x="3079" y="114"/>
                </a:cubicBezTo>
                <a:cubicBezTo>
                  <a:pt x="3079" y="115"/>
                  <a:pt x="3078" y="116"/>
                  <a:pt x="3078" y="117"/>
                </a:cubicBezTo>
                <a:close/>
                <a:moveTo>
                  <a:pt x="3081" y="127"/>
                </a:moveTo>
                <a:cubicBezTo>
                  <a:pt x="3080" y="127"/>
                  <a:pt x="3080" y="126"/>
                  <a:pt x="3080" y="126"/>
                </a:cubicBezTo>
                <a:cubicBezTo>
                  <a:pt x="3080" y="125"/>
                  <a:pt x="3080" y="125"/>
                  <a:pt x="3081" y="124"/>
                </a:cubicBezTo>
                <a:cubicBezTo>
                  <a:pt x="3081" y="125"/>
                  <a:pt x="3081" y="126"/>
                  <a:pt x="3081" y="127"/>
                </a:cubicBezTo>
                <a:close/>
                <a:moveTo>
                  <a:pt x="3087" y="141"/>
                </a:moveTo>
                <a:cubicBezTo>
                  <a:pt x="3087" y="140"/>
                  <a:pt x="3087" y="140"/>
                  <a:pt x="3087" y="140"/>
                </a:cubicBezTo>
                <a:cubicBezTo>
                  <a:pt x="3087" y="140"/>
                  <a:pt x="3087" y="140"/>
                  <a:pt x="3087" y="140"/>
                </a:cubicBezTo>
                <a:cubicBezTo>
                  <a:pt x="3087" y="139"/>
                  <a:pt x="3087" y="139"/>
                  <a:pt x="3087" y="139"/>
                </a:cubicBezTo>
                <a:cubicBezTo>
                  <a:pt x="3087" y="139"/>
                  <a:pt x="3087" y="140"/>
                  <a:pt x="3087" y="141"/>
                </a:cubicBezTo>
                <a:close/>
                <a:moveTo>
                  <a:pt x="3119" y="64"/>
                </a:moveTo>
                <a:cubicBezTo>
                  <a:pt x="3120" y="69"/>
                  <a:pt x="3121" y="75"/>
                  <a:pt x="3122" y="80"/>
                </a:cubicBezTo>
                <a:cubicBezTo>
                  <a:pt x="3120" y="82"/>
                  <a:pt x="3119" y="85"/>
                  <a:pt x="3117" y="87"/>
                </a:cubicBezTo>
                <a:cubicBezTo>
                  <a:pt x="3117" y="86"/>
                  <a:pt x="3116" y="84"/>
                  <a:pt x="3115" y="83"/>
                </a:cubicBezTo>
                <a:cubicBezTo>
                  <a:pt x="3116" y="84"/>
                  <a:pt x="3117" y="86"/>
                  <a:pt x="3117" y="87"/>
                </a:cubicBezTo>
                <a:cubicBezTo>
                  <a:pt x="3116" y="90"/>
                  <a:pt x="3114" y="92"/>
                  <a:pt x="3113" y="94"/>
                </a:cubicBezTo>
                <a:cubicBezTo>
                  <a:pt x="3111" y="89"/>
                  <a:pt x="3110" y="85"/>
                  <a:pt x="3108" y="80"/>
                </a:cubicBezTo>
                <a:cubicBezTo>
                  <a:pt x="3112" y="74"/>
                  <a:pt x="3116" y="69"/>
                  <a:pt x="3119" y="64"/>
                </a:cubicBezTo>
                <a:close/>
                <a:moveTo>
                  <a:pt x="3097" y="72"/>
                </a:moveTo>
                <a:cubicBezTo>
                  <a:pt x="3099" y="75"/>
                  <a:pt x="3100" y="77"/>
                  <a:pt x="3102" y="80"/>
                </a:cubicBezTo>
                <a:cubicBezTo>
                  <a:pt x="3100" y="82"/>
                  <a:pt x="3099" y="84"/>
                  <a:pt x="3097" y="86"/>
                </a:cubicBezTo>
                <a:cubicBezTo>
                  <a:pt x="3097" y="85"/>
                  <a:pt x="3096" y="83"/>
                  <a:pt x="3096" y="82"/>
                </a:cubicBezTo>
                <a:cubicBezTo>
                  <a:pt x="3096" y="78"/>
                  <a:pt x="3096" y="74"/>
                  <a:pt x="3097" y="72"/>
                </a:cubicBezTo>
                <a:close/>
                <a:moveTo>
                  <a:pt x="3090" y="108"/>
                </a:moveTo>
                <a:cubicBezTo>
                  <a:pt x="3091" y="106"/>
                  <a:pt x="3093" y="104"/>
                  <a:pt x="3094" y="101"/>
                </a:cubicBezTo>
                <a:cubicBezTo>
                  <a:pt x="3094" y="106"/>
                  <a:pt x="3095" y="112"/>
                  <a:pt x="3096" y="117"/>
                </a:cubicBezTo>
                <a:cubicBezTo>
                  <a:pt x="3095" y="119"/>
                  <a:pt x="3093" y="120"/>
                  <a:pt x="3092" y="122"/>
                </a:cubicBezTo>
                <a:cubicBezTo>
                  <a:pt x="3092" y="117"/>
                  <a:pt x="3091" y="113"/>
                  <a:pt x="3090" y="108"/>
                </a:cubicBezTo>
                <a:close/>
                <a:moveTo>
                  <a:pt x="3097" y="134"/>
                </a:moveTo>
                <a:cubicBezTo>
                  <a:pt x="3096" y="131"/>
                  <a:pt x="3095" y="128"/>
                  <a:pt x="3094" y="126"/>
                </a:cubicBezTo>
                <a:cubicBezTo>
                  <a:pt x="3095" y="124"/>
                  <a:pt x="3095" y="123"/>
                  <a:pt x="3096" y="122"/>
                </a:cubicBezTo>
                <a:cubicBezTo>
                  <a:pt x="3097" y="123"/>
                  <a:pt x="3097" y="125"/>
                  <a:pt x="3097" y="127"/>
                </a:cubicBezTo>
                <a:cubicBezTo>
                  <a:pt x="3097" y="129"/>
                  <a:pt x="3097" y="131"/>
                  <a:pt x="3097" y="134"/>
                </a:cubicBezTo>
                <a:close/>
                <a:moveTo>
                  <a:pt x="3096" y="98"/>
                </a:moveTo>
                <a:cubicBezTo>
                  <a:pt x="3096" y="98"/>
                  <a:pt x="3096" y="97"/>
                  <a:pt x="3097" y="97"/>
                </a:cubicBezTo>
                <a:cubicBezTo>
                  <a:pt x="3097" y="101"/>
                  <a:pt x="3097" y="105"/>
                  <a:pt x="3097" y="108"/>
                </a:cubicBezTo>
                <a:cubicBezTo>
                  <a:pt x="3097" y="105"/>
                  <a:pt x="3096" y="101"/>
                  <a:pt x="3096" y="98"/>
                </a:cubicBezTo>
                <a:close/>
                <a:moveTo>
                  <a:pt x="3100" y="92"/>
                </a:moveTo>
                <a:cubicBezTo>
                  <a:pt x="3101" y="90"/>
                  <a:pt x="3103" y="88"/>
                  <a:pt x="3104" y="86"/>
                </a:cubicBezTo>
                <a:cubicBezTo>
                  <a:pt x="3105" y="88"/>
                  <a:pt x="3106" y="91"/>
                  <a:pt x="3107" y="93"/>
                </a:cubicBezTo>
                <a:cubicBezTo>
                  <a:pt x="3107" y="96"/>
                  <a:pt x="3107" y="99"/>
                  <a:pt x="3108" y="102"/>
                </a:cubicBezTo>
                <a:cubicBezTo>
                  <a:pt x="3107" y="104"/>
                  <a:pt x="3106" y="105"/>
                  <a:pt x="3104" y="106"/>
                </a:cubicBezTo>
                <a:cubicBezTo>
                  <a:pt x="3103" y="102"/>
                  <a:pt x="3102" y="97"/>
                  <a:pt x="3100" y="92"/>
                </a:cubicBezTo>
                <a:close/>
                <a:moveTo>
                  <a:pt x="3105" y="107"/>
                </a:moveTo>
                <a:cubicBezTo>
                  <a:pt x="3106" y="106"/>
                  <a:pt x="3107" y="104"/>
                  <a:pt x="3108" y="102"/>
                </a:cubicBezTo>
                <a:cubicBezTo>
                  <a:pt x="3110" y="118"/>
                  <a:pt x="3112" y="133"/>
                  <a:pt x="3114" y="149"/>
                </a:cubicBezTo>
                <a:cubicBezTo>
                  <a:pt x="3111" y="137"/>
                  <a:pt x="3108" y="122"/>
                  <a:pt x="3105" y="107"/>
                </a:cubicBezTo>
                <a:close/>
                <a:moveTo>
                  <a:pt x="3113" y="95"/>
                </a:moveTo>
                <a:cubicBezTo>
                  <a:pt x="3115" y="93"/>
                  <a:pt x="3116" y="91"/>
                  <a:pt x="3118" y="89"/>
                </a:cubicBezTo>
                <a:cubicBezTo>
                  <a:pt x="3124" y="103"/>
                  <a:pt x="3125" y="120"/>
                  <a:pt x="3125" y="136"/>
                </a:cubicBezTo>
                <a:cubicBezTo>
                  <a:pt x="3122" y="122"/>
                  <a:pt x="3118" y="109"/>
                  <a:pt x="3113" y="95"/>
                </a:cubicBezTo>
                <a:close/>
                <a:moveTo>
                  <a:pt x="3118" y="88"/>
                </a:moveTo>
                <a:cubicBezTo>
                  <a:pt x="3120" y="86"/>
                  <a:pt x="3121" y="85"/>
                  <a:pt x="3122" y="83"/>
                </a:cubicBezTo>
                <a:cubicBezTo>
                  <a:pt x="3123" y="90"/>
                  <a:pt x="3125" y="98"/>
                  <a:pt x="3126" y="105"/>
                </a:cubicBezTo>
                <a:cubicBezTo>
                  <a:pt x="3123" y="99"/>
                  <a:pt x="3121" y="93"/>
                  <a:pt x="3118" y="88"/>
                </a:cubicBezTo>
                <a:close/>
                <a:moveTo>
                  <a:pt x="3131" y="92"/>
                </a:moveTo>
                <a:cubicBezTo>
                  <a:pt x="3129" y="86"/>
                  <a:pt x="3128" y="80"/>
                  <a:pt x="3127" y="74"/>
                </a:cubicBezTo>
                <a:cubicBezTo>
                  <a:pt x="3129" y="71"/>
                  <a:pt x="3131" y="68"/>
                  <a:pt x="3132" y="65"/>
                </a:cubicBezTo>
                <a:cubicBezTo>
                  <a:pt x="3134" y="69"/>
                  <a:pt x="3137" y="72"/>
                  <a:pt x="3139" y="75"/>
                </a:cubicBezTo>
                <a:cubicBezTo>
                  <a:pt x="3139" y="77"/>
                  <a:pt x="3139" y="79"/>
                  <a:pt x="3139" y="81"/>
                </a:cubicBezTo>
                <a:cubicBezTo>
                  <a:pt x="3138" y="80"/>
                  <a:pt x="3138" y="80"/>
                  <a:pt x="3137" y="79"/>
                </a:cubicBezTo>
                <a:cubicBezTo>
                  <a:pt x="3138" y="80"/>
                  <a:pt x="3138" y="81"/>
                  <a:pt x="3139" y="81"/>
                </a:cubicBezTo>
                <a:cubicBezTo>
                  <a:pt x="3138" y="86"/>
                  <a:pt x="3138" y="90"/>
                  <a:pt x="3138" y="91"/>
                </a:cubicBezTo>
                <a:cubicBezTo>
                  <a:pt x="3138" y="95"/>
                  <a:pt x="3138" y="100"/>
                  <a:pt x="3139" y="104"/>
                </a:cubicBezTo>
                <a:cubicBezTo>
                  <a:pt x="3138" y="101"/>
                  <a:pt x="3138" y="99"/>
                  <a:pt x="3137" y="96"/>
                </a:cubicBezTo>
                <a:cubicBezTo>
                  <a:pt x="3138" y="100"/>
                  <a:pt x="3138" y="104"/>
                  <a:pt x="3139" y="108"/>
                </a:cubicBezTo>
                <a:cubicBezTo>
                  <a:pt x="3139" y="120"/>
                  <a:pt x="3140" y="132"/>
                  <a:pt x="3140" y="143"/>
                </a:cubicBezTo>
                <a:cubicBezTo>
                  <a:pt x="3138" y="126"/>
                  <a:pt x="3135" y="109"/>
                  <a:pt x="3131" y="92"/>
                </a:cubicBezTo>
                <a:close/>
                <a:moveTo>
                  <a:pt x="3154" y="125"/>
                </a:moveTo>
                <a:cubicBezTo>
                  <a:pt x="3151" y="116"/>
                  <a:pt x="3149" y="108"/>
                  <a:pt x="3146" y="99"/>
                </a:cubicBezTo>
                <a:cubicBezTo>
                  <a:pt x="3144" y="93"/>
                  <a:pt x="3143" y="87"/>
                  <a:pt x="3143" y="82"/>
                </a:cubicBezTo>
                <a:cubicBezTo>
                  <a:pt x="3148" y="91"/>
                  <a:pt x="3151" y="100"/>
                  <a:pt x="3154" y="109"/>
                </a:cubicBezTo>
                <a:cubicBezTo>
                  <a:pt x="3154" y="114"/>
                  <a:pt x="3154" y="120"/>
                  <a:pt x="3154" y="125"/>
                </a:cubicBezTo>
                <a:close/>
                <a:moveTo>
                  <a:pt x="3154" y="97"/>
                </a:moveTo>
                <a:cubicBezTo>
                  <a:pt x="3151" y="90"/>
                  <a:pt x="3147" y="83"/>
                  <a:pt x="3142" y="77"/>
                </a:cubicBezTo>
                <a:cubicBezTo>
                  <a:pt x="3142" y="72"/>
                  <a:pt x="3141" y="67"/>
                  <a:pt x="3142" y="63"/>
                </a:cubicBezTo>
                <a:cubicBezTo>
                  <a:pt x="3147" y="70"/>
                  <a:pt x="3151" y="77"/>
                  <a:pt x="3155" y="85"/>
                </a:cubicBezTo>
                <a:cubicBezTo>
                  <a:pt x="3155" y="89"/>
                  <a:pt x="3155" y="93"/>
                  <a:pt x="3154" y="97"/>
                </a:cubicBezTo>
                <a:close/>
                <a:moveTo>
                  <a:pt x="3164" y="119"/>
                </a:moveTo>
                <a:cubicBezTo>
                  <a:pt x="3163" y="110"/>
                  <a:pt x="3161" y="102"/>
                  <a:pt x="3159" y="93"/>
                </a:cubicBezTo>
                <a:cubicBezTo>
                  <a:pt x="3161" y="98"/>
                  <a:pt x="3164" y="104"/>
                  <a:pt x="3165" y="109"/>
                </a:cubicBezTo>
                <a:cubicBezTo>
                  <a:pt x="3166" y="112"/>
                  <a:pt x="3166" y="114"/>
                  <a:pt x="3167" y="116"/>
                </a:cubicBezTo>
                <a:cubicBezTo>
                  <a:pt x="3167" y="120"/>
                  <a:pt x="3167" y="124"/>
                  <a:pt x="3167" y="127"/>
                </a:cubicBezTo>
                <a:cubicBezTo>
                  <a:pt x="3166" y="125"/>
                  <a:pt x="3165" y="122"/>
                  <a:pt x="3164" y="119"/>
                </a:cubicBezTo>
                <a:close/>
                <a:moveTo>
                  <a:pt x="3175" y="151"/>
                </a:moveTo>
                <a:cubicBezTo>
                  <a:pt x="3175" y="151"/>
                  <a:pt x="3175" y="151"/>
                  <a:pt x="3175" y="151"/>
                </a:cubicBezTo>
                <a:cubicBezTo>
                  <a:pt x="3175" y="151"/>
                  <a:pt x="3175" y="150"/>
                  <a:pt x="3175" y="150"/>
                </a:cubicBezTo>
                <a:cubicBezTo>
                  <a:pt x="3175" y="150"/>
                  <a:pt x="3175" y="150"/>
                  <a:pt x="3175" y="150"/>
                </a:cubicBezTo>
                <a:cubicBezTo>
                  <a:pt x="3175" y="151"/>
                  <a:pt x="3175" y="151"/>
                  <a:pt x="3175" y="151"/>
                </a:cubicBezTo>
                <a:close/>
                <a:moveTo>
                  <a:pt x="3181" y="114"/>
                </a:moveTo>
                <a:cubicBezTo>
                  <a:pt x="3179" y="105"/>
                  <a:pt x="3176" y="96"/>
                  <a:pt x="3172" y="88"/>
                </a:cubicBezTo>
                <a:cubicBezTo>
                  <a:pt x="3176" y="97"/>
                  <a:pt x="3178" y="110"/>
                  <a:pt x="3180" y="122"/>
                </a:cubicBezTo>
                <a:cubicBezTo>
                  <a:pt x="3179" y="127"/>
                  <a:pt x="3178" y="132"/>
                  <a:pt x="3177" y="136"/>
                </a:cubicBezTo>
                <a:cubicBezTo>
                  <a:pt x="3176" y="134"/>
                  <a:pt x="3176" y="133"/>
                  <a:pt x="3175" y="131"/>
                </a:cubicBezTo>
                <a:cubicBezTo>
                  <a:pt x="3175" y="117"/>
                  <a:pt x="3174" y="102"/>
                  <a:pt x="3172" y="87"/>
                </a:cubicBezTo>
                <a:cubicBezTo>
                  <a:pt x="3172" y="87"/>
                  <a:pt x="3172" y="88"/>
                  <a:pt x="3172" y="88"/>
                </a:cubicBezTo>
                <a:cubicBezTo>
                  <a:pt x="3172" y="88"/>
                  <a:pt x="3172" y="87"/>
                  <a:pt x="3172" y="87"/>
                </a:cubicBezTo>
                <a:cubicBezTo>
                  <a:pt x="3171" y="82"/>
                  <a:pt x="3171" y="78"/>
                  <a:pt x="3170" y="73"/>
                </a:cubicBezTo>
                <a:cubicBezTo>
                  <a:pt x="3177" y="81"/>
                  <a:pt x="3181" y="91"/>
                  <a:pt x="3184" y="101"/>
                </a:cubicBezTo>
                <a:cubicBezTo>
                  <a:pt x="3183" y="105"/>
                  <a:pt x="3182" y="109"/>
                  <a:pt x="3181" y="114"/>
                </a:cubicBezTo>
                <a:close/>
                <a:moveTo>
                  <a:pt x="3188" y="139"/>
                </a:moveTo>
                <a:cubicBezTo>
                  <a:pt x="3187" y="137"/>
                  <a:pt x="3187" y="136"/>
                  <a:pt x="3187" y="135"/>
                </a:cubicBezTo>
                <a:cubicBezTo>
                  <a:pt x="3187" y="124"/>
                  <a:pt x="3183" y="112"/>
                  <a:pt x="3184" y="101"/>
                </a:cubicBezTo>
                <a:cubicBezTo>
                  <a:pt x="3187" y="110"/>
                  <a:pt x="3189" y="119"/>
                  <a:pt x="3190" y="128"/>
                </a:cubicBezTo>
                <a:cubicBezTo>
                  <a:pt x="3189" y="132"/>
                  <a:pt x="3188" y="135"/>
                  <a:pt x="3188" y="139"/>
                </a:cubicBezTo>
                <a:close/>
                <a:moveTo>
                  <a:pt x="3203" y="136"/>
                </a:moveTo>
                <a:cubicBezTo>
                  <a:pt x="3203" y="135"/>
                  <a:pt x="3202" y="134"/>
                  <a:pt x="3202" y="133"/>
                </a:cubicBezTo>
                <a:cubicBezTo>
                  <a:pt x="3201" y="131"/>
                  <a:pt x="3201" y="129"/>
                  <a:pt x="3200" y="128"/>
                </a:cubicBezTo>
                <a:cubicBezTo>
                  <a:pt x="3200" y="127"/>
                  <a:pt x="3200" y="127"/>
                  <a:pt x="3200" y="127"/>
                </a:cubicBezTo>
                <a:cubicBezTo>
                  <a:pt x="3201" y="129"/>
                  <a:pt x="3201" y="131"/>
                  <a:pt x="3202" y="133"/>
                </a:cubicBezTo>
                <a:cubicBezTo>
                  <a:pt x="3202" y="134"/>
                  <a:pt x="3203" y="135"/>
                  <a:pt x="3203" y="136"/>
                </a:cubicBezTo>
                <a:cubicBezTo>
                  <a:pt x="3203" y="136"/>
                  <a:pt x="3203" y="136"/>
                  <a:pt x="3203" y="136"/>
                </a:cubicBezTo>
                <a:close/>
                <a:moveTo>
                  <a:pt x="3204" y="133"/>
                </a:moveTo>
                <a:cubicBezTo>
                  <a:pt x="3203" y="129"/>
                  <a:pt x="3202" y="125"/>
                  <a:pt x="3200" y="120"/>
                </a:cubicBezTo>
                <a:cubicBezTo>
                  <a:pt x="3200" y="119"/>
                  <a:pt x="3200" y="117"/>
                  <a:pt x="3200" y="115"/>
                </a:cubicBezTo>
                <a:cubicBezTo>
                  <a:pt x="3200" y="112"/>
                  <a:pt x="3200" y="109"/>
                  <a:pt x="3201" y="105"/>
                </a:cubicBezTo>
                <a:cubicBezTo>
                  <a:pt x="3203" y="112"/>
                  <a:pt x="3204" y="119"/>
                  <a:pt x="3206" y="126"/>
                </a:cubicBezTo>
                <a:cubicBezTo>
                  <a:pt x="3205" y="128"/>
                  <a:pt x="3205" y="130"/>
                  <a:pt x="3204" y="133"/>
                </a:cubicBezTo>
                <a:close/>
                <a:moveTo>
                  <a:pt x="3218" y="139"/>
                </a:moveTo>
                <a:cubicBezTo>
                  <a:pt x="3218" y="139"/>
                  <a:pt x="3218" y="139"/>
                  <a:pt x="3218" y="139"/>
                </a:cubicBezTo>
                <a:cubicBezTo>
                  <a:pt x="3218" y="137"/>
                  <a:pt x="3218" y="135"/>
                  <a:pt x="3218" y="133"/>
                </a:cubicBezTo>
                <a:cubicBezTo>
                  <a:pt x="3218" y="134"/>
                  <a:pt x="3218" y="134"/>
                  <a:pt x="3218" y="135"/>
                </a:cubicBezTo>
                <a:cubicBezTo>
                  <a:pt x="3218" y="136"/>
                  <a:pt x="3218" y="138"/>
                  <a:pt x="3218" y="139"/>
                </a:cubicBezTo>
                <a:close/>
                <a:moveTo>
                  <a:pt x="3239" y="150"/>
                </a:moveTo>
                <a:cubicBezTo>
                  <a:pt x="3238" y="148"/>
                  <a:pt x="3237" y="147"/>
                  <a:pt x="3237" y="146"/>
                </a:cubicBezTo>
                <a:cubicBezTo>
                  <a:pt x="3236" y="131"/>
                  <a:pt x="3232" y="116"/>
                  <a:pt x="3230" y="101"/>
                </a:cubicBezTo>
                <a:cubicBezTo>
                  <a:pt x="3235" y="115"/>
                  <a:pt x="3237" y="132"/>
                  <a:pt x="3239" y="146"/>
                </a:cubicBezTo>
                <a:cubicBezTo>
                  <a:pt x="3239" y="147"/>
                  <a:pt x="3239" y="148"/>
                  <a:pt x="3239" y="150"/>
                </a:cubicBezTo>
                <a:close/>
                <a:moveTo>
                  <a:pt x="3243" y="143"/>
                </a:moveTo>
                <a:cubicBezTo>
                  <a:pt x="3243" y="142"/>
                  <a:pt x="3243" y="141"/>
                  <a:pt x="3243" y="140"/>
                </a:cubicBezTo>
                <a:cubicBezTo>
                  <a:pt x="3243" y="139"/>
                  <a:pt x="3243" y="139"/>
                  <a:pt x="3243" y="139"/>
                </a:cubicBezTo>
                <a:cubicBezTo>
                  <a:pt x="3243" y="140"/>
                  <a:pt x="3243" y="141"/>
                  <a:pt x="3243" y="142"/>
                </a:cubicBezTo>
                <a:cubicBezTo>
                  <a:pt x="3243" y="142"/>
                  <a:pt x="3243" y="143"/>
                  <a:pt x="3243" y="143"/>
                </a:cubicBezTo>
                <a:close/>
                <a:moveTo>
                  <a:pt x="3256" y="139"/>
                </a:moveTo>
                <a:cubicBezTo>
                  <a:pt x="3255" y="142"/>
                  <a:pt x="3254" y="145"/>
                  <a:pt x="3253" y="147"/>
                </a:cubicBezTo>
                <a:cubicBezTo>
                  <a:pt x="3253" y="146"/>
                  <a:pt x="3252" y="145"/>
                  <a:pt x="3252" y="144"/>
                </a:cubicBezTo>
                <a:cubicBezTo>
                  <a:pt x="3254" y="132"/>
                  <a:pt x="3254" y="120"/>
                  <a:pt x="3256" y="108"/>
                </a:cubicBezTo>
                <a:cubicBezTo>
                  <a:pt x="3257" y="104"/>
                  <a:pt x="3257" y="100"/>
                  <a:pt x="3259" y="97"/>
                </a:cubicBezTo>
                <a:cubicBezTo>
                  <a:pt x="3260" y="100"/>
                  <a:pt x="3261" y="103"/>
                  <a:pt x="3262" y="107"/>
                </a:cubicBezTo>
                <a:cubicBezTo>
                  <a:pt x="3261" y="112"/>
                  <a:pt x="3261" y="117"/>
                  <a:pt x="3260" y="122"/>
                </a:cubicBezTo>
                <a:cubicBezTo>
                  <a:pt x="3258" y="116"/>
                  <a:pt x="3257" y="111"/>
                  <a:pt x="3256" y="108"/>
                </a:cubicBezTo>
                <a:cubicBezTo>
                  <a:pt x="3258" y="116"/>
                  <a:pt x="3257" y="128"/>
                  <a:pt x="3256" y="139"/>
                </a:cubicBezTo>
                <a:close/>
                <a:moveTo>
                  <a:pt x="3264" y="134"/>
                </a:moveTo>
                <a:cubicBezTo>
                  <a:pt x="3263" y="132"/>
                  <a:pt x="3262" y="130"/>
                  <a:pt x="3262" y="128"/>
                </a:cubicBezTo>
                <a:cubicBezTo>
                  <a:pt x="3262" y="121"/>
                  <a:pt x="3262" y="114"/>
                  <a:pt x="3262" y="107"/>
                </a:cubicBezTo>
                <a:cubicBezTo>
                  <a:pt x="3264" y="113"/>
                  <a:pt x="3265" y="118"/>
                  <a:pt x="3266" y="124"/>
                </a:cubicBezTo>
                <a:cubicBezTo>
                  <a:pt x="3265" y="128"/>
                  <a:pt x="3264" y="131"/>
                  <a:pt x="3264" y="134"/>
                </a:cubicBezTo>
                <a:close/>
                <a:moveTo>
                  <a:pt x="3268" y="118"/>
                </a:moveTo>
                <a:cubicBezTo>
                  <a:pt x="3266" y="114"/>
                  <a:pt x="3264" y="109"/>
                  <a:pt x="3262" y="105"/>
                </a:cubicBezTo>
                <a:cubicBezTo>
                  <a:pt x="3263" y="102"/>
                  <a:pt x="3263" y="99"/>
                  <a:pt x="3264" y="96"/>
                </a:cubicBezTo>
                <a:cubicBezTo>
                  <a:pt x="3263" y="99"/>
                  <a:pt x="3263" y="102"/>
                  <a:pt x="3262" y="105"/>
                </a:cubicBezTo>
                <a:cubicBezTo>
                  <a:pt x="3261" y="102"/>
                  <a:pt x="3260" y="99"/>
                  <a:pt x="3259" y="96"/>
                </a:cubicBezTo>
                <a:cubicBezTo>
                  <a:pt x="3259" y="94"/>
                  <a:pt x="3260" y="91"/>
                  <a:pt x="3261" y="89"/>
                </a:cubicBezTo>
                <a:cubicBezTo>
                  <a:pt x="3265" y="95"/>
                  <a:pt x="3268" y="102"/>
                  <a:pt x="3270" y="109"/>
                </a:cubicBezTo>
                <a:cubicBezTo>
                  <a:pt x="3270" y="112"/>
                  <a:pt x="3269" y="115"/>
                  <a:pt x="3268" y="118"/>
                </a:cubicBezTo>
                <a:close/>
                <a:moveTo>
                  <a:pt x="3271" y="151"/>
                </a:moveTo>
                <a:cubicBezTo>
                  <a:pt x="3271" y="151"/>
                  <a:pt x="3271" y="151"/>
                  <a:pt x="3270" y="151"/>
                </a:cubicBezTo>
                <a:cubicBezTo>
                  <a:pt x="3271" y="150"/>
                  <a:pt x="3271" y="148"/>
                  <a:pt x="3271" y="147"/>
                </a:cubicBezTo>
                <a:cubicBezTo>
                  <a:pt x="3271" y="147"/>
                  <a:pt x="3271" y="148"/>
                  <a:pt x="3271" y="148"/>
                </a:cubicBezTo>
                <a:cubicBezTo>
                  <a:pt x="3271" y="149"/>
                  <a:pt x="3271" y="150"/>
                  <a:pt x="3271" y="151"/>
                </a:cubicBezTo>
                <a:close/>
                <a:moveTo>
                  <a:pt x="3275" y="136"/>
                </a:moveTo>
                <a:cubicBezTo>
                  <a:pt x="3274" y="134"/>
                  <a:pt x="3273" y="132"/>
                  <a:pt x="3273" y="130"/>
                </a:cubicBezTo>
                <a:cubicBezTo>
                  <a:pt x="3273" y="127"/>
                  <a:pt x="3273" y="123"/>
                  <a:pt x="3274" y="120"/>
                </a:cubicBezTo>
                <a:cubicBezTo>
                  <a:pt x="3275" y="123"/>
                  <a:pt x="3276" y="127"/>
                  <a:pt x="3276" y="130"/>
                </a:cubicBezTo>
                <a:cubicBezTo>
                  <a:pt x="3276" y="132"/>
                  <a:pt x="3275" y="134"/>
                  <a:pt x="3275" y="136"/>
                </a:cubicBezTo>
                <a:close/>
                <a:moveTo>
                  <a:pt x="3281" y="150"/>
                </a:moveTo>
                <a:cubicBezTo>
                  <a:pt x="3281" y="149"/>
                  <a:pt x="3280" y="147"/>
                  <a:pt x="3279" y="146"/>
                </a:cubicBezTo>
                <a:cubicBezTo>
                  <a:pt x="3280" y="145"/>
                  <a:pt x="3280" y="145"/>
                  <a:pt x="3280" y="144"/>
                </a:cubicBezTo>
                <a:cubicBezTo>
                  <a:pt x="3281" y="146"/>
                  <a:pt x="3281" y="147"/>
                  <a:pt x="3282" y="149"/>
                </a:cubicBezTo>
                <a:cubicBezTo>
                  <a:pt x="3281" y="149"/>
                  <a:pt x="3281" y="149"/>
                  <a:pt x="3281" y="150"/>
                </a:cubicBezTo>
                <a:close/>
                <a:moveTo>
                  <a:pt x="3279" y="122"/>
                </a:moveTo>
                <a:cubicBezTo>
                  <a:pt x="3278" y="118"/>
                  <a:pt x="3276" y="115"/>
                  <a:pt x="3275" y="111"/>
                </a:cubicBezTo>
                <a:cubicBezTo>
                  <a:pt x="3276" y="101"/>
                  <a:pt x="3278" y="90"/>
                  <a:pt x="3282" y="81"/>
                </a:cubicBezTo>
                <a:cubicBezTo>
                  <a:pt x="3285" y="86"/>
                  <a:pt x="3288" y="91"/>
                  <a:pt x="3290" y="97"/>
                </a:cubicBezTo>
                <a:cubicBezTo>
                  <a:pt x="3288" y="101"/>
                  <a:pt x="3286" y="105"/>
                  <a:pt x="3284" y="109"/>
                </a:cubicBezTo>
                <a:cubicBezTo>
                  <a:pt x="3282" y="102"/>
                  <a:pt x="3281" y="96"/>
                  <a:pt x="3279" y="91"/>
                </a:cubicBezTo>
                <a:cubicBezTo>
                  <a:pt x="3280" y="99"/>
                  <a:pt x="3281" y="106"/>
                  <a:pt x="3282" y="114"/>
                </a:cubicBezTo>
                <a:cubicBezTo>
                  <a:pt x="3281" y="117"/>
                  <a:pt x="3280" y="119"/>
                  <a:pt x="3279" y="122"/>
                </a:cubicBezTo>
                <a:close/>
                <a:moveTo>
                  <a:pt x="3286" y="141"/>
                </a:moveTo>
                <a:cubicBezTo>
                  <a:pt x="3285" y="138"/>
                  <a:pt x="3284" y="135"/>
                  <a:pt x="3283" y="131"/>
                </a:cubicBezTo>
                <a:cubicBezTo>
                  <a:pt x="3283" y="129"/>
                  <a:pt x="3284" y="127"/>
                  <a:pt x="3284" y="124"/>
                </a:cubicBezTo>
                <a:cubicBezTo>
                  <a:pt x="3285" y="130"/>
                  <a:pt x="3286" y="135"/>
                  <a:pt x="3287" y="140"/>
                </a:cubicBezTo>
                <a:cubicBezTo>
                  <a:pt x="3287" y="140"/>
                  <a:pt x="3287" y="141"/>
                  <a:pt x="3286" y="141"/>
                </a:cubicBezTo>
                <a:close/>
                <a:moveTo>
                  <a:pt x="3289" y="150"/>
                </a:moveTo>
                <a:cubicBezTo>
                  <a:pt x="3289" y="150"/>
                  <a:pt x="3289" y="149"/>
                  <a:pt x="3289" y="149"/>
                </a:cubicBezTo>
                <a:cubicBezTo>
                  <a:pt x="3289" y="149"/>
                  <a:pt x="3289" y="149"/>
                  <a:pt x="3289" y="149"/>
                </a:cubicBezTo>
                <a:cubicBezTo>
                  <a:pt x="3289" y="149"/>
                  <a:pt x="3289" y="150"/>
                  <a:pt x="3289" y="150"/>
                </a:cubicBezTo>
                <a:cubicBezTo>
                  <a:pt x="3289" y="150"/>
                  <a:pt x="3289" y="150"/>
                  <a:pt x="3289" y="150"/>
                </a:cubicBezTo>
                <a:close/>
                <a:moveTo>
                  <a:pt x="3286" y="114"/>
                </a:moveTo>
                <a:cubicBezTo>
                  <a:pt x="3287" y="108"/>
                  <a:pt x="3288" y="103"/>
                  <a:pt x="3290" y="97"/>
                </a:cubicBezTo>
                <a:cubicBezTo>
                  <a:pt x="3292" y="103"/>
                  <a:pt x="3294" y="110"/>
                  <a:pt x="3296" y="116"/>
                </a:cubicBezTo>
                <a:cubicBezTo>
                  <a:pt x="3294" y="121"/>
                  <a:pt x="3293" y="126"/>
                  <a:pt x="3291" y="131"/>
                </a:cubicBezTo>
                <a:cubicBezTo>
                  <a:pt x="3289" y="126"/>
                  <a:pt x="3287" y="120"/>
                  <a:pt x="3286" y="114"/>
                </a:cubicBezTo>
                <a:close/>
                <a:moveTo>
                  <a:pt x="3293" y="139"/>
                </a:moveTo>
                <a:cubicBezTo>
                  <a:pt x="3295" y="134"/>
                  <a:pt x="3296" y="129"/>
                  <a:pt x="3297" y="124"/>
                </a:cubicBezTo>
                <a:cubicBezTo>
                  <a:pt x="3298" y="125"/>
                  <a:pt x="3298" y="126"/>
                  <a:pt x="3298" y="128"/>
                </a:cubicBezTo>
                <a:cubicBezTo>
                  <a:pt x="3297" y="132"/>
                  <a:pt x="3295" y="136"/>
                  <a:pt x="3294" y="141"/>
                </a:cubicBezTo>
                <a:cubicBezTo>
                  <a:pt x="3294" y="140"/>
                  <a:pt x="3293" y="139"/>
                  <a:pt x="3293" y="139"/>
                </a:cubicBezTo>
                <a:close/>
                <a:moveTo>
                  <a:pt x="3298" y="150"/>
                </a:moveTo>
                <a:cubicBezTo>
                  <a:pt x="3298" y="150"/>
                  <a:pt x="3297" y="149"/>
                  <a:pt x="3297" y="149"/>
                </a:cubicBezTo>
                <a:cubicBezTo>
                  <a:pt x="3298" y="147"/>
                  <a:pt x="3299" y="144"/>
                  <a:pt x="3300" y="141"/>
                </a:cubicBezTo>
                <a:cubicBezTo>
                  <a:pt x="3300" y="143"/>
                  <a:pt x="3301" y="144"/>
                  <a:pt x="3301" y="145"/>
                </a:cubicBezTo>
                <a:cubicBezTo>
                  <a:pt x="3300" y="147"/>
                  <a:pt x="3299" y="149"/>
                  <a:pt x="3298" y="150"/>
                </a:cubicBezTo>
                <a:close/>
                <a:moveTo>
                  <a:pt x="3309" y="126"/>
                </a:moveTo>
                <a:cubicBezTo>
                  <a:pt x="3308" y="123"/>
                  <a:pt x="3307" y="120"/>
                  <a:pt x="3306" y="117"/>
                </a:cubicBezTo>
                <a:cubicBezTo>
                  <a:pt x="3307" y="116"/>
                  <a:pt x="3307" y="115"/>
                  <a:pt x="3307" y="114"/>
                </a:cubicBezTo>
                <a:cubicBezTo>
                  <a:pt x="3307" y="116"/>
                  <a:pt x="3308" y="117"/>
                  <a:pt x="3308" y="119"/>
                </a:cubicBezTo>
                <a:cubicBezTo>
                  <a:pt x="3309" y="121"/>
                  <a:pt x="3309" y="123"/>
                  <a:pt x="3310" y="125"/>
                </a:cubicBezTo>
                <a:cubicBezTo>
                  <a:pt x="3309" y="125"/>
                  <a:pt x="3309" y="125"/>
                  <a:pt x="3309" y="126"/>
                </a:cubicBezTo>
                <a:close/>
                <a:moveTo>
                  <a:pt x="3314" y="142"/>
                </a:moveTo>
                <a:cubicBezTo>
                  <a:pt x="3313" y="139"/>
                  <a:pt x="3313" y="136"/>
                  <a:pt x="3312" y="133"/>
                </a:cubicBezTo>
                <a:cubicBezTo>
                  <a:pt x="3312" y="133"/>
                  <a:pt x="3312" y="133"/>
                  <a:pt x="3312" y="133"/>
                </a:cubicBezTo>
                <a:cubicBezTo>
                  <a:pt x="3313" y="136"/>
                  <a:pt x="3313" y="138"/>
                  <a:pt x="3314" y="141"/>
                </a:cubicBezTo>
                <a:cubicBezTo>
                  <a:pt x="3314" y="141"/>
                  <a:pt x="3314" y="141"/>
                  <a:pt x="3314" y="142"/>
                </a:cubicBezTo>
                <a:close/>
                <a:moveTo>
                  <a:pt x="3316" y="148"/>
                </a:moveTo>
                <a:cubicBezTo>
                  <a:pt x="3316" y="148"/>
                  <a:pt x="3316" y="148"/>
                  <a:pt x="3316" y="148"/>
                </a:cubicBezTo>
                <a:cubicBezTo>
                  <a:pt x="3316" y="148"/>
                  <a:pt x="3316" y="148"/>
                  <a:pt x="3316" y="148"/>
                </a:cubicBezTo>
                <a:cubicBezTo>
                  <a:pt x="3316" y="148"/>
                  <a:pt x="3316" y="148"/>
                  <a:pt x="3316" y="148"/>
                </a:cubicBezTo>
                <a:cubicBezTo>
                  <a:pt x="3316" y="148"/>
                  <a:pt x="3316" y="148"/>
                  <a:pt x="3316" y="148"/>
                </a:cubicBezTo>
                <a:close/>
                <a:moveTo>
                  <a:pt x="3319" y="141"/>
                </a:moveTo>
                <a:cubicBezTo>
                  <a:pt x="3319" y="141"/>
                  <a:pt x="3319" y="141"/>
                  <a:pt x="3319" y="141"/>
                </a:cubicBezTo>
                <a:cubicBezTo>
                  <a:pt x="3320" y="137"/>
                  <a:pt x="3321" y="133"/>
                  <a:pt x="3323" y="129"/>
                </a:cubicBezTo>
                <a:cubicBezTo>
                  <a:pt x="3323" y="129"/>
                  <a:pt x="3323" y="130"/>
                  <a:pt x="3323" y="131"/>
                </a:cubicBezTo>
                <a:cubicBezTo>
                  <a:pt x="3321" y="135"/>
                  <a:pt x="3320" y="138"/>
                  <a:pt x="3319" y="141"/>
                </a:cubicBezTo>
                <a:close/>
                <a:moveTo>
                  <a:pt x="3326" y="122"/>
                </a:moveTo>
                <a:cubicBezTo>
                  <a:pt x="3326" y="121"/>
                  <a:pt x="3325" y="120"/>
                  <a:pt x="3325" y="119"/>
                </a:cubicBezTo>
                <a:cubicBezTo>
                  <a:pt x="3326" y="117"/>
                  <a:pt x="3326" y="114"/>
                  <a:pt x="3327" y="111"/>
                </a:cubicBezTo>
                <a:cubicBezTo>
                  <a:pt x="3328" y="113"/>
                  <a:pt x="3328" y="115"/>
                  <a:pt x="3329" y="117"/>
                </a:cubicBezTo>
                <a:cubicBezTo>
                  <a:pt x="3328" y="119"/>
                  <a:pt x="3327" y="121"/>
                  <a:pt x="3326" y="122"/>
                </a:cubicBezTo>
                <a:close/>
                <a:moveTo>
                  <a:pt x="3336" y="147"/>
                </a:moveTo>
                <a:cubicBezTo>
                  <a:pt x="3335" y="145"/>
                  <a:pt x="3335" y="144"/>
                  <a:pt x="3334" y="142"/>
                </a:cubicBezTo>
                <a:cubicBezTo>
                  <a:pt x="3334" y="140"/>
                  <a:pt x="3333" y="138"/>
                  <a:pt x="3332" y="136"/>
                </a:cubicBezTo>
                <a:cubicBezTo>
                  <a:pt x="3332" y="136"/>
                  <a:pt x="3332" y="135"/>
                  <a:pt x="3332" y="134"/>
                </a:cubicBezTo>
                <a:cubicBezTo>
                  <a:pt x="3333" y="137"/>
                  <a:pt x="3334" y="139"/>
                  <a:pt x="3334" y="142"/>
                </a:cubicBezTo>
                <a:cubicBezTo>
                  <a:pt x="3335" y="144"/>
                  <a:pt x="3335" y="145"/>
                  <a:pt x="3336" y="147"/>
                </a:cubicBezTo>
                <a:close/>
                <a:moveTo>
                  <a:pt x="3339" y="138"/>
                </a:moveTo>
                <a:cubicBezTo>
                  <a:pt x="3337" y="133"/>
                  <a:pt x="3336" y="128"/>
                  <a:pt x="3334" y="124"/>
                </a:cubicBezTo>
                <a:cubicBezTo>
                  <a:pt x="3334" y="121"/>
                  <a:pt x="3335" y="118"/>
                  <a:pt x="3335" y="116"/>
                </a:cubicBezTo>
                <a:cubicBezTo>
                  <a:pt x="3336" y="123"/>
                  <a:pt x="3338" y="129"/>
                  <a:pt x="3340" y="136"/>
                </a:cubicBezTo>
                <a:cubicBezTo>
                  <a:pt x="3340" y="137"/>
                  <a:pt x="3339" y="137"/>
                  <a:pt x="3339" y="138"/>
                </a:cubicBezTo>
                <a:close/>
                <a:moveTo>
                  <a:pt x="3336" y="109"/>
                </a:moveTo>
                <a:cubicBezTo>
                  <a:pt x="3337" y="103"/>
                  <a:pt x="3339" y="97"/>
                  <a:pt x="3341" y="91"/>
                </a:cubicBezTo>
                <a:cubicBezTo>
                  <a:pt x="3343" y="96"/>
                  <a:pt x="3345" y="101"/>
                  <a:pt x="3347" y="106"/>
                </a:cubicBezTo>
                <a:cubicBezTo>
                  <a:pt x="3345" y="112"/>
                  <a:pt x="3344" y="120"/>
                  <a:pt x="3342" y="127"/>
                </a:cubicBezTo>
                <a:cubicBezTo>
                  <a:pt x="3340" y="121"/>
                  <a:pt x="3338" y="115"/>
                  <a:pt x="3336" y="109"/>
                </a:cubicBezTo>
                <a:close/>
                <a:moveTo>
                  <a:pt x="3343" y="148"/>
                </a:moveTo>
                <a:cubicBezTo>
                  <a:pt x="3343" y="147"/>
                  <a:pt x="3343" y="147"/>
                  <a:pt x="3343" y="147"/>
                </a:cubicBezTo>
                <a:cubicBezTo>
                  <a:pt x="3343" y="147"/>
                  <a:pt x="3343" y="147"/>
                  <a:pt x="3343" y="147"/>
                </a:cubicBezTo>
                <a:cubicBezTo>
                  <a:pt x="3343" y="147"/>
                  <a:pt x="3343" y="147"/>
                  <a:pt x="3343" y="147"/>
                </a:cubicBezTo>
                <a:cubicBezTo>
                  <a:pt x="3343" y="147"/>
                  <a:pt x="3343" y="148"/>
                  <a:pt x="3343" y="148"/>
                </a:cubicBezTo>
                <a:close/>
                <a:moveTo>
                  <a:pt x="3345" y="136"/>
                </a:moveTo>
                <a:cubicBezTo>
                  <a:pt x="3347" y="127"/>
                  <a:pt x="3347" y="118"/>
                  <a:pt x="3347" y="109"/>
                </a:cubicBezTo>
                <a:cubicBezTo>
                  <a:pt x="3349" y="115"/>
                  <a:pt x="3350" y="121"/>
                  <a:pt x="3351" y="127"/>
                </a:cubicBezTo>
                <a:cubicBezTo>
                  <a:pt x="3349" y="131"/>
                  <a:pt x="3348" y="135"/>
                  <a:pt x="3347" y="139"/>
                </a:cubicBezTo>
                <a:cubicBezTo>
                  <a:pt x="3346" y="138"/>
                  <a:pt x="3346" y="137"/>
                  <a:pt x="3345" y="136"/>
                </a:cubicBezTo>
                <a:close/>
                <a:moveTo>
                  <a:pt x="3352" y="148"/>
                </a:moveTo>
                <a:cubicBezTo>
                  <a:pt x="3351" y="148"/>
                  <a:pt x="3351" y="147"/>
                  <a:pt x="3350" y="146"/>
                </a:cubicBezTo>
                <a:cubicBezTo>
                  <a:pt x="3351" y="143"/>
                  <a:pt x="3352" y="140"/>
                  <a:pt x="3352" y="137"/>
                </a:cubicBezTo>
                <a:cubicBezTo>
                  <a:pt x="3353" y="140"/>
                  <a:pt x="3353" y="142"/>
                  <a:pt x="3354" y="144"/>
                </a:cubicBezTo>
                <a:cubicBezTo>
                  <a:pt x="3353" y="146"/>
                  <a:pt x="3352" y="147"/>
                  <a:pt x="3352" y="148"/>
                </a:cubicBezTo>
                <a:close/>
                <a:moveTo>
                  <a:pt x="3347" y="103"/>
                </a:moveTo>
                <a:cubicBezTo>
                  <a:pt x="3347" y="102"/>
                  <a:pt x="3347" y="102"/>
                  <a:pt x="3347" y="102"/>
                </a:cubicBezTo>
                <a:cubicBezTo>
                  <a:pt x="3347" y="102"/>
                  <a:pt x="3347" y="103"/>
                  <a:pt x="3347" y="103"/>
                </a:cubicBezTo>
                <a:cubicBezTo>
                  <a:pt x="3345" y="98"/>
                  <a:pt x="3343" y="94"/>
                  <a:pt x="3341" y="91"/>
                </a:cubicBezTo>
                <a:cubicBezTo>
                  <a:pt x="3342" y="87"/>
                  <a:pt x="3344" y="83"/>
                  <a:pt x="3346" y="80"/>
                </a:cubicBezTo>
                <a:cubicBezTo>
                  <a:pt x="3352" y="89"/>
                  <a:pt x="3356" y="99"/>
                  <a:pt x="3358" y="109"/>
                </a:cubicBezTo>
                <a:cubicBezTo>
                  <a:pt x="3357" y="112"/>
                  <a:pt x="3355" y="116"/>
                  <a:pt x="3354" y="119"/>
                </a:cubicBezTo>
                <a:cubicBezTo>
                  <a:pt x="3352" y="114"/>
                  <a:pt x="3350" y="108"/>
                  <a:pt x="3347" y="103"/>
                </a:cubicBezTo>
                <a:close/>
                <a:moveTo>
                  <a:pt x="3355" y="123"/>
                </a:moveTo>
                <a:cubicBezTo>
                  <a:pt x="3356" y="118"/>
                  <a:pt x="3357" y="114"/>
                  <a:pt x="3358" y="110"/>
                </a:cubicBezTo>
                <a:cubicBezTo>
                  <a:pt x="3359" y="115"/>
                  <a:pt x="3360" y="120"/>
                  <a:pt x="3361" y="125"/>
                </a:cubicBezTo>
                <a:cubicBezTo>
                  <a:pt x="3360" y="128"/>
                  <a:pt x="3359" y="130"/>
                  <a:pt x="3358" y="133"/>
                </a:cubicBezTo>
                <a:cubicBezTo>
                  <a:pt x="3357" y="129"/>
                  <a:pt x="3356" y="126"/>
                  <a:pt x="3355" y="123"/>
                </a:cubicBezTo>
                <a:close/>
                <a:moveTo>
                  <a:pt x="3362" y="150"/>
                </a:moveTo>
                <a:cubicBezTo>
                  <a:pt x="3362" y="147"/>
                  <a:pt x="3361" y="144"/>
                  <a:pt x="3360" y="140"/>
                </a:cubicBezTo>
                <a:cubicBezTo>
                  <a:pt x="3361" y="137"/>
                  <a:pt x="3361" y="135"/>
                  <a:pt x="3361" y="132"/>
                </a:cubicBezTo>
                <a:cubicBezTo>
                  <a:pt x="3362" y="137"/>
                  <a:pt x="3362" y="143"/>
                  <a:pt x="3362" y="149"/>
                </a:cubicBezTo>
                <a:cubicBezTo>
                  <a:pt x="3362" y="150"/>
                  <a:pt x="3362" y="150"/>
                  <a:pt x="3362" y="150"/>
                </a:cubicBezTo>
                <a:close/>
                <a:moveTo>
                  <a:pt x="3391" y="152"/>
                </a:moveTo>
                <a:cubicBezTo>
                  <a:pt x="3391" y="148"/>
                  <a:pt x="3391" y="145"/>
                  <a:pt x="3390" y="141"/>
                </a:cubicBezTo>
                <a:cubicBezTo>
                  <a:pt x="3390" y="136"/>
                  <a:pt x="3391" y="131"/>
                  <a:pt x="3391" y="125"/>
                </a:cubicBezTo>
                <a:cubicBezTo>
                  <a:pt x="3391" y="134"/>
                  <a:pt x="3391" y="142"/>
                  <a:pt x="3391" y="151"/>
                </a:cubicBezTo>
                <a:cubicBezTo>
                  <a:pt x="3391" y="151"/>
                  <a:pt x="3391" y="151"/>
                  <a:pt x="3391" y="152"/>
                </a:cubicBezTo>
                <a:close/>
                <a:moveTo>
                  <a:pt x="3457" y="128"/>
                </a:moveTo>
                <a:cubicBezTo>
                  <a:pt x="3457" y="132"/>
                  <a:pt x="3456" y="136"/>
                  <a:pt x="3455" y="140"/>
                </a:cubicBezTo>
                <a:cubicBezTo>
                  <a:pt x="3455" y="136"/>
                  <a:pt x="3454" y="133"/>
                  <a:pt x="3453" y="129"/>
                </a:cubicBezTo>
                <a:cubicBezTo>
                  <a:pt x="3453" y="126"/>
                  <a:pt x="3453" y="122"/>
                  <a:pt x="3453" y="119"/>
                </a:cubicBezTo>
                <a:cubicBezTo>
                  <a:pt x="3453" y="112"/>
                  <a:pt x="3454" y="104"/>
                  <a:pt x="3455" y="97"/>
                </a:cubicBezTo>
                <a:cubicBezTo>
                  <a:pt x="3456" y="102"/>
                  <a:pt x="3457" y="107"/>
                  <a:pt x="3457" y="111"/>
                </a:cubicBezTo>
                <a:cubicBezTo>
                  <a:pt x="3457" y="122"/>
                  <a:pt x="3457" y="122"/>
                  <a:pt x="3457" y="122"/>
                </a:cubicBezTo>
                <a:cubicBezTo>
                  <a:pt x="3457" y="124"/>
                  <a:pt x="3457" y="126"/>
                  <a:pt x="3457" y="128"/>
                </a:cubicBezTo>
                <a:close/>
                <a:moveTo>
                  <a:pt x="3465" y="151"/>
                </a:moveTo>
                <a:cubicBezTo>
                  <a:pt x="3465" y="152"/>
                  <a:pt x="3465" y="152"/>
                  <a:pt x="3465" y="152"/>
                </a:cubicBezTo>
                <a:cubicBezTo>
                  <a:pt x="3465" y="152"/>
                  <a:pt x="3465" y="152"/>
                  <a:pt x="3465" y="152"/>
                </a:cubicBezTo>
                <a:cubicBezTo>
                  <a:pt x="3465" y="136"/>
                  <a:pt x="3465" y="123"/>
                  <a:pt x="3464" y="109"/>
                </a:cubicBezTo>
                <a:cubicBezTo>
                  <a:pt x="3464" y="104"/>
                  <a:pt x="3465" y="99"/>
                  <a:pt x="3466" y="93"/>
                </a:cubicBezTo>
                <a:cubicBezTo>
                  <a:pt x="3467" y="99"/>
                  <a:pt x="3467" y="105"/>
                  <a:pt x="3467" y="110"/>
                </a:cubicBezTo>
                <a:cubicBezTo>
                  <a:pt x="3467" y="124"/>
                  <a:pt x="3465" y="138"/>
                  <a:pt x="3465" y="151"/>
                </a:cubicBezTo>
                <a:close/>
                <a:moveTo>
                  <a:pt x="3492" y="110"/>
                </a:moveTo>
                <a:cubicBezTo>
                  <a:pt x="3492" y="109"/>
                  <a:pt x="3492" y="107"/>
                  <a:pt x="3492" y="106"/>
                </a:cubicBezTo>
                <a:cubicBezTo>
                  <a:pt x="3492" y="110"/>
                  <a:pt x="3493" y="113"/>
                  <a:pt x="3492" y="116"/>
                </a:cubicBezTo>
                <a:cubicBezTo>
                  <a:pt x="3492" y="114"/>
                  <a:pt x="3492" y="112"/>
                  <a:pt x="3492" y="110"/>
                </a:cubicBezTo>
                <a:close/>
                <a:moveTo>
                  <a:pt x="3518" y="120"/>
                </a:moveTo>
                <a:cubicBezTo>
                  <a:pt x="3516" y="114"/>
                  <a:pt x="3515" y="109"/>
                  <a:pt x="3515" y="104"/>
                </a:cubicBezTo>
                <a:cubicBezTo>
                  <a:pt x="3515" y="102"/>
                  <a:pt x="3515" y="98"/>
                  <a:pt x="3517" y="93"/>
                </a:cubicBezTo>
                <a:cubicBezTo>
                  <a:pt x="3518" y="100"/>
                  <a:pt x="3518" y="107"/>
                  <a:pt x="3518" y="112"/>
                </a:cubicBezTo>
                <a:cubicBezTo>
                  <a:pt x="3518" y="115"/>
                  <a:pt x="3518" y="117"/>
                  <a:pt x="3518" y="120"/>
                </a:cubicBezTo>
                <a:close/>
                <a:moveTo>
                  <a:pt x="3528" y="145"/>
                </a:moveTo>
                <a:cubicBezTo>
                  <a:pt x="3528" y="145"/>
                  <a:pt x="3528" y="144"/>
                  <a:pt x="3528" y="144"/>
                </a:cubicBezTo>
                <a:cubicBezTo>
                  <a:pt x="3528" y="139"/>
                  <a:pt x="3528" y="134"/>
                  <a:pt x="3528" y="129"/>
                </a:cubicBezTo>
                <a:cubicBezTo>
                  <a:pt x="3529" y="132"/>
                  <a:pt x="3529" y="134"/>
                  <a:pt x="3529" y="137"/>
                </a:cubicBezTo>
                <a:cubicBezTo>
                  <a:pt x="3529" y="140"/>
                  <a:pt x="3528" y="142"/>
                  <a:pt x="3528" y="145"/>
                </a:cubicBezTo>
                <a:close/>
                <a:moveTo>
                  <a:pt x="3539" y="145"/>
                </a:moveTo>
                <a:cubicBezTo>
                  <a:pt x="3539" y="144"/>
                  <a:pt x="3538" y="143"/>
                  <a:pt x="3538" y="143"/>
                </a:cubicBezTo>
                <a:cubicBezTo>
                  <a:pt x="3538" y="142"/>
                  <a:pt x="3538" y="141"/>
                  <a:pt x="3538" y="140"/>
                </a:cubicBezTo>
                <a:cubicBezTo>
                  <a:pt x="3539" y="141"/>
                  <a:pt x="3539" y="142"/>
                  <a:pt x="3539" y="143"/>
                </a:cubicBezTo>
                <a:cubicBezTo>
                  <a:pt x="3539" y="143"/>
                  <a:pt x="3539" y="144"/>
                  <a:pt x="3539" y="145"/>
                </a:cubicBezTo>
                <a:close/>
                <a:moveTo>
                  <a:pt x="3540" y="138"/>
                </a:moveTo>
                <a:cubicBezTo>
                  <a:pt x="3540" y="136"/>
                  <a:pt x="3539" y="135"/>
                  <a:pt x="3539" y="133"/>
                </a:cubicBezTo>
                <a:cubicBezTo>
                  <a:pt x="3539" y="129"/>
                  <a:pt x="3539" y="124"/>
                  <a:pt x="3539" y="119"/>
                </a:cubicBezTo>
                <a:cubicBezTo>
                  <a:pt x="3540" y="124"/>
                  <a:pt x="3541" y="129"/>
                  <a:pt x="3542" y="134"/>
                </a:cubicBezTo>
                <a:cubicBezTo>
                  <a:pt x="3541" y="135"/>
                  <a:pt x="3541" y="137"/>
                  <a:pt x="3540" y="138"/>
                </a:cubicBezTo>
                <a:close/>
                <a:moveTo>
                  <a:pt x="3545" y="154"/>
                </a:moveTo>
                <a:cubicBezTo>
                  <a:pt x="3545" y="153"/>
                  <a:pt x="3545" y="152"/>
                  <a:pt x="3545" y="151"/>
                </a:cubicBezTo>
                <a:cubicBezTo>
                  <a:pt x="3545" y="151"/>
                  <a:pt x="3545" y="150"/>
                  <a:pt x="3545" y="150"/>
                </a:cubicBezTo>
                <a:cubicBezTo>
                  <a:pt x="3545" y="151"/>
                  <a:pt x="3545" y="152"/>
                  <a:pt x="3545" y="154"/>
                </a:cubicBezTo>
                <a:close/>
                <a:moveTo>
                  <a:pt x="3551" y="139"/>
                </a:moveTo>
                <a:cubicBezTo>
                  <a:pt x="3550" y="136"/>
                  <a:pt x="3549" y="134"/>
                  <a:pt x="3548" y="132"/>
                </a:cubicBezTo>
                <a:cubicBezTo>
                  <a:pt x="3549" y="129"/>
                  <a:pt x="3550" y="127"/>
                  <a:pt x="3551" y="125"/>
                </a:cubicBezTo>
                <a:cubicBezTo>
                  <a:pt x="3551" y="128"/>
                  <a:pt x="3552" y="131"/>
                  <a:pt x="3553" y="134"/>
                </a:cubicBezTo>
                <a:cubicBezTo>
                  <a:pt x="3552" y="136"/>
                  <a:pt x="3552" y="137"/>
                  <a:pt x="3551" y="139"/>
                </a:cubicBezTo>
                <a:close/>
                <a:moveTo>
                  <a:pt x="3571" y="114"/>
                </a:moveTo>
                <a:cubicBezTo>
                  <a:pt x="3570" y="108"/>
                  <a:pt x="3569" y="101"/>
                  <a:pt x="3569" y="95"/>
                </a:cubicBezTo>
                <a:cubicBezTo>
                  <a:pt x="3569" y="88"/>
                  <a:pt x="3570" y="81"/>
                  <a:pt x="3571" y="75"/>
                </a:cubicBezTo>
                <a:cubicBezTo>
                  <a:pt x="3573" y="81"/>
                  <a:pt x="3573" y="88"/>
                  <a:pt x="3573" y="95"/>
                </a:cubicBezTo>
                <a:cubicBezTo>
                  <a:pt x="3573" y="101"/>
                  <a:pt x="3572" y="108"/>
                  <a:pt x="3571" y="114"/>
                </a:cubicBezTo>
                <a:close/>
                <a:moveTo>
                  <a:pt x="3591" y="139"/>
                </a:moveTo>
                <a:cubicBezTo>
                  <a:pt x="3591" y="137"/>
                  <a:pt x="3590" y="136"/>
                  <a:pt x="3590" y="134"/>
                </a:cubicBezTo>
                <a:cubicBezTo>
                  <a:pt x="3590" y="131"/>
                  <a:pt x="3591" y="128"/>
                  <a:pt x="3592" y="125"/>
                </a:cubicBezTo>
                <a:cubicBezTo>
                  <a:pt x="3592" y="127"/>
                  <a:pt x="3593" y="129"/>
                  <a:pt x="3594" y="132"/>
                </a:cubicBezTo>
                <a:cubicBezTo>
                  <a:pt x="3593" y="134"/>
                  <a:pt x="3592" y="136"/>
                  <a:pt x="3591" y="139"/>
                </a:cubicBezTo>
                <a:close/>
                <a:moveTo>
                  <a:pt x="3597" y="154"/>
                </a:moveTo>
                <a:cubicBezTo>
                  <a:pt x="3597" y="154"/>
                  <a:pt x="3597" y="154"/>
                  <a:pt x="3597" y="154"/>
                </a:cubicBezTo>
                <a:cubicBezTo>
                  <a:pt x="3597" y="152"/>
                  <a:pt x="3597" y="151"/>
                  <a:pt x="3598" y="150"/>
                </a:cubicBezTo>
                <a:cubicBezTo>
                  <a:pt x="3598" y="150"/>
                  <a:pt x="3598" y="151"/>
                  <a:pt x="3598" y="151"/>
                </a:cubicBezTo>
                <a:cubicBezTo>
                  <a:pt x="3597" y="152"/>
                  <a:pt x="3597" y="153"/>
                  <a:pt x="3597" y="154"/>
                </a:cubicBezTo>
                <a:close/>
                <a:moveTo>
                  <a:pt x="3603" y="119"/>
                </a:moveTo>
                <a:cubicBezTo>
                  <a:pt x="3603" y="120"/>
                  <a:pt x="3603" y="120"/>
                  <a:pt x="3603" y="120"/>
                </a:cubicBezTo>
                <a:cubicBezTo>
                  <a:pt x="3603" y="120"/>
                  <a:pt x="3603" y="120"/>
                  <a:pt x="3603" y="120"/>
                </a:cubicBezTo>
                <a:cubicBezTo>
                  <a:pt x="3603" y="120"/>
                  <a:pt x="3603" y="120"/>
                  <a:pt x="3603" y="119"/>
                </a:cubicBezTo>
                <a:close/>
                <a:moveTo>
                  <a:pt x="3602" y="138"/>
                </a:moveTo>
                <a:cubicBezTo>
                  <a:pt x="3601" y="137"/>
                  <a:pt x="3601" y="135"/>
                  <a:pt x="3601" y="134"/>
                </a:cubicBezTo>
                <a:cubicBezTo>
                  <a:pt x="3601" y="134"/>
                  <a:pt x="3601" y="134"/>
                  <a:pt x="3601" y="134"/>
                </a:cubicBezTo>
                <a:cubicBezTo>
                  <a:pt x="3601" y="134"/>
                  <a:pt x="3602" y="135"/>
                  <a:pt x="3602" y="137"/>
                </a:cubicBezTo>
                <a:cubicBezTo>
                  <a:pt x="3602" y="137"/>
                  <a:pt x="3602" y="138"/>
                  <a:pt x="3602" y="138"/>
                </a:cubicBezTo>
                <a:close/>
                <a:moveTo>
                  <a:pt x="3601" y="133"/>
                </a:moveTo>
                <a:cubicBezTo>
                  <a:pt x="3601" y="132"/>
                  <a:pt x="3601" y="131"/>
                  <a:pt x="3601" y="130"/>
                </a:cubicBezTo>
                <a:cubicBezTo>
                  <a:pt x="3602" y="131"/>
                  <a:pt x="3603" y="133"/>
                  <a:pt x="3603" y="134"/>
                </a:cubicBezTo>
                <a:cubicBezTo>
                  <a:pt x="3603" y="135"/>
                  <a:pt x="3603" y="135"/>
                  <a:pt x="3603" y="136"/>
                </a:cubicBezTo>
                <a:cubicBezTo>
                  <a:pt x="3602" y="134"/>
                  <a:pt x="3601" y="133"/>
                  <a:pt x="3601" y="133"/>
                </a:cubicBezTo>
                <a:close/>
                <a:moveTo>
                  <a:pt x="3604" y="145"/>
                </a:moveTo>
                <a:cubicBezTo>
                  <a:pt x="3603" y="144"/>
                  <a:pt x="3603" y="143"/>
                  <a:pt x="3603" y="143"/>
                </a:cubicBezTo>
                <a:cubicBezTo>
                  <a:pt x="3603" y="142"/>
                  <a:pt x="3604" y="141"/>
                  <a:pt x="3604" y="140"/>
                </a:cubicBezTo>
                <a:cubicBezTo>
                  <a:pt x="3604" y="140"/>
                  <a:pt x="3604" y="140"/>
                  <a:pt x="3604" y="140"/>
                </a:cubicBezTo>
                <a:cubicBezTo>
                  <a:pt x="3604" y="141"/>
                  <a:pt x="3604" y="142"/>
                  <a:pt x="3604" y="143"/>
                </a:cubicBezTo>
                <a:cubicBezTo>
                  <a:pt x="3604" y="143"/>
                  <a:pt x="3604" y="144"/>
                  <a:pt x="3604" y="145"/>
                </a:cubicBezTo>
                <a:close/>
                <a:moveTo>
                  <a:pt x="3614" y="134"/>
                </a:moveTo>
                <a:cubicBezTo>
                  <a:pt x="3614" y="134"/>
                  <a:pt x="3614" y="133"/>
                  <a:pt x="3614" y="133"/>
                </a:cubicBezTo>
                <a:cubicBezTo>
                  <a:pt x="3614" y="132"/>
                  <a:pt x="3614" y="130"/>
                  <a:pt x="3614" y="129"/>
                </a:cubicBezTo>
                <a:cubicBezTo>
                  <a:pt x="3614" y="130"/>
                  <a:pt x="3614" y="132"/>
                  <a:pt x="3614" y="134"/>
                </a:cubicBezTo>
                <a:close/>
                <a:moveTo>
                  <a:pt x="3624" y="120"/>
                </a:moveTo>
                <a:cubicBezTo>
                  <a:pt x="3624" y="117"/>
                  <a:pt x="3624" y="115"/>
                  <a:pt x="3624" y="112"/>
                </a:cubicBezTo>
                <a:cubicBezTo>
                  <a:pt x="3624" y="111"/>
                  <a:pt x="3624" y="111"/>
                  <a:pt x="3624" y="110"/>
                </a:cubicBezTo>
                <a:cubicBezTo>
                  <a:pt x="3624" y="113"/>
                  <a:pt x="3624" y="116"/>
                  <a:pt x="3625" y="119"/>
                </a:cubicBezTo>
                <a:cubicBezTo>
                  <a:pt x="3625" y="119"/>
                  <a:pt x="3624" y="120"/>
                  <a:pt x="3624" y="120"/>
                </a:cubicBezTo>
                <a:close/>
                <a:moveTo>
                  <a:pt x="3626" y="115"/>
                </a:moveTo>
                <a:cubicBezTo>
                  <a:pt x="3625" y="112"/>
                  <a:pt x="3625" y="108"/>
                  <a:pt x="3624" y="104"/>
                </a:cubicBezTo>
                <a:cubicBezTo>
                  <a:pt x="3625" y="101"/>
                  <a:pt x="3625" y="97"/>
                  <a:pt x="3626" y="93"/>
                </a:cubicBezTo>
                <a:cubicBezTo>
                  <a:pt x="3627" y="98"/>
                  <a:pt x="3627" y="102"/>
                  <a:pt x="3627" y="104"/>
                </a:cubicBezTo>
                <a:cubicBezTo>
                  <a:pt x="3627" y="108"/>
                  <a:pt x="3627" y="111"/>
                  <a:pt x="3626" y="115"/>
                </a:cubicBezTo>
                <a:close/>
                <a:moveTo>
                  <a:pt x="3631" y="102"/>
                </a:moveTo>
                <a:cubicBezTo>
                  <a:pt x="3631" y="102"/>
                  <a:pt x="3631" y="102"/>
                  <a:pt x="3630" y="103"/>
                </a:cubicBezTo>
                <a:cubicBezTo>
                  <a:pt x="3630" y="99"/>
                  <a:pt x="3629" y="94"/>
                  <a:pt x="3626" y="90"/>
                </a:cubicBezTo>
                <a:cubicBezTo>
                  <a:pt x="3628" y="84"/>
                  <a:pt x="3630" y="78"/>
                  <a:pt x="3632" y="73"/>
                </a:cubicBezTo>
                <a:cubicBezTo>
                  <a:pt x="3631" y="83"/>
                  <a:pt x="3631" y="93"/>
                  <a:pt x="3631" y="102"/>
                </a:cubicBezTo>
                <a:close/>
                <a:moveTo>
                  <a:pt x="3637" y="110"/>
                </a:moveTo>
                <a:cubicBezTo>
                  <a:pt x="3637" y="111"/>
                  <a:pt x="3637" y="111"/>
                  <a:pt x="3637" y="111"/>
                </a:cubicBezTo>
                <a:cubicBezTo>
                  <a:pt x="3637" y="114"/>
                  <a:pt x="3636" y="116"/>
                  <a:pt x="3636" y="119"/>
                </a:cubicBezTo>
                <a:cubicBezTo>
                  <a:pt x="3635" y="114"/>
                  <a:pt x="3635" y="108"/>
                  <a:pt x="3635" y="103"/>
                </a:cubicBezTo>
                <a:cubicBezTo>
                  <a:pt x="3635" y="97"/>
                  <a:pt x="3635" y="91"/>
                  <a:pt x="3637" y="85"/>
                </a:cubicBezTo>
                <a:cubicBezTo>
                  <a:pt x="3636" y="87"/>
                  <a:pt x="3635" y="89"/>
                  <a:pt x="3634" y="92"/>
                </a:cubicBezTo>
                <a:cubicBezTo>
                  <a:pt x="3634" y="87"/>
                  <a:pt x="3634" y="82"/>
                  <a:pt x="3635" y="77"/>
                </a:cubicBezTo>
                <a:cubicBezTo>
                  <a:pt x="3637" y="83"/>
                  <a:pt x="3638" y="90"/>
                  <a:pt x="3638" y="96"/>
                </a:cubicBezTo>
                <a:cubicBezTo>
                  <a:pt x="3638" y="101"/>
                  <a:pt x="3638" y="106"/>
                  <a:pt x="3637" y="110"/>
                </a:cubicBezTo>
                <a:close/>
                <a:moveTo>
                  <a:pt x="3643" y="127"/>
                </a:moveTo>
                <a:cubicBezTo>
                  <a:pt x="3642" y="132"/>
                  <a:pt x="3642" y="134"/>
                  <a:pt x="3642" y="134"/>
                </a:cubicBezTo>
                <a:cubicBezTo>
                  <a:pt x="3642" y="129"/>
                  <a:pt x="3643" y="125"/>
                  <a:pt x="3643" y="120"/>
                </a:cubicBezTo>
                <a:cubicBezTo>
                  <a:pt x="3643" y="123"/>
                  <a:pt x="3643" y="125"/>
                  <a:pt x="3643" y="127"/>
                </a:cubicBezTo>
                <a:close/>
                <a:moveTo>
                  <a:pt x="3675" y="92"/>
                </a:moveTo>
                <a:cubicBezTo>
                  <a:pt x="3675" y="91"/>
                  <a:pt x="3675" y="90"/>
                  <a:pt x="3675" y="89"/>
                </a:cubicBezTo>
                <a:cubicBezTo>
                  <a:pt x="3675" y="89"/>
                  <a:pt x="3675" y="90"/>
                  <a:pt x="3675" y="91"/>
                </a:cubicBezTo>
                <a:cubicBezTo>
                  <a:pt x="3675" y="91"/>
                  <a:pt x="3675" y="92"/>
                  <a:pt x="3675" y="92"/>
                </a:cubicBezTo>
                <a:close/>
                <a:moveTo>
                  <a:pt x="3677" y="130"/>
                </a:moveTo>
                <a:cubicBezTo>
                  <a:pt x="3677" y="132"/>
                  <a:pt x="3677" y="134"/>
                  <a:pt x="3677" y="136"/>
                </a:cubicBezTo>
                <a:cubicBezTo>
                  <a:pt x="3676" y="127"/>
                  <a:pt x="3675" y="119"/>
                  <a:pt x="3675" y="110"/>
                </a:cubicBezTo>
                <a:cubicBezTo>
                  <a:pt x="3675" y="105"/>
                  <a:pt x="3675" y="99"/>
                  <a:pt x="3676" y="93"/>
                </a:cubicBezTo>
                <a:cubicBezTo>
                  <a:pt x="3677" y="99"/>
                  <a:pt x="3678" y="104"/>
                  <a:pt x="3679" y="109"/>
                </a:cubicBezTo>
                <a:cubicBezTo>
                  <a:pt x="3678" y="116"/>
                  <a:pt x="3678" y="123"/>
                  <a:pt x="3677" y="130"/>
                </a:cubicBezTo>
                <a:close/>
                <a:moveTo>
                  <a:pt x="3687" y="140"/>
                </a:moveTo>
                <a:cubicBezTo>
                  <a:pt x="3687" y="140"/>
                  <a:pt x="3687" y="139"/>
                  <a:pt x="3687" y="139"/>
                </a:cubicBezTo>
                <a:cubicBezTo>
                  <a:pt x="3688" y="100"/>
                  <a:pt x="3688" y="100"/>
                  <a:pt x="3688" y="100"/>
                </a:cubicBezTo>
                <a:cubicBezTo>
                  <a:pt x="3688" y="106"/>
                  <a:pt x="3689" y="113"/>
                  <a:pt x="3689" y="119"/>
                </a:cubicBezTo>
                <a:cubicBezTo>
                  <a:pt x="3689" y="122"/>
                  <a:pt x="3689" y="126"/>
                  <a:pt x="3689" y="129"/>
                </a:cubicBezTo>
                <a:cubicBezTo>
                  <a:pt x="3688" y="133"/>
                  <a:pt x="3688" y="136"/>
                  <a:pt x="3687" y="140"/>
                </a:cubicBezTo>
                <a:close/>
                <a:moveTo>
                  <a:pt x="3708" y="105"/>
                </a:moveTo>
                <a:cubicBezTo>
                  <a:pt x="3708" y="104"/>
                  <a:pt x="3708" y="102"/>
                  <a:pt x="3708" y="101"/>
                </a:cubicBezTo>
                <a:cubicBezTo>
                  <a:pt x="3708" y="102"/>
                  <a:pt x="3709" y="103"/>
                  <a:pt x="3709" y="103"/>
                </a:cubicBezTo>
                <a:cubicBezTo>
                  <a:pt x="3708" y="104"/>
                  <a:pt x="3708" y="105"/>
                  <a:pt x="3708" y="105"/>
                </a:cubicBezTo>
                <a:close/>
                <a:moveTo>
                  <a:pt x="3731" y="101"/>
                </a:moveTo>
                <a:cubicBezTo>
                  <a:pt x="3730" y="101"/>
                  <a:pt x="3730" y="101"/>
                  <a:pt x="3730" y="100"/>
                </a:cubicBezTo>
                <a:cubicBezTo>
                  <a:pt x="3730" y="101"/>
                  <a:pt x="3730" y="101"/>
                  <a:pt x="3731" y="101"/>
                </a:cubicBezTo>
                <a:cubicBezTo>
                  <a:pt x="3730" y="111"/>
                  <a:pt x="3729" y="119"/>
                  <a:pt x="3728" y="126"/>
                </a:cubicBezTo>
                <a:cubicBezTo>
                  <a:pt x="3727" y="122"/>
                  <a:pt x="3727" y="118"/>
                  <a:pt x="3726" y="114"/>
                </a:cubicBezTo>
                <a:cubicBezTo>
                  <a:pt x="3726" y="109"/>
                  <a:pt x="3726" y="103"/>
                  <a:pt x="3726" y="98"/>
                </a:cubicBezTo>
                <a:cubicBezTo>
                  <a:pt x="3727" y="92"/>
                  <a:pt x="3729" y="87"/>
                  <a:pt x="3732" y="82"/>
                </a:cubicBezTo>
                <a:cubicBezTo>
                  <a:pt x="3731" y="89"/>
                  <a:pt x="3731" y="95"/>
                  <a:pt x="3731" y="101"/>
                </a:cubicBezTo>
                <a:close/>
                <a:moveTo>
                  <a:pt x="3740" y="117"/>
                </a:moveTo>
                <a:cubicBezTo>
                  <a:pt x="3740" y="114"/>
                  <a:pt x="3740" y="110"/>
                  <a:pt x="3740" y="106"/>
                </a:cubicBezTo>
                <a:cubicBezTo>
                  <a:pt x="3740" y="99"/>
                  <a:pt x="3740" y="90"/>
                  <a:pt x="3743" y="83"/>
                </a:cubicBezTo>
                <a:cubicBezTo>
                  <a:pt x="3742" y="95"/>
                  <a:pt x="3741" y="107"/>
                  <a:pt x="3740" y="117"/>
                </a:cubicBezTo>
                <a:close/>
                <a:moveTo>
                  <a:pt x="3746" y="108"/>
                </a:moveTo>
                <a:cubicBezTo>
                  <a:pt x="3746" y="106"/>
                  <a:pt x="3746" y="104"/>
                  <a:pt x="3746" y="102"/>
                </a:cubicBezTo>
                <a:cubicBezTo>
                  <a:pt x="3747" y="102"/>
                  <a:pt x="3747" y="102"/>
                  <a:pt x="3747" y="103"/>
                </a:cubicBezTo>
                <a:cubicBezTo>
                  <a:pt x="3747" y="104"/>
                  <a:pt x="3746" y="106"/>
                  <a:pt x="3746" y="108"/>
                </a:cubicBezTo>
                <a:close/>
                <a:moveTo>
                  <a:pt x="3752" y="111"/>
                </a:moveTo>
                <a:cubicBezTo>
                  <a:pt x="3752" y="103"/>
                  <a:pt x="3755" y="95"/>
                  <a:pt x="3757" y="87"/>
                </a:cubicBezTo>
                <a:cubicBezTo>
                  <a:pt x="3756" y="95"/>
                  <a:pt x="3754" y="104"/>
                  <a:pt x="3752" y="113"/>
                </a:cubicBezTo>
                <a:cubicBezTo>
                  <a:pt x="3752" y="112"/>
                  <a:pt x="3752" y="112"/>
                  <a:pt x="3752" y="111"/>
                </a:cubicBezTo>
                <a:close/>
                <a:moveTo>
                  <a:pt x="3776" y="110"/>
                </a:moveTo>
                <a:cubicBezTo>
                  <a:pt x="3776" y="109"/>
                  <a:pt x="3776" y="108"/>
                  <a:pt x="3776" y="107"/>
                </a:cubicBezTo>
                <a:cubicBezTo>
                  <a:pt x="3776" y="107"/>
                  <a:pt x="3776" y="108"/>
                  <a:pt x="3776" y="108"/>
                </a:cubicBezTo>
                <a:cubicBezTo>
                  <a:pt x="3776" y="109"/>
                  <a:pt x="3776" y="109"/>
                  <a:pt x="3776" y="110"/>
                </a:cubicBezTo>
                <a:close/>
                <a:moveTo>
                  <a:pt x="3787" y="125"/>
                </a:moveTo>
                <a:cubicBezTo>
                  <a:pt x="3787" y="123"/>
                  <a:pt x="3787" y="122"/>
                  <a:pt x="3787" y="120"/>
                </a:cubicBezTo>
                <a:cubicBezTo>
                  <a:pt x="3787" y="121"/>
                  <a:pt x="3787" y="122"/>
                  <a:pt x="3787" y="123"/>
                </a:cubicBezTo>
                <a:cubicBezTo>
                  <a:pt x="3787" y="123"/>
                  <a:pt x="3787" y="124"/>
                  <a:pt x="3787" y="125"/>
                </a:cubicBezTo>
                <a:close/>
                <a:moveTo>
                  <a:pt x="3790" y="115"/>
                </a:moveTo>
                <a:cubicBezTo>
                  <a:pt x="3789" y="117"/>
                  <a:pt x="3789" y="118"/>
                  <a:pt x="3788" y="119"/>
                </a:cubicBezTo>
                <a:cubicBezTo>
                  <a:pt x="3788" y="118"/>
                  <a:pt x="3787" y="116"/>
                  <a:pt x="3787" y="114"/>
                </a:cubicBezTo>
                <a:cubicBezTo>
                  <a:pt x="3787" y="110"/>
                  <a:pt x="3787" y="105"/>
                  <a:pt x="3787" y="100"/>
                </a:cubicBezTo>
                <a:cubicBezTo>
                  <a:pt x="3788" y="94"/>
                  <a:pt x="3791" y="89"/>
                  <a:pt x="3794" y="84"/>
                </a:cubicBezTo>
                <a:cubicBezTo>
                  <a:pt x="3793" y="93"/>
                  <a:pt x="3791" y="105"/>
                  <a:pt x="3790" y="115"/>
                </a:cubicBezTo>
                <a:close/>
                <a:moveTo>
                  <a:pt x="3797" y="90"/>
                </a:moveTo>
                <a:cubicBezTo>
                  <a:pt x="3797" y="88"/>
                  <a:pt x="3796" y="84"/>
                  <a:pt x="3796" y="80"/>
                </a:cubicBezTo>
                <a:cubicBezTo>
                  <a:pt x="3796" y="80"/>
                  <a:pt x="3796" y="80"/>
                  <a:pt x="3796" y="80"/>
                </a:cubicBezTo>
                <a:cubicBezTo>
                  <a:pt x="3797" y="81"/>
                  <a:pt x="3798" y="83"/>
                  <a:pt x="3798" y="84"/>
                </a:cubicBezTo>
                <a:cubicBezTo>
                  <a:pt x="3798" y="88"/>
                  <a:pt x="3797" y="90"/>
                  <a:pt x="3797" y="90"/>
                </a:cubicBezTo>
                <a:close/>
                <a:moveTo>
                  <a:pt x="3799" y="83"/>
                </a:moveTo>
                <a:cubicBezTo>
                  <a:pt x="3798" y="81"/>
                  <a:pt x="3797" y="80"/>
                  <a:pt x="3796" y="79"/>
                </a:cubicBezTo>
                <a:cubicBezTo>
                  <a:pt x="3797" y="78"/>
                  <a:pt x="3798" y="76"/>
                  <a:pt x="3800" y="75"/>
                </a:cubicBezTo>
                <a:cubicBezTo>
                  <a:pt x="3799" y="78"/>
                  <a:pt x="3799" y="81"/>
                  <a:pt x="3799" y="83"/>
                </a:cubicBezTo>
                <a:close/>
                <a:moveTo>
                  <a:pt x="3805" y="104"/>
                </a:moveTo>
                <a:cubicBezTo>
                  <a:pt x="3806" y="105"/>
                  <a:pt x="3806" y="107"/>
                  <a:pt x="3806" y="109"/>
                </a:cubicBezTo>
                <a:cubicBezTo>
                  <a:pt x="3806" y="111"/>
                  <a:pt x="3805" y="112"/>
                  <a:pt x="3805" y="114"/>
                </a:cubicBezTo>
                <a:cubicBezTo>
                  <a:pt x="3805" y="110"/>
                  <a:pt x="3805" y="107"/>
                  <a:pt x="3805" y="104"/>
                </a:cubicBezTo>
                <a:close/>
                <a:moveTo>
                  <a:pt x="3801" y="91"/>
                </a:moveTo>
                <a:cubicBezTo>
                  <a:pt x="3801" y="91"/>
                  <a:pt x="3801" y="91"/>
                  <a:pt x="3801" y="91"/>
                </a:cubicBezTo>
                <a:cubicBezTo>
                  <a:pt x="3801" y="91"/>
                  <a:pt x="3801" y="91"/>
                  <a:pt x="3801" y="91"/>
                </a:cubicBezTo>
                <a:cubicBezTo>
                  <a:pt x="3801" y="91"/>
                  <a:pt x="3801" y="91"/>
                  <a:pt x="3801" y="91"/>
                </a:cubicBezTo>
                <a:close/>
                <a:moveTo>
                  <a:pt x="3801" y="124"/>
                </a:moveTo>
                <a:cubicBezTo>
                  <a:pt x="3802" y="114"/>
                  <a:pt x="3802" y="102"/>
                  <a:pt x="3801" y="91"/>
                </a:cubicBezTo>
                <a:cubicBezTo>
                  <a:pt x="3801" y="91"/>
                  <a:pt x="3801" y="91"/>
                  <a:pt x="3801" y="91"/>
                </a:cubicBezTo>
                <a:cubicBezTo>
                  <a:pt x="3803" y="94"/>
                  <a:pt x="3804" y="98"/>
                  <a:pt x="3805" y="101"/>
                </a:cubicBezTo>
                <a:cubicBezTo>
                  <a:pt x="3803" y="120"/>
                  <a:pt x="3803" y="120"/>
                  <a:pt x="3803" y="120"/>
                </a:cubicBezTo>
                <a:cubicBezTo>
                  <a:pt x="3802" y="121"/>
                  <a:pt x="3802" y="122"/>
                  <a:pt x="3801" y="124"/>
                </a:cubicBezTo>
                <a:close/>
                <a:moveTo>
                  <a:pt x="3804" y="136"/>
                </a:moveTo>
                <a:cubicBezTo>
                  <a:pt x="3804" y="134"/>
                  <a:pt x="3804" y="133"/>
                  <a:pt x="3804" y="131"/>
                </a:cubicBezTo>
                <a:cubicBezTo>
                  <a:pt x="3805" y="126"/>
                  <a:pt x="3806" y="121"/>
                  <a:pt x="3807" y="116"/>
                </a:cubicBezTo>
                <a:cubicBezTo>
                  <a:pt x="3808" y="118"/>
                  <a:pt x="3808" y="121"/>
                  <a:pt x="3808" y="123"/>
                </a:cubicBezTo>
                <a:cubicBezTo>
                  <a:pt x="3808" y="124"/>
                  <a:pt x="3808" y="124"/>
                  <a:pt x="3808" y="124"/>
                </a:cubicBezTo>
                <a:cubicBezTo>
                  <a:pt x="3807" y="128"/>
                  <a:pt x="3805" y="132"/>
                  <a:pt x="3804" y="136"/>
                </a:cubicBezTo>
                <a:close/>
                <a:moveTo>
                  <a:pt x="3808" y="141"/>
                </a:moveTo>
                <a:cubicBezTo>
                  <a:pt x="3808" y="141"/>
                  <a:pt x="3808" y="141"/>
                  <a:pt x="3808" y="141"/>
                </a:cubicBezTo>
                <a:cubicBezTo>
                  <a:pt x="3809" y="139"/>
                  <a:pt x="3809" y="137"/>
                  <a:pt x="3810" y="135"/>
                </a:cubicBezTo>
                <a:cubicBezTo>
                  <a:pt x="3810" y="135"/>
                  <a:pt x="3810" y="135"/>
                  <a:pt x="3810" y="135"/>
                </a:cubicBezTo>
                <a:cubicBezTo>
                  <a:pt x="3810" y="137"/>
                  <a:pt x="3809" y="139"/>
                  <a:pt x="3808" y="141"/>
                </a:cubicBezTo>
                <a:close/>
                <a:moveTo>
                  <a:pt x="3815" y="119"/>
                </a:moveTo>
                <a:cubicBezTo>
                  <a:pt x="3814" y="119"/>
                  <a:pt x="3814" y="118"/>
                  <a:pt x="3814" y="118"/>
                </a:cubicBezTo>
                <a:cubicBezTo>
                  <a:pt x="3814" y="116"/>
                  <a:pt x="3815" y="115"/>
                  <a:pt x="3815" y="113"/>
                </a:cubicBezTo>
                <a:cubicBezTo>
                  <a:pt x="3815" y="112"/>
                  <a:pt x="3815" y="112"/>
                  <a:pt x="3815" y="111"/>
                </a:cubicBezTo>
                <a:cubicBezTo>
                  <a:pt x="3816" y="112"/>
                  <a:pt x="3816" y="113"/>
                  <a:pt x="3816" y="115"/>
                </a:cubicBezTo>
                <a:cubicBezTo>
                  <a:pt x="3816" y="116"/>
                  <a:pt x="3815" y="118"/>
                  <a:pt x="3815" y="119"/>
                </a:cubicBezTo>
                <a:close/>
                <a:moveTo>
                  <a:pt x="3822" y="136"/>
                </a:moveTo>
                <a:cubicBezTo>
                  <a:pt x="3821" y="135"/>
                  <a:pt x="3821" y="134"/>
                  <a:pt x="3820" y="133"/>
                </a:cubicBezTo>
                <a:cubicBezTo>
                  <a:pt x="3820" y="132"/>
                  <a:pt x="3820" y="132"/>
                  <a:pt x="3820" y="131"/>
                </a:cubicBezTo>
                <a:cubicBezTo>
                  <a:pt x="3821" y="133"/>
                  <a:pt x="3821" y="134"/>
                  <a:pt x="3822" y="136"/>
                </a:cubicBezTo>
                <a:cubicBezTo>
                  <a:pt x="3822" y="136"/>
                  <a:pt x="3822" y="136"/>
                  <a:pt x="3822" y="136"/>
                </a:cubicBezTo>
                <a:close/>
                <a:moveTo>
                  <a:pt x="3836" y="118"/>
                </a:moveTo>
                <a:cubicBezTo>
                  <a:pt x="3836" y="117"/>
                  <a:pt x="3836" y="117"/>
                  <a:pt x="3836" y="117"/>
                </a:cubicBezTo>
                <a:cubicBezTo>
                  <a:pt x="3836" y="117"/>
                  <a:pt x="3836" y="117"/>
                  <a:pt x="3836" y="117"/>
                </a:cubicBezTo>
                <a:cubicBezTo>
                  <a:pt x="3836" y="118"/>
                  <a:pt x="3836" y="118"/>
                  <a:pt x="3836" y="118"/>
                </a:cubicBezTo>
                <a:close/>
                <a:moveTo>
                  <a:pt x="3842" y="105"/>
                </a:moveTo>
                <a:cubicBezTo>
                  <a:pt x="3841" y="106"/>
                  <a:pt x="3840" y="107"/>
                  <a:pt x="3840" y="109"/>
                </a:cubicBezTo>
                <a:cubicBezTo>
                  <a:pt x="3839" y="107"/>
                  <a:pt x="3839" y="106"/>
                  <a:pt x="3839" y="104"/>
                </a:cubicBezTo>
                <a:cubicBezTo>
                  <a:pt x="3840" y="101"/>
                  <a:pt x="3841" y="98"/>
                  <a:pt x="3843" y="94"/>
                </a:cubicBezTo>
                <a:cubicBezTo>
                  <a:pt x="3842" y="98"/>
                  <a:pt x="3842" y="101"/>
                  <a:pt x="3842" y="105"/>
                </a:cubicBezTo>
                <a:close/>
                <a:moveTo>
                  <a:pt x="3847" y="138"/>
                </a:moveTo>
                <a:cubicBezTo>
                  <a:pt x="3847" y="137"/>
                  <a:pt x="3847" y="136"/>
                  <a:pt x="3846" y="135"/>
                </a:cubicBezTo>
                <a:cubicBezTo>
                  <a:pt x="3846" y="133"/>
                  <a:pt x="3846" y="131"/>
                  <a:pt x="3846" y="129"/>
                </a:cubicBezTo>
                <a:cubicBezTo>
                  <a:pt x="3847" y="131"/>
                  <a:pt x="3847" y="133"/>
                  <a:pt x="3848" y="134"/>
                </a:cubicBezTo>
                <a:cubicBezTo>
                  <a:pt x="3848" y="135"/>
                  <a:pt x="3848" y="137"/>
                  <a:pt x="3847" y="138"/>
                </a:cubicBezTo>
                <a:close/>
                <a:moveTo>
                  <a:pt x="3849" y="123"/>
                </a:moveTo>
                <a:cubicBezTo>
                  <a:pt x="3848" y="121"/>
                  <a:pt x="3847" y="118"/>
                  <a:pt x="3847" y="116"/>
                </a:cubicBezTo>
                <a:cubicBezTo>
                  <a:pt x="3848" y="112"/>
                  <a:pt x="3849" y="107"/>
                  <a:pt x="3850" y="103"/>
                </a:cubicBezTo>
                <a:cubicBezTo>
                  <a:pt x="3850" y="110"/>
                  <a:pt x="3849" y="117"/>
                  <a:pt x="3849" y="123"/>
                </a:cubicBezTo>
                <a:close/>
                <a:moveTo>
                  <a:pt x="3854" y="69"/>
                </a:moveTo>
                <a:cubicBezTo>
                  <a:pt x="3856" y="72"/>
                  <a:pt x="3858" y="75"/>
                  <a:pt x="3859" y="79"/>
                </a:cubicBezTo>
                <a:cubicBezTo>
                  <a:pt x="3859" y="79"/>
                  <a:pt x="3859" y="79"/>
                  <a:pt x="3859" y="79"/>
                </a:cubicBezTo>
                <a:cubicBezTo>
                  <a:pt x="3857" y="76"/>
                  <a:pt x="3856" y="72"/>
                  <a:pt x="3854" y="69"/>
                </a:cubicBezTo>
                <a:cubicBezTo>
                  <a:pt x="3854" y="69"/>
                  <a:pt x="3854" y="69"/>
                  <a:pt x="3854" y="69"/>
                </a:cubicBezTo>
                <a:close/>
                <a:moveTo>
                  <a:pt x="3854" y="74"/>
                </a:moveTo>
                <a:cubicBezTo>
                  <a:pt x="3855" y="76"/>
                  <a:pt x="3856" y="79"/>
                  <a:pt x="3857" y="81"/>
                </a:cubicBezTo>
                <a:cubicBezTo>
                  <a:pt x="3856" y="82"/>
                  <a:pt x="3855" y="83"/>
                  <a:pt x="3854" y="85"/>
                </a:cubicBezTo>
                <a:cubicBezTo>
                  <a:pt x="3854" y="81"/>
                  <a:pt x="3854" y="77"/>
                  <a:pt x="3854" y="74"/>
                </a:cubicBezTo>
                <a:close/>
                <a:moveTo>
                  <a:pt x="3855" y="120"/>
                </a:moveTo>
                <a:cubicBezTo>
                  <a:pt x="3855" y="115"/>
                  <a:pt x="3855" y="111"/>
                  <a:pt x="3855" y="106"/>
                </a:cubicBezTo>
                <a:cubicBezTo>
                  <a:pt x="3856" y="109"/>
                  <a:pt x="3856" y="112"/>
                  <a:pt x="3857" y="114"/>
                </a:cubicBezTo>
                <a:cubicBezTo>
                  <a:pt x="3856" y="116"/>
                  <a:pt x="3856" y="118"/>
                  <a:pt x="3855" y="120"/>
                </a:cubicBezTo>
                <a:close/>
                <a:moveTo>
                  <a:pt x="3858" y="109"/>
                </a:moveTo>
                <a:cubicBezTo>
                  <a:pt x="3857" y="107"/>
                  <a:pt x="3856" y="104"/>
                  <a:pt x="3855" y="102"/>
                </a:cubicBezTo>
                <a:cubicBezTo>
                  <a:pt x="3855" y="99"/>
                  <a:pt x="3855" y="97"/>
                  <a:pt x="3855" y="94"/>
                </a:cubicBezTo>
                <a:cubicBezTo>
                  <a:pt x="3856" y="98"/>
                  <a:pt x="3857" y="102"/>
                  <a:pt x="3859" y="107"/>
                </a:cubicBezTo>
                <a:cubicBezTo>
                  <a:pt x="3859" y="108"/>
                  <a:pt x="3858" y="108"/>
                  <a:pt x="3858" y="109"/>
                </a:cubicBezTo>
                <a:close/>
                <a:moveTo>
                  <a:pt x="3862" y="96"/>
                </a:moveTo>
                <a:cubicBezTo>
                  <a:pt x="3861" y="98"/>
                  <a:pt x="3860" y="101"/>
                  <a:pt x="3860" y="104"/>
                </a:cubicBezTo>
                <a:cubicBezTo>
                  <a:pt x="3858" y="100"/>
                  <a:pt x="3856" y="96"/>
                  <a:pt x="3855" y="92"/>
                </a:cubicBezTo>
                <a:cubicBezTo>
                  <a:pt x="3855" y="92"/>
                  <a:pt x="3855" y="92"/>
                  <a:pt x="3855" y="92"/>
                </a:cubicBezTo>
                <a:cubicBezTo>
                  <a:pt x="3856" y="89"/>
                  <a:pt x="3857" y="86"/>
                  <a:pt x="3859" y="84"/>
                </a:cubicBezTo>
                <a:cubicBezTo>
                  <a:pt x="3860" y="87"/>
                  <a:pt x="3861" y="90"/>
                  <a:pt x="3862" y="93"/>
                </a:cubicBezTo>
                <a:cubicBezTo>
                  <a:pt x="3862" y="94"/>
                  <a:pt x="3862" y="95"/>
                  <a:pt x="3862" y="96"/>
                </a:cubicBezTo>
                <a:close/>
                <a:moveTo>
                  <a:pt x="3863" y="90"/>
                </a:moveTo>
                <a:cubicBezTo>
                  <a:pt x="3862" y="87"/>
                  <a:pt x="3861" y="84"/>
                  <a:pt x="3860" y="82"/>
                </a:cubicBezTo>
                <a:cubicBezTo>
                  <a:pt x="3860" y="81"/>
                  <a:pt x="3860" y="81"/>
                  <a:pt x="3860" y="81"/>
                </a:cubicBezTo>
                <a:cubicBezTo>
                  <a:pt x="3861" y="83"/>
                  <a:pt x="3862" y="86"/>
                  <a:pt x="3863" y="89"/>
                </a:cubicBezTo>
                <a:cubicBezTo>
                  <a:pt x="3863" y="89"/>
                  <a:pt x="3863" y="89"/>
                  <a:pt x="3863" y="90"/>
                </a:cubicBezTo>
                <a:close/>
                <a:moveTo>
                  <a:pt x="3861" y="79"/>
                </a:moveTo>
                <a:cubicBezTo>
                  <a:pt x="3862" y="78"/>
                  <a:pt x="3863" y="77"/>
                  <a:pt x="3863" y="76"/>
                </a:cubicBezTo>
                <a:cubicBezTo>
                  <a:pt x="3864" y="78"/>
                  <a:pt x="3864" y="79"/>
                  <a:pt x="3865" y="80"/>
                </a:cubicBezTo>
                <a:cubicBezTo>
                  <a:pt x="3865" y="82"/>
                  <a:pt x="3864" y="84"/>
                  <a:pt x="3864" y="85"/>
                </a:cubicBezTo>
                <a:cubicBezTo>
                  <a:pt x="3863" y="83"/>
                  <a:pt x="3862" y="81"/>
                  <a:pt x="3861" y="79"/>
                </a:cubicBezTo>
                <a:close/>
                <a:moveTo>
                  <a:pt x="3864" y="116"/>
                </a:moveTo>
                <a:cubicBezTo>
                  <a:pt x="3864" y="111"/>
                  <a:pt x="3865" y="106"/>
                  <a:pt x="3865" y="102"/>
                </a:cubicBezTo>
                <a:cubicBezTo>
                  <a:pt x="3866" y="105"/>
                  <a:pt x="3867" y="108"/>
                  <a:pt x="3868" y="111"/>
                </a:cubicBezTo>
                <a:cubicBezTo>
                  <a:pt x="3867" y="113"/>
                  <a:pt x="3866" y="116"/>
                  <a:pt x="3865" y="118"/>
                </a:cubicBezTo>
                <a:cubicBezTo>
                  <a:pt x="3865" y="117"/>
                  <a:pt x="3864" y="117"/>
                  <a:pt x="3864" y="116"/>
                </a:cubicBezTo>
                <a:close/>
                <a:moveTo>
                  <a:pt x="3869" y="130"/>
                </a:moveTo>
                <a:cubicBezTo>
                  <a:pt x="3868" y="128"/>
                  <a:pt x="3868" y="127"/>
                  <a:pt x="3867" y="125"/>
                </a:cubicBezTo>
                <a:cubicBezTo>
                  <a:pt x="3868" y="123"/>
                  <a:pt x="3868" y="122"/>
                  <a:pt x="3869" y="120"/>
                </a:cubicBezTo>
                <a:cubicBezTo>
                  <a:pt x="3869" y="122"/>
                  <a:pt x="3869" y="124"/>
                  <a:pt x="3869" y="127"/>
                </a:cubicBezTo>
                <a:cubicBezTo>
                  <a:pt x="3869" y="128"/>
                  <a:pt x="3869" y="129"/>
                  <a:pt x="3869" y="130"/>
                </a:cubicBezTo>
                <a:close/>
                <a:moveTo>
                  <a:pt x="3871" y="105"/>
                </a:moveTo>
                <a:cubicBezTo>
                  <a:pt x="3869" y="100"/>
                  <a:pt x="3868" y="95"/>
                  <a:pt x="3866" y="91"/>
                </a:cubicBezTo>
                <a:cubicBezTo>
                  <a:pt x="3866" y="89"/>
                  <a:pt x="3866" y="87"/>
                  <a:pt x="3866" y="85"/>
                </a:cubicBezTo>
                <a:cubicBezTo>
                  <a:pt x="3869" y="91"/>
                  <a:pt x="3870" y="97"/>
                  <a:pt x="3872" y="103"/>
                </a:cubicBezTo>
                <a:cubicBezTo>
                  <a:pt x="3871" y="104"/>
                  <a:pt x="3871" y="105"/>
                  <a:pt x="3871" y="105"/>
                </a:cubicBezTo>
                <a:close/>
                <a:moveTo>
                  <a:pt x="3872" y="111"/>
                </a:moveTo>
                <a:cubicBezTo>
                  <a:pt x="3872" y="110"/>
                  <a:pt x="3872" y="110"/>
                  <a:pt x="3872" y="109"/>
                </a:cubicBezTo>
                <a:cubicBezTo>
                  <a:pt x="3872" y="109"/>
                  <a:pt x="3872" y="108"/>
                  <a:pt x="3873" y="107"/>
                </a:cubicBezTo>
                <a:cubicBezTo>
                  <a:pt x="3873" y="108"/>
                  <a:pt x="3873" y="109"/>
                  <a:pt x="3873" y="109"/>
                </a:cubicBezTo>
                <a:cubicBezTo>
                  <a:pt x="3873" y="110"/>
                  <a:pt x="3873" y="110"/>
                  <a:pt x="3872" y="111"/>
                </a:cubicBezTo>
                <a:close/>
                <a:moveTo>
                  <a:pt x="3883" y="94"/>
                </a:moveTo>
                <a:cubicBezTo>
                  <a:pt x="3883" y="95"/>
                  <a:pt x="3883" y="95"/>
                  <a:pt x="3884" y="96"/>
                </a:cubicBezTo>
                <a:cubicBezTo>
                  <a:pt x="3883" y="97"/>
                  <a:pt x="3883" y="97"/>
                  <a:pt x="3883" y="98"/>
                </a:cubicBezTo>
                <a:cubicBezTo>
                  <a:pt x="3883" y="96"/>
                  <a:pt x="3883" y="95"/>
                  <a:pt x="3883" y="94"/>
                </a:cubicBezTo>
                <a:close/>
                <a:moveTo>
                  <a:pt x="3885" y="109"/>
                </a:moveTo>
                <a:cubicBezTo>
                  <a:pt x="3884" y="106"/>
                  <a:pt x="3884" y="104"/>
                  <a:pt x="3883" y="102"/>
                </a:cubicBezTo>
                <a:cubicBezTo>
                  <a:pt x="3883" y="101"/>
                  <a:pt x="3883" y="99"/>
                  <a:pt x="3883" y="98"/>
                </a:cubicBezTo>
                <a:cubicBezTo>
                  <a:pt x="3883" y="98"/>
                  <a:pt x="3884" y="97"/>
                  <a:pt x="3884" y="97"/>
                </a:cubicBezTo>
                <a:cubicBezTo>
                  <a:pt x="3884" y="98"/>
                  <a:pt x="3885" y="100"/>
                  <a:pt x="3885" y="102"/>
                </a:cubicBezTo>
                <a:cubicBezTo>
                  <a:pt x="3885" y="104"/>
                  <a:pt x="3885" y="107"/>
                  <a:pt x="3885" y="109"/>
                </a:cubicBezTo>
                <a:close/>
                <a:moveTo>
                  <a:pt x="3887" y="84"/>
                </a:moveTo>
                <a:cubicBezTo>
                  <a:pt x="3886" y="89"/>
                  <a:pt x="3886" y="94"/>
                  <a:pt x="3886" y="98"/>
                </a:cubicBezTo>
                <a:cubicBezTo>
                  <a:pt x="3885" y="97"/>
                  <a:pt x="3885" y="96"/>
                  <a:pt x="3884" y="95"/>
                </a:cubicBezTo>
                <a:cubicBezTo>
                  <a:pt x="3885" y="94"/>
                  <a:pt x="3886" y="92"/>
                  <a:pt x="3886" y="91"/>
                </a:cubicBezTo>
                <a:cubicBezTo>
                  <a:pt x="3886" y="92"/>
                  <a:pt x="3885" y="94"/>
                  <a:pt x="3884" y="95"/>
                </a:cubicBezTo>
                <a:cubicBezTo>
                  <a:pt x="3884" y="94"/>
                  <a:pt x="3883" y="93"/>
                  <a:pt x="3883" y="92"/>
                </a:cubicBezTo>
                <a:cubicBezTo>
                  <a:pt x="3883" y="90"/>
                  <a:pt x="3883" y="88"/>
                  <a:pt x="3883" y="85"/>
                </a:cubicBezTo>
                <a:cubicBezTo>
                  <a:pt x="3883" y="85"/>
                  <a:pt x="3883" y="85"/>
                  <a:pt x="3883" y="85"/>
                </a:cubicBezTo>
                <a:cubicBezTo>
                  <a:pt x="3883" y="85"/>
                  <a:pt x="3883" y="85"/>
                  <a:pt x="3883" y="85"/>
                </a:cubicBezTo>
                <a:cubicBezTo>
                  <a:pt x="3882" y="75"/>
                  <a:pt x="3882" y="65"/>
                  <a:pt x="3882" y="56"/>
                </a:cubicBezTo>
                <a:cubicBezTo>
                  <a:pt x="3885" y="58"/>
                  <a:pt x="3887" y="61"/>
                  <a:pt x="3890" y="63"/>
                </a:cubicBezTo>
                <a:cubicBezTo>
                  <a:pt x="3889" y="69"/>
                  <a:pt x="3888" y="76"/>
                  <a:pt x="3887" y="84"/>
                </a:cubicBezTo>
                <a:cubicBezTo>
                  <a:pt x="3887" y="82"/>
                  <a:pt x="3886" y="81"/>
                  <a:pt x="3886" y="79"/>
                </a:cubicBezTo>
                <a:cubicBezTo>
                  <a:pt x="3886" y="81"/>
                  <a:pt x="3887" y="83"/>
                  <a:pt x="3887" y="84"/>
                </a:cubicBezTo>
                <a:close/>
                <a:moveTo>
                  <a:pt x="3888" y="139"/>
                </a:moveTo>
                <a:cubicBezTo>
                  <a:pt x="3888" y="134"/>
                  <a:pt x="3888" y="128"/>
                  <a:pt x="3888" y="121"/>
                </a:cubicBezTo>
                <a:cubicBezTo>
                  <a:pt x="3888" y="125"/>
                  <a:pt x="3888" y="129"/>
                  <a:pt x="3889" y="133"/>
                </a:cubicBezTo>
                <a:cubicBezTo>
                  <a:pt x="3889" y="135"/>
                  <a:pt x="3889" y="137"/>
                  <a:pt x="3888" y="139"/>
                </a:cubicBezTo>
                <a:close/>
                <a:moveTo>
                  <a:pt x="3888" y="104"/>
                </a:moveTo>
                <a:cubicBezTo>
                  <a:pt x="3888" y="102"/>
                  <a:pt x="3888" y="99"/>
                  <a:pt x="3889" y="96"/>
                </a:cubicBezTo>
                <a:cubicBezTo>
                  <a:pt x="3889" y="100"/>
                  <a:pt x="3889" y="104"/>
                  <a:pt x="3889" y="107"/>
                </a:cubicBezTo>
                <a:cubicBezTo>
                  <a:pt x="3889" y="106"/>
                  <a:pt x="3889" y="105"/>
                  <a:pt x="3888" y="104"/>
                </a:cubicBezTo>
                <a:close/>
                <a:moveTo>
                  <a:pt x="3900" y="85"/>
                </a:moveTo>
                <a:cubicBezTo>
                  <a:pt x="3899" y="90"/>
                  <a:pt x="3898" y="96"/>
                  <a:pt x="3897" y="103"/>
                </a:cubicBezTo>
                <a:cubicBezTo>
                  <a:pt x="3897" y="101"/>
                  <a:pt x="3897" y="100"/>
                  <a:pt x="3896" y="99"/>
                </a:cubicBezTo>
                <a:cubicBezTo>
                  <a:pt x="3896" y="96"/>
                  <a:pt x="3895" y="93"/>
                  <a:pt x="3894" y="90"/>
                </a:cubicBezTo>
                <a:cubicBezTo>
                  <a:pt x="3895" y="93"/>
                  <a:pt x="3895" y="96"/>
                  <a:pt x="3895" y="99"/>
                </a:cubicBezTo>
                <a:cubicBezTo>
                  <a:pt x="3895" y="104"/>
                  <a:pt x="3894" y="112"/>
                  <a:pt x="3894" y="120"/>
                </a:cubicBezTo>
                <a:cubicBezTo>
                  <a:pt x="3893" y="110"/>
                  <a:pt x="3891" y="100"/>
                  <a:pt x="3889" y="91"/>
                </a:cubicBezTo>
                <a:cubicBezTo>
                  <a:pt x="3890" y="81"/>
                  <a:pt x="3891" y="72"/>
                  <a:pt x="3891" y="65"/>
                </a:cubicBezTo>
                <a:cubicBezTo>
                  <a:pt x="3895" y="69"/>
                  <a:pt x="3898" y="74"/>
                  <a:pt x="3900" y="79"/>
                </a:cubicBezTo>
                <a:cubicBezTo>
                  <a:pt x="3900" y="81"/>
                  <a:pt x="3900" y="83"/>
                  <a:pt x="3900" y="85"/>
                </a:cubicBezTo>
                <a:close/>
                <a:moveTo>
                  <a:pt x="3900" y="75"/>
                </a:moveTo>
                <a:cubicBezTo>
                  <a:pt x="3900" y="75"/>
                  <a:pt x="3900" y="75"/>
                  <a:pt x="3900" y="75"/>
                </a:cubicBezTo>
                <a:cubicBezTo>
                  <a:pt x="3900" y="73"/>
                  <a:pt x="3900" y="72"/>
                  <a:pt x="3899" y="70"/>
                </a:cubicBezTo>
                <a:cubicBezTo>
                  <a:pt x="3899" y="70"/>
                  <a:pt x="3900" y="72"/>
                  <a:pt x="3900" y="75"/>
                </a:cubicBezTo>
                <a:cubicBezTo>
                  <a:pt x="3897" y="71"/>
                  <a:pt x="3895" y="67"/>
                  <a:pt x="3891" y="64"/>
                </a:cubicBezTo>
                <a:cubicBezTo>
                  <a:pt x="3892" y="60"/>
                  <a:pt x="3892" y="57"/>
                  <a:pt x="3893" y="54"/>
                </a:cubicBezTo>
                <a:cubicBezTo>
                  <a:pt x="3896" y="58"/>
                  <a:pt x="3899" y="62"/>
                  <a:pt x="3901" y="65"/>
                </a:cubicBezTo>
                <a:cubicBezTo>
                  <a:pt x="3901" y="68"/>
                  <a:pt x="3900" y="71"/>
                  <a:pt x="3900" y="75"/>
                </a:cubicBezTo>
                <a:close/>
                <a:moveTo>
                  <a:pt x="3904" y="117"/>
                </a:moveTo>
                <a:cubicBezTo>
                  <a:pt x="3903" y="119"/>
                  <a:pt x="3902" y="122"/>
                  <a:pt x="3902" y="125"/>
                </a:cubicBezTo>
                <a:cubicBezTo>
                  <a:pt x="3902" y="124"/>
                  <a:pt x="3902" y="123"/>
                  <a:pt x="3902" y="122"/>
                </a:cubicBezTo>
                <a:cubicBezTo>
                  <a:pt x="3902" y="110"/>
                  <a:pt x="3902" y="98"/>
                  <a:pt x="3903" y="87"/>
                </a:cubicBezTo>
                <a:cubicBezTo>
                  <a:pt x="3904" y="92"/>
                  <a:pt x="3905" y="98"/>
                  <a:pt x="3906" y="103"/>
                </a:cubicBezTo>
                <a:cubicBezTo>
                  <a:pt x="3905" y="108"/>
                  <a:pt x="3904" y="112"/>
                  <a:pt x="3904" y="117"/>
                </a:cubicBezTo>
                <a:close/>
                <a:moveTo>
                  <a:pt x="3907" y="89"/>
                </a:moveTo>
                <a:cubicBezTo>
                  <a:pt x="3906" y="86"/>
                  <a:pt x="3904" y="83"/>
                  <a:pt x="3903" y="80"/>
                </a:cubicBezTo>
                <a:cubicBezTo>
                  <a:pt x="3903" y="76"/>
                  <a:pt x="3903" y="72"/>
                  <a:pt x="3903" y="68"/>
                </a:cubicBezTo>
                <a:cubicBezTo>
                  <a:pt x="3905" y="71"/>
                  <a:pt x="3907" y="74"/>
                  <a:pt x="3909" y="78"/>
                </a:cubicBezTo>
                <a:cubicBezTo>
                  <a:pt x="3908" y="81"/>
                  <a:pt x="3908" y="85"/>
                  <a:pt x="3907" y="89"/>
                </a:cubicBezTo>
                <a:close/>
                <a:moveTo>
                  <a:pt x="3912" y="96"/>
                </a:moveTo>
                <a:cubicBezTo>
                  <a:pt x="3912" y="97"/>
                  <a:pt x="3911" y="98"/>
                  <a:pt x="3911" y="99"/>
                </a:cubicBezTo>
                <a:cubicBezTo>
                  <a:pt x="3910" y="98"/>
                  <a:pt x="3910" y="97"/>
                  <a:pt x="3910" y="96"/>
                </a:cubicBezTo>
                <a:cubicBezTo>
                  <a:pt x="3910" y="91"/>
                  <a:pt x="3910" y="86"/>
                  <a:pt x="3910" y="80"/>
                </a:cubicBezTo>
                <a:cubicBezTo>
                  <a:pt x="3911" y="83"/>
                  <a:pt x="3912" y="86"/>
                  <a:pt x="3913" y="88"/>
                </a:cubicBezTo>
                <a:cubicBezTo>
                  <a:pt x="3913" y="91"/>
                  <a:pt x="3913" y="93"/>
                  <a:pt x="3912" y="96"/>
                </a:cubicBezTo>
                <a:close/>
                <a:moveTo>
                  <a:pt x="3934" y="105"/>
                </a:moveTo>
                <a:cubicBezTo>
                  <a:pt x="3933" y="103"/>
                  <a:pt x="3933" y="102"/>
                  <a:pt x="3932" y="101"/>
                </a:cubicBezTo>
                <a:cubicBezTo>
                  <a:pt x="3934" y="96"/>
                  <a:pt x="3935" y="92"/>
                  <a:pt x="3936" y="89"/>
                </a:cubicBezTo>
                <a:cubicBezTo>
                  <a:pt x="3936" y="89"/>
                  <a:pt x="3937" y="89"/>
                  <a:pt x="3937" y="90"/>
                </a:cubicBezTo>
                <a:cubicBezTo>
                  <a:pt x="3936" y="95"/>
                  <a:pt x="3935" y="100"/>
                  <a:pt x="3934" y="105"/>
                </a:cubicBezTo>
                <a:close/>
                <a:moveTo>
                  <a:pt x="3950" y="81"/>
                </a:moveTo>
                <a:cubicBezTo>
                  <a:pt x="3950" y="81"/>
                  <a:pt x="3950" y="81"/>
                  <a:pt x="3951" y="81"/>
                </a:cubicBezTo>
                <a:cubicBezTo>
                  <a:pt x="3950" y="81"/>
                  <a:pt x="3950" y="81"/>
                  <a:pt x="3950" y="81"/>
                </a:cubicBezTo>
                <a:cubicBezTo>
                  <a:pt x="3950" y="81"/>
                  <a:pt x="3950" y="81"/>
                  <a:pt x="3950" y="81"/>
                </a:cubicBezTo>
                <a:close/>
                <a:moveTo>
                  <a:pt x="3950" y="88"/>
                </a:moveTo>
                <a:cubicBezTo>
                  <a:pt x="3950" y="89"/>
                  <a:pt x="3950" y="89"/>
                  <a:pt x="3950" y="89"/>
                </a:cubicBezTo>
                <a:cubicBezTo>
                  <a:pt x="3950" y="90"/>
                  <a:pt x="3950" y="91"/>
                  <a:pt x="3949" y="91"/>
                </a:cubicBezTo>
                <a:cubicBezTo>
                  <a:pt x="3950" y="90"/>
                  <a:pt x="3950" y="89"/>
                  <a:pt x="3950" y="88"/>
                </a:cubicBezTo>
                <a:close/>
                <a:moveTo>
                  <a:pt x="3941" y="122"/>
                </a:moveTo>
                <a:cubicBezTo>
                  <a:pt x="3941" y="122"/>
                  <a:pt x="3941" y="123"/>
                  <a:pt x="3941" y="123"/>
                </a:cubicBezTo>
                <a:cubicBezTo>
                  <a:pt x="3941" y="123"/>
                  <a:pt x="3941" y="123"/>
                  <a:pt x="3941" y="123"/>
                </a:cubicBezTo>
                <a:cubicBezTo>
                  <a:pt x="3941" y="123"/>
                  <a:pt x="3941" y="122"/>
                  <a:pt x="3941" y="122"/>
                </a:cubicBezTo>
                <a:cubicBezTo>
                  <a:pt x="3941" y="120"/>
                  <a:pt x="3942" y="118"/>
                  <a:pt x="3942" y="115"/>
                </a:cubicBezTo>
                <a:cubicBezTo>
                  <a:pt x="3942" y="115"/>
                  <a:pt x="3942" y="115"/>
                  <a:pt x="3942" y="115"/>
                </a:cubicBezTo>
                <a:cubicBezTo>
                  <a:pt x="3942" y="116"/>
                  <a:pt x="3942" y="117"/>
                  <a:pt x="3942" y="118"/>
                </a:cubicBezTo>
                <a:cubicBezTo>
                  <a:pt x="3942" y="119"/>
                  <a:pt x="3941" y="121"/>
                  <a:pt x="3941" y="122"/>
                </a:cubicBezTo>
                <a:close/>
                <a:moveTo>
                  <a:pt x="3943" y="70"/>
                </a:moveTo>
                <a:cubicBezTo>
                  <a:pt x="3946" y="73"/>
                  <a:pt x="3948" y="76"/>
                  <a:pt x="3949" y="79"/>
                </a:cubicBezTo>
                <a:cubicBezTo>
                  <a:pt x="3949" y="81"/>
                  <a:pt x="3949" y="82"/>
                  <a:pt x="3948" y="84"/>
                </a:cubicBezTo>
                <a:cubicBezTo>
                  <a:pt x="3948" y="84"/>
                  <a:pt x="3948" y="84"/>
                  <a:pt x="3948" y="84"/>
                </a:cubicBezTo>
                <a:cubicBezTo>
                  <a:pt x="3948" y="82"/>
                  <a:pt x="3947" y="81"/>
                  <a:pt x="3946" y="79"/>
                </a:cubicBezTo>
                <a:cubicBezTo>
                  <a:pt x="3947" y="81"/>
                  <a:pt x="3947" y="83"/>
                  <a:pt x="3948" y="84"/>
                </a:cubicBezTo>
                <a:cubicBezTo>
                  <a:pt x="3946" y="87"/>
                  <a:pt x="3945" y="90"/>
                  <a:pt x="3943" y="93"/>
                </a:cubicBezTo>
                <a:cubicBezTo>
                  <a:pt x="3944" y="85"/>
                  <a:pt x="3944" y="77"/>
                  <a:pt x="3943" y="70"/>
                </a:cubicBezTo>
                <a:close/>
                <a:moveTo>
                  <a:pt x="3946" y="98"/>
                </a:moveTo>
                <a:cubicBezTo>
                  <a:pt x="3946" y="98"/>
                  <a:pt x="3946" y="97"/>
                  <a:pt x="3945" y="96"/>
                </a:cubicBezTo>
                <a:cubicBezTo>
                  <a:pt x="3946" y="97"/>
                  <a:pt x="3946" y="98"/>
                  <a:pt x="3946" y="98"/>
                </a:cubicBezTo>
                <a:cubicBezTo>
                  <a:pt x="3946" y="99"/>
                  <a:pt x="3946" y="100"/>
                  <a:pt x="3945" y="100"/>
                </a:cubicBezTo>
                <a:cubicBezTo>
                  <a:pt x="3945" y="99"/>
                  <a:pt x="3945" y="98"/>
                  <a:pt x="3944" y="97"/>
                </a:cubicBezTo>
                <a:cubicBezTo>
                  <a:pt x="3945" y="95"/>
                  <a:pt x="3946" y="93"/>
                  <a:pt x="3947" y="90"/>
                </a:cubicBezTo>
                <a:cubicBezTo>
                  <a:pt x="3947" y="93"/>
                  <a:pt x="3946" y="96"/>
                  <a:pt x="3946" y="98"/>
                </a:cubicBezTo>
                <a:close/>
                <a:moveTo>
                  <a:pt x="3953" y="100"/>
                </a:moveTo>
                <a:cubicBezTo>
                  <a:pt x="3951" y="104"/>
                  <a:pt x="3950" y="107"/>
                  <a:pt x="3948" y="110"/>
                </a:cubicBezTo>
                <a:cubicBezTo>
                  <a:pt x="3948" y="110"/>
                  <a:pt x="3948" y="109"/>
                  <a:pt x="3948" y="109"/>
                </a:cubicBezTo>
                <a:cubicBezTo>
                  <a:pt x="3948" y="106"/>
                  <a:pt x="3949" y="102"/>
                  <a:pt x="3949" y="99"/>
                </a:cubicBezTo>
                <a:cubicBezTo>
                  <a:pt x="3950" y="95"/>
                  <a:pt x="3950" y="92"/>
                  <a:pt x="3950" y="90"/>
                </a:cubicBezTo>
                <a:cubicBezTo>
                  <a:pt x="3951" y="93"/>
                  <a:pt x="3952" y="96"/>
                  <a:pt x="3953" y="100"/>
                </a:cubicBezTo>
                <a:cubicBezTo>
                  <a:pt x="3953" y="100"/>
                  <a:pt x="3953" y="100"/>
                  <a:pt x="3953" y="100"/>
                </a:cubicBezTo>
                <a:close/>
                <a:moveTo>
                  <a:pt x="3953" y="97"/>
                </a:moveTo>
                <a:cubicBezTo>
                  <a:pt x="3952" y="95"/>
                  <a:pt x="3951" y="92"/>
                  <a:pt x="3950" y="89"/>
                </a:cubicBezTo>
                <a:cubicBezTo>
                  <a:pt x="3950" y="89"/>
                  <a:pt x="3950" y="89"/>
                  <a:pt x="3950" y="88"/>
                </a:cubicBezTo>
                <a:cubicBezTo>
                  <a:pt x="3950" y="89"/>
                  <a:pt x="3950" y="89"/>
                  <a:pt x="3950" y="89"/>
                </a:cubicBezTo>
                <a:cubicBezTo>
                  <a:pt x="3950" y="89"/>
                  <a:pt x="3950" y="88"/>
                  <a:pt x="3950" y="88"/>
                </a:cubicBezTo>
                <a:cubicBezTo>
                  <a:pt x="3950" y="87"/>
                  <a:pt x="3950" y="86"/>
                  <a:pt x="3950" y="85"/>
                </a:cubicBezTo>
                <a:cubicBezTo>
                  <a:pt x="3950" y="84"/>
                  <a:pt x="3951" y="83"/>
                  <a:pt x="3951" y="82"/>
                </a:cubicBezTo>
                <a:cubicBezTo>
                  <a:pt x="3952" y="84"/>
                  <a:pt x="3953" y="86"/>
                  <a:pt x="3954" y="88"/>
                </a:cubicBezTo>
                <a:cubicBezTo>
                  <a:pt x="3954" y="91"/>
                  <a:pt x="3954" y="94"/>
                  <a:pt x="3953" y="97"/>
                </a:cubicBezTo>
                <a:close/>
                <a:moveTo>
                  <a:pt x="3955" y="135"/>
                </a:moveTo>
                <a:cubicBezTo>
                  <a:pt x="3955" y="136"/>
                  <a:pt x="3955" y="137"/>
                  <a:pt x="3955" y="138"/>
                </a:cubicBezTo>
                <a:cubicBezTo>
                  <a:pt x="3955" y="137"/>
                  <a:pt x="3955" y="136"/>
                  <a:pt x="3955" y="135"/>
                </a:cubicBezTo>
                <a:cubicBezTo>
                  <a:pt x="3955" y="135"/>
                  <a:pt x="3955" y="135"/>
                  <a:pt x="3955" y="135"/>
                </a:cubicBezTo>
                <a:close/>
                <a:moveTo>
                  <a:pt x="3955" y="83"/>
                </a:moveTo>
                <a:cubicBezTo>
                  <a:pt x="3954" y="82"/>
                  <a:pt x="3953" y="81"/>
                  <a:pt x="3953" y="80"/>
                </a:cubicBezTo>
                <a:cubicBezTo>
                  <a:pt x="3954" y="78"/>
                  <a:pt x="3955" y="77"/>
                  <a:pt x="3956" y="75"/>
                </a:cubicBezTo>
                <a:cubicBezTo>
                  <a:pt x="3955" y="78"/>
                  <a:pt x="3955" y="81"/>
                  <a:pt x="3955" y="83"/>
                </a:cubicBezTo>
                <a:close/>
                <a:moveTo>
                  <a:pt x="3956" y="74"/>
                </a:moveTo>
                <a:cubicBezTo>
                  <a:pt x="3954" y="76"/>
                  <a:pt x="3953" y="77"/>
                  <a:pt x="3952" y="79"/>
                </a:cubicBezTo>
                <a:cubicBezTo>
                  <a:pt x="3951" y="78"/>
                  <a:pt x="3951" y="78"/>
                  <a:pt x="3951" y="77"/>
                </a:cubicBezTo>
                <a:cubicBezTo>
                  <a:pt x="3951" y="72"/>
                  <a:pt x="3951" y="67"/>
                  <a:pt x="3952" y="65"/>
                </a:cubicBezTo>
                <a:cubicBezTo>
                  <a:pt x="3953" y="67"/>
                  <a:pt x="3954" y="70"/>
                  <a:pt x="3956" y="72"/>
                </a:cubicBezTo>
                <a:cubicBezTo>
                  <a:pt x="3956" y="73"/>
                  <a:pt x="3956" y="73"/>
                  <a:pt x="3956" y="74"/>
                </a:cubicBezTo>
                <a:close/>
                <a:moveTo>
                  <a:pt x="3958" y="75"/>
                </a:moveTo>
                <a:cubicBezTo>
                  <a:pt x="3959" y="78"/>
                  <a:pt x="3961" y="81"/>
                  <a:pt x="3963" y="84"/>
                </a:cubicBezTo>
                <a:cubicBezTo>
                  <a:pt x="3961" y="86"/>
                  <a:pt x="3960" y="88"/>
                  <a:pt x="3959" y="90"/>
                </a:cubicBezTo>
                <a:cubicBezTo>
                  <a:pt x="3959" y="89"/>
                  <a:pt x="3958" y="89"/>
                  <a:pt x="3958" y="89"/>
                </a:cubicBezTo>
                <a:cubicBezTo>
                  <a:pt x="3958" y="84"/>
                  <a:pt x="3958" y="79"/>
                  <a:pt x="3958" y="75"/>
                </a:cubicBezTo>
                <a:close/>
                <a:moveTo>
                  <a:pt x="3960" y="110"/>
                </a:moveTo>
                <a:cubicBezTo>
                  <a:pt x="3960" y="107"/>
                  <a:pt x="3959" y="104"/>
                  <a:pt x="3958" y="101"/>
                </a:cubicBezTo>
                <a:cubicBezTo>
                  <a:pt x="3958" y="100"/>
                  <a:pt x="3958" y="100"/>
                  <a:pt x="3958" y="100"/>
                </a:cubicBezTo>
                <a:cubicBezTo>
                  <a:pt x="3958" y="100"/>
                  <a:pt x="3959" y="99"/>
                  <a:pt x="3959" y="99"/>
                </a:cubicBezTo>
                <a:cubicBezTo>
                  <a:pt x="3960" y="101"/>
                  <a:pt x="3960" y="104"/>
                  <a:pt x="3961" y="106"/>
                </a:cubicBezTo>
                <a:cubicBezTo>
                  <a:pt x="3961" y="108"/>
                  <a:pt x="3961" y="109"/>
                  <a:pt x="3960" y="110"/>
                </a:cubicBezTo>
                <a:close/>
                <a:moveTo>
                  <a:pt x="3961" y="93"/>
                </a:moveTo>
                <a:cubicBezTo>
                  <a:pt x="3962" y="91"/>
                  <a:pt x="3963" y="88"/>
                  <a:pt x="3964" y="86"/>
                </a:cubicBezTo>
                <a:cubicBezTo>
                  <a:pt x="3964" y="87"/>
                  <a:pt x="3965" y="87"/>
                  <a:pt x="3965" y="88"/>
                </a:cubicBezTo>
                <a:cubicBezTo>
                  <a:pt x="3964" y="91"/>
                  <a:pt x="3964" y="94"/>
                  <a:pt x="3963" y="97"/>
                </a:cubicBezTo>
                <a:cubicBezTo>
                  <a:pt x="3962" y="96"/>
                  <a:pt x="3961" y="95"/>
                  <a:pt x="3961" y="93"/>
                </a:cubicBezTo>
                <a:close/>
                <a:moveTo>
                  <a:pt x="3964" y="130"/>
                </a:moveTo>
                <a:cubicBezTo>
                  <a:pt x="3964" y="129"/>
                  <a:pt x="3964" y="128"/>
                  <a:pt x="3964" y="126"/>
                </a:cubicBezTo>
                <a:cubicBezTo>
                  <a:pt x="3964" y="124"/>
                  <a:pt x="3964" y="121"/>
                  <a:pt x="3965" y="119"/>
                </a:cubicBezTo>
                <a:cubicBezTo>
                  <a:pt x="3965" y="120"/>
                  <a:pt x="3966" y="122"/>
                  <a:pt x="3966" y="124"/>
                </a:cubicBezTo>
                <a:cubicBezTo>
                  <a:pt x="3965" y="126"/>
                  <a:pt x="3965" y="128"/>
                  <a:pt x="3964" y="130"/>
                </a:cubicBezTo>
                <a:close/>
                <a:moveTo>
                  <a:pt x="3968" y="108"/>
                </a:moveTo>
                <a:cubicBezTo>
                  <a:pt x="3968" y="107"/>
                  <a:pt x="3967" y="106"/>
                  <a:pt x="3967" y="105"/>
                </a:cubicBezTo>
                <a:cubicBezTo>
                  <a:pt x="3967" y="102"/>
                  <a:pt x="3968" y="99"/>
                  <a:pt x="3969" y="96"/>
                </a:cubicBezTo>
                <a:cubicBezTo>
                  <a:pt x="3969" y="96"/>
                  <a:pt x="3969" y="97"/>
                  <a:pt x="3969" y="97"/>
                </a:cubicBezTo>
                <a:cubicBezTo>
                  <a:pt x="3969" y="101"/>
                  <a:pt x="3968" y="105"/>
                  <a:pt x="3968" y="108"/>
                </a:cubicBezTo>
                <a:close/>
                <a:moveTo>
                  <a:pt x="3970" y="86"/>
                </a:moveTo>
                <a:cubicBezTo>
                  <a:pt x="3970" y="86"/>
                  <a:pt x="3970" y="86"/>
                  <a:pt x="3970" y="86"/>
                </a:cubicBezTo>
                <a:cubicBezTo>
                  <a:pt x="3970" y="85"/>
                  <a:pt x="3971" y="84"/>
                  <a:pt x="3971" y="83"/>
                </a:cubicBezTo>
                <a:cubicBezTo>
                  <a:pt x="3971" y="84"/>
                  <a:pt x="3970" y="85"/>
                  <a:pt x="3970" y="86"/>
                </a:cubicBezTo>
                <a:close/>
                <a:moveTo>
                  <a:pt x="3978" y="80"/>
                </a:moveTo>
                <a:cubicBezTo>
                  <a:pt x="3978" y="77"/>
                  <a:pt x="3978" y="75"/>
                  <a:pt x="3978" y="73"/>
                </a:cubicBezTo>
                <a:cubicBezTo>
                  <a:pt x="3979" y="73"/>
                  <a:pt x="3979" y="74"/>
                  <a:pt x="3979" y="74"/>
                </a:cubicBezTo>
                <a:cubicBezTo>
                  <a:pt x="3979" y="76"/>
                  <a:pt x="3979" y="78"/>
                  <a:pt x="3978" y="80"/>
                </a:cubicBezTo>
                <a:close/>
                <a:moveTo>
                  <a:pt x="3990" y="93"/>
                </a:moveTo>
                <a:cubicBezTo>
                  <a:pt x="3989" y="95"/>
                  <a:pt x="3989" y="96"/>
                  <a:pt x="3988" y="97"/>
                </a:cubicBezTo>
                <a:cubicBezTo>
                  <a:pt x="3988" y="94"/>
                  <a:pt x="3988" y="91"/>
                  <a:pt x="3987" y="88"/>
                </a:cubicBezTo>
                <a:cubicBezTo>
                  <a:pt x="3988" y="89"/>
                  <a:pt x="3989" y="91"/>
                  <a:pt x="3990" y="93"/>
                </a:cubicBezTo>
                <a:close/>
                <a:moveTo>
                  <a:pt x="3991" y="88"/>
                </a:moveTo>
                <a:cubicBezTo>
                  <a:pt x="3990" y="86"/>
                  <a:pt x="3989" y="85"/>
                  <a:pt x="3988" y="84"/>
                </a:cubicBezTo>
                <a:cubicBezTo>
                  <a:pt x="3989" y="81"/>
                  <a:pt x="3991" y="78"/>
                  <a:pt x="3993" y="75"/>
                </a:cubicBezTo>
                <a:cubicBezTo>
                  <a:pt x="3992" y="79"/>
                  <a:pt x="3991" y="84"/>
                  <a:pt x="3991" y="88"/>
                </a:cubicBezTo>
                <a:close/>
                <a:moveTo>
                  <a:pt x="4000" y="77"/>
                </a:moveTo>
                <a:cubicBezTo>
                  <a:pt x="4000" y="77"/>
                  <a:pt x="4000" y="77"/>
                  <a:pt x="4000" y="77"/>
                </a:cubicBezTo>
                <a:cubicBezTo>
                  <a:pt x="4000" y="74"/>
                  <a:pt x="3999" y="70"/>
                  <a:pt x="3999" y="66"/>
                </a:cubicBezTo>
                <a:cubicBezTo>
                  <a:pt x="3999" y="65"/>
                  <a:pt x="4000" y="64"/>
                  <a:pt x="4000" y="63"/>
                </a:cubicBezTo>
                <a:cubicBezTo>
                  <a:pt x="4001" y="67"/>
                  <a:pt x="4001" y="72"/>
                  <a:pt x="4000" y="77"/>
                </a:cubicBezTo>
                <a:close/>
                <a:moveTo>
                  <a:pt x="4003" y="72"/>
                </a:moveTo>
                <a:cubicBezTo>
                  <a:pt x="4003" y="67"/>
                  <a:pt x="4002" y="64"/>
                  <a:pt x="4001" y="61"/>
                </a:cubicBezTo>
                <a:cubicBezTo>
                  <a:pt x="4002" y="60"/>
                  <a:pt x="4003" y="58"/>
                  <a:pt x="4004" y="57"/>
                </a:cubicBezTo>
                <a:cubicBezTo>
                  <a:pt x="4004" y="62"/>
                  <a:pt x="4004" y="67"/>
                  <a:pt x="4003" y="72"/>
                </a:cubicBezTo>
                <a:close/>
                <a:moveTo>
                  <a:pt x="4019" y="89"/>
                </a:moveTo>
                <a:cubicBezTo>
                  <a:pt x="4020" y="91"/>
                  <a:pt x="4021" y="92"/>
                  <a:pt x="4021" y="94"/>
                </a:cubicBezTo>
                <a:cubicBezTo>
                  <a:pt x="4021" y="95"/>
                  <a:pt x="4020" y="97"/>
                  <a:pt x="4020" y="98"/>
                </a:cubicBezTo>
                <a:cubicBezTo>
                  <a:pt x="4019" y="97"/>
                  <a:pt x="4019" y="96"/>
                  <a:pt x="4018" y="95"/>
                </a:cubicBezTo>
                <a:cubicBezTo>
                  <a:pt x="4018" y="93"/>
                  <a:pt x="4019" y="91"/>
                  <a:pt x="4019" y="89"/>
                </a:cubicBezTo>
                <a:close/>
                <a:moveTo>
                  <a:pt x="4018" y="101"/>
                </a:moveTo>
                <a:cubicBezTo>
                  <a:pt x="4018" y="101"/>
                  <a:pt x="4018" y="100"/>
                  <a:pt x="4018" y="100"/>
                </a:cubicBezTo>
                <a:cubicBezTo>
                  <a:pt x="4018" y="100"/>
                  <a:pt x="4018" y="101"/>
                  <a:pt x="4018" y="101"/>
                </a:cubicBezTo>
                <a:cubicBezTo>
                  <a:pt x="4018" y="101"/>
                  <a:pt x="4018" y="101"/>
                  <a:pt x="4018" y="101"/>
                </a:cubicBezTo>
                <a:close/>
                <a:moveTo>
                  <a:pt x="4020" y="122"/>
                </a:moveTo>
                <a:cubicBezTo>
                  <a:pt x="4020" y="121"/>
                  <a:pt x="4019" y="120"/>
                  <a:pt x="4019" y="119"/>
                </a:cubicBezTo>
                <a:cubicBezTo>
                  <a:pt x="4019" y="117"/>
                  <a:pt x="4019" y="115"/>
                  <a:pt x="4019" y="112"/>
                </a:cubicBezTo>
                <a:cubicBezTo>
                  <a:pt x="4019" y="110"/>
                  <a:pt x="4019" y="108"/>
                  <a:pt x="4020" y="106"/>
                </a:cubicBezTo>
                <a:cubicBezTo>
                  <a:pt x="4020" y="108"/>
                  <a:pt x="4021" y="110"/>
                  <a:pt x="4021" y="112"/>
                </a:cubicBezTo>
                <a:cubicBezTo>
                  <a:pt x="4021" y="115"/>
                  <a:pt x="4021" y="119"/>
                  <a:pt x="4020" y="122"/>
                </a:cubicBezTo>
                <a:close/>
                <a:moveTo>
                  <a:pt x="4022" y="103"/>
                </a:moveTo>
                <a:cubicBezTo>
                  <a:pt x="4022" y="102"/>
                  <a:pt x="4021" y="101"/>
                  <a:pt x="4021" y="100"/>
                </a:cubicBezTo>
                <a:cubicBezTo>
                  <a:pt x="4021" y="99"/>
                  <a:pt x="4022" y="97"/>
                  <a:pt x="4022" y="96"/>
                </a:cubicBezTo>
                <a:cubicBezTo>
                  <a:pt x="4022" y="97"/>
                  <a:pt x="4023" y="97"/>
                  <a:pt x="4023" y="98"/>
                </a:cubicBezTo>
                <a:cubicBezTo>
                  <a:pt x="4023" y="100"/>
                  <a:pt x="4022" y="101"/>
                  <a:pt x="4022" y="103"/>
                </a:cubicBezTo>
                <a:close/>
                <a:moveTo>
                  <a:pt x="4023" y="96"/>
                </a:moveTo>
                <a:cubicBezTo>
                  <a:pt x="4023" y="95"/>
                  <a:pt x="4023" y="95"/>
                  <a:pt x="4022" y="95"/>
                </a:cubicBezTo>
                <a:cubicBezTo>
                  <a:pt x="4023" y="93"/>
                  <a:pt x="4023" y="92"/>
                  <a:pt x="4024" y="91"/>
                </a:cubicBezTo>
                <a:cubicBezTo>
                  <a:pt x="4023" y="93"/>
                  <a:pt x="4023" y="94"/>
                  <a:pt x="4023" y="96"/>
                </a:cubicBezTo>
                <a:close/>
                <a:moveTo>
                  <a:pt x="4029" y="95"/>
                </a:moveTo>
                <a:cubicBezTo>
                  <a:pt x="4029" y="92"/>
                  <a:pt x="4030" y="89"/>
                  <a:pt x="4030" y="86"/>
                </a:cubicBezTo>
                <a:cubicBezTo>
                  <a:pt x="4030" y="86"/>
                  <a:pt x="4031" y="87"/>
                  <a:pt x="4031" y="88"/>
                </a:cubicBezTo>
                <a:cubicBezTo>
                  <a:pt x="4031" y="90"/>
                  <a:pt x="4030" y="92"/>
                  <a:pt x="4029" y="95"/>
                </a:cubicBezTo>
                <a:close/>
                <a:moveTo>
                  <a:pt x="4040" y="99"/>
                </a:moveTo>
                <a:cubicBezTo>
                  <a:pt x="4040" y="99"/>
                  <a:pt x="4039" y="98"/>
                  <a:pt x="4039" y="97"/>
                </a:cubicBezTo>
                <a:cubicBezTo>
                  <a:pt x="4039" y="93"/>
                  <a:pt x="4039" y="89"/>
                  <a:pt x="4039" y="84"/>
                </a:cubicBezTo>
                <a:cubicBezTo>
                  <a:pt x="4040" y="80"/>
                  <a:pt x="4043" y="76"/>
                  <a:pt x="4045" y="72"/>
                </a:cubicBezTo>
                <a:cubicBezTo>
                  <a:pt x="4046" y="74"/>
                  <a:pt x="4046" y="78"/>
                  <a:pt x="4047" y="82"/>
                </a:cubicBezTo>
                <a:cubicBezTo>
                  <a:pt x="4044" y="88"/>
                  <a:pt x="4042" y="93"/>
                  <a:pt x="4040" y="99"/>
                </a:cubicBezTo>
                <a:close/>
                <a:moveTo>
                  <a:pt x="4048" y="75"/>
                </a:moveTo>
                <a:cubicBezTo>
                  <a:pt x="4048" y="73"/>
                  <a:pt x="4047" y="71"/>
                  <a:pt x="4047" y="69"/>
                </a:cubicBezTo>
                <a:cubicBezTo>
                  <a:pt x="4048" y="68"/>
                  <a:pt x="4048" y="67"/>
                  <a:pt x="4049" y="66"/>
                </a:cubicBezTo>
                <a:cubicBezTo>
                  <a:pt x="4049" y="69"/>
                  <a:pt x="4048" y="72"/>
                  <a:pt x="4048" y="75"/>
                </a:cubicBezTo>
                <a:close/>
                <a:moveTo>
                  <a:pt x="4056" y="72"/>
                </a:moveTo>
                <a:cubicBezTo>
                  <a:pt x="4056" y="71"/>
                  <a:pt x="4056" y="70"/>
                  <a:pt x="4056" y="70"/>
                </a:cubicBezTo>
                <a:cubicBezTo>
                  <a:pt x="4056" y="69"/>
                  <a:pt x="4056" y="69"/>
                  <a:pt x="4056" y="69"/>
                </a:cubicBezTo>
                <a:cubicBezTo>
                  <a:pt x="4056" y="71"/>
                  <a:pt x="4056" y="72"/>
                  <a:pt x="4056" y="72"/>
                </a:cubicBezTo>
                <a:close/>
                <a:moveTo>
                  <a:pt x="4056" y="67"/>
                </a:moveTo>
                <a:cubicBezTo>
                  <a:pt x="4056" y="67"/>
                  <a:pt x="4056" y="68"/>
                  <a:pt x="4056" y="68"/>
                </a:cubicBezTo>
                <a:cubicBezTo>
                  <a:pt x="4056" y="65"/>
                  <a:pt x="4055" y="61"/>
                  <a:pt x="4055" y="58"/>
                </a:cubicBezTo>
                <a:cubicBezTo>
                  <a:pt x="4055" y="57"/>
                  <a:pt x="4056" y="56"/>
                  <a:pt x="4057" y="56"/>
                </a:cubicBezTo>
                <a:cubicBezTo>
                  <a:pt x="4056" y="60"/>
                  <a:pt x="4056" y="64"/>
                  <a:pt x="4056" y="67"/>
                </a:cubicBezTo>
                <a:close/>
                <a:moveTo>
                  <a:pt x="4064" y="123"/>
                </a:moveTo>
                <a:cubicBezTo>
                  <a:pt x="4063" y="124"/>
                  <a:pt x="4062" y="126"/>
                  <a:pt x="4062" y="127"/>
                </a:cubicBezTo>
                <a:cubicBezTo>
                  <a:pt x="4062" y="124"/>
                  <a:pt x="4062" y="122"/>
                  <a:pt x="4061" y="119"/>
                </a:cubicBezTo>
                <a:cubicBezTo>
                  <a:pt x="4063" y="116"/>
                  <a:pt x="4064" y="112"/>
                  <a:pt x="4065" y="109"/>
                </a:cubicBezTo>
                <a:cubicBezTo>
                  <a:pt x="4065" y="111"/>
                  <a:pt x="4065" y="112"/>
                  <a:pt x="4065" y="114"/>
                </a:cubicBezTo>
                <a:cubicBezTo>
                  <a:pt x="4065" y="117"/>
                  <a:pt x="4064" y="120"/>
                  <a:pt x="4064" y="123"/>
                </a:cubicBezTo>
                <a:close/>
                <a:moveTo>
                  <a:pt x="4066" y="110"/>
                </a:moveTo>
                <a:cubicBezTo>
                  <a:pt x="4066" y="111"/>
                  <a:pt x="4066" y="112"/>
                  <a:pt x="4065" y="112"/>
                </a:cubicBezTo>
                <a:cubicBezTo>
                  <a:pt x="4065" y="111"/>
                  <a:pt x="4065" y="110"/>
                  <a:pt x="4065" y="109"/>
                </a:cubicBezTo>
                <a:cubicBezTo>
                  <a:pt x="4065" y="107"/>
                  <a:pt x="4066" y="105"/>
                  <a:pt x="4066" y="102"/>
                </a:cubicBezTo>
                <a:cubicBezTo>
                  <a:pt x="4066" y="105"/>
                  <a:pt x="4066" y="108"/>
                  <a:pt x="4066" y="110"/>
                </a:cubicBezTo>
                <a:close/>
                <a:moveTo>
                  <a:pt x="4068" y="83"/>
                </a:moveTo>
                <a:cubicBezTo>
                  <a:pt x="4068" y="83"/>
                  <a:pt x="4068" y="84"/>
                  <a:pt x="4067" y="85"/>
                </a:cubicBezTo>
                <a:cubicBezTo>
                  <a:pt x="4067" y="85"/>
                  <a:pt x="4067" y="85"/>
                  <a:pt x="4067" y="85"/>
                </a:cubicBezTo>
                <a:cubicBezTo>
                  <a:pt x="4067" y="85"/>
                  <a:pt x="4067" y="85"/>
                  <a:pt x="4067" y="85"/>
                </a:cubicBezTo>
                <a:cubicBezTo>
                  <a:pt x="4066" y="87"/>
                  <a:pt x="4065" y="89"/>
                  <a:pt x="4064" y="91"/>
                </a:cubicBezTo>
                <a:cubicBezTo>
                  <a:pt x="4064" y="91"/>
                  <a:pt x="4064" y="91"/>
                  <a:pt x="4064" y="91"/>
                </a:cubicBezTo>
                <a:cubicBezTo>
                  <a:pt x="4064" y="91"/>
                  <a:pt x="4064" y="91"/>
                  <a:pt x="4064" y="91"/>
                </a:cubicBezTo>
                <a:cubicBezTo>
                  <a:pt x="4064" y="92"/>
                  <a:pt x="4063" y="94"/>
                  <a:pt x="4062" y="96"/>
                </a:cubicBezTo>
                <a:cubicBezTo>
                  <a:pt x="4062" y="90"/>
                  <a:pt x="4063" y="85"/>
                  <a:pt x="4065" y="79"/>
                </a:cubicBezTo>
                <a:cubicBezTo>
                  <a:pt x="4063" y="85"/>
                  <a:pt x="4062" y="90"/>
                  <a:pt x="4060" y="95"/>
                </a:cubicBezTo>
                <a:cubicBezTo>
                  <a:pt x="4060" y="85"/>
                  <a:pt x="4061" y="74"/>
                  <a:pt x="4061" y="63"/>
                </a:cubicBezTo>
                <a:cubicBezTo>
                  <a:pt x="4064" y="60"/>
                  <a:pt x="4067" y="58"/>
                  <a:pt x="4070" y="55"/>
                </a:cubicBezTo>
                <a:cubicBezTo>
                  <a:pt x="4070" y="62"/>
                  <a:pt x="4069" y="72"/>
                  <a:pt x="4068" y="83"/>
                </a:cubicBezTo>
                <a:close/>
                <a:moveTo>
                  <a:pt x="4074" y="105"/>
                </a:moveTo>
                <a:cubicBezTo>
                  <a:pt x="4074" y="102"/>
                  <a:pt x="4074" y="99"/>
                  <a:pt x="4074" y="96"/>
                </a:cubicBezTo>
                <a:cubicBezTo>
                  <a:pt x="4074" y="97"/>
                  <a:pt x="4075" y="99"/>
                  <a:pt x="4075" y="100"/>
                </a:cubicBezTo>
                <a:cubicBezTo>
                  <a:pt x="4075" y="102"/>
                  <a:pt x="4075" y="103"/>
                  <a:pt x="4074" y="105"/>
                </a:cubicBezTo>
                <a:cubicBezTo>
                  <a:pt x="4074" y="105"/>
                  <a:pt x="4074" y="105"/>
                  <a:pt x="4074" y="105"/>
                </a:cubicBezTo>
                <a:close/>
                <a:moveTo>
                  <a:pt x="4075" y="130"/>
                </a:moveTo>
                <a:cubicBezTo>
                  <a:pt x="4075" y="130"/>
                  <a:pt x="4075" y="130"/>
                  <a:pt x="4075" y="130"/>
                </a:cubicBezTo>
                <a:cubicBezTo>
                  <a:pt x="4075" y="129"/>
                  <a:pt x="4075" y="128"/>
                  <a:pt x="4075" y="127"/>
                </a:cubicBezTo>
                <a:cubicBezTo>
                  <a:pt x="4075" y="128"/>
                  <a:pt x="4075" y="128"/>
                  <a:pt x="4076" y="129"/>
                </a:cubicBezTo>
                <a:cubicBezTo>
                  <a:pt x="4075" y="129"/>
                  <a:pt x="4075" y="130"/>
                  <a:pt x="4075" y="130"/>
                </a:cubicBezTo>
                <a:close/>
                <a:moveTo>
                  <a:pt x="4082" y="74"/>
                </a:moveTo>
                <a:cubicBezTo>
                  <a:pt x="4082" y="73"/>
                  <a:pt x="4082" y="71"/>
                  <a:pt x="4082" y="70"/>
                </a:cubicBezTo>
                <a:cubicBezTo>
                  <a:pt x="4082" y="70"/>
                  <a:pt x="4083" y="71"/>
                  <a:pt x="4083" y="72"/>
                </a:cubicBezTo>
                <a:cubicBezTo>
                  <a:pt x="4083" y="72"/>
                  <a:pt x="4083" y="73"/>
                  <a:pt x="4082" y="74"/>
                </a:cubicBezTo>
                <a:close/>
                <a:moveTo>
                  <a:pt x="4086" y="139"/>
                </a:moveTo>
                <a:cubicBezTo>
                  <a:pt x="4086" y="140"/>
                  <a:pt x="4086" y="141"/>
                  <a:pt x="4086" y="142"/>
                </a:cubicBezTo>
                <a:cubicBezTo>
                  <a:pt x="4086" y="142"/>
                  <a:pt x="4086" y="141"/>
                  <a:pt x="4086" y="139"/>
                </a:cubicBezTo>
                <a:cubicBezTo>
                  <a:pt x="4086" y="138"/>
                  <a:pt x="4086" y="137"/>
                  <a:pt x="4086" y="136"/>
                </a:cubicBezTo>
                <a:cubicBezTo>
                  <a:pt x="4086" y="137"/>
                  <a:pt x="4086" y="137"/>
                  <a:pt x="4086" y="137"/>
                </a:cubicBezTo>
                <a:cubicBezTo>
                  <a:pt x="4086" y="138"/>
                  <a:pt x="4086" y="139"/>
                  <a:pt x="4086" y="139"/>
                </a:cubicBezTo>
                <a:close/>
                <a:moveTo>
                  <a:pt x="4088" y="122"/>
                </a:moveTo>
                <a:cubicBezTo>
                  <a:pt x="4088" y="122"/>
                  <a:pt x="4088" y="122"/>
                  <a:pt x="4087" y="122"/>
                </a:cubicBezTo>
                <a:cubicBezTo>
                  <a:pt x="4088" y="121"/>
                  <a:pt x="4088" y="121"/>
                  <a:pt x="4088" y="121"/>
                </a:cubicBezTo>
                <a:cubicBezTo>
                  <a:pt x="4088" y="121"/>
                  <a:pt x="4088" y="122"/>
                  <a:pt x="4088" y="122"/>
                </a:cubicBezTo>
                <a:close/>
                <a:moveTo>
                  <a:pt x="4089" y="110"/>
                </a:moveTo>
                <a:cubicBezTo>
                  <a:pt x="4088" y="112"/>
                  <a:pt x="4087" y="114"/>
                  <a:pt x="4086" y="116"/>
                </a:cubicBezTo>
                <a:cubicBezTo>
                  <a:pt x="4086" y="116"/>
                  <a:pt x="4086" y="117"/>
                  <a:pt x="4086" y="117"/>
                </a:cubicBezTo>
                <a:cubicBezTo>
                  <a:pt x="4086" y="113"/>
                  <a:pt x="4085" y="108"/>
                  <a:pt x="4085" y="104"/>
                </a:cubicBezTo>
                <a:cubicBezTo>
                  <a:pt x="4086" y="101"/>
                  <a:pt x="4086" y="98"/>
                  <a:pt x="4087" y="96"/>
                </a:cubicBezTo>
                <a:cubicBezTo>
                  <a:pt x="4088" y="95"/>
                  <a:pt x="4088" y="95"/>
                  <a:pt x="4088" y="95"/>
                </a:cubicBezTo>
                <a:cubicBezTo>
                  <a:pt x="4088" y="98"/>
                  <a:pt x="4089" y="101"/>
                  <a:pt x="4089" y="104"/>
                </a:cubicBezTo>
                <a:cubicBezTo>
                  <a:pt x="4089" y="106"/>
                  <a:pt x="4089" y="108"/>
                  <a:pt x="4089" y="110"/>
                </a:cubicBezTo>
                <a:close/>
                <a:moveTo>
                  <a:pt x="4090" y="99"/>
                </a:moveTo>
                <a:cubicBezTo>
                  <a:pt x="4089" y="97"/>
                  <a:pt x="4089" y="96"/>
                  <a:pt x="4088" y="94"/>
                </a:cubicBezTo>
                <a:cubicBezTo>
                  <a:pt x="4089" y="93"/>
                  <a:pt x="4090" y="92"/>
                  <a:pt x="4090" y="91"/>
                </a:cubicBezTo>
                <a:cubicBezTo>
                  <a:pt x="4090" y="94"/>
                  <a:pt x="4090" y="96"/>
                  <a:pt x="4090" y="99"/>
                </a:cubicBezTo>
                <a:close/>
                <a:moveTo>
                  <a:pt x="4084" y="91"/>
                </a:moveTo>
                <a:cubicBezTo>
                  <a:pt x="4084" y="89"/>
                  <a:pt x="4084" y="88"/>
                  <a:pt x="4083" y="87"/>
                </a:cubicBezTo>
                <a:cubicBezTo>
                  <a:pt x="4085" y="83"/>
                  <a:pt x="4086" y="80"/>
                  <a:pt x="4087" y="76"/>
                </a:cubicBezTo>
                <a:cubicBezTo>
                  <a:pt x="4088" y="78"/>
                  <a:pt x="4090" y="80"/>
                  <a:pt x="4091" y="82"/>
                </a:cubicBezTo>
                <a:cubicBezTo>
                  <a:pt x="4088" y="85"/>
                  <a:pt x="4086" y="88"/>
                  <a:pt x="4084" y="91"/>
                </a:cubicBezTo>
                <a:close/>
                <a:moveTo>
                  <a:pt x="4091" y="79"/>
                </a:moveTo>
                <a:cubicBezTo>
                  <a:pt x="4090" y="77"/>
                  <a:pt x="4089" y="76"/>
                  <a:pt x="4088" y="75"/>
                </a:cubicBezTo>
                <a:cubicBezTo>
                  <a:pt x="4089" y="72"/>
                  <a:pt x="4091" y="68"/>
                  <a:pt x="4092" y="65"/>
                </a:cubicBezTo>
                <a:cubicBezTo>
                  <a:pt x="4092" y="68"/>
                  <a:pt x="4092" y="73"/>
                  <a:pt x="4091" y="79"/>
                </a:cubicBezTo>
                <a:close/>
                <a:moveTo>
                  <a:pt x="4109" y="54"/>
                </a:moveTo>
                <a:cubicBezTo>
                  <a:pt x="4109" y="56"/>
                  <a:pt x="4108" y="58"/>
                  <a:pt x="4108" y="61"/>
                </a:cubicBezTo>
                <a:cubicBezTo>
                  <a:pt x="4104" y="65"/>
                  <a:pt x="4100" y="69"/>
                  <a:pt x="4097" y="74"/>
                </a:cubicBezTo>
                <a:cubicBezTo>
                  <a:pt x="4100" y="67"/>
                  <a:pt x="4104" y="60"/>
                  <a:pt x="4109" y="54"/>
                </a:cubicBezTo>
                <a:close/>
                <a:moveTo>
                  <a:pt x="4095" y="89"/>
                </a:moveTo>
                <a:cubicBezTo>
                  <a:pt x="4095" y="90"/>
                  <a:pt x="4096" y="91"/>
                  <a:pt x="4096" y="92"/>
                </a:cubicBezTo>
                <a:cubicBezTo>
                  <a:pt x="4096" y="92"/>
                  <a:pt x="4095" y="93"/>
                  <a:pt x="4095" y="94"/>
                </a:cubicBezTo>
                <a:cubicBezTo>
                  <a:pt x="4095" y="92"/>
                  <a:pt x="4095" y="91"/>
                  <a:pt x="4095" y="89"/>
                </a:cubicBezTo>
                <a:close/>
                <a:moveTo>
                  <a:pt x="4097" y="127"/>
                </a:moveTo>
                <a:cubicBezTo>
                  <a:pt x="4097" y="125"/>
                  <a:pt x="4097" y="124"/>
                  <a:pt x="4096" y="122"/>
                </a:cubicBezTo>
                <a:cubicBezTo>
                  <a:pt x="4096" y="117"/>
                  <a:pt x="4096" y="111"/>
                  <a:pt x="4096" y="105"/>
                </a:cubicBezTo>
                <a:cubicBezTo>
                  <a:pt x="4097" y="104"/>
                  <a:pt x="4097" y="102"/>
                  <a:pt x="4098" y="101"/>
                </a:cubicBezTo>
                <a:cubicBezTo>
                  <a:pt x="4097" y="102"/>
                  <a:pt x="4097" y="103"/>
                  <a:pt x="4096" y="105"/>
                </a:cubicBezTo>
                <a:cubicBezTo>
                  <a:pt x="4095" y="102"/>
                  <a:pt x="4095" y="99"/>
                  <a:pt x="4095" y="96"/>
                </a:cubicBezTo>
                <a:cubicBezTo>
                  <a:pt x="4096" y="95"/>
                  <a:pt x="4096" y="94"/>
                  <a:pt x="4096" y="93"/>
                </a:cubicBezTo>
                <a:cubicBezTo>
                  <a:pt x="4097" y="95"/>
                  <a:pt x="4098" y="97"/>
                  <a:pt x="4099" y="100"/>
                </a:cubicBezTo>
                <a:cubicBezTo>
                  <a:pt x="4099" y="100"/>
                  <a:pt x="4099" y="100"/>
                  <a:pt x="4098" y="101"/>
                </a:cubicBezTo>
                <a:cubicBezTo>
                  <a:pt x="4099" y="100"/>
                  <a:pt x="4099" y="100"/>
                  <a:pt x="4099" y="100"/>
                </a:cubicBezTo>
                <a:cubicBezTo>
                  <a:pt x="4100" y="101"/>
                  <a:pt x="4100" y="102"/>
                  <a:pt x="4101" y="103"/>
                </a:cubicBezTo>
                <a:cubicBezTo>
                  <a:pt x="4099" y="112"/>
                  <a:pt x="4098" y="120"/>
                  <a:pt x="4097" y="127"/>
                </a:cubicBezTo>
                <a:close/>
                <a:moveTo>
                  <a:pt x="4098" y="87"/>
                </a:moveTo>
                <a:cubicBezTo>
                  <a:pt x="4099" y="86"/>
                  <a:pt x="4100" y="84"/>
                  <a:pt x="4101" y="83"/>
                </a:cubicBezTo>
                <a:cubicBezTo>
                  <a:pt x="4100" y="84"/>
                  <a:pt x="4099" y="86"/>
                  <a:pt x="4098" y="87"/>
                </a:cubicBezTo>
                <a:cubicBezTo>
                  <a:pt x="4097" y="86"/>
                  <a:pt x="4096" y="85"/>
                  <a:pt x="4095" y="83"/>
                </a:cubicBezTo>
                <a:cubicBezTo>
                  <a:pt x="4099" y="78"/>
                  <a:pt x="4103" y="72"/>
                  <a:pt x="4106" y="67"/>
                </a:cubicBezTo>
                <a:cubicBezTo>
                  <a:pt x="4106" y="72"/>
                  <a:pt x="4105" y="76"/>
                  <a:pt x="4104" y="81"/>
                </a:cubicBezTo>
                <a:cubicBezTo>
                  <a:pt x="4104" y="80"/>
                  <a:pt x="4103" y="79"/>
                  <a:pt x="4103" y="79"/>
                </a:cubicBezTo>
                <a:cubicBezTo>
                  <a:pt x="4103" y="78"/>
                  <a:pt x="4104" y="77"/>
                  <a:pt x="4105" y="75"/>
                </a:cubicBezTo>
                <a:cubicBezTo>
                  <a:pt x="4104" y="76"/>
                  <a:pt x="4103" y="77"/>
                  <a:pt x="4103" y="79"/>
                </a:cubicBezTo>
                <a:cubicBezTo>
                  <a:pt x="4102" y="78"/>
                  <a:pt x="4102" y="77"/>
                  <a:pt x="4101" y="77"/>
                </a:cubicBezTo>
                <a:cubicBezTo>
                  <a:pt x="4101" y="78"/>
                  <a:pt x="4102" y="79"/>
                  <a:pt x="4102" y="79"/>
                </a:cubicBezTo>
                <a:cubicBezTo>
                  <a:pt x="4102" y="80"/>
                  <a:pt x="4101" y="81"/>
                  <a:pt x="4101" y="83"/>
                </a:cubicBezTo>
                <a:cubicBezTo>
                  <a:pt x="4101" y="82"/>
                  <a:pt x="4102" y="81"/>
                  <a:pt x="4102" y="80"/>
                </a:cubicBezTo>
                <a:cubicBezTo>
                  <a:pt x="4103" y="81"/>
                  <a:pt x="4103" y="82"/>
                  <a:pt x="4104" y="84"/>
                </a:cubicBezTo>
                <a:cubicBezTo>
                  <a:pt x="4103" y="87"/>
                  <a:pt x="4103" y="90"/>
                  <a:pt x="4102" y="93"/>
                </a:cubicBezTo>
                <a:cubicBezTo>
                  <a:pt x="4101" y="91"/>
                  <a:pt x="4100" y="89"/>
                  <a:pt x="4098" y="87"/>
                </a:cubicBezTo>
                <a:close/>
                <a:moveTo>
                  <a:pt x="4103" y="144"/>
                </a:moveTo>
                <a:cubicBezTo>
                  <a:pt x="4103" y="144"/>
                  <a:pt x="4103" y="143"/>
                  <a:pt x="4103" y="143"/>
                </a:cubicBezTo>
                <a:cubicBezTo>
                  <a:pt x="4103" y="140"/>
                  <a:pt x="4103" y="136"/>
                  <a:pt x="4103" y="131"/>
                </a:cubicBezTo>
                <a:cubicBezTo>
                  <a:pt x="4104" y="128"/>
                  <a:pt x="4105" y="126"/>
                  <a:pt x="4105" y="125"/>
                </a:cubicBezTo>
                <a:cubicBezTo>
                  <a:pt x="4105" y="125"/>
                  <a:pt x="4105" y="124"/>
                  <a:pt x="4105" y="124"/>
                </a:cubicBezTo>
                <a:cubicBezTo>
                  <a:pt x="4104" y="124"/>
                  <a:pt x="4104" y="124"/>
                  <a:pt x="4104" y="124"/>
                </a:cubicBezTo>
                <a:cubicBezTo>
                  <a:pt x="4104" y="122"/>
                  <a:pt x="4104" y="120"/>
                  <a:pt x="4104" y="118"/>
                </a:cubicBezTo>
                <a:cubicBezTo>
                  <a:pt x="4105" y="121"/>
                  <a:pt x="4106" y="125"/>
                  <a:pt x="4106" y="128"/>
                </a:cubicBezTo>
                <a:cubicBezTo>
                  <a:pt x="4105" y="136"/>
                  <a:pt x="4104" y="141"/>
                  <a:pt x="4103" y="144"/>
                </a:cubicBezTo>
                <a:close/>
                <a:moveTo>
                  <a:pt x="4110" y="107"/>
                </a:moveTo>
                <a:cubicBezTo>
                  <a:pt x="4109" y="105"/>
                  <a:pt x="4108" y="102"/>
                  <a:pt x="4106" y="100"/>
                </a:cubicBezTo>
                <a:cubicBezTo>
                  <a:pt x="4107" y="97"/>
                  <a:pt x="4107" y="95"/>
                  <a:pt x="4107" y="93"/>
                </a:cubicBezTo>
                <a:cubicBezTo>
                  <a:pt x="4108" y="96"/>
                  <a:pt x="4110" y="99"/>
                  <a:pt x="4111" y="102"/>
                </a:cubicBezTo>
                <a:cubicBezTo>
                  <a:pt x="4111" y="104"/>
                  <a:pt x="4110" y="105"/>
                  <a:pt x="4110" y="107"/>
                </a:cubicBezTo>
                <a:close/>
                <a:moveTo>
                  <a:pt x="4111" y="159"/>
                </a:moveTo>
                <a:cubicBezTo>
                  <a:pt x="4111" y="159"/>
                  <a:pt x="4111" y="159"/>
                  <a:pt x="4111" y="159"/>
                </a:cubicBezTo>
                <a:cubicBezTo>
                  <a:pt x="4111" y="159"/>
                  <a:pt x="4111" y="159"/>
                  <a:pt x="4112" y="159"/>
                </a:cubicBezTo>
                <a:cubicBezTo>
                  <a:pt x="4111" y="159"/>
                  <a:pt x="4111" y="159"/>
                  <a:pt x="4111" y="159"/>
                </a:cubicBezTo>
                <a:close/>
                <a:moveTo>
                  <a:pt x="4112" y="96"/>
                </a:moveTo>
                <a:cubicBezTo>
                  <a:pt x="4111" y="93"/>
                  <a:pt x="4109" y="91"/>
                  <a:pt x="4108" y="88"/>
                </a:cubicBezTo>
                <a:cubicBezTo>
                  <a:pt x="4110" y="85"/>
                  <a:pt x="4112" y="82"/>
                  <a:pt x="4114" y="79"/>
                </a:cubicBezTo>
                <a:cubicBezTo>
                  <a:pt x="4114" y="84"/>
                  <a:pt x="4113" y="90"/>
                  <a:pt x="4112" y="96"/>
                </a:cubicBezTo>
                <a:close/>
                <a:moveTo>
                  <a:pt x="4115" y="75"/>
                </a:moveTo>
                <a:cubicBezTo>
                  <a:pt x="4113" y="78"/>
                  <a:pt x="4110" y="82"/>
                  <a:pt x="4108" y="86"/>
                </a:cubicBezTo>
                <a:cubicBezTo>
                  <a:pt x="4109" y="77"/>
                  <a:pt x="4110" y="68"/>
                  <a:pt x="4111" y="61"/>
                </a:cubicBezTo>
                <a:cubicBezTo>
                  <a:pt x="4113" y="58"/>
                  <a:pt x="4115" y="55"/>
                  <a:pt x="4117" y="53"/>
                </a:cubicBezTo>
                <a:cubicBezTo>
                  <a:pt x="4117" y="58"/>
                  <a:pt x="4116" y="66"/>
                  <a:pt x="4115" y="75"/>
                </a:cubicBezTo>
                <a:close/>
                <a:moveTo>
                  <a:pt x="4122" y="139"/>
                </a:moveTo>
                <a:cubicBezTo>
                  <a:pt x="4122" y="139"/>
                  <a:pt x="4121" y="139"/>
                  <a:pt x="4121" y="139"/>
                </a:cubicBezTo>
                <a:cubicBezTo>
                  <a:pt x="4121" y="138"/>
                  <a:pt x="4121" y="138"/>
                  <a:pt x="4122" y="138"/>
                </a:cubicBezTo>
                <a:cubicBezTo>
                  <a:pt x="4122" y="138"/>
                  <a:pt x="4122" y="138"/>
                  <a:pt x="4122" y="138"/>
                </a:cubicBezTo>
                <a:cubicBezTo>
                  <a:pt x="4122" y="139"/>
                  <a:pt x="4122" y="139"/>
                  <a:pt x="4122" y="139"/>
                </a:cubicBezTo>
                <a:close/>
                <a:moveTo>
                  <a:pt x="4147" y="137"/>
                </a:moveTo>
                <a:cubicBezTo>
                  <a:pt x="4147" y="136"/>
                  <a:pt x="4146" y="135"/>
                  <a:pt x="4146" y="133"/>
                </a:cubicBezTo>
                <a:cubicBezTo>
                  <a:pt x="4146" y="132"/>
                  <a:pt x="4146" y="130"/>
                  <a:pt x="4146" y="128"/>
                </a:cubicBezTo>
                <a:cubicBezTo>
                  <a:pt x="4146" y="131"/>
                  <a:pt x="4147" y="133"/>
                  <a:pt x="4148" y="135"/>
                </a:cubicBezTo>
                <a:cubicBezTo>
                  <a:pt x="4148" y="136"/>
                  <a:pt x="4147" y="137"/>
                  <a:pt x="4147" y="137"/>
                </a:cubicBezTo>
                <a:close/>
                <a:moveTo>
                  <a:pt x="4153" y="99"/>
                </a:moveTo>
                <a:cubicBezTo>
                  <a:pt x="4152" y="95"/>
                  <a:pt x="4150" y="92"/>
                  <a:pt x="4148" y="90"/>
                </a:cubicBezTo>
                <a:cubicBezTo>
                  <a:pt x="4150" y="93"/>
                  <a:pt x="4152" y="97"/>
                  <a:pt x="4153" y="101"/>
                </a:cubicBezTo>
                <a:cubicBezTo>
                  <a:pt x="4152" y="110"/>
                  <a:pt x="4151" y="118"/>
                  <a:pt x="4149" y="125"/>
                </a:cubicBezTo>
                <a:cubicBezTo>
                  <a:pt x="4148" y="122"/>
                  <a:pt x="4147" y="119"/>
                  <a:pt x="4147" y="116"/>
                </a:cubicBezTo>
                <a:cubicBezTo>
                  <a:pt x="4147" y="102"/>
                  <a:pt x="4148" y="86"/>
                  <a:pt x="4149" y="72"/>
                </a:cubicBezTo>
                <a:cubicBezTo>
                  <a:pt x="4151" y="75"/>
                  <a:pt x="4154" y="79"/>
                  <a:pt x="4156" y="82"/>
                </a:cubicBezTo>
                <a:cubicBezTo>
                  <a:pt x="4155" y="88"/>
                  <a:pt x="4154" y="93"/>
                  <a:pt x="4153" y="99"/>
                </a:cubicBezTo>
                <a:close/>
                <a:moveTo>
                  <a:pt x="4156" y="142"/>
                </a:moveTo>
                <a:cubicBezTo>
                  <a:pt x="4157" y="134"/>
                  <a:pt x="4158" y="127"/>
                  <a:pt x="4158" y="121"/>
                </a:cubicBezTo>
                <a:cubicBezTo>
                  <a:pt x="4158" y="123"/>
                  <a:pt x="4159" y="125"/>
                  <a:pt x="4159" y="127"/>
                </a:cubicBezTo>
                <a:cubicBezTo>
                  <a:pt x="4158" y="136"/>
                  <a:pt x="4156" y="142"/>
                  <a:pt x="4156" y="142"/>
                </a:cubicBezTo>
                <a:close/>
                <a:moveTo>
                  <a:pt x="4160" y="144"/>
                </a:moveTo>
                <a:cubicBezTo>
                  <a:pt x="4160" y="142"/>
                  <a:pt x="4160" y="140"/>
                  <a:pt x="4161" y="137"/>
                </a:cubicBezTo>
                <a:cubicBezTo>
                  <a:pt x="4161" y="138"/>
                  <a:pt x="4161" y="138"/>
                  <a:pt x="4161" y="138"/>
                </a:cubicBezTo>
                <a:cubicBezTo>
                  <a:pt x="4160" y="142"/>
                  <a:pt x="4160" y="144"/>
                  <a:pt x="4160" y="144"/>
                </a:cubicBezTo>
                <a:close/>
                <a:moveTo>
                  <a:pt x="4159" y="110"/>
                </a:moveTo>
                <a:cubicBezTo>
                  <a:pt x="4159" y="103"/>
                  <a:pt x="4160" y="96"/>
                  <a:pt x="4160" y="90"/>
                </a:cubicBezTo>
                <a:cubicBezTo>
                  <a:pt x="4162" y="93"/>
                  <a:pt x="4163" y="96"/>
                  <a:pt x="4164" y="99"/>
                </a:cubicBezTo>
                <a:cubicBezTo>
                  <a:pt x="4163" y="105"/>
                  <a:pt x="4162" y="111"/>
                  <a:pt x="4161" y="116"/>
                </a:cubicBezTo>
                <a:cubicBezTo>
                  <a:pt x="4160" y="114"/>
                  <a:pt x="4159" y="112"/>
                  <a:pt x="4159" y="110"/>
                </a:cubicBezTo>
                <a:close/>
                <a:moveTo>
                  <a:pt x="4164" y="124"/>
                </a:moveTo>
                <a:cubicBezTo>
                  <a:pt x="4163" y="123"/>
                  <a:pt x="4163" y="122"/>
                  <a:pt x="4163" y="121"/>
                </a:cubicBezTo>
                <a:cubicBezTo>
                  <a:pt x="4163" y="115"/>
                  <a:pt x="4164" y="109"/>
                  <a:pt x="4165" y="103"/>
                </a:cubicBezTo>
                <a:cubicBezTo>
                  <a:pt x="4165" y="105"/>
                  <a:pt x="4166" y="107"/>
                  <a:pt x="4167" y="109"/>
                </a:cubicBezTo>
                <a:cubicBezTo>
                  <a:pt x="4166" y="114"/>
                  <a:pt x="4165" y="119"/>
                  <a:pt x="4164" y="124"/>
                </a:cubicBezTo>
                <a:close/>
                <a:moveTo>
                  <a:pt x="4169" y="146"/>
                </a:moveTo>
                <a:cubicBezTo>
                  <a:pt x="4169" y="145"/>
                  <a:pt x="4169" y="145"/>
                  <a:pt x="4169" y="145"/>
                </a:cubicBezTo>
                <a:cubicBezTo>
                  <a:pt x="4170" y="144"/>
                  <a:pt x="4170" y="143"/>
                  <a:pt x="4170" y="141"/>
                </a:cubicBezTo>
                <a:cubicBezTo>
                  <a:pt x="4170" y="142"/>
                  <a:pt x="4170" y="143"/>
                  <a:pt x="4170" y="144"/>
                </a:cubicBezTo>
                <a:cubicBezTo>
                  <a:pt x="4170" y="145"/>
                  <a:pt x="4170" y="145"/>
                  <a:pt x="4169" y="146"/>
                </a:cubicBezTo>
                <a:close/>
                <a:moveTo>
                  <a:pt x="4193" y="118"/>
                </a:moveTo>
                <a:cubicBezTo>
                  <a:pt x="4192" y="114"/>
                  <a:pt x="4190" y="111"/>
                  <a:pt x="4189" y="107"/>
                </a:cubicBezTo>
                <a:cubicBezTo>
                  <a:pt x="4189" y="96"/>
                  <a:pt x="4189" y="84"/>
                  <a:pt x="4189" y="74"/>
                </a:cubicBezTo>
                <a:cubicBezTo>
                  <a:pt x="4189" y="70"/>
                  <a:pt x="4189" y="67"/>
                  <a:pt x="4188" y="65"/>
                </a:cubicBezTo>
                <a:cubicBezTo>
                  <a:pt x="4189" y="74"/>
                  <a:pt x="4193" y="84"/>
                  <a:pt x="4196" y="94"/>
                </a:cubicBezTo>
                <a:cubicBezTo>
                  <a:pt x="4195" y="102"/>
                  <a:pt x="4194" y="110"/>
                  <a:pt x="4193" y="118"/>
                </a:cubicBezTo>
                <a:close/>
                <a:moveTo>
                  <a:pt x="4222" y="124"/>
                </a:moveTo>
                <a:cubicBezTo>
                  <a:pt x="4221" y="122"/>
                  <a:pt x="4221" y="120"/>
                  <a:pt x="4220" y="117"/>
                </a:cubicBezTo>
                <a:cubicBezTo>
                  <a:pt x="4221" y="109"/>
                  <a:pt x="4222" y="100"/>
                  <a:pt x="4223" y="92"/>
                </a:cubicBezTo>
                <a:cubicBezTo>
                  <a:pt x="4225" y="96"/>
                  <a:pt x="4226" y="100"/>
                  <a:pt x="4226" y="104"/>
                </a:cubicBezTo>
                <a:cubicBezTo>
                  <a:pt x="4225" y="111"/>
                  <a:pt x="4223" y="118"/>
                  <a:pt x="4222" y="124"/>
                </a:cubicBezTo>
                <a:close/>
                <a:moveTo>
                  <a:pt x="4262" y="133"/>
                </a:moveTo>
                <a:cubicBezTo>
                  <a:pt x="4262" y="130"/>
                  <a:pt x="4261" y="126"/>
                  <a:pt x="4260" y="122"/>
                </a:cubicBezTo>
                <a:cubicBezTo>
                  <a:pt x="4260" y="112"/>
                  <a:pt x="4260" y="100"/>
                  <a:pt x="4261" y="88"/>
                </a:cubicBezTo>
                <a:cubicBezTo>
                  <a:pt x="4263" y="96"/>
                  <a:pt x="4265" y="104"/>
                  <a:pt x="4265" y="111"/>
                </a:cubicBezTo>
                <a:cubicBezTo>
                  <a:pt x="4266" y="117"/>
                  <a:pt x="4266" y="117"/>
                  <a:pt x="4266" y="117"/>
                </a:cubicBezTo>
                <a:cubicBezTo>
                  <a:pt x="4264" y="123"/>
                  <a:pt x="4263" y="129"/>
                  <a:pt x="4262" y="133"/>
                </a:cubicBezTo>
                <a:close/>
                <a:moveTo>
                  <a:pt x="4275" y="110"/>
                </a:moveTo>
                <a:cubicBezTo>
                  <a:pt x="4275" y="113"/>
                  <a:pt x="4275" y="116"/>
                  <a:pt x="4275" y="119"/>
                </a:cubicBezTo>
                <a:cubicBezTo>
                  <a:pt x="4274" y="122"/>
                  <a:pt x="4274" y="124"/>
                  <a:pt x="4273" y="127"/>
                </a:cubicBezTo>
                <a:cubicBezTo>
                  <a:pt x="4273" y="119"/>
                  <a:pt x="4272" y="111"/>
                  <a:pt x="4271" y="104"/>
                </a:cubicBezTo>
                <a:cubicBezTo>
                  <a:pt x="4272" y="98"/>
                  <a:pt x="4272" y="91"/>
                  <a:pt x="4273" y="86"/>
                </a:cubicBezTo>
                <a:cubicBezTo>
                  <a:pt x="4275" y="93"/>
                  <a:pt x="4275" y="102"/>
                  <a:pt x="4275" y="110"/>
                </a:cubicBezTo>
                <a:close/>
                <a:moveTo>
                  <a:pt x="4285" y="142"/>
                </a:moveTo>
                <a:cubicBezTo>
                  <a:pt x="4285" y="142"/>
                  <a:pt x="4285" y="141"/>
                  <a:pt x="4286" y="138"/>
                </a:cubicBezTo>
                <a:cubicBezTo>
                  <a:pt x="4287" y="120"/>
                  <a:pt x="4286" y="96"/>
                  <a:pt x="4285" y="77"/>
                </a:cubicBezTo>
                <a:cubicBezTo>
                  <a:pt x="4287" y="81"/>
                  <a:pt x="4289" y="86"/>
                  <a:pt x="4290" y="92"/>
                </a:cubicBezTo>
                <a:cubicBezTo>
                  <a:pt x="4288" y="108"/>
                  <a:pt x="4286" y="129"/>
                  <a:pt x="4286" y="138"/>
                </a:cubicBezTo>
                <a:cubicBezTo>
                  <a:pt x="4285" y="139"/>
                  <a:pt x="4285" y="141"/>
                  <a:pt x="4285" y="142"/>
                </a:cubicBezTo>
                <a:close/>
                <a:moveTo>
                  <a:pt x="4289" y="129"/>
                </a:moveTo>
                <a:cubicBezTo>
                  <a:pt x="4289" y="119"/>
                  <a:pt x="4290" y="107"/>
                  <a:pt x="4291" y="97"/>
                </a:cubicBezTo>
                <a:cubicBezTo>
                  <a:pt x="4291" y="100"/>
                  <a:pt x="4291" y="103"/>
                  <a:pt x="4291" y="106"/>
                </a:cubicBezTo>
                <a:cubicBezTo>
                  <a:pt x="4291" y="114"/>
                  <a:pt x="4290" y="121"/>
                  <a:pt x="4289" y="129"/>
                </a:cubicBezTo>
                <a:close/>
                <a:moveTo>
                  <a:pt x="4300" y="125"/>
                </a:moveTo>
                <a:cubicBezTo>
                  <a:pt x="4301" y="120"/>
                  <a:pt x="4301" y="113"/>
                  <a:pt x="4301" y="107"/>
                </a:cubicBezTo>
                <a:cubicBezTo>
                  <a:pt x="4301" y="114"/>
                  <a:pt x="4301" y="120"/>
                  <a:pt x="4300" y="125"/>
                </a:cubicBezTo>
                <a:close/>
                <a:moveTo>
                  <a:pt x="4315" y="112"/>
                </a:moveTo>
                <a:cubicBezTo>
                  <a:pt x="4315" y="105"/>
                  <a:pt x="4315" y="98"/>
                  <a:pt x="4315" y="91"/>
                </a:cubicBezTo>
                <a:cubicBezTo>
                  <a:pt x="4316" y="95"/>
                  <a:pt x="4316" y="99"/>
                  <a:pt x="4316" y="103"/>
                </a:cubicBezTo>
                <a:cubicBezTo>
                  <a:pt x="4316" y="106"/>
                  <a:pt x="4316" y="109"/>
                  <a:pt x="4315" y="112"/>
                </a:cubicBezTo>
                <a:close/>
                <a:moveTo>
                  <a:pt x="4326" y="129"/>
                </a:moveTo>
                <a:cubicBezTo>
                  <a:pt x="4326" y="129"/>
                  <a:pt x="4326" y="129"/>
                  <a:pt x="4325" y="130"/>
                </a:cubicBezTo>
                <a:cubicBezTo>
                  <a:pt x="4325" y="132"/>
                  <a:pt x="4324" y="134"/>
                  <a:pt x="4324" y="137"/>
                </a:cubicBezTo>
                <a:cubicBezTo>
                  <a:pt x="4324" y="136"/>
                  <a:pt x="4324" y="136"/>
                  <a:pt x="4324" y="136"/>
                </a:cubicBezTo>
                <a:cubicBezTo>
                  <a:pt x="4324" y="134"/>
                  <a:pt x="4325" y="132"/>
                  <a:pt x="4325" y="130"/>
                </a:cubicBezTo>
                <a:cubicBezTo>
                  <a:pt x="4326" y="129"/>
                  <a:pt x="4326" y="129"/>
                  <a:pt x="4326" y="129"/>
                </a:cubicBezTo>
                <a:cubicBezTo>
                  <a:pt x="4326" y="129"/>
                  <a:pt x="4326" y="129"/>
                  <a:pt x="4326" y="129"/>
                </a:cubicBezTo>
                <a:close/>
                <a:moveTo>
                  <a:pt x="4362" y="130"/>
                </a:moveTo>
                <a:cubicBezTo>
                  <a:pt x="4362" y="132"/>
                  <a:pt x="4361" y="134"/>
                  <a:pt x="4360" y="136"/>
                </a:cubicBezTo>
                <a:cubicBezTo>
                  <a:pt x="4360" y="131"/>
                  <a:pt x="4360" y="126"/>
                  <a:pt x="4360" y="121"/>
                </a:cubicBezTo>
                <a:cubicBezTo>
                  <a:pt x="4362" y="115"/>
                  <a:pt x="4364" y="110"/>
                  <a:pt x="4365" y="104"/>
                </a:cubicBezTo>
                <a:cubicBezTo>
                  <a:pt x="4364" y="114"/>
                  <a:pt x="4363" y="123"/>
                  <a:pt x="4362" y="130"/>
                </a:cubicBezTo>
                <a:close/>
                <a:moveTo>
                  <a:pt x="4378" y="124"/>
                </a:moveTo>
                <a:cubicBezTo>
                  <a:pt x="4378" y="110"/>
                  <a:pt x="4380" y="94"/>
                  <a:pt x="4381" y="83"/>
                </a:cubicBezTo>
                <a:cubicBezTo>
                  <a:pt x="4381" y="87"/>
                  <a:pt x="4381" y="91"/>
                  <a:pt x="4381" y="95"/>
                </a:cubicBezTo>
                <a:cubicBezTo>
                  <a:pt x="4381" y="105"/>
                  <a:pt x="4380" y="114"/>
                  <a:pt x="4378" y="124"/>
                </a:cubicBezTo>
                <a:close/>
                <a:moveTo>
                  <a:pt x="4394" y="160"/>
                </a:moveTo>
                <a:cubicBezTo>
                  <a:pt x="4394" y="159"/>
                  <a:pt x="4395" y="159"/>
                  <a:pt x="4395" y="159"/>
                </a:cubicBezTo>
                <a:cubicBezTo>
                  <a:pt x="4395" y="159"/>
                  <a:pt x="4395" y="159"/>
                  <a:pt x="4395" y="159"/>
                </a:cubicBezTo>
                <a:cubicBezTo>
                  <a:pt x="4395" y="159"/>
                  <a:pt x="4395" y="159"/>
                  <a:pt x="4394" y="160"/>
                </a:cubicBezTo>
                <a:close/>
                <a:moveTo>
                  <a:pt x="4407" y="116"/>
                </a:moveTo>
                <a:cubicBezTo>
                  <a:pt x="4406" y="121"/>
                  <a:pt x="4404" y="127"/>
                  <a:pt x="4402" y="132"/>
                </a:cubicBezTo>
                <a:cubicBezTo>
                  <a:pt x="4402" y="127"/>
                  <a:pt x="4402" y="121"/>
                  <a:pt x="4402" y="115"/>
                </a:cubicBezTo>
                <a:cubicBezTo>
                  <a:pt x="4403" y="110"/>
                  <a:pt x="4403" y="104"/>
                  <a:pt x="4403" y="98"/>
                </a:cubicBezTo>
                <a:cubicBezTo>
                  <a:pt x="4403" y="95"/>
                  <a:pt x="4403" y="92"/>
                  <a:pt x="4403" y="89"/>
                </a:cubicBezTo>
                <a:cubicBezTo>
                  <a:pt x="4404" y="78"/>
                  <a:pt x="4405" y="68"/>
                  <a:pt x="4406" y="60"/>
                </a:cubicBezTo>
                <a:cubicBezTo>
                  <a:pt x="4409" y="68"/>
                  <a:pt x="4411" y="78"/>
                  <a:pt x="4411" y="87"/>
                </a:cubicBezTo>
                <a:cubicBezTo>
                  <a:pt x="4410" y="95"/>
                  <a:pt x="4409" y="106"/>
                  <a:pt x="4407" y="116"/>
                </a:cubicBezTo>
                <a:close/>
                <a:moveTo>
                  <a:pt x="4415" y="136"/>
                </a:moveTo>
                <a:cubicBezTo>
                  <a:pt x="4415" y="137"/>
                  <a:pt x="4414" y="138"/>
                  <a:pt x="4414" y="139"/>
                </a:cubicBezTo>
                <a:cubicBezTo>
                  <a:pt x="4414" y="137"/>
                  <a:pt x="4414" y="135"/>
                  <a:pt x="4414" y="133"/>
                </a:cubicBezTo>
                <a:cubicBezTo>
                  <a:pt x="4415" y="130"/>
                  <a:pt x="4415" y="128"/>
                  <a:pt x="4416" y="125"/>
                </a:cubicBezTo>
                <a:cubicBezTo>
                  <a:pt x="4416" y="129"/>
                  <a:pt x="4415" y="133"/>
                  <a:pt x="4415" y="136"/>
                </a:cubicBezTo>
                <a:close/>
                <a:moveTo>
                  <a:pt x="4431" y="126"/>
                </a:moveTo>
                <a:cubicBezTo>
                  <a:pt x="4430" y="113"/>
                  <a:pt x="4430" y="96"/>
                  <a:pt x="4430" y="84"/>
                </a:cubicBezTo>
                <a:cubicBezTo>
                  <a:pt x="4434" y="90"/>
                  <a:pt x="4436" y="100"/>
                  <a:pt x="4436" y="104"/>
                </a:cubicBezTo>
                <a:cubicBezTo>
                  <a:pt x="4436" y="110"/>
                  <a:pt x="4433" y="118"/>
                  <a:pt x="4431" y="126"/>
                </a:cubicBezTo>
                <a:close/>
                <a:moveTo>
                  <a:pt x="4442" y="128"/>
                </a:moveTo>
                <a:cubicBezTo>
                  <a:pt x="4443" y="113"/>
                  <a:pt x="4443" y="91"/>
                  <a:pt x="4443" y="76"/>
                </a:cubicBezTo>
                <a:cubicBezTo>
                  <a:pt x="4445" y="83"/>
                  <a:pt x="4447" y="90"/>
                  <a:pt x="4447" y="96"/>
                </a:cubicBezTo>
                <a:cubicBezTo>
                  <a:pt x="4447" y="107"/>
                  <a:pt x="4444" y="117"/>
                  <a:pt x="4442" y="128"/>
                </a:cubicBezTo>
                <a:close/>
                <a:moveTo>
                  <a:pt x="4482" y="112"/>
                </a:moveTo>
                <a:cubicBezTo>
                  <a:pt x="4482" y="110"/>
                  <a:pt x="4482" y="108"/>
                  <a:pt x="4481" y="105"/>
                </a:cubicBezTo>
                <a:cubicBezTo>
                  <a:pt x="4482" y="108"/>
                  <a:pt x="4481" y="112"/>
                  <a:pt x="4481" y="115"/>
                </a:cubicBezTo>
                <a:cubicBezTo>
                  <a:pt x="4476" y="131"/>
                  <a:pt x="4472" y="144"/>
                  <a:pt x="4472" y="144"/>
                </a:cubicBezTo>
                <a:cubicBezTo>
                  <a:pt x="4473" y="133"/>
                  <a:pt x="4477" y="110"/>
                  <a:pt x="4482" y="86"/>
                </a:cubicBezTo>
                <a:cubicBezTo>
                  <a:pt x="4484" y="90"/>
                  <a:pt x="4485" y="95"/>
                  <a:pt x="4486" y="99"/>
                </a:cubicBezTo>
                <a:cubicBezTo>
                  <a:pt x="4484" y="103"/>
                  <a:pt x="4483" y="108"/>
                  <a:pt x="4482" y="112"/>
                </a:cubicBezTo>
                <a:close/>
                <a:moveTo>
                  <a:pt x="4494" y="133"/>
                </a:moveTo>
                <a:cubicBezTo>
                  <a:pt x="4494" y="133"/>
                  <a:pt x="4494" y="134"/>
                  <a:pt x="4494" y="134"/>
                </a:cubicBezTo>
                <a:cubicBezTo>
                  <a:pt x="4494" y="134"/>
                  <a:pt x="4494" y="134"/>
                  <a:pt x="4494" y="134"/>
                </a:cubicBezTo>
                <a:cubicBezTo>
                  <a:pt x="4494" y="134"/>
                  <a:pt x="4494" y="133"/>
                  <a:pt x="4494" y="133"/>
                </a:cubicBezTo>
                <a:cubicBezTo>
                  <a:pt x="4495" y="126"/>
                  <a:pt x="4496" y="117"/>
                  <a:pt x="4497" y="107"/>
                </a:cubicBezTo>
                <a:cubicBezTo>
                  <a:pt x="4497" y="110"/>
                  <a:pt x="4497" y="114"/>
                  <a:pt x="4497" y="117"/>
                </a:cubicBezTo>
                <a:cubicBezTo>
                  <a:pt x="4496" y="123"/>
                  <a:pt x="4495" y="129"/>
                  <a:pt x="4494" y="133"/>
                </a:cubicBezTo>
                <a:close/>
                <a:moveTo>
                  <a:pt x="4499" y="159"/>
                </a:moveTo>
                <a:cubicBezTo>
                  <a:pt x="4499" y="159"/>
                  <a:pt x="4499" y="159"/>
                  <a:pt x="4499" y="159"/>
                </a:cubicBezTo>
                <a:cubicBezTo>
                  <a:pt x="4499" y="159"/>
                  <a:pt x="4499" y="159"/>
                  <a:pt x="4499" y="159"/>
                </a:cubicBezTo>
                <a:cubicBezTo>
                  <a:pt x="4499" y="159"/>
                  <a:pt x="4499" y="159"/>
                  <a:pt x="4499" y="159"/>
                </a:cubicBezTo>
                <a:close/>
                <a:moveTo>
                  <a:pt x="4540" y="143"/>
                </a:moveTo>
                <a:cubicBezTo>
                  <a:pt x="4540" y="142"/>
                  <a:pt x="4540" y="142"/>
                  <a:pt x="4540" y="141"/>
                </a:cubicBezTo>
                <a:cubicBezTo>
                  <a:pt x="4540" y="135"/>
                  <a:pt x="4541" y="127"/>
                  <a:pt x="4541" y="117"/>
                </a:cubicBezTo>
                <a:cubicBezTo>
                  <a:pt x="4542" y="121"/>
                  <a:pt x="4542" y="125"/>
                  <a:pt x="4542" y="129"/>
                </a:cubicBezTo>
                <a:cubicBezTo>
                  <a:pt x="4541" y="135"/>
                  <a:pt x="4541" y="139"/>
                  <a:pt x="4540" y="143"/>
                </a:cubicBezTo>
                <a:close/>
                <a:moveTo>
                  <a:pt x="4544" y="117"/>
                </a:moveTo>
                <a:cubicBezTo>
                  <a:pt x="4543" y="115"/>
                  <a:pt x="4542" y="113"/>
                  <a:pt x="4542" y="111"/>
                </a:cubicBezTo>
                <a:cubicBezTo>
                  <a:pt x="4542" y="108"/>
                  <a:pt x="4542" y="104"/>
                  <a:pt x="4543" y="100"/>
                </a:cubicBezTo>
                <a:cubicBezTo>
                  <a:pt x="4544" y="103"/>
                  <a:pt x="4544" y="106"/>
                  <a:pt x="4545" y="108"/>
                </a:cubicBezTo>
                <a:cubicBezTo>
                  <a:pt x="4544" y="111"/>
                  <a:pt x="4544" y="114"/>
                  <a:pt x="4544" y="117"/>
                </a:cubicBezTo>
                <a:close/>
                <a:moveTo>
                  <a:pt x="4552" y="133"/>
                </a:moveTo>
                <a:cubicBezTo>
                  <a:pt x="4552" y="133"/>
                  <a:pt x="4552" y="133"/>
                  <a:pt x="4552" y="133"/>
                </a:cubicBezTo>
                <a:cubicBezTo>
                  <a:pt x="4552" y="130"/>
                  <a:pt x="4553" y="127"/>
                  <a:pt x="4553" y="124"/>
                </a:cubicBezTo>
                <a:cubicBezTo>
                  <a:pt x="4553" y="125"/>
                  <a:pt x="4553" y="126"/>
                  <a:pt x="4553" y="128"/>
                </a:cubicBezTo>
                <a:cubicBezTo>
                  <a:pt x="4553" y="130"/>
                  <a:pt x="4552" y="131"/>
                  <a:pt x="4552" y="133"/>
                </a:cubicBezTo>
                <a:close/>
                <a:moveTo>
                  <a:pt x="4589" y="142"/>
                </a:moveTo>
                <a:cubicBezTo>
                  <a:pt x="4589" y="139"/>
                  <a:pt x="4589" y="134"/>
                  <a:pt x="4589" y="128"/>
                </a:cubicBezTo>
                <a:cubicBezTo>
                  <a:pt x="4589" y="130"/>
                  <a:pt x="4589" y="132"/>
                  <a:pt x="4590" y="133"/>
                </a:cubicBezTo>
                <a:cubicBezTo>
                  <a:pt x="4589" y="139"/>
                  <a:pt x="4589" y="142"/>
                  <a:pt x="4589" y="142"/>
                </a:cubicBezTo>
                <a:close/>
                <a:moveTo>
                  <a:pt x="4610" y="135"/>
                </a:moveTo>
                <a:cubicBezTo>
                  <a:pt x="4610" y="134"/>
                  <a:pt x="4610" y="134"/>
                  <a:pt x="4610" y="133"/>
                </a:cubicBezTo>
                <a:cubicBezTo>
                  <a:pt x="4610" y="121"/>
                  <a:pt x="4610" y="103"/>
                  <a:pt x="4609" y="88"/>
                </a:cubicBezTo>
                <a:cubicBezTo>
                  <a:pt x="4611" y="94"/>
                  <a:pt x="4613" y="100"/>
                  <a:pt x="4614" y="106"/>
                </a:cubicBezTo>
                <a:cubicBezTo>
                  <a:pt x="4612" y="118"/>
                  <a:pt x="4611" y="128"/>
                  <a:pt x="4610" y="135"/>
                </a:cubicBezTo>
                <a:close/>
                <a:moveTo>
                  <a:pt x="4617" y="145"/>
                </a:moveTo>
                <a:cubicBezTo>
                  <a:pt x="4617" y="141"/>
                  <a:pt x="4617" y="136"/>
                  <a:pt x="4617" y="129"/>
                </a:cubicBezTo>
                <a:cubicBezTo>
                  <a:pt x="4618" y="133"/>
                  <a:pt x="4618" y="136"/>
                  <a:pt x="4619" y="139"/>
                </a:cubicBezTo>
                <a:cubicBezTo>
                  <a:pt x="4618" y="143"/>
                  <a:pt x="4617" y="145"/>
                  <a:pt x="4617" y="145"/>
                </a:cubicBezTo>
                <a:close/>
                <a:moveTo>
                  <a:pt x="4622" y="159"/>
                </a:moveTo>
                <a:cubicBezTo>
                  <a:pt x="4623" y="159"/>
                  <a:pt x="4623" y="159"/>
                  <a:pt x="4623" y="159"/>
                </a:cubicBezTo>
                <a:cubicBezTo>
                  <a:pt x="4623" y="159"/>
                  <a:pt x="4623" y="158"/>
                  <a:pt x="4623" y="158"/>
                </a:cubicBezTo>
                <a:cubicBezTo>
                  <a:pt x="4623" y="159"/>
                  <a:pt x="4624" y="160"/>
                  <a:pt x="4624" y="160"/>
                </a:cubicBezTo>
                <a:cubicBezTo>
                  <a:pt x="4623" y="160"/>
                  <a:pt x="4623" y="159"/>
                  <a:pt x="4622" y="159"/>
                </a:cubicBezTo>
                <a:close/>
                <a:moveTo>
                  <a:pt x="4624" y="121"/>
                </a:moveTo>
                <a:cubicBezTo>
                  <a:pt x="4622" y="117"/>
                  <a:pt x="4621" y="114"/>
                  <a:pt x="4619" y="110"/>
                </a:cubicBezTo>
                <a:cubicBezTo>
                  <a:pt x="4620" y="105"/>
                  <a:pt x="4620" y="99"/>
                  <a:pt x="4621" y="94"/>
                </a:cubicBezTo>
                <a:cubicBezTo>
                  <a:pt x="4621" y="100"/>
                  <a:pt x="4623" y="108"/>
                  <a:pt x="4625" y="116"/>
                </a:cubicBezTo>
                <a:cubicBezTo>
                  <a:pt x="4624" y="118"/>
                  <a:pt x="4624" y="119"/>
                  <a:pt x="4624" y="121"/>
                </a:cubicBezTo>
                <a:close/>
                <a:moveTo>
                  <a:pt x="4632" y="142"/>
                </a:moveTo>
                <a:cubicBezTo>
                  <a:pt x="4631" y="138"/>
                  <a:pt x="4629" y="134"/>
                  <a:pt x="4627" y="129"/>
                </a:cubicBezTo>
                <a:cubicBezTo>
                  <a:pt x="4627" y="129"/>
                  <a:pt x="4627" y="128"/>
                  <a:pt x="4627" y="127"/>
                </a:cubicBezTo>
                <a:cubicBezTo>
                  <a:pt x="4629" y="132"/>
                  <a:pt x="4630" y="137"/>
                  <a:pt x="4632" y="142"/>
                </a:cubicBezTo>
                <a:cubicBezTo>
                  <a:pt x="4635" y="149"/>
                  <a:pt x="4636" y="153"/>
                  <a:pt x="4637" y="155"/>
                </a:cubicBezTo>
                <a:cubicBezTo>
                  <a:pt x="4635" y="151"/>
                  <a:pt x="4634" y="147"/>
                  <a:pt x="4632" y="142"/>
                </a:cubicBezTo>
                <a:close/>
                <a:moveTo>
                  <a:pt x="4458" y="105"/>
                </a:moveTo>
                <a:cubicBezTo>
                  <a:pt x="4458" y="103"/>
                  <a:pt x="4458" y="101"/>
                  <a:pt x="4457" y="99"/>
                </a:cubicBezTo>
                <a:cubicBezTo>
                  <a:pt x="4457" y="101"/>
                  <a:pt x="4458" y="103"/>
                  <a:pt x="4458" y="105"/>
                </a:cubicBezTo>
                <a:close/>
                <a:moveTo>
                  <a:pt x="4466" y="65"/>
                </a:moveTo>
                <a:cubicBezTo>
                  <a:pt x="4466" y="64"/>
                  <a:pt x="4466" y="63"/>
                  <a:pt x="4466" y="63"/>
                </a:cubicBezTo>
                <a:cubicBezTo>
                  <a:pt x="4466" y="63"/>
                  <a:pt x="4466" y="64"/>
                  <a:pt x="4466" y="65"/>
                </a:cubicBezTo>
                <a:close/>
                <a:moveTo>
                  <a:pt x="4065" y="79"/>
                </a:moveTo>
                <a:cubicBezTo>
                  <a:pt x="4066" y="76"/>
                  <a:pt x="4067" y="73"/>
                  <a:pt x="4068" y="70"/>
                </a:cubicBezTo>
                <a:cubicBezTo>
                  <a:pt x="4067" y="73"/>
                  <a:pt x="4066" y="76"/>
                  <a:pt x="4065" y="79"/>
                </a:cubicBezTo>
                <a:close/>
                <a:moveTo>
                  <a:pt x="3886" y="79"/>
                </a:moveTo>
                <a:cubicBezTo>
                  <a:pt x="3885" y="76"/>
                  <a:pt x="3884" y="73"/>
                  <a:pt x="3882" y="70"/>
                </a:cubicBezTo>
                <a:cubicBezTo>
                  <a:pt x="3884" y="73"/>
                  <a:pt x="3885" y="76"/>
                  <a:pt x="3886" y="79"/>
                </a:cubicBezTo>
                <a:close/>
                <a:moveTo>
                  <a:pt x="2267" y="79"/>
                </a:moveTo>
                <a:cubicBezTo>
                  <a:pt x="2268" y="76"/>
                  <a:pt x="2269" y="73"/>
                  <a:pt x="2270" y="70"/>
                </a:cubicBezTo>
                <a:cubicBezTo>
                  <a:pt x="2269" y="73"/>
                  <a:pt x="2268" y="76"/>
                  <a:pt x="2267" y="79"/>
                </a:cubicBezTo>
                <a:close/>
                <a:moveTo>
                  <a:pt x="3115" y="83"/>
                </a:moveTo>
                <a:cubicBezTo>
                  <a:pt x="3114" y="81"/>
                  <a:pt x="3113" y="79"/>
                  <a:pt x="3112" y="78"/>
                </a:cubicBezTo>
                <a:cubicBezTo>
                  <a:pt x="3113" y="79"/>
                  <a:pt x="3114" y="81"/>
                  <a:pt x="3115" y="83"/>
                </a:cubicBezTo>
                <a:close/>
                <a:moveTo>
                  <a:pt x="290" y="79"/>
                </a:moveTo>
                <a:cubicBezTo>
                  <a:pt x="289" y="76"/>
                  <a:pt x="288" y="73"/>
                  <a:pt x="287" y="70"/>
                </a:cubicBezTo>
                <a:cubicBezTo>
                  <a:pt x="288" y="73"/>
                  <a:pt x="289" y="76"/>
                  <a:pt x="290" y="79"/>
                </a:cubicBezTo>
                <a:close/>
                <a:moveTo>
                  <a:pt x="469" y="79"/>
                </a:moveTo>
                <a:cubicBezTo>
                  <a:pt x="470" y="76"/>
                  <a:pt x="471" y="73"/>
                  <a:pt x="472" y="70"/>
                </a:cubicBezTo>
                <a:cubicBezTo>
                  <a:pt x="471" y="73"/>
                  <a:pt x="470" y="76"/>
                  <a:pt x="469" y="79"/>
                </a:cubicBezTo>
                <a:close/>
                <a:moveTo>
                  <a:pt x="1317" y="83"/>
                </a:moveTo>
                <a:cubicBezTo>
                  <a:pt x="1316" y="81"/>
                  <a:pt x="1315" y="79"/>
                  <a:pt x="1314" y="78"/>
                </a:cubicBezTo>
                <a:cubicBezTo>
                  <a:pt x="1315" y="79"/>
                  <a:pt x="1316" y="81"/>
                  <a:pt x="1317" y="83"/>
                </a:cubicBezTo>
                <a:close/>
                <a:moveTo>
                  <a:pt x="3042" y="83"/>
                </a:moveTo>
                <a:cubicBezTo>
                  <a:pt x="3040" y="80"/>
                  <a:pt x="3039" y="77"/>
                  <a:pt x="3038" y="75"/>
                </a:cubicBezTo>
                <a:cubicBezTo>
                  <a:pt x="3039" y="78"/>
                  <a:pt x="3040" y="80"/>
                  <a:pt x="3042" y="83"/>
                </a:cubicBezTo>
                <a:close/>
                <a:moveTo>
                  <a:pt x="2683" y="105"/>
                </a:moveTo>
                <a:cubicBezTo>
                  <a:pt x="2683" y="103"/>
                  <a:pt x="2683" y="101"/>
                  <a:pt x="2683" y="99"/>
                </a:cubicBezTo>
                <a:cubicBezTo>
                  <a:pt x="2683" y="101"/>
                  <a:pt x="2683" y="103"/>
                  <a:pt x="2683" y="105"/>
                </a:cubicBezTo>
                <a:close/>
                <a:moveTo>
                  <a:pt x="2088" y="79"/>
                </a:moveTo>
                <a:cubicBezTo>
                  <a:pt x="2087" y="76"/>
                  <a:pt x="2086" y="73"/>
                  <a:pt x="2084" y="70"/>
                </a:cubicBezTo>
                <a:cubicBezTo>
                  <a:pt x="2086" y="73"/>
                  <a:pt x="2087" y="76"/>
                  <a:pt x="2088" y="79"/>
                </a:cubicBezTo>
                <a:close/>
                <a:moveTo>
                  <a:pt x="4481" y="105"/>
                </a:moveTo>
                <a:cubicBezTo>
                  <a:pt x="4481" y="103"/>
                  <a:pt x="4481" y="101"/>
                  <a:pt x="4481" y="99"/>
                </a:cubicBezTo>
                <a:cubicBezTo>
                  <a:pt x="4481" y="101"/>
                  <a:pt x="4481" y="103"/>
                  <a:pt x="4481" y="105"/>
                </a:cubicBezTo>
                <a:close/>
                <a:moveTo>
                  <a:pt x="1244" y="83"/>
                </a:moveTo>
                <a:cubicBezTo>
                  <a:pt x="1242" y="80"/>
                  <a:pt x="1241" y="77"/>
                  <a:pt x="1240" y="75"/>
                </a:cubicBezTo>
                <a:cubicBezTo>
                  <a:pt x="1241" y="78"/>
                  <a:pt x="1242" y="80"/>
                  <a:pt x="1244" y="83"/>
                </a:cubicBezTo>
                <a:close/>
                <a:moveTo>
                  <a:pt x="3941" y="33"/>
                </a:moveTo>
                <a:cubicBezTo>
                  <a:pt x="3941" y="30"/>
                  <a:pt x="3941" y="28"/>
                  <a:pt x="3940" y="25"/>
                </a:cubicBezTo>
                <a:cubicBezTo>
                  <a:pt x="3940" y="25"/>
                  <a:pt x="3941" y="28"/>
                  <a:pt x="3941" y="33"/>
                </a:cubicBezTo>
                <a:close/>
                <a:moveTo>
                  <a:pt x="3210" y="88"/>
                </a:moveTo>
                <a:cubicBezTo>
                  <a:pt x="3209" y="86"/>
                  <a:pt x="3208" y="83"/>
                  <a:pt x="3206" y="81"/>
                </a:cubicBezTo>
                <a:cubicBezTo>
                  <a:pt x="3207" y="83"/>
                  <a:pt x="3209" y="86"/>
                  <a:pt x="3210" y="88"/>
                </a:cubicBezTo>
                <a:close/>
                <a:moveTo>
                  <a:pt x="3068" y="81"/>
                </a:moveTo>
                <a:cubicBezTo>
                  <a:pt x="3062" y="61"/>
                  <a:pt x="3051" y="46"/>
                  <a:pt x="3035" y="25"/>
                </a:cubicBezTo>
                <a:cubicBezTo>
                  <a:pt x="3051" y="48"/>
                  <a:pt x="3061" y="64"/>
                  <a:pt x="3068" y="81"/>
                </a:cubicBezTo>
                <a:close/>
                <a:moveTo>
                  <a:pt x="3078" y="79"/>
                </a:moveTo>
                <a:cubicBezTo>
                  <a:pt x="3077" y="76"/>
                  <a:pt x="3076" y="73"/>
                  <a:pt x="3074" y="70"/>
                </a:cubicBezTo>
                <a:cubicBezTo>
                  <a:pt x="3075" y="73"/>
                  <a:pt x="3077" y="76"/>
                  <a:pt x="3078" y="79"/>
                </a:cubicBezTo>
                <a:close/>
                <a:moveTo>
                  <a:pt x="3317" y="102"/>
                </a:moveTo>
                <a:cubicBezTo>
                  <a:pt x="3316" y="100"/>
                  <a:pt x="3315" y="97"/>
                  <a:pt x="3314" y="96"/>
                </a:cubicBezTo>
                <a:cubicBezTo>
                  <a:pt x="3315" y="98"/>
                  <a:pt x="3316" y="100"/>
                  <a:pt x="3317" y="102"/>
                </a:cubicBezTo>
                <a:close/>
                <a:moveTo>
                  <a:pt x="3531" y="109"/>
                </a:moveTo>
                <a:cubicBezTo>
                  <a:pt x="3530" y="104"/>
                  <a:pt x="3530" y="99"/>
                  <a:pt x="3529" y="95"/>
                </a:cubicBezTo>
                <a:cubicBezTo>
                  <a:pt x="3529" y="99"/>
                  <a:pt x="3530" y="104"/>
                  <a:pt x="3531" y="109"/>
                </a:cubicBezTo>
                <a:close/>
                <a:moveTo>
                  <a:pt x="3370" y="100"/>
                </a:moveTo>
                <a:cubicBezTo>
                  <a:pt x="3370" y="97"/>
                  <a:pt x="3369" y="95"/>
                  <a:pt x="3368" y="93"/>
                </a:cubicBezTo>
                <a:cubicBezTo>
                  <a:pt x="3369" y="96"/>
                  <a:pt x="3370" y="98"/>
                  <a:pt x="3370" y="100"/>
                </a:cubicBezTo>
                <a:close/>
                <a:moveTo>
                  <a:pt x="3610" y="81"/>
                </a:moveTo>
                <a:cubicBezTo>
                  <a:pt x="3608" y="75"/>
                  <a:pt x="3606" y="70"/>
                  <a:pt x="3604" y="67"/>
                </a:cubicBezTo>
                <a:cubicBezTo>
                  <a:pt x="3604" y="67"/>
                  <a:pt x="3607" y="72"/>
                  <a:pt x="3610" y="81"/>
                </a:cubicBezTo>
                <a:close/>
                <a:moveTo>
                  <a:pt x="2720" y="54"/>
                </a:moveTo>
                <a:cubicBezTo>
                  <a:pt x="2720" y="53"/>
                  <a:pt x="2719" y="52"/>
                  <a:pt x="2719" y="52"/>
                </a:cubicBezTo>
                <a:cubicBezTo>
                  <a:pt x="2720" y="53"/>
                  <a:pt x="2720" y="53"/>
                  <a:pt x="2720" y="54"/>
                </a:cubicBezTo>
                <a:close/>
                <a:moveTo>
                  <a:pt x="2715" y="90"/>
                </a:moveTo>
                <a:cubicBezTo>
                  <a:pt x="2715" y="89"/>
                  <a:pt x="2714" y="87"/>
                  <a:pt x="2713" y="86"/>
                </a:cubicBezTo>
                <a:cubicBezTo>
                  <a:pt x="2714" y="87"/>
                  <a:pt x="2715" y="89"/>
                  <a:pt x="2715" y="90"/>
                </a:cubicBezTo>
                <a:close/>
                <a:moveTo>
                  <a:pt x="2835" y="54"/>
                </a:moveTo>
                <a:cubicBezTo>
                  <a:pt x="2835" y="54"/>
                  <a:pt x="2835" y="65"/>
                  <a:pt x="2834" y="84"/>
                </a:cubicBezTo>
                <a:cubicBezTo>
                  <a:pt x="2836" y="72"/>
                  <a:pt x="2837" y="60"/>
                  <a:pt x="2835" y="54"/>
                </a:cubicBezTo>
                <a:close/>
                <a:moveTo>
                  <a:pt x="2890" y="106"/>
                </a:moveTo>
                <a:cubicBezTo>
                  <a:pt x="2890" y="103"/>
                  <a:pt x="2889" y="100"/>
                  <a:pt x="2889" y="96"/>
                </a:cubicBezTo>
                <a:cubicBezTo>
                  <a:pt x="2889" y="99"/>
                  <a:pt x="2890" y="103"/>
                  <a:pt x="2890" y="106"/>
                </a:cubicBezTo>
                <a:close/>
                <a:moveTo>
                  <a:pt x="2795" y="47"/>
                </a:moveTo>
                <a:cubicBezTo>
                  <a:pt x="2795" y="39"/>
                  <a:pt x="2795" y="33"/>
                  <a:pt x="2793" y="30"/>
                </a:cubicBezTo>
                <a:cubicBezTo>
                  <a:pt x="2793" y="30"/>
                  <a:pt x="2794" y="37"/>
                  <a:pt x="2795" y="47"/>
                </a:cubicBezTo>
                <a:close/>
                <a:moveTo>
                  <a:pt x="3995" y="44"/>
                </a:moveTo>
                <a:cubicBezTo>
                  <a:pt x="3995" y="43"/>
                  <a:pt x="3995" y="41"/>
                  <a:pt x="3995" y="40"/>
                </a:cubicBezTo>
                <a:cubicBezTo>
                  <a:pt x="3995" y="40"/>
                  <a:pt x="3995" y="42"/>
                  <a:pt x="3995" y="44"/>
                </a:cubicBezTo>
                <a:close/>
                <a:moveTo>
                  <a:pt x="4211" y="68"/>
                </a:moveTo>
                <a:cubicBezTo>
                  <a:pt x="4211" y="65"/>
                  <a:pt x="4210" y="64"/>
                  <a:pt x="4210" y="64"/>
                </a:cubicBezTo>
                <a:cubicBezTo>
                  <a:pt x="4210" y="64"/>
                  <a:pt x="4211" y="66"/>
                  <a:pt x="4211" y="68"/>
                </a:cubicBezTo>
                <a:close/>
                <a:moveTo>
                  <a:pt x="3956" y="52"/>
                </a:moveTo>
                <a:cubicBezTo>
                  <a:pt x="3956" y="50"/>
                  <a:pt x="3956" y="49"/>
                  <a:pt x="3956" y="49"/>
                </a:cubicBezTo>
                <a:cubicBezTo>
                  <a:pt x="3956" y="50"/>
                  <a:pt x="3956" y="51"/>
                  <a:pt x="3956" y="52"/>
                </a:cubicBezTo>
                <a:close/>
                <a:moveTo>
                  <a:pt x="2672" y="52"/>
                </a:moveTo>
                <a:cubicBezTo>
                  <a:pt x="2672" y="50"/>
                  <a:pt x="2672" y="49"/>
                  <a:pt x="2672" y="49"/>
                </a:cubicBezTo>
                <a:cubicBezTo>
                  <a:pt x="2672" y="50"/>
                  <a:pt x="2672" y="51"/>
                  <a:pt x="2672" y="52"/>
                </a:cubicBezTo>
                <a:close/>
                <a:moveTo>
                  <a:pt x="4169" y="66"/>
                </a:moveTo>
                <a:cubicBezTo>
                  <a:pt x="4169" y="63"/>
                  <a:pt x="4169" y="61"/>
                  <a:pt x="4170" y="59"/>
                </a:cubicBezTo>
                <a:cubicBezTo>
                  <a:pt x="4170" y="59"/>
                  <a:pt x="4169" y="62"/>
                  <a:pt x="4169" y="66"/>
                </a:cubicBezTo>
                <a:close/>
                <a:moveTo>
                  <a:pt x="4178" y="100"/>
                </a:moveTo>
                <a:cubicBezTo>
                  <a:pt x="4178" y="97"/>
                  <a:pt x="4177" y="95"/>
                  <a:pt x="4177" y="93"/>
                </a:cubicBezTo>
                <a:cubicBezTo>
                  <a:pt x="4177" y="96"/>
                  <a:pt x="4178" y="98"/>
                  <a:pt x="4178" y="100"/>
                </a:cubicBezTo>
                <a:close/>
                <a:moveTo>
                  <a:pt x="3772" y="100"/>
                </a:moveTo>
                <a:cubicBezTo>
                  <a:pt x="3773" y="98"/>
                  <a:pt x="3773" y="96"/>
                  <a:pt x="3774" y="93"/>
                </a:cubicBezTo>
                <a:cubicBezTo>
                  <a:pt x="3773" y="95"/>
                  <a:pt x="3773" y="97"/>
                  <a:pt x="3772" y="100"/>
                </a:cubicBezTo>
                <a:close/>
                <a:moveTo>
                  <a:pt x="3923" y="83"/>
                </a:moveTo>
                <a:cubicBezTo>
                  <a:pt x="3922" y="81"/>
                  <a:pt x="3921" y="79"/>
                  <a:pt x="3920" y="78"/>
                </a:cubicBezTo>
                <a:cubicBezTo>
                  <a:pt x="3921" y="79"/>
                  <a:pt x="3922" y="81"/>
                  <a:pt x="3923" y="83"/>
                </a:cubicBezTo>
                <a:close/>
                <a:moveTo>
                  <a:pt x="3726" y="68"/>
                </a:moveTo>
                <a:cubicBezTo>
                  <a:pt x="3726" y="66"/>
                  <a:pt x="3726" y="65"/>
                  <a:pt x="3726" y="64"/>
                </a:cubicBezTo>
                <a:cubicBezTo>
                  <a:pt x="3726" y="64"/>
                  <a:pt x="3726" y="65"/>
                  <a:pt x="3726" y="68"/>
                </a:cubicBezTo>
                <a:close/>
                <a:moveTo>
                  <a:pt x="3705" y="90"/>
                </a:moveTo>
                <a:cubicBezTo>
                  <a:pt x="3705" y="89"/>
                  <a:pt x="3704" y="87"/>
                  <a:pt x="3703" y="86"/>
                </a:cubicBezTo>
                <a:cubicBezTo>
                  <a:pt x="3704" y="87"/>
                  <a:pt x="3704" y="89"/>
                  <a:pt x="3705" y="90"/>
                </a:cubicBezTo>
                <a:close/>
                <a:moveTo>
                  <a:pt x="3648" y="13"/>
                </a:moveTo>
                <a:cubicBezTo>
                  <a:pt x="3648" y="12"/>
                  <a:pt x="3648" y="12"/>
                  <a:pt x="3648" y="12"/>
                </a:cubicBezTo>
                <a:cubicBezTo>
                  <a:pt x="3648" y="12"/>
                  <a:pt x="3648" y="13"/>
                  <a:pt x="3648" y="13"/>
                </a:cubicBezTo>
                <a:close/>
                <a:moveTo>
                  <a:pt x="3770" y="61"/>
                </a:moveTo>
                <a:cubicBezTo>
                  <a:pt x="3770" y="55"/>
                  <a:pt x="3769" y="49"/>
                  <a:pt x="3768" y="44"/>
                </a:cubicBezTo>
                <a:cubicBezTo>
                  <a:pt x="3768" y="44"/>
                  <a:pt x="3769" y="51"/>
                  <a:pt x="3770" y="61"/>
                </a:cubicBezTo>
                <a:close/>
              </a:path>
            </a:pathLst>
          </a:custGeom>
          <a:gradFill rotWithShape="0">
            <a:gsLst>
              <a:gs pos="0">
                <a:srgbClr val="01210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Group 3"/>
          <p:cNvGrpSpPr/>
          <p:nvPr/>
        </p:nvGrpSpPr>
        <p:grpSpPr>
          <a:xfrm>
            <a:off x="5877000" y="-1117440"/>
            <a:ext cx="3913920" cy="6525360"/>
            <a:chOff x="5877000" y="-1117440"/>
            <a:chExt cx="3913920" cy="6525360"/>
          </a:xfrm>
        </p:grpSpPr>
        <p:grpSp>
          <p:nvGrpSpPr>
            <p:cNvPr id="39" name="Group 4"/>
            <p:cNvGrpSpPr/>
            <p:nvPr/>
          </p:nvGrpSpPr>
          <p:grpSpPr>
            <a:xfrm>
              <a:off x="5881320" y="-1117440"/>
              <a:ext cx="3909600" cy="6525360"/>
              <a:chOff x="5881320" y="-1117440"/>
              <a:chExt cx="3909600" cy="6525360"/>
            </a:xfrm>
          </p:grpSpPr>
          <p:sp>
            <p:nvSpPr>
              <p:cNvPr id="40" name="未知"/>
              <p:cNvSpPr/>
              <p:nvPr/>
            </p:nvSpPr>
            <p:spPr>
              <a:xfrm>
                <a:off x="7794720" y="-1117440"/>
                <a:ext cx="8280" cy="52200"/>
              </a:xfrm>
              <a:custGeom>
                <a:avLst/>
                <a:gdLst/>
                <a:ahLst/>
                <a:rect l="l" t="t" r="r" b="b"/>
                <a:pathLst>
                  <a:path w="4" h="28">
                    <a:moveTo>
                      <a:pt x="0" y="0"/>
                    </a:moveTo>
                    <a:lnTo>
                      <a:pt x="0" y="0"/>
                    </a:lnTo>
                    <a:lnTo>
                      <a:pt x="2" y="6"/>
                    </a:lnTo>
                    <a:lnTo>
                      <a:pt x="4" y="14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未知"/>
              <p:cNvSpPr/>
              <p:nvPr/>
            </p:nvSpPr>
            <p:spPr>
              <a:xfrm>
                <a:off x="7943040" y="-105732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0"/>
                    </a:moveTo>
                    <a:lnTo>
                      <a:pt x="4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未知"/>
              <p:cNvSpPr/>
              <p:nvPr/>
            </p:nvSpPr>
            <p:spPr>
              <a:xfrm>
                <a:off x="7441560" y="-1030680"/>
                <a:ext cx="8640" cy="223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4" y="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未知"/>
              <p:cNvSpPr/>
              <p:nvPr/>
            </p:nvSpPr>
            <p:spPr>
              <a:xfrm>
                <a:off x="8156520" y="-925560"/>
                <a:ext cx="34560" cy="7200"/>
              </a:xfrm>
              <a:custGeom>
                <a:avLst/>
                <a:gdLst/>
                <a:ahLst/>
                <a:rect l="l" t="t" r="r" b="b"/>
                <a:pathLst>
                  <a:path w="16" h="4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>
                <a:off x="7363440" y="-801360"/>
                <a:ext cx="77760" cy="975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6" y="48"/>
                    </a:moveTo>
                    <a:lnTo>
                      <a:pt x="6" y="48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12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2" y="32"/>
                    </a:lnTo>
                    <a:lnTo>
                      <a:pt x="20" y="28"/>
                    </a:lnTo>
                    <a:lnTo>
                      <a:pt x="12" y="20"/>
                    </a:lnTo>
                    <a:lnTo>
                      <a:pt x="4" y="14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8" y="2"/>
                    </a:lnTo>
                    <a:lnTo>
                      <a:pt x="26" y="14"/>
                    </a:lnTo>
                    <a:lnTo>
                      <a:pt x="34" y="26"/>
                    </a:lnTo>
                    <a:lnTo>
                      <a:pt x="36" y="34"/>
                    </a:lnTo>
                    <a:lnTo>
                      <a:pt x="36" y="38"/>
                    </a:lnTo>
                    <a:lnTo>
                      <a:pt x="36" y="38"/>
                    </a:lnTo>
                    <a:lnTo>
                      <a:pt x="32" y="44"/>
                    </a:lnTo>
                    <a:lnTo>
                      <a:pt x="26" y="50"/>
                    </a:lnTo>
                    <a:lnTo>
                      <a:pt x="16" y="52"/>
                    </a:lnTo>
                    <a:lnTo>
                      <a:pt x="12" y="50"/>
                    </a:lnTo>
                    <a:lnTo>
                      <a:pt x="6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>
                <a:off x="7680960" y="-730440"/>
                <a:ext cx="65520" cy="4104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30" y="8"/>
                    </a:moveTo>
                    <a:lnTo>
                      <a:pt x="30" y="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26" y="20"/>
                    </a:lnTo>
                    <a:lnTo>
                      <a:pt x="20" y="22"/>
                    </a:lnTo>
                    <a:lnTo>
                      <a:pt x="10" y="18"/>
                    </a:lnTo>
                    <a:lnTo>
                      <a:pt x="4" y="14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2" y="4"/>
                    </a:lnTo>
                    <a:lnTo>
                      <a:pt x="30" y="8"/>
                    </a:lnTo>
                    <a:lnTo>
                      <a:pt x="3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>
                <a:off x="8731800" y="-726480"/>
                <a:ext cx="60480" cy="3384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28" y="16"/>
                    </a:moveTo>
                    <a:lnTo>
                      <a:pt x="28" y="16"/>
                    </a:lnTo>
                    <a:lnTo>
                      <a:pt x="18" y="18"/>
                    </a:lnTo>
                    <a:lnTo>
                      <a:pt x="12" y="14"/>
                    </a:lnTo>
                    <a:lnTo>
                      <a:pt x="4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20" y="2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未知"/>
              <p:cNvSpPr/>
              <p:nvPr/>
            </p:nvSpPr>
            <p:spPr>
              <a:xfrm>
                <a:off x="8579160" y="-643680"/>
                <a:ext cx="43200" cy="2628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0"/>
                    </a:moveTo>
                    <a:lnTo>
                      <a:pt x="20" y="0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6" y="4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未知"/>
              <p:cNvSpPr/>
              <p:nvPr/>
            </p:nvSpPr>
            <p:spPr>
              <a:xfrm>
                <a:off x="7459200" y="-613440"/>
                <a:ext cx="3600" cy="2628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0" y="0"/>
                    </a:moveTo>
                    <a:lnTo>
                      <a:pt x="0" y="0"/>
                    </a:lnTo>
                    <a:lnTo>
                      <a:pt x="2" y="6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>
                <a:off x="7624800" y="-598680"/>
                <a:ext cx="69480" cy="48960"/>
              </a:xfrm>
              <a:custGeom>
                <a:avLst/>
                <a:gdLst/>
                <a:ahLst/>
                <a:rect l="l" t="t" r="r" b="b"/>
                <a:pathLst>
                  <a:path w="32" h="26">
                    <a:moveTo>
                      <a:pt x="32" y="20"/>
                    </a:moveTo>
                    <a:lnTo>
                      <a:pt x="32" y="20"/>
                    </a:lnTo>
                    <a:lnTo>
                      <a:pt x="28" y="24"/>
                    </a:lnTo>
                    <a:lnTo>
                      <a:pt x="24" y="26"/>
                    </a:lnTo>
                    <a:lnTo>
                      <a:pt x="18" y="26"/>
                    </a:lnTo>
                    <a:lnTo>
                      <a:pt x="12" y="24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6" y="2"/>
                    </a:lnTo>
                    <a:lnTo>
                      <a:pt x="26" y="12"/>
                    </a:lnTo>
                    <a:lnTo>
                      <a:pt x="32" y="20"/>
                    </a:lnTo>
                    <a:lnTo>
                      <a:pt x="3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>
                <a:off x="8727480" y="-594720"/>
                <a:ext cx="95760" cy="37440"/>
              </a:xfrm>
              <a:custGeom>
                <a:avLst/>
                <a:gdLst/>
                <a:ahLst/>
                <a:rect l="l" t="t" r="r" b="b"/>
                <a:pathLst>
                  <a:path w="44" h="20">
                    <a:moveTo>
                      <a:pt x="44" y="8"/>
                    </a:moveTo>
                    <a:lnTo>
                      <a:pt x="44" y="8"/>
                    </a:lnTo>
                    <a:lnTo>
                      <a:pt x="38" y="8"/>
                    </a:lnTo>
                    <a:lnTo>
                      <a:pt x="32" y="10"/>
                    </a:lnTo>
                    <a:lnTo>
                      <a:pt x="22" y="16"/>
                    </a:lnTo>
                    <a:lnTo>
                      <a:pt x="10" y="20"/>
                    </a:lnTo>
                    <a:lnTo>
                      <a:pt x="6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30" y="2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>
                <a:off x="8893080" y="-549720"/>
                <a:ext cx="69480" cy="720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32" y="0"/>
                    </a:moveTo>
                    <a:lnTo>
                      <a:pt x="32" y="0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18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6" y="2"/>
                    </a:lnTo>
                    <a:lnTo>
                      <a:pt x="24" y="2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>
                <a:off x="8592480" y="-53460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>
                <a:off x="8396280" y="-485640"/>
                <a:ext cx="91080" cy="25920"/>
              </a:xfrm>
              <a:custGeom>
                <a:avLst/>
                <a:gdLst/>
                <a:ahLst/>
                <a:rect l="l" t="t" r="r" b="b"/>
                <a:pathLst>
                  <a:path w="42" h="14">
                    <a:moveTo>
                      <a:pt x="42" y="10"/>
                    </a:moveTo>
                    <a:lnTo>
                      <a:pt x="42" y="10"/>
                    </a:lnTo>
                    <a:lnTo>
                      <a:pt x="42" y="14"/>
                    </a:lnTo>
                    <a:lnTo>
                      <a:pt x="38" y="14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22" y="12"/>
                    </a:lnTo>
                    <a:lnTo>
                      <a:pt x="14" y="1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2" y="10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>
                <a:off x="8339400" y="-406800"/>
                <a:ext cx="4320" cy="1872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>
                <a:off x="8884440" y="-369360"/>
                <a:ext cx="126000" cy="56160"/>
              </a:xfrm>
              <a:custGeom>
                <a:avLst/>
                <a:gdLst/>
                <a:ahLst/>
                <a:rect l="l" t="t" r="r" b="b"/>
                <a:pathLst>
                  <a:path w="58" h="30">
                    <a:moveTo>
                      <a:pt x="4" y="30"/>
                    </a:moveTo>
                    <a:lnTo>
                      <a:pt x="4" y="30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12" y="16"/>
                    </a:lnTo>
                    <a:lnTo>
                      <a:pt x="26" y="10"/>
                    </a:lnTo>
                    <a:lnTo>
                      <a:pt x="26" y="10"/>
                    </a:lnTo>
                    <a:lnTo>
                      <a:pt x="40" y="4"/>
                    </a:lnTo>
                    <a:lnTo>
                      <a:pt x="46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58" y="2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8" y="8"/>
                    </a:lnTo>
                    <a:lnTo>
                      <a:pt x="56" y="10"/>
                    </a:lnTo>
                    <a:lnTo>
                      <a:pt x="48" y="14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18" y="26"/>
                    </a:lnTo>
                    <a:lnTo>
                      <a:pt x="4" y="30"/>
                    </a:lnTo>
                    <a:lnTo>
                      <a:pt x="4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8078040" y="-354240"/>
                <a:ext cx="17280" cy="7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8343720" y="-342720"/>
                <a:ext cx="52200" cy="2628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24" y="0"/>
                    </a:moveTo>
                    <a:lnTo>
                      <a:pt x="24" y="0"/>
                    </a:lnTo>
                    <a:lnTo>
                      <a:pt x="20" y="6"/>
                    </a:lnTo>
                    <a:lnTo>
                      <a:pt x="14" y="12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8"/>
                    </a:lnTo>
                    <a:lnTo>
                      <a:pt x="8" y="2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8003880" y="-286560"/>
                <a:ext cx="38880" cy="1872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8"/>
                    </a:moveTo>
                    <a:lnTo>
                      <a:pt x="18" y="8"/>
                    </a:lnTo>
                    <a:lnTo>
                      <a:pt x="12" y="10"/>
                    </a:lnTo>
                    <a:lnTo>
                      <a:pt x="8" y="1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18" y="8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6996960" y="-294120"/>
                <a:ext cx="108720" cy="71280"/>
              </a:xfrm>
              <a:custGeom>
                <a:avLst/>
                <a:gdLst/>
                <a:ahLst/>
                <a:rect l="l" t="t" r="r" b="b"/>
                <a:pathLst>
                  <a:path w="50" h="38">
                    <a:moveTo>
                      <a:pt x="50" y="36"/>
                    </a:moveTo>
                    <a:lnTo>
                      <a:pt x="50" y="36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0" y="38"/>
                    </a:lnTo>
                    <a:lnTo>
                      <a:pt x="34" y="34"/>
                    </a:lnTo>
                    <a:lnTo>
                      <a:pt x="24" y="26"/>
                    </a:lnTo>
                    <a:lnTo>
                      <a:pt x="12" y="16"/>
                    </a:lnTo>
                    <a:lnTo>
                      <a:pt x="6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22" y="8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44" y="24"/>
                    </a:lnTo>
                    <a:lnTo>
                      <a:pt x="48" y="30"/>
                    </a:lnTo>
                    <a:lnTo>
                      <a:pt x="50" y="36"/>
                    </a:lnTo>
                    <a:lnTo>
                      <a:pt x="5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>
                <a:off x="8243640" y="-271800"/>
                <a:ext cx="21600" cy="75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10" y="0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>
                <a:off x="8648640" y="-230400"/>
                <a:ext cx="17640" cy="36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未知"/>
              <p:cNvSpPr/>
              <p:nvPr/>
            </p:nvSpPr>
            <p:spPr>
              <a:xfrm>
                <a:off x="7358760" y="-162720"/>
                <a:ext cx="25920" cy="338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0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6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>
                <a:off x="8758080" y="-128520"/>
                <a:ext cx="187200" cy="116280"/>
              </a:xfrm>
              <a:custGeom>
                <a:avLst/>
                <a:gdLst/>
                <a:ahLst/>
                <a:rect l="l" t="t" r="r" b="b"/>
                <a:pathLst>
                  <a:path w="86" h="62">
                    <a:moveTo>
                      <a:pt x="0" y="0"/>
                    </a:moveTo>
                    <a:lnTo>
                      <a:pt x="0" y="0"/>
                    </a:lnTo>
                    <a:lnTo>
                      <a:pt x="4" y="6"/>
                    </a:lnTo>
                    <a:lnTo>
                      <a:pt x="12" y="12"/>
                    </a:lnTo>
                    <a:lnTo>
                      <a:pt x="20" y="14"/>
                    </a:lnTo>
                    <a:lnTo>
                      <a:pt x="30" y="16"/>
                    </a:lnTo>
                    <a:lnTo>
                      <a:pt x="48" y="20"/>
                    </a:lnTo>
                    <a:lnTo>
                      <a:pt x="56" y="22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2" y="32"/>
                    </a:lnTo>
                    <a:lnTo>
                      <a:pt x="60" y="34"/>
                    </a:lnTo>
                    <a:lnTo>
                      <a:pt x="58" y="36"/>
                    </a:lnTo>
                    <a:lnTo>
                      <a:pt x="56" y="40"/>
                    </a:lnTo>
                    <a:lnTo>
                      <a:pt x="56" y="40"/>
                    </a:lnTo>
                    <a:lnTo>
                      <a:pt x="58" y="44"/>
                    </a:lnTo>
                    <a:lnTo>
                      <a:pt x="62" y="46"/>
                    </a:lnTo>
                    <a:lnTo>
                      <a:pt x="70" y="48"/>
                    </a:lnTo>
                    <a:lnTo>
                      <a:pt x="78" y="52"/>
                    </a:lnTo>
                    <a:lnTo>
                      <a:pt x="82" y="54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2" y="60"/>
                    </a:lnTo>
                    <a:lnTo>
                      <a:pt x="76" y="62"/>
                    </a:lnTo>
                    <a:lnTo>
                      <a:pt x="70" y="62"/>
                    </a:lnTo>
                    <a:lnTo>
                      <a:pt x="64" y="62"/>
                    </a:lnTo>
                    <a:lnTo>
                      <a:pt x="50" y="58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38" y="50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34" y="42"/>
                    </a:lnTo>
                    <a:lnTo>
                      <a:pt x="30" y="36"/>
                    </a:lnTo>
                    <a:lnTo>
                      <a:pt x="18" y="26"/>
                    </a:lnTo>
                    <a:lnTo>
                      <a:pt x="6" y="14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>
                <a:off x="9041400" y="-106200"/>
                <a:ext cx="82800" cy="6768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38" y="0"/>
                    </a:moveTo>
                    <a:lnTo>
                      <a:pt x="38" y="0"/>
                    </a:lnTo>
                    <a:lnTo>
                      <a:pt x="38" y="2"/>
                    </a:lnTo>
                    <a:lnTo>
                      <a:pt x="36" y="4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22" y="14"/>
                    </a:lnTo>
                    <a:lnTo>
                      <a:pt x="16" y="22"/>
                    </a:lnTo>
                    <a:lnTo>
                      <a:pt x="10" y="30"/>
                    </a:lnTo>
                    <a:lnTo>
                      <a:pt x="6" y="34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4" y="26"/>
                    </a:lnTo>
                    <a:lnTo>
                      <a:pt x="10" y="16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4" y="2"/>
                    </a:lnTo>
                    <a:lnTo>
                      <a:pt x="38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6992640" y="-83880"/>
                <a:ext cx="91080" cy="97920"/>
              </a:xfrm>
              <a:custGeom>
                <a:avLst/>
                <a:gdLst/>
                <a:ahLst/>
                <a:rect l="l" t="t" r="r" b="b"/>
                <a:pathLst>
                  <a:path w="42" h="52">
                    <a:moveTo>
                      <a:pt x="24" y="26"/>
                    </a:moveTo>
                    <a:lnTo>
                      <a:pt x="24" y="26"/>
                    </a:lnTo>
                    <a:lnTo>
                      <a:pt x="20" y="20"/>
                    </a:lnTo>
                    <a:lnTo>
                      <a:pt x="14" y="18"/>
                    </a:lnTo>
                    <a:lnTo>
                      <a:pt x="8" y="16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0" y="4"/>
                    </a:lnTo>
                    <a:lnTo>
                      <a:pt x="28" y="6"/>
                    </a:lnTo>
                    <a:lnTo>
                      <a:pt x="34" y="12"/>
                    </a:lnTo>
                    <a:lnTo>
                      <a:pt x="38" y="18"/>
                    </a:lnTo>
                    <a:lnTo>
                      <a:pt x="42" y="24"/>
                    </a:lnTo>
                    <a:lnTo>
                      <a:pt x="42" y="32"/>
                    </a:lnTo>
                    <a:lnTo>
                      <a:pt x="38" y="42"/>
                    </a:lnTo>
                    <a:lnTo>
                      <a:pt x="38" y="42"/>
                    </a:lnTo>
                    <a:lnTo>
                      <a:pt x="34" y="46"/>
                    </a:lnTo>
                    <a:lnTo>
                      <a:pt x="24" y="50"/>
                    </a:lnTo>
                    <a:lnTo>
                      <a:pt x="18" y="52"/>
                    </a:lnTo>
                    <a:lnTo>
                      <a:pt x="14" y="52"/>
                    </a:lnTo>
                    <a:lnTo>
                      <a:pt x="10" y="50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2"/>
                    </a:lnTo>
                    <a:lnTo>
                      <a:pt x="8" y="38"/>
                    </a:lnTo>
                    <a:lnTo>
                      <a:pt x="12" y="34"/>
                    </a:lnTo>
                    <a:lnTo>
                      <a:pt x="18" y="30"/>
                    </a:lnTo>
                    <a:lnTo>
                      <a:pt x="24" y="26"/>
                    </a:lnTo>
                    <a:lnTo>
                      <a:pt x="24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>
                <a:off x="8928000" y="-61200"/>
                <a:ext cx="25920" cy="2628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0" y="0"/>
                    </a:moveTo>
                    <a:lnTo>
                      <a:pt x="10" y="0"/>
                    </a:lnTo>
                    <a:lnTo>
                      <a:pt x="12" y="2"/>
                    </a:lnTo>
                    <a:lnTo>
                      <a:pt x="12" y="6"/>
                    </a:lnTo>
                    <a:lnTo>
                      <a:pt x="10" y="1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>
                <a:off x="6988320" y="32760"/>
                <a:ext cx="95760" cy="8640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30"/>
                    </a:moveTo>
                    <a:lnTo>
                      <a:pt x="0" y="30"/>
                    </a:lnTo>
                    <a:lnTo>
                      <a:pt x="4" y="28"/>
                    </a:lnTo>
                    <a:lnTo>
                      <a:pt x="8" y="30"/>
                    </a:lnTo>
                    <a:lnTo>
                      <a:pt x="14" y="30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4" y="24"/>
                    </a:lnTo>
                    <a:lnTo>
                      <a:pt x="12" y="18"/>
                    </a:lnTo>
                    <a:lnTo>
                      <a:pt x="12" y="14"/>
                    </a:lnTo>
                    <a:lnTo>
                      <a:pt x="14" y="8"/>
                    </a:lnTo>
                    <a:lnTo>
                      <a:pt x="18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0" y="6"/>
                    </a:lnTo>
                    <a:lnTo>
                      <a:pt x="42" y="12"/>
                    </a:lnTo>
                    <a:lnTo>
                      <a:pt x="44" y="18"/>
                    </a:lnTo>
                    <a:lnTo>
                      <a:pt x="42" y="26"/>
                    </a:lnTo>
                    <a:lnTo>
                      <a:pt x="40" y="34"/>
                    </a:lnTo>
                    <a:lnTo>
                      <a:pt x="38" y="40"/>
                    </a:lnTo>
                    <a:lnTo>
                      <a:pt x="32" y="44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18" y="46"/>
                    </a:lnTo>
                    <a:lnTo>
                      <a:pt x="12" y="42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9206640" y="39960"/>
                <a:ext cx="95760" cy="7524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8" y="0"/>
                    </a:moveTo>
                    <a:lnTo>
                      <a:pt x="8" y="0"/>
                    </a:lnTo>
                    <a:lnTo>
                      <a:pt x="10" y="6"/>
                    </a:lnTo>
                    <a:lnTo>
                      <a:pt x="14" y="12"/>
                    </a:lnTo>
                    <a:lnTo>
                      <a:pt x="20" y="16"/>
                    </a:lnTo>
                    <a:lnTo>
                      <a:pt x="24" y="20"/>
                    </a:lnTo>
                    <a:lnTo>
                      <a:pt x="36" y="28"/>
                    </a:lnTo>
                    <a:lnTo>
                      <a:pt x="40" y="32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42" y="40"/>
                    </a:lnTo>
                    <a:lnTo>
                      <a:pt x="38" y="40"/>
                    </a:lnTo>
                    <a:lnTo>
                      <a:pt x="26" y="36"/>
                    </a:lnTo>
                    <a:lnTo>
                      <a:pt x="16" y="30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2" y="16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8670600" y="43920"/>
                <a:ext cx="104760" cy="788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8"/>
                    </a:moveTo>
                    <a:lnTo>
                      <a:pt x="0" y="8"/>
                    </a:lnTo>
                    <a:lnTo>
                      <a:pt x="12" y="4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0" y="4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8" y="14"/>
                    </a:lnTo>
                    <a:lnTo>
                      <a:pt x="48" y="20"/>
                    </a:lnTo>
                    <a:lnTo>
                      <a:pt x="46" y="26"/>
                    </a:lnTo>
                    <a:lnTo>
                      <a:pt x="42" y="32"/>
                    </a:lnTo>
                    <a:lnTo>
                      <a:pt x="38" y="38"/>
                    </a:lnTo>
                    <a:lnTo>
                      <a:pt x="32" y="42"/>
                    </a:lnTo>
                    <a:lnTo>
                      <a:pt x="26" y="42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4" y="40"/>
                    </a:lnTo>
                    <a:lnTo>
                      <a:pt x="12" y="36"/>
                    </a:lnTo>
                    <a:lnTo>
                      <a:pt x="8" y="26"/>
                    </a:lnTo>
                    <a:lnTo>
                      <a:pt x="6" y="1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7149240" y="58680"/>
                <a:ext cx="25920" cy="360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8814240" y="62640"/>
                <a:ext cx="17640" cy="7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8191080" y="74160"/>
                <a:ext cx="8640" cy="33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2" y="0"/>
                    </a:moveTo>
                    <a:lnTo>
                      <a:pt x="2" y="0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>
                <a:off x="7520040" y="92880"/>
                <a:ext cx="30600" cy="108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4" y="4"/>
                    </a:moveTo>
                    <a:lnTo>
                      <a:pt x="14" y="4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>
                <a:off x="8182800" y="115560"/>
                <a:ext cx="8280" cy="2232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8017200" y="119160"/>
                <a:ext cx="43200" cy="720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20" y="0"/>
                    </a:moveTo>
                    <a:lnTo>
                      <a:pt x="20" y="0"/>
                    </a:lnTo>
                    <a:lnTo>
                      <a:pt x="1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>
                <a:off x="7271280" y="149040"/>
                <a:ext cx="78480" cy="18720"/>
              </a:xfrm>
              <a:custGeom>
                <a:avLst/>
                <a:gdLst/>
                <a:ahLst/>
                <a:rect l="l" t="t" r="r" b="b"/>
                <a:pathLst>
                  <a:path w="36" h="10">
                    <a:moveTo>
                      <a:pt x="36" y="8"/>
                    </a:moveTo>
                    <a:lnTo>
                      <a:pt x="36" y="8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6" y="1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20" y="0"/>
                    </a:lnTo>
                    <a:lnTo>
                      <a:pt x="30" y="2"/>
                    </a:lnTo>
                    <a:lnTo>
                      <a:pt x="34" y="4"/>
                    </a:lnTo>
                    <a:lnTo>
                      <a:pt x="36" y="8"/>
                    </a:lnTo>
                    <a:lnTo>
                      <a:pt x="3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>
                <a:off x="7245360" y="179280"/>
                <a:ext cx="25920" cy="720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6670080" y="262080"/>
                <a:ext cx="73800" cy="6372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34" y="0"/>
                    </a:moveTo>
                    <a:lnTo>
                      <a:pt x="34" y="0"/>
                    </a:lnTo>
                    <a:lnTo>
                      <a:pt x="30" y="10"/>
                    </a:lnTo>
                    <a:lnTo>
                      <a:pt x="28" y="22"/>
                    </a:lnTo>
                    <a:lnTo>
                      <a:pt x="24" y="26"/>
                    </a:lnTo>
                    <a:lnTo>
                      <a:pt x="22" y="30"/>
                    </a:lnTo>
                    <a:lnTo>
                      <a:pt x="18" y="32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6" y="32"/>
                    </a:lnTo>
                    <a:lnTo>
                      <a:pt x="2" y="26"/>
                    </a:lnTo>
                    <a:lnTo>
                      <a:pt x="0" y="2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6940440" y="273240"/>
                <a:ext cx="34920" cy="2628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6" y="0"/>
                    </a:moveTo>
                    <a:lnTo>
                      <a:pt x="16" y="0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10" y="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6779160" y="284760"/>
                <a:ext cx="73800" cy="59760"/>
              </a:xfrm>
              <a:custGeom>
                <a:avLst/>
                <a:gdLst/>
                <a:ahLst/>
                <a:rect l="l" t="t" r="r" b="b"/>
                <a:pathLst>
                  <a:path w="34" h="32">
                    <a:moveTo>
                      <a:pt x="10" y="0"/>
                    </a:moveTo>
                    <a:lnTo>
                      <a:pt x="10" y="0"/>
                    </a:lnTo>
                    <a:lnTo>
                      <a:pt x="18" y="2"/>
                    </a:lnTo>
                    <a:lnTo>
                      <a:pt x="26" y="6"/>
                    </a:lnTo>
                    <a:lnTo>
                      <a:pt x="32" y="12"/>
                    </a:lnTo>
                    <a:lnTo>
                      <a:pt x="34" y="16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2" y="26"/>
                    </a:lnTo>
                    <a:lnTo>
                      <a:pt x="30" y="30"/>
                    </a:lnTo>
                    <a:lnTo>
                      <a:pt x="28" y="32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8" y="26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>
                <a:off x="6957720" y="284760"/>
                <a:ext cx="56520" cy="3348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26" y="4"/>
                    </a:moveTo>
                    <a:lnTo>
                      <a:pt x="26" y="4"/>
                    </a:lnTo>
                    <a:lnTo>
                      <a:pt x="26" y="6"/>
                    </a:lnTo>
                    <a:lnTo>
                      <a:pt x="24" y="10"/>
                    </a:lnTo>
                    <a:lnTo>
                      <a:pt x="16" y="16"/>
                    </a:lnTo>
                    <a:lnTo>
                      <a:pt x="12" y="18"/>
                    </a:lnTo>
                    <a:lnTo>
                      <a:pt x="8" y="18"/>
                    </a:lnTo>
                    <a:lnTo>
                      <a:pt x="4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8"/>
                    </a:lnTo>
                    <a:lnTo>
                      <a:pt x="10" y="2"/>
                    </a:lnTo>
                    <a:lnTo>
                      <a:pt x="18" y="0"/>
                    </a:lnTo>
                    <a:lnTo>
                      <a:pt x="22" y="0"/>
                    </a:lnTo>
                    <a:lnTo>
                      <a:pt x="26" y="4"/>
                    </a:lnTo>
                    <a:lnTo>
                      <a:pt x="2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>
                <a:off x="8583480" y="322200"/>
                <a:ext cx="65160" cy="37440"/>
              </a:xfrm>
              <a:custGeom>
                <a:avLst/>
                <a:gdLst/>
                <a:ahLst/>
                <a:rect l="l" t="t" r="r" b="b"/>
                <a:pathLst>
                  <a:path w="30" h="20">
                    <a:moveTo>
                      <a:pt x="30" y="0"/>
                    </a:moveTo>
                    <a:lnTo>
                      <a:pt x="30" y="0"/>
                    </a:lnTo>
                    <a:lnTo>
                      <a:pt x="28" y="6"/>
                    </a:lnTo>
                    <a:lnTo>
                      <a:pt x="24" y="12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0" y="18"/>
                    </a:lnTo>
                    <a:lnTo>
                      <a:pt x="4" y="14"/>
                    </a:lnTo>
                    <a:lnTo>
                      <a:pt x="2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4" y="4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8" y="8"/>
                    </a:lnTo>
                    <a:lnTo>
                      <a:pt x="22" y="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>
                <a:off x="9363960" y="382320"/>
                <a:ext cx="8280" cy="52200"/>
              </a:xfrm>
              <a:custGeom>
                <a:avLst/>
                <a:gdLst/>
                <a:ahLst/>
                <a:rect l="l" t="t" r="r" b="b"/>
                <a:pathLst>
                  <a:path w="4" h="28">
                    <a:moveTo>
                      <a:pt x="4" y="0"/>
                    </a:moveTo>
                    <a:lnTo>
                      <a:pt x="4" y="0"/>
                    </a:lnTo>
                    <a:lnTo>
                      <a:pt x="4" y="6"/>
                    </a:lnTo>
                    <a:lnTo>
                      <a:pt x="4" y="14"/>
                    </a:lnTo>
                    <a:lnTo>
                      <a:pt x="2" y="20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0" y="20"/>
                    </a:lnTo>
                    <a:lnTo>
                      <a:pt x="2" y="1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8705520" y="389880"/>
                <a:ext cx="4320" cy="2232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8470440" y="404640"/>
                <a:ext cx="117360" cy="93600"/>
              </a:xfrm>
              <a:custGeom>
                <a:avLst/>
                <a:gdLst/>
                <a:ahLst/>
                <a:rect l="l" t="t" r="r" b="b"/>
                <a:pathLst>
                  <a:path w="54" h="50">
                    <a:moveTo>
                      <a:pt x="54" y="10"/>
                    </a:moveTo>
                    <a:lnTo>
                      <a:pt x="54" y="10"/>
                    </a:lnTo>
                    <a:lnTo>
                      <a:pt x="54" y="16"/>
                    </a:lnTo>
                    <a:lnTo>
                      <a:pt x="54" y="22"/>
                    </a:lnTo>
                    <a:lnTo>
                      <a:pt x="50" y="26"/>
                    </a:lnTo>
                    <a:lnTo>
                      <a:pt x="48" y="30"/>
                    </a:lnTo>
                    <a:lnTo>
                      <a:pt x="38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8" y="36"/>
                    </a:lnTo>
                    <a:lnTo>
                      <a:pt x="30" y="38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0" y="42"/>
                    </a:lnTo>
                    <a:lnTo>
                      <a:pt x="26" y="44"/>
                    </a:lnTo>
                    <a:lnTo>
                      <a:pt x="18" y="48"/>
                    </a:lnTo>
                    <a:lnTo>
                      <a:pt x="10" y="5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2" y="40"/>
                    </a:lnTo>
                    <a:lnTo>
                      <a:pt x="4" y="36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6" y="22"/>
                    </a:lnTo>
                    <a:lnTo>
                      <a:pt x="4" y="18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8" y="8"/>
                    </a:lnTo>
                    <a:lnTo>
                      <a:pt x="14" y="4"/>
                    </a:lnTo>
                    <a:lnTo>
                      <a:pt x="20" y="2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36" y="4"/>
                    </a:lnTo>
                    <a:lnTo>
                      <a:pt x="44" y="10"/>
                    </a:lnTo>
                    <a:lnTo>
                      <a:pt x="44" y="10"/>
                    </a:lnTo>
                    <a:lnTo>
                      <a:pt x="54" y="10"/>
                    </a:lnTo>
                    <a:lnTo>
                      <a:pt x="54" y="10"/>
                    </a:lnTo>
                    <a:close/>
                    <a:moveTo>
                      <a:pt x="22" y="22"/>
                    </a:moveTo>
                    <a:lnTo>
                      <a:pt x="22" y="22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8" y="20"/>
                    </a:lnTo>
                    <a:lnTo>
                      <a:pt x="22" y="22"/>
                    </a:lnTo>
                    <a:lnTo>
                      <a:pt x="2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>
                <a:off x="8182800" y="419760"/>
                <a:ext cx="69480" cy="22320"/>
              </a:xfrm>
              <a:custGeom>
                <a:avLst/>
                <a:gdLst/>
                <a:ahLst/>
                <a:rect l="l" t="t" r="r" b="b"/>
                <a:pathLst>
                  <a:path w="32" h="12">
                    <a:moveTo>
                      <a:pt x="32" y="12"/>
                    </a:moveTo>
                    <a:lnTo>
                      <a:pt x="32" y="12"/>
                    </a:lnTo>
                    <a:lnTo>
                      <a:pt x="22" y="12"/>
                    </a:lnTo>
                    <a:lnTo>
                      <a:pt x="14" y="12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8" y="4"/>
                    </a:lnTo>
                    <a:lnTo>
                      <a:pt x="30" y="8"/>
                    </a:lnTo>
                    <a:lnTo>
                      <a:pt x="32" y="12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>
                <a:off x="6879600" y="464760"/>
                <a:ext cx="100080" cy="33480"/>
              </a:xfrm>
              <a:custGeom>
                <a:avLst/>
                <a:gdLst/>
                <a:ahLst/>
                <a:rect l="l" t="t" r="r" b="b"/>
                <a:pathLst>
                  <a:path w="46" h="18">
                    <a:moveTo>
                      <a:pt x="46" y="16"/>
                    </a:moveTo>
                    <a:lnTo>
                      <a:pt x="46" y="16"/>
                    </a:lnTo>
                    <a:lnTo>
                      <a:pt x="38" y="18"/>
                    </a:lnTo>
                    <a:lnTo>
                      <a:pt x="32" y="16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16" y="8"/>
                    </a:lnTo>
                    <a:lnTo>
                      <a:pt x="1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14" y="2"/>
                    </a:lnTo>
                    <a:lnTo>
                      <a:pt x="20" y="4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38" y="10"/>
                    </a:lnTo>
                    <a:lnTo>
                      <a:pt x="42" y="12"/>
                    </a:lnTo>
                    <a:lnTo>
                      <a:pt x="46" y="16"/>
                    </a:lnTo>
                    <a:lnTo>
                      <a:pt x="4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>
                <a:off x="8871120" y="506160"/>
                <a:ext cx="34920" cy="7560"/>
              </a:xfrm>
              <a:custGeom>
                <a:avLst/>
                <a:gdLst/>
                <a:ahLst/>
                <a:rect l="l" t="t" r="r" b="b"/>
                <a:pathLst>
                  <a:path w="16" h="4">
                    <a:moveTo>
                      <a:pt x="16" y="0"/>
                    </a:moveTo>
                    <a:lnTo>
                      <a:pt x="16" y="0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>
                <a:off x="8352720" y="566280"/>
                <a:ext cx="17280" cy="7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>
                <a:off x="8374680" y="57024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6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6617520" y="59652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9564120" y="663840"/>
                <a:ext cx="21960" cy="360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0"/>
                    </a:moveTo>
                    <a:lnTo>
                      <a:pt x="10" y="0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7485480" y="735480"/>
                <a:ext cx="29880" cy="108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4" y="0"/>
                    </a:moveTo>
                    <a:lnTo>
                      <a:pt x="14" y="0"/>
                    </a:lnTo>
                    <a:lnTo>
                      <a:pt x="12" y="4"/>
                    </a:lnTo>
                    <a:lnTo>
                      <a:pt x="8" y="6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8544600" y="810720"/>
                <a:ext cx="82440" cy="4896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24" y="0"/>
                    </a:moveTo>
                    <a:lnTo>
                      <a:pt x="24" y="0"/>
                    </a:lnTo>
                    <a:lnTo>
                      <a:pt x="26" y="6"/>
                    </a:lnTo>
                    <a:lnTo>
                      <a:pt x="30" y="12"/>
                    </a:lnTo>
                    <a:lnTo>
                      <a:pt x="38" y="22"/>
                    </a:lnTo>
                    <a:lnTo>
                      <a:pt x="38" y="22"/>
                    </a:lnTo>
                    <a:lnTo>
                      <a:pt x="32" y="24"/>
                    </a:lnTo>
                    <a:lnTo>
                      <a:pt x="26" y="26"/>
                    </a:lnTo>
                    <a:lnTo>
                      <a:pt x="20" y="26"/>
                    </a:lnTo>
                    <a:lnTo>
                      <a:pt x="14" y="24"/>
                    </a:lnTo>
                    <a:lnTo>
                      <a:pt x="8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8" y="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8396280" y="814320"/>
                <a:ext cx="152640" cy="97920"/>
              </a:xfrm>
              <a:custGeom>
                <a:avLst/>
                <a:gdLst/>
                <a:ahLst/>
                <a:rect l="l" t="t" r="r" b="b"/>
                <a:pathLst>
                  <a:path w="70" h="52">
                    <a:moveTo>
                      <a:pt x="70" y="50"/>
                    </a:moveTo>
                    <a:lnTo>
                      <a:pt x="70" y="50"/>
                    </a:lnTo>
                    <a:lnTo>
                      <a:pt x="66" y="52"/>
                    </a:lnTo>
                    <a:lnTo>
                      <a:pt x="60" y="52"/>
                    </a:lnTo>
                    <a:lnTo>
                      <a:pt x="50" y="46"/>
                    </a:lnTo>
                    <a:lnTo>
                      <a:pt x="50" y="46"/>
                    </a:lnTo>
                    <a:lnTo>
                      <a:pt x="36" y="36"/>
                    </a:lnTo>
                    <a:lnTo>
                      <a:pt x="24" y="2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16" y="10"/>
                    </a:lnTo>
                    <a:lnTo>
                      <a:pt x="28" y="20"/>
                    </a:lnTo>
                    <a:lnTo>
                      <a:pt x="40" y="32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64" y="44"/>
                    </a:lnTo>
                    <a:lnTo>
                      <a:pt x="68" y="46"/>
                    </a:lnTo>
                    <a:lnTo>
                      <a:pt x="70" y="50"/>
                    </a:lnTo>
                    <a:lnTo>
                      <a:pt x="7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8265240" y="833040"/>
                <a:ext cx="21600" cy="223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0" y="8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6" y="10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6573960" y="833040"/>
                <a:ext cx="17640" cy="7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6417360" y="844560"/>
                <a:ext cx="30600" cy="720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2"/>
                    </a:moveTo>
                    <a:lnTo>
                      <a:pt x="0" y="2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8400600" y="931320"/>
                <a:ext cx="34560" cy="7200"/>
              </a:xfrm>
              <a:custGeom>
                <a:avLst/>
                <a:gdLst/>
                <a:ahLst/>
                <a:rect l="l" t="t" r="r" b="b"/>
                <a:pathLst>
                  <a:path w="16" h="4">
                    <a:moveTo>
                      <a:pt x="16" y="0"/>
                    </a:moveTo>
                    <a:lnTo>
                      <a:pt x="16" y="0"/>
                    </a:lnTo>
                    <a:lnTo>
                      <a:pt x="14" y="2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8104320" y="938520"/>
                <a:ext cx="95760" cy="33840"/>
              </a:xfrm>
              <a:custGeom>
                <a:avLst/>
                <a:gdLst/>
                <a:ahLst/>
                <a:rect l="l" t="t" r="r" b="b"/>
                <a:pathLst>
                  <a:path w="44" h="18">
                    <a:moveTo>
                      <a:pt x="44" y="14"/>
                    </a:moveTo>
                    <a:lnTo>
                      <a:pt x="44" y="14"/>
                    </a:lnTo>
                    <a:lnTo>
                      <a:pt x="34" y="16"/>
                    </a:lnTo>
                    <a:lnTo>
                      <a:pt x="22" y="18"/>
                    </a:lnTo>
                    <a:lnTo>
                      <a:pt x="10" y="16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8"/>
                    </a:lnTo>
                    <a:lnTo>
                      <a:pt x="8" y="4"/>
                    </a:lnTo>
                    <a:lnTo>
                      <a:pt x="14" y="0"/>
                    </a:lnTo>
                    <a:lnTo>
                      <a:pt x="22" y="0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2" y="6"/>
                    </a:lnTo>
                    <a:lnTo>
                      <a:pt x="44" y="14"/>
                    </a:lnTo>
                    <a:lnTo>
                      <a:pt x="4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8579160" y="953640"/>
                <a:ext cx="30600" cy="187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8"/>
                    </a:moveTo>
                    <a:lnTo>
                      <a:pt x="14" y="8"/>
                    </a:lnTo>
                    <a:lnTo>
                      <a:pt x="10" y="10"/>
                    </a:lnTo>
                    <a:lnTo>
                      <a:pt x="4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>
                <a:off x="8391960" y="957240"/>
                <a:ext cx="8640" cy="36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0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8370000" y="960840"/>
                <a:ext cx="17280" cy="7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8" y="0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9477000" y="964800"/>
                <a:ext cx="56520" cy="2232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2"/>
                    </a:moveTo>
                    <a:lnTo>
                      <a:pt x="26" y="2"/>
                    </a:lnTo>
                    <a:lnTo>
                      <a:pt x="22" y="8"/>
                    </a:lnTo>
                    <a:lnTo>
                      <a:pt x="14" y="10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10" y="0"/>
                    </a:lnTo>
                    <a:lnTo>
                      <a:pt x="20" y="0"/>
                    </a:lnTo>
                    <a:lnTo>
                      <a:pt x="26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9560160" y="987480"/>
                <a:ext cx="17280" cy="7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4"/>
                    </a:moveTo>
                    <a:lnTo>
                      <a:pt x="8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8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6482520" y="987480"/>
                <a:ext cx="8640" cy="187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2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>
                <a:off x="9498960" y="1002240"/>
                <a:ext cx="43200" cy="3024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20" y="12"/>
                    </a:moveTo>
                    <a:lnTo>
                      <a:pt x="20" y="12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0" y="14"/>
                    </a:lnTo>
                    <a:lnTo>
                      <a:pt x="4" y="12"/>
                    </a:lnTo>
                    <a:lnTo>
                      <a:pt x="2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>
                <a:off x="9089280" y="1010160"/>
                <a:ext cx="87120" cy="41040"/>
              </a:xfrm>
              <a:custGeom>
                <a:avLst/>
                <a:gdLst/>
                <a:ahLst/>
                <a:rect l="l" t="t" r="r" b="b"/>
                <a:pathLst>
                  <a:path w="40" h="22">
                    <a:moveTo>
                      <a:pt x="0" y="8"/>
                    </a:moveTo>
                    <a:lnTo>
                      <a:pt x="0" y="8"/>
                    </a:lnTo>
                    <a:lnTo>
                      <a:pt x="8" y="4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4" y="2"/>
                    </a:lnTo>
                    <a:lnTo>
                      <a:pt x="38" y="4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36" y="20"/>
                    </a:lnTo>
                    <a:lnTo>
                      <a:pt x="30" y="22"/>
                    </a:lnTo>
                    <a:lnTo>
                      <a:pt x="22" y="22"/>
                    </a:lnTo>
                    <a:lnTo>
                      <a:pt x="16" y="20"/>
                    </a:lnTo>
                    <a:lnTo>
                      <a:pt x="8" y="18"/>
                    </a:lnTo>
                    <a:lnTo>
                      <a:pt x="2" y="14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7646400" y="1024920"/>
                <a:ext cx="17280" cy="7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7572240" y="1043640"/>
                <a:ext cx="47880" cy="1116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22" y="4"/>
                    </a:moveTo>
                    <a:lnTo>
                      <a:pt x="22" y="4"/>
                    </a:lnTo>
                    <a:lnTo>
                      <a:pt x="1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9385560" y="1055160"/>
                <a:ext cx="12600" cy="259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0" y="0"/>
                    </a:lnTo>
                    <a:lnTo>
                      <a:pt x="4" y="6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>
                <a:off x="9316080" y="1055160"/>
                <a:ext cx="21600" cy="108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>
                <a:off x="9023760" y="1058760"/>
                <a:ext cx="239400" cy="146520"/>
              </a:xfrm>
              <a:custGeom>
                <a:avLst/>
                <a:gdLst/>
                <a:ahLst/>
                <a:rect l="l" t="t" r="r" b="b"/>
                <a:pathLst>
                  <a:path w="110" h="78">
                    <a:moveTo>
                      <a:pt x="94" y="30"/>
                    </a:moveTo>
                    <a:lnTo>
                      <a:pt x="94" y="30"/>
                    </a:lnTo>
                    <a:lnTo>
                      <a:pt x="94" y="36"/>
                    </a:lnTo>
                    <a:lnTo>
                      <a:pt x="92" y="40"/>
                    </a:lnTo>
                    <a:lnTo>
                      <a:pt x="92" y="40"/>
                    </a:lnTo>
                    <a:lnTo>
                      <a:pt x="96" y="38"/>
                    </a:lnTo>
                    <a:lnTo>
                      <a:pt x="100" y="36"/>
                    </a:lnTo>
                    <a:lnTo>
                      <a:pt x="104" y="34"/>
                    </a:lnTo>
                    <a:lnTo>
                      <a:pt x="108" y="32"/>
                    </a:lnTo>
                    <a:lnTo>
                      <a:pt x="108" y="32"/>
                    </a:lnTo>
                    <a:lnTo>
                      <a:pt x="110" y="34"/>
                    </a:lnTo>
                    <a:lnTo>
                      <a:pt x="110" y="34"/>
                    </a:lnTo>
                    <a:lnTo>
                      <a:pt x="110" y="34"/>
                    </a:lnTo>
                    <a:lnTo>
                      <a:pt x="110" y="42"/>
                    </a:lnTo>
                    <a:lnTo>
                      <a:pt x="108" y="50"/>
                    </a:lnTo>
                    <a:lnTo>
                      <a:pt x="104" y="56"/>
                    </a:lnTo>
                    <a:lnTo>
                      <a:pt x="100" y="60"/>
                    </a:lnTo>
                    <a:lnTo>
                      <a:pt x="88" y="70"/>
                    </a:lnTo>
                    <a:lnTo>
                      <a:pt x="76" y="78"/>
                    </a:lnTo>
                    <a:lnTo>
                      <a:pt x="76" y="78"/>
                    </a:lnTo>
                    <a:lnTo>
                      <a:pt x="78" y="72"/>
                    </a:lnTo>
                    <a:lnTo>
                      <a:pt x="78" y="68"/>
                    </a:lnTo>
                    <a:lnTo>
                      <a:pt x="76" y="66"/>
                    </a:lnTo>
                    <a:lnTo>
                      <a:pt x="72" y="62"/>
                    </a:lnTo>
                    <a:lnTo>
                      <a:pt x="62" y="60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6" y="52"/>
                    </a:lnTo>
                    <a:lnTo>
                      <a:pt x="58" y="48"/>
                    </a:lnTo>
                    <a:lnTo>
                      <a:pt x="62" y="46"/>
                    </a:lnTo>
                    <a:lnTo>
                      <a:pt x="64" y="42"/>
                    </a:lnTo>
                    <a:lnTo>
                      <a:pt x="64" y="42"/>
                    </a:lnTo>
                    <a:lnTo>
                      <a:pt x="64" y="40"/>
                    </a:lnTo>
                    <a:lnTo>
                      <a:pt x="60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38"/>
                    </a:lnTo>
                    <a:lnTo>
                      <a:pt x="56" y="36"/>
                    </a:lnTo>
                    <a:lnTo>
                      <a:pt x="58" y="32"/>
                    </a:lnTo>
                    <a:lnTo>
                      <a:pt x="58" y="32"/>
                    </a:lnTo>
                    <a:lnTo>
                      <a:pt x="56" y="30"/>
                    </a:lnTo>
                    <a:lnTo>
                      <a:pt x="52" y="28"/>
                    </a:lnTo>
                    <a:lnTo>
                      <a:pt x="42" y="26"/>
                    </a:lnTo>
                    <a:lnTo>
                      <a:pt x="32" y="24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6" y="16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28" y="10"/>
                    </a:lnTo>
                    <a:lnTo>
                      <a:pt x="26" y="8"/>
                    </a:lnTo>
                    <a:lnTo>
                      <a:pt x="16" y="8"/>
                    </a:lnTo>
                    <a:lnTo>
                      <a:pt x="8" y="10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6" y="0"/>
                    </a:lnTo>
                    <a:lnTo>
                      <a:pt x="28" y="2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44" y="6"/>
                    </a:lnTo>
                    <a:lnTo>
                      <a:pt x="52" y="6"/>
                    </a:lnTo>
                    <a:lnTo>
                      <a:pt x="60" y="8"/>
                    </a:lnTo>
                    <a:lnTo>
                      <a:pt x="68" y="12"/>
                    </a:lnTo>
                    <a:lnTo>
                      <a:pt x="84" y="20"/>
                    </a:lnTo>
                    <a:lnTo>
                      <a:pt x="94" y="30"/>
                    </a:lnTo>
                    <a:lnTo>
                      <a:pt x="94" y="30"/>
                    </a:lnTo>
                    <a:close/>
                    <a:moveTo>
                      <a:pt x="56" y="24"/>
                    </a:moveTo>
                    <a:lnTo>
                      <a:pt x="56" y="24"/>
                    </a:lnTo>
                    <a:lnTo>
                      <a:pt x="60" y="26"/>
                    </a:lnTo>
                    <a:lnTo>
                      <a:pt x="66" y="26"/>
                    </a:lnTo>
                    <a:lnTo>
                      <a:pt x="66" y="26"/>
                    </a:lnTo>
                    <a:lnTo>
                      <a:pt x="66" y="22"/>
                    </a:lnTo>
                    <a:lnTo>
                      <a:pt x="62" y="20"/>
                    </a:lnTo>
                    <a:lnTo>
                      <a:pt x="58" y="20"/>
                    </a:lnTo>
                    <a:lnTo>
                      <a:pt x="56" y="22"/>
                    </a:lnTo>
                    <a:lnTo>
                      <a:pt x="56" y="24"/>
                    </a:lnTo>
                    <a:lnTo>
                      <a:pt x="56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7306560" y="1070280"/>
                <a:ext cx="52200" cy="334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2" y="0"/>
                    </a:moveTo>
                    <a:lnTo>
                      <a:pt x="12" y="0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0" y="16"/>
                    </a:lnTo>
                    <a:lnTo>
                      <a:pt x="8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6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7711920" y="1070280"/>
                <a:ext cx="30600" cy="756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2"/>
                    </a:moveTo>
                    <a:lnTo>
                      <a:pt x="14" y="2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未知"/>
              <p:cNvSpPr/>
              <p:nvPr/>
            </p:nvSpPr>
            <p:spPr>
              <a:xfrm>
                <a:off x="7737840" y="1081080"/>
                <a:ext cx="38880" cy="223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2"/>
                    </a:moveTo>
                    <a:lnTo>
                      <a:pt x="18" y="2"/>
                    </a:lnTo>
                    <a:lnTo>
                      <a:pt x="16" y="6"/>
                    </a:lnTo>
                    <a:lnTo>
                      <a:pt x="12" y="10"/>
                    </a:lnTo>
                    <a:lnTo>
                      <a:pt x="6" y="12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4"/>
                    </a:lnTo>
                    <a:lnTo>
                      <a:pt x="8" y="2"/>
                    </a:lnTo>
                    <a:lnTo>
                      <a:pt x="14" y="0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未知"/>
              <p:cNvSpPr/>
              <p:nvPr/>
            </p:nvSpPr>
            <p:spPr>
              <a:xfrm>
                <a:off x="7267320" y="1089000"/>
                <a:ext cx="21600" cy="147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6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未知"/>
              <p:cNvSpPr/>
              <p:nvPr/>
            </p:nvSpPr>
            <p:spPr>
              <a:xfrm>
                <a:off x="7694280" y="1099800"/>
                <a:ext cx="38880" cy="1116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6" y="2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>
                <a:off x="9285480" y="1099800"/>
                <a:ext cx="43200" cy="3384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4" y="0"/>
                    </a:moveTo>
                    <a:lnTo>
                      <a:pt x="4" y="0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8" y="6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8" y="16"/>
                    </a:lnTo>
                    <a:lnTo>
                      <a:pt x="14" y="18"/>
                    </a:lnTo>
                    <a:lnTo>
                      <a:pt x="10" y="18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>
                <a:off x="8683920" y="1119240"/>
                <a:ext cx="34560" cy="4104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2" y="0"/>
                    </a:moveTo>
                    <a:lnTo>
                      <a:pt x="12" y="0"/>
                    </a:lnTo>
                    <a:lnTo>
                      <a:pt x="14" y="4"/>
                    </a:lnTo>
                    <a:lnTo>
                      <a:pt x="16" y="10"/>
                    </a:lnTo>
                    <a:lnTo>
                      <a:pt x="14" y="18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6" y="22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0"/>
                    </a:lnTo>
                    <a:lnTo>
                      <a:pt x="2" y="4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>
                <a:off x="8396280" y="1152720"/>
                <a:ext cx="30600" cy="14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0"/>
                    </a:moveTo>
                    <a:lnTo>
                      <a:pt x="14" y="0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>
                <a:off x="5990040" y="1186560"/>
                <a:ext cx="126360" cy="6372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50" y="20"/>
                    </a:moveTo>
                    <a:lnTo>
                      <a:pt x="50" y="20"/>
                    </a:lnTo>
                    <a:lnTo>
                      <a:pt x="50" y="18"/>
                    </a:lnTo>
                    <a:lnTo>
                      <a:pt x="48" y="16"/>
                    </a:lnTo>
                    <a:lnTo>
                      <a:pt x="48" y="12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50" y="14"/>
                    </a:lnTo>
                    <a:lnTo>
                      <a:pt x="54" y="20"/>
                    </a:lnTo>
                    <a:lnTo>
                      <a:pt x="58" y="26"/>
                    </a:lnTo>
                    <a:lnTo>
                      <a:pt x="58" y="32"/>
                    </a:lnTo>
                    <a:lnTo>
                      <a:pt x="58" y="32"/>
                    </a:lnTo>
                    <a:lnTo>
                      <a:pt x="52" y="34"/>
                    </a:lnTo>
                    <a:lnTo>
                      <a:pt x="46" y="34"/>
                    </a:lnTo>
                    <a:lnTo>
                      <a:pt x="36" y="32"/>
                    </a:lnTo>
                    <a:lnTo>
                      <a:pt x="26" y="26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8" y="1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16" y="2"/>
                    </a:lnTo>
                    <a:lnTo>
                      <a:pt x="26" y="8"/>
                    </a:lnTo>
                    <a:lnTo>
                      <a:pt x="36" y="16"/>
                    </a:lnTo>
                    <a:lnTo>
                      <a:pt x="42" y="18"/>
                    </a:lnTo>
                    <a:lnTo>
                      <a:pt x="50" y="20"/>
                    </a:lnTo>
                    <a:lnTo>
                      <a:pt x="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>
                <a:off x="6752880" y="1198080"/>
                <a:ext cx="43200" cy="1872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0"/>
                    </a:moveTo>
                    <a:lnTo>
                      <a:pt x="0" y="0"/>
                    </a:lnTo>
                    <a:lnTo>
                      <a:pt x="12" y="2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4" y="10"/>
                    </a:lnTo>
                    <a:lnTo>
                      <a:pt x="8" y="8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>
                <a:off x="6726600" y="12315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8" y="2"/>
                    </a:moveTo>
                    <a:lnTo>
                      <a:pt x="18" y="2"/>
                    </a:lnTo>
                    <a:lnTo>
                      <a:pt x="20" y="8"/>
                    </a:lnTo>
                    <a:lnTo>
                      <a:pt x="22" y="14"/>
                    </a:lnTo>
                    <a:lnTo>
                      <a:pt x="22" y="14"/>
                    </a:lnTo>
                    <a:lnTo>
                      <a:pt x="14" y="16"/>
                    </a:lnTo>
                    <a:lnTo>
                      <a:pt x="8" y="16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8" y="2"/>
                    </a:lnTo>
                    <a:lnTo>
                      <a:pt x="1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>
                <a:off x="6752880" y="1295640"/>
                <a:ext cx="34560" cy="187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6" y="4"/>
                    </a:lnTo>
                    <a:lnTo>
                      <a:pt x="16" y="6"/>
                    </a:lnTo>
                    <a:lnTo>
                      <a:pt x="14" y="8"/>
                    </a:lnTo>
                    <a:lnTo>
                      <a:pt x="10" y="10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6" y="4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>
                <a:off x="6129720" y="1303200"/>
                <a:ext cx="69480" cy="3744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22" y="0"/>
                    </a:move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28" y="12"/>
                    </a:lnTo>
                    <a:lnTo>
                      <a:pt x="20" y="18"/>
                    </a:lnTo>
                    <a:lnTo>
                      <a:pt x="1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10"/>
                    </a:lnTo>
                    <a:lnTo>
                      <a:pt x="8" y="8"/>
                    </a:lnTo>
                    <a:lnTo>
                      <a:pt x="16" y="4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>
                <a:off x="6194880" y="1321920"/>
                <a:ext cx="47880" cy="3744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2" y="2"/>
                    </a:moveTo>
                    <a:lnTo>
                      <a:pt x="22" y="2"/>
                    </a:lnTo>
                    <a:lnTo>
                      <a:pt x="20" y="10"/>
                    </a:lnTo>
                    <a:lnTo>
                      <a:pt x="18" y="16"/>
                    </a:lnTo>
                    <a:lnTo>
                      <a:pt x="12" y="18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2" y="16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2" y="2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>
                <a:off x="9015120" y="1340640"/>
                <a:ext cx="65160" cy="2628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20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6" y="2"/>
                    </a:lnTo>
                    <a:lnTo>
                      <a:pt x="28" y="4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28" y="8"/>
                    </a:lnTo>
                    <a:lnTo>
                      <a:pt x="26" y="10"/>
                    </a:lnTo>
                    <a:lnTo>
                      <a:pt x="18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2" y="10"/>
                    </a:lnTo>
                    <a:lnTo>
                      <a:pt x="10" y="8"/>
                    </a:lnTo>
                    <a:lnTo>
                      <a:pt x="18" y="8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>
                <a:off x="6425640" y="1355760"/>
                <a:ext cx="69840" cy="41040"/>
              </a:xfrm>
              <a:custGeom>
                <a:avLst/>
                <a:gdLst/>
                <a:ahLst/>
                <a:rect l="l" t="t" r="r" b="b"/>
                <a:pathLst>
                  <a:path w="32" h="22">
                    <a:moveTo>
                      <a:pt x="30" y="0"/>
                    </a:moveTo>
                    <a:lnTo>
                      <a:pt x="30" y="0"/>
                    </a:lnTo>
                    <a:lnTo>
                      <a:pt x="32" y="6"/>
                    </a:lnTo>
                    <a:lnTo>
                      <a:pt x="30" y="12"/>
                    </a:lnTo>
                    <a:lnTo>
                      <a:pt x="28" y="16"/>
                    </a:lnTo>
                    <a:lnTo>
                      <a:pt x="24" y="20"/>
                    </a:lnTo>
                    <a:lnTo>
                      <a:pt x="18" y="22"/>
                    </a:lnTo>
                    <a:lnTo>
                      <a:pt x="12" y="22"/>
                    </a:lnTo>
                    <a:lnTo>
                      <a:pt x="6" y="20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12" y="2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9084600" y="1374480"/>
                <a:ext cx="43200" cy="1512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20" y="2"/>
                    </a:moveTo>
                    <a:lnTo>
                      <a:pt x="20" y="2"/>
                    </a:lnTo>
                    <a:lnTo>
                      <a:pt x="16" y="6"/>
                    </a:lnTo>
                    <a:lnTo>
                      <a:pt x="12" y="8"/>
                    </a:lnTo>
                    <a:lnTo>
                      <a:pt x="6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6264720" y="1374480"/>
                <a:ext cx="73800" cy="2628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34" y="2"/>
                    </a:moveTo>
                    <a:lnTo>
                      <a:pt x="34" y="2"/>
                    </a:lnTo>
                    <a:lnTo>
                      <a:pt x="32" y="6"/>
                    </a:lnTo>
                    <a:lnTo>
                      <a:pt x="28" y="8"/>
                    </a:lnTo>
                    <a:lnTo>
                      <a:pt x="20" y="1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8"/>
                    </a:lnTo>
                    <a:lnTo>
                      <a:pt x="14" y="2"/>
                    </a:lnTo>
                    <a:lnTo>
                      <a:pt x="24" y="0"/>
                    </a:lnTo>
                    <a:lnTo>
                      <a:pt x="34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>
                <a:off x="6373800" y="1389600"/>
                <a:ext cx="51840" cy="1872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24" y="0"/>
                    </a:moveTo>
                    <a:lnTo>
                      <a:pt x="24" y="0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4" y="6"/>
                    </a:lnTo>
                    <a:lnTo>
                      <a:pt x="12" y="4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>
                <a:off x="7716240" y="1419480"/>
                <a:ext cx="52200" cy="3600"/>
              </a:xfrm>
              <a:custGeom>
                <a:avLst/>
                <a:gdLst/>
                <a:ahLst/>
                <a:rect l="l" t="t" r="r" b="b"/>
                <a:pathLst>
                  <a:path w="24" h="2">
                    <a:moveTo>
                      <a:pt x="24" y="0"/>
                    </a:moveTo>
                    <a:lnTo>
                      <a:pt x="24" y="0"/>
                    </a:lnTo>
                    <a:lnTo>
                      <a:pt x="1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>
                <a:off x="6212160" y="1431000"/>
                <a:ext cx="161280" cy="8964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0" y="20"/>
                    </a:moveTo>
                    <a:lnTo>
                      <a:pt x="0" y="20"/>
                    </a:lnTo>
                    <a:lnTo>
                      <a:pt x="4" y="18"/>
                    </a:lnTo>
                    <a:lnTo>
                      <a:pt x="8" y="18"/>
                    </a:lnTo>
                    <a:lnTo>
                      <a:pt x="16" y="20"/>
                    </a:lnTo>
                    <a:lnTo>
                      <a:pt x="24" y="22"/>
                    </a:lnTo>
                    <a:lnTo>
                      <a:pt x="28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16"/>
                    </a:lnTo>
                    <a:lnTo>
                      <a:pt x="26" y="14"/>
                    </a:lnTo>
                    <a:lnTo>
                      <a:pt x="24" y="12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4" y="4"/>
                    </a:lnTo>
                    <a:lnTo>
                      <a:pt x="30" y="2"/>
                    </a:lnTo>
                    <a:lnTo>
                      <a:pt x="42" y="0"/>
                    </a:lnTo>
                    <a:lnTo>
                      <a:pt x="54" y="2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4" y="10"/>
                    </a:lnTo>
                    <a:lnTo>
                      <a:pt x="64" y="14"/>
                    </a:lnTo>
                    <a:lnTo>
                      <a:pt x="66" y="20"/>
                    </a:lnTo>
                    <a:lnTo>
                      <a:pt x="72" y="24"/>
                    </a:lnTo>
                    <a:lnTo>
                      <a:pt x="74" y="30"/>
                    </a:lnTo>
                    <a:lnTo>
                      <a:pt x="74" y="30"/>
                    </a:lnTo>
                    <a:lnTo>
                      <a:pt x="74" y="34"/>
                    </a:lnTo>
                    <a:lnTo>
                      <a:pt x="70" y="40"/>
                    </a:lnTo>
                    <a:lnTo>
                      <a:pt x="66" y="44"/>
                    </a:lnTo>
                    <a:lnTo>
                      <a:pt x="60" y="46"/>
                    </a:lnTo>
                    <a:lnTo>
                      <a:pt x="60" y="46"/>
                    </a:lnTo>
                    <a:lnTo>
                      <a:pt x="52" y="48"/>
                    </a:lnTo>
                    <a:lnTo>
                      <a:pt x="42" y="48"/>
                    </a:lnTo>
                    <a:lnTo>
                      <a:pt x="30" y="48"/>
                    </a:lnTo>
                    <a:lnTo>
                      <a:pt x="20" y="44"/>
                    </a:lnTo>
                    <a:lnTo>
                      <a:pt x="12" y="40"/>
                    </a:lnTo>
                    <a:lnTo>
                      <a:pt x="4" y="34"/>
                    </a:lnTo>
                    <a:lnTo>
                      <a:pt x="0" y="28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>
                <a:off x="9311400" y="1431000"/>
                <a:ext cx="17280" cy="72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9302760" y="1456920"/>
                <a:ext cx="61200" cy="11160"/>
              </a:xfrm>
              <a:custGeom>
                <a:avLst/>
                <a:gdLst/>
                <a:ahLst/>
                <a:rect l="l" t="t" r="r" b="b"/>
                <a:pathLst>
                  <a:path w="28" h="6">
                    <a:moveTo>
                      <a:pt x="28" y="0"/>
                    </a:moveTo>
                    <a:lnTo>
                      <a:pt x="28" y="0"/>
                    </a:lnTo>
                    <a:lnTo>
                      <a:pt x="22" y="4"/>
                    </a:lnTo>
                    <a:lnTo>
                      <a:pt x="16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9093600" y="1487520"/>
                <a:ext cx="43200" cy="1872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20" y="0"/>
                    </a:move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16" y="8"/>
                    </a:lnTo>
                    <a:lnTo>
                      <a:pt x="10" y="10"/>
                    </a:lnTo>
                    <a:lnTo>
                      <a:pt x="6" y="10"/>
                    </a:lnTo>
                    <a:lnTo>
                      <a:pt x="2" y="10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9132480" y="1509840"/>
                <a:ext cx="47880" cy="2952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6" y="0"/>
                    </a:moveTo>
                    <a:lnTo>
                      <a:pt x="6" y="0"/>
                    </a:lnTo>
                    <a:lnTo>
                      <a:pt x="10" y="0"/>
                    </a:lnTo>
                    <a:lnTo>
                      <a:pt x="16" y="2"/>
                    </a:lnTo>
                    <a:lnTo>
                      <a:pt x="20" y="4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0" y="14"/>
                    </a:lnTo>
                    <a:lnTo>
                      <a:pt x="16" y="16"/>
                    </a:lnTo>
                    <a:lnTo>
                      <a:pt x="12" y="16"/>
                    </a:lnTo>
                    <a:lnTo>
                      <a:pt x="6" y="14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>
                <a:off x="6103440" y="1509840"/>
                <a:ext cx="17280" cy="2628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2"/>
                    </a:moveTo>
                    <a:lnTo>
                      <a:pt x="8" y="2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6517800" y="1562400"/>
                <a:ext cx="21600" cy="75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6849000" y="1592640"/>
                <a:ext cx="91080" cy="70920"/>
              </a:xfrm>
              <a:custGeom>
                <a:avLst/>
                <a:gdLst/>
                <a:ahLst/>
                <a:rect l="l" t="t" r="r" b="b"/>
                <a:pathLst>
                  <a:path w="42" h="38">
                    <a:moveTo>
                      <a:pt x="16" y="30"/>
                    </a:moveTo>
                    <a:lnTo>
                      <a:pt x="16" y="30"/>
                    </a:lnTo>
                    <a:lnTo>
                      <a:pt x="18" y="34"/>
                    </a:lnTo>
                    <a:lnTo>
                      <a:pt x="18" y="36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0" y="36"/>
                    </a:lnTo>
                    <a:lnTo>
                      <a:pt x="6" y="34"/>
                    </a:lnTo>
                    <a:lnTo>
                      <a:pt x="2" y="30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2" y="26"/>
                    </a:lnTo>
                    <a:lnTo>
                      <a:pt x="6" y="28"/>
                    </a:lnTo>
                    <a:lnTo>
                      <a:pt x="8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2"/>
                    </a:lnTo>
                    <a:lnTo>
                      <a:pt x="14" y="18"/>
                    </a:lnTo>
                    <a:lnTo>
                      <a:pt x="16" y="12"/>
                    </a:lnTo>
                    <a:lnTo>
                      <a:pt x="18" y="8"/>
                    </a:lnTo>
                    <a:lnTo>
                      <a:pt x="24" y="4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8"/>
                    </a:lnTo>
                    <a:lnTo>
                      <a:pt x="40" y="14"/>
                    </a:lnTo>
                    <a:lnTo>
                      <a:pt x="38" y="18"/>
                    </a:lnTo>
                    <a:lnTo>
                      <a:pt x="36" y="24"/>
                    </a:lnTo>
                    <a:lnTo>
                      <a:pt x="32" y="26"/>
                    </a:lnTo>
                    <a:lnTo>
                      <a:pt x="26" y="30"/>
                    </a:lnTo>
                    <a:lnTo>
                      <a:pt x="22" y="30"/>
                    </a:lnTo>
                    <a:lnTo>
                      <a:pt x="16" y="30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6081840" y="160380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9036720" y="1618920"/>
                <a:ext cx="91080" cy="52200"/>
              </a:xfrm>
              <a:custGeom>
                <a:avLst/>
                <a:gdLst/>
                <a:ahLst/>
                <a:rect l="l" t="t" r="r" b="b"/>
                <a:pathLst>
                  <a:path w="42" h="28">
                    <a:moveTo>
                      <a:pt x="10" y="0"/>
                    </a:moveTo>
                    <a:lnTo>
                      <a:pt x="10" y="0"/>
                    </a:lnTo>
                    <a:lnTo>
                      <a:pt x="18" y="8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32" y="10"/>
                    </a:lnTo>
                    <a:lnTo>
                      <a:pt x="36" y="8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2" y="16"/>
                    </a:lnTo>
                    <a:lnTo>
                      <a:pt x="42" y="20"/>
                    </a:lnTo>
                    <a:lnTo>
                      <a:pt x="40" y="24"/>
                    </a:lnTo>
                    <a:lnTo>
                      <a:pt x="38" y="26"/>
                    </a:lnTo>
                    <a:lnTo>
                      <a:pt x="32" y="28"/>
                    </a:lnTo>
                    <a:lnTo>
                      <a:pt x="24" y="28"/>
                    </a:lnTo>
                    <a:lnTo>
                      <a:pt x="14" y="26"/>
                    </a:lnTo>
                    <a:lnTo>
                      <a:pt x="6" y="20"/>
                    </a:lnTo>
                    <a:lnTo>
                      <a:pt x="2" y="1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8683920" y="1626480"/>
                <a:ext cx="117360" cy="9792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54" y="2"/>
                    </a:moveTo>
                    <a:lnTo>
                      <a:pt x="54" y="2"/>
                    </a:lnTo>
                    <a:lnTo>
                      <a:pt x="48" y="10"/>
                    </a:lnTo>
                    <a:lnTo>
                      <a:pt x="42" y="16"/>
                    </a:lnTo>
                    <a:lnTo>
                      <a:pt x="28" y="30"/>
                    </a:lnTo>
                    <a:lnTo>
                      <a:pt x="12" y="4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2" y="46"/>
                    </a:lnTo>
                    <a:lnTo>
                      <a:pt x="6" y="42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2" y="26"/>
                    </a:lnTo>
                    <a:lnTo>
                      <a:pt x="8" y="20"/>
                    </a:lnTo>
                    <a:lnTo>
                      <a:pt x="2" y="1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6"/>
                    </a:lnTo>
                    <a:lnTo>
                      <a:pt x="10" y="12"/>
                    </a:lnTo>
                    <a:lnTo>
                      <a:pt x="12" y="16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22" y="14"/>
                    </a:lnTo>
                    <a:lnTo>
                      <a:pt x="30" y="6"/>
                    </a:lnTo>
                    <a:lnTo>
                      <a:pt x="36" y="2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4" y="2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8548920" y="1637640"/>
                <a:ext cx="117360" cy="561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14"/>
                    </a:lnTo>
                    <a:lnTo>
                      <a:pt x="4" y="12"/>
                    </a:lnTo>
                    <a:lnTo>
                      <a:pt x="10" y="12"/>
                    </a:lnTo>
                    <a:lnTo>
                      <a:pt x="18" y="14"/>
                    </a:lnTo>
                    <a:lnTo>
                      <a:pt x="28" y="16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4"/>
                    </a:lnTo>
                    <a:lnTo>
                      <a:pt x="40" y="8"/>
                    </a:lnTo>
                    <a:lnTo>
                      <a:pt x="40" y="4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50" y="4"/>
                    </a:lnTo>
                    <a:lnTo>
                      <a:pt x="52" y="8"/>
                    </a:lnTo>
                    <a:lnTo>
                      <a:pt x="54" y="18"/>
                    </a:lnTo>
                    <a:lnTo>
                      <a:pt x="52" y="22"/>
                    </a:lnTo>
                    <a:lnTo>
                      <a:pt x="50" y="26"/>
                    </a:lnTo>
                    <a:lnTo>
                      <a:pt x="46" y="28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16" y="28"/>
                    </a:lnTo>
                    <a:lnTo>
                      <a:pt x="10" y="24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6535080" y="1645200"/>
                <a:ext cx="52200" cy="223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24" y="2"/>
                    </a:moveTo>
                    <a:lnTo>
                      <a:pt x="24" y="2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8"/>
                    </a:lnTo>
                    <a:lnTo>
                      <a:pt x="8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9141480" y="1660320"/>
                <a:ext cx="12600" cy="2196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9167760" y="1667520"/>
                <a:ext cx="52200" cy="3024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24" y="0"/>
                    </a:moveTo>
                    <a:lnTo>
                      <a:pt x="24" y="0"/>
                    </a:lnTo>
                    <a:lnTo>
                      <a:pt x="18" y="6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6" y="12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>
                <a:off x="5937840" y="1667520"/>
                <a:ext cx="29880" cy="111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4" y="4"/>
                    </a:moveTo>
                    <a:lnTo>
                      <a:pt x="14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14" y="4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>
                <a:off x="8644680" y="1724400"/>
                <a:ext cx="29880" cy="14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8"/>
                    </a:moveTo>
                    <a:lnTo>
                      <a:pt x="14" y="8"/>
                    </a:lnTo>
                    <a:lnTo>
                      <a:pt x="6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2" y="4"/>
                    </a:lnTo>
                    <a:lnTo>
                      <a:pt x="14" y="8"/>
                    </a:lnTo>
                    <a:lnTo>
                      <a:pt x="1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>
                <a:off x="8514000" y="1727640"/>
                <a:ext cx="104760" cy="56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14"/>
                    </a:moveTo>
                    <a:lnTo>
                      <a:pt x="0" y="14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8" y="12"/>
                    </a:lnTo>
                    <a:lnTo>
                      <a:pt x="10" y="14"/>
                    </a:lnTo>
                    <a:lnTo>
                      <a:pt x="12" y="16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20" y="16"/>
                    </a:lnTo>
                    <a:lnTo>
                      <a:pt x="22" y="14"/>
                    </a:lnTo>
                    <a:lnTo>
                      <a:pt x="28" y="8"/>
                    </a:lnTo>
                    <a:lnTo>
                      <a:pt x="34" y="2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8" y="2"/>
                    </a:lnTo>
                    <a:lnTo>
                      <a:pt x="48" y="4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4" y="14"/>
                    </a:lnTo>
                    <a:lnTo>
                      <a:pt x="34" y="22"/>
                    </a:lnTo>
                    <a:lnTo>
                      <a:pt x="22" y="28"/>
                    </a:lnTo>
                    <a:lnTo>
                      <a:pt x="16" y="30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>
                <a:off x="8758080" y="1743120"/>
                <a:ext cx="60480" cy="2592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28" y="4"/>
                    </a:moveTo>
                    <a:lnTo>
                      <a:pt x="28" y="4"/>
                    </a:lnTo>
                    <a:lnTo>
                      <a:pt x="26" y="6"/>
                    </a:lnTo>
                    <a:lnTo>
                      <a:pt x="24" y="10"/>
                    </a:lnTo>
                    <a:lnTo>
                      <a:pt x="16" y="14"/>
                    </a:lnTo>
                    <a:lnTo>
                      <a:pt x="8" y="14"/>
                    </a:lnTo>
                    <a:lnTo>
                      <a:pt x="4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6"/>
                    </a:lnTo>
                    <a:lnTo>
                      <a:pt x="12" y="2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8" y="4"/>
                    </a:lnTo>
                    <a:lnTo>
                      <a:pt x="2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8574840" y="1787760"/>
                <a:ext cx="52200" cy="111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4" y="0"/>
                    </a:moveTo>
                    <a:lnTo>
                      <a:pt x="24" y="0"/>
                    </a:lnTo>
                    <a:lnTo>
                      <a:pt x="18" y="4"/>
                    </a:lnTo>
                    <a:lnTo>
                      <a:pt x="12" y="4"/>
                    </a:lnTo>
                    <a:lnTo>
                      <a:pt x="6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8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>
                <a:off x="8483400" y="1803240"/>
                <a:ext cx="109080" cy="37440"/>
              </a:xfrm>
              <a:custGeom>
                <a:avLst/>
                <a:gdLst/>
                <a:ahLst/>
                <a:rect l="l" t="t" r="r" b="b"/>
                <a:pathLst>
                  <a:path w="50" h="20">
                    <a:moveTo>
                      <a:pt x="50" y="6"/>
                    </a:moveTo>
                    <a:lnTo>
                      <a:pt x="50" y="6"/>
                    </a:lnTo>
                    <a:lnTo>
                      <a:pt x="46" y="10"/>
                    </a:lnTo>
                    <a:lnTo>
                      <a:pt x="40" y="14"/>
                    </a:lnTo>
                    <a:lnTo>
                      <a:pt x="28" y="18"/>
                    </a:lnTo>
                    <a:lnTo>
                      <a:pt x="14" y="2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0" y="10"/>
                    </a:lnTo>
                    <a:lnTo>
                      <a:pt x="22" y="2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2"/>
                    </a:lnTo>
                    <a:lnTo>
                      <a:pt x="50" y="6"/>
                    </a:lnTo>
                    <a:lnTo>
                      <a:pt x="5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>
                <a:off x="8840520" y="1821960"/>
                <a:ext cx="34920" cy="187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8"/>
                    </a:moveTo>
                    <a:lnTo>
                      <a:pt x="16" y="8"/>
                    </a:lnTo>
                    <a:lnTo>
                      <a:pt x="12" y="10"/>
                    </a:lnTo>
                    <a:lnTo>
                      <a:pt x="6" y="8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4" y="4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未知"/>
              <p:cNvSpPr/>
              <p:nvPr/>
            </p:nvSpPr>
            <p:spPr>
              <a:xfrm>
                <a:off x="8740800" y="1829160"/>
                <a:ext cx="21600" cy="151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未知"/>
              <p:cNvSpPr/>
              <p:nvPr/>
            </p:nvSpPr>
            <p:spPr>
              <a:xfrm>
                <a:off x="8792640" y="1829160"/>
                <a:ext cx="8640" cy="1908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>
                <a:off x="5881320" y="1874520"/>
                <a:ext cx="17280" cy="15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>
                <a:off x="5907240" y="1896840"/>
                <a:ext cx="25920" cy="147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4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>
                <a:off x="6988320" y="1904760"/>
                <a:ext cx="65160" cy="41040"/>
              </a:xfrm>
              <a:custGeom>
                <a:avLst/>
                <a:gdLst/>
                <a:ahLst/>
                <a:rect l="l" t="t" r="r" b="b"/>
                <a:pathLst>
                  <a:path w="30" h="22">
                    <a:moveTo>
                      <a:pt x="30" y="2"/>
                    </a:moveTo>
                    <a:lnTo>
                      <a:pt x="30" y="2"/>
                    </a:lnTo>
                    <a:lnTo>
                      <a:pt x="28" y="8"/>
                    </a:lnTo>
                    <a:lnTo>
                      <a:pt x="26" y="12"/>
                    </a:lnTo>
                    <a:lnTo>
                      <a:pt x="24" y="16"/>
                    </a:lnTo>
                    <a:lnTo>
                      <a:pt x="20" y="18"/>
                    </a:lnTo>
                    <a:lnTo>
                      <a:pt x="16" y="20"/>
                    </a:lnTo>
                    <a:lnTo>
                      <a:pt x="10" y="22"/>
                    </a:lnTo>
                    <a:lnTo>
                      <a:pt x="6" y="20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6" y="4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30" y="2"/>
                    </a:lnTo>
                    <a:lnTo>
                      <a:pt x="3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6338880" y="1919520"/>
                <a:ext cx="21600" cy="75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10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>
                <a:off x="6360480" y="1938240"/>
                <a:ext cx="30600" cy="14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0"/>
                    </a:moveTo>
                    <a:lnTo>
                      <a:pt x="14" y="0"/>
                    </a:lnTo>
                    <a:lnTo>
                      <a:pt x="8" y="6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>
                <a:off x="5990040" y="19648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6"/>
                    </a:moveTo>
                    <a:lnTo>
                      <a:pt x="12" y="6"/>
                    </a:lnTo>
                    <a:lnTo>
                      <a:pt x="10" y="6"/>
                    </a:lnTo>
                    <a:lnTo>
                      <a:pt x="6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2" y="4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>
                <a:off x="9180720" y="1975680"/>
                <a:ext cx="17640" cy="7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8" y="0"/>
                    </a:lnTo>
                    <a:lnTo>
                      <a:pt x="6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>
                <a:off x="7018920" y="2032560"/>
                <a:ext cx="47880" cy="3348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20" y="0"/>
                    </a:moveTo>
                    <a:lnTo>
                      <a:pt x="20" y="0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10"/>
                    </a:lnTo>
                    <a:lnTo>
                      <a:pt x="14" y="14"/>
                    </a:lnTo>
                    <a:lnTo>
                      <a:pt x="8" y="16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10"/>
                    </a:lnTo>
                    <a:lnTo>
                      <a:pt x="6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>
                <a:off x="7066800" y="2051280"/>
                <a:ext cx="21600" cy="223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2" y="0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>
                <a:off x="6360480" y="2055240"/>
                <a:ext cx="39240" cy="2592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8" y="10"/>
                    </a:moveTo>
                    <a:lnTo>
                      <a:pt x="18" y="10"/>
                    </a:lnTo>
                    <a:lnTo>
                      <a:pt x="14" y="14"/>
                    </a:lnTo>
                    <a:lnTo>
                      <a:pt x="8" y="14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8" y="6"/>
                    </a:lnTo>
                    <a:lnTo>
                      <a:pt x="18" y="10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>
                <a:off x="6539400" y="2055240"/>
                <a:ext cx="25920" cy="720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2" y="0"/>
                    </a:moveTo>
                    <a:lnTo>
                      <a:pt x="12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未知"/>
              <p:cNvSpPr/>
              <p:nvPr/>
            </p:nvSpPr>
            <p:spPr>
              <a:xfrm>
                <a:off x="7123680" y="2055240"/>
                <a:ext cx="21600" cy="720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2"/>
                    </a:moveTo>
                    <a:lnTo>
                      <a:pt x="10" y="2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>
                <a:off x="8592480" y="2088720"/>
                <a:ext cx="43200" cy="2232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20" y="0"/>
                    </a:moveTo>
                    <a:lnTo>
                      <a:pt x="20" y="0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8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>
                <a:off x="6892200" y="2216520"/>
                <a:ext cx="73800" cy="74880"/>
              </a:xfrm>
              <a:custGeom>
                <a:avLst/>
                <a:gdLst/>
                <a:ahLst/>
                <a:rect l="l" t="t" r="r" b="b"/>
                <a:pathLst>
                  <a:path w="34" h="40">
                    <a:moveTo>
                      <a:pt x="32" y="4"/>
                    </a:moveTo>
                    <a:lnTo>
                      <a:pt x="32" y="4"/>
                    </a:lnTo>
                    <a:lnTo>
                      <a:pt x="32" y="6"/>
                    </a:lnTo>
                    <a:lnTo>
                      <a:pt x="30" y="8"/>
                    </a:lnTo>
                    <a:lnTo>
                      <a:pt x="22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12" y="16"/>
                    </a:lnTo>
                    <a:lnTo>
                      <a:pt x="20" y="24"/>
                    </a:lnTo>
                    <a:lnTo>
                      <a:pt x="30" y="30"/>
                    </a:lnTo>
                    <a:lnTo>
                      <a:pt x="32" y="34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26" y="38"/>
                    </a:lnTo>
                    <a:lnTo>
                      <a:pt x="18" y="32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32" y="4"/>
                    </a:lnTo>
                    <a:lnTo>
                      <a:pt x="3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>
                <a:off x="8614080" y="2306880"/>
                <a:ext cx="69480" cy="70920"/>
              </a:xfrm>
              <a:custGeom>
                <a:avLst/>
                <a:gdLst/>
                <a:ahLst/>
                <a:rect l="l" t="t" r="r" b="b"/>
                <a:pathLst>
                  <a:path w="32" h="38">
                    <a:moveTo>
                      <a:pt x="32" y="36"/>
                    </a:moveTo>
                    <a:lnTo>
                      <a:pt x="32" y="36"/>
                    </a:lnTo>
                    <a:lnTo>
                      <a:pt x="28" y="38"/>
                    </a:lnTo>
                    <a:lnTo>
                      <a:pt x="24" y="38"/>
                    </a:lnTo>
                    <a:lnTo>
                      <a:pt x="18" y="36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8" y="28"/>
                    </a:lnTo>
                    <a:lnTo>
                      <a:pt x="10" y="26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8" y="18"/>
                    </a:lnTo>
                    <a:lnTo>
                      <a:pt x="4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2" y="4"/>
                    </a:lnTo>
                    <a:lnTo>
                      <a:pt x="22" y="12"/>
                    </a:lnTo>
                    <a:lnTo>
                      <a:pt x="28" y="24"/>
                    </a:lnTo>
                    <a:lnTo>
                      <a:pt x="32" y="36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>
                <a:off x="8683920" y="2310480"/>
                <a:ext cx="60480" cy="7920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20" y="26"/>
                    </a:moveTo>
                    <a:lnTo>
                      <a:pt x="20" y="26"/>
                    </a:lnTo>
                    <a:lnTo>
                      <a:pt x="22" y="30"/>
                    </a:lnTo>
                    <a:lnTo>
                      <a:pt x="26" y="32"/>
                    </a:lnTo>
                    <a:lnTo>
                      <a:pt x="28" y="34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4" y="42"/>
                    </a:lnTo>
                    <a:lnTo>
                      <a:pt x="20" y="42"/>
                    </a:lnTo>
                    <a:lnTo>
                      <a:pt x="16" y="40"/>
                    </a:lnTo>
                    <a:lnTo>
                      <a:pt x="14" y="38"/>
                    </a:lnTo>
                    <a:lnTo>
                      <a:pt x="10" y="2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2" y="4"/>
                    </a:lnTo>
                    <a:lnTo>
                      <a:pt x="16" y="10"/>
                    </a:lnTo>
                    <a:lnTo>
                      <a:pt x="20" y="26"/>
                    </a:lnTo>
                    <a:lnTo>
                      <a:pt x="2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>
                <a:off x="6635160" y="2314080"/>
                <a:ext cx="30600" cy="756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2"/>
                    </a:moveTo>
                    <a:lnTo>
                      <a:pt x="14" y="2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6617520" y="2336760"/>
                <a:ext cx="34920" cy="7560"/>
              </a:xfrm>
              <a:custGeom>
                <a:avLst/>
                <a:gdLst/>
                <a:ahLst/>
                <a:rect l="l" t="t" r="r" b="b"/>
                <a:pathLst>
                  <a:path w="16" h="4">
                    <a:moveTo>
                      <a:pt x="16" y="0"/>
                    </a:moveTo>
                    <a:lnTo>
                      <a:pt x="16" y="0"/>
                    </a:lnTo>
                    <a:lnTo>
                      <a:pt x="1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8" y="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6709320" y="2348280"/>
                <a:ext cx="47880" cy="1080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6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6" y="6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>
                <a:off x="9089280" y="2382120"/>
                <a:ext cx="34920" cy="7560"/>
              </a:xfrm>
              <a:custGeom>
                <a:avLst/>
                <a:gdLst/>
                <a:ahLst/>
                <a:rect l="l" t="t" r="r" b="b"/>
                <a:pathLst>
                  <a:path w="16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0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2" y="4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>
                <a:off x="8705520" y="2400840"/>
                <a:ext cx="52200" cy="4104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4" y="2"/>
                    </a:moveTo>
                    <a:lnTo>
                      <a:pt x="24" y="2"/>
                    </a:lnTo>
                    <a:lnTo>
                      <a:pt x="24" y="8"/>
                    </a:lnTo>
                    <a:lnTo>
                      <a:pt x="22" y="12"/>
                    </a:lnTo>
                    <a:lnTo>
                      <a:pt x="18" y="16"/>
                    </a:lnTo>
                    <a:lnTo>
                      <a:pt x="14" y="20"/>
                    </a:lnTo>
                    <a:lnTo>
                      <a:pt x="10" y="22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>
                <a:off x="8784360" y="241164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>
                <a:off x="9438120" y="2415600"/>
                <a:ext cx="34560" cy="3600"/>
              </a:xfrm>
              <a:custGeom>
                <a:avLst/>
                <a:gdLst/>
                <a:ahLst/>
                <a:rect l="l" t="t" r="r" b="b"/>
                <a:pathLst>
                  <a:path w="16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8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>
                <a:off x="8975880" y="2445840"/>
                <a:ext cx="78480" cy="824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20" y="2"/>
                    </a:moveTo>
                    <a:lnTo>
                      <a:pt x="20" y="2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2"/>
                    </a:lnTo>
                    <a:lnTo>
                      <a:pt x="36" y="4"/>
                    </a:lnTo>
                    <a:lnTo>
                      <a:pt x="36" y="10"/>
                    </a:lnTo>
                    <a:lnTo>
                      <a:pt x="32" y="20"/>
                    </a:lnTo>
                    <a:lnTo>
                      <a:pt x="28" y="28"/>
                    </a:lnTo>
                    <a:lnTo>
                      <a:pt x="22" y="36"/>
                    </a:lnTo>
                    <a:lnTo>
                      <a:pt x="16" y="42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6" y="44"/>
                    </a:lnTo>
                    <a:lnTo>
                      <a:pt x="2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4" y="28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6" y="1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>
                <a:off x="8670600" y="2449800"/>
                <a:ext cx="30600" cy="41040"/>
              </a:xfrm>
              <a:custGeom>
                <a:avLst/>
                <a:gdLst/>
                <a:ahLst/>
                <a:rect l="l" t="t" r="r" b="b"/>
                <a:pathLst>
                  <a:path w="14" h="22">
                    <a:moveTo>
                      <a:pt x="14" y="2"/>
                    </a:moveTo>
                    <a:lnTo>
                      <a:pt x="14" y="2"/>
                    </a:lnTo>
                    <a:lnTo>
                      <a:pt x="14" y="10"/>
                    </a:lnTo>
                    <a:lnTo>
                      <a:pt x="12" y="16"/>
                    </a:lnTo>
                    <a:lnTo>
                      <a:pt x="10" y="20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8596800" y="2453040"/>
                <a:ext cx="60480" cy="22320"/>
              </a:xfrm>
              <a:custGeom>
                <a:avLst/>
                <a:gdLst/>
                <a:ahLst/>
                <a:rect l="l" t="t" r="r" b="b"/>
                <a:pathLst>
                  <a:path w="28" h="12">
                    <a:moveTo>
                      <a:pt x="26" y="0"/>
                    </a:moveTo>
                    <a:lnTo>
                      <a:pt x="26" y="0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6"/>
                    </a:lnTo>
                    <a:lnTo>
                      <a:pt x="16" y="8"/>
                    </a:lnTo>
                    <a:lnTo>
                      <a:pt x="8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10" y="4"/>
                    </a:lnTo>
                    <a:lnTo>
                      <a:pt x="18" y="2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9254880" y="2475720"/>
                <a:ext cx="8640" cy="111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>
                <a:off x="8866800" y="2487240"/>
                <a:ext cx="30600" cy="720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0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1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9224640" y="2491200"/>
                <a:ext cx="29880" cy="720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14" y="2"/>
                    </a:moveTo>
                    <a:lnTo>
                      <a:pt x="14" y="2"/>
                    </a:lnTo>
                    <a:lnTo>
                      <a:pt x="12" y="4"/>
                    </a:lnTo>
                    <a:lnTo>
                      <a:pt x="6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14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8125920" y="5377680"/>
                <a:ext cx="86760" cy="3024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38" y="16"/>
                    </a:moveTo>
                    <a:lnTo>
                      <a:pt x="38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20" y="2"/>
                    </a:lnTo>
                    <a:lnTo>
                      <a:pt x="28" y="4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8" y="6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10"/>
                    </a:lnTo>
                    <a:lnTo>
                      <a:pt x="38" y="10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38" y="16"/>
                    </a:lnTo>
                    <a:lnTo>
                      <a:pt x="3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7929720" y="-1102320"/>
                <a:ext cx="4320" cy="3024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2" y="0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_x0001__x0001__x0001_"/>
              <p:cNvSpPr/>
              <p:nvPr/>
            </p:nvSpPr>
            <p:spPr>
              <a:xfrm>
                <a:off x="5933520" y="-1079640"/>
                <a:ext cx="3831120" cy="6476400"/>
              </a:xfrm>
              <a:custGeom>
                <a:avLst/>
                <a:gdLst/>
                <a:ahLst/>
                <a:rect l="l" t="t" r="r" b="b"/>
                <a:pathLst>
                  <a:path w="1758" h="3446">
                    <a:moveTo>
                      <a:pt x="868" y="8"/>
                    </a:moveTo>
                    <a:lnTo>
                      <a:pt x="868" y="8"/>
                    </a:lnTo>
                    <a:lnTo>
                      <a:pt x="870" y="12"/>
                    </a:lnTo>
                    <a:lnTo>
                      <a:pt x="870" y="16"/>
                    </a:lnTo>
                    <a:lnTo>
                      <a:pt x="870" y="16"/>
                    </a:lnTo>
                    <a:lnTo>
                      <a:pt x="878" y="16"/>
                    </a:lnTo>
                    <a:lnTo>
                      <a:pt x="878" y="16"/>
                    </a:lnTo>
                    <a:lnTo>
                      <a:pt x="880" y="20"/>
                    </a:lnTo>
                    <a:lnTo>
                      <a:pt x="882" y="26"/>
                    </a:lnTo>
                    <a:lnTo>
                      <a:pt x="882" y="26"/>
                    </a:lnTo>
                    <a:lnTo>
                      <a:pt x="880" y="24"/>
                    </a:lnTo>
                    <a:lnTo>
                      <a:pt x="880" y="24"/>
                    </a:lnTo>
                    <a:lnTo>
                      <a:pt x="880" y="26"/>
                    </a:lnTo>
                    <a:lnTo>
                      <a:pt x="880" y="30"/>
                    </a:lnTo>
                    <a:lnTo>
                      <a:pt x="880" y="38"/>
                    </a:lnTo>
                    <a:lnTo>
                      <a:pt x="880" y="38"/>
                    </a:lnTo>
                    <a:lnTo>
                      <a:pt x="890" y="24"/>
                    </a:lnTo>
                    <a:lnTo>
                      <a:pt x="898" y="8"/>
                    </a:lnTo>
                    <a:lnTo>
                      <a:pt x="898" y="8"/>
                    </a:lnTo>
                    <a:lnTo>
                      <a:pt x="896" y="16"/>
                    </a:lnTo>
                    <a:lnTo>
                      <a:pt x="892" y="24"/>
                    </a:lnTo>
                    <a:lnTo>
                      <a:pt x="888" y="32"/>
                    </a:lnTo>
                    <a:lnTo>
                      <a:pt x="884" y="40"/>
                    </a:lnTo>
                    <a:lnTo>
                      <a:pt x="884" y="40"/>
                    </a:lnTo>
                    <a:lnTo>
                      <a:pt x="888" y="44"/>
                    </a:lnTo>
                    <a:lnTo>
                      <a:pt x="890" y="46"/>
                    </a:lnTo>
                    <a:lnTo>
                      <a:pt x="892" y="46"/>
                    </a:lnTo>
                    <a:lnTo>
                      <a:pt x="892" y="46"/>
                    </a:lnTo>
                    <a:lnTo>
                      <a:pt x="892" y="50"/>
                    </a:lnTo>
                    <a:lnTo>
                      <a:pt x="894" y="54"/>
                    </a:lnTo>
                    <a:lnTo>
                      <a:pt x="898" y="56"/>
                    </a:lnTo>
                    <a:lnTo>
                      <a:pt x="898" y="56"/>
                    </a:lnTo>
                    <a:lnTo>
                      <a:pt x="900" y="52"/>
                    </a:lnTo>
                    <a:lnTo>
                      <a:pt x="902" y="48"/>
                    </a:lnTo>
                    <a:lnTo>
                      <a:pt x="900" y="44"/>
                    </a:lnTo>
                    <a:lnTo>
                      <a:pt x="900" y="40"/>
                    </a:lnTo>
                    <a:lnTo>
                      <a:pt x="900" y="40"/>
                    </a:lnTo>
                    <a:lnTo>
                      <a:pt x="896" y="44"/>
                    </a:lnTo>
                    <a:lnTo>
                      <a:pt x="896" y="44"/>
                    </a:lnTo>
                    <a:lnTo>
                      <a:pt x="894" y="44"/>
                    </a:lnTo>
                    <a:lnTo>
                      <a:pt x="896" y="42"/>
                    </a:lnTo>
                    <a:lnTo>
                      <a:pt x="898" y="40"/>
                    </a:lnTo>
                    <a:lnTo>
                      <a:pt x="898" y="40"/>
                    </a:lnTo>
                    <a:lnTo>
                      <a:pt x="896" y="36"/>
                    </a:lnTo>
                    <a:lnTo>
                      <a:pt x="896" y="34"/>
                    </a:lnTo>
                    <a:lnTo>
                      <a:pt x="894" y="32"/>
                    </a:lnTo>
                    <a:lnTo>
                      <a:pt x="894" y="26"/>
                    </a:lnTo>
                    <a:lnTo>
                      <a:pt x="894" y="26"/>
                    </a:lnTo>
                    <a:lnTo>
                      <a:pt x="896" y="26"/>
                    </a:lnTo>
                    <a:lnTo>
                      <a:pt x="898" y="24"/>
                    </a:lnTo>
                    <a:lnTo>
                      <a:pt x="898" y="24"/>
                    </a:lnTo>
                    <a:lnTo>
                      <a:pt x="904" y="26"/>
                    </a:lnTo>
                    <a:lnTo>
                      <a:pt x="908" y="26"/>
                    </a:lnTo>
                    <a:lnTo>
                      <a:pt x="910" y="22"/>
                    </a:lnTo>
                    <a:lnTo>
                      <a:pt x="912" y="16"/>
                    </a:lnTo>
                    <a:lnTo>
                      <a:pt x="912" y="16"/>
                    </a:lnTo>
                    <a:lnTo>
                      <a:pt x="916" y="16"/>
                    </a:lnTo>
                    <a:lnTo>
                      <a:pt x="918" y="16"/>
                    </a:lnTo>
                    <a:lnTo>
                      <a:pt x="918" y="16"/>
                    </a:lnTo>
                    <a:lnTo>
                      <a:pt x="918" y="18"/>
                    </a:lnTo>
                    <a:lnTo>
                      <a:pt x="916" y="18"/>
                    </a:lnTo>
                    <a:lnTo>
                      <a:pt x="914" y="16"/>
                    </a:lnTo>
                    <a:lnTo>
                      <a:pt x="912" y="18"/>
                    </a:lnTo>
                    <a:lnTo>
                      <a:pt x="912" y="18"/>
                    </a:lnTo>
                    <a:lnTo>
                      <a:pt x="912" y="26"/>
                    </a:lnTo>
                    <a:lnTo>
                      <a:pt x="910" y="32"/>
                    </a:lnTo>
                    <a:lnTo>
                      <a:pt x="910" y="36"/>
                    </a:lnTo>
                    <a:lnTo>
                      <a:pt x="912" y="42"/>
                    </a:lnTo>
                    <a:lnTo>
                      <a:pt x="912" y="42"/>
                    </a:lnTo>
                    <a:lnTo>
                      <a:pt x="920" y="30"/>
                    </a:lnTo>
                    <a:lnTo>
                      <a:pt x="920" y="30"/>
                    </a:lnTo>
                    <a:lnTo>
                      <a:pt x="922" y="30"/>
                    </a:lnTo>
                    <a:lnTo>
                      <a:pt x="922" y="32"/>
                    </a:lnTo>
                    <a:lnTo>
                      <a:pt x="920" y="34"/>
                    </a:lnTo>
                    <a:lnTo>
                      <a:pt x="922" y="34"/>
                    </a:lnTo>
                    <a:lnTo>
                      <a:pt x="922" y="34"/>
                    </a:lnTo>
                    <a:lnTo>
                      <a:pt x="914" y="44"/>
                    </a:lnTo>
                    <a:lnTo>
                      <a:pt x="914" y="44"/>
                    </a:lnTo>
                    <a:lnTo>
                      <a:pt x="922" y="36"/>
                    </a:lnTo>
                    <a:lnTo>
                      <a:pt x="936" y="30"/>
                    </a:lnTo>
                    <a:lnTo>
                      <a:pt x="944" y="30"/>
                    </a:lnTo>
                    <a:lnTo>
                      <a:pt x="950" y="30"/>
                    </a:lnTo>
                    <a:lnTo>
                      <a:pt x="954" y="34"/>
                    </a:lnTo>
                    <a:lnTo>
                      <a:pt x="958" y="42"/>
                    </a:lnTo>
                    <a:lnTo>
                      <a:pt x="958" y="42"/>
                    </a:lnTo>
                    <a:lnTo>
                      <a:pt x="964" y="46"/>
                    </a:lnTo>
                    <a:lnTo>
                      <a:pt x="968" y="52"/>
                    </a:lnTo>
                    <a:lnTo>
                      <a:pt x="968" y="60"/>
                    </a:lnTo>
                    <a:lnTo>
                      <a:pt x="968" y="68"/>
                    </a:lnTo>
                    <a:lnTo>
                      <a:pt x="968" y="68"/>
                    </a:lnTo>
                    <a:lnTo>
                      <a:pt x="964" y="74"/>
                    </a:lnTo>
                    <a:lnTo>
                      <a:pt x="964" y="78"/>
                    </a:lnTo>
                    <a:lnTo>
                      <a:pt x="964" y="82"/>
                    </a:lnTo>
                    <a:lnTo>
                      <a:pt x="964" y="82"/>
                    </a:lnTo>
                    <a:lnTo>
                      <a:pt x="966" y="80"/>
                    </a:lnTo>
                    <a:lnTo>
                      <a:pt x="966" y="80"/>
                    </a:lnTo>
                    <a:lnTo>
                      <a:pt x="966" y="74"/>
                    </a:lnTo>
                    <a:lnTo>
                      <a:pt x="966" y="74"/>
                    </a:lnTo>
                    <a:lnTo>
                      <a:pt x="968" y="74"/>
                    </a:lnTo>
                    <a:lnTo>
                      <a:pt x="968" y="76"/>
                    </a:lnTo>
                    <a:lnTo>
                      <a:pt x="968" y="80"/>
                    </a:lnTo>
                    <a:lnTo>
                      <a:pt x="968" y="80"/>
                    </a:lnTo>
                    <a:lnTo>
                      <a:pt x="974" y="78"/>
                    </a:lnTo>
                    <a:lnTo>
                      <a:pt x="980" y="76"/>
                    </a:lnTo>
                    <a:lnTo>
                      <a:pt x="980" y="76"/>
                    </a:lnTo>
                    <a:lnTo>
                      <a:pt x="980" y="76"/>
                    </a:lnTo>
                    <a:lnTo>
                      <a:pt x="978" y="78"/>
                    </a:lnTo>
                    <a:lnTo>
                      <a:pt x="974" y="80"/>
                    </a:lnTo>
                    <a:lnTo>
                      <a:pt x="972" y="84"/>
                    </a:lnTo>
                    <a:lnTo>
                      <a:pt x="972" y="84"/>
                    </a:lnTo>
                    <a:lnTo>
                      <a:pt x="982" y="88"/>
                    </a:lnTo>
                    <a:lnTo>
                      <a:pt x="992" y="96"/>
                    </a:lnTo>
                    <a:lnTo>
                      <a:pt x="992" y="96"/>
                    </a:lnTo>
                    <a:lnTo>
                      <a:pt x="998" y="90"/>
                    </a:lnTo>
                    <a:lnTo>
                      <a:pt x="1002" y="84"/>
                    </a:lnTo>
                    <a:lnTo>
                      <a:pt x="1010" y="72"/>
                    </a:lnTo>
                    <a:lnTo>
                      <a:pt x="1010" y="72"/>
                    </a:lnTo>
                    <a:lnTo>
                      <a:pt x="1012" y="70"/>
                    </a:lnTo>
                    <a:lnTo>
                      <a:pt x="1010" y="72"/>
                    </a:lnTo>
                    <a:lnTo>
                      <a:pt x="1010" y="74"/>
                    </a:lnTo>
                    <a:lnTo>
                      <a:pt x="1010" y="76"/>
                    </a:lnTo>
                    <a:lnTo>
                      <a:pt x="1010" y="76"/>
                    </a:lnTo>
                    <a:lnTo>
                      <a:pt x="1014" y="78"/>
                    </a:lnTo>
                    <a:lnTo>
                      <a:pt x="1020" y="80"/>
                    </a:lnTo>
                    <a:lnTo>
                      <a:pt x="1020" y="80"/>
                    </a:lnTo>
                    <a:lnTo>
                      <a:pt x="1018" y="82"/>
                    </a:lnTo>
                    <a:lnTo>
                      <a:pt x="1014" y="80"/>
                    </a:lnTo>
                    <a:lnTo>
                      <a:pt x="1010" y="78"/>
                    </a:lnTo>
                    <a:lnTo>
                      <a:pt x="1010" y="78"/>
                    </a:lnTo>
                    <a:lnTo>
                      <a:pt x="1006" y="80"/>
                    </a:lnTo>
                    <a:lnTo>
                      <a:pt x="1002" y="84"/>
                    </a:lnTo>
                    <a:lnTo>
                      <a:pt x="996" y="94"/>
                    </a:lnTo>
                    <a:lnTo>
                      <a:pt x="996" y="94"/>
                    </a:lnTo>
                    <a:lnTo>
                      <a:pt x="998" y="94"/>
                    </a:lnTo>
                    <a:lnTo>
                      <a:pt x="998" y="94"/>
                    </a:lnTo>
                    <a:lnTo>
                      <a:pt x="1000" y="90"/>
                    </a:lnTo>
                    <a:lnTo>
                      <a:pt x="1000" y="90"/>
                    </a:lnTo>
                    <a:lnTo>
                      <a:pt x="1000" y="94"/>
                    </a:lnTo>
                    <a:lnTo>
                      <a:pt x="998" y="96"/>
                    </a:lnTo>
                    <a:lnTo>
                      <a:pt x="996" y="100"/>
                    </a:lnTo>
                    <a:lnTo>
                      <a:pt x="996" y="102"/>
                    </a:lnTo>
                    <a:lnTo>
                      <a:pt x="998" y="104"/>
                    </a:lnTo>
                    <a:lnTo>
                      <a:pt x="998" y="104"/>
                    </a:lnTo>
                    <a:lnTo>
                      <a:pt x="1004" y="102"/>
                    </a:lnTo>
                    <a:lnTo>
                      <a:pt x="1010" y="98"/>
                    </a:lnTo>
                    <a:lnTo>
                      <a:pt x="1016" y="96"/>
                    </a:lnTo>
                    <a:lnTo>
                      <a:pt x="1022" y="92"/>
                    </a:lnTo>
                    <a:lnTo>
                      <a:pt x="1022" y="92"/>
                    </a:lnTo>
                    <a:lnTo>
                      <a:pt x="1024" y="96"/>
                    </a:lnTo>
                    <a:lnTo>
                      <a:pt x="1024" y="102"/>
                    </a:lnTo>
                    <a:lnTo>
                      <a:pt x="1026" y="114"/>
                    </a:lnTo>
                    <a:lnTo>
                      <a:pt x="1026" y="114"/>
                    </a:lnTo>
                    <a:lnTo>
                      <a:pt x="1026" y="110"/>
                    </a:lnTo>
                    <a:lnTo>
                      <a:pt x="1028" y="106"/>
                    </a:lnTo>
                    <a:lnTo>
                      <a:pt x="1028" y="102"/>
                    </a:lnTo>
                    <a:lnTo>
                      <a:pt x="1030" y="100"/>
                    </a:lnTo>
                    <a:lnTo>
                      <a:pt x="1030" y="100"/>
                    </a:lnTo>
                    <a:lnTo>
                      <a:pt x="1030" y="106"/>
                    </a:lnTo>
                    <a:lnTo>
                      <a:pt x="1028" y="112"/>
                    </a:lnTo>
                    <a:lnTo>
                      <a:pt x="1028" y="120"/>
                    </a:lnTo>
                    <a:lnTo>
                      <a:pt x="1028" y="122"/>
                    </a:lnTo>
                    <a:lnTo>
                      <a:pt x="1032" y="124"/>
                    </a:lnTo>
                    <a:lnTo>
                      <a:pt x="1032" y="124"/>
                    </a:lnTo>
                    <a:lnTo>
                      <a:pt x="1034" y="118"/>
                    </a:lnTo>
                    <a:lnTo>
                      <a:pt x="1036" y="114"/>
                    </a:lnTo>
                    <a:lnTo>
                      <a:pt x="1034" y="102"/>
                    </a:lnTo>
                    <a:lnTo>
                      <a:pt x="1034" y="102"/>
                    </a:lnTo>
                    <a:lnTo>
                      <a:pt x="1036" y="104"/>
                    </a:lnTo>
                    <a:lnTo>
                      <a:pt x="1038" y="110"/>
                    </a:lnTo>
                    <a:lnTo>
                      <a:pt x="1038" y="110"/>
                    </a:lnTo>
                    <a:lnTo>
                      <a:pt x="1042" y="100"/>
                    </a:lnTo>
                    <a:lnTo>
                      <a:pt x="1044" y="90"/>
                    </a:lnTo>
                    <a:lnTo>
                      <a:pt x="1046" y="68"/>
                    </a:lnTo>
                    <a:lnTo>
                      <a:pt x="1046" y="68"/>
                    </a:lnTo>
                    <a:lnTo>
                      <a:pt x="1048" y="70"/>
                    </a:lnTo>
                    <a:lnTo>
                      <a:pt x="1048" y="74"/>
                    </a:lnTo>
                    <a:lnTo>
                      <a:pt x="1046" y="82"/>
                    </a:lnTo>
                    <a:lnTo>
                      <a:pt x="1046" y="82"/>
                    </a:lnTo>
                    <a:lnTo>
                      <a:pt x="1056" y="72"/>
                    </a:lnTo>
                    <a:lnTo>
                      <a:pt x="1060" y="70"/>
                    </a:lnTo>
                    <a:lnTo>
                      <a:pt x="1068" y="68"/>
                    </a:lnTo>
                    <a:lnTo>
                      <a:pt x="1068" y="68"/>
                    </a:lnTo>
                    <a:lnTo>
                      <a:pt x="1072" y="70"/>
                    </a:lnTo>
                    <a:lnTo>
                      <a:pt x="1076" y="74"/>
                    </a:lnTo>
                    <a:lnTo>
                      <a:pt x="1086" y="84"/>
                    </a:lnTo>
                    <a:lnTo>
                      <a:pt x="1102" y="106"/>
                    </a:lnTo>
                    <a:lnTo>
                      <a:pt x="1102" y="106"/>
                    </a:lnTo>
                    <a:lnTo>
                      <a:pt x="1096" y="120"/>
                    </a:lnTo>
                    <a:lnTo>
                      <a:pt x="1088" y="132"/>
                    </a:lnTo>
                    <a:lnTo>
                      <a:pt x="1088" y="132"/>
                    </a:lnTo>
                    <a:lnTo>
                      <a:pt x="1094" y="130"/>
                    </a:lnTo>
                    <a:lnTo>
                      <a:pt x="1100" y="124"/>
                    </a:lnTo>
                    <a:lnTo>
                      <a:pt x="1108" y="118"/>
                    </a:lnTo>
                    <a:lnTo>
                      <a:pt x="1114" y="114"/>
                    </a:lnTo>
                    <a:lnTo>
                      <a:pt x="1114" y="114"/>
                    </a:lnTo>
                    <a:lnTo>
                      <a:pt x="1112" y="116"/>
                    </a:lnTo>
                    <a:lnTo>
                      <a:pt x="1110" y="120"/>
                    </a:lnTo>
                    <a:lnTo>
                      <a:pt x="1108" y="122"/>
                    </a:lnTo>
                    <a:lnTo>
                      <a:pt x="1106" y="126"/>
                    </a:lnTo>
                    <a:lnTo>
                      <a:pt x="1106" y="126"/>
                    </a:lnTo>
                    <a:lnTo>
                      <a:pt x="1098" y="128"/>
                    </a:lnTo>
                    <a:lnTo>
                      <a:pt x="1094" y="132"/>
                    </a:lnTo>
                    <a:lnTo>
                      <a:pt x="1090" y="136"/>
                    </a:lnTo>
                    <a:lnTo>
                      <a:pt x="1086" y="140"/>
                    </a:lnTo>
                    <a:lnTo>
                      <a:pt x="1086" y="140"/>
                    </a:lnTo>
                    <a:lnTo>
                      <a:pt x="1086" y="144"/>
                    </a:lnTo>
                    <a:lnTo>
                      <a:pt x="1088" y="148"/>
                    </a:lnTo>
                    <a:lnTo>
                      <a:pt x="1094" y="150"/>
                    </a:lnTo>
                    <a:lnTo>
                      <a:pt x="1102" y="152"/>
                    </a:lnTo>
                    <a:lnTo>
                      <a:pt x="1110" y="152"/>
                    </a:lnTo>
                    <a:lnTo>
                      <a:pt x="1110" y="152"/>
                    </a:lnTo>
                    <a:lnTo>
                      <a:pt x="1110" y="148"/>
                    </a:lnTo>
                    <a:lnTo>
                      <a:pt x="1108" y="144"/>
                    </a:lnTo>
                    <a:lnTo>
                      <a:pt x="1106" y="140"/>
                    </a:lnTo>
                    <a:lnTo>
                      <a:pt x="1104" y="136"/>
                    </a:lnTo>
                    <a:lnTo>
                      <a:pt x="1104" y="136"/>
                    </a:lnTo>
                    <a:lnTo>
                      <a:pt x="1106" y="138"/>
                    </a:lnTo>
                    <a:lnTo>
                      <a:pt x="1108" y="142"/>
                    </a:lnTo>
                    <a:lnTo>
                      <a:pt x="1112" y="148"/>
                    </a:lnTo>
                    <a:lnTo>
                      <a:pt x="1112" y="148"/>
                    </a:lnTo>
                    <a:lnTo>
                      <a:pt x="1118" y="134"/>
                    </a:lnTo>
                    <a:lnTo>
                      <a:pt x="1122" y="128"/>
                    </a:lnTo>
                    <a:lnTo>
                      <a:pt x="1128" y="122"/>
                    </a:lnTo>
                    <a:lnTo>
                      <a:pt x="1128" y="122"/>
                    </a:lnTo>
                    <a:lnTo>
                      <a:pt x="1124" y="120"/>
                    </a:lnTo>
                    <a:lnTo>
                      <a:pt x="1122" y="118"/>
                    </a:lnTo>
                    <a:lnTo>
                      <a:pt x="1122" y="116"/>
                    </a:lnTo>
                    <a:lnTo>
                      <a:pt x="1122" y="116"/>
                    </a:lnTo>
                    <a:lnTo>
                      <a:pt x="1124" y="118"/>
                    </a:lnTo>
                    <a:lnTo>
                      <a:pt x="1128" y="120"/>
                    </a:lnTo>
                    <a:lnTo>
                      <a:pt x="1128" y="120"/>
                    </a:lnTo>
                    <a:lnTo>
                      <a:pt x="1132" y="116"/>
                    </a:lnTo>
                    <a:lnTo>
                      <a:pt x="1134" y="114"/>
                    </a:lnTo>
                    <a:lnTo>
                      <a:pt x="1134" y="108"/>
                    </a:lnTo>
                    <a:lnTo>
                      <a:pt x="1134" y="102"/>
                    </a:lnTo>
                    <a:lnTo>
                      <a:pt x="1134" y="102"/>
                    </a:lnTo>
                    <a:lnTo>
                      <a:pt x="1134" y="102"/>
                    </a:lnTo>
                    <a:lnTo>
                      <a:pt x="1136" y="104"/>
                    </a:lnTo>
                    <a:lnTo>
                      <a:pt x="1136" y="110"/>
                    </a:lnTo>
                    <a:lnTo>
                      <a:pt x="1136" y="110"/>
                    </a:lnTo>
                    <a:lnTo>
                      <a:pt x="1142" y="108"/>
                    </a:lnTo>
                    <a:lnTo>
                      <a:pt x="1146" y="110"/>
                    </a:lnTo>
                    <a:lnTo>
                      <a:pt x="1148" y="112"/>
                    </a:lnTo>
                    <a:lnTo>
                      <a:pt x="1150" y="116"/>
                    </a:lnTo>
                    <a:lnTo>
                      <a:pt x="1146" y="126"/>
                    </a:lnTo>
                    <a:lnTo>
                      <a:pt x="1140" y="132"/>
                    </a:lnTo>
                    <a:lnTo>
                      <a:pt x="1140" y="132"/>
                    </a:lnTo>
                    <a:lnTo>
                      <a:pt x="1142" y="134"/>
                    </a:lnTo>
                    <a:lnTo>
                      <a:pt x="1142" y="134"/>
                    </a:lnTo>
                    <a:lnTo>
                      <a:pt x="1144" y="136"/>
                    </a:lnTo>
                    <a:lnTo>
                      <a:pt x="1146" y="136"/>
                    </a:lnTo>
                    <a:lnTo>
                      <a:pt x="1148" y="134"/>
                    </a:lnTo>
                    <a:lnTo>
                      <a:pt x="1148" y="134"/>
                    </a:lnTo>
                    <a:lnTo>
                      <a:pt x="1146" y="136"/>
                    </a:lnTo>
                    <a:lnTo>
                      <a:pt x="1144" y="138"/>
                    </a:lnTo>
                    <a:lnTo>
                      <a:pt x="1144" y="138"/>
                    </a:lnTo>
                    <a:lnTo>
                      <a:pt x="1146" y="152"/>
                    </a:lnTo>
                    <a:lnTo>
                      <a:pt x="1148" y="160"/>
                    </a:lnTo>
                    <a:lnTo>
                      <a:pt x="1152" y="166"/>
                    </a:lnTo>
                    <a:lnTo>
                      <a:pt x="1152" y="166"/>
                    </a:lnTo>
                    <a:lnTo>
                      <a:pt x="1156" y="162"/>
                    </a:lnTo>
                    <a:lnTo>
                      <a:pt x="1162" y="156"/>
                    </a:lnTo>
                    <a:lnTo>
                      <a:pt x="1168" y="154"/>
                    </a:lnTo>
                    <a:lnTo>
                      <a:pt x="1172" y="154"/>
                    </a:lnTo>
                    <a:lnTo>
                      <a:pt x="1176" y="156"/>
                    </a:lnTo>
                    <a:lnTo>
                      <a:pt x="1176" y="156"/>
                    </a:lnTo>
                    <a:lnTo>
                      <a:pt x="1172" y="162"/>
                    </a:lnTo>
                    <a:lnTo>
                      <a:pt x="1166" y="168"/>
                    </a:lnTo>
                    <a:lnTo>
                      <a:pt x="1160" y="172"/>
                    </a:lnTo>
                    <a:lnTo>
                      <a:pt x="1156" y="172"/>
                    </a:lnTo>
                    <a:lnTo>
                      <a:pt x="1152" y="170"/>
                    </a:lnTo>
                    <a:lnTo>
                      <a:pt x="1152" y="170"/>
                    </a:lnTo>
                    <a:lnTo>
                      <a:pt x="1156" y="186"/>
                    </a:lnTo>
                    <a:lnTo>
                      <a:pt x="1160" y="202"/>
                    </a:lnTo>
                    <a:lnTo>
                      <a:pt x="1160" y="202"/>
                    </a:lnTo>
                    <a:lnTo>
                      <a:pt x="1170" y="200"/>
                    </a:lnTo>
                    <a:lnTo>
                      <a:pt x="1176" y="200"/>
                    </a:lnTo>
                    <a:lnTo>
                      <a:pt x="1184" y="200"/>
                    </a:lnTo>
                    <a:lnTo>
                      <a:pt x="1184" y="200"/>
                    </a:lnTo>
                    <a:lnTo>
                      <a:pt x="1186" y="206"/>
                    </a:lnTo>
                    <a:lnTo>
                      <a:pt x="1184" y="210"/>
                    </a:lnTo>
                    <a:lnTo>
                      <a:pt x="1182" y="214"/>
                    </a:lnTo>
                    <a:lnTo>
                      <a:pt x="1178" y="216"/>
                    </a:lnTo>
                    <a:lnTo>
                      <a:pt x="1174" y="218"/>
                    </a:lnTo>
                    <a:lnTo>
                      <a:pt x="1170" y="218"/>
                    </a:lnTo>
                    <a:lnTo>
                      <a:pt x="1166" y="216"/>
                    </a:lnTo>
                    <a:lnTo>
                      <a:pt x="1162" y="212"/>
                    </a:lnTo>
                    <a:lnTo>
                      <a:pt x="1162" y="212"/>
                    </a:lnTo>
                    <a:lnTo>
                      <a:pt x="1170" y="240"/>
                    </a:lnTo>
                    <a:lnTo>
                      <a:pt x="1178" y="268"/>
                    </a:lnTo>
                    <a:lnTo>
                      <a:pt x="1178" y="268"/>
                    </a:lnTo>
                    <a:lnTo>
                      <a:pt x="1180" y="266"/>
                    </a:lnTo>
                    <a:lnTo>
                      <a:pt x="1182" y="262"/>
                    </a:lnTo>
                    <a:lnTo>
                      <a:pt x="1186" y="250"/>
                    </a:lnTo>
                    <a:lnTo>
                      <a:pt x="1188" y="240"/>
                    </a:lnTo>
                    <a:lnTo>
                      <a:pt x="1194" y="232"/>
                    </a:lnTo>
                    <a:lnTo>
                      <a:pt x="1194" y="232"/>
                    </a:lnTo>
                    <a:lnTo>
                      <a:pt x="1196" y="232"/>
                    </a:lnTo>
                    <a:lnTo>
                      <a:pt x="1198" y="234"/>
                    </a:lnTo>
                    <a:lnTo>
                      <a:pt x="1200" y="236"/>
                    </a:lnTo>
                    <a:lnTo>
                      <a:pt x="1200" y="236"/>
                    </a:lnTo>
                    <a:lnTo>
                      <a:pt x="1206" y="226"/>
                    </a:lnTo>
                    <a:lnTo>
                      <a:pt x="1208" y="216"/>
                    </a:lnTo>
                    <a:lnTo>
                      <a:pt x="1208" y="216"/>
                    </a:lnTo>
                    <a:lnTo>
                      <a:pt x="1206" y="212"/>
                    </a:lnTo>
                    <a:lnTo>
                      <a:pt x="1202" y="208"/>
                    </a:lnTo>
                    <a:lnTo>
                      <a:pt x="1200" y="202"/>
                    </a:lnTo>
                    <a:lnTo>
                      <a:pt x="1200" y="198"/>
                    </a:lnTo>
                    <a:lnTo>
                      <a:pt x="1202" y="192"/>
                    </a:lnTo>
                    <a:lnTo>
                      <a:pt x="1204" y="188"/>
                    </a:lnTo>
                    <a:lnTo>
                      <a:pt x="1210" y="186"/>
                    </a:lnTo>
                    <a:lnTo>
                      <a:pt x="1216" y="184"/>
                    </a:lnTo>
                    <a:lnTo>
                      <a:pt x="1216" y="184"/>
                    </a:lnTo>
                    <a:lnTo>
                      <a:pt x="1214" y="180"/>
                    </a:lnTo>
                    <a:lnTo>
                      <a:pt x="1214" y="180"/>
                    </a:lnTo>
                    <a:lnTo>
                      <a:pt x="1214" y="176"/>
                    </a:lnTo>
                    <a:lnTo>
                      <a:pt x="1214" y="176"/>
                    </a:lnTo>
                    <a:lnTo>
                      <a:pt x="1218" y="176"/>
                    </a:lnTo>
                    <a:lnTo>
                      <a:pt x="1222" y="176"/>
                    </a:lnTo>
                    <a:lnTo>
                      <a:pt x="1222" y="176"/>
                    </a:lnTo>
                    <a:lnTo>
                      <a:pt x="1228" y="160"/>
                    </a:lnTo>
                    <a:lnTo>
                      <a:pt x="1228" y="160"/>
                    </a:lnTo>
                    <a:lnTo>
                      <a:pt x="1228" y="168"/>
                    </a:lnTo>
                    <a:lnTo>
                      <a:pt x="1224" y="176"/>
                    </a:lnTo>
                    <a:lnTo>
                      <a:pt x="1224" y="176"/>
                    </a:lnTo>
                    <a:lnTo>
                      <a:pt x="1230" y="184"/>
                    </a:lnTo>
                    <a:lnTo>
                      <a:pt x="1236" y="194"/>
                    </a:lnTo>
                    <a:lnTo>
                      <a:pt x="1240" y="196"/>
                    </a:lnTo>
                    <a:lnTo>
                      <a:pt x="1244" y="200"/>
                    </a:lnTo>
                    <a:lnTo>
                      <a:pt x="1248" y="200"/>
                    </a:lnTo>
                    <a:lnTo>
                      <a:pt x="1254" y="198"/>
                    </a:lnTo>
                    <a:lnTo>
                      <a:pt x="1254" y="198"/>
                    </a:lnTo>
                    <a:lnTo>
                      <a:pt x="1254" y="196"/>
                    </a:lnTo>
                    <a:lnTo>
                      <a:pt x="1250" y="194"/>
                    </a:lnTo>
                    <a:lnTo>
                      <a:pt x="1250" y="194"/>
                    </a:lnTo>
                    <a:lnTo>
                      <a:pt x="1254" y="194"/>
                    </a:lnTo>
                    <a:lnTo>
                      <a:pt x="1256" y="192"/>
                    </a:lnTo>
                    <a:lnTo>
                      <a:pt x="1260" y="188"/>
                    </a:lnTo>
                    <a:lnTo>
                      <a:pt x="1264" y="182"/>
                    </a:lnTo>
                    <a:lnTo>
                      <a:pt x="1266" y="180"/>
                    </a:lnTo>
                    <a:lnTo>
                      <a:pt x="1270" y="178"/>
                    </a:lnTo>
                    <a:lnTo>
                      <a:pt x="1270" y="178"/>
                    </a:lnTo>
                    <a:lnTo>
                      <a:pt x="1270" y="164"/>
                    </a:lnTo>
                    <a:lnTo>
                      <a:pt x="1270" y="164"/>
                    </a:lnTo>
                    <a:lnTo>
                      <a:pt x="1272" y="166"/>
                    </a:lnTo>
                    <a:lnTo>
                      <a:pt x="1272" y="172"/>
                    </a:lnTo>
                    <a:lnTo>
                      <a:pt x="1270" y="176"/>
                    </a:lnTo>
                    <a:lnTo>
                      <a:pt x="1272" y="180"/>
                    </a:lnTo>
                    <a:lnTo>
                      <a:pt x="1272" y="180"/>
                    </a:lnTo>
                    <a:lnTo>
                      <a:pt x="1272" y="178"/>
                    </a:lnTo>
                    <a:lnTo>
                      <a:pt x="1272" y="176"/>
                    </a:lnTo>
                    <a:lnTo>
                      <a:pt x="1274" y="170"/>
                    </a:lnTo>
                    <a:lnTo>
                      <a:pt x="1274" y="170"/>
                    </a:lnTo>
                    <a:lnTo>
                      <a:pt x="1270" y="218"/>
                    </a:lnTo>
                    <a:lnTo>
                      <a:pt x="1270" y="244"/>
                    </a:lnTo>
                    <a:lnTo>
                      <a:pt x="1270" y="268"/>
                    </a:lnTo>
                    <a:lnTo>
                      <a:pt x="1270" y="268"/>
                    </a:lnTo>
                    <a:lnTo>
                      <a:pt x="1292" y="240"/>
                    </a:lnTo>
                    <a:lnTo>
                      <a:pt x="1292" y="240"/>
                    </a:lnTo>
                    <a:lnTo>
                      <a:pt x="1290" y="240"/>
                    </a:lnTo>
                    <a:lnTo>
                      <a:pt x="1286" y="240"/>
                    </a:lnTo>
                    <a:lnTo>
                      <a:pt x="1286" y="240"/>
                    </a:lnTo>
                    <a:lnTo>
                      <a:pt x="1292" y="238"/>
                    </a:lnTo>
                    <a:lnTo>
                      <a:pt x="1298" y="234"/>
                    </a:lnTo>
                    <a:lnTo>
                      <a:pt x="1302" y="228"/>
                    </a:lnTo>
                    <a:lnTo>
                      <a:pt x="1306" y="224"/>
                    </a:lnTo>
                    <a:lnTo>
                      <a:pt x="1306" y="224"/>
                    </a:lnTo>
                    <a:lnTo>
                      <a:pt x="1298" y="216"/>
                    </a:lnTo>
                    <a:lnTo>
                      <a:pt x="1290" y="210"/>
                    </a:lnTo>
                    <a:lnTo>
                      <a:pt x="1290" y="210"/>
                    </a:lnTo>
                    <a:lnTo>
                      <a:pt x="1298" y="214"/>
                    </a:lnTo>
                    <a:lnTo>
                      <a:pt x="1304" y="218"/>
                    </a:lnTo>
                    <a:lnTo>
                      <a:pt x="1306" y="222"/>
                    </a:lnTo>
                    <a:lnTo>
                      <a:pt x="1306" y="222"/>
                    </a:lnTo>
                    <a:lnTo>
                      <a:pt x="1320" y="204"/>
                    </a:lnTo>
                    <a:lnTo>
                      <a:pt x="1332" y="184"/>
                    </a:lnTo>
                    <a:lnTo>
                      <a:pt x="1332" y="184"/>
                    </a:lnTo>
                    <a:lnTo>
                      <a:pt x="1326" y="184"/>
                    </a:lnTo>
                    <a:lnTo>
                      <a:pt x="1322" y="180"/>
                    </a:lnTo>
                    <a:lnTo>
                      <a:pt x="1314" y="174"/>
                    </a:lnTo>
                    <a:lnTo>
                      <a:pt x="1308" y="166"/>
                    </a:lnTo>
                    <a:lnTo>
                      <a:pt x="1304" y="162"/>
                    </a:lnTo>
                    <a:lnTo>
                      <a:pt x="1300" y="160"/>
                    </a:lnTo>
                    <a:lnTo>
                      <a:pt x="1300" y="160"/>
                    </a:lnTo>
                    <a:lnTo>
                      <a:pt x="1300" y="158"/>
                    </a:lnTo>
                    <a:lnTo>
                      <a:pt x="1302" y="158"/>
                    </a:lnTo>
                    <a:lnTo>
                      <a:pt x="1308" y="158"/>
                    </a:lnTo>
                    <a:lnTo>
                      <a:pt x="1308" y="158"/>
                    </a:lnTo>
                    <a:lnTo>
                      <a:pt x="1308" y="156"/>
                    </a:lnTo>
                    <a:lnTo>
                      <a:pt x="1308" y="152"/>
                    </a:lnTo>
                    <a:lnTo>
                      <a:pt x="1308" y="150"/>
                    </a:lnTo>
                    <a:lnTo>
                      <a:pt x="1310" y="148"/>
                    </a:lnTo>
                    <a:lnTo>
                      <a:pt x="1310" y="148"/>
                    </a:lnTo>
                    <a:lnTo>
                      <a:pt x="1316" y="148"/>
                    </a:lnTo>
                    <a:lnTo>
                      <a:pt x="1322" y="150"/>
                    </a:lnTo>
                    <a:lnTo>
                      <a:pt x="1326" y="154"/>
                    </a:lnTo>
                    <a:lnTo>
                      <a:pt x="1334" y="154"/>
                    </a:lnTo>
                    <a:lnTo>
                      <a:pt x="1334" y="154"/>
                    </a:lnTo>
                    <a:lnTo>
                      <a:pt x="1330" y="142"/>
                    </a:lnTo>
                    <a:lnTo>
                      <a:pt x="1326" y="128"/>
                    </a:lnTo>
                    <a:lnTo>
                      <a:pt x="1326" y="128"/>
                    </a:lnTo>
                    <a:lnTo>
                      <a:pt x="1332" y="126"/>
                    </a:lnTo>
                    <a:lnTo>
                      <a:pt x="1334" y="122"/>
                    </a:lnTo>
                    <a:lnTo>
                      <a:pt x="1340" y="120"/>
                    </a:lnTo>
                    <a:lnTo>
                      <a:pt x="1348" y="118"/>
                    </a:lnTo>
                    <a:lnTo>
                      <a:pt x="1348" y="118"/>
                    </a:lnTo>
                    <a:lnTo>
                      <a:pt x="1354" y="120"/>
                    </a:lnTo>
                    <a:lnTo>
                      <a:pt x="1360" y="124"/>
                    </a:lnTo>
                    <a:lnTo>
                      <a:pt x="1364" y="128"/>
                    </a:lnTo>
                    <a:lnTo>
                      <a:pt x="1370" y="130"/>
                    </a:lnTo>
                    <a:lnTo>
                      <a:pt x="1370" y="130"/>
                    </a:lnTo>
                    <a:lnTo>
                      <a:pt x="1374" y="126"/>
                    </a:lnTo>
                    <a:lnTo>
                      <a:pt x="1376" y="120"/>
                    </a:lnTo>
                    <a:lnTo>
                      <a:pt x="1378" y="116"/>
                    </a:lnTo>
                    <a:lnTo>
                      <a:pt x="1382" y="110"/>
                    </a:lnTo>
                    <a:lnTo>
                      <a:pt x="1382" y="110"/>
                    </a:lnTo>
                    <a:lnTo>
                      <a:pt x="1380" y="116"/>
                    </a:lnTo>
                    <a:lnTo>
                      <a:pt x="1378" y="122"/>
                    </a:lnTo>
                    <a:lnTo>
                      <a:pt x="1374" y="126"/>
                    </a:lnTo>
                    <a:lnTo>
                      <a:pt x="1372" y="134"/>
                    </a:lnTo>
                    <a:lnTo>
                      <a:pt x="1372" y="134"/>
                    </a:lnTo>
                    <a:lnTo>
                      <a:pt x="1374" y="134"/>
                    </a:lnTo>
                    <a:lnTo>
                      <a:pt x="1374" y="132"/>
                    </a:lnTo>
                    <a:lnTo>
                      <a:pt x="1376" y="128"/>
                    </a:lnTo>
                    <a:lnTo>
                      <a:pt x="1376" y="128"/>
                    </a:lnTo>
                    <a:lnTo>
                      <a:pt x="1376" y="132"/>
                    </a:lnTo>
                    <a:lnTo>
                      <a:pt x="1372" y="138"/>
                    </a:lnTo>
                    <a:lnTo>
                      <a:pt x="1362" y="150"/>
                    </a:lnTo>
                    <a:lnTo>
                      <a:pt x="1362" y="150"/>
                    </a:lnTo>
                    <a:lnTo>
                      <a:pt x="1366" y="152"/>
                    </a:lnTo>
                    <a:lnTo>
                      <a:pt x="1368" y="154"/>
                    </a:lnTo>
                    <a:lnTo>
                      <a:pt x="1368" y="154"/>
                    </a:lnTo>
                    <a:lnTo>
                      <a:pt x="1364" y="162"/>
                    </a:lnTo>
                    <a:lnTo>
                      <a:pt x="1358" y="170"/>
                    </a:lnTo>
                    <a:lnTo>
                      <a:pt x="1352" y="176"/>
                    </a:lnTo>
                    <a:lnTo>
                      <a:pt x="1342" y="180"/>
                    </a:lnTo>
                    <a:lnTo>
                      <a:pt x="1342" y="180"/>
                    </a:lnTo>
                    <a:lnTo>
                      <a:pt x="1344" y="182"/>
                    </a:lnTo>
                    <a:lnTo>
                      <a:pt x="1344" y="182"/>
                    </a:lnTo>
                    <a:lnTo>
                      <a:pt x="1348" y="182"/>
                    </a:lnTo>
                    <a:lnTo>
                      <a:pt x="1348" y="182"/>
                    </a:lnTo>
                    <a:lnTo>
                      <a:pt x="1348" y="184"/>
                    </a:lnTo>
                    <a:lnTo>
                      <a:pt x="1346" y="182"/>
                    </a:lnTo>
                    <a:lnTo>
                      <a:pt x="1342" y="182"/>
                    </a:lnTo>
                    <a:lnTo>
                      <a:pt x="1342" y="182"/>
                    </a:lnTo>
                    <a:lnTo>
                      <a:pt x="1336" y="188"/>
                    </a:lnTo>
                    <a:lnTo>
                      <a:pt x="1330" y="196"/>
                    </a:lnTo>
                    <a:lnTo>
                      <a:pt x="1320" y="210"/>
                    </a:lnTo>
                    <a:lnTo>
                      <a:pt x="1320" y="210"/>
                    </a:lnTo>
                    <a:lnTo>
                      <a:pt x="1328" y="206"/>
                    </a:lnTo>
                    <a:lnTo>
                      <a:pt x="1336" y="200"/>
                    </a:lnTo>
                    <a:lnTo>
                      <a:pt x="1354" y="186"/>
                    </a:lnTo>
                    <a:lnTo>
                      <a:pt x="1354" y="186"/>
                    </a:lnTo>
                    <a:lnTo>
                      <a:pt x="1352" y="186"/>
                    </a:lnTo>
                    <a:lnTo>
                      <a:pt x="1350" y="184"/>
                    </a:lnTo>
                    <a:lnTo>
                      <a:pt x="1350" y="184"/>
                    </a:lnTo>
                    <a:lnTo>
                      <a:pt x="1364" y="180"/>
                    </a:lnTo>
                    <a:lnTo>
                      <a:pt x="1370" y="178"/>
                    </a:lnTo>
                    <a:lnTo>
                      <a:pt x="1374" y="174"/>
                    </a:lnTo>
                    <a:lnTo>
                      <a:pt x="1374" y="174"/>
                    </a:lnTo>
                    <a:lnTo>
                      <a:pt x="1376" y="176"/>
                    </a:lnTo>
                    <a:lnTo>
                      <a:pt x="1378" y="178"/>
                    </a:lnTo>
                    <a:lnTo>
                      <a:pt x="1380" y="180"/>
                    </a:lnTo>
                    <a:lnTo>
                      <a:pt x="1382" y="182"/>
                    </a:lnTo>
                    <a:lnTo>
                      <a:pt x="1382" y="182"/>
                    </a:lnTo>
                    <a:lnTo>
                      <a:pt x="1378" y="180"/>
                    </a:lnTo>
                    <a:lnTo>
                      <a:pt x="1374" y="176"/>
                    </a:lnTo>
                    <a:lnTo>
                      <a:pt x="1374" y="176"/>
                    </a:lnTo>
                    <a:lnTo>
                      <a:pt x="1372" y="178"/>
                    </a:lnTo>
                    <a:lnTo>
                      <a:pt x="1368" y="180"/>
                    </a:lnTo>
                    <a:lnTo>
                      <a:pt x="1364" y="184"/>
                    </a:lnTo>
                    <a:lnTo>
                      <a:pt x="1364" y="184"/>
                    </a:lnTo>
                    <a:lnTo>
                      <a:pt x="1356" y="188"/>
                    </a:lnTo>
                    <a:lnTo>
                      <a:pt x="1348" y="194"/>
                    </a:lnTo>
                    <a:lnTo>
                      <a:pt x="1348" y="194"/>
                    </a:lnTo>
                    <a:lnTo>
                      <a:pt x="1326" y="212"/>
                    </a:lnTo>
                    <a:lnTo>
                      <a:pt x="1306" y="230"/>
                    </a:lnTo>
                    <a:lnTo>
                      <a:pt x="1306" y="230"/>
                    </a:lnTo>
                    <a:lnTo>
                      <a:pt x="1306" y="230"/>
                    </a:lnTo>
                    <a:lnTo>
                      <a:pt x="1308" y="230"/>
                    </a:lnTo>
                    <a:lnTo>
                      <a:pt x="1308" y="230"/>
                    </a:lnTo>
                    <a:lnTo>
                      <a:pt x="1298" y="242"/>
                    </a:lnTo>
                    <a:lnTo>
                      <a:pt x="1286" y="254"/>
                    </a:lnTo>
                    <a:lnTo>
                      <a:pt x="1276" y="270"/>
                    </a:lnTo>
                    <a:lnTo>
                      <a:pt x="1268" y="284"/>
                    </a:lnTo>
                    <a:lnTo>
                      <a:pt x="1268" y="284"/>
                    </a:lnTo>
                    <a:lnTo>
                      <a:pt x="1264" y="284"/>
                    </a:lnTo>
                    <a:lnTo>
                      <a:pt x="1264" y="284"/>
                    </a:lnTo>
                    <a:lnTo>
                      <a:pt x="1254" y="296"/>
                    </a:lnTo>
                    <a:lnTo>
                      <a:pt x="1246" y="308"/>
                    </a:lnTo>
                    <a:lnTo>
                      <a:pt x="1246" y="308"/>
                    </a:lnTo>
                    <a:lnTo>
                      <a:pt x="1272" y="300"/>
                    </a:lnTo>
                    <a:lnTo>
                      <a:pt x="1296" y="290"/>
                    </a:lnTo>
                    <a:lnTo>
                      <a:pt x="1296" y="290"/>
                    </a:lnTo>
                    <a:lnTo>
                      <a:pt x="1320" y="278"/>
                    </a:lnTo>
                    <a:lnTo>
                      <a:pt x="1330" y="272"/>
                    </a:lnTo>
                    <a:lnTo>
                      <a:pt x="1338" y="262"/>
                    </a:lnTo>
                    <a:lnTo>
                      <a:pt x="1338" y="262"/>
                    </a:lnTo>
                    <a:lnTo>
                      <a:pt x="1336" y="258"/>
                    </a:lnTo>
                    <a:lnTo>
                      <a:pt x="1334" y="254"/>
                    </a:lnTo>
                    <a:lnTo>
                      <a:pt x="1332" y="250"/>
                    </a:lnTo>
                    <a:lnTo>
                      <a:pt x="1332" y="244"/>
                    </a:lnTo>
                    <a:lnTo>
                      <a:pt x="1332" y="244"/>
                    </a:lnTo>
                    <a:lnTo>
                      <a:pt x="1336" y="244"/>
                    </a:lnTo>
                    <a:lnTo>
                      <a:pt x="1340" y="242"/>
                    </a:lnTo>
                    <a:lnTo>
                      <a:pt x="1348" y="244"/>
                    </a:lnTo>
                    <a:lnTo>
                      <a:pt x="1360" y="252"/>
                    </a:lnTo>
                    <a:lnTo>
                      <a:pt x="1360" y="252"/>
                    </a:lnTo>
                    <a:lnTo>
                      <a:pt x="1378" y="246"/>
                    </a:lnTo>
                    <a:lnTo>
                      <a:pt x="1384" y="240"/>
                    </a:lnTo>
                    <a:lnTo>
                      <a:pt x="1386" y="236"/>
                    </a:lnTo>
                    <a:lnTo>
                      <a:pt x="1388" y="232"/>
                    </a:lnTo>
                    <a:lnTo>
                      <a:pt x="1388" y="232"/>
                    </a:lnTo>
                    <a:lnTo>
                      <a:pt x="1390" y="234"/>
                    </a:lnTo>
                    <a:lnTo>
                      <a:pt x="1390" y="236"/>
                    </a:lnTo>
                    <a:lnTo>
                      <a:pt x="1390" y="236"/>
                    </a:lnTo>
                    <a:lnTo>
                      <a:pt x="1394" y="232"/>
                    </a:lnTo>
                    <a:lnTo>
                      <a:pt x="1398" y="230"/>
                    </a:lnTo>
                    <a:lnTo>
                      <a:pt x="1402" y="228"/>
                    </a:lnTo>
                    <a:lnTo>
                      <a:pt x="1406" y="224"/>
                    </a:lnTo>
                    <a:lnTo>
                      <a:pt x="1406" y="224"/>
                    </a:lnTo>
                    <a:lnTo>
                      <a:pt x="1394" y="236"/>
                    </a:lnTo>
                    <a:lnTo>
                      <a:pt x="1380" y="246"/>
                    </a:lnTo>
                    <a:lnTo>
                      <a:pt x="1380" y="246"/>
                    </a:lnTo>
                    <a:lnTo>
                      <a:pt x="1388" y="248"/>
                    </a:lnTo>
                    <a:lnTo>
                      <a:pt x="1396" y="246"/>
                    </a:lnTo>
                    <a:lnTo>
                      <a:pt x="1404" y="244"/>
                    </a:lnTo>
                    <a:lnTo>
                      <a:pt x="1410" y="238"/>
                    </a:lnTo>
                    <a:lnTo>
                      <a:pt x="1416" y="234"/>
                    </a:lnTo>
                    <a:lnTo>
                      <a:pt x="1424" y="230"/>
                    </a:lnTo>
                    <a:lnTo>
                      <a:pt x="1432" y="228"/>
                    </a:lnTo>
                    <a:lnTo>
                      <a:pt x="1442" y="228"/>
                    </a:lnTo>
                    <a:lnTo>
                      <a:pt x="1442" y="228"/>
                    </a:lnTo>
                    <a:lnTo>
                      <a:pt x="1442" y="232"/>
                    </a:lnTo>
                    <a:lnTo>
                      <a:pt x="1442" y="232"/>
                    </a:lnTo>
                    <a:lnTo>
                      <a:pt x="1442" y="234"/>
                    </a:lnTo>
                    <a:lnTo>
                      <a:pt x="1442" y="236"/>
                    </a:lnTo>
                    <a:lnTo>
                      <a:pt x="1442" y="236"/>
                    </a:lnTo>
                    <a:lnTo>
                      <a:pt x="1430" y="242"/>
                    </a:lnTo>
                    <a:lnTo>
                      <a:pt x="1418" y="248"/>
                    </a:lnTo>
                    <a:lnTo>
                      <a:pt x="1398" y="260"/>
                    </a:lnTo>
                    <a:lnTo>
                      <a:pt x="1398" y="260"/>
                    </a:lnTo>
                    <a:lnTo>
                      <a:pt x="1392" y="266"/>
                    </a:lnTo>
                    <a:lnTo>
                      <a:pt x="1386" y="270"/>
                    </a:lnTo>
                    <a:lnTo>
                      <a:pt x="1378" y="270"/>
                    </a:lnTo>
                    <a:lnTo>
                      <a:pt x="1374" y="270"/>
                    </a:lnTo>
                    <a:lnTo>
                      <a:pt x="1370" y="266"/>
                    </a:lnTo>
                    <a:lnTo>
                      <a:pt x="1370" y="266"/>
                    </a:lnTo>
                    <a:lnTo>
                      <a:pt x="1370" y="268"/>
                    </a:lnTo>
                    <a:lnTo>
                      <a:pt x="1370" y="270"/>
                    </a:lnTo>
                    <a:lnTo>
                      <a:pt x="1370" y="274"/>
                    </a:lnTo>
                    <a:lnTo>
                      <a:pt x="1370" y="274"/>
                    </a:lnTo>
                    <a:lnTo>
                      <a:pt x="1370" y="274"/>
                    </a:lnTo>
                    <a:lnTo>
                      <a:pt x="1368" y="272"/>
                    </a:lnTo>
                    <a:lnTo>
                      <a:pt x="1368" y="268"/>
                    </a:lnTo>
                    <a:lnTo>
                      <a:pt x="1368" y="268"/>
                    </a:lnTo>
                    <a:lnTo>
                      <a:pt x="1360" y="272"/>
                    </a:lnTo>
                    <a:lnTo>
                      <a:pt x="1356" y="272"/>
                    </a:lnTo>
                    <a:lnTo>
                      <a:pt x="1350" y="270"/>
                    </a:lnTo>
                    <a:lnTo>
                      <a:pt x="1350" y="270"/>
                    </a:lnTo>
                    <a:lnTo>
                      <a:pt x="1348" y="272"/>
                    </a:lnTo>
                    <a:lnTo>
                      <a:pt x="1348" y="276"/>
                    </a:lnTo>
                    <a:lnTo>
                      <a:pt x="1348" y="276"/>
                    </a:lnTo>
                    <a:lnTo>
                      <a:pt x="1346" y="276"/>
                    </a:lnTo>
                    <a:lnTo>
                      <a:pt x="1346" y="274"/>
                    </a:lnTo>
                    <a:lnTo>
                      <a:pt x="1348" y="270"/>
                    </a:lnTo>
                    <a:lnTo>
                      <a:pt x="1348" y="270"/>
                    </a:lnTo>
                    <a:lnTo>
                      <a:pt x="1344" y="270"/>
                    </a:lnTo>
                    <a:lnTo>
                      <a:pt x="1340" y="270"/>
                    </a:lnTo>
                    <a:lnTo>
                      <a:pt x="1336" y="274"/>
                    </a:lnTo>
                    <a:lnTo>
                      <a:pt x="1332" y="278"/>
                    </a:lnTo>
                    <a:lnTo>
                      <a:pt x="1332" y="278"/>
                    </a:lnTo>
                    <a:lnTo>
                      <a:pt x="1336" y="278"/>
                    </a:lnTo>
                    <a:lnTo>
                      <a:pt x="1338" y="278"/>
                    </a:lnTo>
                    <a:lnTo>
                      <a:pt x="1340" y="272"/>
                    </a:lnTo>
                    <a:lnTo>
                      <a:pt x="1340" y="272"/>
                    </a:lnTo>
                    <a:lnTo>
                      <a:pt x="1340" y="274"/>
                    </a:lnTo>
                    <a:lnTo>
                      <a:pt x="1340" y="276"/>
                    </a:lnTo>
                    <a:lnTo>
                      <a:pt x="1338" y="280"/>
                    </a:lnTo>
                    <a:lnTo>
                      <a:pt x="1338" y="280"/>
                    </a:lnTo>
                    <a:lnTo>
                      <a:pt x="1340" y="280"/>
                    </a:lnTo>
                    <a:lnTo>
                      <a:pt x="1342" y="280"/>
                    </a:lnTo>
                    <a:lnTo>
                      <a:pt x="1344" y="278"/>
                    </a:lnTo>
                    <a:lnTo>
                      <a:pt x="1346" y="278"/>
                    </a:lnTo>
                    <a:lnTo>
                      <a:pt x="1346" y="278"/>
                    </a:lnTo>
                    <a:lnTo>
                      <a:pt x="1346" y="282"/>
                    </a:lnTo>
                    <a:lnTo>
                      <a:pt x="1344" y="282"/>
                    </a:lnTo>
                    <a:lnTo>
                      <a:pt x="1342" y="282"/>
                    </a:lnTo>
                    <a:lnTo>
                      <a:pt x="1342" y="284"/>
                    </a:lnTo>
                    <a:lnTo>
                      <a:pt x="1342" y="284"/>
                    </a:lnTo>
                    <a:lnTo>
                      <a:pt x="1346" y="288"/>
                    </a:lnTo>
                    <a:lnTo>
                      <a:pt x="1350" y="288"/>
                    </a:lnTo>
                    <a:lnTo>
                      <a:pt x="1350" y="288"/>
                    </a:lnTo>
                    <a:lnTo>
                      <a:pt x="1350" y="290"/>
                    </a:lnTo>
                    <a:lnTo>
                      <a:pt x="1348" y="290"/>
                    </a:lnTo>
                    <a:lnTo>
                      <a:pt x="1340" y="288"/>
                    </a:lnTo>
                    <a:lnTo>
                      <a:pt x="1340" y="288"/>
                    </a:lnTo>
                    <a:lnTo>
                      <a:pt x="1360" y="292"/>
                    </a:lnTo>
                    <a:lnTo>
                      <a:pt x="1380" y="292"/>
                    </a:lnTo>
                    <a:lnTo>
                      <a:pt x="1380" y="292"/>
                    </a:lnTo>
                    <a:lnTo>
                      <a:pt x="1378" y="294"/>
                    </a:lnTo>
                    <a:lnTo>
                      <a:pt x="1374" y="294"/>
                    </a:lnTo>
                    <a:lnTo>
                      <a:pt x="1374" y="294"/>
                    </a:lnTo>
                    <a:lnTo>
                      <a:pt x="1378" y="296"/>
                    </a:lnTo>
                    <a:lnTo>
                      <a:pt x="1384" y="296"/>
                    </a:lnTo>
                    <a:lnTo>
                      <a:pt x="1388" y="296"/>
                    </a:lnTo>
                    <a:lnTo>
                      <a:pt x="1392" y="294"/>
                    </a:lnTo>
                    <a:lnTo>
                      <a:pt x="1392" y="294"/>
                    </a:lnTo>
                    <a:lnTo>
                      <a:pt x="1386" y="298"/>
                    </a:lnTo>
                    <a:lnTo>
                      <a:pt x="1380" y="306"/>
                    </a:lnTo>
                    <a:lnTo>
                      <a:pt x="1378" y="310"/>
                    </a:lnTo>
                    <a:lnTo>
                      <a:pt x="1378" y="314"/>
                    </a:lnTo>
                    <a:lnTo>
                      <a:pt x="1378" y="320"/>
                    </a:lnTo>
                    <a:lnTo>
                      <a:pt x="1380" y="326"/>
                    </a:lnTo>
                    <a:lnTo>
                      <a:pt x="1380" y="326"/>
                    </a:lnTo>
                    <a:lnTo>
                      <a:pt x="1382" y="326"/>
                    </a:lnTo>
                    <a:lnTo>
                      <a:pt x="1384" y="326"/>
                    </a:lnTo>
                    <a:lnTo>
                      <a:pt x="1386" y="324"/>
                    </a:lnTo>
                    <a:lnTo>
                      <a:pt x="1388" y="324"/>
                    </a:lnTo>
                    <a:lnTo>
                      <a:pt x="1388" y="324"/>
                    </a:lnTo>
                    <a:lnTo>
                      <a:pt x="1382" y="328"/>
                    </a:lnTo>
                    <a:lnTo>
                      <a:pt x="1382" y="328"/>
                    </a:lnTo>
                    <a:lnTo>
                      <a:pt x="1388" y="338"/>
                    </a:lnTo>
                    <a:lnTo>
                      <a:pt x="1388" y="338"/>
                    </a:lnTo>
                    <a:lnTo>
                      <a:pt x="1376" y="344"/>
                    </a:lnTo>
                    <a:lnTo>
                      <a:pt x="1370" y="348"/>
                    </a:lnTo>
                    <a:lnTo>
                      <a:pt x="1366" y="354"/>
                    </a:lnTo>
                    <a:lnTo>
                      <a:pt x="1366" y="354"/>
                    </a:lnTo>
                    <a:lnTo>
                      <a:pt x="1376" y="360"/>
                    </a:lnTo>
                    <a:lnTo>
                      <a:pt x="1384" y="362"/>
                    </a:lnTo>
                    <a:lnTo>
                      <a:pt x="1392" y="364"/>
                    </a:lnTo>
                    <a:lnTo>
                      <a:pt x="1392" y="364"/>
                    </a:lnTo>
                    <a:lnTo>
                      <a:pt x="1384" y="364"/>
                    </a:lnTo>
                    <a:lnTo>
                      <a:pt x="1378" y="362"/>
                    </a:lnTo>
                    <a:lnTo>
                      <a:pt x="1364" y="354"/>
                    </a:lnTo>
                    <a:lnTo>
                      <a:pt x="1364" y="354"/>
                    </a:lnTo>
                    <a:lnTo>
                      <a:pt x="1358" y="360"/>
                    </a:lnTo>
                    <a:lnTo>
                      <a:pt x="1354" y="362"/>
                    </a:lnTo>
                    <a:lnTo>
                      <a:pt x="1350" y="364"/>
                    </a:lnTo>
                    <a:lnTo>
                      <a:pt x="1350" y="364"/>
                    </a:lnTo>
                    <a:lnTo>
                      <a:pt x="1346" y="362"/>
                    </a:lnTo>
                    <a:lnTo>
                      <a:pt x="1346" y="356"/>
                    </a:lnTo>
                    <a:lnTo>
                      <a:pt x="1346" y="344"/>
                    </a:lnTo>
                    <a:lnTo>
                      <a:pt x="1346" y="344"/>
                    </a:lnTo>
                    <a:lnTo>
                      <a:pt x="1334" y="350"/>
                    </a:lnTo>
                    <a:lnTo>
                      <a:pt x="1322" y="354"/>
                    </a:lnTo>
                    <a:lnTo>
                      <a:pt x="1322" y="354"/>
                    </a:lnTo>
                    <a:lnTo>
                      <a:pt x="1328" y="370"/>
                    </a:lnTo>
                    <a:lnTo>
                      <a:pt x="1332" y="376"/>
                    </a:lnTo>
                    <a:lnTo>
                      <a:pt x="1338" y="382"/>
                    </a:lnTo>
                    <a:lnTo>
                      <a:pt x="1338" y="382"/>
                    </a:lnTo>
                    <a:lnTo>
                      <a:pt x="1332" y="384"/>
                    </a:lnTo>
                    <a:lnTo>
                      <a:pt x="1326" y="384"/>
                    </a:lnTo>
                    <a:lnTo>
                      <a:pt x="1312" y="380"/>
                    </a:lnTo>
                    <a:lnTo>
                      <a:pt x="1302" y="374"/>
                    </a:lnTo>
                    <a:lnTo>
                      <a:pt x="1292" y="368"/>
                    </a:lnTo>
                    <a:lnTo>
                      <a:pt x="1292" y="368"/>
                    </a:lnTo>
                    <a:lnTo>
                      <a:pt x="1286" y="370"/>
                    </a:lnTo>
                    <a:lnTo>
                      <a:pt x="1282" y="376"/>
                    </a:lnTo>
                    <a:lnTo>
                      <a:pt x="1278" y="382"/>
                    </a:lnTo>
                    <a:lnTo>
                      <a:pt x="1272" y="388"/>
                    </a:lnTo>
                    <a:lnTo>
                      <a:pt x="1272" y="388"/>
                    </a:lnTo>
                    <a:lnTo>
                      <a:pt x="1276" y="390"/>
                    </a:lnTo>
                    <a:lnTo>
                      <a:pt x="1282" y="392"/>
                    </a:lnTo>
                    <a:lnTo>
                      <a:pt x="1286" y="396"/>
                    </a:lnTo>
                    <a:lnTo>
                      <a:pt x="1288" y="400"/>
                    </a:lnTo>
                    <a:lnTo>
                      <a:pt x="1288" y="400"/>
                    </a:lnTo>
                    <a:lnTo>
                      <a:pt x="1286" y="404"/>
                    </a:lnTo>
                    <a:lnTo>
                      <a:pt x="1284" y="406"/>
                    </a:lnTo>
                    <a:lnTo>
                      <a:pt x="1280" y="406"/>
                    </a:lnTo>
                    <a:lnTo>
                      <a:pt x="1276" y="406"/>
                    </a:lnTo>
                    <a:lnTo>
                      <a:pt x="1268" y="402"/>
                    </a:lnTo>
                    <a:lnTo>
                      <a:pt x="1264" y="396"/>
                    </a:lnTo>
                    <a:lnTo>
                      <a:pt x="1264" y="396"/>
                    </a:lnTo>
                    <a:lnTo>
                      <a:pt x="1254" y="406"/>
                    </a:lnTo>
                    <a:lnTo>
                      <a:pt x="1246" y="414"/>
                    </a:lnTo>
                    <a:lnTo>
                      <a:pt x="1230" y="436"/>
                    </a:lnTo>
                    <a:lnTo>
                      <a:pt x="1230" y="436"/>
                    </a:lnTo>
                    <a:lnTo>
                      <a:pt x="1232" y="440"/>
                    </a:lnTo>
                    <a:lnTo>
                      <a:pt x="1236" y="444"/>
                    </a:lnTo>
                    <a:lnTo>
                      <a:pt x="1236" y="444"/>
                    </a:lnTo>
                    <a:lnTo>
                      <a:pt x="1234" y="442"/>
                    </a:lnTo>
                    <a:lnTo>
                      <a:pt x="1230" y="438"/>
                    </a:lnTo>
                    <a:lnTo>
                      <a:pt x="1230" y="438"/>
                    </a:lnTo>
                    <a:lnTo>
                      <a:pt x="1216" y="456"/>
                    </a:lnTo>
                    <a:lnTo>
                      <a:pt x="1216" y="456"/>
                    </a:lnTo>
                    <a:lnTo>
                      <a:pt x="1230" y="458"/>
                    </a:lnTo>
                    <a:lnTo>
                      <a:pt x="1238" y="456"/>
                    </a:lnTo>
                    <a:lnTo>
                      <a:pt x="1244" y="454"/>
                    </a:lnTo>
                    <a:lnTo>
                      <a:pt x="1244" y="454"/>
                    </a:lnTo>
                    <a:lnTo>
                      <a:pt x="1246" y="456"/>
                    </a:lnTo>
                    <a:lnTo>
                      <a:pt x="1250" y="456"/>
                    </a:lnTo>
                    <a:lnTo>
                      <a:pt x="1258" y="456"/>
                    </a:lnTo>
                    <a:lnTo>
                      <a:pt x="1276" y="452"/>
                    </a:lnTo>
                    <a:lnTo>
                      <a:pt x="1276" y="452"/>
                    </a:lnTo>
                    <a:lnTo>
                      <a:pt x="1274" y="448"/>
                    </a:lnTo>
                    <a:lnTo>
                      <a:pt x="1270" y="446"/>
                    </a:lnTo>
                    <a:lnTo>
                      <a:pt x="1266" y="444"/>
                    </a:lnTo>
                    <a:lnTo>
                      <a:pt x="1264" y="442"/>
                    </a:lnTo>
                    <a:lnTo>
                      <a:pt x="1264" y="442"/>
                    </a:lnTo>
                    <a:lnTo>
                      <a:pt x="1260" y="444"/>
                    </a:lnTo>
                    <a:lnTo>
                      <a:pt x="1256" y="448"/>
                    </a:lnTo>
                    <a:lnTo>
                      <a:pt x="1256" y="448"/>
                    </a:lnTo>
                    <a:lnTo>
                      <a:pt x="1256" y="446"/>
                    </a:lnTo>
                    <a:lnTo>
                      <a:pt x="1258" y="444"/>
                    </a:lnTo>
                    <a:lnTo>
                      <a:pt x="1260" y="442"/>
                    </a:lnTo>
                    <a:lnTo>
                      <a:pt x="1260" y="442"/>
                    </a:lnTo>
                    <a:lnTo>
                      <a:pt x="1258" y="438"/>
                    </a:lnTo>
                    <a:lnTo>
                      <a:pt x="1256" y="436"/>
                    </a:lnTo>
                    <a:lnTo>
                      <a:pt x="1256" y="434"/>
                    </a:lnTo>
                    <a:lnTo>
                      <a:pt x="1256" y="434"/>
                    </a:lnTo>
                    <a:lnTo>
                      <a:pt x="1258" y="424"/>
                    </a:lnTo>
                    <a:lnTo>
                      <a:pt x="1266" y="418"/>
                    </a:lnTo>
                    <a:lnTo>
                      <a:pt x="1274" y="412"/>
                    </a:lnTo>
                    <a:lnTo>
                      <a:pt x="1284" y="410"/>
                    </a:lnTo>
                    <a:lnTo>
                      <a:pt x="1296" y="408"/>
                    </a:lnTo>
                    <a:lnTo>
                      <a:pt x="1308" y="408"/>
                    </a:lnTo>
                    <a:lnTo>
                      <a:pt x="1320" y="410"/>
                    </a:lnTo>
                    <a:lnTo>
                      <a:pt x="1330" y="414"/>
                    </a:lnTo>
                    <a:lnTo>
                      <a:pt x="1330" y="414"/>
                    </a:lnTo>
                    <a:lnTo>
                      <a:pt x="1326" y="418"/>
                    </a:lnTo>
                    <a:lnTo>
                      <a:pt x="1322" y="420"/>
                    </a:lnTo>
                    <a:lnTo>
                      <a:pt x="1320" y="424"/>
                    </a:lnTo>
                    <a:lnTo>
                      <a:pt x="1318" y="430"/>
                    </a:lnTo>
                    <a:lnTo>
                      <a:pt x="1318" y="430"/>
                    </a:lnTo>
                    <a:lnTo>
                      <a:pt x="1316" y="428"/>
                    </a:lnTo>
                    <a:lnTo>
                      <a:pt x="1316" y="426"/>
                    </a:lnTo>
                    <a:lnTo>
                      <a:pt x="1318" y="420"/>
                    </a:lnTo>
                    <a:lnTo>
                      <a:pt x="1318" y="420"/>
                    </a:lnTo>
                    <a:lnTo>
                      <a:pt x="1310" y="420"/>
                    </a:lnTo>
                    <a:lnTo>
                      <a:pt x="1302" y="418"/>
                    </a:lnTo>
                    <a:lnTo>
                      <a:pt x="1294" y="418"/>
                    </a:lnTo>
                    <a:lnTo>
                      <a:pt x="1290" y="420"/>
                    </a:lnTo>
                    <a:lnTo>
                      <a:pt x="1288" y="422"/>
                    </a:lnTo>
                    <a:lnTo>
                      <a:pt x="1288" y="422"/>
                    </a:lnTo>
                    <a:lnTo>
                      <a:pt x="1290" y="426"/>
                    </a:lnTo>
                    <a:lnTo>
                      <a:pt x="1292" y="430"/>
                    </a:lnTo>
                    <a:lnTo>
                      <a:pt x="1294" y="434"/>
                    </a:lnTo>
                    <a:lnTo>
                      <a:pt x="1296" y="438"/>
                    </a:lnTo>
                    <a:lnTo>
                      <a:pt x="1296" y="438"/>
                    </a:lnTo>
                    <a:lnTo>
                      <a:pt x="1290" y="440"/>
                    </a:lnTo>
                    <a:lnTo>
                      <a:pt x="1284" y="442"/>
                    </a:lnTo>
                    <a:lnTo>
                      <a:pt x="1284" y="442"/>
                    </a:lnTo>
                    <a:lnTo>
                      <a:pt x="1288" y="444"/>
                    </a:lnTo>
                    <a:lnTo>
                      <a:pt x="1292" y="446"/>
                    </a:lnTo>
                    <a:lnTo>
                      <a:pt x="1300" y="444"/>
                    </a:lnTo>
                    <a:lnTo>
                      <a:pt x="1322" y="436"/>
                    </a:lnTo>
                    <a:lnTo>
                      <a:pt x="1322" y="436"/>
                    </a:lnTo>
                    <a:lnTo>
                      <a:pt x="1320" y="438"/>
                    </a:lnTo>
                    <a:lnTo>
                      <a:pt x="1314" y="440"/>
                    </a:lnTo>
                    <a:lnTo>
                      <a:pt x="1300" y="444"/>
                    </a:lnTo>
                    <a:lnTo>
                      <a:pt x="1300" y="444"/>
                    </a:lnTo>
                    <a:lnTo>
                      <a:pt x="1306" y="450"/>
                    </a:lnTo>
                    <a:lnTo>
                      <a:pt x="1312" y="456"/>
                    </a:lnTo>
                    <a:lnTo>
                      <a:pt x="1320" y="458"/>
                    </a:lnTo>
                    <a:lnTo>
                      <a:pt x="1330" y="460"/>
                    </a:lnTo>
                    <a:lnTo>
                      <a:pt x="1330" y="460"/>
                    </a:lnTo>
                    <a:lnTo>
                      <a:pt x="1330" y="464"/>
                    </a:lnTo>
                    <a:lnTo>
                      <a:pt x="1330" y="470"/>
                    </a:lnTo>
                    <a:lnTo>
                      <a:pt x="1330" y="470"/>
                    </a:lnTo>
                    <a:lnTo>
                      <a:pt x="1324" y="474"/>
                    </a:lnTo>
                    <a:lnTo>
                      <a:pt x="1316" y="478"/>
                    </a:lnTo>
                    <a:lnTo>
                      <a:pt x="1308" y="478"/>
                    </a:lnTo>
                    <a:lnTo>
                      <a:pt x="1300" y="476"/>
                    </a:lnTo>
                    <a:lnTo>
                      <a:pt x="1294" y="472"/>
                    </a:lnTo>
                    <a:lnTo>
                      <a:pt x="1288" y="468"/>
                    </a:lnTo>
                    <a:lnTo>
                      <a:pt x="1282" y="462"/>
                    </a:lnTo>
                    <a:lnTo>
                      <a:pt x="1280" y="454"/>
                    </a:lnTo>
                    <a:lnTo>
                      <a:pt x="1280" y="454"/>
                    </a:lnTo>
                    <a:lnTo>
                      <a:pt x="1264" y="458"/>
                    </a:lnTo>
                    <a:lnTo>
                      <a:pt x="1246" y="460"/>
                    </a:lnTo>
                    <a:lnTo>
                      <a:pt x="1246" y="460"/>
                    </a:lnTo>
                    <a:lnTo>
                      <a:pt x="1248" y="462"/>
                    </a:lnTo>
                    <a:lnTo>
                      <a:pt x="1250" y="462"/>
                    </a:lnTo>
                    <a:lnTo>
                      <a:pt x="1252" y="462"/>
                    </a:lnTo>
                    <a:lnTo>
                      <a:pt x="1254" y="462"/>
                    </a:lnTo>
                    <a:lnTo>
                      <a:pt x="1254" y="462"/>
                    </a:lnTo>
                    <a:lnTo>
                      <a:pt x="1250" y="470"/>
                    </a:lnTo>
                    <a:lnTo>
                      <a:pt x="1246" y="474"/>
                    </a:lnTo>
                    <a:lnTo>
                      <a:pt x="1240" y="478"/>
                    </a:lnTo>
                    <a:lnTo>
                      <a:pt x="1232" y="480"/>
                    </a:lnTo>
                    <a:lnTo>
                      <a:pt x="1216" y="478"/>
                    </a:lnTo>
                    <a:lnTo>
                      <a:pt x="1200" y="476"/>
                    </a:lnTo>
                    <a:lnTo>
                      <a:pt x="1200" y="476"/>
                    </a:lnTo>
                    <a:lnTo>
                      <a:pt x="1168" y="516"/>
                    </a:lnTo>
                    <a:lnTo>
                      <a:pt x="1168" y="516"/>
                    </a:lnTo>
                    <a:lnTo>
                      <a:pt x="1150" y="534"/>
                    </a:lnTo>
                    <a:lnTo>
                      <a:pt x="1142" y="544"/>
                    </a:lnTo>
                    <a:lnTo>
                      <a:pt x="1132" y="554"/>
                    </a:lnTo>
                    <a:lnTo>
                      <a:pt x="1132" y="554"/>
                    </a:lnTo>
                    <a:lnTo>
                      <a:pt x="1128" y="562"/>
                    </a:lnTo>
                    <a:lnTo>
                      <a:pt x="1124" y="572"/>
                    </a:lnTo>
                    <a:lnTo>
                      <a:pt x="1118" y="592"/>
                    </a:lnTo>
                    <a:lnTo>
                      <a:pt x="1118" y="592"/>
                    </a:lnTo>
                    <a:lnTo>
                      <a:pt x="1110" y="610"/>
                    </a:lnTo>
                    <a:lnTo>
                      <a:pt x="1102" y="628"/>
                    </a:lnTo>
                    <a:lnTo>
                      <a:pt x="1086" y="664"/>
                    </a:lnTo>
                    <a:lnTo>
                      <a:pt x="1086" y="664"/>
                    </a:lnTo>
                    <a:lnTo>
                      <a:pt x="1076" y="682"/>
                    </a:lnTo>
                    <a:lnTo>
                      <a:pt x="1068" y="698"/>
                    </a:lnTo>
                    <a:lnTo>
                      <a:pt x="1068" y="698"/>
                    </a:lnTo>
                    <a:lnTo>
                      <a:pt x="1054" y="716"/>
                    </a:lnTo>
                    <a:lnTo>
                      <a:pt x="1054" y="716"/>
                    </a:lnTo>
                    <a:lnTo>
                      <a:pt x="1048" y="726"/>
                    </a:lnTo>
                    <a:lnTo>
                      <a:pt x="1048" y="730"/>
                    </a:lnTo>
                    <a:lnTo>
                      <a:pt x="1046" y="738"/>
                    </a:lnTo>
                    <a:lnTo>
                      <a:pt x="1046" y="738"/>
                    </a:lnTo>
                    <a:lnTo>
                      <a:pt x="1068" y="730"/>
                    </a:lnTo>
                    <a:lnTo>
                      <a:pt x="1068" y="730"/>
                    </a:lnTo>
                    <a:lnTo>
                      <a:pt x="1160" y="700"/>
                    </a:lnTo>
                    <a:lnTo>
                      <a:pt x="1206" y="684"/>
                    </a:lnTo>
                    <a:lnTo>
                      <a:pt x="1250" y="664"/>
                    </a:lnTo>
                    <a:lnTo>
                      <a:pt x="1250" y="664"/>
                    </a:lnTo>
                    <a:lnTo>
                      <a:pt x="1282" y="648"/>
                    </a:lnTo>
                    <a:lnTo>
                      <a:pt x="1300" y="640"/>
                    </a:lnTo>
                    <a:lnTo>
                      <a:pt x="1318" y="632"/>
                    </a:lnTo>
                    <a:lnTo>
                      <a:pt x="1318" y="632"/>
                    </a:lnTo>
                    <a:lnTo>
                      <a:pt x="1322" y="628"/>
                    </a:lnTo>
                    <a:lnTo>
                      <a:pt x="1326" y="624"/>
                    </a:lnTo>
                    <a:lnTo>
                      <a:pt x="1330" y="618"/>
                    </a:lnTo>
                    <a:lnTo>
                      <a:pt x="1336" y="614"/>
                    </a:lnTo>
                    <a:lnTo>
                      <a:pt x="1336" y="614"/>
                    </a:lnTo>
                    <a:lnTo>
                      <a:pt x="1330" y="604"/>
                    </a:lnTo>
                    <a:lnTo>
                      <a:pt x="1322" y="592"/>
                    </a:lnTo>
                    <a:lnTo>
                      <a:pt x="1314" y="582"/>
                    </a:lnTo>
                    <a:lnTo>
                      <a:pt x="1308" y="570"/>
                    </a:lnTo>
                    <a:lnTo>
                      <a:pt x="1308" y="570"/>
                    </a:lnTo>
                    <a:lnTo>
                      <a:pt x="1312" y="566"/>
                    </a:lnTo>
                    <a:lnTo>
                      <a:pt x="1318" y="564"/>
                    </a:lnTo>
                    <a:lnTo>
                      <a:pt x="1330" y="560"/>
                    </a:lnTo>
                    <a:lnTo>
                      <a:pt x="1330" y="560"/>
                    </a:lnTo>
                    <a:lnTo>
                      <a:pt x="1330" y="562"/>
                    </a:lnTo>
                    <a:lnTo>
                      <a:pt x="1328" y="562"/>
                    </a:lnTo>
                    <a:lnTo>
                      <a:pt x="1326" y="562"/>
                    </a:lnTo>
                    <a:lnTo>
                      <a:pt x="1324" y="564"/>
                    </a:lnTo>
                    <a:lnTo>
                      <a:pt x="1324" y="564"/>
                    </a:lnTo>
                    <a:lnTo>
                      <a:pt x="1328" y="568"/>
                    </a:lnTo>
                    <a:lnTo>
                      <a:pt x="1332" y="572"/>
                    </a:lnTo>
                    <a:lnTo>
                      <a:pt x="1342" y="574"/>
                    </a:lnTo>
                    <a:lnTo>
                      <a:pt x="1342" y="574"/>
                    </a:lnTo>
                    <a:lnTo>
                      <a:pt x="1344" y="580"/>
                    </a:lnTo>
                    <a:lnTo>
                      <a:pt x="1346" y="584"/>
                    </a:lnTo>
                    <a:lnTo>
                      <a:pt x="1346" y="588"/>
                    </a:lnTo>
                    <a:lnTo>
                      <a:pt x="1346" y="588"/>
                    </a:lnTo>
                    <a:lnTo>
                      <a:pt x="1348" y="588"/>
                    </a:lnTo>
                    <a:lnTo>
                      <a:pt x="1350" y="584"/>
                    </a:lnTo>
                    <a:lnTo>
                      <a:pt x="1352" y="582"/>
                    </a:lnTo>
                    <a:lnTo>
                      <a:pt x="1354" y="582"/>
                    </a:lnTo>
                    <a:lnTo>
                      <a:pt x="1354" y="582"/>
                    </a:lnTo>
                    <a:lnTo>
                      <a:pt x="1354" y="586"/>
                    </a:lnTo>
                    <a:lnTo>
                      <a:pt x="1352" y="590"/>
                    </a:lnTo>
                    <a:lnTo>
                      <a:pt x="1348" y="594"/>
                    </a:lnTo>
                    <a:lnTo>
                      <a:pt x="1346" y="596"/>
                    </a:lnTo>
                    <a:lnTo>
                      <a:pt x="1346" y="596"/>
                    </a:lnTo>
                    <a:lnTo>
                      <a:pt x="1346" y="600"/>
                    </a:lnTo>
                    <a:lnTo>
                      <a:pt x="1348" y="600"/>
                    </a:lnTo>
                    <a:lnTo>
                      <a:pt x="1348" y="600"/>
                    </a:lnTo>
                    <a:lnTo>
                      <a:pt x="1354" y="596"/>
                    </a:lnTo>
                    <a:lnTo>
                      <a:pt x="1360" y="590"/>
                    </a:lnTo>
                    <a:lnTo>
                      <a:pt x="1368" y="574"/>
                    </a:lnTo>
                    <a:lnTo>
                      <a:pt x="1368" y="574"/>
                    </a:lnTo>
                    <a:lnTo>
                      <a:pt x="1382" y="568"/>
                    </a:lnTo>
                    <a:lnTo>
                      <a:pt x="1394" y="558"/>
                    </a:lnTo>
                    <a:lnTo>
                      <a:pt x="1406" y="548"/>
                    </a:lnTo>
                    <a:lnTo>
                      <a:pt x="1410" y="542"/>
                    </a:lnTo>
                    <a:lnTo>
                      <a:pt x="1414" y="534"/>
                    </a:lnTo>
                    <a:lnTo>
                      <a:pt x="1414" y="534"/>
                    </a:lnTo>
                    <a:lnTo>
                      <a:pt x="1408" y="534"/>
                    </a:lnTo>
                    <a:lnTo>
                      <a:pt x="1402" y="534"/>
                    </a:lnTo>
                    <a:lnTo>
                      <a:pt x="1390" y="530"/>
                    </a:lnTo>
                    <a:lnTo>
                      <a:pt x="1380" y="522"/>
                    </a:lnTo>
                    <a:lnTo>
                      <a:pt x="1372" y="514"/>
                    </a:lnTo>
                    <a:lnTo>
                      <a:pt x="1372" y="514"/>
                    </a:lnTo>
                    <a:lnTo>
                      <a:pt x="1376" y="510"/>
                    </a:lnTo>
                    <a:lnTo>
                      <a:pt x="1380" y="508"/>
                    </a:lnTo>
                    <a:lnTo>
                      <a:pt x="1388" y="508"/>
                    </a:lnTo>
                    <a:lnTo>
                      <a:pt x="1398" y="512"/>
                    </a:lnTo>
                    <a:lnTo>
                      <a:pt x="1406" y="514"/>
                    </a:lnTo>
                    <a:lnTo>
                      <a:pt x="1406" y="514"/>
                    </a:lnTo>
                    <a:lnTo>
                      <a:pt x="1410" y="514"/>
                    </a:lnTo>
                    <a:lnTo>
                      <a:pt x="1414" y="512"/>
                    </a:lnTo>
                    <a:lnTo>
                      <a:pt x="1416" y="508"/>
                    </a:lnTo>
                    <a:lnTo>
                      <a:pt x="1422" y="508"/>
                    </a:lnTo>
                    <a:lnTo>
                      <a:pt x="1422" y="508"/>
                    </a:lnTo>
                    <a:lnTo>
                      <a:pt x="1418" y="520"/>
                    </a:lnTo>
                    <a:lnTo>
                      <a:pt x="1418" y="520"/>
                    </a:lnTo>
                    <a:lnTo>
                      <a:pt x="1422" y="518"/>
                    </a:lnTo>
                    <a:lnTo>
                      <a:pt x="1424" y="516"/>
                    </a:lnTo>
                    <a:lnTo>
                      <a:pt x="1426" y="514"/>
                    </a:lnTo>
                    <a:lnTo>
                      <a:pt x="1430" y="514"/>
                    </a:lnTo>
                    <a:lnTo>
                      <a:pt x="1430" y="514"/>
                    </a:lnTo>
                    <a:lnTo>
                      <a:pt x="1422" y="526"/>
                    </a:lnTo>
                    <a:lnTo>
                      <a:pt x="1422" y="526"/>
                    </a:lnTo>
                    <a:lnTo>
                      <a:pt x="1424" y="528"/>
                    </a:lnTo>
                    <a:lnTo>
                      <a:pt x="1426" y="526"/>
                    </a:lnTo>
                    <a:lnTo>
                      <a:pt x="1426" y="526"/>
                    </a:lnTo>
                    <a:lnTo>
                      <a:pt x="1430" y="526"/>
                    </a:lnTo>
                    <a:lnTo>
                      <a:pt x="1430" y="526"/>
                    </a:lnTo>
                    <a:lnTo>
                      <a:pt x="1436" y="526"/>
                    </a:lnTo>
                    <a:lnTo>
                      <a:pt x="1438" y="526"/>
                    </a:lnTo>
                    <a:lnTo>
                      <a:pt x="1428" y="528"/>
                    </a:lnTo>
                    <a:lnTo>
                      <a:pt x="1428" y="528"/>
                    </a:lnTo>
                    <a:lnTo>
                      <a:pt x="1424" y="528"/>
                    </a:lnTo>
                    <a:lnTo>
                      <a:pt x="1420" y="532"/>
                    </a:lnTo>
                    <a:lnTo>
                      <a:pt x="1414" y="540"/>
                    </a:lnTo>
                    <a:lnTo>
                      <a:pt x="1408" y="550"/>
                    </a:lnTo>
                    <a:lnTo>
                      <a:pt x="1402" y="560"/>
                    </a:lnTo>
                    <a:lnTo>
                      <a:pt x="1402" y="560"/>
                    </a:lnTo>
                    <a:lnTo>
                      <a:pt x="1394" y="566"/>
                    </a:lnTo>
                    <a:lnTo>
                      <a:pt x="1386" y="570"/>
                    </a:lnTo>
                    <a:lnTo>
                      <a:pt x="1380" y="574"/>
                    </a:lnTo>
                    <a:lnTo>
                      <a:pt x="1374" y="580"/>
                    </a:lnTo>
                    <a:lnTo>
                      <a:pt x="1374" y="580"/>
                    </a:lnTo>
                    <a:lnTo>
                      <a:pt x="1374" y="584"/>
                    </a:lnTo>
                    <a:lnTo>
                      <a:pt x="1374" y="586"/>
                    </a:lnTo>
                    <a:lnTo>
                      <a:pt x="1376" y="588"/>
                    </a:lnTo>
                    <a:lnTo>
                      <a:pt x="1376" y="588"/>
                    </a:lnTo>
                    <a:lnTo>
                      <a:pt x="1374" y="588"/>
                    </a:lnTo>
                    <a:lnTo>
                      <a:pt x="1374" y="586"/>
                    </a:lnTo>
                    <a:lnTo>
                      <a:pt x="1372" y="584"/>
                    </a:lnTo>
                    <a:lnTo>
                      <a:pt x="1372" y="584"/>
                    </a:lnTo>
                    <a:lnTo>
                      <a:pt x="1372" y="584"/>
                    </a:lnTo>
                    <a:lnTo>
                      <a:pt x="1362" y="596"/>
                    </a:lnTo>
                    <a:lnTo>
                      <a:pt x="1362" y="596"/>
                    </a:lnTo>
                    <a:lnTo>
                      <a:pt x="1372" y="592"/>
                    </a:lnTo>
                    <a:lnTo>
                      <a:pt x="1376" y="590"/>
                    </a:lnTo>
                    <a:lnTo>
                      <a:pt x="1378" y="586"/>
                    </a:lnTo>
                    <a:lnTo>
                      <a:pt x="1378" y="586"/>
                    </a:lnTo>
                    <a:lnTo>
                      <a:pt x="1380" y="588"/>
                    </a:lnTo>
                    <a:lnTo>
                      <a:pt x="1384" y="588"/>
                    </a:lnTo>
                    <a:lnTo>
                      <a:pt x="1388" y="588"/>
                    </a:lnTo>
                    <a:lnTo>
                      <a:pt x="1390" y="590"/>
                    </a:lnTo>
                    <a:lnTo>
                      <a:pt x="1390" y="590"/>
                    </a:lnTo>
                    <a:lnTo>
                      <a:pt x="1394" y="596"/>
                    </a:lnTo>
                    <a:lnTo>
                      <a:pt x="1394" y="598"/>
                    </a:lnTo>
                    <a:lnTo>
                      <a:pt x="1392" y="602"/>
                    </a:lnTo>
                    <a:lnTo>
                      <a:pt x="1392" y="602"/>
                    </a:lnTo>
                    <a:lnTo>
                      <a:pt x="1412" y="596"/>
                    </a:lnTo>
                    <a:lnTo>
                      <a:pt x="1432" y="590"/>
                    </a:lnTo>
                    <a:lnTo>
                      <a:pt x="1432" y="590"/>
                    </a:lnTo>
                    <a:lnTo>
                      <a:pt x="1432" y="588"/>
                    </a:lnTo>
                    <a:lnTo>
                      <a:pt x="1430" y="586"/>
                    </a:lnTo>
                    <a:lnTo>
                      <a:pt x="1428" y="582"/>
                    </a:lnTo>
                    <a:lnTo>
                      <a:pt x="1430" y="580"/>
                    </a:lnTo>
                    <a:lnTo>
                      <a:pt x="1430" y="580"/>
                    </a:lnTo>
                    <a:lnTo>
                      <a:pt x="1432" y="580"/>
                    </a:lnTo>
                    <a:lnTo>
                      <a:pt x="1436" y="582"/>
                    </a:lnTo>
                    <a:lnTo>
                      <a:pt x="1436" y="586"/>
                    </a:lnTo>
                    <a:lnTo>
                      <a:pt x="1440" y="588"/>
                    </a:lnTo>
                    <a:lnTo>
                      <a:pt x="1440" y="588"/>
                    </a:lnTo>
                    <a:lnTo>
                      <a:pt x="1480" y="574"/>
                    </a:lnTo>
                    <a:lnTo>
                      <a:pt x="1480" y="574"/>
                    </a:lnTo>
                    <a:lnTo>
                      <a:pt x="1480" y="570"/>
                    </a:lnTo>
                    <a:lnTo>
                      <a:pt x="1478" y="566"/>
                    </a:lnTo>
                    <a:lnTo>
                      <a:pt x="1478" y="566"/>
                    </a:lnTo>
                    <a:lnTo>
                      <a:pt x="1480" y="566"/>
                    </a:lnTo>
                    <a:lnTo>
                      <a:pt x="1480" y="566"/>
                    </a:lnTo>
                    <a:lnTo>
                      <a:pt x="1482" y="572"/>
                    </a:lnTo>
                    <a:lnTo>
                      <a:pt x="1482" y="572"/>
                    </a:lnTo>
                    <a:lnTo>
                      <a:pt x="1488" y="570"/>
                    </a:lnTo>
                    <a:lnTo>
                      <a:pt x="1494" y="568"/>
                    </a:lnTo>
                    <a:lnTo>
                      <a:pt x="1502" y="562"/>
                    </a:lnTo>
                    <a:lnTo>
                      <a:pt x="1510" y="552"/>
                    </a:lnTo>
                    <a:lnTo>
                      <a:pt x="1514" y="542"/>
                    </a:lnTo>
                    <a:lnTo>
                      <a:pt x="1514" y="542"/>
                    </a:lnTo>
                    <a:lnTo>
                      <a:pt x="1530" y="548"/>
                    </a:lnTo>
                    <a:lnTo>
                      <a:pt x="1544" y="554"/>
                    </a:lnTo>
                    <a:lnTo>
                      <a:pt x="1544" y="554"/>
                    </a:lnTo>
                    <a:lnTo>
                      <a:pt x="1536" y="564"/>
                    </a:lnTo>
                    <a:lnTo>
                      <a:pt x="1524" y="572"/>
                    </a:lnTo>
                    <a:lnTo>
                      <a:pt x="1516" y="574"/>
                    </a:lnTo>
                    <a:lnTo>
                      <a:pt x="1510" y="576"/>
                    </a:lnTo>
                    <a:lnTo>
                      <a:pt x="1502" y="578"/>
                    </a:lnTo>
                    <a:lnTo>
                      <a:pt x="1494" y="576"/>
                    </a:lnTo>
                    <a:lnTo>
                      <a:pt x="1494" y="576"/>
                    </a:lnTo>
                    <a:lnTo>
                      <a:pt x="1494" y="574"/>
                    </a:lnTo>
                    <a:lnTo>
                      <a:pt x="1496" y="572"/>
                    </a:lnTo>
                    <a:lnTo>
                      <a:pt x="1498" y="570"/>
                    </a:lnTo>
                    <a:lnTo>
                      <a:pt x="1498" y="570"/>
                    </a:lnTo>
                    <a:lnTo>
                      <a:pt x="1462" y="584"/>
                    </a:lnTo>
                    <a:lnTo>
                      <a:pt x="1430" y="596"/>
                    </a:lnTo>
                    <a:lnTo>
                      <a:pt x="1430" y="596"/>
                    </a:lnTo>
                    <a:lnTo>
                      <a:pt x="1404" y="604"/>
                    </a:lnTo>
                    <a:lnTo>
                      <a:pt x="1378" y="612"/>
                    </a:lnTo>
                    <a:lnTo>
                      <a:pt x="1354" y="622"/>
                    </a:lnTo>
                    <a:lnTo>
                      <a:pt x="1332" y="634"/>
                    </a:lnTo>
                    <a:lnTo>
                      <a:pt x="1286" y="658"/>
                    </a:lnTo>
                    <a:lnTo>
                      <a:pt x="1240" y="682"/>
                    </a:lnTo>
                    <a:lnTo>
                      <a:pt x="1240" y="682"/>
                    </a:lnTo>
                    <a:lnTo>
                      <a:pt x="1244" y="684"/>
                    </a:lnTo>
                    <a:lnTo>
                      <a:pt x="1250" y="684"/>
                    </a:lnTo>
                    <a:lnTo>
                      <a:pt x="1262" y="684"/>
                    </a:lnTo>
                    <a:lnTo>
                      <a:pt x="1276" y="682"/>
                    </a:lnTo>
                    <a:lnTo>
                      <a:pt x="1282" y="682"/>
                    </a:lnTo>
                    <a:lnTo>
                      <a:pt x="1288" y="684"/>
                    </a:lnTo>
                    <a:lnTo>
                      <a:pt x="1288" y="684"/>
                    </a:lnTo>
                    <a:lnTo>
                      <a:pt x="1288" y="696"/>
                    </a:lnTo>
                    <a:lnTo>
                      <a:pt x="1288" y="696"/>
                    </a:lnTo>
                    <a:lnTo>
                      <a:pt x="1290" y="696"/>
                    </a:lnTo>
                    <a:lnTo>
                      <a:pt x="1296" y="696"/>
                    </a:lnTo>
                    <a:lnTo>
                      <a:pt x="1300" y="696"/>
                    </a:lnTo>
                    <a:lnTo>
                      <a:pt x="1304" y="698"/>
                    </a:lnTo>
                    <a:lnTo>
                      <a:pt x="1304" y="698"/>
                    </a:lnTo>
                    <a:lnTo>
                      <a:pt x="1306" y="696"/>
                    </a:lnTo>
                    <a:lnTo>
                      <a:pt x="1304" y="696"/>
                    </a:lnTo>
                    <a:lnTo>
                      <a:pt x="1302" y="694"/>
                    </a:lnTo>
                    <a:lnTo>
                      <a:pt x="1304" y="692"/>
                    </a:lnTo>
                    <a:lnTo>
                      <a:pt x="1304" y="692"/>
                    </a:lnTo>
                    <a:lnTo>
                      <a:pt x="1304" y="694"/>
                    </a:lnTo>
                    <a:lnTo>
                      <a:pt x="1306" y="696"/>
                    </a:lnTo>
                    <a:lnTo>
                      <a:pt x="1308" y="698"/>
                    </a:lnTo>
                    <a:lnTo>
                      <a:pt x="1310" y="700"/>
                    </a:lnTo>
                    <a:lnTo>
                      <a:pt x="1310" y="700"/>
                    </a:lnTo>
                    <a:lnTo>
                      <a:pt x="1310" y="694"/>
                    </a:lnTo>
                    <a:lnTo>
                      <a:pt x="1308" y="688"/>
                    </a:lnTo>
                    <a:lnTo>
                      <a:pt x="1304" y="684"/>
                    </a:lnTo>
                    <a:lnTo>
                      <a:pt x="1300" y="682"/>
                    </a:lnTo>
                    <a:lnTo>
                      <a:pt x="1290" y="674"/>
                    </a:lnTo>
                    <a:lnTo>
                      <a:pt x="1286" y="670"/>
                    </a:lnTo>
                    <a:lnTo>
                      <a:pt x="1284" y="664"/>
                    </a:lnTo>
                    <a:lnTo>
                      <a:pt x="1284" y="664"/>
                    </a:lnTo>
                    <a:lnTo>
                      <a:pt x="1294" y="664"/>
                    </a:lnTo>
                    <a:lnTo>
                      <a:pt x="1304" y="662"/>
                    </a:lnTo>
                    <a:lnTo>
                      <a:pt x="1318" y="656"/>
                    </a:lnTo>
                    <a:lnTo>
                      <a:pt x="1330" y="646"/>
                    </a:lnTo>
                    <a:lnTo>
                      <a:pt x="1342" y="638"/>
                    </a:lnTo>
                    <a:lnTo>
                      <a:pt x="1342" y="638"/>
                    </a:lnTo>
                    <a:lnTo>
                      <a:pt x="1360" y="624"/>
                    </a:lnTo>
                    <a:lnTo>
                      <a:pt x="1370" y="620"/>
                    </a:lnTo>
                    <a:lnTo>
                      <a:pt x="1376" y="620"/>
                    </a:lnTo>
                    <a:lnTo>
                      <a:pt x="1382" y="620"/>
                    </a:lnTo>
                    <a:lnTo>
                      <a:pt x="1382" y="620"/>
                    </a:lnTo>
                    <a:lnTo>
                      <a:pt x="1380" y="626"/>
                    </a:lnTo>
                    <a:lnTo>
                      <a:pt x="1374" y="628"/>
                    </a:lnTo>
                    <a:lnTo>
                      <a:pt x="1364" y="632"/>
                    </a:lnTo>
                    <a:lnTo>
                      <a:pt x="1364" y="632"/>
                    </a:lnTo>
                    <a:lnTo>
                      <a:pt x="1412" y="644"/>
                    </a:lnTo>
                    <a:lnTo>
                      <a:pt x="1412" y="644"/>
                    </a:lnTo>
                    <a:lnTo>
                      <a:pt x="1412" y="650"/>
                    </a:lnTo>
                    <a:lnTo>
                      <a:pt x="1412" y="650"/>
                    </a:lnTo>
                    <a:lnTo>
                      <a:pt x="1406" y="650"/>
                    </a:lnTo>
                    <a:lnTo>
                      <a:pt x="1400" y="650"/>
                    </a:lnTo>
                    <a:lnTo>
                      <a:pt x="1390" y="648"/>
                    </a:lnTo>
                    <a:lnTo>
                      <a:pt x="1378" y="646"/>
                    </a:lnTo>
                    <a:lnTo>
                      <a:pt x="1366" y="644"/>
                    </a:lnTo>
                    <a:lnTo>
                      <a:pt x="1366" y="644"/>
                    </a:lnTo>
                    <a:lnTo>
                      <a:pt x="1362" y="654"/>
                    </a:lnTo>
                    <a:lnTo>
                      <a:pt x="1358" y="666"/>
                    </a:lnTo>
                    <a:lnTo>
                      <a:pt x="1356" y="672"/>
                    </a:lnTo>
                    <a:lnTo>
                      <a:pt x="1356" y="676"/>
                    </a:lnTo>
                    <a:lnTo>
                      <a:pt x="1358" y="680"/>
                    </a:lnTo>
                    <a:lnTo>
                      <a:pt x="1364" y="684"/>
                    </a:lnTo>
                    <a:lnTo>
                      <a:pt x="1364" y="684"/>
                    </a:lnTo>
                    <a:lnTo>
                      <a:pt x="1388" y="672"/>
                    </a:lnTo>
                    <a:lnTo>
                      <a:pt x="1394" y="668"/>
                    </a:lnTo>
                    <a:lnTo>
                      <a:pt x="1402" y="668"/>
                    </a:lnTo>
                    <a:lnTo>
                      <a:pt x="1408" y="668"/>
                    </a:lnTo>
                    <a:lnTo>
                      <a:pt x="1416" y="670"/>
                    </a:lnTo>
                    <a:lnTo>
                      <a:pt x="1416" y="670"/>
                    </a:lnTo>
                    <a:lnTo>
                      <a:pt x="1416" y="676"/>
                    </a:lnTo>
                    <a:lnTo>
                      <a:pt x="1416" y="680"/>
                    </a:lnTo>
                    <a:lnTo>
                      <a:pt x="1412" y="686"/>
                    </a:lnTo>
                    <a:lnTo>
                      <a:pt x="1404" y="690"/>
                    </a:lnTo>
                    <a:lnTo>
                      <a:pt x="1398" y="694"/>
                    </a:lnTo>
                    <a:lnTo>
                      <a:pt x="1398" y="694"/>
                    </a:lnTo>
                    <a:lnTo>
                      <a:pt x="1400" y="698"/>
                    </a:lnTo>
                    <a:lnTo>
                      <a:pt x="1404" y="700"/>
                    </a:lnTo>
                    <a:lnTo>
                      <a:pt x="1404" y="700"/>
                    </a:lnTo>
                    <a:lnTo>
                      <a:pt x="1408" y="698"/>
                    </a:lnTo>
                    <a:lnTo>
                      <a:pt x="1408" y="696"/>
                    </a:lnTo>
                    <a:lnTo>
                      <a:pt x="1410" y="692"/>
                    </a:lnTo>
                    <a:lnTo>
                      <a:pt x="1414" y="690"/>
                    </a:lnTo>
                    <a:lnTo>
                      <a:pt x="1414" y="690"/>
                    </a:lnTo>
                    <a:lnTo>
                      <a:pt x="1410" y="696"/>
                    </a:lnTo>
                    <a:lnTo>
                      <a:pt x="1408" y="700"/>
                    </a:lnTo>
                    <a:lnTo>
                      <a:pt x="1400" y="706"/>
                    </a:lnTo>
                    <a:lnTo>
                      <a:pt x="1400" y="706"/>
                    </a:lnTo>
                    <a:lnTo>
                      <a:pt x="1400" y="706"/>
                    </a:lnTo>
                    <a:lnTo>
                      <a:pt x="1404" y="702"/>
                    </a:lnTo>
                    <a:lnTo>
                      <a:pt x="1404" y="702"/>
                    </a:lnTo>
                    <a:lnTo>
                      <a:pt x="1400" y="698"/>
                    </a:lnTo>
                    <a:lnTo>
                      <a:pt x="1398" y="698"/>
                    </a:lnTo>
                    <a:lnTo>
                      <a:pt x="1396" y="696"/>
                    </a:lnTo>
                    <a:lnTo>
                      <a:pt x="1396" y="696"/>
                    </a:lnTo>
                    <a:lnTo>
                      <a:pt x="1394" y="696"/>
                    </a:lnTo>
                    <a:lnTo>
                      <a:pt x="1394" y="698"/>
                    </a:lnTo>
                    <a:lnTo>
                      <a:pt x="1396" y="700"/>
                    </a:lnTo>
                    <a:lnTo>
                      <a:pt x="1396" y="700"/>
                    </a:lnTo>
                    <a:lnTo>
                      <a:pt x="1394" y="700"/>
                    </a:lnTo>
                    <a:lnTo>
                      <a:pt x="1394" y="698"/>
                    </a:lnTo>
                    <a:lnTo>
                      <a:pt x="1394" y="698"/>
                    </a:lnTo>
                    <a:lnTo>
                      <a:pt x="1390" y="700"/>
                    </a:lnTo>
                    <a:lnTo>
                      <a:pt x="1388" y="704"/>
                    </a:lnTo>
                    <a:lnTo>
                      <a:pt x="1388" y="708"/>
                    </a:lnTo>
                    <a:lnTo>
                      <a:pt x="1384" y="712"/>
                    </a:lnTo>
                    <a:lnTo>
                      <a:pt x="1384" y="712"/>
                    </a:lnTo>
                    <a:lnTo>
                      <a:pt x="1384" y="712"/>
                    </a:lnTo>
                    <a:lnTo>
                      <a:pt x="1382" y="712"/>
                    </a:lnTo>
                    <a:lnTo>
                      <a:pt x="1378" y="714"/>
                    </a:lnTo>
                    <a:lnTo>
                      <a:pt x="1378" y="714"/>
                    </a:lnTo>
                    <a:lnTo>
                      <a:pt x="1382" y="714"/>
                    </a:lnTo>
                    <a:lnTo>
                      <a:pt x="1386" y="714"/>
                    </a:lnTo>
                    <a:lnTo>
                      <a:pt x="1388" y="716"/>
                    </a:lnTo>
                    <a:lnTo>
                      <a:pt x="1388" y="716"/>
                    </a:lnTo>
                    <a:lnTo>
                      <a:pt x="1390" y="714"/>
                    </a:lnTo>
                    <a:lnTo>
                      <a:pt x="1394" y="712"/>
                    </a:lnTo>
                    <a:lnTo>
                      <a:pt x="1394" y="708"/>
                    </a:lnTo>
                    <a:lnTo>
                      <a:pt x="1396" y="702"/>
                    </a:lnTo>
                    <a:lnTo>
                      <a:pt x="1396" y="702"/>
                    </a:lnTo>
                    <a:lnTo>
                      <a:pt x="1396" y="706"/>
                    </a:lnTo>
                    <a:lnTo>
                      <a:pt x="1396" y="708"/>
                    </a:lnTo>
                    <a:lnTo>
                      <a:pt x="1392" y="714"/>
                    </a:lnTo>
                    <a:lnTo>
                      <a:pt x="1392" y="714"/>
                    </a:lnTo>
                    <a:lnTo>
                      <a:pt x="1408" y="704"/>
                    </a:lnTo>
                    <a:lnTo>
                      <a:pt x="1424" y="692"/>
                    </a:lnTo>
                    <a:lnTo>
                      <a:pt x="1424" y="692"/>
                    </a:lnTo>
                    <a:lnTo>
                      <a:pt x="1426" y="676"/>
                    </a:lnTo>
                    <a:lnTo>
                      <a:pt x="1430" y="660"/>
                    </a:lnTo>
                    <a:lnTo>
                      <a:pt x="1430" y="660"/>
                    </a:lnTo>
                    <a:lnTo>
                      <a:pt x="1432" y="664"/>
                    </a:lnTo>
                    <a:lnTo>
                      <a:pt x="1430" y="670"/>
                    </a:lnTo>
                    <a:lnTo>
                      <a:pt x="1428" y="676"/>
                    </a:lnTo>
                    <a:lnTo>
                      <a:pt x="1428" y="680"/>
                    </a:lnTo>
                    <a:lnTo>
                      <a:pt x="1428" y="680"/>
                    </a:lnTo>
                    <a:lnTo>
                      <a:pt x="1430" y="682"/>
                    </a:lnTo>
                    <a:lnTo>
                      <a:pt x="1434" y="682"/>
                    </a:lnTo>
                    <a:lnTo>
                      <a:pt x="1434" y="682"/>
                    </a:lnTo>
                    <a:lnTo>
                      <a:pt x="1430" y="684"/>
                    </a:lnTo>
                    <a:lnTo>
                      <a:pt x="1426" y="686"/>
                    </a:lnTo>
                    <a:lnTo>
                      <a:pt x="1426" y="690"/>
                    </a:lnTo>
                    <a:lnTo>
                      <a:pt x="1426" y="690"/>
                    </a:lnTo>
                    <a:lnTo>
                      <a:pt x="1428" y="690"/>
                    </a:lnTo>
                    <a:lnTo>
                      <a:pt x="1432" y="690"/>
                    </a:lnTo>
                    <a:lnTo>
                      <a:pt x="1436" y="688"/>
                    </a:lnTo>
                    <a:lnTo>
                      <a:pt x="1440" y="690"/>
                    </a:lnTo>
                    <a:lnTo>
                      <a:pt x="1440" y="690"/>
                    </a:lnTo>
                    <a:lnTo>
                      <a:pt x="1440" y="694"/>
                    </a:lnTo>
                    <a:lnTo>
                      <a:pt x="1438" y="696"/>
                    </a:lnTo>
                    <a:lnTo>
                      <a:pt x="1434" y="700"/>
                    </a:lnTo>
                    <a:lnTo>
                      <a:pt x="1434" y="700"/>
                    </a:lnTo>
                    <a:lnTo>
                      <a:pt x="1442" y="702"/>
                    </a:lnTo>
                    <a:lnTo>
                      <a:pt x="1450" y="702"/>
                    </a:lnTo>
                    <a:lnTo>
                      <a:pt x="1466" y="704"/>
                    </a:lnTo>
                    <a:lnTo>
                      <a:pt x="1466" y="704"/>
                    </a:lnTo>
                    <a:lnTo>
                      <a:pt x="1466" y="704"/>
                    </a:lnTo>
                    <a:lnTo>
                      <a:pt x="1466" y="704"/>
                    </a:lnTo>
                    <a:lnTo>
                      <a:pt x="1462" y="704"/>
                    </a:lnTo>
                    <a:lnTo>
                      <a:pt x="1458" y="704"/>
                    </a:lnTo>
                    <a:lnTo>
                      <a:pt x="1458" y="706"/>
                    </a:lnTo>
                    <a:lnTo>
                      <a:pt x="1460" y="706"/>
                    </a:lnTo>
                    <a:lnTo>
                      <a:pt x="1460" y="706"/>
                    </a:lnTo>
                    <a:lnTo>
                      <a:pt x="1446" y="704"/>
                    </a:lnTo>
                    <a:lnTo>
                      <a:pt x="1438" y="702"/>
                    </a:lnTo>
                    <a:lnTo>
                      <a:pt x="1430" y="704"/>
                    </a:lnTo>
                    <a:lnTo>
                      <a:pt x="1430" y="704"/>
                    </a:lnTo>
                    <a:lnTo>
                      <a:pt x="1434" y="708"/>
                    </a:lnTo>
                    <a:lnTo>
                      <a:pt x="1442" y="708"/>
                    </a:lnTo>
                    <a:lnTo>
                      <a:pt x="1458" y="708"/>
                    </a:lnTo>
                    <a:lnTo>
                      <a:pt x="1458" y="708"/>
                    </a:lnTo>
                    <a:lnTo>
                      <a:pt x="1440" y="762"/>
                    </a:lnTo>
                    <a:lnTo>
                      <a:pt x="1440" y="762"/>
                    </a:lnTo>
                    <a:lnTo>
                      <a:pt x="1448" y="758"/>
                    </a:lnTo>
                    <a:lnTo>
                      <a:pt x="1452" y="752"/>
                    </a:lnTo>
                    <a:lnTo>
                      <a:pt x="1460" y="738"/>
                    </a:lnTo>
                    <a:lnTo>
                      <a:pt x="1460" y="738"/>
                    </a:lnTo>
                    <a:lnTo>
                      <a:pt x="1462" y="740"/>
                    </a:lnTo>
                    <a:lnTo>
                      <a:pt x="1460" y="742"/>
                    </a:lnTo>
                    <a:lnTo>
                      <a:pt x="1460" y="742"/>
                    </a:lnTo>
                    <a:lnTo>
                      <a:pt x="1466" y="738"/>
                    </a:lnTo>
                    <a:lnTo>
                      <a:pt x="1470" y="734"/>
                    </a:lnTo>
                    <a:lnTo>
                      <a:pt x="1470" y="730"/>
                    </a:lnTo>
                    <a:lnTo>
                      <a:pt x="1470" y="730"/>
                    </a:lnTo>
                    <a:lnTo>
                      <a:pt x="1476" y="726"/>
                    </a:lnTo>
                    <a:lnTo>
                      <a:pt x="1482" y="722"/>
                    </a:lnTo>
                    <a:lnTo>
                      <a:pt x="1482" y="722"/>
                    </a:lnTo>
                    <a:lnTo>
                      <a:pt x="1480" y="724"/>
                    </a:lnTo>
                    <a:lnTo>
                      <a:pt x="1478" y="728"/>
                    </a:lnTo>
                    <a:lnTo>
                      <a:pt x="1472" y="736"/>
                    </a:lnTo>
                    <a:lnTo>
                      <a:pt x="1472" y="736"/>
                    </a:lnTo>
                    <a:lnTo>
                      <a:pt x="1480" y="732"/>
                    </a:lnTo>
                    <a:lnTo>
                      <a:pt x="1492" y="730"/>
                    </a:lnTo>
                    <a:lnTo>
                      <a:pt x="1492" y="730"/>
                    </a:lnTo>
                    <a:lnTo>
                      <a:pt x="1496" y="726"/>
                    </a:lnTo>
                    <a:lnTo>
                      <a:pt x="1500" y="722"/>
                    </a:lnTo>
                    <a:lnTo>
                      <a:pt x="1502" y="718"/>
                    </a:lnTo>
                    <a:lnTo>
                      <a:pt x="1508" y="714"/>
                    </a:lnTo>
                    <a:lnTo>
                      <a:pt x="1508" y="714"/>
                    </a:lnTo>
                    <a:lnTo>
                      <a:pt x="1502" y="722"/>
                    </a:lnTo>
                    <a:lnTo>
                      <a:pt x="1494" y="730"/>
                    </a:lnTo>
                    <a:lnTo>
                      <a:pt x="1494" y="730"/>
                    </a:lnTo>
                    <a:lnTo>
                      <a:pt x="1498" y="730"/>
                    </a:lnTo>
                    <a:lnTo>
                      <a:pt x="1502" y="732"/>
                    </a:lnTo>
                    <a:lnTo>
                      <a:pt x="1502" y="732"/>
                    </a:lnTo>
                    <a:lnTo>
                      <a:pt x="1500" y="746"/>
                    </a:lnTo>
                    <a:lnTo>
                      <a:pt x="1494" y="758"/>
                    </a:lnTo>
                    <a:lnTo>
                      <a:pt x="1488" y="768"/>
                    </a:lnTo>
                    <a:lnTo>
                      <a:pt x="1480" y="778"/>
                    </a:lnTo>
                    <a:lnTo>
                      <a:pt x="1480" y="778"/>
                    </a:lnTo>
                    <a:lnTo>
                      <a:pt x="1500" y="762"/>
                    </a:lnTo>
                    <a:lnTo>
                      <a:pt x="1520" y="748"/>
                    </a:lnTo>
                    <a:lnTo>
                      <a:pt x="1520" y="748"/>
                    </a:lnTo>
                    <a:lnTo>
                      <a:pt x="1534" y="750"/>
                    </a:lnTo>
                    <a:lnTo>
                      <a:pt x="1548" y="754"/>
                    </a:lnTo>
                    <a:lnTo>
                      <a:pt x="1548" y="754"/>
                    </a:lnTo>
                    <a:lnTo>
                      <a:pt x="1550" y="762"/>
                    </a:lnTo>
                    <a:lnTo>
                      <a:pt x="1546" y="766"/>
                    </a:lnTo>
                    <a:lnTo>
                      <a:pt x="1542" y="772"/>
                    </a:lnTo>
                    <a:lnTo>
                      <a:pt x="1540" y="776"/>
                    </a:lnTo>
                    <a:lnTo>
                      <a:pt x="1540" y="776"/>
                    </a:lnTo>
                    <a:lnTo>
                      <a:pt x="1546" y="780"/>
                    </a:lnTo>
                    <a:lnTo>
                      <a:pt x="1554" y="782"/>
                    </a:lnTo>
                    <a:lnTo>
                      <a:pt x="1562" y="782"/>
                    </a:lnTo>
                    <a:lnTo>
                      <a:pt x="1570" y="784"/>
                    </a:lnTo>
                    <a:lnTo>
                      <a:pt x="1570" y="784"/>
                    </a:lnTo>
                    <a:lnTo>
                      <a:pt x="1572" y="792"/>
                    </a:lnTo>
                    <a:lnTo>
                      <a:pt x="1570" y="798"/>
                    </a:lnTo>
                    <a:lnTo>
                      <a:pt x="1568" y="804"/>
                    </a:lnTo>
                    <a:lnTo>
                      <a:pt x="1564" y="810"/>
                    </a:lnTo>
                    <a:lnTo>
                      <a:pt x="1560" y="812"/>
                    </a:lnTo>
                    <a:lnTo>
                      <a:pt x="1554" y="812"/>
                    </a:lnTo>
                    <a:lnTo>
                      <a:pt x="1550" y="808"/>
                    </a:lnTo>
                    <a:lnTo>
                      <a:pt x="1548" y="802"/>
                    </a:lnTo>
                    <a:lnTo>
                      <a:pt x="1548" y="802"/>
                    </a:lnTo>
                    <a:lnTo>
                      <a:pt x="1532" y="800"/>
                    </a:lnTo>
                    <a:lnTo>
                      <a:pt x="1526" y="800"/>
                    </a:lnTo>
                    <a:lnTo>
                      <a:pt x="1520" y="796"/>
                    </a:lnTo>
                    <a:lnTo>
                      <a:pt x="1520" y="796"/>
                    </a:lnTo>
                    <a:lnTo>
                      <a:pt x="1522" y="790"/>
                    </a:lnTo>
                    <a:lnTo>
                      <a:pt x="1520" y="784"/>
                    </a:lnTo>
                    <a:lnTo>
                      <a:pt x="1514" y="778"/>
                    </a:lnTo>
                    <a:lnTo>
                      <a:pt x="1508" y="772"/>
                    </a:lnTo>
                    <a:lnTo>
                      <a:pt x="1500" y="766"/>
                    </a:lnTo>
                    <a:lnTo>
                      <a:pt x="1500" y="766"/>
                    </a:lnTo>
                    <a:lnTo>
                      <a:pt x="1484" y="776"/>
                    </a:lnTo>
                    <a:lnTo>
                      <a:pt x="1472" y="788"/>
                    </a:lnTo>
                    <a:lnTo>
                      <a:pt x="1472" y="788"/>
                    </a:lnTo>
                    <a:lnTo>
                      <a:pt x="1474" y="786"/>
                    </a:lnTo>
                    <a:lnTo>
                      <a:pt x="1476" y="786"/>
                    </a:lnTo>
                    <a:lnTo>
                      <a:pt x="1476" y="786"/>
                    </a:lnTo>
                    <a:lnTo>
                      <a:pt x="1466" y="792"/>
                    </a:lnTo>
                    <a:lnTo>
                      <a:pt x="1458" y="800"/>
                    </a:lnTo>
                    <a:lnTo>
                      <a:pt x="1450" y="810"/>
                    </a:lnTo>
                    <a:lnTo>
                      <a:pt x="1444" y="822"/>
                    </a:lnTo>
                    <a:lnTo>
                      <a:pt x="1444" y="822"/>
                    </a:lnTo>
                    <a:lnTo>
                      <a:pt x="1446" y="824"/>
                    </a:lnTo>
                    <a:lnTo>
                      <a:pt x="1446" y="824"/>
                    </a:lnTo>
                    <a:lnTo>
                      <a:pt x="1450" y="826"/>
                    </a:lnTo>
                    <a:lnTo>
                      <a:pt x="1454" y="826"/>
                    </a:lnTo>
                    <a:lnTo>
                      <a:pt x="1462" y="826"/>
                    </a:lnTo>
                    <a:lnTo>
                      <a:pt x="1472" y="824"/>
                    </a:lnTo>
                    <a:lnTo>
                      <a:pt x="1480" y="826"/>
                    </a:lnTo>
                    <a:lnTo>
                      <a:pt x="1480" y="826"/>
                    </a:lnTo>
                    <a:lnTo>
                      <a:pt x="1478" y="832"/>
                    </a:lnTo>
                    <a:lnTo>
                      <a:pt x="1480" y="840"/>
                    </a:lnTo>
                    <a:lnTo>
                      <a:pt x="1482" y="846"/>
                    </a:lnTo>
                    <a:lnTo>
                      <a:pt x="1484" y="848"/>
                    </a:lnTo>
                    <a:lnTo>
                      <a:pt x="1486" y="850"/>
                    </a:lnTo>
                    <a:lnTo>
                      <a:pt x="1486" y="850"/>
                    </a:lnTo>
                    <a:lnTo>
                      <a:pt x="1496" y="828"/>
                    </a:lnTo>
                    <a:lnTo>
                      <a:pt x="1502" y="820"/>
                    </a:lnTo>
                    <a:lnTo>
                      <a:pt x="1506" y="816"/>
                    </a:lnTo>
                    <a:lnTo>
                      <a:pt x="1510" y="816"/>
                    </a:lnTo>
                    <a:lnTo>
                      <a:pt x="1510" y="816"/>
                    </a:lnTo>
                    <a:lnTo>
                      <a:pt x="1520" y="816"/>
                    </a:lnTo>
                    <a:lnTo>
                      <a:pt x="1528" y="820"/>
                    </a:lnTo>
                    <a:lnTo>
                      <a:pt x="1542" y="832"/>
                    </a:lnTo>
                    <a:lnTo>
                      <a:pt x="1542" y="832"/>
                    </a:lnTo>
                    <a:lnTo>
                      <a:pt x="1542" y="828"/>
                    </a:lnTo>
                    <a:lnTo>
                      <a:pt x="1540" y="826"/>
                    </a:lnTo>
                    <a:lnTo>
                      <a:pt x="1538" y="824"/>
                    </a:lnTo>
                    <a:lnTo>
                      <a:pt x="1536" y="820"/>
                    </a:lnTo>
                    <a:lnTo>
                      <a:pt x="1536" y="820"/>
                    </a:lnTo>
                    <a:lnTo>
                      <a:pt x="1538" y="818"/>
                    </a:lnTo>
                    <a:lnTo>
                      <a:pt x="1538" y="816"/>
                    </a:lnTo>
                    <a:lnTo>
                      <a:pt x="1542" y="814"/>
                    </a:lnTo>
                    <a:lnTo>
                      <a:pt x="1542" y="814"/>
                    </a:lnTo>
                    <a:lnTo>
                      <a:pt x="1544" y="816"/>
                    </a:lnTo>
                    <a:lnTo>
                      <a:pt x="1546" y="822"/>
                    </a:lnTo>
                    <a:lnTo>
                      <a:pt x="1548" y="828"/>
                    </a:lnTo>
                    <a:lnTo>
                      <a:pt x="1550" y="832"/>
                    </a:lnTo>
                    <a:lnTo>
                      <a:pt x="1550" y="832"/>
                    </a:lnTo>
                    <a:lnTo>
                      <a:pt x="1554" y="830"/>
                    </a:lnTo>
                    <a:lnTo>
                      <a:pt x="1556" y="828"/>
                    </a:lnTo>
                    <a:lnTo>
                      <a:pt x="1562" y="822"/>
                    </a:lnTo>
                    <a:lnTo>
                      <a:pt x="1562" y="822"/>
                    </a:lnTo>
                    <a:lnTo>
                      <a:pt x="1566" y="822"/>
                    </a:lnTo>
                    <a:lnTo>
                      <a:pt x="1568" y="824"/>
                    </a:lnTo>
                    <a:lnTo>
                      <a:pt x="1570" y="830"/>
                    </a:lnTo>
                    <a:lnTo>
                      <a:pt x="1570" y="836"/>
                    </a:lnTo>
                    <a:lnTo>
                      <a:pt x="1568" y="842"/>
                    </a:lnTo>
                    <a:lnTo>
                      <a:pt x="1568" y="842"/>
                    </a:lnTo>
                    <a:lnTo>
                      <a:pt x="1572" y="838"/>
                    </a:lnTo>
                    <a:lnTo>
                      <a:pt x="1576" y="832"/>
                    </a:lnTo>
                    <a:lnTo>
                      <a:pt x="1580" y="824"/>
                    </a:lnTo>
                    <a:lnTo>
                      <a:pt x="1580" y="820"/>
                    </a:lnTo>
                    <a:lnTo>
                      <a:pt x="1578" y="816"/>
                    </a:lnTo>
                    <a:lnTo>
                      <a:pt x="1578" y="816"/>
                    </a:lnTo>
                    <a:lnTo>
                      <a:pt x="1584" y="812"/>
                    </a:lnTo>
                    <a:lnTo>
                      <a:pt x="1588" y="808"/>
                    </a:lnTo>
                    <a:lnTo>
                      <a:pt x="1594" y="798"/>
                    </a:lnTo>
                    <a:lnTo>
                      <a:pt x="1594" y="798"/>
                    </a:lnTo>
                    <a:lnTo>
                      <a:pt x="1594" y="800"/>
                    </a:lnTo>
                    <a:lnTo>
                      <a:pt x="1594" y="800"/>
                    </a:lnTo>
                    <a:lnTo>
                      <a:pt x="1594" y="802"/>
                    </a:lnTo>
                    <a:lnTo>
                      <a:pt x="1594" y="802"/>
                    </a:lnTo>
                    <a:lnTo>
                      <a:pt x="1594" y="802"/>
                    </a:lnTo>
                    <a:lnTo>
                      <a:pt x="1596" y="800"/>
                    </a:lnTo>
                    <a:lnTo>
                      <a:pt x="1598" y="796"/>
                    </a:lnTo>
                    <a:lnTo>
                      <a:pt x="1602" y="786"/>
                    </a:lnTo>
                    <a:lnTo>
                      <a:pt x="1602" y="786"/>
                    </a:lnTo>
                    <a:lnTo>
                      <a:pt x="1598" y="800"/>
                    </a:lnTo>
                    <a:lnTo>
                      <a:pt x="1594" y="806"/>
                    </a:lnTo>
                    <a:lnTo>
                      <a:pt x="1590" y="810"/>
                    </a:lnTo>
                    <a:lnTo>
                      <a:pt x="1590" y="810"/>
                    </a:lnTo>
                    <a:lnTo>
                      <a:pt x="1590" y="814"/>
                    </a:lnTo>
                    <a:lnTo>
                      <a:pt x="1590" y="816"/>
                    </a:lnTo>
                    <a:lnTo>
                      <a:pt x="1592" y="816"/>
                    </a:lnTo>
                    <a:lnTo>
                      <a:pt x="1592" y="816"/>
                    </a:lnTo>
                    <a:lnTo>
                      <a:pt x="1590" y="818"/>
                    </a:lnTo>
                    <a:lnTo>
                      <a:pt x="1588" y="822"/>
                    </a:lnTo>
                    <a:lnTo>
                      <a:pt x="1584" y="826"/>
                    </a:lnTo>
                    <a:lnTo>
                      <a:pt x="1582" y="828"/>
                    </a:lnTo>
                    <a:lnTo>
                      <a:pt x="1582" y="828"/>
                    </a:lnTo>
                    <a:lnTo>
                      <a:pt x="1584" y="828"/>
                    </a:lnTo>
                    <a:lnTo>
                      <a:pt x="1586" y="826"/>
                    </a:lnTo>
                    <a:lnTo>
                      <a:pt x="1588" y="824"/>
                    </a:lnTo>
                    <a:lnTo>
                      <a:pt x="1588" y="826"/>
                    </a:lnTo>
                    <a:lnTo>
                      <a:pt x="1588" y="826"/>
                    </a:lnTo>
                    <a:lnTo>
                      <a:pt x="1586" y="832"/>
                    </a:lnTo>
                    <a:lnTo>
                      <a:pt x="1588" y="838"/>
                    </a:lnTo>
                    <a:lnTo>
                      <a:pt x="1592" y="842"/>
                    </a:lnTo>
                    <a:lnTo>
                      <a:pt x="1596" y="844"/>
                    </a:lnTo>
                    <a:lnTo>
                      <a:pt x="1596" y="844"/>
                    </a:lnTo>
                    <a:lnTo>
                      <a:pt x="1596" y="844"/>
                    </a:lnTo>
                    <a:lnTo>
                      <a:pt x="1592" y="846"/>
                    </a:lnTo>
                    <a:lnTo>
                      <a:pt x="1586" y="844"/>
                    </a:lnTo>
                    <a:lnTo>
                      <a:pt x="1586" y="844"/>
                    </a:lnTo>
                    <a:lnTo>
                      <a:pt x="1584" y="848"/>
                    </a:lnTo>
                    <a:lnTo>
                      <a:pt x="1582" y="850"/>
                    </a:lnTo>
                    <a:lnTo>
                      <a:pt x="1578" y="856"/>
                    </a:lnTo>
                    <a:lnTo>
                      <a:pt x="1578" y="856"/>
                    </a:lnTo>
                    <a:lnTo>
                      <a:pt x="1592" y="854"/>
                    </a:lnTo>
                    <a:lnTo>
                      <a:pt x="1598" y="850"/>
                    </a:lnTo>
                    <a:lnTo>
                      <a:pt x="1598" y="848"/>
                    </a:lnTo>
                    <a:lnTo>
                      <a:pt x="1598" y="846"/>
                    </a:lnTo>
                    <a:lnTo>
                      <a:pt x="1598" y="846"/>
                    </a:lnTo>
                    <a:lnTo>
                      <a:pt x="1604" y="844"/>
                    </a:lnTo>
                    <a:lnTo>
                      <a:pt x="1612" y="840"/>
                    </a:lnTo>
                    <a:lnTo>
                      <a:pt x="1626" y="826"/>
                    </a:lnTo>
                    <a:lnTo>
                      <a:pt x="1626" y="826"/>
                    </a:lnTo>
                    <a:lnTo>
                      <a:pt x="1624" y="824"/>
                    </a:lnTo>
                    <a:lnTo>
                      <a:pt x="1622" y="824"/>
                    </a:lnTo>
                    <a:lnTo>
                      <a:pt x="1620" y="822"/>
                    </a:lnTo>
                    <a:lnTo>
                      <a:pt x="1618" y="820"/>
                    </a:lnTo>
                    <a:lnTo>
                      <a:pt x="1618" y="820"/>
                    </a:lnTo>
                    <a:lnTo>
                      <a:pt x="1612" y="822"/>
                    </a:lnTo>
                    <a:lnTo>
                      <a:pt x="1604" y="820"/>
                    </a:lnTo>
                    <a:lnTo>
                      <a:pt x="1600" y="818"/>
                    </a:lnTo>
                    <a:lnTo>
                      <a:pt x="1600" y="818"/>
                    </a:lnTo>
                    <a:lnTo>
                      <a:pt x="1608" y="820"/>
                    </a:lnTo>
                    <a:lnTo>
                      <a:pt x="1616" y="820"/>
                    </a:lnTo>
                    <a:lnTo>
                      <a:pt x="1616" y="820"/>
                    </a:lnTo>
                    <a:lnTo>
                      <a:pt x="1618" y="820"/>
                    </a:lnTo>
                    <a:lnTo>
                      <a:pt x="1618" y="818"/>
                    </a:lnTo>
                    <a:lnTo>
                      <a:pt x="1618" y="816"/>
                    </a:lnTo>
                    <a:lnTo>
                      <a:pt x="1618" y="814"/>
                    </a:lnTo>
                    <a:lnTo>
                      <a:pt x="1618" y="814"/>
                    </a:lnTo>
                    <a:lnTo>
                      <a:pt x="1612" y="812"/>
                    </a:lnTo>
                    <a:lnTo>
                      <a:pt x="1604" y="812"/>
                    </a:lnTo>
                    <a:lnTo>
                      <a:pt x="1604" y="812"/>
                    </a:lnTo>
                    <a:lnTo>
                      <a:pt x="1614" y="812"/>
                    </a:lnTo>
                    <a:lnTo>
                      <a:pt x="1622" y="808"/>
                    </a:lnTo>
                    <a:lnTo>
                      <a:pt x="1630" y="808"/>
                    </a:lnTo>
                    <a:lnTo>
                      <a:pt x="1634" y="808"/>
                    </a:lnTo>
                    <a:lnTo>
                      <a:pt x="1636" y="810"/>
                    </a:lnTo>
                    <a:lnTo>
                      <a:pt x="1636" y="810"/>
                    </a:lnTo>
                    <a:lnTo>
                      <a:pt x="1636" y="816"/>
                    </a:lnTo>
                    <a:lnTo>
                      <a:pt x="1634" y="820"/>
                    </a:lnTo>
                    <a:lnTo>
                      <a:pt x="1630" y="822"/>
                    </a:lnTo>
                    <a:lnTo>
                      <a:pt x="1626" y="826"/>
                    </a:lnTo>
                    <a:lnTo>
                      <a:pt x="1626" y="826"/>
                    </a:lnTo>
                    <a:lnTo>
                      <a:pt x="1636" y="822"/>
                    </a:lnTo>
                    <a:lnTo>
                      <a:pt x="1644" y="816"/>
                    </a:lnTo>
                    <a:lnTo>
                      <a:pt x="1652" y="808"/>
                    </a:lnTo>
                    <a:lnTo>
                      <a:pt x="1658" y="800"/>
                    </a:lnTo>
                    <a:lnTo>
                      <a:pt x="1658" y="800"/>
                    </a:lnTo>
                    <a:lnTo>
                      <a:pt x="1652" y="808"/>
                    </a:lnTo>
                    <a:lnTo>
                      <a:pt x="1644" y="818"/>
                    </a:lnTo>
                    <a:lnTo>
                      <a:pt x="1624" y="832"/>
                    </a:lnTo>
                    <a:lnTo>
                      <a:pt x="1624" y="832"/>
                    </a:lnTo>
                    <a:lnTo>
                      <a:pt x="1626" y="836"/>
                    </a:lnTo>
                    <a:lnTo>
                      <a:pt x="1630" y="840"/>
                    </a:lnTo>
                    <a:lnTo>
                      <a:pt x="1636" y="842"/>
                    </a:lnTo>
                    <a:lnTo>
                      <a:pt x="1644" y="842"/>
                    </a:lnTo>
                    <a:lnTo>
                      <a:pt x="1644" y="842"/>
                    </a:lnTo>
                    <a:lnTo>
                      <a:pt x="1640" y="844"/>
                    </a:lnTo>
                    <a:lnTo>
                      <a:pt x="1638" y="844"/>
                    </a:lnTo>
                    <a:lnTo>
                      <a:pt x="1632" y="842"/>
                    </a:lnTo>
                    <a:lnTo>
                      <a:pt x="1628" y="838"/>
                    </a:lnTo>
                    <a:lnTo>
                      <a:pt x="1622" y="836"/>
                    </a:lnTo>
                    <a:lnTo>
                      <a:pt x="1622" y="836"/>
                    </a:lnTo>
                    <a:lnTo>
                      <a:pt x="1612" y="842"/>
                    </a:lnTo>
                    <a:lnTo>
                      <a:pt x="1602" y="850"/>
                    </a:lnTo>
                    <a:lnTo>
                      <a:pt x="1594" y="856"/>
                    </a:lnTo>
                    <a:lnTo>
                      <a:pt x="1584" y="864"/>
                    </a:lnTo>
                    <a:lnTo>
                      <a:pt x="1584" y="864"/>
                    </a:lnTo>
                    <a:lnTo>
                      <a:pt x="1586" y="864"/>
                    </a:lnTo>
                    <a:lnTo>
                      <a:pt x="1588" y="864"/>
                    </a:lnTo>
                    <a:lnTo>
                      <a:pt x="1596" y="864"/>
                    </a:lnTo>
                    <a:lnTo>
                      <a:pt x="1596" y="864"/>
                    </a:lnTo>
                    <a:lnTo>
                      <a:pt x="1586" y="866"/>
                    </a:lnTo>
                    <a:lnTo>
                      <a:pt x="1578" y="870"/>
                    </a:lnTo>
                    <a:lnTo>
                      <a:pt x="1560" y="880"/>
                    </a:lnTo>
                    <a:lnTo>
                      <a:pt x="1560" y="880"/>
                    </a:lnTo>
                    <a:lnTo>
                      <a:pt x="1562" y="882"/>
                    </a:lnTo>
                    <a:lnTo>
                      <a:pt x="1566" y="886"/>
                    </a:lnTo>
                    <a:lnTo>
                      <a:pt x="1568" y="892"/>
                    </a:lnTo>
                    <a:lnTo>
                      <a:pt x="1566" y="896"/>
                    </a:lnTo>
                    <a:lnTo>
                      <a:pt x="1566" y="898"/>
                    </a:lnTo>
                    <a:lnTo>
                      <a:pt x="1562" y="900"/>
                    </a:lnTo>
                    <a:lnTo>
                      <a:pt x="1558" y="902"/>
                    </a:lnTo>
                    <a:lnTo>
                      <a:pt x="1558" y="902"/>
                    </a:lnTo>
                    <a:lnTo>
                      <a:pt x="1552" y="914"/>
                    </a:lnTo>
                    <a:lnTo>
                      <a:pt x="1550" y="918"/>
                    </a:lnTo>
                    <a:lnTo>
                      <a:pt x="1546" y="922"/>
                    </a:lnTo>
                    <a:lnTo>
                      <a:pt x="1546" y="922"/>
                    </a:lnTo>
                    <a:lnTo>
                      <a:pt x="1542" y="922"/>
                    </a:lnTo>
                    <a:lnTo>
                      <a:pt x="1538" y="922"/>
                    </a:lnTo>
                    <a:lnTo>
                      <a:pt x="1532" y="918"/>
                    </a:lnTo>
                    <a:lnTo>
                      <a:pt x="1532" y="918"/>
                    </a:lnTo>
                    <a:lnTo>
                      <a:pt x="1530" y="924"/>
                    </a:lnTo>
                    <a:lnTo>
                      <a:pt x="1530" y="932"/>
                    </a:lnTo>
                    <a:lnTo>
                      <a:pt x="1530" y="932"/>
                    </a:lnTo>
                    <a:lnTo>
                      <a:pt x="1532" y="932"/>
                    </a:lnTo>
                    <a:lnTo>
                      <a:pt x="1534" y="930"/>
                    </a:lnTo>
                    <a:lnTo>
                      <a:pt x="1538" y="928"/>
                    </a:lnTo>
                    <a:lnTo>
                      <a:pt x="1538" y="928"/>
                    </a:lnTo>
                    <a:lnTo>
                      <a:pt x="1538" y="930"/>
                    </a:lnTo>
                    <a:lnTo>
                      <a:pt x="1534" y="932"/>
                    </a:lnTo>
                    <a:lnTo>
                      <a:pt x="1532" y="934"/>
                    </a:lnTo>
                    <a:lnTo>
                      <a:pt x="1530" y="936"/>
                    </a:lnTo>
                    <a:lnTo>
                      <a:pt x="1530" y="936"/>
                    </a:lnTo>
                    <a:lnTo>
                      <a:pt x="1536" y="932"/>
                    </a:lnTo>
                    <a:lnTo>
                      <a:pt x="1542" y="930"/>
                    </a:lnTo>
                    <a:lnTo>
                      <a:pt x="1558" y="924"/>
                    </a:lnTo>
                    <a:lnTo>
                      <a:pt x="1572" y="918"/>
                    </a:lnTo>
                    <a:lnTo>
                      <a:pt x="1578" y="914"/>
                    </a:lnTo>
                    <a:lnTo>
                      <a:pt x="1584" y="908"/>
                    </a:lnTo>
                    <a:lnTo>
                      <a:pt x="1584" y="908"/>
                    </a:lnTo>
                    <a:lnTo>
                      <a:pt x="1588" y="900"/>
                    </a:lnTo>
                    <a:lnTo>
                      <a:pt x="1590" y="896"/>
                    </a:lnTo>
                    <a:lnTo>
                      <a:pt x="1592" y="892"/>
                    </a:lnTo>
                    <a:lnTo>
                      <a:pt x="1592" y="892"/>
                    </a:lnTo>
                    <a:lnTo>
                      <a:pt x="1594" y="892"/>
                    </a:lnTo>
                    <a:lnTo>
                      <a:pt x="1594" y="894"/>
                    </a:lnTo>
                    <a:lnTo>
                      <a:pt x="1592" y="896"/>
                    </a:lnTo>
                    <a:lnTo>
                      <a:pt x="1592" y="896"/>
                    </a:lnTo>
                    <a:lnTo>
                      <a:pt x="1598" y="896"/>
                    </a:lnTo>
                    <a:lnTo>
                      <a:pt x="1604" y="896"/>
                    </a:lnTo>
                    <a:lnTo>
                      <a:pt x="1608" y="898"/>
                    </a:lnTo>
                    <a:lnTo>
                      <a:pt x="1608" y="898"/>
                    </a:lnTo>
                    <a:lnTo>
                      <a:pt x="1626" y="884"/>
                    </a:lnTo>
                    <a:lnTo>
                      <a:pt x="1646" y="870"/>
                    </a:lnTo>
                    <a:lnTo>
                      <a:pt x="1646" y="870"/>
                    </a:lnTo>
                    <a:lnTo>
                      <a:pt x="1644" y="868"/>
                    </a:lnTo>
                    <a:lnTo>
                      <a:pt x="1642" y="868"/>
                    </a:lnTo>
                    <a:lnTo>
                      <a:pt x="1642" y="868"/>
                    </a:lnTo>
                    <a:lnTo>
                      <a:pt x="1650" y="866"/>
                    </a:lnTo>
                    <a:lnTo>
                      <a:pt x="1652" y="864"/>
                    </a:lnTo>
                    <a:lnTo>
                      <a:pt x="1654" y="862"/>
                    </a:lnTo>
                    <a:lnTo>
                      <a:pt x="1654" y="862"/>
                    </a:lnTo>
                    <a:lnTo>
                      <a:pt x="1648" y="862"/>
                    </a:lnTo>
                    <a:lnTo>
                      <a:pt x="1640" y="864"/>
                    </a:lnTo>
                    <a:lnTo>
                      <a:pt x="1636" y="868"/>
                    </a:lnTo>
                    <a:lnTo>
                      <a:pt x="1630" y="872"/>
                    </a:lnTo>
                    <a:lnTo>
                      <a:pt x="1620" y="880"/>
                    </a:lnTo>
                    <a:lnTo>
                      <a:pt x="1614" y="884"/>
                    </a:lnTo>
                    <a:lnTo>
                      <a:pt x="1606" y="886"/>
                    </a:lnTo>
                    <a:lnTo>
                      <a:pt x="1606" y="886"/>
                    </a:lnTo>
                    <a:lnTo>
                      <a:pt x="1608" y="890"/>
                    </a:lnTo>
                    <a:lnTo>
                      <a:pt x="1608" y="890"/>
                    </a:lnTo>
                    <a:lnTo>
                      <a:pt x="1604" y="884"/>
                    </a:lnTo>
                    <a:lnTo>
                      <a:pt x="1600" y="880"/>
                    </a:lnTo>
                    <a:lnTo>
                      <a:pt x="1596" y="876"/>
                    </a:lnTo>
                    <a:lnTo>
                      <a:pt x="1594" y="870"/>
                    </a:lnTo>
                    <a:lnTo>
                      <a:pt x="1594" y="870"/>
                    </a:lnTo>
                    <a:lnTo>
                      <a:pt x="1600" y="874"/>
                    </a:lnTo>
                    <a:lnTo>
                      <a:pt x="1602" y="874"/>
                    </a:lnTo>
                    <a:lnTo>
                      <a:pt x="1606" y="874"/>
                    </a:lnTo>
                    <a:lnTo>
                      <a:pt x="1606" y="874"/>
                    </a:lnTo>
                    <a:lnTo>
                      <a:pt x="1608" y="870"/>
                    </a:lnTo>
                    <a:lnTo>
                      <a:pt x="1608" y="866"/>
                    </a:lnTo>
                    <a:lnTo>
                      <a:pt x="1606" y="864"/>
                    </a:lnTo>
                    <a:lnTo>
                      <a:pt x="1602" y="864"/>
                    </a:lnTo>
                    <a:lnTo>
                      <a:pt x="1600" y="864"/>
                    </a:lnTo>
                    <a:lnTo>
                      <a:pt x="1608" y="864"/>
                    </a:lnTo>
                    <a:lnTo>
                      <a:pt x="1608" y="864"/>
                    </a:lnTo>
                    <a:lnTo>
                      <a:pt x="1610" y="848"/>
                    </a:lnTo>
                    <a:lnTo>
                      <a:pt x="1612" y="844"/>
                    </a:lnTo>
                    <a:lnTo>
                      <a:pt x="1616" y="842"/>
                    </a:lnTo>
                    <a:lnTo>
                      <a:pt x="1616" y="842"/>
                    </a:lnTo>
                    <a:lnTo>
                      <a:pt x="1620" y="842"/>
                    </a:lnTo>
                    <a:lnTo>
                      <a:pt x="1626" y="844"/>
                    </a:lnTo>
                    <a:lnTo>
                      <a:pt x="1632" y="846"/>
                    </a:lnTo>
                    <a:lnTo>
                      <a:pt x="1636" y="848"/>
                    </a:lnTo>
                    <a:lnTo>
                      <a:pt x="1636" y="848"/>
                    </a:lnTo>
                    <a:lnTo>
                      <a:pt x="1642" y="846"/>
                    </a:lnTo>
                    <a:lnTo>
                      <a:pt x="1648" y="844"/>
                    </a:lnTo>
                    <a:lnTo>
                      <a:pt x="1652" y="840"/>
                    </a:lnTo>
                    <a:lnTo>
                      <a:pt x="1658" y="840"/>
                    </a:lnTo>
                    <a:lnTo>
                      <a:pt x="1658" y="840"/>
                    </a:lnTo>
                    <a:lnTo>
                      <a:pt x="1654" y="846"/>
                    </a:lnTo>
                    <a:lnTo>
                      <a:pt x="1650" y="852"/>
                    </a:lnTo>
                    <a:lnTo>
                      <a:pt x="1642" y="860"/>
                    </a:lnTo>
                    <a:lnTo>
                      <a:pt x="1642" y="860"/>
                    </a:lnTo>
                    <a:lnTo>
                      <a:pt x="1656" y="858"/>
                    </a:lnTo>
                    <a:lnTo>
                      <a:pt x="1660" y="856"/>
                    </a:lnTo>
                    <a:lnTo>
                      <a:pt x="1662" y="850"/>
                    </a:lnTo>
                    <a:lnTo>
                      <a:pt x="1662" y="850"/>
                    </a:lnTo>
                    <a:lnTo>
                      <a:pt x="1664" y="852"/>
                    </a:lnTo>
                    <a:lnTo>
                      <a:pt x="1664" y="854"/>
                    </a:lnTo>
                    <a:lnTo>
                      <a:pt x="1662" y="856"/>
                    </a:lnTo>
                    <a:lnTo>
                      <a:pt x="1666" y="856"/>
                    </a:lnTo>
                    <a:lnTo>
                      <a:pt x="1666" y="856"/>
                    </a:lnTo>
                    <a:lnTo>
                      <a:pt x="1658" y="862"/>
                    </a:lnTo>
                    <a:lnTo>
                      <a:pt x="1650" y="868"/>
                    </a:lnTo>
                    <a:lnTo>
                      <a:pt x="1650" y="868"/>
                    </a:lnTo>
                    <a:lnTo>
                      <a:pt x="1652" y="868"/>
                    </a:lnTo>
                    <a:lnTo>
                      <a:pt x="1654" y="868"/>
                    </a:lnTo>
                    <a:lnTo>
                      <a:pt x="1654" y="868"/>
                    </a:lnTo>
                    <a:lnTo>
                      <a:pt x="1656" y="868"/>
                    </a:lnTo>
                    <a:lnTo>
                      <a:pt x="1656" y="868"/>
                    </a:lnTo>
                    <a:lnTo>
                      <a:pt x="1654" y="870"/>
                    </a:lnTo>
                    <a:lnTo>
                      <a:pt x="1652" y="870"/>
                    </a:lnTo>
                    <a:lnTo>
                      <a:pt x="1648" y="870"/>
                    </a:lnTo>
                    <a:lnTo>
                      <a:pt x="1648" y="870"/>
                    </a:lnTo>
                    <a:lnTo>
                      <a:pt x="1652" y="874"/>
                    </a:lnTo>
                    <a:lnTo>
                      <a:pt x="1656" y="878"/>
                    </a:lnTo>
                    <a:lnTo>
                      <a:pt x="1670" y="882"/>
                    </a:lnTo>
                    <a:lnTo>
                      <a:pt x="1670" y="882"/>
                    </a:lnTo>
                    <a:lnTo>
                      <a:pt x="1666" y="884"/>
                    </a:lnTo>
                    <a:lnTo>
                      <a:pt x="1662" y="882"/>
                    </a:lnTo>
                    <a:lnTo>
                      <a:pt x="1654" y="878"/>
                    </a:lnTo>
                    <a:lnTo>
                      <a:pt x="1654" y="878"/>
                    </a:lnTo>
                    <a:lnTo>
                      <a:pt x="1658" y="884"/>
                    </a:lnTo>
                    <a:lnTo>
                      <a:pt x="1662" y="890"/>
                    </a:lnTo>
                    <a:lnTo>
                      <a:pt x="1668" y="896"/>
                    </a:lnTo>
                    <a:lnTo>
                      <a:pt x="1668" y="900"/>
                    </a:lnTo>
                    <a:lnTo>
                      <a:pt x="1668" y="904"/>
                    </a:lnTo>
                    <a:lnTo>
                      <a:pt x="1668" y="904"/>
                    </a:lnTo>
                    <a:lnTo>
                      <a:pt x="1668" y="906"/>
                    </a:lnTo>
                    <a:lnTo>
                      <a:pt x="1670" y="906"/>
                    </a:lnTo>
                    <a:lnTo>
                      <a:pt x="1672" y="908"/>
                    </a:lnTo>
                    <a:lnTo>
                      <a:pt x="1672" y="910"/>
                    </a:lnTo>
                    <a:lnTo>
                      <a:pt x="1672" y="910"/>
                    </a:lnTo>
                    <a:lnTo>
                      <a:pt x="1662" y="920"/>
                    </a:lnTo>
                    <a:lnTo>
                      <a:pt x="1662" y="920"/>
                    </a:lnTo>
                    <a:lnTo>
                      <a:pt x="1668" y="918"/>
                    </a:lnTo>
                    <a:lnTo>
                      <a:pt x="1672" y="914"/>
                    </a:lnTo>
                    <a:lnTo>
                      <a:pt x="1672" y="914"/>
                    </a:lnTo>
                    <a:lnTo>
                      <a:pt x="1670" y="918"/>
                    </a:lnTo>
                    <a:lnTo>
                      <a:pt x="1664" y="920"/>
                    </a:lnTo>
                    <a:lnTo>
                      <a:pt x="1658" y="924"/>
                    </a:lnTo>
                    <a:lnTo>
                      <a:pt x="1654" y="926"/>
                    </a:lnTo>
                    <a:lnTo>
                      <a:pt x="1654" y="926"/>
                    </a:lnTo>
                    <a:lnTo>
                      <a:pt x="1656" y="928"/>
                    </a:lnTo>
                    <a:lnTo>
                      <a:pt x="1662" y="928"/>
                    </a:lnTo>
                    <a:lnTo>
                      <a:pt x="1662" y="928"/>
                    </a:lnTo>
                    <a:lnTo>
                      <a:pt x="1658" y="936"/>
                    </a:lnTo>
                    <a:lnTo>
                      <a:pt x="1658" y="936"/>
                    </a:lnTo>
                    <a:lnTo>
                      <a:pt x="1658" y="932"/>
                    </a:lnTo>
                    <a:lnTo>
                      <a:pt x="1658" y="932"/>
                    </a:lnTo>
                    <a:lnTo>
                      <a:pt x="1656" y="930"/>
                    </a:lnTo>
                    <a:lnTo>
                      <a:pt x="1652" y="930"/>
                    </a:lnTo>
                    <a:lnTo>
                      <a:pt x="1646" y="934"/>
                    </a:lnTo>
                    <a:lnTo>
                      <a:pt x="1640" y="940"/>
                    </a:lnTo>
                    <a:lnTo>
                      <a:pt x="1638" y="948"/>
                    </a:lnTo>
                    <a:lnTo>
                      <a:pt x="1638" y="948"/>
                    </a:lnTo>
                    <a:lnTo>
                      <a:pt x="1642" y="948"/>
                    </a:lnTo>
                    <a:lnTo>
                      <a:pt x="1648" y="948"/>
                    </a:lnTo>
                    <a:lnTo>
                      <a:pt x="1654" y="944"/>
                    </a:lnTo>
                    <a:lnTo>
                      <a:pt x="1656" y="940"/>
                    </a:lnTo>
                    <a:lnTo>
                      <a:pt x="1656" y="940"/>
                    </a:lnTo>
                    <a:lnTo>
                      <a:pt x="1658" y="942"/>
                    </a:lnTo>
                    <a:lnTo>
                      <a:pt x="1662" y="942"/>
                    </a:lnTo>
                    <a:lnTo>
                      <a:pt x="1670" y="942"/>
                    </a:lnTo>
                    <a:lnTo>
                      <a:pt x="1678" y="944"/>
                    </a:lnTo>
                    <a:lnTo>
                      <a:pt x="1680" y="946"/>
                    </a:lnTo>
                    <a:lnTo>
                      <a:pt x="1682" y="950"/>
                    </a:lnTo>
                    <a:lnTo>
                      <a:pt x="1682" y="950"/>
                    </a:lnTo>
                    <a:lnTo>
                      <a:pt x="1676" y="956"/>
                    </a:lnTo>
                    <a:lnTo>
                      <a:pt x="1676" y="956"/>
                    </a:lnTo>
                    <a:lnTo>
                      <a:pt x="1676" y="958"/>
                    </a:lnTo>
                    <a:lnTo>
                      <a:pt x="1678" y="958"/>
                    </a:lnTo>
                    <a:lnTo>
                      <a:pt x="1678" y="958"/>
                    </a:lnTo>
                    <a:lnTo>
                      <a:pt x="1678" y="958"/>
                    </a:lnTo>
                    <a:lnTo>
                      <a:pt x="1678" y="960"/>
                    </a:lnTo>
                    <a:lnTo>
                      <a:pt x="1676" y="964"/>
                    </a:lnTo>
                    <a:lnTo>
                      <a:pt x="1674" y="970"/>
                    </a:lnTo>
                    <a:lnTo>
                      <a:pt x="1674" y="976"/>
                    </a:lnTo>
                    <a:lnTo>
                      <a:pt x="1674" y="976"/>
                    </a:lnTo>
                    <a:lnTo>
                      <a:pt x="1676" y="978"/>
                    </a:lnTo>
                    <a:lnTo>
                      <a:pt x="1678" y="978"/>
                    </a:lnTo>
                    <a:lnTo>
                      <a:pt x="1686" y="978"/>
                    </a:lnTo>
                    <a:lnTo>
                      <a:pt x="1686" y="978"/>
                    </a:lnTo>
                    <a:lnTo>
                      <a:pt x="1686" y="978"/>
                    </a:lnTo>
                    <a:lnTo>
                      <a:pt x="1686" y="976"/>
                    </a:lnTo>
                    <a:lnTo>
                      <a:pt x="1686" y="976"/>
                    </a:lnTo>
                    <a:lnTo>
                      <a:pt x="1690" y="976"/>
                    </a:lnTo>
                    <a:lnTo>
                      <a:pt x="1694" y="976"/>
                    </a:lnTo>
                    <a:lnTo>
                      <a:pt x="1702" y="970"/>
                    </a:lnTo>
                    <a:lnTo>
                      <a:pt x="1712" y="954"/>
                    </a:lnTo>
                    <a:lnTo>
                      <a:pt x="1712" y="954"/>
                    </a:lnTo>
                    <a:lnTo>
                      <a:pt x="1710" y="954"/>
                    </a:lnTo>
                    <a:lnTo>
                      <a:pt x="1710" y="952"/>
                    </a:lnTo>
                    <a:lnTo>
                      <a:pt x="1712" y="950"/>
                    </a:lnTo>
                    <a:lnTo>
                      <a:pt x="1716" y="950"/>
                    </a:lnTo>
                    <a:lnTo>
                      <a:pt x="1716" y="950"/>
                    </a:lnTo>
                    <a:lnTo>
                      <a:pt x="1714" y="954"/>
                    </a:lnTo>
                    <a:lnTo>
                      <a:pt x="1712" y="958"/>
                    </a:lnTo>
                    <a:lnTo>
                      <a:pt x="1708" y="966"/>
                    </a:lnTo>
                    <a:lnTo>
                      <a:pt x="1708" y="966"/>
                    </a:lnTo>
                    <a:lnTo>
                      <a:pt x="1708" y="966"/>
                    </a:lnTo>
                    <a:lnTo>
                      <a:pt x="1708" y="966"/>
                    </a:lnTo>
                    <a:lnTo>
                      <a:pt x="1710" y="964"/>
                    </a:lnTo>
                    <a:lnTo>
                      <a:pt x="1710" y="964"/>
                    </a:lnTo>
                    <a:lnTo>
                      <a:pt x="1710" y="966"/>
                    </a:lnTo>
                    <a:lnTo>
                      <a:pt x="1706" y="968"/>
                    </a:lnTo>
                    <a:lnTo>
                      <a:pt x="1702" y="970"/>
                    </a:lnTo>
                    <a:lnTo>
                      <a:pt x="1700" y="974"/>
                    </a:lnTo>
                    <a:lnTo>
                      <a:pt x="1700" y="974"/>
                    </a:lnTo>
                    <a:lnTo>
                      <a:pt x="1708" y="970"/>
                    </a:lnTo>
                    <a:lnTo>
                      <a:pt x="1714" y="966"/>
                    </a:lnTo>
                    <a:lnTo>
                      <a:pt x="1728" y="956"/>
                    </a:lnTo>
                    <a:lnTo>
                      <a:pt x="1728" y="956"/>
                    </a:lnTo>
                    <a:lnTo>
                      <a:pt x="1722" y="964"/>
                    </a:lnTo>
                    <a:lnTo>
                      <a:pt x="1716" y="972"/>
                    </a:lnTo>
                    <a:lnTo>
                      <a:pt x="1714" y="976"/>
                    </a:lnTo>
                    <a:lnTo>
                      <a:pt x="1716" y="980"/>
                    </a:lnTo>
                    <a:lnTo>
                      <a:pt x="1718" y="982"/>
                    </a:lnTo>
                    <a:lnTo>
                      <a:pt x="1726" y="982"/>
                    </a:lnTo>
                    <a:lnTo>
                      <a:pt x="1726" y="982"/>
                    </a:lnTo>
                    <a:lnTo>
                      <a:pt x="1720" y="986"/>
                    </a:lnTo>
                    <a:lnTo>
                      <a:pt x="1714" y="988"/>
                    </a:lnTo>
                    <a:lnTo>
                      <a:pt x="1700" y="992"/>
                    </a:lnTo>
                    <a:lnTo>
                      <a:pt x="1688" y="994"/>
                    </a:lnTo>
                    <a:lnTo>
                      <a:pt x="1682" y="998"/>
                    </a:lnTo>
                    <a:lnTo>
                      <a:pt x="1678" y="1002"/>
                    </a:lnTo>
                    <a:lnTo>
                      <a:pt x="1678" y="1002"/>
                    </a:lnTo>
                    <a:lnTo>
                      <a:pt x="1678" y="1008"/>
                    </a:lnTo>
                    <a:lnTo>
                      <a:pt x="1682" y="1012"/>
                    </a:lnTo>
                    <a:lnTo>
                      <a:pt x="1686" y="1014"/>
                    </a:lnTo>
                    <a:lnTo>
                      <a:pt x="1692" y="1014"/>
                    </a:lnTo>
                    <a:lnTo>
                      <a:pt x="1704" y="1012"/>
                    </a:lnTo>
                    <a:lnTo>
                      <a:pt x="1710" y="1010"/>
                    </a:lnTo>
                    <a:lnTo>
                      <a:pt x="1714" y="1008"/>
                    </a:lnTo>
                    <a:lnTo>
                      <a:pt x="1714" y="1008"/>
                    </a:lnTo>
                    <a:lnTo>
                      <a:pt x="1714" y="1008"/>
                    </a:lnTo>
                    <a:lnTo>
                      <a:pt x="1714" y="1010"/>
                    </a:lnTo>
                    <a:lnTo>
                      <a:pt x="1710" y="1012"/>
                    </a:lnTo>
                    <a:lnTo>
                      <a:pt x="1710" y="1012"/>
                    </a:lnTo>
                    <a:lnTo>
                      <a:pt x="1718" y="1012"/>
                    </a:lnTo>
                    <a:lnTo>
                      <a:pt x="1728" y="1012"/>
                    </a:lnTo>
                    <a:lnTo>
                      <a:pt x="1728" y="1012"/>
                    </a:lnTo>
                    <a:lnTo>
                      <a:pt x="1728" y="998"/>
                    </a:lnTo>
                    <a:lnTo>
                      <a:pt x="1728" y="992"/>
                    </a:lnTo>
                    <a:lnTo>
                      <a:pt x="1726" y="986"/>
                    </a:lnTo>
                    <a:lnTo>
                      <a:pt x="1726" y="986"/>
                    </a:lnTo>
                    <a:lnTo>
                      <a:pt x="1728" y="986"/>
                    </a:lnTo>
                    <a:lnTo>
                      <a:pt x="1728" y="988"/>
                    </a:lnTo>
                    <a:lnTo>
                      <a:pt x="1730" y="994"/>
                    </a:lnTo>
                    <a:lnTo>
                      <a:pt x="1730" y="1000"/>
                    </a:lnTo>
                    <a:lnTo>
                      <a:pt x="1728" y="1006"/>
                    </a:lnTo>
                    <a:lnTo>
                      <a:pt x="1728" y="1006"/>
                    </a:lnTo>
                    <a:lnTo>
                      <a:pt x="1730" y="1006"/>
                    </a:lnTo>
                    <a:lnTo>
                      <a:pt x="1732" y="1004"/>
                    </a:lnTo>
                    <a:lnTo>
                      <a:pt x="1732" y="1004"/>
                    </a:lnTo>
                    <a:lnTo>
                      <a:pt x="1732" y="1008"/>
                    </a:lnTo>
                    <a:lnTo>
                      <a:pt x="1730" y="1012"/>
                    </a:lnTo>
                    <a:lnTo>
                      <a:pt x="1728" y="1016"/>
                    </a:lnTo>
                    <a:lnTo>
                      <a:pt x="1728" y="1024"/>
                    </a:lnTo>
                    <a:lnTo>
                      <a:pt x="1728" y="1024"/>
                    </a:lnTo>
                    <a:lnTo>
                      <a:pt x="1730" y="1024"/>
                    </a:lnTo>
                    <a:lnTo>
                      <a:pt x="1730" y="1024"/>
                    </a:lnTo>
                    <a:lnTo>
                      <a:pt x="1732" y="1022"/>
                    </a:lnTo>
                    <a:lnTo>
                      <a:pt x="1734" y="1024"/>
                    </a:lnTo>
                    <a:lnTo>
                      <a:pt x="1734" y="1024"/>
                    </a:lnTo>
                    <a:lnTo>
                      <a:pt x="1730" y="1026"/>
                    </a:lnTo>
                    <a:lnTo>
                      <a:pt x="1722" y="1028"/>
                    </a:lnTo>
                    <a:lnTo>
                      <a:pt x="1704" y="1028"/>
                    </a:lnTo>
                    <a:lnTo>
                      <a:pt x="1704" y="1028"/>
                    </a:lnTo>
                    <a:lnTo>
                      <a:pt x="1708" y="1032"/>
                    </a:lnTo>
                    <a:lnTo>
                      <a:pt x="1712" y="1034"/>
                    </a:lnTo>
                    <a:lnTo>
                      <a:pt x="1722" y="1034"/>
                    </a:lnTo>
                    <a:lnTo>
                      <a:pt x="1722" y="1034"/>
                    </a:lnTo>
                    <a:lnTo>
                      <a:pt x="1718" y="1036"/>
                    </a:lnTo>
                    <a:lnTo>
                      <a:pt x="1712" y="1034"/>
                    </a:lnTo>
                    <a:lnTo>
                      <a:pt x="1708" y="1032"/>
                    </a:lnTo>
                    <a:lnTo>
                      <a:pt x="1704" y="1032"/>
                    </a:lnTo>
                    <a:lnTo>
                      <a:pt x="1704" y="1032"/>
                    </a:lnTo>
                    <a:lnTo>
                      <a:pt x="1702" y="1034"/>
                    </a:lnTo>
                    <a:lnTo>
                      <a:pt x="1702" y="1036"/>
                    </a:lnTo>
                    <a:lnTo>
                      <a:pt x="1702" y="1038"/>
                    </a:lnTo>
                    <a:lnTo>
                      <a:pt x="1700" y="1038"/>
                    </a:lnTo>
                    <a:lnTo>
                      <a:pt x="1700" y="1038"/>
                    </a:lnTo>
                    <a:lnTo>
                      <a:pt x="1710" y="1044"/>
                    </a:lnTo>
                    <a:lnTo>
                      <a:pt x="1722" y="1050"/>
                    </a:lnTo>
                    <a:lnTo>
                      <a:pt x="1736" y="1054"/>
                    </a:lnTo>
                    <a:lnTo>
                      <a:pt x="1752" y="1054"/>
                    </a:lnTo>
                    <a:lnTo>
                      <a:pt x="1752" y="1054"/>
                    </a:lnTo>
                    <a:lnTo>
                      <a:pt x="1746" y="1056"/>
                    </a:lnTo>
                    <a:lnTo>
                      <a:pt x="1738" y="1056"/>
                    </a:lnTo>
                    <a:lnTo>
                      <a:pt x="1738" y="1056"/>
                    </a:lnTo>
                    <a:lnTo>
                      <a:pt x="1742" y="1058"/>
                    </a:lnTo>
                    <a:lnTo>
                      <a:pt x="1750" y="1058"/>
                    </a:lnTo>
                    <a:lnTo>
                      <a:pt x="1756" y="1058"/>
                    </a:lnTo>
                    <a:lnTo>
                      <a:pt x="1758" y="1060"/>
                    </a:lnTo>
                    <a:lnTo>
                      <a:pt x="1756" y="1060"/>
                    </a:lnTo>
                    <a:lnTo>
                      <a:pt x="1756" y="1060"/>
                    </a:lnTo>
                    <a:lnTo>
                      <a:pt x="1748" y="1060"/>
                    </a:lnTo>
                    <a:lnTo>
                      <a:pt x="1734" y="1058"/>
                    </a:lnTo>
                    <a:lnTo>
                      <a:pt x="1734" y="1058"/>
                    </a:lnTo>
                    <a:lnTo>
                      <a:pt x="1726" y="1052"/>
                    </a:lnTo>
                    <a:lnTo>
                      <a:pt x="1716" y="1048"/>
                    </a:lnTo>
                    <a:lnTo>
                      <a:pt x="1706" y="1044"/>
                    </a:lnTo>
                    <a:lnTo>
                      <a:pt x="1696" y="1038"/>
                    </a:lnTo>
                    <a:lnTo>
                      <a:pt x="1696" y="1038"/>
                    </a:lnTo>
                    <a:lnTo>
                      <a:pt x="1672" y="1044"/>
                    </a:lnTo>
                    <a:lnTo>
                      <a:pt x="1648" y="1046"/>
                    </a:lnTo>
                    <a:lnTo>
                      <a:pt x="1648" y="1046"/>
                    </a:lnTo>
                    <a:lnTo>
                      <a:pt x="1648" y="1048"/>
                    </a:lnTo>
                    <a:lnTo>
                      <a:pt x="1650" y="1050"/>
                    </a:lnTo>
                    <a:lnTo>
                      <a:pt x="1652" y="1056"/>
                    </a:lnTo>
                    <a:lnTo>
                      <a:pt x="1652" y="1056"/>
                    </a:lnTo>
                    <a:lnTo>
                      <a:pt x="1658" y="1052"/>
                    </a:lnTo>
                    <a:lnTo>
                      <a:pt x="1664" y="1050"/>
                    </a:lnTo>
                    <a:lnTo>
                      <a:pt x="1678" y="1050"/>
                    </a:lnTo>
                    <a:lnTo>
                      <a:pt x="1690" y="1052"/>
                    </a:lnTo>
                    <a:lnTo>
                      <a:pt x="1696" y="1056"/>
                    </a:lnTo>
                    <a:lnTo>
                      <a:pt x="1700" y="1060"/>
                    </a:lnTo>
                    <a:lnTo>
                      <a:pt x="1700" y="1060"/>
                    </a:lnTo>
                    <a:lnTo>
                      <a:pt x="1708" y="1056"/>
                    </a:lnTo>
                    <a:lnTo>
                      <a:pt x="1714" y="1056"/>
                    </a:lnTo>
                    <a:lnTo>
                      <a:pt x="1720" y="1058"/>
                    </a:lnTo>
                    <a:lnTo>
                      <a:pt x="1726" y="1060"/>
                    </a:lnTo>
                    <a:lnTo>
                      <a:pt x="1738" y="1066"/>
                    </a:lnTo>
                    <a:lnTo>
                      <a:pt x="1750" y="1070"/>
                    </a:lnTo>
                    <a:lnTo>
                      <a:pt x="1750" y="1070"/>
                    </a:lnTo>
                    <a:lnTo>
                      <a:pt x="1742" y="1072"/>
                    </a:lnTo>
                    <a:lnTo>
                      <a:pt x="1734" y="1074"/>
                    </a:lnTo>
                    <a:lnTo>
                      <a:pt x="1720" y="1080"/>
                    </a:lnTo>
                    <a:lnTo>
                      <a:pt x="1714" y="1082"/>
                    </a:lnTo>
                    <a:lnTo>
                      <a:pt x="1708" y="1082"/>
                    </a:lnTo>
                    <a:lnTo>
                      <a:pt x="1702" y="1080"/>
                    </a:lnTo>
                    <a:lnTo>
                      <a:pt x="1696" y="1076"/>
                    </a:lnTo>
                    <a:lnTo>
                      <a:pt x="1696" y="1076"/>
                    </a:lnTo>
                    <a:lnTo>
                      <a:pt x="1688" y="1078"/>
                    </a:lnTo>
                    <a:lnTo>
                      <a:pt x="1678" y="1080"/>
                    </a:lnTo>
                    <a:lnTo>
                      <a:pt x="1678" y="1080"/>
                    </a:lnTo>
                    <a:lnTo>
                      <a:pt x="1678" y="1080"/>
                    </a:lnTo>
                    <a:lnTo>
                      <a:pt x="1678" y="1078"/>
                    </a:lnTo>
                    <a:lnTo>
                      <a:pt x="1684" y="1078"/>
                    </a:lnTo>
                    <a:lnTo>
                      <a:pt x="1694" y="1076"/>
                    </a:lnTo>
                    <a:lnTo>
                      <a:pt x="1694" y="1076"/>
                    </a:lnTo>
                    <a:lnTo>
                      <a:pt x="1688" y="1070"/>
                    </a:lnTo>
                    <a:lnTo>
                      <a:pt x="1678" y="1066"/>
                    </a:lnTo>
                    <a:lnTo>
                      <a:pt x="1670" y="1066"/>
                    </a:lnTo>
                    <a:lnTo>
                      <a:pt x="1666" y="1068"/>
                    </a:lnTo>
                    <a:lnTo>
                      <a:pt x="1662" y="1070"/>
                    </a:lnTo>
                    <a:lnTo>
                      <a:pt x="1662" y="1070"/>
                    </a:lnTo>
                    <a:lnTo>
                      <a:pt x="1666" y="1074"/>
                    </a:lnTo>
                    <a:lnTo>
                      <a:pt x="1668" y="1076"/>
                    </a:lnTo>
                    <a:lnTo>
                      <a:pt x="1670" y="1080"/>
                    </a:lnTo>
                    <a:lnTo>
                      <a:pt x="1676" y="1080"/>
                    </a:lnTo>
                    <a:lnTo>
                      <a:pt x="1676" y="1080"/>
                    </a:lnTo>
                    <a:lnTo>
                      <a:pt x="1674" y="1080"/>
                    </a:lnTo>
                    <a:lnTo>
                      <a:pt x="1672" y="1080"/>
                    </a:lnTo>
                    <a:lnTo>
                      <a:pt x="1672" y="1080"/>
                    </a:lnTo>
                    <a:lnTo>
                      <a:pt x="1674" y="1086"/>
                    </a:lnTo>
                    <a:lnTo>
                      <a:pt x="1678" y="1088"/>
                    </a:lnTo>
                    <a:lnTo>
                      <a:pt x="1686" y="1094"/>
                    </a:lnTo>
                    <a:lnTo>
                      <a:pt x="1686" y="1094"/>
                    </a:lnTo>
                    <a:lnTo>
                      <a:pt x="1686" y="1094"/>
                    </a:lnTo>
                    <a:lnTo>
                      <a:pt x="1686" y="1094"/>
                    </a:lnTo>
                    <a:lnTo>
                      <a:pt x="1682" y="1092"/>
                    </a:lnTo>
                    <a:lnTo>
                      <a:pt x="1672" y="1086"/>
                    </a:lnTo>
                    <a:lnTo>
                      <a:pt x="1672" y="1086"/>
                    </a:lnTo>
                    <a:lnTo>
                      <a:pt x="1666" y="1080"/>
                    </a:lnTo>
                    <a:lnTo>
                      <a:pt x="1662" y="1074"/>
                    </a:lnTo>
                    <a:lnTo>
                      <a:pt x="1662" y="1074"/>
                    </a:lnTo>
                    <a:lnTo>
                      <a:pt x="1660" y="1076"/>
                    </a:lnTo>
                    <a:lnTo>
                      <a:pt x="1658" y="1078"/>
                    </a:lnTo>
                    <a:lnTo>
                      <a:pt x="1656" y="1080"/>
                    </a:lnTo>
                    <a:lnTo>
                      <a:pt x="1654" y="1084"/>
                    </a:lnTo>
                    <a:lnTo>
                      <a:pt x="1654" y="1084"/>
                    </a:lnTo>
                    <a:lnTo>
                      <a:pt x="1648" y="1084"/>
                    </a:lnTo>
                    <a:lnTo>
                      <a:pt x="1646" y="1082"/>
                    </a:lnTo>
                    <a:lnTo>
                      <a:pt x="1644" y="1078"/>
                    </a:lnTo>
                    <a:lnTo>
                      <a:pt x="1644" y="1074"/>
                    </a:lnTo>
                    <a:lnTo>
                      <a:pt x="1646" y="1066"/>
                    </a:lnTo>
                    <a:lnTo>
                      <a:pt x="1652" y="1060"/>
                    </a:lnTo>
                    <a:lnTo>
                      <a:pt x="1652" y="1060"/>
                    </a:lnTo>
                    <a:lnTo>
                      <a:pt x="1642" y="1044"/>
                    </a:lnTo>
                    <a:lnTo>
                      <a:pt x="1642" y="1044"/>
                    </a:lnTo>
                    <a:lnTo>
                      <a:pt x="1632" y="1042"/>
                    </a:lnTo>
                    <a:lnTo>
                      <a:pt x="1622" y="1040"/>
                    </a:lnTo>
                    <a:lnTo>
                      <a:pt x="1600" y="1040"/>
                    </a:lnTo>
                    <a:lnTo>
                      <a:pt x="1600" y="1040"/>
                    </a:lnTo>
                    <a:lnTo>
                      <a:pt x="1574" y="1038"/>
                    </a:lnTo>
                    <a:lnTo>
                      <a:pt x="1548" y="1032"/>
                    </a:lnTo>
                    <a:lnTo>
                      <a:pt x="1534" y="1032"/>
                    </a:lnTo>
                    <a:lnTo>
                      <a:pt x="1522" y="1032"/>
                    </a:lnTo>
                    <a:lnTo>
                      <a:pt x="1508" y="1032"/>
                    </a:lnTo>
                    <a:lnTo>
                      <a:pt x="1496" y="1036"/>
                    </a:lnTo>
                    <a:lnTo>
                      <a:pt x="1496" y="1036"/>
                    </a:lnTo>
                    <a:lnTo>
                      <a:pt x="1496" y="1038"/>
                    </a:lnTo>
                    <a:lnTo>
                      <a:pt x="1498" y="1038"/>
                    </a:lnTo>
                    <a:lnTo>
                      <a:pt x="1500" y="1038"/>
                    </a:lnTo>
                    <a:lnTo>
                      <a:pt x="1502" y="1038"/>
                    </a:lnTo>
                    <a:lnTo>
                      <a:pt x="1502" y="1038"/>
                    </a:lnTo>
                    <a:lnTo>
                      <a:pt x="1502" y="1044"/>
                    </a:lnTo>
                    <a:lnTo>
                      <a:pt x="1504" y="1048"/>
                    </a:lnTo>
                    <a:lnTo>
                      <a:pt x="1514" y="1058"/>
                    </a:lnTo>
                    <a:lnTo>
                      <a:pt x="1534" y="1076"/>
                    </a:lnTo>
                    <a:lnTo>
                      <a:pt x="1534" y="1076"/>
                    </a:lnTo>
                    <a:lnTo>
                      <a:pt x="1536" y="1076"/>
                    </a:lnTo>
                    <a:lnTo>
                      <a:pt x="1538" y="1074"/>
                    </a:lnTo>
                    <a:lnTo>
                      <a:pt x="1540" y="1072"/>
                    </a:lnTo>
                    <a:lnTo>
                      <a:pt x="1542" y="1074"/>
                    </a:lnTo>
                    <a:lnTo>
                      <a:pt x="1542" y="1074"/>
                    </a:lnTo>
                    <a:lnTo>
                      <a:pt x="1546" y="1078"/>
                    </a:lnTo>
                    <a:lnTo>
                      <a:pt x="1546" y="1080"/>
                    </a:lnTo>
                    <a:lnTo>
                      <a:pt x="1544" y="1082"/>
                    </a:lnTo>
                    <a:lnTo>
                      <a:pt x="1544" y="1082"/>
                    </a:lnTo>
                    <a:lnTo>
                      <a:pt x="1554" y="1082"/>
                    </a:lnTo>
                    <a:lnTo>
                      <a:pt x="1554" y="1082"/>
                    </a:lnTo>
                    <a:lnTo>
                      <a:pt x="1558" y="1084"/>
                    </a:lnTo>
                    <a:lnTo>
                      <a:pt x="1562" y="1086"/>
                    </a:lnTo>
                    <a:lnTo>
                      <a:pt x="1574" y="1082"/>
                    </a:lnTo>
                    <a:lnTo>
                      <a:pt x="1586" y="1080"/>
                    </a:lnTo>
                    <a:lnTo>
                      <a:pt x="1592" y="1080"/>
                    </a:lnTo>
                    <a:lnTo>
                      <a:pt x="1596" y="1084"/>
                    </a:lnTo>
                    <a:lnTo>
                      <a:pt x="1596" y="1084"/>
                    </a:lnTo>
                    <a:lnTo>
                      <a:pt x="1590" y="1090"/>
                    </a:lnTo>
                    <a:lnTo>
                      <a:pt x="1584" y="1096"/>
                    </a:lnTo>
                    <a:lnTo>
                      <a:pt x="1574" y="1100"/>
                    </a:lnTo>
                    <a:lnTo>
                      <a:pt x="1562" y="1102"/>
                    </a:lnTo>
                    <a:lnTo>
                      <a:pt x="1562" y="1102"/>
                    </a:lnTo>
                    <a:lnTo>
                      <a:pt x="1570" y="1108"/>
                    </a:lnTo>
                    <a:lnTo>
                      <a:pt x="1578" y="1114"/>
                    </a:lnTo>
                    <a:lnTo>
                      <a:pt x="1586" y="1122"/>
                    </a:lnTo>
                    <a:lnTo>
                      <a:pt x="1594" y="1126"/>
                    </a:lnTo>
                    <a:lnTo>
                      <a:pt x="1594" y="1126"/>
                    </a:lnTo>
                    <a:lnTo>
                      <a:pt x="1596" y="1132"/>
                    </a:lnTo>
                    <a:lnTo>
                      <a:pt x="1598" y="1134"/>
                    </a:lnTo>
                    <a:lnTo>
                      <a:pt x="1604" y="1140"/>
                    </a:lnTo>
                    <a:lnTo>
                      <a:pt x="1604" y="1140"/>
                    </a:lnTo>
                    <a:lnTo>
                      <a:pt x="1602" y="1140"/>
                    </a:lnTo>
                    <a:lnTo>
                      <a:pt x="1600" y="1138"/>
                    </a:lnTo>
                    <a:lnTo>
                      <a:pt x="1596" y="1134"/>
                    </a:lnTo>
                    <a:lnTo>
                      <a:pt x="1590" y="1128"/>
                    </a:lnTo>
                    <a:lnTo>
                      <a:pt x="1586" y="1126"/>
                    </a:lnTo>
                    <a:lnTo>
                      <a:pt x="1586" y="1126"/>
                    </a:lnTo>
                    <a:lnTo>
                      <a:pt x="1582" y="1124"/>
                    </a:lnTo>
                    <a:lnTo>
                      <a:pt x="1576" y="1118"/>
                    </a:lnTo>
                    <a:lnTo>
                      <a:pt x="1576" y="1118"/>
                    </a:lnTo>
                    <a:lnTo>
                      <a:pt x="1558" y="1104"/>
                    </a:lnTo>
                    <a:lnTo>
                      <a:pt x="1548" y="1096"/>
                    </a:lnTo>
                    <a:lnTo>
                      <a:pt x="1540" y="1088"/>
                    </a:lnTo>
                    <a:lnTo>
                      <a:pt x="1540" y="1088"/>
                    </a:lnTo>
                    <a:lnTo>
                      <a:pt x="1536" y="1090"/>
                    </a:lnTo>
                    <a:lnTo>
                      <a:pt x="1532" y="1092"/>
                    </a:lnTo>
                    <a:lnTo>
                      <a:pt x="1522" y="1090"/>
                    </a:lnTo>
                    <a:lnTo>
                      <a:pt x="1514" y="1086"/>
                    </a:lnTo>
                    <a:lnTo>
                      <a:pt x="1506" y="1080"/>
                    </a:lnTo>
                    <a:lnTo>
                      <a:pt x="1506" y="1080"/>
                    </a:lnTo>
                    <a:lnTo>
                      <a:pt x="1508" y="1092"/>
                    </a:lnTo>
                    <a:lnTo>
                      <a:pt x="1512" y="1106"/>
                    </a:lnTo>
                    <a:lnTo>
                      <a:pt x="1512" y="1106"/>
                    </a:lnTo>
                    <a:lnTo>
                      <a:pt x="1526" y="1100"/>
                    </a:lnTo>
                    <a:lnTo>
                      <a:pt x="1534" y="1098"/>
                    </a:lnTo>
                    <a:lnTo>
                      <a:pt x="1544" y="1100"/>
                    </a:lnTo>
                    <a:lnTo>
                      <a:pt x="1544" y="1100"/>
                    </a:lnTo>
                    <a:lnTo>
                      <a:pt x="1542" y="1104"/>
                    </a:lnTo>
                    <a:lnTo>
                      <a:pt x="1540" y="1108"/>
                    </a:lnTo>
                    <a:lnTo>
                      <a:pt x="1532" y="1112"/>
                    </a:lnTo>
                    <a:lnTo>
                      <a:pt x="1522" y="1114"/>
                    </a:lnTo>
                    <a:lnTo>
                      <a:pt x="1512" y="1112"/>
                    </a:lnTo>
                    <a:lnTo>
                      <a:pt x="1512" y="1112"/>
                    </a:lnTo>
                    <a:lnTo>
                      <a:pt x="1514" y="1118"/>
                    </a:lnTo>
                    <a:lnTo>
                      <a:pt x="1514" y="1126"/>
                    </a:lnTo>
                    <a:lnTo>
                      <a:pt x="1514" y="1126"/>
                    </a:lnTo>
                    <a:lnTo>
                      <a:pt x="1506" y="1132"/>
                    </a:lnTo>
                    <a:lnTo>
                      <a:pt x="1500" y="1134"/>
                    </a:lnTo>
                    <a:lnTo>
                      <a:pt x="1492" y="1136"/>
                    </a:lnTo>
                    <a:lnTo>
                      <a:pt x="1492" y="1136"/>
                    </a:lnTo>
                    <a:lnTo>
                      <a:pt x="1504" y="1132"/>
                    </a:lnTo>
                    <a:lnTo>
                      <a:pt x="1508" y="1128"/>
                    </a:lnTo>
                    <a:lnTo>
                      <a:pt x="1512" y="1124"/>
                    </a:lnTo>
                    <a:lnTo>
                      <a:pt x="1512" y="1124"/>
                    </a:lnTo>
                    <a:lnTo>
                      <a:pt x="1510" y="1106"/>
                    </a:lnTo>
                    <a:lnTo>
                      <a:pt x="1506" y="1090"/>
                    </a:lnTo>
                    <a:lnTo>
                      <a:pt x="1500" y="1076"/>
                    </a:lnTo>
                    <a:lnTo>
                      <a:pt x="1494" y="1070"/>
                    </a:lnTo>
                    <a:lnTo>
                      <a:pt x="1490" y="1066"/>
                    </a:lnTo>
                    <a:lnTo>
                      <a:pt x="1490" y="1066"/>
                    </a:lnTo>
                    <a:lnTo>
                      <a:pt x="1490" y="1062"/>
                    </a:lnTo>
                    <a:lnTo>
                      <a:pt x="1496" y="1060"/>
                    </a:lnTo>
                    <a:lnTo>
                      <a:pt x="1496" y="1060"/>
                    </a:lnTo>
                    <a:lnTo>
                      <a:pt x="1494" y="1048"/>
                    </a:lnTo>
                    <a:lnTo>
                      <a:pt x="1490" y="1040"/>
                    </a:lnTo>
                    <a:lnTo>
                      <a:pt x="1476" y="1028"/>
                    </a:lnTo>
                    <a:lnTo>
                      <a:pt x="1476" y="1028"/>
                    </a:lnTo>
                    <a:lnTo>
                      <a:pt x="1458" y="1030"/>
                    </a:lnTo>
                    <a:lnTo>
                      <a:pt x="1440" y="1032"/>
                    </a:lnTo>
                    <a:lnTo>
                      <a:pt x="1440" y="1032"/>
                    </a:lnTo>
                    <a:lnTo>
                      <a:pt x="1424" y="1034"/>
                    </a:lnTo>
                    <a:lnTo>
                      <a:pt x="1408" y="1036"/>
                    </a:lnTo>
                    <a:lnTo>
                      <a:pt x="1394" y="1038"/>
                    </a:lnTo>
                    <a:lnTo>
                      <a:pt x="1388" y="1042"/>
                    </a:lnTo>
                    <a:lnTo>
                      <a:pt x="1384" y="1046"/>
                    </a:lnTo>
                    <a:lnTo>
                      <a:pt x="1384" y="1046"/>
                    </a:lnTo>
                    <a:lnTo>
                      <a:pt x="1366" y="1058"/>
                    </a:lnTo>
                    <a:lnTo>
                      <a:pt x="1348" y="1068"/>
                    </a:lnTo>
                    <a:lnTo>
                      <a:pt x="1330" y="1078"/>
                    </a:lnTo>
                    <a:lnTo>
                      <a:pt x="1316" y="1090"/>
                    </a:lnTo>
                    <a:lnTo>
                      <a:pt x="1316" y="1090"/>
                    </a:lnTo>
                    <a:lnTo>
                      <a:pt x="1290" y="1120"/>
                    </a:lnTo>
                    <a:lnTo>
                      <a:pt x="1276" y="1134"/>
                    </a:lnTo>
                    <a:lnTo>
                      <a:pt x="1262" y="1148"/>
                    </a:lnTo>
                    <a:lnTo>
                      <a:pt x="1262" y="1148"/>
                    </a:lnTo>
                    <a:lnTo>
                      <a:pt x="1260" y="1154"/>
                    </a:lnTo>
                    <a:lnTo>
                      <a:pt x="1260" y="1154"/>
                    </a:lnTo>
                    <a:lnTo>
                      <a:pt x="1252" y="1160"/>
                    </a:lnTo>
                    <a:lnTo>
                      <a:pt x="1244" y="1168"/>
                    </a:lnTo>
                    <a:lnTo>
                      <a:pt x="1232" y="1186"/>
                    </a:lnTo>
                    <a:lnTo>
                      <a:pt x="1232" y="1186"/>
                    </a:lnTo>
                    <a:lnTo>
                      <a:pt x="1234" y="1194"/>
                    </a:lnTo>
                    <a:lnTo>
                      <a:pt x="1236" y="1204"/>
                    </a:lnTo>
                    <a:lnTo>
                      <a:pt x="1234" y="1226"/>
                    </a:lnTo>
                    <a:lnTo>
                      <a:pt x="1234" y="1226"/>
                    </a:lnTo>
                    <a:lnTo>
                      <a:pt x="1234" y="1224"/>
                    </a:lnTo>
                    <a:lnTo>
                      <a:pt x="1236" y="1222"/>
                    </a:lnTo>
                    <a:lnTo>
                      <a:pt x="1236" y="1222"/>
                    </a:lnTo>
                    <a:lnTo>
                      <a:pt x="1236" y="1222"/>
                    </a:lnTo>
                    <a:lnTo>
                      <a:pt x="1236" y="1224"/>
                    </a:lnTo>
                    <a:lnTo>
                      <a:pt x="1238" y="1226"/>
                    </a:lnTo>
                    <a:lnTo>
                      <a:pt x="1240" y="1226"/>
                    </a:lnTo>
                    <a:lnTo>
                      <a:pt x="1240" y="1226"/>
                    </a:lnTo>
                    <a:lnTo>
                      <a:pt x="1242" y="1216"/>
                    </a:lnTo>
                    <a:lnTo>
                      <a:pt x="1246" y="1208"/>
                    </a:lnTo>
                    <a:lnTo>
                      <a:pt x="1252" y="1200"/>
                    </a:lnTo>
                    <a:lnTo>
                      <a:pt x="1258" y="1194"/>
                    </a:lnTo>
                    <a:lnTo>
                      <a:pt x="1258" y="1194"/>
                    </a:lnTo>
                    <a:lnTo>
                      <a:pt x="1264" y="1200"/>
                    </a:lnTo>
                    <a:lnTo>
                      <a:pt x="1266" y="1208"/>
                    </a:lnTo>
                    <a:lnTo>
                      <a:pt x="1264" y="1214"/>
                    </a:lnTo>
                    <a:lnTo>
                      <a:pt x="1262" y="1222"/>
                    </a:lnTo>
                    <a:lnTo>
                      <a:pt x="1258" y="1226"/>
                    </a:lnTo>
                    <a:lnTo>
                      <a:pt x="1252" y="1232"/>
                    </a:lnTo>
                    <a:lnTo>
                      <a:pt x="1244" y="1234"/>
                    </a:lnTo>
                    <a:lnTo>
                      <a:pt x="1236" y="1236"/>
                    </a:lnTo>
                    <a:lnTo>
                      <a:pt x="1236" y="1236"/>
                    </a:lnTo>
                    <a:lnTo>
                      <a:pt x="1238" y="1254"/>
                    </a:lnTo>
                    <a:lnTo>
                      <a:pt x="1240" y="1272"/>
                    </a:lnTo>
                    <a:lnTo>
                      <a:pt x="1240" y="1272"/>
                    </a:lnTo>
                    <a:lnTo>
                      <a:pt x="1246" y="1270"/>
                    </a:lnTo>
                    <a:lnTo>
                      <a:pt x="1248" y="1266"/>
                    </a:lnTo>
                    <a:lnTo>
                      <a:pt x="1252" y="1262"/>
                    </a:lnTo>
                    <a:lnTo>
                      <a:pt x="1256" y="1260"/>
                    </a:lnTo>
                    <a:lnTo>
                      <a:pt x="1256" y="1260"/>
                    </a:lnTo>
                    <a:lnTo>
                      <a:pt x="1250" y="1256"/>
                    </a:lnTo>
                    <a:lnTo>
                      <a:pt x="1246" y="1252"/>
                    </a:lnTo>
                    <a:lnTo>
                      <a:pt x="1246" y="1252"/>
                    </a:lnTo>
                    <a:lnTo>
                      <a:pt x="1248" y="1248"/>
                    </a:lnTo>
                    <a:lnTo>
                      <a:pt x="1248" y="1246"/>
                    </a:lnTo>
                    <a:lnTo>
                      <a:pt x="1256" y="1242"/>
                    </a:lnTo>
                    <a:lnTo>
                      <a:pt x="1264" y="1242"/>
                    </a:lnTo>
                    <a:lnTo>
                      <a:pt x="1270" y="1244"/>
                    </a:lnTo>
                    <a:lnTo>
                      <a:pt x="1270" y="1244"/>
                    </a:lnTo>
                    <a:lnTo>
                      <a:pt x="1278" y="1240"/>
                    </a:lnTo>
                    <a:lnTo>
                      <a:pt x="1282" y="1232"/>
                    </a:lnTo>
                    <a:lnTo>
                      <a:pt x="1282" y="1232"/>
                    </a:lnTo>
                    <a:lnTo>
                      <a:pt x="1280" y="1232"/>
                    </a:lnTo>
                    <a:lnTo>
                      <a:pt x="1280" y="1230"/>
                    </a:lnTo>
                    <a:lnTo>
                      <a:pt x="1280" y="1228"/>
                    </a:lnTo>
                    <a:lnTo>
                      <a:pt x="1280" y="1228"/>
                    </a:lnTo>
                    <a:lnTo>
                      <a:pt x="1284" y="1228"/>
                    </a:lnTo>
                    <a:lnTo>
                      <a:pt x="1286" y="1228"/>
                    </a:lnTo>
                    <a:lnTo>
                      <a:pt x="1284" y="1230"/>
                    </a:lnTo>
                    <a:lnTo>
                      <a:pt x="1284" y="1230"/>
                    </a:lnTo>
                    <a:lnTo>
                      <a:pt x="1290" y="1226"/>
                    </a:lnTo>
                    <a:lnTo>
                      <a:pt x="1298" y="1220"/>
                    </a:lnTo>
                    <a:lnTo>
                      <a:pt x="1304" y="1216"/>
                    </a:lnTo>
                    <a:lnTo>
                      <a:pt x="1308" y="1208"/>
                    </a:lnTo>
                    <a:lnTo>
                      <a:pt x="1308" y="1208"/>
                    </a:lnTo>
                    <a:lnTo>
                      <a:pt x="1314" y="1206"/>
                    </a:lnTo>
                    <a:lnTo>
                      <a:pt x="1318" y="1200"/>
                    </a:lnTo>
                    <a:lnTo>
                      <a:pt x="1326" y="1186"/>
                    </a:lnTo>
                    <a:lnTo>
                      <a:pt x="1326" y="1186"/>
                    </a:lnTo>
                    <a:lnTo>
                      <a:pt x="1324" y="1190"/>
                    </a:lnTo>
                    <a:lnTo>
                      <a:pt x="1322" y="1196"/>
                    </a:lnTo>
                    <a:lnTo>
                      <a:pt x="1318" y="1202"/>
                    </a:lnTo>
                    <a:lnTo>
                      <a:pt x="1316" y="1206"/>
                    </a:lnTo>
                    <a:lnTo>
                      <a:pt x="1316" y="1206"/>
                    </a:lnTo>
                    <a:lnTo>
                      <a:pt x="1304" y="1218"/>
                    </a:lnTo>
                    <a:lnTo>
                      <a:pt x="1288" y="1230"/>
                    </a:lnTo>
                    <a:lnTo>
                      <a:pt x="1288" y="1230"/>
                    </a:lnTo>
                    <a:lnTo>
                      <a:pt x="1290" y="1232"/>
                    </a:lnTo>
                    <a:lnTo>
                      <a:pt x="1292" y="1232"/>
                    </a:lnTo>
                    <a:lnTo>
                      <a:pt x="1294" y="1232"/>
                    </a:lnTo>
                    <a:lnTo>
                      <a:pt x="1296" y="1236"/>
                    </a:lnTo>
                    <a:lnTo>
                      <a:pt x="1296" y="1236"/>
                    </a:lnTo>
                    <a:lnTo>
                      <a:pt x="1290" y="1236"/>
                    </a:lnTo>
                    <a:lnTo>
                      <a:pt x="1288" y="1236"/>
                    </a:lnTo>
                    <a:lnTo>
                      <a:pt x="1286" y="1236"/>
                    </a:lnTo>
                    <a:lnTo>
                      <a:pt x="1286" y="1236"/>
                    </a:lnTo>
                    <a:lnTo>
                      <a:pt x="1282" y="1240"/>
                    </a:lnTo>
                    <a:lnTo>
                      <a:pt x="1276" y="1246"/>
                    </a:lnTo>
                    <a:lnTo>
                      <a:pt x="1276" y="1246"/>
                    </a:lnTo>
                    <a:lnTo>
                      <a:pt x="1282" y="1248"/>
                    </a:lnTo>
                    <a:lnTo>
                      <a:pt x="1288" y="1252"/>
                    </a:lnTo>
                    <a:lnTo>
                      <a:pt x="1288" y="1252"/>
                    </a:lnTo>
                    <a:lnTo>
                      <a:pt x="1294" y="1248"/>
                    </a:lnTo>
                    <a:lnTo>
                      <a:pt x="1298" y="1242"/>
                    </a:lnTo>
                    <a:lnTo>
                      <a:pt x="1304" y="1238"/>
                    </a:lnTo>
                    <a:lnTo>
                      <a:pt x="1308" y="1238"/>
                    </a:lnTo>
                    <a:lnTo>
                      <a:pt x="1314" y="1238"/>
                    </a:lnTo>
                    <a:lnTo>
                      <a:pt x="1314" y="1238"/>
                    </a:lnTo>
                    <a:lnTo>
                      <a:pt x="1310" y="1246"/>
                    </a:lnTo>
                    <a:lnTo>
                      <a:pt x="1306" y="1250"/>
                    </a:lnTo>
                    <a:lnTo>
                      <a:pt x="1292" y="1256"/>
                    </a:lnTo>
                    <a:lnTo>
                      <a:pt x="1292" y="1256"/>
                    </a:lnTo>
                    <a:lnTo>
                      <a:pt x="1294" y="1258"/>
                    </a:lnTo>
                    <a:lnTo>
                      <a:pt x="1294" y="1260"/>
                    </a:lnTo>
                    <a:lnTo>
                      <a:pt x="1296" y="1260"/>
                    </a:lnTo>
                    <a:lnTo>
                      <a:pt x="1296" y="1260"/>
                    </a:lnTo>
                    <a:lnTo>
                      <a:pt x="1294" y="1262"/>
                    </a:lnTo>
                    <a:lnTo>
                      <a:pt x="1294" y="1260"/>
                    </a:lnTo>
                    <a:lnTo>
                      <a:pt x="1292" y="1256"/>
                    </a:lnTo>
                    <a:lnTo>
                      <a:pt x="1292" y="1256"/>
                    </a:lnTo>
                    <a:lnTo>
                      <a:pt x="1278" y="1260"/>
                    </a:lnTo>
                    <a:lnTo>
                      <a:pt x="1270" y="1262"/>
                    </a:lnTo>
                    <a:lnTo>
                      <a:pt x="1262" y="1262"/>
                    </a:lnTo>
                    <a:lnTo>
                      <a:pt x="1262" y="1262"/>
                    </a:lnTo>
                    <a:lnTo>
                      <a:pt x="1266" y="1264"/>
                    </a:lnTo>
                    <a:lnTo>
                      <a:pt x="1270" y="1266"/>
                    </a:lnTo>
                    <a:lnTo>
                      <a:pt x="1278" y="1266"/>
                    </a:lnTo>
                    <a:lnTo>
                      <a:pt x="1288" y="1266"/>
                    </a:lnTo>
                    <a:lnTo>
                      <a:pt x="1292" y="1268"/>
                    </a:lnTo>
                    <a:lnTo>
                      <a:pt x="1296" y="1270"/>
                    </a:lnTo>
                    <a:lnTo>
                      <a:pt x="1296" y="1270"/>
                    </a:lnTo>
                    <a:lnTo>
                      <a:pt x="1300" y="1268"/>
                    </a:lnTo>
                    <a:lnTo>
                      <a:pt x="1300" y="1268"/>
                    </a:lnTo>
                    <a:lnTo>
                      <a:pt x="1298" y="1268"/>
                    </a:lnTo>
                    <a:lnTo>
                      <a:pt x="1298" y="1268"/>
                    </a:lnTo>
                    <a:lnTo>
                      <a:pt x="1298" y="1266"/>
                    </a:lnTo>
                    <a:lnTo>
                      <a:pt x="1300" y="1268"/>
                    </a:lnTo>
                    <a:lnTo>
                      <a:pt x="1302" y="1270"/>
                    </a:lnTo>
                    <a:lnTo>
                      <a:pt x="1304" y="1270"/>
                    </a:lnTo>
                    <a:lnTo>
                      <a:pt x="1304" y="1270"/>
                    </a:lnTo>
                    <a:lnTo>
                      <a:pt x="1306" y="1268"/>
                    </a:lnTo>
                    <a:lnTo>
                      <a:pt x="1308" y="1266"/>
                    </a:lnTo>
                    <a:lnTo>
                      <a:pt x="1312" y="1260"/>
                    </a:lnTo>
                    <a:lnTo>
                      <a:pt x="1312" y="1260"/>
                    </a:lnTo>
                    <a:lnTo>
                      <a:pt x="1310" y="1264"/>
                    </a:lnTo>
                    <a:lnTo>
                      <a:pt x="1308" y="1268"/>
                    </a:lnTo>
                    <a:lnTo>
                      <a:pt x="1304" y="1270"/>
                    </a:lnTo>
                    <a:lnTo>
                      <a:pt x="1300" y="1272"/>
                    </a:lnTo>
                    <a:lnTo>
                      <a:pt x="1300" y="1272"/>
                    </a:lnTo>
                    <a:lnTo>
                      <a:pt x="1304" y="1272"/>
                    </a:lnTo>
                    <a:lnTo>
                      <a:pt x="1308" y="1272"/>
                    </a:lnTo>
                    <a:lnTo>
                      <a:pt x="1312" y="1270"/>
                    </a:lnTo>
                    <a:lnTo>
                      <a:pt x="1318" y="1270"/>
                    </a:lnTo>
                    <a:lnTo>
                      <a:pt x="1318" y="1270"/>
                    </a:lnTo>
                    <a:lnTo>
                      <a:pt x="1302" y="1274"/>
                    </a:lnTo>
                    <a:lnTo>
                      <a:pt x="1286" y="1276"/>
                    </a:lnTo>
                    <a:lnTo>
                      <a:pt x="1270" y="1274"/>
                    </a:lnTo>
                    <a:lnTo>
                      <a:pt x="1264" y="1270"/>
                    </a:lnTo>
                    <a:lnTo>
                      <a:pt x="1258" y="1268"/>
                    </a:lnTo>
                    <a:lnTo>
                      <a:pt x="1258" y="1268"/>
                    </a:lnTo>
                    <a:lnTo>
                      <a:pt x="1228" y="1292"/>
                    </a:lnTo>
                    <a:lnTo>
                      <a:pt x="1196" y="1314"/>
                    </a:lnTo>
                    <a:lnTo>
                      <a:pt x="1196" y="1314"/>
                    </a:lnTo>
                    <a:lnTo>
                      <a:pt x="1208" y="1318"/>
                    </a:lnTo>
                    <a:lnTo>
                      <a:pt x="1218" y="1320"/>
                    </a:lnTo>
                    <a:lnTo>
                      <a:pt x="1240" y="1320"/>
                    </a:lnTo>
                    <a:lnTo>
                      <a:pt x="1264" y="1320"/>
                    </a:lnTo>
                    <a:lnTo>
                      <a:pt x="1286" y="1322"/>
                    </a:lnTo>
                    <a:lnTo>
                      <a:pt x="1286" y="1322"/>
                    </a:lnTo>
                    <a:lnTo>
                      <a:pt x="1310" y="1326"/>
                    </a:lnTo>
                    <a:lnTo>
                      <a:pt x="1332" y="1332"/>
                    </a:lnTo>
                    <a:lnTo>
                      <a:pt x="1332" y="1332"/>
                    </a:lnTo>
                    <a:lnTo>
                      <a:pt x="1354" y="1342"/>
                    </a:lnTo>
                    <a:lnTo>
                      <a:pt x="1364" y="1346"/>
                    </a:lnTo>
                    <a:lnTo>
                      <a:pt x="1374" y="1348"/>
                    </a:lnTo>
                    <a:lnTo>
                      <a:pt x="1374" y="1348"/>
                    </a:lnTo>
                    <a:lnTo>
                      <a:pt x="1384" y="1348"/>
                    </a:lnTo>
                    <a:lnTo>
                      <a:pt x="1398" y="1346"/>
                    </a:lnTo>
                    <a:lnTo>
                      <a:pt x="1424" y="1344"/>
                    </a:lnTo>
                    <a:lnTo>
                      <a:pt x="1424" y="1344"/>
                    </a:lnTo>
                    <a:lnTo>
                      <a:pt x="1440" y="1342"/>
                    </a:lnTo>
                    <a:lnTo>
                      <a:pt x="1446" y="1340"/>
                    </a:lnTo>
                    <a:lnTo>
                      <a:pt x="1450" y="1338"/>
                    </a:lnTo>
                    <a:lnTo>
                      <a:pt x="1450" y="1338"/>
                    </a:lnTo>
                    <a:lnTo>
                      <a:pt x="1448" y="1334"/>
                    </a:lnTo>
                    <a:lnTo>
                      <a:pt x="1444" y="1334"/>
                    </a:lnTo>
                    <a:lnTo>
                      <a:pt x="1434" y="1336"/>
                    </a:lnTo>
                    <a:lnTo>
                      <a:pt x="1434" y="1336"/>
                    </a:lnTo>
                    <a:lnTo>
                      <a:pt x="1434" y="1330"/>
                    </a:lnTo>
                    <a:lnTo>
                      <a:pt x="1436" y="1326"/>
                    </a:lnTo>
                    <a:lnTo>
                      <a:pt x="1440" y="1324"/>
                    </a:lnTo>
                    <a:lnTo>
                      <a:pt x="1444" y="1324"/>
                    </a:lnTo>
                    <a:lnTo>
                      <a:pt x="1454" y="1322"/>
                    </a:lnTo>
                    <a:lnTo>
                      <a:pt x="1464" y="1324"/>
                    </a:lnTo>
                    <a:lnTo>
                      <a:pt x="1464" y="1324"/>
                    </a:lnTo>
                    <a:lnTo>
                      <a:pt x="1478" y="1312"/>
                    </a:lnTo>
                    <a:lnTo>
                      <a:pt x="1494" y="1298"/>
                    </a:lnTo>
                    <a:lnTo>
                      <a:pt x="1494" y="1298"/>
                    </a:lnTo>
                    <a:lnTo>
                      <a:pt x="1488" y="1298"/>
                    </a:lnTo>
                    <a:lnTo>
                      <a:pt x="1482" y="1300"/>
                    </a:lnTo>
                    <a:lnTo>
                      <a:pt x="1474" y="1302"/>
                    </a:lnTo>
                    <a:lnTo>
                      <a:pt x="1470" y="1302"/>
                    </a:lnTo>
                    <a:lnTo>
                      <a:pt x="1466" y="1302"/>
                    </a:lnTo>
                    <a:lnTo>
                      <a:pt x="1466" y="1302"/>
                    </a:lnTo>
                    <a:lnTo>
                      <a:pt x="1462" y="1296"/>
                    </a:lnTo>
                    <a:lnTo>
                      <a:pt x="1460" y="1288"/>
                    </a:lnTo>
                    <a:lnTo>
                      <a:pt x="1460" y="1288"/>
                    </a:lnTo>
                    <a:lnTo>
                      <a:pt x="1452" y="1286"/>
                    </a:lnTo>
                    <a:lnTo>
                      <a:pt x="1446" y="1282"/>
                    </a:lnTo>
                    <a:lnTo>
                      <a:pt x="1440" y="1278"/>
                    </a:lnTo>
                    <a:lnTo>
                      <a:pt x="1436" y="1270"/>
                    </a:lnTo>
                    <a:lnTo>
                      <a:pt x="1436" y="1270"/>
                    </a:lnTo>
                    <a:lnTo>
                      <a:pt x="1440" y="1272"/>
                    </a:lnTo>
                    <a:lnTo>
                      <a:pt x="1442" y="1270"/>
                    </a:lnTo>
                    <a:lnTo>
                      <a:pt x="1444" y="1268"/>
                    </a:lnTo>
                    <a:lnTo>
                      <a:pt x="1446" y="1268"/>
                    </a:lnTo>
                    <a:lnTo>
                      <a:pt x="1446" y="1268"/>
                    </a:lnTo>
                    <a:lnTo>
                      <a:pt x="1442" y="1264"/>
                    </a:lnTo>
                    <a:lnTo>
                      <a:pt x="1438" y="1262"/>
                    </a:lnTo>
                    <a:lnTo>
                      <a:pt x="1434" y="1260"/>
                    </a:lnTo>
                    <a:lnTo>
                      <a:pt x="1430" y="1256"/>
                    </a:lnTo>
                    <a:lnTo>
                      <a:pt x="1430" y="1256"/>
                    </a:lnTo>
                    <a:lnTo>
                      <a:pt x="1434" y="1250"/>
                    </a:lnTo>
                    <a:lnTo>
                      <a:pt x="1436" y="1248"/>
                    </a:lnTo>
                    <a:lnTo>
                      <a:pt x="1446" y="1242"/>
                    </a:lnTo>
                    <a:lnTo>
                      <a:pt x="1456" y="1236"/>
                    </a:lnTo>
                    <a:lnTo>
                      <a:pt x="1460" y="1232"/>
                    </a:lnTo>
                    <a:lnTo>
                      <a:pt x="1464" y="1228"/>
                    </a:lnTo>
                    <a:lnTo>
                      <a:pt x="1464" y="1228"/>
                    </a:lnTo>
                    <a:lnTo>
                      <a:pt x="1464" y="1236"/>
                    </a:lnTo>
                    <a:lnTo>
                      <a:pt x="1468" y="1244"/>
                    </a:lnTo>
                    <a:lnTo>
                      <a:pt x="1474" y="1248"/>
                    </a:lnTo>
                    <a:lnTo>
                      <a:pt x="1480" y="1250"/>
                    </a:lnTo>
                    <a:lnTo>
                      <a:pt x="1490" y="1252"/>
                    </a:lnTo>
                    <a:lnTo>
                      <a:pt x="1498" y="1252"/>
                    </a:lnTo>
                    <a:lnTo>
                      <a:pt x="1516" y="1248"/>
                    </a:lnTo>
                    <a:lnTo>
                      <a:pt x="1516" y="1248"/>
                    </a:lnTo>
                    <a:lnTo>
                      <a:pt x="1516" y="1252"/>
                    </a:lnTo>
                    <a:lnTo>
                      <a:pt x="1516" y="1254"/>
                    </a:lnTo>
                    <a:lnTo>
                      <a:pt x="1516" y="1256"/>
                    </a:lnTo>
                    <a:lnTo>
                      <a:pt x="1516" y="1256"/>
                    </a:lnTo>
                    <a:lnTo>
                      <a:pt x="1524" y="1254"/>
                    </a:lnTo>
                    <a:lnTo>
                      <a:pt x="1532" y="1252"/>
                    </a:lnTo>
                    <a:lnTo>
                      <a:pt x="1546" y="1244"/>
                    </a:lnTo>
                    <a:lnTo>
                      <a:pt x="1552" y="1240"/>
                    </a:lnTo>
                    <a:lnTo>
                      <a:pt x="1558" y="1238"/>
                    </a:lnTo>
                    <a:lnTo>
                      <a:pt x="1566" y="1238"/>
                    </a:lnTo>
                    <a:lnTo>
                      <a:pt x="1574" y="1240"/>
                    </a:lnTo>
                    <a:lnTo>
                      <a:pt x="1574" y="1240"/>
                    </a:lnTo>
                    <a:lnTo>
                      <a:pt x="1572" y="1244"/>
                    </a:lnTo>
                    <a:lnTo>
                      <a:pt x="1570" y="1248"/>
                    </a:lnTo>
                    <a:lnTo>
                      <a:pt x="1564" y="1252"/>
                    </a:lnTo>
                    <a:lnTo>
                      <a:pt x="1558" y="1258"/>
                    </a:lnTo>
                    <a:lnTo>
                      <a:pt x="1556" y="1260"/>
                    </a:lnTo>
                    <a:lnTo>
                      <a:pt x="1554" y="1264"/>
                    </a:lnTo>
                    <a:lnTo>
                      <a:pt x="1554" y="1264"/>
                    </a:lnTo>
                    <a:lnTo>
                      <a:pt x="1558" y="1268"/>
                    </a:lnTo>
                    <a:lnTo>
                      <a:pt x="1562" y="1272"/>
                    </a:lnTo>
                    <a:lnTo>
                      <a:pt x="1570" y="1272"/>
                    </a:lnTo>
                    <a:lnTo>
                      <a:pt x="1578" y="1270"/>
                    </a:lnTo>
                    <a:lnTo>
                      <a:pt x="1578" y="1270"/>
                    </a:lnTo>
                    <a:lnTo>
                      <a:pt x="1574" y="1276"/>
                    </a:lnTo>
                    <a:lnTo>
                      <a:pt x="1574" y="1282"/>
                    </a:lnTo>
                    <a:lnTo>
                      <a:pt x="1572" y="1290"/>
                    </a:lnTo>
                    <a:lnTo>
                      <a:pt x="1570" y="1296"/>
                    </a:lnTo>
                    <a:lnTo>
                      <a:pt x="1570" y="1296"/>
                    </a:lnTo>
                    <a:lnTo>
                      <a:pt x="1566" y="1300"/>
                    </a:lnTo>
                    <a:lnTo>
                      <a:pt x="1562" y="1306"/>
                    </a:lnTo>
                    <a:lnTo>
                      <a:pt x="1556" y="1312"/>
                    </a:lnTo>
                    <a:lnTo>
                      <a:pt x="1556" y="1316"/>
                    </a:lnTo>
                    <a:lnTo>
                      <a:pt x="1556" y="1320"/>
                    </a:lnTo>
                    <a:lnTo>
                      <a:pt x="1556" y="1320"/>
                    </a:lnTo>
                    <a:lnTo>
                      <a:pt x="1560" y="1320"/>
                    </a:lnTo>
                    <a:lnTo>
                      <a:pt x="1566" y="1318"/>
                    </a:lnTo>
                    <a:lnTo>
                      <a:pt x="1574" y="1314"/>
                    </a:lnTo>
                    <a:lnTo>
                      <a:pt x="1574" y="1314"/>
                    </a:lnTo>
                    <a:lnTo>
                      <a:pt x="1568" y="1320"/>
                    </a:lnTo>
                    <a:lnTo>
                      <a:pt x="1560" y="1322"/>
                    </a:lnTo>
                    <a:lnTo>
                      <a:pt x="1542" y="1324"/>
                    </a:lnTo>
                    <a:lnTo>
                      <a:pt x="1542" y="1324"/>
                    </a:lnTo>
                    <a:lnTo>
                      <a:pt x="1544" y="1328"/>
                    </a:lnTo>
                    <a:lnTo>
                      <a:pt x="1546" y="1330"/>
                    </a:lnTo>
                    <a:lnTo>
                      <a:pt x="1548" y="1332"/>
                    </a:lnTo>
                    <a:lnTo>
                      <a:pt x="1548" y="1336"/>
                    </a:lnTo>
                    <a:lnTo>
                      <a:pt x="1548" y="1336"/>
                    </a:lnTo>
                    <a:lnTo>
                      <a:pt x="1544" y="1332"/>
                    </a:lnTo>
                    <a:lnTo>
                      <a:pt x="1540" y="1332"/>
                    </a:lnTo>
                    <a:lnTo>
                      <a:pt x="1532" y="1336"/>
                    </a:lnTo>
                    <a:lnTo>
                      <a:pt x="1532" y="1336"/>
                    </a:lnTo>
                    <a:lnTo>
                      <a:pt x="1534" y="1338"/>
                    </a:lnTo>
                    <a:lnTo>
                      <a:pt x="1536" y="1338"/>
                    </a:lnTo>
                    <a:lnTo>
                      <a:pt x="1536" y="1338"/>
                    </a:lnTo>
                    <a:lnTo>
                      <a:pt x="1526" y="1340"/>
                    </a:lnTo>
                    <a:lnTo>
                      <a:pt x="1514" y="1340"/>
                    </a:lnTo>
                    <a:lnTo>
                      <a:pt x="1514" y="1340"/>
                    </a:lnTo>
                    <a:lnTo>
                      <a:pt x="1514" y="1344"/>
                    </a:lnTo>
                    <a:lnTo>
                      <a:pt x="1516" y="1348"/>
                    </a:lnTo>
                    <a:lnTo>
                      <a:pt x="1524" y="1352"/>
                    </a:lnTo>
                    <a:lnTo>
                      <a:pt x="1534" y="1356"/>
                    </a:lnTo>
                    <a:lnTo>
                      <a:pt x="1544" y="1356"/>
                    </a:lnTo>
                    <a:lnTo>
                      <a:pt x="1544" y="1356"/>
                    </a:lnTo>
                    <a:lnTo>
                      <a:pt x="1538" y="1358"/>
                    </a:lnTo>
                    <a:lnTo>
                      <a:pt x="1532" y="1358"/>
                    </a:lnTo>
                    <a:lnTo>
                      <a:pt x="1520" y="1354"/>
                    </a:lnTo>
                    <a:lnTo>
                      <a:pt x="1520" y="1354"/>
                    </a:lnTo>
                    <a:lnTo>
                      <a:pt x="1518" y="1356"/>
                    </a:lnTo>
                    <a:lnTo>
                      <a:pt x="1516" y="1358"/>
                    </a:lnTo>
                    <a:lnTo>
                      <a:pt x="1514" y="1358"/>
                    </a:lnTo>
                    <a:lnTo>
                      <a:pt x="1510" y="1358"/>
                    </a:lnTo>
                    <a:lnTo>
                      <a:pt x="1510" y="1358"/>
                    </a:lnTo>
                    <a:lnTo>
                      <a:pt x="1514" y="1362"/>
                    </a:lnTo>
                    <a:lnTo>
                      <a:pt x="1518" y="1364"/>
                    </a:lnTo>
                    <a:lnTo>
                      <a:pt x="1528" y="1366"/>
                    </a:lnTo>
                    <a:lnTo>
                      <a:pt x="1528" y="1366"/>
                    </a:lnTo>
                    <a:lnTo>
                      <a:pt x="1526" y="1370"/>
                    </a:lnTo>
                    <a:lnTo>
                      <a:pt x="1522" y="1370"/>
                    </a:lnTo>
                    <a:lnTo>
                      <a:pt x="1512" y="1370"/>
                    </a:lnTo>
                    <a:lnTo>
                      <a:pt x="1512" y="1370"/>
                    </a:lnTo>
                    <a:lnTo>
                      <a:pt x="1512" y="1368"/>
                    </a:lnTo>
                    <a:lnTo>
                      <a:pt x="1514" y="1366"/>
                    </a:lnTo>
                    <a:lnTo>
                      <a:pt x="1518" y="1366"/>
                    </a:lnTo>
                    <a:lnTo>
                      <a:pt x="1518" y="1366"/>
                    </a:lnTo>
                    <a:lnTo>
                      <a:pt x="1512" y="1364"/>
                    </a:lnTo>
                    <a:lnTo>
                      <a:pt x="1508" y="1360"/>
                    </a:lnTo>
                    <a:lnTo>
                      <a:pt x="1508" y="1360"/>
                    </a:lnTo>
                    <a:lnTo>
                      <a:pt x="1504" y="1362"/>
                    </a:lnTo>
                    <a:lnTo>
                      <a:pt x="1500" y="1364"/>
                    </a:lnTo>
                    <a:lnTo>
                      <a:pt x="1494" y="1370"/>
                    </a:lnTo>
                    <a:lnTo>
                      <a:pt x="1494" y="1370"/>
                    </a:lnTo>
                    <a:lnTo>
                      <a:pt x="1496" y="1368"/>
                    </a:lnTo>
                    <a:lnTo>
                      <a:pt x="1498" y="1366"/>
                    </a:lnTo>
                    <a:lnTo>
                      <a:pt x="1504" y="1360"/>
                    </a:lnTo>
                    <a:lnTo>
                      <a:pt x="1504" y="1360"/>
                    </a:lnTo>
                    <a:lnTo>
                      <a:pt x="1488" y="1352"/>
                    </a:lnTo>
                    <a:lnTo>
                      <a:pt x="1488" y="1352"/>
                    </a:lnTo>
                    <a:lnTo>
                      <a:pt x="1480" y="1356"/>
                    </a:lnTo>
                    <a:lnTo>
                      <a:pt x="1474" y="1356"/>
                    </a:lnTo>
                    <a:lnTo>
                      <a:pt x="1468" y="1356"/>
                    </a:lnTo>
                    <a:lnTo>
                      <a:pt x="1468" y="1356"/>
                    </a:lnTo>
                    <a:lnTo>
                      <a:pt x="1472" y="1354"/>
                    </a:lnTo>
                    <a:lnTo>
                      <a:pt x="1476" y="1352"/>
                    </a:lnTo>
                    <a:lnTo>
                      <a:pt x="1486" y="1350"/>
                    </a:lnTo>
                    <a:lnTo>
                      <a:pt x="1486" y="1350"/>
                    </a:lnTo>
                    <a:lnTo>
                      <a:pt x="1480" y="1350"/>
                    </a:lnTo>
                    <a:lnTo>
                      <a:pt x="1474" y="1352"/>
                    </a:lnTo>
                    <a:lnTo>
                      <a:pt x="1468" y="1354"/>
                    </a:lnTo>
                    <a:lnTo>
                      <a:pt x="1462" y="1356"/>
                    </a:lnTo>
                    <a:lnTo>
                      <a:pt x="1462" y="1356"/>
                    </a:lnTo>
                    <a:lnTo>
                      <a:pt x="1468" y="1360"/>
                    </a:lnTo>
                    <a:lnTo>
                      <a:pt x="1474" y="1366"/>
                    </a:lnTo>
                    <a:lnTo>
                      <a:pt x="1480" y="1370"/>
                    </a:lnTo>
                    <a:lnTo>
                      <a:pt x="1484" y="1372"/>
                    </a:lnTo>
                    <a:lnTo>
                      <a:pt x="1490" y="1372"/>
                    </a:lnTo>
                    <a:lnTo>
                      <a:pt x="1490" y="1372"/>
                    </a:lnTo>
                    <a:lnTo>
                      <a:pt x="1488" y="1376"/>
                    </a:lnTo>
                    <a:lnTo>
                      <a:pt x="1490" y="1378"/>
                    </a:lnTo>
                    <a:lnTo>
                      <a:pt x="1492" y="1380"/>
                    </a:lnTo>
                    <a:lnTo>
                      <a:pt x="1496" y="1380"/>
                    </a:lnTo>
                    <a:lnTo>
                      <a:pt x="1496" y="1380"/>
                    </a:lnTo>
                    <a:lnTo>
                      <a:pt x="1492" y="1380"/>
                    </a:lnTo>
                    <a:lnTo>
                      <a:pt x="1486" y="1378"/>
                    </a:lnTo>
                    <a:lnTo>
                      <a:pt x="1478" y="1372"/>
                    </a:lnTo>
                    <a:lnTo>
                      <a:pt x="1460" y="1356"/>
                    </a:lnTo>
                    <a:lnTo>
                      <a:pt x="1460" y="1356"/>
                    </a:lnTo>
                    <a:lnTo>
                      <a:pt x="1442" y="1360"/>
                    </a:lnTo>
                    <a:lnTo>
                      <a:pt x="1424" y="1362"/>
                    </a:lnTo>
                    <a:lnTo>
                      <a:pt x="1406" y="1362"/>
                    </a:lnTo>
                    <a:lnTo>
                      <a:pt x="1388" y="1358"/>
                    </a:lnTo>
                    <a:lnTo>
                      <a:pt x="1354" y="1350"/>
                    </a:lnTo>
                    <a:lnTo>
                      <a:pt x="1322" y="1340"/>
                    </a:lnTo>
                    <a:lnTo>
                      <a:pt x="1322" y="1340"/>
                    </a:lnTo>
                    <a:lnTo>
                      <a:pt x="1332" y="1360"/>
                    </a:lnTo>
                    <a:lnTo>
                      <a:pt x="1342" y="1378"/>
                    </a:lnTo>
                    <a:lnTo>
                      <a:pt x="1362" y="1412"/>
                    </a:lnTo>
                    <a:lnTo>
                      <a:pt x="1362" y="1412"/>
                    </a:lnTo>
                    <a:lnTo>
                      <a:pt x="1374" y="1406"/>
                    </a:lnTo>
                    <a:lnTo>
                      <a:pt x="1382" y="1404"/>
                    </a:lnTo>
                    <a:lnTo>
                      <a:pt x="1390" y="1404"/>
                    </a:lnTo>
                    <a:lnTo>
                      <a:pt x="1390" y="1404"/>
                    </a:lnTo>
                    <a:lnTo>
                      <a:pt x="1390" y="1410"/>
                    </a:lnTo>
                    <a:lnTo>
                      <a:pt x="1390" y="1414"/>
                    </a:lnTo>
                    <a:lnTo>
                      <a:pt x="1392" y="1416"/>
                    </a:lnTo>
                    <a:lnTo>
                      <a:pt x="1392" y="1416"/>
                    </a:lnTo>
                    <a:lnTo>
                      <a:pt x="1394" y="1416"/>
                    </a:lnTo>
                    <a:lnTo>
                      <a:pt x="1396" y="1414"/>
                    </a:lnTo>
                    <a:lnTo>
                      <a:pt x="1400" y="1414"/>
                    </a:lnTo>
                    <a:lnTo>
                      <a:pt x="1400" y="1414"/>
                    </a:lnTo>
                    <a:lnTo>
                      <a:pt x="1396" y="1420"/>
                    </a:lnTo>
                    <a:lnTo>
                      <a:pt x="1392" y="1426"/>
                    </a:lnTo>
                    <a:lnTo>
                      <a:pt x="1382" y="1438"/>
                    </a:lnTo>
                    <a:lnTo>
                      <a:pt x="1382" y="1438"/>
                    </a:lnTo>
                    <a:lnTo>
                      <a:pt x="1394" y="1454"/>
                    </a:lnTo>
                    <a:lnTo>
                      <a:pt x="1406" y="1472"/>
                    </a:lnTo>
                    <a:lnTo>
                      <a:pt x="1406" y="1472"/>
                    </a:lnTo>
                    <a:lnTo>
                      <a:pt x="1434" y="1474"/>
                    </a:lnTo>
                    <a:lnTo>
                      <a:pt x="1458" y="1478"/>
                    </a:lnTo>
                    <a:lnTo>
                      <a:pt x="1458" y="1478"/>
                    </a:lnTo>
                    <a:lnTo>
                      <a:pt x="1464" y="1474"/>
                    </a:lnTo>
                    <a:lnTo>
                      <a:pt x="1468" y="1470"/>
                    </a:lnTo>
                    <a:lnTo>
                      <a:pt x="1468" y="1470"/>
                    </a:lnTo>
                    <a:lnTo>
                      <a:pt x="1468" y="1472"/>
                    </a:lnTo>
                    <a:lnTo>
                      <a:pt x="1466" y="1474"/>
                    </a:lnTo>
                    <a:lnTo>
                      <a:pt x="1462" y="1478"/>
                    </a:lnTo>
                    <a:lnTo>
                      <a:pt x="1462" y="1478"/>
                    </a:lnTo>
                    <a:lnTo>
                      <a:pt x="1482" y="1480"/>
                    </a:lnTo>
                    <a:lnTo>
                      <a:pt x="1500" y="1484"/>
                    </a:lnTo>
                    <a:lnTo>
                      <a:pt x="1500" y="1484"/>
                    </a:lnTo>
                    <a:lnTo>
                      <a:pt x="1488" y="1484"/>
                    </a:lnTo>
                    <a:lnTo>
                      <a:pt x="1476" y="1484"/>
                    </a:lnTo>
                    <a:lnTo>
                      <a:pt x="1456" y="1480"/>
                    </a:lnTo>
                    <a:lnTo>
                      <a:pt x="1434" y="1476"/>
                    </a:lnTo>
                    <a:lnTo>
                      <a:pt x="1410" y="1474"/>
                    </a:lnTo>
                    <a:lnTo>
                      <a:pt x="1410" y="1474"/>
                    </a:lnTo>
                    <a:lnTo>
                      <a:pt x="1412" y="1476"/>
                    </a:lnTo>
                    <a:lnTo>
                      <a:pt x="1414" y="1480"/>
                    </a:lnTo>
                    <a:lnTo>
                      <a:pt x="1418" y="1486"/>
                    </a:lnTo>
                    <a:lnTo>
                      <a:pt x="1418" y="1486"/>
                    </a:lnTo>
                    <a:lnTo>
                      <a:pt x="1422" y="1482"/>
                    </a:lnTo>
                    <a:lnTo>
                      <a:pt x="1426" y="1480"/>
                    </a:lnTo>
                    <a:lnTo>
                      <a:pt x="1426" y="1480"/>
                    </a:lnTo>
                    <a:lnTo>
                      <a:pt x="1454" y="1482"/>
                    </a:lnTo>
                    <a:lnTo>
                      <a:pt x="1478" y="1488"/>
                    </a:lnTo>
                    <a:lnTo>
                      <a:pt x="1478" y="1488"/>
                    </a:lnTo>
                    <a:lnTo>
                      <a:pt x="1486" y="1490"/>
                    </a:lnTo>
                    <a:lnTo>
                      <a:pt x="1492" y="1488"/>
                    </a:lnTo>
                    <a:lnTo>
                      <a:pt x="1498" y="1486"/>
                    </a:lnTo>
                    <a:lnTo>
                      <a:pt x="1506" y="1482"/>
                    </a:lnTo>
                    <a:lnTo>
                      <a:pt x="1506" y="1482"/>
                    </a:lnTo>
                    <a:lnTo>
                      <a:pt x="1510" y="1482"/>
                    </a:lnTo>
                    <a:lnTo>
                      <a:pt x="1514" y="1482"/>
                    </a:lnTo>
                    <a:lnTo>
                      <a:pt x="1520" y="1482"/>
                    </a:lnTo>
                    <a:lnTo>
                      <a:pt x="1524" y="1480"/>
                    </a:lnTo>
                    <a:lnTo>
                      <a:pt x="1524" y="1480"/>
                    </a:lnTo>
                    <a:lnTo>
                      <a:pt x="1524" y="1482"/>
                    </a:lnTo>
                    <a:lnTo>
                      <a:pt x="1520" y="1482"/>
                    </a:lnTo>
                    <a:lnTo>
                      <a:pt x="1512" y="1484"/>
                    </a:lnTo>
                    <a:lnTo>
                      <a:pt x="1512" y="1484"/>
                    </a:lnTo>
                    <a:lnTo>
                      <a:pt x="1510" y="1490"/>
                    </a:lnTo>
                    <a:lnTo>
                      <a:pt x="1506" y="1494"/>
                    </a:lnTo>
                    <a:lnTo>
                      <a:pt x="1492" y="1502"/>
                    </a:lnTo>
                    <a:lnTo>
                      <a:pt x="1478" y="1506"/>
                    </a:lnTo>
                    <a:lnTo>
                      <a:pt x="1460" y="1508"/>
                    </a:lnTo>
                    <a:lnTo>
                      <a:pt x="1460" y="1508"/>
                    </a:lnTo>
                    <a:lnTo>
                      <a:pt x="1452" y="1504"/>
                    </a:lnTo>
                    <a:lnTo>
                      <a:pt x="1448" y="1502"/>
                    </a:lnTo>
                    <a:lnTo>
                      <a:pt x="1444" y="1500"/>
                    </a:lnTo>
                    <a:lnTo>
                      <a:pt x="1444" y="1500"/>
                    </a:lnTo>
                    <a:lnTo>
                      <a:pt x="1442" y="1506"/>
                    </a:lnTo>
                    <a:lnTo>
                      <a:pt x="1442" y="1510"/>
                    </a:lnTo>
                    <a:lnTo>
                      <a:pt x="1444" y="1514"/>
                    </a:lnTo>
                    <a:lnTo>
                      <a:pt x="1448" y="1516"/>
                    </a:lnTo>
                    <a:lnTo>
                      <a:pt x="1456" y="1520"/>
                    </a:lnTo>
                    <a:lnTo>
                      <a:pt x="1458" y="1522"/>
                    </a:lnTo>
                    <a:lnTo>
                      <a:pt x="1460" y="1526"/>
                    </a:lnTo>
                    <a:lnTo>
                      <a:pt x="1460" y="1526"/>
                    </a:lnTo>
                    <a:lnTo>
                      <a:pt x="1470" y="1524"/>
                    </a:lnTo>
                    <a:lnTo>
                      <a:pt x="1474" y="1526"/>
                    </a:lnTo>
                    <a:lnTo>
                      <a:pt x="1478" y="1526"/>
                    </a:lnTo>
                    <a:lnTo>
                      <a:pt x="1478" y="1526"/>
                    </a:lnTo>
                    <a:lnTo>
                      <a:pt x="1480" y="1526"/>
                    </a:lnTo>
                    <a:lnTo>
                      <a:pt x="1480" y="1524"/>
                    </a:lnTo>
                    <a:lnTo>
                      <a:pt x="1480" y="1522"/>
                    </a:lnTo>
                    <a:lnTo>
                      <a:pt x="1482" y="1522"/>
                    </a:lnTo>
                    <a:lnTo>
                      <a:pt x="1482" y="1522"/>
                    </a:lnTo>
                    <a:lnTo>
                      <a:pt x="1484" y="1522"/>
                    </a:lnTo>
                    <a:lnTo>
                      <a:pt x="1482" y="1524"/>
                    </a:lnTo>
                    <a:lnTo>
                      <a:pt x="1480" y="1528"/>
                    </a:lnTo>
                    <a:lnTo>
                      <a:pt x="1480" y="1528"/>
                    </a:lnTo>
                    <a:lnTo>
                      <a:pt x="1484" y="1528"/>
                    </a:lnTo>
                    <a:lnTo>
                      <a:pt x="1488" y="1528"/>
                    </a:lnTo>
                    <a:lnTo>
                      <a:pt x="1492" y="1528"/>
                    </a:lnTo>
                    <a:lnTo>
                      <a:pt x="1494" y="1530"/>
                    </a:lnTo>
                    <a:lnTo>
                      <a:pt x="1494" y="1530"/>
                    </a:lnTo>
                    <a:lnTo>
                      <a:pt x="1498" y="1524"/>
                    </a:lnTo>
                    <a:lnTo>
                      <a:pt x="1502" y="1516"/>
                    </a:lnTo>
                    <a:lnTo>
                      <a:pt x="1502" y="1516"/>
                    </a:lnTo>
                    <a:lnTo>
                      <a:pt x="1502" y="1520"/>
                    </a:lnTo>
                    <a:lnTo>
                      <a:pt x="1502" y="1524"/>
                    </a:lnTo>
                    <a:lnTo>
                      <a:pt x="1498" y="1532"/>
                    </a:lnTo>
                    <a:lnTo>
                      <a:pt x="1498" y="1532"/>
                    </a:lnTo>
                    <a:lnTo>
                      <a:pt x="1502" y="1534"/>
                    </a:lnTo>
                    <a:lnTo>
                      <a:pt x="1504" y="1534"/>
                    </a:lnTo>
                    <a:lnTo>
                      <a:pt x="1510" y="1530"/>
                    </a:lnTo>
                    <a:lnTo>
                      <a:pt x="1516" y="1526"/>
                    </a:lnTo>
                    <a:lnTo>
                      <a:pt x="1520" y="1524"/>
                    </a:lnTo>
                    <a:lnTo>
                      <a:pt x="1524" y="1524"/>
                    </a:lnTo>
                    <a:lnTo>
                      <a:pt x="1524" y="1524"/>
                    </a:lnTo>
                    <a:lnTo>
                      <a:pt x="1520" y="1528"/>
                    </a:lnTo>
                    <a:lnTo>
                      <a:pt x="1516" y="1532"/>
                    </a:lnTo>
                    <a:lnTo>
                      <a:pt x="1512" y="1536"/>
                    </a:lnTo>
                    <a:lnTo>
                      <a:pt x="1508" y="1540"/>
                    </a:lnTo>
                    <a:lnTo>
                      <a:pt x="1508" y="1540"/>
                    </a:lnTo>
                    <a:lnTo>
                      <a:pt x="1512" y="1540"/>
                    </a:lnTo>
                    <a:lnTo>
                      <a:pt x="1520" y="1538"/>
                    </a:lnTo>
                    <a:lnTo>
                      <a:pt x="1526" y="1538"/>
                    </a:lnTo>
                    <a:lnTo>
                      <a:pt x="1532" y="1540"/>
                    </a:lnTo>
                    <a:lnTo>
                      <a:pt x="1532" y="1540"/>
                    </a:lnTo>
                    <a:lnTo>
                      <a:pt x="1530" y="1544"/>
                    </a:lnTo>
                    <a:lnTo>
                      <a:pt x="1526" y="1550"/>
                    </a:lnTo>
                    <a:lnTo>
                      <a:pt x="1516" y="1556"/>
                    </a:lnTo>
                    <a:lnTo>
                      <a:pt x="1506" y="1562"/>
                    </a:lnTo>
                    <a:lnTo>
                      <a:pt x="1502" y="1566"/>
                    </a:lnTo>
                    <a:lnTo>
                      <a:pt x="1498" y="1572"/>
                    </a:lnTo>
                    <a:lnTo>
                      <a:pt x="1498" y="1572"/>
                    </a:lnTo>
                    <a:lnTo>
                      <a:pt x="1500" y="1574"/>
                    </a:lnTo>
                    <a:lnTo>
                      <a:pt x="1502" y="1574"/>
                    </a:lnTo>
                    <a:lnTo>
                      <a:pt x="1508" y="1572"/>
                    </a:lnTo>
                    <a:lnTo>
                      <a:pt x="1518" y="1568"/>
                    </a:lnTo>
                    <a:lnTo>
                      <a:pt x="1518" y="1568"/>
                    </a:lnTo>
                    <a:lnTo>
                      <a:pt x="1518" y="1570"/>
                    </a:lnTo>
                    <a:lnTo>
                      <a:pt x="1516" y="1572"/>
                    </a:lnTo>
                    <a:lnTo>
                      <a:pt x="1518" y="1572"/>
                    </a:lnTo>
                    <a:lnTo>
                      <a:pt x="1520" y="1574"/>
                    </a:lnTo>
                    <a:lnTo>
                      <a:pt x="1520" y="1574"/>
                    </a:lnTo>
                    <a:lnTo>
                      <a:pt x="1516" y="1578"/>
                    </a:lnTo>
                    <a:lnTo>
                      <a:pt x="1514" y="1580"/>
                    </a:lnTo>
                    <a:lnTo>
                      <a:pt x="1512" y="1582"/>
                    </a:lnTo>
                    <a:lnTo>
                      <a:pt x="1512" y="1582"/>
                    </a:lnTo>
                    <a:lnTo>
                      <a:pt x="1514" y="1586"/>
                    </a:lnTo>
                    <a:lnTo>
                      <a:pt x="1518" y="1588"/>
                    </a:lnTo>
                    <a:lnTo>
                      <a:pt x="1526" y="1590"/>
                    </a:lnTo>
                    <a:lnTo>
                      <a:pt x="1526" y="1590"/>
                    </a:lnTo>
                    <a:lnTo>
                      <a:pt x="1528" y="1588"/>
                    </a:lnTo>
                    <a:lnTo>
                      <a:pt x="1528" y="1588"/>
                    </a:lnTo>
                    <a:lnTo>
                      <a:pt x="1530" y="1588"/>
                    </a:lnTo>
                    <a:lnTo>
                      <a:pt x="1530" y="1588"/>
                    </a:lnTo>
                    <a:lnTo>
                      <a:pt x="1524" y="1582"/>
                    </a:lnTo>
                    <a:lnTo>
                      <a:pt x="1520" y="1580"/>
                    </a:lnTo>
                    <a:lnTo>
                      <a:pt x="1518" y="1576"/>
                    </a:lnTo>
                    <a:lnTo>
                      <a:pt x="1518" y="1576"/>
                    </a:lnTo>
                    <a:lnTo>
                      <a:pt x="1526" y="1584"/>
                    </a:lnTo>
                    <a:lnTo>
                      <a:pt x="1530" y="1586"/>
                    </a:lnTo>
                    <a:lnTo>
                      <a:pt x="1534" y="1586"/>
                    </a:lnTo>
                    <a:lnTo>
                      <a:pt x="1536" y="1584"/>
                    </a:lnTo>
                    <a:lnTo>
                      <a:pt x="1536" y="1584"/>
                    </a:lnTo>
                    <a:lnTo>
                      <a:pt x="1540" y="1590"/>
                    </a:lnTo>
                    <a:lnTo>
                      <a:pt x="1544" y="1594"/>
                    </a:lnTo>
                    <a:lnTo>
                      <a:pt x="1544" y="1594"/>
                    </a:lnTo>
                    <a:lnTo>
                      <a:pt x="1542" y="1594"/>
                    </a:lnTo>
                    <a:lnTo>
                      <a:pt x="1540" y="1592"/>
                    </a:lnTo>
                    <a:lnTo>
                      <a:pt x="1536" y="1588"/>
                    </a:lnTo>
                    <a:lnTo>
                      <a:pt x="1536" y="1588"/>
                    </a:lnTo>
                    <a:lnTo>
                      <a:pt x="1532" y="1588"/>
                    </a:lnTo>
                    <a:lnTo>
                      <a:pt x="1528" y="1592"/>
                    </a:lnTo>
                    <a:lnTo>
                      <a:pt x="1528" y="1592"/>
                    </a:lnTo>
                    <a:lnTo>
                      <a:pt x="1536" y="1596"/>
                    </a:lnTo>
                    <a:lnTo>
                      <a:pt x="1544" y="1604"/>
                    </a:lnTo>
                    <a:lnTo>
                      <a:pt x="1546" y="1610"/>
                    </a:lnTo>
                    <a:lnTo>
                      <a:pt x="1546" y="1614"/>
                    </a:lnTo>
                    <a:lnTo>
                      <a:pt x="1546" y="1620"/>
                    </a:lnTo>
                    <a:lnTo>
                      <a:pt x="1544" y="1624"/>
                    </a:lnTo>
                    <a:lnTo>
                      <a:pt x="1544" y="1624"/>
                    </a:lnTo>
                    <a:lnTo>
                      <a:pt x="1536" y="1622"/>
                    </a:lnTo>
                    <a:lnTo>
                      <a:pt x="1528" y="1620"/>
                    </a:lnTo>
                    <a:lnTo>
                      <a:pt x="1514" y="1612"/>
                    </a:lnTo>
                    <a:lnTo>
                      <a:pt x="1502" y="1604"/>
                    </a:lnTo>
                    <a:lnTo>
                      <a:pt x="1490" y="1594"/>
                    </a:lnTo>
                    <a:lnTo>
                      <a:pt x="1490" y="1594"/>
                    </a:lnTo>
                    <a:lnTo>
                      <a:pt x="1488" y="1600"/>
                    </a:lnTo>
                    <a:lnTo>
                      <a:pt x="1484" y="1608"/>
                    </a:lnTo>
                    <a:lnTo>
                      <a:pt x="1484" y="1608"/>
                    </a:lnTo>
                    <a:lnTo>
                      <a:pt x="1484" y="1604"/>
                    </a:lnTo>
                    <a:lnTo>
                      <a:pt x="1484" y="1600"/>
                    </a:lnTo>
                    <a:lnTo>
                      <a:pt x="1484" y="1592"/>
                    </a:lnTo>
                    <a:lnTo>
                      <a:pt x="1484" y="1592"/>
                    </a:lnTo>
                    <a:lnTo>
                      <a:pt x="1474" y="1594"/>
                    </a:lnTo>
                    <a:lnTo>
                      <a:pt x="1466" y="1600"/>
                    </a:lnTo>
                    <a:lnTo>
                      <a:pt x="1460" y="1606"/>
                    </a:lnTo>
                    <a:lnTo>
                      <a:pt x="1456" y="1614"/>
                    </a:lnTo>
                    <a:lnTo>
                      <a:pt x="1456" y="1614"/>
                    </a:lnTo>
                    <a:lnTo>
                      <a:pt x="1464" y="1614"/>
                    </a:lnTo>
                    <a:lnTo>
                      <a:pt x="1472" y="1616"/>
                    </a:lnTo>
                    <a:lnTo>
                      <a:pt x="1478" y="1616"/>
                    </a:lnTo>
                    <a:lnTo>
                      <a:pt x="1480" y="1616"/>
                    </a:lnTo>
                    <a:lnTo>
                      <a:pt x="1482" y="1614"/>
                    </a:lnTo>
                    <a:lnTo>
                      <a:pt x="1482" y="1614"/>
                    </a:lnTo>
                    <a:lnTo>
                      <a:pt x="1484" y="1618"/>
                    </a:lnTo>
                    <a:lnTo>
                      <a:pt x="1482" y="1622"/>
                    </a:lnTo>
                    <a:lnTo>
                      <a:pt x="1482" y="1626"/>
                    </a:lnTo>
                    <a:lnTo>
                      <a:pt x="1482" y="1630"/>
                    </a:lnTo>
                    <a:lnTo>
                      <a:pt x="1482" y="1630"/>
                    </a:lnTo>
                    <a:lnTo>
                      <a:pt x="1470" y="1632"/>
                    </a:lnTo>
                    <a:lnTo>
                      <a:pt x="1456" y="1634"/>
                    </a:lnTo>
                    <a:lnTo>
                      <a:pt x="1456" y="1634"/>
                    </a:lnTo>
                    <a:lnTo>
                      <a:pt x="1460" y="1630"/>
                    </a:lnTo>
                    <a:lnTo>
                      <a:pt x="1466" y="1626"/>
                    </a:lnTo>
                    <a:lnTo>
                      <a:pt x="1466" y="1626"/>
                    </a:lnTo>
                    <a:lnTo>
                      <a:pt x="1460" y="1622"/>
                    </a:lnTo>
                    <a:lnTo>
                      <a:pt x="1456" y="1622"/>
                    </a:lnTo>
                    <a:lnTo>
                      <a:pt x="1454" y="1624"/>
                    </a:lnTo>
                    <a:lnTo>
                      <a:pt x="1450" y="1626"/>
                    </a:lnTo>
                    <a:lnTo>
                      <a:pt x="1446" y="1632"/>
                    </a:lnTo>
                    <a:lnTo>
                      <a:pt x="1442" y="1640"/>
                    </a:lnTo>
                    <a:lnTo>
                      <a:pt x="1442" y="1640"/>
                    </a:lnTo>
                    <a:lnTo>
                      <a:pt x="1446" y="1640"/>
                    </a:lnTo>
                    <a:lnTo>
                      <a:pt x="1448" y="1638"/>
                    </a:lnTo>
                    <a:lnTo>
                      <a:pt x="1450" y="1636"/>
                    </a:lnTo>
                    <a:lnTo>
                      <a:pt x="1454" y="1634"/>
                    </a:lnTo>
                    <a:lnTo>
                      <a:pt x="1454" y="1634"/>
                    </a:lnTo>
                    <a:lnTo>
                      <a:pt x="1452" y="1640"/>
                    </a:lnTo>
                    <a:lnTo>
                      <a:pt x="1448" y="1642"/>
                    </a:lnTo>
                    <a:lnTo>
                      <a:pt x="1436" y="1646"/>
                    </a:lnTo>
                    <a:lnTo>
                      <a:pt x="1436" y="1646"/>
                    </a:lnTo>
                    <a:lnTo>
                      <a:pt x="1440" y="1650"/>
                    </a:lnTo>
                    <a:lnTo>
                      <a:pt x="1442" y="1652"/>
                    </a:lnTo>
                    <a:lnTo>
                      <a:pt x="1450" y="1656"/>
                    </a:lnTo>
                    <a:lnTo>
                      <a:pt x="1450" y="1656"/>
                    </a:lnTo>
                    <a:lnTo>
                      <a:pt x="1454" y="1652"/>
                    </a:lnTo>
                    <a:lnTo>
                      <a:pt x="1456" y="1650"/>
                    </a:lnTo>
                    <a:lnTo>
                      <a:pt x="1462" y="1642"/>
                    </a:lnTo>
                    <a:lnTo>
                      <a:pt x="1462" y="1642"/>
                    </a:lnTo>
                    <a:lnTo>
                      <a:pt x="1462" y="1644"/>
                    </a:lnTo>
                    <a:lnTo>
                      <a:pt x="1458" y="1648"/>
                    </a:lnTo>
                    <a:lnTo>
                      <a:pt x="1456" y="1652"/>
                    </a:lnTo>
                    <a:lnTo>
                      <a:pt x="1452" y="1656"/>
                    </a:lnTo>
                    <a:lnTo>
                      <a:pt x="1452" y="1656"/>
                    </a:lnTo>
                    <a:lnTo>
                      <a:pt x="1460" y="1660"/>
                    </a:lnTo>
                    <a:lnTo>
                      <a:pt x="1464" y="1662"/>
                    </a:lnTo>
                    <a:lnTo>
                      <a:pt x="1468" y="1664"/>
                    </a:lnTo>
                    <a:lnTo>
                      <a:pt x="1468" y="1664"/>
                    </a:lnTo>
                    <a:lnTo>
                      <a:pt x="1464" y="1668"/>
                    </a:lnTo>
                    <a:lnTo>
                      <a:pt x="1460" y="1670"/>
                    </a:lnTo>
                    <a:lnTo>
                      <a:pt x="1454" y="1672"/>
                    </a:lnTo>
                    <a:lnTo>
                      <a:pt x="1450" y="1676"/>
                    </a:lnTo>
                    <a:lnTo>
                      <a:pt x="1450" y="1676"/>
                    </a:lnTo>
                    <a:lnTo>
                      <a:pt x="1452" y="1684"/>
                    </a:lnTo>
                    <a:lnTo>
                      <a:pt x="1456" y="1688"/>
                    </a:lnTo>
                    <a:lnTo>
                      <a:pt x="1458" y="1692"/>
                    </a:lnTo>
                    <a:lnTo>
                      <a:pt x="1460" y="1700"/>
                    </a:lnTo>
                    <a:lnTo>
                      <a:pt x="1460" y="1700"/>
                    </a:lnTo>
                    <a:lnTo>
                      <a:pt x="1458" y="1706"/>
                    </a:lnTo>
                    <a:lnTo>
                      <a:pt x="1458" y="1714"/>
                    </a:lnTo>
                    <a:lnTo>
                      <a:pt x="1456" y="1722"/>
                    </a:lnTo>
                    <a:lnTo>
                      <a:pt x="1454" y="1728"/>
                    </a:lnTo>
                    <a:lnTo>
                      <a:pt x="1454" y="1728"/>
                    </a:lnTo>
                    <a:lnTo>
                      <a:pt x="1456" y="1730"/>
                    </a:lnTo>
                    <a:lnTo>
                      <a:pt x="1456" y="1728"/>
                    </a:lnTo>
                    <a:lnTo>
                      <a:pt x="1458" y="1726"/>
                    </a:lnTo>
                    <a:lnTo>
                      <a:pt x="1460" y="1728"/>
                    </a:lnTo>
                    <a:lnTo>
                      <a:pt x="1460" y="1728"/>
                    </a:lnTo>
                    <a:lnTo>
                      <a:pt x="1458" y="1730"/>
                    </a:lnTo>
                    <a:lnTo>
                      <a:pt x="1454" y="1732"/>
                    </a:lnTo>
                    <a:lnTo>
                      <a:pt x="1444" y="1732"/>
                    </a:lnTo>
                    <a:lnTo>
                      <a:pt x="1444" y="1732"/>
                    </a:lnTo>
                    <a:lnTo>
                      <a:pt x="1450" y="1738"/>
                    </a:lnTo>
                    <a:lnTo>
                      <a:pt x="1456" y="1740"/>
                    </a:lnTo>
                    <a:lnTo>
                      <a:pt x="1466" y="1740"/>
                    </a:lnTo>
                    <a:lnTo>
                      <a:pt x="1474" y="1738"/>
                    </a:lnTo>
                    <a:lnTo>
                      <a:pt x="1474" y="1738"/>
                    </a:lnTo>
                    <a:lnTo>
                      <a:pt x="1474" y="1736"/>
                    </a:lnTo>
                    <a:lnTo>
                      <a:pt x="1472" y="1736"/>
                    </a:lnTo>
                    <a:lnTo>
                      <a:pt x="1472" y="1736"/>
                    </a:lnTo>
                    <a:lnTo>
                      <a:pt x="1480" y="1736"/>
                    </a:lnTo>
                    <a:lnTo>
                      <a:pt x="1488" y="1734"/>
                    </a:lnTo>
                    <a:lnTo>
                      <a:pt x="1492" y="1732"/>
                    </a:lnTo>
                    <a:lnTo>
                      <a:pt x="1498" y="1730"/>
                    </a:lnTo>
                    <a:lnTo>
                      <a:pt x="1506" y="1722"/>
                    </a:lnTo>
                    <a:lnTo>
                      <a:pt x="1514" y="1710"/>
                    </a:lnTo>
                    <a:lnTo>
                      <a:pt x="1514" y="1710"/>
                    </a:lnTo>
                    <a:lnTo>
                      <a:pt x="1526" y="1698"/>
                    </a:lnTo>
                    <a:lnTo>
                      <a:pt x="1532" y="1690"/>
                    </a:lnTo>
                    <a:lnTo>
                      <a:pt x="1532" y="1690"/>
                    </a:lnTo>
                    <a:lnTo>
                      <a:pt x="1530" y="1686"/>
                    </a:lnTo>
                    <a:lnTo>
                      <a:pt x="1524" y="1682"/>
                    </a:lnTo>
                    <a:lnTo>
                      <a:pt x="1512" y="1678"/>
                    </a:lnTo>
                    <a:lnTo>
                      <a:pt x="1512" y="1678"/>
                    </a:lnTo>
                    <a:lnTo>
                      <a:pt x="1512" y="1694"/>
                    </a:lnTo>
                    <a:lnTo>
                      <a:pt x="1508" y="1702"/>
                    </a:lnTo>
                    <a:lnTo>
                      <a:pt x="1506" y="1704"/>
                    </a:lnTo>
                    <a:lnTo>
                      <a:pt x="1502" y="1708"/>
                    </a:lnTo>
                    <a:lnTo>
                      <a:pt x="1502" y="1708"/>
                    </a:lnTo>
                    <a:lnTo>
                      <a:pt x="1502" y="1716"/>
                    </a:lnTo>
                    <a:lnTo>
                      <a:pt x="1500" y="1722"/>
                    </a:lnTo>
                    <a:lnTo>
                      <a:pt x="1496" y="1728"/>
                    </a:lnTo>
                    <a:lnTo>
                      <a:pt x="1490" y="1728"/>
                    </a:lnTo>
                    <a:lnTo>
                      <a:pt x="1484" y="1728"/>
                    </a:lnTo>
                    <a:lnTo>
                      <a:pt x="1480" y="1726"/>
                    </a:lnTo>
                    <a:lnTo>
                      <a:pt x="1476" y="1722"/>
                    </a:lnTo>
                    <a:lnTo>
                      <a:pt x="1474" y="1716"/>
                    </a:lnTo>
                    <a:lnTo>
                      <a:pt x="1474" y="1716"/>
                    </a:lnTo>
                    <a:lnTo>
                      <a:pt x="1476" y="1712"/>
                    </a:lnTo>
                    <a:lnTo>
                      <a:pt x="1478" y="1708"/>
                    </a:lnTo>
                    <a:lnTo>
                      <a:pt x="1482" y="1704"/>
                    </a:lnTo>
                    <a:lnTo>
                      <a:pt x="1484" y="1700"/>
                    </a:lnTo>
                    <a:lnTo>
                      <a:pt x="1484" y="1696"/>
                    </a:lnTo>
                    <a:lnTo>
                      <a:pt x="1482" y="1694"/>
                    </a:lnTo>
                    <a:lnTo>
                      <a:pt x="1482" y="1694"/>
                    </a:lnTo>
                    <a:lnTo>
                      <a:pt x="1486" y="1688"/>
                    </a:lnTo>
                    <a:lnTo>
                      <a:pt x="1492" y="1684"/>
                    </a:lnTo>
                    <a:lnTo>
                      <a:pt x="1496" y="1680"/>
                    </a:lnTo>
                    <a:lnTo>
                      <a:pt x="1500" y="1674"/>
                    </a:lnTo>
                    <a:lnTo>
                      <a:pt x="1500" y="1674"/>
                    </a:lnTo>
                    <a:lnTo>
                      <a:pt x="1496" y="1674"/>
                    </a:lnTo>
                    <a:lnTo>
                      <a:pt x="1492" y="1674"/>
                    </a:lnTo>
                    <a:lnTo>
                      <a:pt x="1488" y="1676"/>
                    </a:lnTo>
                    <a:lnTo>
                      <a:pt x="1484" y="1674"/>
                    </a:lnTo>
                    <a:lnTo>
                      <a:pt x="1484" y="1674"/>
                    </a:lnTo>
                    <a:lnTo>
                      <a:pt x="1486" y="1668"/>
                    </a:lnTo>
                    <a:lnTo>
                      <a:pt x="1488" y="1664"/>
                    </a:lnTo>
                    <a:lnTo>
                      <a:pt x="1488" y="1664"/>
                    </a:lnTo>
                    <a:lnTo>
                      <a:pt x="1480" y="1662"/>
                    </a:lnTo>
                    <a:lnTo>
                      <a:pt x="1476" y="1656"/>
                    </a:lnTo>
                    <a:lnTo>
                      <a:pt x="1476" y="1650"/>
                    </a:lnTo>
                    <a:lnTo>
                      <a:pt x="1478" y="1644"/>
                    </a:lnTo>
                    <a:lnTo>
                      <a:pt x="1482" y="1640"/>
                    </a:lnTo>
                    <a:lnTo>
                      <a:pt x="1488" y="1638"/>
                    </a:lnTo>
                    <a:lnTo>
                      <a:pt x="1492" y="1640"/>
                    </a:lnTo>
                    <a:lnTo>
                      <a:pt x="1498" y="1648"/>
                    </a:lnTo>
                    <a:lnTo>
                      <a:pt x="1498" y="1648"/>
                    </a:lnTo>
                    <a:lnTo>
                      <a:pt x="1498" y="1646"/>
                    </a:lnTo>
                    <a:lnTo>
                      <a:pt x="1500" y="1642"/>
                    </a:lnTo>
                    <a:lnTo>
                      <a:pt x="1498" y="1640"/>
                    </a:lnTo>
                    <a:lnTo>
                      <a:pt x="1496" y="1638"/>
                    </a:lnTo>
                    <a:lnTo>
                      <a:pt x="1496" y="1638"/>
                    </a:lnTo>
                    <a:lnTo>
                      <a:pt x="1500" y="1638"/>
                    </a:lnTo>
                    <a:lnTo>
                      <a:pt x="1502" y="1638"/>
                    </a:lnTo>
                    <a:lnTo>
                      <a:pt x="1506" y="1636"/>
                    </a:lnTo>
                    <a:lnTo>
                      <a:pt x="1510" y="1636"/>
                    </a:lnTo>
                    <a:lnTo>
                      <a:pt x="1510" y="1636"/>
                    </a:lnTo>
                    <a:lnTo>
                      <a:pt x="1516" y="1638"/>
                    </a:lnTo>
                    <a:lnTo>
                      <a:pt x="1522" y="1642"/>
                    </a:lnTo>
                    <a:lnTo>
                      <a:pt x="1526" y="1648"/>
                    </a:lnTo>
                    <a:lnTo>
                      <a:pt x="1528" y="1654"/>
                    </a:lnTo>
                    <a:lnTo>
                      <a:pt x="1530" y="1660"/>
                    </a:lnTo>
                    <a:lnTo>
                      <a:pt x="1528" y="1664"/>
                    </a:lnTo>
                    <a:lnTo>
                      <a:pt x="1522" y="1668"/>
                    </a:lnTo>
                    <a:lnTo>
                      <a:pt x="1512" y="1668"/>
                    </a:lnTo>
                    <a:lnTo>
                      <a:pt x="1512" y="1668"/>
                    </a:lnTo>
                    <a:lnTo>
                      <a:pt x="1518" y="1666"/>
                    </a:lnTo>
                    <a:lnTo>
                      <a:pt x="1520" y="1660"/>
                    </a:lnTo>
                    <a:lnTo>
                      <a:pt x="1520" y="1660"/>
                    </a:lnTo>
                    <a:lnTo>
                      <a:pt x="1514" y="1658"/>
                    </a:lnTo>
                    <a:lnTo>
                      <a:pt x="1508" y="1660"/>
                    </a:lnTo>
                    <a:lnTo>
                      <a:pt x="1502" y="1664"/>
                    </a:lnTo>
                    <a:lnTo>
                      <a:pt x="1500" y="1668"/>
                    </a:lnTo>
                    <a:lnTo>
                      <a:pt x="1500" y="1668"/>
                    </a:lnTo>
                    <a:lnTo>
                      <a:pt x="1506" y="1674"/>
                    </a:lnTo>
                    <a:lnTo>
                      <a:pt x="1514" y="1674"/>
                    </a:lnTo>
                    <a:lnTo>
                      <a:pt x="1520" y="1674"/>
                    </a:lnTo>
                    <a:lnTo>
                      <a:pt x="1528" y="1670"/>
                    </a:lnTo>
                    <a:lnTo>
                      <a:pt x="1542" y="1662"/>
                    </a:lnTo>
                    <a:lnTo>
                      <a:pt x="1548" y="1660"/>
                    </a:lnTo>
                    <a:lnTo>
                      <a:pt x="1554" y="1658"/>
                    </a:lnTo>
                    <a:lnTo>
                      <a:pt x="1554" y="1658"/>
                    </a:lnTo>
                    <a:lnTo>
                      <a:pt x="1552" y="1662"/>
                    </a:lnTo>
                    <a:lnTo>
                      <a:pt x="1550" y="1664"/>
                    </a:lnTo>
                    <a:lnTo>
                      <a:pt x="1542" y="1670"/>
                    </a:lnTo>
                    <a:lnTo>
                      <a:pt x="1534" y="1674"/>
                    </a:lnTo>
                    <a:lnTo>
                      <a:pt x="1526" y="1678"/>
                    </a:lnTo>
                    <a:lnTo>
                      <a:pt x="1526" y="1678"/>
                    </a:lnTo>
                    <a:lnTo>
                      <a:pt x="1530" y="1682"/>
                    </a:lnTo>
                    <a:lnTo>
                      <a:pt x="1536" y="1682"/>
                    </a:lnTo>
                    <a:lnTo>
                      <a:pt x="1542" y="1682"/>
                    </a:lnTo>
                    <a:lnTo>
                      <a:pt x="1544" y="1678"/>
                    </a:lnTo>
                    <a:lnTo>
                      <a:pt x="1544" y="1678"/>
                    </a:lnTo>
                    <a:lnTo>
                      <a:pt x="1546" y="1678"/>
                    </a:lnTo>
                    <a:lnTo>
                      <a:pt x="1544" y="1680"/>
                    </a:lnTo>
                    <a:lnTo>
                      <a:pt x="1542" y="1684"/>
                    </a:lnTo>
                    <a:lnTo>
                      <a:pt x="1542" y="1684"/>
                    </a:lnTo>
                    <a:lnTo>
                      <a:pt x="1544" y="1684"/>
                    </a:lnTo>
                    <a:lnTo>
                      <a:pt x="1544" y="1686"/>
                    </a:lnTo>
                    <a:lnTo>
                      <a:pt x="1544" y="1686"/>
                    </a:lnTo>
                    <a:lnTo>
                      <a:pt x="1546" y="1684"/>
                    </a:lnTo>
                    <a:lnTo>
                      <a:pt x="1548" y="1682"/>
                    </a:lnTo>
                    <a:lnTo>
                      <a:pt x="1548" y="1682"/>
                    </a:lnTo>
                    <a:lnTo>
                      <a:pt x="1548" y="1688"/>
                    </a:lnTo>
                    <a:lnTo>
                      <a:pt x="1548" y="1692"/>
                    </a:lnTo>
                    <a:lnTo>
                      <a:pt x="1546" y="1696"/>
                    </a:lnTo>
                    <a:lnTo>
                      <a:pt x="1546" y="1702"/>
                    </a:lnTo>
                    <a:lnTo>
                      <a:pt x="1546" y="1702"/>
                    </a:lnTo>
                    <a:lnTo>
                      <a:pt x="1544" y="1700"/>
                    </a:lnTo>
                    <a:lnTo>
                      <a:pt x="1544" y="1698"/>
                    </a:lnTo>
                    <a:lnTo>
                      <a:pt x="1546" y="1694"/>
                    </a:lnTo>
                    <a:lnTo>
                      <a:pt x="1546" y="1694"/>
                    </a:lnTo>
                    <a:lnTo>
                      <a:pt x="1542" y="1692"/>
                    </a:lnTo>
                    <a:lnTo>
                      <a:pt x="1538" y="1692"/>
                    </a:lnTo>
                    <a:lnTo>
                      <a:pt x="1536" y="1690"/>
                    </a:lnTo>
                    <a:lnTo>
                      <a:pt x="1536" y="1690"/>
                    </a:lnTo>
                    <a:lnTo>
                      <a:pt x="1526" y="1700"/>
                    </a:lnTo>
                    <a:lnTo>
                      <a:pt x="1518" y="1710"/>
                    </a:lnTo>
                    <a:lnTo>
                      <a:pt x="1512" y="1720"/>
                    </a:lnTo>
                    <a:lnTo>
                      <a:pt x="1502" y="1728"/>
                    </a:lnTo>
                    <a:lnTo>
                      <a:pt x="1502" y="1728"/>
                    </a:lnTo>
                    <a:lnTo>
                      <a:pt x="1516" y="1726"/>
                    </a:lnTo>
                    <a:lnTo>
                      <a:pt x="1520" y="1724"/>
                    </a:lnTo>
                    <a:lnTo>
                      <a:pt x="1524" y="1720"/>
                    </a:lnTo>
                    <a:lnTo>
                      <a:pt x="1524" y="1720"/>
                    </a:lnTo>
                    <a:lnTo>
                      <a:pt x="1528" y="1722"/>
                    </a:lnTo>
                    <a:lnTo>
                      <a:pt x="1534" y="1720"/>
                    </a:lnTo>
                    <a:lnTo>
                      <a:pt x="1542" y="1716"/>
                    </a:lnTo>
                    <a:lnTo>
                      <a:pt x="1542" y="1716"/>
                    </a:lnTo>
                    <a:lnTo>
                      <a:pt x="1544" y="1712"/>
                    </a:lnTo>
                    <a:lnTo>
                      <a:pt x="1544" y="1708"/>
                    </a:lnTo>
                    <a:lnTo>
                      <a:pt x="1544" y="1708"/>
                    </a:lnTo>
                    <a:lnTo>
                      <a:pt x="1544" y="1708"/>
                    </a:lnTo>
                    <a:lnTo>
                      <a:pt x="1544" y="1710"/>
                    </a:lnTo>
                    <a:lnTo>
                      <a:pt x="1544" y="1714"/>
                    </a:lnTo>
                    <a:lnTo>
                      <a:pt x="1544" y="1714"/>
                    </a:lnTo>
                    <a:lnTo>
                      <a:pt x="1556" y="1706"/>
                    </a:lnTo>
                    <a:lnTo>
                      <a:pt x="1568" y="1698"/>
                    </a:lnTo>
                    <a:lnTo>
                      <a:pt x="1568" y="1698"/>
                    </a:lnTo>
                    <a:lnTo>
                      <a:pt x="1558" y="1708"/>
                    </a:lnTo>
                    <a:lnTo>
                      <a:pt x="1544" y="1716"/>
                    </a:lnTo>
                    <a:lnTo>
                      <a:pt x="1526" y="1724"/>
                    </a:lnTo>
                    <a:lnTo>
                      <a:pt x="1508" y="1730"/>
                    </a:lnTo>
                    <a:lnTo>
                      <a:pt x="1508" y="1730"/>
                    </a:lnTo>
                    <a:lnTo>
                      <a:pt x="1522" y="1736"/>
                    </a:lnTo>
                    <a:lnTo>
                      <a:pt x="1534" y="1742"/>
                    </a:lnTo>
                    <a:lnTo>
                      <a:pt x="1534" y="1742"/>
                    </a:lnTo>
                    <a:lnTo>
                      <a:pt x="1540" y="1736"/>
                    </a:lnTo>
                    <a:lnTo>
                      <a:pt x="1550" y="1730"/>
                    </a:lnTo>
                    <a:lnTo>
                      <a:pt x="1560" y="1728"/>
                    </a:lnTo>
                    <a:lnTo>
                      <a:pt x="1572" y="1732"/>
                    </a:lnTo>
                    <a:lnTo>
                      <a:pt x="1572" y="1732"/>
                    </a:lnTo>
                    <a:lnTo>
                      <a:pt x="1574" y="1736"/>
                    </a:lnTo>
                    <a:lnTo>
                      <a:pt x="1572" y="1742"/>
                    </a:lnTo>
                    <a:lnTo>
                      <a:pt x="1568" y="1752"/>
                    </a:lnTo>
                    <a:lnTo>
                      <a:pt x="1568" y="1752"/>
                    </a:lnTo>
                    <a:lnTo>
                      <a:pt x="1578" y="1752"/>
                    </a:lnTo>
                    <a:lnTo>
                      <a:pt x="1588" y="1750"/>
                    </a:lnTo>
                    <a:lnTo>
                      <a:pt x="1588" y="1750"/>
                    </a:lnTo>
                    <a:lnTo>
                      <a:pt x="1580" y="1754"/>
                    </a:lnTo>
                    <a:lnTo>
                      <a:pt x="1570" y="1754"/>
                    </a:lnTo>
                    <a:lnTo>
                      <a:pt x="1560" y="1758"/>
                    </a:lnTo>
                    <a:lnTo>
                      <a:pt x="1558" y="1760"/>
                    </a:lnTo>
                    <a:lnTo>
                      <a:pt x="1554" y="1762"/>
                    </a:lnTo>
                    <a:lnTo>
                      <a:pt x="1554" y="1762"/>
                    </a:lnTo>
                    <a:lnTo>
                      <a:pt x="1556" y="1764"/>
                    </a:lnTo>
                    <a:lnTo>
                      <a:pt x="1558" y="1764"/>
                    </a:lnTo>
                    <a:lnTo>
                      <a:pt x="1558" y="1764"/>
                    </a:lnTo>
                    <a:lnTo>
                      <a:pt x="1558" y="1766"/>
                    </a:lnTo>
                    <a:lnTo>
                      <a:pt x="1558" y="1766"/>
                    </a:lnTo>
                    <a:lnTo>
                      <a:pt x="1540" y="1764"/>
                    </a:lnTo>
                    <a:lnTo>
                      <a:pt x="1530" y="1764"/>
                    </a:lnTo>
                    <a:lnTo>
                      <a:pt x="1526" y="1766"/>
                    </a:lnTo>
                    <a:lnTo>
                      <a:pt x="1522" y="1768"/>
                    </a:lnTo>
                    <a:lnTo>
                      <a:pt x="1522" y="1768"/>
                    </a:lnTo>
                    <a:lnTo>
                      <a:pt x="1532" y="1772"/>
                    </a:lnTo>
                    <a:lnTo>
                      <a:pt x="1540" y="1778"/>
                    </a:lnTo>
                    <a:lnTo>
                      <a:pt x="1550" y="1784"/>
                    </a:lnTo>
                    <a:lnTo>
                      <a:pt x="1554" y="1784"/>
                    </a:lnTo>
                    <a:lnTo>
                      <a:pt x="1560" y="1784"/>
                    </a:lnTo>
                    <a:lnTo>
                      <a:pt x="1560" y="1784"/>
                    </a:lnTo>
                    <a:lnTo>
                      <a:pt x="1564" y="1782"/>
                    </a:lnTo>
                    <a:lnTo>
                      <a:pt x="1566" y="1778"/>
                    </a:lnTo>
                    <a:lnTo>
                      <a:pt x="1570" y="1772"/>
                    </a:lnTo>
                    <a:lnTo>
                      <a:pt x="1574" y="1764"/>
                    </a:lnTo>
                    <a:lnTo>
                      <a:pt x="1580" y="1756"/>
                    </a:lnTo>
                    <a:lnTo>
                      <a:pt x="1580" y="1756"/>
                    </a:lnTo>
                    <a:lnTo>
                      <a:pt x="1582" y="1758"/>
                    </a:lnTo>
                    <a:lnTo>
                      <a:pt x="1584" y="1762"/>
                    </a:lnTo>
                    <a:lnTo>
                      <a:pt x="1586" y="1772"/>
                    </a:lnTo>
                    <a:lnTo>
                      <a:pt x="1586" y="1782"/>
                    </a:lnTo>
                    <a:lnTo>
                      <a:pt x="1586" y="1792"/>
                    </a:lnTo>
                    <a:lnTo>
                      <a:pt x="1586" y="1792"/>
                    </a:lnTo>
                    <a:lnTo>
                      <a:pt x="1588" y="1792"/>
                    </a:lnTo>
                    <a:lnTo>
                      <a:pt x="1588" y="1792"/>
                    </a:lnTo>
                    <a:lnTo>
                      <a:pt x="1590" y="1792"/>
                    </a:lnTo>
                    <a:lnTo>
                      <a:pt x="1592" y="1792"/>
                    </a:lnTo>
                    <a:lnTo>
                      <a:pt x="1592" y="1792"/>
                    </a:lnTo>
                    <a:lnTo>
                      <a:pt x="1588" y="1794"/>
                    </a:lnTo>
                    <a:lnTo>
                      <a:pt x="1586" y="1798"/>
                    </a:lnTo>
                    <a:lnTo>
                      <a:pt x="1582" y="1804"/>
                    </a:lnTo>
                    <a:lnTo>
                      <a:pt x="1582" y="1804"/>
                    </a:lnTo>
                    <a:lnTo>
                      <a:pt x="1582" y="1808"/>
                    </a:lnTo>
                    <a:lnTo>
                      <a:pt x="1584" y="1808"/>
                    </a:lnTo>
                    <a:lnTo>
                      <a:pt x="1586" y="1812"/>
                    </a:lnTo>
                    <a:lnTo>
                      <a:pt x="1586" y="1812"/>
                    </a:lnTo>
                    <a:lnTo>
                      <a:pt x="1586" y="1812"/>
                    </a:lnTo>
                    <a:lnTo>
                      <a:pt x="1582" y="1810"/>
                    </a:lnTo>
                    <a:lnTo>
                      <a:pt x="1582" y="1808"/>
                    </a:lnTo>
                    <a:lnTo>
                      <a:pt x="1582" y="1808"/>
                    </a:lnTo>
                    <a:lnTo>
                      <a:pt x="1576" y="1812"/>
                    </a:lnTo>
                    <a:lnTo>
                      <a:pt x="1570" y="1816"/>
                    </a:lnTo>
                    <a:lnTo>
                      <a:pt x="1554" y="1820"/>
                    </a:lnTo>
                    <a:lnTo>
                      <a:pt x="1554" y="1820"/>
                    </a:lnTo>
                    <a:lnTo>
                      <a:pt x="1556" y="1822"/>
                    </a:lnTo>
                    <a:lnTo>
                      <a:pt x="1556" y="1822"/>
                    </a:lnTo>
                    <a:lnTo>
                      <a:pt x="1558" y="1824"/>
                    </a:lnTo>
                    <a:lnTo>
                      <a:pt x="1560" y="1824"/>
                    </a:lnTo>
                    <a:lnTo>
                      <a:pt x="1560" y="1824"/>
                    </a:lnTo>
                    <a:lnTo>
                      <a:pt x="1572" y="1820"/>
                    </a:lnTo>
                    <a:lnTo>
                      <a:pt x="1588" y="1818"/>
                    </a:lnTo>
                    <a:lnTo>
                      <a:pt x="1600" y="1814"/>
                    </a:lnTo>
                    <a:lnTo>
                      <a:pt x="1612" y="1808"/>
                    </a:lnTo>
                    <a:lnTo>
                      <a:pt x="1612" y="1808"/>
                    </a:lnTo>
                    <a:lnTo>
                      <a:pt x="1614" y="1810"/>
                    </a:lnTo>
                    <a:lnTo>
                      <a:pt x="1616" y="1812"/>
                    </a:lnTo>
                    <a:lnTo>
                      <a:pt x="1618" y="1812"/>
                    </a:lnTo>
                    <a:lnTo>
                      <a:pt x="1618" y="1810"/>
                    </a:lnTo>
                    <a:lnTo>
                      <a:pt x="1618" y="1810"/>
                    </a:lnTo>
                    <a:lnTo>
                      <a:pt x="1616" y="1816"/>
                    </a:lnTo>
                    <a:lnTo>
                      <a:pt x="1610" y="1822"/>
                    </a:lnTo>
                    <a:lnTo>
                      <a:pt x="1602" y="1830"/>
                    </a:lnTo>
                    <a:lnTo>
                      <a:pt x="1602" y="1830"/>
                    </a:lnTo>
                    <a:lnTo>
                      <a:pt x="1598" y="1832"/>
                    </a:lnTo>
                    <a:lnTo>
                      <a:pt x="1600" y="1830"/>
                    </a:lnTo>
                    <a:lnTo>
                      <a:pt x="1610" y="1818"/>
                    </a:lnTo>
                    <a:lnTo>
                      <a:pt x="1610" y="1818"/>
                    </a:lnTo>
                    <a:lnTo>
                      <a:pt x="1596" y="1824"/>
                    </a:lnTo>
                    <a:lnTo>
                      <a:pt x="1584" y="1826"/>
                    </a:lnTo>
                    <a:lnTo>
                      <a:pt x="1570" y="1828"/>
                    </a:lnTo>
                    <a:lnTo>
                      <a:pt x="1560" y="1832"/>
                    </a:lnTo>
                    <a:lnTo>
                      <a:pt x="1560" y="1832"/>
                    </a:lnTo>
                    <a:lnTo>
                      <a:pt x="1562" y="1834"/>
                    </a:lnTo>
                    <a:lnTo>
                      <a:pt x="1562" y="1834"/>
                    </a:lnTo>
                    <a:lnTo>
                      <a:pt x="1558" y="1838"/>
                    </a:lnTo>
                    <a:lnTo>
                      <a:pt x="1558" y="1838"/>
                    </a:lnTo>
                    <a:lnTo>
                      <a:pt x="1564" y="1842"/>
                    </a:lnTo>
                    <a:lnTo>
                      <a:pt x="1558" y="1842"/>
                    </a:lnTo>
                    <a:lnTo>
                      <a:pt x="1558" y="1842"/>
                    </a:lnTo>
                    <a:lnTo>
                      <a:pt x="1564" y="1844"/>
                    </a:lnTo>
                    <a:lnTo>
                      <a:pt x="1572" y="1846"/>
                    </a:lnTo>
                    <a:lnTo>
                      <a:pt x="1580" y="1848"/>
                    </a:lnTo>
                    <a:lnTo>
                      <a:pt x="1588" y="1852"/>
                    </a:lnTo>
                    <a:lnTo>
                      <a:pt x="1588" y="1852"/>
                    </a:lnTo>
                    <a:lnTo>
                      <a:pt x="1586" y="1856"/>
                    </a:lnTo>
                    <a:lnTo>
                      <a:pt x="1584" y="1860"/>
                    </a:lnTo>
                    <a:lnTo>
                      <a:pt x="1580" y="1860"/>
                    </a:lnTo>
                    <a:lnTo>
                      <a:pt x="1576" y="1860"/>
                    </a:lnTo>
                    <a:lnTo>
                      <a:pt x="1558" y="1858"/>
                    </a:lnTo>
                    <a:lnTo>
                      <a:pt x="1558" y="1858"/>
                    </a:lnTo>
                    <a:lnTo>
                      <a:pt x="1558" y="1860"/>
                    </a:lnTo>
                    <a:lnTo>
                      <a:pt x="1560" y="1862"/>
                    </a:lnTo>
                    <a:lnTo>
                      <a:pt x="1562" y="1864"/>
                    </a:lnTo>
                    <a:lnTo>
                      <a:pt x="1560" y="1866"/>
                    </a:lnTo>
                    <a:lnTo>
                      <a:pt x="1560" y="1866"/>
                    </a:lnTo>
                    <a:lnTo>
                      <a:pt x="1560" y="1862"/>
                    </a:lnTo>
                    <a:lnTo>
                      <a:pt x="1558" y="1860"/>
                    </a:lnTo>
                    <a:lnTo>
                      <a:pt x="1550" y="1856"/>
                    </a:lnTo>
                    <a:lnTo>
                      <a:pt x="1542" y="1856"/>
                    </a:lnTo>
                    <a:lnTo>
                      <a:pt x="1532" y="1858"/>
                    </a:lnTo>
                    <a:lnTo>
                      <a:pt x="1532" y="1858"/>
                    </a:lnTo>
                    <a:lnTo>
                      <a:pt x="1544" y="1864"/>
                    </a:lnTo>
                    <a:lnTo>
                      <a:pt x="1550" y="1866"/>
                    </a:lnTo>
                    <a:lnTo>
                      <a:pt x="1558" y="1866"/>
                    </a:lnTo>
                    <a:lnTo>
                      <a:pt x="1558" y="1866"/>
                    </a:lnTo>
                    <a:lnTo>
                      <a:pt x="1556" y="1868"/>
                    </a:lnTo>
                    <a:lnTo>
                      <a:pt x="1554" y="1868"/>
                    </a:lnTo>
                    <a:lnTo>
                      <a:pt x="1554" y="1868"/>
                    </a:lnTo>
                    <a:lnTo>
                      <a:pt x="1566" y="1872"/>
                    </a:lnTo>
                    <a:lnTo>
                      <a:pt x="1576" y="1878"/>
                    </a:lnTo>
                    <a:lnTo>
                      <a:pt x="1576" y="1878"/>
                    </a:lnTo>
                    <a:lnTo>
                      <a:pt x="1572" y="1878"/>
                    </a:lnTo>
                    <a:lnTo>
                      <a:pt x="1566" y="1876"/>
                    </a:lnTo>
                    <a:lnTo>
                      <a:pt x="1560" y="1876"/>
                    </a:lnTo>
                    <a:lnTo>
                      <a:pt x="1554" y="1876"/>
                    </a:lnTo>
                    <a:lnTo>
                      <a:pt x="1554" y="1876"/>
                    </a:lnTo>
                    <a:lnTo>
                      <a:pt x="1554" y="1876"/>
                    </a:lnTo>
                    <a:lnTo>
                      <a:pt x="1554" y="1878"/>
                    </a:lnTo>
                    <a:lnTo>
                      <a:pt x="1554" y="1884"/>
                    </a:lnTo>
                    <a:lnTo>
                      <a:pt x="1554" y="1884"/>
                    </a:lnTo>
                    <a:lnTo>
                      <a:pt x="1554" y="1882"/>
                    </a:lnTo>
                    <a:lnTo>
                      <a:pt x="1554" y="1880"/>
                    </a:lnTo>
                    <a:lnTo>
                      <a:pt x="1554" y="1878"/>
                    </a:lnTo>
                    <a:lnTo>
                      <a:pt x="1552" y="1876"/>
                    </a:lnTo>
                    <a:lnTo>
                      <a:pt x="1552" y="1876"/>
                    </a:lnTo>
                    <a:lnTo>
                      <a:pt x="1550" y="1880"/>
                    </a:lnTo>
                    <a:lnTo>
                      <a:pt x="1552" y="1882"/>
                    </a:lnTo>
                    <a:lnTo>
                      <a:pt x="1558" y="1886"/>
                    </a:lnTo>
                    <a:lnTo>
                      <a:pt x="1558" y="1886"/>
                    </a:lnTo>
                    <a:lnTo>
                      <a:pt x="1558" y="1888"/>
                    </a:lnTo>
                    <a:lnTo>
                      <a:pt x="1556" y="1888"/>
                    </a:lnTo>
                    <a:lnTo>
                      <a:pt x="1554" y="1886"/>
                    </a:lnTo>
                    <a:lnTo>
                      <a:pt x="1554" y="1886"/>
                    </a:lnTo>
                    <a:lnTo>
                      <a:pt x="1554" y="1890"/>
                    </a:lnTo>
                    <a:lnTo>
                      <a:pt x="1558" y="1892"/>
                    </a:lnTo>
                    <a:lnTo>
                      <a:pt x="1560" y="1894"/>
                    </a:lnTo>
                    <a:lnTo>
                      <a:pt x="1560" y="1896"/>
                    </a:lnTo>
                    <a:lnTo>
                      <a:pt x="1560" y="1896"/>
                    </a:lnTo>
                    <a:lnTo>
                      <a:pt x="1558" y="1896"/>
                    </a:lnTo>
                    <a:lnTo>
                      <a:pt x="1556" y="1894"/>
                    </a:lnTo>
                    <a:lnTo>
                      <a:pt x="1556" y="1894"/>
                    </a:lnTo>
                    <a:lnTo>
                      <a:pt x="1558" y="1896"/>
                    </a:lnTo>
                    <a:lnTo>
                      <a:pt x="1558" y="1900"/>
                    </a:lnTo>
                    <a:lnTo>
                      <a:pt x="1554" y="1906"/>
                    </a:lnTo>
                    <a:lnTo>
                      <a:pt x="1554" y="1906"/>
                    </a:lnTo>
                    <a:lnTo>
                      <a:pt x="1546" y="1904"/>
                    </a:lnTo>
                    <a:lnTo>
                      <a:pt x="1538" y="1900"/>
                    </a:lnTo>
                    <a:lnTo>
                      <a:pt x="1526" y="1892"/>
                    </a:lnTo>
                    <a:lnTo>
                      <a:pt x="1514" y="1882"/>
                    </a:lnTo>
                    <a:lnTo>
                      <a:pt x="1506" y="1876"/>
                    </a:lnTo>
                    <a:lnTo>
                      <a:pt x="1498" y="1872"/>
                    </a:lnTo>
                    <a:lnTo>
                      <a:pt x="1498" y="1872"/>
                    </a:lnTo>
                    <a:lnTo>
                      <a:pt x="1496" y="1876"/>
                    </a:lnTo>
                    <a:lnTo>
                      <a:pt x="1496" y="1876"/>
                    </a:lnTo>
                    <a:lnTo>
                      <a:pt x="1496" y="1872"/>
                    </a:lnTo>
                    <a:lnTo>
                      <a:pt x="1496" y="1868"/>
                    </a:lnTo>
                    <a:lnTo>
                      <a:pt x="1498" y="1864"/>
                    </a:lnTo>
                    <a:lnTo>
                      <a:pt x="1498" y="1860"/>
                    </a:lnTo>
                    <a:lnTo>
                      <a:pt x="1498" y="1860"/>
                    </a:lnTo>
                    <a:lnTo>
                      <a:pt x="1500" y="1862"/>
                    </a:lnTo>
                    <a:lnTo>
                      <a:pt x="1500" y="1866"/>
                    </a:lnTo>
                    <a:lnTo>
                      <a:pt x="1498" y="1870"/>
                    </a:lnTo>
                    <a:lnTo>
                      <a:pt x="1498" y="1870"/>
                    </a:lnTo>
                    <a:lnTo>
                      <a:pt x="1510" y="1870"/>
                    </a:lnTo>
                    <a:lnTo>
                      <a:pt x="1520" y="1870"/>
                    </a:lnTo>
                    <a:lnTo>
                      <a:pt x="1520" y="1870"/>
                    </a:lnTo>
                    <a:lnTo>
                      <a:pt x="1516" y="1868"/>
                    </a:lnTo>
                    <a:lnTo>
                      <a:pt x="1510" y="1866"/>
                    </a:lnTo>
                    <a:lnTo>
                      <a:pt x="1508" y="1860"/>
                    </a:lnTo>
                    <a:lnTo>
                      <a:pt x="1506" y="1854"/>
                    </a:lnTo>
                    <a:lnTo>
                      <a:pt x="1506" y="1854"/>
                    </a:lnTo>
                    <a:lnTo>
                      <a:pt x="1504" y="1852"/>
                    </a:lnTo>
                    <a:lnTo>
                      <a:pt x="1502" y="1852"/>
                    </a:lnTo>
                    <a:lnTo>
                      <a:pt x="1502" y="1854"/>
                    </a:lnTo>
                    <a:lnTo>
                      <a:pt x="1502" y="1854"/>
                    </a:lnTo>
                    <a:lnTo>
                      <a:pt x="1500" y="1852"/>
                    </a:lnTo>
                    <a:lnTo>
                      <a:pt x="1502" y="1848"/>
                    </a:lnTo>
                    <a:lnTo>
                      <a:pt x="1502" y="1846"/>
                    </a:lnTo>
                    <a:lnTo>
                      <a:pt x="1500" y="1844"/>
                    </a:lnTo>
                    <a:lnTo>
                      <a:pt x="1500" y="1844"/>
                    </a:lnTo>
                    <a:lnTo>
                      <a:pt x="1496" y="1850"/>
                    </a:lnTo>
                    <a:lnTo>
                      <a:pt x="1494" y="1858"/>
                    </a:lnTo>
                    <a:lnTo>
                      <a:pt x="1494" y="1858"/>
                    </a:lnTo>
                    <a:lnTo>
                      <a:pt x="1494" y="1856"/>
                    </a:lnTo>
                    <a:lnTo>
                      <a:pt x="1494" y="1852"/>
                    </a:lnTo>
                    <a:lnTo>
                      <a:pt x="1498" y="1844"/>
                    </a:lnTo>
                    <a:lnTo>
                      <a:pt x="1498" y="1844"/>
                    </a:lnTo>
                    <a:lnTo>
                      <a:pt x="1496" y="1842"/>
                    </a:lnTo>
                    <a:lnTo>
                      <a:pt x="1494" y="1840"/>
                    </a:lnTo>
                    <a:lnTo>
                      <a:pt x="1494" y="1840"/>
                    </a:lnTo>
                    <a:lnTo>
                      <a:pt x="1494" y="1838"/>
                    </a:lnTo>
                    <a:lnTo>
                      <a:pt x="1496" y="1836"/>
                    </a:lnTo>
                    <a:lnTo>
                      <a:pt x="1498" y="1836"/>
                    </a:lnTo>
                    <a:lnTo>
                      <a:pt x="1500" y="1834"/>
                    </a:lnTo>
                    <a:lnTo>
                      <a:pt x="1500" y="1834"/>
                    </a:lnTo>
                    <a:lnTo>
                      <a:pt x="1498" y="1832"/>
                    </a:lnTo>
                    <a:lnTo>
                      <a:pt x="1494" y="1830"/>
                    </a:lnTo>
                    <a:lnTo>
                      <a:pt x="1494" y="1830"/>
                    </a:lnTo>
                    <a:lnTo>
                      <a:pt x="1492" y="1832"/>
                    </a:lnTo>
                    <a:lnTo>
                      <a:pt x="1492" y="1836"/>
                    </a:lnTo>
                    <a:lnTo>
                      <a:pt x="1492" y="1836"/>
                    </a:lnTo>
                    <a:lnTo>
                      <a:pt x="1490" y="1832"/>
                    </a:lnTo>
                    <a:lnTo>
                      <a:pt x="1488" y="1830"/>
                    </a:lnTo>
                    <a:lnTo>
                      <a:pt x="1480" y="1826"/>
                    </a:lnTo>
                    <a:lnTo>
                      <a:pt x="1470" y="1824"/>
                    </a:lnTo>
                    <a:lnTo>
                      <a:pt x="1464" y="1820"/>
                    </a:lnTo>
                    <a:lnTo>
                      <a:pt x="1464" y="1820"/>
                    </a:lnTo>
                    <a:lnTo>
                      <a:pt x="1450" y="1830"/>
                    </a:lnTo>
                    <a:lnTo>
                      <a:pt x="1440" y="1838"/>
                    </a:lnTo>
                    <a:lnTo>
                      <a:pt x="1440" y="1838"/>
                    </a:lnTo>
                    <a:lnTo>
                      <a:pt x="1440" y="1840"/>
                    </a:lnTo>
                    <a:lnTo>
                      <a:pt x="1442" y="1840"/>
                    </a:lnTo>
                    <a:lnTo>
                      <a:pt x="1442" y="1840"/>
                    </a:lnTo>
                    <a:lnTo>
                      <a:pt x="1440" y="1842"/>
                    </a:lnTo>
                    <a:lnTo>
                      <a:pt x="1436" y="1842"/>
                    </a:lnTo>
                    <a:lnTo>
                      <a:pt x="1432" y="1842"/>
                    </a:lnTo>
                    <a:lnTo>
                      <a:pt x="1432" y="1842"/>
                    </a:lnTo>
                    <a:lnTo>
                      <a:pt x="1436" y="1846"/>
                    </a:lnTo>
                    <a:lnTo>
                      <a:pt x="1442" y="1848"/>
                    </a:lnTo>
                    <a:lnTo>
                      <a:pt x="1456" y="1850"/>
                    </a:lnTo>
                    <a:lnTo>
                      <a:pt x="1468" y="1854"/>
                    </a:lnTo>
                    <a:lnTo>
                      <a:pt x="1474" y="1856"/>
                    </a:lnTo>
                    <a:lnTo>
                      <a:pt x="1476" y="1862"/>
                    </a:lnTo>
                    <a:lnTo>
                      <a:pt x="1476" y="1862"/>
                    </a:lnTo>
                    <a:lnTo>
                      <a:pt x="1474" y="1864"/>
                    </a:lnTo>
                    <a:lnTo>
                      <a:pt x="1470" y="1866"/>
                    </a:lnTo>
                    <a:lnTo>
                      <a:pt x="1470" y="1866"/>
                    </a:lnTo>
                    <a:lnTo>
                      <a:pt x="1474" y="1868"/>
                    </a:lnTo>
                    <a:lnTo>
                      <a:pt x="1474" y="1868"/>
                    </a:lnTo>
                    <a:lnTo>
                      <a:pt x="1466" y="1868"/>
                    </a:lnTo>
                    <a:lnTo>
                      <a:pt x="1460" y="1864"/>
                    </a:lnTo>
                    <a:lnTo>
                      <a:pt x="1452" y="1860"/>
                    </a:lnTo>
                    <a:lnTo>
                      <a:pt x="1444" y="1858"/>
                    </a:lnTo>
                    <a:lnTo>
                      <a:pt x="1444" y="1858"/>
                    </a:lnTo>
                    <a:lnTo>
                      <a:pt x="1446" y="1862"/>
                    </a:lnTo>
                    <a:lnTo>
                      <a:pt x="1448" y="1868"/>
                    </a:lnTo>
                    <a:lnTo>
                      <a:pt x="1448" y="1870"/>
                    </a:lnTo>
                    <a:lnTo>
                      <a:pt x="1448" y="1872"/>
                    </a:lnTo>
                    <a:lnTo>
                      <a:pt x="1446" y="1874"/>
                    </a:lnTo>
                    <a:lnTo>
                      <a:pt x="1440" y="1874"/>
                    </a:lnTo>
                    <a:lnTo>
                      <a:pt x="1440" y="1874"/>
                    </a:lnTo>
                    <a:lnTo>
                      <a:pt x="1444" y="1876"/>
                    </a:lnTo>
                    <a:lnTo>
                      <a:pt x="1444" y="1876"/>
                    </a:lnTo>
                    <a:lnTo>
                      <a:pt x="1436" y="1874"/>
                    </a:lnTo>
                    <a:lnTo>
                      <a:pt x="1426" y="1872"/>
                    </a:lnTo>
                    <a:lnTo>
                      <a:pt x="1422" y="1870"/>
                    </a:lnTo>
                    <a:lnTo>
                      <a:pt x="1418" y="1866"/>
                    </a:lnTo>
                    <a:lnTo>
                      <a:pt x="1416" y="1862"/>
                    </a:lnTo>
                    <a:lnTo>
                      <a:pt x="1416" y="1856"/>
                    </a:lnTo>
                    <a:lnTo>
                      <a:pt x="1416" y="1856"/>
                    </a:lnTo>
                    <a:lnTo>
                      <a:pt x="1392" y="1838"/>
                    </a:lnTo>
                    <a:lnTo>
                      <a:pt x="1392" y="1838"/>
                    </a:lnTo>
                    <a:lnTo>
                      <a:pt x="1392" y="1846"/>
                    </a:lnTo>
                    <a:lnTo>
                      <a:pt x="1392" y="1852"/>
                    </a:lnTo>
                    <a:lnTo>
                      <a:pt x="1392" y="1854"/>
                    </a:lnTo>
                    <a:lnTo>
                      <a:pt x="1392" y="1854"/>
                    </a:lnTo>
                    <a:lnTo>
                      <a:pt x="1392" y="1862"/>
                    </a:lnTo>
                    <a:lnTo>
                      <a:pt x="1392" y="1866"/>
                    </a:lnTo>
                    <a:lnTo>
                      <a:pt x="1390" y="1868"/>
                    </a:lnTo>
                    <a:lnTo>
                      <a:pt x="1390" y="1868"/>
                    </a:lnTo>
                    <a:lnTo>
                      <a:pt x="1390" y="1862"/>
                    </a:lnTo>
                    <a:lnTo>
                      <a:pt x="1390" y="1862"/>
                    </a:lnTo>
                    <a:lnTo>
                      <a:pt x="1390" y="1848"/>
                    </a:lnTo>
                    <a:lnTo>
                      <a:pt x="1390" y="1842"/>
                    </a:lnTo>
                    <a:lnTo>
                      <a:pt x="1388" y="1836"/>
                    </a:lnTo>
                    <a:lnTo>
                      <a:pt x="1388" y="1836"/>
                    </a:lnTo>
                    <a:lnTo>
                      <a:pt x="1376" y="1830"/>
                    </a:lnTo>
                    <a:lnTo>
                      <a:pt x="1364" y="1826"/>
                    </a:lnTo>
                    <a:lnTo>
                      <a:pt x="1352" y="1826"/>
                    </a:lnTo>
                    <a:lnTo>
                      <a:pt x="1344" y="1826"/>
                    </a:lnTo>
                    <a:lnTo>
                      <a:pt x="1340" y="1828"/>
                    </a:lnTo>
                    <a:lnTo>
                      <a:pt x="1340" y="1828"/>
                    </a:lnTo>
                    <a:lnTo>
                      <a:pt x="1336" y="1850"/>
                    </a:lnTo>
                    <a:lnTo>
                      <a:pt x="1332" y="1870"/>
                    </a:lnTo>
                    <a:lnTo>
                      <a:pt x="1332" y="1870"/>
                    </a:lnTo>
                    <a:lnTo>
                      <a:pt x="1338" y="1870"/>
                    </a:lnTo>
                    <a:lnTo>
                      <a:pt x="1342" y="1866"/>
                    </a:lnTo>
                    <a:lnTo>
                      <a:pt x="1346" y="1864"/>
                    </a:lnTo>
                    <a:lnTo>
                      <a:pt x="1350" y="1862"/>
                    </a:lnTo>
                    <a:lnTo>
                      <a:pt x="1350" y="1862"/>
                    </a:lnTo>
                    <a:lnTo>
                      <a:pt x="1348" y="1860"/>
                    </a:lnTo>
                    <a:lnTo>
                      <a:pt x="1348" y="1858"/>
                    </a:lnTo>
                    <a:lnTo>
                      <a:pt x="1348" y="1854"/>
                    </a:lnTo>
                    <a:lnTo>
                      <a:pt x="1348" y="1854"/>
                    </a:lnTo>
                    <a:lnTo>
                      <a:pt x="1364" y="1850"/>
                    </a:lnTo>
                    <a:lnTo>
                      <a:pt x="1372" y="1848"/>
                    </a:lnTo>
                    <a:lnTo>
                      <a:pt x="1380" y="1850"/>
                    </a:lnTo>
                    <a:lnTo>
                      <a:pt x="1380" y="1850"/>
                    </a:lnTo>
                    <a:lnTo>
                      <a:pt x="1378" y="1852"/>
                    </a:lnTo>
                    <a:lnTo>
                      <a:pt x="1376" y="1852"/>
                    </a:lnTo>
                    <a:lnTo>
                      <a:pt x="1370" y="1854"/>
                    </a:lnTo>
                    <a:lnTo>
                      <a:pt x="1362" y="1856"/>
                    </a:lnTo>
                    <a:lnTo>
                      <a:pt x="1360" y="1856"/>
                    </a:lnTo>
                    <a:lnTo>
                      <a:pt x="1358" y="1858"/>
                    </a:lnTo>
                    <a:lnTo>
                      <a:pt x="1358" y="1858"/>
                    </a:lnTo>
                    <a:lnTo>
                      <a:pt x="1360" y="1860"/>
                    </a:lnTo>
                    <a:lnTo>
                      <a:pt x="1362" y="1862"/>
                    </a:lnTo>
                    <a:lnTo>
                      <a:pt x="1368" y="1862"/>
                    </a:lnTo>
                    <a:lnTo>
                      <a:pt x="1374" y="1862"/>
                    </a:lnTo>
                    <a:lnTo>
                      <a:pt x="1380" y="1862"/>
                    </a:lnTo>
                    <a:lnTo>
                      <a:pt x="1380" y="1862"/>
                    </a:lnTo>
                    <a:lnTo>
                      <a:pt x="1370" y="1866"/>
                    </a:lnTo>
                    <a:lnTo>
                      <a:pt x="1358" y="1870"/>
                    </a:lnTo>
                    <a:lnTo>
                      <a:pt x="1346" y="1874"/>
                    </a:lnTo>
                    <a:lnTo>
                      <a:pt x="1340" y="1874"/>
                    </a:lnTo>
                    <a:lnTo>
                      <a:pt x="1332" y="1872"/>
                    </a:lnTo>
                    <a:lnTo>
                      <a:pt x="1332" y="1872"/>
                    </a:lnTo>
                    <a:lnTo>
                      <a:pt x="1330" y="1882"/>
                    </a:lnTo>
                    <a:lnTo>
                      <a:pt x="1330" y="1894"/>
                    </a:lnTo>
                    <a:lnTo>
                      <a:pt x="1328" y="1906"/>
                    </a:lnTo>
                    <a:lnTo>
                      <a:pt x="1326" y="1918"/>
                    </a:lnTo>
                    <a:lnTo>
                      <a:pt x="1326" y="1918"/>
                    </a:lnTo>
                    <a:lnTo>
                      <a:pt x="1328" y="1894"/>
                    </a:lnTo>
                    <a:lnTo>
                      <a:pt x="1330" y="1870"/>
                    </a:lnTo>
                    <a:lnTo>
                      <a:pt x="1330" y="1870"/>
                    </a:lnTo>
                    <a:lnTo>
                      <a:pt x="1328" y="1870"/>
                    </a:lnTo>
                    <a:lnTo>
                      <a:pt x="1326" y="1872"/>
                    </a:lnTo>
                    <a:lnTo>
                      <a:pt x="1324" y="1878"/>
                    </a:lnTo>
                    <a:lnTo>
                      <a:pt x="1324" y="1878"/>
                    </a:lnTo>
                    <a:lnTo>
                      <a:pt x="1324" y="1872"/>
                    </a:lnTo>
                    <a:lnTo>
                      <a:pt x="1328" y="1866"/>
                    </a:lnTo>
                    <a:lnTo>
                      <a:pt x="1332" y="1858"/>
                    </a:lnTo>
                    <a:lnTo>
                      <a:pt x="1332" y="1850"/>
                    </a:lnTo>
                    <a:lnTo>
                      <a:pt x="1332" y="1850"/>
                    </a:lnTo>
                    <a:lnTo>
                      <a:pt x="1322" y="1872"/>
                    </a:lnTo>
                    <a:lnTo>
                      <a:pt x="1316" y="1884"/>
                    </a:lnTo>
                    <a:lnTo>
                      <a:pt x="1310" y="1894"/>
                    </a:lnTo>
                    <a:lnTo>
                      <a:pt x="1310" y="1894"/>
                    </a:lnTo>
                    <a:lnTo>
                      <a:pt x="1310" y="1896"/>
                    </a:lnTo>
                    <a:lnTo>
                      <a:pt x="1312" y="1898"/>
                    </a:lnTo>
                    <a:lnTo>
                      <a:pt x="1312" y="1898"/>
                    </a:lnTo>
                    <a:lnTo>
                      <a:pt x="1310" y="1898"/>
                    </a:lnTo>
                    <a:lnTo>
                      <a:pt x="1306" y="1900"/>
                    </a:lnTo>
                    <a:lnTo>
                      <a:pt x="1302" y="1904"/>
                    </a:lnTo>
                    <a:lnTo>
                      <a:pt x="1298" y="1906"/>
                    </a:lnTo>
                    <a:lnTo>
                      <a:pt x="1298" y="1906"/>
                    </a:lnTo>
                    <a:lnTo>
                      <a:pt x="1304" y="1902"/>
                    </a:lnTo>
                    <a:lnTo>
                      <a:pt x="1306" y="1896"/>
                    </a:lnTo>
                    <a:lnTo>
                      <a:pt x="1312" y="1884"/>
                    </a:lnTo>
                    <a:lnTo>
                      <a:pt x="1312" y="1884"/>
                    </a:lnTo>
                    <a:lnTo>
                      <a:pt x="1302" y="1890"/>
                    </a:lnTo>
                    <a:lnTo>
                      <a:pt x="1294" y="1896"/>
                    </a:lnTo>
                    <a:lnTo>
                      <a:pt x="1286" y="1902"/>
                    </a:lnTo>
                    <a:lnTo>
                      <a:pt x="1274" y="1906"/>
                    </a:lnTo>
                    <a:lnTo>
                      <a:pt x="1274" y="1906"/>
                    </a:lnTo>
                    <a:lnTo>
                      <a:pt x="1274" y="1898"/>
                    </a:lnTo>
                    <a:lnTo>
                      <a:pt x="1274" y="1892"/>
                    </a:lnTo>
                    <a:lnTo>
                      <a:pt x="1278" y="1886"/>
                    </a:lnTo>
                    <a:lnTo>
                      <a:pt x="1284" y="1882"/>
                    </a:lnTo>
                    <a:lnTo>
                      <a:pt x="1290" y="1880"/>
                    </a:lnTo>
                    <a:lnTo>
                      <a:pt x="1298" y="1878"/>
                    </a:lnTo>
                    <a:lnTo>
                      <a:pt x="1306" y="1880"/>
                    </a:lnTo>
                    <a:lnTo>
                      <a:pt x="1314" y="1880"/>
                    </a:lnTo>
                    <a:lnTo>
                      <a:pt x="1314" y="1880"/>
                    </a:lnTo>
                    <a:lnTo>
                      <a:pt x="1314" y="1878"/>
                    </a:lnTo>
                    <a:lnTo>
                      <a:pt x="1314" y="1876"/>
                    </a:lnTo>
                    <a:lnTo>
                      <a:pt x="1316" y="1876"/>
                    </a:lnTo>
                    <a:lnTo>
                      <a:pt x="1320" y="1872"/>
                    </a:lnTo>
                    <a:lnTo>
                      <a:pt x="1320" y="1872"/>
                    </a:lnTo>
                    <a:lnTo>
                      <a:pt x="1318" y="1870"/>
                    </a:lnTo>
                    <a:lnTo>
                      <a:pt x="1316" y="1868"/>
                    </a:lnTo>
                    <a:lnTo>
                      <a:pt x="1316" y="1868"/>
                    </a:lnTo>
                    <a:lnTo>
                      <a:pt x="1316" y="1866"/>
                    </a:lnTo>
                    <a:lnTo>
                      <a:pt x="1316" y="1866"/>
                    </a:lnTo>
                    <a:lnTo>
                      <a:pt x="1320" y="1868"/>
                    </a:lnTo>
                    <a:lnTo>
                      <a:pt x="1320" y="1868"/>
                    </a:lnTo>
                    <a:lnTo>
                      <a:pt x="1328" y="1852"/>
                    </a:lnTo>
                    <a:lnTo>
                      <a:pt x="1332" y="1842"/>
                    </a:lnTo>
                    <a:lnTo>
                      <a:pt x="1334" y="1834"/>
                    </a:lnTo>
                    <a:lnTo>
                      <a:pt x="1334" y="1834"/>
                    </a:lnTo>
                    <a:lnTo>
                      <a:pt x="1330" y="1830"/>
                    </a:lnTo>
                    <a:lnTo>
                      <a:pt x="1326" y="1828"/>
                    </a:lnTo>
                    <a:lnTo>
                      <a:pt x="1312" y="1830"/>
                    </a:lnTo>
                    <a:lnTo>
                      <a:pt x="1312" y="1830"/>
                    </a:lnTo>
                    <a:lnTo>
                      <a:pt x="1312" y="1826"/>
                    </a:lnTo>
                    <a:lnTo>
                      <a:pt x="1312" y="1822"/>
                    </a:lnTo>
                    <a:lnTo>
                      <a:pt x="1318" y="1816"/>
                    </a:lnTo>
                    <a:lnTo>
                      <a:pt x="1324" y="1814"/>
                    </a:lnTo>
                    <a:lnTo>
                      <a:pt x="1330" y="1808"/>
                    </a:lnTo>
                    <a:lnTo>
                      <a:pt x="1330" y="1808"/>
                    </a:lnTo>
                    <a:lnTo>
                      <a:pt x="1328" y="1806"/>
                    </a:lnTo>
                    <a:lnTo>
                      <a:pt x="1324" y="1804"/>
                    </a:lnTo>
                    <a:lnTo>
                      <a:pt x="1320" y="1802"/>
                    </a:lnTo>
                    <a:lnTo>
                      <a:pt x="1316" y="1800"/>
                    </a:lnTo>
                    <a:lnTo>
                      <a:pt x="1316" y="1800"/>
                    </a:lnTo>
                    <a:lnTo>
                      <a:pt x="1318" y="1798"/>
                    </a:lnTo>
                    <a:lnTo>
                      <a:pt x="1320" y="1794"/>
                    </a:lnTo>
                    <a:lnTo>
                      <a:pt x="1326" y="1792"/>
                    </a:lnTo>
                    <a:lnTo>
                      <a:pt x="1332" y="1788"/>
                    </a:lnTo>
                    <a:lnTo>
                      <a:pt x="1338" y="1784"/>
                    </a:lnTo>
                    <a:lnTo>
                      <a:pt x="1338" y="1784"/>
                    </a:lnTo>
                    <a:lnTo>
                      <a:pt x="1334" y="1776"/>
                    </a:lnTo>
                    <a:lnTo>
                      <a:pt x="1330" y="1770"/>
                    </a:lnTo>
                    <a:lnTo>
                      <a:pt x="1318" y="1760"/>
                    </a:lnTo>
                    <a:lnTo>
                      <a:pt x="1318" y="1760"/>
                    </a:lnTo>
                    <a:lnTo>
                      <a:pt x="1308" y="1750"/>
                    </a:lnTo>
                    <a:lnTo>
                      <a:pt x="1300" y="1738"/>
                    </a:lnTo>
                    <a:lnTo>
                      <a:pt x="1282" y="1710"/>
                    </a:lnTo>
                    <a:lnTo>
                      <a:pt x="1282" y="1710"/>
                    </a:lnTo>
                    <a:lnTo>
                      <a:pt x="1276" y="1696"/>
                    </a:lnTo>
                    <a:lnTo>
                      <a:pt x="1268" y="1684"/>
                    </a:lnTo>
                    <a:lnTo>
                      <a:pt x="1268" y="1684"/>
                    </a:lnTo>
                    <a:lnTo>
                      <a:pt x="1258" y="1674"/>
                    </a:lnTo>
                    <a:lnTo>
                      <a:pt x="1246" y="1668"/>
                    </a:lnTo>
                    <a:lnTo>
                      <a:pt x="1232" y="1664"/>
                    </a:lnTo>
                    <a:lnTo>
                      <a:pt x="1216" y="1660"/>
                    </a:lnTo>
                    <a:lnTo>
                      <a:pt x="1216" y="1660"/>
                    </a:lnTo>
                    <a:lnTo>
                      <a:pt x="1176" y="1650"/>
                    </a:lnTo>
                    <a:lnTo>
                      <a:pt x="1156" y="1648"/>
                    </a:lnTo>
                    <a:lnTo>
                      <a:pt x="1132" y="1648"/>
                    </a:lnTo>
                    <a:lnTo>
                      <a:pt x="1132" y="1648"/>
                    </a:lnTo>
                    <a:lnTo>
                      <a:pt x="1110" y="1650"/>
                    </a:lnTo>
                    <a:lnTo>
                      <a:pt x="1084" y="1658"/>
                    </a:lnTo>
                    <a:lnTo>
                      <a:pt x="1060" y="1668"/>
                    </a:lnTo>
                    <a:lnTo>
                      <a:pt x="1038" y="1680"/>
                    </a:lnTo>
                    <a:lnTo>
                      <a:pt x="1038" y="1680"/>
                    </a:lnTo>
                    <a:lnTo>
                      <a:pt x="1028" y="1690"/>
                    </a:lnTo>
                    <a:lnTo>
                      <a:pt x="1020" y="1702"/>
                    </a:lnTo>
                    <a:lnTo>
                      <a:pt x="1014" y="1714"/>
                    </a:lnTo>
                    <a:lnTo>
                      <a:pt x="1010" y="1730"/>
                    </a:lnTo>
                    <a:lnTo>
                      <a:pt x="1008" y="1746"/>
                    </a:lnTo>
                    <a:lnTo>
                      <a:pt x="1008" y="1764"/>
                    </a:lnTo>
                    <a:lnTo>
                      <a:pt x="1006" y="1802"/>
                    </a:lnTo>
                    <a:lnTo>
                      <a:pt x="1006" y="1802"/>
                    </a:lnTo>
                    <a:lnTo>
                      <a:pt x="1006" y="1822"/>
                    </a:lnTo>
                    <a:lnTo>
                      <a:pt x="1004" y="1840"/>
                    </a:lnTo>
                    <a:lnTo>
                      <a:pt x="998" y="1878"/>
                    </a:lnTo>
                    <a:lnTo>
                      <a:pt x="990" y="1916"/>
                    </a:lnTo>
                    <a:lnTo>
                      <a:pt x="986" y="1954"/>
                    </a:lnTo>
                    <a:lnTo>
                      <a:pt x="986" y="1954"/>
                    </a:lnTo>
                    <a:lnTo>
                      <a:pt x="978" y="2032"/>
                    </a:lnTo>
                    <a:lnTo>
                      <a:pt x="978" y="2032"/>
                    </a:lnTo>
                    <a:lnTo>
                      <a:pt x="968" y="2084"/>
                    </a:lnTo>
                    <a:lnTo>
                      <a:pt x="958" y="2138"/>
                    </a:lnTo>
                    <a:lnTo>
                      <a:pt x="946" y="2190"/>
                    </a:lnTo>
                    <a:lnTo>
                      <a:pt x="938" y="2242"/>
                    </a:lnTo>
                    <a:lnTo>
                      <a:pt x="938" y="2242"/>
                    </a:lnTo>
                    <a:lnTo>
                      <a:pt x="934" y="2272"/>
                    </a:lnTo>
                    <a:lnTo>
                      <a:pt x="930" y="2304"/>
                    </a:lnTo>
                    <a:lnTo>
                      <a:pt x="930" y="2304"/>
                    </a:lnTo>
                    <a:lnTo>
                      <a:pt x="928" y="2330"/>
                    </a:lnTo>
                    <a:lnTo>
                      <a:pt x="926" y="2354"/>
                    </a:lnTo>
                    <a:lnTo>
                      <a:pt x="922" y="2380"/>
                    </a:lnTo>
                    <a:lnTo>
                      <a:pt x="920" y="2406"/>
                    </a:lnTo>
                    <a:lnTo>
                      <a:pt x="920" y="2406"/>
                    </a:lnTo>
                    <a:lnTo>
                      <a:pt x="920" y="2444"/>
                    </a:lnTo>
                    <a:lnTo>
                      <a:pt x="920" y="2464"/>
                    </a:lnTo>
                    <a:lnTo>
                      <a:pt x="918" y="2484"/>
                    </a:lnTo>
                    <a:lnTo>
                      <a:pt x="918" y="2484"/>
                    </a:lnTo>
                    <a:lnTo>
                      <a:pt x="918" y="2502"/>
                    </a:lnTo>
                    <a:lnTo>
                      <a:pt x="920" y="2520"/>
                    </a:lnTo>
                    <a:lnTo>
                      <a:pt x="926" y="2552"/>
                    </a:lnTo>
                    <a:lnTo>
                      <a:pt x="932" y="2586"/>
                    </a:lnTo>
                    <a:lnTo>
                      <a:pt x="934" y="2602"/>
                    </a:lnTo>
                    <a:lnTo>
                      <a:pt x="934" y="2618"/>
                    </a:lnTo>
                    <a:lnTo>
                      <a:pt x="934" y="2618"/>
                    </a:lnTo>
                    <a:lnTo>
                      <a:pt x="932" y="2642"/>
                    </a:lnTo>
                    <a:lnTo>
                      <a:pt x="934" y="2668"/>
                    </a:lnTo>
                    <a:lnTo>
                      <a:pt x="936" y="2694"/>
                    </a:lnTo>
                    <a:lnTo>
                      <a:pt x="938" y="2718"/>
                    </a:lnTo>
                    <a:lnTo>
                      <a:pt x="938" y="2718"/>
                    </a:lnTo>
                    <a:lnTo>
                      <a:pt x="938" y="2742"/>
                    </a:lnTo>
                    <a:lnTo>
                      <a:pt x="942" y="2764"/>
                    </a:lnTo>
                    <a:lnTo>
                      <a:pt x="946" y="2786"/>
                    </a:lnTo>
                    <a:lnTo>
                      <a:pt x="952" y="2806"/>
                    </a:lnTo>
                    <a:lnTo>
                      <a:pt x="964" y="2850"/>
                    </a:lnTo>
                    <a:lnTo>
                      <a:pt x="970" y="2872"/>
                    </a:lnTo>
                    <a:lnTo>
                      <a:pt x="974" y="2894"/>
                    </a:lnTo>
                    <a:lnTo>
                      <a:pt x="974" y="2894"/>
                    </a:lnTo>
                    <a:lnTo>
                      <a:pt x="976" y="2926"/>
                    </a:lnTo>
                    <a:lnTo>
                      <a:pt x="978" y="2962"/>
                    </a:lnTo>
                    <a:lnTo>
                      <a:pt x="978" y="2962"/>
                    </a:lnTo>
                    <a:lnTo>
                      <a:pt x="980" y="2976"/>
                    </a:lnTo>
                    <a:lnTo>
                      <a:pt x="984" y="2990"/>
                    </a:lnTo>
                    <a:lnTo>
                      <a:pt x="992" y="3016"/>
                    </a:lnTo>
                    <a:lnTo>
                      <a:pt x="992" y="3016"/>
                    </a:lnTo>
                    <a:lnTo>
                      <a:pt x="1000" y="3048"/>
                    </a:lnTo>
                    <a:lnTo>
                      <a:pt x="1002" y="3066"/>
                    </a:lnTo>
                    <a:lnTo>
                      <a:pt x="1004" y="3084"/>
                    </a:lnTo>
                    <a:lnTo>
                      <a:pt x="1004" y="3084"/>
                    </a:lnTo>
                    <a:lnTo>
                      <a:pt x="1008" y="3126"/>
                    </a:lnTo>
                    <a:lnTo>
                      <a:pt x="1010" y="3148"/>
                    </a:lnTo>
                    <a:lnTo>
                      <a:pt x="1010" y="3168"/>
                    </a:lnTo>
                    <a:lnTo>
                      <a:pt x="1010" y="3168"/>
                    </a:lnTo>
                    <a:lnTo>
                      <a:pt x="1008" y="3194"/>
                    </a:lnTo>
                    <a:lnTo>
                      <a:pt x="1010" y="3216"/>
                    </a:lnTo>
                    <a:lnTo>
                      <a:pt x="1010" y="3216"/>
                    </a:lnTo>
                    <a:lnTo>
                      <a:pt x="1012" y="3226"/>
                    </a:lnTo>
                    <a:lnTo>
                      <a:pt x="1016" y="3236"/>
                    </a:lnTo>
                    <a:lnTo>
                      <a:pt x="1022" y="3258"/>
                    </a:lnTo>
                    <a:lnTo>
                      <a:pt x="1022" y="3258"/>
                    </a:lnTo>
                    <a:lnTo>
                      <a:pt x="1026" y="3276"/>
                    </a:lnTo>
                    <a:lnTo>
                      <a:pt x="1026" y="3296"/>
                    </a:lnTo>
                    <a:lnTo>
                      <a:pt x="1026" y="3336"/>
                    </a:lnTo>
                    <a:lnTo>
                      <a:pt x="1026" y="3336"/>
                    </a:lnTo>
                    <a:lnTo>
                      <a:pt x="1026" y="3350"/>
                    </a:lnTo>
                    <a:lnTo>
                      <a:pt x="1028" y="3362"/>
                    </a:lnTo>
                    <a:lnTo>
                      <a:pt x="1036" y="3386"/>
                    </a:lnTo>
                    <a:lnTo>
                      <a:pt x="1044" y="3408"/>
                    </a:lnTo>
                    <a:lnTo>
                      <a:pt x="1052" y="3430"/>
                    </a:lnTo>
                    <a:lnTo>
                      <a:pt x="1052" y="3430"/>
                    </a:lnTo>
                    <a:lnTo>
                      <a:pt x="1048" y="3434"/>
                    </a:lnTo>
                    <a:lnTo>
                      <a:pt x="1042" y="3436"/>
                    </a:lnTo>
                    <a:lnTo>
                      <a:pt x="1028" y="3436"/>
                    </a:lnTo>
                    <a:lnTo>
                      <a:pt x="1012" y="3434"/>
                    </a:lnTo>
                    <a:lnTo>
                      <a:pt x="1000" y="3430"/>
                    </a:lnTo>
                    <a:lnTo>
                      <a:pt x="1000" y="3430"/>
                    </a:lnTo>
                    <a:lnTo>
                      <a:pt x="1000" y="3432"/>
                    </a:lnTo>
                    <a:lnTo>
                      <a:pt x="1002" y="3432"/>
                    </a:lnTo>
                    <a:lnTo>
                      <a:pt x="1006" y="3434"/>
                    </a:lnTo>
                    <a:lnTo>
                      <a:pt x="1006" y="3434"/>
                    </a:lnTo>
                    <a:lnTo>
                      <a:pt x="996" y="3430"/>
                    </a:lnTo>
                    <a:lnTo>
                      <a:pt x="984" y="3424"/>
                    </a:lnTo>
                    <a:lnTo>
                      <a:pt x="970" y="3418"/>
                    </a:lnTo>
                    <a:lnTo>
                      <a:pt x="956" y="3416"/>
                    </a:lnTo>
                    <a:lnTo>
                      <a:pt x="956" y="3416"/>
                    </a:lnTo>
                    <a:lnTo>
                      <a:pt x="956" y="3416"/>
                    </a:lnTo>
                    <a:lnTo>
                      <a:pt x="958" y="3414"/>
                    </a:lnTo>
                    <a:lnTo>
                      <a:pt x="958" y="3414"/>
                    </a:lnTo>
                    <a:lnTo>
                      <a:pt x="940" y="3412"/>
                    </a:lnTo>
                    <a:lnTo>
                      <a:pt x="922" y="3414"/>
                    </a:lnTo>
                    <a:lnTo>
                      <a:pt x="906" y="3418"/>
                    </a:lnTo>
                    <a:lnTo>
                      <a:pt x="892" y="3424"/>
                    </a:lnTo>
                    <a:lnTo>
                      <a:pt x="876" y="3432"/>
                    </a:lnTo>
                    <a:lnTo>
                      <a:pt x="860" y="3438"/>
                    </a:lnTo>
                    <a:lnTo>
                      <a:pt x="842" y="3442"/>
                    </a:lnTo>
                    <a:lnTo>
                      <a:pt x="824" y="3442"/>
                    </a:lnTo>
                    <a:lnTo>
                      <a:pt x="824" y="3442"/>
                    </a:lnTo>
                    <a:lnTo>
                      <a:pt x="808" y="3442"/>
                    </a:lnTo>
                    <a:lnTo>
                      <a:pt x="792" y="3444"/>
                    </a:lnTo>
                    <a:lnTo>
                      <a:pt x="778" y="3446"/>
                    </a:lnTo>
                    <a:lnTo>
                      <a:pt x="762" y="3444"/>
                    </a:lnTo>
                    <a:lnTo>
                      <a:pt x="762" y="3444"/>
                    </a:lnTo>
                    <a:lnTo>
                      <a:pt x="762" y="3438"/>
                    </a:lnTo>
                    <a:lnTo>
                      <a:pt x="762" y="3434"/>
                    </a:lnTo>
                    <a:lnTo>
                      <a:pt x="760" y="3436"/>
                    </a:lnTo>
                    <a:lnTo>
                      <a:pt x="760" y="3436"/>
                    </a:lnTo>
                    <a:lnTo>
                      <a:pt x="772" y="3428"/>
                    </a:lnTo>
                    <a:lnTo>
                      <a:pt x="772" y="3428"/>
                    </a:lnTo>
                    <a:lnTo>
                      <a:pt x="782" y="3426"/>
                    </a:lnTo>
                    <a:lnTo>
                      <a:pt x="790" y="3426"/>
                    </a:lnTo>
                    <a:lnTo>
                      <a:pt x="806" y="3426"/>
                    </a:lnTo>
                    <a:lnTo>
                      <a:pt x="822" y="3426"/>
                    </a:lnTo>
                    <a:lnTo>
                      <a:pt x="830" y="3424"/>
                    </a:lnTo>
                    <a:lnTo>
                      <a:pt x="836" y="3420"/>
                    </a:lnTo>
                    <a:lnTo>
                      <a:pt x="836" y="3420"/>
                    </a:lnTo>
                    <a:lnTo>
                      <a:pt x="842" y="3416"/>
                    </a:lnTo>
                    <a:lnTo>
                      <a:pt x="848" y="3408"/>
                    </a:lnTo>
                    <a:lnTo>
                      <a:pt x="850" y="3400"/>
                    </a:lnTo>
                    <a:lnTo>
                      <a:pt x="852" y="3392"/>
                    </a:lnTo>
                    <a:lnTo>
                      <a:pt x="856" y="3372"/>
                    </a:lnTo>
                    <a:lnTo>
                      <a:pt x="858" y="3352"/>
                    </a:lnTo>
                    <a:lnTo>
                      <a:pt x="858" y="3352"/>
                    </a:lnTo>
                    <a:lnTo>
                      <a:pt x="862" y="3328"/>
                    </a:lnTo>
                    <a:lnTo>
                      <a:pt x="868" y="3302"/>
                    </a:lnTo>
                    <a:lnTo>
                      <a:pt x="874" y="3280"/>
                    </a:lnTo>
                    <a:lnTo>
                      <a:pt x="876" y="3268"/>
                    </a:lnTo>
                    <a:lnTo>
                      <a:pt x="876" y="3258"/>
                    </a:lnTo>
                    <a:lnTo>
                      <a:pt x="876" y="3258"/>
                    </a:lnTo>
                    <a:lnTo>
                      <a:pt x="876" y="3236"/>
                    </a:lnTo>
                    <a:lnTo>
                      <a:pt x="878" y="3216"/>
                    </a:lnTo>
                    <a:lnTo>
                      <a:pt x="884" y="3174"/>
                    </a:lnTo>
                    <a:lnTo>
                      <a:pt x="884" y="3174"/>
                    </a:lnTo>
                    <a:lnTo>
                      <a:pt x="886" y="3186"/>
                    </a:lnTo>
                    <a:lnTo>
                      <a:pt x="884" y="3196"/>
                    </a:lnTo>
                    <a:lnTo>
                      <a:pt x="882" y="3218"/>
                    </a:lnTo>
                    <a:lnTo>
                      <a:pt x="882" y="3218"/>
                    </a:lnTo>
                    <a:lnTo>
                      <a:pt x="882" y="3230"/>
                    </a:lnTo>
                    <a:lnTo>
                      <a:pt x="884" y="3242"/>
                    </a:lnTo>
                    <a:lnTo>
                      <a:pt x="888" y="3266"/>
                    </a:lnTo>
                    <a:lnTo>
                      <a:pt x="888" y="3266"/>
                    </a:lnTo>
                    <a:lnTo>
                      <a:pt x="888" y="3286"/>
                    </a:lnTo>
                    <a:lnTo>
                      <a:pt x="884" y="3304"/>
                    </a:lnTo>
                    <a:lnTo>
                      <a:pt x="880" y="3324"/>
                    </a:lnTo>
                    <a:lnTo>
                      <a:pt x="876" y="3344"/>
                    </a:lnTo>
                    <a:lnTo>
                      <a:pt x="876" y="3344"/>
                    </a:lnTo>
                    <a:lnTo>
                      <a:pt x="890" y="3308"/>
                    </a:lnTo>
                    <a:lnTo>
                      <a:pt x="894" y="3290"/>
                    </a:lnTo>
                    <a:lnTo>
                      <a:pt x="896" y="3270"/>
                    </a:lnTo>
                    <a:lnTo>
                      <a:pt x="896" y="3270"/>
                    </a:lnTo>
                    <a:lnTo>
                      <a:pt x="896" y="3252"/>
                    </a:lnTo>
                    <a:lnTo>
                      <a:pt x="894" y="3232"/>
                    </a:lnTo>
                    <a:lnTo>
                      <a:pt x="892" y="3212"/>
                    </a:lnTo>
                    <a:lnTo>
                      <a:pt x="892" y="3192"/>
                    </a:lnTo>
                    <a:lnTo>
                      <a:pt x="892" y="3192"/>
                    </a:lnTo>
                    <a:lnTo>
                      <a:pt x="892" y="3184"/>
                    </a:lnTo>
                    <a:lnTo>
                      <a:pt x="894" y="3174"/>
                    </a:lnTo>
                    <a:lnTo>
                      <a:pt x="894" y="3174"/>
                    </a:lnTo>
                    <a:lnTo>
                      <a:pt x="890" y="3158"/>
                    </a:lnTo>
                    <a:lnTo>
                      <a:pt x="884" y="3144"/>
                    </a:lnTo>
                    <a:lnTo>
                      <a:pt x="876" y="3130"/>
                    </a:lnTo>
                    <a:lnTo>
                      <a:pt x="874" y="3114"/>
                    </a:lnTo>
                    <a:lnTo>
                      <a:pt x="874" y="3114"/>
                    </a:lnTo>
                    <a:lnTo>
                      <a:pt x="872" y="3096"/>
                    </a:lnTo>
                    <a:lnTo>
                      <a:pt x="874" y="3080"/>
                    </a:lnTo>
                    <a:lnTo>
                      <a:pt x="874" y="3080"/>
                    </a:lnTo>
                    <a:lnTo>
                      <a:pt x="870" y="3058"/>
                    </a:lnTo>
                    <a:lnTo>
                      <a:pt x="866" y="3034"/>
                    </a:lnTo>
                    <a:lnTo>
                      <a:pt x="866" y="3034"/>
                    </a:lnTo>
                    <a:lnTo>
                      <a:pt x="862" y="3000"/>
                    </a:lnTo>
                    <a:lnTo>
                      <a:pt x="858" y="2964"/>
                    </a:lnTo>
                    <a:lnTo>
                      <a:pt x="858" y="2964"/>
                    </a:lnTo>
                    <a:lnTo>
                      <a:pt x="858" y="2946"/>
                    </a:lnTo>
                    <a:lnTo>
                      <a:pt x="858" y="2928"/>
                    </a:lnTo>
                    <a:lnTo>
                      <a:pt x="858" y="2910"/>
                    </a:lnTo>
                    <a:lnTo>
                      <a:pt x="858" y="2892"/>
                    </a:lnTo>
                    <a:lnTo>
                      <a:pt x="858" y="2892"/>
                    </a:lnTo>
                    <a:lnTo>
                      <a:pt x="856" y="2872"/>
                    </a:lnTo>
                    <a:lnTo>
                      <a:pt x="852" y="2852"/>
                    </a:lnTo>
                    <a:lnTo>
                      <a:pt x="844" y="2814"/>
                    </a:lnTo>
                    <a:lnTo>
                      <a:pt x="838" y="2778"/>
                    </a:lnTo>
                    <a:lnTo>
                      <a:pt x="836" y="2758"/>
                    </a:lnTo>
                    <a:lnTo>
                      <a:pt x="836" y="2738"/>
                    </a:lnTo>
                    <a:lnTo>
                      <a:pt x="836" y="2738"/>
                    </a:lnTo>
                    <a:lnTo>
                      <a:pt x="838" y="2706"/>
                    </a:lnTo>
                    <a:lnTo>
                      <a:pt x="838" y="2676"/>
                    </a:lnTo>
                    <a:lnTo>
                      <a:pt x="838" y="2676"/>
                    </a:lnTo>
                    <a:lnTo>
                      <a:pt x="834" y="2654"/>
                    </a:lnTo>
                    <a:lnTo>
                      <a:pt x="830" y="2632"/>
                    </a:lnTo>
                    <a:lnTo>
                      <a:pt x="826" y="2610"/>
                    </a:lnTo>
                    <a:lnTo>
                      <a:pt x="822" y="2586"/>
                    </a:lnTo>
                    <a:lnTo>
                      <a:pt x="822" y="2586"/>
                    </a:lnTo>
                    <a:lnTo>
                      <a:pt x="820" y="2550"/>
                    </a:lnTo>
                    <a:lnTo>
                      <a:pt x="818" y="2514"/>
                    </a:lnTo>
                    <a:lnTo>
                      <a:pt x="820" y="2440"/>
                    </a:lnTo>
                    <a:lnTo>
                      <a:pt x="820" y="2440"/>
                    </a:lnTo>
                    <a:lnTo>
                      <a:pt x="824" y="2410"/>
                    </a:lnTo>
                    <a:lnTo>
                      <a:pt x="826" y="2382"/>
                    </a:lnTo>
                    <a:lnTo>
                      <a:pt x="826" y="2382"/>
                    </a:lnTo>
                    <a:lnTo>
                      <a:pt x="824" y="2368"/>
                    </a:lnTo>
                    <a:lnTo>
                      <a:pt x="824" y="2354"/>
                    </a:lnTo>
                    <a:lnTo>
                      <a:pt x="824" y="2354"/>
                    </a:lnTo>
                    <a:lnTo>
                      <a:pt x="826" y="2340"/>
                    </a:lnTo>
                    <a:lnTo>
                      <a:pt x="830" y="2326"/>
                    </a:lnTo>
                    <a:lnTo>
                      <a:pt x="834" y="2310"/>
                    </a:lnTo>
                    <a:lnTo>
                      <a:pt x="836" y="2296"/>
                    </a:lnTo>
                    <a:lnTo>
                      <a:pt x="836" y="2296"/>
                    </a:lnTo>
                    <a:lnTo>
                      <a:pt x="842" y="2258"/>
                    </a:lnTo>
                    <a:lnTo>
                      <a:pt x="850" y="2220"/>
                    </a:lnTo>
                    <a:lnTo>
                      <a:pt x="858" y="2182"/>
                    </a:lnTo>
                    <a:lnTo>
                      <a:pt x="860" y="2162"/>
                    </a:lnTo>
                    <a:lnTo>
                      <a:pt x="862" y="2144"/>
                    </a:lnTo>
                    <a:lnTo>
                      <a:pt x="862" y="2144"/>
                    </a:lnTo>
                    <a:lnTo>
                      <a:pt x="866" y="2108"/>
                    </a:lnTo>
                    <a:lnTo>
                      <a:pt x="870" y="2074"/>
                    </a:lnTo>
                    <a:lnTo>
                      <a:pt x="878" y="2042"/>
                    </a:lnTo>
                    <a:lnTo>
                      <a:pt x="886" y="2010"/>
                    </a:lnTo>
                    <a:lnTo>
                      <a:pt x="904" y="1948"/>
                    </a:lnTo>
                    <a:lnTo>
                      <a:pt x="912" y="1916"/>
                    </a:lnTo>
                    <a:lnTo>
                      <a:pt x="918" y="1884"/>
                    </a:lnTo>
                    <a:lnTo>
                      <a:pt x="918" y="1884"/>
                    </a:lnTo>
                    <a:lnTo>
                      <a:pt x="918" y="1900"/>
                    </a:lnTo>
                    <a:lnTo>
                      <a:pt x="914" y="1916"/>
                    </a:lnTo>
                    <a:lnTo>
                      <a:pt x="912" y="1934"/>
                    </a:lnTo>
                    <a:lnTo>
                      <a:pt x="912" y="1942"/>
                    </a:lnTo>
                    <a:lnTo>
                      <a:pt x="912" y="1952"/>
                    </a:lnTo>
                    <a:lnTo>
                      <a:pt x="912" y="1952"/>
                    </a:lnTo>
                    <a:lnTo>
                      <a:pt x="918" y="1930"/>
                    </a:lnTo>
                    <a:lnTo>
                      <a:pt x="920" y="1908"/>
                    </a:lnTo>
                    <a:lnTo>
                      <a:pt x="922" y="1886"/>
                    </a:lnTo>
                    <a:lnTo>
                      <a:pt x="922" y="1862"/>
                    </a:lnTo>
                    <a:lnTo>
                      <a:pt x="920" y="1816"/>
                    </a:lnTo>
                    <a:lnTo>
                      <a:pt x="920" y="1768"/>
                    </a:lnTo>
                    <a:lnTo>
                      <a:pt x="920" y="1768"/>
                    </a:lnTo>
                    <a:lnTo>
                      <a:pt x="922" y="1750"/>
                    </a:lnTo>
                    <a:lnTo>
                      <a:pt x="922" y="1732"/>
                    </a:lnTo>
                    <a:lnTo>
                      <a:pt x="922" y="1732"/>
                    </a:lnTo>
                    <a:lnTo>
                      <a:pt x="922" y="1720"/>
                    </a:lnTo>
                    <a:lnTo>
                      <a:pt x="920" y="1710"/>
                    </a:lnTo>
                    <a:lnTo>
                      <a:pt x="916" y="1688"/>
                    </a:lnTo>
                    <a:lnTo>
                      <a:pt x="916" y="1688"/>
                    </a:lnTo>
                    <a:lnTo>
                      <a:pt x="914" y="1668"/>
                    </a:lnTo>
                    <a:lnTo>
                      <a:pt x="914" y="1648"/>
                    </a:lnTo>
                    <a:lnTo>
                      <a:pt x="912" y="1640"/>
                    </a:lnTo>
                    <a:lnTo>
                      <a:pt x="908" y="1632"/>
                    </a:lnTo>
                    <a:lnTo>
                      <a:pt x="904" y="1624"/>
                    </a:lnTo>
                    <a:lnTo>
                      <a:pt x="896" y="1618"/>
                    </a:lnTo>
                    <a:lnTo>
                      <a:pt x="896" y="1618"/>
                    </a:lnTo>
                    <a:lnTo>
                      <a:pt x="882" y="1610"/>
                    </a:lnTo>
                    <a:lnTo>
                      <a:pt x="862" y="1600"/>
                    </a:lnTo>
                    <a:lnTo>
                      <a:pt x="862" y="1600"/>
                    </a:lnTo>
                    <a:lnTo>
                      <a:pt x="850" y="1594"/>
                    </a:lnTo>
                    <a:lnTo>
                      <a:pt x="838" y="1588"/>
                    </a:lnTo>
                    <a:lnTo>
                      <a:pt x="826" y="1584"/>
                    </a:lnTo>
                    <a:lnTo>
                      <a:pt x="810" y="1582"/>
                    </a:lnTo>
                    <a:lnTo>
                      <a:pt x="810" y="1582"/>
                    </a:lnTo>
                    <a:lnTo>
                      <a:pt x="794" y="1582"/>
                    </a:lnTo>
                    <a:lnTo>
                      <a:pt x="794" y="1582"/>
                    </a:lnTo>
                    <a:lnTo>
                      <a:pt x="758" y="1582"/>
                    </a:lnTo>
                    <a:lnTo>
                      <a:pt x="720" y="1584"/>
                    </a:lnTo>
                    <a:lnTo>
                      <a:pt x="644" y="1588"/>
                    </a:lnTo>
                    <a:lnTo>
                      <a:pt x="644" y="1588"/>
                    </a:lnTo>
                    <a:lnTo>
                      <a:pt x="618" y="1588"/>
                    </a:lnTo>
                    <a:lnTo>
                      <a:pt x="592" y="1590"/>
                    </a:lnTo>
                    <a:lnTo>
                      <a:pt x="592" y="1590"/>
                    </a:lnTo>
                    <a:lnTo>
                      <a:pt x="582" y="1592"/>
                    </a:lnTo>
                    <a:lnTo>
                      <a:pt x="572" y="1596"/>
                    </a:lnTo>
                    <a:lnTo>
                      <a:pt x="550" y="1608"/>
                    </a:lnTo>
                    <a:lnTo>
                      <a:pt x="550" y="1608"/>
                    </a:lnTo>
                    <a:lnTo>
                      <a:pt x="534" y="1616"/>
                    </a:lnTo>
                    <a:lnTo>
                      <a:pt x="518" y="1624"/>
                    </a:lnTo>
                    <a:lnTo>
                      <a:pt x="510" y="1630"/>
                    </a:lnTo>
                    <a:lnTo>
                      <a:pt x="506" y="1636"/>
                    </a:lnTo>
                    <a:lnTo>
                      <a:pt x="500" y="1644"/>
                    </a:lnTo>
                    <a:lnTo>
                      <a:pt x="498" y="1652"/>
                    </a:lnTo>
                    <a:lnTo>
                      <a:pt x="498" y="1652"/>
                    </a:lnTo>
                    <a:lnTo>
                      <a:pt x="500" y="1656"/>
                    </a:lnTo>
                    <a:lnTo>
                      <a:pt x="500" y="1656"/>
                    </a:lnTo>
                    <a:lnTo>
                      <a:pt x="496" y="1660"/>
                    </a:lnTo>
                    <a:lnTo>
                      <a:pt x="492" y="1666"/>
                    </a:lnTo>
                    <a:lnTo>
                      <a:pt x="490" y="1672"/>
                    </a:lnTo>
                    <a:lnTo>
                      <a:pt x="488" y="1678"/>
                    </a:lnTo>
                    <a:lnTo>
                      <a:pt x="488" y="1678"/>
                    </a:lnTo>
                    <a:lnTo>
                      <a:pt x="490" y="1682"/>
                    </a:lnTo>
                    <a:lnTo>
                      <a:pt x="494" y="1682"/>
                    </a:lnTo>
                    <a:lnTo>
                      <a:pt x="502" y="1684"/>
                    </a:lnTo>
                    <a:lnTo>
                      <a:pt x="502" y="1684"/>
                    </a:lnTo>
                    <a:lnTo>
                      <a:pt x="500" y="1688"/>
                    </a:lnTo>
                    <a:lnTo>
                      <a:pt x="498" y="1690"/>
                    </a:lnTo>
                    <a:lnTo>
                      <a:pt x="492" y="1692"/>
                    </a:lnTo>
                    <a:lnTo>
                      <a:pt x="484" y="1692"/>
                    </a:lnTo>
                    <a:lnTo>
                      <a:pt x="480" y="1694"/>
                    </a:lnTo>
                    <a:lnTo>
                      <a:pt x="478" y="1694"/>
                    </a:lnTo>
                    <a:lnTo>
                      <a:pt x="478" y="1694"/>
                    </a:lnTo>
                    <a:lnTo>
                      <a:pt x="484" y="1696"/>
                    </a:lnTo>
                    <a:lnTo>
                      <a:pt x="492" y="1696"/>
                    </a:lnTo>
                    <a:lnTo>
                      <a:pt x="498" y="1692"/>
                    </a:lnTo>
                    <a:lnTo>
                      <a:pt x="502" y="1688"/>
                    </a:lnTo>
                    <a:lnTo>
                      <a:pt x="502" y="1688"/>
                    </a:lnTo>
                    <a:lnTo>
                      <a:pt x="500" y="1692"/>
                    </a:lnTo>
                    <a:lnTo>
                      <a:pt x="498" y="1694"/>
                    </a:lnTo>
                    <a:lnTo>
                      <a:pt x="486" y="1696"/>
                    </a:lnTo>
                    <a:lnTo>
                      <a:pt x="476" y="1698"/>
                    </a:lnTo>
                    <a:lnTo>
                      <a:pt x="472" y="1702"/>
                    </a:lnTo>
                    <a:lnTo>
                      <a:pt x="470" y="1706"/>
                    </a:lnTo>
                    <a:lnTo>
                      <a:pt x="470" y="1706"/>
                    </a:lnTo>
                    <a:lnTo>
                      <a:pt x="468" y="1704"/>
                    </a:lnTo>
                    <a:lnTo>
                      <a:pt x="466" y="1702"/>
                    </a:lnTo>
                    <a:lnTo>
                      <a:pt x="464" y="1702"/>
                    </a:lnTo>
                    <a:lnTo>
                      <a:pt x="462" y="1700"/>
                    </a:lnTo>
                    <a:lnTo>
                      <a:pt x="462" y="1700"/>
                    </a:lnTo>
                    <a:lnTo>
                      <a:pt x="460" y="1708"/>
                    </a:lnTo>
                    <a:lnTo>
                      <a:pt x="456" y="1710"/>
                    </a:lnTo>
                    <a:lnTo>
                      <a:pt x="450" y="1712"/>
                    </a:lnTo>
                    <a:lnTo>
                      <a:pt x="444" y="1710"/>
                    </a:lnTo>
                    <a:lnTo>
                      <a:pt x="438" y="1708"/>
                    </a:lnTo>
                    <a:lnTo>
                      <a:pt x="434" y="1704"/>
                    </a:lnTo>
                    <a:lnTo>
                      <a:pt x="430" y="1698"/>
                    </a:lnTo>
                    <a:lnTo>
                      <a:pt x="430" y="1692"/>
                    </a:lnTo>
                    <a:lnTo>
                      <a:pt x="430" y="1692"/>
                    </a:lnTo>
                    <a:lnTo>
                      <a:pt x="438" y="1694"/>
                    </a:lnTo>
                    <a:lnTo>
                      <a:pt x="444" y="1696"/>
                    </a:lnTo>
                    <a:lnTo>
                      <a:pt x="452" y="1698"/>
                    </a:lnTo>
                    <a:lnTo>
                      <a:pt x="460" y="1696"/>
                    </a:lnTo>
                    <a:lnTo>
                      <a:pt x="460" y="1696"/>
                    </a:lnTo>
                    <a:lnTo>
                      <a:pt x="462" y="1698"/>
                    </a:lnTo>
                    <a:lnTo>
                      <a:pt x="464" y="1700"/>
                    </a:lnTo>
                    <a:lnTo>
                      <a:pt x="464" y="1700"/>
                    </a:lnTo>
                    <a:lnTo>
                      <a:pt x="466" y="1702"/>
                    </a:lnTo>
                    <a:lnTo>
                      <a:pt x="466" y="1702"/>
                    </a:lnTo>
                    <a:lnTo>
                      <a:pt x="470" y="1700"/>
                    </a:lnTo>
                    <a:lnTo>
                      <a:pt x="472" y="1698"/>
                    </a:lnTo>
                    <a:lnTo>
                      <a:pt x="476" y="1692"/>
                    </a:lnTo>
                    <a:lnTo>
                      <a:pt x="476" y="1692"/>
                    </a:lnTo>
                    <a:lnTo>
                      <a:pt x="456" y="1680"/>
                    </a:lnTo>
                    <a:lnTo>
                      <a:pt x="446" y="1674"/>
                    </a:lnTo>
                    <a:lnTo>
                      <a:pt x="436" y="1668"/>
                    </a:lnTo>
                    <a:lnTo>
                      <a:pt x="436" y="1668"/>
                    </a:lnTo>
                    <a:lnTo>
                      <a:pt x="432" y="1672"/>
                    </a:lnTo>
                    <a:lnTo>
                      <a:pt x="430" y="1678"/>
                    </a:lnTo>
                    <a:lnTo>
                      <a:pt x="430" y="1684"/>
                    </a:lnTo>
                    <a:lnTo>
                      <a:pt x="428" y="1688"/>
                    </a:lnTo>
                    <a:lnTo>
                      <a:pt x="428" y="1688"/>
                    </a:lnTo>
                    <a:lnTo>
                      <a:pt x="424" y="1692"/>
                    </a:lnTo>
                    <a:lnTo>
                      <a:pt x="416" y="1694"/>
                    </a:lnTo>
                    <a:lnTo>
                      <a:pt x="410" y="1696"/>
                    </a:lnTo>
                    <a:lnTo>
                      <a:pt x="408" y="1696"/>
                    </a:lnTo>
                    <a:lnTo>
                      <a:pt x="406" y="1700"/>
                    </a:lnTo>
                    <a:lnTo>
                      <a:pt x="406" y="1700"/>
                    </a:lnTo>
                    <a:lnTo>
                      <a:pt x="416" y="1704"/>
                    </a:lnTo>
                    <a:lnTo>
                      <a:pt x="422" y="1706"/>
                    </a:lnTo>
                    <a:lnTo>
                      <a:pt x="422" y="1712"/>
                    </a:lnTo>
                    <a:lnTo>
                      <a:pt x="422" y="1712"/>
                    </a:lnTo>
                    <a:lnTo>
                      <a:pt x="418" y="1716"/>
                    </a:lnTo>
                    <a:lnTo>
                      <a:pt x="412" y="1718"/>
                    </a:lnTo>
                    <a:lnTo>
                      <a:pt x="404" y="1718"/>
                    </a:lnTo>
                    <a:lnTo>
                      <a:pt x="396" y="1716"/>
                    </a:lnTo>
                    <a:lnTo>
                      <a:pt x="396" y="1716"/>
                    </a:lnTo>
                    <a:lnTo>
                      <a:pt x="388" y="1724"/>
                    </a:lnTo>
                    <a:lnTo>
                      <a:pt x="380" y="1734"/>
                    </a:lnTo>
                    <a:lnTo>
                      <a:pt x="380" y="1734"/>
                    </a:lnTo>
                    <a:lnTo>
                      <a:pt x="382" y="1738"/>
                    </a:lnTo>
                    <a:lnTo>
                      <a:pt x="384" y="1740"/>
                    </a:lnTo>
                    <a:lnTo>
                      <a:pt x="384" y="1740"/>
                    </a:lnTo>
                    <a:lnTo>
                      <a:pt x="384" y="1740"/>
                    </a:lnTo>
                    <a:lnTo>
                      <a:pt x="382" y="1740"/>
                    </a:lnTo>
                    <a:lnTo>
                      <a:pt x="380" y="1738"/>
                    </a:lnTo>
                    <a:lnTo>
                      <a:pt x="380" y="1736"/>
                    </a:lnTo>
                    <a:lnTo>
                      <a:pt x="380" y="1736"/>
                    </a:lnTo>
                    <a:lnTo>
                      <a:pt x="380" y="1740"/>
                    </a:lnTo>
                    <a:lnTo>
                      <a:pt x="380" y="1742"/>
                    </a:lnTo>
                    <a:lnTo>
                      <a:pt x="382" y="1748"/>
                    </a:lnTo>
                    <a:lnTo>
                      <a:pt x="382" y="1748"/>
                    </a:lnTo>
                    <a:lnTo>
                      <a:pt x="388" y="1746"/>
                    </a:lnTo>
                    <a:lnTo>
                      <a:pt x="388" y="1746"/>
                    </a:lnTo>
                    <a:lnTo>
                      <a:pt x="386" y="1742"/>
                    </a:lnTo>
                    <a:lnTo>
                      <a:pt x="386" y="1742"/>
                    </a:lnTo>
                    <a:lnTo>
                      <a:pt x="390" y="1744"/>
                    </a:lnTo>
                    <a:lnTo>
                      <a:pt x="394" y="1742"/>
                    </a:lnTo>
                    <a:lnTo>
                      <a:pt x="400" y="1742"/>
                    </a:lnTo>
                    <a:lnTo>
                      <a:pt x="404" y="1738"/>
                    </a:lnTo>
                    <a:lnTo>
                      <a:pt x="404" y="1738"/>
                    </a:lnTo>
                    <a:lnTo>
                      <a:pt x="404" y="1732"/>
                    </a:lnTo>
                    <a:lnTo>
                      <a:pt x="404" y="1728"/>
                    </a:lnTo>
                    <a:lnTo>
                      <a:pt x="404" y="1726"/>
                    </a:lnTo>
                    <a:lnTo>
                      <a:pt x="404" y="1726"/>
                    </a:lnTo>
                    <a:lnTo>
                      <a:pt x="408" y="1726"/>
                    </a:lnTo>
                    <a:lnTo>
                      <a:pt x="412" y="1728"/>
                    </a:lnTo>
                    <a:lnTo>
                      <a:pt x="414" y="1732"/>
                    </a:lnTo>
                    <a:lnTo>
                      <a:pt x="412" y="1738"/>
                    </a:lnTo>
                    <a:lnTo>
                      <a:pt x="410" y="1744"/>
                    </a:lnTo>
                    <a:lnTo>
                      <a:pt x="410" y="1744"/>
                    </a:lnTo>
                    <a:lnTo>
                      <a:pt x="406" y="1748"/>
                    </a:lnTo>
                    <a:lnTo>
                      <a:pt x="400" y="1752"/>
                    </a:lnTo>
                    <a:lnTo>
                      <a:pt x="388" y="1756"/>
                    </a:lnTo>
                    <a:lnTo>
                      <a:pt x="388" y="1756"/>
                    </a:lnTo>
                    <a:lnTo>
                      <a:pt x="388" y="1758"/>
                    </a:lnTo>
                    <a:lnTo>
                      <a:pt x="388" y="1758"/>
                    </a:lnTo>
                    <a:lnTo>
                      <a:pt x="390" y="1760"/>
                    </a:lnTo>
                    <a:lnTo>
                      <a:pt x="390" y="1762"/>
                    </a:lnTo>
                    <a:lnTo>
                      <a:pt x="390" y="1762"/>
                    </a:lnTo>
                    <a:lnTo>
                      <a:pt x="398" y="1762"/>
                    </a:lnTo>
                    <a:lnTo>
                      <a:pt x="404" y="1764"/>
                    </a:lnTo>
                    <a:lnTo>
                      <a:pt x="410" y="1766"/>
                    </a:lnTo>
                    <a:lnTo>
                      <a:pt x="412" y="1770"/>
                    </a:lnTo>
                    <a:lnTo>
                      <a:pt x="412" y="1770"/>
                    </a:lnTo>
                    <a:lnTo>
                      <a:pt x="408" y="1772"/>
                    </a:lnTo>
                    <a:lnTo>
                      <a:pt x="402" y="1772"/>
                    </a:lnTo>
                    <a:lnTo>
                      <a:pt x="402" y="1772"/>
                    </a:lnTo>
                    <a:lnTo>
                      <a:pt x="406" y="1778"/>
                    </a:lnTo>
                    <a:lnTo>
                      <a:pt x="412" y="1782"/>
                    </a:lnTo>
                    <a:lnTo>
                      <a:pt x="420" y="1784"/>
                    </a:lnTo>
                    <a:lnTo>
                      <a:pt x="426" y="1788"/>
                    </a:lnTo>
                    <a:lnTo>
                      <a:pt x="426" y="1788"/>
                    </a:lnTo>
                    <a:lnTo>
                      <a:pt x="412" y="1782"/>
                    </a:lnTo>
                    <a:lnTo>
                      <a:pt x="398" y="1774"/>
                    </a:lnTo>
                    <a:lnTo>
                      <a:pt x="398" y="1774"/>
                    </a:lnTo>
                    <a:lnTo>
                      <a:pt x="390" y="1776"/>
                    </a:lnTo>
                    <a:lnTo>
                      <a:pt x="388" y="1776"/>
                    </a:lnTo>
                    <a:lnTo>
                      <a:pt x="386" y="1780"/>
                    </a:lnTo>
                    <a:lnTo>
                      <a:pt x="386" y="1780"/>
                    </a:lnTo>
                    <a:lnTo>
                      <a:pt x="390" y="1784"/>
                    </a:lnTo>
                    <a:lnTo>
                      <a:pt x="392" y="1786"/>
                    </a:lnTo>
                    <a:lnTo>
                      <a:pt x="392" y="1788"/>
                    </a:lnTo>
                    <a:lnTo>
                      <a:pt x="392" y="1788"/>
                    </a:lnTo>
                    <a:lnTo>
                      <a:pt x="390" y="1792"/>
                    </a:lnTo>
                    <a:lnTo>
                      <a:pt x="386" y="1794"/>
                    </a:lnTo>
                    <a:lnTo>
                      <a:pt x="374" y="1798"/>
                    </a:lnTo>
                    <a:lnTo>
                      <a:pt x="362" y="1796"/>
                    </a:lnTo>
                    <a:lnTo>
                      <a:pt x="352" y="1794"/>
                    </a:lnTo>
                    <a:lnTo>
                      <a:pt x="352" y="1794"/>
                    </a:lnTo>
                    <a:lnTo>
                      <a:pt x="348" y="1802"/>
                    </a:lnTo>
                    <a:lnTo>
                      <a:pt x="346" y="1808"/>
                    </a:lnTo>
                    <a:lnTo>
                      <a:pt x="348" y="1814"/>
                    </a:lnTo>
                    <a:lnTo>
                      <a:pt x="350" y="1818"/>
                    </a:lnTo>
                    <a:lnTo>
                      <a:pt x="352" y="1820"/>
                    </a:lnTo>
                    <a:lnTo>
                      <a:pt x="352" y="1820"/>
                    </a:lnTo>
                    <a:lnTo>
                      <a:pt x="350" y="1818"/>
                    </a:lnTo>
                    <a:lnTo>
                      <a:pt x="344" y="1816"/>
                    </a:lnTo>
                    <a:lnTo>
                      <a:pt x="344" y="1816"/>
                    </a:lnTo>
                    <a:lnTo>
                      <a:pt x="344" y="1828"/>
                    </a:lnTo>
                    <a:lnTo>
                      <a:pt x="342" y="1838"/>
                    </a:lnTo>
                    <a:lnTo>
                      <a:pt x="340" y="1842"/>
                    </a:lnTo>
                    <a:lnTo>
                      <a:pt x="336" y="1846"/>
                    </a:lnTo>
                    <a:lnTo>
                      <a:pt x="332" y="1848"/>
                    </a:lnTo>
                    <a:lnTo>
                      <a:pt x="326" y="1850"/>
                    </a:lnTo>
                    <a:lnTo>
                      <a:pt x="326" y="1850"/>
                    </a:lnTo>
                    <a:lnTo>
                      <a:pt x="322" y="1848"/>
                    </a:lnTo>
                    <a:lnTo>
                      <a:pt x="322" y="1848"/>
                    </a:lnTo>
                    <a:lnTo>
                      <a:pt x="326" y="1836"/>
                    </a:lnTo>
                    <a:lnTo>
                      <a:pt x="328" y="1826"/>
                    </a:lnTo>
                    <a:lnTo>
                      <a:pt x="334" y="1818"/>
                    </a:lnTo>
                    <a:lnTo>
                      <a:pt x="338" y="1816"/>
                    </a:lnTo>
                    <a:lnTo>
                      <a:pt x="344" y="1814"/>
                    </a:lnTo>
                    <a:lnTo>
                      <a:pt x="344" y="1814"/>
                    </a:lnTo>
                    <a:lnTo>
                      <a:pt x="346" y="1806"/>
                    </a:lnTo>
                    <a:lnTo>
                      <a:pt x="348" y="1798"/>
                    </a:lnTo>
                    <a:lnTo>
                      <a:pt x="348" y="1790"/>
                    </a:lnTo>
                    <a:lnTo>
                      <a:pt x="352" y="1784"/>
                    </a:lnTo>
                    <a:lnTo>
                      <a:pt x="352" y="1784"/>
                    </a:lnTo>
                    <a:lnTo>
                      <a:pt x="346" y="1784"/>
                    </a:lnTo>
                    <a:lnTo>
                      <a:pt x="342" y="1786"/>
                    </a:lnTo>
                    <a:lnTo>
                      <a:pt x="334" y="1790"/>
                    </a:lnTo>
                    <a:lnTo>
                      <a:pt x="328" y="1794"/>
                    </a:lnTo>
                    <a:lnTo>
                      <a:pt x="322" y="1798"/>
                    </a:lnTo>
                    <a:lnTo>
                      <a:pt x="322" y="1798"/>
                    </a:lnTo>
                    <a:lnTo>
                      <a:pt x="324" y="1796"/>
                    </a:lnTo>
                    <a:lnTo>
                      <a:pt x="328" y="1792"/>
                    </a:lnTo>
                    <a:lnTo>
                      <a:pt x="332" y="1790"/>
                    </a:lnTo>
                    <a:lnTo>
                      <a:pt x="336" y="1786"/>
                    </a:lnTo>
                    <a:lnTo>
                      <a:pt x="336" y="1786"/>
                    </a:lnTo>
                    <a:lnTo>
                      <a:pt x="334" y="1784"/>
                    </a:lnTo>
                    <a:lnTo>
                      <a:pt x="334" y="1784"/>
                    </a:lnTo>
                    <a:lnTo>
                      <a:pt x="330" y="1784"/>
                    </a:lnTo>
                    <a:lnTo>
                      <a:pt x="330" y="1784"/>
                    </a:lnTo>
                    <a:lnTo>
                      <a:pt x="328" y="1786"/>
                    </a:lnTo>
                    <a:lnTo>
                      <a:pt x="328" y="1788"/>
                    </a:lnTo>
                    <a:lnTo>
                      <a:pt x="330" y="1788"/>
                    </a:lnTo>
                    <a:lnTo>
                      <a:pt x="328" y="1788"/>
                    </a:lnTo>
                    <a:lnTo>
                      <a:pt x="328" y="1788"/>
                    </a:lnTo>
                    <a:lnTo>
                      <a:pt x="320" y="1788"/>
                    </a:lnTo>
                    <a:lnTo>
                      <a:pt x="318" y="1786"/>
                    </a:lnTo>
                    <a:lnTo>
                      <a:pt x="318" y="1782"/>
                    </a:lnTo>
                    <a:lnTo>
                      <a:pt x="318" y="1782"/>
                    </a:lnTo>
                    <a:lnTo>
                      <a:pt x="320" y="1780"/>
                    </a:lnTo>
                    <a:lnTo>
                      <a:pt x="322" y="1780"/>
                    </a:lnTo>
                    <a:lnTo>
                      <a:pt x="326" y="1784"/>
                    </a:lnTo>
                    <a:lnTo>
                      <a:pt x="326" y="1784"/>
                    </a:lnTo>
                    <a:lnTo>
                      <a:pt x="326" y="1780"/>
                    </a:lnTo>
                    <a:lnTo>
                      <a:pt x="324" y="1776"/>
                    </a:lnTo>
                    <a:lnTo>
                      <a:pt x="326" y="1774"/>
                    </a:lnTo>
                    <a:lnTo>
                      <a:pt x="326" y="1774"/>
                    </a:lnTo>
                    <a:lnTo>
                      <a:pt x="332" y="1772"/>
                    </a:lnTo>
                    <a:lnTo>
                      <a:pt x="336" y="1772"/>
                    </a:lnTo>
                    <a:lnTo>
                      <a:pt x="342" y="1772"/>
                    </a:lnTo>
                    <a:lnTo>
                      <a:pt x="346" y="1770"/>
                    </a:lnTo>
                    <a:lnTo>
                      <a:pt x="346" y="1770"/>
                    </a:lnTo>
                    <a:lnTo>
                      <a:pt x="344" y="1768"/>
                    </a:lnTo>
                    <a:lnTo>
                      <a:pt x="338" y="1766"/>
                    </a:lnTo>
                    <a:lnTo>
                      <a:pt x="338" y="1766"/>
                    </a:lnTo>
                    <a:lnTo>
                      <a:pt x="338" y="1764"/>
                    </a:lnTo>
                    <a:lnTo>
                      <a:pt x="342" y="1766"/>
                    </a:lnTo>
                    <a:lnTo>
                      <a:pt x="346" y="1768"/>
                    </a:lnTo>
                    <a:lnTo>
                      <a:pt x="346" y="1768"/>
                    </a:lnTo>
                    <a:lnTo>
                      <a:pt x="352" y="1762"/>
                    </a:lnTo>
                    <a:lnTo>
                      <a:pt x="352" y="1762"/>
                    </a:lnTo>
                    <a:lnTo>
                      <a:pt x="348" y="1762"/>
                    </a:lnTo>
                    <a:lnTo>
                      <a:pt x="342" y="1762"/>
                    </a:lnTo>
                    <a:lnTo>
                      <a:pt x="332" y="1760"/>
                    </a:lnTo>
                    <a:lnTo>
                      <a:pt x="332" y="1760"/>
                    </a:lnTo>
                    <a:lnTo>
                      <a:pt x="336" y="1762"/>
                    </a:lnTo>
                    <a:lnTo>
                      <a:pt x="336" y="1762"/>
                    </a:lnTo>
                    <a:lnTo>
                      <a:pt x="334" y="1762"/>
                    </a:lnTo>
                    <a:lnTo>
                      <a:pt x="330" y="1760"/>
                    </a:lnTo>
                    <a:lnTo>
                      <a:pt x="326" y="1758"/>
                    </a:lnTo>
                    <a:lnTo>
                      <a:pt x="320" y="1758"/>
                    </a:lnTo>
                    <a:lnTo>
                      <a:pt x="320" y="1758"/>
                    </a:lnTo>
                    <a:lnTo>
                      <a:pt x="316" y="1764"/>
                    </a:lnTo>
                    <a:lnTo>
                      <a:pt x="310" y="1772"/>
                    </a:lnTo>
                    <a:lnTo>
                      <a:pt x="306" y="1778"/>
                    </a:lnTo>
                    <a:lnTo>
                      <a:pt x="302" y="1778"/>
                    </a:lnTo>
                    <a:lnTo>
                      <a:pt x="298" y="1778"/>
                    </a:lnTo>
                    <a:lnTo>
                      <a:pt x="298" y="1778"/>
                    </a:lnTo>
                    <a:lnTo>
                      <a:pt x="306" y="1772"/>
                    </a:lnTo>
                    <a:lnTo>
                      <a:pt x="310" y="1768"/>
                    </a:lnTo>
                    <a:lnTo>
                      <a:pt x="312" y="1764"/>
                    </a:lnTo>
                    <a:lnTo>
                      <a:pt x="312" y="1764"/>
                    </a:lnTo>
                    <a:lnTo>
                      <a:pt x="306" y="1762"/>
                    </a:lnTo>
                    <a:lnTo>
                      <a:pt x="300" y="1762"/>
                    </a:lnTo>
                    <a:lnTo>
                      <a:pt x="290" y="1762"/>
                    </a:lnTo>
                    <a:lnTo>
                      <a:pt x="280" y="1766"/>
                    </a:lnTo>
                    <a:lnTo>
                      <a:pt x="272" y="1770"/>
                    </a:lnTo>
                    <a:lnTo>
                      <a:pt x="272" y="1770"/>
                    </a:lnTo>
                    <a:lnTo>
                      <a:pt x="272" y="1764"/>
                    </a:lnTo>
                    <a:lnTo>
                      <a:pt x="270" y="1760"/>
                    </a:lnTo>
                    <a:lnTo>
                      <a:pt x="270" y="1760"/>
                    </a:lnTo>
                    <a:lnTo>
                      <a:pt x="270" y="1760"/>
                    </a:lnTo>
                    <a:lnTo>
                      <a:pt x="272" y="1762"/>
                    </a:lnTo>
                    <a:lnTo>
                      <a:pt x="274" y="1764"/>
                    </a:lnTo>
                    <a:lnTo>
                      <a:pt x="276" y="1766"/>
                    </a:lnTo>
                    <a:lnTo>
                      <a:pt x="276" y="1766"/>
                    </a:lnTo>
                    <a:lnTo>
                      <a:pt x="282" y="1764"/>
                    </a:lnTo>
                    <a:lnTo>
                      <a:pt x="286" y="1762"/>
                    </a:lnTo>
                    <a:lnTo>
                      <a:pt x="286" y="1762"/>
                    </a:lnTo>
                    <a:lnTo>
                      <a:pt x="280" y="1758"/>
                    </a:lnTo>
                    <a:lnTo>
                      <a:pt x="278" y="1758"/>
                    </a:lnTo>
                    <a:lnTo>
                      <a:pt x="278" y="1754"/>
                    </a:lnTo>
                    <a:lnTo>
                      <a:pt x="278" y="1754"/>
                    </a:lnTo>
                    <a:lnTo>
                      <a:pt x="290" y="1754"/>
                    </a:lnTo>
                    <a:lnTo>
                      <a:pt x="298" y="1752"/>
                    </a:lnTo>
                    <a:lnTo>
                      <a:pt x="306" y="1746"/>
                    </a:lnTo>
                    <a:lnTo>
                      <a:pt x="312" y="1740"/>
                    </a:lnTo>
                    <a:lnTo>
                      <a:pt x="312" y="1740"/>
                    </a:lnTo>
                    <a:lnTo>
                      <a:pt x="294" y="1742"/>
                    </a:lnTo>
                    <a:lnTo>
                      <a:pt x="276" y="1742"/>
                    </a:lnTo>
                    <a:lnTo>
                      <a:pt x="276" y="1742"/>
                    </a:lnTo>
                    <a:lnTo>
                      <a:pt x="274" y="1748"/>
                    </a:lnTo>
                    <a:lnTo>
                      <a:pt x="270" y="1754"/>
                    </a:lnTo>
                    <a:lnTo>
                      <a:pt x="266" y="1760"/>
                    </a:lnTo>
                    <a:lnTo>
                      <a:pt x="258" y="1762"/>
                    </a:lnTo>
                    <a:lnTo>
                      <a:pt x="252" y="1764"/>
                    </a:lnTo>
                    <a:lnTo>
                      <a:pt x="244" y="1764"/>
                    </a:lnTo>
                    <a:lnTo>
                      <a:pt x="238" y="1762"/>
                    </a:lnTo>
                    <a:lnTo>
                      <a:pt x="232" y="1758"/>
                    </a:lnTo>
                    <a:lnTo>
                      <a:pt x="232" y="1758"/>
                    </a:lnTo>
                    <a:lnTo>
                      <a:pt x="220" y="1762"/>
                    </a:lnTo>
                    <a:lnTo>
                      <a:pt x="214" y="1762"/>
                    </a:lnTo>
                    <a:lnTo>
                      <a:pt x="208" y="1760"/>
                    </a:lnTo>
                    <a:lnTo>
                      <a:pt x="208" y="1760"/>
                    </a:lnTo>
                    <a:lnTo>
                      <a:pt x="208" y="1752"/>
                    </a:lnTo>
                    <a:lnTo>
                      <a:pt x="212" y="1746"/>
                    </a:lnTo>
                    <a:lnTo>
                      <a:pt x="224" y="1740"/>
                    </a:lnTo>
                    <a:lnTo>
                      <a:pt x="224" y="1740"/>
                    </a:lnTo>
                    <a:lnTo>
                      <a:pt x="232" y="1734"/>
                    </a:lnTo>
                    <a:lnTo>
                      <a:pt x="240" y="1730"/>
                    </a:lnTo>
                    <a:lnTo>
                      <a:pt x="248" y="1728"/>
                    </a:lnTo>
                    <a:lnTo>
                      <a:pt x="262" y="1730"/>
                    </a:lnTo>
                    <a:lnTo>
                      <a:pt x="262" y="1730"/>
                    </a:lnTo>
                    <a:lnTo>
                      <a:pt x="256" y="1726"/>
                    </a:lnTo>
                    <a:lnTo>
                      <a:pt x="250" y="1722"/>
                    </a:lnTo>
                    <a:lnTo>
                      <a:pt x="244" y="1718"/>
                    </a:lnTo>
                    <a:lnTo>
                      <a:pt x="242" y="1716"/>
                    </a:lnTo>
                    <a:lnTo>
                      <a:pt x="242" y="1712"/>
                    </a:lnTo>
                    <a:lnTo>
                      <a:pt x="242" y="1712"/>
                    </a:lnTo>
                    <a:lnTo>
                      <a:pt x="244" y="1710"/>
                    </a:lnTo>
                    <a:lnTo>
                      <a:pt x="248" y="1710"/>
                    </a:lnTo>
                    <a:lnTo>
                      <a:pt x="256" y="1712"/>
                    </a:lnTo>
                    <a:lnTo>
                      <a:pt x="256" y="1712"/>
                    </a:lnTo>
                    <a:lnTo>
                      <a:pt x="252" y="1710"/>
                    </a:lnTo>
                    <a:lnTo>
                      <a:pt x="246" y="1706"/>
                    </a:lnTo>
                    <a:lnTo>
                      <a:pt x="246" y="1706"/>
                    </a:lnTo>
                    <a:lnTo>
                      <a:pt x="248" y="1706"/>
                    </a:lnTo>
                    <a:lnTo>
                      <a:pt x="252" y="1708"/>
                    </a:lnTo>
                    <a:lnTo>
                      <a:pt x="260" y="1710"/>
                    </a:lnTo>
                    <a:lnTo>
                      <a:pt x="260" y="1710"/>
                    </a:lnTo>
                    <a:lnTo>
                      <a:pt x="258" y="1706"/>
                    </a:lnTo>
                    <a:lnTo>
                      <a:pt x="254" y="1700"/>
                    </a:lnTo>
                    <a:lnTo>
                      <a:pt x="244" y="1694"/>
                    </a:lnTo>
                    <a:lnTo>
                      <a:pt x="234" y="1686"/>
                    </a:lnTo>
                    <a:lnTo>
                      <a:pt x="230" y="1682"/>
                    </a:lnTo>
                    <a:lnTo>
                      <a:pt x="228" y="1676"/>
                    </a:lnTo>
                    <a:lnTo>
                      <a:pt x="228" y="1676"/>
                    </a:lnTo>
                    <a:lnTo>
                      <a:pt x="234" y="1680"/>
                    </a:lnTo>
                    <a:lnTo>
                      <a:pt x="240" y="1680"/>
                    </a:lnTo>
                    <a:lnTo>
                      <a:pt x="254" y="1680"/>
                    </a:lnTo>
                    <a:lnTo>
                      <a:pt x="268" y="1676"/>
                    </a:lnTo>
                    <a:lnTo>
                      <a:pt x="280" y="1674"/>
                    </a:lnTo>
                    <a:lnTo>
                      <a:pt x="280" y="1674"/>
                    </a:lnTo>
                    <a:lnTo>
                      <a:pt x="288" y="1676"/>
                    </a:lnTo>
                    <a:lnTo>
                      <a:pt x="294" y="1678"/>
                    </a:lnTo>
                    <a:lnTo>
                      <a:pt x="300" y="1682"/>
                    </a:lnTo>
                    <a:lnTo>
                      <a:pt x="304" y="1686"/>
                    </a:lnTo>
                    <a:lnTo>
                      <a:pt x="310" y="1698"/>
                    </a:lnTo>
                    <a:lnTo>
                      <a:pt x="314" y="1712"/>
                    </a:lnTo>
                    <a:lnTo>
                      <a:pt x="314" y="1712"/>
                    </a:lnTo>
                    <a:lnTo>
                      <a:pt x="320" y="1712"/>
                    </a:lnTo>
                    <a:lnTo>
                      <a:pt x="324" y="1708"/>
                    </a:lnTo>
                    <a:lnTo>
                      <a:pt x="326" y="1704"/>
                    </a:lnTo>
                    <a:lnTo>
                      <a:pt x="326" y="1700"/>
                    </a:lnTo>
                    <a:lnTo>
                      <a:pt x="326" y="1700"/>
                    </a:lnTo>
                    <a:lnTo>
                      <a:pt x="328" y="1700"/>
                    </a:lnTo>
                    <a:lnTo>
                      <a:pt x="328" y="1702"/>
                    </a:lnTo>
                    <a:lnTo>
                      <a:pt x="326" y="1706"/>
                    </a:lnTo>
                    <a:lnTo>
                      <a:pt x="324" y="1710"/>
                    </a:lnTo>
                    <a:lnTo>
                      <a:pt x="326" y="1712"/>
                    </a:lnTo>
                    <a:lnTo>
                      <a:pt x="328" y="1712"/>
                    </a:lnTo>
                    <a:lnTo>
                      <a:pt x="328" y="1712"/>
                    </a:lnTo>
                    <a:lnTo>
                      <a:pt x="326" y="1714"/>
                    </a:lnTo>
                    <a:lnTo>
                      <a:pt x="322" y="1714"/>
                    </a:lnTo>
                    <a:lnTo>
                      <a:pt x="318" y="1714"/>
                    </a:lnTo>
                    <a:lnTo>
                      <a:pt x="316" y="1716"/>
                    </a:lnTo>
                    <a:lnTo>
                      <a:pt x="316" y="1716"/>
                    </a:lnTo>
                    <a:lnTo>
                      <a:pt x="322" y="1716"/>
                    </a:lnTo>
                    <a:lnTo>
                      <a:pt x="330" y="1718"/>
                    </a:lnTo>
                    <a:lnTo>
                      <a:pt x="338" y="1720"/>
                    </a:lnTo>
                    <a:lnTo>
                      <a:pt x="340" y="1718"/>
                    </a:lnTo>
                    <a:lnTo>
                      <a:pt x="342" y="1716"/>
                    </a:lnTo>
                    <a:lnTo>
                      <a:pt x="342" y="1716"/>
                    </a:lnTo>
                    <a:lnTo>
                      <a:pt x="342" y="1714"/>
                    </a:lnTo>
                    <a:lnTo>
                      <a:pt x="340" y="1714"/>
                    </a:lnTo>
                    <a:lnTo>
                      <a:pt x="336" y="1712"/>
                    </a:lnTo>
                    <a:lnTo>
                      <a:pt x="336" y="1712"/>
                    </a:lnTo>
                    <a:lnTo>
                      <a:pt x="340" y="1712"/>
                    </a:lnTo>
                    <a:lnTo>
                      <a:pt x="346" y="1708"/>
                    </a:lnTo>
                    <a:lnTo>
                      <a:pt x="354" y="1700"/>
                    </a:lnTo>
                    <a:lnTo>
                      <a:pt x="370" y="1682"/>
                    </a:lnTo>
                    <a:lnTo>
                      <a:pt x="370" y="1682"/>
                    </a:lnTo>
                    <a:lnTo>
                      <a:pt x="340" y="1688"/>
                    </a:lnTo>
                    <a:lnTo>
                      <a:pt x="314" y="1696"/>
                    </a:lnTo>
                    <a:lnTo>
                      <a:pt x="314" y="1696"/>
                    </a:lnTo>
                    <a:lnTo>
                      <a:pt x="324" y="1690"/>
                    </a:lnTo>
                    <a:lnTo>
                      <a:pt x="324" y="1690"/>
                    </a:lnTo>
                    <a:lnTo>
                      <a:pt x="318" y="1684"/>
                    </a:lnTo>
                    <a:lnTo>
                      <a:pt x="314" y="1676"/>
                    </a:lnTo>
                    <a:lnTo>
                      <a:pt x="312" y="1666"/>
                    </a:lnTo>
                    <a:lnTo>
                      <a:pt x="314" y="1656"/>
                    </a:lnTo>
                    <a:lnTo>
                      <a:pt x="316" y="1648"/>
                    </a:lnTo>
                    <a:lnTo>
                      <a:pt x="320" y="1638"/>
                    </a:lnTo>
                    <a:lnTo>
                      <a:pt x="328" y="1624"/>
                    </a:lnTo>
                    <a:lnTo>
                      <a:pt x="328" y="1624"/>
                    </a:lnTo>
                    <a:lnTo>
                      <a:pt x="326" y="1624"/>
                    </a:lnTo>
                    <a:lnTo>
                      <a:pt x="326" y="1626"/>
                    </a:lnTo>
                    <a:lnTo>
                      <a:pt x="326" y="1628"/>
                    </a:lnTo>
                    <a:lnTo>
                      <a:pt x="322" y="1630"/>
                    </a:lnTo>
                    <a:lnTo>
                      <a:pt x="322" y="1630"/>
                    </a:lnTo>
                    <a:lnTo>
                      <a:pt x="324" y="1626"/>
                    </a:lnTo>
                    <a:lnTo>
                      <a:pt x="324" y="1624"/>
                    </a:lnTo>
                    <a:lnTo>
                      <a:pt x="322" y="1620"/>
                    </a:lnTo>
                    <a:lnTo>
                      <a:pt x="320" y="1620"/>
                    </a:lnTo>
                    <a:lnTo>
                      <a:pt x="320" y="1620"/>
                    </a:lnTo>
                    <a:lnTo>
                      <a:pt x="322" y="1618"/>
                    </a:lnTo>
                    <a:lnTo>
                      <a:pt x="324" y="1620"/>
                    </a:lnTo>
                    <a:lnTo>
                      <a:pt x="330" y="1622"/>
                    </a:lnTo>
                    <a:lnTo>
                      <a:pt x="330" y="1622"/>
                    </a:lnTo>
                    <a:lnTo>
                      <a:pt x="318" y="1612"/>
                    </a:lnTo>
                    <a:lnTo>
                      <a:pt x="318" y="1612"/>
                    </a:lnTo>
                    <a:lnTo>
                      <a:pt x="304" y="1614"/>
                    </a:lnTo>
                    <a:lnTo>
                      <a:pt x="292" y="1616"/>
                    </a:lnTo>
                    <a:lnTo>
                      <a:pt x="292" y="1616"/>
                    </a:lnTo>
                    <a:lnTo>
                      <a:pt x="292" y="1618"/>
                    </a:lnTo>
                    <a:lnTo>
                      <a:pt x="292" y="1618"/>
                    </a:lnTo>
                    <a:lnTo>
                      <a:pt x="294" y="1620"/>
                    </a:lnTo>
                    <a:lnTo>
                      <a:pt x="294" y="1624"/>
                    </a:lnTo>
                    <a:lnTo>
                      <a:pt x="294" y="1624"/>
                    </a:lnTo>
                    <a:lnTo>
                      <a:pt x="288" y="1624"/>
                    </a:lnTo>
                    <a:lnTo>
                      <a:pt x="282" y="1626"/>
                    </a:lnTo>
                    <a:lnTo>
                      <a:pt x="278" y="1630"/>
                    </a:lnTo>
                    <a:lnTo>
                      <a:pt x="276" y="1634"/>
                    </a:lnTo>
                    <a:lnTo>
                      <a:pt x="276" y="1634"/>
                    </a:lnTo>
                    <a:lnTo>
                      <a:pt x="280" y="1638"/>
                    </a:lnTo>
                    <a:lnTo>
                      <a:pt x="286" y="1640"/>
                    </a:lnTo>
                    <a:lnTo>
                      <a:pt x="292" y="1642"/>
                    </a:lnTo>
                    <a:lnTo>
                      <a:pt x="296" y="1644"/>
                    </a:lnTo>
                    <a:lnTo>
                      <a:pt x="296" y="1644"/>
                    </a:lnTo>
                    <a:lnTo>
                      <a:pt x="294" y="1650"/>
                    </a:lnTo>
                    <a:lnTo>
                      <a:pt x="292" y="1654"/>
                    </a:lnTo>
                    <a:lnTo>
                      <a:pt x="288" y="1658"/>
                    </a:lnTo>
                    <a:lnTo>
                      <a:pt x="282" y="1658"/>
                    </a:lnTo>
                    <a:lnTo>
                      <a:pt x="282" y="1658"/>
                    </a:lnTo>
                    <a:lnTo>
                      <a:pt x="264" y="1648"/>
                    </a:lnTo>
                    <a:lnTo>
                      <a:pt x="246" y="1640"/>
                    </a:lnTo>
                    <a:lnTo>
                      <a:pt x="246" y="1640"/>
                    </a:lnTo>
                    <a:lnTo>
                      <a:pt x="238" y="1646"/>
                    </a:lnTo>
                    <a:lnTo>
                      <a:pt x="238" y="1646"/>
                    </a:lnTo>
                    <a:lnTo>
                      <a:pt x="240" y="1654"/>
                    </a:lnTo>
                    <a:lnTo>
                      <a:pt x="242" y="1660"/>
                    </a:lnTo>
                    <a:lnTo>
                      <a:pt x="242" y="1660"/>
                    </a:lnTo>
                    <a:lnTo>
                      <a:pt x="234" y="1666"/>
                    </a:lnTo>
                    <a:lnTo>
                      <a:pt x="226" y="1668"/>
                    </a:lnTo>
                    <a:lnTo>
                      <a:pt x="220" y="1666"/>
                    </a:lnTo>
                    <a:lnTo>
                      <a:pt x="214" y="1662"/>
                    </a:lnTo>
                    <a:lnTo>
                      <a:pt x="212" y="1656"/>
                    </a:lnTo>
                    <a:lnTo>
                      <a:pt x="212" y="1648"/>
                    </a:lnTo>
                    <a:lnTo>
                      <a:pt x="216" y="1644"/>
                    </a:lnTo>
                    <a:lnTo>
                      <a:pt x="224" y="1640"/>
                    </a:lnTo>
                    <a:lnTo>
                      <a:pt x="224" y="1640"/>
                    </a:lnTo>
                    <a:lnTo>
                      <a:pt x="218" y="1634"/>
                    </a:lnTo>
                    <a:lnTo>
                      <a:pt x="216" y="1628"/>
                    </a:lnTo>
                    <a:lnTo>
                      <a:pt x="216" y="1620"/>
                    </a:lnTo>
                    <a:lnTo>
                      <a:pt x="220" y="1612"/>
                    </a:lnTo>
                    <a:lnTo>
                      <a:pt x="220" y="1612"/>
                    </a:lnTo>
                    <a:lnTo>
                      <a:pt x="210" y="1614"/>
                    </a:lnTo>
                    <a:lnTo>
                      <a:pt x="202" y="1620"/>
                    </a:lnTo>
                    <a:lnTo>
                      <a:pt x="188" y="1634"/>
                    </a:lnTo>
                    <a:lnTo>
                      <a:pt x="188" y="1634"/>
                    </a:lnTo>
                    <a:lnTo>
                      <a:pt x="176" y="1644"/>
                    </a:lnTo>
                    <a:lnTo>
                      <a:pt x="170" y="1648"/>
                    </a:lnTo>
                    <a:lnTo>
                      <a:pt x="166" y="1654"/>
                    </a:lnTo>
                    <a:lnTo>
                      <a:pt x="166" y="1654"/>
                    </a:lnTo>
                    <a:lnTo>
                      <a:pt x="160" y="1658"/>
                    </a:lnTo>
                    <a:lnTo>
                      <a:pt x="154" y="1662"/>
                    </a:lnTo>
                    <a:lnTo>
                      <a:pt x="140" y="1672"/>
                    </a:lnTo>
                    <a:lnTo>
                      <a:pt x="132" y="1676"/>
                    </a:lnTo>
                    <a:lnTo>
                      <a:pt x="124" y="1678"/>
                    </a:lnTo>
                    <a:lnTo>
                      <a:pt x="116" y="1676"/>
                    </a:lnTo>
                    <a:lnTo>
                      <a:pt x="106" y="1670"/>
                    </a:lnTo>
                    <a:lnTo>
                      <a:pt x="106" y="1670"/>
                    </a:lnTo>
                    <a:lnTo>
                      <a:pt x="110" y="1664"/>
                    </a:lnTo>
                    <a:lnTo>
                      <a:pt x="110" y="1658"/>
                    </a:lnTo>
                    <a:lnTo>
                      <a:pt x="114" y="1642"/>
                    </a:lnTo>
                    <a:lnTo>
                      <a:pt x="114" y="1642"/>
                    </a:lnTo>
                    <a:lnTo>
                      <a:pt x="114" y="1650"/>
                    </a:lnTo>
                    <a:lnTo>
                      <a:pt x="114" y="1652"/>
                    </a:lnTo>
                    <a:lnTo>
                      <a:pt x="112" y="1656"/>
                    </a:lnTo>
                    <a:lnTo>
                      <a:pt x="112" y="1656"/>
                    </a:lnTo>
                    <a:lnTo>
                      <a:pt x="130" y="1642"/>
                    </a:lnTo>
                    <a:lnTo>
                      <a:pt x="142" y="1636"/>
                    </a:lnTo>
                    <a:lnTo>
                      <a:pt x="154" y="1632"/>
                    </a:lnTo>
                    <a:lnTo>
                      <a:pt x="154" y="1632"/>
                    </a:lnTo>
                    <a:lnTo>
                      <a:pt x="156" y="1634"/>
                    </a:lnTo>
                    <a:lnTo>
                      <a:pt x="158" y="1636"/>
                    </a:lnTo>
                    <a:lnTo>
                      <a:pt x="160" y="1638"/>
                    </a:lnTo>
                    <a:lnTo>
                      <a:pt x="162" y="1642"/>
                    </a:lnTo>
                    <a:lnTo>
                      <a:pt x="162" y="1642"/>
                    </a:lnTo>
                    <a:lnTo>
                      <a:pt x="160" y="1648"/>
                    </a:lnTo>
                    <a:lnTo>
                      <a:pt x="158" y="1654"/>
                    </a:lnTo>
                    <a:lnTo>
                      <a:pt x="158" y="1654"/>
                    </a:lnTo>
                    <a:lnTo>
                      <a:pt x="164" y="1652"/>
                    </a:lnTo>
                    <a:lnTo>
                      <a:pt x="168" y="1650"/>
                    </a:lnTo>
                    <a:lnTo>
                      <a:pt x="168" y="1650"/>
                    </a:lnTo>
                    <a:lnTo>
                      <a:pt x="168" y="1648"/>
                    </a:lnTo>
                    <a:lnTo>
                      <a:pt x="166" y="1648"/>
                    </a:lnTo>
                    <a:lnTo>
                      <a:pt x="166" y="1648"/>
                    </a:lnTo>
                    <a:lnTo>
                      <a:pt x="176" y="1642"/>
                    </a:lnTo>
                    <a:lnTo>
                      <a:pt x="184" y="1636"/>
                    </a:lnTo>
                    <a:lnTo>
                      <a:pt x="198" y="1620"/>
                    </a:lnTo>
                    <a:lnTo>
                      <a:pt x="198" y="1620"/>
                    </a:lnTo>
                    <a:lnTo>
                      <a:pt x="192" y="1620"/>
                    </a:lnTo>
                    <a:lnTo>
                      <a:pt x="188" y="1620"/>
                    </a:lnTo>
                    <a:lnTo>
                      <a:pt x="182" y="1620"/>
                    </a:lnTo>
                    <a:lnTo>
                      <a:pt x="176" y="1620"/>
                    </a:lnTo>
                    <a:lnTo>
                      <a:pt x="176" y="1620"/>
                    </a:lnTo>
                    <a:lnTo>
                      <a:pt x="176" y="1618"/>
                    </a:lnTo>
                    <a:lnTo>
                      <a:pt x="178" y="1618"/>
                    </a:lnTo>
                    <a:lnTo>
                      <a:pt x="184" y="1618"/>
                    </a:lnTo>
                    <a:lnTo>
                      <a:pt x="184" y="1618"/>
                    </a:lnTo>
                    <a:lnTo>
                      <a:pt x="184" y="1616"/>
                    </a:lnTo>
                    <a:lnTo>
                      <a:pt x="182" y="1616"/>
                    </a:lnTo>
                    <a:lnTo>
                      <a:pt x="182" y="1616"/>
                    </a:lnTo>
                    <a:lnTo>
                      <a:pt x="192" y="1616"/>
                    </a:lnTo>
                    <a:lnTo>
                      <a:pt x="198" y="1616"/>
                    </a:lnTo>
                    <a:lnTo>
                      <a:pt x="206" y="1612"/>
                    </a:lnTo>
                    <a:lnTo>
                      <a:pt x="210" y="1608"/>
                    </a:lnTo>
                    <a:lnTo>
                      <a:pt x="220" y="1600"/>
                    </a:lnTo>
                    <a:lnTo>
                      <a:pt x="230" y="1592"/>
                    </a:lnTo>
                    <a:lnTo>
                      <a:pt x="230" y="1592"/>
                    </a:lnTo>
                    <a:lnTo>
                      <a:pt x="224" y="1588"/>
                    </a:lnTo>
                    <a:lnTo>
                      <a:pt x="216" y="1584"/>
                    </a:lnTo>
                    <a:lnTo>
                      <a:pt x="208" y="1584"/>
                    </a:lnTo>
                    <a:lnTo>
                      <a:pt x="200" y="1584"/>
                    </a:lnTo>
                    <a:lnTo>
                      <a:pt x="200" y="1584"/>
                    </a:lnTo>
                    <a:lnTo>
                      <a:pt x="202" y="1590"/>
                    </a:lnTo>
                    <a:lnTo>
                      <a:pt x="206" y="1594"/>
                    </a:lnTo>
                    <a:lnTo>
                      <a:pt x="212" y="1594"/>
                    </a:lnTo>
                    <a:lnTo>
                      <a:pt x="218" y="1594"/>
                    </a:lnTo>
                    <a:lnTo>
                      <a:pt x="218" y="1594"/>
                    </a:lnTo>
                    <a:lnTo>
                      <a:pt x="214" y="1596"/>
                    </a:lnTo>
                    <a:lnTo>
                      <a:pt x="210" y="1598"/>
                    </a:lnTo>
                    <a:lnTo>
                      <a:pt x="204" y="1592"/>
                    </a:lnTo>
                    <a:lnTo>
                      <a:pt x="194" y="1586"/>
                    </a:lnTo>
                    <a:lnTo>
                      <a:pt x="188" y="1584"/>
                    </a:lnTo>
                    <a:lnTo>
                      <a:pt x="180" y="1584"/>
                    </a:lnTo>
                    <a:lnTo>
                      <a:pt x="180" y="1584"/>
                    </a:lnTo>
                    <a:lnTo>
                      <a:pt x="178" y="1590"/>
                    </a:lnTo>
                    <a:lnTo>
                      <a:pt x="174" y="1600"/>
                    </a:lnTo>
                    <a:lnTo>
                      <a:pt x="168" y="1610"/>
                    </a:lnTo>
                    <a:lnTo>
                      <a:pt x="166" y="1618"/>
                    </a:lnTo>
                    <a:lnTo>
                      <a:pt x="166" y="1618"/>
                    </a:lnTo>
                    <a:lnTo>
                      <a:pt x="166" y="1618"/>
                    </a:lnTo>
                    <a:lnTo>
                      <a:pt x="170" y="1618"/>
                    </a:lnTo>
                    <a:lnTo>
                      <a:pt x="170" y="1618"/>
                    </a:lnTo>
                    <a:lnTo>
                      <a:pt x="164" y="1620"/>
                    </a:lnTo>
                    <a:lnTo>
                      <a:pt x="162" y="1624"/>
                    </a:lnTo>
                    <a:lnTo>
                      <a:pt x="156" y="1632"/>
                    </a:lnTo>
                    <a:lnTo>
                      <a:pt x="156" y="1632"/>
                    </a:lnTo>
                    <a:lnTo>
                      <a:pt x="150" y="1628"/>
                    </a:lnTo>
                    <a:lnTo>
                      <a:pt x="138" y="1626"/>
                    </a:lnTo>
                    <a:lnTo>
                      <a:pt x="128" y="1626"/>
                    </a:lnTo>
                    <a:lnTo>
                      <a:pt x="118" y="1628"/>
                    </a:lnTo>
                    <a:lnTo>
                      <a:pt x="118" y="1628"/>
                    </a:lnTo>
                    <a:lnTo>
                      <a:pt x="112" y="1630"/>
                    </a:lnTo>
                    <a:lnTo>
                      <a:pt x="110" y="1634"/>
                    </a:lnTo>
                    <a:lnTo>
                      <a:pt x="108" y="1638"/>
                    </a:lnTo>
                    <a:lnTo>
                      <a:pt x="104" y="1640"/>
                    </a:lnTo>
                    <a:lnTo>
                      <a:pt x="104" y="1640"/>
                    </a:lnTo>
                    <a:lnTo>
                      <a:pt x="100" y="1638"/>
                    </a:lnTo>
                    <a:lnTo>
                      <a:pt x="96" y="1638"/>
                    </a:lnTo>
                    <a:lnTo>
                      <a:pt x="90" y="1638"/>
                    </a:lnTo>
                    <a:lnTo>
                      <a:pt x="82" y="1640"/>
                    </a:lnTo>
                    <a:lnTo>
                      <a:pt x="82" y="1640"/>
                    </a:lnTo>
                    <a:lnTo>
                      <a:pt x="86" y="1638"/>
                    </a:lnTo>
                    <a:lnTo>
                      <a:pt x="90" y="1636"/>
                    </a:lnTo>
                    <a:lnTo>
                      <a:pt x="96" y="1636"/>
                    </a:lnTo>
                    <a:lnTo>
                      <a:pt x="96" y="1636"/>
                    </a:lnTo>
                    <a:lnTo>
                      <a:pt x="102" y="1628"/>
                    </a:lnTo>
                    <a:lnTo>
                      <a:pt x="108" y="1624"/>
                    </a:lnTo>
                    <a:lnTo>
                      <a:pt x="124" y="1618"/>
                    </a:lnTo>
                    <a:lnTo>
                      <a:pt x="124" y="1618"/>
                    </a:lnTo>
                    <a:lnTo>
                      <a:pt x="132" y="1614"/>
                    </a:lnTo>
                    <a:lnTo>
                      <a:pt x="140" y="1608"/>
                    </a:lnTo>
                    <a:lnTo>
                      <a:pt x="146" y="1604"/>
                    </a:lnTo>
                    <a:lnTo>
                      <a:pt x="152" y="1600"/>
                    </a:lnTo>
                    <a:lnTo>
                      <a:pt x="152" y="1600"/>
                    </a:lnTo>
                    <a:lnTo>
                      <a:pt x="144" y="1592"/>
                    </a:lnTo>
                    <a:lnTo>
                      <a:pt x="140" y="1588"/>
                    </a:lnTo>
                    <a:lnTo>
                      <a:pt x="138" y="1582"/>
                    </a:lnTo>
                    <a:lnTo>
                      <a:pt x="138" y="1582"/>
                    </a:lnTo>
                    <a:lnTo>
                      <a:pt x="130" y="1586"/>
                    </a:lnTo>
                    <a:lnTo>
                      <a:pt x="124" y="1590"/>
                    </a:lnTo>
                    <a:lnTo>
                      <a:pt x="124" y="1590"/>
                    </a:lnTo>
                    <a:lnTo>
                      <a:pt x="124" y="1594"/>
                    </a:lnTo>
                    <a:lnTo>
                      <a:pt x="124" y="1594"/>
                    </a:lnTo>
                    <a:lnTo>
                      <a:pt x="126" y="1594"/>
                    </a:lnTo>
                    <a:lnTo>
                      <a:pt x="130" y="1596"/>
                    </a:lnTo>
                    <a:lnTo>
                      <a:pt x="136" y="1594"/>
                    </a:lnTo>
                    <a:lnTo>
                      <a:pt x="136" y="1594"/>
                    </a:lnTo>
                    <a:lnTo>
                      <a:pt x="140" y="1596"/>
                    </a:lnTo>
                    <a:lnTo>
                      <a:pt x="136" y="1596"/>
                    </a:lnTo>
                    <a:lnTo>
                      <a:pt x="136" y="1596"/>
                    </a:lnTo>
                    <a:lnTo>
                      <a:pt x="126" y="1596"/>
                    </a:lnTo>
                    <a:lnTo>
                      <a:pt x="120" y="1596"/>
                    </a:lnTo>
                    <a:lnTo>
                      <a:pt x="116" y="1598"/>
                    </a:lnTo>
                    <a:lnTo>
                      <a:pt x="116" y="1598"/>
                    </a:lnTo>
                    <a:lnTo>
                      <a:pt x="104" y="1612"/>
                    </a:lnTo>
                    <a:lnTo>
                      <a:pt x="92" y="1626"/>
                    </a:lnTo>
                    <a:lnTo>
                      <a:pt x="84" y="1632"/>
                    </a:lnTo>
                    <a:lnTo>
                      <a:pt x="76" y="1638"/>
                    </a:lnTo>
                    <a:lnTo>
                      <a:pt x="68" y="1642"/>
                    </a:lnTo>
                    <a:lnTo>
                      <a:pt x="58" y="1642"/>
                    </a:lnTo>
                    <a:lnTo>
                      <a:pt x="58" y="1642"/>
                    </a:lnTo>
                    <a:lnTo>
                      <a:pt x="48" y="1654"/>
                    </a:lnTo>
                    <a:lnTo>
                      <a:pt x="44" y="1658"/>
                    </a:lnTo>
                    <a:lnTo>
                      <a:pt x="38" y="1660"/>
                    </a:lnTo>
                    <a:lnTo>
                      <a:pt x="38" y="1660"/>
                    </a:lnTo>
                    <a:lnTo>
                      <a:pt x="50" y="1648"/>
                    </a:lnTo>
                    <a:lnTo>
                      <a:pt x="56" y="1640"/>
                    </a:lnTo>
                    <a:lnTo>
                      <a:pt x="60" y="1632"/>
                    </a:lnTo>
                    <a:lnTo>
                      <a:pt x="60" y="1632"/>
                    </a:lnTo>
                    <a:lnTo>
                      <a:pt x="62" y="1634"/>
                    </a:lnTo>
                    <a:lnTo>
                      <a:pt x="62" y="1636"/>
                    </a:lnTo>
                    <a:lnTo>
                      <a:pt x="60" y="1640"/>
                    </a:lnTo>
                    <a:lnTo>
                      <a:pt x="60" y="1640"/>
                    </a:lnTo>
                    <a:lnTo>
                      <a:pt x="68" y="1638"/>
                    </a:lnTo>
                    <a:lnTo>
                      <a:pt x="78" y="1634"/>
                    </a:lnTo>
                    <a:lnTo>
                      <a:pt x="86" y="1630"/>
                    </a:lnTo>
                    <a:lnTo>
                      <a:pt x="86" y="1628"/>
                    </a:lnTo>
                    <a:lnTo>
                      <a:pt x="84" y="1626"/>
                    </a:lnTo>
                    <a:lnTo>
                      <a:pt x="84" y="1626"/>
                    </a:lnTo>
                    <a:lnTo>
                      <a:pt x="92" y="1622"/>
                    </a:lnTo>
                    <a:lnTo>
                      <a:pt x="100" y="1616"/>
                    </a:lnTo>
                    <a:lnTo>
                      <a:pt x="110" y="1600"/>
                    </a:lnTo>
                    <a:lnTo>
                      <a:pt x="110" y="1600"/>
                    </a:lnTo>
                    <a:lnTo>
                      <a:pt x="92" y="1610"/>
                    </a:lnTo>
                    <a:lnTo>
                      <a:pt x="84" y="1614"/>
                    </a:lnTo>
                    <a:lnTo>
                      <a:pt x="76" y="1622"/>
                    </a:lnTo>
                    <a:lnTo>
                      <a:pt x="76" y="1622"/>
                    </a:lnTo>
                    <a:lnTo>
                      <a:pt x="72" y="1620"/>
                    </a:lnTo>
                    <a:lnTo>
                      <a:pt x="68" y="1622"/>
                    </a:lnTo>
                    <a:lnTo>
                      <a:pt x="64" y="1626"/>
                    </a:lnTo>
                    <a:lnTo>
                      <a:pt x="62" y="1630"/>
                    </a:lnTo>
                    <a:lnTo>
                      <a:pt x="62" y="1630"/>
                    </a:lnTo>
                    <a:lnTo>
                      <a:pt x="62" y="1626"/>
                    </a:lnTo>
                    <a:lnTo>
                      <a:pt x="60" y="1626"/>
                    </a:lnTo>
                    <a:lnTo>
                      <a:pt x="50" y="1626"/>
                    </a:lnTo>
                    <a:lnTo>
                      <a:pt x="50" y="1626"/>
                    </a:lnTo>
                    <a:lnTo>
                      <a:pt x="62" y="1624"/>
                    </a:lnTo>
                    <a:lnTo>
                      <a:pt x="68" y="1622"/>
                    </a:lnTo>
                    <a:lnTo>
                      <a:pt x="72" y="1618"/>
                    </a:lnTo>
                    <a:lnTo>
                      <a:pt x="72" y="1618"/>
                    </a:lnTo>
                    <a:lnTo>
                      <a:pt x="68" y="1616"/>
                    </a:lnTo>
                    <a:lnTo>
                      <a:pt x="64" y="1612"/>
                    </a:lnTo>
                    <a:lnTo>
                      <a:pt x="56" y="1610"/>
                    </a:lnTo>
                    <a:lnTo>
                      <a:pt x="56" y="1610"/>
                    </a:lnTo>
                    <a:lnTo>
                      <a:pt x="56" y="1606"/>
                    </a:lnTo>
                    <a:lnTo>
                      <a:pt x="54" y="1606"/>
                    </a:lnTo>
                    <a:lnTo>
                      <a:pt x="54" y="1606"/>
                    </a:lnTo>
                    <a:lnTo>
                      <a:pt x="60" y="1604"/>
                    </a:lnTo>
                    <a:lnTo>
                      <a:pt x="62" y="1604"/>
                    </a:lnTo>
                    <a:lnTo>
                      <a:pt x="62" y="1602"/>
                    </a:lnTo>
                    <a:lnTo>
                      <a:pt x="62" y="1602"/>
                    </a:lnTo>
                    <a:lnTo>
                      <a:pt x="64" y="1602"/>
                    </a:lnTo>
                    <a:lnTo>
                      <a:pt x="62" y="1604"/>
                    </a:lnTo>
                    <a:lnTo>
                      <a:pt x="60" y="1608"/>
                    </a:lnTo>
                    <a:lnTo>
                      <a:pt x="60" y="1608"/>
                    </a:lnTo>
                    <a:lnTo>
                      <a:pt x="66" y="1612"/>
                    </a:lnTo>
                    <a:lnTo>
                      <a:pt x="72" y="1616"/>
                    </a:lnTo>
                    <a:lnTo>
                      <a:pt x="72" y="1616"/>
                    </a:lnTo>
                    <a:lnTo>
                      <a:pt x="76" y="1614"/>
                    </a:lnTo>
                    <a:lnTo>
                      <a:pt x="78" y="1612"/>
                    </a:lnTo>
                    <a:lnTo>
                      <a:pt x="82" y="1604"/>
                    </a:lnTo>
                    <a:lnTo>
                      <a:pt x="82" y="1604"/>
                    </a:lnTo>
                    <a:lnTo>
                      <a:pt x="78" y="1604"/>
                    </a:lnTo>
                    <a:lnTo>
                      <a:pt x="74" y="1604"/>
                    </a:lnTo>
                    <a:lnTo>
                      <a:pt x="66" y="1600"/>
                    </a:lnTo>
                    <a:lnTo>
                      <a:pt x="66" y="1600"/>
                    </a:lnTo>
                    <a:lnTo>
                      <a:pt x="62" y="1600"/>
                    </a:lnTo>
                    <a:lnTo>
                      <a:pt x="58" y="1600"/>
                    </a:lnTo>
                    <a:lnTo>
                      <a:pt x="54" y="1602"/>
                    </a:lnTo>
                    <a:lnTo>
                      <a:pt x="52" y="1600"/>
                    </a:lnTo>
                    <a:lnTo>
                      <a:pt x="52" y="1600"/>
                    </a:lnTo>
                    <a:lnTo>
                      <a:pt x="60" y="1600"/>
                    </a:lnTo>
                    <a:lnTo>
                      <a:pt x="66" y="1598"/>
                    </a:lnTo>
                    <a:lnTo>
                      <a:pt x="66" y="1598"/>
                    </a:lnTo>
                    <a:lnTo>
                      <a:pt x="54" y="1590"/>
                    </a:lnTo>
                    <a:lnTo>
                      <a:pt x="48" y="1586"/>
                    </a:lnTo>
                    <a:lnTo>
                      <a:pt x="40" y="1586"/>
                    </a:lnTo>
                    <a:lnTo>
                      <a:pt x="40" y="1586"/>
                    </a:lnTo>
                    <a:lnTo>
                      <a:pt x="40" y="1584"/>
                    </a:lnTo>
                    <a:lnTo>
                      <a:pt x="42" y="1584"/>
                    </a:lnTo>
                    <a:lnTo>
                      <a:pt x="42" y="1582"/>
                    </a:lnTo>
                    <a:lnTo>
                      <a:pt x="42" y="1582"/>
                    </a:lnTo>
                    <a:lnTo>
                      <a:pt x="42" y="1582"/>
                    </a:lnTo>
                    <a:lnTo>
                      <a:pt x="46" y="1580"/>
                    </a:lnTo>
                    <a:lnTo>
                      <a:pt x="48" y="1578"/>
                    </a:lnTo>
                    <a:lnTo>
                      <a:pt x="54" y="1572"/>
                    </a:lnTo>
                    <a:lnTo>
                      <a:pt x="54" y="1572"/>
                    </a:lnTo>
                    <a:lnTo>
                      <a:pt x="50" y="1568"/>
                    </a:lnTo>
                    <a:lnTo>
                      <a:pt x="44" y="1566"/>
                    </a:lnTo>
                    <a:lnTo>
                      <a:pt x="44" y="1566"/>
                    </a:lnTo>
                    <a:lnTo>
                      <a:pt x="42" y="1568"/>
                    </a:lnTo>
                    <a:lnTo>
                      <a:pt x="44" y="1568"/>
                    </a:lnTo>
                    <a:lnTo>
                      <a:pt x="44" y="1570"/>
                    </a:lnTo>
                    <a:lnTo>
                      <a:pt x="44" y="1572"/>
                    </a:lnTo>
                    <a:lnTo>
                      <a:pt x="44" y="1572"/>
                    </a:lnTo>
                    <a:lnTo>
                      <a:pt x="40" y="1568"/>
                    </a:lnTo>
                    <a:lnTo>
                      <a:pt x="32" y="1568"/>
                    </a:lnTo>
                    <a:lnTo>
                      <a:pt x="18" y="1568"/>
                    </a:lnTo>
                    <a:lnTo>
                      <a:pt x="18" y="1568"/>
                    </a:lnTo>
                    <a:lnTo>
                      <a:pt x="24" y="1564"/>
                    </a:lnTo>
                    <a:lnTo>
                      <a:pt x="28" y="1560"/>
                    </a:lnTo>
                    <a:lnTo>
                      <a:pt x="28" y="1560"/>
                    </a:lnTo>
                    <a:lnTo>
                      <a:pt x="26" y="1540"/>
                    </a:lnTo>
                    <a:lnTo>
                      <a:pt x="20" y="1522"/>
                    </a:lnTo>
                    <a:lnTo>
                      <a:pt x="20" y="1522"/>
                    </a:lnTo>
                    <a:lnTo>
                      <a:pt x="16" y="1522"/>
                    </a:lnTo>
                    <a:lnTo>
                      <a:pt x="16" y="1522"/>
                    </a:lnTo>
                    <a:lnTo>
                      <a:pt x="22" y="1518"/>
                    </a:lnTo>
                    <a:lnTo>
                      <a:pt x="26" y="1516"/>
                    </a:lnTo>
                    <a:lnTo>
                      <a:pt x="28" y="1512"/>
                    </a:lnTo>
                    <a:lnTo>
                      <a:pt x="28" y="1512"/>
                    </a:lnTo>
                    <a:lnTo>
                      <a:pt x="16" y="1512"/>
                    </a:lnTo>
                    <a:lnTo>
                      <a:pt x="2" y="1512"/>
                    </a:lnTo>
                    <a:lnTo>
                      <a:pt x="2" y="1512"/>
                    </a:lnTo>
                    <a:lnTo>
                      <a:pt x="0" y="1512"/>
                    </a:lnTo>
                    <a:lnTo>
                      <a:pt x="0" y="1512"/>
                    </a:lnTo>
                    <a:lnTo>
                      <a:pt x="4" y="1512"/>
                    </a:lnTo>
                    <a:lnTo>
                      <a:pt x="4" y="1512"/>
                    </a:lnTo>
                    <a:lnTo>
                      <a:pt x="12" y="1512"/>
                    </a:lnTo>
                    <a:lnTo>
                      <a:pt x="12" y="1512"/>
                    </a:lnTo>
                    <a:lnTo>
                      <a:pt x="18" y="1510"/>
                    </a:lnTo>
                    <a:lnTo>
                      <a:pt x="26" y="1510"/>
                    </a:lnTo>
                    <a:lnTo>
                      <a:pt x="26" y="1510"/>
                    </a:lnTo>
                    <a:lnTo>
                      <a:pt x="24" y="1506"/>
                    </a:lnTo>
                    <a:lnTo>
                      <a:pt x="18" y="1502"/>
                    </a:lnTo>
                    <a:lnTo>
                      <a:pt x="16" y="1500"/>
                    </a:lnTo>
                    <a:lnTo>
                      <a:pt x="14" y="1496"/>
                    </a:lnTo>
                    <a:lnTo>
                      <a:pt x="14" y="1496"/>
                    </a:lnTo>
                    <a:lnTo>
                      <a:pt x="22" y="1488"/>
                    </a:lnTo>
                    <a:lnTo>
                      <a:pt x="26" y="1484"/>
                    </a:lnTo>
                    <a:lnTo>
                      <a:pt x="28" y="1476"/>
                    </a:lnTo>
                    <a:lnTo>
                      <a:pt x="28" y="1476"/>
                    </a:lnTo>
                    <a:lnTo>
                      <a:pt x="24" y="1476"/>
                    </a:lnTo>
                    <a:lnTo>
                      <a:pt x="20" y="1474"/>
                    </a:lnTo>
                    <a:lnTo>
                      <a:pt x="20" y="1474"/>
                    </a:lnTo>
                    <a:lnTo>
                      <a:pt x="20" y="1474"/>
                    </a:lnTo>
                    <a:lnTo>
                      <a:pt x="24" y="1474"/>
                    </a:lnTo>
                    <a:lnTo>
                      <a:pt x="32" y="1476"/>
                    </a:lnTo>
                    <a:lnTo>
                      <a:pt x="32" y="1476"/>
                    </a:lnTo>
                    <a:lnTo>
                      <a:pt x="30" y="1472"/>
                    </a:lnTo>
                    <a:lnTo>
                      <a:pt x="28" y="1470"/>
                    </a:lnTo>
                    <a:lnTo>
                      <a:pt x="24" y="1468"/>
                    </a:lnTo>
                    <a:lnTo>
                      <a:pt x="20" y="1468"/>
                    </a:lnTo>
                    <a:lnTo>
                      <a:pt x="20" y="1468"/>
                    </a:lnTo>
                    <a:lnTo>
                      <a:pt x="20" y="1466"/>
                    </a:lnTo>
                    <a:lnTo>
                      <a:pt x="22" y="1466"/>
                    </a:lnTo>
                    <a:lnTo>
                      <a:pt x="24" y="1464"/>
                    </a:lnTo>
                    <a:lnTo>
                      <a:pt x="26" y="1462"/>
                    </a:lnTo>
                    <a:lnTo>
                      <a:pt x="26" y="1462"/>
                    </a:lnTo>
                    <a:lnTo>
                      <a:pt x="22" y="1460"/>
                    </a:lnTo>
                    <a:lnTo>
                      <a:pt x="20" y="1460"/>
                    </a:lnTo>
                    <a:lnTo>
                      <a:pt x="16" y="1458"/>
                    </a:lnTo>
                    <a:lnTo>
                      <a:pt x="16" y="1454"/>
                    </a:lnTo>
                    <a:lnTo>
                      <a:pt x="16" y="1454"/>
                    </a:lnTo>
                    <a:lnTo>
                      <a:pt x="22" y="1456"/>
                    </a:lnTo>
                    <a:lnTo>
                      <a:pt x="26" y="1456"/>
                    </a:lnTo>
                    <a:lnTo>
                      <a:pt x="32" y="1456"/>
                    </a:lnTo>
                    <a:lnTo>
                      <a:pt x="38" y="1456"/>
                    </a:lnTo>
                    <a:lnTo>
                      <a:pt x="38" y="1456"/>
                    </a:lnTo>
                    <a:lnTo>
                      <a:pt x="38" y="1452"/>
                    </a:lnTo>
                    <a:lnTo>
                      <a:pt x="36" y="1448"/>
                    </a:lnTo>
                    <a:lnTo>
                      <a:pt x="30" y="1442"/>
                    </a:lnTo>
                    <a:lnTo>
                      <a:pt x="24" y="1438"/>
                    </a:lnTo>
                    <a:lnTo>
                      <a:pt x="22" y="1436"/>
                    </a:lnTo>
                    <a:lnTo>
                      <a:pt x="20" y="1432"/>
                    </a:lnTo>
                    <a:lnTo>
                      <a:pt x="20" y="1432"/>
                    </a:lnTo>
                    <a:lnTo>
                      <a:pt x="30" y="1434"/>
                    </a:lnTo>
                    <a:lnTo>
                      <a:pt x="38" y="1436"/>
                    </a:lnTo>
                    <a:lnTo>
                      <a:pt x="46" y="1438"/>
                    </a:lnTo>
                    <a:lnTo>
                      <a:pt x="56" y="1440"/>
                    </a:lnTo>
                    <a:lnTo>
                      <a:pt x="56" y="1440"/>
                    </a:lnTo>
                    <a:lnTo>
                      <a:pt x="56" y="1436"/>
                    </a:lnTo>
                    <a:lnTo>
                      <a:pt x="54" y="1434"/>
                    </a:lnTo>
                    <a:lnTo>
                      <a:pt x="50" y="1430"/>
                    </a:lnTo>
                    <a:lnTo>
                      <a:pt x="50" y="1426"/>
                    </a:lnTo>
                    <a:lnTo>
                      <a:pt x="50" y="1426"/>
                    </a:lnTo>
                    <a:lnTo>
                      <a:pt x="52" y="1428"/>
                    </a:lnTo>
                    <a:lnTo>
                      <a:pt x="54" y="1432"/>
                    </a:lnTo>
                    <a:lnTo>
                      <a:pt x="56" y="1436"/>
                    </a:lnTo>
                    <a:lnTo>
                      <a:pt x="60" y="1440"/>
                    </a:lnTo>
                    <a:lnTo>
                      <a:pt x="60" y="1440"/>
                    </a:lnTo>
                    <a:lnTo>
                      <a:pt x="76" y="1432"/>
                    </a:lnTo>
                    <a:lnTo>
                      <a:pt x="84" y="1428"/>
                    </a:lnTo>
                    <a:lnTo>
                      <a:pt x="92" y="1420"/>
                    </a:lnTo>
                    <a:lnTo>
                      <a:pt x="92" y="1420"/>
                    </a:lnTo>
                    <a:lnTo>
                      <a:pt x="88" y="1416"/>
                    </a:lnTo>
                    <a:lnTo>
                      <a:pt x="86" y="1414"/>
                    </a:lnTo>
                    <a:lnTo>
                      <a:pt x="76" y="1412"/>
                    </a:lnTo>
                    <a:lnTo>
                      <a:pt x="66" y="1410"/>
                    </a:lnTo>
                    <a:lnTo>
                      <a:pt x="62" y="1408"/>
                    </a:lnTo>
                    <a:lnTo>
                      <a:pt x="60" y="1404"/>
                    </a:lnTo>
                    <a:lnTo>
                      <a:pt x="60" y="1404"/>
                    </a:lnTo>
                    <a:lnTo>
                      <a:pt x="64" y="1400"/>
                    </a:lnTo>
                    <a:lnTo>
                      <a:pt x="70" y="1398"/>
                    </a:lnTo>
                    <a:lnTo>
                      <a:pt x="76" y="1398"/>
                    </a:lnTo>
                    <a:lnTo>
                      <a:pt x="84" y="1400"/>
                    </a:lnTo>
                    <a:lnTo>
                      <a:pt x="98" y="1406"/>
                    </a:lnTo>
                    <a:lnTo>
                      <a:pt x="104" y="1408"/>
                    </a:lnTo>
                    <a:lnTo>
                      <a:pt x="110" y="1410"/>
                    </a:lnTo>
                    <a:lnTo>
                      <a:pt x="110" y="1410"/>
                    </a:lnTo>
                    <a:lnTo>
                      <a:pt x="108" y="1404"/>
                    </a:lnTo>
                    <a:lnTo>
                      <a:pt x="106" y="1398"/>
                    </a:lnTo>
                    <a:lnTo>
                      <a:pt x="106" y="1398"/>
                    </a:lnTo>
                    <a:lnTo>
                      <a:pt x="110" y="1404"/>
                    </a:lnTo>
                    <a:lnTo>
                      <a:pt x="114" y="1408"/>
                    </a:lnTo>
                    <a:lnTo>
                      <a:pt x="120" y="1412"/>
                    </a:lnTo>
                    <a:lnTo>
                      <a:pt x="124" y="1412"/>
                    </a:lnTo>
                    <a:lnTo>
                      <a:pt x="130" y="1410"/>
                    </a:lnTo>
                    <a:lnTo>
                      <a:pt x="130" y="1410"/>
                    </a:lnTo>
                    <a:lnTo>
                      <a:pt x="126" y="1408"/>
                    </a:lnTo>
                    <a:lnTo>
                      <a:pt x="122" y="1406"/>
                    </a:lnTo>
                    <a:lnTo>
                      <a:pt x="122" y="1406"/>
                    </a:lnTo>
                    <a:lnTo>
                      <a:pt x="124" y="1404"/>
                    </a:lnTo>
                    <a:lnTo>
                      <a:pt x="126" y="1406"/>
                    </a:lnTo>
                    <a:lnTo>
                      <a:pt x="128" y="1408"/>
                    </a:lnTo>
                    <a:lnTo>
                      <a:pt x="132" y="1408"/>
                    </a:lnTo>
                    <a:lnTo>
                      <a:pt x="132" y="1408"/>
                    </a:lnTo>
                    <a:lnTo>
                      <a:pt x="134" y="1402"/>
                    </a:lnTo>
                    <a:lnTo>
                      <a:pt x="136" y="1398"/>
                    </a:lnTo>
                    <a:lnTo>
                      <a:pt x="134" y="1394"/>
                    </a:lnTo>
                    <a:lnTo>
                      <a:pt x="130" y="1390"/>
                    </a:lnTo>
                    <a:lnTo>
                      <a:pt x="120" y="1386"/>
                    </a:lnTo>
                    <a:lnTo>
                      <a:pt x="118" y="1382"/>
                    </a:lnTo>
                    <a:lnTo>
                      <a:pt x="116" y="1380"/>
                    </a:lnTo>
                    <a:lnTo>
                      <a:pt x="116" y="1380"/>
                    </a:lnTo>
                    <a:lnTo>
                      <a:pt x="114" y="1374"/>
                    </a:lnTo>
                    <a:lnTo>
                      <a:pt x="116" y="1370"/>
                    </a:lnTo>
                    <a:lnTo>
                      <a:pt x="118" y="1368"/>
                    </a:lnTo>
                    <a:lnTo>
                      <a:pt x="124" y="1366"/>
                    </a:lnTo>
                    <a:lnTo>
                      <a:pt x="124" y="1366"/>
                    </a:lnTo>
                    <a:lnTo>
                      <a:pt x="126" y="1366"/>
                    </a:lnTo>
                    <a:lnTo>
                      <a:pt x="130" y="1368"/>
                    </a:lnTo>
                    <a:lnTo>
                      <a:pt x="134" y="1374"/>
                    </a:lnTo>
                    <a:lnTo>
                      <a:pt x="138" y="1388"/>
                    </a:lnTo>
                    <a:lnTo>
                      <a:pt x="138" y="1388"/>
                    </a:lnTo>
                    <a:lnTo>
                      <a:pt x="140" y="1390"/>
                    </a:lnTo>
                    <a:lnTo>
                      <a:pt x="142" y="1388"/>
                    </a:lnTo>
                    <a:lnTo>
                      <a:pt x="144" y="1386"/>
                    </a:lnTo>
                    <a:lnTo>
                      <a:pt x="144" y="1386"/>
                    </a:lnTo>
                    <a:lnTo>
                      <a:pt x="146" y="1386"/>
                    </a:lnTo>
                    <a:lnTo>
                      <a:pt x="146" y="1386"/>
                    </a:lnTo>
                    <a:lnTo>
                      <a:pt x="146" y="1388"/>
                    </a:lnTo>
                    <a:lnTo>
                      <a:pt x="146" y="1388"/>
                    </a:lnTo>
                    <a:lnTo>
                      <a:pt x="152" y="1388"/>
                    </a:lnTo>
                    <a:lnTo>
                      <a:pt x="160" y="1388"/>
                    </a:lnTo>
                    <a:lnTo>
                      <a:pt x="168" y="1388"/>
                    </a:lnTo>
                    <a:lnTo>
                      <a:pt x="170" y="1388"/>
                    </a:lnTo>
                    <a:lnTo>
                      <a:pt x="172" y="1390"/>
                    </a:lnTo>
                    <a:lnTo>
                      <a:pt x="172" y="1390"/>
                    </a:lnTo>
                    <a:lnTo>
                      <a:pt x="172" y="1394"/>
                    </a:lnTo>
                    <a:lnTo>
                      <a:pt x="170" y="1396"/>
                    </a:lnTo>
                    <a:lnTo>
                      <a:pt x="162" y="1398"/>
                    </a:lnTo>
                    <a:lnTo>
                      <a:pt x="156" y="1398"/>
                    </a:lnTo>
                    <a:lnTo>
                      <a:pt x="150" y="1400"/>
                    </a:lnTo>
                    <a:lnTo>
                      <a:pt x="150" y="1400"/>
                    </a:lnTo>
                    <a:lnTo>
                      <a:pt x="156" y="1422"/>
                    </a:lnTo>
                    <a:lnTo>
                      <a:pt x="160" y="1446"/>
                    </a:lnTo>
                    <a:lnTo>
                      <a:pt x="160" y="1446"/>
                    </a:lnTo>
                    <a:lnTo>
                      <a:pt x="176" y="1442"/>
                    </a:lnTo>
                    <a:lnTo>
                      <a:pt x="184" y="1440"/>
                    </a:lnTo>
                    <a:lnTo>
                      <a:pt x="192" y="1436"/>
                    </a:lnTo>
                    <a:lnTo>
                      <a:pt x="192" y="1436"/>
                    </a:lnTo>
                    <a:lnTo>
                      <a:pt x="194" y="1440"/>
                    </a:lnTo>
                    <a:lnTo>
                      <a:pt x="194" y="1444"/>
                    </a:lnTo>
                    <a:lnTo>
                      <a:pt x="196" y="1448"/>
                    </a:lnTo>
                    <a:lnTo>
                      <a:pt x="200" y="1450"/>
                    </a:lnTo>
                    <a:lnTo>
                      <a:pt x="200" y="1450"/>
                    </a:lnTo>
                    <a:lnTo>
                      <a:pt x="204" y="1448"/>
                    </a:lnTo>
                    <a:lnTo>
                      <a:pt x="208" y="1446"/>
                    </a:lnTo>
                    <a:lnTo>
                      <a:pt x="214" y="1436"/>
                    </a:lnTo>
                    <a:lnTo>
                      <a:pt x="216" y="1426"/>
                    </a:lnTo>
                    <a:lnTo>
                      <a:pt x="214" y="1414"/>
                    </a:lnTo>
                    <a:lnTo>
                      <a:pt x="214" y="1414"/>
                    </a:lnTo>
                    <a:lnTo>
                      <a:pt x="212" y="1412"/>
                    </a:lnTo>
                    <a:lnTo>
                      <a:pt x="212" y="1412"/>
                    </a:lnTo>
                    <a:lnTo>
                      <a:pt x="206" y="1416"/>
                    </a:lnTo>
                    <a:lnTo>
                      <a:pt x="202" y="1420"/>
                    </a:lnTo>
                    <a:lnTo>
                      <a:pt x="196" y="1424"/>
                    </a:lnTo>
                    <a:lnTo>
                      <a:pt x="190" y="1426"/>
                    </a:lnTo>
                    <a:lnTo>
                      <a:pt x="190" y="1426"/>
                    </a:lnTo>
                    <a:lnTo>
                      <a:pt x="190" y="1424"/>
                    </a:lnTo>
                    <a:lnTo>
                      <a:pt x="192" y="1422"/>
                    </a:lnTo>
                    <a:lnTo>
                      <a:pt x="198" y="1418"/>
                    </a:lnTo>
                    <a:lnTo>
                      <a:pt x="202" y="1416"/>
                    </a:lnTo>
                    <a:lnTo>
                      <a:pt x="204" y="1414"/>
                    </a:lnTo>
                    <a:lnTo>
                      <a:pt x="206" y="1412"/>
                    </a:lnTo>
                    <a:lnTo>
                      <a:pt x="206" y="1412"/>
                    </a:lnTo>
                    <a:lnTo>
                      <a:pt x="204" y="1412"/>
                    </a:lnTo>
                    <a:lnTo>
                      <a:pt x="202" y="1412"/>
                    </a:lnTo>
                    <a:lnTo>
                      <a:pt x="202" y="1412"/>
                    </a:lnTo>
                    <a:lnTo>
                      <a:pt x="202" y="1410"/>
                    </a:lnTo>
                    <a:lnTo>
                      <a:pt x="206" y="1410"/>
                    </a:lnTo>
                    <a:lnTo>
                      <a:pt x="208" y="1408"/>
                    </a:lnTo>
                    <a:lnTo>
                      <a:pt x="210" y="1406"/>
                    </a:lnTo>
                    <a:lnTo>
                      <a:pt x="210" y="1406"/>
                    </a:lnTo>
                    <a:lnTo>
                      <a:pt x="208" y="1404"/>
                    </a:lnTo>
                    <a:lnTo>
                      <a:pt x="206" y="1402"/>
                    </a:lnTo>
                    <a:lnTo>
                      <a:pt x="200" y="1402"/>
                    </a:lnTo>
                    <a:lnTo>
                      <a:pt x="200" y="1402"/>
                    </a:lnTo>
                    <a:lnTo>
                      <a:pt x="204" y="1398"/>
                    </a:lnTo>
                    <a:lnTo>
                      <a:pt x="208" y="1394"/>
                    </a:lnTo>
                    <a:lnTo>
                      <a:pt x="212" y="1390"/>
                    </a:lnTo>
                    <a:lnTo>
                      <a:pt x="212" y="1388"/>
                    </a:lnTo>
                    <a:lnTo>
                      <a:pt x="212" y="1384"/>
                    </a:lnTo>
                    <a:lnTo>
                      <a:pt x="212" y="1384"/>
                    </a:lnTo>
                    <a:lnTo>
                      <a:pt x="216" y="1388"/>
                    </a:lnTo>
                    <a:lnTo>
                      <a:pt x="216" y="1390"/>
                    </a:lnTo>
                    <a:lnTo>
                      <a:pt x="220" y="1390"/>
                    </a:lnTo>
                    <a:lnTo>
                      <a:pt x="220" y="1390"/>
                    </a:lnTo>
                    <a:lnTo>
                      <a:pt x="226" y="1388"/>
                    </a:lnTo>
                    <a:lnTo>
                      <a:pt x="232" y="1382"/>
                    </a:lnTo>
                    <a:lnTo>
                      <a:pt x="232" y="1382"/>
                    </a:lnTo>
                    <a:lnTo>
                      <a:pt x="240" y="1388"/>
                    </a:lnTo>
                    <a:lnTo>
                      <a:pt x="250" y="1390"/>
                    </a:lnTo>
                    <a:lnTo>
                      <a:pt x="258" y="1394"/>
                    </a:lnTo>
                    <a:lnTo>
                      <a:pt x="262" y="1396"/>
                    </a:lnTo>
                    <a:lnTo>
                      <a:pt x="264" y="1400"/>
                    </a:lnTo>
                    <a:lnTo>
                      <a:pt x="264" y="1400"/>
                    </a:lnTo>
                    <a:lnTo>
                      <a:pt x="278" y="1400"/>
                    </a:lnTo>
                    <a:lnTo>
                      <a:pt x="294" y="1398"/>
                    </a:lnTo>
                    <a:lnTo>
                      <a:pt x="294" y="1398"/>
                    </a:lnTo>
                    <a:lnTo>
                      <a:pt x="284" y="1390"/>
                    </a:lnTo>
                    <a:lnTo>
                      <a:pt x="284" y="1390"/>
                    </a:lnTo>
                    <a:lnTo>
                      <a:pt x="286" y="1390"/>
                    </a:lnTo>
                    <a:lnTo>
                      <a:pt x="290" y="1390"/>
                    </a:lnTo>
                    <a:lnTo>
                      <a:pt x="296" y="1390"/>
                    </a:lnTo>
                    <a:lnTo>
                      <a:pt x="298" y="1390"/>
                    </a:lnTo>
                    <a:lnTo>
                      <a:pt x="298" y="1390"/>
                    </a:lnTo>
                    <a:lnTo>
                      <a:pt x="298" y="1386"/>
                    </a:lnTo>
                    <a:lnTo>
                      <a:pt x="296" y="1382"/>
                    </a:lnTo>
                    <a:lnTo>
                      <a:pt x="290" y="1378"/>
                    </a:lnTo>
                    <a:lnTo>
                      <a:pt x="290" y="1378"/>
                    </a:lnTo>
                    <a:lnTo>
                      <a:pt x="294" y="1378"/>
                    </a:lnTo>
                    <a:lnTo>
                      <a:pt x="298" y="1378"/>
                    </a:lnTo>
                    <a:lnTo>
                      <a:pt x="304" y="1382"/>
                    </a:lnTo>
                    <a:lnTo>
                      <a:pt x="308" y="1390"/>
                    </a:lnTo>
                    <a:lnTo>
                      <a:pt x="308" y="1394"/>
                    </a:lnTo>
                    <a:lnTo>
                      <a:pt x="306" y="1398"/>
                    </a:lnTo>
                    <a:lnTo>
                      <a:pt x="306" y="1398"/>
                    </a:lnTo>
                    <a:lnTo>
                      <a:pt x="310" y="1400"/>
                    </a:lnTo>
                    <a:lnTo>
                      <a:pt x="312" y="1400"/>
                    </a:lnTo>
                    <a:lnTo>
                      <a:pt x="318" y="1398"/>
                    </a:lnTo>
                    <a:lnTo>
                      <a:pt x="326" y="1396"/>
                    </a:lnTo>
                    <a:lnTo>
                      <a:pt x="332" y="1394"/>
                    </a:lnTo>
                    <a:lnTo>
                      <a:pt x="332" y="1394"/>
                    </a:lnTo>
                    <a:lnTo>
                      <a:pt x="332" y="1392"/>
                    </a:lnTo>
                    <a:lnTo>
                      <a:pt x="330" y="1388"/>
                    </a:lnTo>
                    <a:lnTo>
                      <a:pt x="326" y="1386"/>
                    </a:lnTo>
                    <a:lnTo>
                      <a:pt x="326" y="1382"/>
                    </a:lnTo>
                    <a:lnTo>
                      <a:pt x="326" y="1382"/>
                    </a:lnTo>
                    <a:lnTo>
                      <a:pt x="314" y="1380"/>
                    </a:lnTo>
                    <a:lnTo>
                      <a:pt x="304" y="1376"/>
                    </a:lnTo>
                    <a:lnTo>
                      <a:pt x="298" y="1370"/>
                    </a:lnTo>
                    <a:lnTo>
                      <a:pt x="296" y="1364"/>
                    </a:lnTo>
                    <a:lnTo>
                      <a:pt x="296" y="1364"/>
                    </a:lnTo>
                    <a:lnTo>
                      <a:pt x="298" y="1360"/>
                    </a:lnTo>
                    <a:lnTo>
                      <a:pt x="300" y="1358"/>
                    </a:lnTo>
                    <a:lnTo>
                      <a:pt x="304" y="1354"/>
                    </a:lnTo>
                    <a:lnTo>
                      <a:pt x="310" y="1350"/>
                    </a:lnTo>
                    <a:lnTo>
                      <a:pt x="314" y="1344"/>
                    </a:lnTo>
                    <a:lnTo>
                      <a:pt x="314" y="1344"/>
                    </a:lnTo>
                    <a:lnTo>
                      <a:pt x="298" y="1322"/>
                    </a:lnTo>
                    <a:lnTo>
                      <a:pt x="280" y="1302"/>
                    </a:lnTo>
                    <a:lnTo>
                      <a:pt x="240" y="1266"/>
                    </a:lnTo>
                    <a:lnTo>
                      <a:pt x="240" y="1266"/>
                    </a:lnTo>
                    <a:lnTo>
                      <a:pt x="242" y="1268"/>
                    </a:lnTo>
                    <a:lnTo>
                      <a:pt x="246" y="1272"/>
                    </a:lnTo>
                    <a:lnTo>
                      <a:pt x="246" y="1272"/>
                    </a:lnTo>
                    <a:lnTo>
                      <a:pt x="250" y="1268"/>
                    </a:lnTo>
                    <a:lnTo>
                      <a:pt x="248" y="1262"/>
                    </a:lnTo>
                    <a:lnTo>
                      <a:pt x="244" y="1254"/>
                    </a:lnTo>
                    <a:lnTo>
                      <a:pt x="244" y="1254"/>
                    </a:lnTo>
                    <a:lnTo>
                      <a:pt x="242" y="1256"/>
                    </a:lnTo>
                    <a:lnTo>
                      <a:pt x="242" y="1258"/>
                    </a:lnTo>
                    <a:lnTo>
                      <a:pt x="244" y="1260"/>
                    </a:lnTo>
                    <a:lnTo>
                      <a:pt x="246" y="1262"/>
                    </a:lnTo>
                    <a:lnTo>
                      <a:pt x="246" y="1262"/>
                    </a:lnTo>
                    <a:lnTo>
                      <a:pt x="244" y="1264"/>
                    </a:lnTo>
                    <a:lnTo>
                      <a:pt x="242" y="1262"/>
                    </a:lnTo>
                    <a:lnTo>
                      <a:pt x="238" y="1260"/>
                    </a:lnTo>
                    <a:lnTo>
                      <a:pt x="238" y="1260"/>
                    </a:lnTo>
                    <a:lnTo>
                      <a:pt x="230" y="1266"/>
                    </a:lnTo>
                    <a:lnTo>
                      <a:pt x="222" y="1272"/>
                    </a:lnTo>
                    <a:lnTo>
                      <a:pt x="206" y="1286"/>
                    </a:lnTo>
                    <a:lnTo>
                      <a:pt x="206" y="1286"/>
                    </a:lnTo>
                    <a:lnTo>
                      <a:pt x="208" y="1290"/>
                    </a:lnTo>
                    <a:lnTo>
                      <a:pt x="210" y="1292"/>
                    </a:lnTo>
                    <a:lnTo>
                      <a:pt x="210" y="1296"/>
                    </a:lnTo>
                    <a:lnTo>
                      <a:pt x="210" y="1296"/>
                    </a:lnTo>
                    <a:lnTo>
                      <a:pt x="208" y="1298"/>
                    </a:lnTo>
                    <a:lnTo>
                      <a:pt x="204" y="1300"/>
                    </a:lnTo>
                    <a:lnTo>
                      <a:pt x="194" y="1300"/>
                    </a:lnTo>
                    <a:lnTo>
                      <a:pt x="194" y="1300"/>
                    </a:lnTo>
                    <a:lnTo>
                      <a:pt x="196" y="1298"/>
                    </a:lnTo>
                    <a:lnTo>
                      <a:pt x="196" y="1296"/>
                    </a:lnTo>
                    <a:lnTo>
                      <a:pt x="196" y="1296"/>
                    </a:lnTo>
                    <a:lnTo>
                      <a:pt x="192" y="1298"/>
                    </a:lnTo>
                    <a:lnTo>
                      <a:pt x="190" y="1300"/>
                    </a:lnTo>
                    <a:lnTo>
                      <a:pt x="186" y="1304"/>
                    </a:lnTo>
                    <a:lnTo>
                      <a:pt x="184" y="1304"/>
                    </a:lnTo>
                    <a:lnTo>
                      <a:pt x="184" y="1304"/>
                    </a:lnTo>
                    <a:lnTo>
                      <a:pt x="182" y="1302"/>
                    </a:lnTo>
                    <a:lnTo>
                      <a:pt x="180" y="1302"/>
                    </a:lnTo>
                    <a:lnTo>
                      <a:pt x="180" y="1302"/>
                    </a:lnTo>
                    <a:lnTo>
                      <a:pt x="192" y="1296"/>
                    </a:lnTo>
                    <a:lnTo>
                      <a:pt x="192" y="1296"/>
                    </a:lnTo>
                    <a:lnTo>
                      <a:pt x="186" y="1292"/>
                    </a:lnTo>
                    <a:lnTo>
                      <a:pt x="180" y="1290"/>
                    </a:lnTo>
                    <a:lnTo>
                      <a:pt x="176" y="1286"/>
                    </a:lnTo>
                    <a:lnTo>
                      <a:pt x="170" y="1282"/>
                    </a:lnTo>
                    <a:lnTo>
                      <a:pt x="170" y="1282"/>
                    </a:lnTo>
                    <a:lnTo>
                      <a:pt x="174" y="1278"/>
                    </a:lnTo>
                    <a:lnTo>
                      <a:pt x="176" y="1276"/>
                    </a:lnTo>
                    <a:lnTo>
                      <a:pt x="182" y="1274"/>
                    </a:lnTo>
                    <a:lnTo>
                      <a:pt x="186" y="1274"/>
                    </a:lnTo>
                    <a:lnTo>
                      <a:pt x="196" y="1278"/>
                    </a:lnTo>
                    <a:lnTo>
                      <a:pt x="204" y="1282"/>
                    </a:lnTo>
                    <a:lnTo>
                      <a:pt x="204" y="1282"/>
                    </a:lnTo>
                    <a:lnTo>
                      <a:pt x="218" y="1272"/>
                    </a:lnTo>
                    <a:lnTo>
                      <a:pt x="232" y="1260"/>
                    </a:lnTo>
                    <a:lnTo>
                      <a:pt x="244" y="1246"/>
                    </a:lnTo>
                    <a:lnTo>
                      <a:pt x="254" y="1232"/>
                    </a:lnTo>
                    <a:lnTo>
                      <a:pt x="254" y="1232"/>
                    </a:lnTo>
                    <a:lnTo>
                      <a:pt x="260" y="1228"/>
                    </a:lnTo>
                    <a:lnTo>
                      <a:pt x="266" y="1224"/>
                    </a:lnTo>
                    <a:lnTo>
                      <a:pt x="272" y="1212"/>
                    </a:lnTo>
                    <a:lnTo>
                      <a:pt x="272" y="1212"/>
                    </a:lnTo>
                    <a:lnTo>
                      <a:pt x="270" y="1214"/>
                    </a:lnTo>
                    <a:lnTo>
                      <a:pt x="270" y="1216"/>
                    </a:lnTo>
                    <a:lnTo>
                      <a:pt x="268" y="1220"/>
                    </a:lnTo>
                    <a:lnTo>
                      <a:pt x="268" y="1220"/>
                    </a:lnTo>
                    <a:lnTo>
                      <a:pt x="264" y="1218"/>
                    </a:lnTo>
                    <a:lnTo>
                      <a:pt x="260" y="1216"/>
                    </a:lnTo>
                    <a:lnTo>
                      <a:pt x="260" y="1216"/>
                    </a:lnTo>
                    <a:lnTo>
                      <a:pt x="228" y="1226"/>
                    </a:lnTo>
                    <a:lnTo>
                      <a:pt x="192" y="1234"/>
                    </a:lnTo>
                    <a:lnTo>
                      <a:pt x="158" y="1242"/>
                    </a:lnTo>
                    <a:lnTo>
                      <a:pt x="122" y="1248"/>
                    </a:lnTo>
                    <a:lnTo>
                      <a:pt x="122" y="1248"/>
                    </a:lnTo>
                    <a:lnTo>
                      <a:pt x="118" y="1248"/>
                    </a:lnTo>
                    <a:lnTo>
                      <a:pt x="116" y="1246"/>
                    </a:lnTo>
                    <a:lnTo>
                      <a:pt x="106" y="1246"/>
                    </a:lnTo>
                    <a:lnTo>
                      <a:pt x="106" y="1246"/>
                    </a:lnTo>
                    <a:lnTo>
                      <a:pt x="104" y="1248"/>
                    </a:lnTo>
                    <a:lnTo>
                      <a:pt x="102" y="1252"/>
                    </a:lnTo>
                    <a:lnTo>
                      <a:pt x="100" y="1258"/>
                    </a:lnTo>
                    <a:lnTo>
                      <a:pt x="100" y="1258"/>
                    </a:lnTo>
                    <a:lnTo>
                      <a:pt x="98" y="1256"/>
                    </a:lnTo>
                    <a:lnTo>
                      <a:pt x="100" y="1254"/>
                    </a:lnTo>
                    <a:lnTo>
                      <a:pt x="102" y="1248"/>
                    </a:lnTo>
                    <a:lnTo>
                      <a:pt x="102" y="1248"/>
                    </a:lnTo>
                    <a:lnTo>
                      <a:pt x="76" y="1246"/>
                    </a:lnTo>
                    <a:lnTo>
                      <a:pt x="62" y="1244"/>
                    </a:lnTo>
                    <a:lnTo>
                      <a:pt x="52" y="1240"/>
                    </a:lnTo>
                    <a:lnTo>
                      <a:pt x="52" y="1240"/>
                    </a:lnTo>
                    <a:lnTo>
                      <a:pt x="70" y="1244"/>
                    </a:lnTo>
                    <a:lnTo>
                      <a:pt x="88" y="1246"/>
                    </a:lnTo>
                    <a:lnTo>
                      <a:pt x="110" y="1246"/>
                    </a:lnTo>
                    <a:lnTo>
                      <a:pt x="130" y="1244"/>
                    </a:lnTo>
                    <a:lnTo>
                      <a:pt x="152" y="1240"/>
                    </a:lnTo>
                    <a:lnTo>
                      <a:pt x="172" y="1236"/>
                    </a:lnTo>
                    <a:lnTo>
                      <a:pt x="190" y="1232"/>
                    </a:lnTo>
                    <a:lnTo>
                      <a:pt x="206" y="1226"/>
                    </a:lnTo>
                    <a:lnTo>
                      <a:pt x="206" y="1226"/>
                    </a:lnTo>
                    <a:lnTo>
                      <a:pt x="202" y="1224"/>
                    </a:lnTo>
                    <a:lnTo>
                      <a:pt x="196" y="1224"/>
                    </a:lnTo>
                    <a:lnTo>
                      <a:pt x="192" y="1224"/>
                    </a:lnTo>
                    <a:lnTo>
                      <a:pt x="188" y="1228"/>
                    </a:lnTo>
                    <a:lnTo>
                      <a:pt x="188" y="1228"/>
                    </a:lnTo>
                    <a:lnTo>
                      <a:pt x="182" y="1226"/>
                    </a:lnTo>
                    <a:lnTo>
                      <a:pt x="178" y="1224"/>
                    </a:lnTo>
                    <a:lnTo>
                      <a:pt x="170" y="1218"/>
                    </a:lnTo>
                    <a:lnTo>
                      <a:pt x="170" y="1218"/>
                    </a:lnTo>
                    <a:lnTo>
                      <a:pt x="156" y="1218"/>
                    </a:lnTo>
                    <a:lnTo>
                      <a:pt x="142" y="1214"/>
                    </a:lnTo>
                    <a:lnTo>
                      <a:pt x="128" y="1212"/>
                    </a:lnTo>
                    <a:lnTo>
                      <a:pt x="116" y="1212"/>
                    </a:lnTo>
                    <a:lnTo>
                      <a:pt x="116" y="1212"/>
                    </a:lnTo>
                    <a:lnTo>
                      <a:pt x="106" y="1214"/>
                    </a:lnTo>
                    <a:lnTo>
                      <a:pt x="100" y="1218"/>
                    </a:lnTo>
                    <a:lnTo>
                      <a:pt x="92" y="1220"/>
                    </a:lnTo>
                    <a:lnTo>
                      <a:pt x="90" y="1218"/>
                    </a:lnTo>
                    <a:lnTo>
                      <a:pt x="86" y="1214"/>
                    </a:lnTo>
                    <a:lnTo>
                      <a:pt x="86" y="1214"/>
                    </a:lnTo>
                    <a:lnTo>
                      <a:pt x="88" y="1212"/>
                    </a:lnTo>
                    <a:lnTo>
                      <a:pt x="88" y="1212"/>
                    </a:lnTo>
                    <a:lnTo>
                      <a:pt x="92" y="1214"/>
                    </a:lnTo>
                    <a:lnTo>
                      <a:pt x="92" y="1214"/>
                    </a:lnTo>
                    <a:lnTo>
                      <a:pt x="88" y="1196"/>
                    </a:lnTo>
                    <a:lnTo>
                      <a:pt x="88" y="1186"/>
                    </a:lnTo>
                    <a:lnTo>
                      <a:pt x="90" y="1176"/>
                    </a:lnTo>
                    <a:lnTo>
                      <a:pt x="90" y="1176"/>
                    </a:lnTo>
                    <a:lnTo>
                      <a:pt x="100" y="1176"/>
                    </a:lnTo>
                    <a:lnTo>
                      <a:pt x="108" y="1172"/>
                    </a:lnTo>
                    <a:lnTo>
                      <a:pt x="108" y="1172"/>
                    </a:lnTo>
                    <a:lnTo>
                      <a:pt x="108" y="1168"/>
                    </a:lnTo>
                    <a:lnTo>
                      <a:pt x="108" y="1166"/>
                    </a:lnTo>
                    <a:lnTo>
                      <a:pt x="106" y="1164"/>
                    </a:lnTo>
                    <a:lnTo>
                      <a:pt x="106" y="1164"/>
                    </a:lnTo>
                    <a:lnTo>
                      <a:pt x="112" y="1168"/>
                    </a:lnTo>
                    <a:lnTo>
                      <a:pt x="120" y="1172"/>
                    </a:lnTo>
                    <a:lnTo>
                      <a:pt x="136" y="1176"/>
                    </a:lnTo>
                    <a:lnTo>
                      <a:pt x="136" y="1176"/>
                    </a:lnTo>
                    <a:lnTo>
                      <a:pt x="134" y="1182"/>
                    </a:lnTo>
                    <a:lnTo>
                      <a:pt x="130" y="1188"/>
                    </a:lnTo>
                    <a:lnTo>
                      <a:pt x="120" y="1194"/>
                    </a:lnTo>
                    <a:lnTo>
                      <a:pt x="120" y="1194"/>
                    </a:lnTo>
                    <a:lnTo>
                      <a:pt x="122" y="1198"/>
                    </a:lnTo>
                    <a:lnTo>
                      <a:pt x="126" y="1202"/>
                    </a:lnTo>
                    <a:lnTo>
                      <a:pt x="126" y="1202"/>
                    </a:lnTo>
                    <a:lnTo>
                      <a:pt x="122" y="1206"/>
                    </a:lnTo>
                    <a:lnTo>
                      <a:pt x="120" y="1208"/>
                    </a:lnTo>
                    <a:lnTo>
                      <a:pt x="116" y="1210"/>
                    </a:lnTo>
                    <a:lnTo>
                      <a:pt x="116" y="1210"/>
                    </a:lnTo>
                    <a:lnTo>
                      <a:pt x="134" y="1214"/>
                    </a:lnTo>
                    <a:lnTo>
                      <a:pt x="146" y="1214"/>
                    </a:lnTo>
                    <a:lnTo>
                      <a:pt x="150" y="1212"/>
                    </a:lnTo>
                    <a:lnTo>
                      <a:pt x="154" y="1208"/>
                    </a:lnTo>
                    <a:lnTo>
                      <a:pt x="154" y="1208"/>
                    </a:lnTo>
                    <a:lnTo>
                      <a:pt x="154" y="1208"/>
                    </a:lnTo>
                    <a:lnTo>
                      <a:pt x="154" y="1210"/>
                    </a:lnTo>
                    <a:lnTo>
                      <a:pt x="154" y="1212"/>
                    </a:lnTo>
                    <a:lnTo>
                      <a:pt x="154" y="1212"/>
                    </a:lnTo>
                    <a:lnTo>
                      <a:pt x="154" y="1212"/>
                    </a:lnTo>
                    <a:lnTo>
                      <a:pt x="156" y="1214"/>
                    </a:lnTo>
                    <a:lnTo>
                      <a:pt x="158" y="1214"/>
                    </a:lnTo>
                    <a:lnTo>
                      <a:pt x="166" y="1214"/>
                    </a:lnTo>
                    <a:lnTo>
                      <a:pt x="166" y="1214"/>
                    </a:lnTo>
                    <a:lnTo>
                      <a:pt x="158" y="1204"/>
                    </a:lnTo>
                    <a:lnTo>
                      <a:pt x="152" y="1194"/>
                    </a:lnTo>
                    <a:lnTo>
                      <a:pt x="148" y="1188"/>
                    </a:lnTo>
                    <a:lnTo>
                      <a:pt x="148" y="1182"/>
                    </a:lnTo>
                    <a:lnTo>
                      <a:pt x="148" y="1176"/>
                    </a:lnTo>
                    <a:lnTo>
                      <a:pt x="152" y="1170"/>
                    </a:lnTo>
                    <a:lnTo>
                      <a:pt x="152" y="1170"/>
                    </a:lnTo>
                    <a:lnTo>
                      <a:pt x="166" y="1176"/>
                    </a:lnTo>
                    <a:lnTo>
                      <a:pt x="180" y="1186"/>
                    </a:lnTo>
                    <a:lnTo>
                      <a:pt x="184" y="1190"/>
                    </a:lnTo>
                    <a:lnTo>
                      <a:pt x="186" y="1196"/>
                    </a:lnTo>
                    <a:lnTo>
                      <a:pt x="186" y="1202"/>
                    </a:lnTo>
                    <a:lnTo>
                      <a:pt x="182" y="1208"/>
                    </a:lnTo>
                    <a:lnTo>
                      <a:pt x="182" y="1208"/>
                    </a:lnTo>
                    <a:lnTo>
                      <a:pt x="188" y="1216"/>
                    </a:lnTo>
                    <a:lnTo>
                      <a:pt x="194" y="1220"/>
                    </a:lnTo>
                    <a:lnTo>
                      <a:pt x="204" y="1222"/>
                    </a:lnTo>
                    <a:lnTo>
                      <a:pt x="214" y="1222"/>
                    </a:lnTo>
                    <a:lnTo>
                      <a:pt x="224" y="1222"/>
                    </a:lnTo>
                    <a:lnTo>
                      <a:pt x="234" y="1220"/>
                    </a:lnTo>
                    <a:lnTo>
                      <a:pt x="252" y="1214"/>
                    </a:lnTo>
                    <a:lnTo>
                      <a:pt x="252" y="1214"/>
                    </a:lnTo>
                    <a:lnTo>
                      <a:pt x="248" y="1210"/>
                    </a:lnTo>
                    <a:lnTo>
                      <a:pt x="242" y="1208"/>
                    </a:lnTo>
                    <a:lnTo>
                      <a:pt x="238" y="1206"/>
                    </a:lnTo>
                    <a:lnTo>
                      <a:pt x="234" y="1204"/>
                    </a:lnTo>
                    <a:lnTo>
                      <a:pt x="234" y="1204"/>
                    </a:lnTo>
                    <a:lnTo>
                      <a:pt x="234" y="1196"/>
                    </a:lnTo>
                    <a:lnTo>
                      <a:pt x="236" y="1192"/>
                    </a:lnTo>
                    <a:lnTo>
                      <a:pt x="244" y="1184"/>
                    </a:lnTo>
                    <a:lnTo>
                      <a:pt x="244" y="1184"/>
                    </a:lnTo>
                    <a:lnTo>
                      <a:pt x="242" y="1184"/>
                    </a:lnTo>
                    <a:lnTo>
                      <a:pt x="238" y="1182"/>
                    </a:lnTo>
                    <a:lnTo>
                      <a:pt x="232" y="1184"/>
                    </a:lnTo>
                    <a:lnTo>
                      <a:pt x="232" y="1184"/>
                    </a:lnTo>
                    <a:lnTo>
                      <a:pt x="236" y="1182"/>
                    </a:lnTo>
                    <a:lnTo>
                      <a:pt x="244" y="1180"/>
                    </a:lnTo>
                    <a:lnTo>
                      <a:pt x="244" y="1180"/>
                    </a:lnTo>
                    <a:lnTo>
                      <a:pt x="242" y="1176"/>
                    </a:lnTo>
                    <a:lnTo>
                      <a:pt x="238" y="1176"/>
                    </a:lnTo>
                    <a:lnTo>
                      <a:pt x="238" y="1176"/>
                    </a:lnTo>
                    <a:lnTo>
                      <a:pt x="238" y="1178"/>
                    </a:lnTo>
                    <a:lnTo>
                      <a:pt x="238" y="1178"/>
                    </a:lnTo>
                    <a:lnTo>
                      <a:pt x="238" y="1178"/>
                    </a:lnTo>
                    <a:lnTo>
                      <a:pt x="236" y="1178"/>
                    </a:lnTo>
                    <a:lnTo>
                      <a:pt x="230" y="1180"/>
                    </a:lnTo>
                    <a:lnTo>
                      <a:pt x="222" y="1184"/>
                    </a:lnTo>
                    <a:lnTo>
                      <a:pt x="212" y="1188"/>
                    </a:lnTo>
                    <a:lnTo>
                      <a:pt x="208" y="1188"/>
                    </a:lnTo>
                    <a:lnTo>
                      <a:pt x="202" y="1186"/>
                    </a:lnTo>
                    <a:lnTo>
                      <a:pt x="202" y="1186"/>
                    </a:lnTo>
                    <a:lnTo>
                      <a:pt x="204" y="1184"/>
                    </a:lnTo>
                    <a:lnTo>
                      <a:pt x="208" y="1182"/>
                    </a:lnTo>
                    <a:lnTo>
                      <a:pt x="218" y="1182"/>
                    </a:lnTo>
                    <a:lnTo>
                      <a:pt x="218" y="1182"/>
                    </a:lnTo>
                    <a:lnTo>
                      <a:pt x="216" y="1180"/>
                    </a:lnTo>
                    <a:lnTo>
                      <a:pt x="214" y="1180"/>
                    </a:lnTo>
                    <a:lnTo>
                      <a:pt x="214" y="1180"/>
                    </a:lnTo>
                    <a:lnTo>
                      <a:pt x="216" y="1178"/>
                    </a:lnTo>
                    <a:lnTo>
                      <a:pt x="218" y="1180"/>
                    </a:lnTo>
                    <a:lnTo>
                      <a:pt x="222" y="1180"/>
                    </a:lnTo>
                    <a:lnTo>
                      <a:pt x="224" y="1180"/>
                    </a:lnTo>
                    <a:lnTo>
                      <a:pt x="224" y="1180"/>
                    </a:lnTo>
                    <a:lnTo>
                      <a:pt x="212" y="1172"/>
                    </a:lnTo>
                    <a:lnTo>
                      <a:pt x="208" y="1166"/>
                    </a:lnTo>
                    <a:lnTo>
                      <a:pt x="206" y="1156"/>
                    </a:lnTo>
                    <a:lnTo>
                      <a:pt x="206" y="1156"/>
                    </a:lnTo>
                    <a:lnTo>
                      <a:pt x="192" y="1156"/>
                    </a:lnTo>
                    <a:lnTo>
                      <a:pt x="192" y="1156"/>
                    </a:lnTo>
                    <a:lnTo>
                      <a:pt x="192" y="1154"/>
                    </a:lnTo>
                    <a:lnTo>
                      <a:pt x="196" y="1150"/>
                    </a:lnTo>
                    <a:lnTo>
                      <a:pt x="202" y="1146"/>
                    </a:lnTo>
                    <a:lnTo>
                      <a:pt x="210" y="1142"/>
                    </a:lnTo>
                    <a:lnTo>
                      <a:pt x="214" y="1138"/>
                    </a:lnTo>
                    <a:lnTo>
                      <a:pt x="214" y="1138"/>
                    </a:lnTo>
                    <a:lnTo>
                      <a:pt x="208" y="1128"/>
                    </a:lnTo>
                    <a:lnTo>
                      <a:pt x="208" y="1122"/>
                    </a:lnTo>
                    <a:lnTo>
                      <a:pt x="210" y="1116"/>
                    </a:lnTo>
                    <a:lnTo>
                      <a:pt x="210" y="1116"/>
                    </a:lnTo>
                    <a:lnTo>
                      <a:pt x="204" y="1124"/>
                    </a:lnTo>
                    <a:lnTo>
                      <a:pt x="202" y="1126"/>
                    </a:lnTo>
                    <a:lnTo>
                      <a:pt x="200" y="1130"/>
                    </a:lnTo>
                    <a:lnTo>
                      <a:pt x="200" y="1130"/>
                    </a:lnTo>
                    <a:lnTo>
                      <a:pt x="198" y="1128"/>
                    </a:lnTo>
                    <a:lnTo>
                      <a:pt x="198" y="1128"/>
                    </a:lnTo>
                    <a:lnTo>
                      <a:pt x="202" y="1124"/>
                    </a:lnTo>
                    <a:lnTo>
                      <a:pt x="206" y="1120"/>
                    </a:lnTo>
                    <a:lnTo>
                      <a:pt x="206" y="1116"/>
                    </a:lnTo>
                    <a:lnTo>
                      <a:pt x="206" y="1116"/>
                    </a:lnTo>
                    <a:lnTo>
                      <a:pt x="204" y="1110"/>
                    </a:lnTo>
                    <a:lnTo>
                      <a:pt x="202" y="1108"/>
                    </a:lnTo>
                    <a:lnTo>
                      <a:pt x="194" y="1102"/>
                    </a:lnTo>
                    <a:lnTo>
                      <a:pt x="194" y="1102"/>
                    </a:lnTo>
                    <a:lnTo>
                      <a:pt x="198" y="1104"/>
                    </a:lnTo>
                    <a:lnTo>
                      <a:pt x="202" y="1108"/>
                    </a:lnTo>
                    <a:lnTo>
                      <a:pt x="206" y="1112"/>
                    </a:lnTo>
                    <a:lnTo>
                      <a:pt x="210" y="1114"/>
                    </a:lnTo>
                    <a:lnTo>
                      <a:pt x="210" y="1114"/>
                    </a:lnTo>
                    <a:lnTo>
                      <a:pt x="218" y="1106"/>
                    </a:lnTo>
                    <a:lnTo>
                      <a:pt x="222" y="1102"/>
                    </a:lnTo>
                    <a:lnTo>
                      <a:pt x="226" y="1100"/>
                    </a:lnTo>
                    <a:lnTo>
                      <a:pt x="226" y="1100"/>
                    </a:lnTo>
                    <a:lnTo>
                      <a:pt x="220" y="1092"/>
                    </a:lnTo>
                    <a:lnTo>
                      <a:pt x="218" y="1090"/>
                    </a:lnTo>
                    <a:lnTo>
                      <a:pt x="216" y="1086"/>
                    </a:lnTo>
                    <a:lnTo>
                      <a:pt x="216" y="1086"/>
                    </a:lnTo>
                    <a:lnTo>
                      <a:pt x="206" y="1090"/>
                    </a:lnTo>
                    <a:lnTo>
                      <a:pt x="196" y="1098"/>
                    </a:lnTo>
                    <a:lnTo>
                      <a:pt x="186" y="1102"/>
                    </a:lnTo>
                    <a:lnTo>
                      <a:pt x="180" y="1102"/>
                    </a:lnTo>
                    <a:lnTo>
                      <a:pt x="176" y="1100"/>
                    </a:lnTo>
                    <a:lnTo>
                      <a:pt x="176" y="1100"/>
                    </a:lnTo>
                    <a:lnTo>
                      <a:pt x="178" y="1096"/>
                    </a:lnTo>
                    <a:lnTo>
                      <a:pt x="184" y="1092"/>
                    </a:lnTo>
                    <a:lnTo>
                      <a:pt x="194" y="1088"/>
                    </a:lnTo>
                    <a:lnTo>
                      <a:pt x="200" y="1086"/>
                    </a:lnTo>
                    <a:lnTo>
                      <a:pt x="204" y="1084"/>
                    </a:lnTo>
                    <a:lnTo>
                      <a:pt x="206" y="1080"/>
                    </a:lnTo>
                    <a:lnTo>
                      <a:pt x="206" y="1074"/>
                    </a:lnTo>
                    <a:lnTo>
                      <a:pt x="206" y="1074"/>
                    </a:lnTo>
                    <a:lnTo>
                      <a:pt x="208" y="1076"/>
                    </a:lnTo>
                    <a:lnTo>
                      <a:pt x="210" y="1076"/>
                    </a:lnTo>
                    <a:lnTo>
                      <a:pt x="212" y="1076"/>
                    </a:lnTo>
                    <a:lnTo>
                      <a:pt x="212" y="1076"/>
                    </a:lnTo>
                    <a:lnTo>
                      <a:pt x="212" y="1072"/>
                    </a:lnTo>
                    <a:lnTo>
                      <a:pt x="210" y="1068"/>
                    </a:lnTo>
                    <a:lnTo>
                      <a:pt x="204" y="1062"/>
                    </a:lnTo>
                    <a:lnTo>
                      <a:pt x="200" y="1056"/>
                    </a:lnTo>
                    <a:lnTo>
                      <a:pt x="198" y="1052"/>
                    </a:lnTo>
                    <a:lnTo>
                      <a:pt x="200" y="1048"/>
                    </a:lnTo>
                    <a:lnTo>
                      <a:pt x="200" y="1048"/>
                    </a:lnTo>
                    <a:lnTo>
                      <a:pt x="202" y="1042"/>
                    </a:lnTo>
                    <a:lnTo>
                      <a:pt x="206" y="1042"/>
                    </a:lnTo>
                    <a:lnTo>
                      <a:pt x="212" y="1044"/>
                    </a:lnTo>
                    <a:lnTo>
                      <a:pt x="220" y="1048"/>
                    </a:lnTo>
                    <a:lnTo>
                      <a:pt x="226" y="1052"/>
                    </a:lnTo>
                    <a:lnTo>
                      <a:pt x="234" y="1054"/>
                    </a:lnTo>
                    <a:lnTo>
                      <a:pt x="240" y="1056"/>
                    </a:lnTo>
                    <a:lnTo>
                      <a:pt x="244" y="1054"/>
                    </a:lnTo>
                    <a:lnTo>
                      <a:pt x="246" y="1052"/>
                    </a:lnTo>
                    <a:lnTo>
                      <a:pt x="246" y="1052"/>
                    </a:lnTo>
                    <a:lnTo>
                      <a:pt x="244" y="1048"/>
                    </a:lnTo>
                    <a:lnTo>
                      <a:pt x="240" y="1044"/>
                    </a:lnTo>
                    <a:lnTo>
                      <a:pt x="228" y="1040"/>
                    </a:lnTo>
                    <a:lnTo>
                      <a:pt x="228" y="1040"/>
                    </a:lnTo>
                    <a:lnTo>
                      <a:pt x="226" y="1038"/>
                    </a:lnTo>
                    <a:lnTo>
                      <a:pt x="226" y="1038"/>
                    </a:lnTo>
                    <a:lnTo>
                      <a:pt x="230" y="1032"/>
                    </a:lnTo>
                    <a:lnTo>
                      <a:pt x="234" y="1028"/>
                    </a:lnTo>
                    <a:lnTo>
                      <a:pt x="244" y="1020"/>
                    </a:lnTo>
                    <a:lnTo>
                      <a:pt x="244" y="1020"/>
                    </a:lnTo>
                    <a:lnTo>
                      <a:pt x="244" y="1018"/>
                    </a:lnTo>
                    <a:lnTo>
                      <a:pt x="242" y="1018"/>
                    </a:lnTo>
                    <a:lnTo>
                      <a:pt x="242" y="1018"/>
                    </a:lnTo>
                    <a:lnTo>
                      <a:pt x="242" y="1016"/>
                    </a:lnTo>
                    <a:lnTo>
                      <a:pt x="244" y="1016"/>
                    </a:lnTo>
                    <a:lnTo>
                      <a:pt x="244" y="1018"/>
                    </a:lnTo>
                    <a:lnTo>
                      <a:pt x="246" y="1018"/>
                    </a:lnTo>
                    <a:lnTo>
                      <a:pt x="246" y="1018"/>
                    </a:lnTo>
                    <a:lnTo>
                      <a:pt x="242" y="1012"/>
                    </a:lnTo>
                    <a:lnTo>
                      <a:pt x="236" y="1006"/>
                    </a:lnTo>
                    <a:lnTo>
                      <a:pt x="230" y="1002"/>
                    </a:lnTo>
                    <a:lnTo>
                      <a:pt x="226" y="994"/>
                    </a:lnTo>
                    <a:lnTo>
                      <a:pt x="226" y="994"/>
                    </a:lnTo>
                    <a:lnTo>
                      <a:pt x="228" y="994"/>
                    </a:lnTo>
                    <a:lnTo>
                      <a:pt x="230" y="996"/>
                    </a:lnTo>
                    <a:lnTo>
                      <a:pt x="232" y="1002"/>
                    </a:lnTo>
                    <a:lnTo>
                      <a:pt x="232" y="1002"/>
                    </a:lnTo>
                    <a:lnTo>
                      <a:pt x="234" y="998"/>
                    </a:lnTo>
                    <a:lnTo>
                      <a:pt x="234" y="992"/>
                    </a:lnTo>
                    <a:lnTo>
                      <a:pt x="232" y="990"/>
                    </a:lnTo>
                    <a:lnTo>
                      <a:pt x="230" y="988"/>
                    </a:lnTo>
                    <a:lnTo>
                      <a:pt x="226" y="990"/>
                    </a:lnTo>
                    <a:lnTo>
                      <a:pt x="226" y="990"/>
                    </a:lnTo>
                    <a:lnTo>
                      <a:pt x="226" y="988"/>
                    </a:lnTo>
                    <a:lnTo>
                      <a:pt x="224" y="984"/>
                    </a:lnTo>
                    <a:lnTo>
                      <a:pt x="214" y="982"/>
                    </a:lnTo>
                    <a:lnTo>
                      <a:pt x="204" y="978"/>
                    </a:lnTo>
                    <a:lnTo>
                      <a:pt x="194" y="974"/>
                    </a:lnTo>
                    <a:lnTo>
                      <a:pt x="194" y="974"/>
                    </a:lnTo>
                    <a:lnTo>
                      <a:pt x="198" y="972"/>
                    </a:lnTo>
                    <a:lnTo>
                      <a:pt x="200" y="972"/>
                    </a:lnTo>
                    <a:lnTo>
                      <a:pt x="206" y="974"/>
                    </a:lnTo>
                    <a:lnTo>
                      <a:pt x="206" y="974"/>
                    </a:lnTo>
                    <a:lnTo>
                      <a:pt x="208" y="974"/>
                    </a:lnTo>
                    <a:lnTo>
                      <a:pt x="208" y="972"/>
                    </a:lnTo>
                    <a:lnTo>
                      <a:pt x="204" y="970"/>
                    </a:lnTo>
                    <a:lnTo>
                      <a:pt x="204" y="970"/>
                    </a:lnTo>
                    <a:lnTo>
                      <a:pt x="214" y="976"/>
                    </a:lnTo>
                    <a:lnTo>
                      <a:pt x="224" y="984"/>
                    </a:lnTo>
                    <a:lnTo>
                      <a:pt x="234" y="990"/>
                    </a:lnTo>
                    <a:lnTo>
                      <a:pt x="240" y="992"/>
                    </a:lnTo>
                    <a:lnTo>
                      <a:pt x="246" y="994"/>
                    </a:lnTo>
                    <a:lnTo>
                      <a:pt x="246" y="994"/>
                    </a:lnTo>
                    <a:lnTo>
                      <a:pt x="252" y="988"/>
                    </a:lnTo>
                    <a:lnTo>
                      <a:pt x="254" y="982"/>
                    </a:lnTo>
                    <a:lnTo>
                      <a:pt x="252" y="976"/>
                    </a:lnTo>
                    <a:lnTo>
                      <a:pt x="250" y="970"/>
                    </a:lnTo>
                    <a:lnTo>
                      <a:pt x="242" y="956"/>
                    </a:lnTo>
                    <a:lnTo>
                      <a:pt x="240" y="950"/>
                    </a:lnTo>
                    <a:lnTo>
                      <a:pt x="238" y="944"/>
                    </a:lnTo>
                    <a:lnTo>
                      <a:pt x="238" y="944"/>
                    </a:lnTo>
                    <a:lnTo>
                      <a:pt x="242" y="942"/>
                    </a:lnTo>
                    <a:lnTo>
                      <a:pt x="248" y="938"/>
                    </a:lnTo>
                    <a:lnTo>
                      <a:pt x="252" y="930"/>
                    </a:lnTo>
                    <a:lnTo>
                      <a:pt x="252" y="930"/>
                    </a:lnTo>
                    <a:lnTo>
                      <a:pt x="260" y="936"/>
                    </a:lnTo>
                    <a:lnTo>
                      <a:pt x="268" y="942"/>
                    </a:lnTo>
                    <a:lnTo>
                      <a:pt x="278" y="960"/>
                    </a:lnTo>
                    <a:lnTo>
                      <a:pt x="278" y="960"/>
                    </a:lnTo>
                    <a:lnTo>
                      <a:pt x="288" y="960"/>
                    </a:lnTo>
                    <a:lnTo>
                      <a:pt x="296" y="962"/>
                    </a:lnTo>
                    <a:lnTo>
                      <a:pt x="312" y="968"/>
                    </a:lnTo>
                    <a:lnTo>
                      <a:pt x="312" y="968"/>
                    </a:lnTo>
                    <a:lnTo>
                      <a:pt x="318" y="964"/>
                    </a:lnTo>
                    <a:lnTo>
                      <a:pt x="322" y="958"/>
                    </a:lnTo>
                    <a:lnTo>
                      <a:pt x="326" y="952"/>
                    </a:lnTo>
                    <a:lnTo>
                      <a:pt x="328" y="952"/>
                    </a:lnTo>
                    <a:lnTo>
                      <a:pt x="332" y="950"/>
                    </a:lnTo>
                    <a:lnTo>
                      <a:pt x="332" y="950"/>
                    </a:lnTo>
                    <a:lnTo>
                      <a:pt x="332" y="948"/>
                    </a:lnTo>
                    <a:lnTo>
                      <a:pt x="328" y="946"/>
                    </a:lnTo>
                    <a:lnTo>
                      <a:pt x="320" y="946"/>
                    </a:lnTo>
                    <a:lnTo>
                      <a:pt x="320" y="946"/>
                    </a:lnTo>
                    <a:lnTo>
                      <a:pt x="320" y="944"/>
                    </a:lnTo>
                    <a:lnTo>
                      <a:pt x="322" y="942"/>
                    </a:lnTo>
                    <a:lnTo>
                      <a:pt x="324" y="940"/>
                    </a:lnTo>
                    <a:lnTo>
                      <a:pt x="326" y="936"/>
                    </a:lnTo>
                    <a:lnTo>
                      <a:pt x="326" y="936"/>
                    </a:lnTo>
                    <a:lnTo>
                      <a:pt x="310" y="908"/>
                    </a:lnTo>
                    <a:lnTo>
                      <a:pt x="296" y="878"/>
                    </a:lnTo>
                    <a:lnTo>
                      <a:pt x="296" y="878"/>
                    </a:lnTo>
                    <a:lnTo>
                      <a:pt x="288" y="880"/>
                    </a:lnTo>
                    <a:lnTo>
                      <a:pt x="280" y="878"/>
                    </a:lnTo>
                    <a:lnTo>
                      <a:pt x="272" y="874"/>
                    </a:lnTo>
                    <a:lnTo>
                      <a:pt x="270" y="872"/>
                    </a:lnTo>
                    <a:lnTo>
                      <a:pt x="270" y="868"/>
                    </a:lnTo>
                    <a:lnTo>
                      <a:pt x="270" y="868"/>
                    </a:lnTo>
                    <a:lnTo>
                      <a:pt x="264" y="866"/>
                    </a:lnTo>
                    <a:lnTo>
                      <a:pt x="256" y="866"/>
                    </a:lnTo>
                    <a:lnTo>
                      <a:pt x="256" y="866"/>
                    </a:lnTo>
                    <a:lnTo>
                      <a:pt x="258" y="866"/>
                    </a:lnTo>
                    <a:lnTo>
                      <a:pt x="260" y="866"/>
                    </a:lnTo>
                    <a:lnTo>
                      <a:pt x="266" y="866"/>
                    </a:lnTo>
                    <a:lnTo>
                      <a:pt x="272" y="864"/>
                    </a:lnTo>
                    <a:lnTo>
                      <a:pt x="274" y="862"/>
                    </a:lnTo>
                    <a:lnTo>
                      <a:pt x="272" y="858"/>
                    </a:lnTo>
                    <a:lnTo>
                      <a:pt x="272" y="858"/>
                    </a:lnTo>
                    <a:lnTo>
                      <a:pt x="270" y="858"/>
                    </a:lnTo>
                    <a:lnTo>
                      <a:pt x="268" y="858"/>
                    </a:lnTo>
                    <a:lnTo>
                      <a:pt x="262" y="860"/>
                    </a:lnTo>
                    <a:lnTo>
                      <a:pt x="262" y="860"/>
                    </a:lnTo>
                    <a:lnTo>
                      <a:pt x="264" y="858"/>
                    </a:lnTo>
                    <a:lnTo>
                      <a:pt x="266" y="856"/>
                    </a:lnTo>
                    <a:lnTo>
                      <a:pt x="268" y="854"/>
                    </a:lnTo>
                    <a:lnTo>
                      <a:pt x="268" y="850"/>
                    </a:lnTo>
                    <a:lnTo>
                      <a:pt x="268" y="850"/>
                    </a:lnTo>
                    <a:lnTo>
                      <a:pt x="266" y="846"/>
                    </a:lnTo>
                    <a:lnTo>
                      <a:pt x="262" y="842"/>
                    </a:lnTo>
                    <a:lnTo>
                      <a:pt x="250" y="836"/>
                    </a:lnTo>
                    <a:lnTo>
                      <a:pt x="244" y="832"/>
                    </a:lnTo>
                    <a:lnTo>
                      <a:pt x="238" y="830"/>
                    </a:lnTo>
                    <a:lnTo>
                      <a:pt x="236" y="824"/>
                    </a:lnTo>
                    <a:lnTo>
                      <a:pt x="236" y="818"/>
                    </a:lnTo>
                    <a:lnTo>
                      <a:pt x="236" y="818"/>
                    </a:lnTo>
                    <a:lnTo>
                      <a:pt x="242" y="816"/>
                    </a:lnTo>
                    <a:lnTo>
                      <a:pt x="248" y="814"/>
                    </a:lnTo>
                    <a:lnTo>
                      <a:pt x="258" y="818"/>
                    </a:lnTo>
                    <a:lnTo>
                      <a:pt x="268" y="822"/>
                    </a:lnTo>
                    <a:lnTo>
                      <a:pt x="274" y="824"/>
                    </a:lnTo>
                    <a:lnTo>
                      <a:pt x="278" y="824"/>
                    </a:lnTo>
                    <a:lnTo>
                      <a:pt x="278" y="824"/>
                    </a:lnTo>
                    <a:lnTo>
                      <a:pt x="280" y="826"/>
                    </a:lnTo>
                    <a:lnTo>
                      <a:pt x="282" y="830"/>
                    </a:lnTo>
                    <a:lnTo>
                      <a:pt x="290" y="832"/>
                    </a:lnTo>
                    <a:lnTo>
                      <a:pt x="302" y="834"/>
                    </a:lnTo>
                    <a:lnTo>
                      <a:pt x="312" y="834"/>
                    </a:lnTo>
                    <a:lnTo>
                      <a:pt x="312" y="834"/>
                    </a:lnTo>
                    <a:lnTo>
                      <a:pt x="306" y="826"/>
                    </a:lnTo>
                    <a:lnTo>
                      <a:pt x="298" y="822"/>
                    </a:lnTo>
                    <a:lnTo>
                      <a:pt x="298" y="822"/>
                    </a:lnTo>
                    <a:lnTo>
                      <a:pt x="296" y="824"/>
                    </a:lnTo>
                    <a:lnTo>
                      <a:pt x="290" y="822"/>
                    </a:lnTo>
                    <a:lnTo>
                      <a:pt x="290" y="822"/>
                    </a:lnTo>
                    <a:lnTo>
                      <a:pt x="292" y="822"/>
                    </a:lnTo>
                    <a:lnTo>
                      <a:pt x="292" y="822"/>
                    </a:lnTo>
                    <a:lnTo>
                      <a:pt x="294" y="822"/>
                    </a:lnTo>
                    <a:lnTo>
                      <a:pt x="296" y="822"/>
                    </a:lnTo>
                    <a:lnTo>
                      <a:pt x="296" y="822"/>
                    </a:lnTo>
                    <a:lnTo>
                      <a:pt x="290" y="820"/>
                    </a:lnTo>
                    <a:lnTo>
                      <a:pt x="288" y="814"/>
                    </a:lnTo>
                    <a:lnTo>
                      <a:pt x="286" y="808"/>
                    </a:lnTo>
                    <a:lnTo>
                      <a:pt x="286" y="800"/>
                    </a:lnTo>
                    <a:lnTo>
                      <a:pt x="286" y="786"/>
                    </a:lnTo>
                    <a:lnTo>
                      <a:pt x="284" y="780"/>
                    </a:lnTo>
                    <a:lnTo>
                      <a:pt x="280" y="776"/>
                    </a:lnTo>
                    <a:lnTo>
                      <a:pt x="280" y="776"/>
                    </a:lnTo>
                    <a:lnTo>
                      <a:pt x="284" y="778"/>
                    </a:lnTo>
                    <a:lnTo>
                      <a:pt x="286" y="780"/>
                    </a:lnTo>
                    <a:lnTo>
                      <a:pt x="286" y="780"/>
                    </a:lnTo>
                    <a:lnTo>
                      <a:pt x="284" y="776"/>
                    </a:lnTo>
                    <a:lnTo>
                      <a:pt x="282" y="776"/>
                    </a:lnTo>
                    <a:lnTo>
                      <a:pt x="274" y="776"/>
                    </a:lnTo>
                    <a:lnTo>
                      <a:pt x="274" y="776"/>
                    </a:lnTo>
                    <a:lnTo>
                      <a:pt x="276" y="774"/>
                    </a:lnTo>
                    <a:lnTo>
                      <a:pt x="280" y="774"/>
                    </a:lnTo>
                    <a:lnTo>
                      <a:pt x="280" y="774"/>
                    </a:lnTo>
                    <a:lnTo>
                      <a:pt x="280" y="772"/>
                    </a:lnTo>
                    <a:lnTo>
                      <a:pt x="278" y="770"/>
                    </a:lnTo>
                    <a:lnTo>
                      <a:pt x="276" y="768"/>
                    </a:lnTo>
                    <a:lnTo>
                      <a:pt x="274" y="766"/>
                    </a:lnTo>
                    <a:lnTo>
                      <a:pt x="274" y="766"/>
                    </a:lnTo>
                    <a:lnTo>
                      <a:pt x="282" y="760"/>
                    </a:lnTo>
                    <a:lnTo>
                      <a:pt x="288" y="752"/>
                    </a:lnTo>
                    <a:lnTo>
                      <a:pt x="300" y="734"/>
                    </a:lnTo>
                    <a:lnTo>
                      <a:pt x="300" y="734"/>
                    </a:lnTo>
                    <a:lnTo>
                      <a:pt x="310" y="740"/>
                    </a:lnTo>
                    <a:lnTo>
                      <a:pt x="310" y="740"/>
                    </a:lnTo>
                    <a:lnTo>
                      <a:pt x="310" y="748"/>
                    </a:lnTo>
                    <a:lnTo>
                      <a:pt x="312" y="754"/>
                    </a:lnTo>
                    <a:lnTo>
                      <a:pt x="312" y="754"/>
                    </a:lnTo>
                    <a:lnTo>
                      <a:pt x="314" y="752"/>
                    </a:lnTo>
                    <a:lnTo>
                      <a:pt x="314" y="748"/>
                    </a:lnTo>
                    <a:lnTo>
                      <a:pt x="314" y="744"/>
                    </a:lnTo>
                    <a:lnTo>
                      <a:pt x="314" y="740"/>
                    </a:lnTo>
                    <a:lnTo>
                      <a:pt x="314" y="740"/>
                    </a:lnTo>
                    <a:lnTo>
                      <a:pt x="322" y="742"/>
                    </a:lnTo>
                    <a:lnTo>
                      <a:pt x="328" y="746"/>
                    </a:lnTo>
                    <a:lnTo>
                      <a:pt x="340" y="756"/>
                    </a:lnTo>
                    <a:lnTo>
                      <a:pt x="340" y="756"/>
                    </a:lnTo>
                    <a:lnTo>
                      <a:pt x="334" y="758"/>
                    </a:lnTo>
                    <a:lnTo>
                      <a:pt x="328" y="760"/>
                    </a:lnTo>
                    <a:lnTo>
                      <a:pt x="328" y="760"/>
                    </a:lnTo>
                    <a:lnTo>
                      <a:pt x="332" y="764"/>
                    </a:lnTo>
                    <a:lnTo>
                      <a:pt x="336" y="766"/>
                    </a:lnTo>
                    <a:lnTo>
                      <a:pt x="338" y="764"/>
                    </a:lnTo>
                    <a:lnTo>
                      <a:pt x="338" y="764"/>
                    </a:lnTo>
                    <a:lnTo>
                      <a:pt x="342" y="768"/>
                    </a:lnTo>
                    <a:lnTo>
                      <a:pt x="348" y="772"/>
                    </a:lnTo>
                    <a:lnTo>
                      <a:pt x="354" y="776"/>
                    </a:lnTo>
                    <a:lnTo>
                      <a:pt x="356" y="780"/>
                    </a:lnTo>
                    <a:lnTo>
                      <a:pt x="356" y="780"/>
                    </a:lnTo>
                    <a:lnTo>
                      <a:pt x="362" y="778"/>
                    </a:lnTo>
                    <a:lnTo>
                      <a:pt x="362" y="776"/>
                    </a:lnTo>
                    <a:lnTo>
                      <a:pt x="364" y="774"/>
                    </a:lnTo>
                    <a:lnTo>
                      <a:pt x="364" y="774"/>
                    </a:lnTo>
                    <a:lnTo>
                      <a:pt x="364" y="776"/>
                    </a:lnTo>
                    <a:lnTo>
                      <a:pt x="364" y="780"/>
                    </a:lnTo>
                    <a:lnTo>
                      <a:pt x="360" y="782"/>
                    </a:lnTo>
                    <a:lnTo>
                      <a:pt x="360" y="782"/>
                    </a:lnTo>
                    <a:lnTo>
                      <a:pt x="360" y="786"/>
                    </a:lnTo>
                    <a:lnTo>
                      <a:pt x="360" y="790"/>
                    </a:lnTo>
                    <a:lnTo>
                      <a:pt x="360" y="790"/>
                    </a:lnTo>
                    <a:lnTo>
                      <a:pt x="356" y="794"/>
                    </a:lnTo>
                    <a:lnTo>
                      <a:pt x="354" y="796"/>
                    </a:lnTo>
                    <a:lnTo>
                      <a:pt x="352" y="796"/>
                    </a:lnTo>
                    <a:lnTo>
                      <a:pt x="352" y="796"/>
                    </a:lnTo>
                    <a:lnTo>
                      <a:pt x="356" y="812"/>
                    </a:lnTo>
                    <a:lnTo>
                      <a:pt x="364" y="828"/>
                    </a:lnTo>
                    <a:lnTo>
                      <a:pt x="372" y="842"/>
                    </a:lnTo>
                    <a:lnTo>
                      <a:pt x="376" y="848"/>
                    </a:lnTo>
                    <a:lnTo>
                      <a:pt x="382" y="852"/>
                    </a:lnTo>
                    <a:lnTo>
                      <a:pt x="382" y="852"/>
                    </a:lnTo>
                    <a:lnTo>
                      <a:pt x="390" y="850"/>
                    </a:lnTo>
                    <a:lnTo>
                      <a:pt x="394" y="852"/>
                    </a:lnTo>
                    <a:lnTo>
                      <a:pt x="396" y="854"/>
                    </a:lnTo>
                    <a:lnTo>
                      <a:pt x="396" y="854"/>
                    </a:lnTo>
                    <a:lnTo>
                      <a:pt x="402" y="854"/>
                    </a:lnTo>
                    <a:lnTo>
                      <a:pt x="406" y="852"/>
                    </a:lnTo>
                    <a:lnTo>
                      <a:pt x="412" y="846"/>
                    </a:lnTo>
                    <a:lnTo>
                      <a:pt x="418" y="840"/>
                    </a:lnTo>
                    <a:lnTo>
                      <a:pt x="424" y="834"/>
                    </a:lnTo>
                    <a:lnTo>
                      <a:pt x="424" y="834"/>
                    </a:lnTo>
                    <a:lnTo>
                      <a:pt x="418" y="834"/>
                    </a:lnTo>
                    <a:lnTo>
                      <a:pt x="412" y="832"/>
                    </a:lnTo>
                    <a:lnTo>
                      <a:pt x="404" y="828"/>
                    </a:lnTo>
                    <a:lnTo>
                      <a:pt x="396" y="824"/>
                    </a:lnTo>
                    <a:lnTo>
                      <a:pt x="390" y="822"/>
                    </a:lnTo>
                    <a:lnTo>
                      <a:pt x="382" y="822"/>
                    </a:lnTo>
                    <a:lnTo>
                      <a:pt x="382" y="822"/>
                    </a:lnTo>
                    <a:lnTo>
                      <a:pt x="380" y="820"/>
                    </a:lnTo>
                    <a:lnTo>
                      <a:pt x="380" y="816"/>
                    </a:lnTo>
                    <a:lnTo>
                      <a:pt x="380" y="812"/>
                    </a:lnTo>
                    <a:lnTo>
                      <a:pt x="380" y="808"/>
                    </a:lnTo>
                    <a:lnTo>
                      <a:pt x="380" y="808"/>
                    </a:lnTo>
                    <a:lnTo>
                      <a:pt x="388" y="806"/>
                    </a:lnTo>
                    <a:lnTo>
                      <a:pt x="394" y="806"/>
                    </a:lnTo>
                    <a:lnTo>
                      <a:pt x="406" y="812"/>
                    </a:lnTo>
                    <a:lnTo>
                      <a:pt x="418" y="816"/>
                    </a:lnTo>
                    <a:lnTo>
                      <a:pt x="424" y="818"/>
                    </a:lnTo>
                    <a:lnTo>
                      <a:pt x="430" y="818"/>
                    </a:lnTo>
                    <a:lnTo>
                      <a:pt x="430" y="818"/>
                    </a:lnTo>
                    <a:lnTo>
                      <a:pt x="432" y="822"/>
                    </a:lnTo>
                    <a:lnTo>
                      <a:pt x="432" y="828"/>
                    </a:lnTo>
                    <a:lnTo>
                      <a:pt x="430" y="832"/>
                    </a:lnTo>
                    <a:lnTo>
                      <a:pt x="424" y="834"/>
                    </a:lnTo>
                    <a:lnTo>
                      <a:pt x="424" y="834"/>
                    </a:lnTo>
                    <a:lnTo>
                      <a:pt x="430" y="838"/>
                    </a:lnTo>
                    <a:lnTo>
                      <a:pt x="432" y="844"/>
                    </a:lnTo>
                    <a:lnTo>
                      <a:pt x="432" y="850"/>
                    </a:lnTo>
                    <a:lnTo>
                      <a:pt x="428" y="856"/>
                    </a:lnTo>
                    <a:lnTo>
                      <a:pt x="424" y="860"/>
                    </a:lnTo>
                    <a:lnTo>
                      <a:pt x="418" y="866"/>
                    </a:lnTo>
                    <a:lnTo>
                      <a:pt x="410" y="868"/>
                    </a:lnTo>
                    <a:lnTo>
                      <a:pt x="404" y="870"/>
                    </a:lnTo>
                    <a:lnTo>
                      <a:pt x="404" y="870"/>
                    </a:lnTo>
                    <a:lnTo>
                      <a:pt x="410" y="876"/>
                    </a:lnTo>
                    <a:lnTo>
                      <a:pt x="416" y="882"/>
                    </a:lnTo>
                    <a:lnTo>
                      <a:pt x="430" y="892"/>
                    </a:lnTo>
                    <a:lnTo>
                      <a:pt x="430" y="892"/>
                    </a:lnTo>
                    <a:lnTo>
                      <a:pt x="440" y="888"/>
                    </a:lnTo>
                    <a:lnTo>
                      <a:pt x="454" y="886"/>
                    </a:lnTo>
                    <a:lnTo>
                      <a:pt x="454" y="886"/>
                    </a:lnTo>
                    <a:lnTo>
                      <a:pt x="456" y="890"/>
                    </a:lnTo>
                    <a:lnTo>
                      <a:pt x="456" y="894"/>
                    </a:lnTo>
                    <a:lnTo>
                      <a:pt x="456" y="894"/>
                    </a:lnTo>
                    <a:lnTo>
                      <a:pt x="452" y="898"/>
                    </a:lnTo>
                    <a:lnTo>
                      <a:pt x="446" y="900"/>
                    </a:lnTo>
                    <a:lnTo>
                      <a:pt x="446" y="900"/>
                    </a:lnTo>
                    <a:lnTo>
                      <a:pt x="448" y="902"/>
                    </a:lnTo>
                    <a:lnTo>
                      <a:pt x="450" y="902"/>
                    </a:lnTo>
                    <a:lnTo>
                      <a:pt x="456" y="906"/>
                    </a:lnTo>
                    <a:lnTo>
                      <a:pt x="456" y="906"/>
                    </a:lnTo>
                    <a:lnTo>
                      <a:pt x="462" y="902"/>
                    </a:lnTo>
                    <a:lnTo>
                      <a:pt x="464" y="898"/>
                    </a:lnTo>
                    <a:lnTo>
                      <a:pt x="464" y="894"/>
                    </a:lnTo>
                    <a:lnTo>
                      <a:pt x="462" y="890"/>
                    </a:lnTo>
                    <a:lnTo>
                      <a:pt x="454" y="882"/>
                    </a:lnTo>
                    <a:lnTo>
                      <a:pt x="452" y="878"/>
                    </a:lnTo>
                    <a:lnTo>
                      <a:pt x="450" y="874"/>
                    </a:lnTo>
                    <a:lnTo>
                      <a:pt x="450" y="874"/>
                    </a:lnTo>
                    <a:lnTo>
                      <a:pt x="452" y="866"/>
                    </a:lnTo>
                    <a:lnTo>
                      <a:pt x="456" y="862"/>
                    </a:lnTo>
                    <a:lnTo>
                      <a:pt x="464" y="858"/>
                    </a:lnTo>
                    <a:lnTo>
                      <a:pt x="472" y="856"/>
                    </a:lnTo>
                    <a:lnTo>
                      <a:pt x="482" y="856"/>
                    </a:lnTo>
                    <a:lnTo>
                      <a:pt x="490" y="858"/>
                    </a:lnTo>
                    <a:lnTo>
                      <a:pt x="498" y="862"/>
                    </a:lnTo>
                    <a:lnTo>
                      <a:pt x="504" y="868"/>
                    </a:lnTo>
                    <a:lnTo>
                      <a:pt x="504" y="868"/>
                    </a:lnTo>
                    <a:lnTo>
                      <a:pt x="506" y="874"/>
                    </a:lnTo>
                    <a:lnTo>
                      <a:pt x="506" y="878"/>
                    </a:lnTo>
                    <a:lnTo>
                      <a:pt x="508" y="884"/>
                    </a:lnTo>
                    <a:lnTo>
                      <a:pt x="512" y="888"/>
                    </a:lnTo>
                    <a:lnTo>
                      <a:pt x="512" y="888"/>
                    </a:lnTo>
                    <a:lnTo>
                      <a:pt x="518" y="888"/>
                    </a:lnTo>
                    <a:lnTo>
                      <a:pt x="526" y="886"/>
                    </a:lnTo>
                    <a:lnTo>
                      <a:pt x="540" y="882"/>
                    </a:lnTo>
                    <a:lnTo>
                      <a:pt x="540" y="882"/>
                    </a:lnTo>
                    <a:lnTo>
                      <a:pt x="536" y="880"/>
                    </a:lnTo>
                    <a:lnTo>
                      <a:pt x="530" y="880"/>
                    </a:lnTo>
                    <a:lnTo>
                      <a:pt x="526" y="878"/>
                    </a:lnTo>
                    <a:lnTo>
                      <a:pt x="522" y="878"/>
                    </a:lnTo>
                    <a:lnTo>
                      <a:pt x="522" y="878"/>
                    </a:lnTo>
                    <a:lnTo>
                      <a:pt x="526" y="878"/>
                    </a:lnTo>
                    <a:lnTo>
                      <a:pt x="534" y="878"/>
                    </a:lnTo>
                    <a:lnTo>
                      <a:pt x="540" y="880"/>
                    </a:lnTo>
                    <a:lnTo>
                      <a:pt x="546" y="878"/>
                    </a:lnTo>
                    <a:lnTo>
                      <a:pt x="546" y="878"/>
                    </a:lnTo>
                    <a:lnTo>
                      <a:pt x="528" y="856"/>
                    </a:lnTo>
                    <a:lnTo>
                      <a:pt x="508" y="834"/>
                    </a:lnTo>
                    <a:lnTo>
                      <a:pt x="508" y="834"/>
                    </a:lnTo>
                    <a:lnTo>
                      <a:pt x="504" y="838"/>
                    </a:lnTo>
                    <a:lnTo>
                      <a:pt x="500" y="840"/>
                    </a:lnTo>
                    <a:lnTo>
                      <a:pt x="492" y="840"/>
                    </a:lnTo>
                    <a:lnTo>
                      <a:pt x="490" y="840"/>
                    </a:lnTo>
                    <a:lnTo>
                      <a:pt x="486" y="838"/>
                    </a:lnTo>
                    <a:lnTo>
                      <a:pt x="486" y="834"/>
                    </a:lnTo>
                    <a:lnTo>
                      <a:pt x="488" y="830"/>
                    </a:lnTo>
                    <a:lnTo>
                      <a:pt x="488" y="830"/>
                    </a:lnTo>
                    <a:lnTo>
                      <a:pt x="482" y="826"/>
                    </a:lnTo>
                    <a:lnTo>
                      <a:pt x="478" y="824"/>
                    </a:lnTo>
                    <a:lnTo>
                      <a:pt x="472" y="816"/>
                    </a:lnTo>
                    <a:lnTo>
                      <a:pt x="466" y="806"/>
                    </a:lnTo>
                    <a:lnTo>
                      <a:pt x="462" y="802"/>
                    </a:lnTo>
                    <a:lnTo>
                      <a:pt x="456" y="800"/>
                    </a:lnTo>
                    <a:lnTo>
                      <a:pt x="456" y="800"/>
                    </a:lnTo>
                    <a:lnTo>
                      <a:pt x="466" y="800"/>
                    </a:lnTo>
                    <a:lnTo>
                      <a:pt x="472" y="800"/>
                    </a:lnTo>
                    <a:lnTo>
                      <a:pt x="476" y="798"/>
                    </a:lnTo>
                    <a:lnTo>
                      <a:pt x="476" y="798"/>
                    </a:lnTo>
                    <a:lnTo>
                      <a:pt x="466" y="792"/>
                    </a:lnTo>
                    <a:lnTo>
                      <a:pt x="456" y="784"/>
                    </a:lnTo>
                    <a:lnTo>
                      <a:pt x="456" y="784"/>
                    </a:lnTo>
                    <a:lnTo>
                      <a:pt x="452" y="784"/>
                    </a:lnTo>
                    <a:lnTo>
                      <a:pt x="452" y="788"/>
                    </a:lnTo>
                    <a:lnTo>
                      <a:pt x="448" y="792"/>
                    </a:lnTo>
                    <a:lnTo>
                      <a:pt x="448" y="792"/>
                    </a:lnTo>
                    <a:lnTo>
                      <a:pt x="436" y="802"/>
                    </a:lnTo>
                    <a:lnTo>
                      <a:pt x="436" y="802"/>
                    </a:lnTo>
                    <a:lnTo>
                      <a:pt x="432" y="804"/>
                    </a:lnTo>
                    <a:lnTo>
                      <a:pt x="434" y="804"/>
                    </a:lnTo>
                    <a:lnTo>
                      <a:pt x="440" y="798"/>
                    </a:lnTo>
                    <a:lnTo>
                      <a:pt x="440" y="798"/>
                    </a:lnTo>
                    <a:lnTo>
                      <a:pt x="446" y="792"/>
                    </a:lnTo>
                    <a:lnTo>
                      <a:pt x="452" y="784"/>
                    </a:lnTo>
                    <a:lnTo>
                      <a:pt x="452" y="784"/>
                    </a:lnTo>
                    <a:lnTo>
                      <a:pt x="450" y="780"/>
                    </a:lnTo>
                    <a:lnTo>
                      <a:pt x="448" y="778"/>
                    </a:lnTo>
                    <a:lnTo>
                      <a:pt x="442" y="774"/>
                    </a:lnTo>
                    <a:lnTo>
                      <a:pt x="438" y="772"/>
                    </a:lnTo>
                    <a:lnTo>
                      <a:pt x="436" y="768"/>
                    </a:lnTo>
                    <a:lnTo>
                      <a:pt x="434" y="766"/>
                    </a:lnTo>
                    <a:lnTo>
                      <a:pt x="434" y="766"/>
                    </a:lnTo>
                    <a:lnTo>
                      <a:pt x="446" y="774"/>
                    </a:lnTo>
                    <a:lnTo>
                      <a:pt x="458" y="784"/>
                    </a:lnTo>
                    <a:lnTo>
                      <a:pt x="458" y="784"/>
                    </a:lnTo>
                    <a:lnTo>
                      <a:pt x="460" y="782"/>
                    </a:lnTo>
                    <a:lnTo>
                      <a:pt x="462" y="780"/>
                    </a:lnTo>
                    <a:lnTo>
                      <a:pt x="464" y="780"/>
                    </a:lnTo>
                    <a:lnTo>
                      <a:pt x="464" y="780"/>
                    </a:lnTo>
                    <a:lnTo>
                      <a:pt x="458" y="778"/>
                    </a:lnTo>
                    <a:lnTo>
                      <a:pt x="454" y="772"/>
                    </a:lnTo>
                    <a:lnTo>
                      <a:pt x="452" y="766"/>
                    </a:lnTo>
                    <a:lnTo>
                      <a:pt x="454" y="760"/>
                    </a:lnTo>
                    <a:lnTo>
                      <a:pt x="456" y="754"/>
                    </a:lnTo>
                    <a:lnTo>
                      <a:pt x="460" y="750"/>
                    </a:lnTo>
                    <a:lnTo>
                      <a:pt x="464" y="748"/>
                    </a:lnTo>
                    <a:lnTo>
                      <a:pt x="470" y="746"/>
                    </a:lnTo>
                    <a:lnTo>
                      <a:pt x="470" y="746"/>
                    </a:lnTo>
                    <a:lnTo>
                      <a:pt x="476" y="748"/>
                    </a:lnTo>
                    <a:lnTo>
                      <a:pt x="482" y="754"/>
                    </a:lnTo>
                    <a:lnTo>
                      <a:pt x="492" y="770"/>
                    </a:lnTo>
                    <a:lnTo>
                      <a:pt x="496" y="778"/>
                    </a:lnTo>
                    <a:lnTo>
                      <a:pt x="502" y="782"/>
                    </a:lnTo>
                    <a:lnTo>
                      <a:pt x="506" y="782"/>
                    </a:lnTo>
                    <a:lnTo>
                      <a:pt x="508" y="782"/>
                    </a:lnTo>
                    <a:lnTo>
                      <a:pt x="516" y="776"/>
                    </a:lnTo>
                    <a:lnTo>
                      <a:pt x="516" y="776"/>
                    </a:lnTo>
                    <a:lnTo>
                      <a:pt x="512" y="772"/>
                    </a:lnTo>
                    <a:lnTo>
                      <a:pt x="506" y="770"/>
                    </a:lnTo>
                    <a:lnTo>
                      <a:pt x="500" y="768"/>
                    </a:lnTo>
                    <a:lnTo>
                      <a:pt x="498" y="766"/>
                    </a:lnTo>
                    <a:lnTo>
                      <a:pt x="496" y="764"/>
                    </a:lnTo>
                    <a:lnTo>
                      <a:pt x="496" y="764"/>
                    </a:lnTo>
                    <a:lnTo>
                      <a:pt x="506" y="768"/>
                    </a:lnTo>
                    <a:lnTo>
                      <a:pt x="516" y="774"/>
                    </a:lnTo>
                    <a:lnTo>
                      <a:pt x="516" y="774"/>
                    </a:lnTo>
                    <a:lnTo>
                      <a:pt x="520" y="772"/>
                    </a:lnTo>
                    <a:lnTo>
                      <a:pt x="524" y="768"/>
                    </a:lnTo>
                    <a:lnTo>
                      <a:pt x="528" y="762"/>
                    </a:lnTo>
                    <a:lnTo>
                      <a:pt x="528" y="762"/>
                    </a:lnTo>
                    <a:lnTo>
                      <a:pt x="512" y="728"/>
                    </a:lnTo>
                    <a:lnTo>
                      <a:pt x="498" y="692"/>
                    </a:lnTo>
                    <a:lnTo>
                      <a:pt x="498" y="692"/>
                    </a:lnTo>
                    <a:lnTo>
                      <a:pt x="494" y="696"/>
                    </a:lnTo>
                    <a:lnTo>
                      <a:pt x="490" y="696"/>
                    </a:lnTo>
                    <a:lnTo>
                      <a:pt x="482" y="696"/>
                    </a:lnTo>
                    <a:lnTo>
                      <a:pt x="482" y="696"/>
                    </a:lnTo>
                    <a:lnTo>
                      <a:pt x="484" y="692"/>
                    </a:lnTo>
                    <a:lnTo>
                      <a:pt x="484" y="688"/>
                    </a:lnTo>
                    <a:lnTo>
                      <a:pt x="484" y="684"/>
                    </a:lnTo>
                    <a:lnTo>
                      <a:pt x="486" y="682"/>
                    </a:lnTo>
                    <a:lnTo>
                      <a:pt x="488" y="680"/>
                    </a:lnTo>
                    <a:lnTo>
                      <a:pt x="488" y="680"/>
                    </a:lnTo>
                    <a:lnTo>
                      <a:pt x="484" y="676"/>
                    </a:lnTo>
                    <a:lnTo>
                      <a:pt x="484" y="672"/>
                    </a:lnTo>
                    <a:lnTo>
                      <a:pt x="482" y="668"/>
                    </a:lnTo>
                    <a:lnTo>
                      <a:pt x="482" y="668"/>
                    </a:lnTo>
                    <a:lnTo>
                      <a:pt x="486" y="674"/>
                    </a:lnTo>
                    <a:lnTo>
                      <a:pt x="490" y="680"/>
                    </a:lnTo>
                    <a:lnTo>
                      <a:pt x="490" y="680"/>
                    </a:lnTo>
                    <a:lnTo>
                      <a:pt x="490" y="676"/>
                    </a:lnTo>
                    <a:lnTo>
                      <a:pt x="488" y="674"/>
                    </a:lnTo>
                    <a:lnTo>
                      <a:pt x="486" y="670"/>
                    </a:lnTo>
                    <a:lnTo>
                      <a:pt x="486" y="666"/>
                    </a:lnTo>
                    <a:lnTo>
                      <a:pt x="486" y="666"/>
                    </a:lnTo>
                    <a:lnTo>
                      <a:pt x="492" y="678"/>
                    </a:lnTo>
                    <a:lnTo>
                      <a:pt x="492" y="678"/>
                    </a:lnTo>
                    <a:lnTo>
                      <a:pt x="500" y="674"/>
                    </a:lnTo>
                    <a:lnTo>
                      <a:pt x="510" y="674"/>
                    </a:lnTo>
                    <a:lnTo>
                      <a:pt x="518" y="672"/>
                    </a:lnTo>
                    <a:lnTo>
                      <a:pt x="526" y="668"/>
                    </a:lnTo>
                    <a:lnTo>
                      <a:pt x="526" y="668"/>
                    </a:lnTo>
                    <a:lnTo>
                      <a:pt x="528" y="662"/>
                    </a:lnTo>
                    <a:lnTo>
                      <a:pt x="530" y="658"/>
                    </a:lnTo>
                    <a:lnTo>
                      <a:pt x="534" y="654"/>
                    </a:lnTo>
                    <a:lnTo>
                      <a:pt x="538" y="652"/>
                    </a:lnTo>
                    <a:lnTo>
                      <a:pt x="544" y="654"/>
                    </a:lnTo>
                    <a:lnTo>
                      <a:pt x="550" y="658"/>
                    </a:lnTo>
                    <a:lnTo>
                      <a:pt x="554" y="664"/>
                    </a:lnTo>
                    <a:lnTo>
                      <a:pt x="554" y="672"/>
                    </a:lnTo>
                    <a:lnTo>
                      <a:pt x="552" y="674"/>
                    </a:lnTo>
                    <a:lnTo>
                      <a:pt x="550" y="678"/>
                    </a:lnTo>
                    <a:lnTo>
                      <a:pt x="544" y="678"/>
                    </a:lnTo>
                    <a:lnTo>
                      <a:pt x="538" y="680"/>
                    </a:lnTo>
                    <a:lnTo>
                      <a:pt x="538" y="680"/>
                    </a:lnTo>
                    <a:lnTo>
                      <a:pt x="530" y="684"/>
                    </a:lnTo>
                    <a:lnTo>
                      <a:pt x="520" y="686"/>
                    </a:lnTo>
                    <a:lnTo>
                      <a:pt x="498" y="692"/>
                    </a:lnTo>
                    <a:lnTo>
                      <a:pt x="498" y="692"/>
                    </a:lnTo>
                    <a:lnTo>
                      <a:pt x="514" y="724"/>
                    </a:lnTo>
                    <a:lnTo>
                      <a:pt x="530" y="758"/>
                    </a:lnTo>
                    <a:lnTo>
                      <a:pt x="530" y="758"/>
                    </a:lnTo>
                    <a:lnTo>
                      <a:pt x="536" y="754"/>
                    </a:lnTo>
                    <a:lnTo>
                      <a:pt x="538" y="750"/>
                    </a:lnTo>
                    <a:lnTo>
                      <a:pt x="538" y="750"/>
                    </a:lnTo>
                    <a:lnTo>
                      <a:pt x="536" y="752"/>
                    </a:lnTo>
                    <a:lnTo>
                      <a:pt x="532" y="752"/>
                    </a:lnTo>
                    <a:lnTo>
                      <a:pt x="532" y="752"/>
                    </a:lnTo>
                    <a:lnTo>
                      <a:pt x="538" y="748"/>
                    </a:lnTo>
                    <a:lnTo>
                      <a:pt x="548" y="744"/>
                    </a:lnTo>
                    <a:lnTo>
                      <a:pt x="548" y="744"/>
                    </a:lnTo>
                    <a:lnTo>
                      <a:pt x="544" y="740"/>
                    </a:lnTo>
                    <a:lnTo>
                      <a:pt x="540" y="736"/>
                    </a:lnTo>
                    <a:lnTo>
                      <a:pt x="530" y="732"/>
                    </a:lnTo>
                    <a:lnTo>
                      <a:pt x="524" y="728"/>
                    </a:lnTo>
                    <a:lnTo>
                      <a:pt x="522" y="724"/>
                    </a:lnTo>
                    <a:lnTo>
                      <a:pt x="520" y="720"/>
                    </a:lnTo>
                    <a:lnTo>
                      <a:pt x="522" y="714"/>
                    </a:lnTo>
                    <a:lnTo>
                      <a:pt x="522" y="714"/>
                    </a:lnTo>
                    <a:lnTo>
                      <a:pt x="532" y="718"/>
                    </a:lnTo>
                    <a:lnTo>
                      <a:pt x="540" y="722"/>
                    </a:lnTo>
                    <a:lnTo>
                      <a:pt x="556" y="736"/>
                    </a:lnTo>
                    <a:lnTo>
                      <a:pt x="564" y="742"/>
                    </a:lnTo>
                    <a:lnTo>
                      <a:pt x="572" y="748"/>
                    </a:lnTo>
                    <a:lnTo>
                      <a:pt x="580" y="752"/>
                    </a:lnTo>
                    <a:lnTo>
                      <a:pt x="592" y="756"/>
                    </a:lnTo>
                    <a:lnTo>
                      <a:pt x="592" y="756"/>
                    </a:lnTo>
                    <a:lnTo>
                      <a:pt x="596" y="752"/>
                    </a:lnTo>
                    <a:lnTo>
                      <a:pt x="596" y="748"/>
                    </a:lnTo>
                    <a:lnTo>
                      <a:pt x="596" y="738"/>
                    </a:lnTo>
                    <a:lnTo>
                      <a:pt x="596" y="738"/>
                    </a:lnTo>
                    <a:lnTo>
                      <a:pt x="588" y="738"/>
                    </a:lnTo>
                    <a:lnTo>
                      <a:pt x="588" y="738"/>
                    </a:lnTo>
                    <a:lnTo>
                      <a:pt x="586" y="736"/>
                    </a:lnTo>
                    <a:lnTo>
                      <a:pt x="588" y="736"/>
                    </a:lnTo>
                    <a:lnTo>
                      <a:pt x="594" y="736"/>
                    </a:lnTo>
                    <a:lnTo>
                      <a:pt x="594" y="736"/>
                    </a:lnTo>
                    <a:lnTo>
                      <a:pt x="592" y="730"/>
                    </a:lnTo>
                    <a:lnTo>
                      <a:pt x="588" y="726"/>
                    </a:lnTo>
                    <a:lnTo>
                      <a:pt x="582" y="714"/>
                    </a:lnTo>
                    <a:lnTo>
                      <a:pt x="578" y="710"/>
                    </a:lnTo>
                    <a:lnTo>
                      <a:pt x="580" y="706"/>
                    </a:lnTo>
                    <a:lnTo>
                      <a:pt x="584" y="702"/>
                    </a:lnTo>
                    <a:lnTo>
                      <a:pt x="592" y="700"/>
                    </a:lnTo>
                    <a:lnTo>
                      <a:pt x="592" y="700"/>
                    </a:lnTo>
                    <a:lnTo>
                      <a:pt x="580" y="678"/>
                    </a:lnTo>
                    <a:lnTo>
                      <a:pt x="580" y="678"/>
                    </a:lnTo>
                    <a:lnTo>
                      <a:pt x="584" y="682"/>
                    </a:lnTo>
                    <a:lnTo>
                      <a:pt x="588" y="686"/>
                    </a:lnTo>
                    <a:lnTo>
                      <a:pt x="594" y="698"/>
                    </a:lnTo>
                    <a:lnTo>
                      <a:pt x="594" y="698"/>
                    </a:lnTo>
                    <a:lnTo>
                      <a:pt x="600" y="698"/>
                    </a:lnTo>
                    <a:lnTo>
                      <a:pt x="604" y="700"/>
                    </a:lnTo>
                    <a:lnTo>
                      <a:pt x="606" y="704"/>
                    </a:lnTo>
                    <a:lnTo>
                      <a:pt x="608" y="706"/>
                    </a:lnTo>
                    <a:lnTo>
                      <a:pt x="610" y="716"/>
                    </a:lnTo>
                    <a:lnTo>
                      <a:pt x="612" y="724"/>
                    </a:lnTo>
                    <a:lnTo>
                      <a:pt x="612" y="724"/>
                    </a:lnTo>
                    <a:lnTo>
                      <a:pt x="618" y="716"/>
                    </a:lnTo>
                    <a:lnTo>
                      <a:pt x="624" y="706"/>
                    </a:lnTo>
                    <a:lnTo>
                      <a:pt x="624" y="706"/>
                    </a:lnTo>
                    <a:lnTo>
                      <a:pt x="626" y="706"/>
                    </a:lnTo>
                    <a:lnTo>
                      <a:pt x="624" y="708"/>
                    </a:lnTo>
                    <a:lnTo>
                      <a:pt x="624" y="712"/>
                    </a:lnTo>
                    <a:lnTo>
                      <a:pt x="624" y="712"/>
                    </a:lnTo>
                    <a:lnTo>
                      <a:pt x="628" y="708"/>
                    </a:lnTo>
                    <a:lnTo>
                      <a:pt x="632" y="704"/>
                    </a:lnTo>
                    <a:lnTo>
                      <a:pt x="632" y="704"/>
                    </a:lnTo>
                    <a:lnTo>
                      <a:pt x="630" y="700"/>
                    </a:lnTo>
                    <a:lnTo>
                      <a:pt x="630" y="698"/>
                    </a:lnTo>
                    <a:lnTo>
                      <a:pt x="626" y="692"/>
                    </a:lnTo>
                    <a:lnTo>
                      <a:pt x="626" y="692"/>
                    </a:lnTo>
                    <a:lnTo>
                      <a:pt x="636" y="696"/>
                    </a:lnTo>
                    <a:lnTo>
                      <a:pt x="644" y="700"/>
                    </a:lnTo>
                    <a:lnTo>
                      <a:pt x="644" y="700"/>
                    </a:lnTo>
                    <a:lnTo>
                      <a:pt x="644" y="696"/>
                    </a:lnTo>
                    <a:lnTo>
                      <a:pt x="642" y="692"/>
                    </a:lnTo>
                    <a:lnTo>
                      <a:pt x="640" y="686"/>
                    </a:lnTo>
                    <a:lnTo>
                      <a:pt x="640" y="686"/>
                    </a:lnTo>
                    <a:lnTo>
                      <a:pt x="640" y="686"/>
                    </a:lnTo>
                    <a:lnTo>
                      <a:pt x="642" y="688"/>
                    </a:lnTo>
                    <a:lnTo>
                      <a:pt x="644" y="692"/>
                    </a:lnTo>
                    <a:lnTo>
                      <a:pt x="644" y="692"/>
                    </a:lnTo>
                    <a:lnTo>
                      <a:pt x="644" y="692"/>
                    </a:lnTo>
                    <a:lnTo>
                      <a:pt x="644" y="690"/>
                    </a:lnTo>
                    <a:lnTo>
                      <a:pt x="644" y="690"/>
                    </a:lnTo>
                    <a:lnTo>
                      <a:pt x="648" y="692"/>
                    </a:lnTo>
                    <a:lnTo>
                      <a:pt x="648" y="696"/>
                    </a:lnTo>
                    <a:lnTo>
                      <a:pt x="648" y="702"/>
                    </a:lnTo>
                    <a:lnTo>
                      <a:pt x="650" y="704"/>
                    </a:lnTo>
                    <a:lnTo>
                      <a:pt x="650" y="704"/>
                    </a:lnTo>
                    <a:lnTo>
                      <a:pt x="656" y="698"/>
                    </a:lnTo>
                    <a:lnTo>
                      <a:pt x="660" y="690"/>
                    </a:lnTo>
                    <a:lnTo>
                      <a:pt x="666" y="682"/>
                    </a:lnTo>
                    <a:lnTo>
                      <a:pt x="672" y="676"/>
                    </a:lnTo>
                    <a:lnTo>
                      <a:pt x="672" y="676"/>
                    </a:lnTo>
                    <a:lnTo>
                      <a:pt x="672" y="672"/>
                    </a:lnTo>
                    <a:lnTo>
                      <a:pt x="672" y="672"/>
                    </a:lnTo>
                    <a:lnTo>
                      <a:pt x="674" y="672"/>
                    </a:lnTo>
                    <a:lnTo>
                      <a:pt x="674" y="674"/>
                    </a:lnTo>
                    <a:lnTo>
                      <a:pt x="674" y="676"/>
                    </a:lnTo>
                    <a:lnTo>
                      <a:pt x="676" y="676"/>
                    </a:lnTo>
                    <a:lnTo>
                      <a:pt x="676" y="676"/>
                    </a:lnTo>
                    <a:lnTo>
                      <a:pt x="668" y="658"/>
                    </a:lnTo>
                    <a:lnTo>
                      <a:pt x="662" y="648"/>
                    </a:lnTo>
                    <a:lnTo>
                      <a:pt x="656" y="640"/>
                    </a:lnTo>
                    <a:lnTo>
                      <a:pt x="656" y="640"/>
                    </a:lnTo>
                    <a:lnTo>
                      <a:pt x="656" y="636"/>
                    </a:lnTo>
                    <a:lnTo>
                      <a:pt x="656" y="636"/>
                    </a:lnTo>
                    <a:lnTo>
                      <a:pt x="644" y="634"/>
                    </a:lnTo>
                    <a:lnTo>
                      <a:pt x="644" y="634"/>
                    </a:lnTo>
                    <a:lnTo>
                      <a:pt x="646" y="632"/>
                    </a:lnTo>
                    <a:lnTo>
                      <a:pt x="648" y="632"/>
                    </a:lnTo>
                    <a:lnTo>
                      <a:pt x="648" y="632"/>
                    </a:lnTo>
                    <a:lnTo>
                      <a:pt x="640" y="626"/>
                    </a:lnTo>
                    <a:lnTo>
                      <a:pt x="630" y="622"/>
                    </a:lnTo>
                    <a:lnTo>
                      <a:pt x="618" y="616"/>
                    </a:lnTo>
                    <a:lnTo>
                      <a:pt x="614" y="612"/>
                    </a:lnTo>
                    <a:lnTo>
                      <a:pt x="610" y="608"/>
                    </a:lnTo>
                    <a:lnTo>
                      <a:pt x="610" y="608"/>
                    </a:lnTo>
                    <a:lnTo>
                      <a:pt x="606" y="610"/>
                    </a:lnTo>
                    <a:lnTo>
                      <a:pt x="600" y="616"/>
                    </a:lnTo>
                    <a:lnTo>
                      <a:pt x="588" y="628"/>
                    </a:lnTo>
                    <a:lnTo>
                      <a:pt x="576" y="642"/>
                    </a:lnTo>
                    <a:lnTo>
                      <a:pt x="570" y="646"/>
                    </a:lnTo>
                    <a:lnTo>
                      <a:pt x="564" y="650"/>
                    </a:lnTo>
                    <a:lnTo>
                      <a:pt x="564" y="650"/>
                    </a:lnTo>
                    <a:lnTo>
                      <a:pt x="556" y="650"/>
                    </a:lnTo>
                    <a:lnTo>
                      <a:pt x="550" y="646"/>
                    </a:lnTo>
                    <a:lnTo>
                      <a:pt x="550" y="646"/>
                    </a:lnTo>
                    <a:lnTo>
                      <a:pt x="552" y="640"/>
                    </a:lnTo>
                    <a:lnTo>
                      <a:pt x="554" y="636"/>
                    </a:lnTo>
                    <a:lnTo>
                      <a:pt x="560" y="628"/>
                    </a:lnTo>
                    <a:lnTo>
                      <a:pt x="574" y="614"/>
                    </a:lnTo>
                    <a:lnTo>
                      <a:pt x="574" y="614"/>
                    </a:lnTo>
                    <a:lnTo>
                      <a:pt x="572" y="614"/>
                    </a:lnTo>
                    <a:lnTo>
                      <a:pt x="570" y="614"/>
                    </a:lnTo>
                    <a:lnTo>
                      <a:pt x="566" y="614"/>
                    </a:lnTo>
                    <a:lnTo>
                      <a:pt x="566" y="614"/>
                    </a:lnTo>
                    <a:lnTo>
                      <a:pt x="572" y="612"/>
                    </a:lnTo>
                    <a:lnTo>
                      <a:pt x="574" y="610"/>
                    </a:lnTo>
                    <a:lnTo>
                      <a:pt x="576" y="608"/>
                    </a:lnTo>
                    <a:lnTo>
                      <a:pt x="576" y="608"/>
                    </a:lnTo>
                    <a:lnTo>
                      <a:pt x="578" y="604"/>
                    </a:lnTo>
                    <a:lnTo>
                      <a:pt x="578" y="600"/>
                    </a:lnTo>
                    <a:lnTo>
                      <a:pt x="576" y="598"/>
                    </a:lnTo>
                    <a:lnTo>
                      <a:pt x="572" y="596"/>
                    </a:lnTo>
                    <a:lnTo>
                      <a:pt x="564" y="594"/>
                    </a:lnTo>
                    <a:lnTo>
                      <a:pt x="554" y="592"/>
                    </a:lnTo>
                    <a:lnTo>
                      <a:pt x="544" y="592"/>
                    </a:lnTo>
                    <a:lnTo>
                      <a:pt x="534" y="592"/>
                    </a:lnTo>
                    <a:lnTo>
                      <a:pt x="526" y="588"/>
                    </a:lnTo>
                    <a:lnTo>
                      <a:pt x="522" y="586"/>
                    </a:lnTo>
                    <a:lnTo>
                      <a:pt x="520" y="582"/>
                    </a:lnTo>
                    <a:lnTo>
                      <a:pt x="520" y="582"/>
                    </a:lnTo>
                    <a:lnTo>
                      <a:pt x="524" y="580"/>
                    </a:lnTo>
                    <a:lnTo>
                      <a:pt x="530" y="578"/>
                    </a:lnTo>
                    <a:lnTo>
                      <a:pt x="540" y="576"/>
                    </a:lnTo>
                    <a:lnTo>
                      <a:pt x="566" y="578"/>
                    </a:lnTo>
                    <a:lnTo>
                      <a:pt x="566" y="578"/>
                    </a:lnTo>
                    <a:lnTo>
                      <a:pt x="566" y="574"/>
                    </a:lnTo>
                    <a:lnTo>
                      <a:pt x="564" y="572"/>
                    </a:lnTo>
                    <a:lnTo>
                      <a:pt x="558" y="570"/>
                    </a:lnTo>
                    <a:lnTo>
                      <a:pt x="550" y="570"/>
                    </a:lnTo>
                    <a:lnTo>
                      <a:pt x="548" y="568"/>
                    </a:lnTo>
                    <a:lnTo>
                      <a:pt x="546" y="566"/>
                    </a:lnTo>
                    <a:lnTo>
                      <a:pt x="546" y="566"/>
                    </a:lnTo>
                    <a:lnTo>
                      <a:pt x="552" y="566"/>
                    </a:lnTo>
                    <a:lnTo>
                      <a:pt x="556" y="566"/>
                    </a:lnTo>
                    <a:lnTo>
                      <a:pt x="562" y="566"/>
                    </a:lnTo>
                    <a:lnTo>
                      <a:pt x="564" y="562"/>
                    </a:lnTo>
                    <a:lnTo>
                      <a:pt x="564" y="562"/>
                    </a:lnTo>
                    <a:lnTo>
                      <a:pt x="562" y="562"/>
                    </a:lnTo>
                    <a:lnTo>
                      <a:pt x="560" y="562"/>
                    </a:lnTo>
                    <a:lnTo>
                      <a:pt x="558" y="564"/>
                    </a:lnTo>
                    <a:lnTo>
                      <a:pt x="556" y="562"/>
                    </a:lnTo>
                    <a:lnTo>
                      <a:pt x="556" y="562"/>
                    </a:lnTo>
                    <a:lnTo>
                      <a:pt x="556" y="562"/>
                    </a:lnTo>
                    <a:lnTo>
                      <a:pt x="558" y="562"/>
                    </a:lnTo>
                    <a:lnTo>
                      <a:pt x="558" y="562"/>
                    </a:lnTo>
                    <a:lnTo>
                      <a:pt x="550" y="556"/>
                    </a:lnTo>
                    <a:lnTo>
                      <a:pt x="542" y="552"/>
                    </a:lnTo>
                    <a:lnTo>
                      <a:pt x="534" y="546"/>
                    </a:lnTo>
                    <a:lnTo>
                      <a:pt x="526" y="540"/>
                    </a:lnTo>
                    <a:lnTo>
                      <a:pt x="526" y="540"/>
                    </a:lnTo>
                    <a:lnTo>
                      <a:pt x="528" y="540"/>
                    </a:lnTo>
                    <a:lnTo>
                      <a:pt x="530" y="542"/>
                    </a:lnTo>
                    <a:lnTo>
                      <a:pt x="536" y="546"/>
                    </a:lnTo>
                    <a:lnTo>
                      <a:pt x="542" y="548"/>
                    </a:lnTo>
                    <a:lnTo>
                      <a:pt x="544" y="548"/>
                    </a:lnTo>
                    <a:lnTo>
                      <a:pt x="548" y="546"/>
                    </a:lnTo>
                    <a:lnTo>
                      <a:pt x="548" y="546"/>
                    </a:lnTo>
                    <a:lnTo>
                      <a:pt x="546" y="548"/>
                    </a:lnTo>
                    <a:lnTo>
                      <a:pt x="546" y="550"/>
                    </a:lnTo>
                    <a:lnTo>
                      <a:pt x="550" y="554"/>
                    </a:lnTo>
                    <a:lnTo>
                      <a:pt x="556" y="558"/>
                    </a:lnTo>
                    <a:lnTo>
                      <a:pt x="562" y="560"/>
                    </a:lnTo>
                    <a:lnTo>
                      <a:pt x="562" y="560"/>
                    </a:lnTo>
                    <a:lnTo>
                      <a:pt x="566" y="556"/>
                    </a:lnTo>
                    <a:lnTo>
                      <a:pt x="568" y="552"/>
                    </a:lnTo>
                    <a:lnTo>
                      <a:pt x="572" y="538"/>
                    </a:lnTo>
                    <a:lnTo>
                      <a:pt x="570" y="532"/>
                    </a:lnTo>
                    <a:lnTo>
                      <a:pt x="570" y="526"/>
                    </a:lnTo>
                    <a:lnTo>
                      <a:pt x="566" y="522"/>
                    </a:lnTo>
                    <a:lnTo>
                      <a:pt x="562" y="520"/>
                    </a:lnTo>
                    <a:lnTo>
                      <a:pt x="562" y="520"/>
                    </a:lnTo>
                    <a:lnTo>
                      <a:pt x="558" y="520"/>
                    </a:lnTo>
                    <a:lnTo>
                      <a:pt x="556" y="520"/>
                    </a:lnTo>
                    <a:lnTo>
                      <a:pt x="552" y="524"/>
                    </a:lnTo>
                    <a:lnTo>
                      <a:pt x="546" y="526"/>
                    </a:lnTo>
                    <a:lnTo>
                      <a:pt x="544" y="528"/>
                    </a:lnTo>
                    <a:lnTo>
                      <a:pt x="540" y="526"/>
                    </a:lnTo>
                    <a:lnTo>
                      <a:pt x="540" y="526"/>
                    </a:lnTo>
                    <a:lnTo>
                      <a:pt x="542" y="522"/>
                    </a:lnTo>
                    <a:lnTo>
                      <a:pt x="546" y="518"/>
                    </a:lnTo>
                    <a:lnTo>
                      <a:pt x="550" y="516"/>
                    </a:lnTo>
                    <a:lnTo>
                      <a:pt x="554" y="514"/>
                    </a:lnTo>
                    <a:lnTo>
                      <a:pt x="554" y="514"/>
                    </a:lnTo>
                    <a:lnTo>
                      <a:pt x="544" y="512"/>
                    </a:lnTo>
                    <a:lnTo>
                      <a:pt x="534" y="514"/>
                    </a:lnTo>
                    <a:lnTo>
                      <a:pt x="522" y="514"/>
                    </a:lnTo>
                    <a:lnTo>
                      <a:pt x="516" y="514"/>
                    </a:lnTo>
                    <a:lnTo>
                      <a:pt x="510" y="512"/>
                    </a:lnTo>
                    <a:lnTo>
                      <a:pt x="510" y="512"/>
                    </a:lnTo>
                    <a:lnTo>
                      <a:pt x="506" y="506"/>
                    </a:lnTo>
                    <a:lnTo>
                      <a:pt x="500" y="500"/>
                    </a:lnTo>
                    <a:lnTo>
                      <a:pt x="496" y="492"/>
                    </a:lnTo>
                    <a:lnTo>
                      <a:pt x="494" y="488"/>
                    </a:lnTo>
                    <a:lnTo>
                      <a:pt x="496" y="482"/>
                    </a:lnTo>
                    <a:lnTo>
                      <a:pt x="496" y="482"/>
                    </a:lnTo>
                    <a:lnTo>
                      <a:pt x="496" y="480"/>
                    </a:lnTo>
                    <a:lnTo>
                      <a:pt x="500" y="476"/>
                    </a:lnTo>
                    <a:lnTo>
                      <a:pt x="508" y="472"/>
                    </a:lnTo>
                    <a:lnTo>
                      <a:pt x="508" y="472"/>
                    </a:lnTo>
                    <a:lnTo>
                      <a:pt x="520" y="482"/>
                    </a:lnTo>
                    <a:lnTo>
                      <a:pt x="520" y="482"/>
                    </a:lnTo>
                    <a:lnTo>
                      <a:pt x="520" y="482"/>
                    </a:lnTo>
                    <a:lnTo>
                      <a:pt x="518" y="482"/>
                    </a:lnTo>
                    <a:lnTo>
                      <a:pt x="516" y="480"/>
                    </a:lnTo>
                    <a:lnTo>
                      <a:pt x="516" y="480"/>
                    </a:lnTo>
                    <a:lnTo>
                      <a:pt x="514" y="486"/>
                    </a:lnTo>
                    <a:lnTo>
                      <a:pt x="514" y="492"/>
                    </a:lnTo>
                    <a:lnTo>
                      <a:pt x="516" y="496"/>
                    </a:lnTo>
                    <a:lnTo>
                      <a:pt x="520" y="500"/>
                    </a:lnTo>
                    <a:lnTo>
                      <a:pt x="524" y="502"/>
                    </a:lnTo>
                    <a:lnTo>
                      <a:pt x="528" y="502"/>
                    </a:lnTo>
                    <a:lnTo>
                      <a:pt x="534" y="500"/>
                    </a:lnTo>
                    <a:lnTo>
                      <a:pt x="538" y="496"/>
                    </a:lnTo>
                    <a:lnTo>
                      <a:pt x="538" y="496"/>
                    </a:lnTo>
                    <a:lnTo>
                      <a:pt x="538" y="498"/>
                    </a:lnTo>
                    <a:lnTo>
                      <a:pt x="536" y="498"/>
                    </a:lnTo>
                    <a:lnTo>
                      <a:pt x="534" y="500"/>
                    </a:lnTo>
                    <a:lnTo>
                      <a:pt x="532" y="502"/>
                    </a:lnTo>
                    <a:lnTo>
                      <a:pt x="532" y="502"/>
                    </a:lnTo>
                    <a:lnTo>
                      <a:pt x="536" y="502"/>
                    </a:lnTo>
                    <a:lnTo>
                      <a:pt x="540" y="502"/>
                    </a:lnTo>
                    <a:lnTo>
                      <a:pt x="540" y="502"/>
                    </a:lnTo>
                    <a:lnTo>
                      <a:pt x="538" y="492"/>
                    </a:lnTo>
                    <a:lnTo>
                      <a:pt x="534" y="486"/>
                    </a:lnTo>
                    <a:lnTo>
                      <a:pt x="534" y="486"/>
                    </a:lnTo>
                    <a:lnTo>
                      <a:pt x="536" y="486"/>
                    </a:lnTo>
                    <a:lnTo>
                      <a:pt x="538" y="488"/>
                    </a:lnTo>
                    <a:lnTo>
                      <a:pt x="540" y="494"/>
                    </a:lnTo>
                    <a:lnTo>
                      <a:pt x="540" y="494"/>
                    </a:lnTo>
                    <a:lnTo>
                      <a:pt x="546" y="492"/>
                    </a:lnTo>
                    <a:lnTo>
                      <a:pt x="554" y="494"/>
                    </a:lnTo>
                    <a:lnTo>
                      <a:pt x="560" y="496"/>
                    </a:lnTo>
                    <a:lnTo>
                      <a:pt x="568" y="498"/>
                    </a:lnTo>
                    <a:lnTo>
                      <a:pt x="568" y="498"/>
                    </a:lnTo>
                    <a:lnTo>
                      <a:pt x="564" y="492"/>
                    </a:lnTo>
                    <a:lnTo>
                      <a:pt x="560" y="490"/>
                    </a:lnTo>
                    <a:lnTo>
                      <a:pt x="546" y="484"/>
                    </a:lnTo>
                    <a:lnTo>
                      <a:pt x="534" y="478"/>
                    </a:lnTo>
                    <a:lnTo>
                      <a:pt x="528" y="474"/>
                    </a:lnTo>
                    <a:lnTo>
                      <a:pt x="524" y="468"/>
                    </a:lnTo>
                    <a:lnTo>
                      <a:pt x="524" y="468"/>
                    </a:lnTo>
                    <a:lnTo>
                      <a:pt x="528" y="466"/>
                    </a:lnTo>
                    <a:lnTo>
                      <a:pt x="532" y="468"/>
                    </a:lnTo>
                    <a:lnTo>
                      <a:pt x="540" y="470"/>
                    </a:lnTo>
                    <a:lnTo>
                      <a:pt x="550" y="474"/>
                    </a:lnTo>
                    <a:lnTo>
                      <a:pt x="556" y="476"/>
                    </a:lnTo>
                    <a:lnTo>
                      <a:pt x="562" y="476"/>
                    </a:lnTo>
                    <a:lnTo>
                      <a:pt x="562" y="476"/>
                    </a:lnTo>
                    <a:lnTo>
                      <a:pt x="562" y="476"/>
                    </a:lnTo>
                    <a:lnTo>
                      <a:pt x="560" y="476"/>
                    </a:lnTo>
                    <a:lnTo>
                      <a:pt x="554" y="476"/>
                    </a:lnTo>
                    <a:lnTo>
                      <a:pt x="554" y="476"/>
                    </a:lnTo>
                    <a:lnTo>
                      <a:pt x="564" y="482"/>
                    </a:lnTo>
                    <a:lnTo>
                      <a:pt x="574" y="490"/>
                    </a:lnTo>
                    <a:lnTo>
                      <a:pt x="574" y="490"/>
                    </a:lnTo>
                    <a:lnTo>
                      <a:pt x="556" y="456"/>
                    </a:lnTo>
                    <a:lnTo>
                      <a:pt x="536" y="426"/>
                    </a:lnTo>
                    <a:lnTo>
                      <a:pt x="536" y="426"/>
                    </a:lnTo>
                    <a:lnTo>
                      <a:pt x="540" y="428"/>
                    </a:lnTo>
                    <a:lnTo>
                      <a:pt x="544" y="434"/>
                    </a:lnTo>
                    <a:lnTo>
                      <a:pt x="548" y="440"/>
                    </a:lnTo>
                    <a:lnTo>
                      <a:pt x="552" y="446"/>
                    </a:lnTo>
                    <a:lnTo>
                      <a:pt x="552" y="446"/>
                    </a:lnTo>
                    <a:lnTo>
                      <a:pt x="554" y="444"/>
                    </a:lnTo>
                    <a:lnTo>
                      <a:pt x="556" y="442"/>
                    </a:lnTo>
                    <a:lnTo>
                      <a:pt x="558" y="440"/>
                    </a:lnTo>
                    <a:lnTo>
                      <a:pt x="560" y="438"/>
                    </a:lnTo>
                    <a:lnTo>
                      <a:pt x="560" y="438"/>
                    </a:lnTo>
                    <a:lnTo>
                      <a:pt x="558" y="442"/>
                    </a:lnTo>
                    <a:lnTo>
                      <a:pt x="554" y="448"/>
                    </a:lnTo>
                    <a:lnTo>
                      <a:pt x="554" y="448"/>
                    </a:lnTo>
                    <a:lnTo>
                      <a:pt x="560" y="458"/>
                    </a:lnTo>
                    <a:lnTo>
                      <a:pt x="566" y="464"/>
                    </a:lnTo>
                    <a:lnTo>
                      <a:pt x="566" y="464"/>
                    </a:lnTo>
                    <a:lnTo>
                      <a:pt x="566" y="458"/>
                    </a:lnTo>
                    <a:lnTo>
                      <a:pt x="570" y="452"/>
                    </a:lnTo>
                    <a:lnTo>
                      <a:pt x="572" y="446"/>
                    </a:lnTo>
                    <a:lnTo>
                      <a:pt x="576" y="442"/>
                    </a:lnTo>
                    <a:lnTo>
                      <a:pt x="576" y="442"/>
                    </a:lnTo>
                    <a:lnTo>
                      <a:pt x="574" y="438"/>
                    </a:lnTo>
                    <a:lnTo>
                      <a:pt x="574" y="438"/>
                    </a:lnTo>
                    <a:lnTo>
                      <a:pt x="574" y="436"/>
                    </a:lnTo>
                    <a:lnTo>
                      <a:pt x="576" y="436"/>
                    </a:lnTo>
                    <a:lnTo>
                      <a:pt x="580" y="438"/>
                    </a:lnTo>
                    <a:lnTo>
                      <a:pt x="580" y="438"/>
                    </a:lnTo>
                    <a:lnTo>
                      <a:pt x="582" y="436"/>
                    </a:lnTo>
                    <a:lnTo>
                      <a:pt x="586" y="430"/>
                    </a:lnTo>
                    <a:lnTo>
                      <a:pt x="586" y="424"/>
                    </a:lnTo>
                    <a:lnTo>
                      <a:pt x="584" y="420"/>
                    </a:lnTo>
                    <a:lnTo>
                      <a:pt x="584" y="420"/>
                    </a:lnTo>
                    <a:lnTo>
                      <a:pt x="590" y="418"/>
                    </a:lnTo>
                    <a:lnTo>
                      <a:pt x="598" y="414"/>
                    </a:lnTo>
                    <a:lnTo>
                      <a:pt x="598" y="414"/>
                    </a:lnTo>
                    <a:lnTo>
                      <a:pt x="600" y="404"/>
                    </a:lnTo>
                    <a:lnTo>
                      <a:pt x="600" y="398"/>
                    </a:lnTo>
                    <a:lnTo>
                      <a:pt x="602" y="394"/>
                    </a:lnTo>
                    <a:lnTo>
                      <a:pt x="602" y="394"/>
                    </a:lnTo>
                    <a:lnTo>
                      <a:pt x="600" y="400"/>
                    </a:lnTo>
                    <a:lnTo>
                      <a:pt x="600" y="406"/>
                    </a:lnTo>
                    <a:lnTo>
                      <a:pt x="600" y="406"/>
                    </a:lnTo>
                    <a:lnTo>
                      <a:pt x="602" y="404"/>
                    </a:lnTo>
                    <a:lnTo>
                      <a:pt x="604" y="402"/>
                    </a:lnTo>
                    <a:lnTo>
                      <a:pt x="604" y="396"/>
                    </a:lnTo>
                    <a:lnTo>
                      <a:pt x="604" y="396"/>
                    </a:lnTo>
                    <a:lnTo>
                      <a:pt x="606" y="400"/>
                    </a:lnTo>
                    <a:lnTo>
                      <a:pt x="604" y="402"/>
                    </a:lnTo>
                    <a:lnTo>
                      <a:pt x="600" y="410"/>
                    </a:lnTo>
                    <a:lnTo>
                      <a:pt x="600" y="410"/>
                    </a:lnTo>
                    <a:lnTo>
                      <a:pt x="604" y="410"/>
                    </a:lnTo>
                    <a:lnTo>
                      <a:pt x="606" y="408"/>
                    </a:lnTo>
                    <a:lnTo>
                      <a:pt x="610" y="406"/>
                    </a:lnTo>
                    <a:lnTo>
                      <a:pt x="616" y="406"/>
                    </a:lnTo>
                    <a:lnTo>
                      <a:pt x="616" y="406"/>
                    </a:lnTo>
                    <a:lnTo>
                      <a:pt x="616" y="410"/>
                    </a:lnTo>
                    <a:lnTo>
                      <a:pt x="618" y="414"/>
                    </a:lnTo>
                    <a:lnTo>
                      <a:pt x="618" y="414"/>
                    </a:lnTo>
                    <a:lnTo>
                      <a:pt x="620" y="414"/>
                    </a:lnTo>
                    <a:lnTo>
                      <a:pt x="624" y="412"/>
                    </a:lnTo>
                    <a:lnTo>
                      <a:pt x="624" y="412"/>
                    </a:lnTo>
                    <a:lnTo>
                      <a:pt x="622" y="414"/>
                    </a:lnTo>
                    <a:lnTo>
                      <a:pt x="622" y="414"/>
                    </a:lnTo>
                    <a:lnTo>
                      <a:pt x="618" y="416"/>
                    </a:lnTo>
                    <a:lnTo>
                      <a:pt x="618" y="416"/>
                    </a:lnTo>
                    <a:lnTo>
                      <a:pt x="618" y="422"/>
                    </a:lnTo>
                    <a:lnTo>
                      <a:pt x="618" y="428"/>
                    </a:lnTo>
                    <a:lnTo>
                      <a:pt x="620" y="434"/>
                    </a:lnTo>
                    <a:lnTo>
                      <a:pt x="624" y="438"/>
                    </a:lnTo>
                    <a:lnTo>
                      <a:pt x="628" y="440"/>
                    </a:lnTo>
                    <a:lnTo>
                      <a:pt x="632" y="440"/>
                    </a:lnTo>
                    <a:lnTo>
                      <a:pt x="636" y="438"/>
                    </a:lnTo>
                    <a:lnTo>
                      <a:pt x="640" y="434"/>
                    </a:lnTo>
                    <a:lnTo>
                      <a:pt x="640" y="434"/>
                    </a:lnTo>
                    <a:lnTo>
                      <a:pt x="638" y="426"/>
                    </a:lnTo>
                    <a:lnTo>
                      <a:pt x="636" y="420"/>
                    </a:lnTo>
                    <a:lnTo>
                      <a:pt x="636" y="420"/>
                    </a:lnTo>
                    <a:lnTo>
                      <a:pt x="642" y="418"/>
                    </a:lnTo>
                    <a:lnTo>
                      <a:pt x="648" y="416"/>
                    </a:lnTo>
                    <a:lnTo>
                      <a:pt x="656" y="410"/>
                    </a:lnTo>
                    <a:lnTo>
                      <a:pt x="664" y="404"/>
                    </a:lnTo>
                    <a:lnTo>
                      <a:pt x="668" y="400"/>
                    </a:lnTo>
                    <a:lnTo>
                      <a:pt x="674" y="400"/>
                    </a:lnTo>
                    <a:lnTo>
                      <a:pt x="674" y="400"/>
                    </a:lnTo>
                    <a:lnTo>
                      <a:pt x="668" y="380"/>
                    </a:lnTo>
                    <a:lnTo>
                      <a:pt x="660" y="360"/>
                    </a:lnTo>
                    <a:lnTo>
                      <a:pt x="660" y="360"/>
                    </a:lnTo>
                    <a:lnTo>
                      <a:pt x="648" y="356"/>
                    </a:lnTo>
                    <a:lnTo>
                      <a:pt x="642" y="352"/>
                    </a:lnTo>
                    <a:lnTo>
                      <a:pt x="640" y="344"/>
                    </a:lnTo>
                    <a:lnTo>
                      <a:pt x="640" y="344"/>
                    </a:lnTo>
                    <a:lnTo>
                      <a:pt x="644" y="342"/>
                    </a:lnTo>
                    <a:lnTo>
                      <a:pt x="644" y="342"/>
                    </a:lnTo>
                    <a:lnTo>
                      <a:pt x="650" y="346"/>
                    </a:lnTo>
                    <a:lnTo>
                      <a:pt x="658" y="350"/>
                    </a:lnTo>
                    <a:lnTo>
                      <a:pt x="674" y="352"/>
                    </a:lnTo>
                    <a:lnTo>
                      <a:pt x="682" y="354"/>
                    </a:lnTo>
                    <a:lnTo>
                      <a:pt x="690" y="356"/>
                    </a:lnTo>
                    <a:lnTo>
                      <a:pt x="694" y="362"/>
                    </a:lnTo>
                    <a:lnTo>
                      <a:pt x="698" y="368"/>
                    </a:lnTo>
                    <a:lnTo>
                      <a:pt x="698" y="368"/>
                    </a:lnTo>
                    <a:lnTo>
                      <a:pt x="710" y="368"/>
                    </a:lnTo>
                    <a:lnTo>
                      <a:pt x="710" y="368"/>
                    </a:lnTo>
                    <a:lnTo>
                      <a:pt x="710" y="368"/>
                    </a:lnTo>
                    <a:lnTo>
                      <a:pt x="710" y="366"/>
                    </a:lnTo>
                    <a:lnTo>
                      <a:pt x="708" y="362"/>
                    </a:lnTo>
                    <a:lnTo>
                      <a:pt x="708" y="362"/>
                    </a:lnTo>
                    <a:lnTo>
                      <a:pt x="710" y="364"/>
                    </a:lnTo>
                    <a:lnTo>
                      <a:pt x="712" y="366"/>
                    </a:lnTo>
                    <a:lnTo>
                      <a:pt x="714" y="374"/>
                    </a:lnTo>
                    <a:lnTo>
                      <a:pt x="714" y="374"/>
                    </a:lnTo>
                    <a:lnTo>
                      <a:pt x="716" y="368"/>
                    </a:lnTo>
                    <a:lnTo>
                      <a:pt x="718" y="364"/>
                    </a:lnTo>
                    <a:lnTo>
                      <a:pt x="718" y="358"/>
                    </a:lnTo>
                    <a:lnTo>
                      <a:pt x="716" y="354"/>
                    </a:lnTo>
                    <a:lnTo>
                      <a:pt x="710" y="346"/>
                    </a:lnTo>
                    <a:lnTo>
                      <a:pt x="702" y="340"/>
                    </a:lnTo>
                    <a:lnTo>
                      <a:pt x="702" y="340"/>
                    </a:lnTo>
                    <a:lnTo>
                      <a:pt x="704" y="338"/>
                    </a:lnTo>
                    <a:lnTo>
                      <a:pt x="706" y="336"/>
                    </a:lnTo>
                    <a:lnTo>
                      <a:pt x="708" y="332"/>
                    </a:lnTo>
                    <a:lnTo>
                      <a:pt x="708" y="332"/>
                    </a:lnTo>
                    <a:lnTo>
                      <a:pt x="702" y="330"/>
                    </a:lnTo>
                    <a:lnTo>
                      <a:pt x="694" y="330"/>
                    </a:lnTo>
                    <a:lnTo>
                      <a:pt x="694" y="330"/>
                    </a:lnTo>
                    <a:lnTo>
                      <a:pt x="694" y="330"/>
                    </a:lnTo>
                    <a:lnTo>
                      <a:pt x="696" y="330"/>
                    </a:lnTo>
                    <a:lnTo>
                      <a:pt x="702" y="330"/>
                    </a:lnTo>
                    <a:lnTo>
                      <a:pt x="702" y="330"/>
                    </a:lnTo>
                    <a:lnTo>
                      <a:pt x="692" y="322"/>
                    </a:lnTo>
                    <a:lnTo>
                      <a:pt x="680" y="312"/>
                    </a:lnTo>
                    <a:lnTo>
                      <a:pt x="672" y="300"/>
                    </a:lnTo>
                    <a:lnTo>
                      <a:pt x="666" y="288"/>
                    </a:lnTo>
                    <a:lnTo>
                      <a:pt x="666" y="288"/>
                    </a:lnTo>
                    <a:lnTo>
                      <a:pt x="676" y="288"/>
                    </a:lnTo>
                    <a:lnTo>
                      <a:pt x="686" y="286"/>
                    </a:lnTo>
                    <a:lnTo>
                      <a:pt x="704" y="282"/>
                    </a:lnTo>
                    <a:lnTo>
                      <a:pt x="704" y="282"/>
                    </a:lnTo>
                    <a:lnTo>
                      <a:pt x="676" y="264"/>
                    </a:lnTo>
                    <a:lnTo>
                      <a:pt x="662" y="254"/>
                    </a:lnTo>
                    <a:lnTo>
                      <a:pt x="650" y="242"/>
                    </a:lnTo>
                    <a:lnTo>
                      <a:pt x="650" y="242"/>
                    </a:lnTo>
                    <a:lnTo>
                      <a:pt x="652" y="242"/>
                    </a:lnTo>
                    <a:lnTo>
                      <a:pt x="652" y="240"/>
                    </a:lnTo>
                    <a:lnTo>
                      <a:pt x="652" y="240"/>
                    </a:lnTo>
                    <a:lnTo>
                      <a:pt x="660" y="242"/>
                    </a:lnTo>
                    <a:lnTo>
                      <a:pt x="666" y="246"/>
                    </a:lnTo>
                    <a:lnTo>
                      <a:pt x="678" y="254"/>
                    </a:lnTo>
                    <a:lnTo>
                      <a:pt x="692" y="264"/>
                    </a:lnTo>
                    <a:lnTo>
                      <a:pt x="700" y="268"/>
                    </a:lnTo>
                    <a:lnTo>
                      <a:pt x="708" y="270"/>
                    </a:lnTo>
                    <a:lnTo>
                      <a:pt x="708" y="270"/>
                    </a:lnTo>
                    <a:lnTo>
                      <a:pt x="710" y="266"/>
                    </a:lnTo>
                    <a:lnTo>
                      <a:pt x="714" y="262"/>
                    </a:lnTo>
                    <a:lnTo>
                      <a:pt x="724" y="254"/>
                    </a:lnTo>
                    <a:lnTo>
                      <a:pt x="724" y="254"/>
                    </a:lnTo>
                    <a:lnTo>
                      <a:pt x="720" y="248"/>
                    </a:lnTo>
                    <a:lnTo>
                      <a:pt x="718" y="242"/>
                    </a:lnTo>
                    <a:lnTo>
                      <a:pt x="716" y="236"/>
                    </a:lnTo>
                    <a:lnTo>
                      <a:pt x="710" y="230"/>
                    </a:lnTo>
                    <a:lnTo>
                      <a:pt x="710" y="230"/>
                    </a:lnTo>
                    <a:lnTo>
                      <a:pt x="714" y="230"/>
                    </a:lnTo>
                    <a:lnTo>
                      <a:pt x="716" y="232"/>
                    </a:lnTo>
                    <a:lnTo>
                      <a:pt x="718" y="240"/>
                    </a:lnTo>
                    <a:lnTo>
                      <a:pt x="722" y="246"/>
                    </a:lnTo>
                    <a:lnTo>
                      <a:pt x="726" y="250"/>
                    </a:lnTo>
                    <a:lnTo>
                      <a:pt x="726" y="250"/>
                    </a:lnTo>
                    <a:lnTo>
                      <a:pt x="734" y="250"/>
                    </a:lnTo>
                    <a:lnTo>
                      <a:pt x="742" y="250"/>
                    </a:lnTo>
                    <a:lnTo>
                      <a:pt x="750" y="248"/>
                    </a:lnTo>
                    <a:lnTo>
                      <a:pt x="756" y="250"/>
                    </a:lnTo>
                    <a:lnTo>
                      <a:pt x="756" y="250"/>
                    </a:lnTo>
                    <a:lnTo>
                      <a:pt x="756" y="244"/>
                    </a:lnTo>
                    <a:lnTo>
                      <a:pt x="752" y="240"/>
                    </a:lnTo>
                    <a:lnTo>
                      <a:pt x="750" y="234"/>
                    </a:lnTo>
                    <a:lnTo>
                      <a:pt x="748" y="228"/>
                    </a:lnTo>
                    <a:lnTo>
                      <a:pt x="748" y="228"/>
                    </a:lnTo>
                    <a:lnTo>
                      <a:pt x="752" y="236"/>
                    </a:lnTo>
                    <a:lnTo>
                      <a:pt x="756" y="244"/>
                    </a:lnTo>
                    <a:lnTo>
                      <a:pt x="760" y="252"/>
                    </a:lnTo>
                    <a:lnTo>
                      <a:pt x="764" y="254"/>
                    </a:lnTo>
                    <a:lnTo>
                      <a:pt x="768" y="256"/>
                    </a:lnTo>
                    <a:lnTo>
                      <a:pt x="768" y="256"/>
                    </a:lnTo>
                    <a:lnTo>
                      <a:pt x="770" y="262"/>
                    </a:lnTo>
                    <a:lnTo>
                      <a:pt x="774" y="270"/>
                    </a:lnTo>
                    <a:lnTo>
                      <a:pt x="784" y="284"/>
                    </a:lnTo>
                    <a:lnTo>
                      <a:pt x="784" y="284"/>
                    </a:lnTo>
                    <a:lnTo>
                      <a:pt x="792" y="292"/>
                    </a:lnTo>
                    <a:lnTo>
                      <a:pt x="800" y="298"/>
                    </a:lnTo>
                    <a:lnTo>
                      <a:pt x="800" y="298"/>
                    </a:lnTo>
                    <a:lnTo>
                      <a:pt x="810" y="302"/>
                    </a:lnTo>
                    <a:lnTo>
                      <a:pt x="822" y="306"/>
                    </a:lnTo>
                    <a:lnTo>
                      <a:pt x="822" y="306"/>
                    </a:lnTo>
                    <a:lnTo>
                      <a:pt x="822" y="302"/>
                    </a:lnTo>
                    <a:lnTo>
                      <a:pt x="822" y="300"/>
                    </a:lnTo>
                    <a:lnTo>
                      <a:pt x="828" y="298"/>
                    </a:lnTo>
                    <a:lnTo>
                      <a:pt x="834" y="298"/>
                    </a:lnTo>
                    <a:lnTo>
                      <a:pt x="836" y="296"/>
                    </a:lnTo>
                    <a:lnTo>
                      <a:pt x="838" y="294"/>
                    </a:lnTo>
                    <a:lnTo>
                      <a:pt x="838" y="298"/>
                    </a:lnTo>
                    <a:lnTo>
                      <a:pt x="838" y="298"/>
                    </a:lnTo>
                    <a:lnTo>
                      <a:pt x="836" y="288"/>
                    </a:lnTo>
                    <a:lnTo>
                      <a:pt x="834" y="282"/>
                    </a:lnTo>
                    <a:lnTo>
                      <a:pt x="828" y="276"/>
                    </a:lnTo>
                    <a:lnTo>
                      <a:pt x="820" y="270"/>
                    </a:lnTo>
                    <a:lnTo>
                      <a:pt x="820" y="270"/>
                    </a:lnTo>
                    <a:lnTo>
                      <a:pt x="814" y="266"/>
                    </a:lnTo>
                    <a:lnTo>
                      <a:pt x="808" y="260"/>
                    </a:lnTo>
                    <a:lnTo>
                      <a:pt x="808" y="260"/>
                    </a:lnTo>
                    <a:lnTo>
                      <a:pt x="804" y="252"/>
                    </a:lnTo>
                    <a:lnTo>
                      <a:pt x="804" y="248"/>
                    </a:lnTo>
                    <a:lnTo>
                      <a:pt x="804" y="242"/>
                    </a:lnTo>
                    <a:lnTo>
                      <a:pt x="804" y="242"/>
                    </a:lnTo>
                    <a:lnTo>
                      <a:pt x="808" y="242"/>
                    </a:lnTo>
                    <a:lnTo>
                      <a:pt x="812" y="244"/>
                    </a:lnTo>
                    <a:lnTo>
                      <a:pt x="812" y="244"/>
                    </a:lnTo>
                    <a:lnTo>
                      <a:pt x="808" y="236"/>
                    </a:lnTo>
                    <a:lnTo>
                      <a:pt x="804" y="228"/>
                    </a:lnTo>
                    <a:lnTo>
                      <a:pt x="804" y="228"/>
                    </a:lnTo>
                    <a:lnTo>
                      <a:pt x="788" y="242"/>
                    </a:lnTo>
                    <a:lnTo>
                      <a:pt x="778" y="250"/>
                    </a:lnTo>
                    <a:lnTo>
                      <a:pt x="768" y="254"/>
                    </a:lnTo>
                    <a:lnTo>
                      <a:pt x="768" y="254"/>
                    </a:lnTo>
                    <a:lnTo>
                      <a:pt x="770" y="252"/>
                    </a:lnTo>
                    <a:lnTo>
                      <a:pt x="772" y="252"/>
                    </a:lnTo>
                    <a:lnTo>
                      <a:pt x="772" y="252"/>
                    </a:lnTo>
                    <a:lnTo>
                      <a:pt x="770" y="248"/>
                    </a:lnTo>
                    <a:lnTo>
                      <a:pt x="770" y="244"/>
                    </a:lnTo>
                    <a:lnTo>
                      <a:pt x="770" y="244"/>
                    </a:lnTo>
                    <a:lnTo>
                      <a:pt x="784" y="232"/>
                    </a:lnTo>
                    <a:lnTo>
                      <a:pt x="800" y="220"/>
                    </a:lnTo>
                    <a:lnTo>
                      <a:pt x="800" y="220"/>
                    </a:lnTo>
                    <a:lnTo>
                      <a:pt x="790" y="200"/>
                    </a:lnTo>
                    <a:lnTo>
                      <a:pt x="784" y="192"/>
                    </a:lnTo>
                    <a:lnTo>
                      <a:pt x="776" y="186"/>
                    </a:lnTo>
                    <a:lnTo>
                      <a:pt x="776" y="186"/>
                    </a:lnTo>
                    <a:lnTo>
                      <a:pt x="778" y="184"/>
                    </a:lnTo>
                    <a:lnTo>
                      <a:pt x="780" y="184"/>
                    </a:lnTo>
                    <a:lnTo>
                      <a:pt x="780" y="184"/>
                    </a:lnTo>
                    <a:lnTo>
                      <a:pt x="776" y="180"/>
                    </a:lnTo>
                    <a:lnTo>
                      <a:pt x="770" y="174"/>
                    </a:lnTo>
                    <a:lnTo>
                      <a:pt x="770" y="174"/>
                    </a:lnTo>
                    <a:lnTo>
                      <a:pt x="772" y="196"/>
                    </a:lnTo>
                    <a:lnTo>
                      <a:pt x="770" y="204"/>
                    </a:lnTo>
                    <a:lnTo>
                      <a:pt x="768" y="206"/>
                    </a:lnTo>
                    <a:lnTo>
                      <a:pt x="766" y="208"/>
                    </a:lnTo>
                    <a:lnTo>
                      <a:pt x="766" y="208"/>
                    </a:lnTo>
                    <a:lnTo>
                      <a:pt x="760" y="208"/>
                    </a:lnTo>
                    <a:lnTo>
                      <a:pt x="756" y="208"/>
                    </a:lnTo>
                    <a:lnTo>
                      <a:pt x="748" y="200"/>
                    </a:lnTo>
                    <a:lnTo>
                      <a:pt x="742" y="192"/>
                    </a:lnTo>
                    <a:lnTo>
                      <a:pt x="736" y="182"/>
                    </a:lnTo>
                    <a:lnTo>
                      <a:pt x="736" y="182"/>
                    </a:lnTo>
                    <a:lnTo>
                      <a:pt x="742" y="172"/>
                    </a:lnTo>
                    <a:lnTo>
                      <a:pt x="746" y="158"/>
                    </a:lnTo>
                    <a:lnTo>
                      <a:pt x="746" y="158"/>
                    </a:lnTo>
                    <a:lnTo>
                      <a:pt x="758" y="166"/>
                    </a:lnTo>
                    <a:lnTo>
                      <a:pt x="768" y="172"/>
                    </a:lnTo>
                    <a:lnTo>
                      <a:pt x="768" y="172"/>
                    </a:lnTo>
                    <a:lnTo>
                      <a:pt x="764" y="164"/>
                    </a:lnTo>
                    <a:lnTo>
                      <a:pt x="756" y="156"/>
                    </a:lnTo>
                    <a:lnTo>
                      <a:pt x="746" y="148"/>
                    </a:lnTo>
                    <a:lnTo>
                      <a:pt x="736" y="142"/>
                    </a:lnTo>
                    <a:lnTo>
                      <a:pt x="736" y="142"/>
                    </a:lnTo>
                    <a:lnTo>
                      <a:pt x="730" y="148"/>
                    </a:lnTo>
                    <a:lnTo>
                      <a:pt x="720" y="150"/>
                    </a:lnTo>
                    <a:lnTo>
                      <a:pt x="720" y="150"/>
                    </a:lnTo>
                    <a:lnTo>
                      <a:pt x="720" y="160"/>
                    </a:lnTo>
                    <a:lnTo>
                      <a:pt x="718" y="166"/>
                    </a:lnTo>
                    <a:lnTo>
                      <a:pt x="712" y="170"/>
                    </a:lnTo>
                    <a:lnTo>
                      <a:pt x="706" y="170"/>
                    </a:lnTo>
                    <a:lnTo>
                      <a:pt x="700" y="168"/>
                    </a:lnTo>
                    <a:lnTo>
                      <a:pt x="694" y="164"/>
                    </a:lnTo>
                    <a:lnTo>
                      <a:pt x="692" y="158"/>
                    </a:lnTo>
                    <a:lnTo>
                      <a:pt x="692" y="150"/>
                    </a:lnTo>
                    <a:lnTo>
                      <a:pt x="692" y="150"/>
                    </a:lnTo>
                    <a:lnTo>
                      <a:pt x="694" y="148"/>
                    </a:lnTo>
                    <a:lnTo>
                      <a:pt x="696" y="146"/>
                    </a:lnTo>
                    <a:lnTo>
                      <a:pt x="698" y="144"/>
                    </a:lnTo>
                    <a:lnTo>
                      <a:pt x="698" y="140"/>
                    </a:lnTo>
                    <a:lnTo>
                      <a:pt x="698" y="140"/>
                    </a:lnTo>
                    <a:lnTo>
                      <a:pt x="694" y="136"/>
                    </a:lnTo>
                    <a:lnTo>
                      <a:pt x="690" y="136"/>
                    </a:lnTo>
                    <a:lnTo>
                      <a:pt x="676" y="134"/>
                    </a:lnTo>
                    <a:lnTo>
                      <a:pt x="676" y="134"/>
                    </a:lnTo>
                    <a:lnTo>
                      <a:pt x="674" y="140"/>
                    </a:lnTo>
                    <a:lnTo>
                      <a:pt x="668" y="144"/>
                    </a:lnTo>
                    <a:lnTo>
                      <a:pt x="662" y="144"/>
                    </a:lnTo>
                    <a:lnTo>
                      <a:pt x="654" y="144"/>
                    </a:lnTo>
                    <a:lnTo>
                      <a:pt x="648" y="140"/>
                    </a:lnTo>
                    <a:lnTo>
                      <a:pt x="644" y="136"/>
                    </a:lnTo>
                    <a:lnTo>
                      <a:pt x="644" y="130"/>
                    </a:lnTo>
                    <a:lnTo>
                      <a:pt x="648" y="124"/>
                    </a:lnTo>
                    <a:lnTo>
                      <a:pt x="648" y="124"/>
                    </a:lnTo>
                    <a:lnTo>
                      <a:pt x="648" y="122"/>
                    </a:lnTo>
                    <a:lnTo>
                      <a:pt x="646" y="120"/>
                    </a:lnTo>
                    <a:lnTo>
                      <a:pt x="644" y="118"/>
                    </a:lnTo>
                    <a:lnTo>
                      <a:pt x="644" y="116"/>
                    </a:lnTo>
                    <a:lnTo>
                      <a:pt x="644" y="116"/>
                    </a:lnTo>
                    <a:lnTo>
                      <a:pt x="654" y="114"/>
                    </a:lnTo>
                    <a:lnTo>
                      <a:pt x="664" y="112"/>
                    </a:lnTo>
                    <a:lnTo>
                      <a:pt x="686" y="114"/>
                    </a:lnTo>
                    <a:lnTo>
                      <a:pt x="686" y="114"/>
                    </a:lnTo>
                    <a:lnTo>
                      <a:pt x="686" y="108"/>
                    </a:lnTo>
                    <a:lnTo>
                      <a:pt x="682" y="102"/>
                    </a:lnTo>
                    <a:lnTo>
                      <a:pt x="672" y="96"/>
                    </a:lnTo>
                    <a:lnTo>
                      <a:pt x="662" y="92"/>
                    </a:lnTo>
                    <a:lnTo>
                      <a:pt x="658" y="88"/>
                    </a:lnTo>
                    <a:lnTo>
                      <a:pt x="654" y="84"/>
                    </a:lnTo>
                    <a:lnTo>
                      <a:pt x="654" y="84"/>
                    </a:lnTo>
                    <a:lnTo>
                      <a:pt x="674" y="98"/>
                    </a:lnTo>
                    <a:lnTo>
                      <a:pt x="674" y="98"/>
                    </a:lnTo>
                    <a:lnTo>
                      <a:pt x="676" y="96"/>
                    </a:lnTo>
                    <a:lnTo>
                      <a:pt x="676" y="96"/>
                    </a:lnTo>
                    <a:lnTo>
                      <a:pt x="676" y="92"/>
                    </a:lnTo>
                    <a:lnTo>
                      <a:pt x="676" y="92"/>
                    </a:lnTo>
                    <a:lnTo>
                      <a:pt x="676" y="92"/>
                    </a:lnTo>
                    <a:lnTo>
                      <a:pt x="678" y="94"/>
                    </a:lnTo>
                    <a:lnTo>
                      <a:pt x="678" y="96"/>
                    </a:lnTo>
                    <a:lnTo>
                      <a:pt x="680" y="98"/>
                    </a:lnTo>
                    <a:lnTo>
                      <a:pt x="680" y="98"/>
                    </a:lnTo>
                    <a:lnTo>
                      <a:pt x="682" y="92"/>
                    </a:lnTo>
                    <a:lnTo>
                      <a:pt x="682" y="92"/>
                    </a:lnTo>
                    <a:lnTo>
                      <a:pt x="682" y="90"/>
                    </a:lnTo>
                    <a:lnTo>
                      <a:pt x="680" y="88"/>
                    </a:lnTo>
                    <a:lnTo>
                      <a:pt x="678" y="86"/>
                    </a:lnTo>
                    <a:lnTo>
                      <a:pt x="678" y="84"/>
                    </a:lnTo>
                    <a:lnTo>
                      <a:pt x="678" y="84"/>
                    </a:lnTo>
                    <a:lnTo>
                      <a:pt x="676" y="86"/>
                    </a:lnTo>
                    <a:lnTo>
                      <a:pt x="674" y="82"/>
                    </a:lnTo>
                    <a:lnTo>
                      <a:pt x="674" y="74"/>
                    </a:lnTo>
                    <a:lnTo>
                      <a:pt x="674" y="74"/>
                    </a:lnTo>
                    <a:lnTo>
                      <a:pt x="676" y="76"/>
                    </a:lnTo>
                    <a:lnTo>
                      <a:pt x="676" y="82"/>
                    </a:lnTo>
                    <a:lnTo>
                      <a:pt x="676" y="82"/>
                    </a:lnTo>
                    <a:lnTo>
                      <a:pt x="680" y="82"/>
                    </a:lnTo>
                    <a:lnTo>
                      <a:pt x="684" y="80"/>
                    </a:lnTo>
                    <a:lnTo>
                      <a:pt x="688" y="76"/>
                    </a:lnTo>
                    <a:lnTo>
                      <a:pt x="694" y="64"/>
                    </a:lnTo>
                    <a:lnTo>
                      <a:pt x="694" y="64"/>
                    </a:lnTo>
                    <a:lnTo>
                      <a:pt x="690" y="56"/>
                    </a:lnTo>
                    <a:lnTo>
                      <a:pt x="688" y="52"/>
                    </a:lnTo>
                    <a:lnTo>
                      <a:pt x="686" y="46"/>
                    </a:lnTo>
                    <a:lnTo>
                      <a:pt x="686" y="46"/>
                    </a:lnTo>
                    <a:lnTo>
                      <a:pt x="694" y="60"/>
                    </a:lnTo>
                    <a:lnTo>
                      <a:pt x="694" y="60"/>
                    </a:lnTo>
                    <a:lnTo>
                      <a:pt x="700" y="52"/>
                    </a:lnTo>
                    <a:lnTo>
                      <a:pt x="706" y="44"/>
                    </a:lnTo>
                    <a:lnTo>
                      <a:pt x="706" y="44"/>
                    </a:lnTo>
                    <a:lnTo>
                      <a:pt x="710" y="44"/>
                    </a:lnTo>
                    <a:lnTo>
                      <a:pt x="712" y="44"/>
                    </a:lnTo>
                    <a:lnTo>
                      <a:pt x="716" y="40"/>
                    </a:lnTo>
                    <a:lnTo>
                      <a:pt x="722" y="30"/>
                    </a:lnTo>
                    <a:lnTo>
                      <a:pt x="722" y="30"/>
                    </a:lnTo>
                    <a:lnTo>
                      <a:pt x="720" y="36"/>
                    </a:lnTo>
                    <a:lnTo>
                      <a:pt x="714" y="42"/>
                    </a:lnTo>
                    <a:lnTo>
                      <a:pt x="702" y="52"/>
                    </a:lnTo>
                    <a:lnTo>
                      <a:pt x="702" y="52"/>
                    </a:lnTo>
                    <a:lnTo>
                      <a:pt x="704" y="60"/>
                    </a:lnTo>
                    <a:lnTo>
                      <a:pt x="706" y="64"/>
                    </a:lnTo>
                    <a:lnTo>
                      <a:pt x="706" y="64"/>
                    </a:lnTo>
                    <a:lnTo>
                      <a:pt x="704" y="62"/>
                    </a:lnTo>
                    <a:lnTo>
                      <a:pt x="702" y="60"/>
                    </a:lnTo>
                    <a:lnTo>
                      <a:pt x="702" y="60"/>
                    </a:lnTo>
                    <a:lnTo>
                      <a:pt x="702" y="62"/>
                    </a:lnTo>
                    <a:lnTo>
                      <a:pt x="702" y="62"/>
                    </a:lnTo>
                    <a:lnTo>
                      <a:pt x="702" y="66"/>
                    </a:lnTo>
                    <a:lnTo>
                      <a:pt x="702" y="66"/>
                    </a:lnTo>
                    <a:lnTo>
                      <a:pt x="706" y="62"/>
                    </a:lnTo>
                    <a:lnTo>
                      <a:pt x="712" y="56"/>
                    </a:lnTo>
                    <a:lnTo>
                      <a:pt x="718" y="54"/>
                    </a:lnTo>
                    <a:lnTo>
                      <a:pt x="724" y="52"/>
                    </a:lnTo>
                    <a:lnTo>
                      <a:pt x="728" y="52"/>
                    </a:lnTo>
                    <a:lnTo>
                      <a:pt x="734" y="54"/>
                    </a:lnTo>
                    <a:lnTo>
                      <a:pt x="736" y="62"/>
                    </a:lnTo>
                    <a:lnTo>
                      <a:pt x="734" y="72"/>
                    </a:lnTo>
                    <a:lnTo>
                      <a:pt x="734" y="72"/>
                    </a:lnTo>
                    <a:lnTo>
                      <a:pt x="738" y="72"/>
                    </a:lnTo>
                    <a:lnTo>
                      <a:pt x="740" y="72"/>
                    </a:lnTo>
                    <a:lnTo>
                      <a:pt x="742" y="70"/>
                    </a:lnTo>
                    <a:lnTo>
                      <a:pt x="742" y="66"/>
                    </a:lnTo>
                    <a:lnTo>
                      <a:pt x="742" y="66"/>
                    </a:lnTo>
                    <a:lnTo>
                      <a:pt x="744" y="70"/>
                    </a:lnTo>
                    <a:lnTo>
                      <a:pt x="744" y="70"/>
                    </a:lnTo>
                    <a:lnTo>
                      <a:pt x="746" y="64"/>
                    </a:lnTo>
                    <a:lnTo>
                      <a:pt x="748" y="44"/>
                    </a:lnTo>
                    <a:lnTo>
                      <a:pt x="748" y="44"/>
                    </a:lnTo>
                    <a:lnTo>
                      <a:pt x="754" y="46"/>
                    </a:lnTo>
                    <a:lnTo>
                      <a:pt x="758" y="50"/>
                    </a:lnTo>
                    <a:lnTo>
                      <a:pt x="768" y="60"/>
                    </a:lnTo>
                    <a:lnTo>
                      <a:pt x="768" y="60"/>
                    </a:lnTo>
                    <a:lnTo>
                      <a:pt x="774" y="58"/>
                    </a:lnTo>
                    <a:lnTo>
                      <a:pt x="778" y="54"/>
                    </a:lnTo>
                    <a:lnTo>
                      <a:pt x="784" y="52"/>
                    </a:lnTo>
                    <a:lnTo>
                      <a:pt x="790" y="50"/>
                    </a:lnTo>
                    <a:lnTo>
                      <a:pt x="790" y="50"/>
                    </a:lnTo>
                    <a:lnTo>
                      <a:pt x="788" y="38"/>
                    </a:lnTo>
                    <a:lnTo>
                      <a:pt x="790" y="32"/>
                    </a:lnTo>
                    <a:lnTo>
                      <a:pt x="792" y="30"/>
                    </a:lnTo>
                    <a:lnTo>
                      <a:pt x="792" y="30"/>
                    </a:lnTo>
                    <a:lnTo>
                      <a:pt x="790" y="34"/>
                    </a:lnTo>
                    <a:lnTo>
                      <a:pt x="790" y="38"/>
                    </a:lnTo>
                    <a:lnTo>
                      <a:pt x="790" y="48"/>
                    </a:lnTo>
                    <a:lnTo>
                      <a:pt x="790" y="48"/>
                    </a:lnTo>
                    <a:lnTo>
                      <a:pt x="794" y="52"/>
                    </a:lnTo>
                    <a:lnTo>
                      <a:pt x="796" y="52"/>
                    </a:lnTo>
                    <a:lnTo>
                      <a:pt x="800" y="56"/>
                    </a:lnTo>
                    <a:lnTo>
                      <a:pt x="800" y="60"/>
                    </a:lnTo>
                    <a:lnTo>
                      <a:pt x="800" y="60"/>
                    </a:lnTo>
                    <a:lnTo>
                      <a:pt x="808" y="58"/>
                    </a:lnTo>
                    <a:lnTo>
                      <a:pt x="808" y="58"/>
                    </a:lnTo>
                    <a:lnTo>
                      <a:pt x="804" y="52"/>
                    </a:lnTo>
                    <a:lnTo>
                      <a:pt x="802" y="52"/>
                    </a:lnTo>
                    <a:lnTo>
                      <a:pt x="802" y="56"/>
                    </a:lnTo>
                    <a:lnTo>
                      <a:pt x="802" y="56"/>
                    </a:lnTo>
                    <a:lnTo>
                      <a:pt x="802" y="52"/>
                    </a:lnTo>
                    <a:lnTo>
                      <a:pt x="800" y="48"/>
                    </a:lnTo>
                    <a:lnTo>
                      <a:pt x="794" y="40"/>
                    </a:lnTo>
                    <a:lnTo>
                      <a:pt x="794" y="40"/>
                    </a:lnTo>
                    <a:lnTo>
                      <a:pt x="796" y="36"/>
                    </a:lnTo>
                    <a:lnTo>
                      <a:pt x="800" y="34"/>
                    </a:lnTo>
                    <a:lnTo>
                      <a:pt x="808" y="28"/>
                    </a:lnTo>
                    <a:lnTo>
                      <a:pt x="812" y="28"/>
                    </a:lnTo>
                    <a:lnTo>
                      <a:pt x="816" y="30"/>
                    </a:lnTo>
                    <a:lnTo>
                      <a:pt x="820" y="32"/>
                    </a:lnTo>
                    <a:lnTo>
                      <a:pt x="824" y="34"/>
                    </a:lnTo>
                    <a:lnTo>
                      <a:pt x="824" y="34"/>
                    </a:lnTo>
                    <a:lnTo>
                      <a:pt x="824" y="34"/>
                    </a:lnTo>
                    <a:lnTo>
                      <a:pt x="824" y="32"/>
                    </a:lnTo>
                    <a:lnTo>
                      <a:pt x="824" y="30"/>
                    </a:lnTo>
                    <a:lnTo>
                      <a:pt x="824" y="30"/>
                    </a:lnTo>
                    <a:lnTo>
                      <a:pt x="828" y="30"/>
                    </a:lnTo>
                    <a:lnTo>
                      <a:pt x="832" y="34"/>
                    </a:lnTo>
                    <a:lnTo>
                      <a:pt x="840" y="40"/>
                    </a:lnTo>
                    <a:lnTo>
                      <a:pt x="840" y="40"/>
                    </a:lnTo>
                    <a:lnTo>
                      <a:pt x="848" y="26"/>
                    </a:lnTo>
                    <a:lnTo>
                      <a:pt x="852" y="22"/>
                    </a:lnTo>
                    <a:lnTo>
                      <a:pt x="858" y="18"/>
                    </a:lnTo>
                    <a:lnTo>
                      <a:pt x="858" y="18"/>
                    </a:lnTo>
                    <a:lnTo>
                      <a:pt x="858" y="10"/>
                    </a:lnTo>
                    <a:lnTo>
                      <a:pt x="858" y="10"/>
                    </a:lnTo>
                    <a:lnTo>
                      <a:pt x="860" y="10"/>
                    </a:lnTo>
                    <a:lnTo>
                      <a:pt x="860" y="12"/>
                    </a:lnTo>
                    <a:lnTo>
                      <a:pt x="860" y="16"/>
                    </a:lnTo>
                    <a:lnTo>
                      <a:pt x="860" y="20"/>
                    </a:lnTo>
                    <a:lnTo>
                      <a:pt x="862" y="20"/>
                    </a:lnTo>
                    <a:lnTo>
                      <a:pt x="864" y="20"/>
                    </a:lnTo>
                    <a:lnTo>
                      <a:pt x="864" y="20"/>
                    </a:lnTo>
                    <a:lnTo>
                      <a:pt x="862" y="24"/>
                    </a:lnTo>
                    <a:lnTo>
                      <a:pt x="862" y="28"/>
                    </a:lnTo>
                    <a:lnTo>
                      <a:pt x="864" y="38"/>
                    </a:lnTo>
                    <a:lnTo>
                      <a:pt x="864" y="38"/>
                    </a:lnTo>
                    <a:lnTo>
                      <a:pt x="870" y="38"/>
                    </a:lnTo>
                    <a:lnTo>
                      <a:pt x="876" y="40"/>
                    </a:lnTo>
                    <a:lnTo>
                      <a:pt x="876" y="40"/>
                    </a:lnTo>
                    <a:lnTo>
                      <a:pt x="874" y="28"/>
                    </a:lnTo>
                    <a:lnTo>
                      <a:pt x="870" y="18"/>
                    </a:lnTo>
                    <a:lnTo>
                      <a:pt x="870" y="18"/>
                    </a:lnTo>
                    <a:lnTo>
                      <a:pt x="868" y="18"/>
                    </a:lnTo>
                    <a:lnTo>
                      <a:pt x="866" y="20"/>
                    </a:lnTo>
                    <a:lnTo>
                      <a:pt x="866" y="20"/>
                    </a:lnTo>
                    <a:lnTo>
                      <a:pt x="868" y="16"/>
                    </a:lnTo>
                    <a:lnTo>
                      <a:pt x="868" y="12"/>
                    </a:lnTo>
                    <a:lnTo>
                      <a:pt x="866" y="0"/>
                    </a:lnTo>
                    <a:lnTo>
                      <a:pt x="866" y="0"/>
                    </a:lnTo>
                    <a:lnTo>
                      <a:pt x="872" y="8"/>
                    </a:lnTo>
                    <a:lnTo>
                      <a:pt x="872" y="12"/>
                    </a:lnTo>
                    <a:lnTo>
                      <a:pt x="872" y="14"/>
                    </a:lnTo>
                    <a:lnTo>
                      <a:pt x="872" y="14"/>
                    </a:lnTo>
                    <a:lnTo>
                      <a:pt x="870" y="10"/>
                    </a:lnTo>
                    <a:lnTo>
                      <a:pt x="868" y="8"/>
                    </a:lnTo>
                    <a:lnTo>
                      <a:pt x="868" y="8"/>
                    </a:lnTo>
                    <a:lnTo>
                      <a:pt x="1346" y="338"/>
                    </a:lnTo>
                    <a:lnTo>
                      <a:pt x="1346" y="338"/>
                    </a:lnTo>
                    <a:lnTo>
                      <a:pt x="1342" y="340"/>
                    </a:lnTo>
                    <a:lnTo>
                      <a:pt x="1336" y="342"/>
                    </a:lnTo>
                    <a:lnTo>
                      <a:pt x="1324" y="340"/>
                    </a:lnTo>
                    <a:lnTo>
                      <a:pt x="1324" y="340"/>
                    </a:lnTo>
                    <a:lnTo>
                      <a:pt x="1322" y="346"/>
                    </a:lnTo>
                    <a:lnTo>
                      <a:pt x="1322" y="352"/>
                    </a:lnTo>
                    <a:lnTo>
                      <a:pt x="1322" y="352"/>
                    </a:lnTo>
                    <a:lnTo>
                      <a:pt x="1336" y="348"/>
                    </a:lnTo>
                    <a:lnTo>
                      <a:pt x="1344" y="344"/>
                    </a:lnTo>
                    <a:lnTo>
                      <a:pt x="1344" y="342"/>
                    </a:lnTo>
                    <a:lnTo>
                      <a:pt x="1346" y="338"/>
                    </a:lnTo>
                    <a:lnTo>
                      <a:pt x="1346" y="338"/>
                    </a:lnTo>
                    <a:lnTo>
                      <a:pt x="1290" y="452"/>
                    </a:lnTo>
                    <a:lnTo>
                      <a:pt x="1290" y="452"/>
                    </a:lnTo>
                    <a:lnTo>
                      <a:pt x="1296" y="460"/>
                    </a:lnTo>
                    <a:lnTo>
                      <a:pt x="1304" y="468"/>
                    </a:lnTo>
                    <a:lnTo>
                      <a:pt x="1304" y="468"/>
                    </a:lnTo>
                    <a:lnTo>
                      <a:pt x="1310" y="466"/>
                    </a:lnTo>
                    <a:lnTo>
                      <a:pt x="1314" y="466"/>
                    </a:lnTo>
                    <a:lnTo>
                      <a:pt x="1322" y="462"/>
                    </a:lnTo>
                    <a:lnTo>
                      <a:pt x="1322" y="462"/>
                    </a:lnTo>
                    <a:lnTo>
                      <a:pt x="1318" y="460"/>
                    </a:lnTo>
                    <a:lnTo>
                      <a:pt x="1314" y="458"/>
                    </a:lnTo>
                    <a:lnTo>
                      <a:pt x="1306" y="450"/>
                    </a:lnTo>
                    <a:lnTo>
                      <a:pt x="1302" y="448"/>
                    </a:lnTo>
                    <a:lnTo>
                      <a:pt x="1298" y="446"/>
                    </a:lnTo>
                    <a:lnTo>
                      <a:pt x="1294" y="448"/>
                    </a:lnTo>
                    <a:lnTo>
                      <a:pt x="1290" y="452"/>
                    </a:lnTo>
                    <a:lnTo>
                      <a:pt x="1290" y="452"/>
                    </a:lnTo>
                    <a:lnTo>
                      <a:pt x="1584" y="910"/>
                    </a:lnTo>
                    <a:lnTo>
                      <a:pt x="1584" y="910"/>
                    </a:lnTo>
                    <a:lnTo>
                      <a:pt x="1586" y="908"/>
                    </a:lnTo>
                    <a:lnTo>
                      <a:pt x="1590" y="906"/>
                    </a:lnTo>
                    <a:lnTo>
                      <a:pt x="1590" y="906"/>
                    </a:lnTo>
                    <a:lnTo>
                      <a:pt x="1588" y="904"/>
                    </a:lnTo>
                    <a:lnTo>
                      <a:pt x="1586" y="902"/>
                    </a:lnTo>
                    <a:lnTo>
                      <a:pt x="1586" y="902"/>
                    </a:lnTo>
                    <a:lnTo>
                      <a:pt x="1584" y="910"/>
                    </a:lnTo>
                    <a:lnTo>
                      <a:pt x="1584" y="910"/>
                    </a:lnTo>
                    <a:lnTo>
                      <a:pt x="1446" y="1830"/>
                    </a:lnTo>
                    <a:lnTo>
                      <a:pt x="1446" y="1830"/>
                    </a:lnTo>
                    <a:lnTo>
                      <a:pt x="1440" y="1830"/>
                    </a:lnTo>
                    <a:lnTo>
                      <a:pt x="1436" y="1832"/>
                    </a:lnTo>
                    <a:lnTo>
                      <a:pt x="1432" y="1834"/>
                    </a:lnTo>
                    <a:lnTo>
                      <a:pt x="1426" y="1834"/>
                    </a:lnTo>
                    <a:lnTo>
                      <a:pt x="1426" y="1834"/>
                    </a:lnTo>
                    <a:lnTo>
                      <a:pt x="1426" y="1838"/>
                    </a:lnTo>
                    <a:lnTo>
                      <a:pt x="1426" y="1842"/>
                    </a:lnTo>
                    <a:lnTo>
                      <a:pt x="1426" y="1842"/>
                    </a:lnTo>
                    <a:lnTo>
                      <a:pt x="1438" y="1838"/>
                    </a:lnTo>
                    <a:lnTo>
                      <a:pt x="1442" y="1836"/>
                    </a:lnTo>
                    <a:lnTo>
                      <a:pt x="1446" y="1830"/>
                    </a:lnTo>
                    <a:lnTo>
                      <a:pt x="1446" y="1830"/>
                    </a:lnTo>
                    <a:lnTo>
                      <a:pt x="446" y="1702"/>
                    </a:lnTo>
                    <a:lnTo>
                      <a:pt x="446" y="1702"/>
                    </a:lnTo>
                    <a:lnTo>
                      <a:pt x="446" y="1698"/>
                    </a:lnTo>
                    <a:lnTo>
                      <a:pt x="446" y="1698"/>
                    </a:lnTo>
                    <a:lnTo>
                      <a:pt x="442" y="1698"/>
                    </a:lnTo>
                    <a:lnTo>
                      <a:pt x="442" y="1700"/>
                    </a:lnTo>
                    <a:lnTo>
                      <a:pt x="442" y="1702"/>
                    </a:lnTo>
                    <a:lnTo>
                      <a:pt x="446" y="1702"/>
                    </a:lnTo>
                    <a:lnTo>
                      <a:pt x="446" y="1702"/>
                    </a:lnTo>
                    <a:lnTo>
                      <a:pt x="332" y="1620"/>
                    </a:lnTo>
                    <a:lnTo>
                      <a:pt x="332" y="1620"/>
                    </a:lnTo>
                    <a:lnTo>
                      <a:pt x="334" y="1618"/>
                    </a:lnTo>
                    <a:lnTo>
                      <a:pt x="334" y="1616"/>
                    </a:lnTo>
                    <a:lnTo>
                      <a:pt x="332" y="1610"/>
                    </a:lnTo>
                    <a:lnTo>
                      <a:pt x="332" y="1610"/>
                    </a:lnTo>
                    <a:lnTo>
                      <a:pt x="326" y="1610"/>
                    </a:lnTo>
                    <a:lnTo>
                      <a:pt x="322" y="1612"/>
                    </a:lnTo>
                    <a:lnTo>
                      <a:pt x="320" y="1614"/>
                    </a:lnTo>
                    <a:lnTo>
                      <a:pt x="320" y="1614"/>
                    </a:lnTo>
                    <a:lnTo>
                      <a:pt x="324" y="1616"/>
                    </a:lnTo>
                    <a:lnTo>
                      <a:pt x="328" y="1616"/>
                    </a:lnTo>
                    <a:lnTo>
                      <a:pt x="330" y="1618"/>
                    </a:lnTo>
                    <a:lnTo>
                      <a:pt x="332" y="1620"/>
                    </a:lnTo>
                    <a:lnTo>
                      <a:pt x="332" y="1620"/>
                    </a:lnTo>
                    <a:lnTo>
                      <a:pt x="64" y="1592"/>
                    </a:lnTo>
                    <a:lnTo>
                      <a:pt x="64" y="1592"/>
                    </a:lnTo>
                    <a:lnTo>
                      <a:pt x="64" y="1588"/>
                    </a:lnTo>
                    <a:lnTo>
                      <a:pt x="66" y="1586"/>
                    </a:lnTo>
                    <a:lnTo>
                      <a:pt x="68" y="1582"/>
                    </a:lnTo>
                    <a:lnTo>
                      <a:pt x="70" y="1580"/>
                    </a:lnTo>
                    <a:lnTo>
                      <a:pt x="70" y="1580"/>
                    </a:lnTo>
                    <a:lnTo>
                      <a:pt x="64" y="1578"/>
                    </a:lnTo>
                    <a:lnTo>
                      <a:pt x="58" y="1580"/>
                    </a:lnTo>
                    <a:lnTo>
                      <a:pt x="46" y="1584"/>
                    </a:lnTo>
                    <a:lnTo>
                      <a:pt x="46" y="1584"/>
                    </a:lnTo>
                    <a:lnTo>
                      <a:pt x="54" y="1590"/>
                    </a:lnTo>
                    <a:lnTo>
                      <a:pt x="64" y="1592"/>
                    </a:lnTo>
                    <a:lnTo>
                      <a:pt x="64" y="1592"/>
                    </a:lnTo>
                    <a:lnTo>
                      <a:pt x="336" y="1392"/>
                    </a:lnTo>
                    <a:lnTo>
                      <a:pt x="336" y="1392"/>
                    </a:lnTo>
                    <a:lnTo>
                      <a:pt x="336" y="1392"/>
                    </a:lnTo>
                    <a:lnTo>
                      <a:pt x="334" y="1390"/>
                    </a:lnTo>
                    <a:lnTo>
                      <a:pt x="334" y="1388"/>
                    </a:lnTo>
                    <a:lnTo>
                      <a:pt x="336" y="1388"/>
                    </a:lnTo>
                    <a:lnTo>
                      <a:pt x="336" y="1388"/>
                    </a:lnTo>
                    <a:lnTo>
                      <a:pt x="338" y="1394"/>
                    </a:lnTo>
                    <a:lnTo>
                      <a:pt x="342" y="1396"/>
                    </a:lnTo>
                    <a:lnTo>
                      <a:pt x="346" y="1396"/>
                    </a:lnTo>
                    <a:lnTo>
                      <a:pt x="346" y="1396"/>
                    </a:lnTo>
                    <a:lnTo>
                      <a:pt x="346" y="1394"/>
                    </a:lnTo>
                    <a:lnTo>
                      <a:pt x="348" y="1392"/>
                    </a:lnTo>
                    <a:lnTo>
                      <a:pt x="348" y="1388"/>
                    </a:lnTo>
                    <a:lnTo>
                      <a:pt x="348" y="1388"/>
                    </a:lnTo>
                    <a:lnTo>
                      <a:pt x="348" y="1392"/>
                    </a:lnTo>
                    <a:lnTo>
                      <a:pt x="350" y="1394"/>
                    </a:lnTo>
                    <a:lnTo>
                      <a:pt x="350" y="1394"/>
                    </a:lnTo>
                    <a:lnTo>
                      <a:pt x="364" y="1392"/>
                    </a:lnTo>
                    <a:lnTo>
                      <a:pt x="376" y="1388"/>
                    </a:lnTo>
                    <a:lnTo>
                      <a:pt x="376" y="1388"/>
                    </a:lnTo>
                    <a:lnTo>
                      <a:pt x="358" y="1374"/>
                    </a:lnTo>
                    <a:lnTo>
                      <a:pt x="358" y="1374"/>
                    </a:lnTo>
                    <a:lnTo>
                      <a:pt x="352" y="1376"/>
                    </a:lnTo>
                    <a:lnTo>
                      <a:pt x="346" y="1378"/>
                    </a:lnTo>
                    <a:lnTo>
                      <a:pt x="340" y="1380"/>
                    </a:lnTo>
                    <a:lnTo>
                      <a:pt x="338" y="1382"/>
                    </a:lnTo>
                    <a:lnTo>
                      <a:pt x="338" y="1386"/>
                    </a:lnTo>
                    <a:lnTo>
                      <a:pt x="338" y="1386"/>
                    </a:lnTo>
                    <a:lnTo>
                      <a:pt x="338" y="1380"/>
                    </a:lnTo>
                    <a:lnTo>
                      <a:pt x="338" y="1380"/>
                    </a:lnTo>
                    <a:lnTo>
                      <a:pt x="332" y="1382"/>
                    </a:lnTo>
                    <a:lnTo>
                      <a:pt x="328" y="1382"/>
                    </a:lnTo>
                    <a:lnTo>
                      <a:pt x="328" y="1382"/>
                    </a:lnTo>
                    <a:lnTo>
                      <a:pt x="330" y="1388"/>
                    </a:lnTo>
                    <a:lnTo>
                      <a:pt x="334" y="1392"/>
                    </a:lnTo>
                    <a:lnTo>
                      <a:pt x="336" y="1392"/>
                    </a:lnTo>
                    <a:lnTo>
                      <a:pt x="336" y="1392"/>
                    </a:lnTo>
                    <a:lnTo>
                      <a:pt x="304" y="890"/>
                    </a:lnTo>
                    <a:lnTo>
                      <a:pt x="304" y="890"/>
                    </a:lnTo>
                    <a:lnTo>
                      <a:pt x="310" y="902"/>
                    </a:lnTo>
                    <a:lnTo>
                      <a:pt x="318" y="914"/>
                    </a:lnTo>
                    <a:lnTo>
                      <a:pt x="318" y="914"/>
                    </a:lnTo>
                    <a:lnTo>
                      <a:pt x="318" y="910"/>
                    </a:lnTo>
                    <a:lnTo>
                      <a:pt x="318" y="910"/>
                    </a:lnTo>
                    <a:lnTo>
                      <a:pt x="320" y="908"/>
                    </a:lnTo>
                    <a:lnTo>
                      <a:pt x="320" y="908"/>
                    </a:lnTo>
                    <a:lnTo>
                      <a:pt x="320" y="916"/>
                    </a:lnTo>
                    <a:lnTo>
                      <a:pt x="320" y="920"/>
                    </a:lnTo>
                    <a:lnTo>
                      <a:pt x="322" y="924"/>
                    </a:lnTo>
                    <a:lnTo>
                      <a:pt x="322" y="924"/>
                    </a:lnTo>
                    <a:lnTo>
                      <a:pt x="326" y="920"/>
                    </a:lnTo>
                    <a:lnTo>
                      <a:pt x="332" y="916"/>
                    </a:lnTo>
                    <a:lnTo>
                      <a:pt x="346" y="914"/>
                    </a:lnTo>
                    <a:lnTo>
                      <a:pt x="346" y="914"/>
                    </a:lnTo>
                    <a:lnTo>
                      <a:pt x="342" y="906"/>
                    </a:lnTo>
                    <a:lnTo>
                      <a:pt x="338" y="896"/>
                    </a:lnTo>
                    <a:lnTo>
                      <a:pt x="338" y="896"/>
                    </a:lnTo>
                    <a:lnTo>
                      <a:pt x="334" y="894"/>
                    </a:lnTo>
                    <a:lnTo>
                      <a:pt x="330" y="892"/>
                    </a:lnTo>
                    <a:lnTo>
                      <a:pt x="330" y="892"/>
                    </a:lnTo>
                    <a:lnTo>
                      <a:pt x="334" y="892"/>
                    </a:lnTo>
                    <a:lnTo>
                      <a:pt x="338" y="892"/>
                    </a:lnTo>
                    <a:lnTo>
                      <a:pt x="338" y="892"/>
                    </a:lnTo>
                    <a:lnTo>
                      <a:pt x="336" y="886"/>
                    </a:lnTo>
                    <a:lnTo>
                      <a:pt x="332" y="882"/>
                    </a:lnTo>
                    <a:lnTo>
                      <a:pt x="324" y="878"/>
                    </a:lnTo>
                    <a:lnTo>
                      <a:pt x="316" y="874"/>
                    </a:lnTo>
                    <a:lnTo>
                      <a:pt x="306" y="868"/>
                    </a:lnTo>
                    <a:lnTo>
                      <a:pt x="306" y="868"/>
                    </a:lnTo>
                    <a:lnTo>
                      <a:pt x="304" y="874"/>
                    </a:lnTo>
                    <a:lnTo>
                      <a:pt x="302" y="876"/>
                    </a:lnTo>
                    <a:lnTo>
                      <a:pt x="298" y="876"/>
                    </a:lnTo>
                    <a:lnTo>
                      <a:pt x="298" y="876"/>
                    </a:lnTo>
                    <a:lnTo>
                      <a:pt x="300" y="884"/>
                    </a:lnTo>
                    <a:lnTo>
                      <a:pt x="302" y="886"/>
                    </a:lnTo>
                    <a:lnTo>
                      <a:pt x="306" y="886"/>
                    </a:lnTo>
                    <a:lnTo>
                      <a:pt x="306" y="886"/>
                    </a:lnTo>
                    <a:lnTo>
                      <a:pt x="310" y="880"/>
                    </a:lnTo>
                    <a:lnTo>
                      <a:pt x="312" y="876"/>
                    </a:lnTo>
                    <a:lnTo>
                      <a:pt x="312" y="876"/>
                    </a:lnTo>
                    <a:lnTo>
                      <a:pt x="310" y="884"/>
                    </a:lnTo>
                    <a:lnTo>
                      <a:pt x="308" y="888"/>
                    </a:lnTo>
                    <a:lnTo>
                      <a:pt x="304" y="890"/>
                    </a:lnTo>
                    <a:lnTo>
                      <a:pt x="304" y="890"/>
                    </a:lnTo>
                    <a:lnTo>
                      <a:pt x="764" y="260"/>
                    </a:lnTo>
                    <a:lnTo>
                      <a:pt x="764" y="260"/>
                    </a:lnTo>
                    <a:lnTo>
                      <a:pt x="760" y="266"/>
                    </a:lnTo>
                    <a:lnTo>
                      <a:pt x="754" y="270"/>
                    </a:lnTo>
                    <a:lnTo>
                      <a:pt x="748" y="272"/>
                    </a:lnTo>
                    <a:lnTo>
                      <a:pt x="742" y="274"/>
                    </a:lnTo>
                    <a:lnTo>
                      <a:pt x="742" y="274"/>
                    </a:lnTo>
                    <a:lnTo>
                      <a:pt x="746" y="280"/>
                    </a:lnTo>
                    <a:lnTo>
                      <a:pt x="752" y="286"/>
                    </a:lnTo>
                    <a:lnTo>
                      <a:pt x="756" y="288"/>
                    </a:lnTo>
                    <a:lnTo>
                      <a:pt x="760" y="288"/>
                    </a:lnTo>
                    <a:lnTo>
                      <a:pt x="764" y="288"/>
                    </a:lnTo>
                    <a:lnTo>
                      <a:pt x="768" y="286"/>
                    </a:lnTo>
                    <a:lnTo>
                      <a:pt x="768" y="286"/>
                    </a:lnTo>
                    <a:lnTo>
                      <a:pt x="766" y="288"/>
                    </a:lnTo>
                    <a:lnTo>
                      <a:pt x="764" y="290"/>
                    </a:lnTo>
                    <a:lnTo>
                      <a:pt x="764" y="292"/>
                    </a:lnTo>
                    <a:lnTo>
                      <a:pt x="764" y="292"/>
                    </a:lnTo>
                    <a:lnTo>
                      <a:pt x="772" y="294"/>
                    </a:lnTo>
                    <a:lnTo>
                      <a:pt x="776" y="294"/>
                    </a:lnTo>
                    <a:lnTo>
                      <a:pt x="780" y="292"/>
                    </a:lnTo>
                    <a:lnTo>
                      <a:pt x="780" y="292"/>
                    </a:lnTo>
                    <a:lnTo>
                      <a:pt x="784" y="296"/>
                    </a:lnTo>
                    <a:lnTo>
                      <a:pt x="788" y="298"/>
                    </a:lnTo>
                    <a:lnTo>
                      <a:pt x="800" y="300"/>
                    </a:lnTo>
                    <a:lnTo>
                      <a:pt x="800" y="300"/>
                    </a:lnTo>
                    <a:lnTo>
                      <a:pt x="788" y="290"/>
                    </a:lnTo>
                    <a:lnTo>
                      <a:pt x="780" y="280"/>
                    </a:lnTo>
                    <a:lnTo>
                      <a:pt x="764" y="260"/>
                    </a:lnTo>
                    <a:lnTo>
                      <a:pt x="764" y="260"/>
                    </a:lnTo>
                    <a:lnTo>
                      <a:pt x="812" y="80"/>
                    </a:lnTo>
                    <a:lnTo>
                      <a:pt x="812" y="80"/>
                    </a:lnTo>
                    <a:lnTo>
                      <a:pt x="816" y="78"/>
                    </a:lnTo>
                    <a:lnTo>
                      <a:pt x="818" y="76"/>
                    </a:lnTo>
                    <a:lnTo>
                      <a:pt x="820" y="72"/>
                    </a:lnTo>
                    <a:lnTo>
                      <a:pt x="818" y="68"/>
                    </a:lnTo>
                    <a:lnTo>
                      <a:pt x="814" y="62"/>
                    </a:lnTo>
                    <a:lnTo>
                      <a:pt x="808" y="58"/>
                    </a:lnTo>
                    <a:lnTo>
                      <a:pt x="808" y="58"/>
                    </a:lnTo>
                    <a:lnTo>
                      <a:pt x="806" y="62"/>
                    </a:lnTo>
                    <a:lnTo>
                      <a:pt x="808" y="68"/>
                    </a:lnTo>
                    <a:lnTo>
                      <a:pt x="812" y="80"/>
                    </a:lnTo>
                    <a:lnTo>
                      <a:pt x="812" y="80"/>
                    </a:lnTo>
                    <a:lnTo>
                      <a:pt x="928" y="56"/>
                    </a:lnTo>
                    <a:lnTo>
                      <a:pt x="928" y="56"/>
                    </a:lnTo>
                    <a:lnTo>
                      <a:pt x="934" y="56"/>
                    </a:lnTo>
                    <a:lnTo>
                      <a:pt x="934" y="56"/>
                    </a:lnTo>
                    <a:lnTo>
                      <a:pt x="938" y="50"/>
                    </a:lnTo>
                    <a:lnTo>
                      <a:pt x="940" y="48"/>
                    </a:lnTo>
                    <a:lnTo>
                      <a:pt x="940" y="46"/>
                    </a:lnTo>
                    <a:lnTo>
                      <a:pt x="940" y="46"/>
                    </a:lnTo>
                    <a:lnTo>
                      <a:pt x="934" y="50"/>
                    </a:lnTo>
                    <a:lnTo>
                      <a:pt x="930" y="52"/>
                    </a:lnTo>
                    <a:lnTo>
                      <a:pt x="928" y="56"/>
                    </a:lnTo>
                    <a:lnTo>
                      <a:pt x="928" y="56"/>
                    </a:lnTo>
                    <a:lnTo>
                      <a:pt x="952" y="90"/>
                    </a:lnTo>
                    <a:lnTo>
                      <a:pt x="952" y="90"/>
                    </a:lnTo>
                    <a:lnTo>
                      <a:pt x="958" y="84"/>
                    </a:lnTo>
                    <a:lnTo>
                      <a:pt x="960" y="82"/>
                    </a:lnTo>
                    <a:lnTo>
                      <a:pt x="960" y="76"/>
                    </a:lnTo>
                    <a:lnTo>
                      <a:pt x="960" y="76"/>
                    </a:lnTo>
                    <a:lnTo>
                      <a:pt x="956" y="78"/>
                    </a:lnTo>
                    <a:lnTo>
                      <a:pt x="954" y="76"/>
                    </a:lnTo>
                    <a:lnTo>
                      <a:pt x="952" y="70"/>
                    </a:lnTo>
                    <a:lnTo>
                      <a:pt x="950" y="64"/>
                    </a:lnTo>
                    <a:lnTo>
                      <a:pt x="946" y="58"/>
                    </a:lnTo>
                    <a:lnTo>
                      <a:pt x="946" y="58"/>
                    </a:lnTo>
                    <a:lnTo>
                      <a:pt x="938" y="60"/>
                    </a:lnTo>
                    <a:lnTo>
                      <a:pt x="932" y="64"/>
                    </a:lnTo>
                    <a:lnTo>
                      <a:pt x="928" y="70"/>
                    </a:lnTo>
                    <a:lnTo>
                      <a:pt x="928" y="80"/>
                    </a:lnTo>
                    <a:lnTo>
                      <a:pt x="928" y="80"/>
                    </a:lnTo>
                    <a:lnTo>
                      <a:pt x="934" y="80"/>
                    </a:lnTo>
                    <a:lnTo>
                      <a:pt x="940" y="82"/>
                    </a:lnTo>
                    <a:lnTo>
                      <a:pt x="946" y="86"/>
                    </a:lnTo>
                    <a:lnTo>
                      <a:pt x="950" y="86"/>
                    </a:lnTo>
                    <a:lnTo>
                      <a:pt x="950" y="86"/>
                    </a:lnTo>
                    <a:lnTo>
                      <a:pt x="948" y="86"/>
                    </a:lnTo>
                    <a:lnTo>
                      <a:pt x="948" y="84"/>
                    </a:lnTo>
                    <a:lnTo>
                      <a:pt x="950" y="84"/>
                    </a:lnTo>
                    <a:lnTo>
                      <a:pt x="950" y="84"/>
                    </a:lnTo>
                    <a:lnTo>
                      <a:pt x="950" y="84"/>
                    </a:lnTo>
                    <a:lnTo>
                      <a:pt x="950" y="84"/>
                    </a:lnTo>
                    <a:lnTo>
                      <a:pt x="952" y="82"/>
                    </a:lnTo>
                    <a:lnTo>
                      <a:pt x="952" y="82"/>
                    </a:lnTo>
                    <a:lnTo>
                      <a:pt x="952" y="86"/>
                    </a:lnTo>
                    <a:lnTo>
                      <a:pt x="952" y="90"/>
                    </a:lnTo>
                    <a:lnTo>
                      <a:pt x="952" y="90"/>
                    </a:lnTo>
                    <a:lnTo>
                      <a:pt x="808" y="80"/>
                    </a:lnTo>
                    <a:lnTo>
                      <a:pt x="808" y="80"/>
                    </a:lnTo>
                    <a:lnTo>
                      <a:pt x="806" y="68"/>
                    </a:lnTo>
                    <a:lnTo>
                      <a:pt x="806" y="64"/>
                    </a:lnTo>
                    <a:lnTo>
                      <a:pt x="802" y="60"/>
                    </a:lnTo>
                    <a:lnTo>
                      <a:pt x="802" y="60"/>
                    </a:lnTo>
                    <a:lnTo>
                      <a:pt x="802" y="64"/>
                    </a:lnTo>
                    <a:lnTo>
                      <a:pt x="804" y="70"/>
                    </a:lnTo>
                    <a:lnTo>
                      <a:pt x="804" y="76"/>
                    </a:lnTo>
                    <a:lnTo>
                      <a:pt x="808" y="80"/>
                    </a:lnTo>
                    <a:lnTo>
                      <a:pt x="808" y="80"/>
                    </a:lnTo>
                    <a:lnTo>
                      <a:pt x="854" y="76"/>
                    </a:lnTo>
                    <a:lnTo>
                      <a:pt x="854" y="76"/>
                    </a:lnTo>
                    <a:lnTo>
                      <a:pt x="860" y="78"/>
                    </a:lnTo>
                    <a:lnTo>
                      <a:pt x="862" y="78"/>
                    </a:lnTo>
                    <a:lnTo>
                      <a:pt x="866" y="76"/>
                    </a:lnTo>
                    <a:lnTo>
                      <a:pt x="866" y="76"/>
                    </a:lnTo>
                    <a:lnTo>
                      <a:pt x="866" y="72"/>
                    </a:lnTo>
                    <a:lnTo>
                      <a:pt x="864" y="68"/>
                    </a:lnTo>
                    <a:lnTo>
                      <a:pt x="862" y="66"/>
                    </a:lnTo>
                    <a:lnTo>
                      <a:pt x="860" y="66"/>
                    </a:lnTo>
                    <a:lnTo>
                      <a:pt x="858" y="66"/>
                    </a:lnTo>
                    <a:lnTo>
                      <a:pt x="856" y="68"/>
                    </a:lnTo>
                    <a:lnTo>
                      <a:pt x="856" y="70"/>
                    </a:lnTo>
                    <a:lnTo>
                      <a:pt x="854" y="76"/>
                    </a:lnTo>
                    <a:lnTo>
                      <a:pt x="854" y="76"/>
                    </a:lnTo>
                    <a:lnTo>
                      <a:pt x="878" y="72"/>
                    </a:lnTo>
                    <a:lnTo>
                      <a:pt x="878" y="72"/>
                    </a:lnTo>
                    <a:lnTo>
                      <a:pt x="882" y="74"/>
                    </a:lnTo>
                    <a:lnTo>
                      <a:pt x="886" y="74"/>
                    </a:lnTo>
                    <a:lnTo>
                      <a:pt x="886" y="74"/>
                    </a:lnTo>
                    <a:lnTo>
                      <a:pt x="884" y="68"/>
                    </a:lnTo>
                    <a:lnTo>
                      <a:pt x="884" y="64"/>
                    </a:lnTo>
                    <a:lnTo>
                      <a:pt x="884" y="64"/>
                    </a:lnTo>
                    <a:lnTo>
                      <a:pt x="880" y="68"/>
                    </a:lnTo>
                    <a:lnTo>
                      <a:pt x="878" y="70"/>
                    </a:lnTo>
                    <a:lnTo>
                      <a:pt x="878" y="72"/>
                    </a:lnTo>
                    <a:lnTo>
                      <a:pt x="878" y="72"/>
                    </a:lnTo>
                    <a:lnTo>
                      <a:pt x="770" y="94"/>
                    </a:lnTo>
                    <a:lnTo>
                      <a:pt x="770" y="94"/>
                    </a:lnTo>
                    <a:lnTo>
                      <a:pt x="770" y="90"/>
                    </a:lnTo>
                    <a:lnTo>
                      <a:pt x="770" y="84"/>
                    </a:lnTo>
                    <a:lnTo>
                      <a:pt x="768" y="80"/>
                    </a:lnTo>
                    <a:lnTo>
                      <a:pt x="764" y="80"/>
                    </a:lnTo>
                    <a:lnTo>
                      <a:pt x="764" y="80"/>
                    </a:lnTo>
                    <a:lnTo>
                      <a:pt x="762" y="84"/>
                    </a:lnTo>
                    <a:lnTo>
                      <a:pt x="764" y="88"/>
                    </a:lnTo>
                    <a:lnTo>
                      <a:pt x="766" y="92"/>
                    </a:lnTo>
                    <a:lnTo>
                      <a:pt x="770" y="94"/>
                    </a:lnTo>
                    <a:lnTo>
                      <a:pt x="770" y="94"/>
                    </a:lnTo>
                    <a:lnTo>
                      <a:pt x="692" y="84"/>
                    </a:lnTo>
                    <a:lnTo>
                      <a:pt x="692" y="84"/>
                    </a:lnTo>
                    <a:lnTo>
                      <a:pt x="700" y="84"/>
                    </a:lnTo>
                    <a:lnTo>
                      <a:pt x="702" y="84"/>
                    </a:lnTo>
                    <a:lnTo>
                      <a:pt x="704" y="82"/>
                    </a:lnTo>
                    <a:lnTo>
                      <a:pt x="704" y="82"/>
                    </a:lnTo>
                    <a:lnTo>
                      <a:pt x="698" y="82"/>
                    </a:lnTo>
                    <a:lnTo>
                      <a:pt x="692" y="84"/>
                    </a:lnTo>
                    <a:lnTo>
                      <a:pt x="692" y="84"/>
                    </a:lnTo>
                    <a:lnTo>
                      <a:pt x="730" y="110"/>
                    </a:lnTo>
                    <a:lnTo>
                      <a:pt x="730" y="110"/>
                    </a:lnTo>
                    <a:lnTo>
                      <a:pt x="734" y="110"/>
                    </a:lnTo>
                    <a:lnTo>
                      <a:pt x="736" y="110"/>
                    </a:lnTo>
                    <a:lnTo>
                      <a:pt x="738" y="108"/>
                    </a:lnTo>
                    <a:lnTo>
                      <a:pt x="738" y="108"/>
                    </a:lnTo>
                    <a:lnTo>
                      <a:pt x="730" y="100"/>
                    </a:lnTo>
                    <a:lnTo>
                      <a:pt x="726" y="98"/>
                    </a:lnTo>
                    <a:lnTo>
                      <a:pt x="722" y="98"/>
                    </a:lnTo>
                    <a:lnTo>
                      <a:pt x="722" y="98"/>
                    </a:lnTo>
                    <a:lnTo>
                      <a:pt x="726" y="104"/>
                    </a:lnTo>
                    <a:lnTo>
                      <a:pt x="730" y="110"/>
                    </a:lnTo>
                    <a:lnTo>
                      <a:pt x="730" y="110"/>
                    </a:lnTo>
                    <a:lnTo>
                      <a:pt x="726" y="110"/>
                    </a:lnTo>
                    <a:lnTo>
                      <a:pt x="726" y="110"/>
                    </a:lnTo>
                    <a:lnTo>
                      <a:pt x="724" y="106"/>
                    </a:lnTo>
                    <a:lnTo>
                      <a:pt x="722" y="104"/>
                    </a:lnTo>
                    <a:lnTo>
                      <a:pt x="720" y="100"/>
                    </a:lnTo>
                    <a:lnTo>
                      <a:pt x="716" y="98"/>
                    </a:lnTo>
                    <a:lnTo>
                      <a:pt x="716" y="98"/>
                    </a:lnTo>
                    <a:lnTo>
                      <a:pt x="716" y="102"/>
                    </a:lnTo>
                    <a:lnTo>
                      <a:pt x="718" y="106"/>
                    </a:lnTo>
                    <a:lnTo>
                      <a:pt x="722" y="110"/>
                    </a:lnTo>
                    <a:lnTo>
                      <a:pt x="726" y="110"/>
                    </a:lnTo>
                    <a:lnTo>
                      <a:pt x="726" y="110"/>
                    </a:lnTo>
                    <a:lnTo>
                      <a:pt x="936" y="106"/>
                    </a:lnTo>
                    <a:lnTo>
                      <a:pt x="936" y="106"/>
                    </a:lnTo>
                    <a:lnTo>
                      <a:pt x="936" y="100"/>
                    </a:lnTo>
                    <a:lnTo>
                      <a:pt x="934" y="98"/>
                    </a:lnTo>
                    <a:lnTo>
                      <a:pt x="932" y="98"/>
                    </a:lnTo>
                    <a:lnTo>
                      <a:pt x="932" y="98"/>
                    </a:lnTo>
                    <a:lnTo>
                      <a:pt x="934" y="104"/>
                    </a:lnTo>
                    <a:lnTo>
                      <a:pt x="936" y="106"/>
                    </a:lnTo>
                    <a:lnTo>
                      <a:pt x="936" y="106"/>
                    </a:lnTo>
                    <a:lnTo>
                      <a:pt x="938" y="110"/>
                    </a:lnTo>
                    <a:lnTo>
                      <a:pt x="938" y="110"/>
                    </a:lnTo>
                    <a:lnTo>
                      <a:pt x="944" y="114"/>
                    </a:lnTo>
                    <a:lnTo>
                      <a:pt x="950" y="116"/>
                    </a:lnTo>
                    <a:lnTo>
                      <a:pt x="950" y="116"/>
                    </a:lnTo>
                    <a:lnTo>
                      <a:pt x="954" y="112"/>
                    </a:lnTo>
                    <a:lnTo>
                      <a:pt x="956" y="106"/>
                    </a:lnTo>
                    <a:lnTo>
                      <a:pt x="956" y="106"/>
                    </a:lnTo>
                    <a:lnTo>
                      <a:pt x="946" y="104"/>
                    </a:lnTo>
                    <a:lnTo>
                      <a:pt x="938" y="102"/>
                    </a:lnTo>
                    <a:lnTo>
                      <a:pt x="938" y="102"/>
                    </a:lnTo>
                    <a:lnTo>
                      <a:pt x="938" y="110"/>
                    </a:lnTo>
                    <a:lnTo>
                      <a:pt x="938" y="110"/>
                    </a:lnTo>
                    <a:lnTo>
                      <a:pt x="956" y="116"/>
                    </a:lnTo>
                    <a:lnTo>
                      <a:pt x="956" y="116"/>
                    </a:lnTo>
                    <a:lnTo>
                      <a:pt x="960" y="114"/>
                    </a:lnTo>
                    <a:lnTo>
                      <a:pt x="962" y="112"/>
                    </a:lnTo>
                    <a:lnTo>
                      <a:pt x="964" y="108"/>
                    </a:lnTo>
                    <a:lnTo>
                      <a:pt x="962" y="102"/>
                    </a:lnTo>
                    <a:lnTo>
                      <a:pt x="962" y="102"/>
                    </a:lnTo>
                    <a:lnTo>
                      <a:pt x="960" y="104"/>
                    </a:lnTo>
                    <a:lnTo>
                      <a:pt x="958" y="108"/>
                    </a:lnTo>
                    <a:lnTo>
                      <a:pt x="956" y="116"/>
                    </a:lnTo>
                    <a:lnTo>
                      <a:pt x="956" y="116"/>
                    </a:lnTo>
                    <a:lnTo>
                      <a:pt x="900" y="114"/>
                    </a:lnTo>
                    <a:lnTo>
                      <a:pt x="900" y="114"/>
                    </a:lnTo>
                    <a:lnTo>
                      <a:pt x="902" y="118"/>
                    </a:lnTo>
                    <a:lnTo>
                      <a:pt x="904" y="124"/>
                    </a:lnTo>
                    <a:lnTo>
                      <a:pt x="904" y="124"/>
                    </a:lnTo>
                    <a:lnTo>
                      <a:pt x="908" y="122"/>
                    </a:lnTo>
                    <a:lnTo>
                      <a:pt x="912" y="118"/>
                    </a:lnTo>
                    <a:lnTo>
                      <a:pt x="914" y="114"/>
                    </a:lnTo>
                    <a:lnTo>
                      <a:pt x="916" y="108"/>
                    </a:lnTo>
                    <a:lnTo>
                      <a:pt x="916" y="108"/>
                    </a:lnTo>
                    <a:lnTo>
                      <a:pt x="910" y="108"/>
                    </a:lnTo>
                    <a:lnTo>
                      <a:pt x="906" y="110"/>
                    </a:lnTo>
                    <a:lnTo>
                      <a:pt x="900" y="114"/>
                    </a:lnTo>
                    <a:lnTo>
                      <a:pt x="900" y="114"/>
                    </a:lnTo>
                    <a:lnTo>
                      <a:pt x="1040" y="122"/>
                    </a:lnTo>
                    <a:lnTo>
                      <a:pt x="1040" y="122"/>
                    </a:lnTo>
                    <a:lnTo>
                      <a:pt x="1046" y="118"/>
                    </a:lnTo>
                    <a:lnTo>
                      <a:pt x="1048" y="116"/>
                    </a:lnTo>
                    <a:lnTo>
                      <a:pt x="1048" y="114"/>
                    </a:lnTo>
                    <a:lnTo>
                      <a:pt x="1048" y="114"/>
                    </a:lnTo>
                    <a:lnTo>
                      <a:pt x="1044" y="112"/>
                    </a:lnTo>
                    <a:lnTo>
                      <a:pt x="1040" y="108"/>
                    </a:lnTo>
                    <a:lnTo>
                      <a:pt x="1040" y="108"/>
                    </a:lnTo>
                    <a:lnTo>
                      <a:pt x="1040" y="116"/>
                    </a:lnTo>
                    <a:lnTo>
                      <a:pt x="1040" y="118"/>
                    </a:lnTo>
                    <a:lnTo>
                      <a:pt x="1040" y="122"/>
                    </a:lnTo>
                    <a:lnTo>
                      <a:pt x="1040" y="122"/>
                    </a:lnTo>
                    <a:lnTo>
                      <a:pt x="818" y="110"/>
                    </a:lnTo>
                    <a:lnTo>
                      <a:pt x="818" y="110"/>
                    </a:lnTo>
                    <a:lnTo>
                      <a:pt x="820" y="120"/>
                    </a:lnTo>
                    <a:lnTo>
                      <a:pt x="824" y="126"/>
                    </a:lnTo>
                    <a:lnTo>
                      <a:pt x="836" y="136"/>
                    </a:lnTo>
                    <a:lnTo>
                      <a:pt x="836" y="136"/>
                    </a:lnTo>
                    <a:lnTo>
                      <a:pt x="844" y="146"/>
                    </a:lnTo>
                    <a:lnTo>
                      <a:pt x="848" y="148"/>
                    </a:lnTo>
                    <a:lnTo>
                      <a:pt x="852" y="150"/>
                    </a:lnTo>
                    <a:lnTo>
                      <a:pt x="852" y="150"/>
                    </a:lnTo>
                    <a:lnTo>
                      <a:pt x="852" y="144"/>
                    </a:lnTo>
                    <a:lnTo>
                      <a:pt x="852" y="140"/>
                    </a:lnTo>
                    <a:lnTo>
                      <a:pt x="846" y="132"/>
                    </a:lnTo>
                    <a:lnTo>
                      <a:pt x="838" y="126"/>
                    </a:lnTo>
                    <a:lnTo>
                      <a:pt x="828" y="122"/>
                    </a:lnTo>
                    <a:lnTo>
                      <a:pt x="828" y="122"/>
                    </a:lnTo>
                    <a:lnTo>
                      <a:pt x="836" y="118"/>
                    </a:lnTo>
                    <a:lnTo>
                      <a:pt x="840" y="116"/>
                    </a:lnTo>
                    <a:lnTo>
                      <a:pt x="842" y="114"/>
                    </a:lnTo>
                    <a:lnTo>
                      <a:pt x="842" y="114"/>
                    </a:lnTo>
                    <a:lnTo>
                      <a:pt x="838" y="110"/>
                    </a:lnTo>
                    <a:lnTo>
                      <a:pt x="830" y="110"/>
                    </a:lnTo>
                    <a:lnTo>
                      <a:pt x="824" y="110"/>
                    </a:lnTo>
                    <a:lnTo>
                      <a:pt x="818" y="110"/>
                    </a:lnTo>
                    <a:lnTo>
                      <a:pt x="818" y="110"/>
                    </a:lnTo>
                    <a:lnTo>
                      <a:pt x="804" y="118"/>
                    </a:lnTo>
                    <a:lnTo>
                      <a:pt x="804" y="118"/>
                    </a:lnTo>
                    <a:lnTo>
                      <a:pt x="812" y="128"/>
                    </a:lnTo>
                    <a:lnTo>
                      <a:pt x="820" y="136"/>
                    </a:lnTo>
                    <a:lnTo>
                      <a:pt x="820" y="136"/>
                    </a:lnTo>
                    <a:lnTo>
                      <a:pt x="818" y="128"/>
                    </a:lnTo>
                    <a:lnTo>
                      <a:pt x="814" y="118"/>
                    </a:lnTo>
                    <a:lnTo>
                      <a:pt x="812" y="116"/>
                    </a:lnTo>
                    <a:lnTo>
                      <a:pt x="810" y="114"/>
                    </a:lnTo>
                    <a:lnTo>
                      <a:pt x="806" y="116"/>
                    </a:lnTo>
                    <a:lnTo>
                      <a:pt x="804" y="118"/>
                    </a:lnTo>
                    <a:lnTo>
                      <a:pt x="804" y="118"/>
                    </a:lnTo>
                    <a:lnTo>
                      <a:pt x="708" y="126"/>
                    </a:lnTo>
                    <a:lnTo>
                      <a:pt x="708" y="126"/>
                    </a:lnTo>
                    <a:lnTo>
                      <a:pt x="714" y="126"/>
                    </a:lnTo>
                    <a:lnTo>
                      <a:pt x="718" y="126"/>
                    </a:lnTo>
                    <a:lnTo>
                      <a:pt x="718" y="124"/>
                    </a:lnTo>
                    <a:lnTo>
                      <a:pt x="718" y="124"/>
                    </a:lnTo>
                    <a:lnTo>
                      <a:pt x="716" y="122"/>
                    </a:lnTo>
                    <a:lnTo>
                      <a:pt x="712" y="122"/>
                    </a:lnTo>
                    <a:lnTo>
                      <a:pt x="712" y="122"/>
                    </a:lnTo>
                    <a:lnTo>
                      <a:pt x="710" y="124"/>
                    </a:lnTo>
                    <a:lnTo>
                      <a:pt x="708" y="126"/>
                    </a:lnTo>
                    <a:lnTo>
                      <a:pt x="708" y="126"/>
                    </a:lnTo>
                    <a:lnTo>
                      <a:pt x="710" y="122"/>
                    </a:lnTo>
                    <a:lnTo>
                      <a:pt x="710" y="122"/>
                    </a:lnTo>
                    <a:lnTo>
                      <a:pt x="710" y="120"/>
                    </a:lnTo>
                    <a:lnTo>
                      <a:pt x="708" y="120"/>
                    </a:lnTo>
                    <a:lnTo>
                      <a:pt x="704" y="120"/>
                    </a:lnTo>
                    <a:lnTo>
                      <a:pt x="704" y="120"/>
                    </a:lnTo>
                    <a:lnTo>
                      <a:pt x="704" y="124"/>
                    </a:lnTo>
                    <a:lnTo>
                      <a:pt x="706" y="126"/>
                    </a:lnTo>
                    <a:lnTo>
                      <a:pt x="706" y="126"/>
                    </a:lnTo>
                    <a:lnTo>
                      <a:pt x="708" y="124"/>
                    </a:lnTo>
                    <a:lnTo>
                      <a:pt x="710" y="122"/>
                    </a:lnTo>
                    <a:lnTo>
                      <a:pt x="710" y="122"/>
                    </a:lnTo>
                    <a:lnTo>
                      <a:pt x="804" y="142"/>
                    </a:lnTo>
                    <a:lnTo>
                      <a:pt x="804" y="142"/>
                    </a:lnTo>
                    <a:lnTo>
                      <a:pt x="806" y="140"/>
                    </a:lnTo>
                    <a:lnTo>
                      <a:pt x="806" y="138"/>
                    </a:lnTo>
                    <a:lnTo>
                      <a:pt x="806" y="138"/>
                    </a:lnTo>
                    <a:lnTo>
                      <a:pt x="808" y="136"/>
                    </a:lnTo>
                    <a:lnTo>
                      <a:pt x="808" y="136"/>
                    </a:lnTo>
                    <a:lnTo>
                      <a:pt x="808" y="140"/>
                    </a:lnTo>
                    <a:lnTo>
                      <a:pt x="808" y="142"/>
                    </a:lnTo>
                    <a:lnTo>
                      <a:pt x="814" y="144"/>
                    </a:lnTo>
                    <a:lnTo>
                      <a:pt x="820" y="146"/>
                    </a:lnTo>
                    <a:lnTo>
                      <a:pt x="824" y="144"/>
                    </a:lnTo>
                    <a:lnTo>
                      <a:pt x="824" y="144"/>
                    </a:lnTo>
                    <a:lnTo>
                      <a:pt x="814" y="134"/>
                    </a:lnTo>
                    <a:lnTo>
                      <a:pt x="808" y="128"/>
                    </a:lnTo>
                    <a:lnTo>
                      <a:pt x="802" y="124"/>
                    </a:lnTo>
                    <a:lnTo>
                      <a:pt x="802" y="124"/>
                    </a:lnTo>
                    <a:lnTo>
                      <a:pt x="802" y="128"/>
                    </a:lnTo>
                    <a:lnTo>
                      <a:pt x="802" y="134"/>
                    </a:lnTo>
                    <a:lnTo>
                      <a:pt x="802" y="138"/>
                    </a:lnTo>
                    <a:lnTo>
                      <a:pt x="802" y="140"/>
                    </a:lnTo>
                    <a:lnTo>
                      <a:pt x="804" y="142"/>
                    </a:lnTo>
                    <a:lnTo>
                      <a:pt x="804" y="142"/>
                    </a:lnTo>
                    <a:lnTo>
                      <a:pt x="746" y="132"/>
                    </a:lnTo>
                    <a:lnTo>
                      <a:pt x="746" y="132"/>
                    </a:lnTo>
                    <a:lnTo>
                      <a:pt x="746" y="128"/>
                    </a:lnTo>
                    <a:lnTo>
                      <a:pt x="742" y="128"/>
                    </a:lnTo>
                    <a:lnTo>
                      <a:pt x="742" y="128"/>
                    </a:lnTo>
                    <a:lnTo>
                      <a:pt x="744" y="132"/>
                    </a:lnTo>
                    <a:lnTo>
                      <a:pt x="746" y="132"/>
                    </a:lnTo>
                    <a:lnTo>
                      <a:pt x="746" y="132"/>
                    </a:lnTo>
                    <a:lnTo>
                      <a:pt x="718" y="134"/>
                    </a:lnTo>
                    <a:lnTo>
                      <a:pt x="718" y="134"/>
                    </a:lnTo>
                    <a:lnTo>
                      <a:pt x="722" y="134"/>
                    </a:lnTo>
                    <a:lnTo>
                      <a:pt x="724" y="132"/>
                    </a:lnTo>
                    <a:lnTo>
                      <a:pt x="724" y="128"/>
                    </a:lnTo>
                    <a:lnTo>
                      <a:pt x="724" y="128"/>
                    </a:lnTo>
                    <a:lnTo>
                      <a:pt x="722" y="128"/>
                    </a:lnTo>
                    <a:lnTo>
                      <a:pt x="720" y="130"/>
                    </a:lnTo>
                    <a:lnTo>
                      <a:pt x="718" y="134"/>
                    </a:lnTo>
                    <a:lnTo>
                      <a:pt x="718" y="134"/>
                    </a:lnTo>
                    <a:lnTo>
                      <a:pt x="840" y="150"/>
                    </a:lnTo>
                    <a:lnTo>
                      <a:pt x="840" y="150"/>
                    </a:lnTo>
                    <a:lnTo>
                      <a:pt x="832" y="138"/>
                    </a:lnTo>
                    <a:lnTo>
                      <a:pt x="824" y="130"/>
                    </a:lnTo>
                    <a:lnTo>
                      <a:pt x="824" y="130"/>
                    </a:lnTo>
                    <a:lnTo>
                      <a:pt x="826" y="138"/>
                    </a:lnTo>
                    <a:lnTo>
                      <a:pt x="828" y="144"/>
                    </a:lnTo>
                    <a:lnTo>
                      <a:pt x="832" y="148"/>
                    </a:lnTo>
                    <a:lnTo>
                      <a:pt x="840" y="150"/>
                    </a:lnTo>
                    <a:lnTo>
                      <a:pt x="840" y="150"/>
                    </a:lnTo>
                    <a:lnTo>
                      <a:pt x="740" y="136"/>
                    </a:lnTo>
                    <a:lnTo>
                      <a:pt x="740" y="136"/>
                    </a:lnTo>
                    <a:lnTo>
                      <a:pt x="746" y="142"/>
                    </a:lnTo>
                    <a:lnTo>
                      <a:pt x="748" y="144"/>
                    </a:lnTo>
                    <a:lnTo>
                      <a:pt x="752" y="144"/>
                    </a:lnTo>
                    <a:lnTo>
                      <a:pt x="752" y="144"/>
                    </a:lnTo>
                    <a:lnTo>
                      <a:pt x="748" y="142"/>
                    </a:lnTo>
                    <a:lnTo>
                      <a:pt x="746" y="138"/>
                    </a:lnTo>
                    <a:lnTo>
                      <a:pt x="744" y="136"/>
                    </a:lnTo>
                    <a:lnTo>
                      <a:pt x="740" y="132"/>
                    </a:lnTo>
                    <a:lnTo>
                      <a:pt x="740" y="132"/>
                    </a:lnTo>
                    <a:lnTo>
                      <a:pt x="740" y="136"/>
                    </a:lnTo>
                    <a:lnTo>
                      <a:pt x="740" y="136"/>
                    </a:lnTo>
                    <a:lnTo>
                      <a:pt x="758" y="146"/>
                    </a:lnTo>
                    <a:lnTo>
                      <a:pt x="758" y="146"/>
                    </a:lnTo>
                    <a:lnTo>
                      <a:pt x="758" y="144"/>
                    </a:lnTo>
                    <a:lnTo>
                      <a:pt x="760" y="142"/>
                    </a:lnTo>
                    <a:lnTo>
                      <a:pt x="760" y="138"/>
                    </a:lnTo>
                    <a:lnTo>
                      <a:pt x="760" y="136"/>
                    </a:lnTo>
                    <a:lnTo>
                      <a:pt x="760" y="136"/>
                    </a:lnTo>
                    <a:lnTo>
                      <a:pt x="754" y="134"/>
                    </a:lnTo>
                    <a:lnTo>
                      <a:pt x="750" y="134"/>
                    </a:lnTo>
                    <a:lnTo>
                      <a:pt x="748" y="136"/>
                    </a:lnTo>
                    <a:lnTo>
                      <a:pt x="748" y="136"/>
                    </a:lnTo>
                    <a:lnTo>
                      <a:pt x="750" y="138"/>
                    </a:lnTo>
                    <a:lnTo>
                      <a:pt x="752" y="142"/>
                    </a:lnTo>
                    <a:lnTo>
                      <a:pt x="756" y="144"/>
                    </a:lnTo>
                    <a:lnTo>
                      <a:pt x="758" y="146"/>
                    </a:lnTo>
                    <a:lnTo>
                      <a:pt x="758" y="146"/>
                    </a:lnTo>
                    <a:lnTo>
                      <a:pt x="1130" y="150"/>
                    </a:lnTo>
                    <a:lnTo>
                      <a:pt x="1130" y="150"/>
                    </a:lnTo>
                    <a:lnTo>
                      <a:pt x="1132" y="150"/>
                    </a:lnTo>
                    <a:lnTo>
                      <a:pt x="1136" y="150"/>
                    </a:lnTo>
                    <a:lnTo>
                      <a:pt x="1140" y="150"/>
                    </a:lnTo>
                    <a:lnTo>
                      <a:pt x="1144" y="148"/>
                    </a:lnTo>
                    <a:lnTo>
                      <a:pt x="1144" y="148"/>
                    </a:lnTo>
                    <a:lnTo>
                      <a:pt x="1140" y="142"/>
                    </a:lnTo>
                    <a:lnTo>
                      <a:pt x="1138" y="136"/>
                    </a:lnTo>
                    <a:lnTo>
                      <a:pt x="1138" y="136"/>
                    </a:lnTo>
                    <a:lnTo>
                      <a:pt x="1132" y="142"/>
                    </a:lnTo>
                    <a:lnTo>
                      <a:pt x="1130" y="150"/>
                    </a:lnTo>
                    <a:lnTo>
                      <a:pt x="1130" y="150"/>
                    </a:lnTo>
                    <a:lnTo>
                      <a:pt x="776" y="158"/>
                    </a:lnTo>
                    <a:lnTo>
                      <a:pt x="776" y="158"/>
                    </a:lnTo>
                    <a:lnTo>
                      <a:pt x="774" y="162"/>
                    </a:lnTo>
                    <a:lnTo>
                      <a:pt x="772" y="166"/>
                    </a:lnTo>
                    <a:lnTo>
                      <a:pt x="772" y="166"/>
                    </a:lnTo>
                    <a:lnTo>
                      <a:pt x="776" y="170"/>
                    </a:lnTo>
                    <a:lnTo>
                      <a:pt x="778" y="174"/>
                    </a:lnTo>
                    <a:lnTo>
                      <a:pt x="778" y="174"/>
                    </a:lnTo>
                    <a:lnTo>
                      <a:pt x="780" y="170"/>
                    </a:lnTo>
                    <a:lnTo>
                      <a:pt x="778" y="166"/>
                    </a:lnTo>
                    <a:lnTo>
                      <a:pt x="774" y="164"/>
                    </a:lnTo>
                    <a:lnTo>
                      <a:pt x="774" y="164"/>
                    </a:lnTo>
                    <a:lnTo>
                      <a:pt x="776" y="164"/>
                    </a:lnTo>
                    <a:lnTo>
                      <a:pt x="780" y="164"/>
                    </a:lnTo>
                    <a:lnTo>
                      <a:pt x="780" y="164"/>
                    </a:lnTo>
                    <a:lnTo>
                      <a:pt x="778" y="160"/>
                    </a:lnTo>
                    <a:lnTo>
                      <a:pt x="776" y="158"/>
                    </a:lnTo>
                    <a:lnTo>
                      <a:pt x="776" y="158"/>
                    </a:lnTo>
                    <a:lnTo>
                      <a:pt x="780" y="160"/>
                    </a:lnTo>
                    <a:lnTo>
                      <a:pt x="780" y="160"/>
                    </a:lnTo>
                    <a:lnTo>
                      <a:pt x="780" y="154"/>
                    </a:lnTo>
                    <a:lnTo>
                      <a:pt x="782" y="148"/>
                    </a:lnTo>
                    <a:lnTo>
                      <a:pt x="782" y="142"/>
                    </a:lnTo>
                    <a:lnTo>
                      <a:pt x="780" y="136"/>
                    </a:lnTo>
                    <a:lnTo>
                      <a:pt x="780" y="136"/>
                    </a:lnTo>
                    <a:lnTo>
                      <a:pt x="780" y="144"/>
                    </a:lnTo>
                    <a:lnTo>
                      <a:pt x="778" y="150"/>
                    </a:lnTo>
                    <a:lnTo>
                      <a:pt x="778" y="156"/>
                    </a:lnTo>
                    <a:lnTo>
                      <a:pt x="778" y="158"/>
                    </a:lnTo>
                    <a:lnTo>
                      <a:pt x="780" y="160"/>
                    </a:lnTo>
                    <a:lnTo>
                      <a:pt x="780" y="160"/>
                    </a:lnTo>
                    <a:lnTo>
                      <a:pt x="890" y="150"/>
                    </a:lnTo>
                    <a:lnTo>
                      <a:pt x="890" y="150"/>
                    </a:lnTo>
                    <a:lnTo>
                      <a:pt x="890" y="144"/>
                    </a:lnTo>
                    <a:lnTo>
                      <a:pt x="886" y="142"/>
                    </a:lnTo>
                    <a:lnTo>
                      <a:pt x="880" y="140"/>
                    </a:lnTo>
                    <a:lnTo>
                      <a:pt x="880" y="140"/>
                    </a:lnTo>
                    <a:lnTo>
                      <a:pt x="884" y="146"/>
                    </a:lnTo>
                    <a:lnTo>
                      <a:pt x="890" y="150"/>
                    </a:lnTo>
                    <a:lnTo>
                      <a:pt x="890" y="150"/>
                    </a:lnTo>
                    <a:lnTo>
                      <a:pt x="784" y="168"/>
                    </a:lnTo>
                    <a:lnTo>
                      <a:pt x="784" y="168"/>
                    </a:lnTo>
                    <a:lnTo>
                      <a:pt x="784" y="176"/>
                    </a:lnTo>
                    <a:lnTo>
                      <a:pt x="786" y="184"/>
                    </a:lnTo>
                    <a:lnTo>
                      <a:pt x="790" y="188"/>
                    </a:lnTo>
                    <a:lnTo>
                      <a:pt x="794" y="192"/>
                    </a:lnTo>
                    <a:lnTo>
                      <a:pt x="794" y="192"/>
                    </a:lnTo>
                    <a:lnTo>
                      <a:pt x="792" y="192"/>
                    </a:lnTo>
                    <a:lnTo>
                      <a:pt x="790" y="194"/>
                    </a:lnTo>
                    <a:lnTo>
                      <a:pt x="790" y="194"/>
                    </a:lnTo>
                    <a:lnTo>
                      <a:pt x="800" y="206"/>
                    </a:lnTo>
                    <a:lnTo>
                      <a:pt x="804" y="214"/>
                    </a:lnTo>
                    <a:lnTo>
                      <a:pt x="810" y="218"/>
                    </a:lnTo>
                    <a:lnTo>
                      <a:pt x="810" y="218"/>
                    </a:lnTo>
                    <a:lnTo>
                      <a:pt x="812" y="222"/>
                    </a:lnTo>
                    <a:lnTo>
                      <a:pt x="810" y="226"/>
                    </a:lnTo>
                    <a:lnTo>
                      <a:pt x="810" y="226"/>
                    </a:lnTo>
                    <a:lnTo>
                      <a:pt x="818" y="236"/>
                    </a:lnTo>
                    <a:lnTo>
                      <a:pt x="818" y="236"/>
                    </a:lnTo>
                    <a:lnTo>
                      <a:pt x="826" y="248"/>
                    </a:lnTo>
                    <a:lnTo>
                      <a:pt x="826" y="248"/>
                    </a:lnTo>
                    <a:lnTo>
                      <a:pt x="834" y="260"/>
                    </a:lnTo>
                    <a:lnTo>
                      <a:pt x="844" y="272"/>
                    </a:lnTo>
                    <a:lnTo>
                      <a:pt x="848" y="276"/>
                    </a:lnTo>
                    <a:lnTo>
                      <a:pt x="856" y="280"/>
                    </a:lnTo>
                    <a:lnTo>
                      <a:pt x="862" y="282"/>
                    </a:lnTo>
                    <a:lnTo>
                      <a:pt x="870" y="284"/>
                    </a:lnTo>
                    <a:lnTo>
                      <a:pt x="870" y="284"/>
                    </a:lnTo>
                    <a:lnTo>
                      <a:pt x="868" y="276"/>
                    </a:lnTo>
                    <a:lnTo>
                      <a:pt x="866" y="270"/>
                    </a:lnTo>
                    <a:lnTo>
                      <a:pt x="866" y="256"/>
                    </a:lnTo>
                    <a:lnTo>
                      <a:pt x="866" y="256"/>
                    </a:lnTo>
                    <a:lnTo>
                      <a:pt x="868" y="262"/>
                    </a:lnTo>
                    <a:lnTo>
                      <a:pt x="870" y="270"/>
                    </a:lnTo>
                    <a:lnTo>
                      <a:pt x="880" y="284"/>
                    </a:lnTo>
                    <a:lnTo>
                      <a:pt x="880" y="284"/>
                    </a:lnTo>
                    <a:lnTo>
                      <a:pt x="878" y="280"/>
                    </a:lnTo>
                    <a:lnTo>
                      <a:pt x="876" y="280"/>
                    </a:lnTo>
                    <a:lnTo>
                      <a:pt x="870" y="278"/>
                    </a:lnTo>
                    <a:lnTo>
                      <a:pt x="870" y="278"/>
                    </a:lnTo>
                    <a:lnTo>
                      <a:pt x="870" y="284"/>
                    </a:lnTo>
                    <a:lnTo>
                      <a:pt x="872" y="286"/>
                    </a:lnTo>
                    <a:lnTo>
                      <a:pt x="876" y="286"/>
                    </a:lnTo>
                    <a:lnTo>
                      <a:pt x="878" y="284"/>
                    </a:lnTo>
                    <a:lnTo>
                      <a:pt x="884" y="282"/>
                    </a:lnTo>
                    <a:lnTo>
                      <a:pt x="888" y="282"/>
                    </a:lnTo>
                    <a:lnTo>
                      <a:pt x="890" y="284"/>
                    </a:lnTo>
                    <a:lnTo>
                      <a:pt x="890" y="284"/>
                    </a:lnTo>
                    <a:lnTo>
                      <a:pt x="888" y="266"/>
                    </a:lnTo>
                    <a:lnTo>
                      <a:pt x="884" y="248"/>
                    </a:lnTo>
                    <a:lnTo>
                      <a:pt x="882" y="230"/>
                    </a:lnTo>
                    <a:lnTo>
                      <a:pt x="882" y="214"/>
                    </a:lnTo>
                    <a:lnTo>
                      <a:pt x="882" y="214"/>
                    </a:lnTo>
                    <a:lnTo>
                      <a:pt x="880" y="206"/>
                    </a:lnTo>
                    <a:lnTo>
                      <a:pt x="878" y="202"/>
                    </a:lnTo>
                    <a:lnTo>
                      <a:pt x="878" y="202"/>
                    </a:lnTo>
                    <a:lnTo>
                      <a:pt x="874" y="196"/>
                    </a:lnTo>
                    <a:lnTo>
                      <a:pt x="868" y="194"/>
                    </a:lnTo>
                    <a:lnTo>
                      <a:pt x="868" y="194"/>
                    </a:lnTo>
                    <a:lnTo>
                      <a:pt x="864" y="196"/>
                    </a:lnTo>
                    <a:lnTo>
                      <a:pt x="858" y="198"/>
                    </a:lnTo>
                    <a:lnTo>
                      <a:pt x="858" y="198"/>
                    </a:lnTo>
                    <a:lnTo>
                      <a:pt x="860" y="204"/>
                    </a:lnTo>
                    <a:lnTo>
                      <a:pt x="860" y="210"/>
                    </a:lnTo>
                    <a:lnTo>
                      <a:pt x="860" y="210"/>
                    </a:lnTo>
                    <a:lnTo>
                      <a:pt x="854" y="212"/>
                    </a:lnTo>
                    <a:lnTo>
                      <a:pt x="848" y="210"/>
                    </a:lnTo>
                    <a:lnTo>
                      <a:pt x="846" y="206"/>
                    </a:lnTo>
                    <a:lnTo>
                      <a:pt x="846" y="200"/>
                    </a:lnTo>
                    <a:lnTo>
                      <a:pt x="846" y="194"/>
                    </a:lnTo>
                    <a:lnTo>
                      <a:pt x="850" y="188"/>
                    </a:lnTo>
                    <a:lnTo>
                      <a:pt x="854" y="184"/>
                    </a:lnTo>
                    <a:lnTo>
                      <a:pt x="860" y="184"/>
                    </a:lnTo>
                    <a:lnTo>
                      <a:pt x="860" y="184"/>
                    </a:lnTo>
                    <a:lnTo>
                      <a:pt x="820" y="178"/>
                    </a:lnTo>
                    <a:lnTo>
                      <a:pt x="802" y="174"/>
                    </a:lnTo>
                    <a:lnTo>
                      <a:pt x="784" y="168"/>
                    </a:lnTo>
                    <a:lnTo>
                      <a:pt x="784" y="168"/>
                    </a:lnTo>
                    <a:lnTo>
                      <a:pt x="822" y="178"/>
                    </a:lnTo>
                    <a:lnTo>
                      <a:pt x="822" y="178"/>
                    </a:lnTo>
                    <a:lnTo>
                      <a:pt x="838" y="178"/>
                    </a:lnTo>
                    <a:lnTo>
                      <a:pt x="846" y="178"/>
                    </a:lnTo>
                    <a:lnTo>
                      <a:pt x="852" y="178"/>
                    </a:lnTo>
                    <a:lnTo>
                      <a:pt x="852" y="178"/>
                    </a:lnTo>
                    <a:lnTo>
                      <a:pt x="842" y="164"/>
                    </a:lnTo>
                    <a:lnTo>
                      <a:pt x="834" y="158"/>
                    </a:lnTo>
                    <a:lnTo>
                      <a:pt x="828" y="152"/>
                    </a:lnTo>
                    <a:lnTo>
                      <a:pt x="818" y="148"/>
                    </a:lnTo>
                    <a:lnTo>
                      <a:pt x="810" y="144"/>
                    </a:lnTo>
                    <a:lnTo>
                      <a:pt x="798" y="142"/>
                    </a:lnTo>
                    <a:lnTo>
                      <a:pt x="786" y="142"/>
                    </a:lnTo>
                    <a:lnTo>
                      <a:pt x="786" y="142"/>
                    </a:lnTo>
                    <a:lnTo>
                      <a:pt x="784" y="152"/>
                    </a:lnTo>
                    <a:lnTo>
                      <a:pt x="784" y="164"/>
                    </a:lnTo>
                    <a:lnTo>
                      <a:pt x="784" y="164"/>
                    </a:lnTo>
                    <a:lnTo>
                      <a:pt x="790" y="168"/>
                    </a:lnTo>
                    <a:lnTo>
                      <a:pt x="800" y="172"/>
                    </a:lnTo>
                    <a:lnTo>
                      <a:pt x="810" y="176"/>
                    </a:lnTo>
                    <a:lnTo>
                      <a:pt x="820" y="176"/>
                    </a:lnTo>
                    <a:lnTo>
                      <a:pt x="820" y="176"/>
                    </a:lnTo>
                    <a:lnTo>
                      <a:pt x="822" y="174"/>
                    </a:lnTo>
                    <a:lnTo>
                      <a:pt x="824" y="170"/>
                    </a:lnTo>
                    <a:lnTo>
                      <a:pt x="824" y="164"/>
                    </a:lnTo>
                    <a:lnTo>
                      <a:pt x="824" y="164"/>
                    </a:lnTo>
                    <a:lnTo>
                      <a:pt x="828" y="162"/>
                    </a:lnTo>
                    <a:lnTo>
                      <a:pt x="830" y="160"/>
                    </a:lnTo>
                    <a:lnTo>
                      <a:pt x="834" y="164"/>
                    </a:lnTo>
                    <a:lnTo>
                      <a:pt x="836" y="170"/>
                    </a:lnTo>
                    <a:lnTo>
                      <a:pt x="836" y="174"/>
                    </a:lnTo>
                    <a:lnTo>
                      <a:pt x="836" y="174"/>
                    </a:lnTo>
                    <a:lnTo>
                      <a:pt x="832" y="176"/>
                    </a:lnTo>
                    <a:lnTo>
                      <a:pt x="828" y="174"/>
                    </a:lnTo>
                    <a:lnTo>
                      <a:pt x="826" y="174"/>
                    </a:lnTo>
                    <a:lnTo>
                      <a:pt x="824" y="174"/>
                    </a:lnTo>
                    <a:lnTo>
                      <a:pt x="824" y="174"/>
                    </a:lnTo>
                    <a:lnTo>
                      <a:pt x="822" y="178"/>
                    </a:lnTo>
                    <a:lnTo>
                      <a:pt x="822" y="178"/>
                    </a:lnTo>
                    <a:lnTo>
                      <a:pt x="1032" y="152"/>
                    </a:lnTo>
                    <a:lnTo>
                      <a:pt x="1032" y="152"/>
                    </a:lnTo>
                    <a:lnTo>
                      <a:pt x="1036" y="156"/>
                    </a:lnTo>
                    <a:lnTo>
                      <a:pt x="1036" y="156"/>
                    </a:lnTo>
                    <a:lnTo>
                      <a:pt x="1042" y="150"/>
                    </a:lnTo>
                    <a:lnTo>
                      <a:pt x="1042" y="146"/>
                    </a:lnTo>
                    <a:lnTo>
                      <a:pt x="1044" y="142"/>
                    </a:lnTo>
                    <a:lnTo>
                      <a:pt x="1044" y="142"/>
                    </a:lnTo>
                    <a:lnTo>
                      <a:pt x="1038" y="142"/>
                    </a:lnTo>
                    <a:lnTo>
                      <a:pt x="1036" y="144"/>
                    </a:lnTo>
                    <a:lnTo>
                      <a:pt x="1034" y="148"/>
                    </a:lnTo>
                    <a:lnTo>
                      <a:pt x="1032" y="152"/>
                    </a:lnTo>
                    <a:lnTo>
                      <a:pt x="1032" y="152"/>
                    </a:lnTo>
                    <a:lnTo>
                      <a:pt x="892" y="150"/>
                    </a:lnTo>
                    <a:lnTo>
                      <a:pt x="892" y="150"/>
                    </a:lnTo>
                    <a:lnTo>
                      <a:pt x="894" y="152"/>
                    </a:lnTo>
                    <a:lnTo>
                      <a:pt x="896" y="152"/>
                    </a:lnTo>
                    <a:lnTo>
                      <a:pt x="896" y="152"/>
                    </a:lnTo>
                    <a:lnTo>
                      <a:pt x="896" y="146"/>
                    </a:lnTo>
                    <a:lnTo>
                      <a:pt x="896" y="144"/>
                    </a:lnTo>
                    <a:lnTo>
                      <a:pt x="892" y="144"/>
                    </a:lnTo>
                    <a:lnTo>
                      <a:pt x="892" y="144"/>
                    </a:lnTo>
                    <a:lnTo>
                      <a:pt x="892" y="148"/>
                    </a:lnTo>
                    <a:lnTo>
                      <a:pt x="892" y="150"/>
                    </a:lnTo>
                    <a:lnTo>
                      <a:pt x="892" y="150"/>
                    </a:lnTo>
                    <a:lnTo>
                      <a:pt x="904" y="156"/>
                    </a:lnTo>
                    <a:lnTo>
                      <a:pt x="904" y="156"/>
                    </a:lnTo>
                    <a:lnTo>
                      <a:pt x="912" y="156"/>
                    </a:lnTo>
                    <a:lnTo>
                      <a:pt x="916" y="156"/>
                    </a:lnTo>
                    <a:lnTo>
                      <a:pt x="918" y="154"/>
                    </a:lnTo>
                    <a:lnTo>
                      <a:pt x="918" y="154"/>
                    </a:lnTo>
                    <a:lnTo>
                      <a:pt x="916" y="152"/>
                    </a:lnTo>
                    <a:lnTo>
                      <a:pt x="912" y="150"/>
                    </a:lnTo>
                    <a:lnTo>
                      <a:pt x="904" y="148"/>
                    </a:lnTo>
                    <a:lnTo>
                      <a:pt x="904" y="148"/>
                    </a:lnTo>
                    <a:lnTo>
                      <a:pt x="904" y="152"/>
                    </a:lnTo>
                    <a:lnTo>
                      <a:pt x="904" y="156"/>
                    </a:lnTo>
                    <a:lnTo>
                      <a:pt x="904" y="156"/>
                    </a:lnTo>
                    <a:lnTo>
                      <a:pt x="854" y="156"/>
                    </a:lnTo>
                    <a:lnTo>
                      <a:pt x="854" y="156"/>
                    </a:lnTo>
                    <a:lnTo>
                      <a:pt x="854" y="150"/>
                    </a:lnTo>
                    <a:lnTo>
                      <a:pt x="854" y="150"/>
                    </a:lnTo>
                    <a:lnTo>
                      <a:pt x="852" y="150"/>
                    </a:lnTo>
                    <a:lnTo>
                      <a:pt x="852" y="150"/>
                    </a:lnTo>
                    <a:lnTo>
                      <a:pt x="852" y="154"/>
                    </a:lnTo>
                    <a:lnTo>
                      <a:pt x="854" y="156"/>
                    </a:lnTo>
                    <a:lnTo>
                      <a:pt x="854" y="156"/>
                    </a:lnTo>
                    <a:lnTo>
                      <a:pt x="1122" y="166"/>
                    </a:lnTo>
                    <a:lnTo>
                      <a:pt x="1122" y="166"/>
                    </a:lnTo>
                    <a:lnTo>
                      <a:pt x="1128" y="172"/>
                    </a:lnTo>
                    <a:lnTo>
                      <a:pt x="1134" y="174"/>
                    </a:lnTo>
                    <a:lnTo>
                      <a:pt x="1142" y="172"/>
                    </a:lnTo>
                    <a:lnTo>
                      <a:pt x="1148" y="168"/>
                    </a:lnTo>
                    <a:lnTo>
                      <a:pt x="1148" y="168"/>
                    </a:lnTo>
                    <a:lnTo>
                      <a:pt x="1146" y="158"/>
                    </a:lnTo>
                    <a:lnTo>
                      <a:pt x="1144" y="152"/>
                    </a:lnTo>
                    <a:lnTo>
                      <a:pt x="1144" y="152"/>
                    </a:lnTo>
                    <a:lnTo>
                      <a:pt x="1138" y="156"/>
                    </a:lnTo>
                    <a:lnTo>
                      <a:pt x="1132" y="160"/>
                    </a:lnTo>
                    <a:lnTo>
                      <a:pt x="1128" y="162"/>
                    </a:lnTo>
                    <a:lnTo>
                      <a:pt x="1122" y="166"/>
                    </a:lnTo>
                    <a:lnTo>
                      <a:pt x="1122" y="166"/>
                    </a:lnTo>
                    <a:lnTo>
                      <a:pt x="870" y="182"/>
                    </a:lnTo>
                    <a:lnTo>
                      <a:pt x="870" y="182"/>
                    </a:lnTo>
                    <a:lnTo>
                      <a:pt x="864" y="174"/>
                    </a:lnTo>
                    <a:lnTo>
                      <a:pt x="858" y="166"/>
                    </a:lnTo>
                    <a:lnTo>
                      <a:pt x="850" y="158"/>
                    </a:lnTo>
                    <a:lnTo>
                      <a:pt x="846" y="156"/>
                    </a:lnTo>
                    <a:lnTo>
                      <a:pt x="840" y="156"/>
                    </a:lnTo>
                    <a:lnTo>
                      <a:pt x="840" y="156"/>
                    </a:lnTo>
                    <a:lnTo>
                      <a:pt x="846" y="162"/>
                    </a:lnTo>
                    <a:lnTo>
                      <a:pt x="854" y="172"/>
                    </a:lnTo>
                    <a:lnTo>
                      <a:pt x="862" y="178"/>
                    </a:lnTo>
                    <a:lnTo>
                      <a:pt x="866" y="180"/>
                    </a:lnTo>
                    <a:lnTo>
                      <a:pt x="870" y="182"/>
                    </a:lnTo>
                    <a:lnTo>
                      <a:pt x="870" y="182"/>
                    </a:lnTo>
                    <a:lnTo>
                      <a:pt x="1044" y="180"/>
                    </a:lnTo>
                    <a:lnTo>
                      <a:pt x="1044" y="180"/>
                    </a:lnTo>
                    <a:lnTo>
                      <a:pt x="1038" y="180"/>
                    </a:lnTo>
                    <a:lnTo>
                      <a:pt x="1036" y="184"/>
                    </a:lnTo>
                    <a:lnTo>
                      <a:pt x="1036" y="184"/>
                    </a:lnTo>
                    <a:lnTo>
                      <a:pt x="1044" y="186"/>
                    </a:lnTo>
                    <a:lnTo>
                      <a:pt x="1050" y="186"/>
                    </a:lnTo>
                    <a:lnTo>
                      <a:pt x="1056" y="184"/>
                    </a:lnTo>
                    <a:lnTo>
                      <a:pt x="1062" y="180"/>
                    </a:lnTo>
                    <a:lnTo>
                      <a:pt x="1074" y="174"/>
                    </a:lnTo>
                    <a:lnTo>
                      <a:pt x="1080" y="170"/>
                    </a:lnTo>
                    <a:lnTo>
                      <a:pt x="1086" y="168"/>
                    </a:lnTo>
                    <a:lnTo>
                      <a:pt x="1086" y="168"/>
                    </a:lnTo>
                    <a:lnTo>
                      <a:pt x="1084" y="162"/>
                    </a:lnTo>
                    <a:lnTo>
                      <a:pt x="1080" y="158"/>
                    </a:lnTo>
                    <a:lnTo>
                      <a:pt x="1080" y="158"/>
                    </a:lnTo>
                    <a:lnTo>
                      <a:pt x="1064" y="170"/>
                    </a:lnTo>
                    <a:lnTo>
                      <a:pt x="1056" y="174"/>
                    </a:lnTo>
                    <a:lnTo>
                      <a:pt x="1046" y="178"/>
                    </a:lnTo>
                    <a:lnTo>
                      <a:pt x="1046" y="178"/>
                    </a:lnTo>
                    <a:lnTo>
                      <a:pt x="1046" y="180"/>
                    </a:lnTo>
                    <a:lnTo>
                      <a:pt x="1048" y="182"/>
                    </a:lnTo>
                    <a:lnTo>
                      <a:pt x="1050" y="182"/>
                    </a:lnTo>
                    <a:lnTo>
                      <a:pt x="1050" y="184"/>
                    </a:lnTo>
                    <a:lnTo>
                      <a:pt x="1050" y="184"/>
                    </a:lnTo>
                    <a:lnTo>
                      <a:pt x="1048" y="182"/>
                    </a:lnTo>
                    <a:lnTo>
                      <a:pt x="1046" y="180"/>
                    </a:lnTo>
                    <a:lnTo>
                      <a:pt x="1044" y="180"/>
                    </a:lnTo>
                    <a:lnTo>
                      <a:pt x="1044" y="180"/>
                    </a:lnTo>
                    <a:lnTo>
                      <a:pt x="1080" y="158"/>
                    </a:lnTo>
                    <a:lnTo>
                      <a:pt x="1080" y="158"/>
                    </a:lnTo>
                    <a:lnTo>
                      <a:pt x="1076" y="156"/>
                    </a:lnTo>
                    <a:lnTo>
                      <a:pt x="1072" y="158"/>
                    </a:lnTo>
                    <a:lnTo>
                      <a:pt x="1066" y="162"/>
                    </a:lnTo>
                    <a:lnTo>
                      <a:pt x="1058" y="166"/>
                    </a:lnTo>
                    <a:lnTo>
                      <a:pt x="1050" y="166"/>
                    </a:lnTo>
                    <a:lnTo>
                      <a:pt x="1050" y="166"/>
                    </a:lnTo>
                    <a:lnTo>
                      <a:pt x="1052" y="170"/>
                    </a:lnTo>
                    <a:lnTo>
                      <a:pt x="1052" y="174"/>
                    </a:lnTo>
                    <a:lnTo>
                      <a:pt x="1052" y="174"/>
                    </a:lnTo>
                    <a:lnTo>
                      <a:pt x="1066" y="166"/>
                    </a:lnTo>
                    <a:lnTo>
                      <a:pt x="1080" y="158"/>
                    </a:lnTo>
                    <a:lnTo>
                      <a:pt x="1080" y="158"/>
                    </a:lnTo>
                    <a:lnTo>
                      <a:pt x="936" y="200"/>
                    </a:lnTo>
                    <a:lnTo>
                      <a:pt x="936" y="200"/>
                    </a:lnTo>
                    <a:lnTo>
                      <a:pt x="940" y="202"/>
                    </a:lnTo>
                    <a:lnTo>
                      <a:pt x="944" y="202"/>
                    </a:lnTo>
                    <a:lnTo>
                      <a:pt x="944" y="202"/>
                    </a:lnTo>
                    <a:lnTo>
                      <a:pt x="938" y="210"/>
                    </a:lnTo>
                    <a:lnTo>
                      <a:pt x="936" y="212"/>
                    </a:lnTo>
                    <a:lnTo>
                      <a:pt x="936" y="218"/>
                    </a:lnTo>
                    <a:lnTo>
                      <a:pt x="936" y="218"/>
                    </a:lnTo>
                    <a:lnTo>
                      <a:pt x="940" y="222"/>
                    </a:lnTo>
                    <a:lnTo>
                      <a:pt x="946" y="224"/>
                    </a:lnTo>
                    <a:lnTo>
                      <a:pt x="946" y="224"/>
                    </a:lnTo>
                    <a:lnTo>
                      <a:pt x="954" y="212"/>
                    </a:lnTo>
                    <a:lnTo>
                      <a:pt x="956" y="204"/>
                    </a:lnTo>
                    <a:lnTo>
                      <a:pt x="958" y="194"/>
                    </a:lnTo>
                    <a:lnTo>
                      <a:pt x="958" y="194"/>
                    </a:lnTo>
                    <a:lnTo>
                      <a:pt x="954" y="192"/>
                    </a:lnTo>
                    <a:lnTo>
                      <a:pt x="954" y="188"/>
                    </a:lnTo>
                    <a:lnTo>
                      <a:pt x="952" y="178"/>
                    </a:lnTo>
                    <a:lnTo>
                      <a:pt x="948" y="168"/>
                    </a:lnTo>
                    <a:lnTo>
                      <a:pt x="946" y="166"/>
                    </a:lnTo>
                    <a:lnTo>
                      <a:pt x="944" y="164"/>
                    </a:lnTo>
                    <a:lnTo>
                      <a:pt x="944" y="164"/>
                    </a:lnTo>
                    <a:lnTo>
                      <a:pt x="946" y="170"/>
                    </a:lnTo>
                    <a:lnTo>
                      <a:pt x="946" y="174"/>
                    </a:lnTo>
                    <a:lnTo>
                      <a:pt x="944" y="178"/>
                    </a:lnTo>
                    <a:lnTo>
                      <a:pt x="942" y="182"/>
                    </a:lnTo>
                    <a:lnTo>
                      <a:pt x="938" y="190"/>
                    </a:lnTo>
                    <a:lnTo>
                      <a:pt x="936" y="194"/>
                    </a:lnTo>
                    <a:lnTo>
                      <a:pt x="936" y="200"/>
                    </a:lnTo>
                    <a:lnTo>
                      <a:pt x="936" y="200"/>
                    </a:lnTo>
                    <a:lnTo>
                      <a:pt x="1016" y="182"/>
                    </a:lnTo>
                    <a:lnTo>
                      <a:pt x="1016" y="182"/>
                    </a:lnTo>
                    <a:lnTo>
                      <a:pt x="1024" y="178"/>
                    </a:lnTo>
                    <a:lnTo>
                      <a:pt x="1032" y="176"/>
                    </a:lnTo>
                    <a:lnTo>
                      <a:pt x="1032" y="176"/>
                    </a:lnTo>
                    <a:lnTo>
                      <a:pt x="1030" y="172"/>
                    </a:lnTo>
                    <a:lnTo>
                      <a:pt x="1028" y="170"/>
                    </a:lnTo>
                    <a:lnTo>
                      <a:pt x="1028" y="170"/>
                    </a:lnTo>
                    <a:lnTo>
                      <a:pt x="1034" y="170"/>
                    </a:lnTo>
                    <a:lnTo>
                      <a:pt x="1038" y="170"/>
                    </a:lnTo>
                    <a:lnTo>
                      <a:pt x="1042" y="170"/>
                    </a:lnTo>
                    <a:lnTo>
                      <a:pt x="1044" y="166"/>
                    </a:lnTo>
                    <a:lnTo>
                      <a:pt x="1044" y="166"/>
                    </a:lnTo>
                    <a:lnTo>
                      <a:pt x="1032" y="166"/>
                    </a:lnTo>
                    <a:lnTo>
                      <a:pt x="1022" y="170"/>
                    </a:lnTo>
                    <a:lnTo>
                      <a:pt x="1018" y="176"/>
                    </a:lnTo>
                    <a:lnTo>
                      <a:pt x="1016" y="182"/>
                    </a:lnTo>
                    <a:lnTo>
                      <a:pt x="1016" y="182"/>
                    </a:lnTo>
                    <a:lnTo>
                      <a:pt x="1102" y="424"/>
                    </a:lnTo>
                    <a:lnTo>
                      <a:pt x="1102" y="424"/>
                    </a:lnTo>
                    <a:lnTo>
                      <a:pt x="1106" y="426"/>
                    </a:lnTo>
                    <a:lnTo>
                      <a:pt x="1108" y="428"/>
                    </a:lnTo>
                    <a:lnTo>
                      <a:pt x="1108" y="430"/>
                    </a:lnTo>
                    <a:lnTo>
                      <a:pt x="1108" y="434"/>
                    </a:lnTo>
                    <a:lnTo>
                      <a:pt x="1104" y="440"/>
                    </a:lnTo>
                    <a:lnTo>
                      <a:pt x="1102" y="446"/>
                    </a:lnTo>
                    <a:lnTo>
                      <a:pt x="1102" y="446"/>
                    </a:lnTo>
                    <a:lnTo>
                      <a:pt x="1092" y="462"/>
                    </a:lnTo>
                    <a:lnTo>
                      <a:pt x="1088" y="470"/>
                    </a:lnTo>
                    <a:lnTo>
                      <a:pt x="1082" y="472"/>
                    </a:lnTo>
                    <a:lnTo>
                      <a:pt x="1082" y="472"/>
                    </a:lnTo>
                    <a:lnTo>
                      <a:pt x="1078" y="472"/>
                    </a:lnTo>
                    <a:lnTo>
                      <a:pt x="1076" y="472"/>
                    </a:lnTo>
                    <a:lnTo>
                      <a:pt x="1072" y="470"/>
                    </a:lnTo>
                    <a:lnTo>
                      <a:pt x="1072" y="470"/>
                    </a:lnTo>
                    <a:lnTo>
                      <a:pt x="1070" y="490"/>
                    </a:lnTo>
                    <a:lnTo>
                      <a:pt x="1070" y="510"/>
                    </a:lnTo>
                    <a:lnTo>
                      <a:pt x="1070" y="528"/>
                    </a:lnTo>
                    <a:lnTo>
                      <a:pt x="1072" y="546"/>
                    </a:lnTo>
                    <a:lnTo>
                      <a:pt x="1080" y="582"/>
                    </a:lnTo>
                    <a:lnTo>
                      <a:pt x="1086" y="616"/>
                    </a:lnTo>
                    <a:lnTo>
                      <a:pt x="1086" y="616"/>
                    </a:lnTo>
                    <a:lnTo>
                      <a:pt x="1110" y="568"/>
                    </a:lnTo>
                    <a:lnTo>
                      <a:pt x="1132" y="516"/>
                    </a:lnTo>
                    <a:lnTo>
                      <a:pt x="1178" y="410"/>
                    </a:lnTo>
                    <a:lnTo>
                      <a:pt x="1178" y="410"/>
                    </a:lnTo>
                    <a:lnTo>
                      <a:pt x="1186" y="394"/>
                    </a:lnTo>
                    <a:lnTo>
                      <a:pt x="1188" y="388"/>
                    </a:lnTo>
                    <a:lnTo>
                      <a:pt x="1190" y="380"/>
                    </a:lnTo>
                    <a:lnTo>
                      <a:pt x="1190" y="380"/>
                    </a:lnTo>
                    <a:lnTo>
                      <a:pt x="1190" y="370"/>
                    </a:lnTo>
                    <a:lnTo>
                      <a:pt x="1188" y="358"/>
                    </a:lnTo>
                    <a:lnTo>
                      <a:pt x="1182" y="336"/>
                    </a:lnTo>
                    <a:lnTo>
                      <a:pt x="1182" y="336"/>
                    </a:lnTo>
                    <a:lnTo>
                      <a:pt x="1174" y="288"/>
                    </a:lnTo>
                    <a:lnTo>
                      <a:pt x="1174" y="288"/>
                    </a:lnTo>
                    <a:lnTo>
                      <a:pt x="1168" y="284"/>
                    </a:lnTo>
                    <a:lnTo>
                      <a:pt x="1166" y="280"/>
                    </a:lnTo>
                    <a:lnTo>
                      <a:pt x="1166" y="274"/>
                    </a:lnTo>
                    <a:lnTo>
                      <a:pt x="1166" y="274"/>
                    </a:lnTo>
                    <a:lnTo>
                      <a:pt x="1166" y="272"/>
                    </a:lnTo>
                    <a:lnTo>
                      <a:pt x="1168" y="270"/>
                    </a:lnTo>
                    <a:lnTo>
                      <a:pt x="1170" y="270"/>
                    </a:lnTo>
                    <a:lnTo>
                      <a:pt x="1170" y="268"/>
                    </a:lnTo>
                    <a:lnTo>
                      <a:pt x="1170" y="268"/>
                    </a:lnTo>
                    <a:lnTo>
                      <a:pt x="1168" y="248"/>
                    </a:lnTo>
                    <a:lnTo>
                      <a:pt x="1164" y="232"/>
                    </a:lnTo>
                    <a:lnTo>
                      <a:pt x="1156" y="218"/>
                    </a:lnTo>
                    <a:lnTo>
                      <a:pt x="1148" y="206"/>
                    </a:lnTo>
                    <a:lnTo>
                      <a:pt x="1148" y="206"/>
                    </a:lnTo>
                    <a:lnTo>
                      <a:pt x="1146" y="206"/>
                    </a:lnTo>
                    <a:lnTo>
                      <a:pt x="1144" y="208"/>
                    </a:lnTo>
                    <a:lnTo>
                      <a:pt x="1142" y="210"/>
                    </a:lnTo>
                    <a:lnTo>
                      <a:pt x="1138" y="208"/>
                    </a:lnTo>
                    <a:lnTo>
                      <a:pt x="1138" y="208"/>
                    </a:lnTo>
                    <a:lnTo>
                      <a:pt x="1138" y="206"/>
                    </a:lnTo>
                    <a:lnTo>
                      <a:pt x="1140" y="204"/>
                    </a:lnTo>
                    <a:lnTo>
                      <a:pt x="1142" y="202"/>
                    </a:lnTo>
                    <a:lnTo>
                      <a:pt x="1142" y="200"/>
                    </a:lnTo>
                    <a:lnTo>
                      <a:pt x="1142" y="200"/>
                    </a:lnTo>
                    <a:lnTo>
                      <a:pt x="1132" y="182"/>
                    </a:lnTo>
                    <a:lnTo>
                      <a:pt x="1120" y="166"/>
                    </a:lnTo>
                    <a:lnTo>
                      <a:pt x="1120" y="166"/>
                    </a:lnTo>
                    <a:lnTo>
                      <a:pt x="1112" y="172"/>
                    </a:lnTo>
                    <a:lnTo>
                      <a:pt x="1108" y="176"/>
                    </a:lnTo>
                    <a:lnTo>
                      <a:pt x="1106" y="182"/>
                    </a:lnTo>
                    <a:lnTo>
                      <a:pt x="1106" y="182"/>
                    </a:lnTo>
                    <a:lnTo>
                      <a:pt x="1108" y="184"/>
                    </a:lnTo>
                    <a:lnTo>
                      <a:pt x="1112" y="186"/>
                    </a:lnTo>
                    <a:lnTo>
                      <a:pt x="1118" y="186"/>
                    </a:lnTo>
                    <a:lnTo>
                      <a:pt x="1118" y="186"/>
                    </a:lnTo>
                    <a:lnTo>
                      <a:pt x="1114" y="190"/>
                    </a:lnTo>
                    <a:lnTo>
                      <a:pt x="1110" y="190"/>
                    </a:lnTo>
                    <a:lnTo>
                      <a:pt x="1098" y="190"/>
                    </a:lnTo>
                    <a:lnTo>
                      <a:pt x="1086" y="192"/>
                    </a:lnTo>
                    <a:lnTo>
                      <a:pt x="1082" y="192"/>
                    </a:lnTo>
                    <a:lnTo>
                      <a:pt x="1078" y="194"/>
                    </a:lnTo>
                    <a:lnTo>
                      <a:pt x="1078" y="194"/>
                    </a:lnTo>
                    <a:lnTo>
                      <a:pt x="1086" y="200"/>
                    </a:lnTo>
                    <a:lnTo>
                      <a:pt x="1096" y="204"/>
                    </a:lnTo>
                    <a:lnTo>
                      <a:pt x="1120" y="206"/>
                    </a:lnTo>
                    <a:lnTo>
                      <a:pt x="1120" y="206"/>
                    </a:lnTo>
                    <a:lnTo>
                      <a:pt x="1120" y="212"/>
                    </a:lnTo>
                    <a:lnTo>
                      <a:pt x="1120" y="218"/>
                    </a:lnTo>
                    <a:lnTo>
                      <a:pt x="1120" y="226"/>
                    </a:lnTo>
                    <a:lnTo>
                      <a:pt x="1118" y="228"/>
                    </a:lnTo>
                    <a:lnTo>
                      <a:pt x="1116" y="228"/>
                    </a:lnTo>
                    <a:lnTo>
                      <a:pt x="1116" y="228"/>
                    </a:lnTo>
                    <a:lnTo>
                      <a:pt x="1120" y="236"/>
                    </a:lnTo>
                    <a:lnTo>
                      <a:pt x="1118" y="242"/>
                    </a:lnTo>
                    <a:lnTo>
                      <a:pt x="1114" y="246"/>
                    </a:lnTo>
                    <a:lnTo>
                      <a:pt x="1108" y="252"/>
                    </a:lnTo>
                    <a:lnTo>
                      <a:pt x="1094" y="260"/>
                    </a:lnTo>
                    <a:lnTo>
                      <a:pt x="1088" y="266"/>
                    </a:lnTo>
                    <a:lnTo>
                      <a:pt x="1084" y="270"/>
                    </a:lnTo>
                    <a:lnTo>
                      <a:pt x="1084" y="270"/>
                    </a:lnTo>
                    <a:lnTo>
                      <a:pt x="1088" y="274"/>
                    </a:lnTo>
                    <a:lnTo>
                      <a:pt x="1090" y="278"/>
                    </a:lnTo>
                    <a:lnTo>
                      <a:pt x="1090" y="288"/>
                    </a:lnTo>
                    <a:lnTo>
                      <a:pt x="1090" y="300"/>
                    </a:lnTo>
                    <a:lnTo>
                      <a:pt x="1090" y="306"/>
                    </a:lnTo>
                    <a:lnTo>
                      <a:pt x="1090" y="310"/>
                    </a:lnTo>
                    <a:lnTo>
                      <a:pt x="1090" y="310"/>
                    </a:lnTo>
                    <a:lnTo>
                      <a:pt x="1094" y="292"/>
                    </a:lnTo>
                    <a:lnTo>
                      <a:pt x="1096" y="276"/>
                    </a:lnTo>
                    <a:lnTo>
                      <a:pt x="1096" y="276"/>
                    </a:lnTo>
                    <a:lnTo>
                      <a:pt x="1098" y="280"/>
                    </a:lnTo>
                    <a:lnTo>
                      <a:pt x="1096" y="286"/>
                    </a:lnTo>
                    <a:lnTo>
                      <a:pt x="1094" y="298"/>
                    </a:lnTo>
                    <a:lnTo>
                      <a:pt x="1092" y="310"/>
                    </a:lnTo>
                    <a:lnTo>
                      <a:pt x="1094" y="314"/>
                    </a:lnTo>
                    <a:lnTo>
                      <a:pt x="1096" y="320"/>
                    </a:lnTo>
                    <a:lnTo>
                      <a:pt x="1096" y="320"/>
                    </a:lnTo>
                    <a:lnTo>
                      <a:pt x="1094" y="324"/>
                    </a:lnTo>
                    <a:lnTo>
                      <a:pt x="1092" y="330"/>
                    </a:lnTo>
                    <a:lnTo>
                      <a:pt x="1088" y="346"/>
                    </a:lnTo>
                    <a:lnTo>
                      <a:pt x="1090" y="360"/>
                    </a:lnTo>
                    <a:lnTo>
                      <a:pt x="1094" y="372"/>
                    </a:lnTo>
                    <a:lnTo>
                      <a:pt x="1094" y="372"/>
                    </a:lnTo>
                    <a:lnTo>
                      <a:pt x="1096" y="374"/>
                    </a:lnTo>
                    <a:lnTo>
                      <a:pt x="1100" y="372"/>
                    </a:lnTo>
                    <a:lnTo>
                      <a:pt x="1104" y="372"/>
                    </a:lnTo>
                    <a:lnTo>
                      <a:pt x="1104" y="372"/>
                    </a:lnTo>
                    <a:lnTo>
                      <a:pt x="1100" y="376"/>
                    </a:lnTo>
                    <a:lnTo>
                      <a:pt x="1100" y="382"/>
                    </a:lnTo>
                    <a:lnTo>
                      <a:pt x="1098" y="390"/>
                    </a:lnTo>
                    <a:lnTo>
                      <a:pt x="1096" y="394"/>
                    </a:lnTo>
                    <a:lnTo>
                      <a:pt x="1096" y="394"/>
                    </a:lnTo>
                    <a:lnTo>
                      <a:pt x="1102" y="394"/>
                    </a:lnTo>
                    <a:lnTo>
                      <a:pt x="1108" y="396"/>
                    </a:lnTo>
                    <a:lnTo>
                      <a:pt x="1108" y="396"/>
                    </a:lnTo>
                    <a:lnTo>
                      <a:pt x="1106" y="398"/>
                    </a:lnTo>
                    <a:lnTo>
                      <a:pt x="1102" y="402"/>
                    </a:lnTo>
                    <a:lnTo>
                      <a:pt x="1090" y="404"/>
                    </a:lnTo>
                    <a:lnTo>
                      <a:pt x="1090" y="404"/>
                    </a:lnTo>
                    <a:lnTo>
                      <a:pt x="1086" y="410"/>
                    </a:lnTo>
                    <a:lnTo>
                      <a:pt x="1082" y="420"/>
                    </a:lnTo>
                    <a:lnTo>
                      <a:pt x="1080" y="430"/>
                    </a:lnTo>
                    <a:lnTo>
                      <a:pt x="1080" y="440"/>
                    </a:lnTo>
                    <a:lnTo>
                      <a:pt x="1080" y="440"/>
                    </a:lnTo>
                    <a:lnTo>
                      <a:pt x="1084" y="438"/>
                    </a:lnTo>
                    <a:lnTo>
                      <a:pt x="1086" y="436"/>
                    </a:lnTo>
                    <a:lnTo>
                      <a:pt x="1090" y="432"/>
                    </a:lnTo>
                    <a:lnTo>
                      <a:pt x="1094" y="426"/>
                    </a:lnTo>
                    <a:lnTo>
                      <a:pt x="1098" y="424"/>
                    </a:lnTo>
                    <a:lnTo>
                      <a:pt x="1102" y="424"/>
                    </a:lnTo>
                    <a:lnTo>
                      <a:pt x="1102" y="424"/>
                    </a:lnTo>
                    <a:lnTo>
                      <a:pt x="1086" y="394"/>
                    </a:lnTo>
                    <a:lnTo>
                      <a:pt x="1086" y="394"/>
                    </a:lnTo>
                    <a:lnTo>
                      <a:pt x="1094" y="394"/>
                    </a:lnTo>
                    <a:lnTo>
                      <a:pt x="1094" y="394"/>
                    </a:lnTo>
                    <a:lnTo>
                      <a:pt x="1094" y="390"/>
                    </a:lnTo>
                    <a:lnTo>
                      <a:pt x="1096" y="386"/>
                    </a:lnTo>
                    <a:lnTo>
                      <a:pt x="1094" y="380"/>
                    </a:lnTo>
                    <a:lnTo>
                      <a:pt x="1092" y="372"/>
                    </a:lnTo>
                    <a:lnTo>
                      <a:pt x="1090" y="366"/>
                    </a:lnTo>
                    <a:lnTo>
                      <a:pt x="1090" y="366"/>
                    </a:lnTo>
                    <a:lnTo>
                      <a:pt x="1088" y="368"/>
                    </a:lnTo>
                    <a:lnTo>
                      <a:pt x="1086" y="370"/>
                    </a:lnTo>
                    <a:lnTo>
                      <a:pt x="1086" y="378"/>
                    </a:lnTo>
                    <a:lnTo>
                      <a:pt x="1086" y="386"/>
                    </a:lnTo>
                    <a:lnTo>
                      <a:pt x="1086" y="394"/>
                    </a:lnTo>
                    <a:lnTo>
                      <a:pt x="1086" y="394"/>
                    </a:lnTo>
                    <a:lnTo>
                      <a:pt x="1076" y="456"/>
                    </a:lnTo>
                    <a:lnTo>
                      <a:pt x="1076" y="456"/>
                    </a:lnTo>
                    <a:lnTo>
                      <a:pt x="1086" y="440"/>
                    </a:lnTo>
                    <a:lnTo>
                      <a:pt x="1086" y="440"/>
                    </a:lnTo>
                    <a:lnTo>
                      <a:pt x="1082" y="440"/>
                    </a:lnTo>
                    <a:lnTo>
                      <a:pt x="1080" y="440"/>
                    </a:lnTo>
                    <a:lnTo>
                      <a:pt x="1076" y="446"/>
                    </a:lnTo>
                    <a:lnTo>
                      <a:pt x="1076" y="456"/>
                    </a:lnTo>
                    <a:lnTo>
                      <a:pt x="1076" y="456"/>
                    </a:lnTo>
                    <a:lnTo>
                      <a:pt x="956" y="180"/>
                    </a:lnTo>
                    <a:lnTo>
                      <a:pt x="956" y="180"/>
                    </a:lnTo>
                    <a:lnTo>
                      <a:pt x="954" y="174"/>
                    </a:lnTo>
                    <a:lnTo>
                      <a:pt x="952" y="168"/>
                    </a:lnTo>
                    <a:lnTo>
                      <a:pt x="952" y="168"/>
                    </a:lnTo>
                    <a:lnTo>
                      <a:pt x="952" y="174"/>
                    </a:lnTo>
                    <a:lnTo>
                      <a:pt x="956" y="180"/>
                    </a:lnTo>
                    <a:lnTo>
                      <a:pt x="956" y="180"/>
                    </a:lnTo>
                    <a:lnTo>
                      <a:pt x="1132" y="178"/>
                    </a:lnTo>
                    <a:lnTo>
                      <a:pt x="1132" y="178"/>
                    </a:lnTo>
                    <a:lnTo>
                      <a:pt x="1138" y="186"/>
                    </a:lnTo>
                    <a:lnTo>
                      <a:pt x="1144" y="196"/>
                    </a:lnTo>
                    <a:lnTo>
                      <a:pt x="1144" y="196"/>
                    </a:lnTo>
                    <a:lnTo>
                      <a:pt x="1146" y="196"/>
                    </a:lnTo>
                    <a:lnTo>
                      <a:pt x="1148" y="194"/>
                    </a:lnTo>
                    <a:lnTo>
                      <a:pt x="1150" y="194"/>
                    </a:lnTo>
                    <a:lnTo>
                      <a:pt x="1152" y="194"/>
                    </a:lnTo>
                    <a:lnTo>
                      <a:pt x="1152" y="194"/>
                    </a:lnTo>
                    <a:lnTo>
                      <a:pt x="1150" y="200"/>
                    </a:lnTo>
                    <a:lnTo>
                      <a:pt x="1148" y="202"/>
                    </a:lnTo>
                    <a:lnTo>
                      <a:pt x="1148" y="202"/>
                    </a:lnTo>
                    <a:lnTo>
                      <a:pt x="1152" y="206"/>
                    </a:lnTo>
                    <a:lnTo>
                      <a:pt x="1154" y="210"/>
                    </a:lnTo>
                    <a:lnTo>
                      <a:pt x="1158" y="218"/>
                    </a:lnTo>
                    <a:lnTo>
                      <a:pt x="1158" y="218"/>
                    </a:lnTo>
                    <a:lnTo>
                      <a:pt x="1154" y="196"/>
                    </a:lnTo>
                    <a:lnTo>
                      <a:pt x="1148" y="176"/>
                    </a:lnTo>
                    <a:lnTo>
                      <a:pt x="1148" y="176"/>
                    </a:lnTo>
                    <a:lnTo>
                      <a:pt x="1140" y="176"/>
                    </a:lnTo>
                    <a:lnTo>
                      <a:pt x="1134" y="176"/>
                    </a:lnTo>
                    <a:lnTo>
                      <a:pt x="1132" y="178"/>
                    </a:lnTo>
                    <a:lnTo>
                      <a:pt x="1132" y="178"/>
                    </a:lnTo>
                    <a:lnTo>
                      <a:pt x="900" y="190"/>
                    </a:lnTo>
                    <a:lnTo>
                      <a:pt x="900" y="190"/>
                    </a:lnTo>
                    <a:lnTo>
                      <a:pt x="902" y="188"/>
                    </a:lnTo>
                    <a:lnTo>
                      <a:pt x="902" y="184"/>
                    </a:lnTo>
                    <a:lnTo>
                      <a:pt x="900" y="178"/>
                    </a:lnTo>
                    <a:lnTo>
                      <a:pt x="900" y="178"/>
                    </a:lnTo>
                    <a:lnTo>
                      <a:pt x="896" y="178"/>
                    </a:lnTo>
                    <a:lnTo>
                      <a:pt x="896" y="178"/>
                    </a:lnTo>
                    <a:lnTo>
                      <a:pt x="896" y="186"/>
                    </a:lnTo>
                    <a:lnTo>
                      <a:pt x="898" y="188"/>
                    </a:lnTo>
                    <a:lnTo>
                      <a:pt x="900" y="190"/>
                    </a:lnTo>
                    <a:lnTo>
                      <a:pt x="900" y="190"/>
                    </a:lnTo>
                    <a:lnTo>
                      <a:pt x="886" y="182"/>
                    </a:lnTo>
                    <a:lnTo>
                      <a:pt x="886" y="182"/>
                    </a:lnTo>
                    <a:lnTo>
                      <a:pt x="888" y="188"/>
                    </a:lnTo>
                    <a:lnTo>
                      <a:pt x="888" y="190"/>
                    </a:lnTo>
                    <a:lnTo>
                      <a:pt x="890" y="194"/>
                    </a:lnTo>
                    <a:lnTo>
                      <a:pt x="890" y="194"/>
                    </a:lnTo>
                    <a:lnTo>
                      <a:pt x="892" y="192"/>
                    </a:lnTo>
                    <a:lnTo>
                      <a:pt x="894" y="192"/>
                    </a:lnTo>
                    <a:lnTo>
                      <a:pt x="894" y="192"/>
                    </a:lnTo>
                    <a:lnTo>
                      <a:pt x="894" y="186"/>
                    </a:lnTo>
                    <a:lnTo>
                      <a:pt x="892" y="180"/>
                    </a:lnTo>
                    <a:lnTo>
                      <a:pt x="892" y="180"/>
                    </a:lnTo>
                    <a:lnTo>
                      <a:pt x="888" y="180"/>
                    </a:lnTo>
                    <a:lnTo>
                      <a:pt x="886" y="182"/>
                    </a:lnTo>
                    <a:lnTo>
                      <a:pt x="886" y="182"/>
                    </a:lnTo>
                    <a:lnTo>
                      <a:pt x="906" y="190"/>
                    </a:lnTo>
                    <a:lnTo>
                      <a:pt x="906" y="190"/>
                    </a:lnTo>
                    <a:lnTo>
                      <a:pt x="912" y="192"/>
                    </a:lnTo>
                    <a:lnTo>
                      <a:pt x="918" y="192"/>
                    </a:lnTo>
                    <a:lnTo>
                      <a:pt x="928" y="198"/>
                    </a:lnTo>
                    <a:lnTo>
                      <a:pt x="928" y="198"/>
                    </a:lnTo>
                    <a:lnTo>
                      <a:pt x="928" y="192"/>
                    </a:lnTo>
                    <a:lnTo>
                      <a:pt x="930" y="190"/>
                    </a:lnTo>
                    <a:lnTo>
                      <a:pt x="930" y="190"/>
                    </a:lnTo>
                    <a:lnTo>
                      <a:pt x="916" y="188"/>
                    </a:lnTo>
                    <a:lnTo>
                      <a:pt x="912" y="188"/>
                    </a:lnTo>
                    <a:lnTo>
                      <a:pt x="908" y="184"/>
                    </a:lnTo>
                    <a:lnTo>
                      <a:pt x="908" y="184"/>
                    </a:lnTo>
                    <a:lnTo>
                      <a:pt x="906" y="188"/>
                    </a:lnTo>
                    <a:lnTo>
                      <a:pt x="906" y="190"/>
                    </a:lnTo>
                    <a:lnTo>
                      <a:pt x="906" y="190"/>
                    </a:lnTo>
                    <a:lnTo>
                      <a:pt x="874" y="194"/>
                    </a:lnTo>
                    <a:lnTo>
                      <a:pt x="874" y="194"/>
                    </a:lnTo>
                    <a:lnTo>
                      <a:pt x="878" y="196"/>
                    </a:lnTo>
                    <a:lnTo>
                      <a:pt x="882" y="198"/>
                    </a:lnTo>
                    <a:lnTo>
                      <a:pt x="882" y="198"/>
                    </a:lnTo>
                    <a:lnTo>
                      <a:pt x="882" y="194"/>
                    </a:lnTo>
                    <a:lnTo>
                      <a:pt x="880" y="190"/>
                    </a:lnTo>
                    <a:lnTo>
                      <a:pt x="880" y="190"/>
                    </a:lnTo>
                    <a:lnTo>
                      <a:pt x="876" y="192"/>
                    </a:lnTo>
                    <a:lnTo>
                      <a:pt x="874" y="194"/>
                    </a:lnTo>
                    <a:lnTo>
                      <a:pt x="874" y="194"/>
                    </a:lnTo>
                    <a:lnTo>
                      <a:pt x="1006" y="198"/>
                    </a:lnTo>
                    <a:lnTo>
                      <a:pt x="1006" y="198"/>
                    </a:lnTo>
                    <a:lnTo>
                      <a:pt x="1014" y="202"/>
                    </a:lnTo>
                    <a:lnTo>
                      <a:pt x="1022" y="206"/>
                    </a:lnTo>
                    <a:lnTo>
                      <a:pt x="1022" y="206"/>
                    </a:lnTo>
                    <a:lnTo>
                      <a:pt x="1016" y="198"/>
                    </a:lnTo>
                    <a:lnTo>
                      <a:pt x="1010" y="192"/>
                    </a:lnTo>
                    <a:lnTo>
                      <a:pt x="1010" y="192"/>
                    </a:lnTo>
                    <a:lnTo>
                      <a:pt x="1008" y="194"/>
                    </a:lnTo>
                    <a:lnTo>
                      <a:pt x="1006" y="198"/>
                    </a:lnTo>
                    <a:lnTo>
                      <a:pt x="1006" y="198"/>
                    </a:lnTo>
                    <a:lnTo>
                      <a:pt x="994" y="200"/>
                    </a:lnTo>
                    <a:lnTo>
                      <a:pt x="994" y="200"/>
                    </a:lnTo>
                    <a:lnTo>
                      <a:pt x="996" y="198"/>
                    </a:lnTo>
                    <a:lnTo>
                      <a:pt x="1000" y="198"/>
                    </a:lnTo>
                    <a:lnTo>
                      <a:pt x="1002" y="196"/>
                    </a:lnTo>
                    <a:lnTo>
                      <a:pt x="1002" y="194"/>
                    </a:lnTo>
                    <a:lnTo>
                      <a:pt x="1002" y="194"/>
                    </a:lnTo>
                    <a:lnTo>
                      <a:pt x="996" y="194"/>
                    </a:lnTo>
                    <a:lnTo>
                      <a:pt x="988" y="196"/>
                    </a:lnTo>
                    <a:lnTo>
                      <a:pt x="984" y="200"/>
                    </a:lnTo>
                    <a:lnTo>
                      <a:pt x="978" y="204"/>
                    </a:lnTo>
                    <a:lnTo>
                      <a:pt x="970" y="214"/>
                    </a:lnTo>
                    <a:lnTo>
                      <a:pt x="962" y="224"/>
                    </a:lnTo>
                    <a:lnTo>
                      <a:pt x="962" y="224"/>
                    </a:lnTo>
                    <a:lnTo>
                      <a:pt x="970" y="222"/>
                    </a:lnTo>
                    <a:lnTo>
                      <a:pt x="974" y="222"/>
                    </a:lnTo>
                    <a:lnTo>
                      <a:pt x="976" y="224"/>
                    </a:lnTo>
                    <a:lnTo>
                      <a:pt x="976" y="224"/>
                    </a:lnTo>
                    <a:lnTo>
                      <a:pt x="966" y="224"/>
                    </a:lnTo>
                    <a:lnTo>
                      <a:pt x="962" y="226"/>
                    </a:lnTo>
                    <a:lnTo>
                      <a:pt x="958" y="226"/>
                    </a:lnTo>
                    <a:lnTo>
                      <a:pt x="958" y="226"/>
                    </a:lnTo>
                    <a:lnTo>
                      <a:pt x="962" y="230"/>
                    </a:lnTo>
                    <a:lnTo>
                      <a:pt x="966" y="232"/>
                    </a:lnTo>
                    <a:lnTo>
                      <a:pt x="972" y="236"/>
                    </a:lnTo>
                    <a:lnTo>
                      <a:pt x="972" y="240"/>
                    </a:lnTo>
                    <a:lnTo>
                      <a:pt x="972" y="244"/>
                    </a:lnTo>
                    <a:lnTo>
                      <a:pt x="972" y="244"/>
                    </a:lnTo>
                    <a:lnTo>
                      <a:pt x="978" y="238"/>
                    </a:lnTo>
                    <a:lnTo>
                      <a:pt x="982" y="232"/>
                    </a:lnTo>
                    <a:lnTo>
                      <a:pt x="986" y="220"/>
                    </a:lnTo>
                    <a:lnTo>
                      <a:pt x="986" y="220"/>
                    </a:lnTo>
                    <a:lnTo>
                      <a:pt x="990" y="218"/>
                    </a:lnTo>
                    <a:lnTo>
                      <a:pt x="992" y="212"/>
                    </a:lnTo>
                    <a:lnTo>
                      <a:pt x="994" y="200"/>
                    </a:lnTo>
                    <a:lnTo>
                      <a:pt x="994" y="200"/>
                    </a:lnTo>
                    <a:lnTo>
                      <a:pt x="1216" y="204"/>
                    </a:lnTo>
                    <a:lnTo>
                      <a:pt x="1216" y="204"/>
                    </a:lnTo>
                    <a:lnTo>
                      <a:pt x="1220" y="204"/>
                    </a:lnTo>
                    <a:lnTo>
                      <a:pt x="1222" y="204"/>
                    </a:lnTo>
                    <a:lnTo>
                      <a:pt x="1224" y="202"/>
                    </a:lnTo>
                    <a:lnTo>
                      <a:pt x="1224" y="202"/>
                    </a:lnTo>
                    <a:lnTo>
                      <a:pt x="1220" y="200"/>
                    </a:lnTo>
                    <a:lnTo>
                      <a:pt x="1216" y="198"/>
                    </a:lnTo>
                    <a:lnTo>
                      <a:pt x="1216" y="198"/>
                    </a:lnTo>
                    <a:lnTo>
                      <a:pt x="1216" y="200"/>
                    </a:lnTo>
                    <a:lnTo>
                      <a:pt x="1216" y="204"/>
                    </a:lnTo>
                    <a:lnTo>
                      <a:pt x="1216" y="204"/>
                    </a:lnTo>
                    <a:lnTo>
                      <a:pt x="1036" y="238"/>
                    </a:lnTo>
                    <a:lnTo>
                      <a:pt x="1036" y="238"/>
                    </a:lnTo>
                    <a:lnTo>
                      <a:pt x="1044" y="240"/>
                    </a:lnTo>
                    <a:lnTo>
                      <a:pt x="1054" y="238"/>
                    </a:lnTo>
                    <a:lnTo>
                      <a:pt x="1070" y="234"/>
                    </a:lnTo>
                    <a:lnTo>
                      <a:pt x="1070" y="234"/>
                    </a:lnTo>
                    <a:lnTo>
                      <a:pt x="1070" y="226"/>
                    </a:lnTo>
                    <a:lnTo>
                      <a:pt x="1072" y="222"/>
                    </a:lnTo>
                    <a:lnTo>
                      <a:pt x="1070" y="220"/>
                    </a:lnTo>
                    <a:lnTo>
                      <a:pt x="1070" y="220"/>
                    </a:lnTo>
                    <a:lnTo>
                      <a:pt x="1070" y="224"/>
                    </a:lnTo>
                    <a:lnTo>
                      <a:pt x="1068" y="228"/>
                    </a:lnTo>
                    <a:lnTo>
                      <a:pt x="1064" y="232"/>
                    </a:lnTo>
                    <a:lnTo>
                      <a:pt x="1060" y="234"/>
                    </a:lnTo>
                    <a:lnTo>
                      <a:pt x="1056" y="234"/>
                    </a:lnTo>
                    <a:lnTo>
                      <a:pt x="1052" y="234"/>
                    </a:lnTo>
                    <a:lnTo>
                      <a:pt x="1048" y="230"/>
                    </a:lnTo>
                    <a:lnTo>
                      <a:pt x="1046" y="226"/>
                    </a:lnTo>
                    <a:lnTo>
                      <a:pt x="1046" y="226"/>
                    </a:lnTo>
                    <a:lnTo>
                      <a:pt x="1048" y="224"/>
                    </a:lnTo>
                    <a:lnTo>
                      <a:pt x="1052" y="222"/>
                    </a:lnTo>
                    <a:lnTo>
                      <a:pt x="1056" y="222"/>
                    </a:lnTo>
                    <a:lnTo>
                      <a:pt x="1060" y="220"/>
                    </a:lnTo>
                    <a:lnTo>
                      <a:pt x="1060" y="220"/>
                    </a:lnTo>
                    <a:lnTo>
                      <a:pt x="1052" y="220"/>
                    </a:lnTo>
                    <a:lnTo>
                      <a:pt x="1048" y="218"/>
                    </a:lnTo>
                    <a:lnTo>
                      <a:pt x="1046" y="214"/>
                    </a:lnTo>
                    <a:lnTo>
                      <a:pt x="1046" y="214"/>
                    </a:lnTo>
                    <a:lnTo>
                      <a:pt x="1050" y="208"/>
                    </a:lnTo>
                    <a:lnTo>
                      <a:pt x="1050" y="200"/>
                    </a:lnTo>
                    <a:lnTo>
                      <a:pt x="1050" y="200"/>
                    </a:lnTo>
                    <a:lnTo>
                      <a:pt x="1046" y="198"/>
                    </a:lnTo>
                    <a:lnTo>
                      <a:pt x="1040" y="198"/>
                    </a:lnTo>
                    <a:lnTo>
                      <a:pt x="1040" y="198"/>
                    </a:lnTo>
                    <a:lnTo>
                      <a:pt x="1036" y="206"/>
                    </a:lnTo>
                    <a:lnTo>
                      <a:pt x="1036" y="212"/>
                    </a:lnTo>
                    <a:lnTo>
                      <a:pt x="1036" y="216"/>
                    </a:lnTo>
                    <a:lnTo>
                      <a:pt x="1036" y="216"/>
                    </a:lnTo>
                    <a:lnTo>
                      <a:pt x="1038" y="210"/>
                    </a:lnTo>
                    <a:lnTo>
                      <a:pt x="1040" y="210"/>
                    </a:lnTo>
                    <a:lnTo>
                      <a:pt x="1044" y="208"/>
                    </a:lnTo>
                    <a:lnTo>
                      <a:pt x="1044" y="208"/>
                    </a:lnTo>
                    <a:lnTo>
                      <a:pt x="1040" y="210"/>
                    </a:lnTo>
                    <a:lnTo>
                      <a:pt x="1038" y="214"/>
                    </a:lnTo>
                    <a:lnTo>
                      <a:pt x="1036" y="220"/>
                    </a:lnTo>
                    <a:lnTo>
                      <a:pt x="1034" y="230"/>
                    </a:lnTo>
                    <a:lnTo>
                      <a:pt x="1036" y="238"/>
                    </a:lnTo>
                    <a:lnTo>
                      <a:pt x="1036" y="238"/>
                    </a:lnTo>
                    <a:lnTo>
                      <a:pt x="1228" y="216"/>
                    </a:lnTo>
                    <a:lnTo>
                      <a:pt x="1228" y="216"/>
                    </a:lnTo>
                    <a:lnTo>
                      <a:pt x="1224" y="218"/>
                    </a:lnTo>
                    <a:lnTo>
                      <a:pt x="1220" y="218"/>
                    </a:lnTo>
                    <a:lnTo>
                      <a:pt x="1212" y="216"/>
                    </a:lnTo>
                    <a:lnTo>
                      <a:pt x="1212" y="216"/>
                    </a:lnTo>
                    <a:lnTo>
                      <a:pt x="1210" y="222"/>
                    </a:lnTo>
                    <a:lnTo>
                      <a:pt x="1208" y="228"/>
                    </a:lnTo>
                    <a:lnTo>
                      <a:pt x="1204" y="232"/>
                    </a:lnTo>
                    <a:lnTo>
                      <a:pt x="1204" y="240"/>
                    </a:lnTo>
                    <a:lnTo>
                      <a:pt x="1204" y="240"/>
                    </a:lnTo>
                    <a:lnTo>
                      <a:pt x="1204" y="244"/>
                    </a:lnTo>
                    <a:lnTo>
                      <a:pt x="1204" y="248"/>
                    </a:lnTo>
                    <a:lnTo>
                      <a:pt x="1204" y="248"/>
                    </a:lnTo>
                    <a:lnTo>
                      <a:pt x="1202" y="256"/>
                    </a:lnTo>
                    <a:lnTo>
                      <a:pt x="1198" y="266"/>
                    </a:lnTo>
                    <a:lnTo>
                      <a:pt x="1194" y="274"/>
                    </a:lnTo>
                    <a:lnTo>
                      <a:pt x="1192" y="284"/>
                    </a:lnTo>
                    <a:lnTo>
                      <a:pt x="1192" y="284"/>
                    </a:lnTo>
                    <a:lnTo>
                      <a:pt x="1194" y="288"/>
                    </a:lnTo>
                    <a:lnTo>
                      <a:pt x="1196" y="294"/>
                    </a:lnTo>
                    <a:lnTo>
                      <a:pt x="1204" y="302"/>
                    </a:lnTo>
                    <a:lnTo>
                      <a:pt x="1204" y="302"/>
                    </a:lnTo>
                    <a:lnTo>
                      <a:pt x="1184" y="294"/>
                    </a:lnTo>
                    <a:lnTo>
                      <a:pt x="1184" y="294"/>
                    </a:lnTo>
                    <a:lnTo>
                      <a:pt x="1186" y="314"/>
                    </a:lnTo>
                    <a:lnTo>
                      <a:pt x="1190" y="332"/>
                    </a:lnTo>
                    <a:lnTo>
                      <a:pt x="1194" y="348"/>
                    </a:lnTo>
                    <a:lnTo>
                      <a:pt x="1198" y="364"/>
                    </a:lnTo>
                    <a:lnTo>
                      <a:pt x="1198" y="364"/>
                    </a:lnTo>
                    <a:lnTo>
                      <a:pt x="1220" y="328"/>
                    </a:lnTo>
                    <a:lnTo>
                      <a:pt x="1220" y="328"/>
                    </a:lnTo>
                    <a:lnTo>
                      <a:pt x="1226" y="320"/>
                    </a:lnTo>
                    <a:lnTo>
                      <a:pt x="1234" y="312"/>
                    </a:lnTo>
                    <a:lnTo>
                      <a:pt x="1240" y="302"/>
                    </a:lnTo>
                    <a:lnTo>
                      <a:pt x="1242" y="292"/>
                    </a:lnTo>
                    <a:lnTo>
                      <a:pt x="1242" y="292"/>
                    </a:lnTo>
                    <a:lnTo>
                      <a:pt x="1220" y="288"/>
                    </a:lnTo>
                    <a:lnTo>
                      <a:pt x="1210" y="286"/>
                    </a:lnTo>
                    <a:lnTo>
                      <a:pt x="1206" y="282"/>
                    </a:lnTo>
                    <a:lnTo>
                      <a:pt x="1204" y="280"/>
                    </a:lnTo>
                    <a:lnTo>
                      <a:pt x="1204" y="280"/>
                    </a:lnTo>
                    <a:lnTo>
                      <a:pt x="1212" y="284"/>
                    </a:lnTo>
                    <a:lnTo>
                      <a:pt x="1222" y="288"/>
                    </a:lnTo>
                    <a:lnTo>
                      <a:pt x="1242" y="288"/>
                    </a:lnTo>
                    <a:lnTo>
                      <a:pt x="1242" y="288"/>
                    </a:lnTo>
                    <a:lnTo>
                      <a:pt x="1242" y="280"/>
                    </a:lnTo>
                    <a:lnTo>
                      <a:pt x="1242" y="270"/>
                    </a:lnTo>
                    <a:lnTo>
                      <a:pt x="1242" y="262"/>
                    </a:lnTo>
                    <a:lnTo>
                      <a:pt x="1242" y="254"/>
                    </a:lnTo>
                    <a:lnTo>
                      <a:pt x="1242" y="254"/>
                    </a:lnTo>
                    <a:lnTo>
                      <a:pt x="1244" y="276"/>
                    </a:lnTo>
                    <a:lnTo>
                      <a:pt x="1244" y="296"/>
                    </a:lnTo>
                    <a:lnTo>
                      <a:pt x="1244" y="296"/>
                    </a:lnTo>
                    <a:lnTo>
                      <a:pt x="1256" y="288"/>
                    </a:lnTo>
                    <a:lnTo>
                      <a:pt x="1260" y="282"/>
                    </a:lnTo>
                    <a:lnTo>
                      <a:pt x="1264" y="276"/>
                    </a:lnTo>
                    <a:lnTo>
                      <a:pt x="1264" y="276"/>
                    </a:lnTo>
                    <a:lnTo>
                      <a:pt x="1266" y="266"/>
                    </a:lnTo>
                    <a:lnTo>
                      <a:pt x="1268" y="258"/>
                    </a:lnTo>
                    <a:lnTo>
                      <a:pt x="1266" y="236"/>
                    </a:lnTo>
                    <a:lnTo>
                      <a:pt x="1266" y="216"/>
                    </a:lnTo>
                    <a:lnTo>
                      <a:pt x="1268" y="200"/>
                    </a:lnTo>
                    <a:lnTo>
                      <a:pt x="1268" y="200"/>
                    </a:lnTo>
                    <a:lnTo>
                      <a:pt x="1266" y="206"/>
                    </a:lnTo>
                    <a:lnTo>
                      <a:pt x="1262" y="214"/>
                    </a:lnTo>
                    <a:lnTo>
                      <a:pt x="1256" y="220"/>
                    </a:lnTo>
                    <a:lnTo>
                      <a:pt x="1250" y="224"/>
                    </a:lnTo>
                    <a:lnTo>
                      <a:pt x="1244" y="228"/>
                    </a:lnTo>
                    <a:lnTo>
                      <a:pt x="1238" y="228"/>
                    </a:lnTo>
                    <a:lnTo>
                      <a:pt x="1232" y="224"/>
                    </a:lnTo>
                    <a:lnTo>
                      <a:pt x="1228" y="216"/>
                    </a:lnTo>
                    <a:lnTo>
                      <a:pt x="1228" y="216"/>
                    </a:lnTo>
                    <a:lnTo>
                      <a:pt x="962" y="204"/>
                    </a:lnTo>
                    <a:lnTo>
                      <a:pt x="962" y="204"/>
                    </a:lnTo>
                    <a:lnTo>
                      <a:pt x="962" y="208"/>
                    </a:lnTo>
                    <a:lnTo>
                      <a:pt x="964" y="212"/>
                    </a:lnTo>
                    <a:lnTo>
                      <a:pt x="964" y="212"/>
                    </a:lnTo>
                    <a:lnTo>
                      <a:pt x="968" y="208"/>
                    </a:lnTo>
                    <a:lnTo>
                      <a:pt x="970" y="206"/>
                    </a:lnTo>
                    <a:lnTo>
                      <a:pt x="970" y="204"/>
                    </a:lnTo>
                    <a:lnTo>
                      <a:pt x="970" y="204"/>
                    </a:lnTo>
                    <a:lnTo>
                      <a:pt x="968" y="206"/>
                    </a:lnTo>
                    <a:lnTo>
                      <a:pt x="966" y="206"/>
                    </a:lnTo>
                    <a:lnTo>
                      <a:pt x="964" y="204"/>
                    </a:lnTo>
                    <a:lnTo>
                      <a:pt x="962" y="204"/>
                    </a:lnTo>
                    <a:lnTo>
                      <a:pt x="962" y="204"/>
                    </a:lnTo>
                    <a:lnTo>
                      <a:pt x="1068" y="260"/>
                    </a:lnTo>
                    <a:lnTo>
                      <a:pt x="1068" y="260"/>
                    </a:lnTo>
                    <a:lnTo>
                      <a:pt x="1076" y="250"/>
                    </a:lnTo>
                    <a:lnTo>
                      <a:pt x="1086" y="242"/>
                    </a:lnTo>
                    <a:lnTo>
                      <a:pt x="1096" y="236"/>
                    </a:lnTo>
                    <a:lnTo>
                      <a:pt x="1106" y="228"/>
                    </a:lnTo>
                    <a:lnTo>
                      <a:pt x="1106" y="228"/>
                    </a:lnTo>
                    <a:lnTo>
                      <a:pt x="1100" y="226"/>
                    </a:lnTo>
                    <a:lnTo>
                      <a:pt x="1098" y="224"/>
                    </a:lnTo>
                    <a:lnTo>
                      <a:pt x="1090" y="220"/>
                    </a:lnTo>
                    <a:lnTo>
                      <a:pt x="1090" y="220"/>
                    </a:lnTo>
                    <a:lnTo>
                      <a:pt x="1086" y="226"/>
                    </a:lnTo>
                    <a:lnTo>
                      <a:pt x="1082" y="228"/>
                    </a:lnTo>
                    <a:lnTo>
                      <a:pt x="1080" y="228"/>
                    </a:lnTo>
                    <a:lnTo>
                      <a:pt x="1080" y="228"/>
                    </a:lnTo>
                    <a:lnTo>
                      <a:pt x="1088" y="218"/>
                    </a:lnTo>
                    <a:lnTo>
                      <a:pt x="1088" y="218"/>
                    </a:lnTo>
                    <a:lnTo>
                      <a:pt x="1076" y="212"/>
                    </a:lnTo>
                    <a:lnTo>
                      <a:pt x="1076" y="212"/>
                    </a:lnTo>
                    <a:lnTo>
                      <a:pt x="1074" y="214"/>
                    </a:lnTo>
                    <a:lnTo>
                      <a:pt x="1074" y="216"/>
                    </a:lnTo>
                    <a:lnTo>
                      <a:pt x="1074" y="216"/>
                    </a:lnTo>
                    <a:lnTo>
                      <a:pt x="1076" y="218"/>
                    </a:lnTo>
                    <a:lnTo>
                      <a:pt x="1074" y="220"/>
                    </a:lnTo>
                    <a:lnTo>
                      <a:pt x="1072" y="224"/>
                    </a:lnTo>
                    <a:lnTo>
                      <a:pt x="1072" y="230"/>
                    </a:lnTo>
                    <a:lnTo>
                      <a:pt x="1072" y="230"/>
                    </a:lnTo>
                    <a:lnTo>
                      <a:pt x="1074" y="230"/>
                    </a:lnTo>
                    <a:lnTo>
                      <a:pt x="1076" y="230"/>
                    </a:lnTo>
                    <a:lnTo>
                      <a:pt x="1078" y="228"/>
                    </a:lnTo>
                    <a:lnTo>
                      <a:pt x="1078" y="230"/>
                    </a:lnTo>
                    <a:lnTo>
                      <a:pt x="1078" y="230"/>
                    </a:lnTo>
                    <a:lnTo>
                      <a:pt x="1076" y="232"/>
                    </a:lnTo>
                    <a:lnTo>
                      <a:pt x="1072" y="234"/>
                    </a:lnTo>
                    <a:lnTo>
                      <a:pt x="1070" y="242"/>
                    </a:lnTo>
                    <a:lnTo>
                      <a:pt x="1068" y="252"/>
                    </a:lnTo>
                    <a:lnTo>
                      <a:pt x="1068" y="260"/>
                    </a:lnTo>
                    <a:lnTo>
                      <a:pt x="1068" y="260"/>
                    </a:lnTo>
                    <a:lnTo>
                      <a:pt x="1004" y="240"/>
                    </a:lnTo>
                    <a:lnTo>
                      <a:pt x="1004" y="240"/>
                    </a:lnTo>
                    <a:lnTo>
                      <a:pt x="1006" y="240"/>
                    </a:lnTo>
                    <a:lnTo>
                      <a:pt x="1008" y="240"/>
                    </a:lnTo>
                    <a:lnTo>
                      <a:pt x="1010" y="240"/>
                    </a:lnTo>
                    <a:lnTo>
                      <a:pt x="1010" y="238"/>
                    </a:lnTo>
                    <a:lnTo>
                      <a:pt x="1010" y="238"/>
                    </a:lnTo>
                    <a:lnTo>
                      <a:pt x="1010" y="234"/>
                    </a:lnTo>
                    <a:lnTo>
                      <a:pt x="1006" y="228"/>
                    </a:lnTo>
                    <a:lnTo>
                      <a:pt x="1002" y="220"/>
                    </a:lnTo>
                    <a:lnTo>
                      <a:pt x="998" y="216"/>
                    </a:lnTo>
                    <a:lnTo>
                      <a:pt x="998" y="216"/>
                    </a:lnTo>
                    <a:lnTo>
                      <a:pt x="998" y="220"/>
                    </a:lnTo>
                    <a:lnTo>
                      <a:pt x="1000" y="224"/>
                    </a:lnTo>
                    <a:lnTo>
                      <a:pt x="1000" y="230"/>
                    </a:lnTo>
                    <a:lnTo>
                      <a:pt x="1000" y="234"/>
                    </a:lnTo>
                    <a:lnTo>
                      <a:pt x="1000" y="234"/>
                    </a:lnTo>
                    <a:lnTo>
                      <a:pt x="1000" y="232"/>
                    </a:lnTo>
                    <a:lnTo>
                      <a:pt x="998" y="228"/>
                    </a:lnTo>
                    <a:lnTo>
                      <a:pt x="998" y="228"/>
                    </a:lnTo>
                    <a:lnTo>
                      <a:pt x="990" y="230"/>
                    </a:lnTo>
                    <a:lnTo>
                      <a:pt x="986" y="234"/>
                    </a:lnTo>
                    <a:lnTo>
                      <a:pt x="980" y="246"/>
                    </a:lnTo>
                    <a:lnTo>
                      <a:pt x="980" y="246"/>
                    </a:lnTo>
                    <a:lnTo>
                      <a:pt x="982" y="250"/>
                    </a:lnTo>
                    <a:lnTo>
                      <a:pt x="984" y="252"/>
                    </a:lnTo>
                    <a:lnTo>
                      <a:pt x="988" y="252"/>
                    </a:lnTo>
                    <a:lnTo>
                      <a:pt x="992" y="250"/>
                    </a:lnTo>
                    <a:lnTo>
                      <a:pt x="1000" y="246"/>
                    </a:lnTo>
                    <a:lnTo>
                      <a:pt x="1004" y="240"/>
                    </a:lnTo>
                    <a:lnTo>
                      <a:pt x="1004" y="240"/>
                    </a:lnTo>
                    <a:lnTo>
                      <a:pt x="948" y="226"/>
                    </a:lnTo>
                    <a:lnTo>
                      <a:pt x="948" y="226"/>
                    </a:lnTo>
                    <a:lnTo>
                      <a:pt x="952" y="226"/>
                    </a:lnTo>
                    <a:lnTo>
                      <a:pt x="952" y="226"/>
                    </a:lnTo>
                    <a:lnTo>
                      <a:pt x="952" y="220"/>
                    </a:lnTo>
                    <a:lnTo>
                      <a:pt x="954" y="220"/>
                    </a:lnTo>
                    <a:lnTo>
                      <a:pt x="952" y="218"/>
                    </a:lnTo>
                    <a:lnTo>
                      <a:pt x="952" y="218"/>
                    </a:lnTo>
                    <a:lnTo>
                      <a:pt x="950" y="222"/>
                    </a:lnTo>
                    <a:lnTo>
                      <a:pt x="948" y="224"/>
                    </a:lnTo>
                    <a:lnTo>
                      <a:pt x="948" y="226"/>
                    </a:lnTo>
                    <a:lnTo>
                      <a:pt x="948" y="226"/>
                    </a:lnTo>
                    <a:lnTo>
                      <a:pt x="904" y="284"/>
                    </a:lnTo>
                    <a:lnTo>
                      <a:pt x="904" y="284"/>
                    </a:lnTo>
                    <a:lnTo>
                      <a:pt x="904" y="252"/>
                    </a:lnTo>
                    <a:lnTo>
                      <a:pt x="902" y="238"/>
                    </a:lnTo>
                    <a:lnTo>
                      <a:pt x="898" y="230"/>
                    </a:lnTo>
                    <a:lnTo>
                      <a:pt x="894" y="222"/>
                    </a:lnTo>
                    <a:lnTo>
                      <a:pt x="894" y="222"/>
                    </a:lnTo>
                    <a:lnTo>
                      <a:pt x="894" y="228"/>
                    </a:lnTo>
                    <a:lnTo>
                      <a:pt x="894" y="234"/>
                    </a:lnTo>
                    <a:lnTo>
                      <a:pt x="896" y="246"/>
                    </a:lnTo>
                    <a:lnTo>
                      <a:pt x="900" y="258"/>
                    </a:lnTo>
                    <a:lnTo>
                      <a:pt x="900" y="262"/>
                    </a:lnTo>
                    <a:lnTo>
                      <a:pt x="900" y="268"/>
                    </a:lnTo>
                    <a:lnTo>
                      <a:pt x="900" y="268"/>
                    </a:lnTo>
                    <a:lnTo>
                      <a:pt x="904" y="284"/>
                    </a:lnTo>
                    <a:lnTo>
                      <a:pt x="904" y="284"/>
                    </a:lnTo>
                    <a:lnTo>
                      <a:pt x="914" y="256"/>
                    </a:lnTo>
                    <a:lnTo>
                      <a:pt x="914" y="256"/>
                    </a:lnTo>
                    <a:lnTo>
                      <a:pt x="916" y="248"/>
                    </a:lnTo>
                    <a:lnTo>
                      <a:pt x="918" y="242"/>
                    </a:lnTo>
                    <a:lnTo>
                      <a:pt x="918" y="234"/>
                    </a:lnTo>
                    <a:lnTo>
                      <a:pt x="912" y="226"/>
                    </a:lnTo>
                    <a:lnTo>
                      <a:pt x="912" y="226"/>
                    </a:lnTo>
                    <a:lnTo>
                      <a:pt x="912" y="242"/>
                    </a:lnTo>
                    <a:lnTo>
                      <a:pt x="912" y="242"/>
                    </a:lnTo>
                    <a:lnTo>
                      <a:pt x="912" y="250"/>
                    </a:lnTo>
                    <a:lnTo>
                      <a:pt x="914" y="256"/>
                    </a:lnTo>
                    <a:lnTo>
                      <a:pt x="914" y="256"/>
                    </a:lnTo>
                    <a:lnTo>
                      <a:pt x="944" y="248"/>
                    </a:lnTo>
                    <a:lnTo>
                      <a:pt x="944" y="248"/>
                    </a:lnTo>
                    <a:lnTo>
                      <a:pt x="938" y="248"/>
                    </a:lnTo>
                    <a:lnTo>
                      <a:pt x="936" y="250"/>
                    </a:lnTo>
                    <a:lnTo>
                      <a:pt x="936" y="252"/>
                    </a:lnTo>
                    <a:lnTo>
                      <a:pt x="938" y="256"/>
                    </a:lnTo>
                    <a:lnTo>
                      <a:pt x="942" y="260"/>
                    </a:lnTo>
                    <a:lnTo>
                      <a:pt x="942" y="260"/>
                    </a:lnTo>
                    <a:lnTo>
                      <a:pt x="932" y="250"/>
                    </a:lnTo>
                    <a:lnTo>
                      <a:pt x="932" y="250"/>
                    </a:lnTo>
                    <a:lnTo>
                      <a:pt x="926" y="268"/>
                    </a:lnTo>
                    <a:lnTo>
                      <a:pt x="920" y="286"/>
                    </a:lnTo>
                    <a:lnTo>
                      <a:pt x="920" y="296"/>
                    </a:lnTo>
                    <a:lnTo>
                      <a:pt x="920" y="306"/>
                    </a:lnTo>
                    <a:lnTo>
                      <a:pt x="922" y="316"/>
                    </a:lnTo>
                    <a:lnTo>
                      <a:pt x="928" y="326"/>
                    </a:lnTo>
                    <a:lnTo>
                      <a:pt x="928" y="326"/>
                    </a:lnTo>
                    <a:lnTo>
                      <a:pt x="930" y="316"/>
                    </a:lnTo>
                    <a:lnTo>
                      <a:pt x="934" y="304"/>
                    </a:lnTo>
                    <a:lnTo>
                      <a:pt x="942" y="282"/>
                    </a:lnTo>
                    <a:lnTo>
                      <a:pt x="944" y="272"/>
                    </a:lnTo>
                    <a:lnTo>
                      <a:pt x="946" y="260"/>
                    </a:lnTo>
                    <a:lnTo>
                      <a:pt x="944" y="248"/>
                    </a:lnTo>
                    <a:lnTo>
                      <a:pt x="942" y="236"/>
                    </a:lnTo>
                    <a:lnTo>
                      <a:pt x="942" y="236"/>
                    </a:lnTo>
                    <a:lnTo>
                      <a:pt x="942" y="240"/>
                    </a:lnTo>
                    <a:lnTo>
                      <a:pt x="944" y="242"/>
                    </a:lnTo>
                    <a:lnTo>
                      <a:pt x="946" y="246"/>
                    </a:lnTo>
                    <a:lnTo>
                      <a:pt x="944" y="248"/>
                    </a:lnTo>
                    <a:lnTo>
                      <a:pt x="944" y="248"/>
                    </a:lnTo>
                    <a:lnTo>
                      <a:pt x="1030" y="244"/>
                    </a:lnTo>
                    <a:lnTo>
                      <a:pt x="1030" y="244"/>
                    </a:lnTo>
                    <a:lnTo>
                      <a:pt x="1036" y="246"/>
                    </a:lnTo>
                    <a:lnTo>
                      <a:pt x="1044" y="244"/>
                    </a:lnTo>
                    <a:lnTo>
                      <a:pt x="1044" y="244"/>
                    </a:lnTo>
                    <a:lnTo>
                      <a:pt x="1042" y="242"/>
                    </a:lnTo>
                    <a:lnTo>
                      <a:pt x="1042" y="242"/>
                    </a:lnTo>
                    <a:lnTo>
                      <a:pt x="1038" y="240"/>
                    </a:lnTo>
                    <a:lnTo>
                      <a:pt x="1032" y="242"/>
                    </a:lnTo>
                    <a:lnTo>
                      <a:pt x="1030" y="244"/>
                    </a:lnTo>
                    <a:lnTo>
                      <a:pt x="1030" y="244"/>
                    </a:lnTo>
                    <a:lnTo>
                      <a:pt x="1052" y="244"/>
                    </a:lnTo>
                    <a:lnTo>
                      <a:pt x="1052" y="244"/>
                    </a:lnTo>
                    <a:lnTo>
                      <a:pt x="1054" y="248"/>
                    </a:lnTo>
                    <a:lnTo>
                      <a:pt x="1056" y="252"/>
                    </a:lnTo>
                    <a:lnTo>
                      <a:pt x="1058" y="258"/>
                    </a:lnTo>
                    <a:lnTo>
                      <a:pt x="1064" y="260"/>
                    </a:lnTo>
                    <a:lnTo>
                      <a:pt x="1064" y="260"/>
                    </a:lnTo>
                    <a:lnTo>
                      <a:pt x="1066" y="250"/>
                    </a:lnTo>
                    <a:lnTo>
                      <a:pt x="1066" y="246"/>
                    </a:lnTo>
                    <a:lnTo>
                      <a:pt x="1066" y="242"/>
                    </a:lnTo>
                    <a:lnTo>
                      <a:pt x="1066" y="242"/>
                    </a:lnTo>
                    <a:lnTo>
                      <a:pt x="1064" y="244"/>
                    </a:lnTo>
                    <a:lnTo>
                      <a:pt x="1058" y="244"/>
                    </a:lnTo>
                    <a:lnTo>
                      <a:pt x="1054" y="242"/>
                    </a:lnTo>
                    <a:lnTo>
                      <a:pt x="1052" y="244"/>
                    </a:lnTo>
                    <a:lnTo>
                      <a:pt x="1052" y="244"/>
                    </a:lnTo>
                    <a:lnTo>
                      <a:pt x="924" y="262"/>
                    </a:lnTo>
                    <a:lnTo>
                      <a:pt x="924" y="262"/>
                    </a:lnTo>
                    <a:lnTo>
                      <a:pt x="926" y="258"/>
                    </a:lnTo>
                    <a:lnTo>
                      <a:pt x="928" y="252"/>
                    </a:lnTo>
                    <a:lnTo>
                      <a:pt x="928" y="252"/>
                    </a:lnTo>
                    <a:lnTo>
                      <a:pt x="926" y="252"/>
                    </a:lnTo>
                    <a:lnTo>
                      <a:pt x="924" y="256"/>
                    </a:lnTo>
                    <a:lnTo>
                      <a:pt x="924" y="260"/>
                    </a:lnTo>
                    <a:lnTo>
                      <a:pt x="924" y="262"/>
                    </a:lnTo>
                    <a:lnTo>
                      <a:pt x="924" y="262"/>
                    </a:lnTo>
                    <a:lnTo>
                      <a:pt x="960" y="274"/>
                    </a:lnTo>
                    <a:lnTo>
                      <a:pt x="960" y="274"/>
                    </a:lnTo>
                    <a:lnTo>
                      <a:pt x="964" y="268"/>
                    </a:lnTo>
                    <a:lnTo>
                      <a:pt x="966" y="260"/>
                    </a:lnTo>
                    <a:lnTo>
                      <a:pt x="966" y="258"/>
                    </a:lnTo>
                    <a:lnTo>
                      <a:pt x="964" y="254"/>
                    </a:lnTo>
                    <a:lnTo>
                      <a:pt x="962" y="252"/>
                    </a:lnTo>
                    <a:lnTo>
                      <a:pt x="956" y="250"/>
                    </a:lnTo>
                    <a:lnTo>
                      <a:pt x="956" y="250"/>
                    </a:lnTo>
                    <a:lnTo>
                      <a:pt x="956" y="264"/>
                    </a:lnTo>
                    <a:lnTo>
                      <a:pt x="956" y="264"/>
                    </a:lnTo>
                    <a:lnTo>
                      <a:pt x="956" y="270"/>
                    </a:lnTo>
                    <a:lnTo>
                      <a:pt x="960" y="274"/>
                    </a:lnTo>
                    <a:lnTo>
                      <a:pt x="960" y="274"/>
                    </a:lnTo>
                    <a:lnTo>
                      <a:pt x="1354" y="260"/>
                    </a:lnTo>
                    <a:lnTo>
                      <a:pt x="1354" y="260"/>
                    </a:lnTo>
                    <a:lnTo>
                      <a:pt x="1352" y="258"/>
                    </a:lnTo>
                    <a:lnTo>
                      <a:pt x="1350" y="256"/>
                    </a:lnTo>
                    <a:lnTo>
                      <a:pt x="1346" y="254"/>
                    </a:lnTo>
                    <a:lnTo>
                      <a:pt x="1346" y="254"/>
                    </a:lnTo>
                    <a:lnTo>
                      <a:pt x="1348" y="256"/>
                    </a:lnTo>
                    <a:lnTo>
                      <a:pt x="1348" y="258"/>
                    </a:lnTo>
                    <a:lnTo>
                      <a:pt x="1350" y="260"/>
                    </a:lnTo>
                    <a:lnTo>
                      <a:pt x="1354" y="260"/>
                    </a:lnTo>
                    <a:lnTo>
                      <a:pt x="1354" y="260"/>
                    </a:lnTo>
                    <a:lnTo>
                      <a:pt x="1044" y="270"/>
                    </a:lnTo>
                    <a:lnTo>
                      <a:pt x="1044" y="270"/>
                    </a:lnTo>
                    <a:lnTo>
                      <a:pt x="1038" y="264"/>
                    </a:lnTo>
                    <a:lnTo>
                      <a:pt x="1028" y="258"/>
                    </a:lnTo>
                    <a:lnTo>
                      <a:pt x="1022" y="256"/>
                    </a:lnTo>
                    <a:lnTo>
                      <a:pt x="1018" y="256"/>
                    </a:lnTo>
                    <a:lnTo>
                      <a:pt x="1014" y="258"/>
                    </a:lnTo>
                    <a:lnTo>
                      <a:pt x="1010" y="262"/>
                    </a:lnTo>
                    <a:lnTo>
                      <a:pt x="1010" y="262"/>
                    </a:lnTo>
                    <a:lnTo>
                      <a:pt x="1016" y="272"/>
                    </a:lnTo>
                    <a:lnTo>
                      <a:pt x="1018" y="286"/>
                    </a:lnTo>
                    <a:lnTo>
                      <a:pt x="1018" y="286"/>
                    </a:lnTo>
                    <a:lnTo>
                      <a:pt x="1024" y="298"/>
                    </a:lnTo>
                    <a:lnTo>
                      <a:pt x="1032" y="310"/>
                    </a:lnTo>
                    <a:lnTo>
                      <a:pt x="1036" y="322"/>
                    </a:lnTo>
                    <a:lnTo>
                      <a:pt x="1036" y="330"/>
                    </a:lnTo>
                    <a:lnTo>
                      <a:pt x="1036" y="338"/>
                    </a:lnTo>
                    <a:lnTo>
                      <a:pt x="1036" y="338"/>
                    </a:lnTo>
                    <a:lnTo>
                      <a:pt x="1034" y="336"/>
                    </a:lnTo>
                    <a:lnTo>
                      <a:pt x="1032" y="334"/>
                    </a:lnTo>
                    <a:lnTo>
                      <a:pt x="1028" y="328"/>
                    </a:lnTo>
                    <a:lnTo>
                      <a:pt x="1028" y="328"/>
                    </a:lnTo>
                    <a:lnTo>
                      <a:pt x="1030" y="340"/>
                    </a:lnTo>
                    <a:lnTo>
                      <a:pt x="1034" y="352"/>
                    </a:lnTo>
                    <a:lnTo>
                      <a:pt x="1034" y="352"/>
                    </a:lnTo>
                    <a:lnTo>
                      <a:pt x="1042" y="334"/>
                    </a:lnTo>
                    <a:lnTo>
                      <a:pt x="1050" y="314"/>
                    </a:lnTo>
                    <a:lnTo>
                      <a:pt x="1054" y="304"/>
                    </a:lnTo>
                    <a:lnTo>
                      <a:pt x="1054" y="294"/>
                    </a:lnTo>
                    <a:lnTo>
                      <a:pt x="1052" y="284"/>
                    </a:lnTo>
                    <a:lnTo>
                      <a:pt x="1048" y="274"/>
                    </a:lnTo>
                    <a:lnTo>
                      <a:pt x="1048" y="274"/>
                    </a:lnTo>
                    <a:lnTo>
                      <a:pt x="1040" y="272"/>
                    </a:lnTo>
                    <a:lnTo>
                      <a:pt x="1038" y="270"/>
                    </a:lnTo>
                    <a:lnTo>
                      <a:pt x="1038" y="268"/>
                    </a:lnTo>
                    <a:lnTo>
                      <a:pt x="1038" y="268"/>
                    </a:lnTo>
                    <a:lnTo>
                      <a:pt x="1042" y="270"/>
                    </a:lnTo>
                    <a:lnTo>
                      <a:pt x="1044" y="270"/>
                    </a:lnTo>
                    <a:lnTo>
                      <a:pt x="1044" y="270"/>
                    </a:lnTo>
                    <a:lnTo>
                      <a:pt x="1044" y="270"/>
                    </a:lnTo>
                    <a:lnTo>
                      <a:pt x="1002" y="266"/>
                    </a:lnTo>
                    <a:lnTo>
                      <a:pt x="1002" y="266"/>
                    </a:lnTo>
                    <a:lnTo>
                      <a:pt x="1004" y="266"/>
                    </a:lnTo>
                    <a:lnTo>
                      <a:pt x="1006" y="266"/>
                    </a:lnTo>
                    <a:lnTo>
                      <a:pt x="1008" y="268"/>
                    </a:lnTo>
                    <a:lnTo>
                      <a:pt x="1010" y="266"/>
                    </a:lnTo>
                    <a:lnTo>
                      <a:pt x="1010" y="266"/>
                    </a:lnTo>
                    <a:lnTo>
                      <a:pt x="1008" y="266"/>
                    </a:lnTo>
                    <a:lnTo>
                      <a:pt x="1008" y="264"/>
                    </a:lnTo>
                    <a:lnTo>
                      <a:pt x="1008" y="262"/>
                    </a:lnTo>
                    <a:lnTo>
                      <a:pt x="1006" y="262"/>
                    </a:lnTo>
                    <a:lnTo>
                      <a:pt x="1006" y="262"/>
                    </a:lnTo>
                    <a:lnTo>
                      <a:pt x="1006" y="264"/>
                    </a:lnTo>
                    <a:lnTo>
                      <a:pt x="1004" y="264"/>
                    </a:lnTo>
                    <a:lnTo>
                      <a:pt x="1002" y="264"/>
                    </a:lnTo>
                    <a:lnTo>
                      <a:pt x="1002" y="266"/>
                    </a:lnTo>
                    <a:lnTo>
                      <a:pt x="1002" y="266"/>
                    </a:lnTo>
                    <a:lnTo>
                      <a:pt x="936" y="332"/>
                    </a:lnTo>
                    <a:lnTo>
                      <a:pt x="936" y="332"/>
                    </a:lnTo>
                    <a:lnTo>
                      <a:pt x="942" y="316"/>
                    </a:lnTo>
                    <a:lnTo>
                      <a:pt x="944" y="300"/>
                    </a:lnTo>
                    <a:lnTo>
                      <a:pt x="946" y="270"/>
                    </a:lnTo>
                    <a:lnTo>
                      <a:pt x="946" y="270"/>
                    </a:lnTo>
                    <a:lnTo>
                      <a:pt x="948" y="280"/>
                    </a:lnTo>
                    <a:lnTo>
                      <a:pt x="946" y="290"/>
                    </a:lnTo>
                    <a:lnTo>
                      <a:pt x="938" y="312"/>
                    </a:lnTo>
                    <a:lnTo>
                      <a:pt x="938" y="312"/>
                    </a:lnTo>
                    <a:lnTo>
                      <a:pt x="936" y="332"/>
                    </a:lnTo>
                    <a:lnTo>
                      <a:pt x="936" y="332"/>
                    </a:lnTo>
                    <a:lnTo>
                      <a:pt x="986" y="352"/>
                    </a:lnTo>
                    <a:lnTo>
                      <a:pt x="986" y="352"/>
                    </a:lnTo>
                    <a:lnTo>
                      <a:pt x="998" y="354"/>
                    </a:lnTo>
                    <a:lnTo>
                      <a:pt x="1010" y="356"/>
                    </a:lnTo>
                    <a:lnTo>
                      <a:pt x="1010" y="356"/>
                    </a:lnTo>
                    <a:lnTo>
                      <a:pt x="1004" y="358"/>
                    </a:lnTo>
                    <a:lnTo>
                      <a:pt x="998" y="360"/>
                    </a:lnTo>
                    <a:lnTo>
                      <a:pt x="998" y="360"/>
                    </a:lnTo>
                    <a:lnTo>
                      <a:pt x="1004" y="362"/>
                    </a:lnTo>
                    <a:lnTo>
                      <a:pt x="1006" y="368"/>
                    </a:lnTo>
                    <a:lnTo>
                      <a:pt x="1006" y="368"/>
                    </a:lnTo>
                    <a:lnTo>
                      <a:pt x="1006" y="370"/>
                    </a:lnTo>
                    <a:lnTo>
                      <a:pt x="1004" y="372"/>
                    </a:lnTo>
                    <a:lnTo>
                      <a:pt x="1002" y="374"/>
                    </a:lnTo>
                    <a:lnTo>
                      <a:pt x="1002" y="374"/>
                    </a:lnTo>
                    <a:lnTo>
                      <a:pt x="1018" y="388"/>
                    </a:lnTo>
                    <a:lnTo>
                      <a:pt x="1026" y="396"/>
                    </a:lnTo>
                    <a:lnTo>
                      <a:pt x="1034" y="402"/>
                    </a:lnTo>
                    <a:lnTo>
                      <a:pt x="1034" y="402"/>
                    </a:lnTo>
                    <a:lnTo>
                      <a:pt x="1026" y="354"/>
                    </a:lnTo>
                    <a:lnTo>
                      <a:pt x="1026" y="354"/>
                    </a:lnTo>
                    <a:lnTo>
                      <a:pt x="1020" y="356"/>
                    </a:lnTo>
                    <a:lnTo>
                      <a:pt x="1012" y="358"/>
                    </a:lnTo>
                    <a:lnTo>
                      <a:pt x="1012" y="358"/>
                    </a:lnTo>
                    <a:lnTo>
                      <a:pt x="1018" y="352"/>
                    </a:lnTo>
                    <a:lnTo>
                      <a:pt x="1020" y="348"/>
                    </a:lnTo>
                    <a:lnTo>
                      <a:pt x="1026" y="348"/>
                    </a:lnTo>
                    <a:lnTo>
                      <a:pt x="1026" y="348"/>
                    </a:lnTo>
                    <a:lnTo>
                      <a:pt x="1024" y="332"/>
                    </a:lnTo>
                    <a:lnTo>
                      <a:pt x="1022" y="326"/>
                    </a:lnTo>
                    <a:lnTo>
                      <a:pt x="1018" y="320"/>
                    </a:lnTo>
                    <a:lnTo>
                      <a:pt x="1014" y="314"/>
                    </a:lnTo>
                    <a:lnTo>
                      <a:pt x="1008" y="312"/>
                    </a:lnTo>
                    <a:lnTo>
                      <a:pt x="1002" y="310"/>
                    </a:lnTo>
                    <a:lnTo>
                      <a:pt x="994" y="308"/>
                    </a:lnTo>
                    <a:lnTo>
                      <a:pt x="994" y="308"/>
                    </a:lnTo>
                    <a:lnTo>
                      <a:pt x="1002" y="308"/>
                    </a:lnTo>
                    <a:lnTo>
                      <a:pt x="1008" y="306"/>
                    </a:lnTo>
                    <a:lnTo>
                      <a:pt x="1012" y="302"/>
                    </a:lnTo>
                    <a:lnTo>
                      <a:pt x="1014" y="298"/>
                    </a:lnTo>
                    <a:lnTo>
                      <a:pt x="1014" y="284"/>
                    </a:lnTo>
                    <a:lnTo>
                      <a:pt x="1012" y="270"/>
                    </a:lnTo>
                    <a:lnTo>
                      <a:pt x="1012" y="270"/>
                    </a:lnTo>
                    <a:lnTo>
                      <a:pt x="1004" y="268"/>
                    </a:lnTo>
                    <a:lnTo>
                      <a:pt x="996" y="268"/>
                    </a:lnTo>
                    <a:lnTo>
                      <a:pt x="996" y="268"/>
                    </a:lnTo>
                    <a:lnTo>
                      <a:pt x="988" y="270"/>
                    </a:lnTo>
                    <a:lnTo>
                      <a:pt x="980" y="272"/>
                    </a:lnTo>
                    <a:lnTo>
                      <a:pt x="980" y="272"/>
                    </a:lnTo>
                    <a:lnTo>
                      <a:pt x="976" y="280"/>
                    </a:lnTo>
                    <a:lnTo>
                      <a:pt x="970" y="288"/>
                    </a:lnTo>
                    <a:lnTo>
                      <a:pt x="958" y="304"/>
                    </a:lnTo>
                    <a:lnTo>
                      <a:pt x="954" y="310"/>
                    </a:lnTo>
                    <a:lnTo>
                      <a:pt x="950" y="320"/>
                    </a:lnTo>
                    <a:lnTo>
                      <a:pt x="948" y="328"/>
                    </a:lnTo>
                    <a:lnTo>
                      <a:pt x="950" y="340"/>
                    </a:lnTo>
                    <a:lnTo>
                      <a:pt x="950" y="340"/>
                    </a:lnTo>
                    <a:lnTo>
                      <a:pt x="980" y="326"/>
                    </a:lnTo>
                    <a:lnTo>
                      <a:pt x="980" y="326"/>
                    </a:lnTo>
                    <a:lnTo>
                      <a:pt x="974" y="328"/>
                    </a:lnTo>
                    <a:lnTo>
                      <a:pt x="970" y="330"/>
                    </a:lnTo>
                    <a:lnTo>
                      <a:pt x="964" y="332"/>
                    </a:lnTo>
                    <a:lnTo>
                      <a:pt x="960" y="336"/>
                    </a:lnTo>
                    <a:lnTo>
                      <a:pt x="960" y="336"/>
                    </a:lnTo>
                    <a:lnTo>
                      <a:pt x="964" y="342"/>
                    </a:lnTo>
                    <a:lnTo>
                      <a:pt x="970" y="346"/>
                    </a:lnTo>
                    <a:lnTo>
                      <a:pt x="984" y="354"/>
                    </a:lnTo>
                    <a:lnTo>
                      <a:pt x="984" y="354"/>
                    </a:lnTo>
                    <a:lnTo>
                      <a:pt x="984" y="352"/>
                    </a:lnTo>
                    <a:lnTo>
                      <a:pt x="986" y="350"/>
                    </a:lnTo>
                    <a:lnTo>
                      <a:pt x="988" y="348"/>
                    </a:lnTo>
                    <a:lnTo>
                      <a:pt x="990" y="346"/>
                    </a:lnTo>
                    <a:lnTo>
                      <a:pt x="990" y="346"/>
                    </a:lnTo>
                    <a:lnTo>
                      <a:pt x="986" y="352"/>
                    </a:lnTo>
                    <a:lnTo>
                      <a:pt x="986" y="352"/>
                    </a:lnTo>
                    <a:lnTo>
                      <a:pt x="966" y="282"/>
                    </a:lnTo>
                    <a:lnTo>
                      <a:pt x="966" y="282"/>
                    </a:lnTo>
                    <a:lnTo>
                      <a:pt x="968" y="280"/>
                    </a:lnTo>
                    <a:lnTo>
                      <a:pt x="968" y="278"/>
                    </a:lnTo>
                    <a:lnTo>
                      <a:pt x="968" y="274"/>
                    </a:lnTo>
                    <a:lnTo>
                      <a:pt x="968" y="272"/>
                    </a:lnTo>
                    <a:lnTo>
                      <a:pt x="968" y="272"/>
                    </a:lnTo>
                    <a:lnTo>
                      <a:pt x="966" y="276"/>
                    </a:lnTo>
                    <a:lnTo>
                      <a:pt x="966" y="282"/>
                    </a:lnTo>
                    <a:lnTo>
                      <a:pt x="966" y="282"/>
                    </a:lnTo>
                    <a:lnTo>
                      <a:pt x="740" y="288"/>
                    </a:lnTo>
                    <a:lnTo>
                      <a:pt x="740" y="288"/>
                    </a:lnTo>
                    <a:lnTo>
                      <a:pt x="734" y="286"/>
                    </a:lnTo>
                    <a:lnTo>
                      <a:pt x="730" y="282"/>
                    </a:lnTo>
                    <a:lnTo>
                      <a:pt x="730" y="282"/>
                    </a:lnTo>
                    <a:lnTo>
                      <a:pt x="734" y="282"/>
                    </a:lnTo>
                    <a:lnTo>
                      <a:pt x="738" y="284"/>
                    </a:lnTo>
                    <a:lnTo>
                      <a:pt x="738" y="284"/>
                    </a:lnTo>
                    <a:lnTo>
                      <a:pt x="740" y="280"/>
                    </a:lnTo>
                    <a:lnTo>
                      <a:pt x="740" y="274"/>
                    </a:lnTo>
                    <a:lnTo>
                      <a:pt x="740" y="274"/>
                    </a:lnTo>
                    <a:lnTo>
                      <a:pt x="730" y="276"/>
                    </a:lnTo>
                    <a:lnTo>
                      <a:pt x="724" y="280"/>
                    </a:lnTo>
                    <a:lnTo>
                      <a:pt x="724" y="280"/>
                    </a:lnTo>
                    <a:lnTo>
                      <a:pt x="728" y="280"/>
                    </a:lnTo>
                    <a:lnTo>
                      <a:pt x="728" y="282"/>
                    </a:lnTo>
                    <a:lnTo>
                      <a:pt x="728" y="282"/>
                    </a:lnTo>
                    <a:lnTo>
                      <a:pt x="726" y="282"/>
                    </a:lnTo>
                    <a:lnTo>
                      <a:pt x="724" y="282"/>
                    </a:lnTo>
                    <a:lnTo>
                      <a:pt x="726" y="286"/>
                    </a:lnTo>
                    <a:lnTo>
                      <a:pt x="732" y="290"/>
                    </a:lnTo>
                    <a:lnTo>
                      <a:pt x="736" y="290"/>
                    </a:lnTo>
                    <a:lnTo>
                      <a:pt x="740" y="288"/>
                    </a:lnTo>
                    <a:lnTo>
                      <a:pt x="740" y="288"/>
                    </a:lnTo>
                    <a:lnTo>
                      <a:pt x="1258" y="372"/>
                    </a:lnTo>
                    <a:lnTo>
                      <a:pt x="1258" y="372"/>
                    </a:lnTo>
                    <a:lnTo>
                      <a:pt x="1262" y="370"/>
                    </a:lnTo>
                    <a:lnTo>
                      <a:pt x="1268" y="366"/>
                    </a:lnTo>
                    <a:lnTo>
                      <a:pt x="1270" y="362"/>
                    </a:lnTo>
                    <a:lnTo>
                      <a:pt x="1270" y="358"/>
                    </a:lnTo>
                    <a:lnTo>
                      <a:pt x="1270" y="358"/>
                    </a:lnTo>
                    <a:lnTo>
                      <a:pt x="1272" y="358"/>
                    </a:lnTo>
                    <a:lnTo>
                      <a:pt x="1274" y="356"/>
                    </a:lnTo>
                    <a:lnTo>
                      <a:pt x="1274" y="350"/>
                    </a:lnTo>
                    <a:lnTo>
                      <a:pt x="1276" y="342"/>
                    </a:lnTo>
                    <a:lnTo>
                      <a:pt x="1276" y="334"/>
                    </a:lnTo>
                    <a:lnTo>
                      <a:pt x="1276" y="334"/>
                    </a:lnTo>
                    <a:lnTo>
                      <a:pt x="1278" y="336"/>
                    </a:lnTo>
                    <a:lnTo>
                      <a:pt x="1280" y="334"/>
                    </a:lnTo>
                    <a:lnTo>
                      <a:pt x="1284" y="332"/>
                    </a:lnTo>
                    <a:lnTo>
                      <a:pt x="1290" y="328"/>
                    </a:lnTo>
                    <a:lnTo>
                      <a:pt x="1296" y="328"/>
                    </a:lnTo>
                    <a:lnTo>
                      <a:pt x="1296" y="328"/>
                    </a:lnTo>
                    <a:lnTo>
                      <a:pt x="1302" y="318"/>
                    </a:lnTo>
                    <a:lnTo>
                      <a:pt x="1310" y="310"/>
                    </a:lnTo>
                    <a:lnTo>
                      <a:pt x="1310" y="310"/>
                    </a:lnTo>
                    <a:lnTo>
                      <a:pt x="1308" y="306"/>
                    </a:lnTo>
                    <a:lnTo>
                      <a:pt x="1308" y="304"/>
                    </a:lnTo>
                    <a:lnTo>
                      <a:pt x="1308" y="302"/>
                    </a:lnTo>
                    <a:lnTo>
                      <a:pt x="1308" y="302"/>
                    </a:lnTo>
                    <a:lnTo>
                      <a:pt x="1312" y="296"/>
                    </a:lnTo>
                    <a:lnTo>
                      <a:pt x="1318" y="292"/>
                    </a:lnTo>
                    <a:lnTo>
                      <a:pt x="1324" y="288"/>
                    </a:lnTo>
                    <a:lnTo>
                      <a:pt x="1326" y="286"/>
                    </a:lnTo>
                    <a:lnTo>
                      <a:pt x="1328" y="282"/>
                    </a:lnTo>
                    <a:lnTo>
                      <a:pt x="1328" y="282"/>
                    </a:lnTo>
                    <a:lnTo>
                      <a:pt x="1314" y="286"/>
                    </a:lnTo>
                    <a:lnTo>
                      <a:pt x="1302" y="290"/>
                    </a:lnTo>
                    <a:lnTo>
                      <a:pt x="1280" y="302"/>
                    </a:lnTo>
                    <a:lnTo>
                      <a:pt x="1280" y="302"/>
                    </a:lnTo>
                    <a:lnTo>
                      <a:pt x="1260" y="308"/>
                    </a:lnTo>
                    <a:lnTo>
                      <a:pt x="1252" y="312"/>
                    </a:lnTo>
                    <a:lnTo>
                      <a:pt x="1244" y="320"/>
                    </a:lnTo>
                    <a:lnTo>
                      <a:pt x="1244" y="320"/>
                    </a:lnTo>
                    <a:lnTo>
                      <a:pt x="1246" y="322"/>
                    </a:lnTo>
                    <a:lnTo>
                      <a:pt x="1250" y="322"/>
                    </a:lnTo>
                    <a:lnTo>
                      <a:pt x="1256" y="324"/>
                    </a:lnTo>
                    <a:lnTo>
                      <a:pt x="1264" y="322"/>
                    </a:lnTo>
                    <a:lnTo>
                      <a:pt x="1272" y="324"/>
                    </a:lnTo>
                    <a:lnTo>
                      <a:pt x="1272" y="324"/>
                    </a:lnTo>
                    <a:lnTo>
                      <a:pt x="1256" y="324"/>
                    </a:lnTo>
                    <a:lnTo>
                      <a:pt x="1250" y="324"/>
                    </a:lnTo>
                    <a:lnTo>
                      <a:pt x="1246" y="326"/>
                    </a:lnTo>
                    <a:lnTo>
                      <a:pt x="1246" y="326"/>
                    </a:lnTo>
                    <a:lnTo>
                      <a:pt x="1246" y="328"/>
                    </a:lnTo>
                    <a:lnTo>
                      <a:pt x="1248" y="330"/>
                    </a:lnTo>
                    <a:lnTo>
                      <a:pt x="1250" y="330"/>
                    </a:lnTo>
                    <a:lnTo>
                      <a:pt x="1252" y="334"/>
                    </a:lnTo>
                    <a:lnTo>
                      <a:pt x="1252" y="334"/>
                    </a:lnTo>
                    <a:lnTo>
                      <a:pt x="1254" y="340"/>
                    </a:lnTo>
                    <a:lnTo>
                      <a:pt x="1254" y="344"/>
                    </a:lnTo>
                    <a:lnTo>
                      <a:pt x="1256" y="346"/>
                    </a:lnTo>
                    <a:lnTo>
                      <a:pt x="1256" y="346"/>
                    </a:lnTo>
                    <a:lnTo>
                      <a:pt x="1260" y="342"/>
                    </a:lnTo>
                    <a:lnTo>
                      <a:pt x="1264" y="340"/>
                    </a:lnTo>
                    <a:lnTo>
                      <a:pt x="1264" y="340"/>
                    </a:lnTo>
                    <a:lnTo>
                      <a:pt x="1268" y="344"/>
                    </a:lnTo>
                    <a:lnTo>
                      <a:pt x="1268" y="348"/>
                    </a:lnTo>
                    <a:lnTo>
                      <a:pt x="1266" y="354"/>
                    </a:lnTo>
                    <a:lnTo>
                      <a:pt x="1260" y="362"/>
                    </a:lnTo>
                    <a:lnTo>
                      <a:pt x="1258" y="366"/>
                    </a:lnTo>
                    <a:lnTo>
                      <a:pt x="1258" y="372"/>
                    </a:lnTo>
                    <a:lnTo>
                      <a:pt x="1258" y="372"/>
                    </a:lnTo>
                    <a:lnTo>
                      <a:pt x="1326" y="292"/>
                    </a:lnTo>
                    <a:lnTo>
                      <a:pt x="1326" y="292"/>
                    </a:lnTo>
                    <a:lnTo>
                      <a:pt x="1338" y="290"/>
                    </a:lnTo>
                    <a:lnTo>
                      <a:pt x="1338" y="290"/>
                    </a:lnTo>
                    <a:lnTo>
                      <a:pt x="1338" y="286"/>
                    </a:lnTo>
                    <a:lnTo>
                      <a:pt x="1340" y="284"/>
                    </a:lnTo>
                    <a:lnTo>
                      <a:pt x="1340" y="284"/>
                    </a:lnTo>
                    <a:lnTo>
                      <a:pt x="1336" y="282"/>
                    </a:lnTo>
                    <a:lnTo>
                      <a:pt x="1332" y="284"/>
                    </a:lnTo>
                    <a:lnTo>
                      <a:pt x="1326" y="292"/>
                    </a:lnTo>
                    <a:lnTo>
                      <a:pt x="1326" y="292"/>
                    </a:lnTo>
                    <a:lnTo>
                      <a:pt x="774" y="298"/>
                    </a:lnTo>
                    <a:lnTo>
                      <a:pt x="774" y="298"/>
                    </a:lnTo>
                    <a:lnTo>
                      <a:pt x="764" y="296"/>
                    </a:lnTo>
                    <a:lnTo>
                      <a:pt x="758" y="296"/>
                    </a:lnTo>
                    <a:lnTo>
                      <a:pt x="756" y="300"/>
                    </a:lnTo>
                    <a:lnTo>
                      <a:pt x="756" y="300"/>
                    </a:lnTo>
                    <a:lnTo>
                      <a:pt x="762" y="304"/>
                    </a:lnTo>
                    <a:lnTo>
                      <a:pt x="766" y="308"/>
                    </a:lnTo>
                    <a:lnTo>
                      <a:pt x="768" y="312"/>
                    </a:lnTo>
                    <a:lnTo>
                      <a:pt x="768" y="312"/>
                    </a:lnTo>
                    <a:lnTo>
                      <a:pt x="778" y="308"/>
                    </a:lnTo>
                    <a:lnTo>
                      <a:pt x="784" y="306"/>
                    </a:lnTo>
                    <a:lnTo>
                      <a:pt x="788" y="302"/>
                    </a:lnTo>
                    <a:lnTo>
                      <a:pt x="788" y="302"/>
                    </a:lnTo>
                    <a:lnTo>
                      <a:pt x="782" y="300"/>
                    </a:lnTo>
                    <a:lnTo>
                      <a:pt x="778" y="300"/>
                    </a:lnTo>
                    <a:lnTo>
                      <a:pt x="772" y="302"/>
                    </a:lnTo>
                    <a:lnTo>
                      <a:pt x="768" y="306"/>
                    </a:lnTo>
                    <a:lnTo>
                      <a:pt x="768" y="306"/>
                    </a:lnTo>
                    <a:lnTo>
                      <a:pt x="772" y="302"/>
                    </a:lnTo>
                    <a:lnTo>
                      <a:pt x="774" y="300"/>
                    </a:lnTo>
                    <a:lnTo>
                      <a:pt x="774" y="298"/>
                    </a:lnTo>
                    <a:lnTo>
                      <a:pt x="774" y="298"/>
                    </a:lnTo>
                    <a:lnTo>
                      <a:pt x="692" y="302"/>
                    </a:lnTo>
                    <a:lnTo>
                      <a:pt x="692" y="302"/>
                    </a:lnTo>
                    <a:lnTo>
                      <a:pt x="698" y="308"/>
                    </a:lnTo>
                    <a:lnTo>
                      <a:pt x="704" y="312"/>
                    </a:lnTo>
                    <a:lnTo>
                      <a:pt x="718" y="320"/>
                    </a:lnTo>
                    <a:lnTo>
                      <a:pt x="718" y="320"/>
                    </a:lnTo>
                    <a:lnTo>
                      <a:pt x="718" y="314"/>
                    </a:lnTo>
                    <a:lnTo>
                      <a:pt x="716" y="310"/>
                    </a:lnTo>
                    <a:lnTo>
                      <a:pt x="710" y="302"/>
                    </a:lnTo>
                    <a:lnTo>
                      <a:pt x="706" y="300"/>
                    </a:lnTo>
                    <a:lnTo>
                      <a:pt x="702" y="300"/>
                    </a:lnTo>
                    <a:lnTo>
                      <a:pt x="698" y="300"/>
                    </a:lnTo>
                    <a:lnTo>
                      <a:pt x="692" y="302"/>
                    </a:lnTo>
                    <a:lnTo>
                      <a:pt x="692" y="302"/>
                    </a:lnTo>
                    <a:lnTo>
                      <a:pt x="1038" y="378"/>
                    </a:lnTo>
                    <a:lnTo>
                      <a:pt x="1038" y="378"/>
                    </a:lnTo>
                    <a:lnTo>
                      <a:pt x="1042" y="376"/>
                    </a:lnTo>
                    <a:lnTo>
                      <a:pt x="1050" y="374"/>
                    </a:lnTo>
                    <a:lnTo>
                      <a:pt x="1060" y="374"/>
                    </a:lnTo>
                    <a:lnTo>
                      <a:pt x="1070" y="374"/>
                    </a:lnTo>
                    <a:lnTo>
                      <a:pt x="1070" y="374"/>
                    </a:lnTo>
                    <a:lnTo>
                      <a:pt x="1072" y="362"/>
                    </a:lnTo>
                    <a:lnTo>
                      <a:pt x="1072" y="362"/>
                    </a:lnTo>
                    <a:lnTo>
                      <a:pt x="1084" y="358"/>
                    </a:lnTo>
                    <a:lnTo>
                      <a:pt x="1084" y="358"/>
                    </a:lnTo>
                    <a:lnTo>
                      <a:pt x="1088" y="328"/>
                    </a:lnTo>
                    <a:lnTo>
                      <a:pt x="1088" y="328"/>
                    </a:lnTo>
                    <a:lnTo>
                      <a:pt x="1082" y="330"/>
                    </a:lnTo>
                    <a:lnTo>
                      <a:pt x="1076" y="328"/>
                    </a:lnTo>
                    <a:lnTo>
                      <a:pt x="1074" y="326"/>
                    </a:lnTo>
                    <a:lnTo>
                      <a:pt x="1070" y="322"/>
                    </a:lnTo>
                    <a:lnTo>
                      <a:pt x="1064" y="312"/>
                    </a:lnTo>
                    <a:lnTo>
                      <a:pt x="1060" y="304"/>
                    </a:lnTo>
                    <a:lnTo>
                      <a:pt x="1060" y="304"/>
                    </a:lnTo>
                    <a:lnTo>
                      <a:pt x="1056" y="314"/>
                    </a:lnTo>
                    <a:lnTo>
                      <a:pt x="1054" y="322"/>
                    </a:lnTo>
                    <a:lnTo>
                      <a:pt x="1044" y="340"/>
                    </a:lnTo>
                    <a:lnTo>
                      <a:pt x="1040" y="348"/>
                    </a:lnTo>
                    <a:lnTo>
                      <a:pt x="1038" y="358"/>
                    </a:lnTo>
                    <a:lnTo>
                      <a:pt x="1036" y="368"/>
                    </a:lnTo>
                    <a:lnTo>
                      <a:pt x="1038" y="378"/>
                    </a:lnTo>
                    <a:lnTo>
                      <a:pt x="1038" y="378"/>
                    </a:lnTo>
                    <a:lnTo>
                      <a:pt x="802" y="316"/>
                    </a:lnTo>
                    <a:lnTo>
                      <a:pt x="802" y="316"/>
                    </a:lnTo>
                    <a:lnTo>
                      <a:pt x="810" y="316"/>
                    </a:lnTo>
                    <a:lnTo>
                      <a:pt x="816" y="316"/>
                    </a:lnTo>
                    <a:lnTo>
                      <a:pt x="818" y="316"/>
                    </a:lnTo>
                    <a:lnTo>
                      <a:pt x="818" y="316"/>
                    </a:lnTo>
                    <a:lnTo>
                      <a:pt x="810" y="310"/>
                    </a:lnTo>
                    <a:lnTo>
                      <a:pt x="800" y="306"/>
                    </a:lnTo>
                    <a:lnTo>
                      <a:pt x="800" y="306"/>
                    </a:lnTo>
                    <a:lnTo>
                      <a:pt x="800" y="312"/>
                    </a:lnTo>
                    <a:lnTo>
                      <a:pt x="802" y="316"/>
                    </a:lnTo>
                    <a:lnTo>
                      <a:pt x="802" y="316"/>
                    </a:lnTo>
                    <a:lnTo>
                      <a:pt x="782" y="312"/>
                    </a:lnTo>
                    <a:lnTo>
                      <a:pt x="782" y="312"/>
                    </a:lnTo>
                    <a:lnTo>
                      <a:pt x="780" y="312"/>
                    </a:lnTo>
                    <a:lnTo>
                      <a:pt x="776" y="312"/>
                    </a:lnTo>
                    <a:lnTo>
                      <a:pt x="770" y="314"/>
                    </a:lnTo>
                    <a:lnTo>
                      <a:pt x="770" y="314"/>
                    </a:lnTo>
                    <a:lnTo>
                      <a:pt x="772" y="318"/>
                    </a:lnTo>
                    <a:lnTo>
                      <a:pt x="772" y="324"/>
                    </a:lnTo>
                    <a:lnTo>
                      <a:pt x="772" y="324"/>
                    </a:lnTo>
                    <a:lnTo>
                      <a:pt x="780" y="328"/>
                    </a:lnTo>
                    <a:lnTo>
                      <a:pt x="786" y="332"/>
                    </a:lnTo>
                    <a:lnTo>
                      <a:pt x="798" y="338"/>
                    </a:lnTo>
                    <a:lnTo>
                      <a:pt x="798" y="338"/>
                    </a:lnTo>
                    <a:lnTo>
                      <a:pt x="798" y="326"/>
                    </a:lnTo>
                    <a:lnTo>
                      <a:pt x="798" y="326"/>
                    </a:lnTo>
                    <a:lnTo>
                      <a:pt x="788" y="322"/>
                    </a:lnTo>
                    <a:lnTo>
                      <a:pt x="784" y="318"/>
                    </a:lnTo>
                    <a:lnTo>
                      <a:pt x="784" y="312"/>
                    </a:lnTo>
                    <a:lnTo>
                      <a:pt x="784" y="312"/>
                    </a:lnTo>
                    <a:lnTo>
                      <a:pt x="790" y="316"/>
                    </a:lnTo>
                    <a:lnTo>
                      <a:pt x="794" y="316"/>
                    </a:lnTo>
                    <a:lnTo>
                      <a:pt x="798" y="314"/>
                    </a:lnTo>
                    <a:lnTo>
                      <a:pt x="798" y="314"/>
                    </a:lnTo>
                    <a:lnTo>
                      <a:pt x="794" y="312"/>
                    </a:lnTo>
                    <a:lnTo>
                      <a:pt x="790" y="310"/>
                    </a:lnTo>
                    <a:lnTo>
                      <a:pt x="784" y="310"/>
                    </a:lnTo>
                    <a:lnTo>
                      <a:pt x="784" y="310"/>
                    </a:lnTo>
                    <a:lnTo>
                      <a:pt x="786" y="310"/>
                    </a:lnTo>
                    <a:lnTo>
                      <a:pt x="788" y="308"/>
                    </a:lnTo>
                    <a:lnTo>
                      <a:pt x="788" y="308"/>
                    </a:lnTo>
                    <a:lnTo>
                      <a:pt x="788" y="308"/>
                    </a:lnTo>
                    <a:lnTo>
                      <a:pt x="788" y="308"/>
                    </a:lnTo>
                    <a:lnTo>
                      <a:pt x="784" y="310"/>
                    </a:lnTo>
                    <a:lnTo>
                      <a:pt x="782" y="312"/>
                    </a:lnTo>
                    <a:lnTo>
                      <a:pt x="782" y="312"/>
                    </a:lnTo>
                    <a:lnTo>
                      <a:pt x="1320" y="312"/>
                    </a:lnTo>
                    <a:lnTo>
                      <a:pt x="1320" y="312"/>
                    </a:lnTo>
                    <a:lnTo>
                      <a:pt x="1316" y="312"/>
                    </a:lnTo>
                    <a:lnTo>
                      <a:pt x="1314" y="312"/>
                    </a:lnTo>
                    <a:lnTo>
                      <a:pt x="1314" y="312"/>
                    </a:lnTo>
                    <a:lnTo>
                      <a:pt x="1314" y="314"/>
                    </a:lnTo>
                    <a:lnTo>
                      <a:pt x="1316" y="316"/>
                    </a:lnTo>
                    <a:lnTo>
                      <a:pt x="1318" y="316"/>
                    </a:lnTo>
                    <a:lnTo>
                      <a:pt x="1320" y="312"/>
                    </a:lnTo>
                    <a:lnTo>
                      <a:pt x="1320" y="312"/>
                    </a:lnTo>
                    <a:lnTo>
                      <a:pt x="838" y="328"/>
                    </a:lnTo>
                    <a:lnTo>
                      <a:pt x="838" y="328"/>
                    </a:lnTo>
                    <a:lnTo>
                      <a:pt x="838" y="324"/>
                    </a:lnTo>
                    <a:lnTo>
                      <a:pt x="836" y="318"/>
                    </a:lnTo>
                    <a:lnTo>
                      <a:pt x="830" y="314"/>
                    </a:lnTo>
                    <a:lnTo>
                      <a:pt x="822" y="314"/>
                    </a:lnTo>
                    <a:lnTo>
                      <a:pt x="822" y="314"/>
                    </a:lnTo>
                    <a:lnTo>
                      <a:pt x="826" y="318"/>
                    </a:lnTo>
                    <a:lnTo>
                      <a:pt x="830" y="322"/>
                    </a:lnTo>
                    <a:lnTo>
                      <a:pt x="832" y="326"/>
                    </a:lnTo>
                    <a:lnTo>
                      <a:pt x="838" y="328"/>
                    </a:lnTo>
                    <a:lnTo>
                      <a:pt x="838" y="328"/>
                    </a:lnTo>
                    <a:lnTo>
                      <a:pt x="1324" y="316"/>
                    </a:lnTo>
                    <a:lnTo>
                      <a:pt x="1324" y="316"/>
                    </a:lnTo>
                    <a:lnTo>
                      <a:pt x="1326" y="318"/>
                    </a:lnTo>
                    <a:lnTo>
                      <a:pt x="1322" y="320"/>
                    </a:lnTo>
                    <a:lnTo>
                      <a:pt x="1318" y="322"/>
                    </a:lnTo>
                    <a:lnTo>
                      <a:pt x="1318" y="324"/>
                    </a:lnTo>
                    <a:lnTo>
                      <a:pt x="1318" y="326"/>
                    </a:lnTo>
                    <a:lnTo>
                      <a:pt x="1318" y="326"/>
                    </a:lnTo>
                    <a:lnTo>
                      <a:pt x="1330" y="328"/>
                    </a:lnTo>
                    <a:lnTo>
                      <a:pt x="1334" y="328"/>
                    </a:lnTo>
                    <a:lnTo>
                      <a:pt x="1340" y="328"/>
                    </a:lnTo>
                    <a:lnTo>
                      <a:pt x="1340" y="328"/>
                    </a:lnTo>
                    <a:lnTo>
                      <a:pt x="1338" y="324"/>
                    </a:lnTo>
                    <a:lnTo>
                      <a:pt x="1340" y="320"/>
                    </a:lnTo>
                    <a:lnTo>
                      <a:pt x="1340" y="316"/>
                    </a:lnTo>
                    <a:lnTo>
                      <a:pt x="1340" y="314"/>
                    </a:lnTo>
                    <a:lnTo>
                      <a:pt x="1340" y="314"/>
                    </a:lnTo>
                    <a:lnTo>
                      <a:pt x="1336" y="316"/>
                    </a:lnTo>
                    <a:lnTo>
                      <a:pt x="1332" y="316"/>
                    </a:lnTo>
                    <a:lnTo>
                      <a:pt x="1328" y="316"/>
                    </a:lnTo>
                    <a:lnTo>
                      <a:pt x="1324" y="316"/>
                    </a:lnTo>
                    <a:lnTo>
                      <a:pt x="1324" y="316"/>
                    </a:lnTo>
                    <a:lnTo>
                      <a:pt x="1082" y="320"/>
                    </a:lnTo>
                    <a:lnTo>
                      <a:pt x="1082" y="320"/>
                    </a:lnTo>
                    <a:lnTo>
                      <a:pt x="1086" y="320"/>
                    </a:lnTo>
                    <a:lnTo>
                      <a:pt x="1088" y="320"/>
                    </a:lnTo>
                    <a:lnTo>
                      <a:pt x="1088" y="318"/>
                    </a:lnTo>
                    <a:lnTo>
                      <a:pt x="1088" y="318"/>
                    </a:lnTo>
                    <a:lnTo>
                      <a:pt x="1082" y="318"/>
                    </a:lnTo>
                    <a:lnTo>
                      <a:pt x="1082" y="318"/>
                    </a:lnTo>
                    <a:lnTo>
                      <a:pt x="1082" y="320"/>
                    </a:lnTo>
                    <a:lnTo>
                      <a:pt x="1082" y="320"/>
                    </a:lnTo>
                    <a:lnTo>
                      <a:pt x="1238" y="318"/>
                    </a:lnTo>
                    <a:lnTo>
                      <a:pt x="1238" y="318"/>
                    </a:lnTo>
                    <a:lnTo>
                      <a:pt x="1230" y="330"/>
                    </a:lnTo>
                    <a:lnTo>
                      <a:pt x="1222" y="342"/>
                    </a:lnTo>
                    <a:lnTo>
                      <a:pt x="1214" y="354"/>
                    </a:lnTo>
                    <a:lnTo>
                      <a:pt x="1208" y="368"/>
                    </a:lnTo>
                    <a:lnTo>
                      <a:pt x="1208" y="368"/>
                    </a:lnTo>
                    <a:lnTo>
                      <a:pt x="1220" y="374"/>
                    </a:lnTo>
                    <a:lnTo>
                      <a:pt x="1228" y="374"/>
                    </a:lnTo>
                    <a:lnTo>
                      <a:pt x="1230" y="374"/>
                    </a:lnTo>
                    <a:lnTo>
                      <a:pt x="1234" y="372"/>
                    </a:lnTo>
                    <a:lnTo>
                      <a:pt x="1234" y="372"/>
                    </a:lnTo>
                    <a:lnTo>
                      <a:pt x="1232" y="366"/>
                    </a:lnTo>
                    <a:lnTo>
                      <a:pt x="1228" y="360"/>
                    </a:lnTo>
                    <a:lnTo>
                      <a:pt x="1226" y="356"/>
                    </a:lnTo>
                    <a:lnTo>
                      <a:pt x="1224" y="348"/>
                    </a:lnTo>
                    <a:lnTo>
                      <a:pt x="1224" y="348"/>
                    </a:lnTo>
                    <a:lnTo>
                      <a:pt x="1238" y="336"/>
                    </a:lnTo>
                    <a:lnTo>
                      <a:pt x="1242" y="328"/>
                    </a:lnTo>
                    <a:lnTo>
                      <a:pt x="1242" y="324"/>
                    </a:lnTo>
                    <a:lnTo>
                      <a:pt x="1242" y="318"/>
                    </a:lnTo>
                    <a:lnTo>
                      <a:pt x="1242" y="318"/>
                    </a:lnTo>
                    <a:lnTo>
                      <a:pt x="1238" y="318"/>
                    </a:lnTo>
                    <a:lnTo>
                      <a:pt x="1238" y="318"/>
                    </a:lnTo>
                    <a:lnTo>
                      <a:pt x="886" y="358"/>
                    </a:lnTo>
                    <a:lnTo>
                      <a:pt x="886" y="358"/>
                    </a:lnTo>
                    <a:lnTo>
                      <a:pt x="888" y="362"/>
                    </a:lnTo>
                    <a:lnTo>
                      <a:pt x="892" y="362"/>
                    </a:lnTo>
                    <a:lnTo>
                      <a:pt x="894" y="360"/>
                    </a:lnTo>
                    <a:lnTo>
                      <a:pt x="894" y="356"/>
                    </a:lnTo>
                    <a:lnTo>
                      <a:pt x="894" y="356"/>
                    </a:lnTo>
                    <a:lnTo>
                      <a:pt x="890" y="356"/>
                    </a:lnTo>
                    <a:lnTo>
                      <a:pt x="888" y="358"/>
                    </a:lnTo>
                    <a:lnTo>
                      <a:pt x="886" y="358"/>
                    </a:lnTo>
                    <a:lnTo>
                      <a:pt x="886" y="358"/>
                    </a:lnTo>
                    <a:lnTo>
                      <a:pt x="880" y="372"/>
                    </a:lnTo>
                    <a:lnTo>
                      <a:pt x="880" y="372"/>
                    </a:lnTo>
                    <a:lnTo>
                      <a:pt x="878" y="362"/>
                    </a:lnTo>
                    <a:lnTo>
                      <a:pt x="874" y="354"/>
                    </a:lnTo>
                    <a:lnTo>
                      <a:pt x="870" y="352"/>
                    </a:lnTo>
                    <a:lnTo>
                      <a:pt x="866" y="350"/>
                    </a:lnTo>
                    <a:lnTo>
                      <a:pt x="862" y="348"/>
                    </a:lnTo>
                    <a:lnTo>
                      <a:pt x="856" y="350"/>
                    </a:lnTo>
                    <a:lnTo>
                      <a:pt x="856" y="350"/>
                    </a:lnTo>
                    <a:lnTo>
                      <a:pt x="852" y="350"/>
                    </a:lnTo>
                    <a:lnTo>
                      <a:pt x="850" y="352"/>
                    </a:lnTo>
                    <a:lnTo>
                      <a:pt x="850" y="354"/>
                    </a:lnTo>
                    <a:lnTo>
                      <a:pt x="852" y="356"/>
                    </a:lnTo>
                    <a:lnTo>
                      <a:pt x="860" y="364"/>
                    </a:lnTo>
                    <a:lnTo>
                      <a:pt x="860" y="364"/>
                    </a:lnTo>
                    <a:lnTo>
                      <a:pt x="860" y="354"/>
                    </a:lnTo>
                    <a:lnTo>
                      <a:pt x="860" y="354"/>
                    </a:lnTo>
                    <a:lnTo>
                      <a:pt x="860" y="358"/>
                    </a:lnTo>
                    <a:lnTo>
                      <a:pt x="858" y="364"/>
                    </a:lnTo>
                    <a:lnTo>
                      <a:pt x="858" y="366"/>
                    </a:lnTo>
                    <a:lnTo>
                      <a:pt x="860" y="370"/>
                    </a:lnTo>
                    <a:lnTo>
                      <a:pt x="866" y="372"/>
                    </a:lnTo>
                    <a:lnTo>
                      <a:pt x="876" y="374"/>
                    </a:lnTo>
                    <a:lnTo>
                      <a:pt x="876" y="374"/>
                    </a:lnTo>
                    <a:lnTo>
                      <a:pt x="874" y="368"/>
                    </a:lnTo>
                    <a:lnTo>
                      <a:pt x="874" y="368"/>
                    </a:lnTo>
                    <a:lnTo>
                      <a:pt x="876" y="370"/>
                    </a:lnTo>
                    <a:lnTo>
                      <a:pt x="876" y="372"/>
                    </a:lnTo>
                    <a:lnTo>
                      <a:pt x="880" y="372"/>
                    </a:lnTo>
                    <a:lnTo>
                      <a:pt x="880" y="372"/>
                    </a:lnTo>
                    <a:lnTo>
                      <a:pt x="966" y="382"/>
                    </a:lnTo>
                    <a:lnTo>
                      <a:pt x="966" y="382"/>
                    </a:lnTo>
                    <a:lnTo>
                      <a:pt x="972" y="366"/>
                    </a:lnTo>
                    <a:lnTo>
                      <a:pt x="974" y="360"/>
                    </a:lnTo>
                    <a:lnTo>
                      <a:pt x="974" y="354"/>
                    </a:lnTo>
                    <a:lnTo>
                      <a:pt x="972" y="350"/>
                    </a:lnTo>
                    <a:lnTo>
                      <a:pt x="968" y="348"/>
                    </a:lnTo>
                    <a:lnTo>
                      <a:pt x="964" y="346"/>
                    </a:lnTo>
                    <a:lnTo>
                      <a:pt x="956" y="346"/>
                    </a:lnTo>
                    <a:lnTo>
                      <a:pt x="956" y="346"/>
                    </a:lnTo>
                    <a:lnTo>
                      <a:pt x="946" y="346"/>
                    </a:lnTo>
                    <a:lnTo>
                      <a:pt x="940" y="350"/>
                    </a:lnTo>
                    <a:lnTo>
                      <a:pt x="934" y="358"/>
                    </a:lnTo>
                    <a:lnTo>
                      <a:pt x="932" y="366"/>
                    </a:lnTo>
                    <a:lnTo>
                      <a:pt x="926" y="388"/>
                    </a:lnTo>
                    <a:lnTo>
                      <a:pt x="922" y="398"/>
                    </a:lnTo>
                    <a:lnTo>
                      <a:pt x="918" y="406"/>
                    </a:lnTo>
                    <a:lnTo>
                      <a:pt x="918" y="406"/>
                    </a:lnTo>
                    <a:lnTo>
                      <a:pt x="924" y="406"/>
                    </a:lnTo>
                    <a:lnTo>
                      <a:pt x="930" y="402"/>
                    </a:lnTo>
                    <a:lnTo>
                      <a:pt x="934" y="402"/>
                    </a:lnTo>
                    <a:lnTo>
                      <a:pt x="942" y="406"/>
                    </a:lnTo>
                    <a:lnTo>
                      <a:pt x="942" y="406"/>
                    </a:lnTo>
                    <a:lnTo>
                      <a:pt x="932" y="410"/>
                    </a:lnTo>
                    <a:lnTo>
                      <a:pt x="928" y="414"/>
                    </a:lnTo>
                    <a:lnTo>
                      <a:pt x="924" y="422"/>
                    </a:lnTo>
                    <a:lnTo>
                      <a:pt x="924" y="430"/>
                    </a:lnTo>
                    <a:lnTo>
                      <a:pt x="928" y="448"/>
                    </a:lnTo>
                    <a:lnTo>
                      <a:pt x="932" y="464"/>
                    </a:lnTo>
                    <a:lnTo>
                      <a:pt x="932" y="464"/>
                    </a:lnTo>
                    <a:lnTo>
                      <a:pt x="940" y="456"/>
                    </a:lnTo>
                    <a:lnTo>
                      <a:pt x="948" y="450"/>
                    </a:lnTo>
                    <a:lnTo>
                      <a:pt x="956" y="442"/>
                    </a:lnTo>
                    <a:lnTo>
                      <a:pt x="964" y="434"/>
                    </a:lnTo>
                    <a:lnTo>
                      <a:pt x="964" y="434"/>
                    </a:lnTo>
                    <a:lnTo>
                      <a:pt x="958" y="448"/>
                    </a:lnTo>
                    <a:lnTo>
                      <a:pt x="952" y="462"/>
                    </a:lnTo>
                    <a:lnTo>
                      <a:pt x="950" y="468"/>
                    </a:lnTo>
                    <a:lnTo>
                      <a:pt x="950" y="474"/>
                    </a:lnTo>
                    <a:lnTo>
                      <a:pt x="952" y="482"/>
                    </a:lnTo>
                    <a:lnTo>
                      <a:pt x="956" y="490"/>
                    </a:lnTo>
                    <a:lnTo>
                      <a:pt x="956" y="490"/>
                    </a:lnTo>
                    <a:lnTo>
                      <a:pt x="966" y="504"/>
                    </a:lnTo>
                    <a:lnTo>
                      <a:pt x="966" y="504"/>
                    </a:lnTo>
                    <a:lnTo>
                      <a:pt x="960" y="496"/>
                    </a:lnTo>
                    <a:lnTo>
                      <a:pt x="952" y="488"/>
                    </a:lnTo>
                    <a:lnTo>
                      <a:pt x="952" y="488"/>
                    </a:lnTo>
                    <a:lnTo>
                      <a:pt x="954" y="500"/>
                    </a:lnTo>
                    <a:lnTo>
                      <a:pt x="958" y="510"/>
                    </a:lnTo>
                    <a:lnTo>
                      <a:pt x="958" y="510"/>
                    </a:lnTo>
                    <a:lnTo>
                      <a:pt x="956" y="508"/>
                    </a:lnTo>
                    <a:lnTo>
                      <a:pt x="954" y="506"/>
                    </a:lnTo>
                    <a:lnTo>
                      <a:pt x="954" y="504"/>
                    </a:lnTo>
                    <a:lnTo>
                      <a:pt x="950" y="504"/>
                    </a:lnTo>
                    <a:lnTo>
                      <a:pt x="950" y="504"/>
                    </a:lnTo>
                    <a:lnTo>
                      <a:pt x="944" y="514"/>
                    </a:lnTo>
                    <a:lnTo>
                      <a:pt x="942" y="520"/>
                    </a:lnTo>
                    <a:lnTo>
                      <a:pt x="936" y="524"/>
                    </a:lnTo>
                    <a:lnTo>
                      <a:pt x="936" y="524"/>
                    </a:lnTo>
                    <a:lnTo>
                      <a:pt x="936" y="540"/>
                    </a:lnTo>
                    <a:lnTo>
                      <a:pt x="938" y="546"/>
                    </a:lnTo>
                    <a:lnTo>
                      <a:pt x="942" y="552"/>
                    </a:lnTo>
                    <a:lnTo>
                      <a:pt x="942" y="552"/>
                    </a:lnTo>
                    <a:lnTo>
                      <a:pt x="964" y="516"/>
                    </a:lnTo>
                    <a:lnTo>
                      <a:pt x="974" y="500"/>
                    </a:lnTo>
                    <a:lnTo>
                      <a:pt x="982" y="480"/>
                    </a:lnTo>
                    <a:lnTo>
                      <a:pt x="982" y="480"/>
                    </a:lnTo>
                    <a:lnTo>
                      <a:pt x="980" y="486"/>
                    </a:lnTo>
                    <a:lnTo>
                      <a:pt x="978" y="494"/>
                    </a:lnTo>
                    <a:lnTo>
                      <a:pt x="976" y="500"/>
                    </a:lnTo>
                    <a:lnTo>
                      <a:pt x="974" y="506"/>
                    </a:lnTo>
                    <a:lnTo>
                      <a:pt x="974" y="506"/>
                    </a:lnTo>
                    <a:lnTo>
                      <a:pt x="984" y="498"/>
                    </a:lnTo>
                    <a:lnTo>
                      <a:pt x="990" y="494"/>
                    </a:lnTo>
                    <a:lnTo>
                      <a:pt x="994" y="496"/>
                    </a:lnTo>
                    <a:lnTo>
                      <a:pt x="996" y="496"/>
                    </a:lnTo>
                    <a:lnTo>
                      <a:pt x="996" y="496"/>
                    </a:lnTo>
                    <a:lnTo>
                      <a:pt x="992" y="504"/>
                    </a:lnTo>
                    <a:lnTo>
                      <a:pt x="984" y="512"/>
                    </a:lnTo>
                    <a:lnTo>
                      <a:pt x="976" y="516"/>
                    </a:lnTo>
                    <a:lnTo>
                      <a:pt x="966" y="518"/>
                    </a:lnTo>
                    <a:lnTo>
                      <a:pt x="966" y="518"/>
                    </a:lnTo>
                    <a:lnTo>
                      <a:pt x="956" y="536"/>
                    </a:lnTo>
                    <a:lnTo>
                      <a:pt x="952" y="544"/>
                    </a:lnTo>
                    <a:lnTo>
                      <a:pt x="948" y="554"/>
                    </a:lnTo>
                    <a:lnTo>
                      <a:pt x="948" y="554"/>
                    </a:lnTo>
                    <a:lnTo>
                      <a:pt x="960" y="556"/>
                    </a:lnTo>
                    <a:lnTo>
                      <a:pt x="966" y="558"/>
                    </a:lnTo>
                    <a:lnTo>
                      <a:pt x="968" y="564"/>
                    </a:lnTo>
                    <a:lnTo>
                      <a:pt x="966" y="570"/>
                    </a:lnTo>
                    <a:lnTo>
                      <a:pt x="962" y="578"/>
                    </a:lnTo>
                    <a:lnTo>
                      <a:pt x="956" y="584"/>
                    </a:lnTo>
                    <a:lnTo>
                      <a:pt x="950" y="588"/>
                    </a:lnTo>
                    <a:lnTo>
                      <a:pt x="942" y="590"/>
                    </a:lnTo>
                    <a:lnTo>
                      <a:pt x="942" y="590"/>
                    </a:lnTo>
                    <a:lnTo>
                      <a:pt x="942" y="596"/>
                    </a:lnTo>
                    <a:lnTo>
                      <a:pt x="944" y="600"/>
                    </a:lnTo>
                    <a:lnTo>
                      <a:pt x="946" y="604"/>
                    </a:lnTo>
                    <a:lnTo>
                      <a:pt x="948" y="608"/>
                    </a:lnTo>
                    <a:lnTo>
                      <a:pt x="948" y="608"/>
                    </a:lnTo>
                    <a:lnTo>
                      <a:pt x="944" y="618"/>
                    </a:lnTo>
                    <a:lnTo>
                      <a:pt x="944" y="630"/>
                    </a:lnTo>
                    <a:lnTo>
                      <a:pt x="944" y="654"/>
                    </a:lnTo>
                    <a:lnTo>
                      <a:pt x="944" y="654"/>
                    </a:lnTo>
                    <a:lnTo>
                      <a:pt x="956" y="650"/>
                    </a:lnTo>
                    <a:lnTo>
                      <a:pt x="966" y="648"/>
                    </a:lnTo>
                    <a:lnTo>
                      <a:pt x="976" y="644"/>
                    </a:lnTo>
                    <a:lnTo>
                      <a:pt x="980" y="642"/>
                    </a:lnTo>
                    <a:lnTo>
                      <a:pt x="984" y="638"/>
                    </a:lnTo>
                    <a:lnTo>
                      <a:pt x="984" y="638"/>
                    </a:lnTo>
                    <a:lnTo>
                      <a:pt x="988" y="630"/>
                    </a:lnTo>
                    <a:lnTo>
                      <a:pt x="990" y="620"/>
                    </a:lnTo>
                    <a:lnTo>
                      <a:pt x="992" y="612"/>
                    </a:lnTo>
                    <a:lnTo>
                      <a:pt x="994" y="608"/>
                    </a:lnTo>
                    <a:lnTo>
                      <a:pt x="998" y="606"/>
                    </a:lnTo>
                    <a:lnTo>
                      <a:pt x="998" y="606"/>
                    </a:lnTo>
                    <a:lnTo>
                      <a:pt x="1008" y="612"/>
                    </a:lnTo>
                    <a:lnTo>
                      <a:pt x="1014" y="620"/>
                    </a:lnTo>
                    <a:lnTo>
                      <a:pt x="1028" y="638"/>
                    </a:lnTo>
                    <a:lnTo>
                      <a:pt x="1028" y="638"/>
                    </a:lnTo>
                    <a:lnTo>
                      <a:pt x="1024" y="640"/>
                    </a:lnTo>
                    <a:lnTo>
                      <a:pt x="1022" y="642"/>
                    </a:lnTo>
                    <a:lnTo>
                      <a:pt x="1020" y="650"/>
                    </a:lnTo>
                    <a:lnTo>
                      <a:pt x="1020" y="650"/>
                    </a:lnTo>
                    <a:lnTo>
                      <a:pt x="1024" y="648"/>
                    </a:lnTo>
                    <a:lnTo>
                      <a:pt x="1028" y="648"/>
                    </a:lnTo>
                    <a:lnTo>
                      <a:pt x="1030" y="650"/>
                    </a:lnTo>
                    <a:lnTo>
                      <a:pt x="1030" y="650"/>
                    </a:lnTo>
                    <a:lnTo>
                      <a:pt x="1030" y="656"/>
                    </a:lnTo>
                    <a:lnTo>
                      <a:pt x="1028" y="660"/>
                    </a:lnTo>
                    <a:lnTo>
                      <a:pt x="1028" y="666"/>
                    </a:lnTo>
                    <a:lnTo>
                      <a:pt x="1028" y="670"/>
                    </a:lnTo>
                    <a:lnTo>
                      <a:pt x="1028" y="670"/>
                    </a:lnTo>
                    <a:lnTo>
                      <a:pt x="1030" y="662"/>
                    </a:lnTo>
                    <a:lnTo>
                      <a:pt x="1034" y="654"/>
                    </a:lnTo>
                    <a:lnTo>
                      <a:pt x="1034" y="654"/>
                    </a:lnTo>
                    <a:lnTo>
                      <a:pt x="1036" y="656"/>
                    </a:lnTo>
                    <a:lnTo>
                      <a:pt x="1042" y="656"/>
                    </a:lnTo>
                    <a:lnTo>
                      <a:pt x="1048" y="656"/>
                    </a:lnTo>
                    <a:lnTo>
                      <a:pt x="1052" y="658"/>
                    </a:lnTo>
                    <a:lnTo>
                      <a:pt x="1052" y="658"/>
                    </a:lnTo>
                    <a:lnTo>
                      <a:pt x="1042" y="658"/>
                    </a:lnTo>
                    <a:lnTo>
                      <a:pt x="1034" y="656"/>
                    </a:lnTo>
                    <a:lnTo>
                      <a:pt x="1034" y="656"/>
                    </a:lnTo>
                    <a:lnTo>
                      <a:pt x="1030" y="672"/>
                    </a:lnTo>
                    <a:lnTo>
                      <a:pt x="1030" y="672"/>
                    </a:lnTo>
                    <a:lnTo>
                      <a:pt x="1038" y="672"/>
                    </a:lnTo>
                    <a:lnTo>
                      <a:pt x="1040" y="672"/>
                    </a:lnTo>
                    <a:lnTo>
                      <a:pt x="1042" y="672"/>
                    </a:lnTo>
                    <a:lnTo>
                      <a:pt x="1042" y="672"/>
                    </a:lnTo>
                    <a:lnTo>
                      <a:pt x="1030" y="672"/>
                    </a:lnTo>
                    <a:lnTo>
                      <a:pt x="1030" y="672"/>
                    </a:lnTo>
                    <a:lnTo>
                      <a:pt x="1030" y="684"/>
                    </a:lnTo>
                    <a:lnTo>
                      <a:pt x="1030" y="696"/>
                    </a:lnTo>
                    <a:lnTo>
                      <a:pt x="1030" y="696"/>
                    </a:lnTo>
                    <a:lnTo>
                      <a:pt x="1034" y="696"/>
                    </a:lnTo>
                    <a:lnTo>
                      <a:pt x="1036" y="696"/>
                    </a:lnTo>
                    <a:lnTo>
                      <a:pt x="1038" y="702"/>
                    </a:lnTo>
                    <a:lnTo>
                      <a:pt x="1038" y="702"/>
                    </a:lnTo>
                    <a:lnTo>
                      <a:pt x="1038" y="694"/>
                    </a:lnTo>
                    <a:lnTo>
                      <a:pt x="1038" y="684"/>
                    </a:lnTo>
                    <a:lnTo>
                      <a:pt x="1040" y="680"/>
                    </a:lnTo>
                    <a:lnTo>
                      <a:pt x="1042" y="678"/>
                    </a:lnTo>
                    <a:lnTo>
                      <a:pt x="1046" y="678"/>
                    </a:lnTo>
                    <a:lnTo>
                      <a:pt x="1054" y="680"/>
                    </a:lnTo>
                    <a:lnTo>
                      <a:pt x="1054" y="680"/>
                    </a:lnTo>
                    <a:lnTo>
                      <a:pt x="1062" y="668"/>
                    </a:lnTo>
                    <a:lnTo>
                      <a:pt x="1070" y="656"/>
                    </a:lnTo>
                    <a:lnTo>
                      <a:pt x="1072" y="650"/>
                    </a:lnTo>
                    <a:lnTo>
                      <a:pt x="1076" y="642"/>
                    </a:lnTo>
                    <a:lnTo>
                      <a:pt x="1076" y="634"/>
                    </a:lnTo>
                    <a:lnTo>
                      <a:pt x="1076" y="626"/>
                    </a:lnTo>
                    <a:lnTo>
                      <a:pt x="1076" y="626"/>
                    </a:lnTo>
                    <a:lnTo>
                      <a:pt x="1074" y="620"/>
                    </a:lnTo>
                    <a:lnTo>
                      <a:pt x="1072" y="614"/>
                    </a:lnTo>
                    <a:lnTo>
                      <a:pt x="1072" y="614"/>
                    </a:lnTo>
                    <a:lnTo>
                      <a:pt x="1066" y="588"/>
                    </a:lnTo>
                    <a:lnTo>
                      <a:pt x="1062" y="560"/>
                    </a:lnTo>
                    <a:lnTo>
                      <a:pt x="1052" y="506"/>
                    </a:lnTo>
                    <a:lnTo>
                      <a:pt x="1052" y="506"/>
                    </a:lnTo>
                    <a:lnTo>
                      <a:pt x="1042" y="510"/>
                    </a:lnTo>
                    <a:lnTo>
                      <a:pt x="1032" y="510"/>
                    </a:lnTo>
                    <a:lnTo>
                      <a:pt x="1022" y="510"/>
                    </a:lnTo>
                    <a:lnTo>
                      <a:pt x="1020" y="508"/>
                    </a:lnTo>
                    <a:lnTo>
                      <a:pt x="1018" y="504"/>
                    </a:lnTo>
                    <a:lnTo>
                      <a:pt x="1018" y="504"/>
                    </a:lnTo>
                    <a:lnTo>
                      <a:pt x="1020" y="500"/>
                    </a:lnTo>
                    <a:lnTo>
                      <a:pt x="1022" y="496"/>
                    </a:lnTo>
                    <a:lnTo>
                      <a:pt x="1026" y="494"/>
                    </a:lnTo>
                    <a:lnTo>
                      <a:pt x="1030" y="490"/>
                    </a:lnTo>
                    <a:lnTo>
                      <a:pt x="1030" y="490"/>
                    </a:lnTo>
                    <a:lnTo>
                      <a:pt x="1030" y="488"/>
                    </a:lnTo>
                    <a:lnTo>
                      <a:pt x="1028" y="488"/>
                    </a:lnTo>
                    <a:lnTo>
                      <a:pt x="1026" y="486"/>
                    </a:lnTo>
                    <a:lnTo>
                      <a:pt x="1024" y="484"/>
                    </a:lnTo>
                    <a:lnTo>
                      <a:pt x="1024" y="484"/>
                    </a:lnTo>
                    <a:lnTo>
                      <a:pt x="1028" y="480"/>
                    </a:lnTo>
                    <a:lnTo>
                      <a:pt x="1030" y="476"/>
                    </a:lnTo>
                    <a:lnTo>
                      <a:pt x="1030" y="476"/>
                    </a:lnTo>
                    <a:lnTo>
                      <a:pt x="1018" y="466"/>
                    </a:lnTo>
                    <a:lnTo>
                      <a:pt x="1006" y="454"/>
                    </a:lnTo>
                    <a:lnTo>
                      <a:pt x="1002" y="448"/>
                    </a:lnTo>
                    <a:lnTo>
                      <a:pt x="998" y="442"/>
                    </a:lnTo>
                    <a:lnTo>
                      <a:pt x="1000" y="434"/>
                    </a:lnTo>
                    <a:lnTo>
                      <a:pt x="1004" y="426"/>
                    </a:lnTo>
                    <a:lnTo>
                      <a:pt x="1004" y="426"/>
                    </a:lnTo>
                    <a:lnTo>
                      <a:pt x="1010" y="426"/>
                    </a:lnTo>
                    <a:lnTo>
                      <a:pt x="1016" y="430"/>
                    </a:lnTo>
                    <a:lnTo>
                      <a:pt x="1026" y="438"/>
                    </a:lnTo>
                    <a:lnTo>
                      <a:pt x="1044" y="458"/>
                    </a:lnTo>
                    <a:lnTo>
                      <a:pt x="1044" y="458"/>
                    </a:lnTo>
                    <a:lnTo>
                      <a:pt x="1040" y="436"/>
                    </a:lnTo>
                    <a:lnTo>
                      <a:pt x="1038" y="416"/>
                    </a:lnTo>
                    <a:lnTo>
                      <a:pt x="1038" y="416"/>
                    </a:lnTo>
                    <a:lnTo>
                      <a:pt x="1020" y="400"/>
                    </a:lnTo>
                    <a:lnTo>
                      <a:pt x="1012" y="392"/>
                    </a:lnTo>
                    <a:lnTo>
                      <a:pt x="1002" y="384"/>
                    </a:lnTo>
                    <a:lnTo>
                      <a:pt x="1002" y="384"/>
                    </a:lnTo>
                    <a:lnTo>
                      <a:pt x="998" y="384"/>
                    </a:lnTo>
                    <a:lnTo>
                      <a:pt x="996" y="386"/>
                    </a:lnTo>
                    <a:lnTo>
                      <a:pt x="994" y="386"/>
                    </a:lnTo>
                    <a:lnTo>
                      <a:pt x="994" y="386"/>
                    </a:lnTo>
                    <a:lnTo>
                      <a:pt x="994" y="386"/>
                    </a:lnTo>
                    <a:lnTo>
                      <a:pt x="998" y="382"/>
                    </a:lnTo>
                    <a:lnTo>
                      <a:pt x="998" y="380"/>
                    </a:lnTo>
                    <a:lnTo>
                      <a:pt x="994" y="378"/>
                    </a:lnTo>
                    <a:lnTo>
                      <a:pt x="988" y="378"/>
                    </a:lnTo>
                    <a:lnTo>
                      <a:pt x="988" y="378"/>
                    </a:lnTo>
                    <a:lnTo>
                      <a:pt x="976" y="380"/>
                    </a:lnTo>
                    <a:lnTo>
                      <a:pt x="966" y="382"/>
                    </a:lnTo>
                    <a:lnTo>
                      <a:pt x="966" y="382"/>
                    </a:lnTo>
                    <a:lnTo>
                      <a:pt x="798" y="340"/>
                    </a:lnTo>
                    <a:lnTo>
                      <a:pt x="798" y="340"/>
                    </a:lnTo>
                    <a:lnTo>
                      <a:pt x="802" y="342"/>
                    </a:lnTo>
                    <a:lnTo>
                      <a:pt x="806" y="342"/>
                    </a:lnTo>
                    <a:lnTo>
                      <a:pt x="810" y="340"/>
                    </a:lnTo>
                    <a:lnTo>
                      <a:pt x="812" y="338"/>
                    </a:lnTo>
                    <a:lnTo>
                      <a:pt x="812" y="338"/>
                    </a:lnTo>
                    <a:lnTo>
                      <a:pt x="808" y="334"/>
                    </a:lnTo>
                    <a:lnTo>
                      <a:pt x="804" y="334"/>
                    </a:lnTo>
                    <a:lnTo>
                      <a:pt x="800" y="336"/>
                    </a:lnTo>
                    <a:lnTo>
                      <a:pt x="798" y="340"/>
                    </a:lnTo>
                    <a:lnTo>
                      <a:pt x="798" y="340"/>
                    </a:lnTo>
                    <a:lnTo>
                      <a:pt x="804" y="330"/>
                    </a:lnTo>
                    <a:lnTo>
                      <a:pt x="804" y="330"/>
                    </a:lnTo>
                    <a:lnTo>
                      <a:pt x="802" y="328"/>
                    </a:lnTo>
                    <a:lnTo>
                      <a:pt x="798" y="328"/>
                    </a:lnTo>
                    <a:lnTo>
                      <a:pt x="798" y="328"/>
                    </a:lnTo>
                    <a:lnTo>
                      <a:pt x="798" y="332"/>
                    </a:lnTo>
                    <a:lnTo>
                      <a:pt x="800" y="336"/>
                    </a:lnTo>
                    <a:lnTo>
                      <a:pt x="800" y="336"/>
                    </a:lnTo>
                    <a:lnTo>
                      <a:pt x="802" y="334"/>
                    </a:lnTo>
                    <a:lnTo>
                      <a:pt x="804" y="334"/>
                    </a:lnTo>
                    <a:lnTo>
                      <a:pt x="804" y="332"/>
                    </a:lnTo>
                    <a:lnTo>
                      <a:pt x="804" y="330"/>
                    </a:lnTo>
                    <a:lnTo>
                      <a:pt x="804" y="330"/>
                    </a:lnTo>
                    <a:lnTo>
                      <a:pt x="770" y="348"/>
                    </a:lnTo>
                    <a:lnTo>
                      <a:pt x="770" y="348"/>
                    </a:lnTo>
                    <a:lnTo>
                      <a:pt x="764" y="346"/>
                    </a:lnTo>
                    <a:lnTo>
                      <a:pt x="758" y="342"/>
                    </a:lnTo>
                    <a:lnTo>
                      <a:pt x="758" y="342"/>
                    </a:lnTo>
                    <a:lnTo>
                      <a:pt x="758" y="346"/>
                    </a:lnTo>
                    <a:lnTo>
                      <a:pt x="756" y="346"/>
                    </a:lnTo>
                    <a:lnTo>
                      <a:pt x="754" y="346"/>
                    </a:lnTo>
                    <a:lnTo>
                      <a:pt x="754" y="346"/>
                    </a:lnTo>
                    <a:lnTo>
                      <a:pt x="756" y="358"/>
                    </a:lnTo>
                    <a:lnTo>
                      <a:pt x="756" y="370"/>
                    </a:lnTo>
                    <a:lnTo>
                      <a:pt x="756" y="370"/>
                    </a:lnTo>
                    <a:lnTo>
                      <a:pt x="760" y="370"/>
                    </a:lnTo>
                    <a:lnTo>
                      <a:pt x="766" y="370"/>
                    </a:lnTo>
                    <a:lnTo>
                      <a:pt x="770" y="370"/>
                    </a:lnTo>
                    <a:lnTo>
                      <a:pt x="774" y="370"/>
                    </a:lnTo>
                    <a:lnTo>
                      <a:pt x="774" y="370"/>
                    </a:lnTo>
                    <a:lnTo>
                      <a:pt x="758" y="372"/>
                    </a:lnTo>
                    <a:lnTo>
                      <a:pt x="758" y="372"/>
                    </a:lnTo>
                    <a:lnTo>
                      <a:pt x="760" y="386"/>
                    </a:lnTo>
                    <a:lnTo>
                      <a:pt x="760" y="400"/>
                    </a:lnTo>
                    <a:lnTo>
                      <a:pt x="760" y="400"/>
                    </a:lnTo>
                    <a:lnTo>
                      <a:pt x="774" y="400"/>
                    </a:lnTo>
                    <a:lnTo>
                      <a:pt x="786" y="396"/>
                    </a:lnTo>
                    <a:lnTo>
                      <a:pt x="790" y="394"/>
                    </a:lnTo>
                    <a:lnTo>
                      <a:pt x="790" y="392"/>
                    </a:lnTo>
                    <a:lnTo>
                      <a:pt x="790" y="388"/>
                    </a:lnTo>
                    <a:lnTo>
                      <a:pt x="786" y="384"/>
                    </a:lnTo>
                    <a:lnTo>
                      <a:pt x="786" y="384"/>
                    </a:lnTo>
                    <a:lnTo>
                      <a:pt x="790" y="382"/>
                    </a:lnTo>
                    <a:lnTo>
                      <a:pt x="796" y="382"/>
                    </a:lnTo>
                    <a:lnTo>
                      <a:pt x="796" y="382"/>
                    </a:lnTo>
                    <a:lnTo>
                      <a:pt x="796" y="368"/>
                    </a:lnTo>
                    <a:lnTo>
                      <a:pt x="798" y="352"/>
                    </a:lnTo>
                    <a:lnTo>
                      <a:pt x="798" y="352"/>
                    </a:lnTo>
                    <a:lnTo>
                      <a:pt x="790" y="348"/>
                    </a:lnTo>
                    <a:lnTo>
                      <a:pt x="784" y="344"/>
                    </a:lnTo>
                    <a:lnTo>
                      <a:pt x="778" y="340"/>
                    </a:lnTo>
                    <a:lnTo>
                      <a:pt x="772" y="338"/>
                    </a:lnTo>
                    <a:lnTo>
                      <a:pt x="772" y="338"/>
                    </a:lnTo>
                    <a:lnTo>
                      <a:pt x="774" y="340"/>
                    </a:lnTo>
                    <a:lnTo>
                      <a:pt x="774" y="344"/>
                    </a:lnTo>
                    <a:lnTo>
                      <a:pt x="772" y="346"/>
                    </a:lnTo>
                    <a:lnTo>
                      <a:pt x="770" y="348"/>
                    </a:lnTo>
                    <a:lnTo>
                      <a:pt x="770" y="348"/>
                    </a:lnTo>
                    <a:lnTo>
                      <a:pt x="836" y="384"/>
                    </a:lnTo>
                    <a:lnTo>
                      <a:pt x="836" y="384"/>
                    </a:lnTo>
                    <a:lnTo>
                      <a:pt x="824" y="374"/>
                    </a:lnTo>
                    <a:lnTo>
                      <a:pt x="822" y="374"/>
                    </a:lnTo>
                    <a:lnTo>
                      <a:pt x="824" y="376"/>
                    </a:lnTo>
                    <a:lnTo>
                      <a:pt x="832" y="386"/>
                    </a:lnTo>
                    <a:lnTo>
                      <a:pt x="832" y="386"/>
                    </a:lnTo>
                    <a:lnTo>
                      <a:pt x="832" y="384"/>
                    </a:lnTo>
                    <a:lnTo>
                      <a:pt x="834" y="384"/>
                    </a:lnTo>
                    <a:lnTo>
                      <a:pt x="834" y="386"/>
                    </a:lnTo>
                    <a:lnTo>
                      <a:pt x="836" y="384"/>
                    </a:lnTo>
                    <a:lnTo>
                      <a:pt x="836" y="384"/>
                    </a:lnTo>
                    <a:lnTo>
                      <a:pt x="836" y="368"/>
                    </a:lnTo>
                    <a:lnTo>
                      <a:pt x="836" y="368"/>
                    </a:lnTo>
                    <a:lnTo>
                      <a:pt x="834" y="368"/>
                    </a:lnTo>
                    <a:lnTo>
                      <a:pt x="832" y="366"/>
                    </a:lnTo>
                    <a:lnTo>
                      <a:pt x="830" y="364"/>
                    </a:lnTo>
                    <a:lnTo>
                      <a:pt x="828" y="364"/>
                    </a:lnTo>
                    <a:lnTo>
                      <a:pt x="828" y="364"/>
                    </a:lnTo>
                    <a:lnTo>
                      <a:pt x="828" y="378"/>
                    </a:lnTo>
                    <a:lnTo>
                      <a:pt x="828" y="378"/>
                    </a:lnTo>
                    <a:lnTo>
                      <a:pt x="828" y="374"/>
                    </a:lnTo>
                    <a:lnTo>
                      <a:pt x="828" y="372"/>
                    </a:lnTo>
                    <a:lnTo>
                      <a:pt x="826" y="364"/>
                    </a:lnTo>
                    <a:lnTo>
                      <a:pt x="822" y="358"/>
                    </a:lnTo>
                    <a:lnTo>
                      <a:pt x="822" y="356"/>
                    </a:lnTo>
                    <a:lnTo>
                      <a:pt x="824" y="354"/>
                    </a:lnTo>
                    <a:lnTo>
                      <a:pt x="824" y="354"/>
                    </a:lnTo>
                    <a:lnTo>
                      <a:pt x="826" y="354"/>
                    </a:lnTo>
                    <a:lnTo>
                      <a:pt x="830" y="354"/>
                    </a:lnTo>
                    <a:lnTo>
                      <a:pt x="840" y="356"/>
                    </a:lnTo>
                    <a:lnTo>
                      <a:pt x="856" y="364"/>
                    </a:lnTo>
                    <a:lnTo>
                      <a:pt x="856" y="364"/>
                    </a:lnTo>
                    <a:lnTo>
                      <a:pt x="852" y="358"/>
                    </a:lnTo>
                    <a:lnTo>
                      <a:pt x="848" y="354"/>
                    </a:lnTo>
                    <a:lnTo>
                      <a:pt x="842" y="352"/>
                    </a:lnTo>
                    <a:lnTo>
                      <a:pt x="836" y="350"/>
                    </a:lnTo>
                    <a:lnTo>
                      <a:pt x="824" y="350"/>
                    </a:lnTo>
                    <a:lnTo>
                      <a:pt x="810" y="352"/>
                    </a:lnTo>
                    <a:lnTo>
                      <a:pt x="810" y="352"/>
                    </a:lnTo>
                    <a:lnTo>
                      <a:pt x="804" y="368"/>
                    </a:lnTo>
                    <a:lnTo>
                      <a:pt x="804" y="368"/>
                    </a:lnTo>
                    <a:lnTo>
                      <a:pt x="800" y="384"/>
                    </a:lnTo>
                    <a:lnTo>
                      <a:pt x="800" y="384"/>
                    </a:lnTo>
                    <a:lnTo>
                      <a:pt x="810" y="384"/>
                    </a:lnTo>
                    <a:lnTo>
                      <a:pt x="820" y="384"/>
                    </a:lnTo>
                    <a:lnTo>
                      <a:pt x="820" y="384"/>
                    </a:lnTo>
                    <a:lnTo>
                      <a:pt x="820" y="380"/>
                    </a:lnTo>
                    <a:lnTo>
                      <a:pt x="820" y="374"/>
                    </a:lnTo>
                    <a:lnTo>
                      <a:pt x="818" y="370"/>
                    </a:lnTo>
                    <a:lnTo>
                      <a:pt x="820" y="366"/>
                    </a:lnTo>
                    <a:lnTo>
                      <a:pt x="820" y="366"/>
                    </a:lnTo>
                    <a:lnTo>
                      <a:pt x="822" y="376"/>
                    </a:lnTo>
                    <a:lnTo>
                      <a:pt x="822" y="380"/>
                    </a:lnTo>
                    <a:lnTo>
                      <a:pt x="824" y="384"/>
                    </a:lnTo>
                    <a:lnTo>
                      <a:pt x="824" y="384"/>
                    </a:lnTo>
                    <a:lnTo>
                      <a:pt x="828" y="382"/>
                    </a:lnTo>
                    <a:lnTo>
                      <a:pt x="832" y="378"/>
                    </a:lnTo>
                    <a:lnTo>
                      <a:pt x="836" y="368"/>
                    </a:lnTo>
                    <a:lnTo>
                      <a:pt x="836" y="368"/>
                    </a:lnTo>
                    <a:lnTo>
                      <a:pt x="1276" y="354"/>
                    </a:lnTo>
                    <a:lnTo>
                      <a:pt x="1276" y="354"/>
                    </a:lnTo>
                    <a:lnTo>
                      <a:pt x="1278" y="352"/>
                    </a:lnTo>
                    <a:lnTo>
                      <a:pt x="1278" y="352"/>
                    </a:lnTo>
                    <a:lnTo>
                      <a:pt x="1280" y="350"/>
                    </a:lnTo>
                    <a:lnTo>
                      <a:pt x="1280" y="350"/>
                    </a:lnTo>
                    <a:lnTo>
                      <a:pt x="1278" y="350"/>
                    </a:lnTo>
                    <a:lnTo>
                      <a:pt x="1278" y="348"/>
                    </a:lnTo>
                    <a:lnTo>
                      <a:pt x="1276" y="346"/>
                    </a:lnTo>
                    <a:lnTo>
                      <a:pt x="1276" y="346"/>
                    </a:lnTo>
                    <a:lnTo>
                      <a:pt x="1276" y="350"/>
                    </a:lnTo>
                    <a:lnTo>
                      <a:pt x="1276" y="354"/>
                    </a:lnTo>
                    <a:lnTo>
                      <a:pt x="1276" y="354"/>
                    </a:lnTo>
                    <a:lnTo>
                      <a:pt x="1276" y="354"/>
                    </a:lnTo>
                    <a:lnTo>
                      <a:pt x="750" y="362"/>
                    </a:lnTo>
                    <a:lnTo>
                      <a:pt x="750" y="362"/>
                    </a:lnTo>
                    <a:lnTo>
                      <a:pt x="750" y="362"/>
                    </a:lnTo>
                    <a:lnTo>
                      <a:pt x="750" y="360"/>
                    </a:lnTo>
                    <a:lnTo>
                      <a:pt x="750" y="360"/>
                    </a:lnTo>
                    <a:lnTo>
                      <a:pt x="748" y="368"/>
                    </a:lnTo>
                    <a:lnTo>
                      <a:pt x="750" y="372"/>
                    </a:lnTo>
                    <a:lnTo>
                      <a:pt x="750" y="372"/>
                    </a:lnTo>
                    <a:lnTo>
                      <a:pt x="750" y="372"/>
                    </a:lnTo>
                    <a:lnTo>
                      <a:pt x="750" y="362"/>
                    </a:lnTo>
                    <a:lnTo>
                      <a:pt x="750" y="362"/>
                    </a:lnTo>
                    <a:lnTo>
                      <a:pt x="752" y="368"/>
                    </a:lnTo>
                    <a:lnTo>
                      <a:pt x="752" y="368"/>
                    </a:lnTo>
                    <a:lnTo>
                      <a:pt x="752" y="362"/>
                    </a:lnTo>
                    <a:lnTo>
                      <a:pt x="754" y="354"/>
                    </a:lnTo>
                    <a:lnTo>
                      <a:pt x="752" y="348"/>
                    </a:lnTo>
                    <a:lnTo>
                      <a:pt x="750" y="346"/>
                    </a:lnTo>
                    <a:lnTo>
                      <a:pt x="746" y="346"/>
                    </a:lnTo>
                    <a:lnTo>
                      <a:pt x="746" y="346"/>
                    </a:lnTo>
                    <a:lnTo>
                      <a:pt x="746" y="354"/>
                    </a:lnTo>
                    <a:lnTo>
                      <a:pt x="750" y="360"/>
                    </a:lnTo>
                    <a:lnTo>
                      <a:pt x="752" y="364"/>
                    </a:lnTo>
                    <a:lnTo>
                      <a:pt x="752" y="368"/>
                    </a:lnTo>
                    <a:lnTo>
                      <a:pt x="752" y="368"/>
                    </a:lnTo>
                    <a:lnTo>
                      <a:pt x="800" y="370"/>
                    </a:lnTo>
                    <a:lnTo>
                      <a:pt x="800" y="370"/>
                    </a:lnTo>
                    <a:lnTo>
                      <a:pt x="804" y="362"/>
                    </a:lnTo>
                    <a:lnTo>
                      <a:pt x="808" y="354"/>
                    </a:lnTo>
                    <a:lnTo>
                      <a:pt x="808" y="354"/>
                    </a:lnTo>
                    <a:lnTo>
                      <a:pt x="802" y="354"/>
                    </a:lnTo>
                    <a:lnTo>
                      <a:pt x="798" y="352"/>
                    </a:lnTo>
                    <a:lnTo>
                      <a:pt x="798" y="352"/>
                    </a:lnTo>
                    <a:lnTo>
                      <a:pt x="798" y="362"/>
                    </a:lnTo>
                    <a:lnTo>
                      <a:pt x="800" y="370"/>
                    </a:lnTo>
                    <a:lnTo>
                      <a:pt x="800" y="370"/>
                    </a:lnTo>
                    <a:lnTo>
                      <a:pt x="1282" y="358"/>
                    </a:lnTo>
                    <a:lnTo>
                      <a:pt x="1282" y="358"/>
                    </a:lnTo>
                    <a:lnTo>
                      <a:pt x="1292" y="358"/>
                    </a:lnTo>
                    <a:lnTo>
                      <a:pt x="1294" y="356"/>
                    </a:lnTo>
                    <a:lnTo>
                      <a:pt x="1296" y="352"/>
                    </a:lnTo>
                    <a:lnTo>
                      <a:pt x="1296" y="352"/>
                    </a:lnTo>
                    <a:lnTo>
                      <a:pt x="1290" y="352"/>
                    </a:lnTo>
                    <a:lnTo>
                      <a:pt x="1286" y="354"/>
                    </a:lnTo>
                    <a:lnTo>
                      <a:pt x="1282" y="358"/>
                    </a:lnTo>
                    <a:lnTo>
                      <a:pt x="1282" y="358"/>
                    </a:lnTo>
                    <a:lnTo>
                      <a:pt x="1294" y="362"/>
                    </a:lnTo>
                    <a:lnTo>
                      <a:pt x="1294" y="362"/>
                    </a:lnTo>
                    <a:lnTo>
                      <a:pt x="1298" y="360"/>
                    </a:lnTo>
                    <a:lnTo>
                      <a:pt x="1300" y="360"/>
                    </a:lnTo>
                    <a:lnTo>
                      <a:pt x="1302" y="354"/>
                    </a:lnTo>
                    <a:lnTo>
                      <a:pt x="1302" y="354"/>
                    </a:lnTo>
                    <a:lnTo>
                      <a:pt x="1300" y="354"/>
                    </a:lnTo>
                    <a:lnTo>
                      <a:pt x="1298" y="356"/>
                    </a:lnTo>
                    <a:lnTo>
                      <a:pt x="1294" y="362"/>
                    </a:lnTo>
                    <a:lnTo>
                      <a:pt x="1294" y="362"/>
                    </a:lnTo>
                    <a:lnTo>
                      <a:pt x="890" y="402"/>
                    </a:lnTo>
                    <a:lnTo>
                      <a:pt x="890" y="402"/>
                    </a:lnTo>
                    <a:lnTo>
                      <a:pt x="892" y="408"/>
                    </a:lnTo>
                    <a:lnTo>
                      <a:pt x="894" y="410"/>
                    </a:lnTo>
                    <a:lnTo>
                      <a:pt x="898" y="400"/>
                    </a:lnTo>
                    <a:lnTo>
                      <a:pt x="898" y="400"/>
                    </a:lnTo>
                    <a:lnTo>
                      <a:pt x="894" y="402"/>
                    </a:lnTo>
                    <a:lnTo>
                      <a:pt x="890" y="402"/>
                    </a:lnTo>
                    <a:lnTo>
                      <a:pt x="890" y="402"/>
                    </a:lnTo>
                    <a:lnTo>
                      <a:pt x="1276" y="368"/>
                    </a:lnTo>
                    <a:lnTo>
                      <a:pt x="1276" y="368"/>
                    </a:lnTo>
                    <a:lnTo>
                      <a:pt x="1280" y="368"/>
                    </a:lnTo>
                    <a:lnTo>
                      <a:pt x="1282" y="366"/>
                    </a:lnTo>
                    <a:lnTo>
                      <a:pt x="1282" y="366"/>
                    </a:lnTo>
                    <a:lnTo>
                      <a:pt x="1278" y="366"/>
                    </a:lnTo>
                    <a:lnTo>
                      <a:pt x="1278" y="366"/>
                    </a:lnTo>
                    <a:lnTo>
                      <a:pt x="1276" y="368"/>
                    </a:lnTo>
                    <a:lnTo>
                      <a:pt x="1276" y="368"/>
                    </a:lnTo>
                    <a:lnTo>
                      <a:pt x="720" y="390"/>
                    </a:lnTo>
                    <a:lnTo>
                      <a:pt x="720" y="390"/>
                    </a:lnTo>
                    <a:lnTo>
                      <a:pt x="720" y="398"/>
                    </a:lnTo>
                    <a:lnTo>
                      <a:pt x="722" y="406"/>
                    </a:lnTo>
                    <a:lnTo>
                      <a:pt x="722" y="406"/>
                    </a:lnTo>
                    <a:lnTo>
                      <a:pt x="726" y="404"/>
                    </a:lnTo>
                    <a:lnTo>
                      <a:pt x="730" y="402"/>
                    </a:lnTo>
                    <a:lnTo>
                      <a:pt x="738" y="402"/>
                    </a:lnTo>
                    <a:lnTo>
                      <a:pt x="746" y="402"/>
                    </a:lnTo>
                    <a:lnTo>
                      <a:pt x="750" y="402"/>
                    </a:lnTo>
                    <a:lnTo>
                      <a:pt x="752" y="400"/>
                    </a:lnTo>
                    <a:lnTo>
                      <a:pt x="752" y="400"/>
                    </a:lnTo>
                    <a:lnTo>
                      <a:pt x="752" y="398"/>
                    </a:lnTo>
                    <a:lnTo>
                      <a:pt x="750" y="394"/>
                    </a:lnTo>
                    <a:lnTo>
                      <a:pt x="750" y="386"/>
                    </a:lnTo>
                    <a:lnTo>
                      <a:pt x="748" y="380"/>
                    </a:lnTo>
                    <a:lnTo>
                      <a:pt x="746" y="378"/>
                    </a:lnTo>
                    <a:lnTo>
                      <a:pt x="742" y="378"/>
                    </a:lnTo>
                    <a:lnTo>
                      <a:pt x="742" y="378"/>
                    </a:lnTo>
                    <a:lnTo>
                      <a:pt x="740" y="390"/>
                    </a:lnTo>
                    <a:lnTo>
                      <a:pt x="740" y="398"/>
                    </a:lnTo>
                    <a:lnTo>
                      <a:pt x="742" y="400"/>
                    </a:lnTo>
                    <a:lnTo>
                      <a:pt x="744" y="402"/>
                    </a:lnTo>
                    <a:lnTo>
                      <a:pt x="744" y="402"/>
                    </a:lnTo>
                    <a:lnTo>
                      <a:pt x="738" y="400"/>
                    </a:lnTo>
                    <a:lnTo>
                      <a:pt x="734" y="396"/>
                    </a:lnTo>
                    <a:lnTo>
                      <a:pt x="728" y="392"/>
                    </a:lnTo>
                    <a:lnTo>
                      <a:pt x="724" y="390"/>
                    </a:lnTo>
                    <a:lnTo>
                      <a:pt x="720" y="390"/>
                    </a:lnTo>
                    <a:lnTo>
                      <a:pt x="720" y="390"/>
                    </a:lnTo>
                    <a:lnTo>
                      <a:pt x="748" y="378"/>
                    </a:lnTo>
                    <a:lnTo>
                      <a:pt x="748" y="378"/>
                    </a:lnTo>
                    <a:lnTo>
                      <a:pt x="744" y="370"/>
                    </a:lnTo>
                    <a:lnTo>
                      <a:pt x="744" y="370"/>
                    </a:lnTo>
                    <a:lnTo>
                      <a:pt x="744" y="372"/>
                    </a:lnTo>
                    <a:lnTo>
                      <a:pt x="744" y="376"/>
                    </a:lnTo>
                    <a:lnTo>
                      <a:pt x="744" y="376"/>
                    </a:lnTo>
                    <a:lnTo>
                      <a:pt x="748" y="378"/>
                    </a:lnTo>
                    <a:lnTo>
                      <a:pt x="748" y="378"/>
                    </a:lnTo>
                    <a:lnTo>
                      <a:pt x="874" y="410"/>
                    </a:lnTo>
                    <a:lnTo>
                      <a:pt x="874" y="410"/>
                    </a:lnTo>
                    <a:lnTo>
                      <a:pt x="884" y="412"/>
                    </a:lnTo>
                    <a:lnTo>
                      <a:pt x="884" y="412"/>
                    </a:lnTo>
                    <a:lnTo>
                      <a:pt x="884" y="408"/>
                    </a:lnTo>
                    <a:lnTo>
                      <a:pt x="884" y="404"/>
                    </a:lnTo>
                    <a:lnTo>
                      <a:pt x="878" y="400"/>
                    </a:lnTo>
                    <a:lnTo>
                      <a:pt x="878" y="400"/>
                    </a:lnTo>
                    <a:lnTo>
                      <a:pt x="874" y="404"/>
                    </a:lnTo>
                    <a:lnTo>
                      <a:pt x="874" y="410"/>
                    </a:lnTo>
                    <a:lnTo>
                      <a:pt x="874" y="410"/>
                    </a:lnTo>
                    <a:lnTo>
                      <a:pt x="710" y="382"/>
                    </a:lnTo>
                    <a:lnTo>
                      <a:pt x="710" y="382"/>
                    </a:lnTo>
                    <a:lnTo>
                      <a:pt x="714" y="378"/>
                    </a:lnTo>
                    <a:lnTo>
                      <a:pt x="714" y="374"/>
                    </a:lnTo>
                    <a:lnTo>
                      <a:pt x="710" y="372"/>
                    </a:lnTo>
                    <a:lnTo>
                      <a:pt x="710" y="372"/>
                    </a:lnTo>
                    <a:lnTo>
                      <a:pt x="710" y="378"/>
                    </a:lnTo>
                    <a:lnTo>
                      <a:pt x="710" y="380"/>
                    </a:lnTo>
                    <a:lnTo>
                      <a:pt x="710" y="382"/>
                    </a:lnTo>
                    <a:lnTo>
                      <a:pt x="710" y="382"/>
                    </a:lnTo>
                    <a:lnTo>
                      <a:pt x="676" y="378"/>
                    </a:lnTo>
                    <a:lnTo>
                      <a:pt x="676" y="378"/>
                    </a:lnTo>
                    <a:lnTo>
                      <a:pt x="678" y="376"/>
                    </a:lnTo>
                    <a:lnTo>
                      <a:pt x="678" y="376"/>
                    </a:lnTo>
                    <a:lnTo>
                      <a:pt x="678" y="374"/>
                    </a:lnTo>
                    <a:lnTo>
                      <a:pt x="678" y="374"/>
                    </a:lnTo>
                    <a:lnTo>
                      <a:pt x="674" y="374"/>
                    </a:lnTo>
                    <a:lnTo>
                      <a:pt x="674" y="374"/>
                    </a:lnTo>
                    <a:lnTo>
                      <a:pt x="674" y="378"/>
                    </a:lnTo>
                    <a:lnTo>
                      <a:pt x="676" y="378"/>
                    </a:lnTo>
                    <a:lnTo>
                      <a:pt x="676" y="378"/>
                    </a:lnTo>
                    <a:lnTo>
                      <a:pt x="858" y="404"/>
                    </a:lnTo>
                    <a:lnTo>
                      <a:pt x="858" y="404"/>
                    </a:lnTo>
                    <a:lnTo>
                      <a:pt x="860" y="406"/>
                    </a:lnTo>
                    <a:lnTo>
                      <a:pt x="866" y="406"/>
                    </a:lnTo>
                    <a:lnTo>
                      <a:pt x="870" y="404"/>
                    </a:lnTo>
                    <a:lnTo>
                      <a:pt x="876" y="402"/>
                    </a:lnTo>
                    <a:lnTo>
                      <a:pt x="876" y="402"/>
                    </a:lnTo>
                    <a:lnTo>
                      <a:pt x="868" y="400"/>
                    </a:lnTo>
                    <a:lnTo>
                      <a:pt x="862" y="398"/>
                    </a:lnTo>
                    <a:lnTo>
                      <a:pt x="862" y="398"/>
                    </a:lnTo>
                    <a:lnTo>
                      <a:pt x="860" y="398"/>
                    </a:lnTo>
                    <a:lnTo>
                      <a:pt x="858" y="404"/>
                    </a:lnTo>
                    <a:lnTo>
                      <a:pt x="858" y="404"/>
                    </a:lnTo>
                    <a:lnTo>
                      <a:pt x="1080" y="376"/>
                    </a:lnTo>
                    <a:lnTo>
                      <a:pt x="1080" y="376"/>
                    </a:lnTo>
                    <a:lnTo>
                      <a:pt x="1078" y="384"/>
                    </a:lnTo>
                    <a:lnTo>
                      <a:pt x="1078" y="388"/>
                    </a:lnTo>
                    <a:lnTo>
                      <a:pt x="1080" y="392"/>
                    </a:lnTo>
                    <a:lnTo>
                      <a:pt x="1080" y="392"/>
                    </a:lnTo>
                    <a:lnTo>
                      <a:pt x="1080" y="382"/>
                    </a:lnTo>
                    <a:lnTo>
                      <a:pt x="1082" y="378"/>
                    </a:lnTo>
                    <a:lnTo>
                      <a:pt x="1080" y="376"/>
                    </a:lnTo>
                    <a:lnTo>
                      <a:pt x="1080" y="376"/>
                    </a:lnTo>
                    <a:lnTo>
                      <a:pt x="692" y="382"/>
                    </a:lnTo>
                    <a:lnTo>
                      <a:pt x="692" y="382"/>
                    </a:lnTo>
                    <a:lnTo>
                      <a:pt x="698" y="384"/>
                    </a:lnTo>
                    <a:lnTo>
                      <a:pt x="702" y="382"/>
                    </a:lnTo>
                    <a:lnTo>
                      <a:pt x="702" y="380"/>
                    </a:lnTo>
                    <a:lnTo>
                      <a:pt x="702" y="380"/>
                    </a:lnTo>
                    <a:lnTo>
                      <a:pt x="700" y="378"/>
                    </a:lnTo>
                    <a:lnTo>
                      <a:pt x="698" y="378"/>
                    </a:lnTo>
                    <a:lnTo>
                      <a:pt x="694" y="380"/>
                    </a:lnTo>
                    <a:lnTo>
                      <a:pt x="692" y="382"/>
                    </a:lnTo>
                    <a:lnTo>
                      <a:pt x="692" y="382"/>
                    </a:lnTo>
                    <a:lnTo>
                      <a:pt x="1182" y="436"/>
                    </a:lnTo>
                    <a:lnTo>
                      <a:pt x="1182" y="436"/>
                    </a:lnTo>
                    <a:lnTo>
                      <a:pt x="1186" y="432"/>
                    </a:lnTo>
                    <a:lnTo>
                      <a:pt x="1192" y="428"/>
                    </a:lnTo>
                    <a:lnTo>
                      <a:pt x="1198" y="426"/>
                    </a:lnTo>
                    <a:lnTo>
                      <a:pt x="1202" y="428"/>
                    </a:lnTo>
                    <a:lnTo>
                      <a:pt x="1204" y="430"/>
                    </a:lnTo>
                    <a:lnTo>
                      <a:pt x="1204" y="430"/>
                    </a:lnTo>
                    <a:lnTo>
                      <a:pt x="1214" y="418"/>
                    </a:lnTo>
                    <a:lnTo>
                      <a:pt x="1224" y="408"/>
                    </a:lnTo>
                    <a:lnTo>
                      <a:pt x="1234" y="398"/>
                    </a:lnTo>
                    <a:lnTo>
                      <a:pt x="1240" y="388"/>
                    </a:lnTo>
                    <a:lnTo>
                      <a:pt x="1240" y="388"/>
                    </a:lnTo>
                    <a:lnTo>
                      <a:pt x="1230" y="388"/>
                    </a:lnTo>
                    <a:lnTo>
                      <a:pt x="1220" y="386"/>
                    </a:lnTo>
                    <a:lnTo>
                      <a:pt x="1200" y="380"/>
                    </a:lnTo>
                    <a:lnTo>
                      <a:pt x="1200" y="380"/>
                    </a:lnTo>
                    <a:lnTo>
                      <a:pt x="1190" y="408"/>
                    </a:lnTo>
                    <a:lnTo>
                      <a:pt x="1186" y="422"/>
                    </a:lnTo>
                    <a:lnTo>
                      <a:pt x="1182" y="436"/>
                    </a:lnTo>
                    <a:lnTo>
                      <a:pt x="1182" y="436"/>
                    </a:lnTo>
                    <a:lnTo>
                      <a:pt x="1208" y="438"/>
                    </a:lnTo>
                    <a:lnTo>
                      <a:pt x="1208" y="438"/>
                    </a:lnTo>
                    <a:lnTo>
                      <a:pt x="1212" y="440"/>
                    </a:lnTo>
                    <a:lnTo>
                      <a:pt x="1214" y="440"/>
                    </a:lnTo>
                    <a:lnTo>
                      <a:pt x="1218" y="438"/>
                    </a:lnTo>
                    <a:lnTo>
                      <a:pt x="1226" y="428"/>
                    </a:lnTo>
                    <a:lnTo>
                      <a:pt x="1226" y="428"/>
                    </a:lnTo>
                    <a:lnTo>
                      <a:pt x="1236" y="418"/>
                    </a:lnTo>
                    <a:lnTo>
                      <a:pt x="1244" y="410"/>
                    </a:lnTo>
                    <a:lnTo>
                      <a:pt x="1244" y="410"/>
                    </a:lnTo>
                    <a:lnTo>
                      <a:pt x="1246" y="402"/>
                    </a:lnTo>
                    <a:lnTo>
                      <a:pt x="1252" y="394"/>
                    </a:lnTo>
                    <a:lnTo>
                      <a:pt x="1258" y="388"/>
                    </a:lnTo>
                    <a:lnTo>
                      <a:pt x="1260" y="380"/>
                    </a:lnTo>
                    <a:lnTo>
                      <a:pt x="1260" y="380"/>
                    </a:lnTo>
                    <a:lnTo>
                      <a:pt x="1234" y="410"/>
                    </a:lnTo>
                    <a:lnTo>
                      <a:pt x="1208" y="438"/>
                    </a:lnTo>
                    <a:lnTo>
                      <a:pt x="1208" y="438"/>
                    </a:lnTo>
                    <a:lnTo>
                      <a:pt x="1078" y="404"/>
                    </a:lnTo>
                    <a:lnTo>
                      <a:pt x="1078" y="404"/>
                    </a:lnTo>
                    <a:lnTo>
                      <a:pt x="1058" y="396"/>
                    </a:lnTo>
                    <a:lnTo>
                      <a:pt x="1040" y="386"/>
                    </a:lnTo>
                    <a:lnTo>
                      <a:pt x="1040" y="386"/>
                    </a:lnTo>
                    <a:lnTo>
                      <a:pt x="1048" y="426"/>
                    </a:lnTo>
                    <a:lnTo>
                      <a:pt x="1052" y="448"/>
                    </a:lnTo>
                    <a:lnTo>
                      <a:pt x="1056" y="466"/>
                    </a:lnTo>
                    <a:lnTo>
                      <a:pt x="1056" y="466"/>
                    </a:lnTo>
                    <a:lnTo>
                      <a:pt x="1062" y="452"/>
                    </a:lnTo>
                    <a:lnTo>
                      <a:pt x="1064" y="446"/>
                    </a:lnTo>
                    <a:lnTo>
                      <a:pt x="1062" y="442"/>
                    </a:lnTo>
                    <a:lnTo>
                      <a:pt x="1060" y="440"/>
                    </a:lnTo>
                    <a:lnTo>
                      <a:pt x="1060" y="440"/>
                    </a:lnTo>
                    <a:lnTo>
                      <a:pt x="1062" y="442"/>
                    </a:lnTo>
                    <a:lnTo>
                      <a:pt x="1068" y="442"/>
                    </a:lnTo>
                    <a:lnTo>
                      <a:pt x="1068" y="442"/>
                    </a:lnTo>
                    <a:lnTo>
                      <a:pt x="1074" y="426"/>
                    </a:lnTo>
                    <a:lnTo>
                      <a:pt x="1076" y="416"/>
                    </a:lnTo>
                    <a:lnTo>
                      <a:pt x="1078" y="404"/>
                    </a:lnTo>
                    <a:lnTo>
                      <a:pt x="1078" y="404"/>
                    </a:lnTo>
                    <a:lnTo>
                      <a:pt x="876" y="434"/>
                    </a:lnTo>
                    <a:lnTo>
                      <a:pt x="876" y="434"/>
                    </a:lnTo>
                    <a:lnTo>
                      <a:pt x="886" y="428"/>
                    </a:lnTo>
                    <a:lnTo>
                      <a:pt x="890" y="426"/>
                    </a:lnTo>
                    <a:lnTo>
                      <a:pt x="890" y="424"/>
                    </a:lnTo>
                    <a:lnTo>
                      <a:pt x="888" y="420"/>
                    </a:lnTo>
                    <a:lnTo>
                      <a:pt x="884" y="416"/>
                    </a:lnTo>
                    <a:lnTo>
                      <a:pt x="884" y="416"/>
                    </a:lnTo>
                    <a:lnTo>
                      <a:pt x="878" y="412"/>
                    </a:lnTo>
                    <a:lnTo>
                      <a:pt x="874" y="412"/>
                    </a:lnTo>
                    <a:lnTo>
                      <a:pt x="872" y="412"/>
                    </a:lnTo>
                    <a:lnTo>
                      <a:pt x="870" y="416"/>
                    </a:lnTo>
                    <a:lnTo>
                      <a:pt x="868" y="424"/>
                    </a:lnTo>
                    <a:lnTo>
                      <a:pt x="866" y="430"/>
                    </a:lnTo>
                    <a:lnTo>
                      <a:pt x="866" y="430"/>
                    </a:lnTo>
                    <a:lnTo>
                      <a:pt x="872" y="430"/>
                    </a:lnTo>
                    <a:lnTo>
                      <a:pt x="878" y="432"/>
                    </a:lnTo>
                    <a:lnTo>
                      <a:pt x="878" y="432"/>
                    </a:lnTo>
                    <a:lnTo>
                      <a:pt x="876" y="434"/>
                    </a:lnTo>
                    <a:lnTo>
                      <a:pt x="876" y="434"/>
                    </a:lnTo>
                    <a:lnTo>
                      <a:pt x="836" y="406"/>
                    </a:lnTo>
                    <a:lnTo>
                      <a:pt x="836" y="406"/>
                    </a:lnTo>
                    <a:lnTo>
                      <a:pt x="832" y="404"/>
                    </a:lnTo>
                    <a:lnTo>
                      <a:pt x="832" y="404"/>
                    </a:lnTo>
                    <a:lnTo>
                      <a:pt x="832" y="406"/>
                    </a:lnTo>
                    <a:lnTo>
                      <a:pt x="834" y="408"/>
                    </a:lnTo>
                    <a:lnTo>
                      <a:pt x="836" y="406"/>
                    </a:lnTo>
                    <a:lnTo>
                      <a:pt x="836" y="406"/>
                    </a:lnTo>
                    <a:lnTo>
                      <a:pt x="836" y="406"/>
                    </a:lnTo>
                    <a:lnTo>
                      <a:pt x="812" y="412"/>
                    </a:lnTo>
                    <a:lnTo>
                      <a:pt x="812" y="412"/>
                    </a:lnTo>
                    <a:lnTo>
                      <a:pt x="820" y="410"/>
                    </a:lnTo>
                    <a:lnTo>
                      <a:pt x="824" y="408"/>
                    </a:lnTo>
                    <a:lnTo>
                      <a:pt x="828" y="406"/>
                    </a:lnTo>
                    <a:lnTo>
                      <a:pt x="828" y="406"/>
                    </a:lnTo>
                    <a:lnTo>
                      <a:pt x="824" y="404"/>
                    </a:lnTo>
                    <a:lnTo>
                      <a:pt x="820" y="406"/>
                    </a:lnTo>
                    <a:lnTo>
                      <a:pt x="816" y="408"/>
                    </a:lnTo>
                    <a:lnTo>
                      <a:pt x="812" y="412"/>
                    </a:lnTo>
                    <a:lnTo>
                      <a:pt x="812" y="412"/>
                    </a:lnTo>
                    <a:lnTo>
                      <a:pt x="766" y="432"/>
                    </a:lnTo>
                    <a:lnTo>
                      <a:pt x="766" y="432"/>
                    </a:lnTo>
                    <a:lnTo>
                      <a:pt x="770" y="432"/>
                    </a:lnTo>
                    <a:lnTo>
                      <a:pt x="774" y="430"/>
                    </a:lnTo>
                    <a:lnTo>
                      <a:pt x="778" y="424"/>
                    </a:lnTo>
                    <a:lnTo>
                      <a:pt x="782" y="410"/>
                    </a:lnTo>
                    <a:lnTo>
                      <a:pt x="782" y="410"/>
                    </a:lnTo>
                    <a:lnTo>
                      <a:pt x="764" y="412"/>
                    </a:lnTo>
                    <a:lnTo>
                      <a:pt x="764" y="412"/>
                    </a:lnTo>
                    <a:lnTo>
                      <a:pt x="764" y="420"/>
                    </a:lnTo>
                    <a:lnTo>
                      <a:pt x="766" y="432"/>
                    </a:lnTo>
                    <a:lnTo>
                      <a:pt x="766" y="432"/>
                    </a:lnTo>
                    <a:lnTo>
                      <a:pt x="782" y="426"/>
                    </a:lnTo>
                    <a:lnTo>
                      <a:pt x="782" y="426"/>
                    </a:lnTo>
                    <a:lnTo>
                      <a:pt x="788" y="424"/>
                    </a:lnTo>
                    <a:lnTo>
                      <a:pt x="794" y="424"/>
                    </a:lnTo>
                    <a:lnTo>
                      <a:pt x="800" y="426"/>
                    </a:lnTo>
                    <a:lnTo>
                      <a:pt x="802" y="432"/>
                    </a:lnTo>
                    <a:lnTo>
                      <a:pt x="808" y="444"/>
                    </a:lnTo>
                    <a:lnTo>
                      <a:pt x="812" y="456"/>
                    </a:lnTo>
                    <a:lnTo>
                      <a:pt x="812" y="456"/>
                    </a:lnTo>
                    <a:lnTo>
                      <a:pt x="820" y="454"/>
                    </a:lnTo>
                    <a:lnTo>
                      <a:pt x="824" y="454"/>
                    </a:lnTo>
                    <a:lnTo>
                      <a:pt x="828" y="456"/>
                    </a:lnTo>
                    <a:lnTo>
                      <a:pt x="828" y="456"/>
                    </a:lnTo>
                    <a:lnTo>
                      <a:pt x="834" y="452"/>
                    </a:lnTo>
                    <a:lnTo>
                      <a:pt x="840" y="448"/>
                    </a:lnTo>
                    <a:lnTo>
                      <a:pt x="840" y="444"/>
                    </a:lnTo>
                    <a:lnTo>
                      <a:pt x="840" y="438"/>
                    </a:lnTo>
                    <a:lnTo>
                      <a:pt x="838" y="428"/>
                    </a:lnTo>
                    <a:lnTo>
                      <a:pt x="832" y="416"/>
                    </a:lnTo>
                    <a:lnTo>
                      <a:pt x="832" y="416"/>
                    </a:lnTo>
                    <a:lnTo>
                      <a:pt x="826" y="418"/>
                    </a:lnTo>
                    <a:lnTo>
                      <a:pt x="822" y="420"/>
                    </a:lnTo>
                    <a:lnTo>
                      <a:pt x="820" y="420"/>
                    </a:lnTo>
                    <a:lnTo>
                      <a:pt x="820" y="420"/>
                    </a:lnTo>
                    <a:lnTo>
                      <a:pt x="806" y="422"/>
                    </a:lnTo>
                    <a:lnTo>
                      <a:pt x="806" y="422"/>
                    </a:lnTo>
                    <a:lnTo>
                      <a:pt x="800" y="420"/>
                    </a:lnTo>
                    <a:lnTo>
                      <a:pt x="794" y="418"/>
                    </a:lnTo>
                    <a:lnTo>
                      <a:pt x="790" y="414"/>
                    </a:lnTo>
                    <a:lnTo>
                      <a:pt x="788" y="410"/>
                    </a:lnTo>
                    <a:lnTo>
                      <a:pt x="788" y="410"/>
                    </a:lnTo>
                    <a:lnTo>
                      <a:pt x="782" y="418"/>
                    </a:lnTo>
                    <a:lnTo>
                      <a:pt x="780" y="422"/>
                    </a:lnTo>
                    <a:lnTo>
                      <a:pt x="782" y="426"/>
                    </a:lnTo>
                    <a:lnTo>
                      <a:pt x="782" y="426"/>
                    </a:lnTo>
                    <a:lnTo>
                      <a:pt x="754" y="436"/>
                    </a:lnTo>
                    <a:lnTo>
                      <a:pt x="754" y="436"/>
                    </a:lnTo>
                    <a:lnTo>
                      <a:pt x="758" y="436"/>
                    </a:lnTo>
                    <a:lnTo>
                      <a:pt x="760" y="436"/>
                    </a:lnTo>
                    <a:lnTo>
                      <a:pt x="760" y="434"/>
                    </a:lnTo>
                    <a:lnTo>
                      <a:pt x="760" y="434"/>
                    </a:lnTo>
                    <a:lnTo>
                      <a:pt x="758" y="430"/>
                    </a:lnTo>
                    <a:lnTo>
                      <a:pt x="756" y="424"/>
                    </a:lnTo>
                    <a:lnTo>
                      <a:pt x="756" y="412"/>
                    </a:lnTo>
                    <a:lnTo>
                      <a:pt x="756" y="412"/>
                    </a:lnTo>
                    <a:lnTo>
                      <a:pt x="750" y="414"/>
                    </a:lnTo>
                    <a:lnTo>
                      <a:pt x="748" y="414"/>
                    </a:lnTo>
                    <a:lnTo>
                      <a:pt x="748" y="414"/>
                    </a:lnTo>
                    <a:lnTo>
                      <a:pt x="748" y="420"/>
                    </a:lnTo>
                    <a:lnTo>
                      <a:pt x="748" y="426"/>
                    </a:lnTo>
                    <a:lnTo>
                      <a:pt x="752" y="434"/>
                    </a:lnTo>
                    <a:lnTo>
                      <a:pt x="752" y="434"/>
                    </a:lnTo>
                    <a:lnTo>
                      <a:pt x="754" y="430"/>
                    </a:lnTo>
                    <a:lnTo>
                      <a:pt x="756" y="426"/>
                    </a:lnTo>
                    <a:lnTo>
                      <a:pt x="756" y="426"/>
                    </a:lnTo>
                    <a:lnTo>
                      <a:pt x="756" y="430"/>
                    </a:lnTo>
                    <a:lnTo>
                      <a:pt x="754" y="436"/>
                    </a:lnTo>
                    <a:lnTo>
                      <a:pt x="754" y="436"/>
                    </a:lnTo>
                    <a:lnTo>
                      <a:pt x="700" y="418"/>
                    </a:lnTo>
                    <a:lnTo>
                      <a:pt x="700" y="418"/>
                    </a:lnTo>
                    <a:lnTo>
                      <a:pt x="700" y="420"/>
                    </a:lnTo>
                    <a:lnTo>
                      <a:pt x="702" y="420"/>
                    </a:lnTo>
                    <a:lnTo>
                      <a:pt x="706" y="420"/>
                    </a:lnTo>
                    <a:lnTo>
                      <a:pt x="706" y="420"/>
                    </a:lnTo>
                    <a:lnTo>
                      <a:pt x="706" y="418"/>
                    </a:lnTo>
                    <a:lnTo>
                      <a:pt x="704" y="416"/>
                    </a:lnTo>
                    <a:lnTo>
                      <a:pt x="702" y="416"/>
                    </a:lnTo>
                    <a:lnTo>
                      <a:pt x="700" y="418"/>
                    </a:lnTo>
                    <a:lnTo>
                      <a:pt x="700" y="418"/>
                    </a:lnTo>
                    <a:lnTo>
                      <a:pt x="844" y="440"/>
                    </a:lnTo>
                    <a:lnTo>
                      <a:pt x="844" y="440"/>
                    </a:lnTo>
                    <a:lnTo>
                      <a:pt x="848" y="440"/>
                    </a:lnTo>
                    <a:lnTo>
                      <a:pt x="850" y="436"/>
                    </a:lnTo>
                    <a:lnTo>
                      <a:pt x="850" y="426"/>
                    </a:lnTo>
                    <a:lnTo>
                      <a:pt x="850" y="426"/>
                    </a:lnTo>
                    <a:lnTo>
                      <a:pt x="844" y="422"/>
                    </a:lnTo>
                    <a:lnTo>
                      <a:pt x="836" y="418"/>
                    </a:lnTo>
                    <a:lnTo>
                      <a:pt x="836" y="418"/>
                    </a:lnTo>
                    <a:lnTo>
                      <a:pt x="840" y="430"/>
                    </a:lnTo>
                    <a:lnTo>
                      <a:pt x="844" y="440"/>
                    </a:lnTo>
                    <a:lnTo>
                      <a:pt x="844" y="440"/>
                    </a:lnTo>
                    <a:lnTo>
                      <a:pt x="878" y="446"/>
                    </a:lnTo>
                    <a:lnTo>
                      <a:pt x="878" y="446"/>
                    </a:lnTo>
                    <a:lnTo>
                      <a:pt x="886" y="444"/>
                    </a:lnTo>
                    <a:lnTo>
                      <a:pt x="894" y="444"/>
                    </a:lnTo>
                    <a:lnTo>
                      <a:pt x="894" y="444"/>
                    </a:lnTo>
                    <a:lnTo>
                      <a:pt x="900" y="438"/>
                    </a:lnTo>
                    <a:lnTo>
                      <a:pt x="900" y="438"/>
                    </a:lnTo>
                    <a:lnTo>
                      <a:pt x="898" y="436"/>
                    </a:lnTo>
                    <a:lnTo>
                      <a:pt x="894" y="436"/>
                    </a:lnTo>
                    <a:lnTo>
                      <a:pt x="888" y="436"/>
                    </a:lnTo>
                    <a:lnTo>
                      <a:pt x="888" y="436"/>
                    </a:lnTo>
                    <a:lnTo>
                      <a:pt x="882" y="440"/>
                    </a:lnTo>
                    <a:lnTo>
                      <a:pt x="880" y="442"/>
                    </a:lnTo>
                    <a:lnTo>
                      <a:pt x="878" y="446"/>
                    </a:lnTo>
                    <a:lnTo>
                      <a:pt x="878" y="446"/>
                    </a:lnTo>
                    <a:lnTo>
                      <a:pt x="736" y="454"/>
                    </a:lnTo>
                    <a:lnTo>
                      <a:pt x="736" y="454"/>
                    </a:lnTo>
                    <a:lnTo>
                      <a:pt x="736" y="452"/>
                    </a:lnTo>
                    <a:lnTo>
                      <a:pt x="736" y="450"/>
                    </a:lnTo>
                    <a:lnTo>
                      <a:pt x="734" y="448"/>
                    </a:lnTo>
                    <a:lnTo>
                      <a:pt x="736" y="446"/>
                    </a:lnTo>
                    <a:lnTo>
                      <a:pt x="736" y="446"/>
                    </a:lnTo>
                    <a:lnTo>
                      <a:pt x="738" y="450"/>
                    </a:lnTo>
                    <a:lnTo>
                      <a:pt x="742" y="452"/>
                    </a:lnTo>
                    <a:lnTo>
                      <a:pt x="742" y="452"/>
                    </a:lnTo>
                    <a:lnTo>
                      <a:pt x="740" y="444"/>
                    </a:lnTo>
                    <a:lnTo>
                      <a:pt x="738" y="438"/>
                    </a:lnTo>
                    <a:lnTo>
                      <a:pt x="732" y="432"/>
                    </a:lnTo>
                    <a:lnTo>
                      <a:pt x="726" y="428"/>
                    </a:lnTo>
                    <a:lnTo>
                      <a:pt x="726" y="428"/>
                    </a:lnTo>
                    <a:lnTo>
                      <a:pt x="728" y="444"/>
                    </a:lnTo>
                    <a:lnTo>
                      <a:pt x="730" y="452"/>
                    </a:lnTo>
                    <a:lnTo>
                      <a:pt x="732" y="454"/>
                    </a:lnTo>
                    <a:lnTo>
                      <a:pt x="736" y="454"/>
                    </a:lnTo>
                    <a:lnTo>
                      <a:pt x="736" y="454"/>
                    </a:lnTo>
                    <a:lnTo>
                      <a:pt x="724" y="462"/>
                    </a:lnTo>
                    <a:lnTo>
                      <a:pt x="724" y="462"/>
                    </a:lnTo>
                    <a:lnTo>
                      <a:pt x="730" y="456"/>
                    </a:lnTo>
                    <a:lnTo>
                      <a:pt x="730" y="456"/>
                    </a:lnTo>
                    <a:lnTo>
                      <a:pt x="722" y="450"/>
                    </a:lnTo>
                    <a:lnTo>
                      <a:pt x="716" y="442"/>
                    </a:lnTo>
                    <a:lnTo>
                      <a:pt x="708" y="434"/>
                    </a:lnTo>
                    <a:lnTo>
                      <a:pt x="704" y="432"/>
                    </a:lnTo>
                    <a:lnTo>
                      <a:pt x="700" y="430"/>
                    </a:lnTo>
                    <a:lnTo>
                      <a:pt x="700" y="430"/>
                    </a:lnTo>
                    <a:lnTo>
                      <a:pt x="696" y="434"/>
                    </a:lnTo>
                    <a:lnTo>
                      <a:pt x="696" y="438"/>
                    </a:lnTo>
                    <a:lnTo>
                      <a:pt x="698" y="442"/>
                    </a:lnTo>
                    <a:lnTo>
                      <a:pt x="700" y="446"/>
                    </a:lnTo>
                    <a:lnTo>
                      <a:pt x="708" y="452"/>
                    </a:lnTo>
                    <a:lnTo>
                      <a:pt x="714" y="458"/>
                    </a:lnTo>
                    <a:lnTo>
                      <a:pt x="714" y="458"/>
                    </a:lnTo>
                    <a:lnTo>
                      <a:pt x="710" y="460"/>
                    </a:lnTo>
                    <a:lnTo>
                      <a:pt x="710" y="460"/>
                    </a:lnTo>
                    <a:lnTo>
                      <a:pt x="710" y="466"/>
                    </a:lnTo>
                    <a:lnTo>
                      <a:pt x="714" y="470"/>
                    </a:lnTo>
                    <a:lnTo>
                      <a:pt x="718" y="472"/>
                    </a:lnTo>
                    <a:lnTo>
                      <a:pt x="718" y="472"/>
                    </a:lnTo>
                    <a:lnTo>
                      <a:pt x="722" y="468"/>
                    </a:lnTo>
                    <a:lnTo>
                      <a:pt x="722" y="468"/>
                    </a:lnTo>
                    <a:lnTo>
                      <a:pt x="714" y="452"/>
                    </a:lnTo>
                    <a:lnTo>
                      <a:pt x="714" y="452"/>
                    </a:lnTo>
                    <a:lnTo>
                      <a:pt x="714" y="448"/>
                    </a:lnTo>
                    <a:lnTo>
                      <a:pt x="714" y="446"/>
                    </a:lnTo>
                    <a:lnTo>
                      <a:pt x="716" y="444"/>
                    </a:lnTo>
                    <a:lnTo>
                      <a:pt x="716" y="444"/>
                    </a:lnTo>
                    <a:lnTo>
                      <a:pt x="716" y="450"/>
                    </a:lnTo>
                    <a:lnTo>
                      <a:pt x="718" y="456"/>
                    </a:lnTo>
                    <a:lnTo>
                      <a:pt x="720" y="460"/>
                    </a:lnTo>
                    <a:lnTo>
                      <a:pt x="724" y="462"/>
                    </a:lnTo>
                    <a:lnTo>
                      <a:pt x="724" y="462"/>
                    </a:lnTo>
                    <a:lnTo>
                      <a:pt x="724" y="446"/>
                    </a:lnTo>
                    <a:lnTo>
                      <a:pt x="724" y="446"/>
                    </a:lnTo>
                    <a:lnTo>
                      <a:pt x="724" y="438"/>
                    </a:lnTo>
                    <a:lnTo>
                      <a:pt x="724" y="430"/>
                    </a:lnTo>
                    <a:lnTo>
                      <a:pt x="724" y="430"/>
                    </a:lnTo>
                    <a:lnTo>
                      <a:pt x="720" y="432"/>
                    </a:lnTo>
                    <a:lnTo>
                      <a:pt x="716" y="432"/>
                    </a:lnTo>
                    <a:lnTo>
                      <a:pt x="712" y="432"/>
                    </a:lnTo>
                    <a:lnTo>
                      <a:pt x="710" y="432"/>
                    </a:lnTo>
                    <a:lnTo>
                      <a:pt x="710" y="432"/>
                    </a:lnTo>
                    <a:lnTo>
                      <a:pt x="716" y="436"/>
                    </a:lnTo>
                    <a:lnTo>
                      <a:pt x="718" y="438"/>
                    </a:lnTo>
                    <a:lnTo>
                      <a:pt x="722" y="438"/>
                    </a:lnTo>
                    <a:lnTo>
                      <a:pt x="722" y="438"/>
                    </a:lnTo>
                    <a:lnTo>
                      <a:pt x="720" y="440"/>
                    </a:lnTo>
                    <a:lnTo>
                      <a:pt x="720" y="442"/>
                    </a:lnTo>
                    <a:lnTo>
                      <a:pt x="724" y="446"/>
                    </a:lnTo>
                    <a:lnTo>
                      <a:pt x="724" y="446"/>
                    </a:lnTo>
                    <a:lnTo>
                      <a:pt x="860" y="444"/>
                    </a:lnTo>
                    <a:lnTo>
                      <a:pt x="860" y="444"/>
                    </a:lnTo>
                    <a:lnTo>
                      <a:pt x="866" y="446"/>
                    </a:lnTo>
                    <a:lnTo>
                      <a:pt x="874" y="446"/>
                    </a:lnTo>
                    <a:lnTo>
                      <a:pt x="874" y="446"/>
                    </a:lnTo>
                    <a:lnTo>
                      <a:pt x="876" y="440"/>
                    </a:lnTo>
                    <a:lnTo>
                      <a:pt x="876" y="436"/>
                    </a:lnTo>
                    <a:lnTo>
                      <a:pt x="874" y="434"/>
                    </a:lnTo>
                    <a:lnTo>
                      <a:pt x="874" y="434"/>
                    </a:lnTo>
                    <a:lnTo>
                      <a:pt x="870" y="436"/>
                    </a:lnTo>
                    <a:lnTo>
                      <a:pt x="866" y="438"/>
                    </a:lnTo>
                    <a:lnTo>
                      <a:pt x="862" y="440"/>
                    </a:lnTo>
                    <a:lnTo>
                      <a:pt x="860" y="444"/>
                    </a:lnTo>
                    <a:lnTo>
                      <a:pt x="860" y="444"/>
                    </a:lnTo>
                    <a:lnTo>
                      <a:pt x="600" y="462"/>
                    </a:lnTo>
                    <a:lnTo>
                      <a:pt x="600" y="462"/>
                    </a:lnTo>
                    <a:lnTo>
                      <a:pt x="612" y="464"/>
                    </a:lnTo>
                    <a:lnTo>
                      <a:pt x="620" y="462"/>
                    </a:lnTo>
                    <a:lnTo>
                      <a:pt x="624" y="458"/>
                    </a:lnTo>
                    <a:lnTo>
                      <a:pt x="624" y="454"/>
                    </a:lnTo>
                    <a:lnTo>
                      <a:pt x="622" y="448"/>
                    </a:lnTo>
                    <a:lnTo>
                      <a:pt x="616" y="444"/>
                    </a:lnTo>
                    <a:lnTo>
                      <a:pt x="610" y="440"/>
                    </a:lnTo>
                    <a:lnTo>
                      <a:pt x="600" y="438"/>
                    </a:lnTo>
                    <a:lnTo>
                      <a:pt x="600" y="438"/>
                    </a:lnTo>
                    <a:lnTo>
                      <a:pt x="600" y="462"/>
                    </a:lnTo>
                    <a:lnTo>
                      <a:pt x="600" y="462"/>
                    </a:lnTo>
                    <a:lnTo>
                      <a:pt x="584" y="468"/>
                    </a:lnTo>
                    <a:lnTo>
                      <a:pt x="584" y="468"/>
                    </a:lnTo>
                    <a:lnTo>
                      <a:pt x="586" y="466"/>
                    </a:lnTo>
                    <a:lnTo>
                      <a:pt x="588" y="464"/>
                    </a:lnTo>
                    <a:lnTo>
                      <a:pt x="598" y="462"/>
                    </a:lnTo>
                    <a:lnTo>
                      <a:pt x="598" y="462"/>
                    </a:lnTo>
                    <a:lnTo>
                      <a:pt x="598" y="448"/>
                    </a:lnTo>
                    <a:lnTo>
                      <a:pt x="598" y="448"/>
                    </a:lnTo>
                    <a:lnTo>
                      <a:pt x="594" y="446"/>
                    </a:lnTo>
                    <a:lnTo>
                      <a:pt x="590" y="446"/>
                    </a:lnTo>
                    <a:lnTo>
                      <a:pt x="586" y="448"/>
                    </a:lnTo>
                    <a:lnTo>
                      <a:pt x="582" y="452"/>
                    </a:lnTo>
                    <a:lnTo>
                      <a:pt x="580" y="456"/>
                    </a:lnTo>
                    <a:lnTo>
                      <a:pt x="580" y="460"/>
                    </a:lnTo>
                    <a:lnTo>
                      <a:pt x="580" y="464"/>
                    </a:lnTo>
                    <a:lnTo>
                      <a:pt x="584" y="468"/>
                    </a:lnTo>
                    <a:lnTo>
                      <a:pt x="584" y="468"/>
                    </a:lnTo>
                    <a:lnTo>
                      <a:pt x="598" y="448"/>
                    </a:lnTo>
                    <a:lnTo>
                      <a:pt x="598" y="448"/>
                    </a:lnTo>
                    <a:lnTo>
                      <a:pt x="598" y="440"/>
                    </a:lnTo>
                    <a:lnTo>
                      <a:pt x="598" y="440"/>
                    </a:lnTo>
                    <a:lnTo>
                      <a:pt x="594" y="442"/>
                    </a:lnTo>
                    <a:lnTo>
                      <a:pt x="592" y="444"/>
                    </a:lnTo>
                    <a:lnTo>
                      <a:pt x="592" y="444"/>
                    </a:lnTo>
                    <a:lnTo>
                      <a:pt x="598" y="448"/>
                    </a:lnTo>
                    <a:lnTo>
                      <a:pt x="598" y="448"/>
                    </a:lnTo>
                    <a:lnTo>
                      <a:pt x="1172" y="458"/>
                    </a:lnTo>
                    <a:lnTo>
                      <a:pt x="1172" y="458"/>
                    </a:lnTo>
                    <a:lnTo>
                      <a:pt x="1176" y="454"/>
                    </a:lnTo>
                    <a:lnTo>
                      <a:pt x="1180" y="452"/>
                    </a:lnTo>
                    <a:lnTo>
                      <a:pt x="1180" y="452"/>
                    </a:lnTo>
                    <a:lnTo>
                      <a:pt x="1178" y="450"/>
                    </a:lnTo>
                    <a:lnTo>
                      <a:pt x="1174" y="448"/>
                    </a:lnTo>
                    <a:lnTo>
                      <a:pt x="1174" y="448"/>
                    </a:lnTo>
                    <a:lnTo>
                      <a:pt x="1174" y="450"/>
                    </a:lnTo>
                    <a:lnTo>
                      <a:pt x="1174" y="454"/>
                    </a:lnTo>
                    <a:lnTo>
                      <a:pt x="1172" y="456"/>
                    </a:lnTo>
                    <a:lnTo>
                      <a:pt x="1172" y="458"/>
                    </a:lnTo>
                    <a:lnTo>
                      <a:pt x="1172" y="458"/>
                    </a:lnTo>
                    <a:lnTo>
                      <a:pt x="708" y="464"/>
                    </a:lnTo>
                    <a:lnTo>
                      <a:pt x="708" y="464"/>
                    </a:lnTo>
                    <a:lnTo>
                      <a:pt x="702" y="456"/>
                    </a:lnTo>
                    <a:lnTo>
                      <a:pt x="698" y="452"/>
                    </a:lnTo>
                    <a:lnTo>
                      <a:pt x="692" y="448"/>
                    </a:lnTo>
                    <a:lnTo>
                      <a:pt x="692" y="448"/>
                    </a:lnTo>
                    <a:lnTo>
                      <a:pt x="690" y="454"/>
                    </a:lnTo>
                    <a:lnTo>
                      <a:pt x="686" y="460"/>
                    </a:lnTo>
                    <a:lnTo>
                      <a:pt x="686" y="460"/>
                    </a:lnTo>
                    <a:lnTo>
                      <a:pt x="690" y="458"/>
                    </a:lnTo>
                    <a:lnTo>
                      <a:pt x="694" y="458"/>
                    </a:lnTo>
                    <a:lnTo>
                      <a:pt x="698" y="462"/>
                    </a:lnTo>
                    <a:lnTo>
                      <a:pt x="704" y="464"/>
                    </a:lnTo>
                    <a:lnTo>
                      <a:pt x="708" y="464"/>
                    </a:lnTo>
                    <a:lnTo>
                      <a:pt x="708" y="464"/>
                    </a:lnTo>
                    <a:lnTo>
                      <a:pt x="838" y="474"/>
                    </a:lnTo>
                    <a:lnTo>
                      <a:pt x="838" y="474"/>
                    </a:lnTo>
                    <a:lnTo>
                      <a:pt x="834" y="474"/>
                    </a:lnTo>
                    <a:lnTo>
                      <a:pt x="832" y="474"/>
                    </a:lnTo>
                    <a:lnTo>
                      <a:pt x="832" y="472"/>
                    </a:lnTo>
                    <a:lnTo>
                      <a:pt x="832" y="472"/>
                    </a:lnTo>
                    <a:lnTo>
                      <a:pt x="838" y="470"/>
                    </a:lnTo>
                    <a:lnTo>
                      <a:pt x="844" y="466"/>
                    </a:lnTo>
                    <a:lnTo>
                      <a:pt x="844" y="458"/>
                    </a:lnTo>
                    <a:lnTo>
                      <a:pt x="844" y="450"/>
                    </a:lnTo>
                    <a:lnTo>
                      <a:pt x="844" y="450"/>
                    </a:lnTo>
                    <a:lnTo>
                      <a:pt x="840" y="454"/>
                    </a:lnTo>
                    <a:lnTo>
                      <a:pt x="836" y="456"/>
                    </a:lnTo>
                    <a:lnTo>
                      <a:pt x="832" y="458"/>
                    </a:lnTo>
                    <a:lnTo>
                      <a:pt x="828" y="460"/>
                    </a:lnTo>
                    <a:lnTo>
                      <a:pt x="828" y="460"/>
                    </a:lnTo>
                    <a:lnTo>
                      <a:pt x="828" y="462"/>
                    </a:lnTo>
                    <a:lnTo>
                      <a:pt x="828" y="466"/>
                    </a:lnTo>
                    <a:lnTo>
                      <a:pt x="828" y="474"/>
                    </a:lnTo>
                    <a:lnTo>
                      <a:pt x="828" y="474"/>
                    </a:lnTo>
                    <a:lnTo>
                      <a:pt x="834" y="474"/>
                    </a:lnTo>
                    <a:lnTo>
                      <a:pt x="838" y="476"/>
                    </a:lnTo>
                    <a:lnTo>
                      <a:pt x="838" y="474"/>
                    </a:lnTo>
                    <a:lnTo>
                      <a:pt x="838" y="474"/>
                    </a:lnTo>
                    <a:lnTo>
                      <a:pt x="874" y="456"/>
                    </a:lnTo>
                    <a:lnTo>
                      <a:pt x="874" y="456"/>
                    </a:lnTo>
                    <a:lnTo>
                      <a:pt x="872" y="464"/>
                    </a:lnTo>
                    <a:lnTo>
                      <a:pt x="870" y="470"/>
                    </a:lnTo>
                    <a:lnTo>
                      <a:pt x="870" y="470"/>
                    </a:lnTo>
                    <a:lnTo>
                      <a:pt x="884" y="464"/>
                    </a:lnTo>
                    <a:lnTo>
                      <a:pt x="894" y="454"/>
                    </a:lnTo>
                    <a:lnTo>
                      <a:pt x="894" y="454"/>
                    </a:lnTo>
                    <a:lnTo>
                      <a:pt x="888" y="452"/>
                    </a:lnTo>
                    <a:lnTo>
                      <a:pt x="884" y="452"/>
                    </a:lnTo>
                    <a:lnTo>
                      <a:pt x="874" y="456"/>
                    </a:lnTo>
                    <a:lnTo>
                      <a:pt x="874" y="456"/>
                    </a:lnTo>
                    <a:lnTo>
                      <a:pt x="900" y="480"/>
                    </a:lnTo>
                    <a:lnTo>
                      <a:pt x="900" y="480"/>
                    </a:lnTo>
                    <a:lnTo>
                      <a:pt x="898" y="490"/>
                    </a:lnTo>
                    <a:lnTo>
                      <a:pt x="892" y="498"/>
                    </a:lnTo>
                    <a:lnTo>
                      <a:pt x="888" y="506"/>
                    </a:lnTo>
                    <a:lnTo>
                      <a:pt x="884" y="516"/>
                    </a:lnTo>
                    <a:lnTo>
                      <a:pt x="884" y="516"/>
                    </a:lnTo>
                    <a:lnTo>
                      <a:pt x="888" y="520"/>
                    </a:lnTo>
                    <a:lnTo>
                      <a:pt x="894" y="524"/>
                    </a:lnTo>
                    <a:lnTo>
                      <a:pt x="894" y="524"/>
                    </a:lnTo>
                    <a:lnTo>
                      <a:pt x="900" y="516"/>
                    </a:lnTo>
                    <a:lnTo>
                      <a:pt x="902" y="514"/>
                    </a:lnTo>
                    <a:lnTo>
                      <a:pt x="902" y="508"/>
                    </a:lnTo>
                    <a:lnTo>
                      <a:pt x="902" y="508"/>
                    </a:lnTo>
                    <a:lnTo>
                      <a:pt x="906" y="506"/>
                    </a:lnTo>
                    <a:lnTo>
                      <a:pt x="910" y="506"/>
                    </a:lnTo>
                    <a:lnTo>
                      <a:pt x="910" y="506"/>
                    </a:lnTo>
                    <a:lnTo>
                      <a:pt x="910" y="498"/>
                    </a:lnTo>
                    <a:lnTo>
                      <a:pt x="908" y="490"/>
                    </a:lnTo>
                    <a:lnTo>
                      <a:pt x="906" y="484"/>
                    </a:lnTo>
                    <a:lnTo>
                      <a:pt x="900" y="480"/>
                    </a:lnTo>
                    <a:lnTo>
                      <a:pt x="900" y="480"/>
                    </a:lnTo>
                    <a:lnTo>
                      <a:pt x="904" y="480"/>
                    </a:lnTo>
                    <a:lnTo>
                      <a:pt x="904" y="480"/>
                    </a:lnTo>
                    <a:lnTo>
                      <a:pt x="904" y="476"/>
                    </a:lnTo>
                    <a:lnTo>
                      <a:pt x="906" y="472"/>
                    </a:lnTo>
                    <a:lnTo>
                      <a:pt x="908" y="468"/>
                    </a:lnTo>
                    <a:lnTo>
                      <a:pt x="908" y="462"/>
                    </a:lnTo>
                    <a:lnTo>
                      <a:pt x="908" y="462"/>
                    </a:lnTo>
                    <a:lnTo>
                      <a:pt x="900" y="462"/>
                    </a:lnTo>
                    <a:lnTo>
                      <a:pt x="900" y="462"/>
                    </a:lnTo>
                    <a:lnTo>
                      <a:pt x="902" y="460"/>
                    </a:lnTo>
                    <a:lnTo>
                      <a:pt x="904" y="458"/>
                    </a:lnTo>
                    <a:lnTo>
                      <a:pt x="906" y="456"/>
                    </a:lnTo>
                    <a:lnTo>
                      <a:pt x="906" y="452"/>
                    </a:lnTo>
                    <a:lnTo>
                      <a:pt x="906" y="452"/>
                    </a:lnTo>
                    <a:lnTo>
                      <a:pt x="900" y="454"/>
                    </a:lnTo>
                    <a:lnTo>
                      <a:pt x="894" y="458"/>
                    </a:lnTo>
                    <a:lnTo>
                      <a:pt x="892" y="464"/>
                    </a:lnTo>
                    <a:lnTo>
                      <a:pt x="890" y="470"/>
                    </a:lnTo>
                    <a:lnTo>
                      <a:pt x="890" y="470"/>
                    </a:lnTo>
                    <a:lnTo>
                      <a:pt x="896" y="472"/>
                    </a:lnTo>
                    <a:lnTo>
                      <a:pt x="898" y="474"/>
                    </a:lnTo>
                    <a:lnTo>
                      <a:pt x="904" y="480"/>
                    </a:lnTo>
                    <a:lnTo>
                      <a:pt x="904" y="480"/>
                    </a:lnTo>
                    <a:lnTo>
                      <a:pt x="858" y="458"/>
                    </a:lnTo>
                    <a:lnTo>
                      <a:pt x="858" y="458"/>
                    </a:lnTo>
                    <a:lnTo>
                      <a:pt x="860" y="466"/>
                    </a:lnTo>
                    <a:lnTo>
                      <a:pt x="862" y="470"/>
                    </a:lnTo>
                    <a:lnTo>
                      <a:pt x="866" y="470"/>
                    </a:lnTo>
                    <a:lnTo>
                      <a:pt x="866" y="470"/>
                    </a:lnTo>
                    <a:lnTo>
                      <a:pt x="868" y="458"/>
                    </a:lnTo>
                    <a:lnTo>
                      <a:pt x="868" y="458"/>
                    </a:lnTo>
                    <a:lnTo>
                      <a:pt x="864" y="458"/>
                    </a:lnTo>
                    <a:lnTo>
                      <a:pt x="860" y="456"/>
                    </a:lnTo>
                    <a:lnTo>
                      <a:pt x="858" y="458"/>
                    </a:lnTo>
                    <a:lnTo>
                      <a:pt x="858" y="458"/>
                    </a:lnTo>
                    <a:lnTo>
                      <a:pt x="1062" y="500"/>
                    </a:lnTo>
                    <a:lnTo>
                      <a:pt x="1062" y="500"/>
                    </a:lnTo>
                    <a:lnTo>
                      <a:pt x="1066" y="478"/>
                    </a:lnTo>
                    <a:lnTo>
                      <a:pt x="1066" y="466"/>
                    </a:lnTo>
                    <a:lnTo>
                      <a:pt x="1068" y="456"/>
                    </a:lnTo>
                    <a:lnTo>
                      <a:pt x="1068" y="456"/>
                    </a:lnTo>
                    <a:lnTo>
                      <a:pt x="1064" y="466"/>
                    </a:lnTo>
                    <a:lnTo>
                      <a:pt x="1060" y="478"/>
                    </a:lnTo>
                    <a:lnTo>
                      <a:pt x="1060" y="490"/>
                    </a:lnTo>
                    <a:lnTo>
                      <a:pt x="1060" y="494"/>
                    </a:lnTo>
                    <a:lnTo>
                      <a:pt x="1062" y="500"/>
                    </a:lnTo>
                    <a:lnTo>
                      <a:pt x="1062" y="500"/>
                    </a:lnTo>
                    <a:lnTo>
                      <a:pt x="1158" y="482"/>
                    </a:lnTo>
                    <a:lnTo>
                      <a:pt x="1158" y="482"/>
                    </a:lnTo>
                    <a:lnTo>
                      <a:pt x="1156" y="494"/>
                    </a:lnTo>
                    <a:lnTo>
                      <a:pt x="1152" y="504"/>
                    </a:lnTo>
                    <a:lnTo>
                      <a:pt x="1150" y="514"/>
                    </a:lnTo>
                    <a:lnTo>
                      <a:pt x="1148" y="522"/>
                    </a:lnTo>
                    <a:lnTo>
                      <a:pt x="1148" y="522"/>
                    </a:lnTo>
                    <a:lnTo>
                      <a:pt x="1158" y="510"/>
                    </a:lnTo>
                    <a:lnTo>
                      <a:pt x="1170" y="498"/>
                    </a:lnTo>
                    <a:lnTo>
                      <a:pt x="1170" y="498"/>
                    </a:lnTo>
                    <a:lnTo>
                      <a:pt x="1178" y="488"/>
                    </a:lnTo>
                    <a:lnTo>
                      <a:pt x="1186" y="478"/>
                    </a:lnTo>
                    <a:lnTo>
                      <a:pt x="1188" y="474"/>
                    </a:lnTo>
                    <a:lnTo>
                      <a:pt x="1190" y="468"/>
                    </a:lnTo>
                    <a:lnTo>
                      <a:pt x="1190" y="464"/>
                    </a:lnTo>
                    <a:lnTo>
                      <a:pt x="1188" y="458"/>
                    </a:lnTo>
                    <a:lnTo>
                      <a:pt x="1188" y="458"/>
                    </a:lnTo>
                    <a:lnTo>
                      <a:pt x="1174" y="472"/>
                    </a:lnTo>
                    <a:lnTo>
                      <a:pt x="1158" y="482"/>
                    </a:lnTo>
                    <a:lnTo>
                      <a:pt x="1158" y="482"/>
                    </a:lnTo>
                    <a:lnTo>
                      <a:pt x="734" y="472"/>
                    </a:lnTo>
                    <a:lnTo>
                      <a:pt x="734" y="472"/>
                    </a:lnTo>
                    <a:lnTo>
                      <a:pt x="742" y="480"/>
                    </a:lnTo>
                    <a:lnTo>
                      <a:pt x="752" y="484"/>
                    </a:lnTo>
                    <a:lnTo>
                      <a:pt x="752" y="484"/>
                    </a:lnTo>
                    <a:lnTo>
                      <a:pt x="752" y="480"/>
                    </a:lnTo>
                    <a:lnTo>
                      <a:pt x="750" y="480"/>
                    </a:lnTo>
                    <a:lnTo>
                      <a:pt x="746" y="478"/>
                    </a:lnTo>
                    <a:lnTo>
                      <a:pt x="744" y="476"/>
                    </a:lnTo>
                    <a:lnTo>
                      <a:pt x="744" y="476"/>
                    </a:lnTo>
                    <a:lnTo>
                      <a:pt x="748" y="478"/>
                    </a:lnTo>
                    <a:lnTo>
                      <a:pt x="748" y="478"/>
                    </a:lnTo>
                    <a:lnTo>
                      <a:pt x="746" y="470"/>
                    </a:lnTo>
                    <a:lnTo>
                      <a:pt x="742" y="466"/>
                    </a:lnTo>
                    <a:lnTo>
                      <a:pt x="740" y="464"/>
                    </a:lnTo>
                    <a:lnTo>
                      <a:pt x="740" y="464"/>
                    </a:lnTo>
                    <a:lnTo>
                      <a:pt x="736" y="468"/>
                    </a:lnTo>
                    <a:lnTo>
                      <a:pt x="734" y="470"/>
                    </a:lnTo>
                    <a:lnTo>
                      <a:pt x="734" y="472"/>
                    </a:lnTo>
                    <a:lnTo>
                      <a:pt x="734" y="472"/>
                    </a:lnTo>
                    <a:lnTo>
                      <a:pt x="770" y="482"/>
                    </a:lnTo>
                    <a:lnTo>
                      <a:pt x="770" y="482"/>
                    </a:lnTo>
                    <a:lnTo>
                      <a:pt x="770" y="474"/>
                    </a:lnTo>
                    <a:lnTo>
                      <a:pt x="766" y="470"/>
                    </a:lnTo>
                    <a:lnTo>
                      <a:pt x="762" y="466"/>
                    </a:lnTo>
                    <a:lnTo>
                      <a:pt x="756" y="466"/>
                    </a:lnTo>
                    <a:lnTo>
                      <a:pt x="756" y="466"/>
                    </a:lnTo>
                    <a:lnTo>
                      <a:pt x="762" y="476"/>
                    </a:lnTo>
                    <a:lnTo>
                      <a:pt x="766" y="480"/>
                    </a:lnTo>
                    <a:lnTo>
                      <a:pt x="770" y="482"/>
                    </a:lnTo>
                    <a:lnTo>
                      <a:pt x="770" y="482"/>
                    </a:lnTo>
                    <a:lnTo>
                      <a:pt x="1048" y="480"/>
                    </a:lnTo>
                    <a:lnTo>
                      <a:pt x="1048" y="480"/>
                    </a:lnTo>
                    <a:lnTo>
                      <a:pt x="1046" y="474"/>
                    </a:lnTo>
                    <a:lnTo>
                      <a:pt x="1046" y="466"/>
                    </a:lnTo>
                    <a:lnTo>
                      <a:pt x="1046" y="466"/>
                    </a:lnTo>
                    <a:lnTo>
                      <a:pt x="1044" y="468"/>
                    </a:lnTo>
                    <a:lnTo>
                      <a:pt x="1042" y="470"/>
                    </a:lnTo>
                    <a:lnTo>
                      <a:pt x="1040" y="476"/>
                    </a:lnTo>
                    <a:lnTo>
                      <a:pt x="1040" y="476"/>
                    </a:lnTo>
                    <a:lnTo>
                      <a:pt x="1044" y="480"/>
                    </a:lnTo>
                    <a:lnTo>
                      <a:pt x="1046" y="480"/>
                    </a:lnTo>
                    <a:lnTo>
                      <a:pt x="1048" y="480"/>
                    </a:lnTo>
                    <a:lnTo>
                      <a:pt x="1048" y="480"/>
                    </a:lnTo>
                    <a:lnTo>
                      <a:pt x="726" y="478"/>
                    </a:lnTo>
                    <a:lnTo>
                      <a:pt x="726" y="478"/>
                    </a:lnTo>
                    <a:lnTo>
                      <a:pt x="724" y="480"/>
                    </a:lnTo>
                    <a:lnTo>
                      <a:pt x="724" y="482"/>
                    </a:lnTo>
                    <a:lnTo>
                      <a:pt x="724" y="482"/>
                    </a:lnTo>
                    <a:lnTo>
                      <a:pt x="724" y="482"/>
                    </a:lnTo>
                    <a:lnTo>
                      <a:pt x="726" y="484"/>
                    </a:lnTo>
                    <a:lnTo>
                      <a:pt x="728" y="482"/>
                    </a:lnTo>
                    <a:lnTo>
                      <a:pt x="728" y="482"/>
                    </a:lnTo>
                    <a:lnTo>
                      <a:pt x="728" y="480"/>
                    </a:lnTo>
                    <a:lnTo>
                      <a:pt x="726" y="478"/>
                    </a:lnTo>
                    <a:lnTo>
                      <a:pt x="726" y="478"/>
                    </a:lnTo>
                    <a:lnTo>
                      <a:pt x="726" y="478"/>
                    </a:lnTo>
                    <a:lnTo>
                      <a:pt x="734" y="494"/>
                    </a:lnTo>
                    <a:lnTo>
                      <a:pt x="734" y="494"/>
                    </a:lnTo>
                    <a:lnTo>
                      <a:pt x="732" y="488"/>
                    </a:lnTo>
                    <a:lnTo>
                      <a:pt x="728" y="484"/>
                    </a:lnTo>
                    <a:lnTo>
                      <a:pt x="728" y="484"/>
                    </a:lnTo>
                    <a:lnTo>
                      <a:pt x="726" y="484"/>
                    </a:lnTo>
                    <a:lnTo>
                      <a:pt x="726" y="484"/>
                    </a:lnTo>
                    <a:lnTo>
                      <a:pt x="730" y="490"/>
                    </a:lnTo>
                    <a:lnTo>
                      <a:pt x="732" y="492"/>
                    </a:lnTo>
                    <a:lnTo>
                      <a:pt x="734" y="494"/>
                    </a:lnTo>
                    <a:lnTo>
                      <a:pt x="734" y="494"/>
                    </a:lnTo>
                    <a:lnTo>
                      <a:pt x="756" y="490"/>
                    </a:lnTo>
                    <a:lnTo>
                      <a:pt x="756" y="490"/>
                    </a:lnTo>
                    <a:lnTo>
                      <a:pt x="750" y="486"/>
                    </a:lnTo>
                    <a:lnTo>
                      <a:pt x="744" y="482"/>
                    </a:lnTo>
                    <a:lnTo>
                      <a:pt x="738" y="480"/>
                    </a:lnTo>
                    <a:lnTo>
                      <a:pt x="730" y="474"/>
                    </a:lnTo>
                    <a:lnTo>
                      <a:pt x="730" y="474"/>
                    </a:lnTo>
                    <a:lnTo>
                      <a:pt x="730" y="478"/>
                    </a:lnTo>
                    <a:lnTo>
                      <a:pt x="730" y="482"/>
                    </a:lnTo>
                    <a:lnTo>
                      <a:pt x="732" y="488"/>
                    </a:lnTo>
                    <a:lnTo>
                      <a:pt x="736" y="496"/>
                    </a:lnTo>
                    <a:lnTo>
                      <a:pt x="740" y="504"/>
                    </a:lnTo>
                    <a:lnTo>
                      <a:pt x="740" y="504"/>
                    </a:lnTo>
                    <a:lnTo>
                      <a:pt x="746" y="504"/>
                    </a:lnTo>
                    <a:lnTo>
                      <a:pt x="750" y="508"/>
                    </a:lnTo>
                    <a:lnTo>
                      <a:pt x="754" y="512"/>
                    </a:lnTo>
                    <a:lnTo>
                      <a:pt x="758" y="512"/>
                    </a:lnTo>
                    <a:lnTo>
                      <a:pt x="758" y="512"/>
                    </a:lnTo>
                    <a:lnTo>
                      <a:pt x="756" y="512"/>
                    </a:lnTo>
                    <a:lnTo>
                      <a:pt x="756" y="510"/>
                    </a:lnTo>
                    <a:lnTo>
                      <a:pt x="756" y="504"/>
                    </a:lnTo>
                    <a:lnTo>
                      <a:pt x="756" y="498"/>
                    </a:lnTo>
                    <a:lnTo>
                      <a:pt x="756" y="490"/>
                    </a:lnTo>
                    <a:lnTo>
                      <a:pt x="756" y="490"/>
                    </a:lnTo>
                    <a:lnTo>
                      <a:pt x="838" y="478"/>
                    </a:lnTo>
                    <a:lnTo>
                      <a:pt x="838" y="478"/>
                    </a:lnTo>
                    <a:lnTo>
                      <a:pt x="834" y="476"/>
                    </a:lnTo>
                    <a:lnTo>
                      <a:pt x="828" y="476"/>
                    </a:lnTo>
                    <a:lnTo>
                      <a:pt x="828" y="476"/>
                    </a:lnTo>
                    <a:lnTo>
                      <a:pt x="830" y="478"/>
                    </a:lnTo>
                    <a:lnTo>
                      <a:pt x="832" y="480"/>
                    </a:lnTo>
                    <a:lnTo>
                      <a:pt x="836" y="480"/>
                    </a:lnTo>
                    <a:lnTo>
                      <a:pt x="838" y="478"/>
                    </a:lnTo>
                    <a:lnTo>
                      <a:pt x="838" y="478"/>
                    </a:lnTo>
                    <a:lnTo>
                      <a:pt x="770" y="598"/>
                    </a:lnTo>
                    <a:lnTo>
                      <a:pt x="770" y="598"/>
                    </a:lnTo>
                    <a:lnTo>
                      <a:pt x="768" y="586"/>
                    </a:lnTo>
                    <a:lnTo>
                      <a:pt x="762" y="576"/>
                    </a:lnTo>
                    <a:lnTo>
                      <a:pt x="754" y="566"/>
                    </a:lnTo>
                    <a:lnTo>
                      <a:pt x="746" y="560"/>
                    </a:lnTo>
                    <a:lnTo>
                      <a:pt x="746" y="560"/>
                    </a:lnTo>
                    <a:lnTo>
                      <a:pt x="752" y="558"/>
                    </a:lnTo>
                    <a:lnTo>
                      <a:pt x="756" y="558"/>
                    </a:lnTo>
                    <a:lnTo>
                      <a:pt x="756" y="554"/>
                    </a:lnTo>
                    <a:lnTo>
                      <a:pt x="756" y="554"/>
                    </a:lnTo>
                    <a:lnTo>
                      <a:pt x="746" y="556"/>
                    </a:lnTo>
                    <a:lnTo>
                      <a:pt x="736" y="558"/>
                    </a:lnTo>
                    <a:lnTo>
                      <a:pt x="736" y="558"/>
                    </a:lnTo>
                    <a:lnTo>
                      <a:pt x="740" y="560"/>
                    </a:lnTo>
                    <a:lnTo>
                      <a:pt x="742" y="560"/>
                    </a:lnTo>
                    <a:lnTo>
                      <a:pt x="740" y="562"/>
                    </a:lnTo>
                    <a:lnTo>
                      <a:pt x="740" y="562"/>
                    </a:lnTo>
                    <a:lnTo>
                      <a:pt x="732" y="558"/>
                    </a:lnTo>
                    <a:lnTo>
                      <a:pt x="722" y="558"/>
                    </a:lnTo>
                    <a:lnTo>
                      <a:pt x="722" y="558"/>
                    </a:lnTo>
                    <a:lnTo>
                      <a:pt x="720" y="564"/>
                    </a:lnTo>
                    <a:lnTo>
                      <a:pt x="716" y="572"/>
                    </a:lnTo>
                    <a:lnTo>
                      <a:pt x="716" y="572"/>
                    </a:lnTo>
                    <a:lnTo>
                      <a:pt x="718" y="574"/>
                    </a:lnTo>
                    <a:lnTo>
                      <a:pt x="720" y="576"/>
                    </a:lnTo>
                    <a:lnTo>
                      <a:pt x="724" y="578"/>
                    </a:lnTo>
                    <a:lnTo>
                      <a:pt x="726" y="578"/>
                    </a:lnTo>
                    <a:lnTo>
                      <a:pt x="726" y="578"/>
                    </a:lnTo>
                    <a:lnTo>
                      <a:pt x="726" y="572"/>
                    </a:lnTo>
                    <a:lnTo>
                      <a:pt x="726" y="568"/>
                    </a:lnTo>
                    <a:lnTo>
                      <a:pt x="724" y="562"/>
                    </a:lnTo>
                    <a:lnTo>
                      <a:pt x="728" y="560"/>
                    </a:lnTo>
                    <a:lnTo>
                      <a:pt x="728" y="560"/>
                    </a:lnTo>
                    <a:lnTo>
                      <a:pt x="738" y="566"/>
                    </a:lnTo>
                    <a:lnTo>
                      <a:pt x="740" y="570"/>
                    </a:lnTo>
                    <a:lnTo>
                      <a:pt x="742" y="576"/>
                    </a:lnTo>
                    <a:lnTo>
                      <a:pt x="742" y="576"/>
                    </a:lnTo>
                    <a:lnTo>
                      <a:pt x="740" y="580"/>
                    </a:lnTo>
                    <a:lnTo>
                      <a:pt x="736" y="582"/>
                    </a:lnTo>
                    <a:lnTo>
                      <a:pt x="724" y="584"/>
                    </a:lnTo>
                    <a:lnTo>
                      <a:pt x="724" y="584"/>
                    </a:lnTo>
                    <a:lnTo>
                      <a:pt x="726" y="588"/>
                    </a:lnTo>
                    <a:lnTo>
                      <a:pt x="730" y="592"/>
                    </a:lnTo>
                    <a:lnTo>
                      <a:pt x="736" y="598"/>
                    </a:lnTo>
                    <a:lnTo>
                      <a:pt x="736" y="598"/>
                    </a:lnTo>
                    <a:lnTo>
                      <a:pt x="742" y="598"/>
                    </a:lnTo>
                    <a:lnTo>
                      <a:pt x="746" y="598"/>
                    </a:lnTo>
                    <a:lnTo>
                      <a:pt x="752" y="600"/>
                    </a:lnTo>
                    <a:lnTo>
                      <a:pt x="756" y="604"/>
                    </a:lnTo>
                    <a:lnTo>
                      <a:pt x="758" y="608"/>
                    </a:lnTo>
                    <a:lnTo>
                      <a:pt x="760" y="612"/>
                    </a:lnTo>
                    <a:lnTo>
                      <a:pt x="760" y="618"/>
                    </a:lnTo>
                    <a:lnTo>
                      <a:pt x="758" y="622"/>
                    </a:lnTo>
                    <a:lnTo>
                      <a:pt x="758" y="622"/>
                    </a:lnTo>
                    <a:lnTo>
                      <a:pt x="760" y="624"/>
                    </a:lnTo>
                    <a:lnTo>
                      <a:pt x="760" y="628"/>
                    </a:lnTo>
                    <a:lnTo>
                      <a:pt x="760" y="628"/>
                    </a:lnTo>
                    <a:lnTo>
                      <a:pt x="768" y="620"/>
                    </a:lnTo>
                    <a:lnTo>
                      <a:pt x="774" y="614"/>
                    </a:lnTo>
                    <a:lnTo>
                      <a:pt x="774" y="614"/>
                    </a:lnTo>
                    <a:lnTo>
                      <a:pt x="766" y="606"/>
                    </a:lnTo>
                    <a:lnTo>
                      <a:pt x="758" y="598"/>
                    </a:lnTo>
                    <a:lnTo>
                      <a:pt x="752" y="588"/>
                    </a:lnTo>
                    <a:lnTo>
                      <a:pt x="744" y="582"/>
                    </a:lnTo>
                    <a:lnTo>
                      <a:pt x="744" y="582"/>
                    </a:lnTo>
                    <a:lnTo>
                      <a:pt x="756" y="592"/>
                    </a:lnTo>
                    <a:lnTo>
                      <a:pt x="764" y="596"/>
                    </a:lnTo>
                    <a:lnTo>
                      <a:pt x="770" y="598"/>
                    </a:lnTo>
                    <a:lnTo>
                      <a:pt x="770" y="598"/>
                    </a:lnTo>
                    <a:lnTo>
                      <a:pt x="722" y="558"/>
                    </a:lnTo>
                    <a:lnTo>
                      <a:pt x="722" y="558"/>
                    </a:lnTo>
                    <a:lnTo>
                      <a:pt x="718" y="556"/>
                    </a:lnTo>
                    <a:lnTo>
                      <a:pt x="716" y="556"/>
                    </a:lnTo>
                    <a:lnTo>
                      <a:pt x="716" y="554"/>
                    </a:lnTo>
                    <a:lnTo>
                      <a:pt x="716" y="554"/>
                    </a:lnTo>
                    <a:lnTo>
                      <a:pt x="718" y="548"/>
                    </a:lnTo>
                    <a:lnTo>
                      <a:pt x="720" y="540"/>
                    </a:lnTo>
                    <a:lnTo>
                      <a:pt x="722" y="526"/>
                    </a:lnTo>
                    <a:lnTo>
                      <a:pt x="722" y="518"/>
                    </a:lnTo>
                    <a:lnTo>
                      <a:pt x="724" y="512"/>
                    </a:lnTo>
                    <a:lnTo>
                      <a:pt x="728" y="506"/>
                    </a:lnTo>
                    <a:lnTo>
                      <a:pt x="734" y="504"/>
                    </a:lnTo>
                    <a:lnTo>
                      <a:pt x="734" y="504"/>
                    </a:lnTo>
                    <a:lnTo>
                      <a:pt x="728" y="492"/>
                    </a:lnTo>
                    <a:lnTo>
                      <a:pt x="720" y="482"/>
                    </a:lnTo>
                    <a:lnTo>
                      <a:pt x="720" y="482"/>
                    </a:lnTo>
                    <a:lnTo>
                      <a:pt x="716" y="484"/>
                    </a:lnTo>
                    <a:lnTo>
                      <a:pt x="714" y="486"/>
                    </a:lnTo>
                    <a:lnTo>
                      <a:pt x="708" y="482"/>
                    </a:lnTo>
                    <a:lnTo>
                      <a:pt x="702" y="478"/>
                    </a:lnTo>
                    <a:lnTo>
                      <a:pt x="698" y="478"/>
                    </a:lnTo>
                    <a:lnTo>
                      <a:pt x="698" y="478"/>
                    </a:lnTo>
                    <a:lnTo>
                      <a:pt x="698" y="480"/>
                    </a:lnTo>
                    <a:lnTo>
                      <a:pt x="702" y="484"/>
                    </a:lnTo>
                    <a:lnTo>
                      <a:pt x="704" y="486"/>
                    </a:lnTo>
                    <a:lnTo>
                      <a:pt x="706" y="490"/>
                    </a:lnTo>
                    <a:lnTo>
                      <a:pt x="706" y="490"/>
                    </a:lnTo>
                    <a:lnTo>
                      <a:pt x="700" y="488"/>
                    </a:lnTo>
                    <a:lnTo>
                      <a:pt x="694" y="490"/>
                    </a:lnTo>
                    <a:lnTo>
                      <a:pt x="688" y="490"/>
                    </a:lnTo>
                    <a:lnTo>
                      <a:pt x="684" y="488"/>
                    </a:lnTo>
                    <a:lnTo>
                      <a:pt x="684" y="488"/>
                    </a:lnTo>
                    <a:lnTo>
                      <a:pt x="694" y="488"/>
                    </a:lnTo>
                    <a:lnTo>
                      <a:pt x="698" y="488"/>
                    </a:lnTo>
                    <a:lnTo>
                      <a:pt x="702" y="486"/>
                    </a:lnTo>
                    <a:lnTo>
                      <a:pt x="702" y="486"/>
                    </a:lnTo>
                    <a:lnTo>
                      <a:pt x="696" y="482"/>
                    </a:lnTo>
                    <a:lnTo>
                      <a:pt x="688" y="480"/>
                    </a:lnTo>
                    <a:lnTo>
                      <a:pt x="680" y="478"/>
                    </a:lnTo>
                    <a:lnTo>
                      <a:pt x="670" y="478"/>
                    </a:lnTo>
                    <a:lnTo>
                      <a:pt x="662" y="480"/>
                    </a:lnTo>
                    <a:lnTo>
                      <a:pt x="654" y="484"/>
                    </a:lnTo>
                    <a:lnTo>
                      <a:pt x="646" y="488"/>
                    </a:lnTo>
                    <a:lnTo>
                      <a:pt x="640" y="492"/>
                    </a:lnTo>
                    <a:lnTo>
                      <a:pt x="640" y="492"/>
                    </a:lnTo>
                    <a:lnTo>
                      <a:pt x="640" y="508"/>
                    </a:lnTo>
                    <a:lnTo>
                      <a:pt x="642" y="522"/>
                    </a:lnTo>
                    <a:lnTo>
                      <a:pt x="642" y="522"/>
                    </a:lnTo>
                    <a:lnTo>
                      <a:pt x="648" y="522"/>
                    </a:lnTo>
                    <a:lnTo>
                      <a:pt x="658" y="522"/>
                    </a:lnTo>
                    <a:lnTo>
                      <a:pt x="658" y="522"/>
                    </a:lnTo>
                    <a:lnTo>
                      <a:pt x="654" y="526"/>
                    </a:lnTo>
                    <a:lnTo>
                      <a:pt x="652" y="530"/>
                    </a:lnTo>
                    <a:lnTo>
                      <a:pt x="652" y="532"/>
                    </a:lnTo>
                    <a:lnTo>
                      <a:pt x="652" y="532"/>
                    </a:lnTo>
                    <a:lnTo>
                      <a:pt x="670" y="530"/>
                    </a:lnTo>
                    <a:lnTo>
                      <a:pt x="684" y="524"/>
                    </a:lnTo>
                    <a:lnTo>
                      <a:pt x="684" y="524"/>
                    </a:lnTo>
                    <a:lnTo>
                      <a:pt x="678" y="514"/>
                    </a:lnTo>
                    <a:lnTo>
                      <a:pt x="676" y="508"/>
                    </a:lnTo>
                    <a:lnTo>
                      <a:pt x="674" y="504"/>
                    </a:lnTo>
                    <a:lnTo>
                      <a:pt x="674" y="504"/>
                    </a:lnTo>
                    <a:lnTo>
                      <a:pt x="678" y="508"/>
                    </a:lnTo>
                    <a:lnTo>
                      <a:pt x="682" y="514"/>
                    </a:lnTo>
                    <a:lnTo>
                      <a:pt x="688" y="524"/>
                    </a:lnTo>
                    <a:lnTo>
                      <a:pt x="688" y="524"/>
                    </a:lnTo>
                    <a:lnTo>
                      <a:pt x="696" y="522"/>
                    </a:lnTo>
                    <a:lnTo>
                      <a:pt x="700" y="522"/>
                    </a:lnTo>
                    <a:lnTo>
                      <a:pt x="704" y="522"/>
                    </a:lnTo>
                    <a:lnTo>
                      <a:pt x="704" y="522"/>
                    </a:lnTo>
                    <a:lnTo>
                      <a:pt x="702" y="526"/>
                    </a:lnTo>
                    <a:lnTo>
                      <a:pt x="700" y="530"/>
                    </a:lnTo>
                    <a:lnTo>
                      <a:pt x="696" y="532"/>
                    </a:lnTo>
                    <a:lnTo>
                      <a:pt x="694" y="536"/>
                    </a:lnTo>
                    <a:lnTo>
                      <a:pt x="694" y="536"/>
                    </a:lnTo>
                    <a:lnTo>
                      <a:pt x="700" y="544"/>
                    </a:lnTo>
                    <a:lnTo>
                      <a:pt x="704" y="554"/>
                    </a:lnTo>
                    <a:lnTo>
                      <a:pt x="708" y="562"/>
                    </a:lnTo>
                    <a:lnTo>
                      <a:pt x="716" y="570"/>
                    </a:lnTo>
                    <a:lnTo>
                      <a:pt x="716" y="570"/>
                    </a:lnTo>
                    <a:lnTo>
                      <a:pt x="718" y="564"/>
                    </a:lnTo>
                    <a:lnTo>
                      <a:pt x="722" y="558"/>
                    </a:lnTo>
                    <a:lnTo>
                      <a:pt x="722" y="558"/>
                    </a:lnTo>
                    <a:lnTo>
                      <a:pt x="762" y="492"/>
                    </a:lnTo>
                    <a:lnTo>
                      <a:pt x="762" y="492"/>
                    </a:lnTo>
                    <a:lnTo>
                      <a:pt x="764" y="490"/>
                    </a:lnTo>
                    <a:lnTo>
                      <a:pt x="764" y="486"/>
                    </a:lnTo>
                    <a:lnTo>
                      <a:pt x="764" y="486"/>
                    </a:lnTo>
                    <a:lnTo>
                      <a:pt x="760" y="482"/>
                    </a:lnTo>
                    <a:lnTo>
                      <a:pt x="756" y="478"/>
                    </a:lnTo>
                    <a:lnTo>
                      <a:pt x="756" y="478"/>
                    </a:lnTo>
                    <a:lnTo>
                      <a:pt x="758" y="486"/>
                    </a:lnTo>
                    <a:lnTo>
                      <a:pt x="762" y="492"/>
                    </a:lnTo>
                    <a:lnTo>
                      <a:pt x="762" y="492"/>
                    </a:lnTo>
                    <a:lnTo>
                      <a:pt x="824" y="486"/>
                    </a:lnTo>
                    <a:lnTo>
                      <a:pt x="824" y="486"/>
                    </a:lnTo>
                    <a:lnTo>
                      <a:pt x="820" y="482"/>
                    </a:lnTo>
                    <a:lnTo>
                      <a:pt x="812" y="480"/>
                    </a:lnTo>
                    <a:lnTo>
                      <a:pt x="812" y="480"/>
                    </a:lnTo>
                    <a:lnTo>
                      <a:pt x="814" y="484"/>
                    </a:lnTo>
                    <a:lnTo>
                      <a:pt x="818" y="486"/>
                    </a:lnTo>
                    <a:lnTo>
                      <a:pt x="824" y="486"/>
                    </a:lnTo>
                    <a:lnTo>
                      <a:pt x="824" y="486"/>
                    </a:lnTo>
                    <a:lnTo>
                      <a:pt x="594" y="490"/>
                    </a:lnTo>
                    <a:lnTo>
                      <a:pt x="594" y="490"/>
                    </a:lnTo>
                    <a:lnTo>
                      <a:pt x="594" y="488"/>
                    </a:lnTo>
                    <a:lnTo>
                      <a:pt x="596" y="484"/>
                    </a:lnTo>
                    <a:lnTo>
                      <a:pt x="596" y="484"/>
                    </a:lnTo>
                    <a:lnTo>
                      <a:pt x="590" y="482"/>
                    </a:lnTo>
                    <a:lnTo>
                      <a:pt x="590" y="482"/>
                    </a:lnTo>
                    <a:lnTo>
                      <a:pt x="592" y="488"/>
                    </a:lnTo>
                    <a:lnTo>
                      <a:pt x="594" y="490"/>
                    </a:lnTo>
                    <a:lnTo>
                      <a:pt x="594" y="490"/>
                    </a:lnTo>
                    <a:lnTo>
                      <a:pt x="580" y="490"/>
                    </a:lnTo>
                    <a:lnTo>
                      <a:pt x="580" y="490"/>
                    </a:lnTo>
                    <a:lnTo>
                      <a:pt x="586" y="502"/>
                    </a:lnTo>
                    <a:lnTo>
                      <a:pt x="594" y="510"/>
                    </a:lnTo>
                    <a:lnTo>
                      <a:pt x="594" y="510"/>
                    </a:lnTo>
                    <a:lnTo>
                      <a:pt x="594" y="502"/>
                    </a:lnTo>
                    <a:lnTo>
                      <a:pt x="592" y="494"/>
                    </a:lnTo>
                    <a:lnTo>
                      <a:pt x="590" y="488"/>
                    </a:lnTo>
                    <a:lnTo>
                      <a:pt x="586" y="484"/>
                    </a:lnTo>
                    <a:lnTo>
                      <a:pt x="586" y="484"/>
                    </a:lnTo>
                    <a:lnTo>
                      <a:pt x="582" y="488"/>
                    </a:lnTo>
                    <a:lnTo>
                      <a:pt x="580" y="488"/>
                    </a:lnTo>
                    <a:lnTo>
                      <a:pt x="580" y="490"/>
                    </a:lnTo>
                    <a:lnTo>
                      <a:pt x="580" y="490"/>
                    </a:lnTo>
                    <a:lnTo>
                      <a:pt x="784" y="492"/>
                    </a:lnTo>
                    <a:lnTo>
                      <a:pt x="784" y="492"/>
                    </a:lnTo>
                    <a:lnTo>
                      <a:pt x="788" y="492"/>
                    </a:lnTo>
                    <a:lnTo>
                      <a:pt x="790" y="490"/>
                    </a:lnTo>
                    <a:lnTo>
                      <a:pt x="790" y="490"/>
                    </a:lnTo>
                    <a:lnTo>
                      <a:pt x="786" y="486"/>
                    </a:lnTo>
                    <a:lnTo>
                      <a:pt x="782" y="486"/>
                    </a:lnTo>
                    <a:lnTo>
                      <a:pt x="782" y="486"/>
                    </a:lnTo>
                    <a:lnTo>
                      <a:pt x="782" y="486"/>
                    </a:lnTo>
                    <a:lnTo>
                      <a:pt x="782" y="488"/>
                    </a:lnTo>
                    <a:lnTo>
                      <a:pt x="784" y="492"/>
                    </a:lnTo>
                    <a:lnTo>
                      <a:pt x="784" y="492"/>
                    </a:lnTo>
                    <a:lnTo>
                      <a:pt x="606" y="512"/>
                    </a:lnTo>
                    <a:lnTo>
                      <a:pt x="606" y="512"/>
                    </a:lnTo>
                    <a:lnTo>
                      <a:pt x="604" y="500"/>
                    </a:lnTo>
                    <a:lnTo>
                      <a:pt x="602" y="496"/>
                    </a:lnTo>
                    <a:lnTo>
                      <a:pt x="600" y="492"/>
                    </a:lnTo>
                    <a:lnTo>
                      <a:pt x="600" y="492"/>
                    </a:lnTo>
                    <a:lnTo>
                      <a:pt x="598" y="498"/>
                    </a:lnTo>
                    <a:lnTo>
                      <a:pt x="598" y="504"/>
                    </a:lnTo>
                    <a:lnTo>
                      <a:pt x="602" y="508"/>
                    </a:lnTo>
                    <a:lnTo>
                      <a:pt x="606" y="512"/>
                    </a:lnTo>
                    <a:lnTo>
                      <a:pt x="606" y="512"/>
                    </a:lnTo>
                    <a:lnTo>
                      <a:pt x="770" y="518"/>
                    </a:lnTo>
                    <a:lnTo>
                      <a:pt x="770" y="518"/>
                    </a:lnTo>
                    <a:lnTo>
                      <a:pt x="768" y="510"/>
                    </a:lnTo>
                    <a:lnTo>
                      <a:pt x="764" y="504"/>
                    </a:lnTo>
                    <a:lnTo>
                      <a:pt x="756" y="494"/>
                    </a:lnTo>
                    <a:lnTo>
                      <a:pt x="756" y="494"/>
                    </a:lnTo>
                    <a:lnTo>
                      <a:pt x="760" y="508"/>
                    </a:lnTo>
                    <a:lnTo>
                      <a:pt x="764" y="514"/>
                    </a:lnTo>
                    <a:lnTo>
                      <a:pt x="766" y="516"/>
                    </a:lnTo>
                    <a:lnTo>
                      <a:pt x="770" y="518"/>
                    </a:lnTo>
                    <a:lnTo>
                      <a:pt x="770" y="518"/>
                    </a:lnTo>
                    <a:lnTo>
                      <a:pt x="848" y="498"/>
                    </a:lnTo>
                    <a:lnTo>
                      <a:pt x="848" y="498"/>
                    </a:lnTo>
                    <a:lnTo>
                      <a:pt x="850" y="502"/>
                    </a:lnTo>
                    <a:lnTo>
                      <a:pt x="858" y="504"/>
                    </a:lnTo>
                    <a:lnTo>
                      <a:pt x="858" y="504"/>
                    </a:lnTo>
                    <a:lnTo>
                      <a:pt x="858" y="498"/>
                    </a:lnTo>
                    <a:lnTo>
                      <a:pt x="858" y="494"/>
                    </a:lnTo>
                    <a:lnTo>
                      <a:pt x="856" y="494"/>
                    </a:lnTo>
                    <a:lnTo>
                      <a:pt x="856" y="494"/>
                    </a:lnTo>
                    <a:lnTo>
                      <a:pt x="852" y="496"/>
                    </a:lnTo>
                    <a:lnTo>
                      <a:pt x="848" y="498"/>
                    </a:lnTo>
                    <a:lnTo>
                      <a:pt x="848" y="498"/>
                    </a:lnTo>
                    <a:lnTo>
                      <a:pt x="868" y="500"/>
                    </a:lnTo>
                    <a:lnTo>
                      <a:pt x="868" y="500"/>
                    </a:lnTo>
                    <a:lnTo>
                      <a:pt x="868" y="496"/>
                    </a:lnTo>
                    <a:lnTo>
                      <a:pt x="868" y="494"/>
                    </a:lnTo>
                    <a:lnTo>
                      <a:pt x="866" y="494"/>
                    </a:lnTo>
                    <a:lnTo>
                      <a:pt x="866" y="494"/>
                    </a:lnTo>
                    <a:lnTo>
                      <a:pt x="866" y="498"/>
                    </a:lnTo>
                    <a:lnTo>
                      <a:pt x="868" y="500"/>
                    </a:lnTo>
                    <a:lnTo>
                      <a:pt x="868" y="500"/>
                    </a:lnTo>
                    <a:lnTo>
                      <a:pt x="632" y="504"/>
                    </a:lnTo>
                    <a:lnTo>
                      <a:pt x="632" y="504"/>
                    </a:lnTo>
                    <a:lnTo>
                      <a:pt x="634" y="504"/>
                    </a:lnTo>
                    <a:lnTo>
                      <a:pt x="636" y="506"/>
                    </a:lnTo>
                    <a:lnTo>
                      <a:pt x="636" y="506"/>
                    </a:lnTo>
                    <a:lnTo>
                      <a:pt x="634" y="506"/>
                    </a:lnTo>
                    <a:lnTo>
                      <a:pt x="632" y="506"/>
                    </a:lnTo>
                    <a:lnTo>
                      <a:pt x="632" y="506"/>
                    </a:lnTo>
                    <a:lnTo>
                      <a:pt x="632" y="510"/>
                    </a:lnTo>
                    <a:lnTo>
                      <a:pt x="632" y="514"/>
                    </a:lnTo>
                    <a:lnTo>
                      <a:pt x="634" y="518"/>
                    </a:lnTo>
                    <a:lnTo>
                      <a:pt x="638" y="520"/>
                    </a:lnTo>
                    <a:lnTo>
                      <a:pt x="638" y="520"/>
                    </a:lnTo>
                    <a:lnTo>
                      <a:pt x="638" y="508"/>
                    </a:lnTo>
                    <a:lnTo>
                      <a:pt x="636" y="496"/>
                    </a:lnTo>
                    <a:lnTo>
                      <a:pt x="636" y="496"/>
                    </a:lnTo>
                    <a:lnTo>
                      <a:pt x="636" y="498"/>
                    </a:lnTo>
                    <a:lnTo>
                      <a:pt x="634" y="500"/>
                    </a:lnTo>
                    <a:lnTo>
                      <a:pt x="632" y="502"/>
                    </a:lnTo>
                    <a:lnTo>
                      <a:pt x="632" y="504"/>
                    </a:lnTo>
                    <a:lnTo>
                      <a:pt x="632" y="504"/>
                    </a:lnTo>
                    <a:lnTo>
                      <a:pt x="832" y="516"/>
                    </a:lnTo>
                    <a:lnTo>
                      <a:pt x="832" y="516"/>
                    </a:lnTo>
                    <a:lnTo>
                      <a:pt x="836" y="516"/>
                    </a:lnTo>
                    <a:lnTo>
                      <a:pt x="838" y="512"/>
                    </a:lnTo>
                    <a:lnTo>
                      <a:pt x="838" y="508"/>
                    </a:lnTo>
                    <a:lnTo>
                      <a:pt x="836" y="506"/>
                    </a:lnTo>
                    <a:lnTo>
                      <a:pt x="836" y="506"/>
                    </a:lnTo>
                    <a:lnTo>
                      <a:pt x="832" y="510"/>
                    </a:lnTo>
                    <a:lnTo>
                      <a:pt x="832" y="516"/>
                    </a:lnTo>
                    <a:lnTo>
                      <a:pt x="832" y="516"/>
                    </a:lnTo>
                    <a:lnTo>
                      <a:pt x="842" y="514"/>
                    </a:lnTo>
                    <a:lnTo>
                      <a:pt x="842" y="514"/>
                    </a:lnTo>
                    <a:lnTo>
                      <a:pt x="846" y="514"/>
                    </a:lnTo>
                    <a:lnTo>
                      <a:pt x="848" y="514"/>
                    </a:lnTo>
                    <a:lnTo>
                      <a:pt x="854" y="520"/>
                    </a:lnTo>
                    <a:lnTo>
                      <a:pt x="854" y="520"/>
                    </a:lnTo>
                    <a:lnTo>
                      <a:pt x="856" y="512"/>
                    </a:lnTo>
                    <a:lnTo>
                      <a:pt x="856" y="512"/>
                    </a:lnTo>
                    <a:lnTo>
                      <a:pt x="850" y="508"/>
                    </a:lnTo>
                    <a:lnTo>
                      <a:pt x="844" y="506"/>
                    </a:lnTo>
                    <a:lnTo>
                      <a:pt x="844" y="506"/>
                    </a:lnTo>
                    <a:lnTo>
                      <a:pt x="842" y="510"/>
                    </a:lnTo>
                    <a:lnTo>
                      <a:pt x="842" y="514"/>
                    </a:lnTo>
                    <a:lnTo>
                      <a:pt x="842" y="514"/>
                    </a:lnTo>
                    <a:lnTo>
                      <a:pt x="870" y="524"/>
                    </a:lnTo>
                    <a:lnTo>
                      <a:pt x="870" y="524"/>
                    </a:lnTo>
                    <a:lnTo>
                      <a:pt x="872" y="520"/>
                    </a:lnTo>
                    <a:lnTo>
                      <a:pt x="872" y="518"/>
                    </a:lnTo>
                    <a:lnTo>
                      <a:pt x="872" y="518"/>
                    </a:lnTo>
                    <a:lnTo>
                      <a:pt x="868" y="516"/>
                    </a:lnTo>
                    <a:lnTo>
                      <a:pt x="868" y="516"/>
                    </a:lnTo>
                    <a:lnTo>
                      <a:pt x="868" y="520"/>
                    </a:lnTo>
                    <a:lnTo>
                      <a:pt x="868" y="522"/>
                    </a:lnTo>
                    <a:lnTo>
                      <a:pt x="870" y="524"/>
                    </a:lnTo>
                    <a:lnTo>
                      <a:pt x="870" y="524"/>
                    </a:lnTo>
                    <a:lnTo>
                      <a:pt x="858" y="530"/>
                    </a:lnTo>
                    <a:lnTo>
                      <a:pt x="858" y="530"/>
                    </a:lnTo>
                    <a:lnTo>
                      <a:pt x="860" y="530"/>
                    </a:lnTo>
                    <a:lnTo>
                      <a:pt x="860" y="528"/>
                    </a:lnTo>
                    <a:lnTo>
                      <a:pt x="860" y="524"/>
                    </a:lnTo>
                    <a:lnTo>
                      <a:pt x="860" y="522"/>
                    </a:lnTo>
                    <a:lnTo>
                      <a:pt x="860" y="522"/>
                    </a:lnTo>
                    <a:lnTo>
                      <a:pt x="858" y="528"/>
                    </a:lnTo>
                    <a:lnTo>
                      <a:pt x="858" y="530"/>
                    </a:lnTo>
                    <a:lnTo>
                      <a:pt x="858" y="530"/>
                    </a:lnTo>
                    <a:lnTo>
                      <a:pt x="858" y="530"/>
                    </a:lnTo>
                    <a:lnTo>
                      <a:pt x="838" y="532"/>
                    </a:lnTo>
                    <a:lnTo>
                      <a:pt x="838" y="532"/>
                    </a:lnTo>
                    <a:lnTo>
                      <a:pt x="836" y="540"/>
                    </a:lnTo>
                    <a:lnTo>
                      <a:pt x="834" y="546"/>
                    </a:lnTo>
                    <a:lnTo>
                      <a:pt x="832" y="552"/>
                    </a:lnTo>
                    <a:lnTo>
                      <a:pt x="830" y="556"/>
                    </a:lnTo>
                    <a:lnTo>
                      <a:pt x="830" y="556"/>
                    </a:lnTo>
                    <a:lnTo>
                      <a:pt x="830" y="566"/>
                    </a:lnTo>
                    <a:lnTo>
                      <a:pt x="832" y="572"/>
                    </a:lnTo>
                    <a:lnTo>
                      <a:pt x="832" y="572"/>
                    </a:lnTo>
                    <a:lnTo>
                      <a:pt x="840" y="572"/>
                    </a:lnTo>
                    <a:lnTo>
                      <a:pt x="840" y="572"/>
                    </a:lnTo>
                    <a:lnTo>
                      <a:pt x="844" y="558"/>
                    </a:lnTo>
                    <a:lnTo>
                      <a:pt x="846" y="552"/>
                    </a:lnTo>
                    <a:lnTo>
                      <a:pt x="844" y="544"/>
                    </a:lnTo>
                    <a:lnTo>
                      <a:pt x="844" y="544"/>
                    </a:lnTo>
                    <a:lnTo>
                      <a:pt x="846" y="544"/>
                    </a:lnTo>
                    <a:lnTo>
                      <a:pt x="848" y="542"/>
                    </a:lnTo>
                    <a:lnTo>
                      <a:pt x="850" y="538"/>
                    </a:lnTo>
                    <a:lnTo>
                      <a:pt x="850" y="528"/>
                    </a:lnTo>
                    <a:lnTo>
                      <a:pt x="850" y="528"/>
                    </a:lnTo>
                    <a:lnTo>
                      <a:pt x="846" y="532"/>
                    </a:lnTo>
                    <a:lnTo>
                      <a:pt x="838" y="532"/>
                    </a:lnTo>
                    <a:lnTo>
                      <a:pt x="838" y="532"/>
                    </a:lnTo>
                    <a:lnTo>
                      <a:pt x="894" y="532"/>
                    </a:lnTo>
                    <a:lnTo>
                      <a:pt x="894" y="532"/>
                    </a:lnTo>
                    <a:lnTo>
                      <a:pt x="886" y="544"/>
                    </a:lnTo>
                    <a:lnTo>
                      <a:pt x="884" y="548"/>
                    </a:lnTo>
                    <a:lnTo>
                      <a:pt x="882" y="556"/>
                    </a:lnTo>
                    <a:lnTo>
                      <a:pt x="882" y="556"/>
                    </a:lnTo>
                    <a:lnTo>
                      <a:pt x="890" y="558"/>
                    </a:lnTo>
                    <a:lnTo>
                      <a:pt x="896" y="564"/>
                    </a:lnTo>
                    <a:lnTo>
                      <a:pt x="904" y="576"/>
                    </a:lnTo>
                    <a:lnTo>
                      <a:pt x="904" y="576"/>
                    </a:lnTo>
                    <a:lnTo>
                      <a:pt x="908" y="566"/>
                    </a:lnTo>
                    <a:lnTo>
                      <a:pt x="910" y="556"/>
                    </a:lnTo>
                    <a:lnTo>
                      <a:pt x="912" y="532"/>
                    </a:lnTo>
                    <a:lnTo>
                      <a:pt x="912" y="532"/>
                    </a:lnTo>
                    <a:lnTo>
                      <a:pt x="904" y="532"/>
                    </a:lnTo>
                    <a:lnTo>
                      <a:pt x="894" y="532"/>
                    </a:lnTo>
                    <a:lnTo>
                      <a:pt x="894" y="532"/>
                    </a:lnTo>
                    <a:lnTo>
                      <a:pt x="856" y="534"/>
                    </a:lnTo>
                    <a:lnTo>
                      <a:pt x="856" y="534"/>
                    </a:lnTo>
                    <a:lnTo>
                      <a:pt x="850" y="554"/>
                    </a:lnTo>
                    <a:lnTo>
                      <a:pt x="848" y="564"/>
                    </a:lnTo>
                    <a:lnTo>
                      <a:pt x="846" y="574"/>
                    </a:lnTo>
                    <a:lnTo>
                      <a:pt x="846" y="574"/>
                    </a:lnTo>
                    <a:lnTo>
                      <a:pt x="852" y="574"/>
                    </a:lnTo>
                    <a:lnTo>
                      <a:pt x="858" y="570"/>
                    </a:lnTo>
                    <a:lnTo>
                      <a:pt x="862" y="566"/>
                    </a:lnTo>
                    <a:lnTo>
                      <a:pt x="864" y="560"/>
                    </a:lnTo>
                    <a:lnTo>
                      <a:pt x="864" y="552"/>
                    </a:lnTo>
                    <a:lnTo>
                      <a:pt x="864" y="546"/>
                    </a:lnTo>
                    <a:lnTo>
                      <a:pt x="862" y="540"/>
                    </a:lnTo>
                    <a:lnTo>
                      <a:pt x="860" y="534"/>
                    </a:lnTo>
                    <a:lnTo>
                      <a:pt x="860" y="534"/>
                    </a:lnTo>
                    <a:lnTo>
                      <a:pt x="856" y="534"/>
                    </a:lnTo>
                    <a:lnTo>
                      <a:pt x="856" y="534"/>
                    </a:lnTo>
                    <a:lnTo>
                      <a:pt x="874" y="552"/>
                    </a:lnTo>
                    <a:lnTo>
                      <a:pt x="874" y="552"/>
                    </a:lnTo>
                    <a:lnTo>
                      <a:pt x="876" y="548"/>
                    </a:lnTo>
                    <a:lnTo>
                      <a:pt x="880" y="546"/>
                    </a:lnTo>
                    <a:lnTo>
                      <a:pt x="884" y="542"/>
                    </a:lnTo>
                    <a:lnTo>
                      <a:pt x="884" y="536"/>
                    </a:lnTo>
                    <a:lnTo>
                      <a:pt x="884" y="536"/>
                    </a:lnTo>
                    <a:lnTo>
                      <a:pt x="882" y="534"/>
                    </a:lnTo>
                    <a:lnTo>
                      <a:pt x="878" y="534"/>
                    </a:lnTo>
                    <a:lnTo>
                      <a:pt x="870" y="534"/>
                    </a:lnTo>
                    <a:lnTo>
                      <a:pt x="870" y="534"/>
                    </a:lnTo>
                    <a:lnTo>
                      <a:pt x="870" y="544"/>
                    </a:lnTo>
                    <a:lnTo>
                      <a:pt x="874" y="552"/>
                    </a:lnTo>
                    <a:lnTo>
                      <a:pt x="874" y="552"/>
                    </a:lnTo>
                    <a:lnTo>
                      <a:pt x="828" y="552"/>
                    </a:lnTo>
                    <a:lnTo>
                      <a:pt x="828" y="552"/>
                    </a:lnTo>
                    <a:lnTo>
                      <a:pt x="830" y="544"/>
                    </a:lnTo>
                    <a:lnTo>
                      <a:pt x="832" y="536"/>
                    </a:lnTo>
                    <a:lnTo>
                      <a:pt x="832" y="536"/>
                    </a:lnTo>
                    <a:lnTo>
                      <a:pt x="828" y="536"/>
                    </a:lnTo>
                    <a:lnTo>
                      <a:pt x="826" y="536"/>
                    </a:lnTo>
                    <a:lnTo>
                      <a:pt x="824" y="542"/>
                    </a:lnTo>
                    <a:lnTo>
                      <a:pt x="826" y="548"/>
                    </a:lnTo>
                    <a:lnTo>
                      <a:pt x="828" y="552"/>
                    </a:lnTo>
                    <a:lnTo>
                      <a:pt x="828" y="552"/>
                    </a:lnTo>
                    <a:lnTo>
                      <a:pt x="700" y="554"/>
                    </a:lnTo>
                    <a:lnTo>
                      <a:pt x="700" y="554"/>
                    </a:lnTo>
                    <a:lnTo>
                      <a:pt x="696" y="544"/>
                    </a:lnTo>
                    <a:lnTo>
                      <a:pt x="694" y="540"/>
                    </a:lnTo>
                    <a:lnTo>
                      <a:pt x="692" y="536"/>
                    </a:lnTo>
                    <a:lnTo>
                      <a:pt x="692" y="536"/>
                    </a:lnTo>
                    <a:lnTo>
                      <a:pt x="686" y="540"/>
                    </a:lnTo>
                    <a:lnTo>
                      <a:pt x="682" y="542"/>
                    </a:lnTo>
                    <a:lnTo>
                      <a:pt x="668" y="542"/>
                    </a:lnTo>
                    <a:lnTo>
                      <a:pt x="654" y="540"/>
                    </a:lnTo>
                    <a:lnTo>
                      <a:pt x="648" y="538"/>
                    </a:lnTo>
                    <a:lnTo>
                      <a:pt x="642" y="540"/>
                    </a:lnTo>
                    <a:lnTo>
                      <a:pt x="642" y="540"/>
                    </a:lnTo>
                    <a:lnTo>
                      <a:pt x="642" y="546"/>
                    </a:lnTo>
                    <a:lnTo>
                      <a:pt x="644" y="548"/>
                    </a:lnTo>
                    <a:lnTo>
                      <a:pt x="646" y="552"/>
                    </a:lnTo>
                    <a:lnTo>
                      <a:pt x="648" y="556"/>
                    </a:lnTo>
                    <a:lnTo>
                      <a:pt x="648" y="556"/>
                    </a:lnTo>
                    <a:lnTo>
                      <a:pt x="654" y="556"/>
                    </a:lnTo>
                    <a:lnTo>
                      <a:pt x="656" y="558"/>
                    </a:lnTo>
                    <a:lnTo>
                      <a:pt x="662" y="564"/>
                    </a:lnTo>
                    <a:lnTo>
                      <a:pt x="666" y="572"/>
                    </a:lnTo>
                    <a:lnTo>
                      <a:pt x="670" y="578"/>
                    </a:lnTo>
                    <a:lnTo>
                      <a:pt x="670" y="578"/>
                    </a:lnTo>
                    <a:lnTo>
                      <a:pt x="674" y="578"/>
                    </a:lnTo>
                    <a:lnTo>
                      <a:pt x="678" y="576"/>
                    </a:lnTo>
                    <a:lnTo>
                      <a:pt x="680" y="572"/>
                    </a:lnTo>
                    <a:lnTo>
                      <a:pt x="684" y="568"/>
                    </a:lnTo>
                    <a:lnTo>
                      <a:pt x="690" y="550"/>
                    </a:lnTo>
                    <a:lnTo>
                      <a:pt x="690" y="550"/>
                    </a:lnTo>
                    <a:lnTo>
                      <a:pt x="694" y="550"/>
                    </a:lnTo>
                    <a:lnTo>
                      <a:pt x="696" y="552"/>
                    </a:lnTo>
                    <a:lnTo>
                      <a:pt x="698" y="554"/>
                    </a:lnTo>
                    <a:lnTo>
                      <a:pt x="700" y="554"/>
                    </a:lnTo>
                    <a:lnTo>
                      <a:pt x="700" y="554"/>
                    </a:lnTo>
                    <a:lnTo>
                      <a:pt x="608" y="568"/>
                    </a:lnTo>
                    <a:lnTo>
                      <a:pt x="608" y="568"/>
                    </a:lnTo>
                    <a:lnTo>
                      <a:pt x="606" y="568"/>
                    </a:lnTo>
                    <a:lnTo>
                      <a:pt x="604" y="568"/>
                    </a:lnTo>
                    <a:lnTo>
                      <a:pt x="600" y="566"/>
                    </a:lnTo>
                    <a:lnTo>
                      <a:pt x="598" y="568"/>
                    </a:lnTo>
                    <a:lnTo>
                      <a:pt x="598" y="568"/>
                    </a:lnTo>
                    <a:lnTo>
                      <a:pt x="600" y="570"/>
                    </a:lnTo>
                    <a:lnTo>
                      <a:pt x="604" y="572"/>
                    </a:lnTo>
                    <a:lnTo>
                      <a:pt x="608" y="570"/>
                    </a:lnTo>
                    <a:lnTo>
                      <a:pt x="608" y="568"/>
                    </a:lnTo>
                    <a:lnTo>
                      <a:pt x="608" y="568"/>
                    </a:lnTo>
                    <a:lnTo>
                      <a:pt x="778" y="570"/>
                    </a:lnTo>
                    <a:lnTo>
                      <a:pt x="778" y="570"/>
                    </a:lnTo>
                    <a:lnTo>
                      <a:pt x="780" y="572"/>
                    </a:lnTo>
                    <a:lnTo>
                      <a:pt x="782" y="576"/>
                    </a:lnTo>
                    <a:lnTo>
                      <a:pt x="784" y="580"/>
                    </a:lnTo>
                    <a:lnTo>
                      <a:pt x="788" y="582"/>
                    </a:lnTo>
                    <a:lnTo>
                      <a:pt x="788" y="582"/>
                    </a:lnTo>
                    <a:lnTo>
                      <a:pt x="786" y="566"/>
                    </a:lnTo>
                    <a:lnTo>
                      <a:pt x="786" y="566"/>
                    </a:lnTo>
                    <a:lnTo>
                      <a:pt x="782" y="568"/>
                    </a:lnTo>
                    <a:lnTo>
                      <a:pt x="778" y="570"/>
                    </a:lnTo>
                    <a:lnTo>
                      <a:pt x="778" y="570"/>
                    </a:lnTo>
                    <a:lnTo>
                      <a:pt x="798" y="572"/>
                    </a:lnTo>
                    <a:lnTo>
                      <a:pt x="798" y="572"/>
                    </a:lnTo>
                    <a:lnTo>
                      <a:pt x="798" y="570"/>
                    </a:lnTo>
                    <a:lnTo>
                      <a:pt x="798" y="570"/>
                    </a:lnTo>
                    <a:lnTo>
                      <a:pt x="800" y="568"/>
                    </a:lnTo>
                    <a:lnTo>
                      <a:pt x="800" y="568"/>
                    </a:lnTo>
                    <a:lnTo>
                      <a:pt x="796" y="568"/>
                    </a:lnTo>
                    <a:lnTo>
                      <a:pt x="794" y="566"/>
                    </a:lnTo>
                    <a:lnTo>
                      <a:pt x="794" y="568"/>
                    </a:lnTo>
                    <a:lnTo>
                      <a:pt x="794" y="568"/>
                    </a:lnTo>
                    <a:lnTo>
                      <a:pt x="794" y="570"/>
                    </a:lnTo>
                    <a:lnTo>
                      <a:pt x="796" y="570"/>
                    </a:lnTo>
                    <a:lnTo>
                      <a:pt x="796" y="572"/>
                    </a:lnTo>
                    <a:lnTo>
                      <a:pt x="798" y="572"/>
                    </a:lnTo>
                    <a:lnTo>
                      <a:pt x="798" y="572"/>
                    </a:lnTo>
                    <a:lnTo>
                      <a:pt x="800" y="582"/>
                    </a:lnTo>
                    <a:lnTo>
                      <a:pt x="800" y="582"/>
                    </a:lnTo>
                    <a:lnTo>
                      <a:pt x="806" y="580"/>
                    </a:lnTo>
                    <a:lnTo>
                      <a:pt x="814" y="580"/>
                    </a:lnTo>
                    <a:lnTo>
                      <a:pt x="814" y="580"/>
                    </a:lnTo>
                    <a:lnTo>
                      <a:pt x="814" y="576"/>
                    </a:lnTo>
                    <a:lnTo>
                      <a:pt x="812" y="572"/>
                    </a:lnTo>
                    <a:lnTo>
                      <a:pt x="810" y="570"/>
                    </a:lnTo>
                    <a:lnTo>
                      <a:pt x="808" y="570"/>
                    </a:lnTo>
                    <a:lnTo>
                      <a:pt x="802" y="574"/>
                    </a:lnTo>
                    <a:lnTo>
                      <a:pt x="800" y="582"/>
                    </a:lnTo>
                    <a:lnTo>
                      <a:pt x="800" y="582"/>
                    </a:lnTo>
                    <a:lnTo>
                      <a:pt x="858" y="574"/>
                    </a:lnTo>
                    <a:lnTo>
                      <a:pt x="858" y="574"/>
                    </a:lnTo>
                    <a:lnTo>
                      <a:pt x="862" y="574"/>
                    </a:lnTo>
                    <a:lnTo>
                      <a:pt x="866" y="576"/>
                    </a:lnTo>
                    <a:lnTo>
                      <a:pt x="866" y="576"/>
                    </a:lnTo>
                    <a:lnTo>
                      <a:pt x="864" y="572"/>
                    </a:lnTo>
                    <a:lnTo>
                      <a:pt x="862" y="570"/>
                    </a:lnTo>
                    <a:lnTo>
                      <a:pt x="862" y="570"/>
                    </a:lnTo>
                    <a:lnTo>
                      <a:pt x="860" y="572"/>
                    </a:lnTo>
                    <a:lnTo>
                      <a:pt x="858" y="574"/>
                    </a:lnTo>
                    <a:lnTo>
                      <a:pt x="858" y="574"/>
                    </a:lnTo>
                    <a:lnTo>
                      <a:pt x="876" y="596"/>
                    </a:lnTo>
                    <a:lnTo>
                      <a:pt x="876" y="596"/>
                    </a:lnTo>
                    <a:lnTo>
                      <a:pt x="882" y="598"/>
                    </a:lnTo>
                    <a:lnTo>
                      <a:pt x="884" y="598"/>
                    </a:lnTo>
                    <a:lnTo>
                      <a:pt x="886" y="596"/>
                    </a:lnTo>
                    <a:lnTo>
                      <a:pt x="886" y="596"/>
                    </a:lnTo>
                    <a:lnTo>
                      <a:pt x="884" y="588"/>
                    </a:lnTo>
                    <a:lnTo>
                      <a:pt x="880" y="584"/>
                    </a:lnTo>
                    <a:lnTo>
                      <a:pt x="880" y="584"/>
                    </a:lnTo>
                    <a:lnTo>
                      <a:pt x="876" y="586"/>
                    </a:lnTo>
                    <a:lnTo>
                      <a:pt x="876" y="588"/>
                    </a:lnTo>
                    <a:lnTo>
                      <a:pt x="876" y="596"/>
                    </a:lnTo>
                    <a:lnTo>
                      <a:pt x="876" y="596"/>
                    </a:lnTo>
                    <a:lnTo>
                      <a:pt x="880" y="582"/>
                    </a:lnTo>
                    <a:lnTo>
                      <a:pt x="880" y="582"/>
                    </a:lnTo>
                    <a:lnTo>
                      <a:pt x="878" y="580"/>
                    </a:lnTo>
                    <a:lnTo>
                      <a:pt x="878" y="576"/>
                    </a:lnTo>
                    <a:lnTo>
                      <a:pt x="874" y="572"/>
                    </a:lnTo>
                    <a:lnTo>
                      <a:pt x="874" y="572"/>
                    </a:lnTo>
                    <a:lnTo>
                      <a:pt x="874" y="584"/>
                    </a:lnTo>
                    <a:lnTo>
                      <a:pt x="874" y="584"/>
                    </a:lnTo>
                    <a:lnTo>
                      <a:pt x="878" y="584"/>
                    </a:lnTo>
                    <a:lnTo>
                      <a:pt x="880" y="582"/>
                    </a:lnTo>
                    <a:lnTo>
                      <a:pt x="880" y="582"/>
                    </a:lnTo>
                    <a:lnTo>
                      <a:pt x="648" y="586"/>
                    </a:lnTo>
                    <a:lnTo>
                      <a:pt x="648" y="586"/>
                    </a:lnTo>
                    <a:lnTo>
                      <a:pt x="646" y="584"/>
                    </a:lnTo>
                    <a:lnTo>
                      <a:pt x="646" y="580"/>
                    </a:lnTo>
                    <a:lnTo>
                      <a:pt x="646" y="578"/>
                    </a:lnTo>
                    <a:lnTo>
                      <a:pt x="642" y="578"/>
                    </a:lnTo>
                    <a:lnTo>
                      <a:pt x="642" y="578"/>
                    </a:lnTo>
                    <a:lnTo>
                      <a:pt x="644" y="580"/>
                    </a:lnTo>
                    <a:lnTo>
                      <a:pt x="644" y="584"/>
                    </a:lnTo>
                    <a:lnTo>
                      <a:pt x="646" y="586"/>
                    </a:lnTo>
                    <a:lnTo>
                      <a:pt x="648" y="586"/>
                    </a:lnTo>
                    <a:lnTo>
                      <a:pt x="648" y="586"/>
                    </a:lnTo>
                    <a:lnTo>
                      <a:pt x="860" y="582"/>
                    </a:lnTo>
                    <a:lnTo>
                      <a:pt x="860" y="582"/>
                    </a:lnTo>
                    <a:lnTo>
                      <a:pt x="862" y="584"/>
                    </a:lnTo>
                    <a:lnTo>
                      <a:pt x="864" y="584"/>
                    </a:lnTo>
                    <a:lnTo>
                      <a:pt x="866" y="588"/>
                    </a:lnTo>
                    <a:lnTo>
                      <a:pt x="866" y="588"/>
                    </a:lnTo>
                    <a:lnTo>
                      <a:pt x="864" y="584"/>
                    </a:lnTo>
                    <a:lnTo>
                      <a:pt x="864" y="582"/>
                    </a:lnTo>
                    <a:lnTo>
                      <a:pt x="866" y="580"/>
                    </a:lnTo>
                    <a:lnTo>
                      <a:pt x="866" y="580"/>
                    </a:lnTo>
                    <a:lnTo>
                      <a:pt x="862" y="580"/>
                    </a:lnTo>
                    <a:lnTo>
                      <a:pt x="860" y="580"/>
                    </a:lnTo>
                    <a:lnTo>
                      <a:pt x="860" y="580"/>
                    </a:lnTo>
                    <a:lnTo>
                      <a:pt x="860" y="580"/>
                    </a:lnTo>
                    <a:lnTo>
                      <a:pt x="860" y="582"/>
                    </a:lnTo>
                    <a:lnTo>
                      <a:pt x="860" y="582"/>
                    </a:lnTo>
                    <a:lnTo>
                      <a:pt x="860" y="582"/>
                    </a:lnTo>
                    <a:lnTo>
                      <a:pt x="588" y="586"/>
                    </a:lnTo>
                    <a:lnTo>
                      <a:pt x="588" y="586"/>
                    </a:lnTo>
                    <a:lnTo>
                      <a:pt x="586" y="584"/>
                    </a:lnTo>
                    <a:lnTo>
                      <a:pt x="584" y="584"/>
                    </a:lnTo>
                    <a:lnTo>
                      <a:pt x="582" y="582"/>
                    </a:lnTo>
                    <a:lnTo>
                      <a:pt x="580" y="582"/>
                    </a:lnTo>
                    <a:lnTo>
                      <a:pt x="580" y="582"/>
                    </a:lnTo>
                    <a:lnTo>
                      <a:pt x="580" y="586"/>
                    </a:lnTo>
                    <a:lnTo>
                      <a:pt x="582" y="586"/>
                    </a:lnTo>
                    <a:lnTo>
                      <a:pt x="586" y="586"/>
                    </a:lnTo>
                    <a:lnTo>
                      <a:pt x="588" y="586"/>
                    </a:lnTo>
                    <a:lnTo>
                      <a:pt x="588" y="586"/>
                    </a:lnTo>
                    <a:lnTo>
                      <a:pt x="632" y="592"/>
                    </a:lnTo>
                    <a:lnTo>
                      <a:pt x="632" y="592"/>
                    </a:lnTo>
                    <a:lnTo>
                      <a:pt x="636" y="590"/>
                    </a:lnTo>
                    <a:lnTo>
                      <a:pt x="638" y="590"/>
                    </a:lnTo>
                    <a:lnTo>
                      <a:pt x="640" y="588"/>
                    </a:lnTo>
                    <a:lnTo>
                      <a:pt x="640" y="588"/>
                    </a:lnTo>
                    <a:lnTo>
                      <a:pt x="636" y="586"/>
                    </a:lnTo>
                    <a:lnTo>
                      <a:pt x="634" y="582"/>
                    </a:lnTo>
                    <a:lnTo>
                      <a:pt x="634" y="582"/>
                    </a:lnTo>
                    <a:lnTo>
                      <a:pt x="632" y="588"/>
                    </a:lnTo>
                    <a:lnTo>
                      <a:pt x="632" y="590"/>
                    </a:lnTo>
                    <a:lnTo>
                      <a:pt x="632" y="592"/>
                    </a:lnTo>
                    <a:lnTo>
                      <a:pt x="632" y="592"/>
                    </a:lnTo>
                    <a:lnTo>
                      <a:pt x="612" y="590"/>
                    </a:lnTo>
                    <a:lnTo>
                      <a:pt x="612" y="590"/>
                    </a:lnTo>
                    <a:lnTo>
                      <a:pt x="616" y="590"/>
                    </a:lnTo>
                    <a:lnTo>
                      <a:pt x="618" y="590"/>
                    </a:lnTo>
                    <a:lnTo>
                      <a:pt x="618" y="588"/>
                    </a:lnTo>
                    <a:lnTo>
                      <a:pt x="618" y="588"/>
                    </a:lnTo>
                    <a:lnTo>
                      <a:pt x="614" y="586"/>
                    </a:lnTo>
                    <a:lnTo>
                      <a:pt x="612" y="584"/>
                    </a:lnTo>
                    <a:lnTo>
                      <a:pt x="610" y="586"/>
                    </a:lnTo>
                    <a:lnTo>
                      <a:pt x="610" y="586"/>
                    </a:lnTo>
                    <a:lnTo>
                      <a:pt x="610" y="586"/>
                    </a:lnTo>
                    <a:lnTo>
                      <a:pt x="612" y="588"/>
                    </a:lnTo>
                    <a:lnTo>
                      <a:pt x="612" y="590"/>
                    </a:lnTo>
                    <a:lnTo>
                      <a:pt x="612" y="590"/>
                    </a:lnTo>
                    <a:lnTo>
                      <a:pt x="790" y="606"/>
                    </a:lnTo>
                    <a:lnTo>
                      <a:pt x="790" y="606"/>
                    </a:lnTo>
                    <a:lnTo>
                      <a:pt x="790" y="596"/>
                    </a:lnTo>
                    <a:lnTo>
                      <a:pt x="788" y="588"/>
                    </a:lnTo>
                    <a:lnTo>
                      <a:pt x="788" y="588"/>
                    </a:lnTo>
                    <a:lnTo>
                      <a:pt x="786" y="586"/>
                    </a:lnTo>
                    <a:lnTo>
                      <a:pt x="784" y="586"/>
                    </a:lnTo>
                    <a:lnTo>
                      <a:pt x="784" y="586"/>
                    </a:lnTo>
                    <a:lnTo>
                      <a:pt x="788" y="596"/>
                    </a:lnTo>
                    <a:lnTo>
                      <a:pt x="790" y="606"/>
                    </a:lnTo>
                    <a:lnTo>
                      <a:pt x="790" y="606"/>
                    </a:lnTo>
                    <a:lnTo>
                      <a:pt x="802" y="614"/>
                    </a:lnTo>
                    <a:lnTo>
                      <a:pt x="802" y="614"/>
                    </a:lnTo>
                    <a:lnTo>
                      <a:pt x="806" y="614"/>
                    </a:lnTo>
                    <a:lnTo>
                      <a:pt x="808" y="614"/>
                    </a:lnTo>
                    <a:lnTo>
                      <a:pt x="810" y="612"/>
                    </a:lnTo>
                    <a:lnTo>
                      <a:pt x="810" y="612"/>
                    </a:lnTo>
                    <a:lnTo>
                      <a:pt x="804" y="604"/>
                    </a:lnTo>
                    <a:lnTo>
                      <a:pt x="802" y="600"/>
                    </a:lnTo>
                    <a:lnTo>
                      <a:pt x="798" y="596"/>
                    </a:lnTo>
                    <a:lnTo>
                      <a:pt x="798" y="596"/>
                    </a:lnTo>
                    <a:lnTo>
                      <a:pt x="800" y="606"/>
                    </a:lnTo>
                    <a:lnTo>
                      <a:pt x="802" y="614"/>
                    </a:lnTo>
                    <a:lnTo>
                      <a:pt x="802" y="614"/>
                    </a:lnTo>
                    <a:lnTo>
                      <a:pt x="712" y="606"/>
                    </a:lnTo>
                    <a:lnTo>
                      <a:pt x="712" y="606"/>
                    </a:lnTo>
                    <a:lnTo>
                      <a:pt x="710" y="612"/>
                    </a:lnTo>
                    <a:lnTo>
                      <a:pt x="706" y="614"/>
                    </a:lnTo>
                    <a:lnTo>
                      <a:pt x="698" y="618"/>
                    </a:lnTo>
                    <a:lnTo>
                      <a:pt x="688" y="618"/>
                    </a:lnTo>
                    <a:lnTo>
                      <a:pt x="680" y="616"/>
                    </a:lnTo>
                    <a:lnTo>
                      <a:pt x="680" y="616"/>
                    </a:lnTo>
                    <a:lnTo>
                      <a:pt x="684" y="620"/>
                    </a:lnTo>
                    <a:lnTo>
                      <a:pt x="686" y="628"/>
                    </a:lnTo>
                    <a:lnTo>
                      <a:pt x="686" y="628"/>
                    </a:lnTo>
                    <a:lnTo>
                      <a:pt x="690" y="624"/>
                    </a:lnTo>
                    <a:lnTo>
                      <a:pt x="690" y="622"/>
                    </a:lnTo>
                    <a:lnTo>
                      <a:pt x="692" y="624"/>
                    </a:lnTo>
                    <a:lnTo>
                      <a:pt x="692" y="624"/>
                    </a:lnTo>
                    <a:lnTo>
                      <a:pt x="692" y="630"/>
                    </a:lnTo>
                    <a:lnTo>
                      <a:pt x="692" y="630"/>
                    </a:lnTo>
                    <a:lnTo>
                      <a:pt x="708" y="644"/>
                    </a:lnTo>
                    <a:lnTo>
                      <a:pt x="722" y="658"/>
                    </a:lnTo>
                    <a:lnTo>
                      <a:pt x="752" y="688"/>
                    </a:lnTo>
                    <a:lnTo>
                      <a:pt x="752" y="688"/>
                    </a:lnTo>
                    <a:lnTo>
                      <a:pt x="754" y="682"/>
                    </a:lnTo>
                    <a:lnTo>
                      <a:pt x="754" y="674"/>
                    </a:lnTo>
                    <a:lnTo>
                      <a:pt x="754" y="658"/>
                    </a:lnTo>
                    <a:lnTo>
                      <a:pt x="752" y="644"/>
                    </a:lnTo>
                    <a:lnTo>
                      <a:pt x="754" y="638"/>
                    </a:lnTo>
                    <a:lnTo>
                      <a:pt x="758" y="632"/>
                    </a:lnTo>
                    <a:lnTo>
                      <a:pt x="758" y="632"/>
                    </a:lnTo>
                    <a:lnTo>
                      <a:pt x="754" y="628"/>
                    </a:lnTo>
                    <a:lnTo>
                      <a:pt x="750" y="624"/>
                    </a:lnTo>
                    <a:lnTo>
                      <a:pt x="742" y="620"/>
                    </a:lnTo>
                    <a:lnTo>
                      <a:pt x="738" y="616"/>
                    </a:lnTo>
                    <a:lnTo>
                      <a:pt x="734" y="614"/>
                    </a:lnTo>
                    <a:lnTo>
                      <a:pt x="732" y="608"/>
                    </a:lnTo>
                    <a:lnTo>
                      <a:pt x="732" y="602"/>
                    </a:lnTo>
                    <a:lnTo>
                      <a:pt x="732" y="602"/>
                    </a:lnTo>
                    <a:lnTo>
                      <a:pt x="730" y="600"/>
                    </a:lnTo>
                    <a:lnTo>
                      <a:pt x="726" y="598"/>
                    </a:lnTo>
                    <a:lnTo>
                      <a:pt x="726" y="598"/>
                    </a:lnTo>
                    <a:lnTo>
                      <a:pt x="726" y="602"/>
                    </a:lnTo>
                    <a:lnTo>
                      <a:pt x="722" y="606"/>
                    </a:lnTo>
                    <a:lnTo>
                      <a:pt x="712" y="606"/>
                    </a:lnTo>
                    <a:lnTo>
                      <a:pt x="712" y="606"/>
                    </a:lnTo>
                    <a:lnTo>
                      <a:pt x="624" y="606"/>
                    </a:lnTo>
                    <a:lnTo>
                      <a:pt x="624" y="606"/>
                    </a:lnTo>
                    <a:lnTo>
                      <a:pt x="624" y="604"/>
                    </a:lnTo>
                    <a:lnTo>
                      <a:pt x="624" y="604"/>
                    </a:lnTo>
                    <a:lnTo>
                      <a:pt x="624" y="602"/>
                    </a:lnTo>
                    <a:lnTo>
                      <a:pt x="624" y="600"/>
                    </a:lnTo>
                    <a:lnTo>
                      <a:pt x="624" y="600"/>
                    </a:lnTo>
                    <a:lnTo>
                      <a:pt x="618" y="600"/>
                    </a:lnTo>
                    <a:lnTo>
                      <a:pt x="614" y="600"/>
                    </a:lnTo>
                    <a:lnTo>
                      <a:pt x="614" y="600"/>
                    </a:lnTo>
                    <a:lnTo>
                      <a:pt x="618" y="602"/>
                    </a:lnTo>
                    <a:lnTo>
                      <a:pt x="620" y="604"/>
                    </a:lnTo>
                    <a:lnTo>
                      <a:pt x="622" y="606"/>
                    </a:lnTo>
                    <a:lnTo>
                      <a:pt x="624" y="606"/>
                    </a:lnTo>
                    <a:lnTo>
                      <a:pt x="624" y="606"/>
                    </a:lnTo>
                    <a:lnTo>
                      <a:pt x="644" y="600"/>
                    </a:lnTo>
                    <a:lnTo>
                      <a:pt x="644" y="600"/>
                    </a:lnTo>
                    <a:lnTo>
                      <a:pt x="640" y="600"/>
                    </a:lnTo>
                    <a:lnTo>
                      <a:pt x="640" y="600"/>
                    </a:lnTo>
                    <a:lnTo>
                      <a:pt x="640" y="602"/>
                    </a:lnTo>
                    <a:lnTo>
                      <a:pt x="642" y="604"/>
                    </a:lnTo>
                    <a:lnTo>
                      <a:pt x="644" y="602"/>
                    </a:lnTo>
                    <a:lnTo>
                      <a:pt x="644" y="600"/>
                    </a:lnTo>
                    <a:lnTo>
                      <a:pt x="644" y="600"/>
                    </a:lnTo>
                    <a:lnTo>
                      <a:pt x="608" y="604"/>
                    </a:lnTo>
                    <a:lnTo>
                      <a:pt x="608" y="604"/>
                    </a:lnTo>
                    <a:lnTo>
                      <a:pt x="606" y="604"/>
                    </a:lnTo>
                    <a:lnTo>
                      <a:pt x="602" y="602"/>
                    </a:lnTo>
                    <a:lnTo>
                      <a:pt x="602" y="602"/>
                    </a:lnTo>
                    <a:lnTo>
                      <a:pt x="602" y="604"/>
                    </a:lnTo>
                    <a:lnTo>
                      <a:pt x="604" y="606"/>
                    </a:lnTo>
                    <a:lnTo>
                      <a:pt x="606" y="606"/>
                    </a:lnTo>
                    <a:lnTo>
                      <a:pt x="608" y="604"/>
                    </a:lnTo>
                    <a:lnTo>
                      <a:pt x="608" y="604"/>
                    </a:lnTo>
                    <a:lnTo>
                      <a:pt x="698" y="608"/>
                    </a:lnTo>
                    <a:lnTo>
                      <a:pt x="698" y="608"/>
                    </a:lnTo>
                    <a:lnTo>
                      <a:pt x="700" y="606"/>
                    </a:lnTo>
                    <a:lnTo>
                      <a:pt x="702" y="604"/>
                    </a:lnTo>
                    <a:lnTo>
                      <a:pt x="702" y="604"/>
                    </a:lnTo>
                    <a:lnTo>
                      <a:pt x="698" y="604"/>
                    </a:lnTo>
                    <a:lnTo>
                      <a:pt x="696" y="606"/>
                    </a:lnTo>
                    <a:lnTo>
                      <a:pt x="698" y="608"/>
                    </a:lnTo>
                    <a:lnTo>
                      <a:pt x="698" y="608"/>
                    </a:lnTo>
                    <a:lnTo>
                      <a:pt x="696" y="604"/>
                    </a:lnTo>
                    <a:lnTo>
                      <a:pt x="696" y="604"/>
                    </a:lnTo>
                    <a:lnTo>
                      <a:pt x="688" y="602"/>
                    </a:lnTo>
                    <a:lnTo>
                      <a:pt x="684" y="602"/>
                    </a:lnTo>
                    <a:lnTo>
                      <a:pt x="678" y="602"/>
                    </a:lnTo>
                    <a:lnTo>
                      <a:pt x="678" y="602"/>
                    </a:lnTo>
                    <a:lnTo>
                      <a:pt x="680" y="606"/>
                    </a:lnTo>
                    <a:lnTo>
                      <a:pt x="686" y="606"/>
                    </a:lnTo>
                    <a:lnTo>
                      <a:pt x="694" y="608"/>
                    </a:lnTo>
                    <a:lnTo>
                      <a:pt x="694" y="608"/>
                    </a:lnTo>
                    <a:lnTo>
                      <a:pt x="696" y="604"/>
                    </a:lnTo>
                    <a:lnTo>
                      <a:pt x="696" y="604"/>
                    </a:lnTo>
                    <a:lnTo>
                      <a:pt x="654" y="620"/>
                    </a:lnTo>
                    <a:lnTo>
                      <a:pt x="654" y="620"/>
                    </a:lnTo>
                    <a:lnTo>
                      <a:pt x="652" y="616"/>
                    </a:lnTo>
                    <a:lnTo>
                      <a:pt x="650" y="614"/>
                    </a:lnTo>
                    <a:lnTo>
                      <a:pt x="650" y="614"/>
                    </a:lnTo>
                    <a:lnTo>
                      <a:pt x="650" y="616"/>
                    </a:lnTo>
                    <a:lnTo>
                      <a:pt x="652" y="618"/>
                    </a:lnTo>
                    <a:lnTo>
                      <a:pt x="654" y="620"/>
                    </a:lnTo>
                    <a:lnTo>
                      <a:pt x="654" y="620"/>
                    </a:lnTo>
                    <a:lnTo>
                      <a:pt x="660" y="620"/>
                    </a:lnTo>
                    <a:lnTo>
                      <a:pt x="660" y="620"/>
                    </a:lnTo>
                    <a:lnTo>
                      <a:pt x="670" y="616"/>
                    </a:lnTo>
                    <a:lnTo>
                      <a:pt x="670" y="616"/>
                    </a:lnTo>
                    <a:lnTo>
                      <a:pt x="668" y="616"/>
                    </a:lnTo>
                    <a:lnTo>
                      <a:pt x="664" y="614"/>
                    </a:lnTo>
                    <a:lnTo>
                      <a:pt x="658" y="614"/>
                    </a:lnTo>
                    <a:lnTo>
                      <a:pt x="658" y="614"/>
                    </a:lnTo>
                    <a:lnTo>
                      <a:pt x="660" y="618"/>
                    </a:lnTo>
                    <a:lnTo>
                      <a:pt x="660" y="620"/>
                    </a:lnTo>
                    <a:lnTo>
                      <a:pt x="660" y="620"/>
                    </a:lnTo>
                    <a:lnTo>
                      <a:pt x="644" y="620"/>
                    </a:lnTo>
                    <a:lnTo>
                      <a:pt x="644" y="620"/>
                    </a:lnTo>
                    <a:lnTo>
                      <a:pt x="644" y="620"/>
                    </a:lnTo>
                    <a:lnTo>
                      <a:pt x="642" y="616"/>
                    </a:lnTo>
                    <a:lnTo>
                      <a:pt x="642" y="616"/>
                    </a:lnTo>
                    <a:lnTo>
                      <a:pt x="640" y="616"/>
                    </a:lnTo>
                    <a:lnTo>
                      <a:pt x="638" y="618"/>
                    </a:lnTo>
                    <a:lnTo>
                      <a:pt x="638" y="618"/>
                    </a:lnTo>
                    <a:lnTo>
                      <a:pt x="642" y="620"/>
                    </a:lnTo>
                    <a:lnTo>
                      <a:pt x="644" y="622"/>
                    </a:lnTo>
                    <a:lnTo>
                      <a:pt x="644" y="620"/>
                    </a:lnTo>
                    <a:lnTo>
                      <a:pt x="644" y="620"/>
                    </a:lnTo>
                    <a:lnTo>
                      <a:pt x="908" y="650"/>
                    </a:lnTo>
                    <a:lnTo>
                      <a:pt x="908" y="650"/>
                    </a:lnTo>
                    <a:lnTo>
                      <a:pt x="910" y="636"/>
                    </a:lnTo>
                    <a:lnTo>
                      <a:pt x="912" y="622"/>
                    </a:lnTo>
                    <a:lnTo>
                      <a:pt x="912" y="622"/>
                    </a:lnTo>
                    <a:lnTo>
                      <a:pt x="906" y="616"/>
                    </a:lnTo>
                    <a:lnTo>
                      <a:pt x="906" y="616"/>
                    </a:lnTo>
                    <a:lnTo>
                      <a:pt x="902" y="634"/>
                    </a:lnTo>
                    <a:lnTo>
                      <a:pt x="902" y="644"/>
                    </a:lnTo>
                    <a:lnTo>
                      <a:pt x="904" y="648"/>
                    </a:lnTo>
                    <a:lnTo>
                      <a:pt x="908" y="650"/>
                    </a:lnTo>
                    <a:lnTo>
                      <a:pt x="908" y="650"/>
                    </a:lnTo>
                    <a:lnTo>
                      <a:pt x="1340" y="624"/>
                    </a:lnTo>
                    <a:lnTo>
                      <a:pt x="1340" y="624"/>
                    </a:lnTo>
                    <a:lnTo>
                      <a:pt x="1344" y="620"/>
                    </a:lnTo>
                    <a:lnTo>
                      <a:pt x="1350" y="618"/>
                    </a:lnTo>
                    <a:lnTo>
                      <a:pt x="1350" y="618"/>
                    </a:lnTo>
                    <a:lnTo>
                      <a:pt x="1346" y="618"/>
                    </a:lnTo>
                    <a:lnTo>
                      <a:pt x="1342" y="616"/>
                    </a:lnTo>
                    <a:lnTo>
                      <a:pt x="1342" y="616"/>
                    </a:lnTo>
                    <a:lnTo>
                      <a:pt x="1342" y="618"/>
                    </a:lnTo>
                    <a:lnTo>
                      <a:pt x="1340" y="620"/>
                    </a:lnTo>
                    <a:lnTo>
                      <a:pt x="1338" y="622"/>
                    </a:lnTo>
                    <a:lnTo>
                      <a:pt x="1340" y="624"/>
                    </a:lnTo>
                    <a:lnTo>
                      <a:pt x="1340" y="624"/>
                    </a:lnTo>
                    <a:lnTo>
                      <a:pt x="682" y="630"/>
                    </a:lnTo>
                    <a:lnTo>
                      <a:pt x="682" y="630"/>
                    </a:lnTo>
                    <a:lnTo>
                      <a:pt x="678" y="626"/>
                    </a:lnTo>
                    <a:lnTo>
                      <a:pt x="674" y="622"/>
                    </a:lnTo>
                    <a:lnTo>
                      <a:pt x="674" y="622"/>
                    </a:lnTo>
                    <a:lnTo>
                      <a:pt x="676" y="628"/>
                    </a:lnTo>
                    <a:lnTo>
                      <a:pt x="676" y="632"/>
                    </a:lnTo>
                    <a:lnTo>
                      <a:pt x="676" y="632"/>
                    </a:lnTo>
                    <a:lnTo>
                      <a:pt x="672" y="634"/>
                    </a:lnTo>
                    <a:lnTo>
                      <a:pt x="668" y="636"/>
                    </a:lnTo>
                    <a:lnTo>
                      <a:pt x="668" y="636"/>
                    </a:lnTo>
                    <a:lnTo>
                      <a:pt x="670" y="638"/>
                    </a:lnTo>
                    <a:lnTo>
                      <a:pt x="672" y="636"/>
                    </a:lnTo>
                    <a:lnTo>
                      <a:pt x="676" y="634"/>
                    </a:lnTo>
                    <a:lnTo>
                      <a:pt x="676" y="634"/>
                    </a:lnTo>
                    <a:lnTo>
                      <a:pt x="674" y="636"/>
                    </a:lnTo>
                    <a:lnTo>
                      <a:pt x="674" y="638"/>
                    </a:lnTo>
                    <a:lnTo>
                      <a:pt x="674" y="640"/>
                    </a:lnTo>
                    <a:lnTo>
                      <a:pt x="674" y="640"/>
                    </a:lnTo>
                    <a:lnTo>
                      <a:pt x="680" y="642"/>
                    </a:lnTo>
                    <a:lnTo>
                      <a:pt x="686" y="644"/>
                    </a:lnTo>
                    <a:lnTo>
                      <a:pt x="692" y="646"/>
                    </a:lnTo>
                    <a:lnTo>
                      <a:pt x="698" y="646"/>
                    </a:lnTo>
                    <a:lnTo>
                      <a:pt x="698" y="646"/>
                    </a:lnTo>
                    <a:lnTo>
                      <a:pt x="694" y="642"/>
                    </a:lnTo>
                    <a:lnTo>
                      <a:pt x="690" y="636"/>
                    </a:lnTo>
                    <a:lnTo>
                      <a:pt x="684" y="634"/>
                    </a:lnTo>
                    <a:lnTo>
                      <a:pt x="678" y="632"/>
                    </a:lnTo>
                    <a:lnTo>
                      <a:pt x="678" y="632"/>
                    </a:lnTo>
                    <a:lnTo>
                      <a:pt x="682" y="630"/>
                    </a:lnTo>
                    <a:lnTo>
                      <a:pt x="682" y="630"/>
                    </a:lnTo>
                    <a:lnTo>
                      <a:pt x="700" y="688"/>
                    </a:lnTo>
                    <a:lnTo>
                      <a:pt x="700" y="688"/>
                    </a:lnTo>
                    <a:lnTo>
                      <a:pt x="710" y="682"/>
                    </a:lnTo>
                    <a:lnTo>
                      <a:pt x="722" y="678"/>
                    </a:lnTo>
                    <a:lnTo>
                      <a:pt x="722" y="678"/>
                    </a:lnTo>
                    <a:lnTo>
                      <a:pt x="714" y="666"/>
                    </a:lnTo>
                    <a:lnTo>
                      <a:pt x="704" y="656"/>
                    </a:lnTo>
                    <a:lnTo>
                      <a:pt x="690" y="648"/>
                    </a:lnTo>
                    <a:lnTo>
                      <a:pt x="682" y="646"/>
                    </a:lnTo>
                    <a:lnTo>
                      <a:pt x="674" y="646"/>
                    </a:lnTo>
                    <a:lnTo>
                      <a:pt x="674" y="646"/>
                    </a:lnTo>
                    <a:lnTo>
                      <a:pt x="686" y="668"/>
                    </a:lnTo>
                    <a:lnTo>
                      <a:pt x="692" y="678"/>
                    </a:lnTo>
                    <a:lnTo>
                      <a:pt x="700" y="688"/>
                    </a:lnTo>
                    <a:lnTo>
                      <a:pt x="700" y="688"/>
                    </a:lnTo>
                    <a:lnTo>
                      <a:pt x="908" y="658"/>
                    </a:lnTo>
                    <a:lnTo>
                      <a:pt x="908" y="658"/>
                    </a:lnTo>
                    <a:lnTo>
                      <a:pt x="906" y="654"/>
                    </a:lnTo>
                    <a:lnTo>
                      <a:pt x="904" y="652"/>
                    </a:lnTo>
                    <a:lnTo>
                      <a:pt x="904" y="652"/>
                    </a:lnTo>
                    <a:lnTo>
                      <a:pt x="904" y="656"/>
                    </a:lnTo>
                    <a:lnTo>
                      <a:pt x="906" y="658"/>
                    </a:lnTo>
                    <a:lnTo>
                      <a:pt x="908" y="658"/>
                    </a:lnTo>
                    <a:lnTo>
                      <a:pt x="908" y="658"/>
                    </a:lnTo>
                    <a:lnTo>
                      <a:pt x="998" y="680"/>
                    </a:lnTo>
                    <a:lnTo>
                      <a:pt x="998" y="680"/>
                    </a:lnTo>
                    <a:lnTo>
                      <a:pt x="992" y="674"/>
                    </a:lnTo>
                    <a:lnTo>
                      <a:pt x="986" y="670"/>
                    </a:lnTo>
                    <a:lnTo>
                      <a:pt x="986" y="670"/>
                    </a:lnTo>
                    <a:lnTo>
                      <a:pt x="976" y="668"/>
                    </a:lnTo>
                    <a:lnTo>
                      <a:pt x="968" y="666"/>
                    </a:lnTo>
                    <a:lnTo>
                      <a:pt x="968" y="666"/>
                    </a:lnTo>
                    <a:lnTo>
                      <a:pt x="968" y="674"/>
                    </a:lnTo>
                    <a:lnTo>
                      <a:pt x="970" y="682"/>
                    </a:lnTo>
                    <a:lnTo>
                      <a:pt x="974" y="686"/>
                    </a:lnTo>
                    <a:lnTo>
                      <a:pt x="978" y="690"/>
                    </a:lnTo>
                    <a:lnTo>
                      <a:pt x="978" y="690"/>
                    </a:lnTo>
                    <a:lnTo>
                      <a:pt x="984" y="690"/>
                    </a:lnTo>
                    <a:lnTo>
                      <a:pt x="988" y="690"/>
                    </a:lnTo>
                    <a:lnTo>
                      <a:pt x="994" y="686"/>
                    </a:lnTo>
                    <a:lnTo>
                      <a:pt x="998" y="680"/>
                    </a:lnTo>
                    <a:lnTo>
                      <a:pt x="998" y="680"/>
                    </a:lnTo>
                    <a:lnTo>
                      <a:pt x="866" y="672"/>
                    </a:lnTo>
                    <a:lnTo>
                      <a:pt x="866" y="672"/>
                    </a:lnTo>
                    <a:lnTo>
                      <a:pt x="860" y="672"/>
                    </a:lnTo>
                    <a:lnTo>
                      <a:pt x="860" y="672"/>
                    </a:lnTo>
                    <a:lnTo>
                      <a:pt x="860" y="674"/>
                    </a:lnTo>
                    <a:lnTo>
                      <a:pt x="862" y="674"/>
                    </a:lnTo>
                    <a:lnTo>
                      <a:pt x="864" y="674"/>
                    </a:lnTo>
                    <a:lnTo>
                      <a:pt x="866" y="672"/>
                    </a:lnTo>
                    <a:lnTo>
                      <a:pt x="866" y="672"/>
                    </a:lnTo>
                    <a:lnTo>
                      <a:pt x="1014" y="690"/>
                    </a:lnTo>
                    <a:lnTo>
                      <a:pt x="1014" y="690"/>
                    </a:lnTo>
                    <a:lnTo>
                      <a:pt x="1020" y="694"/>
                    </a:lnTo>
                    <a:lnTo>
                      <a:pt x="1026" y="694"/>
                    </a:lnTo>
                    <a:lnTo>
                      <a:pt x="1026" y="694"/>
                    </a:lnTo>
                    <a:lnTo>
                      <a:pt x="1026" y="688"/>
                    </a:lnTo>
                    <a:lnTo>
                      <a:pt x="1028" y="684"/>
                    </a:lnTo>
                    <a:lnTo>
                      <a:pt x="1028" y="680"/>
                    </a:lnTo>
                    <a:lnTo>
                      <a:pt x="1026" y="674"/>
                    </a:lnTo>
                    <a:lnTo>
                      <a:pt x="1026" y="674"/>
                    </a:lnTo>
                    <a:lnTo>
                      <a:pt x="1018" y="682"/>
                    </a:lnTo>
                    <a:lnTo>
                      <a:pt x="1016" y="686"/>
                    </a:lnTo>
                    <a:lnTo>
                      <a:pt x="1014" y="690"/>
                    </a:lnTo>
                    <a:lnTo>
                      <a:pt x="1014" y="690"/>
                    </a:lnTo>
                    <a:lnTo>
                      <a:pt x="1344" y="686"/>
                    </a:lnTo>
                    <a:lnTo>
                      <a:pt x="1344" y="686"/>
                    </a:lnTo>
                    <a:lnTo>
                      <a:pt x="1344" y="682"/>
                    </a:lnTo>
                    <a:lnTo>
                      <a:pt x="1342" y="680"/>
                    </a:lnTo>
                    <a:lnTo>
                      <a:pt x="1336" y="680"/>
                    </a:lnTo>
                    <a:lnTo>
                      <a:pt x="1328" y="682"/>
                    </a:lnTo>
                    <a:lnTo>
                      <a:pt x="1322" y="684"/>
                    </a:lnTo>
                    <a:lnTo>
                      <a:pt x="1322" y="684"/>
                    </a:lnTo>
                    <a:lnTo>
                      <a:pt x="1324" y="688"/>
                    </a:lnTo>
                    <a:lnTo>
                      <a:pt x="1326" y="690"/>
                    </a:lnTo>
                    <a:lnTo>
                      <a:pt x="1334" y="692"/>
                    </a:lnTo>
                    <a:lnTo>
                      <a:pt x="1340" y="690"/>
                    </a:lnTo>
                    <a:lnTo>
                      <a:pt x="1342" y="688"/>
                    </a:lnTo>
                    <a:lnTo>
                      <a:pt x="1344" y="686"/>
                    </a:lnTo>
                    <a:lnTo>
                      <a:pt x="1344" y="686"/>
                    </a:lnTo>
                    <a:lnTo>
                      <a:pt x="778" y="688"/>
                    </a:lnTo>
                    <a:lnTo>
                      <a:pt x="778" y="688"/>
                    </a:lnTo>
                    <a:lnTo>
                      <a:pt x="780" y="684"/>
                    </a:lnTo>
                    <a:lnTo>
                      <a:pt x="780" y="682"/>
                    </a:lnTo>
                    <a:lnTo>
                      <a:pt x="780" y="682"/>
                    </a:lnTo>
                    <a:lnTo>
                      <a:pt x="774" y="684"/>
                    </a:lnTo>
                    <a:lnTo>
                      <a:pt x="768" y="688"/>
                    </a:lnTo>
                    <a:lnTo>
                      <a:pt x="760" y="698"/>
                    </a:lnTo>
                    <a:lnTo>
                      <a:pt x="760" y="698"/>
                    </a:lnTo>
                    <a:lnTo>
                      <a:pt x="768" y="704"/>
                    </a:lnTo>
                    <a:lnTo>
                      <a:pt x="770" y="708"/>
                    </a:lnTo>
                    <a:lnTo>
                      <a:pt x="776" y="710"/>
                    </a:lnTo>
                    <a:lnTo>
                      <a:pt x="776" y="710"/>
                    </a:lnTo>
                    <a:lnTo>
                      <a:pt x="778" y="704"/>
                    </a:lnTo>
                    <a:lnTo>
                      <a:pt x="778" y="696"/>
                    </a:lnTo>
                    <a:lnTo>
                      <a:pt x="776" y="684"/>
                    </a:lnTo>
                    <a:lnTo>
                      <a:pt x="776" y="684"/>
                    </a:lnTo>
                    <a:lnTo>
                      <a:pt x="776" y="686"/>
                    </a:lnTo>
                    <a:lnTo>
                      <a:pt x="778" y="688"/>
                    </a:lnTo>
                    <a:lnTo>
                      <a:pt x="778" y="688"/>
                    </a:lnTo>
                    <a:lnTo>
                      <a:pt x="836" y="692"/>
                    </a:lnTo>
                    <a:lnTo>
                      <a:pt x="836" y="692"/>
                    </a:lnTo>
                    <a:lnTo>
                      <a:pt x="838" y="696"/>
                    </a:lnTo>
                    <a:lnTo>
                      <a:pt x="840" y="696"/>
                    </a:lnTo>
                    <a:lnTo>
                      <a:pt x="846" y="698"/>
                    </a:lnTo>
                    <a:lnTo>
                      <a:pt x="846" y="698"/>
                    </a:lnTo>
                    <a:lnTo>
                      <a:pt x="846" y="690"/>
                    </a:lnTo>
                    <a:lnTo>
                      <a:pt x="844" y="682"/>
                    </a:lnTo>
                    <a:lnTo>
                      <a:pt x="844" y="682"/>
                    </a:lnTo>
                    <a:lnTo>
                      <a:pt x="838" y="686"/>
                    </a:lnTo>
                    <a:lnTo>
                      <a:pt x="836" y="690"/>
                    </a:lnTo>
                    <a:lnTo>
                      <a:pt x="836" y="692"/>
                    </a:lnTo>
                    <a:lnTo>
                      <a:pt x="836" y="692"/>
                    </a:lnTo>
                    <a:lnTo>
                      <a:pt x="870" y="690"/>
                    </a:lnTo>
                    <a:lnTo>
                      <a:pt x="870" y="690"/>
                    </a:lnTo>
                    <a:lnTo>
                      <a:pt x="878" y="690"/>
                    </a:lnTo>
                    <a:lnTo>
                      <a:pt x="882" y="690"/>
                    </a:lnTo>
                    <a:lnTo>
                      <a:pt x="884" y="688"/>
                    </a:lnTo>
                    <a:lnTo>
                      <a:pt x="884" y="688"/>
                    </a:lnTo>
                    <a:lnTo>
                      <a:pt x="872" y="684"/>
                    </a:lnTo>
                    <a:lnTo>
                      <a:pt x="872" y="684"/>
                    </a:lnTo>
                    <a:lnTo>
                      <a:pt x="870" y="690"/>
                    </a:lnTo>
                    <a:lnTo>
                      <a:pt x="870" y="690"/>
                    </a:lnTo>
                    <a:lnTo>
                      <a:pt x="960" y="694"/>
                    </a:lnTo>
                    <a:lnTo>
                      <a:pt x="960" y="694"/>
                    </a:lnTo>
                    <a:lnTo>
                      <a:pt x="964" y="694"/>
                    </a:lnTo>
                    <a:lnTo>
                      <a:pt x="966" y="692"/>
                    </a:lnTo>
                    <a:lnTo>
                      <a:pt x="972" y="686"/>
                    </a:lnTo>
                    <a:lnTo>
                      <a:pt x="972" y="686"/>
                    </a:lnTo>
                    <a:lnTo>
                      <a:pt x="966" y="686"/>
                    </a:lnTo>
                    <a:lnTo>
                      <a:pt x="964" y="688"/>
                    </a:lnTo>
                    <a:lnTo>
                      <a:pt x="960" y="690"/>
                    </a:lnTo>
                    <a:lnTo>
                      <a:pt x="960" y="694"/>
                    </a:lnTo>
                    <a:lnTo>
                      <a:pt x="960" y="694"/>
                    </a:lnTo>
                    <a:lnTo>
                      <a:pt x="992" y="690"/>
                    </a:lnTo>
                    <a:lnTo>
                      <a:pt x="992" y="690"/>
                    </a:lnTo>
                    <a:lnTo>
                      <a:pt x="994" y="696"/>
                    </a:lnTo>
                    <a:lnTo>
                      <a:pt x="994" y="696"/>
                    </a:lnTo>
                    <a:lnTo>
                      <a:pt x="996" y="696"/>
                    </a:lnTo>
                    <a:lnTo>
                      <a:pt x="998" y="694"/>
                    </a:lnTo>
                    <a:lnTo>
                      <a:pt x="998" y="688"/>
                    </a:lnTo>
                    <a:lnTo>
                      <a:pt x="998" y="688"/>
                    </a:lnTo>
                    <a:lnTo>
                      <a:pt x="994" y="688"/>
                    </a:lnTo>
                    <a:lnTo>
                      <a:pt x="992" y="690"/>
                    </a:lnTo>
                    <a:lnTo>
                      <a:pt x="992" y="690"/>
                    </a:lnTo>
                    <a:lnTo>
                      <a:pt x="1038" y="768"/>
                    </a:lnTo>
                    <a:lnTo>
                      <a:pt x="1038" y="768"/>
                    </a:lnTo>
                    <a:lnTo>
                      <a:pt x="1036" y="768"/>
                    </a:lnTo>
                    <a:lnTo>
                      <a:pt x="1034" y="768"/>
                    </a:lnTo>
                    <a:lnTo>
                      <a:pt x="1032" y="770"/>
                    </a:lnTo>
                    <a:lnTo>
                      <a:pt x="1034" y="770"/>
                    </a:lnTo>
                    <a:lnTo>
                      <a:pt x="1034" y="770"/>
                    </a:lnTo>
                    <a:lnTo>
                      <a:pt x="1044" y="768"/>
                    </a:lnTo>
                    <a:lnTo>
                      <a:pt x="1044" y="768"/>
                    </a:lnTo>
                    <a:lnTo>
                      <a:pt x="1038" y="768"/>
                    </a:lnTo>
                    <a:lnTo>
                      <a:pt x="1038" y="768"/>
                    </a:lnTo>
                    <a:lnTo>
                      <a:pt x="1262" y="800"/>
                    </a:lnTo>
                    <a:lnTo>
                      <a:pt x="1262" y="800"/>
                    </a:lnTo>
                    <a:lnTo>
                      <a:pt x="1260" y="790"/>
                    </a:lnTo>
                    <a:lnTo>
                      <a:pt x="1260" y="780"/>
                    </a:lnTo>
                    <a:lnTo>
                      <a:pt x="1260" y="780"/>
                    </a:lnTo>
                    <a:lnTo>
                      <a:pt x="1252" y="782"/>
                    </a:lnTo>
                    <a:lnTo>
                      <a:pt x="1242" y="788"/>
                    </a:lnTo>
                    <a:lnTo>
                      <a:pt x="1238" y="790"/>
                    </a:lnTo>
                    <a:lnTo>
                      <a:pt x="1234" y="790"/>
                    </a:lnTo>
                    <a:lnTo>
                      <a:pt x="1232" y="788"/>
                    </a:lnTo>
                    <a:lnTo>
                      <a:pt x="1232" y="780"/>
                    </a:lnTo>
                    <a:lnTo>
                      <a:pt x="1232" y="780"/>
                    </a:lnTo>
                    <a:lnTo>
                      <a:pt x="1242" y="780"/>
                    </a:lnTo>
                    <a:lnTo>
                      <a:pt x="1246" y="780"/>
                    </a:lnTo>
                    <a:lnTo>
                      <a:pt x="1248" y="778"/>
                    </a:lnTo>
                    <a:lnTo>
                      <a:pt x="1248" y="778"/>
                    </a:lnTo>
                    <a:lnTo>
                      <a:pt x="1248" y="774"/>
                    </a:lnTo>
                    <a:lnTo>
                      <a:pt x="1246" y="770"/>
                    </a:lnTo>
                    <a:lnTo>
                      <a:pt x="1244" y="766"/>
                    </a:lnTo>
                    <a:lnTo>
                      <a:pt x="1242" y="760"/>
                    </a:lnTo>
                    <a:lnTo>
                      <a:pt x="1242" y="760"/>
                    </a:lnTo>
                    <a:lnTo>
                      <a:pt x="1248" y="756"/>
                    </a:lnTo>
                    <a:lnTo>
                      <a:pt x="1256" y="754"/>
                    </a:lnTo>
                    <a:lnTo>
                      <a:pt x="1256" y="754"/>
                    </a:lnTo>
                    <a:lnTo>
                      <a:pt x="1256" y="744"/>
                    </a:lnTo>
                    <a:lnTo>
                      <a:pt x="1256" y="740"/>
                    </a:lnTo>
                    <a:lnTo>
                      <a:pt x="1258" y="736"/>
                    </a:lnTo>
                    <a:lnTo>
                      <a:pt x="1258" y="736"/>
                    </a:lnTo>
                    <a:lnTo>
                      <a:pt x="1258" y="752"/>
                    </a:lnTo>
                    <a:lnTo>
                      <a:pt x="1258" y="752"/>
                    </a:lnTo>
                    <a:lnTo>
                      <a:pt x="1266" y="750"/>
                    </a:lnTo>
                    <a:lnTo>
                      <a:pt x="1272" y="748"/>
                    </a:lnTo>
                    <a:lnTo>
                      <a:pt x="1272" y="748"/>
                    </a:lnTo>
                    <a:lnTo>
                      <a:pt x="1270" y="740"/>
                    </a:lnTo>
                    <a:lnTo>
                      <a:pt x="1268" y="736"/>
                    </a:lnTo>
                    <a:lnTo>
                      <a:pt x="1264" y="732"/>
                    </a:lnTo>
                    <a:lnTo>
                      <a:pt x="1258" y="730"/>
                    </a:lnTo>
                    <a:lnTo>
                      <a:pt x="1248" y="724"/>
                    </a:lnTo>
                    <a:lnTo>
                      <a:pt x="1238" y="718"/>
                    </a:lnTo>
                    <a:lnTo>
                      <a:pt x="1238" y="718"/>
                    </a:lnTo>
                    <a:lnTo>
                      <a:pt x="1246" y="720"/>
                    </a:lnTo>
                    <a:lnTo>
                      <a:pt x="1250" y="720"/>
                    </a:lnTo>
                    <a:lnTo>
                      <a:pt x="1256" y="720"/>
                    </a:lnTo>
                    <a:lnTo>
                      <a:pt x="1256" y="720"/>
                    </a:lnTo>
                    <a:lnTo>
                      <a:pt x="1258" y="716"/>
                    </a:lnTo>
                    <a:lnTo>
                      <a:pt x="1258" y="716"/>
                    </a:lnTo>
                    <a:lnTo>
                      <a:pt x="1256" y="712"/>
                    </a:lnTo>
                    <a:lnTo>
                      <a:pt x="1254" y="708"/>
                    </a:lnTo>
                    <a:lnTo>
                      <a:pt x="1246" y="702"/>
                    </a:lnTo>
                    <a:lnTo>
                      <a:pt x="1240" y="696"/>
                    </a:lnTo>
                    <a:lnTo>
                      <a:pt x="1238" y="692"/>
                    </a:lnTo>
                    <a:lnTo>
                      <a:pt x="1240" y="688"/>
                    </a:lnTo>
                    <a:lnTo>
                      <a:pt x="1240" y="688"/>
                    </a:lnTo>
                    <a:lnTo>
                      <a:pt x="1222" y="690"/>
                    </a:lnTo>
                    <a:lnTo>
                      <a:pt x="1208" y="696"/>
                    </a:lnTo>
                    <a:lnTo>
                      <a:pt x="1180" y="706"/>
                    </a:lnTo>
                    <a:lnTo>
                      <a:pt x="1180" y="706"/>
                    </a:lnTo>
                    <a:lnTo>
                      <a:pt x="1114" y="730"/>
                    </a:lnTo>
                    <a:lnTo>
                      <a:pt x="1082" y="742"/>
                    </a:lnTo>
                    <a:lnTo>
                      <a:pt x="1052" y="756"/>
                    </a:lnTo>
                    <a:lnTo>
                      <a:pt x="1052" y="756"/>
                    </a:lnTo>
                    <a:lnTo>
                      <a:pt x="1036" y="766"/>
                    </a:lnTo>
                    <a:lnTo>
                      <a:pt x="1036" y="766"/>
                    </a:lnTo>
                    <a:lnTo>
                      <a:pt x="1042" y="766"/>
                    </a:lnTo>
                    <a:lnTo>
                      <a:pt x="1048" y="768"/>
                    </a:lnTo>
                    <a:lnTo>
                      <a:pt x="1054" y="766"/>
                    </a:lnTo>
                    <a:lnTo>
                      <a:pt x="1058" y="768"/>
                    </a:lnTo>
                    <a:lnTo>
                      <a:pt x="1058" y="768"/>
                    </a:lnTo>
                    <a:lnTo>
                      <a:pt x="1054" y="768"/>
                    </a:lnTo>
                    <a:lnTo>
                      <a:pt x="1052" y="770"/>
                    </a:lnTo>
                    <a:lnTo>
                      <a:pt x="1052" y="770"/>
                    </a:lnTo>
                    <a:lnTo>
                      <a:pt x="1058" y="770"/>
                    </a:lnTo>
                    <a:lnTo>
                      <a:pt x="1060" y="772"/>
                    </a:lnTo>
                    <a:lnTo>
                      <a:pt x="1064" y="776"/>
                    </a:lnTo>
                    <a:lnTo>
                      <a:pt x="1064" y="780"/>
                    </a:lnTo>
                    <a:lnTo>
                      <a:pt x="1064" y="780"/>
                    </a:lnTo>
                    <a:lnTo>
                      <a:pt x="1060" y="784"/>
                    </a:lnTo>
                    <a:lnTo>
                      <a:pt x="1056" y="784"/>
                    </a:lnTo>
                    <a:lnTo>
                      <a:pt x="1046" y="780"/>
                    </a:lnTo>
                    <a:lnTo>
                      <a:pt x="1040" y="778"/>
                    </a:lnTo>
                    <a:lnTo>
                      <a:pt x="1034" y="778"/>
                    </a:lnTo>
                    <a:lnTo>
                      <a:pt x="1030" y="780"/>
                    </a:lnTo>
                    <a:lnTo>
                      <a:pt x="1026" y="784"/>
                    </a:lnTo>
                    <a:lnTo>
                      <a:pt x="1026" y="784"/>
                    </a:lnTo>
                    <a:lnTo>
                      <a:pt x="1020" y="800"/>
                    </a:lnTo>
                    <a:lnTo>
                      <a:pt x="1018" y="806"/>
                    </a:lnTo>
                    <a:lnTo>
                      <a:pt x="1014" y="814"/>
                    </a:lnTo>
                    <a:lnTo>
                      <a:pt x="1014" y="822"/>
                    </a:lnTo>
                    <a:lnTo>
                      <a:pt x="1016" y="832"/>
                    </a:lnTo>
                    <a:lnTo>
                      <a:pt x="1022" y="840"/>
                    </a:lnTo>
                    <a:lnTo>
                      <a:pt x="1032" y="850"/>
                    </a:lnTo>
                    <a:lnTo>
                      <a:pt x="1032" y="850"/>
                    </a:lnTo>
                    <a:lnTo>
                      <a:pt x="1030" y="844"/>
                    </a:lnTo>
                    <a:lnTo>
                      <a:pt x="1026" y="838"/>
                    </a:lnTo>
                    <a:lnTo>
                      <a:pt x="1024" y="832"/>
                    </a:lnTo>
                    <a:lnTo>
                      <a:pt x="1022" y="828"/>
                    </a:lnTo>
                    <a:lnTo>
                      <a:pt x="1022" y="828"/>
                    </a:lnTo>
                    <a:lnTo>
                      <a:pt x="1024" y="824"/>
                    </a:lnTo>
                    <a:lnTo>
                      <a:pt x="1026" y="822"/>
                    </a:lnTo>
                    <a:lnTo>
                      <a:pt x="1030" y="822"/>
                    </a:lnTo>
                    <a:lnTo>
                      <a:pt x="1034" y="822"/>
                    </a:lnTo>
                    <a:lnTo>
                      <a:pt x="1042" y="826"/>
                    </a:lnTo>
                    <a:lnTo>
                      <a:pt x="1050" y="828"/>
                    </a:lnTo>
                    <a:lnTo>
                      <a:pt x="1050" y="828"/>
                    </a:lnTo>
                    <a:lnTo>
                      <a:pt x="1054" y="826"/>
                    </a:lnTo>
                    <a:lnTo>
                      <a:pt x="1058" y="824"/>
                    </a:lnTo>
                    <a:lnTo>
                      <a:pt x="1070" y="816"/>
                    </a:lnTo>
                    <a:lnTo>
                      <a:pt x="1070" y="816"/>
                    </a:lnTo>
                    <a:lnTo>
                      <a:pt x="1076" y="814"/>
                    </a:lnTo>
                    <a:lnTo>
                      <a:pt x="1082" y="812"/>
                    </a:lnTo>
                    <a:lnTo>
                      <a:pt x="1086" y="816"/>
                    </a:lnTo>
                    <a:lnTo>
                      <a:pt x="1088" y="822"/>
                    </a:lnTo>
                    <a:lnTo>
                      <a:pt x="1088" y="822"/>
                    </a:lnTo>
                    <a:lnTo>
                      <a:pt x="1088" y="826"/>
                    </a:lnTo>
                    <a:lnTo>
                      <a:pt x="1086" y="830"/>
                    </a:lnTo>
                    <a:lnTo>
                      <a:pt x="1080" y="838"/>
                    </a:lnTo>
                    <a:lnTo>
                      <a:pt x="1072" y="844"/>
                    </a:lnTo>
                    <a:lnTo>
                      <a:pt x="1068" y="852"/>
                    </a:lnTo>
                    <a:lnTo>
                      <a:pt x="1068" y="852"/>
                    </a:lnTo>
                    <a:lnTo>
                      <a:pt x="1066" y="860"/>
                    </a:lnTo>
                    <a:lnTo>
                      <a:pt x="1064" y="868"/>
                    </a:lnTo>
                    <a:lnTo>
                      <a:pt x="1066" y="882"/>
                    </a:lnTo>
                    <a:lnTo>
                      <a:pt x="1066" y="898"/>
                    </a:lnTo>
                    <a:lnTo>
                      <a:pt x="1066" y="916"/>
                    </a:lnTo>
                    <a:lnTo>
                      <a:pt x="1066" y="916"/>
                    </a:lnTo>
                    <a:lnTo>
                      <a:pt x="1070" y="916"/>
                    </a:lnTo>
                    <a:lnTo>
                      <a:pt x="1074" y="916"/>
                    </a:lnTo>
                    <a:lnTo>
                      <a:pt x="1078" y="914"/>
                    </a:lnTo>
                    <a:lnTo>
                      <a:pt x="1082" y="916"/>
                    </a:lnTo>
                    <a:lnTo>
                      <a:pt x="1082" y="916"/>
                    </a:lnTo>
                    <a:lnTo>
                      <a:pt x="1074" y="918"/>
                    </a:lnTo>
                    <a:lnTo>
                      <a:pt x="1066" y="918"/>
                    </a:lnTo>
                    <a:lnTo>
                      <a:pt x="1066" y="918"/>
                    </a:lnTo>
                    <a:lnTo>
                      <a:pt x="1066" y="920"/>
                    </a:lnTo>
                    <a:lnTo>
                      <a:pt x="1068" y="920"/>
                    </a:lnTo>
                    <a:lnTo>
                      <a:pt x="1070" y="922"/>
                    </a:lnTo>
                    <a:lnTo>
                      <a:pt x="1070" y="924"/>
                    </a:lnTo>
                    <a:lnTo>
                      <a:pt x="1070" y="924"/>
                    </a:lnTo>
                    <a:lnTo>
                      <a:pt x="1070" y="926"/>
                    </a:lnTo>
                    <a:lnTo>
                      <a:pt x="1068" y="926"/>
                    </a:lnTo>
                    <a:lnTo>
                      <a:pt x="1066" y="928"/>
                    </a:lnTo>
                    <a:lnTo>
                      <a:pt x="1066" y="930"/>
                    </a:lnTo>
                    <a:lnTo>
                      <a:pt x="1066" y="930"/>
                    </a:lnTo>
                    <a:lnTo>
                      <a:pt x="1066" y="996"/>
                    </a:lnTo>
                    <a:lnTo>
                      <a:pt x="1068" y="1026"/>
                    </a:lnTo>
                    <a:lnTo>
                      <a:pt x="1070" y="1058"/>
                    </a:lnTo>
                    <a:lnTo>
                      <a:pt x="1070" y="1058"/>
                    </a:lnTo>
                    <a:lnTo>
                      <a:pt x="1078" y="1050"/>
                    </a:lnTo>
                    <a:lnTo>
                      <a:pt x="1084" y="1040"/>
                    </a:lnTo>
                    <a:lnTo>
                      <a:pt x="1088" y="1030"/>
                    </a:lnTo>
                    <a:lnTo>
                      <a:pt x="1090" y="1020"/>
                    </a:lnTo>
                    <a:lnTo>
                      <a:pt x="1090" y="1020"/>
                    </a:lnTo>
                    <a:lnTo>
                      <a:pt x="1098" y="1012"/>
                    </a:lnTo>
                    <a:lnTo>
                      <a:pt x="1102" y="1002"/>
                    </a:lnTo>
                    <a:lnTo>
                      <a:pt x="1108" y="990"/>
                    </a:lnTo>
                    <a:lnTo>
                      <a:pt x="1110" y="980"/>
                    </a:lnTo>
                    <a:lnTo>
                      <a:pt x="1110" y="980"/>
                    </a:lnTo>
                    <a:lnTo>
                      <a:pt x="1106" y="982"/>
                    </a:lnTo>
                    <a:lnTo>
                      <a:pt x="1104" y="982"/>
                    </a:lnTo>
                    <a:lnTo>
                      <a:pt x="1102" y="982"/>
                    </a:lnTo>
                    <a:lnTo>
                      <a:pt x="1100" y="978"/>
                    </a:lnTo>
                    <a:lnTo>
                      <a:pt x="1100" y="978"/>
                    </a:lnTo>
                    <a:lnTo>
                      <a:pt x="1102" y="976"/>
                    </a:lnTo>
                    <a:lnTo>
                      <a:pt x="1106" y="974"/>
                    </a:lnTo>
                    <a:lnTo>
                      <a:pt x="1110" y="974"/>
                    </a:lnTo>
                    <a:lnTo>
                      <a:pt x="1114" y="970"/>
                    </a:lnTo>
                    <a:lnTo>
                      <a:pt x="1114" y="970"/>
                    </a:lnTo>
                    <a:lnTo>
                      <a:pt x="1114" y="968"/>
                    </a:lnTo>
                    <a:lnTo>
                      <a:pt x="1112" y="966"/>
                    </a:lnTo>
                    <a:lnTo>
                      <a:pt x="1112" y="966"/>
                    </a:lnTo>
                    <a:lnTo>
                      <a:pt x="1114" y="964"/>
                    </a:lnTo>
                    <a:lnTo>
                      <a:pt x="1116" y="964"/>
                    </a:lnTo>
                    <a:lnTo>
                      <a:pt x="1118" y="960"/>
                    </a:lnTo>
                    <a:lnTo>
                      <a:pt x="1118" y="960"/>
                    </a:lnTo>
                    <a:lnTo>
                      <a:pt x="1116" y="970"/>
                    </a:lnTo>
                    <a:lnTo>
                      <a:pt x="1116" y="970"/>
                    </a:lnTo>
                    <a:lnTo>
                      <a:pt x="1124" y="966"/>
                    </a:lnTo>
                    <a:lnTo>
                      <a:pt x="1130" y="962"/>
                    </a:lnTo>
                    <a:lnTo>
                      <a:pt x="1138" y="958"/>
                    </a:lnTo>
                    <a:lnTo>
                      <a:pt x="1142" y="956"/>
                    </a:lnTo>
                    <a:lnTo>
                      <a:pt x="1146" y="958"/>
                    </a:lnTo>
                    <a:lnTo>
                      <a:pt x="1146" y="958"/>
                    </a:lnTo>
                    <a:lnTo>
                      <a:pt x="1146" y="960"/>
                    </a:lnTo>
                    <a:lnTo>
                      <a:pt x="1146" y="960"/>
                    </a:lnTo>
                    <a:lnTo>
                      <a:pt x="1132" y="970"/>
                    </a:lnTo>
                    <a:lnTo>
                      <a:pt x="1114" y="978"/>
                    </a:lnTo>
                    <a:lnTo>
                      <a:pt x="1114" y="978"/>
                    </a:lnTo>
                    <a:lnTo>
                      <a:pt x="1112" y="990"/>
                    </a:lnTo>
                    <a:lnTo>
                      <a:pt x="1110" y="1000"/>
                    </a:lnTo>
                    <a:lnTo>
                      <a:pt x="1102" y="1018"/>
                    </a:lnTo>
                    <a:lnTo>
                      <a:pt x="1102" y="1018"/>
                    </a:lnTo>
                    <a:lnTo>
                      <a:pt x="1108" y="1016"/>
                    </a:lnTo>
                    <a:lnTo>
                      <a:pt x="1112" y="1018"/>
                    </a:lnTo>
                    <a:lnTo>
                      <a:pt x="1114" y="1020"/>
                    </a:lnTo>
                    <a:lnTo>
                      <a:pt x="1114" y="1020"/>
                    </a:lnTo>
                    <a:lnTo>
                      <a:pt x="1104" y="1020"/>
                    </a:lnTo>
                    <a:lnTo>
                      <a:pt x="1100" y="1022"/>
                    </a:lnTo>
                    <a:lnTo>
                      <a:pt x="1098" y="1024"/>
                    </a:lnTo>
                    <a:lnTo>
                      <a:pt x="1098" y="1024"/>
                    </a:lnTo>
                    <a:lnTo>
                      <a:pt x="1088" y="1044"/>
                    </a:lnTo>
                    <a:lnTo>
                      <a:pt x="1076" y="1076"/>
                    </a:lnTo>
                    <a:lnTo>
                      <a:pt x="1076" y="1076"/>
                    </a:lnTo>
                    <a:lnTo>
                      <a:pt x="1064" y="1110"/>
                    </a:lnTo>
                    <a:lnTo>
                      <a:pt x="1060" y="1126"/>
                    </a:lnTo>
                    <a:lnTo>
                      <a:pt x="1056" y="1144"/>
                    </a:lnTo>
                    <a:lnTo>
                      <a:pt x="1056" y="1144"/>
                    </a:lnTo>
                    <a:lnTo>
                      <a:pt x="1058" y="1146"/>
                    </a:lnTo>
                    <a:lnTo>
                      <a:pt x="1058" y="1146"/>
                    </a:lnTo>
                    <a:lnTo>
                      <a:pt x="1076" y="1156"/>
                    </a:lnTo>
                    <a:lnTo>
                      <a:pt x="1098" y="1162"/>
                    </a:lnTo>
                    <a:lnTo>
                      <a:pt x="1098" y="1162"/>
                    </a:lnTo>
                    <a:lnTo>
                      <a:pt x="1108" y="1166"/>
                    </a:lnTo>
                    <a:lnTo>
                      <a:pt x="1118" y="1170"/>
                    </a:lnTo>
                    <a:lnTo>
                      <a:pt x="1126" y="1172"/>
                    </a:lnTo>
                    <a:lnTo>
                      <a:pt x="1128" y="1172"/>
                    </a:lnTo>
                    <a:lnTo>
                      <a:pt x="1132" y="1170"/>
                    </a:lnTo>
                    <a:lnTo>
                      <a:pt x="1132" y="1170"/>
                    </a:lnTo>
                    <a:lnTo>
                      <a:pt x="1124" y="1162"/>
                    </a:lnTo>
                    <a:lnTo>
                      <a:pt x="1118" y="1152"/>
                    </a:lnTo>
                    <a:lnTo>
                      <a:pt x="1116" y="1140"/>
                    </a:lnTo>
                    <a:lnTo>
                      <a:pt x="1116" y="1132"/>
                    </a:lnTo>
                    <a:lnTo>
                      <a:pt x="1118" y="1126"/>
                    </a:lnTo>
                    <a:lnTo>
                      <a:pt x="1118" y="1126"/>
                    </a:lnTo>
                    <a:lnTo>
                      <a:pt x="1124" y="1122"/>
                    </a:lnTo>
                    <a:lnTo>
                      <a:pt x="1134" y="1122"/>
                    </a:lnTo>
                    <a:lnTo>
                      <a:pt x="1144" y="1120"/>
                    </a:lnTo>
                    <a:lnTo>
                      <a:pt x="1154" y="1118"/>
                    </a:lnTo>
                    <a:lnTo>
                      <a:pt x="1154" y="1118"/>
                    </a:lnTo>
                    <a:lnTo>
                      <a:pt x="1154" y="1110"/>
                    </a:lnTo>
                    <a:lnTo>
                      <a:pt x="1156" y="1104"/>
                    </a:lnTo>
                    <a:lnTo>
                      <a:pt x="1158" y="1100"/>
                    </a:lnTo>
                    <a:lnTo>
                      <a:pt x="1162" y="1096"/>
                    </a:lnTo>
                    <a:lnTo>
                      <a:pt x="1170" y="1092"/>
                    </a:lnTo>
                    <a:lnTo>
                      <a:pt x="1182" y="1092"/>
                    </a:lnTo>
                    <a:lnTo>
                      <a:pt x="1194" y="1094"/>
                    </a:lnTo>
                    <a:lnTo>
                      <a:pt x="1206" y="1098"/>
                    </a:lnTo>
                    <a:lnTo>
                      <a:pt x="1226" y="1104"/>
                    </a:lnTo>
                    <a:lnTo>
                      <a:pt x="1226" y="1104"/>
                    </a:lnTo>
                    <a:lnTo>
                      <a:pt x="1230" y="1094"/>
                    </a:lnTo>
                    <a:lnTo>
                      <a:pt x="1236" y="1086"/>
                    </a:lnTo>
                    <a:lnTo>
                      <a:pt x="1242" y="1078"/>
                    </a:lnTo>
                    <a:lnTo>
                      <a:pt x="1244" y="1074"/>
                    </a:lnTo>
                    <a:lnTo>
                      <a:pt x="1244" y="1068"/>
                    </a:lnTo>
                    <a:lnTo>
                      <a:pt x="1244" y="1068"/>
                    </a:lnTo>
                    <a:lnTo>
                      <a:pt x="1246" y="1068"/>
                    </a:lnTo>
                    <a:lnTo>
                      <a:pt x="1248" y="1066"/>
                    </a:lnTo>
                    <a:lnTo>
                      <a:pt x="1248" y="1062"/>
                    </a:lnTo>
                    <a:lnTo>
                      <a:pt x="1246" y="1058"/>
                    </a:lnTo>
                    <a:lnTo>
                      <a:pt x="1246" y="1058"/>
                    </a:lnTo>
                    <a:lnTo>
                      <a:pt x="1248" y="1054"/>
                    </a:lnTo>
                    <a:lnTo>
                      <a:pt x="1250" y="1054"/>
                    </a:lnTo>
                    <a:lnTo>
                      <a:pt x="1252" y="1052"/>
                    </a:lnTo>
                    <a:lnTo>
                      <a:pt x="1254" y="1050"/>
                    </a:lnTo>
                    <a:lnTo>
                      <a:pt x="1254" y="1050"/>
                    </a:lnTo>
                    <a:lnTo>
                      <a:pt x="1250" y="1042"/>
                    </a:lnTo>
                    <a:lnTo>
                      <a:pt x="1246" y="1040"/>
                    </a:lnTo>
                    <a:lnTo>
                      <a:pt x="1242" y="1040"/>
                    </a:lnTo>
                    <a:lnTo>
                      <a:pt x="1238" y="1042"/>
                    </a:lnTo>
                    <a:lnTo>
                      <a:pt x="1236" y="1046"/>
                    </a:lnTo>
                    <a:lnTo>
                      <a:pt x="1236" y="1050"/>
                    </a:lnTo>
                    <a:lnTo>
                      <a:pt x="1236" y="1056"/>
                    </a:lnTo>
                    <a:lnTo>
                      <a:pt x="1238" y="1062"/>
                    </a:lnTo>
                    <a:lnTo>
                      <a:pt x="1238" y="1062"/>
                    </a:lnTo>
                    <a:lnTo>
                      <a:pt x="1234" y="1056"/>
                    </a:lnTo>
                    <a:lnTo>
                      <a:pt x="1234" y="1052"/>
                    </a:lnTo>
                    <a:lnTo>
                      <a:pt x="1234" y="1048"/>
                    </a:lnTo>
                    <a:lnTo>
                      <a:pt x="1234" y="1048"/>
                    </a:lnTo>
                    <a:lnTo>
                      <a:pt x="1230" y="1048"/>
                    </a:lnTo>
                    <a:lnTo>
                      <a:pt x="1226" y="1050"/>
                    </a:lnTo>
                    <a:lnTo>
                      <a:pt x="1224" y="1050"/>
                    </a:lnTo>
                    <a:lnTo>
                      <a:pt x="1222" y="1048"/>
                    </a:lnTo>
                    <a:lnTo>
                      <a:pt x="1222" y="1048"/>
                    </a:lnTo>
                    <a:lnTo>
                      <a:pt x="1226" y="1046"/>
                    </a:lnTo>
                    <a:lnTo>
                      <a:pt x="1232" y="1044"/>
                    </a:lnTo>
                    <a:lnTo>
                      <a:pt x="1240" y="1036"/>
                    </a:lnTo>
                    <a:lnTo>
                      <a:pt x="1246" y="1028"/>
                    </a:lnTo>
                    <a:lnTo>
                      <a:pt x="1248" y="1026"/>
                    </a:lnTo>
                    <a:lnTo>
                      <a:pt x="1248" y="1026"/>
                    </a:lnTo>
                    <a:lnTo>
                      <a:pt x="1248" y="1026"/>
                    </a:lnTo>
                    <a:lnTo>
                      <a:pt x="1256" y="1020"/>
                    </a:lnTo>
                    <a:lnTo>
                      <a:pt x="1260" y="1018"/>
                    </a:lnTo>
                    <a:lnTo>
                      <a:pt x="1264" y="1014"/>
                    </a:lnTo>
                    <a:lnTo>
                      <a:pt x="1264" y="1014"/>
                    </a:lnTo>
                    <a:lnTo>
                      <a:pt x="1260" y="1004"/>
                    </a:lnTo>
                    <a:lnTo>
                      <a:pt x="1256" y="1000"/>
                    </a:lnTo>
                    <a:lnTo>
                      <a:pt x="1252" y="998"/>
                    </a:lnTo>
                    <a:lnTo>
                      <a:pt x="1252" y="998"/>
                    </a:lnTo>
                    <a:lnTo>
                      <a:pt x="1254" y="996"/>
                    </a:lnTo>
                    <a:lnTo>
                      <a:pt x="1254" y="994"/>
                    </a:lnTo>
                    <a:lnTo>
                      <a:pt x="1252" y="990"/>
                    </a:lnTo>
                    <a:lnTo>
                      <a:pt x="1252" y="990"/>
                    </a:lnTo>
                    <a:lnTo>
                      <a:pt x="1250" y="992"/>
                    </a:lnTo>
                    <a:lnTo>
                      <a:pt x="1248" y="996"/>
                    </a:lnTo>
                    <a:lnTo>
                      <a:pt x="1246" y="998"/>
                    </a:lnTo>
                    <a:lnTo>
                      <a:pt x="1242" y="1000"/>
                    </a:lnTo>
                    <a:lnTo>
                      <a:pt x="1242" y="1000"/>
                    </a:lnTo>
                    <a:lnTo>
                      <a:pt x="1240" y="996"/>
                    </a:lnTo>
                    <a:lnTo>
                      <a:pt x="1240" y="990"/>
                    </a:lnTo>
                    <a:lnTo>
                      <a:pt x="1242" y="986"/>
                    </a:lnTo>
                    <a:lnTo>
                      <a:pt x="1244" y="982"/>
                    </a:lnTo>
                    <a:lnTo>
                      <a:pt x="1244" y="982"/>
                    </a:lnTo>
                    <a:lnTo>
                      <a:pt x="1240" y="976"/>
                    </a:lnTo>
                    <a:lnTo>
                      <a:pt x="1236" y="974"/>
                    </a:lnTo>
                    <a:lnTo>
                      <a:pt x="1236" y="974"/>
                    </a:lnTo>
                    <a:lnTo>
                      <a:pt x="1218" y="978"/>
                    </a:lnTo>
                    <a:lnTo>
                      <a:pt x="1208" y="980"/>
                    </a:lnTo>
                    <a:lnTo>
                      <a:pt x="1200" y="980"/>
                    </a:lnTo>
                    <a:lnTo>
                      <a:pt x="1192" y="980"/>
                    </a:lnTo>
                    <a:lnTo>
                      <a:pt x="1184" y="976"/>
                    </a:lnTo>
                    <a:lnTo>
                      <a:pt x="1180" y="972"/>
                    </a:lnTo>
                    <a:lnTo>
                      <a:pt x="1178" y="966"/>
                    </a:lnTo>
                    <a:lnTo>
                      <a:pt x="1178" y="966"/>
                    </a:lnTo>
                    <a:lnTo>
                      <a:pt x="1178" y="960"/>
                    </a:lnTo>
                    <a:lnTo>
                      <a:pt x="1178" y="956"/>
                    </a:lnTo>
                    <a:lnTo>
                      <a:pt x="1180" y="952"/>
                    </a:lnTo>
                    <a:lnTo>
                      <a:pt x="1180" y="948"/>
                    </a:lnTo>
                    <a:lnTo>
                      <a:pt x="1180" y="948"/>
                    </a:lnTo>
                    <a:lnTo>
                      <a:pt x="1176" y="944"/>
                    </a:lnTo>
                    <a:lnTo>
                      <a:pt x="1172" y="942"/>
                    </a:lnTo>
                    <a:lnTo>
                      <a:pt x="1168" y="942"/>
                    </a:lnTo>
                    <a:lnTo>
                      <a:pt x="1164" y="944"/>
                    </a:lnTo>
                    <a:lnTo>
                      <a:pt x="1154" y="948"/>
                    </a:lnTo>
                    <a:lnTo>
                      <a:pt x="1146" y="952"/>
                    </a:lnTo>
                    <a:lnTo>
                      <a:pt x="1146" y="952"/>
                    </a:lnTo>
                    <a:lnTo>
                      <a:pt x="1140" y="950"/>
                    </a:lnTo>
                    <a:lnTo>
                      <a:pt x="1136" y="948"/>
                    </a:lnTo>
                    <a:lnTo>
                      <a:pt x="1130" y="946"/>
                    </a:lnTo>
                    <a:lnTo>
                      <a:pt x="1122" y="946"/>
                    </a:lnTo>
                    <a:lnTo>
                      <a:pt x="1122" y="946"/>
                    </a:lnTo>
                    <a:lnTo>
                      <a:pt x="1120" y="950"/>
                    </a:lnTo>
                    <a:lnTo>
                      <a:pt x="1118" y="954"/>
                    </a:lnTo>
                    <a:lnTo>
                      <a:pt x="1118" y="954"/>
                    </a:lnTo>
                    <a:lnTo>
                      <a:pt x="1118" y="952"/>
                    </a:lnTo>
                    <a:lnTo>
                      <a:pt x="1118" y="952"/>
                    </a:lnTo>
                    <a:lnTo>
                      <a:pt x="1118" y="952"/>
                    </a:lnTo>
                    <a:lnTo>
                      <a:pt x="1108" y="960"/>
                    </a:lnTo>
                    <a:lnTo>
                      <a:pt x="1098" y="970"/>
                    </a:lnTo>
                    <a:lnTo>
                      <a:pt x="1098" y="970"/>
                    </a:lnTo>
                    <a:lnTo>
                      <a:pt x="1102" y="968"/>
                    </a:lnTo>
                    <a:lnTo>
                      <a:pt x="1104" y="968"/>
                    </a:lnTo>
                    <a:lnTo>
                      <a:pt x="1104" y="970"/>
                    </a:lnTo>
                    <a:lnTo>
                      <a:pt x="1104" y="970"/>
                    </a:lnTo>
                    <a:lnTo>
                      <a:pt x="1092" y="972"/>
                    </a:lnTo>
                    <a:lnTo>
                      <a:pt x="1088" y="972"/>
                    </a:lnTo>
                    <a:lnTo>
                      <a:pt x="1082" y="970"/>
                    </a:lnTo>
                    <a:lnTo>
                      <a:pt x="1082" y="970"/>
                    </a:lnTo>
                    <a:lnTo>
                      <a:pt x="1082" y="962"/>
                    </a:lnTo>
                    <a:lnTo>
                      <a:pt x="1082" y="952"/>
                    </a:lnTo>
                    <a:lnTo>
                      <a:pt x="1080" y="930"/>
                    </a:lnTo>
                    <a:lnTo>
                      <a:pt x="1080" y="930"/>
                    </a:lnTo>
                    <a:lnTo>
                      <a:pt x="1082" y="928"/>
                    </a:lnTo>
                    <a:lnTo>
                      <a:pt x="1084" y="926"/>
                    </a:lnTo>
                    <a:lnTo>
                      <a:pt x="1088" y="922"/>
                    </a:lnTo>
                    <a:lnTo>
                      <a:pt x="1088" y="918"/>
                    </a:lnTo>
                    <a:lnTo>
                      <a:pt x="1088" y="918"/>
                    </a:lnTo>
                    <a:lnTo>
                      <a:pt x="1084" y="912"/>
                    </a:lnTo>
                    <a:lnTo>
                      <a:pt x="1078" y="908"/>
                    </a:lnTo>
                    <a:lnTo>
                      <a:pt x="1074" y="902"/>
                    </a:lnTo>
                    <a:lnTo>
                      <a:pt x="1072" y="900"/>
                    </a:lnTo>
                    <a:lnTo>
                      <a:pt x="1072" y="896"/>
                    </a:lnTo>
                    <a:lnTo>
                      <a:pt x="1072" y="896"/>
                    </a:lnTo>
                    <a:lnTo>
                      <a:pt x="1072" y="892"/>
                    </a:lnTo>
                    <a:lnTo>
                      <a:pt x="1074" y="888"/>
                    </a:lnTo>
                    <a:lnTo>
                      <a:pt x="1078" y="888"/>
                    </a:lnTo>
                    <a:lnTo>
                      <a:pt x="1082" y="886"/>
                    </a:lnTo>
                    <a:lnTo>
                      <a:pt x="1090" y="888"/>
                    </a:lnTo>
                    <a:lnTo>
                      <a:pt x="1098" y="892"/>
                    </a:lnTo>
                    <a:lnTo>
                      <a:pt x="1098" y="892"/>
                    </a:lnTo>
                    <a:lnTo>
                      <a:pt x="1098" y="900"/>
                    </a:lnTo>
                    <a:lnTo>
                      <a:pt x="1096" y="902"/>
                    </a:lnTo>
                    <a:lnTo>
                      <a:pt x="1096" y="908"/>
                    </a:lnTo>
                    <a:lnTo>
                      <a:pt x="1096" y="908"/>
                    </a:lnTo>
                    <a:lnTo>
                      <a:pt x="1098" y="908"/>
                    </a:lnTo>
                    <a:lnTo>
                      <a:pt x="1100" y="908"/>
                    </a:lnTo>
                    <a:lnTo>
                      <a:pt x="1102" y="908"/>
                    </a:lnTo>
                    <a:lnTo>
                      <a:pt x="1104" y="908"/>
                    </a:lnTo>
                    <a:lnTo>
                      <a:pt x="1104" y="908"/>
                    </a:lnTo>
                    <a:lnTo>
                      <a:pt x="1100" y="914"/>
                    </a:lnTo>
                    <a:lnTo>
                      <a:pt x="1098" y="918"/>
                    </a:lnTo>
                    <a:lnTo>
                      <a:pt x="1098" y="924"/>
                    </a:lnTo>
                    <a:lnTo>
                      <a:pt x="1098" y="924"/>
                    </a:lnTo>
                    <a:lnTo>
                      <a:pt x="1106" y="924"/>
                    </a:lnTo>
                    <a:lnTo>
                      <a:pt x="1112" y="924"/>
                    </a:lnTo>
                    <a:lnTo>
                      <a:pt x="1122" y="918"/>
                    </a:lnTo>
                    <a:lnTo>
                      <a:pt x="1122" y="918"/>
                    </a:lnTo>
                    <a:lnTo>
                      <a:pt x="1118" y="918"/>
                    </a:lnTo>
                    <a:lnTo>
                      <a:pt x="1116" y="916"/>
                    </a:lnTo>
                    <a:lnTo>
                      <a:pt x="1118" y="916"/>
                    </a:lnTo>
                    <a:lnTo>
                      <a:pt x="1118" y="916"/>
                    </a:lnTo>
                    <a:lnTo>
                      <a:pt x="1126" y="918"/>
                    </a:lnTo>
                    <a:lnTo>
                      <a:pt x="1136" y="916"/>
                    </a:lnTo>
                    <a:lnTo>
                      <a:pt x="1136" y="916"/>
                    </a:lnTo>
                    <a:lnTo>
                      <a:pt x="1142" y="920"/>
                    </a:lnTo>
                    <a:lnTo>
                      <a:pt x="1146" y="926"/>
                    </a:lnTo>
                    <a:lnTo>
                      <a:pt x="1150" y="932"/>
                    </a:lnTo>
                    <a:lnTo>
                      <a:pt x="1156" y="936"/>
                    </a:lnTo>
                    <a:lnTo>
                      <a:pt x="1156" y="936"/>
                    </a:lnTo>
                    <a:lnTo>
                      <a:pt x="1160" y="936"/>
                    </a:lnTo>
                    <a:lnTo>
                      <a:pt x="1164" y="932"/>
                    </a:lnTo>
                    <a:lnTo>
                      <a:pt x="1168" y="926"/>
                    </a:lnTo>
                    <a:lnTo>
                      <a:pt x="1168" y="926"/>
                    </a:lnTo>
                    <a:lnTo>
                      <a:pt x="1158" y="922"/>
                    </a:lnTo>
                    <a:lnTo>
                      <a:pt x="1150" y="918"/>
                    </a:lnTo>
                    <a:lnTo>
                      <a:pt x="1150" y="918"/>
                    </a:lnTo>
                    <a:lnTo>
                      <a:pt x="1170" y="924"/>
                    </a:lnTo>
                    <a:lnTo>
                      <a:pt x="1170" y="924"/>
                    </a:lnTo>
                    <a:lnTo>
                      <a:pt x="1174" y="916"/>
                    </a:lnTo>
                    <a:lnTo>
                      <a:pt x="1178" y="908"/>
                    </a:lnTo>
                    <a:lnTo>
                      <a:pt x="1178" y="908"/>
                    </a:lnTo>
                    <a:lnTo>
                      <a:pt x="1168" y="904"/>
                    </a:lnTo>
                    <a:lnTo>
                      <a:pt x="1154" y="904"/>
                    </a:lnTo>
                    <a:lnTo>
                      <a:pt x="1142" y="906"/>
                    </a:lnTo>
                    <a:lnTo>
                      <a:pt x="1132" y="910"/>
                    </a:lnTo>
                    <a:lnTo>
                      <a:pt x="1132" y="910"/>
                    </a:lnTo>
                    <a:lnTo>
                      <a:pt x="1148" y="918"/>
                    </a:lnTo>
                    <a:lnTo>
                      <a:pt x="1148" y="918"/>
                    </a:lnTo>
                    <a:lnTo>
                      <a:pt x="1130" y="912"/>
                    </a:lnTo>
                    <a:lnTo>
                      <a:pt x="1122" y="910"/>
                    </a:lnTo>
                    <a:lnTo>
                      <a:pt x="1110" y="908"/>
                    </a:lnTo>
                    <a:lnTo>
                      <a:pt x="1110" y="908"/>
                    </a:lnTo>
                    <a:lnTo>
                      <a:pt x="1114" y="906"/>
                    </a:lnTo>
                    <a:lnTo>
                      <a:pt x="1118" y="902"/>
                    </a:lnTo>
                    <a:lnTo>
                      <a:pt x="1118" y="902"/>
                    </a:lnTo>
                    <a:lnTo>
                      <a:pt x="1114" y="900"/>
                    </a:lnTo>
                    <a:lnTo>
                      <a:pt x="1112" y="898"/>
                    </a:lnTo>
                    <a:lnTo>
                      <a:pt x="1112" y="898"/>
                    </a:lnTo>
                    <a:lnTo>
                      <a:pt x="1112" y="898"/>
                    </a:lnTo>
                    <a:lnTo>
                      <a:pt x="1116" y="900"/>
                    </a:lnTo>
                    <a:lnTo>
                      <a:pt x="1120" y="902"/>
                    </a:lnTo>
                    <a:lnTo>
                      <a:pt x="1120" y="902"/>
                    </a:lnTo>
                    <a:lnTo>
                      <a:pt x="1124" y="900"/>
                    </a:lnTo>
                    <a:lnTo>
                      <a:pt x="1128" y="896"/>
                    </a:lnTo>
                    <a:lnTo>
                      <a:pt x="1132" y="888"/>
                    </a:lnTo>
                    <a:lnTo>
                      <a:pt x="1134" y="882"/>
                    </a:lnTo>
                    <a:lnTo>
                      <a:pt x="1132" y="878"/>
                    </a:lnTo>
                    <a:lnTo>
                      <a:pt x="1130" y="874"/>
                    </a:lnTo>
                    <a:lnTo>
                      <a:pt x="1124" y="872"/>
                    </a:lnTo>
                    <a:lnTo>
                      <a:pt x="1124" y="872"/>
                    </a:lnTo>
                    <a:lnTo>
                      <a:pt x="1130" y="872"/>
                    </a:lnTo>
                    <a:lnTo>
                      <a:pt x="1134" y="872"/>
                    </a:lnTo>
                    <a:lnTo>
                      <a:pt x="1138" y="874"/>
                    </a:lnTo>
                    <a:lnTo>
                      <a:pt x="1144" y="874"/>
                    </a:lnTo>
                    <a:lnTo>
                      <a:pt x="1144" y="874"/>
                    </a:lnTo>
                    <a:lnTo>
                      <a:pt x="1142" y="866"/>
                    </a:lnTo>
                    <a:lnTo>
                      <a:pt x="1144" y="858"/>
                    </a:lnTo>
                    <a:lnTo>
                      <a:pt x="1146" y="854"/>
                    </a:lnTo>
                    <a:lnTo>
                      <a:pt x="1152" y="852"/>
                    </a:lnTo>
                    <a:lnTo>
                      <a:pt x="1152" y="852"/>
                    </a:lnTo>
                    <a:lnTo>
                      <a:pt x="1158" y="852"/>
                    </a:lnTo>
                    <a:lnTo>
                      <a:pt x="1162" y="856"/>
                    </a:lnTo>
                    <a:lnTo>
                      <a:pt x="1168" y="858"/>
                    </a:lnTo>
                    <a:lnTo>
                      <a:pt x="1174" y="858"/>
                    </a:lnTo>
                    <a:lnTo>
                      <a:pt x="1174" y="858"/>
                    </a:lnTo>
                    <a:lnTo>
                      <a:pt x="1174" y="856"/>
                    </a:lnTo>
                    <a:lnTo>
                      <a:pt x="1174" y="854"/>
                    </a:lnTo>
                    <a:lnTo>
                      <a:pt x="1174" y="852"/>
                    </a:lnTo>
                    <a:lnTo>
                      <a:pt x="1176" y="850"/>
                    </a:lnTo>
                    <a:lnTo>
                      <a:pt x="1176" y="850"/>
                    </a:lnTo>
                    <a:lnTo>
                      <a:pt x="1176" y="858"/>
                    </a:lnTo>
                    <a:lnTo>
                      <a:pt x="1176" y="858"/>
                    </a:lnTo>
                    <a:lnTo>
                      <a:pt x="1184" y="860"/>
                    </a:lnTo>
                    <a:lnTo>
                      <a:pt x="1192" y="864"/>
                    </a:lnTo>
                    <a:lnTo>
                      <a:pt x="1200" y="868"/>
                    </a:lnTo>
                    <a:lnTo>
                      <a:pt x="1206" y="872"/>
                    </a:lnTo>
                    <a:lnTo>
                      <a:pt x="1206" y="872"/>
                    </a:lnTo>
                    <a:lnTo>
                      <a:pt x="1204" y="860"/>
                    </a:lnTo>
                    <a:lnTo>
                      <a:pt x="1202" y="852"/>
                    </a:lnTo>
                    <a:lnTo>
                      <a:pt x="1202" y="852"/>
                    </a:lnTo>
                    <a:lnTo>
                      <a:pt x="1206" y="860"/>
                    </a:lnTo>
                    <a:lnTo>
                      <a:pt x="1210" y="868"/>
                    </a:lnTo>
                    <a:lnTo>
                      <a:pt x="1212" y="870"/>
                    </a:lnTo>
                    <a:lnTo>
                      <a:pt x="1216" y="872"/>
                    </a:lnTo>
                    <a:lnTo>
                      <a:pt x="1220" y="874"/>
                    </a:lnTo>
                    <a:lnTo>
                      <a:pt x="1224" y="874"/>
                    </a:lnTo>
                    <a:lnTo>
                      <a:pt x="1224" y="874"/>
                    </a:lnTo>
                    <a:lnTo>
                      <a:pt x="1224" y="866"/>
                    </a:lnTo>
                    <a:lnTo>
                      <a:pt x="1222" y="860"/>
                    </a:lnTo>
                    <a:lnTo>
                      <a:pt x="1224" y="858"/>
                    </a:lnTo>
                    <a:lnTo>
                      <a:pt x="1224" y="858"/>
                    </a:lnTo>
                    <a:lnTo>
                      <a:pt x="1226" y="866"/>
                    </a:lnTo>
                    <a:lnTo>
                      <a:pt x="1228" y="874"/>
                    </a:lnTo>
                    <a:lnTo>
                      <a:pt x="1228" y="874"/>
                    </a:lnTo>
                    <a:lnTo>
                      <a:pt x="1230" y="866"/>
                    </a:lnTo>
                    <a:lnTo>
                      <a:pt x="1234" y="858"/>
                    </a:lnTo>
                    <a:lnTo>
                      <a:pt x="1238" y="850"/>
                    </a:lnTo>
                    <a:lnTo>
                      <a:pt x="1240" y="840"/>
                    </a:lnTo>
                    <a:lnTo>
                      <a:pt x="1240" y="840"/>
                    </a:lnTo>
                    <a:lnTo>
                      <a:pt x="1242" y="826"/>
                    </a:lnTo>
                    <a:lnTo>
                      <a:pt x="1242" y="818"/>
                    </a:lnTo>
                    <a:lnTo>
                      <a:pt x="1246" y="810"/>
                    </a:lnTo>
                    <a:lnTo>
                      <a:pt x="1246" y="810"/>
                    </a:lnTo>
                    <a:lnTo>
                      <a:pt x="1234" y="806"/>
                    </a:lnTo>
                    <a:lnTo>
                      <a:pt x="1230" y="804"/>
                    </a:lnTo>
                    <a:lnTo>
                      <a:pt x="1228" y="800"/>
                    </a:lnTo>
                    <a:lnTo>
                      <a:pt x="1228" y="800"/>
                    </a:lnTo>
                    <a:lnTo>
                      <a:pt x="1240" y="802"/>
                    </a:lnTo>
                    <a:lnTo>
                      <a:pt x="1250" y="802"/>
                    </a:lnTo>
                    <a:lnTo>
                      <a:pt x="1250" y="802"/>
                    </a:lnTo>
                    <a:lnTo>
                      <a:pt x="1240" y="802"/>
                    </a:lnTo>
                    <a:lnTo>
                      <a:pt x="1236" y="802"/>
                    </a:lnTo>
                    <a:lnTo>
                      <a:pt x="1232" y="804"/>
                    </a:lnTo>
                    <a:lnTo>
                      <a:pt x="1232" y="804"/>
                    </a:lnTo>
                    <a:lnTo>
                      <a:pt x="1240" y="808"/>
                    </a:lnTo>
                    <a:lnTo>
                      <a:pt x="1246" y="810"/>
                    </a:lnTo>
                    <a:lnTo>
                      <a:pt x="1246" y="810"/>
                    </a:lnTo>
                    <a:lnTo>
                      <a:pt x="1250" y="804"/>
                    </a:lnTo>
                    <a:lnTo>
                      <a:pt x="1254" y="800"/>
                    </a:lnTo>
                    <a:lnTo>
                      <a:pt x="1258" y="798"/>
                    </a:lnTo>
                    <a:lnTo>
                      <a:pt x="1262" y="800"/>
                    </a:lnTo>
                    <a:lnTo>
                      <a:pt x="1262" y="800"/>
                    </a:lnTo>
                    <a:lnTo>
                      <a:pt x="1124" y="1176"/>
                    </a:lnTo>
                    <a:lnTo>
                      <a:pt x="1124" y="1176"/>
                    </a:lnTo>
                    <a:lnTo>
                      <a:pt x="1136" y="1180"/>
                    </a:lnTo>
                    <a:lnTo>
                      <a:pt x="1144" y="1186"/>
                    </a:lnTo>
                    <a:lnTo>
                      <a:pt x="1144" y="1186"/>
                    </a:lnTo>
                    <a:lnTo>
                      <a:pt x="1152" y="1180"/>
                    </a:lnTo>
                    <a:lnTo>
                      <a:pt x="1156" y="1178"/>
                    </a:lnTo>
                    <a:lnTo>
                      <a:pt x="1162" y="1176"/>
                    </a:lnTo>
                    <a:lnTo>
                      <a:pt x="1162" y="1176"/>
                    </a:lnTo>
                    <a:lnTo>
                      <a:pt x="1162" y="1170"/>
                    </a:lnTo>
                    <a:lnTo>
                      <a:pt x="1162" y="1166"/>
                    </a:lnTo>
                    <a:lnTo>
                      <a:pt x="1164" y="1154"/>
                    </a:lnTo>
                    <a:lnTo>
                      <a:pt x="1164" y="1154"/>
                    </a:lnTo>
                    <a:lnTo>
                      <a:pt x="1158" y="1156"/>
                    </a:lnTo>
                    <a:lnTo>
                      <a:pt x="1152" y="1158"/>
                    </a:lnTo>
                    <a:lnTo>
                      <a:pt x="1142" y="1162"/>
                    </a:lnTo>
                    <a:lnTo>
                      <a:pt x="1134" y="1170"/>
                    </a:lnTo>
                    <a:lnTo>
                      <a:pt x="1124" y="1176"/>
                    </a:lnTo>
                    <a:lnTo>
                      <a:pt x="1124" y="1176"/>
                    </a:lnTo>
                    <a:lnTo>
                      <a:pt x="708" y="716"/>
                    </a:lnTo>
                    <a:lnTo>
                      <a:pt x="708" y="716"/>
                    </a:lnTo>
                    <a:lnTo>
                      <a:pt x="702" y="710"/>
                    </a:lnTo>
                    <a:lnTo>
                      <a:pt x="698" y="702"/>
                    </a:lnTo>
                    <a:lnTo>
                      <a:pt x="692" y="692"/>
                    </a:lnTo>
                    <a:lnTo>
                      <a:pt x="690" y="690"/>
                    </a:lnTo>
                    <a:lnTo>
                      <a:pt x="686" y="690"/>
                    </a:lnTo>
                    <a:lnTo>
                      <a:pt x="686" y="690"/>
                    </a:lnTo>
                    <a:lnTo>
                      <a:pt x="684" y="690"/>
                    </a:lnTo>
                    <a:lnTo>
                      <a:pt x="682" y="692"/>
                    </a:lnTo>
                    <a:lnTo>
                      <a:pt x="678" y="700"/>
                    </a:lnTo>
                    <a:lnTo>
                      <a:pt x="676" y="710"/>
                    </a:lnTo>
                    <a:lnTo>
                      <a:pt x="674" y="716"/>
                    </a:lnTo>
                    <a:lnTo>
                      <a:pt x="674" y="716"/>
                    </a:lnTo>
                    <a:lnTo>
                      <a:pt x="676" y="718"/>
                    </a:lnTo>
                    <a:lnTo>
                      <a:pt x="680" y="722"/>
                    </a:lnTo>
                    <a:lnTo>
                      <a:pt x="680" y="722"/>
                    </a:lnTo>
                    <a:lnTo>
                      <a:pt x="676" y="720"/>
                    </a:lnTo>
                    <a:lnTo>
                      <a:pt x="674" y="718"/>
                    </a:lnTo>
                    <a:lnTo>
                      <a:pt x="674" y="718"/>
                    </a:lnTo>
                    <a:lnTo>
                      <a:pt x="674" y="720"/>
                    </a:lnTo>
                    <a:lnTo>
                      <a:pt x="674" y="726"/>
                    </a:lnTo>
                    <a:lnTo>
                      <a:pt x="676" y="730"/>
                    </a:lnTo>
                    <a:lnTo>
                      <a:pt x="676" y="730"/>
                    </a:lnTo>
                    <a:lnTo>
                      <a:pt x="678" y="728"/>
                    </a:lnTo>
                    <a:lnTo>
                      <a:pt x="680" y="726"/>
                    </a:lnTo>
                    <a:lnTo>
                      <a:pt x="682" y="724"/>
                    </a:lnTo>
                    <a:lnTo>
                      <a:pt x="682" y="722"/>
                    </a:lnTo>
                    <a:lnTo>
                      <a:pt x="682" y="722"/>
                    </a:lnTo>
                    <a:lnTo>
                      <a:pt x="686" y="722"/>
                    </a:lnTo>
                    <a:lnTo>
                      <a:pt x="694" y="720"/>
                    </a:lnTo>
                    <a:lnTo>
                      <a:pt x="708" y="716"/>
                    </a:lnTo>
                    <a:lnTo>
                      <a:pt x="708" y="716"/>
                    </a:lnTo>
                    <a:lnTo>
                      <a:pt x="888" y="716"/>
                    </a:lnTo>
                    <a:lnTo>
                      <a:pt x="888" y="716"/>
                    </a:lnTo>
                    <a:lnTo>
                      <a:pt x="892" y="716"/>
                    </a:lnTo>
                    <a:lnTo>
                      <a:pt x="896" y="716"/>
                    </a:lnTo>
                    <a:lnTo>
                      <a:pt x="902" y="714"/>
                    </a:lnTo>
                    <a:lnTo>
                      <a:pt x="902" y="714"/>
                    </a:lnTo>
                    <a:lnTo>
                      <a:pt x="902" y="696"/>
                    </a:lnTo>
                    <a:lnTo>
                      <a:pt x="902" y="696"/>
                    </a:lnTo>
                    <a:lnTo>
                      <a:pt x="890" y="690"/>
                    </a:lnTo>
                    <a:lnTo>
                      <a:pt x="890" y="690"/>
                    </a:lnTo>
                    <a:lnTo>
                      <a:pt x="888" y="696"/>
                    </a:lnTo>
                    <a:lnTo>
                      <a:pt x="886" y="702"/>
                    </a:lnTo>
                    <a:lnTo>
                      <a:pt x="888" y="710"/>
                    </a:lnTo>
                    <a:lnTo>
                      <a:pt x="888" y="716"/>
                    </a:lnTo>
                    <a:lnTo>
                      <a:pt x="888" y="716"/>
                    </a:lnTo>
                    <a:lnTo>
                      <a:pt x="828" y="716"/>
                    </a:lnTo>
                    <a:lnTo>
                      <a:pt x="828" y="716"/>
                    </a:lnTo>
                    <a:lnTo>
                      <a:pt x="834" y="716"/>
                    </a:lnTo>
                    <a:lnTo>
                      <a:pt x="834" y="716"/>
                    </a:lnTo>
                    <a:lnTo>
                      <a:pt x="832" y="710"/>
                    </a:lnTo>
                    <a:lnTo>
                      <a:pt x="828" y="704"/>
                    </a:lnTo>
                    <a:lnTo>
                      <a:pt x="828" y="704"/>
                    </a:lnTo>
                    <a:lnTo>
                      <a:pt x="832" y="704"/>
                    </a:lnTo>
                    <a:lnTo>
                      <a:pt x="832" y="702"/>
                    </a:lnTo>
                    <a:lnTo>
                      <a:pt x="832" y="696"/>
                    </a:lnTo>
                    <a:lnTo>
                      <a:pt x="832" y="696"/>
                    </a:lnTo>
                    <a:lnTo>
                      <a:pt x="824" y="692"/>
                    </a:lnTo>
                    <a:lnTo>
                      <a:pt x="820" y="692"/>
                    </a:lnTo>
                    <a:lnTo>
                      <a:pt x="818" y="692"/>
                    </a:lnTo>
                    <a:lnTo>
                      <a:pt x="818" y="692"/>
                    </a:lnTo>
                    <a:lnTo>
                      <a:pt x="824" y="704"/>
                    </a:lnTo>
                    <a:lnTo>
                      <a:pt x="828" y="716"/>
                    </a:lnTo>
                    <a:lnTo>
                      <a:pt x="828" y="716"/>
                    </a:lnTo>
                    <a:lnTo>
                      <a:pt x="870" y="694"/>
                    </a:lnTo>
                    <a:lnTo>
                      <a:pt x="870" y="694"/>
                    </a:lnTo>
                    <a:lnTo>
                      <a:pt x="876" y="702"/>
                    </a:lnTo>
                    <a:lnTo>
                      <a:pt x="884" y="708"/>
                    </a:lnTo>
                    <a:lnTo>
                      <a:pt x="884" y="708"/>
                    </a:lnTo>
                    <a:lnTo>
                      <a:pt x="884" y="692"/>
                    </a:lnTo>
                    <a:lnTo>
                      <a:pt x="884" y="692"/>
                    </a:lnTo>
                    <a:lnTo>
                      <a:pt x="876" y="692"/>
                    </a:lnTo>
                    <a:lnTo>
                      <a:pt x="870" y="694"/>
                    </a:lnTo>
                    <a:lnTo>
                      <a:pt x="870" y="694"/>
                    </a:lnTo>
                    <a:lnTo>
                      <a:pt x="718" y="708"/>
                    </a:lnTo>
                    <a:lnTo>
                      <a:pt x="718" y="708"/>
                    </a:lnTo>
                    <a:lnTo>
                      <a:pt x="716" y="704"/>
                    </a:lnTo>
                    <a:lnTo>
                      <a:pt x="714" y="702"/>
                    </a:lnTo>
                    <a:lnTo>
                      <a:pt x="708" y="698"/>
                    </a:lnTo>
                    <a:lnTo>
                      <a:pt x="708" y="698"/>
                    </a:lnTo>
                    <a:lnTo>
                      <a:pt x="712" y="704"/>
                    </a:lnTo>
                    <a:lnTo>
                      <a:pt x="714" y="706"/>
                    </a:lnTo>
                    <a:lnTo>
                      <a:pt x="718" y="708"/>
                    </a:lnTo>
                    <a:lnTo>
                      <a:pt x="718" y="708"/>
                    </a:lnTo>
                    <a:lnTo>
                      <a:pt x="1336" y="706"/>
                    </a:lnTo>
                    <a:lnTo>
                      <a:pt x="1336" y="706"/>
                    </a:lnTo>
                    <a:lnTo>
                      <a:pt x="1342" y="706"/>
                    </a:lnTo>
                    <a:lnTo>
                      <a:pt x="1342" y="706"/>
                    </a:lnTo>
                    <a:lnTo>
                      <a:pt x="1342" y="700"/>
                    </a:lnTo>
                    <a:lnTo>
                      <a:pt x="1340" y="698"/>
                    </a:lnTo>
                    <a:lnTo>
                      <a:pt x="1340" y="698"/>
                    </a:lnTo>
                    <a:lnTo>
                      <a:pt x="1338" y="702"/>
                    </a:lnTo>
                    <a:lnTo>
                      <a:pt x="1336" y="706"/>
                    </a:lnTo>
                    <a:lnTo>
                      <a:pt x="1336" y="706"/>
                    </a:lnTo>
                    <a:lnTo>
                      <a:pt x="890" y="740"/>
                    </a:lnTo>
                    <a:lnTo>
                      <a:pt x="890" y="740"/>
                    </a:lnTo>
                    <a:lnTo>
                      <a:pt x="892" y="738"/>
                    </a:lnTo>
                    <a:lnTo>
                      <a:pt x="894" y="734"/>
                    </a:lnTo>
                    <a:lnTo>
                      <a:pt x="894" y="726"/>
                    </a:lnTo>
                    <a:lnTo>
                      <a:pt x="894" y="726"/>
                    </a:lnTo>
                    <a:lnTo>
                      <a:pt x="890" y="722"/>
                    </a:lnTo>
                    <a:lnTo>
                      <a:pt x="886" y="716"/>
                    </a:lnTo>
                    <a:lnTo>
                      <a:pt x="886" y="716"/>
                    </a:lnTo>
                    <a:lnTo>
                      <a:pt x="876" y="708"/>
                    </a:lnTo>
                    <a:lnTo>
                      <a:pt x="868" y="700"/>
                    </a:lnTo>
                    <a:lnTo>
                      <a:pt x="868" y="700"/>
                    </a:lnTo>
                    <a:lnTo>
                      <a:pt x="878" y="722"/>
                    </a:lnTo>
                    <a:lnTo>
                      <a:pt x="878" y="722"/>
                    </a:lnTo>
                    <a:lnTo>
                      <a:pt x="882" y="732"/>
                    </a:lnTo>
                    <a:lnTo>
                      <a:pt x="890" y="740"/>
                    </a:lnTo>
                    <a:lnTo>
                      <a:pt x="890" y="740"/>
                    </a:lnTo>
                    <a:lnTo>
                      <a:pt x="1320" y="722"/>
                    </a:lnTo>
                    <a:lnTo>
                      <a:pt x="1320" y="722"/>
                    </a:lnTo>
                    <a:lnTo>
                      <a:pt x="1316" y="718"/>
                    </a:lnTo>
                    <a:lnTo>
                      <a:pt x="1314" y="714"/>
                    </a:lnTo>
                    <a:lnTo>
                      <a:pt x="1312" y="704"/>
                    </a:lnTo>
                    <a:lnTo>
                      <a:pt x="1312" y="704"/>
                    </a:lnTo>
                    <a:lnTo>
                      <a:pt x="1296" y="702"/>
                    </a:lnTo>
                    <a:lnTo>
                      <a:pt x="1286" y="700"/>
                    </a:lnTo>
                    <a:lnTo>
                      <a:pt x="1286" y="700"/>
                    </a:lnTo>
                    <a:lnTo>
                      <a:pt x="1286" y="714"/>
                    </a:lnTo>
                    <a:lnTo>
                      <a:pt x="1284" y="720"/>
                    </a:lnTo>
                    <a:lnTo>
                      <a:pt x="1286" y="726"/>
                    </a:lnTo>
                    <a:lnTo>
                      <a:pt x="1286" y="726"/>
                    </a:lnTo>
                    <a:lnTo>
                      <a:pt x="1296" y="728"/>
                    </a:lnTo>
                    <a:lnTo>
                      <a:pt x="1308" y="728"/>
                    </a:lnTo>
                    <a:lnTo>
                      <a:pt x="1318" y="730"/>
                    </a:lnTo>
                    <a:lnTo>
                      <a:pt x="1322" y="732"/>
                    </a:lnTo>
                    <a:lnTo>
                      <a:pt x="1324" y="736"/>
                    </a:lnTo>
                    <a:lnTo>
                      <a:pt x="1324" y="736"/>
                    </a:lnTo>
                    <a:lnTo>
                      <a:pt x="1314" y="740"/>
                    </a:lnTo>
                    <a:lnTo>
                      <a:pt x="1302" y="744"/>
                    </a:lnTo>
                    <a:lnTo>
                      <a:pt x="1290" y="746"/>
                    </a:lnTo>
                    <a:lnTo>
                      <a:pt x="1278" y="750"/>
                    </a:lnTo>
                    <a:lnTo>
                      <a:pt x="1278" y="750"/>
                    </a:lnTo>
                    <a:lnTo>
                      <a:pt x="1288" y="750"/>
                    </a:lnTo>
                    <a:lnTo>
                      <a:pt x="1292" y="752"/>
                    </a:lnTo>
                    <a:lnTo>
                      <a:pt x="1292" y="752"/>
                    </a:lnTo>
                    <a:lnTo>
                      <a:pt x="1298" y="754"/>
                    </a:lnTo>
                    <a:lnTo>
                      <a:pt x="1304" y="756"/>
                    </a:lnTo>
                    <a:lnTo>
                      <a:pt x="1304" y="756"/>
                    </a:lnTo>
                    <a:lnTo>
                      <a:pt x="1308" y="758"/>
                    </a:lnTo>
                    <a:lnTo>
                      <a:pt x="1312" y="762"/>
                    </a:lnTo>
                    <a:lnTo>
                      <a:pt x="1314" y="766"/>
                    </a:lnTo>
                    <a:lnTo>
                      <a:pt x="1320" y="768"/>
                    </a:lnTo>
                    <a:lnTo>
                      <a:pt x="1320" y="768"/>
                    </a:lnTo>
                    <a:lnTo>
                      <a:pt x="1326" y="766"/>
                    </a:lnTo>
                    <a:lnTo>
                      <a:pt x="1334" y="762"/>
                    </a:lnTo>
                    <a:lnTo>
                      <a:pt x="1340" y="758"/>
                    </a:lnTo>
                    <a:lnTo>
                      <a:pt x="1348" y="754"/>
                    </a:lnTo>
                    <a:lnTo>
                      <a:pt x="1348" y="754"/>
                    </a:lnTo>
                    <a:lnTo>
                      <a:pt x="1352" y="756"/>
                    </a:lnTo>
                    <a:lnTo>
                      <a:pt x="1354" y="760"/>
                    </a:lnTo>
                    <a:lnTo>
                      <a:pt x="1356" y="766"/>
                    </a:lnTo>
                    <a:lnTo>
                      <a:pt x="1360" y="770"/>
                    </a:lnTo>
                    <a:lnTo>
                      <a:pt x="1360" y="770"/>
                    </a:lnTo>
                    <a:lnTo>
                      <a:pt x="1368" y="770"/>
                    </a:lnTo>
                    <a:lnTo>
                      <a:pt x="1368" y="770"/>
                    </a:lnTo>
                    <a:lnTo>
                      <a:pt x="1366" y="762"/>
                    </a:lnTo>
                    <a:lnTo>
                      <a:pt x="1364" y="756"/>
                    </a:lnTo>
                    <a:lnTo>
                      <a:pt x="1360" y="750"/>
                    </a:lnTo>
                    <a:lnTo>
                      <a:pt x="1356" y="746"/>
                    </a:lnTo>
                    <a:lnTo>
                      <a:pt x="1346" y="738"/>
                    </a:lnTo>
                    <a:lnTo>
                      <a:pt x="1338" y="728"/>
                    </a:lnTo>
                    <a:lnTo>
                      <a:pt x="1338" y="728"/>
                    </a:lnTo>
                    <a:lnTo>
                      <a:pt x="1350" y="738"/>
                    </a:lnTo>
                    <a:lnTo>
                      <a:pt x="1364" y="748"/>
                    </a:lnTo>
                    <a:lnTo>
                      <a:pt x="1364" y="748"/>
                    </a:lnTo>
                    <a:lnTo>
                      <a:pt x="1362" y="736"/>
                    </a:lnTo>
                    <a:lnTo>
                      <a:pt x="1362" y="730"/>
                    </a:lnTo>
                    <a:lnTo>
                      <a:pt x="1362" y="724"/>
                    </a:lnTo>
                    <a:lnTo>
                      <a:pt x="1362" y="724"/>
                    </a:lnTo>
                    <a:lnTo>
                      <a:pt x="1366" y="742"/>
                    </a:lnTo>
                    <a:lnTo>
                      <a:pt x="1372" y="756"/>
                    </a:lnTo>
                    <a:lnTo>
                      <a:pt x="1372" y="756"/>
                    </a:lnTo>
                    <a:lnTo>
                      <a:pt x="1374" y="746"/>
                    </a:lnTo>
                    <a:lnTo>
                      <a:pt x="1376" y="736"/>
                    </a:lnTo>
                    <a:lnTo>
                      <a:pt x="1378" y="726"/>
                    </a:lnTo>
                    <a:lnTo>
                      <a:pt x="1380" y="716"/>
                    </a:lnTo>
                    <a:lnTo>
                      <a:pt x="1380" y="716"/>
                    </a:lnTo>
                    <a:lnTo>
                      <a:pt x="1374" y="716"/>
                    </a:lnTo>
                    <a:lnTo>
                      <a:pt x="1368" y="716"/>
                    </a:lnTo>
                    <a:lnTo>
                      <a:pt x="1364" y="720"/>
                    </a:lnTo>
                    <a:lnTo>
                      <a:pt x="1360" y="722"/>
                    </a:lnTo>
                    <a:lnTo>
                      <a:pt x="1360" y="722"/>
                    </a:lnTo>
                    <a:lnTo>
                      <a:pt x="1358" y="720"/>
                    </a:lnTo>
                    <a:lnTo>
                      <a:pt x="1354" y="722"/>
                    </a:lnTo>
                    <a:lnTo>
                      <a:pt x="1348" y="724"/>
                    </a:lnTo>
                    <a:lnTo>
                      <a:pt x="1344" y="724"/>
                    </a:lnTo>
                    <a:lnTo>
                      <a:pt x="1344" y="724"/>
                    </a:lnTo>
                    <a:lnTo>
                      <a:pt x="1344" y="708"/>
                    </a:lnTo>
                    <a:lnTo>
                      <a:pt x="1344" y="708"/>
                    </a:lnTo>
                    <a:lnTo>
                      <a:pt x="1340" y="708"/>
                    </a:lnTo>
                    <a:lnTo>
                      <a:pt x="1334" y="708"/>
                    </a:lnTo>
                    <a:lnTo>
                      <a:pt x="1334" y="708"/>
                    </a:lnTo>
                    <a:lnTo>
                      <a:pt x="1332" y="714"/>
                    </a:lnTo>
                    <a:lnTo>
                      <a:pt x="1332" y="720"/>
                    </a:lnTo>
                    <a:lnTo>
                      <a:pt x="1332" y="724"/>
                    </a:lnTo>
                    <a:lnTo>
                      <a:pt x="1334" y="728"/>
                    </a:lnTo>
                    <a:lnTo>
                      <a:pt x="1334" y="728"/>
                    </a:lnTo>
                    <a:lnTo>
                      <a:pt x="1316" y="724"/>
                    </a:lnTo>
                    <a:lnTo>
                      <a:pt x="1306" y="720"/>
                    </a:lnTo>
                    <a:lnTo>
                      <a:pt x="1298" y="716"/>
                    </a:lnTo>
                    <a:lnTo>
                      <a:pt x="1298" y="716"/>
                    </a:lnTo>
                    <a:lnTo>
                      <a:pt x="1304" y="718"/>
                    </a:lnTo>
                    <a:lnTo>
                      <a:pt x="1310" y="720"/>
                    </a:lnTo>
                    <a:lnTo>
                      <a:pt x="1314" y="722"/>
                    </a:lnTo>
                    <a:lnTo>
                      <a:pt x="1320" y="722"/>
                    </a:lnTo>
                    <a:lnTo>
                      <a:pt x="1320" y="722"/>
                    </a:lnTo>
                    <a:lnTo>
                      <a:pt x="842" y="716"/>
                    </a:lnTo>
                    <a:lnTo>
                      <a:pt x="842" y="716"/>
                    </a:lnTo>
                    <a:lnTo>
                      <a:pt x="844" y="714"/>
                    </a:lnTo>
                    <a:lnTo>
                      <a:pt x="846" y="714"/>
                    </a:lnTo>
                    <a:lnTo>
                      <a:pt x="846" y="714"/>
                    </a:lnTo>
                    <a:lnTo>
                      <a:pt x="846" y="708"/>
                    </a:lnTo>
                    <a:lnTo>
                      <a:pt x="846" y="708"/>
                    </a:lnTo>
                    <a:lnTo>
                      <a:pt x="840" y="708"/>
                    </a:lnTo>
                    <a:lnTo>
                      <a:pt x="840" y="708"/>
                    </a:lnTo>
                    <a:lnTo>
                      <a:pt x="840" y="712"/>
                    </a:lnTo>
                    <a:lnTo>
                      <a:pt x="842" y="716"/>
                    </a:lnTo>
                    <a:lnTo>
                      <a:pt x="842" y="716"/>
                    </a:lnTo>
                    <a:lnTo>
                      <a:pt x="870" y="720"/>
                    </a:lnTo>
                    <a:lnTo>
                      <a:pt x="870" y="720"/>
                    </a:lnTo>
                    <a:lnTo>
                      <a:pt x="868" y="714"/>
                    </a:lnTo>
                    <a:lnTo>
                      <a:pt x="866" y="710"/>
                    </a:lnTo>
                    <a:lnTo>
                      <a:pt x="866" y="710"/>
                    </a:lnTo>
                    <a:lnTo>
                      <a:pt x="864" y="712"/>
                    </a:lnTo>
                    <a:lnTo>
                      <a:pt x="864" y="716"/>
                    </a:lnTo>
                    <a:lnTo>
                      <a:pt x="864" y="716"/>
                    </a:lnTo>
                    <a:lnTo>
                      <a:pt x="866" y="716"/>
                    </a:lnTo>
                    <a:lnTo>
                      <a:pt x="868" y="718"/>
                    </a:lnTo>
                    <a:lnTo>
                      <a:pt x="870" y="720"/>
                    </a:lnTo>
                    <a:lnTo>
                      <a:pt x="870" y="720"/>
                    </a:lnTo>
                    <a:lnTo>
                      <a:pt x="870" y="720"/>
                    </a:lnTo>
                    <a:lnTo>
                      <a:pt x="1404" y="720"/>
                    </a:lnTo>
                    <a:lnTo>
                      <a:pt x="1404" y="720"/>
                    </a:lnTo>
                    <a:lnTo>
                      <a:pt x="1410" y="720"/>
                    </a:lnTo>
                    <a:lnTo>
                      <a:pt x="1414" y="718"/>
                    </a:lnTo>
                    <a:lnTo>
                      <a:pt x="1414" y="716"/>
                    </a:lnTo>
                    <a:lnTo>
                      <a:pt x="1414" y="716"/>
                    </a:lnTo>
                    <a:lnTo>
                      <a:pt x="1412" y="716"/>
                    </a:lnTo>
                    <a:lnTo>
                      <a:pt x="1408" y="716"/>
                    </a:lnTo>
                    <a:lnTo>
                      <a:pt x="1406" y="718"/>
                    </a:lnTo>
                    <a:lnTo>
                      <a:pt x="1404" y="720"/>
                    </a:lnTo>
                    <a:lnTo>
                      <a:pt x="1404" y="720"/>
                    </a:lnTo>
                    <a:lnTo>
                      <a:pt x="762" y="738"/>
                    </a:lnTo>
                    <a:lnTo>
                      <a:pt x="762" y="738"/>
                    </a:lnTo>
                    <a:lnTo>
                      <a:pt x="766" y="734"/>
                    </a:lnTo>
                    <a:lnTo>
                      <a:pt x="768" y="728"/>
                    </a:lnTo>
                    <a:lnTo>
                      <a:pt x="766" y="722"/>
                    </a:lnTo>
                    <a:lnTo>
                      <a:pt x="764" y="718"/>
                    </a:lnTo>
                    <a:lnTo>
                      <a:pt x="762" y="716"/>
                    </a:lnTo>
                    <a:lnTo>
                      <a:pt x="762" y="716"/>
                    </a:lnTo>
                    <a:lnTo>
                      <a:pt x="762" y="724"/>
                    </a:lnTo>
                    <a:lnTo>
                      <a:pt x="760" y="730"/>
                    </a:lnTo>
                    <a:lnTo>
                      <a:pt x="760" y="734"/>
                    </a:lnTo>
                    <a:lnTo>
                      <a:pt x="760" y="736"/>
                    </a:lnTo>
                    <a:lnTo>
                      <a:pt x="762" y="738"/>
                    </a:lnTo>
                    <a:lnTo>
                      <a:pt x="762" y="738"/>
                    </a:lnTo>
                    <a:lnTo>
                      <a:pt x="1374" y="768"/>
                    </a:lnTo>
                    <a:lnTo>
                      <a:pt x="1374" y="768"/>
                    </a:lnTo>
                    <a:lnTo>
                      <a:pt x="1378" y="764"/>
                    </a:lnTo>
                    <a:lnTo>
                      <a:pt x="1384" y="762"/>
                    </a:lnTo>
                    <a:lnTo>
                      <a:pt x="1384" y="762"/>
                    </a:lnTo>
                    <a:lnTo>
                      <a:pt x="1392" y="768"/>
                    </a:lnTo>
                    <a:lnTo>
                      <a:pt x="1400" y="774"/>
                    </a:lnTo>
                    <a:lnTo>
                      <a:pt x="1400" y="774"/>
                    </a:lnTo>
                    <a:lnTo>
                      <a:pt x="1402" y="760"/>
                    </a:lnTo>
                    <a:lnTo>
                      <a:pt x="1402" y="752"/>
                    </a:lnTo>
                    <a:lnTo>
                      <a:pt x="1402" y="744"/>
                    </a:lnTo>
                    <a:lnTo>
                      <a:pt x="1402" y="744"/>
                    </a:lnTo>
                    <a:lnTo>
                      <a:pt x="1396" y="744"/>
                    </a:lnTo>
                    <a:lnTo>
                      <a:pt x="1394" y="740"/>
                    </a:lnTo>
                    <a:lnTo>
                      <a:pt x="1394" y="740"/>
                    </a:lnTo>
                    <a:lnTo>
                      <a:pt x="1396" y="738"/>
                    </a:lnTo>
                    <a:lnTo>
                      <a:pt x="1400" y="736"/>
                    </a:lnTo>
                    <a:lnTo>
                      <a:pt x="1400" y="736"/>
                    </a:lnTo>
                    <a:lnTo>
                      <a:pt x="1398" y="728"/>
                    </a:lnTo>
                    <a:lnTo>
                      <a:pt x="1398" y="720"/>
                    </a:lnTo>
                    <a:lnTo>
                      <a:pt x="1398" y="720"/>
                    </a:lnTo>
                    <a:lnTo>
                      <a:pt x="1392" y="722"/>
                    </a:lnTo>
                    <a:lnTo>
                      <a:pt x="1384" y="724"/>
                    </a:lnTo>
                    <a:lnTo>
                      <a:pt x="1384" y="724"/>
                    </a:lnTo>
                    <a:lnTo>
                      <a:pt x="1378" y="742"/>
                    </a:lnTo>
                    <a:lnTo>
                      <a:pt x="1372" y="760"/>
                    </a:lnTo>
                    <a:lnTo>
                      <a:pt x="1372" y="760"/>
                    </a:lnTo>
                    <a:lnTo>
                      <a:pt x="1374" y="760"/>
                    </a:lnTo>
                    <a:lnTo>
                      <a:pt x="1376" y="756"/>
                    </a:lnTo>
                    <a:lnTo>
                      <a:pt x="1378" y="756"/>
                    </a:lnTo>
                    <a:lnTo>
                      <a:pt x="1380" y="756"/>
                    </a:lnTo>
                    <a:lnTo>
                      <a:pt x="1380" y="756"/>
                    </a:lnTo>
                    <a:lnTo>
                      <a:pt x="1378" y="760"/>
                    </a:lnTo>
                    <a:lnTo>
                      <a:pt x="1374" y="762"/>
                    </a:lnTo>
                    <a:lnTo>
                      <a:pt x="1372" y="766"/>
                    </a:lnTo>
                    <a:lnTo>
                      <a:pt x="1372" y="768"/>
                    </a:lnTo>
                    <a:lnTo>
                      <a:pt x="1374" y="768"/>
                    </a:lnTo>
                    <a:lnTo>
                      <a:pt x="1374" y="768"/>
                    </a:lnTo>
                    <a:lnTo>
                      <a:pt x="648" y="730"/>
                    </a:lnTo>
                    <a:lnTo>
                      <a:pt x="648" y="730"/>
                    </a:lnTo>
                    <a:lnTo>
                      <a:pt x="652" y="730"/>
                    </a:lnTo>
                    <a:lnTo>
                      <a:pt x="656" y="728"/>
                    </a:lnTo>
                    <a:lnTo>
                      <a:pt x="656" y="728"/>
                    </a:lnTo>
                    <a:lnTo>
                      <a:pt x="656" y="726"/>
                    </a:lnTo>
                    <a:lnTo>
                      <a:pt x="656" y="726"/>
                    </a:lnTo>
                    <a:lnTo>
                      <a:pt x="652" y="724"/>
                    </a:lnTo>
                    <a:lnTo>
                      <a:pt x="648" y="724"/>
                    </a:lnTo>
                    <a:lnTo>
                      <a:pt x="648" y="724"/>
                    </a:lnTo>
                    <a:lnTo>
                      <a:pt x="648" y="730"/>
                    </a:lnTo>
                    <a:lnTo>
                      <a:pt x="648" y="730"/>
                    </a:lnTo>
                    <a:lnTo>
                      <a:pt x="956" y="740"/>
                    </a:lnTo>
                    <a:lnTo>
                      <a:pt x="956" y="740"/>
                    </a:lnTo>
                    <a:lnTo>
                      <a:pt x="954" y="732"/>
                    </a:lnTo>
                    <a:lnTo>
                      <a:pt x="952" y="730"/>
                    </a:lnTo>
                    <a:lnTo>
                      <a:pt x="952" y="730"/>
                    </a:lnTo>
                    <a:lnTo>
                      <a:pt x="950" y="742"/>
                    </a:lnTo>
                    <a:lnTo>
                      <a:pt x="950" y="742"/>
                    </a:lnTo>
                    <a:lnTo>
                      <a:pt x="958" y="742"/>
                    </a:lnTo>
                    <a:lnTo>
                      <a:pt x="966" y="742"/>
                    </a:lnTo>
                    <a:lnTo>
                      <a:pt x="968" y="740"/>
                    </a:lnTo>
                    <a:lnTo>
                      <a:pt x="970" y="738"/>
                    </a:lnTo>
                    <a:lnTo>
                      <a:pt x="970" y="734"/>
                    </a:lnTo>
                    <a:lnTo>
                      <a:pt x="970" y="726"/>
                    </a:lnTo>
                    <a:lnTo>
                      <a:pt x="970" y="726"/>
                    </a:lnTo>
                    <a:lnTo>
                      <a:pt x="964" y="728"/>
                    </a:lnTo>
                    <a:lnTo>
                      <a:pt x="962" y="732"/>
                    </a:lnTo>
                    <a:lnTo>
                      <a:pt x="958" y="736"/>
                    </a:lnTo>
                    <a:lnTo>
                      <a:pt x="956" y="740"/>
                    </a:lnTo>
                    <a:lnTo>
                      <a:pt x="956" y="740"/>
                    </a:lnTo>
                    <a:lnTo>
                      <a:pt x="1402" y="734"/>
                    </a:lnTo>
                    <a:lnTo>
                      <a:pt x="1402" y="734"/>
                    </a:lnTo>
                    <a:lnTo>
                      <a:pt x="1404" y="732"/>
                    </a:lnTo>
                    <a:lnTo>
                      <a:pt x="1408" y="728"/>
                    </a:lnTo>
                    <a:lnTo>
                      <a:pt x="1410" y="726"/>
                    </a:lnTo>
                    <a:lnTo>
                      <a:pt x="1410" y="724"/>
                    </a:lnTo>
                    <a:lnTo>
                      <a:pt x="1410" y="724"/>
                    </a:lnTo>
                    <a:lnTo>
                      <a:pt x="1404" y="724"/>
                    </a:lnTo>
                    <a:lnTo>
                      <a:pt x="1402" y="724"/>
                    </a:lnTo>
                    <a:lnTo>
                      <a:pt x="1400" y="724"/>
                    </a:lnTo>
                    <a:lnTo>
                      <a:pt x="1400" y="724"/>
                    </a:lnTo>
                    <a:lnTo>
                      <a:pt x="1400" y="726"/>
                    </a:lnTo>
                    <a:lnTo>
                      <a:pt x="1402" y="730"/>
                    </a:lnTo>
                    <a:lnTo>
                      <a:pt x="1402" y="732"/>
                    </a:lnTo>
                    <a:lnTo>
                      <a:pt x="1402" y="734"/>
                    </a:lnTo>
                    <a:lnTo>
                      <a:pt x="1402" y="734"/>
                    </a:lnTo>
                    <a:lnTo>
                      <a:pt x="880" y="738"/>
                    </a:lnTo>
                    <a:lnTo>
                      <a:pt x="880" y="738"/>
                    </a:lnTo>
                    <a:lnTo>
                      <a:pt x="876" y="732"/>
                    </a:lnTo>
                    <a:lnTo>
                      <a:pt x="874" y="726"/>
                    </a:lnTo>
                    <a:lnTo>
                      <a:pt x="874" y="726"/>
                    </a:lnTo>
                    <a:lnTo>
                      <a:pt x="876" y="734"/>
                    </a:lnTo>
                    <a:lnTo>
                      <a:pt x="878" y="736"/>
                    </a:lnTo>
                    <a:lnTo>
                      <a:pt x="880" y="738"/>
                    </a:lnTo>
                    <a:lnTo>
                      <a:pt x="880" y="738"/>
                    </a:lnTo>
                    <a:lnTo>
                      <a:pt x="1014" y="734"/>
                    </a:lnTo>
                    <a:lnTo>
                      <a:pt x="1014" y="734"/>
                    </a:lnTo>
                    <a:lnTo>
                      <a:pt x="1016" y="734"/>
                    </a:lnTo>
                    <a:lnTo>
                      <a:pt x="1018" y="732"/>
                    </a:lnTo>
                    <a:lnTo>
                      <a:pt x="1020" y="726"/>
                    </a:lnTo>
                    <a:lnTo>
                      <a:pt x="1020" y="726"/>
                    </a:lnTo>
                    <a:lnTo>
                      <a:pt x="1016" y="728"/>
                    </a:lnTo>
                    <a:lnTo>
                      <a:pt x="1016" y="728"/>
                    </a:lnTo>
                    <a:lnTo>
                      <a:pt x="1014" y="734"/>
                    </a:lnTo>
                    <a:lnTo>
                      <a:pt x="1014" y="734"/>
                    </a:lnTo>
                    <a:lnTo>
                      <a:pt x="1414" y="742"/>
                    </a:lnTo>
                    <a:lnTo>
                      <a:pt x="1414" y="742"/>
                    </a:lnTo>
                    <a:lnTo>
                      <a:pt x="1410" y="754"/>
                    </a:lnTo>
                    <a:lnTo>
                      <a:pt x="1408" y="758"/>
                    </a:lnTo>
                    <a:lnTo>
                      <a:pt x="1410" y="762"/>
                    </a:lnTo>
                    <a:lnTo>
                      <a:pt x="1410" y="762"/>
                    </a:lnTo>
                    <a:lnTo>
                      <a:pt x="1414" y="756"/>
                    </a:lnTo>
                    <a:lnTo>
                      <a:pt x="1416" y="754"/>
                    </a:lnTo>
                    <a:lnTo>
                      <a:pt x="1418" y="750"/>
                    </a:lnTo>
                    <a:lnTo>
                      <a:pt x="1418" y="750"/>
                    </a:lnTo>
                    <a:lnTo>
                      <a:pt x="1418" y="746"/>
                    </a:lnTo>
                    <a:lnTo>
                      <a:pt x="1414" y="742"/>
                    </a:lnTo>
                    <a:lnTo>
                      <a:pt x="1414" y="742"/>
                    </a:lnTo>
                    <a:lnTo>
                      <a:pt x="1422" y="748"/>
                    </a:lnTo>
                    <a:lnTo>
                      <a:pt x="1422" y="748"/>
                    </a:lnTo>
                    <a:lnTo>
                      <a:pt x="1422" y="746"/>
                    </a:lnTo>
                    <a:lnTo>
                      <a:pt x="1426" y="744"/>
                    </a:lnTo>
                    <a:lnTo>
                      <a:pt x="1428" y="742"/>
                    </a:lnTo>
                    <a:lnTo>
                      <a:pt x="1430" y="740"/>
                    </a:lnTo>
                    <a:lnTo>
                      <a:pt x="1430" y="740"/>
                    </a:lnTo>
                    <a:lnTo>
                      <a:pt x="1422" y="738"/>
                    </a:lnTo>
                    <a:lnTo>
                      <a:pt x="1416" y="740"/>
                    </a:lnTo>
                    <a:lnTo>
                      <a:pt x="1416" y="740"/>
                    </a:lnTo>
                    <a:lnTo>
                      <a:pt x="1418" y="744"/>
                    </a:lnTo>
                    <a:lnTo>
                      <a:pt x="1422" y="748"/>
                    </a:lnTo>
                    <a:lnTo>
                      <a:pt x="1422" y="748"/>
                    </a:lnTo>
                    <a:lnTo>
                      <a:pt x="1404" y="742"/>
                    </a:lnTo>
                    <a:lnTo>
                      <a:pt x="1404" y="742"/>
                    </a:lnTo>
                    <a:lnTo>
                      <a:pt x="1406" y="750"/>
                    </a:lnTo>
                    <a:lnTo>
                      <a:pt x="1408" y="754"/>
                    </a:lnTo>
                    <a:lnTo>
                      <a:pt x="1408" y="754"/>
                    </a:lnTo>
                    <a:lnTo>
                      <a:pt x="1410" y="748"/>
                    </a:lnTo>
                    <a:lnTo>
                      <a:pt x="1410" y="742"/>
                    </a:lnTo>
                    <a:lnTo>
                      <a:pt x="1410" y="742"/>
                    </a:lnTo>
                    <a:lnTo>
                      <a:pt x="1408" y="742"/>
                    </a:lnTo>
                    <a:lnTo>
                      <a:pt x="1404" y="742"/>
                    </a:lnTo>
                    <a:lnTo>
                      <a:pt x="1404" y="742"/>
                    </a:lnTo>
                    <a:lnTo>
                      <a:pt x="1456" y="758"/>
                    </a:lnTo>
                    <a:lnTo>
                      <a:pt x="1456" y="758"/>
                    </a:lnTo>
                    <a:lnTo>
                      <a:pt x="1458" y="754"/>
                    </a:lnTo>
                    <a:lnTo>
                      <a:pt x="1462" y="752"/>
                    </a:lnTo>
                    <a:lnTo>
                      <a:pt x="1468" y="748"/>
                    </a:lnTo>
                    <a:lnTo>
                      <a:pt x="1470" y="744"/>
                    </a:lnTo>
                    <a:lnTo>
                      <a:pt x="1470" y="744"/>
                    </a:lnTo>
                    <a:lnTo>
                      <a:pt x="1468" y="744"/>
                    </a:lnTo>
                    <a:lnTo>
                      <a:pt x="1468" y="742"/>
                    </a:lnTo>
                    <a:lnTo>
                      <a:pt x="1466" y="742"/>
                    </a:lnTo>
                    <a:lnTo>
                      <a:pt x="1464" y="742"/>
                    </a:lnTo>
                    <a:lnTo>
                      <a:pt x="1464" y="742"/>
                    </a:lnTo>
                    <a:lnTo>
                      <a:pt x="1462" y="746"/>
                    </a:lnTo>
                    <a:lnTo>
                      <a:pt x="1458" y="750"/>
                    </a:lnTo>
                    <a:lnTo>
                      <a:pt x="1456" y="754"/>
                    </a:lnTo>
                    <a:lnTo>
                      <a:pt x="1456" y="758"/>
                    </a:lnTo>
                    <a:lnTo>
                      <a:pt x="1456" y="758"/>
                    </a:lnTo>
                    <a:lnTo>
                      <a:pt x="948" y="754"/>
                    </a:lnTo>
                    <a:lnTo>
                      <a:pt x="948" y="754"/>
                    </a:lnTo>
                    <a:lnTo>
                      <a:pt x="946" y="780"/>
                    </a:lnTo>
                    <a:lnTo>
                      <a:pt x="942" y="806"/>
                    </a:lnTo>
                    <a:lnTo>
                      <a:pt x="940" y="818"/>
                    </a:lnTo>
                    <a:lnTo>
                      <a:pt x="940" y="828"/>
                    </a:lnTo>
                    <a:lnTo>
                      <a:pt x="942" y="840"/>
                    </a:lnTo>
                    <a:lnTo>
                      <a:pt x="946" y="850"/>
                    </a:lnTo>
                    <a:lnTo>
                      <a:pt x="946" y="850"/>
                    </a:lnTo>
                    <a:lnTo>
                      <a:pt x="958" y="824"/>
                    </a:lnTo>
                    <a:lnTo>
                      <a:pt x="972" y="798"/>
                    </a:lnTo>
                    <a:lnTo>
                      <a:pt x="976" y="786"/>
                    </a:lnTo>
                    <a:lnTo>
                      <a:pt x="980" y="774"/>
                    </a:lnTo>
                    <a:lnTo>
                      <a:pt x="982" y="760"/>
                    </a:lnTo>
                    <a:lnTo>
                      <a:pt x="980" y="746"/>
                    </a:lnTo>
                    <a:lnTo>
                      <a:pt x="980" y="746"/>
                    </a:lnTo>
                    <a:lnTo>
                      <a:pt x="972" y="750"/>
                    </a:lnTo>
                    <a:lnTo>
                      <a:pt x="964" y="754"/>
                    </a:lnTo>
                    <a:lnTo>
                      <a:pt x="964" y="754"/>
                    </a:lnTo>
                    <a:lnTo>
                      <a:pt x="958" y="756"/>
                    </a:lnTo>
                    <a:lnTo>
                      <a:pt x="948" y="754"/>
                    </a:lnTo>
                    <a:lnTo>
                      <a:pt x="948" y="754"/>
                    </a:lnTo>
                    <a:lnTo>
                      <a:pt x="984" y="750"/>
                    </a:lnTo>
                    <a:lnTo>
                      <a:pt x="984" y="750"/>
                    </a:lnTo>
                    <a:lnTo>
                      <a:pt x="984" y="780"/>
                    </a:lnTo>
                    <a:lnTo>
                      <a:pt x="984" y="780"/>
                    </a:lnTo>
                    <a:lnTo>
                      <a:pt x="990" y="772"/>
                    </a:lnTo>
                    <a:lnTo>
                      <a:pt x="994" y="764"/>
                    </a:lnTo>
                    <a:lnTo>
                      <a:pt x="1000" y="746"/>
                    </a:lnTo>
                    <a:lnTo>
                      <a:pt x="1000" y="746"/>
                    </a:lnTo>
                    <a:lnTo>
                      <a:pt x="992" y="748"/>
                    </a:lnTo>
                    <a:lnTo>
                      <a:pt x="984" y="750"/>
                    </a:lnTo>
                    <a:lnTo>
                      <a:pt x="984" y="750"/>
                    </a:lnTo>
                    <a:lnTo>
                      <a:pt x="656" y="756"/>
                    </a:lnTo>
                    <a:lnTo>
                      <a:pt x="656" y="756"/>
                    </a:lnTo>
                    <a:lnTo>
                      <a:pt x="656" y="752"/>
                    </a:lnTo>
                    <a:lnTo>
                      <a:pt x="656" y="750"/>
                    </a:lnTo>
                    <a:lnTo>
                      <a:pt x="656" y="748"/>
                    </a:lnTo>
                    <a:lnTo>
                      <a:pt x="656" y="748"/>
                    </a:lnTo>
                    <a:lnTo>
                      <a:pt x="652" y="748"/>
                    </a:lnTo>
                    <a:lnTo>
                      <a:pt x="652" y="748"/>
                    </a:lnTo>
                    <a:lnTo>
                      <a:pt x="652" y="752"/>
                    </a:lnTo>
                    <a:lnTo>
                      <a:pt x="656" y="756"/>
                    </a:lnTo>
                    <a:lnTo>
                      <a:pt x="656" y="756"/>
                    </a:lnTo>
                    <a:lnTo>
                      <a:pt x="660" y="760"/>
                    </a:lnTo>
                    <a:lnTo>
                      <a:pt x="660" y="760"/>
                    </a:lnTo>
                    <a:lnTo>
                      <a:pt x="660" y="752"/>
                    </a:lnTo>
                    <a:lnTo>
                      <a:pt x="660" y="748"/>
                    </a:lnTo>
                    <a:lnTo>
                      <a:pt x="658" y="748"/>
                    </a:lnTo>
                    <a:lnTo>
                      <a:pt x="658" y="748"/>
                    </a:lnTo>
                    <a:lnTo>
                      <a:pt x="658" y="754"/>
                    </a:lnTo>
                    <a:lnTo>
                      <a:pt x="658" y="758"/>
                    </a:lnTo>
                    <a:lnTo>
                      <a:pt x="660" y="760"/>
                    </a:lnTo>
                    <a:lnTo>
                      <a:pt x="660" y="760"/>
                    </a:lnTo>
                    <a:lnTo>
                      <a:pt x="666" y="766"/>
                    </a:lnTo>
                    <a:lnTo>
                      <a:pt x="666" y="766"/>
                    </a:lnTo>
                    <a:lnTo>
                      <a:pt x="666" y="748"/>
                    </a:lnTo>
                    <a:lnTo>
                      <a:pt x="666" y="748"/>
                    </a:lnTo>
                    <a:lnTo>
                      <a:pt x="662" y="748"/>
                    </a:lnTo>
                    <a:lnTo>
                      <a:pt x="662" y="748"/>
                    </a:lnTo>
                    <a:lnTo>
                      <a:pt x="662" y="758"/>
                    </a:lnTo>
                    <a:lnTo>
                      <a:pt x="664" y="764"/>
                    </a:lnTo>
                    <a:lnTo>
                      <a:pt x="666" y="766"/>
                    </a:lnTo>
                    <a:lnTo>
                      <a:pt x="666" y="766"/>
                    </a:lnTo>
                    <a:lnTo>
                      <a:pt x="900" y="766"/>
                    </a:lnTo>
                    <a:lnTo>
                      <a:pt x="900" y="766"/>
                    </a:lnTo>
                    <a:lnTo>
                      <a:pt x="908" y="766"/>
                    </a:lnTo>
                    <a:lnTo>
                      <a:pt x="908" y="766"/>
                    </a:lnTo>
                    <a:lnTo>
                      <a:pt x="912" y="756"/>
                    </a:lnTo>
                    <a:lnTo>
                      <a:pt x="910" y="754"/>
                    </a:lnTo>
                    <a:lnTo>
                      <a:pt x="904" y="752"/>
                    </a:lnTo>
                    <a:lnTo>
                      <a:pt x="904" y="752"/>
                    </a:lnTo>
                    <a:lnTo>
                      <a:pt x="902" y="754"/>
                    </a:lnTo>
                    <a:lnTo>
                      <a:pt x="900" y="758"/>
                    </a:lnTo>
                    <a:lnTo>
                      <a:pt x="900" y="762"/>
                    </a:lnTo>
                    <a:lnTo>
                      <a:pt x="900" y="766"/>
                    </a:lnTo>
                    <a:lnTo>
                      <a:pt x="900" y="766"/>
                    </a:lnTo>
                    <a:lnTo>
                      <a:pt x="1434" y="756"/>
                    </a:lnTo>
                    <a:lnTo>
                      <a:pt x="1434" y="756"/>
                    </a:lnTo>
                    <a:lnTo>
                      <a:pt x="1434" y="760"/>
                    </a:lnTo>
                    <a:lnTo>
                      <a:pt x="1438" y="760"/>
                    </a:lnTo>
                    <a:lnTo>
                      <a:pt x="1438" y="760"/>
                    </a:lnTo>
                    <a:lnTo>
                      <a:pt x="1440" y="754"/>
                    </a:lnTo>
                    <a:lnTo>
                      <a:pt x="1440" y="754"/>
                    </a:lnTo>
                    <a:lnTo>
                      <a:pt x="1436" y="754"/>
                    </a:lnTo>
                    <a:lnTo>
                      <a:pt x="1434" y="756"/>
                    </a:lnTo>
                    <a:lnTo>
                      <a:pt x="1434" y="756"/>
                    </a:lnTo>
                    <a:lnTo>
                      <a:pt x="870" y="762"/>
                    </a:lnTo>
                    <a:lnTo>
                      <a:pt x="870" y="762"/>
                    </a:lnTo>
                    <a:lnTo>
                      <a:pt x="870" y="760"/>
                    </a:lnTo>
                    <a:lnTo>
                      <a:pt x="866" y="758"/>
                    </a:lnTo>
                    <a:lnTo>
                      <a:pt x="860" y="756"/>
                    </a:lnTo>
                    <a:lnTo>
                      <a:pt x="860" y="756"/>
                    </a:lnTo>
                    <a:lnTo>
                      <a:pt x="862" y="762"/>
                    </a:lnTo>
                    <a:lnTo>
                      <a:pt x="866" y="766"/>
                    </a:lnTo>
                    <a:lnTo>
                      <a:pt x="866" y="766"/>
                    </a:lnTo>
                    <a:lnTo>
                      <a:pt x="862" y="764"/>
                    </a:lnTo>
                    <a:lnTo>
                      <a:pt x="860" y="762"/>
                    </a:lnTo>
                    <a:lnTo>
                      <a:pt x="858" y="760"/>
                    </a:lnTo>
                    <a:lnTo>
                      <a:pt x="854" y="758"/>
                    </a:lnTo>
                    <a:lnTo>
                      <a:pt x="854" y="758"/>
                    </a:lnTo>
                    <a:lnTo>
                      <a:pt x="850" y="760"/>
                    </a:lnTo>
                    <a:lnTo>
                      <a:pt x="850" y="760"/>
                    </a:lnTo>
                    <a:lnTo>
                      <a:pt x="852" y="768"/>
                    </a:lnTo>
                    <a:lnTo>
                      <a:pt x="852" y="776"/>
                    </a:lnTo>
                    <a:lnTo>
                      <a:pt x="852" y="776"/>
                    </a:lnTo>
                    <a:lnTo>
                      <a:pt x="860" y="774"/>
                    </a:lnTo>
                    <a:lnTo>
                      <a:pt x="866" y="772"/>
                    </a:lnTo>
                    <a:lnTo>
                      <a:pt x="868" y="768"/>
                    </a:lnTo>
                    <a:lnTo>
                      <a:pt x="870" y="762"/>
                    </a:lnTo>
                    <a:lnTo>
                      <a:pt x="870" y="762"/>
                    </a:lnTo>
                    <a:lnTo>
                      <a:pt x="792" y="766"/>
                    </a:lnTo>
                    <a:lnTo>
                      <a:pt x="792" y="766"/>
                    </a:lnTo>
                    <a:lnTo>
                      <a:pt x="802" y="770"/>
                    </a:lnTo>
                    <a:lnTo>
                      <a:pt x="808" y="772"/>
                    </a:lnTo>
                    <a:lnTo>
                      <a:pt x="812" y="770"/>
                    </a:lnTo>
                    <a:lnTo>
                      <a:pt x="812" y="770"/>
                    </a:lnTo>
                    <a:lnTo>
                      <a:pt x="808" y="764"/>
                    </a:lnTo>
                    <a:lnTo>
                      <a:pt x="802" y="760"/>
                    </a:lnTo>
                    <a:lnTo>
                      <a:pt x="800" y="760"/>
                    </a:lnTo>
                    <a:lnTo>
                      <a:pt x="796" y="760"/>
                    </a:lnTo>
                    <a:lnTo>
                      <a:pt x="794" y="762"/>
                    </a:lnTo>
                    <a:lnTo>
                      <a:pt x="792" y="766"/>
                    </a:lnTo>
                    <a:lnTo>
                      <a:pt x="792" y="766"/>
                    </a:lnTo>
                    <a:lnTo>
                      <a:pt x="682" y="806"/>
                    </a:lnTo>
                    <a:lnTo>
                      <a:pt x="682" y="806"/>
                    </a:lnTo>
                    <a:lnTo>
                      <a:pt x="684" y="806"/>
                    </a:lnTo>
                    <a:lnTo>
                      <a:pt x="684" y="806"/>
                    </a:lnTo>
                    <a:lnTo>
                      <a:pt x="684" y="802"/>
                    </a:lnTo>
                    <a:lnTo>
                      <a:pt x="682" y="798"/>
                    </a:lnTo>
                    <a:lnTo>
                      <a:pt x="678" y="796"/>
                    </a:lnTo>
                    <a:lnTo>
                      <a:pt x="678" y="796"/>
                    </a:lnTo>
                    <a:lnTo>
                      <a:pt x="684" y="790"/>
                    </a:lnTo>
                    <a:lnTo>
                      <a:pt x="692" y="788"/>
                    </a:lnTo>
                    <a:lnTo>
                      <a:pt x="692" y="788"/>
                    </a:lnTo>
                    <a:lnTo>
                      <a:pt x="690" y="790"/>
                    </a:lnTo>
                    <a:lnTo>
                      <a:pt x="690" y="792"/>
                    </a:lnTo>
                    <a:lnTo>
                      <a:pt x="690" y="792"/>
                    </a:lnTo>
                    <a:lnTo>
                      <a:pt x="690" y="792"/>
                    </a:lnTo>
                    <a:lnTo>
                      <a:pt x="694" y="794"/>
                    </a:lnTo>
                    <a:lnTo>
                      <a:pt x="694" y="794"/>
                    </a:lnTo>
                    <a:lnTo>
                      <a:pt x="692" y="784"/>
                    </a:lnTo>
                    <a:lnTo>
                      <a:pt x="692" y="780"/>
                    </a:lnTo>
                    <a:lnTo>
                      <a:pt x="692" y="776"/>
                    </a:lnTo>
                    <a:lnTo>
                      <a:pt x="692" y="776"/>
                    </a:lnTo>
                    <a:lnTo>
                      <a:pt x="692" y="778"/>
                    </a:lnTo>
                    <a:lnTo>
                      <a:pt x="694" y="780"/>
                    </a:lnTo>
                    <a:lnTo>
                      <a:pt x="694" y="780"/>
                    </a:lnTo>
                    <a:lnTo>
                      <a:pt x="694" y="774"/>
                    </a:lnTo>
                    <a:lnTo>
                      <a:pt x="692" y="768"/>
                    </a:lnTo>
                    <a:lnTo>
                      <a:pt x="690" y="766"/>
                    </a:lnTo>
                    <a:lnTo>
                      <a:pt x="688" y="766"/>
                    </a:lnTo>
                    <a:lnTo>
                      <a:pt x="686" y="768"/>
                    </a:lnTo>
                    <a:lnTo>
                      <a:pt x="686" y="768"/>
                    </a:lnTo>
                    <a:lnTo>
                      <a:pt x="686" y="764"/>
                    </a:lnTo>
                    <a:lnTo>
                      <a:pt x="686" y="764"/>
                    </a:lnTo>
                    <a:lnTo>
                      <a:pt x="682" y="764"/>
                    </a:lnTo>
                    <a:lnTo>
                      <a:pt x="678" y="764"/>
                    </a:lnTo>
                    <a:lnTo>
                      <a:pt x="674" y="766"/>
                    </a:lnTo>
                    <a:lnTo>
                      <a:pt x="668" y="766"/>
                    </a:lnTo>
                    <a:lnTo>
                      <a:pt x="668" y="766"/>
                    </a:lnTo>
                    <a:lnTo>
                      <a:pt x="674" y="770"/>
                    </a:lnTo>
                    <a:lnTo>
                      <a:pt x="678" y="776"/>
                    </a:lnTo>
                    <a:lnTo>
                      <a:pt x="684" y="780"/>
                    </a:lnTo>
                    <a:lnTo>
                      <a:pt x="686" y="786"/>
                    </a:lnTo>
                    <a:lnTo>
                      <a:pt x="686" y="786"/>
                    </a:lnTo>
                    <a:lnTo>
                      <a:pt x="682" y="790"/>
                    </a:lnTo>
                    <a:lnTo>
                      <a:pt x="678" y="792"/>
                    </a:lnTo>
                    <a:lnTo>
                      <a:pt x="674" y="792"/>
                    </a:lnTo>
                    <a:lnTo>
                      <a:pt x="674" y="792"/>
                    </a:lnTo>
                    <a:lnTo>
                      <a:pt x="678" y="800"/>
                    </a:lnTo>
                    <a:lnTo>
                      <a:pt x="680" y="804"/>
                    </a:lnTo>
                    <a:lnTo>
                      <a:pt x="682" y="806"/>
                    </a:lnTo>
                    <a:lnTo>
                      <a:pt x="682" y="806"/>
                    </a:lnTo>
                    <a:lnTo>
                      <a:pt x="784" y="782"/>
                    </a:lnTo>
                    <a:lnTo>
                      <a:pt x="784" y="782"/>
                    </a:lnTo>
                    <a:lnTo>
                      <a:pt x="786" y="788"/>
                    </a:lnTo>
                    <a:lnTo>
                      <a:pt x="792" y="792"/>
                    </a:lnTo>
                    <a:lnTo>
                      <a:pt x="796" y="798"/>
                    </a:lnTo>
                    <a:lnTo>
                      <a:pt x="798" y="806"/>
                    </a:lnTo>
                    <a:lnTo>
                      <a:pt x="798" y="806"/>
                    </a:lnTo>
                    <a:lnTo>
                      <a:pt x="800" y="804"/>
                    </a:lnTo>
                    <a:lnTo>
                      <a:pt x="800" y="804"/>
                    </a:lnTo>
                    <a:lnTo>
                      <a:pt x="800" y="798"/>
                    </a:lnTo>
                    <a:lnTo>
                      <a:pt x="804" y="790"/>
                    </a:lnTo>
                    <a:lnTo>
                      <a:pt x="808" y="786"/>
                    </a:lnTo>
                    <a:lnTo>
                      <a:pt x="812" y="782"/>
                    </a:lnTo>
                    <a:lnTo>
                      <a:pt x="812" y="782"/>
                    </a:lnTo>
                    <a:lnTo>
                      <a:pt x="812" y="776"/>
                    </a:lnTo>
                    <a:lnTo>
                      <a:pt x="812" y="776"/>
                    </a:lnTo>
                    <a:lnTo>
                      <a:pt x="804" y="772"/>
                    </a:lnTo>
                    <a:lnTo>
                      <a:pt x="794" y="770"/>
                    </a:lnTo>
                    <a:lnTo>
                      <a:pt x="790" y="770"/>
                    </a:lnTo>
                    <a:lnTo>
                      <a:pt x="786" y="772"/>
                    </a:lnTo>
                    <a:lnTo>
                      <a:pt x="786" y="776"/>
                    </a:lnTo>
                    <a:lnTo>
                      <a:pt x="784" y="782"/>
                    </a:lnTo>
                    <a:lnTo>
                      <a:pt x="784" y="782"/>
                    </a:lnTo>
                    <a:lnTo>
                      <a:pt x="630" y="780"/>
                    </a:lnTo>
                    <a:lnTo>
                      <a:pt x="630" y="780"/>
                    </a:lnTo>
                    <a:lnTo>
                      <a:pt x="632" y="780"/>
                    </a:lnTo>
                    <a:lnTo>
                      <a:pt x="634" y="778"/>
                    </a:lnTo>
                    <a:lnTo>
                      <a:pt x="634" y="776"/>
                    </a:lnTo>
                    <a:lnTo>
                      <a:pt x="634" y="778"/>
                    </a:lnTo>
                    <a:lnTo>
                      <a:pt x="634" y="778"/>
                    </a:lnTo>
                    <a:lnTo>
                      <a:pt x="634" y="780"/>
                    </a:lnTo>
                    <a:lnTo>
                      <a:pt x="632" y="782"/>
                    </a:lnTo>
                    <a:lnTo>
                      <a:pt x="634" y="782"/>
                    </a:lnTo>
                    <a:lnTo>
                      <a:pt x="634" y="782"/>
                    </a:lnTo>
                    <a:lnTo>
                      <a:pt x="636" y="782"/>
                    </a:lnTo>
                    <a:lnTo>
                      <a:pt x="638" y="784"/>
                    </a:lnTo>
                    <a:lnTo>
                      <a:pt x="640" y="784"/>
                    </a:lnTo>
                    <a:lnTo>
                      <a:pt x="642" y="784"/>
                    </a:lnTo>
                    <a:lnTo>
                      <a:pt x="642" y="784"/>
                    </a:lnTo>
                    <a:lnTo>
                      <a:pt x="644" y="778"/>
                    </a:lnTo>
                    <a:lnTo>
                      <a:pt x="644" y="776"/>
                    </a:lnTo>
                    <a:lnTo>
                      <a:pt x="644" y="772"/>
                    </a:lnTo>
                    <a:lnTo>
                      <a:pt x="644" y="772"/>
                    </a:lnTo>
                    <a:lnTo>
                      <a:pt x="634" y="774"/>
                    </a:lnTo>
                    <a:lnTo>
                      <a:pt x="632" y="776"/>
                    </a:lnTo>
                    <a:lnTo>
                      <a:pt x="630" y="780"/>
                    </a:lnTo>
                    <a:lnTo>
                      <a:pt x="630" y="780"/>
                    </a:lnTo>
                    <a:lnTo>
                      <a:pt x="1262" y="776"/>
                    </a:lnTo>
                    <a:lnTo>
                      <a:pt x="1262" y="776"/>
                    </a:lnTo>
                    <a:lnTo>
                      <a:pt x="1264" y="788"/>
                    </a:lnTo>
                    <a:lnTo>
                      <a:pt x="1264" y="798"/>
                    </a:lnTo>
                    <a:lnTo>
                      <a:pt x="1264" y="798"/>
                    </a:lnTo>
                    <a:lnTo>
                      <a:pt x="1266" y="798"/>
                    </a:lnTo>
                    <a:lnTo>
                      <a:pt x="1266" y="800"/>
                    </a:lnTo>
                    <a:lnTo>
                      <a:pt x="1266" y="800"/>
                    </a:lnTo>
                    <a:lnTo>
                      <a:pt x="1266" y="814"/>
                    </a:lnTo>
                    <a:lnTo>
                      <a:pt x="1268" y="830"/>
                    </a:lnTo>
                    <a:lnTo>
                      <a:pt x="1268" y="830"/>
                    </a:lnTo>
                    <a:lnTo>
                      <a:pt x="1268" y="830"/>
                    </a:lnTo>
                    <a:lnTo>
                      <a:pt x="1270" y="830"/>
                    </a:lnTo>
                    <a:lnTo>
                      <a:pt x="1270" y="830"/>
                    </a:lnTo>
                    <a:lnTo>
                      <a:pt x="1270" y="824"/>
                    </a:lnTo>
                    <a:lnTo>
                      <a:pt x="1270" y="824"/>
                    </a:lnTo>
                    <a:lnTo>
                      <a:pt x="1270" y="818"/>
                    </a:lnTo>
                    <a:lnTo>
                      <a:pt x="1270" y="808"/>
                    </a:lnTo>
                    <a:lnTo>
                      <a:pt x="1272" y="802"/>
                    </a:lnTo>
                    <a:lnTo>
                      <a:pt x="1274" y="796"/>
                    </a:lnTo>
                    <a:lnTo>
                      <a:pt x="1274" y="796"/>
                    </a:lnTo>
                    <a:lnTo>
                      <a:pt x="1274" y="806"/>
                    </a:lnTo>
                    <a:lnTo>
                      <a:pt x="1274" y="810"/>
                    </a:lnTo>
                    <a:lnTo>
                      <a:pt x="1276" y="812"/>
                    </a:lnTo>
                    <a:lnTo>
                      <a:pt x="1276" y="812"/>
                    </a:lnTo>
                    <a:lnTo>
                      <a:pt x="1274" y="816"/>
                    </a:lnTo>
                    <a:lnTo>
                      <a:pt x="1272" y="822"/>
                    </a:lnTo>
                    <a:lnTo>
                      <a:pt x="1272" y="834"/>
                    </a:lnTo>
                    <a:lnTo>
                      <a:pt x="1272" y="834"/>
                    </a:lnTo>
                    <a:lnTo>
                      <a:pt x="1286" y="832"/>
                    </a:lnTo>
                    <a:lnTo>
                      <a:pt x="1292" y="828"/>
                    </a:lnTo>
                    <a:lnTo>
                      <a:pt x="1298" y="824"/>
                    </a:lnTo>
                    <a:lnTo>
                      <a:pt x="1298" y="824"/>
                    </a:lnTo>
                    <a:lnTo>
                      <a:pt x="1296" y="822"/>
                    </a:lnTo>
                    <a:lnTo>
                      <a:pt x="1294" y="820"/>
                    </a:lnTo>
                    <a:lnTo>
                      <a:pt x="1290" y="820"/>
                    </a:lnTo>
                    <a:lnTo>
                      <a:pt x="1284" y="820"/>
                    </a:lnTo>
                    <a:lnTo>
                      <a:pt x="1280" y="820"/>
                    </a:lnTo>
                    <a:lnTo>
                      <a:pt x="1280" y="818"/>
                    </a:lnTo>
                    <a:lnTo>
                      <a:pt x="1280" y="818"/>
                    </a:lnTo>
                    <a:lnTo>
                      <a:pt x="1284" y="814"/>
                    </a:lnTo>
                    <a:lnTo>
                      <a:pt x="1288" y="810"/>
                    </a:lnTo>
                    <a:lnTo>
                      <a:pt x="1288" y="810"/>
                    </a:lnTo>
                    <a:lnTo>
                      <a:pt x="1286" y="810"/>
                    </a:lnTo>
                    <a:lnTo>
                      <a:pt x="1284" y="810"/>
                    </a:lnTo>
                    <a:lnTo>
                      <a:pt x="1284" y="810"/>
                    </a:lnTo>
                    <a:lnTo>
                      <a:pt x="1290" y="810"/>
                    </a:lnTo>
                    <a:lnTo>
                      <a:pt x="1296" y="808"/>
                    </a:lnTo>
                    <a:lnTo>
                      <a:pt x="1300" y="804"/>
                    </a:lnTo>
                    <a:lnTo>
                      <a:pt x="1304" y="800"/>
                    </a:lnTo>
                    <a:lnTo>
                      <a:pt x="1304" y="800"/>
                    </a:lnTo>
                    <a:lnTo>
                      <a:pt x="1302" y="794"/>
                    </a:lnTo>
                    <a:lnTo>
                      <a:pt x="1298" y="792"/>
                    </a:lnTo>
                    <a:lnTo>
                      <a:pt x="1292" y="788"/>
                    </a:lnTo>
                    <a:lnTo>
                      <a:pt x="1292" y="784"/>
                    </a:lnTo>
                    <a:lnTo>
                      <a:pt x="1290" y="782"/>
                    </a:lnTo>
                    <a:lnTo>
                      <a:pt x="1290" y="782"/>
                    </a:lnTo>
                    <a:lnTo>
                      <a:pt x="1294" y="778"/>
                    </a:lnTo>
                    <a:lnTo>
                      <a:pt x="1294" y="778"/>
                    </a:lnTo>
                    <a:lnTo>
                      <a:pt x="1300" y="780"/>
                    </a:lnTo>
                    <a:lnTo>
                      <a:pt x="1304" y="778"/>
                    </a:lnTo>
                    <a:lnTo>
                      <a:pt x="1306" y="776"/>
                    </a:lnTo>
                    <a:lnTo>
                      <a:pt x="1306" y="776"/>
                    </a:lnTo>
                    <a:lnTo>
                      <a:pt x="1302" y="774"/>
                    </a:lnTo>
                    <a:lnTo>
                      <a:pt x="1298" y="772"/>
                    </a:lnTo>
                    <a:lnTo>
                      <a:pt x="1284" y="772"/>
                    </a:lnTo>
                    <a:lnTo>
                      <a:pt x="1272" y="774"/>
                    </a:lnTo>
                    <a:lnTo>
                      <a:pt x="1262" y="776"/>
                    </a:lnTo>
                    <a:lnTo>
                      <a:pt x="1262" y="776"/>
                    </a:lnTo>
                    <a:lnTo>
                      <a:pt x="896" y="782"/>
                    </a:lnTo>
                    <a:lnTo>
                      <a:pt x="896" y="782"/>
                    </a:lnTo>
                    <a:lnTo>
                      <a:pt x="900" y="784"/>
                    </a:lnTo>
                    <a:lnTo>
                      <a:pt x="902" y="786"/>
                    </a:lnTo>
                    <a:lnTo>
                      <a:pt x="902" y="790"/>
                    </a:lnTo>
                    <a:lnTo>
                      <a:pt x="902" y="792"/>
                    </a:lnTo>
                    <a:lnTo>
                      <a:pt x="896" y="800"/>
                    </a:lnTo>
                    <a:lnTo>
                      <a:pt x="894" y="804"/>
                    </a:lnTo>
                    <a:lnTo>
                      <a:pt x="894" y="808"/>
                    </a:lnTo>
                    <a:lnTo>
                      <a:pt x="894" y="808"/>
                    </a:lnTo>
                    <a:lnTo>
                      <a:pt x="896" y="804"/>
                    </a:lnTo>
                    <a:lnTo>
                      <a:pt x="898" y="804"/>
                    </a:lnTo>
                    <a:lnTo>
                      <a:pt x="902" y="806"/>
                    </a:lnTo>
                    <a:lnTo>
                      <a:pt x="904" y="810"/>
                    </a:lnTo>
                    <a:lnTo>
                      <a:pt x="906" y="810"/>
                    </a:lnTo>
                    <a:lnTo>
                      <a:pt x="908" y="808"/>
                    </a:lnTo>
                    <a:lnTo>
                      <a:pt x="908" y="808"/>
                    </a:lnTo>
                    <a:lnTo>
                      <a:pt x="908" y="778"/>
                    </a:lnTo>
                    <a:lnTo>
                      <a:pt x="908" y="778"/>
                    </a:lnTo>
                    <a:lnTo>
                      <a:pt x="906" y="780"/>
                    </a:lnTo>
                    <a:lnTo>
                      <a:pt x="902" y="780"/>
                    </a:lnTo>
                    <a:lnTo>
                      <a:pt x="898" y="780"/>
                    </a:lnTo>
                    <a:lnTo>
                      <a:pt x="896" y="782"/>
                    </a:lnTo>
                    <a:lnTo>
                      <a:pt x="896" y="782"/>
                    </a:lnTo>
                    <a:lnTo>
                      <a:pt x="1388" y="774"/>
                    </a:lnTo>
                    <a:lnTo>
                      <a:pt x="1388" y="774"/>
                    </a:lnTo>
                    <a:lnTo>
                      <a:pt x="1384" y="774"/>
                    </a:lnTo>
                    <a:lnTo>
                      <a:pt x="1378" y="774"/>
                    </a:lnTo>
                    <a:lnTo>
                      <a:pt x="1378" y="774"/>
                    </a:lnTo>
                    <a:lnTo>
                      <a:pt x="1378" y="776"/>
                    </a:lnTo>
                    <a:lnTo>
                      <a:pt x="1382" y="778"/>
                    </a:lnTo>
                    <a:lnTo>
                      <a:pt x="1386" y="778"/>
                    </a:lnTo>
                    <a:lnTo>
                      <a:pt x="1388" y="774"/>
                    </a:lnTo>
                    <a:lnTo>
                      <a:pt x="1388" y="774"/>
                    </a:lnTo>
                    <a:lnTo>
                      <a:pt x="698" y="794"/>
                    </a:lnTo>
                    <a:lnTo>
                      <a:pt x="698" y="794"/>
                    </a:lnTo>
                    <a:lnTo>
                      <a:pt x="698" y="794"/>
                    </a:lnTo>
                    <a:lnTo>
                      <a:pt x="700" y="796"/>
                    </a:lnTo>
                    <a:lnTo>
                      <a:pt x="702" y="796"/>
                    </a:lnTo>
                    <a:lnTo>
                      <a:pt x="704" y="796"/>
                    </a:lnTo>
                    <a:lnTo>
                      <a:pt x="704" y="796"/>
                    </a:lnTo>
                    <a:lnTo>
                      <a:pt x="704" y="792"/>
                    </a:lnTo>
                    <a:lnTo>
                      <a:pt x="704" y="786"/>
                    </a:lnTo>
                    <a:lnTo>
                      <a:pt x="704" y="782"/>
                    </a:lnTo>
                    <a:lnTo>
                      <a:pt x="704" y="776"/>
                    </a:lnTo>
                    <a:lnTo>
                      <a:pt x="704" y="776"/>
                    </a:lnTo>
                    <a:lnTo>
                      <a:pt x="700" y="774"/>
                    </a:lnTo>
                    <a:lnTo>
                      <a:pt x="700" y="774"/>
                    </a:lnTo>
                    <a:lnTo>
                      <a:pt x="698" y="778"/>
                    </a:lnTo>
                    <a:lnTo>
                      <a:pt x="696" y="784"/>
                    </a:lnTo>
                    <a:lnTo>
                      <a:pt x="698" y="794"/>
                    </a:lnTo>
                    <a:lnTo>
                      <a:pt x="698" y="794"/>
                    </a:lnTo>
                    <a:lnTo>
                      <a:pt x="708" y="792"/>
                    </a:lnTo>
                    <a:lnTo>
                      <a:pt x="708" y="792"/>
                    </a:lnTo>
                    <a:lnTo>
                      <a:pt x="710" y="788"/>
                    </a:lnTo>
                    <a:lnTo>
                      <a:pt x="714" y="784"/>
                    </a:lnTo>
                    <a:lnTo>
                      <a:pt x="714" y="784"/>
                    </a:lnTo>
                    <a:lnTo>
                      <a:pt x="712" y="780"/>
                    </a:lnTo>
                    <a:lnTo>
                      <a:pt x="710" y="780"/>
                    </a:lnTo>
                    <a:lnTo>
                      <a:pt x="708" y="778"/>
                    </a:lnTo>
                    <a:lnTo>
                      <a:pt x="708" y="778"/>
                    </a:lnTo>
                    <a:lnTo>
                      <a:pt x="708" y="786"/>
                    </a:lnTo>
                    <a:lnTo>
                      <a:pt x="708" y="792"/>
                    </a:lnTo>
                    <a:lnTo>
                      <a:pt x="708" y="792"/>
                    </a:lnTo>
                    <a:lnTo>
                      <a:pt x="1006" y="836"/>
                    </a:lnTo>
                    <a:lnTo>
                      <a:pt x="1006" y="836"/>
                    </a:lnTo>
                    <a:lnTo>
                      <a:pt x="1008" y="824"/>
                    </a:lnTo>
                    <a:lnTo>
                      <a:pt x="1012" y="810"/>
                    </a:lnTo>
                    <a:lnTo>
                      <a:pt x="1014" y="798"/>
                    </a:lnTo>
                    <a:lnTo>
                      <a:pt x="1012" y="784"/>
                    </a:lnTo>
                    <a:lnTo>
                      <a:pt x="1012" y="784"/>
                    </a:lnTo>
                    <a:lnTo>
                      <a:pt x="1006" y="802"/>
                    </a:lnTo>
                    <a:lnTo>
                      <a:pt x="1004" y="812"/>
                    </a:lnTo>
                    <a:lnTo>
                      <a:pt x="1004" y="824"/>
                    </a:lnTo>
                    <a:lnTo>
                      <a:pt x="1004" y="824"/>
                    </a:lnTo>
                    <a:lnTo>
                      <a:pt x="1006" y="836"/>
                    </a:lnTo>
                    <a:lnTo>
                      <a:pt x="1006" y="836"/>
                    </a:lnTo>
                    <a:lnTo>
                      <a:pt x="628" y="796"/>
                    </a:lnTo>
                    <a:lnTo>
                      <a:pt x="628" y="796"/>
                    </a:lnTo>
                    <a:lnTo>
                      <a:pt x="634" y="794"/>
                    </a:lnTo>
                    <a:lnTo>
                      <a:pt x="636" y="792"/>
                    </a:lnTo>
                    <a:lnTo>
                      <a:pt x="642" y="786"/>
                    </a:lnTo>
                    <a:lnTo>
                      <a:pt x="642" y="786"/>
                    </a:lnTo>
                    <a:lnTo>
                      <a:pt x="634" y="784"/>
                    </a:lnTo>
                    <a:lnTo>
                      <a:pt x="628" y="782"/>
                    </a:lnTo>
                    <a:lnTo>
                      <a:pt x="628" y="782"/>
                    </a:lnTo>
                    <a:lnTo>
                      <a:pt x="626" y="788"/>
                    </a:lnTo>
                    <a:lnTo>
                      <a:pt x="626" y="792"/>
                    </a:lnTo>
                    <a:lnTo>
                      <a:pt x="628" y="796"/>
                    </a:lnTo>
                    <a:lnTo>
                      <a:pt x="628" y="796"/>
                    </a:lnTo>
                    <a:lnTo>
                      <a:pt x="768" y="792"/>
                    </a:lnTo>
                    <a:lnTo>
                      <a:pt x="768" y="792"/>
                    </a:lnTo>
                    <a:lnTo>
                      <a:pt x="772" y="790"/>
                    </a:lnTo>
                    <a:lnTo>
                      <a:pt x="772" y="788"/>
                    </a:lnTo>
                    <a:lnTo>
                      <a:pt x="770" y="784"/>
                    </a:lnTo>
                    <a:lnTo>
                      <a:pt x="768" y="782"/>
                    </a:lnTo>
                    <a:lnTo>
                      <a:pt x="768" y="782"/>
                    </a:lnTo>
                    <a:lnTo>
                      <a:pt x="768" y="788"/>
                    </a:lnTo>
                    <a:lnTo>
                      <a:pt x="768" y="792"/>
                    </a:lnTo>
                    <a:lnTo>
                      <a:pt x="768" y="792"/>
                    </a:lnTo>
                    <a:lnTo>
                      <a:pt x="854" y="788"/>
                    </a:lnTo>
                    <a:lnTo>
                      <a:pt x="854" y="788"/>
                    </a:lnTo>
                    <a:lnTo>
                      <a:pt x="858" y="786"/>
                    </a:lnTo>
                    <a:lnTo>
                      <a:pt x="860" y="786"/>
                    </a:lnTo>
                    <a:lnTo>
                      <a:pt x="860" y="784"/>
                    </a:lnTo>
                    <a:lnTo>
                      <a:pt x="860" y="784"/>
                    </a:lnTo>
                    <a:lnTo>
                      <a:pt x="854" y="782"/>
                    </a:lnTo>
                    <a:lnTo>
                      <a:pt x="854" y="782"/>
                    </a:lnTo>
                    <a:lnTo>
                      <a:pt x="854" y="788"/>
                    </a:lnTo>
                    <a:lnTo>
                      <a:pt x="854" y="788"/>
                    </a:lnTo>
                    <a:lnTo>
                      <a:pt x="546" y="788"/>
                    </a:lnTo>
                    <a:lnTo>
                      <a:pt x="546" y="788"/>
                    </a:lnTo>
                    <a:lnTo>
                      <a:pt x="552" y="800"/>
                    </a:lnTo>
                    <a:lnTo>
                      <a:pt x="558" y="812"/>
                    </a:lnTo>
                    <a:lnTo>
                      <a:pt x="558" y="812"/>
                    </a:lnTo>
                    <a:lnTo>
                      <a:pt x="564" y="802"/>
                    </a:lnTo>
                    <a:lnTo>
                      <a:pt x="564" y="796"/>
                    </a:lnTo>
                    <a:lnTo>
                      <a:pt x="566" y="788"/>
                    </a:lnTo>
                    <a:lnTo>
                      <a:pt x="566" y="788"/>
                    </a:lnTo>
                    <a:lnTo>
                      <a:pt x="554" y="784"/>
                    </a:lnTo>
                    <a:lnTo>
                      <a:pt x="548" y="784"/>
                    </a:lnTo>
                    <a:lnTo>
                      <a:pt x="546" y="786"/>
                    </a:lnTo>
                    <a:lnTo>
                      <a:pt x="546" y="788"/>
                    </a:lnTo>
                    <a:lnTo>
                      <a:pt x="546" y="788"/>
                    </a:lnTo>
                    <a:lnTo>
                      <a:pt x="858" y="804"/>
                    </a:lnTo>
                    <a:lnTo>
                      <a:pt x="858" y="804"/>
                    </a:lnTo>
                    <a:lnTo>
                      <a:pt x="860" y="804"/>
                    </a:lnTo>
                    <a:lnTo>
                      <a:pt x="862" y="802"/>
                    </a:lnTo>
                    <a:lnTo>
                      <a:pt x="864" y="800"/>
                    </a:lnTo>
                    <a:lnTo>
                      <a:pt x="868" y="800"/>
                    </a:lnTo>
                    <a:lnTo>
                      <a:pt x="868" y="800"/>
                    </a:lnTo>
                    <a:lnTo>
                      <a:pt x="868" y="794"/>
                    </a:lnTo>
                    <a:lnTo>
                      <a:pt x="866" y="790"/>
                    </a:lnTo>
                    <a:lnTo>
                      <a:pt x="864" y="788"/>
                    </a:lnTo>
                    <a:lnTo>
                      <a:pt x="860" y="790"/>
                    </a:lnTo>
                    <a:lnTo>
                      <a:pt x="858" y="792"/>
                    </a:lnTo>
                    <a:lnTo>
                      <a:pt x="856" y="796"/>
                    </a:lnTo>
                    <a:lnTo>
                      <a:pt x="856" y="800"/>
                    </a:lnTo>
                    <a:lnTo>
                      <a:pt x="858" y="804"/>
                    </a:lnTo>
                    <a:lnTo>
                      <a:pt x="858" y="804"/>
                    </a:lnTo>
                    <a:lnTo>
                      <a:pt x="522" y="806"/>
                    </a:lnTo>
                    <a:lnTo>
                      <a:pt x="522" y="806"/>
                    </a:lnTo>
                    <a:lnTo>
                      <a:pt x="530" y="810"/>
                    </a:lnTo>
                    <a:lnTo>
                      <a:pt x="540" y="812"/>
                    </a:lnTo>
                    <a:lnTo>
                      <a:pt x="540" y="812"/>
                    </a:lnTo>
                    <a:lnTo>
                      <a:pt x="542" y="800"/>
                    </a:lnTo>
                    <a:lnTo>
                      <a:pt x="540" y="790"/>
                    </a:lnTo>
                    <a:lnTo>
                      <a:pt x="540" y="790"/>
                    </a:lnTo>
                    <a:lnTo>
                      <a:pt x="522" y="806"/>
                    </a:lnTo>
                    <a:lnTo>
                      <a:pt x="522" y="806"/>
                    </a:lnTo>
                    <a:lnTo>
                      <a:pt x="592" y="810"/>
                    </a:lnTo>
                    <a:lnTo>
                      <a:pt x="592" y="810"/>
                    </a:lnTo>
                    <a:lnTo>
                      <a:pt x="582" y="798"/>
                    </a:lnTo>
                    <a:lnTo>
                      <a:pt x="576" y="794"/>
                    </a:lnTo>
                    <a:lnTo>
                      <a:pt x="568" y="790"/>
                    </a:lnTo>
                    <a:lnTo>
                      <a:pt x="568" y="790"/>
                    </a:lnTo>
                    <a:lnTo>
                      <a:pt x="564" y="804"/>
                    </a:lnTo>
                    <a:lnTo>
                      <a:pt x="562" y="818"/>
                    </a:lnTo>
                    <a:lnTo>
                      <a:pt x="562" y="818"/>
                    </a:lnTo>
                    <a:lnTo>
                      <a:pt x="568" y="818"/>
                    </a:lnTo>
                    <a:lnTo>
                      <a:pt x="570" y="816"/>
                    </a:lnTo>
                    <a:lnTo>
                      <a:pt x="570" y="816"/>
                    </a:lnTo>
                    <a:lnTo>
                      <a:pt x="568" y="814"/>
                    </a:lnTo>
                    <a:lnTo>
                      <a:pt x="566" y="814"/>
                    </a:lnTo>
                    <a:lnTo>
                      <a:pt x="566" y="814"/>
                    </a:lnTo>
                    <a:lnTo>
                      <a:pt x="574" y="816"/>
                    </a:lnTo>
                    <a:lnTo>
                      <a:pt x="580" y="816"/>
                    </a:lnTo>
                    <a:lnTo>
                      <a:pt x="586" y="816"/>
                    </a:lnTo>
                    <a:lnTo>
                      <a:pt x="592" y="810"/>
                    </a:lnTo>
                    <a:lnTo>
                      <a:pt x="592" y="810"/>
                    </a:lnTo>
                    <a:lnTo>
                      <a:pt x="360" y="826"/>
                    </a:lnTo>
                    <a:lnTo>
                      <a:pt x="360" y="826"/>
                    </a:lnTo>
                    <a:lnTo>
                      <a:pt x="354" y="812"/>
                    </a:lnTo>
                    <a:lnTo>
                      <a:pt x="348" y="796"/>
                    </a:lnTo>
                    <a:lnTo>
                      <a:pt x="348" y="796"/>
                    </a:lnTo>
                    <a:lnTo>
                      <a:pt x="340" y="796"/>
                    </a:lnTo>
                    <a:lnTo>
                      <a:pt x="340" y="796"/>
                    </a:lnTo>
                    <a:lnTo>
                      <a:pt x="342" y="806"/>
                    </a:lnTo>
                    <a:lnTo>
                      <a:pt x="348" y="816"/>
                    </a:lnTo>
                    <a:lnTo>
                      <a:pt x="352" y="822"/>
                    </a:lnTo>
                    <a:lnTo>
                      <a:pt x="360" y="826"/>
                    </a:lnTo>
                    <a:lnTo>
                      <a:pt x="360" y="826"/>
                    </a:lnTo>
                    <a:lnTo>
                      <a:pt x="338" y="796"/>
                    </a:lnTo>
                    <a:lnTo>
                      <a:pt x="338" y="796"/>
                    </a:lnTo>
                    <a:lnTo>
                      <a:pt x="330" y="794"/>
                    </a:lnTo>
                    <a:lnTo>
                      <a:pt x="324" y="794"/>
                    </a:lnTo>
                    <a:lnTo>
                      <a:pt x="320" y="796"/>
                    </a:lnTo>
                    <a:lnTo>
                      <a:pt x="320" y="796"/>
                    </a:lnTo>
                    <a:lnTo>
                      <a:pt x="324" y="800"/>
                    </a:lnTo>
                    <a:lnTo>
                      <a:pt x="330" y="804"/>
                    </a:lnTo>
                    <a:lnTo>
                      <a:pt x="336" y="806"/>
                    </a:lnTo>
                    <a:lnTo>
                      <a:pt x="342" y="806"/>
                    </a:lnTo>
                    <a:lnTo>
                      <a:pt x="342" y="806"/>
                    </a:lnTo>
                    <a:lnTo>
                      <a:pt x="340" y="800"/>
                    </a:lnTo>
                    <a:lnTo>
                      <a:pt x="338" y="796"/>
                    </a:lnTo>
                    <a:lnTo>
                      <a:pt x="338" y="796"/>
                    </a:lnTo>
                    <a:lnTo>
                      <a:pt x="658" y="800"/>
                    </a:lnTo>
                    <a:lnTo>
                      <a:pt x="658" y="800"/>
                    </a:lnTo>
                    <a:lnTo>
                      <a:pt x="658" y="796"/>
                    </a:lnTo>
                    <a:lnTo>
                      <a:pt x="658" y="794"/>
                    </a:lnTo>
                    <a:lnTo>
                      <a:pt x="658" y="794"/>
                    </a:lnTo>
                    <a:lnTo>
                      <a:pt x="658" y="794"/>
                    </a:lnTo>
                    <a:lnTo>
                      <a:pt x="656" y="794"/>
                    </a:lnTo>
                    <a:lnTo>
                      <a:pt x="656" y="794"/>
                    </a:lnTo>
                    <a:lnTo>
                      <a:pt x="654" y="794"/>
                    </a:lnTo>
                    <a:lnTo>
                      <a:pt x="652" y="794"/>
                    </a:lnTo>
                    <a:lnTo>
                      <a:pt x="652" y="794"/>
                    </a:lnTo>
                    <a:lnTo>
                      <a:pt x="652" y="796"/>
                    </a:lnTo>
                    <a:lnTo>
                      <a:pt x="654" y="798"/>
                    </a:lnTo>
                    <a:lnTo>
                      <a:pt x="658" y="800"/>
                    </a:lnTo>
                    <a:lnTo>
                      <a:pt x="658" y="800"/>
                    </a:lnTo>
                    <a:lnTo>
                      <a:pt x="816" y="798"/>
                    </a:lnTo>
                    <a:lnTo>
                      <a:pt x="816" y="798"/>
                    </a:lnTo>
                    <a:lnTo>
                      <a:pt x="818" y="804"/>
                    </a:lnTo>
                    <a:lnTo>
                      <a:pt x="820" y="804"/>
                    </a:lnTo>
                    <a:lnTo>
                      <a:pt x="824" y="806"/>
                    </a:lnTo>
                    <a:lnTo>
                      <a:pt x="824" y="806"/>
                    </a:lnTo>
                    <a:lnTo>
                      <a:pt x="822" y="802"/>
                    </a:lnTo>
                    <a:lnTo>
                      <a:pt x="822" y="796"/>
                    </a:lnTo>
                    <a:lnTo>
                      <a:pt x="822" y="796"/>
                    </a:lnTo>
                    <a:lnTo>
                      <a:pt x="818" y="798"/>
                    </a:lnTo>
                    <a:lnTo>
                      <a:pt x="816" y="798"/>
                    </a:lnTo>
                    <a:lnTo>
                      <a:pt x="816" y="798"/>
                    </a:lnTo>
                    <a:lnTo>
                      <a:pt x="668" y="806"/>
                    </a:lnTo>
                    <a:lnTo>
                      <a:pt x="668" y="806"/>
                    </a:lnTo>
                    <a:lnTo>
                      <a:pt x="674" y="808"/>
                    </a:lnTo>
                    <a:lnTo>
                      <a:pt x="676" y="808"/>
                    </a:lnTo>
                    <a:lnTo>
                      <a:pt x="680" y="806"/>
                    </a:lnTo>
                    <a:lnTo>
                      <a:pt x="680" y="806"/>
                    </a:lnTo>
                    <a:lnTo>
                      <a:pt x="674" y="802"/>
                    </a:lnTo>
                    <a:lnTo>
                      <a:pt x="668" y="800"/>
                    </a:lnTo>
                    <a:lnTo>
                      <a:pt x="668" y="800"/>
                    </a:lnTo>
                    <a:lnTo>
                      <a:pt x="668" y="802"/>
                    </a:lnTo>
                    <a:lnTo>
                      <a:pt x="668" y="806"/>
                    </a:lnTo>
                    <a:lnTo>
                      <a:pt x="668" y="806"/>
                    </a:lnTo>
                    <a:lnTo>
                      <a:pt x="1414" y="808"/>
                    </a:lnTo>
                    <a:lnTo>
                      <a:pt x="1414" y="808"/>
                    </a:lnTo>
                    <a:lnTo>
                      <a:pt x="1422" y="806"/>
                    </a:lnTo>
                    <a:lnTo>
                      <a:pt x="1424" y="804"/>
                    </a:lnTo>
                    <a:lnTo>
                      <a:pt x="1424" y="800"/>
                    </a:lnTo>
                    <a:lnTo>
                      <a:pt x="1424" y="800"/>
                    </a:lnTo>
                    <a:lnTo>
                      <a:pt x="1420" y="802"/>
                    </a:lnTo>
                    <a:lnTo>
                      <a:pt x="1418" y="802"/>
                    </a:lnTo>
                    <a:lnTo>
                      <a:pt x="1414" y="808"/>
                    </a:lnTo>
                    <a:lnTo>
                      <a:pt x="1414" y="808"/>
                    </a:lnTo>
                    <a:lnTo>
                      <a:pt x="486" y="810"/>
                    </a:lnTo>
                    <a:lnTo>
                      <a:pt x="486" y="810"/>
                    </a:lnTo>
                    <a:lnTo>
                      <a:pt x="492" y="814"/>
                    </a:lnTo>
                    <a:lnTo>
                      <a:pt x="500" y="818"/>
                    </a:lnTo>
                    <a:lnTo>
                      <a:pt x="504" y="820"/>
                    </a:lnTo>
                    <a:lnTo>
                      <a:pt x="508" y="822"/>
                    </a:lnTo>
                    <a:lnTo>
                      <a:pt x="508" y="826"/>
                    </a:lnTo>
                    <a:lnTo>
                      <a:pt x="508" y="832"/>
                    </a:lnTo>
                    <a:lnTo>
                      <a:pt x="508" y="832"/>
                    </a:lnTo>
                    <a:lnTo>
                      <a:pt x="520" y="842"/>
                    </a:lnTo>
                    <a:lnTo>
                      <a:pt x="528" y="850"/>
                    </a:lnTo>
                    <a:lnTo>
                      <a:pt x="548" y="870"/>
                    </a:lnTo>
                    <a:lnTo>
                      <a:pt x="548" y="870"/>
                    </a:lnTo>
                    <a:lnTo>
                      <a:pt x="548" y="858"/>
                    </a:lnTo>
                    <a:lnTo>
                      <a:pt x="548" y="858"/>
                    </a:lnTo>
                    <a:lnTo>
                      <a:pt x="540" y="852"/>
                    </a:lnTo>
                    <a:lnTo>
                      <a:pt x="536" y="850"/>
                    </a:lnTo>
                    <a:lnTo>
                      <a:pt x="534" y="846"/>
                    </a:lnTo>
                    <a:lnTo>
                      <a:pt x="534" y="846"/>
                    </a:lnTo>
                    <a:lnTo>
                      <a:pt x="536" y="842"/>
                    </a:lnTo>
                    <a:lnTo>
                      <a:pt x="540" y="840"/>
                    </a:lnTo>
                    <a:lnTo>
                      <a:pt x="540" y="840"/>
                    </a:lnTo>
                    <a:lnTo>
                      <a:pt x="532" y="828"/>
                    </a:lnTo>
                    <a:lnTo>
                      <a:pt x="532" y="828"/>
                    </a:lnTo>
                    <a:lnTo>
                      <a:pt x="524" y="828"/>
                    </a:lnTo>
                    <a:lnTo>
                      <a:pt x="522" y="828"/>
                    </a:lnTo>
                    <a:lnTo>
                      <a:pt x="520" y="824"/>
                    </a:lnTo>
                    <a:lnTo>
                      <a:pt x="520" y="824"/>
                    </a:lnTo>
                    <a:lnTo>
                      <a:pt x="524" y="822"/>
                    </a:lnTo>
                    <a:lnTo>
                      <a:pt x="526" y="822"/>
                    </a:lnTo>
                    <a:lnTo>
                      <a:pt x="526" y="822"/>
                    </a:lnTo>
                    <a:lnTo>
                      <a:pt x="526" y="822"/>
                    </a:lnTo>
                    <a:lnTo>
                      <a:pt x="522" y="816"/>
                    </a:lnTo>
                    <a:lnTo>
                      <a:pt x="516" y="810"/>
                    </a:lnTo>
                    <a:lnTo>
                      <a:pt x="516" y="810"/>
                    </a:lnTo>
                    <a:lnTo>
                      <a:pt x="512" y="814"/>
                    </a:lnTo>
                    <a:lnTo>
                      <a:pt x="506" y="814"/>
                    </a:lnTo>
                    <a:lnTo>
                      <a:pt x="506" y="814"/>
                    </a:lnTo>
                    <a:lnTo>
                      <a:pt x="494" y="804"/>
                    </a:lnTo>
                    <a:lnTo>
                      <a:pt x="492" y="804"/>
                    </a:lnTo>
                    <a:lnTo>
                      <a:pt x="490" y="804"/>
                    </a:lnTo>
                    <a:lnTo>
                      <a:pt x="486" y="806"/>
                    </a:lnTo>
                    <a:lnTo>
                      <a:pt x="486" y="810"/>
                    </a:lnTo>
                    <a:lnTo>
                      <a:pt x="486" y="810"/>
                    </a:lnTo>
                    <a:lnTo>
                      <a:pt x="622" y="806"/>
                    </a:lnTo>
                    <a:lnTo>
                      <a:pt x="622" y="806"/>
                    </a:lnTo>
                    <a:lnTo>
                      <a:pt x="622" y="810"/>
                    </a:lnTo>
                    <a:lnTo>
                      <a:pt x="622" y="812"/>
                    </a:lnTo>
                    <a:lnTo>
                      <a:pt x="624" y="814"/>
                    </a:lnTo>
                    <a:lnTo>
                      <a:pt x="624" y="818"/>
                    </a:lnTo>
                    <a:lnTo>
                      <a:pt x="624" y="818"/>
                    </a:lnTo>
                    <a:lnTo>
                      <a:pt x="626" y="816"/>
                    </a:lnTo>
                    <a:lnTo>
                      <a:pt x="628" y="812"/>
                    </a:lnTo>
                    <a:lnTo>
                      <a:pt x="630" y="804"/>
                    </a:lnTo>
                    <a:lnTo>
                      <a:pt x="630" y="804"/>
                    </a:lnTo>
                    <a:lnTo>
                      <a:pt x="628" y="804"/>
                    </a:lnTo>
                    <a:lnTo>
                      <a:pt x="626" y="804"/>
                    </a:lnTo>
                    <a:lnTo>
                      <a:pt x="622" y="806"/>
                    </a:lnTo>
                    <a:lnTo>
                      <a:pt x="622" y="806"/>
                    </a:lnTo>
                    <a:lnTo>
                      <a:pt x="774" y="810"/>
                    </a:lnTo>
                    <a:lnTo>
                      <a:pt x="774" y="810"/>
                    </a:lnTo>
                    <a:lnTo>
                      <a:pt x="774" y="808"/>
                    </a:lnTo>
                    <a:lnTo>
                      <a:pt x="772" y="806"/>
                    </a:lnTo>
                    <a:lnTo>
                      <a:pt x="772" y="804"/>
                    </a:lnTo>
                    <a:lnTo>
                      <a:pt x="770" y="806"/>
                    </a:lnTo>
                    <a:lnTo>
                      <a:pt x="770" y="806"/>
                    </a:lnTo>
                    <a:lnTo>
                      <a:pt x="770" y="806"/>
                    </a:lnTo>
                    <a:lnTo>
                      <a:pt x="772" y="808"/>
                    </a:lnTo>
                    <a:lnTo>
                      <a:pt x="772" y="810"/>
                    </a:lnTo>
                    <a:lnTo>
                      <a:pt x="774" y="810"/>
                    </a:lnTo>
                    <a:lnTo>
                      <a:pt x="774" y="810"/>
                    </a:lnTo>
                    <a:lnTo>
                      <a:pt x="582" y="818"/>
                    </a:lnTo>
                    <a:lnTo>
                      <a:pt x="582" y="818"/>
                    </a:lnTo>
                    <a:lnTo>
                      <a:pt x="606" y="820"/>
                    </a:lnTo>
                    <a:lnTo>
                      <a:pt x="606" y="820"/>
                    </a:lnTo>
                    <a:lnTo>
                      <a:pt x="602" y="822"/>
                    </a:lnTo>
                    <a:lnTo>
                      <a:pt x="596" y="822"/>
                    </a:lnTo>
                    <a:lnTo>
                      <a:pt x="590" y="822"/>
                    </a:lnTo>
                    <a:lnTo>
                      <a:pt x="590" y="822"/>
                    </a:lnTo>
                    <a:lnTo>
                      <a:pt x="588" y="824"/>
                    </a:lnTo>
                    <a:lnTo>
                      <a:pt x="588" y="824"/>
                    </a:lnTo>
                    <a:lnTo>
                      <a:pt x="592" y="826"/>
                    </a:lnTo>
                    <a:lnTo>
                      <a:pt x="596" y="828"/>
                    </a:lnTo>
                    <a:lnTo>
                      <a:pt x="604" y="828"/>
                    </a:lnTo>
                    <a:lnTo>
                      <a:pt x="622" y="822"/>
                    </a:lnTo>
                    <a:lnTo>
                      <a:pt x="622" y="822"/>
                    </a:lnTo>
                    <a:lnTo>
                      <a:pt x="620" y="814"/>
                    </a:lnTo>
                    <a:lnTo>
                      <a:pt x="620" y="806"/>
                    </a:lnTo>
                    <a:lnTo>
                      <a:pt x="620" y="806"/>
                    </a:lnTo>
                    <a:lnTo>
                      <a:pt x="610" y="808"/>
                    </a:lnTo>
                    <a:lnTo>
                      <a:pt x="600" y="812"/>
                    </a:lnTo>
                    <a:lnTo>
                      <a:pt x="582" y="818"/>
                    </a:lnTo>
                    <a:lnTo>
                      <a:pt x="582" y="818"/>
                    </a:lnTo>
                    <a:lnTo>
                      <a:pt x="346" y="848"/>
                    </a:lnTo>
                    <a:lnTo>
                      <a:pt x="346" y="848"/>
                    </a:lnTo>
                    <a:lnTo>
                      <a:pt x="342" y="840"/>
                    </a:lnTo>
                    <a:lnTo>
                      <a:pt x="340" y="834"/>
                    </a:lnTo>
                    <a:lnTo>
                      <a:pt x="340" y="826"/>
                    </a:lnTo>
                    <a:lnTo>
                      <a:pt x="340" y="822"/>
                    </a:lnTo>
                    <a:lnTo>
                      <a:pt x="344" y="820"/>
                    </a:lnTo>
                    <a:lnTo>
                      <a:pt x="344" y="820"/>
                    </a:lnTo>
                    <a:lnTo>
                      <a:pt x="338" y="814"/>
                    </a:lnTo>
                    <a:lnTo>
                      <a:pt x="332" y="810"/>
                    </a:lnTo>
                    <a:lnTo>
                      <a:pt x="332" y="810"/>
                    </a:lnTo>
                    <a:lnTo>
                      <a:pt x="332" y="814"/>
                    </a:lnTo>
                    <a:lnTo>
                      <a:pt x="330" y="818"/>
                    </a:lnTo>
                    <a:lnTo>
                      <a:pt x="322" y="820"/>
                    </a:lnTo>
                    <a:lnTo>
                      <a:pt x="314" y="822"/>
                    </a:lnTo>
                    <a:lnTo>
                      <a:pt x="306" y="824"/>
                    </a:lnTo>
                    <a:lnTo>
                      <a:pt x="306" y="824"/>
                    </a:lnTo>
                    <a:lnTo>
                      <a:pt x="314" y="832"/>
                    </a:lnTo>
                    <a:lnTo>
                      <a:pt x="324" y="840"/>
                    </a:lnTo>
                    <a:lnTo>
                      <a:pt x="334" y="844"/>
                    </a:lnTo>
                    <a:lnTo>
                      <a:pt x="346" y="848"/>
                    </a:lnTo>
                    <a:lnTo>
                      <a:pt x="346" y="848"/>
                    </a:lnTo>
                    <a:lnTo>
                      <a:pt x="668" y="824"/>
                    </a:lnTo>
                    <a:lnTo>
                      <a:pt x="668" y="824"/>
                    </a:lnTo>
                    <a:lnTo>
                      <a:pt x="670" y="820"/>
                    </a:lnTo>
                    <a:lnTo>
                      <a:pt x="674" y="820"/>
                    </a:lnTo>
                    <a:lnTo>
                      <a:pt x="676" y="818"/>
                    </a:lnTo>
                    <a:lnTo>
                      <a:pt x="680" y="816"/>
                    </a:lnTo>
                    <a:lnTo>
                      <a:pt x="680" y="816"/>
                    </a:lnTo>
                    <a:lnTo>
                      <a:pt x="674" y="812"/>
                    </a:lnTo>
                    <a:lnTo>
                      <a:pt x="666" y="810"/>
                    </a:lnTo>
                    <a:lnTo>
                      <a:pt x="666" y="810"/>
                    </a:lnTo>
                    <a:lnTo>
                      <a:pt x="666" y="818"/>
                    </a:lnTo>
                    <a:lnTo>
                      <a:pt x="666" y="820"/>
                    </a:lnTo>
                    <a:lnTo>
                      <a:pt x="668" y="824"/>
                    </a:lnTo>
                    <a:lnTo>
                      <a:pt x="668" y="824"/>
                    </a:lnTo>
                    <a:lnTo>
                      <a:pt x="1356" y="830"/>
                    </a:lnTo>
                    <a:lnTo>
                      <a:pt x="1356" y="830"/>
                    </a:lnTo>
                    <a:lnTo>
                      <a:pt x="1354" y="822"/>
                    </a:lnTo>
                    <a:lnTo>
                      <a:pt x="1348" y="818"/>
                    </a:lnTo>
                    <a:lnTo>
                      <a:pt x="1334" y="810"/>
                    </a:lnTo>
                    <a:lnTo>
                      <a:pt x="1334" y="810"/>
                    </a:lnTo>
                    <a:lnTo>
                      <a:pt x="1336" y="816"/>
                    </a:lnTo>
                    <a:lnTo>
                      <a:pt x="1338" y="826"/>
                    </a:lnTo>
                    <a:lnTo>
                      <a:pt x="1338" y="826"/>
                    </a:lnTo>
                    <a:lnTo>
                      <a:pt x="1332" y="828"/>
                    </a:lnTo>
                    <a:lnTo>
                      <a:pt x="1326" y="830"/>
                    </a:lnTo>
                    <a:lnTo>
                      <a:pt x="1314" y="834"/>
                    </a:lnTo>
                    <a:lnTo>
                      <a:pt x="1314" y="834"/>
                    </a:lnTo>
                    <a:lnTo>
                      <a:pt x="1312" y="846"/>
                    </a:lnTo>
                    <a:lnTo>
                      <a:pt x="1310" y="858"/>
                    </a:lnTo>
                    <a:lnTo>
                      <a:pt x="1310" y="858"/>
                    </a:lnTo>
                    <a:lnTo>
                      <a:pt x="1312" y="858"/>
                    </a:lnTo>
                    <a:lnTo>
                      <a:pt x="1314" y="860"/>
                    </a:lnTo>
                    <a:lnTo>
                      <a:pt x="1314" y="860"/>
                    </a:lnTo>
                    <a:lnTo>
                      <a:pt x="1314" y="862"/>
                    </a:lnTo>
                    <a:lnTo>
                      <a:pt x="1312" y="862"/>
                    </a:lnTo>
                    <a:lnTo>
                      <a:pt x="1310" y="864"/>
                    </a:lnTo>
                    <a:lnTo>
                      <a:pt x="1310" y="866"/>
                    </a:lnTo>
                    <a:lnTo>
                      <a:pt x="1310" y="866"/>
                    </a:lnTo>
                    <a:lnTo>
                      <a:pt x="1310" y="866"/>
                    </a:lnTo>
                    <a:lnTo>
                      <a:pt x="1310" y="868"/>
                    </a:lnTo>
                    <a:lnTo>
                      <a:pt x="1312" y="870"/>
                    </a:lnTo>
                    <a:lnTo>
                      <a:pt x="1312" y="872"/>
                    </a:lnTo>
                    <a:lnTo>
                      <a:pt x="1312" y="872"/>
                    </a:lnTo>
                    <a:lnTo>
                      <a:pt x="1314" y="870"/>
                    </a:lnTo>
                    <a:lnTo>
                      <a:pt x="1316" y="870"/>
                    </a:lnTo>
                    <a:lnTo>
                      <a:pt x="1316" y="870"/>
                    </a:lnTo>
                    <a:lnTo>
                      <a:pt x="1314" y="872"/>
                    </a:lnTo>
                    <a:lnTo>
                      <a:pt x="1314" y="872"/>
                    </a:lnTo>
                    <a:lnTo>
                      <a:pt x="1320" y="872"/>
                    </a:lnTo>
                    <a:lnTo>
                      <a:pt x="1320" y="872"/>
                    </a:lnTo>
                    <a:lnTo>
                      <a:pt x="1322" y="872"/>
                    </a:lnTo>
                    <a:lnTo>
                      <a:pt x="1322" y="872"/>
                    </a:lnTo>
                    <a:lnTo>
                      <a:pt x="1322" y="870"/>
                    </a:lnTo>
                    <a:lnTo>
                      <a:pt x="1320" y="868"/>
                    </a:lnTo>
                    <a:lnTo>
                      <a:pt x="1320" y="868"/>
                    </a:lnTo>
                    <a:lnTo>
                      <a:pt x="1324" y="866"/>
                    </a:lnTo>
                    <a:lnTo>
                      <a:pt x="1326" y="862"/>
                    </a:lnTo>
                    <a:lnTo>
                      <a:pt x="1330" y="854"/>
                    </a:lnTo>
                    <a:lnTo>
                      <a:pt x="1332" y="842"/>
                    </a:lnTo>
                    <a:lnTo>
                      <a:pt x="1334" y="834"/>
                    </a:lnTo>
                    <a:lnTo>
                      <a:pt x="1334" y="834"/>
                    </a:lnTo>
                    <a:lnTo>
                      <a:pt x="1334" y="836"/>
                    </a:lnTo>
                    <a:lnTo>
                      <a:pt x="1334" y="840"/>
                    </a:lnTo>
                    <a:lnTo>
                      <a:pt x="1332" y="844"/>
                    </a:lnTo>
                    <a:lnTo>
                      <a:pt x="1334" y="846"/>
                    </a:lnTo>
                    <a:lnTo>
                      <a:pt x="1334" y="846"/>
                    </a:lnTo>
                    <a:lnTo>
                      <a:pt x="1334" y="844"/>
                    </a:lnTo>
                    <a:lnTo>
                      <a:pt x="1336" y="842"/>
                    </a:lnTo>
                    <a:lnTo>
                      <a:pt x="1336" y="842"/>
                    </a:lnTo>
                    <a:lnTo>
                      <a:pt x="1338" y="844"/>
                    </a:lnTo>
                    <a:lnTo>
                      <a:pt x="1340" y="844"/>
                    </a:lnTo>
                    <a:lnTo>
                      <a:pt x="1344" y="844"/>
                    </a:lnTo>
                    <a:lnTo>
                      <a:pt x="1346" y="846"/>
                    </a:lnTo>
                    <a:lnTo>
                      <a:pt x="1346" y="846"/>
                    </a:lnTo>
                    <a:lnTo>
                      <a:pt x="1340" y="846"/>
                    </a:lnTo>
                    <a:lnTo>
                      <a:pt x="1336" y="844"/>
                    </a:lnTo>
                    <a:lnTo>
                      <a:pt x="1336" y="844"/>
                    </a:lnTo>
                    <a:lnTo>
                      <a:pt x="1334" y="852"/>
                    </a:lnTo>
                    <a:lnTo>
                      <a:pt x="1332" y="856"/>
                    </a:lnTo>
                    <a:lnTo>
                      <a:pt x="1332" y="856"/>
                    </a:lnTo>
                    <a:lnTo>
                      <a:pt x="1336" y="858"/>
                    </a:lnTo>
                    <a:lnTo>
                      <a:pt x="1340" y="858"/>
                    </a:lnTo>
                    <a:lnTo>
                      <a:pt x="1344" y="858"/>
                    </a:lnTo>
                    <a:lnTo>
                      <a:pt x="1348" y="858"/>
                    </a:lnTo>
                    <a:lnTo>
                      <a:pt x="1348" y="858"/>
                    </a:lnTo>
                    <a:lnTo>
                      <a:pt x="1340" y="860"/>
                    </a:lnTo>
                    <a:lnTo>
                      <a:pt x="1334" y="862"/>
                    </a:lnTo>
                    <a:lnTo>
                      <a:pt x="1328" y="866"/>
                    </a:lnTo>
                    <a:lnTo>
                      <a:pt x="1326" y="870"/>
                    </a:lnTo>
                    <a:lnTo>
                      <a:pt x="1326" y="874"/>
                    </a:lnTo>
                    <a:lnTo>
                      <a:pt x="1326" y="874"/>
                    </a:lnTo>
                    <a:lnTo>
                      <a:pt x="1332" y="876"/>
                    </a:lnTo>
                    <a:lnTo>
                      <a:pt x="1336" y="878"/>
                    </a:lnTo>
                    <a:lnTo>
                      <a:pt x="1336" y="882"/>
                    </a:lnTo>
                    <a:lnTo>
                      <a:pt x="1336" y="882"/>
                    </a:lnTo>
                    <a:lnTo>
                      <a:pt x="1324" y="882"/>
                    </a:lnTo>
                    <a:lnTo>
                      <a:pt x="1324" y="882"/>
                    </a:lnTo>
                    <a:lnTo>
                      <a:pt x="1316" y="898"/>
                    </a:lnTo>
                    <a:lnTo>
                      <a:pt x="1312" y="906"/>
                    </a:lnTo>
                    <a:lnTo>
                      <a:pt x="1306" y="912"/>
                    </a:lnTo>
                    <a:lnTo>
                      <a:pt x="1306" y="912"/>
                    </a:lnTo>
                    <a:lnTo>
                      <a:pt x="1306" y="920"/>
                    </a:lnTo>
                    <a:lnTo>
                      <a:pt x="1302" y="928"/>
                    </a:lnTo>
                    <a:lnTo>
                      <a:pt x="1294" y="944"/>
                    </a:lnTo>
                    <a:lnTo>
                      <a:pt x="1292" y="952"/>
                    </a:lnTo>
                    <a:lnTo>
                      <a:pt x="1290" y="960"/>
                    </a:lnTo>
                    <a:lnTo>
                      <a:pt x="1292" y="968"/>
                    </a:lnTo>
                    <a:lnTo>
                      <a:pt x="1298" y="976"/>
                    </a:lnTo>
                    <a:lnTo>
                      <a:pt x="1298" y="976"/>
                    </a:lnTo>
                    <a:lnTo>
                      <a:pt x="1326" y="928"/>
                    </a:lnTo>
                    <a:lnTo>
                      <a:pt x="1340" y="902"/>
                    </a:lnTo>
                    <a:lnTo>
                      <a:pt x="1354" y="876"/>
                    </a:lnTo>
                    <a:lnTo>
                      <a:pt x="1354" y="876"/>
                    </a:lnTo>
                    <a:lnTo>
                      <a:pt x="1350" y="876"/>
                    </a:lnTo>
                    <a:lnTo>
                      <a:pt x="1348" y="874"/>
                    </a:lnTo>
                    <a:lnTo>
                      <a:pt x="1350" y="868"/>
                    </a:lnTo>
                    <a:lnTo>
                      <a:pt x="1352" y="864"/>
                    </a:lnTo>
                    <a:lnTo>
                      <a:pt x="1356" y="862"/>
                    </a:lnTo>
                    <a:lnTo>
                      <a:pt x="1358" y="864"/>
                    </a:lnTo>
                    <a:lnTo>
                      <a:pt x="1358" y="864"/>
                    </a:lnTo>
                    <a:lnTo>
                      <a:pt x="1364" y="852"/>
                    </a:lnTo>
                    <a:lnTo>
                      <a:pt x="1366" y="848"/>
                    </a:lnTo>
                    <a:lnTo>
                      <a:pt x="1368" y="842"/>
                    </a:lnTo>
                    <a:lnTo>
                      <a:pt x="1368" y="842"/>
                    </a:lnTo>
                    <a:lnTo>
                      <a:pt x="1354" y="838"/>
                    </a:lnTo>
                    <a:lnTo>
                      <a:pt x="1338" y="834"/>
                    </a:lnTo>
                    <a:lnTo>
                      <a:pt x="1338" y="834"/>
                    </a:lnTo>
                    <a:lnTo>
                      <a:pt x="1338" y="838"/>
                    </a:lnTo>
                    <a:lnTo>
                      <a:pt x="1336" y="840"/>
                    </a:lnTo>
                    <a:lnTo>
                      <a:pt x="1336" y="840"/>
                    </a:lnTo>
                    <a:lnTo>
                      <a:pt x="1338" y="836"/>
                    </a:lnTo>
                    <a:lnTo>
                      <a:pt x="1336" y="830"/>
                    </a:lnTo>
                    <a:lnTo>
                      <a:pt x="1336" y="830"/>
                    </a:lnTo>
                    <a:lnTo>
                      <a:pt x="1340" y="830"/>
                    </a:lnTo>
                    <a:lnTo>
                      <a:pt x="1340" y="828"/>
                    </a:lnTo>
                    <a:lnTo>
                      <a:pt x="1342" y="826"/>
                    </a:lnTo>
                    <a:lnTo>
                      <a:pt x="1344" y="824"/>
                    </a:lnTo>
                    <a:lnTo>
                      <a:pt x="1344" y="824"/>
                    </a:lnTo>
                    <a:lnTo>
                      <a:pt x="1342" y="830"/>
                    </a:lnTo>
                    <a:lnTo>
                      <a:pt x="1342" y="830"/>
                    </a:lnTo>
                    <a:lnTo>
                      <a:pt x="1348" y="830"/>
                    </a:lnTo>
                    <a:lnTo>
                      <a:pt x="1350" y="830"/>
                    </a:lnTo>
                    <a:lnTo>
                      <a:pt x="1352" y="830"/>
                    </a:lnTo>
                    <a:lnTo>
                      <a:pt x="1352" y="830"/>
                    </a:lnTo>
                    <a:lnTo>
                      <a:pt x="1350" y="828"/>
                    </a:lnTo>
                    <a:lnTo>
                      <a:pt x="1348" y="826"/>
                    </a:lnTo>
                    <a:lnTo>
                      <a:pt x="1350" y="826"/>
                    </a:lnTo>
                    <a:lnTo>
                      <a:pt x="1350" y="826"/>
                    </a:lnTo>
                    <a:lnTo>
                      <a:pt x="1352" y="828"/>
                    </a:lnTo>
                    <a:lnTo>
                      <a:pt x="1356" y="830"/>
                    </a:lnTo>
                    <a:lnTo>
                      <a:pt x="1356" y="830"/>
                    </a:lnTo>
                    <a:lnTo>
                      <a:pt x="970" y="1024"/>
                    </a:lnTo>
                    <a:lnTo>
                      <a:pt x="970" y="1024"/>
                    </a:lnTo>
                    <a:lnTo>
                      <a:pt x="972" y="1054"/>
                    </a:lnTo>
                    <a:lnTo>
                      <a:pt x="974" y="1068"/>
                    </a:lnTo>
                    <a:lnTo>
                      <a:pt x="976" y="1080"/>
                    </a:lnTo>
                    <a:lnTo>
                      <a:pt x="976" y="1080"/>
                    </a:lnTo>
                    <a:lnTo>
                      <a:pt x="980" y="1070"/>
                    </a:lnTo>
                    <a:lnTo>
                      <a:pt x="984" y="1056"/>
                    </a:lnTo>
                    <a:lnTo>
                      <a:pt x="984" y="1042"/>
                    </a:lnTo>
                    <a:lnTo>
                      <a:pt x="984" y="1026"/>
                    </a:lnTo>
                    <a:lnTo>
                      <a:pt x="984" y="1026"/>
                    </a:lnTo>
                    <a:lnTo>
                      <a:pt x="980" y="1026"/>
                    </a:lnTo>
                    <a:lnTo>
                      <a:pt x="978" y="1024"/>
                    </a:lnTo>
                    <a:lnTo>
                      <a:pt x="974" y="1024"/>
                    </a:lnTo>
                    <a:lnTo>
                      <a:pt x="970" y="1024"/>
                    </a:lnTo>
                    <a:lnTo>
                      <a:pt x="970" y="1024"/>
                    </a:lnTo>
                    <a:lnTo>
                      <a:pt x="978" y="858"/>
                    </a:lnTo>
                    <a:lnTo>
                      <a:pt x="978" y="858"/>
                    </a:lnTo>
                    <a:lnTo>
                      <a:pt x="974" y="864"/>
                    </a:lnTo>
                    <a:lnTo>
                      <a:pt x="970" y="872"/>
                    </a:lnTo>
                    <a:lnTo>
                      <a:pt x="966" y="888"/>
                    </a:lnTo>
                    <a:lnTo>
                      <a:pt x="966" y="904"/>
                    </a:lnTo>
                    <a:lnTo>
                      <a:pt x="966" y="922"/>
                    </a:lnTo>
                    <a:lnTo>
                      <a:pt x="966" y="922"/>
                    </a:lnTo>
                    <a:lnTo>
                      <a:pt x="968" y="942"/>
                    </a:lnTo>
                    <a:lnTo>
                      <a:pt x="968" y="942"/>
                    </a:lnTo>
                    <a:lnTo>
                      <a:pt x="970" y="960"/>
                    </a:lnTo>
                    <a:lnTo>
                      <a:pt x="970" y="960"/>
                    </a:lnTo>
                    <a:lnTo>
                      <a:pt x="970" y="984"/>
                    </a:lnTo>
                    <a:lnTo>
                      <a:pt x="970" y="1008"/>
                    </a:lnTo>
                    <a:lnTo>
                      <a:pt x="972" y="1016"/>
                    </a:lnTo>
                    <a:lnTo>
                      <a:pt x="974" y="1020"/>
                    </a:lnTo>
                    <a:lnTo>
                      <a:pt x="976" y="1022"/>
                    </a:lnTo>
                    <a:lnTo>
                      <a:pt x="980" y="1020"/>
                    </a:lnTo>
                    <a:lnTo>
                      <a:pt x="986" y="1012"/>
                    </a:lnTo>
                    <a:lnTo>
                      <a:pt x="986" y="1012"/>
                    </a:lnTo>
                    <a:lnTo>
                      <a:pt x="988" y="996"/>
                    </a:lnTo>
                    <a:lnTo>
                      <a:pt x="990" y="978"/>
                    </a:lnTo>
                    <a:lnTo>
                      <a:pt x="996" y="948"/>
                    </a:lnTo>
                    <a:lnTo>
                      <a:pt x="996" y="948"/>
                    </a:lnTo>
                    <a:lnTo>
                      <a:pt x="990" y="944"/>
                    </a:lnTo>
                    <a:lnTo>
                      <a:pt x="986" y="940"/>
                    </a:lnTo>
                    <a:lnTo>
                      <a:pt x="980" y="936"/>
                    </a:lnTo>
                    <a:lnTo>
                      <a:pt x="978" y="932"/>
                    </a:lnTo>
                    <a:lnTo>
                      <a:pt x="978" y="932"/>
                    </a:lnTo>
                    <a:lnTo>
                      <a:pt x="980" y="928"/>
                    </a:lnTo>
                    <a:lnTo>
                      <a:pt x="982" y="926"/>
                    </a:lnTo>
                    <a:lnTo>
                      <a:pt x="986" y="926"/>
                    </a:lnTo>
                    <a:lnTo>
                      <a:pt x="992" y="930"/>
                    </a:lnTo>
                    <a:lnTo>
                      <a:pt x="998" y="932"/>
                    </a:lnTo>
                    <a:lnTo>
                      <a:pt x="998" y="932"/>
                    </a:lnTo>
                    <a:lnTo>
                      <a:pt x="1000" y="914"/>
                    </a:lnTo>
                    <a:lnTo>
                      <a:pt x="1000" y="914"/>
                    </a:lnTo>
                    <a:lnTo>
                      <a:pt x="1002" y="894"/>
                    </a:lnTo>
                    <a:lnTo>
                      <a:pt x="1002" y="894"/>
                    </a:lnTo>
                    <a:lnTo>
                      <a:pt x="1002" y="876"/>
                    </a:lnTo>
                    <a:lnTo>
                      <a:pt x="1002" y="858"/>
                    </a:lnTo>
                    <a:lnTo>
                      <a:pt x="998" y="840"/>
                    </a:lnTo>
                    <a:lnTo>
                      <a:pt x="994" y="822"/>
                    </a:lnTo>
                    <a:lnTo>
                      <a:pt x="994" y="822"/>
                    </a:lnTo>
                    <a:lnTo>
                      <a:pt x="990" y="826"/>
                    </a:lnTo>
                    <a:lnTo>
                      <a:pt x="988" y="832"/>
                    </a:lnTo>
                    <a:lnTo>
                      <a:pt x="986" y="840"/>
                    </a:lnTo>
                    <a:lnTo>
                      <a:pt x="986" y="840"/>
                    </a:lnTo>
                    <a:lnTo>
                      <a:pt x="978" y="858"/>
                    </a:lnTo>
                    <a:lnTo>
                      <a:pt x="978" y="858"/>
                    </a:lnTo>
                    <a:lnTo>
                      <a:pt x="544" y="838"/>
                    </a:lnTo>
                    <a:lnTo>
                      <a:pt x="544" y="838"/>
                    </a:lnTo>
                    <a:lnTo>
                      <a:pt x="544" y="828"/>
                    </a:lnTo>
                    <a:lnTo>
                      <a:pt x="542" y="818"/>
                    </a:lnTo>
                    <a:lnTo>
                      <a:pt x="542" y="818"/>
                    </a:lnTo>
                    <a:lnTo>
                      <a:pt x="534" y="814"/>
                    </a:lnTo>
                    <a:lnTo>
                      <a:pt x="530" y="814"/>
                    </a:lnTo>
                    <a:lnTo>
                      <a:pt x="526" y="816"/>
                    </a:lnTo>
                    <a:lnTo>
                      <a:pt x="526" y="816"/>
                    </a:lnTo>
                    <a:lnTo>
                      <a:pt x="532" y="820"/>
                    </a:lnTo>
                    <a:lnTo>
                      <a:pt x="536" y="826"/>
                    </a:lnTo>
                    <a:lnTo>
                      <a:pt x="540" y="832"/>
                    </a:lnTo>
                    <a:lnTo>
                      <a:pt x="544" y="838"/>
                    </a:lnTo>
                    <a:lnTo>
                      <a:pt x="544" y="838"/>
                    </a:lnTo>
                    <a:lnTo>
                      <a:pt x="1436" y="832"/>
                    </a:lnTo>
                    <a:lnTo>
                      <a:pt x="1436" y="832"/>
                    </a:lnTo>
                    <a:lnTo>
                      <a:pt x="1438" y="816"/>
                    </a:lnTo>
                    <a:lnTo>
                      <a:pt x="1438" y="816"/>
                    </a:lnTo>
                    <a:lnTo>
                      <a:pt x="1434" y="814"/>
                    </a:lnTo>
                    <a:lnTo>
                      <a:pt x="1428" y="816"/>
                    </a:lnTo>
                    <a:lnTo>
                      <a:pt x="1418" y="818"/>
                    </a:lnTo>
                    <a:lnTo>
                      <a:pt x="1418" y="818"/>
                    </a:lnTo>
                    <a:lnTo>
                      <a:pt x="1418" y="822"/>
                    </a:lnTo>
                    <a:lnTo>
                      <a:pt x="1420" y="824"/>
                    </a:lnTo>
                    <a:lnTo>
                      <a:pt x="1422" y="826"/>
                    </a:lnTo>
                    <a:lnTo>
                      <a:pt x="1422" y="828"/>
                    </a:lnTo>
                    <a:lnTo>
                      <a:pt x="1422" y="828"/>
                    </a:lnTo>
                    <a:lnTo>
                      <a:pt x="1416" y="820"/>
                    </a:lnTo>
                    <a:lnTo>
                      <a:pt x="1416" y="820"/>
                    </a:lnTo>
                    <a:lnTo>
                      <a:pt x="1412" y="822"/>
                    </a:lnTo>
                    <a:lnTo>
                      <a:pt x="1410" y="826"/>
                    </a:lnTo>
                    <a:lnTo>
                      <a:pt x="1408" y="834"/>
                    </a:lnTo>
                    <a:lnTo>
                      <a:pt x="1408" y="834"/>
                    </a:lnTo>
                    <a:lnTo>
                      <a:pt x="1408" y="832"/>
                    </a:lnTo>
                    <a:lnTo>
                      <a:pt x="1406" y="832"/>
                    </a:lnTo>
                    <a:lnTo>
                      <a:pt x="1402" y="836"/>
                    </a:lnTo>
                    <a:lnTo>
                      <a:pt x="1396" y="846"/>
                    </a:lnTo>
                    <a:lnTo>
                      <a:pt x="1396" y="846"/>
                    </a:lnTo>
                    <a:lnTo>
                      <a:pt x="1404" y="846"/>
                    </a:lnTo>
                    <a:lnTo>
                      <a:pt x="1408" y="846"/>
                    </a:lnTo>
                    <a:lnTo>
                      <a:pt x="1410" y="844"/>
                    </a:lnTo>
                    <a:lnTo>
                      <a:pt x="1410" y="844"/>
                    </a:lnTo>
                    <a:lnTo>
                      <a:pt x="1406" y="842"/>
                    </a:lnTo>
                    <a:lnTo>
                      <a:pt x="1406" y="842"/>
                    </a:lnTo>
                    <a:lnTo>
                      <a:pt x="1410" y="840"/>
                    </a:lnTo>
                    <a:lnTo>
                      <a:pt x="1412" y="842"/>
                    </a:lnTo>
                    <a:lnTo>
                      <a:pt x="1414" y="844"/>
                    </a:lnTo>
                    <a:lnTo>
                      <a:pt x="1414" y="848"/>
                    </a:lnTo>
                    <a:lnTo>
                      <a:pt x="1414" y="848"/>
                    </a:lnTo>
                    <a:lnTo>
                      <a:pt x="1418" y="848"/>
                    </a:lnTo>
                    <a:lnTo>
                      <a:pt x="1422" y="850"/>
                    </a:lnTo>
                    <a:lnTo>
                      <a:pt x="1422" y="850"/>
                    </a:lnTo>
                    <a:lnTo>
                      <a:pt x="1422" y="844"/>
                    </a:lnTo>
                    <a:lnTo>
                      <a:pt x="1422" y="838"/>
                    </a:lnTo>
                    <a:lnTo>
                      <a:pt x="1422" y="834"/>
                    </a:lnTo>
                    <a:lnTo>
                      <a:pt x="1422" y="830"/>
                    </a:lnTo>
                    <a:lnTo>
                      <a:pt x="1422" y="830"/>
                    </a:lnTo>
                    <a:lnTo>
                      <a:pt x="1424" y="840"/>
                    </a:lnTo>
                    <a:lnTo>
                      <a:pt x="1424" y="846"/>
                    </a:lnTo>
                    <a:lnTo>
                      <a:pt x="1426" y="850"/>
                    </a:lnTo>
                    <a:lnTo>
                      <a:pt x="1426" y="850"/>
                    </a:lnTo>
                    <a:lnTo>
                      <a:pt x="1434" y="854"/>
                    </a:lnTo>
                    <a:lnTo>
                      <a:pt x="1434" y="854"/>
                    </a:lnTo>
                    <a:lnTo>
                      <a:pt x="1434" y="844"/>
                    </a:lnTo>
                    <a:lnTo>
                      <a:pt x="1436" y="834"/>
                    </a:lnTo>
                    <a:lnTo>
                      <a:pt x="1436" y="834"/>
                    </a:lnTo>
                    <a:lnTo>
                      <a:pt x="1432" y="834"/>
                    </a:lnTo>
                    <a:lnTo>
                      <a:pt x="1428" y="832"/>
                    </a:lnTo>
                    <a:lnTo>
                      <a:pt x="1426" y="830"/>
                    </a:lnTo>
                    <a:lnTo>
                      <a:pt x="1426" y="828"/>
                    </a:lnTo>
                    <a:lnTo>
                      <a:pt x="1426" y="828"/>
                    </a:lnTo>
                    <a:lnTo>
                      <a:pt x="1430" y="830"/>
                    </a:lnTo>
                    <a:lnTo>
                      <a:pt x="1436" y="832"/>
                    </a:lnTo>
                    <a:lnTo>
                      <a:pt x="1436" y="832"/>
                    </a:lnTo>
                    <a:lnTo>
                      <a:pt x="1266" y="834"/>
                    </a:lnTo>
                    <a:lnTo>
                      <a:pt x="1266" y="834"/>
                    </a:lnTo>
                    <a:lnTo>
                      <a:pt x="1266" y="824"/>
                    </a:lnTo>
                    <a:lnTo>
                      <a:pt x="1264" y="818"/>
                    </a:lnTo>
                    <a:lnTo>
                      <a:pt x="1264" y="816"/>
                    </a:lnTo>
                    <a:lnTo>
                      <a:pt x="1262" y="816"/>
                    </a:lnTo>
                    <a:lnTo>
                      <a:pt x="1262" y="816"/>
                    </a:lnTo>
                    <a:lnTo>
                      <a:pt x="1260" y="826"/>
                    </a:lnTo>
                    <a:lnTo>
                      <a:pt x="1262" y="832"/>
                    </a:lnTo>
                    <a:lnTo>
                      <a:pt x="1266" y="834"/>
                    </a:lnTo>
                    <a:lnTo>
                      <a:pt x="1266" y="834"/>
                    </a:lnTo>
                    <a:lnTo>
                      <a:pt x="964" y="858"/>
                    </a:lnTo>
                    <a:lnTo>
                      <a:pt x="964" y="858"/>
                    </a:lnTo>
                    <a:lnTo>
                      <a:pt x="960" y="860"/>
                    </a:lnTo>
                    <a:lnTo>
                      <a:pt x="958" y="866"/>
                    </a:lnTo>
                    <a:lnTo>
                      <a:pt x="958" y="872"/>
                    </a:lnTo>
                    <a:lnTo>
                      <a:pt x="960" y="880"/>
                    </a:lnTo>
                    <a:lnTo>
                      <a:pt x="960" y="880"/>
                    </a:lnTo>
                    <a:lnTo>
                      <a:pt x="962" y="872"/>
                    </a:lnTo>
                    <a:lnTo>
                      <a:pt x="964" y="866"/>
                    </a:lnTo>
                    <a:lnTo>
                      <a:pt x="970" y="854"/>
                    </a:lnTo>
                    <a:lnTo>
                      <a:pt x="978" y="840"/>
                    </a:lnTo>
                    <a:lnTo>
                      <a:pt x="984" y="828"/>
                    </a:lnTo>
                    <a:lnTo>
                      <a:pt x="984" y="828"/>
                    </a:lnTo>
                    <a:lnTo>
                      <a:pt x="978" y="834"/>
                    </a:lnTo>
                    <a:lnTo>
                      <a:pt x="976" y="838"/>
                    </a:lnTo>
                    <a:lnTo>
                      <a:pt x="972" y="842"/>
                    </a:lnTo>
                    <a:lnTo>
                      <a:pt x="972" y="842"/>
                    </a:lnTo>
                    <a:lnTo>
                      <a:pt x="964" y="858"/>
                    </a:lnTo>
                    <a:lnTo>
                      <a:pt x="964" y="858"/>
                    </a:lnTo>
                    <a:lnTo>
                      <a:pt x="786" y="826"/>
                    </a:lnTo>
                    <a:lnTo>
                      <a:pt x="786" y="826"/>
                    </a:lnTo>
                    <a:lnTo>
                      <a:pt x="790" y="832"/>
                    </a:lnTo>
                    <a:lnTo>
                      <a:pt x="794" y="834"/>
                    </a:lnTo>
                    <a:lnTo>
                      <a:pt x="798" y="834"/>
                    </a:lnTo>
                    <a:lnTo>
                      <a:pt x="798" y="834"/>
                    </a:lnTo>
                    <a:lnTo>
                      <a:pt x="796" y="832"/>
                    </a:lnTo>
                    <a:lnTo>
                      <a:pt x="794" y="830"/>
                    </a:lnTo>
                    <a:lnTo>
                      <a:pt x="794" y="830"/>
                    </a:lnTo>
                    <a:lnTo>
                      <a:pt x="802" y="826"/>
                    </a:lnTo>
                    <a:lnTo>
                      <a:pt x="804" y="824"/>
                    </a:lnTo>
                    <a:lnTo>
                      <a:pt x="804" y="820"/>
                    </a:lnTo>
                    <a:lnTo>
                      <a:pt x="804" y="820"/>
                    </a:lnTo>
                    <a:lnTo>
                      <a:pt x="802" y="820"/>
                    </a:lnTo>
                    <a:lnTo>
                      <a:pt x="796" y="822"/>
                    </a:lnTo>
                    <a:lnTo>
                      <a:pt x="792" y="824"/>
                    </a:lnTo>
                    <a:lnTo>
                      <a:pt x="786" y="826"/>
                    </a:lnTo>
                    <a:lnTo>
                      <a:pt x="786" y="826"/>
                    </a:lnTo>
                    <a:lnTo>
                      <a:pt x="664" y="838"/>
                    </a:lnTo>
                    <a:lnTo>
                      <a:pt x="664" y="838"/>
                    </a:lnTo>
                    <a:lnTo>
                      <a:pt x="668" y="840"/>
                    </a:lnTo>
                    <a:lnTo>
                      <a:pt x="672" y="840"/>
                    </a:lnTo>
                    <a:lnTo>
                      <a:pt x="678" y="840"/>
                    </a:lnTo>
                    <a:lnTo>
                      <a:pt x="690" y="832"/>
                    </a:lnTo>
                    <a:lnTo>
                      <a:pt x="690" y="832"/>
                    </a:lnTo>
                    <a:lnTo>
                      <a:pt x="690" y="826"/>
                    </a:lnTo>
                    <a:lnTo>
                      <a:pt x="688" y="824"/>
                    </a:lnTo>
                    <a:lnTo>
                      <a:pt x="684" y="822"/>
                    </a:lnTo>
                    <a:lnTo>
                      <a:pt x="678" y="822"/>
                    </a:lnTo>
                    <a:lnTo>
                      <a:pt x="672" y="824"/>
                    </a:lnTo>
                    <a:lnTo>
                      <a:pt x="668" y="826"/>
                    </a:lnTo>
                    <a:lnTo>
                      <a:pt x="666" y="832"/>
                    </a:lnTo>
                    <a:lnTo>
                      <a:pt x="664" y="838"/>
                    </a:lnTo>
                    <a:lnTo>
                      <a:pt x="664" y="838"/>
                    </a:lnTo>
                    <a:lnTo>
                      <a:pt x="894" y="828"/>
                    </a:lnTo>
                    <a:lnTo>
                      <a:pt x="894" y="828"/>
                    </a:lnTo>
                    <a:lnTo>
                      <a:pt x="890" y="834"/>
                    </a:lnTo>
                    <a:lnTo>
                      <a:pt x="890" y="842"/>
                    </a:lnTo>
                    <a:lnTo>
                      <a:pt x="892" y="850"/>
                    </a:lnTo>
                    <a:lnTo>
                      <a:pt x="894" y="858"/>
                    </a:lnTo>
                    <a:lnTo>
                      <a:pt x="902" y="872"/>
                    </a:lnTo>
                    <a:lnTo>
                      <a:pt x="912" y="884"/>
                    </a:lnTo>
                    <a:lnTo>
                      <a:pt x="912" y="884"/>
                    </a:lnTo>
                    <a:lnTo>
                      <a:pt x="910" y="876"/>
                    </a:lnTo>
                    <a:lnTo>
                      <a:pt x="908" y="870"/>
                    </a:lnTo>
                    <a:lnTo>
                      <a:pt x="908" y="854"/>
                    </a:lnTo>
                    <a:lnTo>
                      <a:pt x="908" y="838"/>
                    </a:lnTo>
                    <a:lnTo>
                      <a:pt x="908" y="830"/>
                    </a:lnTo>
                    <a:lnTo>
                      <a:pt x="906" y="824"/>
                    </a:lnTo>
                    <a:lnTo>
                      <a:pt x="906" y="824"/>
                    </a:lnTo>
                    <a:lnTo>
                      <a:pt x="900" y="826"/>
                    </a:lnTo>
                    <a:lnTo>
                      <a:pt x="894" y="828"/>
                    </a:lnTo>
                    <a:lnTo>
                      <a:pt x="894" y="828"/>
                    </a:lnTo>
                    <a:lnTo>
                      <a:pt x="1448" y="848"/>
                    </a:lnTo>
                    <a:lnTo>
                      <a:pt x="1448" y="848"/>
                    </a:lnTo>
                    <a:lnTo>
                      <a:pt x="1446" y="832"/>
                    </a:lnTo>
                    <a:lnTo>
                      <a:pt x="1444" y="826"/>
                    </a:lnTo>
                    <a:lnTo>
                      <a:pt x="1440" y="820"/>
                    </a:lnTo>
                    <a:lnTo>
                      <a:pt x="1440" y="820"/>
                    </a:lnTo>
                    <a:lnTo>
                      <a:pt x="1438" y="828"/>
                    </a:lnTo>
                    <a:lnTo>
                      <a:pt x="1438" y="838"/>
                    </a:lnTo>
                    <a:lnTo>
                      <a:pt x="1438" y="846"/>
                    </a:lnTo>
                    <a:lnTo>
                      <a:pt x="1436" y="852"/>
                    </a:lnTo>
                    <a:lnTo>
                      <a:pt x="1436" y="852"/>
                    </a:lnTo>
                    <a:lnTo>
                      <a:pt x="1438" y="856"/>
                    </a:lnTo>
                    <a:lnTo>
                      <a:pt x="1438" y="856"/>
                    </a:lnTo>
                    <a:lnTo>
                      <a:pt x="1442" y="856"/>
                    </a:lnTo>
                    <a:lnTo>
                      <a:pt x="1446" y="854"/>
                    </a:lnTo>
                    <a:lnTo>
                      <a:pt x="1446" y="852"/>
                    </a:lnTo>
                    <a:lnTo>
                      <a:pt x="1448" y="848"/>
                    </a:lnTo>
                    <a:lnTo>
                      <a:pt x="1448" y="848"/>
                    </a:lnTo>
                    <a:lnTo>
                      <a:pt x="1442" y="848"/>
                    </a:lnTo>
                    <a:lnTo>
                      <a:pt x="1440" y="846"/>
                    </a:lnTo>
                    <a:lnTo>
                      <a:pt x="1440" y="846"/>
                    </a:lnTo>
                    <a:lnTo>
                      <a:pt x="1444" y="846"/>
                    </a:lnTo>
                    <a:lnTo>
                      <a:pt x="1448" y="848"/>
                    </a:lnTo>
                    <a:lnTo>
                      <a:pt x="1448" y="848"/>
                    </a:lnTo>
                    <a:lnTo>
                      <a:pt x="1390" y="846"/>
                    </a:lnTo>
                    <a:lnTo>
                      <a:pt x="1390" y="846"/>
                    </a:lnTo>
                    <a:lnTo>
                      <a:pt x="1398" y="836"/>
                    </a:lnTo>
                    <a:lnTo>
                      <a:pt x="1402" y="830"/>
                    </a:lnTo>
                    <a:lnTo>
                      <a:pt x="1406" y="824"/>
                    </a:lnTo>
                    <a:lnTo>
                      <a:pt x="1406" y="824"/>
                    </a:lnTo>
                    <a:lnTo>
                      <a:pt x="1398" y="828"/>
                    </a:lnTo>
                    <a:lnTo>
                      <a:pt x="1394" y="834"/>
                    </a:lnTo>
                    <a:lnTo>
                      <a:pt x="1390" y="840"/>
                    </a:lnTo>
                    <a:lnTo>
                      <a:pt x="1390" y="846"/>
                    </a:lnTo>
                    <a:lnTo>
                      <a:pt x="1390" y="846"/>
                    </a:lnTo>
                    <a:lnTo>
                      <a:pt x="558" y="832"/>
                    </a:lnTo>
                    <a:lnTo>
                      <a:pt x="558" y="832"/>
                    </a:lnTo>
                    <a:lnTo>
                      <a:pt x="566" y="832"/>
                    </a:lnTo>
                    <a:lnTo>
                      <a:pt x="570" y="832"/>
                    </a:lnTo>
                    <a:lnTo>
                      <a:pt x="574" y="830"/>
                    </a:lnTo>
                    <a:lnTo>
                      <a:pt x="574" y="830"/>
                    </a:lnTo>
                    <a:lnTo>
                      <a:pt x="566" y="828"/>
                    </a:lnTo>
                    <a:lnTo>
                      <a:pt x="560" y="826"/>
                    </a:lnTo>
                    <a:lnTo>
                      <a:pt x="560" y="826"/>
                    </a:lnTo>
                    <a:lnTo>
                      <a:pt x="558" y="832"/>
                    </a:lnTo>
                    <a:lnTo>
                      <a:pt x="558" y="832"/>
                    </a:lnTo>
                    <a:lnTo>
                      <a:pt x="760" y="826"/>
                    </a:lnTo>
                    <a:lnTo>
                      <a:pt x="760" y="826"/>
                    </a:lnTo>
                    <a:lnTo>
                      <a:pt x="756" y="832"/>
                    </a:lnTo>
                    <a:lnTo>
                      <a:pt x="750" y="834"/>
                    </a:lnTo>
                    <a:lnTo>
                      <a:pt x="738" y="838"/>
                    </a:lnTo>
                    <a:lnTo>
                      <a:pt x="738" y="838"/>
                    </a:lnTo>
                    <a:lnTo>
                      <a:pt x="734" y="856"/>
                    </a:lnTo>
                    <a:lnTo>
                      <a:pt x="734" y="856"/>
                    </a:lnTo>
                    <a:lnTo>
                      <a:pt x="748" y="858"/>
                    </a:lnTo>
                    <a:lnTo>
                      <a:pt x="764" y="860"/>
                    </a:lnTo>
                    <a:lnTo>
                      <a:pt x="764" y="860"/>
                    </a:lnTo>
                    <a:lnTo>
                      <a:pt x="762" y="844"/>
                    </a:lnTo>
                    <a:lnTo>
                      <a:pt x="760" y="826"/>
                    </a:lnTo>
                    <a:lnTo>
                      <a:pt x="760" y="826"/>
                    </a:lnTo>
                    <a:lnTo>
                      <a:pt x="828" y="836"/>
                    </a:lnTo>
                    <a:lnTo>
                      <a:pt x="828" y="836"/>
                    </a:lnTo>
                    <a:lnTo>
                      <a:pt x="828" y="830"/>
                    </a:lnTo>
                    <a:lnTo>
                      <a:pt x="828" y="828"/>
                    </a:lnTo>
                    <a:lnTo>
                      <a:pt x="826" y="828"/>
                    </a:lnTo>
                    <a:lnTo>
                      <a:pt x="826" y="828"/>
                    </a:lnTo>
                    <a:lnTo>
                      <a:pt x="824" y="832"/>
                    </a:lnTo>
                    <a:lnTo>
                      <a:pt x="826" y="836"/>
                    </a:lnTo>
                    <a:lnTo>
                      <a:pt x="828" y="836"/>
                    </a:lnTo>
                    <a:lnTo>
                      <a:pt x="828" y="836"/>
                    </a:lnTo>
                    <a:lnTo>
                      <a:pt x="610" y="834"/>
                    </a:lnTo>
                    <a:lnTo>
                      <a:pt x="610" y="834"/>
                    </a:lnTo>
                    <a:lnTo>
                      <a:pt x="624" y="838"/>
                    </a:lnTo>
                    <a:lnTo>
                      <a:pt x="624" y="838"/>
                    </a:lnTo>
                    <a:lnTo>
                      <a:pt x="622" y="834"/>
                    </a:lnTo>
                    <a:lnTo>
                      <a:pt x="622" y="830"/>
                    </a:lnTo>
                    <a:lnTo>
                      <a:pt x="622" y="830"/>
                    </a:lnTo>
                    <a:lnTo>
                      <a:pt x="616" y="830"/>
                    </a:lnTo>
                    <a:lnTo>
                      <a:pt x="612" y="832"/>
                    </a:lnTo>
                    <a:lnTo>
                      <a:pt x="610" y="834"/>
                    </a:lnTo>
                    <a:lnTo>
                      <a:pt x="610" y="834"/>
                    </a:lnTo>
                    <a:lnTo>
                      <a:pt x="1308" y="832"/>
                    </a:lnTo>
                    <a:lnTo>
                      <a:pt x="1308" y="832"/>
                    </a:lnTo>
                    <a:lnTo>
                      <a:pt x="1304" y="830"/>
                    </a:lnTo>
                    <a:lnTo>
                      <a:pt x="1302" y="830"/>
                    </a:lnTo>
                    <a:lnTo>
                      <a:pt x="1300" y="832"/>
                    </a:lnTo>
                    <a:lnTo>
                      <a:pt x="1300" y="832"/>
                    </a:lnTo>
                    <a:lnTo>
                      <a:pt x="1304" y="832"/>
                    </a:lnTo>
                    <a:lnTo>
                      <a:pt x="1306" y="832"/>
                    </a:lnTo>
                    <a:lnTo>
                      <a:pt x="1306" y="834"/>
                    </a:lnTo>
                    <a:lnTo>
                      <a:pt x="1308" y="832"/>
                    </a:lnTo>
                    <a:lnTo>
                      <a:pt x="1308" y="832"/>
                    </a:lnTo>
                    <a:lnTo>
                      <a:pt x="710" y="850"/>
                    </a:lnTo>
                    <a:lnTo>
                      <a:pt x="710" y="850"/>
                    </a:lnTo>
                    <a:lnTo>
                      <a:pt x="708" y="842"/>
                    </a:lnTo>
                    <a:lnTo>
                      <a:pt x="706" y="834"/>
                    </a:lnTo>
                    <a:lnTo>
                      <a:pt x="706" y="834"/>
                    </a:lnTo>
                    <a:lnTo>
                      <a:pt x="704" y="834"/>
                    </a:lnTo>
                    <a:lnTo>
                      <a:pt x="702" y="834"/>
                    </a:lnTo>
                    <a:lnTo>
                      <a:pt x="700" y="832"/>
                    </a:lnTo>
                    <a:lnTo>
                      <a:pt x="700" y="834"/>
                    </a:lnTo>
                    <a:lnTo>
                      <a:pt x="700" y="834"/>
                    </a:lnTo>
                    <a:lnTo>
                      <a:pt x="704" y="846"/>
                    </a:lnTo>
                    <a:lnTo>
                      <a:pt x="706" y="850"/>
                    </a:lnTo>
                    <a:lnTo>
                      <a:pt x="710" y="850"/>
                    </a:lnTo>
                    <a:lnTo>
                      <a:pt x="710" y="850"/>
                    </a:lnTo>
                    <a:lnTo>
                      <a:pt x="1512" y="832"/>
                    </a:lnTo>
                    <a:lnTo>
                      <a:pt x="1512" y="832"/>
                    </a:lnTo>
                    <a:lnTo>
                      <a:pt x="1506" y="844"/>
                    </a:lnTo>
                    <a:lnTo>
                      <a:pt x="1506" y="852"/>
                    </a:lnTo>
                    <a:lnTo>
                      <a:pt x="1506" y="858"/>
                    </a:lnTo>
                    <a:lnTo>
                      <a:pt x="1506" y="858"/>
                    </a:lnTo>
                    <a:lnTo>
                      <a:pt x="1512" y="854"/>
                    </a:lnTo>
                    <a:lnTo>
                      <a:pt x="1516" y="850"/>
                    </a:lnTo>
                    <a:lnTo>
                      <a:pt x="1520" y="846"/>
                    </a:lnTo>
                    <a:lnTo>
                      <a:pt x="1526" y="842"/>
                    </a:lnTo>
                    <a:lnTo>
                      <a:pt x="1526" y="842"/>
                    </a:lnTo>
                    <a:lnTo>
                      <a:pt x="1524" y="838"/>
                    </a:lnTo>
                    <a:lnTo>
                      <a:pt x="1522" y="836"/>
                    </a:lnTo>
                    <a:lnTo>
                      <a:pt x="1512" y="832"/>
                    </a:lnTo>
                    <a:lnTo>
                      <a:pt x="1512" y="832"/>
                    </a:lnTo>
                    <a:lnTo>
                      <a:pt x="348" y="852"/>
                    </a:lnTo>
                    <a:lnTo>
                      <a:pt x="348" y="852"/>
                    </a:lnTo>
                    <a:lnTo>
                      <a:pt x="340" y="848"/>
                    </a:lnTo>
                    <a:lnTo>
                      <a:pt x="326" y="842"/>
                    </a:lnTo>
                    <a:lnTo>
                      <a:pt x="312" y="838"/>
                    </a:lnTo>
                    <a:lnTo>
                      <a:pt x="302" y="836"/>
                    </a:lnTo>
                    <a:lnTo>
                      <a:pt x="302" y="836"/>
                    </a:lnTo>
                    <a:lnTo>
                      <a:pt x="298" y="838"/>
                    </a:lnTo>
                    <a:lnTo>
                      <a:pt x="294" y="842"/>
                    </a:lnTo>
                    <a:lnTo>
                      <a:pt x="294" y="846"/>
                    </a:lnTo>
                    <a:lnTo>
                      <a:pt x="296" y="850"/>
                    </a:lnTo>
                    <a:lnTo>
                      <a:pt x="300" y="858"/>
                    </a:lnTo>
                    <a:lnTo>
                      <a:pt x="306" y="866"/>
                    </a:lnTo>
                    <a:lnTo>
                      <a:pt x="306" y="866"/>
                    </a:lnTo>
                    <a:lnTo>
                      <a:pt x="314" y="870"/>
                    </a:lnTo>
                    <a:lnTo>
                      <a:pt x="324" y="874"/>
                    </a:lnTo>
                    <a:lnTo>
                      <a:pt x="340" y="882"/>
                    </a:lnTo>
                    <a:lnTo>
                      <a:pt x="340" y="882"/>
                    </a:lnTo>
                    <a:lnTo>
                      <a:pt x="342" y="878"/>
                    </a:lnTo>
                    <a:lnTo>
                      <a:pt x="346" y="874"/>
                    </a:lnTo>
                    <a:lnTo>
                      <a:pt x="358" y="868"/>
                    </a:lnTo>
                    <a:lnTo>
                      <a:pt x="358" y="868"/>
                    </a:lnTo>
                    <a:lnTo>
                      <a:pt x="356" y="866"/>
                    </a:lnTo>
                    <a:lnTo>
                      <a:pt x="356" y="864"/>
                    </a:lnTo>
                    <a:lnTo>
                      <a:pt x="354" y="862"/>
                    </a:lnTo>
                    <a:lnTo>
                      <a:pt x="352" y="862"/>
                    </a:lnTo>
                    <a:lnTo>
                      <a:pt x="352" y="862"/>
                    </a:lnTo>
                    <a:lnTo>
                      <a:pt x="350" y="868"/>
                    </a:lnTo>
                    <a:lnTo>
                      <a:pt x="346" y="872"/>
                    </a:lnTo>
                    <a:lnTo>
                      <a:pt x="346" y="872"/>
                    </a:lnTo>
                    <a:lnTo>
                      <a:pt x="350" y="866"/>
                    </a:lnTo>
                    <a:lnTo>
                      <a:pt x="352" y="862"/>
                    </a:lnTo>
                    <a:lnTo>
                      <a:pt x="350" y="856"/>
                    </a:lnTo>
                    <a:lnTo>
                      <a:pt x="348" y="852"/>
                    </a:lnTo>
                    <a:lnTo>
                      <a:pt x="348" y="852"/>
                    </a:lnTo>
                    <a:lnTo>
                      <a:pt x="1564" y="860"/>
                    </a:lnTo>
                    <a:lnTo>
                      <a:pt x="1564" y="860"/>
                    </a:lnTo>
                    <a:lnTo>
                      <a:pt x="1570" y="858"/>
                    </a:lnTo>
                    <a:lnTo>
                      <a:pt x="1576" y="858"/>
                    </a:lnTo>
                    <a:lnTo>
                      <a:pt x="1576" y="858"/>
                    </a:lnTo>
                    <a:lnTo>
                      <a:pt x="1580" y="850"/>
                    </a:lnTo>
                    <a:lnTo>
                      <a:pt x="1584" y="844"/>
                    </a:lnTo>
                    <a:lnTo>
                      <a:pt x="1584" y="844"/>
                    </a:lnTo>
                    <a:lnTo>
                      <a:pt x="1580" y="844"/>
                    </a:lnTo>
                    <a:lnTo>
                      <a:pt x="1578" y="842"/>
                    </a:lnTo>
                    <a:lnTo>
                      <a:pt x="1576" y="838"/>
                    </a:lnTo>
                    <a:lnTo>
                      <a:pt x="1576" y="838"/>
                    </a:lnTo>
                    <a:lnTo>
                      <a:pt x="1570" y="848"/>
                    </a:lnTo>
                    <a:lnTo>
                      <a:pt x="1566" y="854"/>
                    </a:lnTo>
                    <a:lnTo>
                      <a:pt x="1564" y="860"/>
                    </a:lnTo>
                    <a:lnTo>
                      <a:pt x="1564" y="860"/>
                    </a:lnTo>
                    <a:lnTo>
                      <a:pt x="380" y="856"/>
                    </a:lnTo>
                    <a:lnTo>
                      <a:pt x="380" y="856"/>
                    </a:lnTo>
                    <a:lnTo>
                      <a:pt x="372" y="846"/>
                    </a:lnTo>
                    <a:lnTo>
                      <a:pt x="362" y="838"/>
                    </a:lnTo>
                    <a:lnTo>
                      <a:pt x="362" y="838"/>
                    </a:lnTo>
                    <a:lnTo>
                      <a:pt x="364" y="848"/>
                    </a:lnTo>
                    <a:lnTo>
                      <a:pt x="368" y="856"/>
                    </a:lnTo>
                    <a:lnTo>
                      <a:pt x="370" y="858"/>
                    </a:lnTo>
                    <a:lnTo>
                      <a:pt x="372" y="860"/>
                    </a:lnTo>
                    <a:lnTo>
                      <a:pt x="376" y="858"/>
                    </a:lnTo>
                    <a:lnTo>
                      <a:pt x="380" y="856"/>
                    </a:lnTo>
                    <a:lnTo>
                      <a:pt x="380" y="856"/>
                    </a:lnTo>
                    <a:lnTo>
                      <a:pt x="728" y="856"/>
                    </a:lnTo>
                    <a:lnTo>
                      <a:pt x="728" y="856"/>
                    </a:lnTo>
                    <a:lnTo>
                      <a:pt x="728" y="846"/>
                    </a:lnTo>
                    <a:lnTo>
                      <a:pt x="730" y="840"/>
                    </a:lnTo>
                    <a:lnTo>
                      <a:pt x="730" y="840"/>
                    </a:lnTo>
                    <a:lnTo>
                      <a:pt x="720" y="840"/>
                    </a:lnTo>
                    <a:lnTo>
                      <a:pt x="712" y="840"/>
                    </a:lnTo>
                    <a:lnTo>
                      <a:pt x="712" y="840"/>
                    </a:lnTo>
                    <a:lnTo>
                      <a:pt x="716" y="850"/>
                    </a:lnTo>
                    <a:lnTo>
                      <a:pt x="720" y="854"/>
                    </a:lnTo>
                    <a:lnTo>
                      <a:pt x="728" y="856"/>
                    </a:lnTo>
                    <a:lnTo>
                      <a:pt x="728" y="856"/>
                    </a:lnTo>
                    <a:lnTo>
                      <a:pt x="1552" y="858"/>
                    </a:lnTo>
                    <a:lnTo>
                      <a:pt x="1552" y="858"/>
                    </a:lnTo>
                    <a:lnTo>
                      <a:pt x="1556" y="860"/>
                    </a:lnTo>
                    <a:lnTo>
                      <a:pt x="1560" y="860"/>
                    </a:lnTo>
                    <a:lnTo>
                      <a:pt x="1560" y="860"/>
                    </a:lnTo>
                    <a:lnTo>
                      <a:pt x="1564" y="852"/>
                    </a:lnTo>
                    <a:lnTo>
                      <a:pt x="1566" y="846"/>
                    </a:lnTo>
                    <a:lnTo>
                      <a:pt x="1566" y="840"/>
                    </a:lnTo>
                    <a:lnTo>
                      <a:pt x="1566" y="840"/>
                    </a:lnTo>
                    <a:lnTo>
                      <a:pt x="1562" y="844"/>
                    </a:lnTo>
                    <a:lnTo>
                      <a:pt x="1558" y="848"/>
                    </a:lnTo>
                    <a:lnTo>
                      <a:pt x="1556" y="852"/>
                    </a:lnTo>
                    <a:lnTo>
                      <a:pt x="1552" y="858"/>
                    </a:lnTo>
                    <a:lnTo>
                      <a:pt x="1552" y="858"/>
                    </a:lnTo>
                    <a:lnTo>
                      <a:pt x="586" y="852"/>
                    </a:lnTo>
                    <a:lnTo>
                      <a:pt x="586" y="852"/>
                    </a:lnTo>
                    <a:lnTo>
                      <a:pt x="588" y="852"/>
                    </a:lnTo>
                    <a:lnTo>
                      <a:pt x="590" y="854"/>
                    </a:lnTo>
                    <a:lnTo>
                      <a:pt x="590" y="854"/>
                    </a:lnTo>
                    <a:lnTo>
                      <a:pt x="586" y="854"/>
                    </a:lnTo>
                    <a:lnTo>
                      <a:pt x="584" y="858"/>
                    </a:lnTo>
                    <a:lnTo>
                      <a:pt x="584" y="862"/>
                    </a:lnTo>
                    <a:lnTo>
                      <a:pt x="586" y="864"/>
                    </a:lnTo>
                    <a:lnTo>
                      <a:pt x="586" y="864"/>
                    </a:lnTo>
                    <a:lnTo>
                      <a:pt x="586" y="862"/>
                    </a:lnTo>
                    <a:lnTo>
                      <a:pt x="588" y="860"/>
                    </a:lnTo>
                    <a:lnTo>
                      <a:pt x="588" y="856"/>
                    </a:lnTo>
                    <a:lnTo>
                      <a:pt x="590" y="856"/>
                    </a:lnTo>
                    <a:lnTo>
                      <a:pt x="590" y="856"/>
                    </a:lnTo>
                    <a:lnTo>
                      <a:pt x="600" y="858"/>
                    </a:lnTo>
                    <a:lnTo>
                      <a:pt x="604" y="856"/>
                    </a:lnTo>
                    <a:lnTo>
                      <a:pt x="608" y="854"/>
                    </a:lnTo>
                    <a:lnTo>
                      <a:pt x="608" y="854"/>
                    </a:lnTo>
                    <a:lnTo>
                      <a:pt x="606" y="854"/>
                    </a:lnTo>
                    <a:lnTo>
                      <a:pt x="604" y="852"/>
                    </a:lnTo>
                    <a:lnTo>
                      <a:pt x="604" y="848"/>
                    </a:lnTo>
                    <a:lnTo>
                      <a:pt x="604" y="848"/>
                    </a:lnTo>
                    <a:lnTo>
                      <a:pt x="608" y="848"/>
                    </a:lnTo>
                    <a:lnTo>
                      <a:pt x="612" y="848"/>
                    </a:lnTo>
                    <a:lnTo>
                      <a:pt x="618" y="848"/>
                    </a:lnTo>
                    <a:lnTo>
                      <a:pt x="622" y="846"/>
                    </a:lnTo>
                    <a:lnTo>
                      <a:pt x="622" y="846"/>
                    </a:lnTo>
                    <a:lnTo>
                      <a:pt x="612" y="842"/>
                    </a:lnTo>
                    <a:lnTo>
                      <a:pt x="602" y="844"/>
                    </a:lnTo>
                    <a:lnTo>
                      <a:pt x="594" y="848"/>
                    </a:lnTo>
                    <a:lnTo>
                      <a:pt x="586" y="852"/>
                    </a:lnTo>
                    <a:lnTo>
                      <a:pt x="586" y="852"/>
                    </a:lnTo>
                    <a:lnTo>
                      <a:pt x="672" y="846"/>
                    </a:lnTo>
                    <a:lnTo>
                      <a:pt x="672" y="846"/>
                    </a:lnTo>
                    <a:lnTo>
                      <a:pt x="668" y="844"/>
                    </a:lnTo>
                    <a:lnTo>
                      <a:pt x="666" y="844"/>
                    </a:lnTo>
                    <a:lnTo>
                      <a:pt x="664" y="846"/>
                    </a:lnTo>
                    <a:lnTo>
                      <a:pt x="664" y="846"/>
                    </a:lnTo>
                    <a:lnTo>
                      <a:pt x="668" y="848"/>
                    </a:lnTo>
                    <a:lnTo>
                      <a:pt x="670" y="848"/>
                    </a:lnTo>
                    <a:lnTo>
                      <a:pt x="672" y="846"/>
                    </a:lnTo>
                    <a:lnTo>
                      <a:pt x="672" y="846"/>
                    </a:lnTo>
                    <a:lnTo>
                      <a:pt x="810" y="858"/>
                    </a:lnTo>
                    <a:lnTo>
                      <a:pt x="810" y="858"/>
                    </a:lnTo>
                    <a:lnTo>
                      <a:pt x="814" y="860"/>
                    </a:lnTo>
                    <a:lnTo>
                      <a:pt x="816" y="862"/>
                    </a:lnTo>
                    <a:lnTo>
                      <a:pt x="818" y="866"/>
                    </a:lnTo>
                    <a:lnTo>
                      <a:pt x="818" y="866"/>
                    </a:lnTo>
                    <a:lnTo>
                      <a:pt x="816" y="870"/>
                    </a:lnTo>
                    <a:lnTo>
                      <a:pt x="812" y="874"/>
                    </a:lnTo>
                    <a:lnTo>
                      <a:pt x="812" y="874"/>
                    </a:lnTo>
                    <a:lnTo>
                      <a:pt x="820" y="880"/>
                    </a:lnTo>
                    <a:lnTo>
                      <a:pt x="826" y="886"/>
                    </a:lnTo>
                    <a:lnTo>
                      <a:pt x="832" y="894"/>
                    </a:lnTo>
                    <a:lnTo>
                      <a:pt x="840" y="898"/>
                    </a:lnTo>
                    <a:lnTo>
                      <a:pt x="840" y="898"/>
                    </a:lnTo>
                    <a:lnTo>
                      <a:pt x="838" y="888"/>
                    </a:lnTo>
                    <a:lnTo>
                      <a:pt x="836" y="880"/>
                    </a:lnTo>
                    <a:lnTo>
                      <a:pt x="834" y="870"/>
                    </a:lnTo>
                    <a:lnTo>
                      <a:pt x="832" y="868"/>
                    </a:lnTo>
                    <a:lnTo>
                      <a:pt x="828" y="866"/>
                    </a:lnTo>
                    <a:lnTo>
                      <a:pt x="828" y="866"/>
                    </a:lnTo>
                    <a:lnTo>
                      <a:pt x="832" y="862"/>
                    </a:lnTo>
                    <a:lnTo>
                      <a:pt x="832" y="858"/>
                    </a:lnTo>
                    <a:lnTo>
                      <a:pt x="830" y="848"/>
                    </a:lnTo>
                    <a:lnTo>
                      <a:pt x="830" y="848"/>
                    </a:lnTo>
                    <a:lnTo>
                      <a:pt x="822" y="848"/>
                    </a:lnTo>
                    <a:lnTo>
                      <a:pt x="816" y="848"/>
                    </a:lnTo>
                    <a:lnTo>
                      <a:pt x="812" y="852"/>
                    </a:lnTo>
                    <a:lnTo>
                      <a:pt x="810" y="858"/>
                    </a:lnTo>
                    <a:lnTo>
                      <a:pt x="810" y="858"/>
                    </a:lnTo>
                    <a:lnTo>
                      <a:pt x="1264" y="868"/>
                    </a:lnTo>
                    <a:lnTo>
                      <a:pt x="1264" y="868"/>
                    </a:lnTo>
                    <a:lnTo>
                      <a:pt x="1262" y="856"/>
                    </a:lnTo>
                    <a:lnTo>
                      <a:pt x="1258" y="850"/>
                    </a:lnTo>
                    <a:lnTo>
                      <a:pt x="1252" y="848"/>
                    </a:lnTo>
                    <a:lnTo>
                      <a:pt x="1252" y="848"/>
                    </a:lnTo>
                    <a:lnTo>
                      <a:pt x="1248" y="854"/>
                    </a:lnTo>
                    <a:lnTo>
                      <a:pt x="1244" y="862"/>
                    </a:lnTo>
                    <a:lnTo>
                      <a:pt x="1242" y="870"/>
                    </a:lnTo>
                    <a:lnTo>
                      <a:pt x="1242" y="878"/>
                    </a:lnTo>
                    <a:lnTo>
                      <a:pt x="1242" y="878"/>
                    </a:lnTo>
                    <a:lnTo>
                      <a:pt x="1254" y="880"/>
                    </a:lnTo>
                    <a:lnTo>
                      <a:pt x="1264" y="884"/>
                    </a:lnTo>
                    <a:lnTo>
                      <a:pt x="1264" y="884"/>
                    </a:lnTo>
                    <a:lnTo>
                      <a:pt x="1264" y="876"/>
                    </a:lnTo>
                    <a:lnTo>
                      <a:pt x="1264" y="870"/>
                    </a:lnTo>
                    <a:lnTo>
                      <a:pt x="1262" y="864"/>
                    </a:lnTo>
                    <a:lnTo>
                      <a:pt x="1258" y="860"/>
                    </a:lnTo>
                    <a:lnTo>
                      <a:pt x="1258" y="860"/>
                    </a:lnTo>
                    <a:lnTo>
                      <a:pt x="1262" y="864"/>
                    </a:lnTo>
                    <a:lnTo>
                      <a:pt x="1264" y="868"/>
                    </a:lnTo>
                    <a:lnTo>
                      <a:pt x="1264" y="868"/>
                    </a:lnTo>
                    <a:lnTo>
                      <a:pt x="1014" y="854"/>
                    </a:lnTo>
                    <a:lnTo>
                      <a:pt x="1014" y="854"/>
                    </a:lnTo>
                    <a:lnTo>
                      <a:pt x="1012" y="870"/>
                    </a:lnTo>
                    <a:lnTo>
                      <a:pt x="1012" y="882"/>
                    </a:lnTo>
                    <a:lnTo>
                      <a:pt x="1012" y="882"/>
                    </a:lnTo>
                    <a:lnTo>
                      <a:pt x="1010" y="896"/>
                    </a:lnTo>
                    <a:lnTo>
                      <a:pt x="1010" y="896"/>
                    </a:lnTo>
                    <a:lnTo>
                      <a:pt x="1006" y="942"/>
                    </a:lnTo>
                    <a:lnTo>
                      <a:pt x="1006" y="942"/>
                    </a:lnTo>
                    <a:lnTo>
                      <a:pt x="1012" y="948"/>
                    </a:lnTo>
                    <a:lnTo>
                      <a:pt x="1014" y="950"/>
                    </a:lnTo>
                    <a:lnTo>
                      <a:pt x="1018" y="952"/>
                    </a:lnTo>
                    <a:lnTo>
                      <a:pt x="1018" y="952"/>
                    </a:lnTo>
                    <a:lnTo>
                      <a:pt x="1024" y="950"/>
                    </a:lnTo>
                    <a:lnTo>
                      <a:pt x="1032" y="948"/>
                    </a:lnTo>
                    <a:lnTo>
                      <a:pt x="1032" y="948"/>
                    </a:lnTo>
                    <a:lnTo>
                      <a:pt x="1034" y="950"/>
                    </a:lnTo>
                    <a:lnTo>
                      <a:pt x="1034" y="950"/>
                    </a:lnTo>
                    <a:lnTo>
                      <a:pt x="1034" y="952"/>
                    </a:lnTo>
                    <a:lnTo>
                      <a:pt x="1036" y="952"/>
                    </a:lnTo>
                    <a:lnTo>
                      <a:pt x="1036" y="952"/>
                    </a:lnTo>
                    <a:lnTo>
                      <a:pt x="1044" y="954"/>
                    </a:lnTo>
                    <a:lnTo>
                      <a:pt x="1052" y="956"/>
                    </a:lnTo>
                    <a:lnTo>
                      <a:pt x="1058" y="960"/>
                    </a:lnTo>
                    <a:lnTo>
                      <a:pt x="1062" y="960"/>
                    </a:lnTo>
                    <a:lnTo>
                      <a:pt x="1062" y="960"/>
                    </a:lnTo>
                    <a:lnTo>
                      <a:pt x="1062" y="954"/>
                    </a:lnTo>
                    <a:lnTo>
                      <a:pt x="1062" y="954"/>
                    </a:lnTo>
                    <a:lnTo>
                      <a:pt x="1046" y="952"/>
                    </a:lnTo>
                    <a:lnTo>
                      <a:pt x="1034" y="946"/>
                    </a:lnTo>
                    <a:lnTo>
                      <a:pt x="1034" y="946"/>
                    </a:lnTo>
                    <a:lnTo>
                      <a:pt x="1046" y="950"/>
                    </a:lnTo>
                    <a:lnTo>
                      <a:pt x="1060" y="954"/>
                    </a:lnTo>
                    <a:lnTo>
                      <a:pt x="1060" y="954"/>
                    </a:lnTo>
                    <a:lnTo>
                      <a:pt x="1060" y="930"/>
                    </a:lnTo>
                    <a:lnTo>
                      <a:pt x="1060" y="930"/>
                    </a:lnTo>
                    <a:lnTo>
                      <a:pt x="1050" y="930"/>
                    </a:lnTo>
                    <a:lnTo>
                      <a:pt x="1046" y="930"/>
                    </a:lnTo>
                    <a:lnTo>
                      <a:pt x="1044" y="926"/>
                    </a:lnTo>
                    <a:lnTo>
                      <a:pt x="1044" y="926"/>
                    </a:lnTo>
                    <a:lnTo>
                      <a:pt x="1046" y="922"/>
                    </a:lnTo>
                    <a:lnTo>
                      <a:pt x="1050" y="920"/>
                    </a:lnTo>
                    <a:lnTo>
                      <a:pt x="1056" y="918"/>
                    </a:lnTo>
                    <a:lnTo>
                      <a:pt x="1062" y="918"/>
                    </a:lnTo>
                    <a:lnTo>
                      <a:pt x="1062" y="918"/>
                    </a:lnTo>
                    <a:lnTo>
                      <a:pt x="1062" y="886"/>
                    </a:lnTo>
                    <a:lnTo>
                      <a:pt x="1064" y="854"/>
                    </a:lnTo>
                    <a:lnTo>
                      <a:pt x="1064" y="854"/>
                    </a:lnTo>
                    <a:lnTo>
                      <a:pt x="1058" y="858"/>
                    </a:lnTo>
                    <a:lnTo>
                      <a:pt x="1054" y="860"/>
                    </a:lnTo>
                    <a:lnTo>
                      <a:pt x="1054" y="860"/>
                    </a:lnTo>
                    <a:lnTo>
                      <a:pt x="1040" y="860"/>
                    </a:lnTo>
                    <a:lnTo>
                      <a:pt x="1040" y="860"/>
                    </a:lnTo>
                    <a:lnTo>
                      <a:pt x="1028" y="858"/>
                    </a:lnTo>
                    <a:lnTo>
                      <a:pt x="1028" y="858"/>
                    </a:lnTo>
                    <a:lnTo>
                      <a:pt x="1014" y="854"/>
                    </a:lnTo>
                    <a:lnTo>
                      <a:pt x="1014" y="854"/>
                    </a:lnTo>
                    <a:lnTo>
                      <a:pt x="574" y="860"/>
                    </a:lnTo>
                    <a:lnTo>
                      <a:pt x="574" y="860"/>
                    </a:lnTo>
                    <a:lnTo>
                      <a:pt x="570" y="864"/>
                    </a:lnTo>
                    <a:lnTo>
                      <a:pt x="566" y="864"/>
                    </a:lnTo>
                    <a:lnTo>
                      <a:pt x="558" y="864"/>
                    </a:lnTo>
                    <a:lnTo>
                      <a:pt x="558" y="864"/>
                    </a:lnTo>
                    <a:lnTo>
                      <a:pt x="562" y="868"/>
                    </a:lnTo>
                    <a:lnTo>
                      <a:pt x="568" y="870"/>
                    </a:lnTo>
                    <a:lnTo>
                      <a:pt x="572" y="870"/>
                    </a:lnTo>
                    <a:lnTo>
                      <a:pt x="578" y="866"/>
                    </a:lnTo>
                    <a:lnTo>
                      <a:pt x="578" y="866"/>
                    </a:lnTo>
                    <a:lnTo>
                      <a:pt x="576" y="862"/>
                    </a:lnTo>
                    <a:lnTo>
                      <a:pt x="576" y="860"/>
                    </a:lnTo>
                    <a:lnTo>
                      <a:pt x="574" y="860"/>
                    </a:lnTo>
                    <a:lnTo>
                      <a:pt x="574" y="860"/>
                    </a:lnTo>
                    <a:lnTo>
                      <a:pt x="580" y="866"/>
                    </a:lnTo>
                    <a:lnTo>
                      <a:pt x="580" y="866"/>
                    </a:lnTo>
                    <a:lnTo>
                      <a:pt x="580" y="862"/>
                    </a:lnTo>
                    <a:lnTo>
                      <a:pt x="582" y="858"/>
                    </a:lnTo>
                    <a:lnTo>
                      <a:pt x="582" y="856"/>
                    </a:lnTo>
                    <a:lnTo>
                      <a:pt x="582" y="854"/>
                    </a:lnTo>
                    <a:lnTo>
                      <a:pt x="582" y="854"/>
                    </a:lnTo>
                    <a:lnTo>
                      <a:pt x="578" y="856"/>
                    </a:lnTo>
                    <a:lnTo>
                      <a:pt x="576" y="858"/>
                    </a:lnTo>
                    <a:lnTo>
                      <a:pt x="576" y="858"/>
                    </a:lnTo>
                    <a:lnTo>
                      <a:pt x="578" y="862"/>
                    </a:lnTo>
                    <a:lnTo>
                      <a:pt x="580" y="866"/>
                    </a:lnTo>
                    <a:lnTo>
                      <a:pt x="580" y="866"/>
                    </a:lnTo>
                    <a:lnTo>
                      <a:pt x="1296" y="860"/>
                    </a:lnTo>
                    <a:lnTo>
                      <a:pt x="1296" y="860"/>
                    </a:lnTo>
                    <a:lnTo>
                      <a:pt x="1302" y="860"/>
                    </a:lnTo>
                    <a:lnTo>
                      <a:pt x="1308" y="858"/>
                    </a:lnTo>
                    <a:lnTo>
                      <a:pt x="1308" y="858"/>
                    </a:lnTo>
                    <a:lnTo>
                      <a:pt x="1308" y="856"/>
                    </a:lnTo>
                    <a:lnTo>
                      <a:pt x="1306" y="854"/>
                    </a:lnTo>
                    <a:lnTo>
                      <a:pt x="1306" y="854"/>
                    </a:lnTo>
                    <a:lnTo>
                      <a:pt x="1304" y="856"/>
                    </a:lnTo>
                    <a:lnTo>
                      <a:pt x="1302" y="856"/>
                    </a:lnTo>
                    <a:lnTo>
                      <a:pt x="1298" y="858"/>
                    </a:lnTo>
                    <a:lnTo>
                      <a:pt x="1296" y="860"/>
                    </a:lnTo>
                    <a:lnTo>
                      <a:pt x="1296" y="860"/>
                    </a:lnTo>
                    <a:lnTo>
                      <a:pt x="1382" y="866"/>
                    </a:lnTo>
                    <a:lnTo>
                      <a:pt x="1382" y="866"/>
                    </a:lnTo>
                    <a:lnTo>
                      <a:pt x="1388" y="868"/>
                    </a:lnTo>
                    <a:lnTo>
                      <a:pt x="1394" y="872"/>
                    </a:lnTo>
                    <a:lnTo>
                      <a:pt x="1394" y="872"/>
                    </a:lnTo>
                    <a:lnTo>
                      <a:pt x="1396" y="866"/>
                    </a:lnTo>
                    <a:lnTo>
                      <a:pt x="1396" y="860"/>
                    </a:lnTo>
                    <a:lnTo>
                      <a:pt x="1394" y="856"/>
                    </a:lnTo>
                    <a:lnTo>
                      <a:pt x="1390" y="854"/>
                    </a:lnTo>
                    <a:lnTo>
                      <a:pt x="1390" y="854"/>
                    </a:lnTo>
                    <a:lnTo>
                      <a:pt x="1386" y="860"/>
                    </a:lnTo>
                    <a:lnTo>
                      <a:pt x="1382" y="866"/>
                    </a:lnTo>
                    <a:lnTo>
                      <a:pt x="1382" y="866"/>
                    </a:lnTo>
                    <a:lnTo>
                      <a:pt x="664" y="886"/>
                    </a:lnTo>
                    <a:lnTo>
                      <a:pt x="664" y="886"/>
                    </a:lnTo>
                    <a:lnTo>
                      <a:pt x="670" y="886"/>
                    </a:lnTo>
                    <a:lnTo>
                      <a:pt x="672" y="888"/>
                    </a:lnTo>
                    <a:lnTo>
                      <a:pt x="674" y="892"/>
                    </a:lnTo>
                    <a:lnTo>
                      <a:pt x="674" y="892"/>
                    </a:lnTo>
                    <a:lnTo>
                      <a:pt x="672" y="894"/>
                    </a:lnTo>
                    <a:lnTo>
                      <a:pt x="668" y="896"/>
                    </a:lnTo>
                    <a:lnTo>
                      <a:pt x="666" y="900"/>
                    </a:lnTo>
                    <a:lnTo>
                      <a:pt x="664" y="902"/>
                    </a:lnTo>
                    <a:lnTo>
                      <a:pt x="664" y="902"/>
                    </a:lnTo>
                    <a:lnTo>
                      <a:pt x="664" y="908"/>
                    </a:lnTo>
                    <a:lnTo>
                      <a:pt x="666" y="914"/>
                    </a:lnTo>
                    <a:lnTo>
                      <a:pt x="670" y="918"/>
                    </a:lnTo>
                    <a:lnTo>
                      <a:pt x="676" y="920"/>
                    </a:lnTo>
                    <a:lnTo>
                      <a:pt x="676" y="920"/>
                    </a:lnTo>
                    <a:lnTo>
                      <a:pt x="676" y="914"/>
                    </a:lnTo>
                    <a:lnTo>
                      <a:pt x="676" y="906"/>
                    </a:lnTo>
                    <a:lnTo>
                      <a:pt x="680" y="900"/>
                    </a:lnTo>
                    <a:lnTo>
                      <a:pt x="684" y="896"/>
                    </a:lnTo>
                    <a:lnTo>
                      <a:pt x="688" y="892"/>
                    </a:lnTo>
                    <a:lnTo>
                      <a:pt x="694" y="892"/>
                    </a:lnTo>
                    <a:lnTo>
                      <a:pt x="700" y="892"/>
                    </a:lnTo>
                    <a:lnTo>
                      <a:pt x="706" y="896"/>
                    </a:lnTo>
                    <a:lnTo>
                      <a:pt x="706" y="896"/>
                    </a:lnTo>
                    <a:lnTo>
                      <a:pt x="714" y="884"/>
                    </a:lnTo>
                    <a:lnTo>
                      <a:pt x="716" y="880"/>
                    </a:lnTo>
                    <a:lnTo>
                      <a:pt x="716" y="874"/>
                    </a:lnTo>
                    <a:lnTo>
                      <a:pt x="716" y="874"/>
                    </a:lnTo>
                    <a:lnTo>
                      <a:pt x="714" y="868"/>
                    </a:lnTo>
                    <a:lnTo>
                      <a:pt x="710" y="864"/>
                    </a:lnTo>
                    <a:lnTo>
                      <a:pt x="702" y="862"/>
                    </a:lnTo>
                    <a:lnTo>
                      <a:pt x="694" y="862"/>
                    </a:lnTo>
                    <a:lnTo>
                      <a:pt x="678" y="860"/>
                    </a:lnTo>
                    <a:lnTo>
                      <a:pt x="670" y="858"/>
                    </a:lnTo>
                    <a:lnTo>
                      <a:pt x="664" y="856"/>
                    </a:lnTo>
                    <a:lnTo>
                      <a:pt x="664" y="856"/>
                    </a:lnTo>
                    <a:lnTo>
                      <a:pt x="664" y="872"/>
                    </a:lnTo>
                    <a:lnTo>
                      <a:pt x="664" y="886"/>
                    </a:lnTo>
                    <a:lnTo>
                      <a:pt x="664" y="886"/>
                    </a:lnTo>
                    <a:lnTo>
                      <a:pt x="784" y="864"/>
                    </a:lnTo>
                    <a:lnTo>
                      <a:pt x="784" y="864"/>
                    </a:lnTo>
                    <a:lnTo>
                      <a:pt x="782" y="860"/>
                    </a:lnTo>
                    <a:lnTo>
                      <a:pt x="780" y="858"/>
                    </a:lnTo>
                    <a:lnTo>
                      <a:pt x="780" y="858"/>
                    </a:lnTo>
                    <a:lnTo>
                      <a:pt x="776" y="858"/>
                    </a:lnTo>
                    <a:lnTo>
                      <a:pt x="774" y="858"/>
                    </a:lnTo>
                    <a:lnTo>
                      <a:pt x="772" y="858"/>
                    </a:lnTo>
                    <a:lnTo>
                      <a:pt x="772" y="858"/>
                    </a:lnTo>
                    <a:lnTo>
                      <a:pt x="776" y="864"/>
                    </a:lnTo>
                    <a:lnTo>
                      <a:pt x="780" y="864"/>
                    </a:lnTo>
                    <a:lnTo>
                      <a:pt x="784" y="864"/>
                    </a:lnTo>
                    <a:lnTo>
                      <a:pt x="784" y="864"/>
                    </a:lnTo>
                    <a:lnTo>
                      <a:pt x="1522" y="882"/>
                    </a:lnTo>
                    <a:lnTo>
                      <a:pt x="1522" y="882"/>
                    </a:lnTo>
                    <a:lnTo>
                      <a:pt x="1522" y="876"/>
                    </a:lnTo>
                    <a:lnTo>
                      <a:pt x="1520" y="872"/>
                    </a:lnTo>
                    <a:lnTo>
                      <a:pt x="1516" y="864"/>
                    </a:lnTo>
                    <a:lnTo>
                      <a:pt x="1516" y="864"/>
                    </a:lnTo>
                    <a:lnTo>
                      <a:pt x="1508" y="864"/>
                    </a:lnTo>
                    <a:lnTo>
                      <a:pt x="1504" y="868"/>
                    </a:lnTo>
                    <a:lnTo>
                      <a:pt x="1504" y="872"/>
                    </a:lnTo>
                    <a:lnTo>
                      <a:pt x="1504" y="876"/>
                    </a:lnTo>
                    <a:lnTo>
                      <a:pt x="1506" y="882"/>
                    </a:lnTo>
                    <a:lnTo>
                      <a:pt x="1512" y="884"/>
                    </a:lnTo>
                    <a:lnTo>
                      <a:pt x="1516" y="886"/>
                    </a:lnTo>
                    <a:lnTo>
                      <a:pt x="1522" y="882"/>
                    </a:lnTo>
                    <a:lnTo>
                      <a:pt x="1522" y="882"/>
                    </a:lnTo>
                    <a:lnTo>
                      <a:pt x="1290" y="882"/>
                    </a:lnTo>
                    <a:lnTo>
                      <a:pt x="1290" y="882"/>
                    </a:lnTo>
                    <a:lnTo>
                      <a:pt x="1292" y="878"/>
                    </a:lnTo>
                    <a:lnTo>
                      <a:pt x="1294" y="878"/>
                    </a:lnTo>
                    <a:lnTo>
                      <a:pt x="1294" y="878"/>
                    </a:lnTo>
                    <a:lnTo>
                      <a:pt x="1294" y="878"/>
                    </a:lnTo>
                    <a:lnTo>
                      <a:pt x="1288" y="884"/>
                    </a:lnTo>
                    <a:lnTo>
                      <a:pt x="1284" y="892"/>
                    </a:lnTo>
                    <a:lnTo>
                      <a:pt x="1282" y="902"/>
                    </a:lnTo>
                    <a:lnTo>
                      <a:pt x="1282" y="910"/>
                    </a:lnTo>
                    <a:lnTo>
                      <a:pt x="1282" y="930"/>
                    </a:lnTo>
                    <a:lnTo>
                      <a:pt x="1288" y="950"/>
                    </a:lnTo>
                    <a:lnTo>
                      <a:pt x="1288" y="950"/>
                    </a:lnTo>
                    <a:lnTo>
                      <a:pt x="1290" y="944"/>
                    </a:lnTo>
                    <a:lnTo>
                      <a:pt x="1292" y="940"/>
                    </a:lnTo>
                    <a:lnTo>
                      <a:pt x="1294" y="936"/>
                    </a:lnTo>
                    <a:lnTo>
                      <a:pt x="1294" y="932"/>
                    </a:lnTo>
                    <a:lnTo>
                      <a:pt x="1294" y="932"/>
                    </a:lnTo>
                    <a:lnTo>
                      <a:pt x="1290" y="934"/>
                    </a:lnTo>
                    <a:lnTo>
                      <a:pt x="1286" y="934"/>
                    </a:lnTo>
                    <a:lnTo>
                      <a:pt x="1284" y="934"/>
                    </a:lnTo>
                    <a:lnTo>
                      <a:pt x="1284" y="934"/>
                    </a:lnTo>
                    <a:lnTo>
                      <a:pt x="1290" y="932"/>
                    </a:lnTo>
                    <a:lnTo>
                      <a:pt x="1296" y="930"/>
                    </a:lnTo>
                    <a:lnTo>
                      <a:pt x="1296" y="930"/>
                    </a:lnTo>
                    <a:lnTo>
                      <a:pt x="1302" y="920"/>
                    </a:lnTo>
                    <a:lnTo>
                      <a:pt x="1304" y="908"/>
                    </a:lnTo>
                    <a:lnTo>
                      <a:pt x="1306" y="894"/>
                    </a:lnTo>
                    <a:lnTo>
                      <a:pt x="1306" y="880"/>
                    </a:lnTo>
                    <a:lnTo>
                      <a:pt x="1306" y="880"/>
                    </a:lnTo>
                    <a:lnTo>
                      <a:pt x="1302" y="878"/>
                    </a:lnTo>
                    <a:lnTo>
                      <a:pt x="1300" y="878"/>
                    </a:lnTo>
                    <a:lnTo>
                      <a:pt x="1300" y="876"/>
                    </a:lnTo>
                    <a:lnTo>
                      <a:pt x="1300" y="876"/>
                    </a:lnTo>
                    <a:lnTo>
                      <a:pt x="1302" y="874"/>
                    </a:lnTo>
                    <a:lnTo>
                      <a:pt x="1306" y="872"/>
                    </a:lnTo>
                    <a:lnTo>
                      <a:pt x="1306" y="872"/>
                    </a:lnTo>
                    <a:lnTo>
                      <a:pt x="1306" y="868"/>
                    </a:lnTo>
                    <a:lnTo>
                      <a:pt x="1308" y="864"/>
                    </a:lnTo>
                    <a:lnTo>
                      <a:pt x="1308" y="864"/>
                    </a:lnTo>
                    <a:lnTo>
                      <a:pt x="1300" y="866"/>
                    </a:lnTo>
                    <a:lnTo>
                      <a:pt x="1294" y="870"/>
                    </a:lnTo>
                    <a:lnTo>
                      <a:pt x="1290" y="874"/>
                    </a:lnTo>
                    <a:lnTo>
                      <a:pt x="1290" y="882"/>
                    </a:lnTo>
                    <a:lnTo>
                      <a:pt x="1290" y="882"/>
                    </a:lnTo>
                    <a:lnTo>
                      <a:pt x="1484" y="864"/>
                    </a:lnTo>
                    <a:lnTo>
                      <a:pt x="1484" y="864"/>
                    </a:lnTo>
                    <a:lnTo>
                      <a:pt x="1480" y="864"/>
                    </a:lnTo>
                    <a:lnTo>
                      <a:pt x="1478" y="868"/>
                    </a:lnTo>
                    <a:lnTo>
                      <a:pt x="1478" y="870"/>
                    </a:lnTo>
                    <a:lnTo>
                      <a:pt x="1480" y="872"/>
                    </a:lnTo>
                    <a:lnTo>
                      <a:pt x="1480" y="872"/>
                    </a:lnTo>
                    <a:lnTo>
                      <a:pt x="1482" y="868"/>
                    </a:lnTo>
                    <a:lnTo>
                      <a:pt x="1482" y="868"/>
                    </a:lnTo>
                    <a:lnTo>
                      <a:pt x="1482" y="876"/>
                    </a:lnTo>
                    <a:lnTo>
                      <a:pt x="1482" y="876"/>
                    </a:lnTo>
                    <a:lnTo>
                      <a:pt x="1486" y="876"/>
                    </a:lnTo>
                    <a:lnTo>
                      <a:pt x="1488" y="874"/>
                    </a:lnTo>
                    <a:lnTo>
                      <a:pt x="1488" y="874"/>
                    </a:lnTo>
                    <a:lnTo>
                      <a:pt x="1488" y="870"/>
                    </a:lnTo>
                    <a:lnTo>
                      <a:pt x="1486" y="866"/>
                    </a:lnTo>
                    <a:lnTo>
                      <a:pt x="1486" y="866"/>
                    </a:lnTo>
                    <a:lnTo>
                      <a:pt x="1482" y="866"/>
                    </a:lnTo>
                    <a:lnTo>
                      <a:pt x="1484" y="864"/>
                    </a:lnTo>
                    <a:lnTo>
                      <a:pt x="1484" y="864"/>
                    </a:lnTo>
                    <a:lnTo>
                      <a:pt x="1560" y="870"/>
                    </a:lnTo>
                    <a:lnTo>
                      <a:pt x="1560" y="870"/>
                    </a:lnTo>
                    <a:lnTo>
                      <a:pt x="1562" y="870"/>
                    </a:lnTo>
                    <a:lnTo>
                      <a:pt x="1564" y="868"/>
                    </a:lnTo>
                    <a:lnTo>
                      <a:pt x="1566" y="866"/>
                    </a:lnTo>
                    <a:lnTo>
                      <a:pt x="1566" y="866"/>
                    </a:lnTo>
                    <a:lnTo>
                      <a:pt x="1562" y="866"/>
                    </a:lnTo>
                    <a:lnTo>
                      <a:pt x="1560" y="870"/>
                    </a:lnTo>
                    <a:lnTo>
                      <a:pt x="1560" y="870"/>
                    </a:lnTo>
                    <a:lnTo>
                      <a:pt x="588" y="866"/>
                    </a:lnTo>
                    <a:lnTo>
                      <a:pt x="588" y="866"/>
                    </a:lnTo>
                    <a:lnTo>
                      <a:pt x="584" y="870"/>
                    </a:lnTo>
                    <a:lnTo>
                      <a:pt x="582" y="876"/>
                    </a:lnTo>
                    <a:lnTo>
                      <a:pt x="580" y="882"/>
                    </a:lnTo>
                    <a:lnTo>
                      <a:pt x="580" y="890"/>
                    </a:lnTo>
                    <a:lnTo>
                      <a:pt x="580" y="890"/>
                    </a:lnTo>
                    <a:lnTo>
                      <a:pt x="590" y="900"/>
                    </a:lnTo>
                    <a:lnTo>
                      <a:pt x="596" y="902"/>
                    </a:lnTo>
                    <a:lnTo>
                      <a:pt x="606" y="904"/>
                    </a:lnTo>
                    <a:lnTo>
                      <a:pt x="606" y="904"/>
                    </a:lnTo>
                    <a:lnTo>
                      <a:pt x="608" y="898"/>
                    </a:lnTo>
                    <a:lnTo>
                      <a:pt x="608" y="892"/>
                    </a:lnTo>
                    <a:lnTo>
                      <a:pt x="606" y="888"/>
                    </a:lnTo>
                    <a:lnTo>
                      <a:pt x="602" y="884"/>
                    </a:lnTo>
                    <a:lnTo>
                      <a:pt x="588" y="866"/>
                    </a:lnTo>
                    <a:lnTo>
                      <a:pt x="588" y="866"/>
                    </a:lnTo>
                    <a:lnTo>
                      <a:pt x="852" y="868"/>
                    </a:lnTo>
                    <a:lnTo>
                      <a:pt x="852" y="868"/>
                    </a:lnTo>
                    <a:lnTo>
                      <a:pt x="856" y="890"/>
                    </a:lnTo>
                    <a:lnTo>
                      <a:pt x="860" y="914"/>
                    </a:lnTo>
                    <a:lnTo>
                      <a:pt x="866" y="936"/>
                    </a:lnTo>
                    <a:lnTo>
                      <a:pt x="874" y="954"/>
                    </a:lnTo>
                    <a:lnTo>
                      <a:pt x="874" y="954"/>
                    </a:lnTo>
                    <a:lnTo>
                      <a:pt x="868" y="910"/>
                    </a:lnTo>
                    <a:lnTo>
                      <a:pt x="864" y="888"/>
                    </a:lnTo>
                    <a:lnTo>
                      <a:pt x="858" y="868"/>
                    </a:lnTo>
                    <a:lnTo>
                      <a:pt x="858" y="868"/>
                    </a:lnTo>
                    <a:lnTo>
                      <a:pt x="856" y="868"/>
                    </a:lnTo>
                    <a:lnTo>
                      <a:pt x="852" y="868"/>
                    </a:lnTo>
                    <a:lnTo>
                      <a:pt x="852" y="868"/>
                    </a:lnTo>
                    <a:lnTo>
                      <a:pt x="284" y="870"/>
                    </a:lnTo>
                    <a:lnTo>
                      <a:pt x="284" y="870"/>
                    </a:lnTo>
                    <a:lnTo>
                      <a:pt x="284" y="872"/>
                    </a:lnTo>
                    <a:lnTo>
                      <a:pt x="288" y="874"/>
                    </a:lnTo>
                    <a:lnTo>
                      <a:pt x="290" y="874"/>
                    </a:lnTo>
                    <a:lnTo>
                      <a:pt x="294" y="874"/>
                    </a:lnTo>
                    <a:lnTo>
                      <a:pt x="294" y="874"/>
                    </a:lnTo>
                    <a:lnTo>
                      <a:pt x="292" y="870"/>
                    </a:lnTo>
                    <a:lnTo>
                      <a:pt x="290" y="868"/>
                    </a:lnTo>
                    <a:lnTo>
                      <a:pt x="286" y="868"/>
                    </a:lnTo>
                    <a:lnTo>
                      <a:pt x="284" y="870"/>
                    </a:lnTo>
                    <a:lnTo>
                      <a:pt x="284" y="870"/>
                    </a:lnTo>
                    <a:lnTo>
                      <a:pt x="742" y="906"/>
                    </a:lnTo>
                    <a:lnTo>
                      <a:pt x="742" y="906"/>
                    </a:lnTo>
                    <a:lnTo>
                      <a:pt x="740" y="902"/>
                    </a:lnTo>
                    <a:lnTo>
                      <a:pt x="740" y="898"/>
                    </a:lnTo>
                    <a:lnTo>
                      <a:pt x="742" y="896"/>
                    </a:lnTo>
                    <a:lnTo>
                      <a:pt x="744" y="894"/>
                    </a:lnTo>
                    <a:lnTo>
                      <a:pt x="744" y="894"/>
                    </a:lnTo>
                    <a:lnTo>
                      <a:pt x="750" y="894"/>
                    </a:lnTo>
                    <a:lnTo>
                      <a:pt x="756" y="892"/>
                    </a:lnTo>
                    <a:lnTo>
                      <a:pt x="756" y="892"/>
                    </a:lnTo>
                    <a:lnTo>
                      <a:pt x="756" y="888"/>
                    </a:lnTo>
                    <a:lnTo>
                      <a:pt x="758" y="884"/>
                    </a:lnTo>
                    <a:lnTo>
                      <a:pt x="758" y="878"/>
                    </a:lnTo>
                    <a:lnTo>
                      <a:pt x="760" y="874"/>
                    </a:lnTo>
                    <a:lnTo>
                      <a:pt x="760" y="874"/>
                    </a:lnTo>
                    <a:lnTo>
                      <a:pt x="746" y="872"/>
                    </a:lnTo>
                    <a:lnTo>
                      <a:pt x="732" y="868"/>
                    </a:lnTo>
                    <a:lnTo>
                      <a:pt x="732" y="868"/>
                    </a:lnTo>
                    <a:lnTo>
                      <a:pt x="732" y="878"/>
                    </a:lnTo>
                    <a:lnTo>
                      <a:pt x="730" y="886"/>
                    </a:lnTo>
                    <a:lnTo>
                      <a:pt x="730" y="892"/>
                    </a:lnTo>
                    <a:lnTo>
                      <a:pt x="730" y="896"/>
                    </a:lnTo>
                    <a:lnTo>
                      <a:pt x="734" y="898"/>
                    </a:lnTo>
                    <a:lnTo>
                      <a:pt x="734" y="898"/>
                    </a:lnTo>
                    <a:lnTo>
                      <a:pt x="728" y="896"/>
                    </a:lnTo>
                    <a:lnTo>
                      <a:pt x="728" y="896"/>
                    </a:lnTo>
                    <a:lnTo>
                      <a:pt x="730" y="912"/>
                    </a:lnTo>
                    <a:lnTo>
                      <a:pt x="730" y="920"/>
                    </a:lnTo>
                    <a:lnTo>
                      <a:pt x="732" y="926"/>
                    </a:lnTo>
                    <a:lnTo>
                      <a:pt x="732" y="926"/>
                    </a:lnTo>
                    <a:lnTo>
                      <a:pt x="738" y="926"/>
                    </a:lnTo>
                    <a:lnTo>
                      <a:pt x="742" y="930"/>
                    </a:lnTo>
                    <a:lnTo>
                      <a:pt x="742" y="930"/>
                    </a:lnTo>
                    <a:lnTo>
                      <a:pt x="740" y="932"/>
                    </a:lnTo>
                    <a:lnTo>
                      <a:pt x="738" y="934"/>
                    </a:lnTo>
                    <a:lnTo>
                      <a:pt x="736" y="934"/>
                    </a:lnTo>
                    <a:lnTo>
                      <a:pt x="734" y="936"/>
                    </a:lnTo>
                    <a:lnTo>
                      <a:pt x="734" y="936"/>
                    </a:lnTo>
                    <a:lnTo>
                      <a:pt x="738" y="944"/>
                    </a:lnTo>
                    <a:lnTo>
                      <a:pt x="742" y="950"/>
                    </a:lnTo>
                    <a:lnTo>
                      <a:pt x="742" y="950"/>
                    </a:lnTo>
                    <a:lnTo>
                      <a:pt x="744" y="948"/>
                    </a:lnTo>
                    <a:lnTo>
                      <a:pt x="746" y="948"/>
                    </a:lnTo>
                    <a:lnTo>
                      <a:pt x="746" y="948"/>
                    </a:lnTo>
                    <a:lnTo>
                      <a:pt x="746" y="940"/>
                    </a:lnTo>
                    <a:lnTo>
                      <a:pt x="748" y="932"/>
                    </a:lnTo>
                    <a:lnTo>
                      <a:pt x="752" y="916"/>
                    </a:lnTo>
                    <a:lnTo>
                      <a:pt x="754" y="910"/>
                    </a:lnTo>
                    <a:lnTo>
                      <a:pt x="752" y="906"/>
                    </a:lnTo>
                    <a:lnTo>
                      <a:pt x="748" y="904"/>
                    </a:lnTo>
                    <a:lnTo>
                      <a:pt x="742" y="906"/>
                    </a:lnTo>
                    <a:lnTo>
                      <a:pt x="742" y="906"/>
                    </a:lnTo>
                    <a:lnTo>
                      <a:pt x="1272" y="872"/>
                    </a:lnTo>
                    <a:lnTo>
                      <a:pt x="1272" y="872"/>
                    </a:lnTo>
                    <a:lnTo>
                      <a:pt x="1274" y="888"/>
                    </a:lnTo>
                    <a:lnTo>
                      <a:pt x="1278" y="900"/>
                    </a:lnTo>
                    <a:lnTo>
                      <a:pt x="1278" y="900"/>
                    </a:lnTo>
                    <a:lnTo>
                      <a:pt x="1280" y="892"/>
                    </a:lnTo>
                    <a:lnTo>
                      <a:pt x="1284" y="884"/>
                    </a:lnTo>
                    <a:lnTo>
                      <a:pt x="1286" y="876"/>
                    </a:lnTo>
                    <a:lnTo>
                      <a:pt x="1288" y="868"/>
                    </a:lnTo>
                    <a:lnTo>
                      <a:pt x="1288" y="868"/>
                    </a:lnTo>
                    <a:lnTo>
                      <a:pt x="1284" y="870"/>
                    </a:lnTo>
                    <a:lnTo>
                      <a:pt x="1280" y="870"/>
                    </a:lnTo>
                    <a:lnTo>
                      <a:pt x="1272" y="872"/>
                    </a:lnTo>
                    <a:lnTo>
                      <a:pt x="1272" y="872"/>
                    </a:lnTo>
                    <a:lnTo>
                      <a:pt x="1536" y="876"/>
                    </a:lnTo>
                    <a:lnTo>
                      <a:pt x="1536" y="876"/>
                    </a:lnTo>
                    <a:lnTo>
                      <a:pt x="1536" y="878"/>
                    </a:lnTo>
                    <a:lnTo>
                      <a:pt x="1538" y="878"/>
                    </a:lnTo>
                    <a:lnTo>
                      <a:pt x="1538" y="880"/>
                    </a:lnTo>
                    <a:lnTo>
                      <a:pt x="1540" y="882"/>
                    </a:lnTo>
                    <a:lnTo>
                      <a:pt x="1540" y="882"/>
                    </a:lnTo>
                    <a:lnTo>
                      <a:pt x="1544" y="880"/>
                    </a:lnTo>
                    <a:lnTo>
                      <a:pt x="1548" y="876"/>
                    </a:lnTo>
                    <a:lnTo>
                      <a:pt x="1552" y="872"/>
                    </a:lnTo>
                    <a:lnTo>
                      <a:pt x="1552" y="868"/>
                    </a:lnTo>
                    <a:lnTo>
                      <a:pt x="1552" y="868"/>
                    </a:lnTo>
                    <a:lnTo>
                      <a:pt x="1536" y="876"/>
                    </a:lnTo>
                    <a:lnTo>
                      <a:pt x="1536" y="876"/>
                    </a:lnTo>
                    <a:lnTo>
                      <a:pt x="1174" y="874"/>
                    </a:lnTo>
                    <a:lnTo>
                      <a:pt x="1174" y="874"/>
                    </a:lnTo>
                    <a:lnTo>
                      <a:pt x="1174" y="870"/>
                    </a:lnTo>
                    <a:lnTo>
                      <a:pt x="1174" y="870"/>
                    </a:lnTo>
                    <a:lnTo>
                      <a:pt x="1170" y="870"/>
                    </a:lnTo>
                    <a:lnTo>
                      <a:pt x="1170" y="870"/>
                    </a:lnTo>
                    <a:lnTo>
                      <a:pt x="1170" y="874"/>
                    </a:lnTo>
                    <a:lnTo>
                      <a:pt x="1174" y="874"/>
                    </a:lnTo>
                    <a:lnTo>
                      <a:pt x="1174" y="874"/>
                    </a:lnTo>
                    <a:lnTo>
                      <a:pt x="1196" y="886"/>
                    </a:lnTo>
                    <a:lnTo>
                      <a:pt x="1196" y="886"/>
                    </a:lnTo>
                    <a:lnTo>
                      <a:pt x="1196" y="884"/>
                    </a:lnTo>
                    <a:lnTo>
                      <a:pt x="1198" y="882"/>
                    </a:lnTo>
                    <a:lnTo>
                      <a:pt x="1198" y="882"/>
                    </a:lnTo>
                    <a:lnTo>
                      <a:pt x="1188" y="874"/>
                    </a:lnTo>
                    <a:lnTo>
                      <a:pt x="1182" y="872"/>
                    </a:lnTo>
                    <a:lnTo>
                      <a:pt x="1174" y="870"/>
                    </a:lnTo>
                    <a:lnTo>
                      <a:pt x="1174" y="870"/>
                    </a:lnTo>
                    <a:lnTo>
                      <a:pt x="1174" y="878"/>
                    </a:lnTo>
                    <a:lnTo>
                      <a:pt x="1176" y="884"/>
                    </a:lnTo>
                    <a:lnTo>
                      <a:pt x="1182" y="890"/>
                    </a:lnTo>
                    <a:lnTo>
                      <a:pt x="1182" y="890"/>
                    </a:lnTo>
                    <a:lnTo>
                      <a:pt x="1182" y="890"/>
                    </a:lnTo>
                    <a:lnTo>
                      <a:pt x="1186" y="890"/>
                    </a:lnTo>
                    <a:lnTo>
                      <a:pt x="1190" y="892"/>
                    </a:lnTo>
                    <a:lnTo>
                      <a:pt x="1190" y="892"/>
                    </a:lnTo>
                    <a:lnTo>
                      <a:pt x="1186" y="892"/>
                    </a:lnTo>
                    <a:lnTo>
                      <a:pt x="1186" y="894"/>
                    </a:lnTo>
                    <a:lnTo>
                      <a:pt x="1186" y="896"/>
                    </a:lnTo>
                    <a:lnTo>
                      <a:pt x="1186" y="896"/>
                    </a:lnTo>
                    <a:lnTo>
                      <a:pt x="1178" y="890"/>
                    </a:lnTo>
                    <a:lnTo>
                      <a:pt x="1172" y="882"/>
                    </a:lnTo>
                    <a:lnTo>
                      <a:pt x="1172" y="882"/>
                    </a:lnTo>
                    <a:lnTo>
                      <a:pt x="1170" y="890"/>
                    </a:lnTo>
                    <a:lnTo>
                      <a:pt x="1170" y="894"/>
                    </a:lnTo>
                    <a:lnTo>
                      <a:pt x="1170" y="900"/>
                    </a:lnTo>
                    <a:lnTo>
                      <a:pt x="1170" y="900"/>
                    </a:lnTo>
                    <a:lnTo>
                      <a:pt x="1172" y="900"/>
                    </a:lnTo>
                    <a:lnTo>
                      <a:pt x="1176" y="902"/>
                    </a:lnTo>
                    <a:lnTo>
                      <a:pt x="1184" y="898"/>
                    </a:lnTo>
                    <a:lnTo>
                      <a:pt x="1190" y="894"/>
                    </a:lnTo>
                    <a:lnTo>
                      <a:pt x="1194" y="890"/>
                    </a:lnTo>
                    <a:lnTo>
                      <a:pt x="1194" y="890"/>
                    </a:lnTo>
                    <a:lnTo>
                      <a:pt x="1192" y="886"/>
                    </a:lnTo>
                    <a:lnTo>
                      <a:pt x="1188" y="880"/>
                    </a:lnTo>
                    <a:lnTo>
                      <a:pt x="1188" y="880"/>
                    </a:lnTo>
                    <a:lnTo>
                      <a:pt x="1192" y="884"/>
                    </a:lnTo>
                    <a:lnTo>
                      <a:pt x="1196" y="886"/>
                    </a:lnTo>
                    <a:lnTo>
                      <a:pt x="1196" y="886"/>
                    </a:lnTo>
                    <a:lnTo>
                      <a:pt x="374" y="890"/>
                    </a:lnTo>
                    <a:lnTo>
                      <a:pt x="374" y="890"/>
                    </a:lnTo>
                    <a:lnTo>
                      <a:pt x="370" y="886"/>
                    </a:lnTo>
                    <a:lnTo>
                      <a:pt x="368" y="886"/>
                    </a:lnTo>
                    <a:lnTo>
                      <a:pt x="368" y="888"/>
                    </a:lnTo>
                    <a:lnTo>
                      <a:pt x="368" y="888"/>
                    </a:lnTo>
                    <a:lnTo>
                      <a:pt x="370" y="890"/>
                    </a:lnTo>
                    <a:lnTo>
                      <a:pt x="374" y="894"/>
                    </a:lnTo>
                    <a:lnTo>
                      <a:pt x="376" y="902"/>
                    </a:lnTo>
                    <a:lnTo>
                      <a:pt x="376" y="902"/>
                    </a:lnTo>
                    <a:lnTo>
                      <a:pt x="384" y="902"/>
                    </a:lnTo>
                    <a:lnTo>
                      <a:pt x="392" y="904"/>
                    </a:lnTo>
                    <a:lnTo>
                      <a:pt x="400" y="906"/>
                    </a:lnTo>
                    <a:lnTo>
                      <a:pt x="408" y="906"/>
                    </a:lnTo>
                    <a:lnTo>
                      <a:pt x="408" y="906"/>
                    </a:lnTo>
                    <a:lnTo>
                      <a:pt x="406" y="904"/>
                    </a:lnTo>
                    <a:lnTo>
                      <a:pt x="406" y="902"/>
                    </a:lnTo>
                    <a:lnTo>
                      <a:pt x="408" y="900"/>
                    </a:lnTo>
                    <a:lnTo>
                      <a:pt x="408" y="900"/>
                    </a:lnTo>
                    <a:lnTo>
                      <a:pt x="416" y="896"/>
                    </a:lnTo>
                    <a:lnTo>
                      <a:pt x="424" y="892"/>
                    </a:lnTo>
                    <a:lnTo>
                      <a:pt x="424" y="892"/>
                    </a:lnTo>
                    <a:lnTo>
                      <a:pt x="412" y="882"/>
                    </a:lnTo>
                    <a:lnTo>
                      <a:pt x="406" y="878"/>
                    </a:lnTo>
                    <a:lnTo>
                      <a:pt x="400" y="874"/>
                    </a:lnTo>
                    <a:lnTo>
                      <a:pt x="400" y="874"/>
                    </a:lnTo>
                    <a:lnTo>
                      <a:pt x="398" y="882"/>
                    </a:lnTo>
                    <a:lnTo>
                      <a:pt x="390" y="886"/>
                    </a:lnTo>
                    <a:lnTo>
                      <a:pt x="384" y="888"/>
                    </a:lnTo>
                    <a:lnTo>
                      <a:pt x="374" y="890"/>
                    </a:lnTo>
                    <a:lnTo>
                      <a:pt x="374" y="890"/>
                    </a:lnTo>
                    <a:lnTo>
                      <a:pt x="768" y="894"/>
                    </a:lnTo>
                    <a:lnTo>
                      <a:pt x="768" y="894"/>
                    </a:lnTo>
                    <a:lnTo>
                      <a:pt x="764" y="898"/>
                    </a:lnTo>
                    <a:lnTo>
                      <a:pt x="758" y="902"/>
                    </a:lnTo>
                    <a:lnTo>
                      <a:pt x="758" y="902"/>
                    </a:lnTo>
                    <a:lnTo>
                      <a:pt x="756" y="914"/>
                    </a:lnTo>
                    <a:lnTo>
                      <a:pt x="754" y="926"/>
                    </a:lnTo>
                    <a:lnTo>
                      <a:pt x="752" y="938"/>
                    </a:lnTo>
                    <a:lnTo>
                      <a:pt x="750" y="950"/>
                    </a:lnTo>
                    <a:lnTo>
                      <a:pt x="750" y="950"/>
                    </a:lnTo>
                    <a:lnTo>
                      <a:pt x="764" y="952"/>
                    </a:lnTo>
                    <a:lnTo>
                      <a:pt x="768" y="954"/>
                    </a:lnTo>
                    <a:lnTo>
                      <a:pt x="774" y="956"/>
                    </a:lnTo>
                    <a:lnTo>
                      <a:pt x="774" y="956"/>
                    </a:lnTo>
                    <a:lnTo>
                      <a:pt x="776" y="940"/>
                    </a:lnTo>
                    <a:lnTo>
                      <a:pt x="776" y="922"/>
                    </a:lnTo>
                    <a:lnTo>
                      <a:pt x="774" y="904"/>
                    </a:lnTo>
                    <a:lnTo>
                      <a:pt x="770" y="890"/>
                    </a:lnTo>
                    <a:lnTo>
                      <a:pt x="770" y="890"/>
                    </a:lnTo>
                    <a:lnTo>
                      <a:pt x="770" y="880"/>
                    </a:lnTo>
                    <a:lnTo>
                      <a:pt x="768" y="876"/>
                    </a:lnTo>
                    <a:lnTo>
                      <a:pt x="764" y="874"/>
                    </a:lnTo>
                    <a:lnTo>
                      <a:pt x="764" y="874"/>
                    </a:lnTo>
                    <a:lnTo>
                      <a:pt x="760" y="878"/>
                    </a:lnTo>
                    <a:lnTo>
                      <a:pt x="760" y="882"/>
                    </a:lnTo>
                    <a:lnTo>
                      <a:pt x="760" y="886"/>
                    </a:lnTo>
                    <a:lnTo>
                      <a:pt x="760" y="886"/>
                    </a:lnTo>
                    <a:lnTo>
                      <a:pt x="764" y="890"/>
                    </a:lnTo>
                    <a:lnTo>
                      <a:pt x="766" y="892"/>
                    </a:lnTo>
                    <a:lnTo>
                      <a:pt x="768" y="894"/>
                    </a:lnTo>
                    <a:lnTo>
                      <a:pt x="768" y="894"/>
                    </a:lnTo>
                    <a:lnTo>
                      <a:pt x="782" y="914"/>
                    </a:lnTo>
                    <a:lnTo>
                      <a:pt x="782" y="914"/>
                    </a:lnTo>
                    <a:lnTo>
                      <a:pt x="786" y="898"/>
                    </a:lnTo>
                    <a:lnTo>
                      <a:pt x="790" y="882"/>
                    </a:lnTo>
                    <a:lnTo>
                      <a:pt x="790" y="882"/>
                    </a:lnTo>
                    <a:lnTo>
                      <a:pt x="782" y="878"/>
                    </a:lnTo>
                    <a:lnTo>
                      <a:pt x="778" y="876"/>
                    </a:lnTo>
                    <a:lnTo>
                      <a:pt x="774" y="876"/>
                    </a:lnTo>
                    <a:lnTo>
                      <a:pt x="774" y="876"/>
                    </a:lnTo>
                    <a:lnTo>
                      <a:pt x="778" y="896"/>
                    </a:lnTo>
                    <a:lnTo>
                      <a:pt x="780" y="906"/>
                    </a:lnTo>
                    <a:lnTo>
                      <a:pt x="782" y="914"/>
                    </a:lnTo>
                    <a:lnTo>
                      <a:pt x="782" y="914"/>
                    </a:lnTo>
                    <a:lnTo>
                      <a:pt x="1354" y="910"/>
                    </a:lnTo>
                    <a:lnTo>
                      <a:pt x="1354" y="910"/>
                    </a:lnTo>
                    <a:lnTo>
                      <a:pt x="1370" y="908"/>
                    </a:lnTo>
                    <a:lnTo>
                      <a:pt x="1376" y="906"/>
                    </a:lnTo>
                    <a:lnTo>
                      <a:pt x="1384" y="904"/>
                    </a:lnTo>
                    <a:lnTo>
                      <a:pt x="1384" y="904"/>
                    </a:lnTo>
                    <a:lnTo>
                      <a:pt x="1378" y="896"/>
                    </a:lnTo>
                    <a:lnTo>
                      <a:pt x="1374" y="888"/>
                    </a:lnTo>
                    <a:lnTo>
                      <a:pt x="1374" y="888"/>
                    </a:lnTo>
                    <a:lnTo>
                      <a:pt x="1376" y="886"/>
                    </a:lnTo>
                    <a:lnTo>
                      <a:pt x="1378" y="884"/>
                    </a:lnTo>
                    <a:lnTo>
                      <a:pt x="1382" y="880"/>
                    </a:lnTo>
                    <a:lnTo>
                      <a:pt x="1382" y="880"/>
                    </a:lnTo>
                    <a:lnTo>
                      <a:pt x="1374" y="876"/>
                    </a:lnTo>
                    <a:lnTo>
                      <a:pt x="1374" y="876"/>
                    </a:lnTo>
                    <a:lnTo>
                      <a:pt x="1362" y="894"/>
                    </a:lnTo>
                    <a:lnTo>
                      <a:pt x="1358" y="902"/>
                    </a:lnTo>
                    <a:lnTo>
                      <a:pt x="1354" y="910"/>
                    </a:lnTo>
                    <a:lnTo>
                      <a:pt x="1354" y="910"/>
                    </a:lnTo>
                    <a:lnTo>
                      <a:pt x="558" y="892"/>
                    </a:lnTo>
                    <a:lnTo>
                      <a:pt x="558" y="892"/>
                    </a:lnTo>
                    <a:lnTo>
                      <a:pt x="560" y="894"/>
                    </a:lnTo>
                    <a:lnTo>
                      <a:pt x="562" y="892"/>
                    </a:lnTo>
                    <a:lnTo>
                      <a:pt x="564" y="892"/>
                    </a:lnTo>
                    <a:lnTo>
                      <a:pt x="566" y="892"/>
                    </a:lnTo>
                    <a:lnTo>
                      <a:pt x="566" y="892"/>
                    </a:lnTo>
                    <a:lnTo>
                      <a:pt x="570" y="894"/>
                    </a:lnTo>
                    <a:lnTo>
                      <a:pt x="570" y="898"/>
                    </a:lnTo>
                    <a:lnTo>
                      <a:pt x="570" y="906"/>
                    </a:lnTo>
                    <a:lnTo>
                      <a:pt x="570" y="906"/>
                    </a:lnTo>
                    <a:lnTo>
                      <a:pt x="574" y="898"/>
                    </a:lnTo>
                    <a:lnTo>
                      <a:pt x="574" y="892"/>
                    </a:lnTo>
                    <a:lnTo>
                      <a:pt x="572" y="886"/>
                    </a:lnTo>
                    <a:lnTo>
                      <a:pt x="568" y="882"/>
                    </a:lnTo>
                    <a:lnTo>
                      <a:pt x="562" y="878"/>
                    </a:lnTo>
                    <a:lnTo>
                      <a:pt x="558" y="880"/>
                    </a:lnTo>
                    <a:lnTo>
                      <a:pt x="556" y="884"/>
                    </a:lnTo>
                    <a:lnTo>
                      <a:pt x="558" y="892"/>
                    </a:lnTo>
                    <a:lnTo>
                      <a:pt x="558" y="892"/>
                    </a:lnTo>
                    <a:lnTo>
                      <a:pt x="888" y="936"/>
                    </a:lnTo>
                    <a:lnTo>
                      <a:pt x="888" y="936"/>
                    </a:lnTo>
                    <a:lnTo>
                      <a:pt x="892" y="948"/>
                    </a:lnTo>
                    <a:lnTo>
                      <a:pt x="896" y="958"/>
                    </a:lnTo>
                    <a:lnTo>
                      <a:pt x="896" y="958"/>
                    </a:lnTo>
                    <a:lnTo>
                      <a:pt x="896" y="972"/>
                    </a:lnTo>
                    <a:lnTo>
                      <a:pt x="896" y="980"/>
                    </a:lnTo>
                    <a:lnTo>
                      <a:pt x="898" y="986"/>
                    </a:lnTo>
                    <a:lnTo>
                      <a:pt x="898" y="986"/>
                    </a:lnTo>
                    <a:lnTo>
                      <a:pt x="902" y="992"/>
                    </a:lnTo>
                    <a:lnTo>
                      <a:pt x="908" y="998"/>
                    </a:lnTo>
                    <a:lnTo>
                      <a:pt x="908" y="998"/>
                    </a:lnTo>
                    <a:lnTo>
                      <a:pt x="914" y="1002"/>
                    </a:lnTo>
                    <a:lnTo>
                      <a:pt x="916" y="1004"/>
                    </a:lnTo>
                    <a:lnTo>
                      <a:pt x="918" y="1004"/>
                    </a:lnTo>
                    <a:lnTo>
                      <a:pt x="918" y="1004"/>
                    </a:lnTo>
                    <a:lnTo>
                      <a:pt x="922" y="984"/>
                    </a:lnTo>
                    <a:lnTo>
                      <a:pt x="922" y="964"/>
                    </a:lnTo>
                    <a:lnTo>
                      <a:pt x="920" y="946"/>
                    </a:lnTo>
                    <a:lnTo>
                      <a:pt x="918" y="926"/>
                    </a:lnTo>
                    <a:lnTo>
                      <a:pt x="918" y="926"/>
                    </a:lnTo>
                    <a:lnTo>
                      <a:pt x="914" y="908"/>
                    </a:lnTo>
                    <a:lnTo>
                      <a:pt x="914" y="908"/>
                    </a:lnTo>
                    <a:lnTo>
                      <a:pt x="912" y="898"/>
                    </a:lnTo>
                    <a:lnTo>
                      <a:pt x="906" y="890"/>
                    </a:lnTo>
                    <a:lnTo>
                      <a:pt x="898" y="884"/>
                    </a:lnTo>
                    <a:lnTo>
                      <a:pt x="888" y="878"/>
                    </a:lnTo>
                    <a:lnTo>
                      <a:pt x="888" y="878"/>
                    </a:lnTo>
                    <a:lnTo>
                      <a:pt x="886" y="892"/>
                    </a:lnTo>
                    <a:lnTo>
                      <a:pt x="886" y="892"/>
                    </a:lnTo>
                    <a:lnTo>
                      <a:pt x="886" y="916"/>
                    </a:lnTo>
                    <a:lnTo>
                      <a:pt x="888" y="936"/>
                    </a:lnTo>
                    <a:lnTo>
                      <a:pt x="888" y="936"/>
                    </a:lnTo>
                    <a:lnTo>
                      <a:pt x="1432" y="926"/>
                    </a:lnTo>
                    <a:lnTo>
                      <a:pt x="1432" y="926"/>
                    </a:lnTo>
                    <a:lnTo>
                      <a:pt x="1432" y="936"/>
                    </a:lnTo>
                    <a:lnTo>
                      <a:pt x="1432" y="944"/>
                    </a:lnTo>
                    <a:lnTo>
                      <a:pt x="1432" y="954"/>
                    </a:lnTo>
                    <a:lnTo>
                      <a:pt x="1432" y="962"/>
                    </a:lnTo>
                    <a:lnTo>
                      <a:pt x="1432" y="962"/>
                    </a:lnTo>
                    <a:lnTo>
                      <a:pt x="1456" y="924"/>
                    </a:lnTo>
                    <a:lnTo>
                      <a:pt x="1476" y="884"/>
                    </a:lnTo>
                    <a:lnTo>
                      <a:pt x="1476" y="884"/>
                    </a:lnTo>
                    <a:lnTo>
                      <a:pt x="1474" y="884"/>
                    </a:lnTo>
                    <a:lnTo>
                      <a:pt x="1472" y="882"/>
                    </a:lnTo>
                    <a:lnTo>
                      <a:pt x="1472" y="882"/>
                    </a:lnTo>
                    <a:lnTo>
                      <a:pt x="1476" y="880"/>
                    </a:lnTo>
                    <a:lnTo>
                      <a:pt x="1478" y="878"/>
                    </a:lnTo>
                    <a:lnTo>
                      <a:pt x="1478" y="878"/>
                    </a:lnTo>
                    <a:lnTo>
                      <a:pt x="1460" y="884"/>
                    </a:lnTo>
                    <a:lnTo>
                      <a:pt x="1452" y="888"/>
                    </a:lnTo>
                    <a:lnTo>
                      <a:pt x="1448" y="894"/>
                    </a:lnTo>
                    <a:lnTo>
                      <a:pt x="1448" y="894"/>
                    </a:lnTo>
                    <a:lnTo>
                      <a:pt x="1450" y="896"/>
                    </a:lnTo>
                    <a:lnTo>
                      <a:pt x="1452" y="898"/>
                    </a:lnTo>
                    <a:lnTo>
                      <a:pt x="1460" y="896"/>
                    </a:lnTo>
                    <a:lnTo>
                      <a:pt x="1466" y="894"/>
                    </a:lnTo>
                    <a:lnTo>
                      <a:pt x="1472" y="890"/>
                    </a:lnTo>
                    <a:lnTo>
                      <a:pt x="1472" y="890"/>
                    </a:lnTo>
                    <a:lnTo>
                      <a:pt x="1466" y="894"/>
                    </a:lnTo>
                    <a:lnTo>
                      <a:pt x="1460" y="898"/>
                    </a:lnTo>
                    <a:lnTo>
                      <a:pt x="1460" y="898"/>
                    </a:lnTo>
                    <a:lnTo>
                      <a:pt x="1464" y="900"/>
                    </a:lnTo>
                    <a:lnTo>
                      <a:pt x="1466" y="900"/>
                    </a:lnTo>
                    <a:lnTo>
                      <a:pt x="1466" y="900"/>
                    </a:lnTo>
                    <a:lnTo>
                      <a:pt x="1460" y="904"/>
                    </a:lnTo>
                    <a:lnTo>
                      <a:pt x="1452" y="904"/>
                    </a:lnTo>
                    <a:lnTo>
                      <a:pt x="1432" y="904"/>
                    </a:lnTo>
                    <a:lnTo>
                      <a:pt x="1432" y="904"/>
                    </a:lnTo>
                    <a:lnTo>
                      <a:pt x="1434" y="906"/>
                    </a:lnTo>
                    <a:lnTo>
                      <a:pt x="1436" y="908"/>
                    </a:lnTo>
                    <a:lnTo>
                      <a:pt x="1438" y="910"/>
                    </a:lnTo>
                    <a:lnTo>
                      <a:pt x="1438" y="912"/>
                    </a:lnTo>
                    <a:lnTo>
                      <a:pt x="1438" y="912"/>
                    </a:lnTo>
                    <a:lnTo>
                      <a:pt x="1434" y="914"/>
                    </a:lnTo>
                    <a:lnTo>
                      <a:pt x="1432" y="918"/>
                    </a:lnTo>
                    <a:lnTo>
                      <a:pt x="1432" y="918"/>
                    </a:lnTo>
                    <a:lnTo>
                      <a:pt x="1436" y="926"/>
                    </a:lnTo>
                    <a:lnTo>
                      <a:pt x="1440" y="932"/>
                    </a:lnTo>
                    <a:lnTo>
                      <a:pt x="1440" y="932"/>
                    </a:lnTo>
                    <a:lnTo>
                      <a:pt x="1436" y="930"/>
                    </a:lnTo>
                    <a:lnTo>
                      <a:pt x="1432" y="926"/>
                    </a:lnTo>
                    <a:lnTo>
                      <a:pt x="1432" y="926"/>
                    </a:lnTo>
                    <a:lnTo>
                      <a:pt x="1528" y="886"/>
                    </a:lnTo>
                    <a:lnTo>
                      <a:pt x="1528" y="886"/>
                    </a:lnTo>
                    <a:lnTo>
                      <a:pt x="1530" y="888"/>
                    </a:lnTo>
                    <a:lnTo>
                      <a:pt x="1534" y="890"/>
                    </a:lnTo>
                    <a:lnTo>
                      <a:pt x="1534" y="890"/>
                    </a:lnTo>
                    <a:lnTo>
                      <a:pt x="1534" y="886"/>
                    </a:lnTo>
                    <a:lnTo>
                      <a:pt x="1538" y="884"/>
                    </a:lnTo>
                    <a:lnTo>
                      <a:pt x="1538" y="884"/>
                    </a:lnTo>
                    <a:lnTo>
                      <a:pt x="1538" y="880"/>
                    </a:lnTo>
                    <a:lnTo>
                      <a:pt x="1536" y="880"/>
                    </a:lnTo>
                    <a:lnTo>
                      <a:pt x="1532" y="878"/>
                    </a:lnTo>
                    <a:lnTo>
                      <a:pt x="1528" y="882"/>
                    </a:lnTo>
                    <a:lnTo>
                      <a:pt x="1528" y="886"/>
                    </a:lnTo>
                    <a:lnTo>
                      <a:pt x="1528" y="886"/>
                    </a:lnTo>
                    <a:lnTo>
                      <a:pt x="1308" y="902"/>
                    </a:lnTo>
                    <a:lnTo>
                      <a:pt x="1308" y="902"/>
                    </a:lnTo>
                    <a:lnTo>
                      <a:pt x="1314" y="894"/>
                    </a:lnTo>
                    <a:lnTo>
                      <a:pt x="1320" y="882"/>
                    </a:lnTo>
                    <a:lnTo>
                      <a:pt x="1320" y="882"/>
                    </a:lnTo>
                    <a:lnTo>
                      <a:pt x="1314" y="880"/>
                    </a:lnTo>
                    <a:lnTo>
                      <a:pt x="1310" y="880"/>
                    </a:lnTo>
                    <a:lnTo>
                      <a:pt x="1310" y="880"/>
                    </a:lnTo>
                    <a:lnTo>
                      <a:pt x="1308" y="892"/>
                    </a:lnTo>
                    <a:lnTo>
                      <a:pt x="1308" y="902"/>
                    </a:lnTo>
                    <a:lnTo>
                      <a:pt x="1308" y="902"/>
                    </a:lnTo>
                    <a:lnTo>
                      <a:pt x="1612" y="898"/>
                    </a:lnTo>
                    <a:lnTo>
                      <a:pt x="1612" y="898"/>
                    </a:lnTo>
                    <a:lnTo>
                      <a:pt x="1618" y="898"/>
                    </a:lnTo>
                    <a:lnTo>
                      <a:pt x="1622" y="898"/>
                    </a:lnTo>
                    <a:lnTo>
                      <a:pt x="1628" y="892"/>
                    </a:lnTo>
                    <a:lnTo>
                      <a:pt x="1636" y="880"/>
                    </a:lnTo>
                    <a:lnTo>
                      <a:pt x="1636" y="880"/>
                    </a:lnTo>
                    <a:lnTo>
                      <a:pt x="1630" y="886"/>
                    </a:lnTo>
                    <a:lnTo>
                      <a:pt x="1624" y="890"/>
                    </a:lnTo>
                    <a:lnTo>
                      <a:pt x="1618" y="892"/>
                    </a:lnTo>
                    <a:lnTo>
                      <a:pt x="1612" y="898"/>
                    </a:lnTo>
                    <a:lnTo>
                      <a:pt x="1612" y="898"/>
                    </a:lnTo>
                    <a:lnTo>
                      <a:pt x="550" y="902"/>
                    </a:lnTo>
                    <a:lnTo>
                      <a:pt x="550" y="902"/>
                    </a:lnTo>
                    <a:lnTo>
                      <a:pt x="548" y="902"/>
                    </a:lnTo>
                    <a:lnTo>
                      <a:pt x="548" y="900"/>
                    </a:lnTo>
                    <a:lnTo>
                      <a:pt x="548" y="900"/>
                    </a:lnTo>
                    <a:lnTo>
                      <a:pt x="550" y="896"/>
                    </a:lnTo>
                    <a:lnTo>
                      <a:pt x="550" y="892"/>
                    </a:lnTo>
                    <a:lnTo>
                      <a:pt x="552" y="888"/>
                    </a:lnTo>
                    <a:lnTo>
                      <a:pt x="550" y="882"/>
                    </a:lnTo>
                    <a:lnTo>
                      <a:pt x="550" y="882"/>
                    </a:lnTo>
                    <a:lnTo>
                      <a:pt x="532" y="886"/>
                    </a:lnTo>
                    <a:lnTo>
                      <a:pt x="524" y="888"/>
                    </a:lnTo>
                    <a:lnTo>
                      <a:pt x="516" y="892"/>
                    </a:lnTo>
                    <a:lnTo>
                      <a:pt x="516" y="892"/>
                    </a:lnTo>
                    <a:lnTo>
                      <a:pt x="536" y="896"/>
                    </a:lnTo>
                    <a:lnTo>
                      <a:pt x="544" y="898"/>
                    </a:lnTo>
                    <a:lnTo>
                      <a:pt x="550" y="902"/>
                    </a:lnTo>
                    <a:lnTo>
                      <a:pt x="550" y="902"/>
                    </a:lnTo>
                    <a:lnTo>
                      <a:pt x="810" y="1016"/>
                    </a:lnTo>
                    <a:lnTo>
                      <a:pt x="810" y="1016"/>
                    </a:lnTo>
                    <a:lnTo>
                      <a:pt x="806" y="1010"/>
                    </a:lnTo>
                    <a:lnTo>
                      <a:pt x="800" y="1002"/>
                    </a:lnTo>
                    <a:lnTo>
                      <a:pt x="794" y="996"/>
                    </a:lnTo>
                    <a:lnTo>
                      <a:pt x="792" y="992"/>
                    </a:lnTo>
                    <a:lnTo>
                      <a:pt x="792" y="992"/>
                    </a:lnTo>
                    <a:lnTo>
                      <a:pt x="794" y="992"/>
                    </a:lnTo>
                    <a:lnTo>
                      <a:pt x="798" y="990"/>
                    </a:lnTo>
                    <a:lnTo>
                      <a:pt x="804" y="984"/>
                    </a:lnTo>
                    <a:lnTo>
                      <a:pt x="810" y="980"/>
                    </a:lnTo>
                    <a:lnTo>
                      <a:pt x="812" y="978"/>
                    </a:lnTo>
                    <a:lnTo>
                      <a:pt x="818" y="976"/>
                    </a:lnTo>
                    <a:lnTo>
                      <a:pt x="818" y="976"/>
                    </a:lnTo>
                    <a:lnTo>
                      <a:pt x="824" y="978"/>
                    </a:lnTo>
                    <a:lnTo>
                      <a:pt x="834" y="984"/>
                    </a:lnTo>
                    <a:lnTo>
                      <a:pt x="844" y="990"/>
                    </a:lnTo>
                    <a:lnTo>
                      <a:pt x="846" y="996"/>
                    </a:lnTo>
                    <a:lnTo>
                      <a:pt x="846" y="996"/>
                    </a:lnTo>
                    <a:lnTo>
                      <a:pt x="846" y="1000"/>
                    </a:lnTo>
                    <a:lnTo>
                      <a:pt x="842" y="1002"/>
                    </a:lnTo>
                    <a:lnTo>
                      <a:pt x="838" y="1006"/>
                    </a:lnTo>
                    <a:lnTo>
                      <a:pt x="836" y="1010"/>
                    </a:lnTo>
                    <a:lnTo>
                      <a:pt x="836" y="1010"/>
                    </a:lnTo>
                    <a:lnTo>
                      <a:pt x="840" y="1012"/>
                    </a:lnTo>
                    <a:lnTo>
                      <a:pt x="844" y="1012"/>
                    </a:lnTo>
                    <a:lnTo>
                      <a:pt x="852" y="1010"/>
                    </a:lnTo>
                    <a:lnTo>
                      <a:pt x="860" y="1008"/>
                    </a:lnTo>
                    <a:lnTo>
                      <a:pt x="864" y="1008"/>
                    </a:lnTo>
                    <a:lnTo>
                      <a:pt x="868" y="1010"/>
                    </a:lnTo>
                    <a:lnTo>
                      <a:pt x="868" y="1010"/>
                    </a:lnTo>
                    <a:lnTo>
                      <a:pt x="866" y="1016"/>
                    </a:lnTo>
                    <a:lnTo>
                      <a:pt x="862" y="1022"/>
                    </a:lnTo>
                    <a:lnTo>
                      <a:pt x="856" y="1030"/>
                    </a:lnTo>
                    <a:lnTo>
                      <a:pt x="848" y="1040"/>
                    </a:lnTo>
                    <a:lnTo>
                      <a:pt x="846" y="1046"/>
                    </a:lnTo>
                    <a:lnTo>
                      <a:pt x="844" y="1052"/>
                    </a:lnTo>
                    <a:lnTo>
                      <a:pt x="844" y="1052"/>
                    </a:lnTo>
                    <a:lnTo>
                      <a:pt x="848" y="1056"/>
                    </a:lnTo>
                    <a:lnTo>
                      <a:pt x="854" y="1058"/>
                    </a:lnTo>
                    <a:lnTo>
                      <a:pt x="866" y="1060"/>
                    </a:lnTo>
                    <a:lnTo>
                      <a:pt x="866" y="1060"/>
                    </a:lnTo>
                    <a:lnTo>
                      <a:pt x="862" y="1064"/>
                    </a:lnTo>
                    <a:lnTo>
                      <a:pt x="858" y="1064"/>
                    </a:lnTo>
                    <a:lnTo>
                      <a:pt x="848" y="1064"/>
                    </a:lnTo>
                    <a:lnTo>
                      <a:pt x="838" y="1064"/>
                    </a:lnTo>
                    <a:lnTo>
                      <a:pt x="834" y="1064"/>
                    </a:lnTo>
                    <a:lnTo>
                      <a:pt x="832" y="1066"/>
                    </a:lnTo>
                    <a:lnTo>
                      <a:pt x="832" y="1066"/>
                    </a:lnTo>
                    <a:lnTo>
                      <a:pt x="850" y="1074"/>
                    </a:lnTo>
                    <a:lnTo>
                      <a:pt x="868" y="1084"/>
                    </a:lnTo>
                    <a:lnTo>
                      <a:pt x="888" y="1092"/>
                    </a:lnTo>
                    <a:lnTo>
                      <a:pt x="908" y="1100"/>
                    </a:lnTo>
                    <a:lnTo>
                      <a:pt x="908" y="1100"/>
                    </a:lnTo>
                    <a:lnTo>
                      <a:pt x="908" y="1092"/>
                    </a:lnTo>
                    <a:lnTo>
                      <a:pt x="908" y="1084"/>
                    </a:lnTo>
                    <a:lnTo>
                      <a:pt x="902" y="1068"/>
                    </a:lnTo>
                    <a:lnTo>
                      <a:pt x="896" y="1052"/>
                    </a:lnTo>
                    <a:lnTo>
                      <a:pt x="890" y="1036"/>
                    </a:lnTo>
                    <a:lnTo>
                      <a:pt x="890" y="1036"/>
                    </a:lnTo>
                    <a:lnTo>
                      <a:pt x="888" y="1022"/>
                    </a:lnTo>
                    <a:lnTo>
                      <a:pt x="888" y="1014"/>
                    </a:lnTo>
                    <a:lnTo>
                      <a:pt x="886" y="1006"/>
                    </a:lnTo>
                    <a:lnTo>
                      <a:pt x="886" y="1006"/>
                    </a:lnTo>
                    <a:lnTo>
                      <a:pt x="880" y="998"/>
                    </a:lnTo>
                    <a:lnTo>
                      <a:pt x="874" y="992"/>
                    </a:lnTo>
                    <a:lnTo>
                      <a:pt x="866" y="986"/>
                    </a:lnTo>
                    <a:lnTo>
                      <a:pt x="860" y="978"/>
                    </a:lnTo>
                    <a:lnTo>
                      <a:pt x="860" y="978"/>
                    </a:lnTo>
                    <a:lnTo>
                      <a:pt x="852" y="958"/>
                    </a:lnTo>
                    <a:lnTo>
                      <a:pt x="844" y="940"/>
                    </a:lnTo>
                    <a:lnTo>
                      <a:pt x="844" y="940"/>
                    </a:lnTo>
                    <a:lnTo>
                      <a:pt x="832" y="924"/>
                    </a:lnTo>
                    <a:lnTo>
                      <a:pt x="820" y="910"/>
                    </a:lnTo>
                    <a:lnTo>
                      <a:pt x="820" y="910"/>
                    </a:lnTo>
                    <a:lnTo>
                      <a:pt x="808" y="894"/>
                    </a:lnTo>
                    <a:lnTo>
                      <a:pt x="802" y="888"/>
                    </a:lnTo>
                    <a:lnTo>
                      <a:pt x="794" y="884"/>
                    </a:lnTo>
                    <a:lnTo>
                      <a:pt x="794" y="884"/>
                    </a:lnTo>
                    <a:lnTo>
                      <a:pt x="790" y="912"/>
                    </a:lnTo>
                    <a:lnTo>
                      <a:pt x="784" y="942"/>
                    </a:lnTo>
                    <a:lnTo>
                      <a:pt x="778" y="970"/>
                    </a:lnTo>
                    <a:lnTo>
                      <a:pt x="776" y="984"/>
                    </a:lnTo>
                    <a:lnTo>
                      <a:pt x="776" y="998"/>
                    </a:lnTo>
                    <a:lnTo>
                      <a:pt x="776" y="998"/>
                    </a:lnTo>
                    <a:lnTo>
                      <a:pt x="782" y="998"/>
                    </a:lnTo>
                    <a:lnTo>
                      <a:pt x="786" y="994"/>
                    </a:lnTo>
                    <a:lnTo>
                      <a:pt x="786" y="994"/>
                    </a:lnTo>
                    <a:lnTo>
                      <a:pt x="780" y="1002"/>
                    </a:lnTo>
                    <a:lnTo>
                      <a:pt x="778" y="1006"/>
                    </a:lnTo>
                    <a:lnTo>
                      <a:pt x="776" y="1010"/>
                    </a:lnTo>
                    <a:lnTo>
                      <a:pt x="776" y="1010"/>
                    </a:lnTo>
                    <a:lnTo>
                      <a:pt x="778" y="1014"/>
                    </a:lnTo>
                    <a:lnTo>
                      <a:pt x="782" y="1016"/>
                    </a:lnTo>
                    <a:lnTo>
                      <a:pt x="792" y="1016"/>
                    </a:lnTo>
                    <a:lnTo>
                      <a:pt x="802" y="1016"/>
                    </a:lnTo>
                    <a:lnTo>
                      <a:pt x="810" y="1016"/>
                    </a:lnTo>
                    <a:lnTo>
                      <a:pt x="810" y="1016"/>
                    </a:lnTo>
                    <a:lnTo>
                      <a:pt x="804" y="1016"/>
                    </a:lnTo>
                    <a:lnTo>
                      <a:pt x="804" y="1016"/>
                    </a:lnTo>
                    <a:lnTo>
                      <a:pt x="798" y="1020"/>
                    </a:lnTo>
                    <a:lnTo>
                      <a:pt x="788" y="1024"/>
                    </a:lnTo>
                    <a:lnTo>
                      <a:pt x="778" y="1024"/>
                    </a:lnTo>
                    <a:lnTo>
                      <a:pt x="766" y="1024"/>
                    </a:lnTo>
                    <a:lnTo>
                      <a:pt x="766" y="1024"/>
                    </a:lnTo>
                    <a:lnTo>
                      <a:pt x="770" y="1028"/>
                    </a:lnTo>
                    <a:lnTo>
                      <a:pt x="774" y="1032"/>
                    </a:lnTo>
                    <a:lnTo>
                      <a:pt x="786" y="1038"/>
                    </a:lnTo>
                    <a:lnTo>
                      <a:pt x="786" y="1038"/>
                    </a:lnTo>
                    <a:lnTo>
                      <a:pt x="808" y="1050"/>
                    </a:lnTo>
                    <a:lnTo>
                      <a:pt x="808" y="1050"/>
                    </a:lnTo>
                    <a:lnTo>
                      <a:pt x="812" y="1048"/>
                    </a:lnTo>
                    <a:lnTo>
                      <a:pt x="816" y="1044"/>
                    </a:lnTo>
                    <a:lnTo>
                      <a:pt x="818" y="1038"/>
                    </a:lnTo>
                    <a:lnTo>
                      <a:pt x="818" y="1032"/>
                    </a:lnTo>
                    <a:lnTo>
                      <a:pt x="816" y="1028"/>
                    </a:lnTo>
                    <a:lnTo>
                      <a:pt x="814" y="1022"/>
                    </a:lnTo>
                    <a:lnTo>
                      <a:pt x="810" y="1018"/>
                    </a:lnTo>
                    <a:lnTo>
                      <a:pt x="804" y="1016"/>
                    </a:lnTo>
                    <a:lnTo>
                      <a:pt x="804" y="1016"/>
                    </a:lnTo>
                    <a:lnTo>
                      <a:pt x="1458" y="924"/>
                    </a:lnTo>
                    <a:lnTo>
                      <a:pt x="1458" y="924"/>
                    </a:lnTo>
                    <a:lnTo>
                      <a:pt x="1460" y="926"/>
                    </a:lnTo>
                    <a:lnTo>
                      <a:pt x="1460" y="928"/>
                    </a:lnTo>
                    <a:lnTo>
                      <a:pt x="1460" y="928"/>
                    </a:lnTo>
                    <a:lnTo>
                      <a:pt x="1442" y="956"/>
                    </a:lnTo>
                    <a:lnTo>
                      <a:pt x="1434" y="972"/>
                    </a:lnTo>
                    <a:lnTo>
                      <a:pt x="1428" y="990"/>
                    </a:lnTo>
                    <a:lnTo>
                      <a:pt x="1428" y="990"/>
                    </a:lnTo>
                    <a:lnTo>
                      <a:pt x="1442" y="986"/>
                    </a:lnTo>
                    <a:lnTo>
                      <a:pt x="1454" y="980"/>
                    </a:lnTo>
                    <a:lnTo>
                      <a:pt x="1464" y="972"/>
                    </a:lnTo>
                    <a:lnTo>
                      <a:pt x="1472" y="962"/>
                    </a:lnTo>
                    <a:lnTo>
                      <a:pt x="1472" y="962"/>
                    </a:lnTo>
                    <a:lnTo>
                      <a:pt x="1460" y="962"/>
                    </a:lnTo>
                    <a:lnTo>
                      <a:pt x="1450" y="958"/>
                    </a:lnTo>
                    <a:lnTo>
                      <a:pt x="1450" y="958"/>
                    </a:lnTo>
                    <a:lnTo>
                      <a:pt x="1458" y="958"/>
                    </a:lnTo>
                    <a:lnTo>
                      <a:pt x="1464" y="954"/>
                    </a:lnTo>
                    <a:lnTo>
                      <a:pt x="1464" y="954"/>
                    </a:lnTo>
                    <a:lnTo>
                      <a:pt x="1466" y="948"/>
                    </a:lnTo>
                    <a:lnTo>
                      <a:pt x="1466" y="938"/>
                    </a:lnTo>
                    <a:lnTo>
                      <a:pt x="1468" y="930"/>
                    </a:lnTo>
                    <a:lnTo>
                      <a:pt x="1470" y="924"/>
                    </a:lnTo>
                    <a:lnTo>
                      <a:pt x="1470" y="924"/>
                    </a:lnTo>
                    <a:lnTo>
                      <a:pt x="1478" y="920"/>
                    </a:lnTo>
                    <a:lnTo>
                      <a:pt x="1488" y="918"/>
                    </a:lnTo>
                    <a:lnTo>
                      <a:pt x="1498" y="920"/>
                    </a:lnTo>
                    <a:lnTo>
                      <a:pt x="1500" y="922"/>
                    </a:lnTo>
                    <a:lnTo>
                      <a:pt x="1502" y="926"/>
                    </a:lnTo>
                    <a:lnTo>
                      <a:pt x="1502" y="926"/>
                    </a:lnTo>
                    <a:lnTo>
                      <a:pt x="1506" y="922"/>
                    </a:lnTo>
                    <a:lnTo>
                      <a:pt x="1510" y="916"/>
                    </a:lnTo>
                    <a:lnTo>
                      <a:pt x="1516" y="910"/>
                    </a:lnTo>
                    <a:lnTo>
                      <a:pt x="1518" y="906"/>
                    </a:lnTo>
                    <a:lnTo>
                      <a:pt x="1518" y="906"/>
                    </a:lnTo>
                    <a:lnTo>
                      <a:pt x="1514" y="900"/>
                    </a:lnTo>
                    <a:lnTo>
                      <a:pt x="1502" y="892"/>
                    </a:lnTo>
                    <a:lnTo>
                      <a:pt x="1488" y="884"/>
                    </a:lnTo>
                    <a:lnTo>
                      <a:pt x="1484" y="882"/>
                    </a:lnTo>
                    <a:lnTo>
                      <a:pt x="1480" y="884"/>
                    </a:lnTo>
                    <a:lnTo>
                      <a:pt x="1480" y="884"/>
                    </a:lnTo>
                    <a:lnTo>
                      <a:pt x="1476" y="892"/>
                    </a:lnTo>
                    <a:lnTo>
                      <a:pt x="1472" y="904"/>
                    </a:lnTo>
                    <a:lnTo>
                      <a:pt x="1466" y="916"/>
                    </a:lnTo>
                    <a:lnTo>
                      <a:pt x="1462" y="920"/>
                    </a:lnTo>
                    <a:lnTo>
                      <a:pt x="1458" y="924"/>
                    </a:lnTo>
                    <a:lnTo>
                      <a:pt x="1458" y="924"/>
                    </a:lnTo>
                    <a:lnTo>
                      <a:pt x="1228" y="916"/>
                    </a:lnTo>
                    <a:lnTo>
                      <a:pt x="1228" y="916"/>
                    </a:lnTo>
                    <a:lnTo>
                      <a:pt x="1228" y="908"/>
                    </a:lnTo>
                    <a:lnTo>
                      <a:pt x="1226" y="900"/>
                    </a:lnTo>
                    <a:lnTo>
                      <a:pt x="1226" y="892"/>
                    </a:lnTo>
                    <a:lnTo>
                      <a:pt x="1226" y="884"/>
                    </a:lnTo>
                    <a:lnTo>
                      <a:pt x="1226" y="884"/>
                    </a:lnTo>
                    <a:lnTo>
                      <a:pt x="1216" y="884"/>
                    </a:lnTo>
                    <a:lnTo>
                      <a:pt x="1216" y="884"/>
                    </a:lnTo>
                    <a:lnTo>
                      <a:pt x="1222" y="900"/>
                    </a:lnTo>
                    <a:lnTo>
                      <a:pt x="1228" y="916"/>
                    </a:lnTo>
                    <a:lnTo>
                      <a:pt x="1228" y="916"/>
                    </a:lnTo>
                    <a:lnTo>
                      <a:pt x="354" y="892"/>
                    </a:lnTo>
                    <a:lnTo>
                      <a:pt x="354" y="892"/>
                    </a:lnTo>
                    <a:lnTo>
                      <a:pt x="364" y="894"/>
                    </a:lnTo>
                    <a:lnTo>
                      <a:pt x="364" y="894"/>
                    </a:lnTo>
                    <a:lnTo>
                      <a:pt x="364" y="892"/>
                    </a:lnTo>
                    <a:lnTo>
                      <a:pt x="364" y="890"/>
                    </a:lnTo>
                    <a:lnTo>
                      <a:pt x="366" y="888"/>
                    </a:lnTo>
                    <a:lnTo>
                      <a:pt x="366" y="886"/>
                    </a:lnTo>
                    <a:lnTo>
                      <a:pt x="366" y="886"/>
                    </a:lnTo>
                    <a:lnTo>
                      <a:pt x="358" y="886"/>
                    </a:lnTo>
                    <a:lnTo>
                      <a:pt x="356" y="888"/>
                    </a:lnTo>
                    <a:lnTo>
                      <a:pt x="354" y="892"/>
                    </a:lnTo>
                    <a:lnTo>
                      <a:pt x="354" y="892"/>
                    </a:lnTo>
                    <a:lnTo>
                      <a:pt x="710" y="908"/>
                    </a:lnTo>
                    <a:lnTo>
                      <a:pt x="710" y="908"/>
                    </a:lnTo>
                    <a:lnTo>
                      <a:pt x="722" y="908"/>
                    </a:lnTo>
                    <a:lnTo>
                      <a:pt x="722" y="908"/>
                    </a:lnTo>
                    <a:lnTo>
                      <a:pt x="720" y="898"/>
                    </a:lnTo>
                    <a:lnTo>
                      <a:pt x="718" y="892"/>
                    </a:lnTo>
                    <a:lnTo>
                      <a:pt x="716" y="888"/>
                    </a:lnTo>
                    <a:lnTo>
                      <a:pt x="716" y="888"/>
                    </a:lnTo>
                    <a:lnTo>
                      <a:pt x="714" y="894"/>
                    </a:lnTo>
                    <a:lnTo>
                      <a:pt x="710" y="898"/>
                    </a:lnTo>
                    <a:lnTo>
                      <a:pt x="708" y="902"/>
                    </a:lnTo>
                    <a:lnTo>
                      <a:pt x="710" y="908"/>
                    </a:lnTo>
                    <a:lnTo>
                      <a:pt x="710" y="908"/>
                    </a:lnTo>
                    <a:lnTo>
                      <a:pt x="1396" y="892"/>
                    </a:lnTo>
                    <a:lnTo>
                      <a:pt x="1396" y="892"/>
                    </a:lnTo>
                    <a:lnTo>
                      <a:pt x="1402" y="894"/>
                    </a:lnTo>
                    <a:lnTo>
                      <a:pt x="1406" y="892"/>
                    </a:lnTo>
                    <a:lnTo>
                      <a:pt x="1406" y="892"/>
                    </a:lnTo>
                    <a:lnTo>
                      <a:pt x="1404" y="890"/>
                    </a:lnTo>
                    <a:lnTo>
                      <a:pt x="1402" y="888"/>
                    </a:lnTo>
                    <a:lnTo>
                      <a:pt x="1398" y="890"/>
                    </a:lnTo>
                    <a:lnTo>
                      <a:pt x="1396" y="892"/>
                    </a:lnTo>
                    <a:lnTo>
                      <a:pt x="1396" y="892"/>
                    </a:lnTo>
                    <a:lnTo>
                      <a:pt x="1550" y="892"/>
                    </a:lnTo>
                    <a:lnTo>
                      <a:pt x="1550" y="892"/>
                    </a:lnTo>
                    <a:lnTo>
                      <a:pt x="1552" y="894"/>
                    </a:lnTo>
                    <a:lnTo>
                      <a:pt x="1554" y="894"/>
                    </a:lnTo>
                    <a:lnTo>
                      <a:pt x="1554" y="894"/>
                    </a:lnTo>
                    <a:lnTo>
                      <a:pt x="1558" y="894"/>
                    </a:lnTo>
                    <a:lnTo>
                      <a:pt x="1558" y="892"/>
                    </a:lnTo>
                    <a:lnTo>
                      <a:pt x="1560" y="890"/>
                    </a:lnTo>
                    <a:lnTo>
                      <a:pt x="1560" y="890"/>
                    </a:lnTo>
                    <a:lnTo>
                      <a:pt x="1556" y="890"/>
                    </a:lnTo>
                    <a:lnTo>
                      <a:pt x="1554" y="888"/>
                    </a:lnTo>
                    <a:lnTo>
                      <a:pt x="1554" y="888"/>
                    </a:lnTo>
                    <a:lnTo>
                      <a:pt x="1552" y="890"/>
                    </a:lnTo>
                    <a:lnTo>
                      <a:pt x="1550" y="892"/>
                    </a:lnTo>
                    <a:lnTo>
                      <a:pt x="1550" y="892"/>
                    </a:lnTo>
                    <a:lnTo>
                      <a:pt x="514" y="890"/>
                    </a:lnTo>
                    <a:lnTo>
                      <a:pt x="514" y="890"/>
                    </a:lnTo>
                    <a:lnTo>
                      <a:pt x="508" y="890"/>
                    </a:lnTo>
                    <a:lnTo>
                      <a:pt x="506" y="890"/>
                    </a:lnTo>
                    <a:lnTo>
                      <a:pt x="504" y="892"/>
                    </a:lnTo>
                    <a:lnTo>
                      <a:pt x="504" y="892"/>
                    </a:lnTo>
                    <a:lnTo>
                      <a:pt x="510" y="892"/>
                    </a:lnTo>
                    <a:lnTo>
                      <a:pt x="512" y="892"/>
                    </a:lnTo>
                    <a:lnTo>
                      <a:pt x="514" y="890"/>
                    </a:lnTo>
                    <a:lnTo>
                      <a:pt x="514" y="890"/>
                    </a:lnTo>
                    <a:lnTo>
                      <a:pt x="1210" y="900"/>
                    </a:lnTo>
                    <a:lnTo>
                      <a:pt x="1210" y="900"/>
                    </a:lnTo>
                    <a:lnTo>
                      <a:pt x="1220" y="906"/>
                    </a:lnTo>
                    <a:lnTo>
                      <a:pt x="1220" y="906"/>
                    </a:lnTo>
                    <a:lnTo>
                      <a:pt x="1216" y="898"/>
                    </a:lnTo>
                    <a:lnTo>
                      <a:pt x="1214" y="890"/>
                    </a:lnTo>
                    <a:lnTo>
                      <a:pt x="1214" y="890"/>
                    </a:lnTo>
                    <a:lnTo>
                      <a:pt x="1210" y="900"/>
                    </a:lnTo>
                    <a:lnTo>
                      <a:pt x="1210" y="900"/>
                    </a:lnTo>
                    <a:lnTo>
                      <a:pt x="1240" y="918"/>
                    </a:lnTo>
                    <a:lnTo>
                      <a:pt x="1240" y="918"/>
                    </a:lnTo>
                    <a:lnTo>
                      <a:pt x="1248" y="916"/>
                    </a:lnTo>
                    <a:lnTo>
                      <a:pt x="1254" y="916"/>
                    </a:lnTo>
                    <a:lnTo>
                      <a:pt x="1262" y="918"/>
                    </a:lnTo>
                    <a:lnTo>
                      <a:pt x="1266" y="920"/>
                    </a:lnTo>
                    <a:lnTo>
                      <a:pt x="1266" y="920"/>
                    </a:lnTo>
                    <a:lnTo>
                      <a:pt x="1266" y="906"/>
                    </a:lnTo>
                    <a:lnTo>
                      <a:pt x="1266" y="898"/>
                    </a:lnTo>
                    <a:lnTo>
                      <a:pt x="1264" y="892"/>
                    </a:lnTo>
                    <a:lnTo>
                      <a:pt x="1264" y="892"/>
                    </a:lnTo>
                    <a:lnTo>
                      <a:pt x="1258" y="896"/>
                    </a:lnTo>
                    <a:lnTo>
                      <a:pt x="1250" y="900"/>
                    </a:lnTo>
                    <a:lnTo>
                      <a:pt x="1242" y="902"/>
                    </a:lnTo>
                    <a:lnTo>
                      <a:pt x="1230" y="902"/>
                    </a:lnTo>
                    <a:lnTo>
                      <a:pt x="1230" y="902"/>
                    </a:lnTo>
                    <a:lnTo>
                      <a:pt x="1236" y="920"/>
                    </a:lnTo>
                    <a:lnTo>
                      <a:pt x="1236" y="920"/>
                    </a:lnTo>
                    <a:lnTo>
                      <a:pt x="1238" y="920"/>
                    </a:lnTo>
                    <a:lnTo>
                      <a:pt x="1242" y="916"/>
                    </a:lnTo>
                    <a:lnTo>
                      <a:pt x="1242" y="914"/>
                    </a:lnTo>
                    <a:lnTo>
                      <a:pt x="1246" y="914"/>
                    </a:lnTo>
                    <a:lnTo>
                      <a:pt x="1246" y="914"/>
                    </a:lnTo>
                    <a:lnTo>
                      <a:pt x="1242" y="916"/>
                    </a:lnTo>
                    <a:lnTo>
                      <a:pt x="1240" y="918"/>
                    </a:lnTo>
                    <a:lnTo>
                      <a:pt x="1240" y="918"/>
                    </a:lnTo>
                    <a:lnTo>
                      <a:pt x="558" y="942"/>
                    </a:lnTo>
                    <a:lnTo>
                      <a:pt x="558" y="942"/>
                    </a:lnTo>
                    <a:lnTo>
                      <a:pt x="556" y="918"/>
                    </a:lnTo>
                    <a:lnTo>
                      <a:pt x="554" y="904"/>
                    </a:lnTo>
                    <a:lnTo>
                      <a:pt x="550" y="894"/>
                    </a:lnTo>
                    <a:lnTo>
                      <a:pt x="550" y="894"/>
                    </a:lnTo>
                    <a:lnTo>
                      <a:pt x="554" y="918"/>
                    </a:lnTo>
                    <a:lnTo>
                      <a:pt x="556" y="930"/>
                    </a:lnTo>
                    <a:lnTo>
                      <a:pt x="558" y="942"/>
                    </a:lnTo>
                    <a:lnTo>
                      <a:pt x="558" y="942"/>
                    </a:lnTo>
                    <a:lnTo>
                      <a:pt x="492" y="910"/>
                    </a:lnTo>
                    <a:lnTo>
                      <a:pt x="492" y="910"/>
                    </a:lnTo>
                    <a:lnTo>
                      <a:pt x="494" y="910"/>
                    </a:lnTo>
                    <a:lnTo>
                      <a:pt x="496" y="908"/>
                    </a:lnTo>
                    <a:lnTo>
                      <a:pt x="498" y="902"/>
                    </a:lnTo>
                    <a:lnTo>
                      <a:pt x="498" y="902"/>
                    </a:lnTo>
                    <a:lnTo>
                      <a:pt x="502" y="904"/>
                    </a:lnTo>
                    <a:lnTo>
                      <a:pt x="506" y="904"/>
                    </a:lnTo>
                    <a:lnTo>
                      <a:pt x="506" y="904"/>
                    </a:lnTo>
                    <a:lnTo>
                      <a:pt x="506" y="902"/>
                    </a:lnTo>
                    <a:lnTo>
                      <a:pt x="504" y="900"/>
                    </a:lnTo>
                    <a:lnTo>
                      <a:pt x="500" y="900"/>
                    </a:lnTo>
                    <a:lnTo>
                      <a:pt x="496" y="900"/>
                    </a:lnTo>
                    <a:lnTo>
                      <a:pt x="492" y="900"/>
                    </a:lnTo>
                    <a:lnTo>
                      <a:pt x="492" y="900"/>
                    </a:lnTo>
                    <a:lnTo>
                      <a:pt x="496" y="898"/>
                    </a:lnTo>
                    <a:lnTo>
                      <a:pt x="498" y="898"/>
                    </a:lnTo>
                    <a:lnTo>
                      <a:pt x="498" y="896"/>
                    </a:lnTo>
                    <a:lnTo>
                      <a:pt x="498" y="896"/>
                    </a:lnTo>
                    <a:lnTo>
                      <a:pt x="490" y="894"/>
                    </a:lnTo>
                    <a:lnTo>
                      <a:pt x="482" y="896"/>
                    </a:lnTo>
                    <a:lnTo>
                      <a:pt x="478" y="900"/>
                    </a:lnTo>
                    <a:lnTo>
                      <a:pt x="476" y="904"/>
                    </a:lnTo>
                    <a:lnTo>
                      <a:pt x="476" y="904"/>
                    </a:lnTo>
                    <a:lnTo>
                      <a:pt x="476" y="906"/>
                    </a:lnTo>
                    <a:lnTo>
                      <a:pt x="478" y="904"/>
                    </a:lnTo>
                    <a:lnTo>
                      <a:pt x="478" y="904"/>
                    </a:lnTo>
                    <a:lnTo>
                      <a:pt x="480" y="906"/>
                    </a:lnTo>
                    <a:lnTo>
                      <a:pt x="480" y="906"/>
                    </a:lnTo>
                    <a:lnTo>
                      <a:pt x="476" y="906"/>
                    </a:lnTo>
                    <a:lnTo>
                      <a:pt x="474" y="908"/>
                    </a:lnTo>
                    <a:lnTo>
                      <a:pt x="474" y="908"/>
                    </a:lnTo>
                    <a:lnTo>
                      <a:pt x="476" y="910"/>
                    </a:lnTo>
                    <a:lnTo>
                      <a:pt x="480" y="912"/>
                    </a:lnTo>
                    <a:lnTo>
                      <a:pt x="486" y="914"/>
                    </a:lnTo>
                    <a:lnTo>
                      <a:pt x="490" y="912"/>
                    </a:lnTo>
                    <a:lnTo>
                      <a:pt x="490" y="912"/>
                    </a:lnTo>
                    <a:lnTo>
                      <a:pt x="490" y="906"/>
                    </a:lnTo>
                    <a:lnTo>
                      <a:pt x="488" y="902"/>
                    </a:lnTo>
                    <a:lnTo>
                      <a:pt x="488" y="902"/>
                    </a:lnTo>
                    <a:lnTo>
                      <a:pt x="490" y="902"/>
                    </a:lnTo>
                    <a:lnTo>
                      <a:pt x="490" y="902"/>
                    </a:lnTo>
                    <a:lnTo>
                      <a:pt x="492" y="900"/>
                    </a:lnTo>
                    <a:lnTo>
                      <a:pt x="492" y="902"/>
                    </a:lnTo>
                    <a:lnTo>
                      <a:pt x="492" y="902"/>
                    </a:lnTo>
                    <a:lnTo>
                      <a:pt x="490" y="902"/>
                    </a:lnTo>
                    <a:lnTo>
                      <a:pt x="490" y="904"/>
                    </a:lnTo>
                    <a:lnTo>
                      <a:pt x="492" y="910"/>
                    </a:lnTo>
                    <a:lnTo>
                      <a:pt x="492" y="910"/>
                    </a:lnTo>
                    <a:lnTo>
                      <a:pt x="574" y="908"/>
                    </a:lnTo>
                    <a:lnTo>
                      <a:pt x="574" y="908"/>
                    </a:lnTo>
                    <a:lnTo>
                      <a:pt x="572" y="912"/>
                    </a:lnTo>
                    <a:lnTo>
                      <a:pt x="572" y="914"/>
                    </a:lnTo>
                    <a:lnTo>
                      <a:pt x="572" y="914"/>
                    </a:lnTo>
                    <a:lnTo>
                      <a:pt x="580" y="918"/>
                    </a:lnTo>
                    <a:lnTo>
                      <a:pt x="582" y="920"/>
                    </a:lnTo>
                    <a:lnTo>
                      <a:pt x="586" y="920"/>
                    </a:lnTo>
                    <a:lnTo>
                      <a:pt x="586" y="920"/>
                    </a:lnTo>
                    <a:lnTo>
                      <a:pt x="580" y="914"/>
                    </a:lnTo>
                    <a:lnTo>
                      <a:pt x="574" y="908"/>
                    </a:lnTo>
                    <a:lnTo>
                      <a:pt x="574" y="908"/>
                    </a:lnTo>
                    <a:lnTo>
                      <a:pt x="586" y="916"/>
                    </a:lnTo>
                    <a:lnTo>
                      <a:pt x="586" y="916"/>
                    </a:lnTo>
                    <a:lnTo>
                      <a:pt x="582" y="908"/>
                    </a:lnTo>
                    <a:lnTo>
                      <a:pt x="580" y="904"/>
                    </a:lnTo>
                    <a:lnTo>
                      <a:pt x="582" y="900"/>
                    </a:lnTo>
                    <a:lnTo>
                      <a:pt x="582" y="900"/>
                    </a:lnTo>
                    <a:lnTo>
                      <a:pt x="580" y="898"/>
                    </a:lnTo>
                    <a:lnTo>
                      <a:pt x="576" y="894"/>
                    </a:lnTo>
                    <a:lnTo>
                      <a:pt x="576" y="894"/>
                    </a:lnTo>
                    <a:lnTo>
                      <a:pt x="576" y="900"/>
                    </a:lnTo>
                    <a:lnTo>
                      <a:pt x="574" y="906"/>
                    </a:lnTo>
                    <a:lnTo>
                      <a:pt x="574" y="906"/>
                    </a:lnTo>
                    <a:lnTo>
                      <a:pt x="580" y="912"/>
                    </a:lnTo>
                    <a:lnTo>
                      <a:pt x="584" y="914"/>
                    </a:lnTo>
                    <a:lnTo>
                      <a:pt x="586" y="916"/>
                    </a:lnTo>
                    <a:lnTo>
                      <a:pt x="586" y="916"/>
                    </a:lnTo>
                    <a:lnTo>
                      <a:pt x="468" y="900"/>
                    </a:lnTo>
                    <a:lnTo>
                      <a:pt x="468" y="900"/>
                    </a:lnTo>
                    <a:lnTo>
                      <a:pt x="470" y="902"/>
                    </a:lnTo>
                    <a:lnTo>
                      <a:pt x="474" y="902"/>
                    </a:lnTo>
                    <a:lnTo>
                      <a:pt x="474" y="902"/>
                    </a:lnTo>
                    <a:lnTo>
                      <a:pt x="474" y="900"/>
                    </a:lnTo>
                    <a:lnTo>
                      <a:pt x="472" y="898"/>
                    </a:lnTo>
                    <a:lnTo>
                      <a:pt x="470" y="898"/>
                    </a:lnTo>
                    <a:lnTo>
                      <a:pt x="468" y="900"/>
                    </a:lnTo>
                    <a:lnTo>
                      <a:pt x="468" y="900"/>
                    </a:lnTo>
                    <a:lnTo>
                      <a:pt x="1200" y="910"/>
                    </a:lnTo>
                    <a:lnTo>
                      <a:pt x="1200" y="910"/>
                    </a:lnTo>
                    <a:lnTo>
                      <a:pt x="1212" y="926"/>
                    </a:lnTo>
                    <a:lnTo>
                      <a:pt x="1212" y="926"/>
                    </a:lnTo>
                    <a:lnTo>
                      <a:pt x="1218" y="926"/>
                    </a:lnTo>
                    <a:lnTo>
                      <a:pt x="1224" y="924"/>
                    </a:lnTo>
                    <a:lnTo>
                      <a:pt x="1224" y="924"/>
                    </a:lnTo>
                    <a:lnTo>
                      <a:pt x="1222" y="916"/>
                    </a:lnTo>
                    <a:lnTo>
                      <a:pt x="1218" y="910"/>
                    </a:lnTo>
                    <a:lnTo>
                      <a:pt x="1214" y="904"/>
                    </a:lnTo>
                    <a:lnTo>
                      <a:pt x="1208" y="900"/>
                    </a:lnTo>
                    <a:lnTo>
                      <a:pt x="1208" y="900"/>
                    </a:lnTo>
                    <a:lnTo>
                      <a:pt x="1204" y="906"/>
                    </a:lnTo>
                    <a:lnTo>
                      <a:pt x="1200" y="910"/>
                    </a:lnTo>
                    <a:lnTo>
                      <a:pt x="1200" y="910"/>
                    </a:lnTo>
                    <a:lnTo>
                      <a:pt x="368" y="906"/>
                    </a:lnTo>
                    <a:lnTo>
                      <a:pt x="368" y="906"/>
                    </a:lnTo>
                    <a:lnTo>
                      <a:pt x="364" y="904"/>
                    </a:lnTo>
                    <a:lnTo>
                      <a:pt x="364" y="902"/>
                    </a:lnTo>
                    <a:lnTo>
                      <a:pt x="362" y="902"/>
                    </a:lnTo>
                    <a:lnTo>
                      <a:pt x="360" y="902"/>
                    </a:lnTo>
                    <a:lnTo>
                      <a:pt x="360" y="902"/>
                    </a:lnTo>
                    <a:lnTo>
                      <a:pt x="362" y="906"/>
                    </a:lnTo>
                    <a:lnTo>
                      <a:pt x="364" y="906"/>
                    </a:lnTo>
                    <a:lnTo>
                      <a:pt x="368" y="906"/>
                    </a:lnTo>
                    <a:lnTo>
                      <a:pt x="368" y="906"/>
                    </a:lnTo>
                    <a:lnTo>
                      <a:pt x="422" y="908"/>
                    </a:lnTo>
                    <a:lnTo>
                      <a:pt x="422" y="908"/>
                    </a:lnTo>
                    <a:lnTo>
                      <a:pt x="428" y="908"/>
                    </a:lnTo>
                    <a:lnTo>
                      <a:pt x="434" y="908"/>
                    </a:lnTo>
                    <a:lnTo>
                      <a:pt x="440" y="908"/>
                    </a:lnTo>
                    <a:lnTo>
                      <a:pt x="446" y="908"/>
                    </a:lnTo>
                    <a:lnTo>
                      <a:pt x="446" y="908"/>
                    </a:lnTo>
                    <a:lnTo>
                      <a:pt x="440" y="904"/>
                    </a:lnTo>
                    <a:lnTo>
                      <a:pt x="434" y="904"/>
                    </a:lnTo>
                    <a:lnTo>
                      <a:pt x="428" y="904"/>
                    </a:lnTo>
                    <a:lnTo>
                      <a:pt x="422" y="908"/>
                    </a:lnTo>
                    <a:lnTo>
                      <a:pt x="422" y="908"/>
                    </a:lnTo>
                    <a:lnTo>
                      <a:pt x="646" y="908"/>
                    </a:lnTo>
                    <a:lnTo>
                      <a:pt x="646" y="908"/>
                    </a:lnTo>
                    <a:lnTo>
                      <a:pt x="646" y="918"/>
                    </a:lnTo>
                    <a:lnTo>
                      <a:pt x="648" y="922"/>
                    </a:lnTo>
                    <a:lnTo>
                      <a:pt x="650" y="924"/>
                    </a:lnTo>
                    <a:lnTo>
                      <a:pt x="650" y="924"/>
                    </a:lnTo>
                    <a:lnTo>
                      <a:pt x="654" y="922"/>
                    </a:lnTo>
                    <a:lnTo>
                      <a:pt x="654" y="916"/>
                    </a:lnTo>
                    <a:lnTo>
                      <a:pt x="654" y="906"/>
                    </a:lnTo>
                    <a:lnTo>
                      <a:pt x="654" y="906"/>
                    </a:lnTo>
                    <a:lnTo>
                      <a:pt x="652" y="906"/>
                    </a:lnTo>
                    <a:lnTo>
                      <a:pt x="650" y="906"/>
                    </a:lnTo>
                    <a:lnTo>
                      <a:pt x="646" y="908"/>
                    </a:lnTo>
                    <a:lnTo>
                      <a:pt x="646" y="908"/>
                    </a:lnTo>
                    <a:lnTo>
                      <a:pt x="596" y="914"/>
                    </a:lnTo>
                    <a:lnTo>
                      <a:pt x="596" y="914"/>
                    </a:lnTo>
                    <a:lnTo>
                      <a:pt x="592" y="910"/>
                    </a:lnTo>
                    <a:lnTo>
                      <a:pt x="588" y="906"/>
                    </a:lnTo>
                    <a:lnTo>
                      <a:pt x="588" y="906"/>
                    </a:lnTo>
                    <a:lnTo>
                      <a:pt x="590" y="912"/>
                    </a:lnTo>
                    <a:lnTo>
                      <a:pt x="592" y="914"/>
                    </a:lnTo>
                    <a:lnTo>
                      <a:pt x="596" y="914"/>
                    </a:lnTo>
                    <a:lnTo>
                      <a:pt x="596" y="914"/>
                    </a:lnTo>
                    <a:lnTo>
                      <a:pt x="520" y="920"/>
                    </a:lnTo>
                    <a:lnTo>
                      <a:pt x="520" y="920"/>
                    </a:lnTo>
                    <a:lnTo>
                      <a:pt x="518" y="924"/>
                    </a:lnTo>
                    <a:lnTo>
                      <a:pt x="518" y="928"/>
                    </a:lnTo>
                    <a:lnTo>
                      <a:pt x="522" y="934"/>
                    </a:lnTo>
                    <a:lnTo>
                      <a:pt x="532" y="944"/>
                    </a:lnTo>
                    <a:lnTo>
                      <a:pt x="532" y="944"/>
                    </a:lnTo>
                    <a:lnTo>
                      <a:pt x="528" y="930"/>
                    </a:lnTo>
                    <a:lnTo>
                      <a:pt x="526" y="924"/>
                    </a:lnTo>
                    <a:lnTo>
                      <a:pt x="520" y="920"/>
                    </a:lnTo>
                    <a:lnTo>
                      <a:pt x="520" y="920"/>
                    </a:lnTo>
                    <a:lnTo>
                      <a:pt x="548" y="960"/>
                    </a:lnTo>
                    <a:lnTo>
                      <a:pt x="548" y="960"/>
                    </a:lnTo>
                    <a:lnTo>
                      <a:pt x="552" y="956"/>
                    </a:lnTo>
                    <a:lnTo>
                      <a:pt x="554" y="952"/>
                    </a:lnTo>
                    <a:lnTo>
                      <a:pt x="554" y="942"/>
                    </a:lnTo>
                    <a:lnTo>
                      <a:pt x="554" y="930"/>
                    </a:lnTo>
                    <a:lnTo>
                      <a:pt x="550" y="918"/>
                    </a:lnTo>
                    <a:lnTo>
                      <a:pt x="550" y="918"/>
                    </a:lnTo>
                    <a:lnTo>
                      <a:pt x="546" y="920"/>
                    </a:lnTo>
                    <a:lnTo>
                      <a:pt x="540" y="920"/>
                    </a:lnTo>
                    <a:lnTo>
                      <a:pt x="540" y="920"/>
                    </a:lnTo>
                    <a:lnTo>
                      <a:pt x="540" y="918"/>
                    </a:lnTo>
                    <a:lnTo>
                      <a:pt x="538" y="914"/>
                    </a:lnTo>
                    <a:lnTo>
                      <a:pt x="540" y="908"/>
                    </a:lnTo>
                    <a:lnTo>
                      <a:pt x="540" y="908"/>
                    </a:lnTo>
                    <a:lnTo>
                      <a:pt x="536" y="908"/>
                    </a:lnTo>
                    <a:lnTo>
                      <a:pt x="532" y="910"/>
                    </a:lnTo>
                    <a:lnTo>
                      <a:pt x="524" y="916"/>
                    </a:lnTo>
                    <a:lnTo>
                      <a:pt x="524" y="916"/>
                    </a:lnTo>
                    <a:lnTo>
                      <a:pt x="528" y="922"/>
                    </a:lnTo>
                    <a:lnTo>
                      <a:pt x="530" y="928"/>
                    </a:lnTo>
                    <a:lnTo>
                      <a:pt x="534" y="942"/>
                    </a:lnTo>
                    <a:lnTo>
                      <a:pt x="538" y="954"/>
                    </a:lnTo>
                    <a:lnTo>
                      <a:pt x="542" y="958"/>
                    </a:lnTo>
                    <a:lnTo>
                      <a:pt x="548" y="960"/>
                    </a:lnTo>
                    <a:lnTo>
                      <a:pt x="548" y="960"/>
                    </a:lnTo>
                    <a:lnTo>
                      <a:pt x="1348" y="916"/>
                    </a:lnTo>
                    <a:lnTo>
                      <a:pt x="1348" y="916"/>
                    </a:lnTo>
                    <a:lnTo>
                      <a:pt x="1338" y="934"/>
                    </a:lnTo>
                    <a:lnTo>
                      <a:pt x="1324" y="952"/>
                    </a:lnTo>
                    <a:lnTo>
                      <a:pt x="1324" y="952"/>
                    </a:lnTo>
                    <a:lnTo>
                      <a:pt x="1310" y="972"/>
                    </a:lnTo>
                    <a:lnTo>
                      <a:pt x="1304" y="982"/>
                    </a:lnTo>
                    <a:lnTo>
                      <a:pt x="1300" y="992"/>
                    </a:lnTo>
                    <a:lnTo>
                      <a:pt x="1300" y="992"/>
                    </a:lnTo>
                    <a:lnTo>
                      <a:pt x="1300" y="1006"/>
                    </a:lnTo>
                    <a:lnTo>
                      <a:pt x="1304" y="1018"/>
                    </a:lnTo>
                    <a:lnTo>
                      <a:pt x="1308" y="1046"/>
                    </a:lnTo>
                    <a:lnTo>
                      <a:pt x="1308" y="1046"/>
                    </a:lnTo>
                    <a:lnTo>
                      <a:pt x="1334" y="1036"/>
                    </a:lnTo>
                    <a:lnTo>
                      <a:pt x="1360" y="1022"/>
                    </a:lnTo>
                    <a:lnTo>
                      <a:pt x="1360" y="1022"/>
                    </a:lnTo>
                    <a:lnTo>
                      <a:pt x="1390" y="1010"/>
                    </a:lnTo>
                    <a:lnTo>
                      <a:pt x="1402" y="1004"/>
                    </a:lnTo>
                    <a:lnTo>
                      <a:pt x="1414" y="998"/>
                    </a:lnTo>
                    <a:lnTo>
                      <a:pt x="1414" y="998"/>
                    </a:lnTo>
                    <a:lnTo>
                      <a:pt x="1418" y="990"/>
                    </a:lnTo>
                    <a:lnTo>
                      <a:pt x="1422" y="982"/>
                    </a:lnTo>
                    <a:lnTo>
                      <a:pt x="1424" y="972"/>
                    </a:lnTo>
                    <a:lnTo>
                      <a:pt x="1426" y="962"/>
                    </a:lnTo>
                    <a:lnTo>
                      <a:pt x="1424" y="940"/>
                    </a:lnTo>
                    <a:lnTo>
                      <a:pt x="1424" y="918"/>
                    </a:lnTo>
                    <a:lnTo>
                      <a:pt x="1424" y="918"/>
                    </a:lnTo>
                    <a:lnTo>
                      <a:pt x="1418" y="922"/>
                    </a:lnTo>
                    <a:lnTo>
                      <a:pt x="1416" y="926"/>
                    </a:lnTo>
                    <a:lnTo>
                      <a:pt x="1414" y="932"/>
                    </a:lnTo>
                    <a:lnTo>
                      <a:pt x="1408" y="936"/>
                    </a:lnTo>
                    <a:lnTo>
                      <a:pt x="1408" y="936"/>
                    </a:lnTo>
                    <a:lnTo>
                      <a:pt x="1402" y="938"/>
                    </a:lnTo>
                    <a:lnTo>
                      <a:pt x="1394" y="940"/>
                    </a:lnTo>
                    <a:lnTo>
                      <a:pt x="1386" y="940"/>
                    </a:lnTo>
                    <a:lnTo>
                      <a:pt x="1378" y="938"/>
                    </a:lnTo>
                    <a:lnTo>
                      <a:pt x="1370" y="934"/>
                    </a:lnTo>
                    <a:lnTo>
                      <a:pt x="1362" y="930"/>
                    </a:lnTo>
                    <a:lnTo>
                      <a:pt x="1358" y="926"/>
                    </a:lnTo>
                    <a:lnTo>
                      <a:pt x="1354" y="920"/>
                    </a:lnTo>
                    <a:lnTo>
                      <a:pt x="1354" y="920"/>
                    </a:lnTo>
                    <a:lnTo>
                      <a:pt x="1358" y="918"/>
                    </a:lnTo>
                    <a:lnTo>
                      <a:pt x="1362" y="918"/>
                    </a:lnTo>
                    <a:lnTo>
                      <a:pt x="1374" y="918"/>
                    </a:lnTo>
                    <a:lnTo>
                      <a:pt x="1386" y="918"/>
                    </a:lnTo>
                    <a:lnTo>
                      <a:pt x="1390" y="918"/>
                    </a:lnTo>
                    <a:lnTo>
                      <a:pt x="1394" y="916"/>
                    </a:lnTo>
                    <a:lnTo>
                      <a:pt x="1394" y="916"/>
                    </a:lnTo>
                    <a:lnTo>
                      <a:pt x="1390" y="912"/>
                    </a:lnTo>
                    <a:lnTo>
                      <a:pt x="1386" y="910"/>
                    </a:lnTo>
                    <a:lnTo>
                      <a:pt x="1380" y="908"/>
                    </a:lnTo>
                    <a:lnTo>
                      <a:pt x="1372" y="910"/>
                    </a:lnTo>
                    <a:lnTo>
                      <a:pt x="1360" y="912"/>
                    </a:lnTo>
                    <a:lnTo>
                      <a:pt x="1348" y="916"/>
                    </a:lnTo>
                    <a:lnTo>
                      <a:pt x="1348" y="916"/>
                    </a:lnTo>
                    <a:lnTo>
                      <a:pt x="1592" y="908"/>
                    </a:lnTo>
                    <a:lnTo>
                      <a:pt x="1592" y="908"/>
                    </a:lnTo>
                    <a:lnTo>
                      <a:pt x="1582" y="914"/>
                    </a:lnTo>
                    <a:lnTo>
                      <a:pt x="1572" y="920"/>
                    </a:lnTo>
                    <a:lnTo>
                      <a:pt x="1562" y="924"/>
                    </a:lnTo>
                    <a:lnTo>
                      <a:pt x="1554" y="932"/>
                    </a:lnTo>
                    <a:lnTo>
                      <a:pt x="1554" y="932"/>
                    </a:lnTo>
                    <a:lnTo>
                      <a:pt x="1558" y="928"/>
                    </a:lnTo>
                    <a:lnTo>
                      <a:pt x="1564" y="926"/>
                    </a:lnTo>
                    <a:lnTo>
                      <a:pt x="1576" y="924"/>
                    </a:lnTo>
                    <a:lnTo>
                      <a:pt x="1588" y="920"/>
                    </a:lnTo>
                    <a:lnTo>
                      <a:pt x="1594" y="918"/>
                    </a:lnTo>
                    <a:lnTo>
                      <a:pt x="1596" y="914"/>
                    </a:lnTo>
                    <a:lnTo>
                      <a:pt x="1596" y="914"/>
                    </a:lnTo>
                    <a:lnTo>
                      <a:pt x="1592" y="908"/>
                    </a:lnTo>
                    <a:lnTo>
                      <a:pt x="1592" y="908"/>
                    </a:lnTo>
                    <a:lnTo>
                      <a:pt x="666" y="918"/>
                    </a:lnTo>
                    <a:lnTo>
                      <a:pt x="666" y="918"/>
                    </a:lnTo>
                    <a:lnTo>
                      <a:pt x="664" y="914"/>
                    </a:lnTo>
                    <a:lnTo>
                      <a:pt x="662" y="910"/>
                    </a:lnTo>
                    <a:lnTo>
                      <a:pt x="662" y="910"/>
                    </a:lnTo>
                    <a:lnTo>
                      <a:pt x="662" y="916"/>
                    </a:lnTo>
                    <a:lnTo>
                      <a:pt x="664" y="918"/>
                    </a:lnTo>
                    <a:lnTo>
                      <a:pt x="666" y="918"/>
                    </a:lnTo>
                    <a:lnTo>
                      <a:pt x="666" y="918"/>
                    </a:lnTo>
                    <a:lnTo>
                      <a:pt x="1518" y="916"/>
                    </a:lnTo>
                    <a:lnTo>
                      <a:pt x="1518" y="916"/>
                    </a:lnTo>
                    <a:lnTo>
                      <a:pt x="1524" y="916"/>
                    </a:lnTo>
                    <a:lnTo>
                      <a:pt x="1528" y="914"/>
                    </a:lnTo>
                    <a:lnTo>
                      <a:pt x="1528" y="914"/>
                    </a:lnTo>
                    <a:lnTo>
                      <a:pt x="1524" y="912"/>
                    </a:lnTo>
                    <a:lnTo>
                      <a:pt x="1524" y="910"/>
                    </a:lnTo>
                    <a:lnTo>
                      <a:pt x="1520" y="910"/>
                    </a:lnTo>
                    <a:lnTo>
                      <a:pt x="1520" y="910"/>
                    </a:lnTo>
                    <a:lnTo>
                      <a:pt x="1520" y="912"/>
                    </a:lnTo>
                    <a:lnTo>
                      <a:pt x="1520" y="914"/>
                    </a:lnTo>
                    <a:lnTo>
                      <a:pt x="1518" y="914"/>
                    </a:lnTo>
                    <a:lnTo>
                      <a:pt x="1518" y="916"/>
                    </a:lnTo>
                    <a:lnTo>
                      <a:pt x="1518" y="916"/>
                    </a:lnTo>
                    <a:lnTo>
                      <a:pt x="564" y="918"/>
                    </a:lnTo>
                    <a:lnTo>
                      <a:pt x="564" y="918"/>
                    </a:lnTo>
                    <a:lnTo>
                      <a:pt x="566" y="914"/>
                    </a:lnTo>
                    <a:lnTo>
                      <a:pt x="566" y="912"/>
                    </a:lnTo>
                    <a:lnTo>
                      <a:pt x="566" y="912"/>
                    </a:lnTo>
                    <a:lnTo>
                      <a:pt x="562" y="910"/>
                    </a:lnTo>
                    <a:lnTo>
                      <a:pt x="562" y="910"/>
                    </a:lnTo>
                    <a:lnTo>
                      <a:pt x="562" y="914"/>
                    </a:lnTo>
                    <a:lnTo>
                      <a:pt x="564" y="918"/>
                    </a:lnTo>
                    <a:lnTo>
                      <a:pt x="564" y="918"/>
                    </a:lnTo>
                    <a:lnTo>
                      <a:pt x="640" y="912"/>
                    </a:lnTo>
                    <a:lnTo>
                      <a:pt x="640" y="912"/>
                    </a:lnTo>
                    <a:lnTo>
                      <a:pt x="638" y="910"/>
                    </a:lnTo>
                    <a:lnTo>
                      <a:pt x="638" y="910"/>
                    </a:lnTo>
                    <a:lnTo>
                      <a:pt x="626" y="918"/>
                    </a:lnTo>
                    <a:lnTo>
                      <a:pt x="620" y="922"/>
                    </a:lnTo>
                    <a:lnTo>
                      <a:pt x="616" y="928"/>
                    </a:lnTo>
                    <a:lnTo>
                      <a:pt x="616" y="928"/>
                    </a:lnTo>
                    <a:lnTo>
                      <a:pt x="622" y="936"/>
                    </a:lnTo>
                    <a:lnTo>
                      <a:pt x="626" y="940"/>
                    </a:lnTo>
                    <a:lnTo>
                      <a:pt x="630" y="942"/>
                    </a:lnTo>
                    <a:lnTo>
                      <a:pt x="630" y="942"/>
                    </a:lnTo>
                    <a:lnTo>
                      <a:pt x="636" y="940"/>
                    </a:lnTo>
                    <a:lnTo>
                      <a:pt x="644" y="940"/>
                    </a:lnTo>
                    <a:lnTo>
                      <a:pt x="644" y="940"/>
                    </a:lnTo>
                    <a:lnTo>
                      <a:pt x="640" y="944"/>
                    </a:lnTo>
                    <a:lnTo>
                      <a:pt x="634" y="950"/>
                    </a:lnTo>
                    <a:lnTo>
                      <a:pt x="634" y="950"/>
                    </a:lnTo>
                    <a:lnTo>
                      <a:pt x="642" y="958"/>
                    </a:lnTo>
                    <a:lnTo>
                      <a:pt x="644" y="962"/>
                    </a:lnTo>
                    <a:lnTo>
                      <a:pt x="648" y="964"/>
                    </a:lnTo>
                    <a:lnTo>
                      <a:pt x="648" y="964"/>
                    </a:lnTo>
                    <a:lnTo>
                      <a:pt x="648" y="950"/>
                    </a:lnTo>
                    <a:lnTo>
                      <a:pt x="646" y="938"/>
                    </a:lnTo>
                    <a:lnTo>
                      <a:pt x="640" y="912"/>
                    </a:lnTo>
                    <a:lnTo>
                      <a:pt x="640" y="912"/>
                    </a:lnTo>
                    <a:lnTo>
                      <a:pt x="726" y="930"/>
                    </a:lnTo>
                    <a:lnTo>
                      <a:pt x="726" y="930"/>
                    </a:lnTo>
                    <a:lnTo>
                      <a:pt x="724" y="920"/>
                    </a:lnTo>
                    <a:lnTo>
                      <a:pt x="722" y="914"/>
                    </a:lnTo>
                    <a:lnTo>
                      <a:pt x="720" y="910"/>
                    </a:lnTo>
                    <a:lnTo>
                      <a:pt x="720" y="910"/>
                    </a:lnTo>
                    <a:lnTo>
                      <a:pt x="716" y="914"/>
                    </a:lnTo>
                    <a:lnTo>
                      <a:pt x="714" y="916"/>
                    </a:lnTo>
                    <a:lnTo>
                      <a:pt x="712" y="920"/>
                    </a:lnTo>
                    <a:lnTo>
                      <a:pt x="710" y="924"/>
                    </a:lnTo>
                    <a:lnTo>
                      <a:pt x="712" y="928"/>
                    </a:lnTo>
                    <a:lnTo>
                      <a:pt x="714" y="930"/>
                    </a:lnTo>
                    <a:lnTo>
                      <a:pt x="718" y="932"/>
                    </a:lnTo>
                    <a:lnTo>
                      <a:pt x="726" y="930"/>
                    </a:lnTo>
                    <a:lnTo>
                      <a:pt x="726" y="930"/>
                    </a:lnTo>
                    <a:lnTo>
                      <a:pt x="422" y="920"/>
                    </a:lnTo>
                    <a:lnTo>
                      <a:pt x="422" y="920"/>
                    </a:lnTo>
                    <a:lnTo>
                      <a:pt x="422" y="916"/>
                    </a:lnTo>
                    <a:lnTo>
                      <a:pt x="424" y="912"/>
                    </a:lnTo>
                    <a:lnTo>
                      <a:pt x="424" y="912"/>
                    </a:lnTo>
                    <a:lnTo>
                      <a:pt x="416" y="912"/>
                    </a:lnTo>
                    <a:lnTo>
                      <a:pt x="412" y="912"/>
                    </a:lnTo>
                    <a:lnTo>
                      <a:pt x="408" y="914"/>
                    </a:lnTo>
                    <a:lnTo>
                      <a:pt x="408" y="914"/>
                    </a:lnTo>
                    <a:lnTo>
                      <a:pt x="422" y="920"/>
                    </a:lnTo>
                    <a:lnTo>
                      <a:pt x="422" y="920"/>
                    </a:lnTo>
                    <a:lnTo>
                      <a:pt x="1206" y="926"/>
                    </a:lnTo>
                    <a:lnTo>
                      <a:pt x="1206" y="926"/>
                    </a:lnTo>
                    <a:lnTo>
                      <a:pt x="1204" y="924"/>
                    </a:lnTo>
                    <a:lnTo>
                      <a:pt x="1200" y="918"/>
                    </a:lnTo>
                    <a:lnTo>
                      <a:pt x="1198" y="914"/>
                    </a:lnTo>
                    <a:lnTo>
                      <a:pt x="1192" y="914"/>
                    </a:lnTo>
                    <a:lnTo>
                      <a:pt x="1192" y="914"/>
                    </a:lnTo>
                    <a:lnTo>
                      <a:pt x="1192" y="918"/>
                    </a:lnTo>
                    <a:lnTo>
                      <a:pt x="1196" y="924"/>
                    </a:lnTo>
                    <a:lnTo>
                      <a:pt x="1202" y="926"/>
                    </a:lnTo>
                    <a:lnTo>
                      <a:pt x="1206" y="926"/>
                    </a:lnTo>
                    <a:lnTo>
                      <a:pt x="1206" y="926"/>
                    </a:lnTo>
                    <a:lnTo>
                      <a:pt x="376" y="920"/>
                    </a:lnTo>
                    <a:lnTo>
                      <a:pt x="376" y="920"/>
                    </a:lnTo>
                    <a:lnTo>
                      <a:pt x="382" y="924"/>
                    </a:lnTo>
                    <a:lnTo>
                      <a:pt x="384" y="924"/>
                    </a:lnTo>
                    <a:lnTo>
                      <a:pt x="386" y="926"/>
                    </a:lnTo>
                    <a:lnTo>
                      <a:pt x="386" y="926"/>
                    </a:lnTo>
                    <a:lnTo>
                      <a:pt x="380" y="928"/>
                    </a:lnTo>
                    <a:lnTo>
                      <a:pt x="378" y="932"/>
                    </a:lnTo>
                    <a:lnTo>
                      <a:pt x="380" y="934"/>
                    </a:lnTo>
                    <a:lnTo>
                      <a:pt x="380" y="934"/>
                    </a:lnTo>
                    <a:lnTo>
                      <a:pt x="384" y="930"/>
                    </a:lnTo>
                    <a:lnTo>
                      <a:pt x="386" y="926"/>
                    </a:lnTo>
                    <a:lnTo>
                      <a:pt x="390" y="924"/>
                    </a:lnTo>
                    <a:lnTo>
                      <a:pt x="394" y="918"/>
                    </a:lnTo>
                    <a:lnTo>
                      <a:pt x="394" y="918"/>
                    </a:lnTo>
                    <a:lnTo>
                      <a:pt x="384" y="916"/>
                    </a:lnTo>
                    <a:lnTo>
                      <a:pt x="380" y="916"/>
                    </a:lnTo>
                    <a:lnTo>
                      <a:pt x="374" y="918"/>
                    </a:lnTo>
                    <a:lnTo>
                      <a:pt x="374" y="918"/>
                    </a:lnTo>
                    <a:lnTo>
                      <a:pt x="376" y="918"/>
                    </a:lnTo>
                    <a:lnTo>
                      <a:pt x="376" y="920"/>
                    </a:lnTo>
                    <a:lnTo>
                      <a:pt x="376" y="920"/>
                    </a:lnTo>
                    <a:lnTo>
                      <a:pt x="498" y="922"/>
                    </a:lnTo>
                    <a:lnTo>
                      <a:pt x="498" y="922"/>
                    </a:lnTo>
                    <a:lnTo>
                      <a:pt x="498" y="920"/>
                    </a:lnTo>
                    <a:lnTo>
                      <a:pt x="496" y="918"/>
                    </a:lnTo>
                    <a:lnTo>
                      <a:pt x="494" y="916"/>
                    </a:lnTo>
                    <a:lnTo>
                      <a:pt x="492" y="918"/>
                    </a:lnTo>
                    <a:lnTo>
                      <a:pt x="492" y="918"/>
                    </a:lnTo>
                    <a:lnTo>
                      <a:pt x="494" y="920"/>
                    </a:lnTo>
                    <a:lnTo>
                      <a:pt x="496" y="922"/>
                    </a:lnTo>
                    <a:lnTo>
                      <a:pt x="494" y="922"/>
                    </a:lnTo>
                    <a:lnTo>
                      <a:pt x="494" y="922"/>
                    </a:lnTo>
                    <a:lnTo>
                      <a:pt x="492" y="922"/>
                    </a:lnTo>
                    <a:lnTo>
                      <a:pt x="492" y="920"/>
                    </a:lnTo>
                    <a:lnTo>
                      <a:pt x="490" y="916"/>
                    </a:lnTo>
                    <a:lnTo>
                      <a:pt x="490" y="916"/>
                    </a:lnTo>
                    <a:lnTo>
                      <a:pt x="490" y="920"/>
                    </a:lnTo>
                    <a:lnTo>
                      <a:pt x="492" y="922"/>
                    </a:lnTo>
                    <a:lnTo>
                      <a:pt x="494" y="924"/>
                    </a:lnTo>
                    <a:lnTo>
                      <a:pt x="498" y="922"/>
                    </a:lnTo>
                    <a:lnTo>
                      <a:pt x="498" y="922"/>
                    </a:lnTo>
                    <a:lnTo>
                      <a:pt x="566" y="936"/>
                    </a:lnTo>
                    <a:lnTo>
                      <a:pt x="566" y="936"/>
                    </a:lnTo>
                    <a:lnTo>
                      <a:pt x="578" y="946"/>
                    </a:lnTo>
                    <a:lnTo>
                      <a:pt x="584" y="950"/>
                    </a:lnTo>
                    <a:lnTo>
                      <a:pt x="592" y="952"/>
                    </a:lnTo>
                    <a:lnTo>
                      <a:pt x="592" y="952"/>
                    </a:lnTo>
                    <a:lnTo>
                      <a:pt x="594" y="946"/>
                    </a:lnTo>
                    <a:lnTo>
                      <a:pt x="594" y="942"/>
                    </a:lnTo>
                    <a:lnTo>
                      <a:pt x="592" y="936"/>
                    </a:lnTo>
                    <a:lnTo>
                      <a:pt x="588" y="932"/>
                    </a:lnTo>
                    <a:lnTo>
                      <a:pt x="570" y="918"/>
                    </a:lnTo>
                    <a:lnTo>
                      <a:pt x="570" y="918"/>
                    </a:lnTo>
                    <a:lnTo>
                      <a:pt x="568" y="926"/>
                    </a:lnTo>
                    <a:lnTo>
                      <a:pt x="566" y="936"/>
                    </a:lnTo>
                    <a:lnTo>
                      <a:pt x="566" y="936"/>
                    </a:lnTo>
                    <a:lnTo>
                      <a:pt x="1490" y="954"/>
                    </a:lnTo>
                    <a:lnTo>
                      <a:pt x="1490" y="954"/>
                    </a:lnTo>
                    <a:lnTo>
                      <a:pt x="1488" y="956"/>
                    </a:lnTo>
                    <a:lnTo>
                      <a:pt x="1490" y="958"/>
                    </a:lnTo>
                    <a:lnTo>
                      <a:pt x="1490" y="958"/>
                    </a:lnTo>
                    <a:lnTo>
                      <a:pt x="1490" y="960"/>
                    </a:lnTo>
                    <a:lnTo>
                      <a:pt x="1490" y="960"/>
                    </a:lnTo>
                    <a:lnTo>
                      <a:pt x="1482" y="962"/>
                    </a:lnTo>
                    <a:lnTo>
                      <a:pt x="1478" y="964"/>
                    </a:lnTo>
                    <a:lnTo>
                      <a:pt x="1478" y="968"/>
                    </a:lnTo>
                    <a:lnTo>
                      <a:pt x="1478" y="968"/>
                    </a:lnTo>
                    <a:lnTo>
                      <a:pt x="1528" y="938"/>
                    </a:lnTo>
                    <a:lnTo>
                      <a:pt x="1528" y="938"/>
                    </a:lnTo>
                    <a:lnTo>
                      <a:pt x="1528" y="928"/>
                    </a:lnTo>
                    <a:lnTo>
                      <a:pt x="1528" y="918"/>
                    </a:lnTo>
                    <a:lnTo>
                      <a:pt x="1528" y="918"/>
                    </a:lnTo>
                    <a:lnTo>
                      <a:pt x="1520" y="920"/>
                    </a:lnTo>
                    <a:lnTo>
                      <a:pt x="1514" y="922"/>
                    </a:lnTo>
                    <a:lnTo>
                      <a:pt x="1508" y="926"/>
                    </a:lnTo>
                    <a:lnTo>
                      <a:pt x="1504" y="932"/>
                    </a:lnTo>
                    <a:lnTo>
                      <a:pt x="1496" y="942"/>
                    </a:lnTo>
                    <a:lnTo>
                      <a:pt x="1490" y="954"/>
                    </a:lnTo>
                    <a:lnTo>
                      <a:pt x="1490" y="954"/>
                    </a:lnTo>
                    <a:lnTo>
                      <a:pt x="456" y="960"/>
                    </a:lnTo>
                    <a:lnTo>
                      <a:pt x="456" y="960"/>
                    </a:lnTo>
                    <a:lnTo>
                      <a:pt x="452" y="952"/>
                    </a:lnTo>
                    <a:lnTo>
                      <a:pt x="446" y="946"/>
                    </a:lnTo>
                    <a:lnTo>
                      <a:pt x="438" y="942"/>
                    </a:lnTo>
                    <a:lnTo>
                      <a:pt x="430" y="938"/>
                    </a:lnTo>
                    <a:lnTo>
                      <a:pt x="414" y="930"/>
                    </a:lnTo>
                    <a:lnTo>
                      <a:pt x="398" y="922"/>
                    </a:lnTo>
                    <a:lnTo>
                      <a:pt x="398" y="922"/>
                    </a:lnTo>
                    <a:lnTo>
                      <a:pt x="390" y="928"/>
                    </a:lnTo>
                    <a:lnTo>
                      <a:pt x="386" y="932"/>
                    </a:lnTo>
                    <a:lnTo>
                      <a:pt x="382" y="936"/>
                    </a:lnTo>
                    <a:lnTo>
                      <a:pt x="382" y="936"/>
                    </a:lnTo>
                    <a:lnTo>
                      <a:pt x="386" y="940"/>
                    </a:lnTo>
                    <a:lnTo>
                      <a:pt x="390" y="942"/>
                    </a:lnTo>
                    <a:lnTo>
                      <a:pt x="398" y="940"/>
                    </a:lnTo>
                    <a:lnTo>
                      <a:pt x="406" y="940"/>
                    </a:lnTo>
                    <a:lnTo>
                      <a:pt x="410" y="942"/>
                    </a:lnTo>
                    <a:lnTo>
                      <a:pt x="412" y="944"/>
                    </a:lnTo>
                    <a:lnTo>
                      <a:pt x="412" y="944"/>
                    </a:lnTo>
                    <a:lnTo>
                      <a:pt x="410" y="946"/>
                    </a:lnTo>
                    <a:lnTo>
                      <a:pt x="406" y="948"/>
                    </a:lnTo>
                    <a:lnTo>
                      <a:pt x="398" y="950"/>
                    </a:lnTo>
                    <a:lnTo>
                      <a:pt x="388" y="950"/>
                    </a:lnTo>
                    <a:lnTo>
                      <a:pt x="382" y="948"/>
                    </a:lnTo>
                    <a:lnTo>
                      <a:pt x="382" y="948"/>
                    </a:lnTo>
                    <a:lnTo>
                      <a:pt x="386" y="966"/>
                    </a:lnTo>
                    <a:lnTo>
                      <a:pt x="390" y="984"/>
                    </a:lnTo>
                    <a:lnTo>
                      <a:pt x="394" y="992"/>
                    </a:lnTo>
                    <a:lnTo>
                      <a:pt x="400" y="998"/>
                    </a:lnTo>
                    <a:lnTo>
                      <a:pt x="408" y="1000"/>
                    </a:lnTo>
                    <a:lnTo>
                      <a:pt x="418" y="1002"/>
                    </a:lnTo>
                    <a:lnTo>
                      <a:pt x="418" y="1002"/>
                    </a:lnTo>
                    <a:lnTo>
                      <a:pt x="426" y="994"/>
                    </a:lnTo>
                    <a:lnTo>
                      <a:pt x="432" y="990"/>
                    </a:lnTo>
                    <a:lnTo>
                      <a:pt x="438" y="988"/>
                    </a:lnTo>
                    <a:lnTo>
                      <a:pt x="438" y="988"/>
                    </a:lnTo>
                    <a:lnTo>
                      <a:pt x="440" y="992"/>
                    </a:lnTo>
                    <a:lnTo>
                      <a:pt x="440" y="992"/>
                    </a:lnTo>
                    <a:lnTo>
                      <a:pt x="438" y="996"/>
                    </a:lnTo>
                    <a:lnTo>
                      <a:pt x="436" y="1000"/>
                    </a:lnTo>
                    <a:lnTo>
                      <a:pt x="434" y="1002"/>
                    </a:lnTo>
                    <a:lnTo>
                      <a:pt x="432" y="1008"/>
                    </a:lnTo>
                    <a:lnTo>
                      <a:pt x="432" y="1008"/>
                    </a:lnTo>
                    <a:lnTo>
                      <a:pt x="438" y="1012"/>
                    </a:lnTo>
                    <a:lnTo>
                      <a:pt x="446" y="1016"/>
                    </a:lnTo>
                    <a:lnTo>
                      <a:pt x="454" y="1018"/>
                    </a:lnTo>
                    <a:lnTo>
                      <a:pt x="464" y="1016"/>
                    </a:lnTo>
                    <a:lnTo>
                      <a:pt x="464" y="1016"/>
                    </a:lnTo>
                    <a:lnTo>
                      <a:pt x="464" y="1012"/>
                    </a:lnTo>
                    <a:lnTo>
                      <a:pt x="462" y="1008"/>
                    </a:lnTo>
                    <a:lnTo>
                      <a:pt x="462" y="1002"/>
                    </a:lnTo>
                    <a:lnTo>
                      <a:pt x="462" y="1002"/>
                    </a:lnTo>
                    <a:lnTo>
                      <a:pt x="464" y="1004"/>
                    </a:lnTo>
                    <a:lnTo>
                      <a:pt x="466" y="1006"/>
                    </a:lnTo>
                    <a:lnTo>
                      <a:pt x="468" y="1008"/>
                    </a:lnTo>
                    <a:lnTo>
                      <a:pt x="470" y="1008"/>
                    </a:lnTo>
                    <a:lnTo>
                      <a:pt x="470" y="1008"/>
                    </a:lnTo>
                    <a:lnTo>
                      <a:pt x="472" y="1000"/>
                    </a:lnTo>
                    <a:lnTo>
                      <a:pt x="470" y="996"/>
                    </a:lnTo>
                    <a:lnTo>
                      <a:pt x="468" y="992"/>
                    </a:lnTo>
                    <a:lnTo>
                      <a:pt x="464" y="988"/>
                    </a:lnTo>
                    <a:lnTo>
                      <a:pt x="456" y="982"/>
                    </a:lnTo>
                    <a:lnTo>
                      <a:pt x="450" y="976"/>
                    </a:lnTo>
                    <a:lnTo>
                      <a:pt x="450" y="976"/>
                    </a:lnTo>
                    <a:lnTo>
                      <a:pt x="452" y="976"/>
                    </a:lnTo>
                    <a:lnTo>
                      <a:pt x="454" y="974"/>
                    </a:lnTo>
                    <a:lnTo>
                      <a:pt x="454" y="974"/>
                    </a:lnTo>
                    <a:lnTo>
                      <a:pt x="454" y="974"/>
                    </a:lnTo>
                    <a:lnTo>
                      <a:pt x="440" y="966"/>
                    </a:lnTo>
                    <a:lnTo>
                      <a:pt x="428" y="958"/>
                    </a:lnTo>
                    <a:lnTo>
                      <a:pt x="428" y="958"/>
                    </a:lnTo>
                    <a:lnTo>
                      <a:pt x="434" y="960"/>
                    </a:lnTo>
                    <a:lnTo>
                      <a:pt x="440" y="962"/>
                    </a:lnTo>
                    <a:lnTo>
                      <a:pt x="448" y="962"/>
                    </a:lnTo>
                    <a:lnTo>
                      <a:pt x="456" y="960"/>
                    </a:lnTo>
                    <a:lnTo>
                      <a:pt x="456" y="960"/>
                    </a:lnTo>
                    <a:lnTo>
                      <a:pt x="538" y="962"/>
                    </a:lnTo>
                    <a:lnTo>
                      <a:pt x="538" y="962"/>
                    </a:lnTo>
                    <a:lnTo>
                      <a:pt x="534" y="952"/>
                    </a:lnTo>
                    <a:lnTo>
                      <a:pt x="528" y="944"/>
                    </a:lnTo>
                    <a:lnTo>
                      <a:pt x="512" y="928"/>
                    </a:lnTo>
                    <a:lnTo>
                      <a:pt x="512" y="928"/>
                    </a:lnTo>
                    <a:lnTo>
                      <a:pt x="510" y="932"/>
                    </a:lnTo>
                    <a:lnTo>
                      <a:pt x="508" y="934"/>
                    </a:lnTo>
                    <a:lnTo>
                      <a:pt x="510" y="942"/>
                    </a:lnTo>
                    <a:lnTo>
                      <a:pt x="514" y="946"/>
                    </a:lnTo>
                    <a:lnTo>
                      <a:pt x="516" y="948"/>
                    </a:lnTo>
                    <a:lnTo>
                      <a:pt x="520" y="948"/>
                    </a:lnTo>
                    <a:lnTo>
                      <a:pt x="520" y="948"/>
                    </a:lnTo>
                    <a:lnTo>
                      <a:pt x="518" y="950"/>
                    </a:lnTo>
                    <a:lnTo>
                      <a:pt x="520" y="952"/>
                    </a:lnTo>
                    <a:lnTo>
                      <a:pt x="524" y="956"/>
                    </a:lnTo>
                    <a:lnTo>
                      <a:pt x="538" y="962"/>
                    </a:lnTo>
                    <a:lnTo>
                      <a:pt x="538" y="962"/>
                    </a:lnTo>
                    <a:lnTo>
                      <a:pt x="1542" y="938"/>
                    </a:lnTo>
                    <a:lnTo>
                      <a:pt x="1542" y="938"/>
                    </a:lnTo>
                    <a:lnTo>
                      <a:pt x="1548" y="936"/>
                    </a:lnTo>
                    <a:lnTo>
                      <a:pt x="1554" y="932"/>
                    </a:lnTo>
                    <a:lnTo>
                      <a:pt x="1554" y="932"/>
                    </a:lnTo>
                    <a:lnTo>
                      <a:pt x="1550" y="932"/>
                    </a:lnTo>
                    <a:lnTo>
                      <a:pt x="1546" y="934"/>
                    </a:lnTo>
                    <a:lnTo>
                      <a:pt x="1544" y="936"/>
                    </a:lnTo>
                    <a:lnTo>
                      <a:pt x="1542" y="938"/>
                    </a:lnTo>
                    <a:lnTo>
                      <a:pt x="1542" y="938"/>
                    </a:lnTo>
                    <a:lnTo>
                      <a:pt x="688" y="952"/>
                    </a:lnTo>
                    <a:lnTo>
                      <a:pt x="688" y="952"/>
                    </a:lnTo>
                    <a:lnTo>
                      <a:pt x="692" y="950"/>
                    </a:lnTo>
                    <a:lnTo>
                      <a:pt x="694" y="950"/>
                    </a:lnTo>
                    <a:lnTo>
                      <a:pt x="696" y="944"/>
                    </a:lnTo>
                    <a:lnTo>
                      <a:pt x="696" y="938"/>
                    </a:lnTo>
                    <a:lnTo>
                      <a:pt x="694" y="934"/>
                    </a:lnTo>
                    <a:lnTo>
                      <a:pt x="690" y="934"/>
                    </a:lnTo>
                    <a:lnTo>
                      <a:pt x="690" y="934"/>
                    </a:lnTo>
                    <a:lnTo>
                      <a:pt x="688" y="938"/>
                    </a:lnTo>
                    <a:lnTo>
                      <a:pt x="686" y="942"/>
                    </a:lnTo>
                    <a:lnTo>
                      <a:pt x="686" y="948"/>
                    </a:lnTo>
                    <a:lnTo>
                      <a:pt x="688" y="952"/>
                    </a:lnTo>
                    <a:lnTo>
                      <a:pt x="688" y="952"/>
                    </a:lnTo>
                    <a:lnTo>
                      <a:pt x="672" y="940"/>
                    </a:lnTo>
                    <a:lnTo>
                      <a:pt x="672" y="940"/>
                    </a:lnTo>
                    <a:lnTo>
                      <a:pt x="674" y="940"/>
                    </a:lnTo>
                    <a:lnTo>
                      <a:pt x="678" y="940"/>
                    </a:lnTo>
                    <a:lnTo>
                      <a:pt x="678" y="940"/>
                    </a:lnTo>
                    <a:lnTo>
                      <a:pt x="678" y="936"/>
                    </a:lnTo>
                    <a:lnTo>
                      <a:pt x="676" y="934"/>
                    </a:lnTo>
                    <a:lnTo>
                      <a:pt x="674" y="934"/>
                    </a:lnTo>
                    <a:lnTo>
                      <a:pt x="674" y="934"/>
                    </a:lnTo>
                    <a:lnTo>
                      <a:pt x="674" y="936"/>
                    </a:lnTo>
                    <a:lnTo>
                      <a:pt x="672" y="938"/>
                    </a:lnTo>
                    <a:lnTo>
                      <a:pt x="672" y="940"/>
                    </a:lnTo>
                    <a:lnTo>
                      <a:pt x="672" y="940"/>
                    </a:lnTo>
                    <a:lnTo>
                      <a:pt x="714" y="942"/>
                    </a:lnTo>
                    <a:lnTo>
                      <a:pt x="714" y="942"/>
                    </a:lnTo>
                    <a:lnTo>
                      <a:pt x="712" y="948"/>
                    </a:lnTo>
                    <a:lnTo>
                      <a:pt x="712" y="952"/>
                    </a:lnTo>
                    <a:lnTo>
                      <a:pt x="708" y="956"/>
                    </a:lnTo>
                    <a:lnTo>
                      <a:pt x="702" y="962"/>
                    </a:lnTo>
                    <a:lnTo>
                      <a:pt x="700" y="968"/>
                    </a:lnTo>
                    <a:lnTo>
                      <a:pt x="700" y="968"/>
                    </a:lnTo>
                    <a:lnTo>
                      <a:pt x="702" y="974"/>
                    </a:lnTo>
                    <a:lnTo>
                      <a:pt x="704" y="976"/>
                    </a:lnTo>
                    <a:lnTo>
                      <a:pt x="710" y="984"/>
                    </a:lnTo>
                    <a:lnTo>
                      <a:pt x="716" y="990"/>
                    </a:lnTo>
                    <a:lnTo>
                      <a:pt x="720" y="994"/>
                    </a:lnTo>
                    <a:lnTo>
                      <a:pt x="722" y="1000"/>
                    </a:lnTo>
                    <a:lnTo>
                      <a:pt x="722" y="1000"/>
                    </a:lnTo>
                    <a:lnTo>
                      <a:pt x="724" y="998"/>
                    </a:lnTo>
                    <a:lnTo>
                      <a:pt x="728" y="998"/>
                    </a:lnTo>
                    <a:lnTo>
                      <a:pt x="734" y="1000"/>
                    </a:lnTo>
                    <a:lnTo>
                      <a:pt x="734" y="1000"/>
                    </a:lnTo>
                    <a:lnTo>
                      <a:pt x="740" y="982"/>
                    </a:lnTo>
                    <a:lnTo>
                      <a:pt x="740" y="982"/>
                    </a:lnTo>
                    <a:lnTo>
                      <a:pt x="734" y="974"/>
                    </a:lnTo>
                    <a:lnTo>
                      <a:pt x="732" y="970"/>
                    </a:lnTo>
                    <a:lnTo>
                      <a:pt x="728" y="964"/>
                    </a:lnTo>
                    <a:lnTo>
                      <a:pt x="728" y="964"/>
                    </a:lnTo>
                    <a:lnTo>
                      <a:pt x="732" y="962"/>
                    </a:lnTo>
                    <a:lnTo>
                      <a:pt x="734" y="960"/>
                    </a:lnTo>
                    <a:lnTo>
                      <a:pt x="734" y="958"/>
                    </a:lnTo>
                    <a:lnTo>
                      <a:pt x="734" y="958"/>
                    </a:lnTo>
                    <a:lnTo>
                      <a:pt x="732" y="952"/>
                    </a:lnTo>
                    <a:lnTo>
                      <a:pt x="730" y="946"/>
                    </a:lnTo>
                    <a:lnTo>
                      <a:pt x="730" y="940"/>
                    </a:lnTo>
                    <a:lnTo>
                      <a:pt x="726" y="936"/>
                    </a:lnTo>
                    <a:lnTo>
                      <a:pt x="726" y="936"/>
                    </a:lnTo>
                    <a:lnTo>
                      <a:pt x="720" y="938"/>
                    </a:lnTo>
                    <a:lnTo>
                      <a:pt x="714" y="942"/>
                    </a:lnTo>
                    <a:lnTo>
                      <a:pt x="714" y="942"/>
                    </a:lnTo>
                    <a:lnTo>
                      <a:pt x="332" y="942"/>
                    </a:lnTo>
                    <a:lnTo>
                      <a:pt x="332" y="942"/>
                    </a:lnTo>
                    <a:lnTo>
                      <a:pt x="336" y="944"/>
                    </a:lnTo>
                    <a:lnTo>
                      <a:pt x="340" y="944"/>
                    </a:lnTo>
                    <a:lnTo>
                      <a:pt x="340" y="944"/>
                    </a:lnTo>
                    <a:lnTo>
                      <a:pt x="336" y="944"/>
                    </a:lnTo>
                    <a:lnTo>
                      <a:pt x="336" y="946"/>
                    </a:lnTo>
                    <a:lnTo>
                      <a:pt x="336" y="946"/>
                    </a:lnTo>
                    <a:lnTo>
                      <a:pt x="336" y="946"/>
                    </a:lnTo>
                    <a:lnTo>
                      <a:pt x="336" y="948"/>
                    </a:lnTo>
                    <a:lnTo>
                      <a:pt x="338" y="950"/>
                    </a:lnTo>
                    <a:lnTo>
                      <a:pt x="338" y="950"/>
                    </a:lnTo>
                    <a:lnTo>
                      <a:pt x="342" y="948"/>
                    </a:lnTo>
                    <a:lnTo>
                      <a:pt x="344" y="948"/>
                    </a:lnTo>
                    <a:lnTo>
                      <a:pt x="344" y="948"/>
                    </a:lnTo>
                    <a:lnTo>
                      <a:pt x="344" y="942"/>
                    </a:lnTo>
                    <a:lnTo>
                      <a:pt x="340" y="938"/>
                    </a:lnTo>
                    <a:lnTo>
                      <a:pt x="336" y="938"/>
                    </a:lnTo>
                    <a:lnTo>
                      <a:pt x="334" y="938"/>
                    </a:lnTo>
                    <a:lnTo>
                      <a:pt x="332" y="942"/>
                    </a:lnTo>
                    <a:lnTo>
                      <a:pt x="332" y="942"/>
                    </a:lnTo>
                    <a:lnTo>
                      <a:pt x="352" y="940"/>
                    </a:lnTo>
                    <a:lnTo>
                      <a:pt x="352" y="940"/>
                    </a:lnTo>
                    <a:lnTo>
                      <a:pt x="352" y="944"/>
                    </a:lnTo>
                    <a:lnTo>
                      <a:pt x="356" y="946"/>
                    </a:lnTo>
                    <a:lnTo>
                      <a:pt x="364" y="950"/>
                    </a:lnTo>
                    <a:lnTo>
                      <a:pt x="364" y="950"/>
                    </a:lnTo>
                    <a:lnTo>
                      <a:pt x="370" y="946"/>
                    </a:lnTo>
                    <a:lnTo>
                      <a:pt x="372" y="944"/>
                    </a:lnTo>
                    <a:lnTo>
                      <a:pt x="374" y="940"/>
                    </a:lnTo>
                    <a:lnTo>
                      <a:pt x="374" y="940"/>
                    </a:lnTo>
                    <a:lnTo>
                      <a:pt x="370" y="938"/>
                    </a:lnTo>
                    <a:lnTo>
                      <a:pt x="364" y="938"/>
                    </a:lnTo>
                    <a:lnTo>
                      <a:pt x="352" y="940"/>
                    </a:lnTo>
                    <a:lnTo>
                      <a:pt x="352" y="940"/>
                    </a:lnTo>
                    <a:lnTo>
                      <a:pt x="1206" y="952"/>
                    </a:lnTo>
                    <a:lnTo>
                      <a:pt x="1206" y="952"/>
                    </a:lnTo>
                    <a:lnTo>
                      <a:pt x="1208" y="956"/>
                    </a:lnTo>
                    <a:lnTo>
                      <a:pt x="1210" y="960"/>
                    </a:lnTo>
                    <a:lnTo>
                      <a:pt x="1216" y="962"/>
                    </a:lnTo>
                    <a:lnTo>
                      <a:pt x="1222" y="960"/>
                    </a:lnTo>
                    <a:lnTo>
                      <a:pt x="1222" y="960"/>
                    </a:lnTo>
                    <a:lnTo>
                      <a:pt x="1224" y="954"/>
                    </a:lnTo>
                    <a:lnTo>
                      <a:pt x="1222" y="948"/>
                    </a:lnTo>
                    <a:lnTo>
                      <a:pt x="1220" y="944"/>
                    </a:lnTo>
                    <a:lnTo>
                      <a:pt x="1216" y="942"/>
                    </a:lnTo>
                    <a:lnTo>
                      <a:pt x="1212" y="940"/>
                    </a:lnTo>
                    <a:lnTo>
                      <a:pt x="1208" y="942"/>
                    </a:lnTo>
                    <a:lnTo>
                      <a:pt x="1206" y="946"/>
                    </a:lnTo>
                    <a:lnTo>
                      <a:pt x="1206" y="952"/>
                    </a:lnTo>
                    <a:lnTo>
                      <a:pt x="1206" y="952"/>
                    </a:lnTo>
                    <a:lnTo>
                      <a:pt x="1262" y="940"/>
                    </a:lnTo>
                    <a:lnTo>
                      <a:pt x="1262" y="940"/>
                    </a:lnTo>
                    <a:lnTo>
                      <a:pt x="1252" y="944"/>
                    </a:lnTo>
                    <a:lnTo>
                      <a:pt x="1248" y="948"/>
                    </a:lnTo>
                    <a:lnTo>
                      <a:pt x="1246" y="950"/>
                    </a:lnTo>
                    <a:lnTo>
                      <a:pt x="1246" y="950"/>
                    </a:lnTo>
                    <a:lnTo>
                      <a:pt x="1254" y="948"/>
                    </a:lnTo>
                    <a:lnTo>
                      <a:pt x="1256" y="946"/>
                    </a:lnTo>
                    <a:lnTo>
                      <a:pt x="1258" y="946"/>
                    </a:lnTo>
                    <a:lnTo>
                      <a:pt x="1258" y="946"/>
                    </a:lnTo>
                    <a:lnTo>
                      <a:pt x="1252" y="950"/>
                    </a:lnTo>
                    <a:lnTo>
                      <a:pt x="1248" y="952"/>
                    </a:lnTo>
                    <a:lnTo>
                      <a:pt x="1244" y="952"/>
                    </a:lnTo>
                    <a:lnTo>
                      <a:pt x="1244" y="952"/>
                    </a:lnTo>
                    <a:lnTo>
                      <a:pt x="1244" y="954"/>
                    </a:lnTo>
                    <a:lnTo>
                      <a:pt x="1246" y="956"/>
                    </a:lnTo>
                    <a:lnTo>
                      <a:pt x="1248" y="960"/>
                    </a:lnTo>
                    <a:lnTo>
                      <a:pt x="1250" y="962"/>
                    </a:lnTo>
                    <a:lnTo>
                      <a:pt x="1250" y="962"/>
                    </a:lnTo>
                    <a:lnTo>
                      <a:pt x="1248" y="966"/>
                    </a:lnTo>
                    <a:lnTo>
                      <a:pt x="1246" y="968"/>
                    </a:lnTo>
                    <a:lnTo>
                      <a:pt x="1246" y="968"/>
                    </a:lnTo>
                    <a:lnTo>
                      <a:pt x="1248" y="974"/>
                    </a:lnTo>
                    <a:lnTo>
                      <a:pt x="1254" y="980"/>
                    </a:lnTo>
                    <a:lnTo>
                      <a:pt x="1258" y="984"/>
                    </a:lnTo>
                    <a:lnTo>
                      <a:pt x="1260" y="992"/>
                    </a:lnTo>
                    <a:lnTo>
                      <a:pt x="1260" y="992"/>
                    </a:lnTo>
                    <a:lnTo>
                      <a:pt x="1266" y="990"/>
                    </a:lnTo>
                    <a:lnTo>
                      <a:pt x="1270" y="990"/>
                    </a:lnTo>
                    <a:lnTo>
                      <a:pt x="1270" y="990"/>
                    </a:lnTo>
                    <a:lnTo>
                      <a:pt x="1270" y="964"/>
                    </a:lnTo>
                    <a:lnTo>
                      <a:pt x="1270" y="952"/>
                    </a:lnTo>
                    <a:lnTo>
                      <a:pt x="1266" y="942"/>
                    </a:lnTo>
                    <a:lnTo>
                      <a:pt x="1266" y="942"/>
                    </a:lnTo>
                    <a:lnTo>
                      <a:pt x="1262" y="944"/>
                    </a:lnTo>
                    <a:lnTo>
                      <a:pt x="1262" y="944"/>
                    </a:lnTo>
                    <a:lnTo>
                      <a:pt x="1264" y="942"/>
                    </a:lnTo>
                    <a:lnTo>
                      <a:pt x="1262" y="940"/>
                    </a:lnTo>
                    <a:lnTo>
                      <a:pt x="1262" y="940"/>
                    </a:lnTo>
                    <a:lnTo>
                      <a:pt x="1262" y="940"/>
                    </a:lnTo>
                    <a:lnTo>
                      <a:pt x="366" y="954"/>
                    </a:lnTo>
                    <a:lnTo>
                      <a:pt x="366" y="954"/>
                    </a:lnTo>
                    <a:lnTo>
                      <a:pt x="370" y="960"/>
                    </a:lnTo>
                    <a:lnTo>
                      <a:pt x="372" y="970"/>
                    </a:lnTo>
                    <a:lnTo>
                      <a:pt x="372" y="974"/>
                    </a:lnTo>
                    <a:lnTo>
                      <a:pt x="374" y="976"/>
                    </a:lnTo>
                    <a:lnTo>
                      <a:pt x="378" y="978"/>
                    </a:lnTo>
                    <a:lnTo>
                      <a:pt x="382" y="978"/>
                    </a:lnTo>
                    <a:lnTo>
                      <a:pt x="382" y="978"/>
                    </a:lnTo>
                    <a:lnTo>
                      <a:pt x="378" y="944"/>
                    </a:lnTo>
                    <a:lnTo>
                      <a:pt x="378" y="944"/>
                    </a:lnTo>
                    <a:lnTo>
                      <a:pt x="372" y="946"/>
                    </a:lnTo>
                    <a:lnTo>
                      <a:pt x="370" y="948"/>
                    </a:lnTo>
                    <a:lnTo>
                      <a:pt x="366" y="954"/>
                    </a:lnTo>
                    <a:lnTo>
                      <a:pt x="366" y="954"/>
                    </a:lnTo>
                    <a:lnTo>
                      <a:pt x="1526" y="962"/>
                    </a:lnTo>
                    <a:lnTo>
                      <a:pt x="1526" y="962"/>
                    </a:lnTo>
                    <a:lnTo>
                      <a:pt x="1532" y="964"/>
                    </a:lnTo>
                    <a:lnTo>
                      <a:pt x="1540" y="964"/>
                    </a:lnTo>
                    <a:lnTo>
                      <a:pt x="1554" y="964"/>
                    </a:lnTo>
                    <a:lnTo>
                      <a:pt x="1568" y="960"/>
                    </a:lnTo>
                    <a:lnTo>
                      <a:pt x="1584" y="960"/>
                    </a:lnTo>
                    <a:lnTo>
                      <a:pt x="1584" y="960"/>
                    </a:lnTo>
                    <a:lnTo>
                      <a:pt x="1580" y="952"/>
                    </a:lnTo>
                    <a:lnTo>
                      <a:pt x="1574" y="948"/>
                    </a:lnTo>
                    <a:lnTo>
                      <a:pt x="1566" y="948"/>
                    </a:lnTo>
                    <a:lnTo>
                      <a:pt x="1558" y="950"/>
                    </a:lnTo>
                    <a:lnTo>
                      <a:pt x="1542" y="956"/>
                    </a:lnTo>
                    <a:lnTo>
                      <a:pt x="1526" y="962"/>
                    </a:lnTo>
                    <a:lnTo>
                      <a:pt x="1526" y="962"/>
                    </a:lnTo>
                    <a:lnTo>
                      <a:pt x="1282" y="1002"/>
                    </a:lnTo>
                    <a:lnTo>
                      <a:pt x="1282" y="1002"/>
                    </a:lnTo>
                    <a:lnTo>
                      <a:pt x="1286" y="996"/>
                    </a:lnTo>
                    <a:lnTo>
                      <a:pt x="1290" y="990"/>
                    </a:lnTo>
                    <a:lnTo>
                      <a:pt x="1290" y="984"/>
                    </a:lnTo>
                    <a:lnTo>
                      <a:pt x="1290" y="978"/>
                    </a:lnTo>
                    <a:lnTo>
                      <a:pt x="1284" y="964"/>
                    </a:lnTo>
                    <a:lnTo>
                      <a:pt x="1280" y="950"/>
                    </a:lnTo>
                    <a:lnTo>
                      <a:pt x="1280" y="950"/>
                    </a:lnTo>
                    <a:lnTo>
                      <a:pt x="1276" y="948"/>
                    </a:lnTo>
                    <a:lnTo>
                      <a:pt x="1276" y="948"/>
                    </a:lnTo>
                    <a:lnTo>
                      <a:pt x="1278" y="976"/>
                    </a:lnTo>
                    <a:lnTo>
                      <a:pt x="1280" y="990"/>
                    </a:lnTo>
                    <a:lnTo>
                      <a:pt x="1282" y="1002"/>
                    </a:lnTo>
                    <a:lnTo>
                      <a:pt x="1282" y="1002"/>
                    </a:lnTo>
                    <a:lnTo>
                      <a:pt x="662" y="954"/>
                    </a:lnTo>
                    <a:lnTo>
                      <a:pt x="662" y="954"/>
                    </a:lnTo>
                    <a:lnTo>
                      <a:pt x="662" y="964"/>
                    </a:lnTo>
                    <a:lnTo>
                      <a:pt x="666" y="970"/>
                    </a:lnTo>
                    <a:lnTo>
                      <a:pt x="666" y="970"/>
                    </a:lnTo>
                    <a:lnTo>
                      <a:pt x="666" y="964"/>
                    </a:lnTo>
                    <a:lnTo>
                      <a:pt x="670" y="960"/>
                    </a:lnTo>
                    <a:lnTo>
                      <a:pt x="672" y="956"/>
                    </a:lnTo>
                    <a:lnTo>
                      <a:pt x="672" y="952"/>
                    </a:lnTo>
                    <a:lnTo>
                      <a:pt x="672" y="952"/>
                    </a:lnTo>
                    <a:lnTo>
                      <a:pt x="668" y="954"/>
                    </a:lnTo>
                    <a:lnTo>
                      <a:pt x="662" y="954"/>
                    </a:lnTo>
                    <a:lnTo>
                      <a:pt x="662" y="954"/>
                    </a:lnTo>
                    <a:lnTo>
                      <a:pt x="674" y="976"/>
                    </a:lnTo>
                    <a:lnTo>
                      <a:pt x="674" y="976"/>
                    </a:lnTo>
                    <a:lnTo>
                      <a:pt x="684" y="982"/>
                    </a:lnTo>
                    <a:lnTo>
                      <a:pt x="694" y="988"/>
                    </a:lnTo>
                    <a:lnTo>
                      <a:pt x="704" y="994"/>
                    </a:lnTo>
                    <a:lnTo>
                      <a:pt x="714" y="998"/>
                    </a:lnTo>
                    <a:lnTo>
                      <a:pt x="714" y="998"/>
                    </a:lnTo>
                    <a:lnTo>
                      <a:pt x="708" y="992"/>
                    </a:lnTo>
                    <a:lnTo>
                      <a:pt x="704" y="984"/>
                    </a:lnTo>
                    <a:lnTo>
                      <a:pt x="694" y="970"/>
                    </a:lnTo>
                    <a:lnTo>
                      <a:pt x="694" y="970"/>
                    </a:lnTo>
                    <a:lnTo>
                      <a:pt x="690" y="974"/>
                    </a:lnTo>
                    <a:lnTo>
                      <a:pt x="686" y="974"/>
                    </a:lnTo>
                    <a:lnTo>
                      <a:pt x="676" y="970"/>
                    </a:lnTo>
                    <a:lnTo>
                      <a:pt x="676" y="970"/>
                    </a:lnTo>
                    <a:lnTo>
                      <a:pt x="676" y="974"/>
                    </a:lnTo>
                    <a:lnTo>
                      <a:pt x="674" y="976"/>
                    </a:lnTo>
                    <a:lnTo>
                      <a:pt x="674" y="976"/>
                    </a:lnTo>
                    <a:lnTo>
                      <a:pt x="686" y="952"/>
                    </a:lnTo>
                    <a:lnTo>
                      <a:pt x="686" y="952"/>
                    </a:lnTo>
                    <a:lnTo>
                      <a:pt x="682" y="952"/>
                    </a:lnTo>
                    <a:lnTo>
                      <a:pt x="680" y="954"/>
                    </a:lnTo>
                    <a:lnTo>
                      <a:pt x="678" y="962"/>
                    </a:lnTo>
                    <a:lnTo>
                      <a:pt x="678" y="962"/>
                    </a:lnTo>
                    <a:lnTo>
                      <a:pt x="674" y="968"/>
                    </a:lnTo>
                    <a:lnTo>
                      <a:pt x="672" y="972"/>
                    </a:lnTo>
                    <a:lnTo>
                      <a:pt x="672" y="976"/>
                    </a:lnTo>
                    <a:lnTo>
                      <a:pt x="672" y="976"/>
                    </a:lnTo>
                    <a:lnTo>
                      <a:pt x="676" y="970"/>
                    </a:lnTo>
                    <a:lnTo>
                      <a:pt x="678" y="964"/>
                    </a:lnTo>
                    <a:lnTo>
                      <a:pt x="682" y="958"/>
                    </a:lnTo>
                    <a:lnTo>
                      <a:pt x="686" y="952"/>
                    </a:lnTo>
                    <a:lnTo>
                      <a:pt x="686" y="952"/>
                    </a:lnTo>
                    <a:lnTo>
                      <a:pt x="498" y="954"/>
                    </a:lnTo>
                    <a:lnTo>
                      <a:pt x="498" y="954"/>
                    </a:lnTo>
                    <a:lnTo>
                      <a:pt x="500" y="956"/>
                    </a:lnTo>
                    <a:lnTo>
                      <a:pt x="502" y="956"/>
                    </a:lnTo>
                    <a:lnTo>
                      <a:pt x="502" y="956"/>
                    </a:lnTo>
                    <a:lnTo>
                      <a:pt x="502" y="952"/>
                    </a:lnTo>
                    <a:lnTo>
                      <a:pt x="502" y="952"/>
                    </a:lnTo>
                    <a:lnTo>
                      <a:pt x="498" y="954"/>
                    </a:lnTo>
                    <a:lnTo>
                      <a:pt x="498" y="954"/>
                    </a:lnTo>
                    <a:lnTo>
                      <a:pt x="498" y="954"/>
                    </a:lnTo>
                    <a:lnTo>
                      <a:pt x="642" y="976"/>
                    </a:lnTo>
                    <a:lnTo>
                      <a:pt x="642" y="976"/>
                    </a:lnTo>
                    <a:lnTo>
                      <a:pt x="636" y="966"/>
                    </a:lnTo>
                    <a:lnTo>
                      <a:pt x="632" y="962"/>
                    </a:lnTo>
                    <a:lnTo>
                      <a:pt x="628" y="960"/>
                    </a:lnTo>
                    <a:lnTo>
                      <a:pt x="624" y="960"/>
                    </a:lnTo>
                    <a:lnTo>
                      <a:pt x="624" y="960"/>
                    </a:lnTo>
                    <a:lnTo>
                      <a:pt x="630" y="966"/>
                    </a:lnTo>
                    <a:lnTo>
                      <a:pt x="634" y="972"/>
                    </a:lnTo>
                    <a:lnTo>
                      <a:pt x="638" y="978"/>
                    </a:lnTo>
                    <a:lnTo>
                      <a:pt x="640" y="980"/>
                    </a:lnTo>
                    <a:lnTo>
                      <a:pt x="642" y="978"/>
                    </a:lnTo>
                    <a:lnTo>
                      <a:pt x="642" y="978"/>
                    </a:lnTo>
                    <a:lnTo>
                      <a:pt x="644" y="988"/>
                    </a:lnTo>
                    <a:lnTo>
                      <a:pt x="646" y="992"/>
                    </a:lnTo>
                    <a:lnTo>
                      <a:pt x="650" y="994"/>
                    </a:lnTo>
                    <a:lnTo>
                      <a:pt x="650" y="994"/>
                    </a:lnTo>
                    <a:lnTo>
                      <a:pt x="652" y="992"/>
                    </a:lnTo>
                    <a:lnTo>
                      <a:pt x="652" y="992"/>
                    </a:lnTo>
                    <a:lnTo>
                      <a:pt x="652" y="988"/>
                    </a:lnTo>
                    <a:lnTo>
                      <a:pt x="648" y="984"/>
                    </a:lnTo>
                    <a:lnTo>
                      <a:pt x="642" y="976"/>
                    </a:lnTo>
                    <a:lnTo>
                      <a:pt x="642" y="976"/>
                    </a:lnTo>
                    <a:lnTo>
                      <a:pt x="1004" y="966"/>
                    </a:lnTo>
                    <a:lnTo>
                      <a:pt x="1004" y="966"/>
                    </a:lnTo>
                    <a:lnTo>
                      <a:pt x="1008" y="962"/>
                    </a:lnTo>
                    <a:lnTo>
                      <a:pt x="1008" y="960"/>
                    </a:lnTo>
                    <a:lnTo>
                      <a:pt x="1004" y="960"/>
                    </a:lnTo>
                    <a:lnTo>
                      <a:pt x="1004" y="960"/>
                    </a:lnTo>
                    <a:lnTo>
                      <a:pt x="1004" y="964"/>
                    </a:lnTo>
                    <a:lnTo>
                      <a:pt x="1004" y="966"/>
                    </a:lnTo>
                    <a:lnTo>
                      <a:pt x="1004" y="966"/>
                    </a:lnTo>
                    <a:lnTo>
                      <a:pt x="1004" y="966"/>
                    </a:lnTo>
                    <a:lnTo>
                      <a:pt x="594" y="960"/>
                    </a:lnTo>
                    <a:lnTo>
                      <a:pt x="594" y="960"/>
                    </a:lnTo>
                    <a:lnTo>
                      <a:pt x="588" y="960"/>
                    </a:lnTo>
                    <a:lnTo>
                      <a:pt x="588" y="960"/>
                    </a:lnTo>
                    <a:lnTo>
                      <a:pt x="588" y="964"/>
                    </a:lnTo>
                    <a:lnTo>
                      <a:pt x="592" y="964"/>
                    </a:lnTo>
                    <a:lnTo>
                      <a:pt x="594" y="964"/>
                    </a:lnTo>
                    <a:lnTo>
                      <a:pt x="594" y="960"/>
                    </a:lnTo>
                    <a:lnTo>
                      <a:pt x="594" y="960"/>
                    </a:lnTo>
                    <a:lnTo>
                      <a:pt x="1584" y="960"/>
                    </a:lnTo>
                    <a:lnTo>
                      <a:pt x="1584" y="960"/>
                    </a:lnTo>
                    <a:lnTo>
                      <a:pt x="1576" y="960"/>
                    </a:lnTo>
                    <a:lnTo>
                      <a:pt x="1566" y="964"/>
                    </a:lnTo>
                    <a:lnTo>
                      <a:pt x="1556" y="966"/>
                    </a:lnTo>
                    <a:lnTo>
                      <a:pt x="1546" y="968"/>
                    </a:lnTo>
                    <a:lnTo>
                      <a:pt x="1546" y="968"/>
                    </a:lnTo>
                    <a:lnTo>
                      <a:pt x="1554" y="970"/>
                    </a:lnTo>
                    <a:lnTo>
                      <a:pt x="1556" y="972"/>
                    </a:lnTo>
                    <a:lnTo>
                      <a:pt x="1558" y="976"/>
                    </a:lnTo>
                    <a:lnTo>
                      <a:pt x="1558" y="976"/>
                    </a:lnTo>
                    <a:lnTo>
                      <a:pt x="1552" y="978"/>
                    </a:lnTo>
                    <a:lnTo>
                      <a:pt x="1548" y="978"/>
                    </a:lnTo>
                    <a:lnTo>
                      <a:pt x="1536" y="974"/>
                    </a:lnTo>
                    <a:lnTo>
                      <a:pt x="1528" y="972"/>
                    </a:lnTo>
                    <a:lnTo>
                      <a:pt x="1522" y="970"/>
                    </a:lnTo>
                    <a:lnTo>
                      <a:pt x="1516" y="970"/>
                    </a:lnTo>
                    <a:lnTo>
                      <a:pt x="1510" y="974"/>
                    </a:lnTo>
                    <a:lnTo>
                      <a:pt x="1510" y="974"/>
                    </a:lnTo>
                    <a:lnTo>
                      <a:pt x="1512" y="976"/>
                    </a:lnTo>
                    <a:lnTo>
                      <a:pt x="1516" y="974"/>
                    </a:lnTo>
                    <a:lnTo>
                      <a:pt x="1518" y="974"/>
                    </a:lnTo>
                    <a:lnTo>
                      <a:pt x="1520" y="976"/>
                    </a:lnTo>
                    <a:lnTo>
                      <a:pt x="1520" y="976"/>
                    </a:lnTo>
                    <a:lnTo>
                      <a:pt x="1518" y="980"/>
                    </a:lnTo>
                    <a:lnTo>
                      <a:pt x="1516" y="984"/>
                    </a:lnTo>
                    <a:lnTo>
                      <a:pt x="1510" y="990"/>
                    </a:lnTo>
                    <a:lnTo>
                      <a:pt x="1504" y="994"/>
                    </a:lnTo>
                    <a:lnTo>
                      <a:pt x="1502" y="996"/>
                    </a:lnTo>
                    <a:lnTo>
                      <a:pt x="1502" y="1000"/>
                    </a:lnTo>
                    <a:lnTo>
                      <a:pt x="1502" y="1000"/>
                    </a:lnTo>
                    <a:lnTo>
                      <a:pt x="1510" y="996"/>
                    </a:lnTo>
                    <a:lnTo>
                      <a:pt x="1520" y="990"/>
                    </a:lnTo>
                    <a:lnTo>
                      <a:pt x="1530" y="988"/>
                    </a:lnTo>
                    <a:lnTo>
                      <a:pt x="1536" y="988"/>
                    </a:lnTo>
                    <a:lnTo>
                      <a:pt x="1540" y="990"/>
                    </a:lnTo>
                    <a:lnTo>
                      <a:pt x="1540" y="990"/>
                    </a:lnTo>
                    <a:lnTo>
                      <a:pt x="1538" y="996"/>
                    </a:lnTo>
                    <a:lnTo>
                      <a:pt x="1534" y="1000"/>
                    </a:lnTo>
                    <a:lnTo>
                      <a:pt x="1524" y="1006"/>
                    </a:lnTo>
                    <a:lnTo>
                      <a:pt x="1514" y="1010"/>
                    </a:lnTo>
                    <a:lnTo>
                      <a:pt x="1510" y="1014"/>
                    </a:lnTo>
                    <a:lnTo>
                      <a:pt x="1506" y="1018"/>
                    </a:lnTo>
                    <a:lnTo>
                      <a:pt x="1506" y="1018"/>
                    </a:lnTo>
                    <a:lnTo>
                      <a:pt x="1514" y="1020"/>
                    </a:lnTo>
                    <a:lnTo>
                      <a:pt x="1518" y="1018"/>
                    </a:lnTo>
                    <a:lnTo>
                      <a:pt x="1528" y="1012"/>
                    </a:lnTo>
                    <a:lnTo>
                      <a:pt x="1528" y="1012"/>
                    </a:lnTo>
                    <a:lnTo>
                      <a:pt x="1526" y="1014"/>
                    </a:lnTo>
                    <a:lnTo>
                      <a:pt x="1524" y="1016"/>
                    </a:lnTo>
                    <a:lnTo>
                      <a:pt x="1522" y="1018"/>
                    </a:lnTo>
                    <a:lnTo>
                      <a:pt x="1524" y="1018"/>
                    </a:lnTo>
                    <a:lnTo>
                      <a:pt x="1524" y="1018"/>
                    </a:lnTo>
                    <a:lnTo>
                      <a:pt x="1534" y="1018"/>
                    </a:lnTo>
                    <a:lnTo>
                      <a:pt x="1538" y="1020"/>
                    </a:lnTo>
                    <a:lnTo>
                      <a:pt x="1540" y="1022"/>
                    </a:lnTo>
                    <a:lnTo>
                      <a:pt x="1540" y="1022"/>
                    </a:lnTo>
                    <a:lnTo>
                      <a:pt x="1536" y="1026"/>
                    </a:lnTo>
                    <a:lnTo>
                      <a:pt x="1536" y="1028"/>
                    </a:lnTo>
                    <a:lnTo>
                      <a:pt x="1538" y="1028"/>
                    </a:lnTo>
                    <a:lnTo>
                      <a:pt x="1538" y="1028"/>
                    </a:lnTo>
                    <a:lnTo>
                      <a:pt x="1562" y="1032"/>
                    </a:lnTo>
                    <a:lnTo>
                      <a:pt x="1586" y="1034"/>
                    </a:lnTo>
                    <a:lnTo>
                      <a:pt x="1596" y="1034"/>
                    </a:lnTo>
                    <a:lnTo>
                      <a:pt x="1608" y="1030"/>
                    </a:lnTo>
                    <a:lnTo>
                      <a:pt x="1616" y="1026"/>
                    </a:lnTo>
                    <a:lnTo>
                      <a:pt x="1624" y="1020"/>
                    </a:lnTo>
                    <a:lnTo>
                      <a:pt x="1624" y="1020"/>
                    </a:lnTo>
                    <a:lnTo>
                      <a:pt x="1614" y="1020"/>
                    </a:lnTo>
                    <a:lnTo>
                      <a:pt x="1604" y="1020"/>
                    </a:lnTo>
                    <a:lnTo>
                      <a:pt x="1596" y="1018"/>
                    </a:lnTo>
                    <a:lnTo>
                      <a:pt x="1588" y="1014"/>
                    </a:lnTo>
                    <a:lnTo>
                      <a:pt x="1582" y="1010"/>
                    </a:lnTo>
                    <a:lnTo>
                      <a:pt x="1576" y="1004"/>
                    </a:lnTo>
                    <a:lnTo>
                      <a:pt x="1574" y="998"/>
                    </a:lnTo>
                    <a:lnTo>
                      <a:pt x="1574" y="992"/>
                    </a:lnTo>
                    <a:lnTo>
                      <a:pt x="1574" y="992"/>
                    </a:lnTo>
                    <a:lnTo>
                      <a:pt x="1574" y="988"/>
                    </a:lnTo>
                    <a:lnTo>
                      <a:pt x="1578" y="984"/>
                    </a:lnTo>
                    <a:lnTo>
                      <a:pt x="1584" y="980"/>
                    </a:lnTo>
                    <a:lnTo>
                      <a:pt x="1594" y="978"/>
                    </a:lnTo>
                    <a:lnTo>
                      <a:pt x="1604" y="976"/>
                    </a:lnTo>
                    <a:lnTo>
                      <a:pt x="1604" y="976"/>
                    </a:lnTo>
                    <a:lnTo>
                      <a:pt x="1598" y="972"/>
                    </a:lnTo>
                    <a:lnTo>
                      <a:pt x="1594" y="968"/>
                    </a:lnTo>
                    <a:lnTo>
                      <a:pt x="1590" y="964"/>
                    </a:lnTo>
                    <a:lnTo>
                      <a:pt x="1584" y="960"/>
                    </a:lnTo>
                    <a:lnTo>
                      <a:pt x="1584" y="960"/>
                    </a:lnTo>
                    <a:lnTo>
                      <a:pt x="620" y="962"/>
                    </a:lnTo>
                    <a:lnTo>
                      <a:pt x="620" y="962"/>
                    </a:lnTo>
                    <a:lnTo>
                      <a:pt x="608" y="964"/>
                    </a:lnTo>
                    <a:lnTo>
                      <a:pt x="602" y="964"/>
                    </a:lnTo>
                    <a:lnTo>
                      <a:pt x="598" y="962"/>
                    </a:lnTo>
                    <a:lnTo>
                      <a:pt x="598" y="962"/>
                    </a:lnTo>
                    <a:lnTo>
                      <a:pt x="596" y="968"/>
                    </a:lnTo>
                    <a:lnTo>
                      <a:pt x="596" y="970"/>
                    </a:lnTo>
                    <a:lnTo>
                      <a:pt x="590" y="974"/>
                    </a:lnTo>
                    <a:lnTo>
                      <a:pt x="586" y="980"/>
                    </a:lnTo>
                    <a:lnTo>
                      <a:pt x="584" y="982"/>
                    </a:lnTo>
                    <a:lnTo>
                      <a:pt x="584" y="986"/>
                    </a:lnTo>
                    <a:lnTo>
                      <a:pt x="584" y="986"/>
                    </a:lnTo>
                    <a:lnTo>
                      <a:pt x="588" y="990"/>
                    </a:lnTo>
                    <a:lnTo>
                      <a:pt x="596" y="990"/>
                    </a:lnTo>
                    <a:lnTo>
                      <a:pt x="604" y="990"/>
                    </a:lnTo>
                    <a:lnTo>
                      <a:pt x="608" y="988"/>
                    </a:lnTo>
                    <a:lnTo>
                      <a:pt x="608" y="988"/>
                    </a:lnTo>
                    <a:lnTo>
                      <a:pt x="604" y="986"/>
                    </a:lnTo>
                    <a:lnTo>
                      <a:pt x="600" y="984"/>
                    </a:lnTo>
                    <a:lnTo>
                      <a:pt x="600" y="980"/>
                    </a:lnTo>
                    <a:lnTo>
                      <a:pt x="602" y="978"/>
                    </a:lnTo>
                    <a:lnTo>
                      <a:pt x="608" y="974"/>
                    </a:lnTo>
                    <a:lnTo>
                      <a:pt x="614" y="974"/>
                    </a:lnTo>
                    <a:lnTo>
                      <a:pt x="614" y="974"/>
                    </a:lnTo>
                    <a:lnTo>
                      <a:pt x="610" y="974"/>
                    </a:lnTo>
                    <a:lnTo>
                      <a:pt x="610" y="974"/>
                    </a:lnTo>
                    <a:lnTo>
                      <a:pt x="618" y="976"/>
                    </a:lnTo>
                    <a:lnTo>
                      <a:pt x="622" y="980"/>
                    </a:lnTo>
                    <a:lnTo>
                      <a:pt x="624" y="984"/>
                    </a:lnTo>
                    <a:lnTo>
                      <a:pt x="624" y="988"/>
                    </a:lnTo>
                    <a:lnTo>
                      <a:pt x="624" y="992"/>
                    </a:lnTo>
                    <a:lnTo>
                      <a:pt x="622" y="998"/>
                    </a:lnTo>
                    <a:lnTo>
                      <a:pt x="614" y="1010"/>
                    </a:lnTo>
                    <a:lnTo>
                      <a:pt x="614" y="1010"/>
                    </a:lnTo>
                    <a:lnTo>
                      <a:pt x="620" y="1012"/>
                    </a:lnTo>
                    <a:lnTo>
                      <a:pt x="622" y="1012"/>
                    </a:lnTo>
                    <a:lnTo>
                      <a:pt x="624" y="1010"/>
                    </a:lnTo>
                    <a:lnTo>
                      <a:pt x="624" y="1010"/>
                    </a:lnTo>
                    <a:lnTo>
                      <a:pt x="620" y="1010"/>
                    </a:lnTo>
                    <a:lnTo>
                      <a:pt x="620" y="1008"/>
                    </a:lnTo>
                    <a:lnTo>
                      <a:pt x="622" y="1008"/>
                    </a:lnTo>
                    <a:lnTo>
                      <a:pt x="622" y="1008"/>
                    </a:lnTo>
                    <a:lnTo>
                      <a:pt x="624" y="1010"/>
                    </a:lnTo>
                    <a:lnTo>
                      <a:pt x="630" y="1010"/>
                    </a:lnTo>
                    <a:lnTo>
                      <a:pt x="642" y="1010"/>
                    </a:lnTo>
                    <a:lnTo>
                      <a:pt x="642" y="1010"/>
                    </a:lnTo>
                    <a:lnTo>
                      <a:pt x="644" y="1006"/>
                    </a:lnTo>
                    <a:lnTo>
                      <a:pt x="646" y="1002"/>
                    </a:lnTo>
                    <a:lnTo>
                      <a:pt x="646" y="1002"/>
                    </a:lnTo>
                    <a:lnTo>
                      <a:pt x="634" y="984"/>
                    </a:lnTo>
                    <a:lnTo>
                      <a:pt x="622" y="964"/>
                    </a:lnTo>
                    <a:lnTo>
                      <a:pt x="622" y="964"/>
                    </a:lnTo>
                    <a:lnTo>
                      <a:pt x="620" y="968"/>
                    </a:lnTo>
                    <a:lnTo>
                      <a:pt x="618" y="968"/>
                    </a:lnTo>
                    <a:lnTo>
                      <a:pt x="618" y="968"/>
                    </a:lnTo>
                    <a:lnTo>
                      <a:pt x="618" y="968"/>
                    </a:lnTo>
                    <a:lnTo>
                      <a:pt x="618" y="966"/>
                    </a:lnTo>
                    <a:lnTo>
                      <a:pt x="620" y="966"/>
                    </a:lnTo>
                    <a:lnTo>
                      <a:pt x="620" y="962"/>
                    </a:lnTo>
                    <a:lnTo>
                      <a:pt x="620" y="962"/>
                    </a:lnTo>
                    <a:lnTo>
                      <a:pt x="1032" y="1054"/>
                    </a:lnTo>
                    <a:lnTo>
                      <a:pt x="1032" y="1054"/>
                    </a:lnTo>
                    <a:lnTo>
                      <a:pt x="1024" y="1048"/>
                    </a:lnTo>
                    <a:lnTo>
                      <a:pt x="1018" y="1042"/>
                    </a:lnTo>
                    <a:lnTo>
                      <a:pt x="1012" y="1034"/>
                    </a:lnTo>
                    <a:lnTo>
                      <a:pt x="1004" y="1028"/>
                    </a:lnTo>
                    <a:lnTo>
                      <a:pt x="1004" y="1028"/>
                    </a:lnTo>
                    <a:lnTo>
                      <a:pt x="998" y="1034"/>
                    </a:lnTo>
                    <a:lnTo>
                      <a:pt x="998" y="1034"/>
                    </a:lnTo>
                    <a:lnTo>
                      <a:pt x="1002" y="1042"/>
                    </a:lnTo>
                    <a:lnTo>
                      <a:pt x="1004" y="1052"/>
                    </a:lnTo>
                    <a:lnTo>
                      <a:pt x="1004" y="1052"/>
                    </a:lnTo>
                    <a:lnTo>
                      <a:pt x="1002" y="1050"/>
                    </a:lnTo>
                    <a:lnTo>
                      <a:pt x="1000" y="1048"/>
                    </a:lnTo>
                    <a:lnTo>
                      <a:pt x="998" y="1046"/>
                    </a:lnTo>
                    <a:lnTo>
                      <a:pt x="994" y="1044"/>
                    </a:lnTo>
                    <a:lnTo>
                      <a:pt x="994" y="1044"/>
                    </a:lnTo>
                    <a:lnTo>
                      <a:pt x="986" y="1074"/>
                    </a:lnTo>
                    <a:lnTo>
                      <a:pt x="976" y="1110"/>
                    </a:lnTo>
                    <a:lnTo>
                      <a:pt x="974" y="1130"/>
                    </a:lnTo>
                    <a:lnTo>
                      <a:pt x="974" y="1148"/>
                    </a:lnTo>
                    <a:lnTo>
                      <a:pt x="976" y="1164"/>
                    </a:lnTo>
                    <a:lnTo>
                      <a:pt x="980" y="1170"/>
                    </a:lnTo>
                    <a:lnTo>
                      <a:pt x="984" y="1178"/>
                    </a:lnTo>
                    <a:lnTo>
                      <a:pt x="984" y="1178"/>
                    </a:lnTo>
                    <a:lnTo>
                      <a:pt x="992" y="1184"/>
                    </a:lnTo>
                    <a:lnTo>
                      <a:pt x="1002" y="1188"/>
                    </a:lnTo>
                    <a:lnTo>
                      <a:pt x="1002" y="1188"/>
                    </a:lnTo>
                    <a:lnTo>
                      <a:pt x="1012" y="1186"/>
                    </a:lnTo>
                    <a:lnTo>
                      <a:pt x="1020" y="1182"/>
                    </a:lnTo>
                    <a:lnTo>
                      <a:pt x="1028" y="1174"/>
                    </a:lnTo>
                    <a:lnTo>
                      <a:pt x="1032" y="1164"/>
                    </a:lnTo>
                    <a:lnTo>
                      <a:pt x="1042" y="1142"/>
                    </a:lnTo>
                    <a:lnTo>
                      <a:pt x="1048" y="1122"/>
                    </a:lnTo>
                    <a:lnTo>
                      <a:pt x="1048" y="1122"/>
                    </a:lnTo>
                    <a:lnTo>
                      <a:pt x="1054" y="1108"/>
                    </a:lnTo>
                    <a:lnTo>
                      <a:pt x="1060" y="1094"/>
                    </a:lnTo>
                    <a:lnTo>
                      <a:pt x="1062" y="1078"/>
                    </a:lnTo>
                    <a:lnTo>
                      <a:pt x="1062" y="1070"/>
                    </a:lnTo>
                    <a:lnTo>
                      <a:pt x="1062" y="1062"/>
                    </a:lnTo>
                    <a:lnTo>
                      <a:pt x="1062" y="1062"/>
                    </a:lnTo>
                    <a:lnTo>
                      <a:pt x="1046" y="1058"/>
                    </a:lnTo>
                    <a:lnTo>
                      <a:pt x="1038" y="1056"/>
                    </a:lnTo>
                    <a:lnTo>
                      <a:pt x="1032" y="1054"/>
                    </a:lnTo>
                    <a:lnTo>
                      <a:pt x="1032" y="1054"/>
                    </a:lnTo>
                    <a:lnTo>
                      <a:pt x="1012" y="1032"/>
                    </a:lnTo>
                    <a:lnTo>
                      <a:pt x="1012" y="1032"/>
                    </a:lnTo>
                    <a:lnTo>
                      <a:pt x="1012" y="1020"/>
                    </a:lnTo>
                    <a:lnTo>
                      <a:pt x="1012" y="1010"/>
                    </a:lnTo>
                    <a:lnTo>
                      <a:pt x="1012" y="998"/>
                    </a:lnTo>
                    <a:lnTo>
                      <a:pt x="1014" y="994"/>
                    </a:lnTo>
                    <a:lnTo>
                      <a:pt x="1016" y="992"/>
                    </a:lnTo>
                    <a:lnTo>
                      <a:pt x="1016" y="992"/>
                    </a:lnTo>
                    <a:lnTo>
                      <a:pt x="1014" y="1012"/>
                    </a:lnTo>
                    <a:lnTo>
                      <a:pt x="1014" y="1034"/>
                    </a:lnTo>
                    <a:lnTo>
                      <a:pt x="1014" y="1034"/>
                    </a:lnTo>
                    <a:lnTo>
                      <a:pt x="1022" y="1042"/>
                    </a:lnTo>
                    <a:lnTo>
                      <a:pt x="1034" y="1048"/>
                    </a:lnTo>
                    <a:lnTo>
                      <a:pt x="1046" y="1054"/>
                    </a:lnTo>
                    <a:lnTo>
                      <a:pt x="1060" y="1056"/>
                    </a:lnTo>
                    <a:lnTo>
                      <a:pt x="1060" y="1056"/>
                    </a:lnTo>
                    <a:lnTo>
                      <a:pt x="1060" y="986"/>
                    </a:lnTo>
                    <a:lnTo>
                      <a:pt x="1060" y="986"/>
                    </a:lnTo>
                    <a:lnTo>
                      <a:pt x="1054" y="980"/>
                    </a:lnTo>
                    <a:lnTo>
                      <a:pt x="1048" y="974"/>
                    </a:lnTo>
                    <a:lnTo>
                      <a:pt x="1046" y="970"/>
                    </a:lnTo>
                    <a:lnTo>
                      <a:pt x="1040" y="968"/>
                    </a:lnTo>
                    <a:lnTo>
                      <a:pt x="1036" y="968"/>
                    </a:lnTo>
                    <a:lnTo>
                      <a:pt x="1028" y="968"/>
                    </a:lnTo>
                    <a:lnTo>
                      <a:pt x="1028" y="968"/>
                    </a:lnTo>
                    <a:lnTo>
                      <a:pt x="1022" y="978"/>
                    </a:lnTo>
                    <a:lnTo>
                      <a:pt x="1016" y="988"/>
                    </a:lnTo>
                    <a:lnTo>
                      <a:pt x="1008" y="996"/>
                    </a:lnTo>
                    <a:lnTo>
                      <a:pt x="998" y="1002"/>
                    </a:lnTo>
                    <a:lnTo>
                      <a:pt x="998" y="1002"/>
                    </a:lnTo>
                    <a:lnTo>
                      <a:pt x="998" y="1012"/>
                    </a:lnTo>
                    <a:lnTo>
                      <a:pt x="1000" y="1020"/>
                    </a:lnTo>
                    <a:lnTo>
                      <a:pt x="1006" y="1026"/>
                    </a:lnTo>
                    <a:lnTo>
                      <a:pt x="1012" y="1032"/>
                    </a:lnTo>
                    <a:lnTo>
                      <a:pt x="1012" y="1032"/>
                    </a:lnTo>
                    <a:lnTo>
                      <a:pt x="1454" y="986"/>
                    </a:lnTo>
                    <a:lnTo>
                      <a:pt x="1454" y="986"/>
                    </a:lnTo>
                    <a:lnTo>
                      <a:pt x="1424" y="1006"/>
                    </a:lnTo>
                    <a:lnTo>
                      <a:pt x="1424" y="1006"/>
                    </a:lnTo>
                    <a:lnTo>
                      <a:pt x="1452" y="1010"/>
                    </a:lnTo>
                    <a:lnTo>
                      <a:pt x="1464" y="1012"/>
                    </a:lnTo>
                    <a:lnTo>
                      <a:pt x="1476" y="1012"/>
                    </a:lnTo>
                    <a:lnTo>
                      <a:pt x="1476" y="1012"/>
                    </a:lnTo>
                    <a:lnTo>
                      <a:pt x="1476" y="1000"/>
                    </a:lnTo>
                    <a:lnTo>
                      <a:pt x="1480" y="990"/>
                    </a:lnTo>
                    <a:lnTo>
                      <a:pt x="1484" y="980"/>
                    </a:lnTo>
                    <a:lnTo>
                      <a:pt x="1490" y="972"/>
                    </a:lnTo>
                    <a:lnTo>
                      <a:pt x="1490" y="972"/>
                    </a:lnTo>
                    <a:lnTo>
                      <a:pt x="1484" y="972"/>
                    </a:lnTo>
                    <a:lnTo>
                      <a:pt x="1480" y="974"/>
                    </a:lnTo>
                    <a:lnTo>
                      <a:pt x="1470" y="978"/>
                    </a:lnTo>
                    <a:lnTo>
                      <a:pt x="1464" y="984"/>
                    </a:lnTo>
                    <a:lnTo>
                      <a:pt x="1458" y="986"/>
                    </a:lnTo>
                    <a:lnTo>
                      <a:pt x="1454" y="986"/>
                    </a:lnTo>
                    <a:lnTo>
                      <a:pt x="1454" y="986"/>
                    </a:lnTo>
                    <a:lnTo>
                      <a:pt x="532" y="1002"/>
                    </a:lnTo>
                    <a:lnTo>
                      <a:pt x="532" y="1002"/>
                    </a:lnTo>
                    <a:lnTo>
                      <a:pt x="534" y="998"/>
                    </a:lnTo>
                    <a:lnTo>
                      <a:pt x="532" y="998"/>
                    </a:lnTo>
                    <a:lnTo>
                      <a:pt x="530" y="1000"/>
                    </a:lnTo>
                    <a:lnTo>
                      <a:pt x="526" y="1002"/>
                    </a:lnTo>
                    <a:lnTo>
                      <a:pt x="526" y="1002"/>
                    </a:lnTo>
                    <a:lnTo>
                      <a:pt x="530" y="998"/>
                    </a:lnTo>
                    <a:lnTo>
                      <a:pt x="534" y="996"/>
                    </a:lnTo>
                    <a:lnTo>
                      <a:pt x="538" y="992"/>
                    </a:lnTo>
                    <a:lnTo>
                      <a:pt x="540" y="990"/>
                    </a:lnTo>
                    <a:lnTo>
                      <a:pt x="540" y="990"/>
                    </a:lnTo>
                    <a:lnTo>
                      <a:pt x="540" y="986"/>
                    </a:lnTo>
                    <a:lnTo>
                      <a:pt x="536" y="984"/>
                    </a:lnTo>
                    <a:lnTo>
                      <a:pt x="530" y="980"/>
                    </a:lnTo>
                    <a:lnTo>
                      <a:pt x="530" y="980"/>
                    </a:lnTo>
                    <a:lnTo>
                      <a:pt x="528" y="986"/>
                    </a:lnTo>
                    <a:lnTo>
                      <a:pt x="522" y="988"/>
                    </a:lnTo>
                    <a:lnTo>
                      <a:pt x="522" y="988"/>
                    </a:lnTo>
                    <a:lnTo>
                      <a:pt x="526" y="984"/>
                    </a:lnTo>
                    <a:lnTo>
                      <a:pt x="530" y="982"/>
                    </a:lnTo>
                    <a:lnTo>
                      <a:pt x="530" y="978"/>
                    </a:lnTo>
                    <a:lnTo>
                      <a:pt x="530" y="978"/>
                    </a:lnTo>
                    <a:lnTo>
                      <a:pt x="518" y="976"/>
                    </a:lnTo>
                    <a:lnTo>
                      <a:pt x="510" y="976"/>
                    </a:lnTo>
                    <a:lnTo>
                      <a:pt x="504" y="976"/>
                    </a:lnTo>
                    <a:lnTo>
                      <a:pt x="504" y="976"/>
                    </a:lnTo>
                    <a:lnTo>
                      <a:pt x="502" y="982"/>
                    </a:lnTo>
                    <a:lnTo>
                      <a:pt x="504" y="986"/>
                    </a:lnTo>
                    <a:lnTo>
                      <a:pt x="508" y="992"/>
                    </a:lnTo>
                    <a:lnTo>
                      <a:pt x="514" y="998"/>
                    </a:lnTo>
                    <a:lnTo>
                      <a:pt x="518" y="1002"/>
                    </a:lnTo>
                    <a:lnTo>
                      <a:pt x="520" y="1006"/>
                    </a:lnTo>
                    <a:lnTo>
                      <a:pt x="520" y="1006"/>
                    </a:lnTo>
                    <a:lnTo>
                      <a:pt x="522" y="1006"/>
                    </a:lnTo>
                    <a:lnTo>
                      <a:pt x="524" y="1006"/>
                    </a:lnTo>
                    <a:lnTo>
                      <a:pt x="526" y="1004"/>
                    </a:lnTo>
                    <a:lnTo>
                      <a:pt x="526" y="1004"/>
                    </a:lnTo>
                    <a:lnTo>
                      <a:pt x="526" y="1006"/>
                    </a:lnTo>
                    <a:lnTo>
                      <a:pt x="524" y="1008"/>
                    </a:lnTo>
                    <a:lnTo>
                      <a:pt x="524" y="1008"/>
                    </a:lnTo>
                    <a:lnTo>
                      <a:pt x="558" y="1022"/>
                    </a:lnTo>
                    <a:lnTo>
                      <a:pt x="558" y="1022"/>
                    </a:lnTo>
                    <a:lnTo>
                      <a:pt x="554" y="1006"/>
                    </a:lnTo>
                    <a:lnTo>
                      <a:pt x="552" y="1000"/>
                    </a:lnTo>
                    <a:lnTo>
                      <a:pt x="548" y="996"/>
                    </a:lnTo>
                    <a:lnTo>
                      <a:pt x="548" y="996"/>
                    </a:lnTo>
                    <a:lnTo>
                      <a:pt x="542" y="1004"/>
                    </a:lnTo>
                    <a:lnTo>
                      <a:pt x="540" y="1006"/>
                    </a:lnTo>
                    <a:lnTo>
                      <a:pt x="534" y="1008"/>
                    </a:lnTo>
                    <a:lnTo>
                      <a:pt x="534" y="1008"/>
                    </a:lnTo>
                    <a:lnTo>
                      <a:pt x="532" y="1002"/>
                    </a:lnTo>
                    <a:lnTo>
                      <a:pt x="532" y="1002"/>
                    </a:lnTo>
                    <a:lnTo>
                      <a:pt x="338" y="982"/>
                    </a:lnTo>
                    <a:lnTo>
                      <a:pt x="338" y="982"/>
                    </a:lnTo>
                    <a:lnTo>
                      <a:pt x="340" y="984"/>
                    </a:lnTo>
                    <a:lnTo>
                      <a:pt x="344" y="986"/>
                    </a:lnTo>
                    <a:lnTo>
                      <a:pt x="348" y="986"/>
                    </a:lnTo>
                    <a:lnTo>
                      <a:pt x="352" y="986"/>
                    </a:lnTo>
                    <a:lnTo>
                      <a:pt x="352" y="986"/>
                    </a:lnTo>
                    <a:lnTo>
                      <a:pt x="348" y="984"/>
                    </a:lnTo>
                    <a:lnTo>
                      <a:pt x="346" y="982"/>
                    </a:lnTo>
                    <a:lnTo>
                      <a:pt x="346" y="978"/>
                    </a:lnTo>
                    <a:lnTo>
                      <a:pt x="342" y="978"/>
                    </a:lnTo>
                    <a:lnTo>
                      <a:pt x="342" y="978"/>
                    </a:lnTo>
                    <a:lnTo>
                      <a:pt x="340" y="980"/>
                    </a:lnTo>
                    <a:lnTo>
                      <a:pt x="338" y="980"/>
                    </a:lnTo>
                    <a:lnTo>
                      <a:pt x="338" y="982"/>
                    </a:lnTo>
                    <a:lnTo>
                      <a:pt x="338" y="982"/>
                    </a:lnTo>
                    <a:lnTo>
                      <a:pt x="364" y="986"/>
                    </a:lnTo>
                    <a:lnTo>
                      <a:pt x="364" y="986"/>
                    </a:lnTo>
                    <a:lnTo>
                      <a:pt x="362" y="984"/>
                    </a:lnTo>
                    <a:lnTo>
                      <a:pt x="360" y="982"/>
                    </a:lnTo>
                    <a:lnTo>
                      <a:pt x="360" y="982"/>
                    </a:lnTo>
                    <a:lnTo>
                      <a:pt x="360" y="986"/>
                    </a:lnTo>
                    <a:lnTo>
                      <a:pt x="360" y="988"/>
                    </a:lnTo>
                    <a:lnTo>
                      <a:pt x="362" y="988"/>
                    </a:lnTo>
                    <a:lnTo>
                      <a:pt x="364" y="986"/>
                    </a:lnTo>
                    <a:lnTo>
                      <a:pt x="364" y="986"/>
                    </a:lnTo>
                    <a:lnTo>
                      <a:pt x="352" y="978"/>
                    </a:lnTo>
                    <a:lnTo>
                      <a:pt x="352" y="978"/>
                    </a:lnTo>
                    <a:lnTo>
                      <a:pt x="356" y="984"/>
                    </a:lnTo>
                    <a:lnTo>
                      <a:pt x="356" y="986"/>
                    </a:lnTo>
                    <a:lnTo>
                      <a:pt x="360" y="988"/>
                    </a:lnTo>
                    <a:lnTo>
                      <a:pt x="360" y="988"/>
                    </a:lnTo>
                    <a:lnTo>
                      <a:pt x="356" y="980"/>
                    </a:lnTo>
                    <a:lnTo>
                      <a:pt x="354" y="978"/>
                    </a:lnTo>
                    <a:lnTo>
                      <a:pt x="352" y="978"/>
                    </a:lnTo>
                    <a:lnTo>
                      <a:pt x="352" y="978"/>
                    </a:lnTo>
                    <a:lnTo>
                      <a:pt x="682" y="1018"/>
                    </a:lnTo>
                    <a:lnTo>
                      <a:pt x="682" y="1018"/>
                    </a:lnTo>
                    <a:lnTo>
                      <a:pt x="688" y="1016"/>
                    </a:lnTo>
                    <a:lnTo>
                      <a:pt x="694" y="1016"/>
                    </a:lnTo>
                    <a:lnTo>
                      <a:pt x="698" y="1020"/>
                    </a:lnTo>
                    <a:lnTo>
                      <a:pt x="700" y="1022"/>
                    </a:lnTo>
                    <a:lnTo>
                      <a:pt x="700" y="1028"/>
                    </a:lnTo>
                    <a:lnTo>
                      <a:pt x="698" y="1032"/>
                    </a:lnTo>
                    <a:lnTo>
                      <a:pt x="694" y="1034"/>
                    </a:lnTo>
                    <a:lnTo>
                      <a:pt x="686" y="1036"/>
                    </a:lnTo>
                    <a:lnTo>
                      <a:pt x="686" y="1036"/>
                    </a:lnTo>
                    <a:lnTo>
                      <a:pt x="688" y="1042"/>
                    </a:lnTo>
                    <a:lnTo>
                      <a:pt x="692" y="1048"/>
                    </a:lnTo>
                    <a:lnTo>
                      <a:pt x="698" y="1050"/>
                    </a:lnTo>
                    <a:lnTo>
                      <a:pt x="702" y="1054"/>
                    </a:lnTo>
                    <a:lnTo>
                      <a:pt x="702" y="1054"/>
                    </a:lnTo>
                    <a:lnTo>
                      <a:pt x="716" y="1052"/>
                    </a:lnTo>
                    <a:lnTo>
                      <a:pt x="726" y="1046"/>
                    </a:lnTo>
                    <a:lnTo>
                      <a:pt x="726" y="1046"/>
                    </a:lnTo>
                    <a:lnTo>
                      <a:pt x="728" y="1042"/>
                    </a:lnTo>
                    <a:lnTo>
                      <a:pt x="728" y="1034"/>
                    </a:lnTo>
                    <a:lnTo>
                      <a:pt x="728" y="1034"/>
                    </a:lnTo>
                    <a:lnTo>
                      <a:pt x="722" y="1028"/>
                    </a:lnTo>
                    <a:lnTo>
                      <a:pt x="720" y="1024"/>
                    </a:lnTo>
                    <a:lnTo>
                      <a:pt x="724" y="1020"/>
                    </a:lnTo>
                    <a:lnTo>
                      <a:pt x="724" y="1020"/>
                    </a:lnTo>
                    <a:lnTo>
                      <a:pt x="728" y="1026"/>
                    </a:lnTo>
                    <a:lnTo>
                      <a:pt x="728" y="1026"/>
                    </a:lnTo>
                    <a:lnTo>
                      <a:pt x="730" y="1022"/>
                    </a:lnTo>
                    <a:lnTo>
                      <a:pt x="732" y="1018"/>
                    </a:lnTo>
                    <a:lnTo>
                      <a:pt x="732" y="1018"/>
                    </a:lnTo>
                    <a:lnTo>
                      <a:pt x="716" y="1008"/>
                    </a:lnTo>
                    <a:lnTo>
                      <a:pt x="700" y="998"/>
                    </a:lnTo>
                    <a:lnTo>
                      <a:pt x="686" y="988"/>
                    </a:lnTo>
                    <a:lnTo>
                      <a:pt x="670" y="978"/>
                    </a:lnTo>
                    <a:lnTo>
                      <a:pt x="670" y="978"/>
                    </a:lnTo>
                    <a:lnTo>
                      <a:pt x="672" y="990"/>
                    </a:lnTo>
                    <a:lnTo>
                      <a:pt x="674" y="998"/>
                    </a:lnTo>
                    <a:lnTo>
                      <a:pt x="678" y="1008"/>
                    </a:lnTo>
                    <a:lnTo>
                      <a:pt x="682" y="1018"/>
                    </a:lnTo>
                    <a:lnTo>
                      <a:pt x="682" y="1018"/>
                    </a:lnTo>
                    <a:lnTo>
                      <a:pt x="1594" y="986"/>
                    </a:lnTo>
                    <a:lnTo>
                      <a:pt x="1594" y="986"/>
                    </a:lnTo>
                    <a:lnTo>
                      <a:pt x="1602" y="988"/>
                    </a:lnTo>
                    <a:lnTo>
                      <a:pt x="1606" y="988"/>
                    </a:lnTo>
                    <a:lnTo>
                      <a:pt x="1606" y="984"/>
                    </a:lnTo>
                    <a:lnTo>
                      <a:pt x="1606" y="984"/>
                    </a:lnTo>
                    <a:lnTo>
                      <a:pt x="1600" y="984"/>
                    </a:lnTo>
                    <a:lnTo>
                      <a:pt x="1594" y="986"/>
                    </a:lnTo>
                    <a:lnTo>
                      <a:pt x="1594" y="986"/>
                    </a:lnTo>
                    <a:lnTo>
                      <a:pt x="572" y="1004"/>
                    </a:lnTo>
                    <a:lnTo>
                      <a:pt x="572" y="1004"/>
                    </a:lnTo>
                    <a:lnTo>
                      <a:pt x="570" y="998"/>
                    </a:lnTo>
                    <a:lnTo>
                      <a:pt x="564" y="992"/>
                    </a:lnTo>
                    <a:lnTo>
                      <a:pt x="560" y="988"/>
                    </a:lnTo>
                    <a:lnTo>
                      <a:pt x="554" y="986"/>
                    </a:lnTo>
                    <a:lnTo>
                      <a:pt x="554" y="986"/>
                    </a:lnTo>
                    <a:lnTo>
                      <a:pt x="562" y="996"/>
                    </a:lnTo>
                    <a:lnTo>
                      <a:pt x="566" y="1002"/>
                    </a:lnTo>
                    <a:lnTo>
                      <a:pt x="572" y="1004"/>
                    </a:lnTo>
                    <a:lnTo>
                      <a:pt x="572" y="1004"/>
                    </a:lnTo>
                    <a:lnTo>
                      <a:pt x="744" y="990"/>
                    </a:lnTo>
                    <a:lnTo>
                      <a:pt x="744" y="990"/>
                    </a:lnTo>
                    <a:lnTo>
                      <a:pt x="744" y="992"/>
                    </a:lnTo>
                    <a:lnTo>
                      <a:pt x="742" y="996"/>
                    </a:lnTo>
                    <a:lnTo>
                      <a:pt x="742" y="1000"/>
                    </a:lnTo>
                    <a:lnTo>
                      <a:pt x="742" y="1002"/>
                    </a:lnTo>
                    <a:lnTo>
                      <a:pt x="742" y="1002"/>
                    </a:lnTo>
                    <a:lnTo>
                      <a:pt x="746" y="998"/>
                    </a:lnTo>
                    <a:lnTo>
                      <a:pt x="746" y="994"/>
                    </a:lnTo>
                    <a:lnTo>
                      <a:pt x="744" y="990"/>
                    </a:lnTo>
                    <a:lnTo>
                      <a:pt x="744" y="990"/>
                    </a:lnTo>
                    <a:lnTo>
                      <a:pt x="1642" y="1010"/>
                    </a:lnTo>
                    <a:lnTo>
                      <a:pt x="1642" y="1010"/>
                    </a:lnTo>
                    <a:lnTo>
                      <a:pt x="1646" y="1008"/>
                    </a:lnTo>
                    <a:lnTo>
                      <a:pt x="1650" y="1004"/>
                    </a:lnTo>
                    <a:lnTo>
                      <a:pt x="1650" y="1004"/>
                    </a:lnTo>
                    <a:lnTo>
                      <a:pt x="1648" y="998"/>
                    </a:lnTo>
                    <a:lnTo>
                      <a:pt x="1648" y="996"/>
                    </a:lnTo>
                    <a:lnTo>
                      <a:pt x="1646" y="994"/>
                    </a:lnTo>
                    <a:lnTo>
                      <a:pt x="1646" y="994"/>
                    </a:lnTo>
                    <a:lnTo>
                      <a:pt x="1646" y="1000"/>
                    </a:lnTo>
                    <a:lnTo>
                      <a:pt x="1644" y="1002"/>
                    </a:lnTo>
                    <a:lnTo>
                      <a:pt x="1642" y="1010"/>
                    </a:lnTo>
                    <a:lnTo>
                      <a:pt x="1642" y="1010"/>
                    </a:lnTo>
                    <a:lnTo>
                      <a:pt x="294" y="1012"/>
                    </a:lnTo>
                    <a:lnTo>
                      <a:pt x="294" y="1012"/>
                    </a:lnTo>
                    <a:lnTo>
                      <a:pt x="288" y="1008"/>
                    </a:lnTo>
                    <a:lnTo>
                      <a:pt x="286" y="1006"/>
                    </a:lnTo>
                    <a:lnTo>
                      <a:pt x="284" y="1008"/>
                    </a:lnTo>
                    <a:lnTo>
                      <a:pt x="284" y="1008"/>
                    </a:lnTo>
                    <a:lnTo>
                      <a:pt x="288" y="1012"/>
                    </a:lnTo>
                    <a:lnTo>
                      <a:pt x="290" y="1012"/>
                    </a:lnTo>
                    <a:lnTo>
                      <a:pt x="294" y="1012"/>
                    </a:lnTo>
                    <a:lnTo>
                      <a:pt x="294" y="1012"/>
                    </a:lnTo>
                    <a:lnTo>
                      <a:pt x="1286" y="1020"/>
                    </a:lnTo>
                    <a:lnTo>
                      <a:pt x="1286" y="1020"/>
                    </a:lnTo>
                    <a:lnTo>
                      <a:pt x="1290" y="1022"/>
                    </a:lnTo>
                    <a:lnTo>
                      <a:pt x="1294" y="1024"/>
                    </a:lnTo>
                    <a:lnTo>
                      <a:pt x="1294" y="1024"/>
                    </a:lnTo>
                    <a:lnTo>
                      <a:pt x="1294" y="1016"/>
                    </a:lnTo>
                    <a:lnTo>
                      <a:pt x="1294" y="1012"/>
                    </a:lnTo>
                    <a:lnTo>
                      <a:pt x="1292" y="1008"/>
                    </a:lnTo>
                    <a:lnTo>
                      <a:pt x="1292" y="1008"/>
                    </a:lnTo>
                    <a:lnTo>
                      <a:pt x="1288" y="1014"/>
                    </a:lnTo>
                    <a:lnTo>
                      <a:pt x="1286" y="1020"/>
                    </a:lnTo>
                    <a:lnTo>
                      <a:pt x="1286" y="1020"/>
                    </a:lnTo>
                    <a:lnTo>
                      <a:pt x="746" y="1018"/>
                    </a:lnTo>
                    <a:lnTo>
                      <a:pt x="746" y="1018"/>
                    </a:lnTo>
                    <a:lnTo>
                      <a:pt x="748" y="1018"/>
                    </a:lnTo>
                    <a:lnTo>
                      <a:pt x="750" y="1018"/>
                    </a:lnTo>
                    <a:lnTo>
                      <a:pt x="750" y="1018"/>
                    </a:lnTo>
                    <a:lnTo>
                      <a:pt x="752" y="1018"/>
                    </a:lnTo>
                    <a:lnTo>
                      <a:pt x="752" y="1018"/>
                    </a:lnTo>
                    <a:lnTo>
                      <a:pt x="750" y="1016"/>
                    </a:lnTo>
                    <a:lnTo>
                      <a:pt x="750" y="1014"/>
                    </a:lnTo>
                    <a:lnTo>
                      <a:pt x="750" y="1014"/>
                    </a:lnTo>
                    <a:lnTo>
                      <a:pt x="748" y="1012"/>
                    </a:lnTo>
                    <a:lnTo>
                      <a:pt x="748" y="1012"/>
                    </a:lnTo>
                    <a:lnTo>
                      <a:pt x="746" y="1014"/>
                    </a:lnTo>
                    <a:lnTo>
                      <a:pt x="746" y="1016"/>
                    </a:lnTo>
                    <a:lnTo>
                      <a:pt x="746" y="1018"/>
                    </a:lnTo>
                    <a:lnTo>
                      <a:pt x="746" y="1018"/>
                    </a:lnTo>
                    <a:lnTo>
                      <a:pt x="748" y="1012"/>
                    </a:lnTo>
                    <a:lnTo>
                      <a:pt x="748" y="1012"/>
                    </a:lnTo>
                    <a:lnTo>
                      <a:pt x="744" y="1012"/>
                    </a:lnTo>
                    <a:lnTo>
                      <a:pt x="742" y="1010"/>
                    </a:lnTo>
                    <a:lnTo>
                      <a:pt x="742" y="1010"/>
                    </a:lnTo>
                    <a:lnTo>
                      <a:pt x="742" y="1016"/>
                    </a:lnTo>
                    <a:lnTo>
                      <a:pt x="742" y="1016"/>
                    </a:lnTo>
                    <a:lnTo>
                      <a:pt x="746" y="1014"/>
                    </a:lnTo>
                    <a:lnTo>
                      <a:pt x="748" y="1012"/>
                    </a:lnTo>
                    <a:lnTo>
                      <a:pt x="748" y="1012"/>
                    </a:lnTo>
                    <a:lnTo>
                      <a:pt x="638" y="1016"/>
                    </a:lnTo>
                    <a:lnTo>
                      <a:pt x="638" y="1016"/>
                    </a:lnTo>
                    <a:lnTo>
                      <a:pt x="638" y="1016"/>
                    </a:lnTo>
                    <a:lnTo>
                      <a:pt x="638" y="1014"/>
                    </a:lnTo>
                    <a:lnTo>
                      <a:pt x="640" y="1014"/>
                    </a:lnTo>
                    <a:lnTo>
                      <a:pt x="640" y="1012"/>
                    </a:lnTo>
                    <a:lnTo>
                      <a:pt x="640" y="1012"/>
                    </a:lnTo>
                    <a:lnTo>
                      <a:pt x="636" y="1012"/>
                    </a:lnTo>
                    <a:lnTo>
                      <a:pt x="632" y="1012"/>
                    </a:lnTo>
                    <a:lnTo>
                      <a:pt x="628" y="1012"/>
                    </a:lnTo>
                    <a:lnTo>
                      <a:pt x="624" y="1012"/>
                    </a:lnTo>
                    <a:lnTo>
                      <a:pt x="624" y="1012"/>
                    </a:lnTo>
                    <a:lnTo>
                      <a:pt x="628" y="1014"/>
                    </a:lnTo>
                    <a:lnTo>
                      <a:pt x="632" y="1016"/>
                    </a:lnTo>
                    <a:lnTo>
                      <a:pt x="636" y="1016"/>
                    </a:lnTo>
                    <a:lnTo>
                      <a:pt x="638" y="1016"/>
                    </a:lnTo>
                    <a:lnTo>
                      <a:pt x="638" y="1016"/>
                    </a:lnTo>
                    <a:lnTo>
                      <a:pt x="276" y="1016"/>
                    </a:lnTo>
                    <a:lnTo>
                      <a:pt x="276" y="1016"/>
                    </a:lnTo>
                    <a:lnTo>
                      <a:pt x="290" y="1024"/>
                    </a:lnTo>
                    <a:lnTo>
                      <a:pt x="304" y="1032"/>
                    </a:lnTo>
                    <a:lnTo>
                      <a:pt x="304" y="1032"/>
                    </a:lnTo>
                    <a:lnTo>
                      <a:pt x="304" y="1028"/>
                    </a:lnTo>
                    <a:lnTo>
                      <a:pt x="306" y="1028"/>
                    </a:lnTo>
                    <a:lnTo>
                      <a:pt x="306" y="1028"/>
                    </a:lnTo>
                    <a:lnTo>
                      <a:pt x="306" y="1032"/>
                    </a:lnTo>
                    <a:lnTo>
                      <a:pt x="306" y="1034"/>
                    </a:lnTo>
                    <a:lnTo>
                      <a:pt x="306" y="1032"/>
                    </a:lnTo>
                    <a:lnTo>
                      <a:pt x="306" y="1032"/>
                    </a:lnTo>
                    <a:lnTo>
                      <a:pt x="306" y="1026"/>
                    </a:lnTo>
                    <a:lnTo>
                      <a:pt x="306" y="1024"/>
                    </a:lnTo>
                    <a:lnTo>
                      <a:pt x="306" y="1020"/>
                    </a:lnTo>
                    <a:lnTo>
                      <a:pt x="306" y="1020"/>
                    </a:lnTo>
                    <a:lnTo>
                      <a:pt x="302" y="1016"/>
                    </a:lnTo>
                    <a:lnTo>
                      <a:pt x="302" y="1016"/>
                    </a:lnTo>
                    <a:lnTo>
                      <a:pt x="304" y="1016"/>
                    </a:lnTo>
                    <a:lnTo>
                      <a:pt x="306" y="1014"/>
                    </a:lnTo>
                    <a:lnTo>
                      <a:pt x="306" y="1014"/>
                    </a:lnTo>
                    <a:lnTo>
                      <a:pt x="292" y="1014"/>
                    </a:lnTo>
                    <a:lnTo>
                      <a:pt x="276" y="1016"/>
                    </a:lnTo>
                    <a:lnTo>
                      <a:pt x="276" y="1016"/>
                    </a:lnTo>
                    <a:lnTo>
                      <a:pt x="494" y="1018"/>
                    </a:lnTo>
                    <a:lnTo>
                      <a:pt x="494" y="1018"/>
                    </a:lnTo>
                    <a:lnTo>
                      <a:pt x="494" y="1016"/>
                    </a:lnTo>
                    <a:lnTo>
                      <a:pt x="496" y="1014"/>
                    </a:lnTo>
                    <a:lnTo>
                      <a:pt x="496" y="1014"/>
                    </a:lnTo>
                    <a:lnTo>
                      <a:pt x="480" y="1018"/>
                    </a:lnTo>
                    <a:lnTo>
                      <a:pt x="480" y="1018"/>
                    </a:lnTo>
                    <a:lnTo>
                      <a:pt x="480" y="1020"/>
                    </a:lnTo>
                    <a:lnTo>
                      <a:pt x="480" y="1020"/>
                    </a:lnTo>
                    <a:lnTo>
                      <a:pt x="482" y="1022"/>
                    </a:lnTo>
                    <a:lnTo>
                      <a:pt x="480" y="1022"/>
                    </a:lnTo>
                    <a:lnTo>
                      <a:pt x="480" y="1022"/>
                    </a:lnTo>
                    <a:lnTo>
                      <a:pt x="480" y="1022"/>
                    </a:lnTo>
                    <a:lnTo>
                      <a:pt x="480" y="1024"/>
                    </a:lnTo>
                    <a:lnTo>
                      <a:pt x="480" y="1024"/>
                    </a:lnTo>
                    <a:lnTo>
                      <a:pt x="484" y="1022"/>
                    </a:lnTo>
                    <a:lnTo>
                      <a:pt x="488" y="1020"/>
                    </a:lnTo>
                    <a:lnTo>
                      <a:pt x="492" y="1018"/>
                    </a:lnTo>
                    <a:lnTo>
                      <a:pt x="494" y="1018"/>
                    </a:lnTo>
                    <a:lnTo>
                      <a:pt x="494" y="1018"/>
                    </a:lnTo>
                    <a:lnTo>
                      <a:pt x="1366" y="1030"/>
                    </a:lnTo>
                    <a:lnTo>
                      <a:pt x="1366" y="1030"/>
                    </a:lnTo>
                    <a:lnTo>
                      <a:pt x="1372" y="1030"/>
                    </a:lnTo>
                    <a:lnTo>
                      <a:pt x="1376" y="1030"/>
                    </a:lnTo>
                    <a:lnTo>
                      <a:pt x="1384" y="1026"/>
                    </a:lnTo>
                    <a:lnTo>
                      <a:pt x="1392" y="1020"/>
                    </a:lnTo>
                    <a:lnTo>
                      <a:pt x="1396" y="1014"/>
                    </a:lnTo>
                    <a:lnTo>
                      <a:pt x="1396" y="1014"/>
                    </a:lnTo>
                    <a:lnTo>
                      <a:pt x="1380" y="1022"/>
                    </a:lnTo>
                    <a:lnTo>
                      <a:pt x="1374" y="1026"/>
                    </a:lnTo>
                    <a:lnTo>
                      <a:pt x="1366" y="1030"/>
                    </a:lnTo>
                    <a:lnTo>
                      <a:pt x="1366" y="1030"/>
                    </a:lnTo>
                    <a:lnTo>
                      <a:pt x="1418" y="1014"/>
                    </a:lnTo>
                    <a:lnTo>
                      <a:pt x="1418" y="1014"/>
                    </a:lnTo>
                    <a:lnTo>
                      <a:pt x="1412" y="1016"/>
                    </a:lnTo>
                    <a:lnTo>
                      <a:pt x="1408" y="1020"/>
                    </a:lnTo>
                    <a:lnTo>
                      <a:pt x="1398" y="1032"/>
                    </a:lnTo>
                    <a:lnTo>
                      <a:pt x="1398" y="1032"/>
                    </a:lnTo>
                    <a:lnTo>
                      <a:pt x="1436" y="1030"/>
                    </a:lnTo>
                    <a:lnTo>
                      <a:pt x="1474" y="1024"/>
                    </a:lnTo>
                    <a:lnTo>
                      <a:pt x="1474" y="1024"/>
                    </a:lnTo>
                    <a:lnTo>
                      <a:pt x="1470" y="1020"/>
                    </a:lnTo>
                    <a:lnTo>
                      <a:pt x="1462" y="1018"/>
                    </a:lnTo>
                    <a:lnTo>
                      <a:pt x="1448" y="1016"/>
                    </a:lnTo>
                    <a:lnTo>
                      <a:pt x="1448" y="1016"/>
                    </a:lnTo>
                    <a:lnTo>
                      <a:pt x="1448" y="1016"/>
                    </a:lnTo>
                    <a:lnTo>
                      <a:pt x="1448" y="1018"/>
                    </a:lnTo>
                    <a:lnTo>
                      <a:pt x="1452" y="1022"/>
                    </a:lnTo>
                    <a:lnTo>
                      <a:pt x="1452" y="1024"/>
                    </a:lnTo>
                    <a:lnTo>
                      <a:pt x="1452" y="1024"/>
                    </a:lnTo>
                    <a:lnTo>
                      <a:pt x="1442" y="1024"/>
                    </a:lnTo>
                    <a:lnTo>
                      <a:pt x="1434" y="1020"/>
                    </a:lnTo>
                    <a:lnTo>
                      <a:pt x="1426" y="1016"/>
                    </a:lnTo>
                    <a:lnTo>
                      <a:pt x="1418" y="1014"/>
                    </a:lnTo>
                    <a:lnTo>
                      <a:pt x="1418" y="1014"/>
                    </a:lnTo>
                    <a:lnTo>
                      <a:pt x="268" y="1020"/>
                    </a:lnTo>
                    <a:lnTo>
                      <a:pt x="268" y="1020"/>
                    </a:lnTo>
                    <a:lnTo>
                      <a:pt x="274" y="1024"/>
                    </a:lnTo>
                    <a:lnTo>
                      <a:pt x="276" y="1026"/>
                    </a:lnTo>
                    <a:lnTo>
                      <a:pt x="278" y="1028"/>
                    </a:lnTo>
                    <a:lnTo>
                      <a:pt x="278" y="1028"/>
                    </a:lnTo>
                    <a:lnTo>
                      <a:pt x="276" y="1034"/>
                    </a:lnTo>
                    <a:lnTo>
                      <a:pt x="272" y="1038"/>
                    </a:lnTo>
                    <a:lnTo>
                      <a:pt x="262" y="1042"/>
                    </a:lnTo>
                    <a:lnTo>
                      <a:pt x="262" y="1042"/>
                    </a:lnTo>
                    <a:lnTo>
                      <a:pt x="268" y="1046"/>
                    </a:lnTo>
                    <a:lnTo>
                      <a:pt x="272" y="1054"/>
                    </a:lnTo>
                    <a:lnTo>
                      <a:pt x="276" y="1060"/>
                    </a:lnTo>
                    <a:lnTo>
                      <a:pt x="284" y="1064"/>
                    </a:lnTo>
                    <a:lnTo>
                      <a:pt x="284" y="1064"/>
                    </a:lnTo>
                    <a:lnTo>
                      <a:pt x="280" y="1064"/>
                    </a:lnTo>
                    <a:lnTo>
                      <a:pt x="280" y="1066"/>
                    </a:lnTo>
                    <a:lnTo>
                      <a:pt x="280" y="1066"/>
                    </a:lnTo>
                    <a:lnTo>
                      <a:pt x="280" y="1068"/>
                    </a:lnTo>
                    <a:lnTo>
                      <a:pt x="280" y="1068"/>
                    </a:lnTo>
                    <a:lnTo>
                      <a:pt x="286" y="1068"/>
                    </a:lnTo>
                    <a:lnTo>
                      <a:pt x="288" y="1066"/>
                    </a:lnTo>
                    <a:lnTo>
                      <a:pt x="288" y="1066"/>
                    </a:lnTo>
                    <a:lnTo>
                      <a:pt x="286" y="1062"/>
                    </a:lnTo>
                    <a:lnTo>
                      <a:pt x="286" y="1058"/>
                    </a:lnTo>
                    <a:lnTo>
                      <a:pt x="290" y="1050"/>
                    </a:lnTo>
                    <a:lnTo>
                      <a:pt x="304" y="1036"/>
                    </a:lnTo>
                    <a:lnTo>
                      <a:pt x="304" y="1036"/>
                    </a:lnTo>
                    <a:lnTo>
                      <a:pt x="296" y="1030"/>
                    </a:lnTo>
                    <a:lnTo>
                      <a:pt x="288" y="1026"/>
                    </a:lnTo>
                    <a:lnTo>
                      <a:pt x="278" y="1022"/>
                    </a:lnTo>
                    <a:lnTo>
                      <a:pt x="268" y="1020"/>
                    </a:lnTo>
                    <a:lnTo>
                      <a:pt x="268" y="1020"/>
                    </a:lnTo>
                    <a:lnTo>
                      <a:pt x="324" y="1028"/>
                    </a:lnTo>
                    <a:lnTo>
                      <a:pt x="324" y="1028"/>
                    </a:lnTo>
                    <a:lnTo>
                      <a:pt x="324" y="1024"/>
                    </a:lnTo>
                    <a:lnTo>
                      <a:pt x="322" y="1022"/>
                    </a:lnTo>
                    <a:lnTo>
                      <a:pt x="318" y="1018"/>
                    </a:lnTo>
                    <a:lnTo>
                      <a:pt x="318" y="1018"/>
                    </a:lnTo>
                    <a:lnTo>
                      <a:pt x="318" y="1022"/>
                    </a:lnTo>
                    <a:lnTo>
                      <a:pt x="318" y="1026"/>
                    </a:lnTo>
                    <a:lnTo>
                      <a:pt x="320" y="1026"/>
                    </a:lnTo>
                    <a:lnTo>
                      <a:pt x="324" y="1028"/>
                    </a:lnTo>
                    <a:lnTo>
                      <a:pt x="324" y="1028"/>
                    </a:lnTo>
                    <a:lnTo>
                      <a:pt x="1668" y="1026"/>
                    </a:lnTo>
                    <a:lnTo>
                      <a:pt x="1668" y="1026"/>
                    </a:lnTo>
                    <a:lnTo>
                      <a:pt x="1666" y="1024"/>
                    </a:lnTo>
                    <a:lnTo>
                      <a:pt x="1666" y="1024"/>
                    </a:lnTo>
                    <a:lnTo>
                      <a:pt x="1666" y="1022"/>
                    </a:lnTo>
                    <a:lnTo>
                      <a:pt x="1664" y="1020"/>
                    </a:lnTo>
                    <a:lnTo>
                      <a:pt x="1664" y="1020"/>
                    </a:lnTo>
                    <a:lnTo>
                      <a:pt x="1662" y="1024"/>
                    </a:lnTo>
                    <a:lnTo>
                      <a:pt x="1658" y="1028"/>
                    </a:lnTo>
                    <a:lnTo>
                      <a:pt x="1654" y="1028"/>
                    </a:lnTo>
                    <a:lnTo>
                      <a:pt x="1650" y="1032"/>
                    </a:lnTo>
                    <a:lnTo>
                      <a:pt x="1650" y="1032"/>
                    </a:lnTo>
                    <a:lnTo>
                      <a:pt x="1658" y="1034"/>
                    </a:lnTo>
                    <a:lnTo>
                      <a:pt x="1668" y="1034"/>
                    </a:lnTo>
                    <a:lnTo>
                      <a:pt x="1668" y="1034"/>
                    </a:lnTo>
                    <a:lnTo>
                      <a:pt x="1670" y="1032"/>
                    </a:lnTo>
                    <a:lnTo>
                      <a:pt x="1670" y="1030"/>
                    </a:lnTo>
                    <a:lnTo>
                      <a:pt x="1668" y="1028"/>
                    </a:lnTo>
                    <a:lnTo>
                      <a:pt x="1670" y="1026"/>
                    </a:lnTo>
                    <a:lnTo>
                      <a:pt x="1670" y="1026"/>
                    </a:lnTo>
                    <a:lnTo>
                      <a:pt x="1672" y="1032"/>
                    </a:lnTo>
                    <a:lnTo>
                      <a:pt x="1672" y="1032"/>
                    </a:lnTo>
                    <a:lnTo>
                      <a:pt x="1684" y="1028"/>
                    </a:lnTo>
                    <a:lnTo>
                      <a:pt x="1688" y="1026"/>
                    </a:lnTo>
                    <a:lnTo>
                      <a:pt x="1690" y="1024"/>
                    </a:lnTo>
                    <a:lnTo>
                      <a:pt x="1690" y="1020"/>
                    </a:lnTo>
                    <a:lnTo>
                      <a:pt x="1690" y="1020"/>
                    </a:lnTo>
                    <a:lnTo>
                      <a:pt x="1684" y="1020"/>
                    </a:lnTo>
                    <a:lnTo>
                      <a:pt x="1678" y="1020"/>
                    </a:lnTo>
                    <a:lnTo>
                      <a:pt x="1674" y="1018"/>
                    </a:lnTo>
                    <a:lnTo>
                      <a:pt x="1668" y="1018"/>
                    </a:lnTo>
                    <a:lnTo>
                      <a:pt x="1668" y="1018"/>
                    </a:lnTo>
                    <a:lnTo>
                      <a:pt x="1668" y="1022"/>
                    </a:lnTo>
                    <a:lnTo>
                      <a:pt x="1668" y="1026"/>
                    </a:lnTo>
                    <a:lnTo>
                      <a:pt x="1668" y="1026"/>
                    </a:lnTo>
                    <a:lnTo>
                      <a:pt x="1728" y="1018"/>
                    </a:lnTo>
                    <a:lnTo>
                      <a:pt x="1728" y="1018"/>
                    </a:lnTo>
                    <a:lnTo>
                      <a:pt x="1718" y="1020"/>
                    </a:lnTo>
                    <a:lnTo>
                      <a:pt x="1708" y="1020"/>
                    </a:lnTo>
                    <a:lnTo>
                      <a:pt x="1698" y="1022"/>
                    </a:lnTo>
                    <a:lnTo>
                      <a:pt x="1696" y="1024"/>
                    </a:lnTo>
                    <a:lnTo>
                      <a:pt x="1694" y="1026"/>
                    </a:lnTo>
                    <a:lnTo>
                      <a:pt x="1694" y="1026"/>
                    </a:lnTo>
                    <a:lnTo>
                      <a:pt x="1702" y="1026"/>
                    </a:lnTo>
                    <a:lnTo>
                      <a:pt x="1714" y="1026"/>
                    </a:lnTo>
                    <a:lnTo>
                      <a:pt x="1724" y="1024"/>
                    </a:lnTo>
                    <a:lnTo>
                      <a:pt x="1726" y="1022"/>
                    </a:lnTo>
                    <a:lnTo>
                      <a:pt x="1728" y="1018"/>
                    </a:lnTo>
                    <a:lnTo>
                      <a:pt x="1728" y="1018"/>
                    </a:lnTo>
                    <a:lnTo>
                      <a:pt x="344" y="1022"/>
                    </a:lnTo>
                    <a:lnTo>
                      <a:pt x="344" y="1022"/>
                    </a:lnTo>
                    <a:lnTo>
                      <a:pt x="346" y="1024"/>
                    </a:lnTo>
                    <a:lnTo>
                      <a:pt x="348" y="1028"/>
                    </a:lnTo>
                    <a:lnTo>
                      <a:pt x="348" y="1032"/>
                    </a:lnTo>
                    <a:lnTo>
                      <a:pt x="346" y="1036"/>
                    </a:lnTo>
                    <a:lnTo>
                      <a:pt x="346" y="1036"/>
                    </a:lnTo>
                    <a:lnTo>
                      <a:pt x="352" y="1038"/>
                    </a:lnTo>
                    <a:lnTo>
                      <a:pt x="356" y="1038"/>
                    </a:lnTo>
                    <a:lnTo>
                      <a:pt x="358" y="1036"/>
                    </a:lnTo>
                    <a:lnTo>
                      <a:pt x="358" y="1036"/>
                    </a:lnTo>
                    <a:lnTo>
                      <a:pt x="362" y="1042"/>
                    </a:lnTo>
                    <a:lnTo>
                      <a:pt x="370" y="1044"/>
                    </a:lnTo>
                    <a:lnTo>
                      <a:pt x="386" y="1048"/>
                    </a:lnTo>
                    <a:lnTo>
                      <a:pt x="386" y="1048"/>
                    </a:lnTo>
                    <a:lnTo>
                      <a:pt x="382" y="1042"/>
                    </a:lnTo>
                    <a:lnTo>
                      <a:pt x="378" y="1036"/>
                    </a:lnTo>
                    <a:lnTo>
                      <a:pt x="374" y="1030"/>
                    </a:lnTo>
                    <a:lnTo>
                      <a:pt x="368" y="1028"/>
                    </a:lnTo>
                    <a:lnTo>
                      <a:pt x="356" y="1022"/>
                    </a:lnTo>
                    <a:lnTo>
                      <a:pt x="350" y="1022"/>
                    </a:lnTo>
                    <a:lnTo>
                      <a:pt x="344" y="1022"/>
                    </a:lnTo>
                    <a:lnTo>
                      <a:pt x="344" y="1022"/>
                    </a:lnTo>
                    <a:lnTo>
                      <a:pt x="1628" y="1020"/>
                    </a:lnTo>
                    <a:lnTo>
                      <a:pt x="1628" y="1020"/>
                    </a:lnTo>
                    <a:lnTo>
                      <a:pt x="1618" y="1028"/>
                    </a:lnTo>
                    <a:lnTo>
                      <a:pt x="1608" y="1034"/>
                    </a:lnTo>
                    <a:lnTo>
                      <a:pt x="1608" y="1034"/>
                    </a:lnTo>
                    <a:lnTo>
                      <a:pt x="1626" y="1036"/>
                    </a:lnTo>
                    <a:lnTo>
                      <a:pt x="1634" y="1036"/>
                    </a:lnTo>
                    <a:lnTo>
                      <a:pt x="1642" y="1034"/>
                    </a:lnTo>
                    <a:lnTo>
                      <a:pt x="1642" y="1034"/>
                    </a:lnTo>
                    <a:lnTo>
                      <a:pt x="1636" y="1026"/>
                    </a:lnTo>
                    <a:lnTo>
                      <a:pt x="1632" y="1022"/>
                    </a:lnTo>
                    <a:lnTo>
                      <a:pt x="1628" y="1020"/>
                    </a:lnTo>
                    <a:lnTo>
                      <a:pt x="1628" y="1020"/>
                    </a:lnTo>
                    <a:lnTo>
                      <a:pt x="608" y="1022"/>
                    </a:lnTo>
                    <a:lnTo>
                      <a:pt x="608" y="1022"/>
                    </a:lnTo>
                    <a:lnTo>
                      <a:pt x="604" y="1028"/>
                    </a:lnTo>
                    <a:lnTo>
                      <a:pt x="600" y="1036"/>
                    </a:lnTo>
                    <a:lnTo>
                      <a:pt x="600" y="1036"/>
                    </a:lnTo>
                    <a:lnTo>
                      <a:pt x="608" y="1042"/>
                    </a:lnTo>
                    <a:lnTo>
                      <a:pt x="616" y="1046"/>
                    </a:lnTo>
                    <a:lnTo>
                      <a:pt x="616" y="1046"/>
                    </a:lnTo>
                    <a:lnTo>
                      <a:pt x="622" y="1042"/>
                    </a:lnTo>
                    <a:lnTo>
                      <a:pt x="630" y="1036"/>
                    </a:lnTo>
                    <a:lnTo>
                      <a:pt x="630" y="1036"/>
                    </a:lnTo>
                    <a:lnTo>
                      <a:pt x="634" y="1040"/>
                    </a:lnTo>
                    <a:lnTo>
                      <a:pt x="640" y="1044"/>
                    </a:lnTo>
                    <a:lnTo>
                      <a:pt x="646" y="1048"/>
                    </a:lnTo>
                    <a:lnTo>
                      <a:pt x="652" y="1048"/>
                    </a:lnTo>
                    <a:lnTo>
                      <a:pt x="652" y="1048"/>
                    </a:lnTo>
                    <a:lnTo>
                      <a:pt x="644" y="1040"/>
                    </a:lnTo>
                    <a:lnTo>
                      <a:pt x="634" y="1032"/>
                    </a:lnTo>
                    <a:lnTo>
                      <a:pt x="622" y="1026"/>
                    </a:lnTo>
                    <a:lnTo>
                      <a:pt x="608" y="1022"/>
                    </a:lnTo>
                    <a:lnTo>
                      <a:pt x="608" y="1022"/>
                    </a:lnTo>
                    <a:lnTo>
                      <a:pt x="736" y="1044"/>
                    </a:lnTo>
                    <a:lnTo>
                      <a:pt x="736" y="1044"/>
                    </a:lnTo>
                    <a:lnTo>
                      <a:pt x="744" y="1042"/>
                    </a:lnTo>
                    <a:lnTo>
                      <a:pt x="750" y="1040"/>
                    </a:lnTo>
                    <a:lnTo>
                      <a:pt x="752" y="1038"/>
                    </a:lnTo>
                    <a:lnTo>
                      <a:pt x="754" y="1034"/>
                    </a:lnTo>
                    <a:lnTo>
                      <a:pt x="752" y="1030"/>
                    </a:lnTo>
                    <a:lnTo>
                      <a:pt x="748" y="1028"/>
                    </a:lnTo>
                    <a:lnTo>
                      <a:pt x="744" y="1024"/>
                    </a:lnTo>
                    <a:lnTo>
                      <a:pt x="736" y="1022"/>
                    </a:lnTo>
                    <a:lnTo>
                      <a:pt x="736" y="1022"/>
                    </a:lnTo>
                    <a:lnTo>
                      <a:pt x="738" y="1028"/>
                    </a:lnTo>
                    <a:lnTo>
                      <a:pt x="736" y="1034"/>
                    </a:lnTo>
                    <a:lnTo>
                      <a:pt x="736" y="1040"/>
                    </a:lnTo>
                    <a:lnTo>
                      <a:pt x="736" y="1044"/>
                    </a:lnTo>
                    <a:lnTo>
                      <a:pt x="736" y="1044"/>
                    </a:lnTo>
                    <a:lnTo>
                      <a:pt x="520" y="1026"/>
                    </a:lnTo>
                    <a:lnTo>
                      <a:pt x="520" y="1026"/>
                    </a:lnTo>
                    <a:lnTo>
                      <a:pt x="516" y="1028"/>
                    </a:lnTo>
                    <a:lnTo>
                      <a:pt x="516" y="1030"/>
                    </a:lnTo>
                    <a:lnTo>
                      <a:pt x="514" y="1032"/>
                    </a:lnTo>
                    <a:lnTo>
                      <a:pt x="512" y="1034"/>
                    </a:lnTo>
                    <a:lnTo>
                      <a:pt x="512" y="1034"/>
                    </a:lnTo>
                    <a:lnTo>
                      <a:pt x="506" y="1034"/>
                    </a:lnTo>
                    <a:lnTo>
                      <a:pt x="500" y="1032"/>
                    </a:lnTo>
                    <a:lnTo>
                      <a:pt x="494" y="1032"/>
                    </a:lnTo>
                    <a:lnTo>
                      <a:pt x="488" y="1030"/>
                    </a:lnTo>
                    <a:lnTo>
                      <a:pt x="488" y="1030"/>
                    </a:lnTo>
                    <a:lnTo>
                      <a:pt x="488" y="1034"/>
                    </a:lnTo>
                    <a:lnTo>
                      <a:pt x="490" y="1038"/>
                    </a:lnTo>
                    <a:lnTo>
                      <a:pt x="494" y="1044"/>
                    </a:lnTo>
                    <a:lnTo>
                      <a:pt x="502" y="1048"/>
                    </a:lnTo>
                    <a:lnTo>
                      <a:pt x="510" y="1052"/>
                    </a:lnTo>
                    <a:lnTo>
                      <a:pt x="510" y="1052"/>
                    </a:lnTo>
                    <a:lnTo>
                      <a:pt x="518" y="1048"/>
                    </a:lnTo>
                    <a:lnTo>
                      <a:pt x="524" y="1048"/>
                    </a:lnTo>
                    <a:lnTo>
                      <a:pt x="530" y="1048"/>
                    </a:lnTo>
                    <a:lnTo>
                      <a:pt x="536" y="1052"/>
                    </a:lnTo>
                    <a:lnTo>
                      <a:pt x="548" y="1058"/>
                    </a:lnTo>
                    <a:lnTo>
                      <a:pt x="554" y="1060"/>
                    </a:lnTo>
                    <a:lnTo>
                      <a:pt x="558" y="1062"/>
                    </a:lnTo>
                    <a:lnTo>
                      <a:pt x="558" y="1062"/>
                    </a:lnTo>
                    <a:lnTo>
                      <a:pt x="556" y="1062"/>
                    </a:lnTo>
                    <a:lnTo>
                      <a:pt x="554" y="1064"/>
                    </a:lnTo>
                    <a:lnTo>
                      <a:pt x="554" y="1064"/>
                    </a:lnTo>
                    <a:lnTo>
                      <a:pt x="556" y="1066"/>
                    </a:lnTo>
                    <a:lnTo>
                      <a:pt x="558" y="1068"/>
                    </a:lnTo>
                    <a:lnTo>
                      <a:pt x="558" y="1072"/>
                    </a:lnTo>
                    <a:lnTo>
                      <a:pt x="558" y="1072"/>
                    </a:lnTo>
                    <a:lnTo>
                      <a:pt x="562" y="1072"/>
                    </a:lnTo>
                    <a:lnTo>
                      <a:pt x="564" y="1068"/>
                    </a:lnTo>
                    <a:lnTo>
                      <a:pt x="566" y="1060"/>
                    </a:lnTo>
                    <a:lnTo>
                      <a:pt x="566" y="1060"/>
                    </a:lnTo>
                    <a:lnTo>
                      <a:pt x="564" y="1060"/>
                    </a:lnTo>
                    <a:lnTo>
                      <a:pt x="562" y="1060"/>
                    </a:lnTo>
                    <a:lnTo>
                      <a:pt x="562" y="1060"/>
                    </a:lnTo>
                    <a:lnTo>
                      <a:pt x="560" y="1060"/>
                    </a:lnTo>
                    <a:lnTo>
                      <a:pt x="560" y="1060"/>
                    </a:lnTo>
                    <a:lnTo>
                      <a:pt x="562" y="1060"/>
                    </a:lnTo>
                    <a:lnTo>
                      <a:pt x="564" y="1058"/>
                    </a:lnTo>
                    <a:lnTo>
                      <a:pt x="564" y="1052"/>
                    </a:lnTo>
                    <a:lnTo>
                      <a:pt x="564" y="1052"/>
                    </a:lnTo>
                    <a:lnTo>
                      <a:pt x="560" y="1050"/>
                    </a:lnTo>
                    <a:lnTo>
                      <a:pt x="558" y="1048"/>
                    </a:lnTo>
                    <a:lnTo>
                      <a:pt x="556" y="1046"/>
                    </a:lnTo>
                    <a:lnTo>
                      <a:pt x="552" y="1044"/>
                    </a:lnTo>
                    <a:lnTo>
                      <a:pt x="552" y="1044"/>
                    </a:lnTo>
                    <a:lnTo>
                      <a:pt x="548" y="1052"/>
                    </a:lnTo>
                    <a:lnTo>
                      <a:pt x="548" y="1052"/>
                    </a:lnTo>
                    <a:lnTo>
                      <a:pt x="550" y="1046"/>
                    </a:lnTo>
                    <a:lnTo>
                      <a:pt x="550" y="1040"/>
                    </a:lnTo>
                    <a:lnTo>
                      <a:pt x="550" y="1040"/>
                    </a:lnTo>
                    <a:lnTo>
                      <a:pt x="538" y="1030"/>
                    </a:lnTo>
                    <a:lnTo>
                      <a:pt x="530" y="1026"/>
                    </a:lnTo>
                    <a:lnTo>
                      <a:pt x="526" y="1026"/>
                    </a:lnTo>
                    <a:lnTo>
                      <a:pt x="520" y="1026"/>
                    </a:lnTo>
                    <a:lnTo>
                      <a:pt x="520" y="1026"/>
                    </a:lnTo>
                    <a:lnTo>
                      <a:pt x="526" y="1030"/>
                    </a:lnTo>
                    <a:lnTo>
                      <a:pt x="528" y="1032"/>
                    </a:lnTo>
                    <a:lnTo>
                      <a:pt x="530" y="1034"/>
                    </a:lnTo>
                    <a:lnTo>
                      <a:pt x="530" y="1034"/>
                    </a:lnTo>
                    <a:lnTo>
                      <a:pt x="524" y="1030"/>
                    </a:lnTo>
                    <a:lnTo>
                      <a:pt x="520" y="1026"/>
                    </a:lnTo>
                    <a:lnTo>
                      <a:pt x="520" y="1026"/>
                    </a:lnTo>
                    <a:lnTo>
                      <a:pt x="584" y="1042"/>
                    </a:lnTo>
                    <a:lnTo>
                      <a:pt x="584" y="1042"/>
                    </a:lnTo>
                    <a:lnTo>
                      <a:pt x="584" y="1036"/>
                    </a:lnTo>
                    <a:lnTo>
                      <a:pt x="582" y="1030"/>
                    </a:lnTo>
                    <a:lnTo>
                      <a:pt x="578" y="1028"/>
                    </a:lnTo>
                    <a:lnTo>
                      <a:pt x="570" y="1026"/>
                    </a:lnTo>
                    <a:lnTo>
                      <a:pt x="570" y="1026"/>
                    </a:lnTo>
                    <a:lnTo>
                      <a:pt x="576" y="1036"/>
                    </a:lnTo>
                    <a:lnTo>
                      <a:pt x="578" y="1040"/>
                    </a:lnTo>
                    <a:lnTo>
                      <a:pt x="584" y="1042"/>
                    </a:lnTo>
                    <a:lnTo>
                      <a:pt x="584" y="1042"/>
                    </a:lnTo>
                    <a:lnTo>
                      <a:pt x="436" y="1054"/>
                    </a:lnTo>
                    <a:lnTo>
                      <a:pt x="436" y="1054"/>
                    </a:lnTo>
                    <a:lnTo>
                      <a:pt x="436" y="1038"/>
                    </a:lnTo>
                    <a:lnTo>
                      <a:pt x="436" y="1038"/>
                    </a:lnTo>
                    <a:lnTo>
                      <a:pt x="432" y="1038"/>
                    </a:lnTo>
                    <a:lnTo>
                      <a:pt x="428" y="1036"/>
                    </a:lnTo>
                    <a:lnTo>
                      <a:pt x="424" y="1032"/>
                    </a:lnTo>
                    <a:lnTo>
                      <a:pt x="424" y="1028"/>
                    </a:lnTo>
                    <a:lnTo>
                      <a:pt x="424" y="1028"/>
                    </a:lnTo>
                    <a:lnTo>
                      <a:pt x="418" y="1028"/>
                    </a:lnTo>
                    <a:lnTo>
                      <a:pt x="416" y="1028"/>
                    </a:lnTo>
                    <a:lnTo>
                      <a:pt x="416" y="1028"/>
                    </a:lnTo>
                    <a:lnTo>
                      <a:pt x="418" y="1038"/>
                    </a:lnTo>
                    <a:lnTo>
                      <a:pt x="424" y="1044"/>
                    </a:lnTo>
                    <a:lnTo>
                      <a:pt x="430" y="1050"/>
                    </a:lnTo>
                    <a:lnTo>
                      <a:pt x="436" y="1054"/>
                    </a:lnTo>
                    <a:lnTo>
                      <a:pt x="436" y="1054"/>
                    </a:lnTo>
                    <a:lnTo>
                      <a:pt x="404" y="1052"/>
                    </a:lnTo>
                    <a:lnTo>
                      <a:pt x="404" y="1052"/>
                    </a:lnTo>
                    <a:lnTo>
                      <a:pt x="406" y="1052"/>
                    </a:lnTo>
                    <a:lnTo>
                      <a:pt x="408" y="1052"/>
                    </a:lnTo>
                    <a:lnTo>
                      <a:pt x="410" y="1052"/>
                    </a:lnTo>
                    <a:lnTo>
                      <a:pt x="412" y="1052"/>
                    </a:lnTo>
                    <a:lnTo>
                      <a:pt x="412" y="1052"/>
                    </a:lnTo>
                    <a:lnTo>
                      <a:pt x="410" y="1050"/>
                    </a:lnTo>
                    <a:lnTo>
                      <a:pt x="408" y="1046"/>
                    </a:lnTo>
                    <a:lnTo>
                      <a:pt x="408" y="1046"/>
                    </a:lnTo>
                    <a:lnTo>
                      <a:pt x="406" y="1048"/>
                    </a:lnTo>
                    <a:lnTo>
                      <a:pt x="404" y="1052"/>
                    </a:lnTo>
                    <a:lnTo>
                      <a:pt x="404" y="1052"/>
                    </a:lnTo>
                    <a:lnTo>
                      <a:pt x="408" y="1044"/>
                    </a:lnTo>
                    <a:lnTo>
                      <a:pt x="408" y="1044"/>
                    </a:lnTo>
                    <a:lnTo>
                      <a:pt x="404" y="1036"/>
                    </a:lnTo>
                    <a:lnTo>
                      <a:pt x="402" y="1034"/>
                    </a:lnTo>
                    <a:lnTo>
                      <a:pt x="398" y="1032"/>
                    </a:lnTo>
                    <a:lnTo>
                      <a:pt x="398" y="1032"/>
                    </a:lnTo>
                    <a:lnTo>
                      <a:pt x="400" y="1036"/>
                    </a:lnTo>
                    <a:lnTo>
                      <a:pt x="400" y="1042"/>
                    </a:lnTo>
                    <a:lnTo>
                      <a:pt x="400" y="1046"/>
                    </a:lnTo>
                    <a:lnTo>
                      <a:pt x="402" y="1050"/>
                    </a:lnTo>
                    <a:lnTo>
                      <a:pt x="402" y="1050"/>
                    </a:lnTo>
                    <a:lnTo>
                      <a:pt x="404" y="1050"/>
                    </a:lnTo>
                    <a:lnTo>
                      <a:pt x="406" y="1048"/>
                    </a:lnTo>
                    <a:lnTo>
                      <a:pt x="408" y="1044"/>
                    </a:lnTo>
                    <a:lnTo>
                      <a:pt x="408" y="1044"/>
                    </a:lnTo>
                    <a:lnTo>
                      <a:pt x="1328" y="1050"/>
                    </a:lnTo>
                    <a:lnTo>
                      <a:pt x="1328" y="1050"/>
                    </a:lnTo>
                    <a:lnTo>
                      <a:pt x="1314" y="1056"/>
                    </a:lnTo>
                    <a:lnTo>
                      <a:pt x="1312" y="1060"/>
                    </a:lnTo>
                    <a:lnTo>
                      <a:pt x="1310" y="1064"/>
                    </a:lnTo>
                    <a:lnTo>
                      <a:pt x="1312" y="1068"/>
                    </a:lnTo>
                    <a:lnTo>
                      <a:pt x="1312" y="1068"/>
                    </a:lnTo>
                    <a:lnTo>
                      <a:pt x="1328" y="1058"/>
                    </a:lnTo>
                    <a:lnTo>
                      <a:pt x="1344" y="1052"/>
                    </a:lnTo>
                    <a:lnTo>
                      <a:pt x="1358" y="1044"/>
                    </a:lnTo>
                    <a:lnTo>
                      <a:pt x="1374" y="1036"/>
                    </a:lnTo>
                    <a:lnTo>
                      <a:pt x="1374" y="1036"/>
                    </a:lnTo>
                    <a:lnTo>
                      <a:pt x="1366" y="1034"/>
                    </a:lnTo>
                    <a:lnTo>
                      <a:pt x="1360" y="1036"/>
                    </a:lnTo>
                    <a:lnTo>
                      <a:pt x="1348" y="1038"/>
                    </a:lnTo>
                    <a:lnTo>
                      <a:pt x="1328" y="1050"/>
                    </a:lnTo>
                    <a:lnTo>
                      <a:pt x="1328" y="1050"/>
                    </a:lnTo>
                    <a:lnTo>
                      <a:pt x="1626" y="1038"/>
                    </a:lnTo>
                    <a:lnTo>
                      <a:pt x="1626" y="1038"/>
                    </a:lnTo>
                    <a:lnTo>
                      <a:pt x="1632" y="1040"/>
                    </a:lnTo>
                    <a:lnTo>
                      <a:pt x="1636" y="1042"/>
                    </a:lnTo>
                    <a:lnTo>
                      <a:pt x="1642" y="1044"/>
                    </a:lnTo>
                    <a:lnTo>
                      <a:pt x="1648" y="1042"/>
                    </a:lnTo>
                    <a:lnTo>
                      <a:pt x="1648" y="1042"/>
                    </a:lnTo>
                    <a:lnTo>
                      <a:pt x="1644" y="1038"/>
                    </a:lnTo>
                    <a:lnTo>
                      <a:pt x="1638" y="1036"/>
                    </a:lnTo>
                    <a:lnTo>
                      <a:pt x="1632" y="1036"/>
                    </a:lnTo>
                    <a:lnTo>
                      <a:pt x="1626" y="1038"/>
                    </a:lnTo>
                    <a:lnTo>
                      <a:pt x="1626" y="1038"/>
                    </a:lnTo>
                    <a:lnTo>
                      <a:pt x="344" y="1038"/>
                    </a:lnTo>
                    <a:lnTo>
                      <a:pt x="344" y="1038"/>
                    </a:lnTo>
                    <a:lnTo>
                      <a:pt x="340" y="1038"/>
                    </a:lnTo>
                    <a:lnTo>
                      <a:pt x="340" y="1040"/>
                    </a:lnTo>
                    <a:lnTo>
                      <a:pt x="340" y="1040"/>
                    </a:lnTo>
                    <a:lnTo>
                      <a:pt x="366" y="1048"/>
                    </a:lnTo>
                    <a:lnTo>
                      <a:pt x="378" y="1052"/>
                    </a:lnTo>
                    <a:lnTo>
                      <a:pt x="390" y="1054"/>
                    </a:lnTo>
                    <a:lnTo>
                      <a:pt x="390" y="1054"/>
                    </a:lnTo>
                    <a:lnTo>
                      <a:pt x="378" y="1050"/>
                    </a:lnTo>
                    <a:lnTo>
                      <a:pt x="366" y="1046"/>
                    </a:lnTo>
                    <a:lnTo>
                      <a:pt x="354" y="1042"/>
                    </a:lnTo>
                    <a:lnTo>
                      <a:pt x="344" y="1038"/>
                    </a:lnTo>
                    <a:lnTo>
                      <a:pt x="344" y="1038"/>
                    </a:lnTo>
                    <a:lnTo>
                      <a:pt x="438" y="1056"/>
                    </a:lnTo>
                    <a:lnTo>
                      <a:pt x="438" y="1056"/>
                    </a:lnTo>
                    <a:lnTo>
                      <a:pt x="444" y="1056"/>
                    </a:lnTo>
                    <a:lnTo>
                      <a:pt x="448" y="1056"/>
                    </a:lnTo>
                    <a:lnTo>
                      <a:pt x="456" y="1052"/>
                    </a:lnTo>
                    <a:lnTo>
                      <a:pt x="464" y="1046"/>
                    </a:lnTo>
                    <a:lnTo>
                      <a:pt x="472" y="1042"/>
                    </a:lnTo>
                    <a:lnTo>
                      <a:pt x="472" y="1042"/>
                    </a:lnTo>
                    <a:lnTo>
                      <a:pt x="456" y="1040"/>
                    </a:lnTo>
                    <a:lnTo>
                      <a:pt x="438" y="1038"/>
                    </a:lnTo>
                    <a:lnTo>
                      <a:pt x="438" y="1038"/>
                    </a:lnTo>
                    <a:lnTo>
                      <a:pt x="438" y="1048"/>
                    </a:lnTo>
                    <a:lnTo>
                      <a:pt x="438" y="1056"/>
                    </a:lnTo>
                    <a:lnTo>
                      <a:pt x="438" y="1056"/>
                    </a:lnTo>
                    <a:lnTo>
                      <a:pt x="1292" y="1054"/>
                    </a:lnTo>
                    <a:lnTo>
                      <a:pt x="1292" y="1054"/>
                    </a:lnTo>
                    <a:lnTo>
                      <a:pt x="1290" y="1046"/>
                    </a:lnTo>
                    <a:lnTo>
                      <a:pt x="1288" y="1042"/>
                    </a:lnTo>
                    <a:lnTo>
                      <a:pt x="1284" y="1040"/>
                    </a:lnTo>
                    <a:lnTo>
                      <a:pt x="1284" y="1040"/>
                    </a:lnTo>
                    <a:lnTo>
                      <a:pt x="1280" y="1042"/>
                    </a:lnTo>
                    <a:lnTo>
                      <a:pt x="1280" y="1044"/>
                    </a:lnTo>
                    <a:lnTo>
                      <a:pt x="1280" y="1046"/>
                    </a:lnTo>
                    <a:lnTo>
                      <a:pt x="1284" y="1048"/>
                    </a:lnTo>
                    <a:lnTo>
                      <a:pt x="1292" y="1054"/>
                    </a:lnTo>
                    <a:lnTo>
                      <a:pt x="1292" y="1054"/>
                    </a:lnTo>
                    <a:lnTo>
                      <a:pt x="248" y="1046"/>
                    </a:lnTo>
                    <a:lnTo>
                      <a:pt x="248" y="1046"/>
                    </a:lnTo>
                    <a:lnTo>
                      <a:pt x="252" y="1050"/>
                    </a:lnTo>
                    <a:lnTo>
                      <a:pt x="256" y="1052"/>
                    </a:lnTo>
                    <a:lnTo>
                      <a:pt x="266" y="1058"/>
                    </a:lnTo>
                    <a:lnTo>
                      <a:pt x="266" y="1058"/>
                    </a:lnTo>
                    <a:lnTo>
                      <a:pt x="268" y="1060"/>
                    </a:lnTo>
                    <a:lnTo>
                      <a:pt x="270" y="1062"/>
                    </a:lnTo>
                    <a:lnTo>
                      <a:pt x="270" y="1064"/>
                    </a:lnTo>
                    <a:lnTo>
                      <a:pt x="274" y="1066"/>
                    </a:lnTo>
                    <a:lnTo>
                      <a:pt x="274" y="1066"/>
                    </a:lnTo>
                    <a:lnTo>
                      <a:pt x="270" y="1056"/>
                    </a:lnTo>
                    <a:lnTo>
                      <a:pt x="264" y="1048"/>
                    </a:lnTo>
                    <a:lnTo>
                      <a:pt x="260" y="1044"/>
                    </a:lnTo>
                    <a:lnTo>
                      <a:pt x="258" y="1042"/>
                    </a:lnTo>
                    <a:lnTo>
                      <a:pt x="254" y="1042"/>
                    </a:lnTo>
                    <a:lnTo>
                      <a:pt x="248" y="1046"/>
                    </a:lnTo>
                    <a:lnTo>
                      <a:pt x="248" y="1046"/>
                    </a:lnTo>
                    <a:lnTo>
                      <a:pt x="382" y="1112"/>
                    </a:lnTo>
                    <a:lnTo>
                      <a:pt x="382" y="1112"/>
                    </a:lnTo>
                    <a:lnTo>
                      <a:pt x="382" y="1110"/>
                    </a:lnTo>
                    <a:lnTo>
                      <a:pt x="380" y="1108"/>
                    </a:lnTo>
                    <a:lnTo>
                      <a:pt x="380" y="1106"/>
                    </a:lnTo>
                    <a:lnTo>
                      <a:pt x="380" y="1104"/>
                    </a:lnTo>
                    <a:lnTo>
                      <a:pt x="380" y="1104"/>
                    </a:lnTo>
                    <a:lnTo>
                      <a:pt x="382" y="1108"/>
                    </a:lnTo>
                    <a:lnTo>
                      <a:pt x="384" y="1110"/>
                    </a:lnTo>
                    <a:lnTo>
                      <a:pt x="390" y="1108"/>
                    </a:lnTo>
                    <a:lnTo>
                      <a:pt x="400" y="1104"/>
                    </a:lnTo>
                    <a:lnTo>
                      <a:pt x="400" y="1104"/>
                    </a:lnTo>
                    <a:lnTo>
                      <a:pt x="398" y="1100"/>
                    </a:lnTo>
                    <a:lnTo>
                      <a:pt x="400" y="1094"/>
                    </a:lnTo>
                    <a:lnTo>
                      <a:pt x="402" y="1090"/>
                    </a:lnTo>
                    <a:lnTo>
                      <a:pt x="406" y="1088"/>
                    </a:lnTo>
                    <a:lnTo>
                      <a:pt x="406" y="1088"/>
                    </a:lnTo>
                    <a:lnTo>
                      <a:pt x="402" y="1078"/>
                    </a:lnTo>
                    <a:lnTo>
                      <a:pt x="398" y="1074"/>
                    </a:lnTo>
                    <a:lnTo>
                      <a:pt x="394" y="1072"/>
                    </a:lnTo>
                    <a:lnTo>
                      <a:pt x="394" y="1072"/>
                    </a:lnTo>
                    <a:lnTo>
                      <a:pt x="396" y="1072"/>
                    </a:lnTo>
                    <a:lnTo>
                      <a:pt x="398" y="1070"/>
                    </a:lnTo>
                    <a:lnTo>
                      <a:pt x="398" y="1070"/>
                    </a:lnTo>
                    <a:lnTo>
                      <a:pt x="380" y="1058"/>
                    </a:lnTo>
                    <a:lnTo>
                      <a:pt x="370" y="1052"/>
                    </a:lnTo>
                    <a:lnTo>
                      <a:pt x="360" y="1048"/>
                    </a:lnTo>
                    <a:lnTo>
                      <a:pt x="348" y="1046"/>
                    </a:lnTo>
                    <a:lnTo>
                      <a:pt x="336" y="1044"/>
                    </a:lnTo>
                    <a:lnTo>
                      <a:pt x="324" y="1044"/>
                    </a:lnTo>
                    <a:lnTo>
                      <a:pt x="312" y="1046"/>
                    </a:lnTo>
                    <a:lnTo>
                      <a:pt x="312" y="1046"/>
                    </a:lnTo>
                    <a:lnTo>
                      <a:pt x="312" y="1064"/>
                    </a:lnTo>
                    <a:lnTo>
                      <a:pt x="312" y="1072"/>
                    </a:lnTo>
                    <a:lnTo>
                      <a:pt x="310" y="1074"/>
                    </a:lnTo>
                    <a:lnTo>
                      <a:pt x="306" y="1076"/>
                    </a:lnTo>
                    <a:lnTo>
                      <a:pt x="306" y="1076"/>
                    </a:lnTo>
                    <a:lnTo>
                      <a:pt x="308" y="1074"/>
                    </a:lnTo>
                    <a:lnTo>
                      <a:pt x="308" y="1072"/>
                    </a:lnTo>
                    <a:lnTo>
                      <a:pt x="304" y="1072"/>
                    </a:lnTo>
                    <a:lnTo>
                      <a:pt x="304" y="1072"/>
                    </a:lnTo>
                    <a:lnTo>
                      <a:pt x="304" y="1084"/>
                    </a:lnTo>
                    <a:lnTo>
                      <a:pt x="304" y="1088"/>
                    </a:lnTo>
                    <a:lnTo>
                      <a:pt x="304" y="1094"/>
                    </a:lnTo>
                    <a:lnTo>
                      <a:pt x="304" y="1094"/>
                    </a:lnTo>
                    <a:lnTo>
                      <a:pt x="310" y="1088"/>
                    </a:lnTo>
                    <a:lnTo>
                      <a:pt x="316" y="1086"/>
                    </a:lnTo>
                    <a:lnTo>
                      <a:pt x="332" y="1080"/>
                    </a:lnTo>
                    <a:lnTo>
                      <a:pt x="332" y="1080"/>
                    </a:lnTo>
                    <a:lnTo>
                      <a:pt x="326" y="1086"/>
                    </a:lnTo>
                    <a:lnTo>
                      <a:pt x="320" y="1090"/>
                    </a:lnTo>
                    <a:lnTo>
                      <a:pt x="304" y="1096"/>
                    </a:lnTo>
                    <a:lnTo>
                      <a:pt x="304" y="1096"/>
                    </a:lnTo>
                    <a:lnTo>
                      <a:pt x="308" y="1108"/>
                    </a:lnTo>
                    <a:lnTo>
                      <a:pt x="314" y="1118"/>
                    </a:lnTo>
                    <a:lnTo>
                      <a:pt x="328" y="1136"/>
                    </a:lnTo>
                    <a:lnTo>
                      <a:pt x="328" y="1136"/>
                    </a:lnTo>
                    <a:lnTo>
                      <a:pt x="348" y="1176"/>
                    </a:lnTo>
                    <a:lnTo>
                      <a:pt x="348" y="1176"/>
                    </a:lnTo>
                    <a:lnTo>
                      <a:pt x="386" y="1186"/>
                    </a:lnTo>
                    <a:lnTo>
                      <a:pt x="386" y="1186"/>
                    </a:lnTo>
                    <a:lnTo>
                      <a:pt x="384" y="1178"/>
                    </a:lnTo>
                    <a:lnTo>
                      <a:pt x="386" y="1172"/>
                    </a:lnTo>
                    <a:lnTo>
                      <a:pt x="390" y="1168"/>
                    </a:lnTo>
                    <a:lnTo>
                      <a:pt x="396" y="1168"/>
                    </a:lnTo>
                    <a:lnTo>
                      <a:pt x="402" y="1168"/>
                    </a:lnTo>
                    <a:lnTo>
                      <a:pt x="408" y="1170"/>
                    </a:lnTo>
                    <a:lnTo>
                      <a:pt x="418" y="1178"/>
                    </a:lnTo>
                    <a:lnTo>
                      <a:pt x="418" y="1178"/>
                    </a:lnTo>
                    <a:lnTo>
                      <a:pt x="422" y="1174"/>
                    </a:lnTo>
                    <a:lnTo>
                      <a:pt x="424" y="1170"/>
                    </a:lnTo>
                    <a:lnTo>
                      <a:pt x="424" y="1160"/>
                    </a:lnTo>
                    <a:lnTo>
                      <a:pt x="424" y="1142"/>
                    </a:lnTo>
                    <a:lnTo>
                      <a:pt x="424" y="1142"/>
                    </a:lnTo>
                    <a:lnTo>
                      <a:pt x="420" y="1140"/>
                    </a:lnTo>
                    <a:lnTo>
                      <a:pt x="418" y="1138"/>
                    </a:lnTo>
                    <a:lnTo>
                      <a:pt x="410" y="1140"/>
                    </a:lnTo>
                    <a:lnTo>
                      <a:pt x="404" y="1140"/>
                    </a:lnTo>
                    <a:lnTo>
                      <a:pt x="400" y="1140"/>
                    </a:lnTo>
                    <a:lnTo>
                      <a:pt x="398" y="1138"/>
                    </a:lnTo>
                    <a:lnTo>
                      <a:pt x="398" y="1138"/>
                    </a:lnTo>
                    <a:lnTo>
                      <a:pt x="402" y="1138"/>
                    </a:lnTo>
                    <a:lnTo>
                      <a:pt x="408" y="1138"/>
                    </a:lnTo>
                    <a:lnTo>
                      <a:pt x="414" y="1138"/>
                    </a:lnTo>
                    <a:lnTo>
                      <a:pt x="418" y="1136"/>
                    </a:lnTo>
                    <a:lnTo>
                      <a:pt x="418" y="1136"/>
                    </a:lnTo>
                    <a:lnTo>
                      <a:pt x="418" y="1120"/>
                    </a:lnTo>
                    <a:lnTo>
                      <a:pt x="414" y="1104"/>
                    </a:lnTo>
                    <a:lnTo>
                      <a:pt x="414" y="1104"/>
                    </a:lnTo>
                    <a:lnTo>
                      <a:pt x="406" y="1106"/>
                    </a:lnTo>
                    <a:lnTo>
                      <a:pt x="398" y="1108"/>
                    </a:lnTo>
                    <a:lnTo>
                      <a:pt x="386" y="1112"/>
                    </a:lnTo>
                    <a:lnTo>
                      <a:pt x="386" y="1112"/>
                    </a:lnTo>
                    <a:lnTo>
                      <a:pt x="390" y="1116"/>
                    </a:lnTo>
                    <a:lnTo>
                      <a:pt x="394" y="1116"/>
                    </a:lnTo>
                    <a:lnTo>
                      <a:pt x="394" y="1118"/>
                    </a:lnTo>
                    <a:lnTo>
                      <a:pt x="394" y="1118"/>
                    </a:lnTo>
                    <a:lnTo>
                      <a:pt x="372" y="1116"/>
                    </a:lnTo>
                    <a:lnTo>
                      <a:pt x="362" y="1112"/>
                    </a:lnTo>
                    <a:lnTo>
                      <a:pt x="360" y="1108"/>
                    </a:lnTo>
                    <a:lnTo>
                      <a:pt x="358" y="1104"/>
                    </a:lnTo>
                    <a:lnTo>
                      <a:pt x="358" y="1104"/>
                    </a:lnTo>
                    <a:lnTo>
                      <a:pt x="368" y="1110"/>
                    </a:lnTo>
                    <a:lnTo>
                      <a:pt x="382" y="1112"/>
                    </a:lnTo>
                    <a:lnTo>
                      <a:pt x="382" y="1112"/>
                    </a:lnTo>
                    <a:lnTo>
                      <a:pt x="808" y="1110"/>
                    </a:lnTo>
                    <a:lnTo>
                      <a:pt x="808" y="1110"/>
                    </a:lnTo>
                    <a:lnTo>
                      <a:pt x="812" y="1096"/>
                    </a:lnTo>
                    <a:lnTo>
                      <a:pt x="814" y="1090"/>
                    </a:lnTo>
                    <a:lnTo>
                      <a:pt x="814" y="1084"/>
                    </a:lnTo>
                    <a:lnTo>
                      <a:pt x="814" y="1084"/>
                    </a:lnTo>
                    <a:lnTo>
                      <a:pt x="808" y="1086"/>
                    </a:lnTo>
                    <a:lnTo>
                      <a:pt x="800" y="1086"/>
                    </a:lnTo>
                    <a:lnTo>
                      <a:pt x="796" y="1084"/>
                    </a:lnTo>
                    <a:lnTo>
                      <a:pt x="794" y="1080"/>
                    </a:lnTo>
                    <a:lnTo>
                      <a:pt x="794" y="1078"/>
                    </a:lnTo>
                    <a:lnTo>
                      <a:pt x="794" y="1078"/>
                    </a:lnTo>
                    <a:lnTo>
                      <a:pt x="796" y="1074"/>
                    </a:lnTo>
                    <a:lnTo>
                      <a:pt x="800" y="1072"/>
                    </a:lnTo>
                    <a:lnTo>
                      <a:pt x="806" y="1072"/>
                    </a:lnTo>
                    <a:lnTo>
                      <a:pt x="810" y="1068"/>
                    </a:lnTo>
                    <a:lnTo>
                      <a:pt x="810" y="1068"/>
                    </a:lnTo>
                    <a:lnTo>
                      <a:pt x="792" y="1052"/>
                    </a:lnTo>
                    <a:lnTo>
                      <a:pt x="782" y="1046"/>
                    </a:lnTo>
                    <a:lnTo>
                      <a:pt x="776" y="1044"/>
                    </a:lnTo>
                    <a:lnTo>
                      <a:pt x="770" y="1044"/>
                    </a:lnTo>
                    <a:lnTo>
                      <a:pt x="770" y="1044"/>
                    </a:lnTo>
                    <a:lnTo>
                      <a:pt x="780" y="1060"/>
                    </a:lnTo>
                    <a:lnTo>
                      <a:pt x="790" y="1076"/>
                    </a:lnTo>
                    <a:lnTo>
                      <a:pt x="808" y="1110"/>
                    </a:lnTo>
                    <a:lnTo>
                      <a:pt x="808" y="1110"/>
                    </a:lnTo>
                    <a:lnTo>
                      <a:pt x="590" y="1052"/>
                    </a:lnTo>
                    <a:lnTo>
                      <a:pt x="590" y="1052"/>
                    </a:lnTo>
                    <a:lnTo>
                      <a:pt x="606" y="1064"/>
                    </a:lnTo>
                    <a:lnTo>
                      <a:pt x="616" y="1068"/>
                    </a:lnTo>
                    <a:lnTo>
                      <a:pt x="624" y="1070"/>
                    </a:lnTo>
                    <a:lnTo>
                      <a:pt x="624" y="1070"/>
                    </a:lnTo>
                    <a:lnTo>
                      <a:pt x="616" y="1064"/>
                    </a:lnTo>
                    <a:lnTo>
                      <a:pt x="608" y="1058"/>
                    </a:lnTo>
                    <a:lnTo>
                      <a:pt x="592" y="1044"/>
                    </a:lnTo>
                    <a:lnTo>
                      <a:pt x="592" y="1044"/>
                    </a:lnTo>
                    <a:lnTo>
                      <a:pt x="590" y="1048"/>
                    </a:lnTo>
                    <a:lnTo>
                      <a:pt x="590" y="1052"/>
                    </a:lnTo>
                    <a:lnTo>
                      <a:pt x="590" y="1052"/>
                    </a:lnTo>
                    <a:lnTo>
                      <a:pt x="760" y="1068"/>
                    </a:lnTo>
                    <a:lnTo>
                      <a:pt x="760" y="1068"/>
                    </a:lnTo>
                    <a:lnTo>
                      <a:pt x="758" y="1060"/>
                    </a:lnTo>
                    <a:lnTo>
                      <a:pt x="756" y="1046"/>
                    </a:lnTo>
                    <a:lnTo>
                      <a:pt x="756" y="1046"/>
                    </a:lnTo>
                    <a:lnTo>
                      <a:pt x="746" y="1048"/>
                    </a:lnTo>
                    <a:lnTo>
                      <a:pt x="736" y="1050"/>
                    </a:lnTo>
                    <a:lnTo>
                      <a:pt x="736" y="1050"/>
                    </a:lnTo>
                    <a:lnTo>
                      <a:pt x="732" y="1058"/>
                    </a:lnTo>
                    <a:lnTo>
                      <a:pt x="730" y="1068"/>
                    </a:lnTo>
                    <a:lnTo>
                      <a:pt x="728" y="1092"/>
                    </a:lnTo>
                    <a:lnTo>
                      <a:pt x="728" y="1092"/>
                    </a:lnTo>
                    <a:lnTo>
                      <a:pt x="736" y="1090"/>
                    </a:lnTo>
                    <a:lnTo>
                      <a:pt x="742" y="1092"/>
                    </a:lnTo>
                    <a:lnTo>
                      <a:pt x="752" y="1096"/>
                    </a:lnTo>
                    <a:lnTo>
                      <a:pt x="760" y="1104"/>
                    </a:lnTo>
                    <a:lnTo>
                      <a:pt x="768" y="1110"/>
                    </a:lnTo>
                    <a:lnTo>
                      <a:pt x="768" y="1110"/>
                    </a:lnTo>
                    <a:lnTo>
                      <a:pt x="764" y="1086"/>
                    </a:lnTo>
                    <a:lnTo>
                      <a:pt x="758" y="1068"/>
                    </a:lnTo>
                    <a:lnTo>
                      <a:pt x="758" y="1068"/>
                    </a:lnTo>
                    <a:lnTo>
                      <a:pt x="760" y="1068"/>
                    </a:lnTo>
                    <a:lnTo>
                      <a:pt x="760" y="1068"/>
                    </a:lnTo>
                    <a:lnTo>
                      <a:pt x="780" y="1070"/>
                    </a:lnTo>
                    <a:lnTo>
                      <a:pt x="780" y="1070"/>
                    </a:lnTo>
                    <a:lnTo>
                      <a:pt x="774" y="1060"/>
                    </a:lnTo>
                    <a:lnTo>
                      <a:pt x="768" y="1050"/>
                    </a:lnTo>
                    <a:lnTo>
                      <a:pt x="768" y="1050"/>
                    </a:lnTo>
                    <a:lnTo>
                      <a:pt x="770" y="1058"/>
                    </a:lnTo>
                    <a:lnTo>
                      <a:pt x="770" y="1066"/>
                    </a:lnTo>
                    <a:lnTo>
                      <a:pt x="774" y="1070"/>
                    </a:lnTo>
                    <a:lnTo>
                      <a:pt x="776" y="1070"/>
                    </a:lnTo>
                    <a:lnTo>
                      <a:pt x="780" y="1070"/>
                    </a:lnTo>
                    <a:lnTo>
                      <a:pt x="780" y="1070"/>
                    </a:lnTo>
                    <a:lnTo>
                      <a:pt x="648" y="1054"/>
                    </a:lnTo>
                    <a:lnTo>
                      <a:pt x="648" y="1054"/>
                    </a:lnTo>
                    <a:lnTo>
                      <a:pt x="648" y="1060"/>
                    </a:lnTo>
                    <a:lnTo>
                      <a:pt x="652" y="1062"/>
                    </a:lnTo>
                    <a:lnTo>
                      <a:pt x="656" y="1066"/>
                    </a:lnTo>
                    <a:lnTo>
                      <a:pt x="658" y="1068"/>
                    </a:lnTo>
                    <a:lnTo>
                      <a:pt x="658" y="1068"/>
                    </a:lnTo>
                    <a:lnTo>
                      <a:pt x="662" y="1068"/>
                    </a:lnTo>
                    <a:lnTo>
                      <a:pt x="666" y="1066"/>
                    </a:lnTo>
                    <a:lnTo>
                      <a:pt x="666" y="1066"/>
                    </a:lnTo>
                    <a:lnTo>
                      <a:pt x="662" y="1062"/>
                    </a:lnTo>
                    <a:lnTo>
                      <a:pt x="658" y="1056"/>
                    </a:lnTo>
                    <a:lnTo>
                      <a:pt x="654" y="1054"/>
                    </a:lnTo>
                    <a:lnTo>
                      <a:pt x="652" y="1054"/>
                    </a:lnTo>
                    <a:lnTo>
                      <a:pt x="648" y="1054"/>
                    </a:lnTo>
                    <a:lnTo>
                      <a:pt x="648" y="1054"/>
                    </a:lnTo>
                    <a:lnTo>
                      <a:pt x="1500" y="1060"/>
                    </a:lnTo>
                    <a:lnTo>
                      <a:pt x="1500" y="1060"/>
                    </a:lnTo>
                    <a:lnTo>
                      <a:pt x="1514" y="1072"/>
                    </a:lnTo>
                    <a:lnTo>
                      <a:pt x="1522" y="1078"/>
                    </a:lnTo>
                    <a:lnTo>
                      <a:pt x="1530" y="1080"/>
                    </a:lnTo>
                    <a:lnTo>
                      <a:pt x="1530" y="1080"/>
                    </a:lnTo>
                    <a:lnTo>
                      <a:pt x="1524" y="1074"/>
                    </a:lnTo>
                    <a:lnTo>
                      <a:pt x="1516" y="1066"/>
                    </a:lnTo>
                    <a:lnTo>
                      <a:pt x="1500" y="1054"/>
                    </a:lnTo>
                    <a:lnTo>
                      <a:pt x="1500" y="1054"/>
                    </a:lnTo>
                    <a:lnTo>
                      <a:pt x="1500" y="1060"/>
                    </a:lnTo>
                    <a:lnTo>
                      <a:pt x="1500" y="1060"/>
                    </a:lnTo>
                    <a:lnTo>
                      <a:pt x="422" y="1082"/>
                    </a:lnTo>
                    <a:lnTo>
                      <a:pt x="422" y="1082"/>
                    </a:lnTo>
                    <a:lnTo>
                      <a:pt x="424" y="1078"/>
                    </a:lnTo>
                    <a:lnTo>
                      <a:pt x="422" y="1074"/>
                    </a:lnTo>
                    <a:lnTo>
                      <a:pt x="420" y="1070"/>
                    </a:lnTo>
                    <a:lnTo>
                      <a:pt x="416" y="1064"/>
                    </a:lnTo>
                    <a:lnTo>
                      <a:pt x="414" y="1058"/>
                    </a:lnTo>
                    <a:lnTo>
                      <a:pt x="414" y="1058"/>
                    </a:lnTo>
                    <a:lnTo>
                      <a:pt x="402" y="1054"/>
                    </a:lnTo>
                    <a:lnTo>
                      <a:pt x="402" y="1054"/>
                    </a:lnTo>
                    <a:lnTo>
                      <a:pt x="406" y="1064"/>
                    </a:lnTo>
                    <a:lnTo>
                      <a:pt x="410" y="1070"/>
                    </a:lnTo>
                    <a:lnTo>
                      <a:pt x="422" y="1082"/>
                    </a:lnTo>
                    <a:lnTo>
                      <a:pt x="422" y="1082"/>
                    </a:lnTo>
                    <a:lnTo>
                      <a:pt x="696" y="1062"/>
                    </a:lnTo>
                    <a:lnTo>
                      <a:pt x="696" y="1062"/>
                    </a:lnTo>
                    <a:lnTo>
                      <a:pt x="704" y="1084"/>
                    </a:lnTo>
                    <a:lnTo>
                      <a:pt x="708" y="1096"/>
                    </a:lnTo>
                    <a:lnTo>
                      <a:pt x="716" y="1104"/>
                    </a:lnTo>
                    <a:lnTo>
                      <a:pt x="716" y="1104"/>
                    </a:lnTo>
                    <a:lnTo>
                      <a:pt x="716" y="1098"/>
                    </a:lnTo>
                    <a:lnTo>
                      <a:pt x="718" y="1094"/>
                    </a:lnTo>
                    <a:lnTo>
                      <a:pt x="720" y="1088"/>
                    </a:lnTo>
                    <a:lnTo>
                      <a:pt x="720" y="1082"/>
                    </a:lnTo>
                    <a:lnTo>
                      <a:pt x="720" y="1082"/>
                    </a:lnTo>
                    <a:lnTo>
                      <a:pt x="714" y="1080"/>
                    </a:lnTo>
                    <a:lnTo>
                      <a:pt x="708" y="1078"/>
                    </a:lnTo>
                    <a:lnTo>
                      <a:pt x="708" y="1078"/>
                    </a:lnTo>
                    <a:lnTo>
                      <a:pt x="716" y="1078"/>
                    </a:lnTo>
                    <a:lnTo>
                      <a:pt x="722" y="1080"/>
                    </a:lnTo>
                    <a:lnTo>
                      <a:pt x="722" y="1080"/>
                    </a:lnTo>
                    <a:lnTo>
                      <a:pt x="720" y="1074"/>
                    </a:lnTo>
                    <a:lnTo>
                      <a:pt x="720" y="1068"/>
                    </a:lnTo>
                    <a:lnTo>
                      <a:pt x="716" y="1058"/>
                    </a:lnTo>
                    <a:lnTo>
                      <a:pt x="716" y="1058"/>
                    </a:lnTo>
                    <a:lnTo>
                      <a:pt x="706" y="1058"/>
                    </a:lnTo>
                    <a:lnTo>
                      <a:pt x="696" y="1062"/>
                    </a:lnTo>
                    <a:lnTo>
                      <a:pt x="696" y="1062"/>
                    </a:lnTo>
                    <a:lnTo>
                      <a:pt x="228" y="1066"/>
                    </a:lnTo>
                    <a:lnTo>
                      <a:pt x="228" y="1066"/>
                    </a:lnTo>
                    <a:lnTo>
                      <a:pt x="232" y="1070"/>
                    </a:lnTo>
                    <a:lnTo>
                      <a:pt x="240" y="1070"/>
                    </a:lnTo>
                    <a:lnTo>
                      <a:pt x="240" y="1070"/>
                    </a:lnTo>
                    <a:lnTo>
                      <a:pt x="238" y="1066"/>
                    </a:lnTo>
                    <a:lnTo>
                      <a:pt x="234" y="1064"/>
                    </a:lnTo>
                    <a:lnTo>
                      <a:pt x="230" y="1062"/>
                    </a:lnTo>
                    <a:lnTo>
                      <a:pt x="228" y="1064"/>
                    </a:lnTo>
                    <a:lnTo>
                      <a:pt x="228" y="1066"/>
                    </a:lnTo>
                    <a:lnTo>
                      <a:pt x="228" y="1066"/>
                    </a:lnTo>
                    <a:lnTo>
                      <a:pt x="1296" y="1062"/>
                    </a:lnTo>
                    <a:lnTo>
                      <a:pt x="1296" y="1062"/>
                    </a:lnTo>
                    <a:lnTo>
                      <a:pt x="1290" y="1064"/>
                    </a:lnTo>
                    <a:lnTo>
                      <a:pt x="1286" y="1068"/>
                    </a:lnTo>
                    <a:lnTo>
                      <a:pt x="1280" y="1074"/>
                    </a:lnTo>
                    <a:lnTo>
                      <a:pt x="1278" y="1078"/>
                    </a:lnTo>
                    <a:lnTo>
                      <a:pt x="1276" y="1084"/>
                    </a:lnTo>
                    <a:lnTo>
                      <a:pt x="1274" y="1092"/>
                    </a:lnTo>
                    <a:lnTo>
                      <a:pt x="1274" y="1098"/>
                    </a:lnTo>
                    <a:lnTo>
                      <a:pt x="1276" y="1106"/>
                    </a:lnTo>
                    <a:lnTo>
                      <a:pt x="1276" y="1106"/>
                    </a:lnTo>
                    <a:lnTo>
                      <a:pt x="1286" y="1098"/>
                    </a:lnTo>
                    <a:lnTo>
                      <a:pt x="1296" y="1088"/>
                    </a:lnTo>
                    <a:lnTo>
                      <a:pt x="1300" y="1082"/>
                    </a:lnTo>
                    <a:lnTo>
                      <a:pt x="1302" y="1076"/>
                    </a:lnTo>
                    <a:lnTo>
                      <a:pt x="1300" y="1070"/>
                    </a:lnTo>
                    <a:lnTo>
                      <a:pt x="1296" y="1062"/>
                    </a:lnTo>
                    <a:lnTo>
                      <a:pt x="1296" y="1062"/>
                    </a:lnTo>
                    <a:lnTo>
                      <a:pt x="532" y="1068"/>
                    </a:lnTo>
                    <a:lnTo>
                      <a:pt x="532" y="1068"/>
                    </a:lnTo>
                    <a:lnTo>
                      <a:pt x="526" y="1066"/>
                    </a:lnTo>
                    <a:lnTo>
                      <a:pt x="518" y="1066"/>
                    </a:lnTo>
                    <a:lnTo>
                      <a:pt x="518" y="1066"/>
                    </a:lnTo>
                    <a:lnTo>
                      <a:pt x="520" y="1068"/>
                    </a:lnTo>
                    <a:lnTo>
                      <a:pt x="524" y="1070"/>
                    </a:lnTo>
                    <a:lnTo>
                      <a:pt x="532" y="1068"/>
                    </a:lnTo>
                    <a:lnTo>
                      <a:pt x="532" y="1068"/>
                    </a:lnTo>
                    <a:lnTo>
                      <a:pt x="416" y="1094"/>
                    </a:lnTo>
                    <a:lnTo>
                      <a:pt x="416" y="1094"/>
                    </a:lnTo>
                    <a:lnTo>
                      <a:pt x="408" y="1080"/>
                    </a:lnTo>
                    <a:lnTo>
                      <a:pt x="404" y="1074"/>
                    </a:lnTo>
                    <a:lnTo>
                      <a:pt x="398" y="1070"/>
                    </a:lnTo>
                    <a:lnTo>
                      <a:pt x="398" y="1070"/>
                    </a:lnTo>
                    <a:lnTo>
                      <a:pt x="406" y="1084"/>
                    </a:lnTo>
                    <a:lnTo>
                      <a:pt x="410" y="1090"/>
                    </a:lnTo>
                    <a:lnTo>
                      <a:pt x="416" y="1094"/>
                    </a:lnTo>
                    <a:lnTo>
                      <a:pt x="416" y="1094"/>
                    </a:lnTo>
                    <a:lnTo>
                      <a:pt x="656" y="1076"/>
                    </a:lnTo>
                    <a:lnTo>
                      <a:pt x="656" y="1076"/>
                    </a:lnTo>
                    <a:lnTo>
                      <a:pt x="664" y="1080"/>
                    </a:lnTo>
                    <a:lnTo>
                      <a:pt x="670" y="1088"/>
                    </a:lnTo>
                    <a:lnTo>
                      <a:pt x="678" y="1092"/>
                    </a:lnTo>
                    <a:lnTo>
                      <a:pt x="686" y="1096"/>
                    </a:lnTo>
                    <a:lnTo>
                      <a:pt x="686" y="1096"/>
                    </a:lnTo>
                    <a:lnTo>
                      <a:pt x="682" y="1090"/>
                    </a:lnTo>
                    <a:lnTo>
                      <a:pt x="678" y="1080"/>
                    </a:lnTo>
                    <a:lnTo>
                      <a:pt x="678" y="1080"/>
                    </a:lnTo>
                    <a:lnTo>
                      <a:pt x="672" y="1082"/>
                    </a:lnTo>
                    <a:lnTo>
                      <a:pt x="670" y="1082"/>
                    </a:lnTo>
                    <a:lnTo>
                      <a:pt x="668" y="1080"/>
                    </a:lnTo>
                    <a:lnTo>
                      <a:pt x="668" y="1080"/>
                    </a:lnTo>
                    <a:lnTo>
                      <a:pt x="670" y="1078"/>
                    </a:lnTo>
                    <a:lnTo>
                      <a:pt x="674" y="1076"/>
                    </a:lnTo>
                    <a:lnTo>
                      <a:pt x="674" y="1076"/>
                    </a:lnTo>
                    <a:lnTo>
                      <a:pt x="670" y="1072"/>
                    </a:lnTo>
                    <a:lnTo>
                      <a:pt x="664" y="1070"/>
                    </a:lnTo>
                    <a:lnTo>
                      <a:pt x="658" y="1070"/>
                    </a:lnTo>
                    <a:lnTo>
                      <a:pt x="656" y="1072"/>
                    </a:lnTo>
                    <a:lnTo>
                      <a:pt x="656" y="1076"/>
                    </a:lnTo>
                    <a:lnTo>
                      <a:pt x="656" y="1076"/>
                    </a:lnTo>
                    <a:lnTo>
                      <a:pt x="302" y="1074"/>
                    </a:lnTo>
                    <a:lnTo>
                      <a:pt x="302" y="1074"/>
                    </a:lnTo>
                    <a:lnTo>
                      <a:pt x="294" y="1074"/>
                    </a:lnTo>
                    <a:lnTo>
                      <a:pt x="290" y="1074"/>
                    </a:lnTo>
                    <a:lnTo>
                      <a:pt x="288" y="1078"/>
                    </a:lnTo>
                    <a:lnTo>
                      <a:pt x="288" y="1078"/>
                    </a:lnTo>
                    <a:lnTo>
                      <a:pt x="292" y="1080"/>
                    </a:lnTo>
                    <a:lnTo>
                      <a:pt x="294" y="1084"/>
                    </a:lnTo>
                    <a:lnTo>
                      <a:pt x="298" y="1090"/>
                    </a:lnTo>
                    <a:lnTo>
                      <a:pt x="302" y="1092"/>
                    </a:lnTo>
                    <a:lnTo>
                      <a:pt x="302" y="1092"/>
                    </a:lnTo>
                    <a:lnTo>
                      <a:pt x="302" y="1074"/>
                    </a:lnTo>
                    <a:lnTo>
                      <a:pt x="302" y="1074"/>
                    </a:lnTo>
                    <a:lnTo>
                      <a:pt x="782" y="1108"/>
                    </a:lnTo>
                    <a:lnTo>
                      <a:pt x="782" y="1108"/>
                    </a:lnTo>
                    <a:lnTo>
                      <a:pt x="788" y="1130"/>
                    </a:lnTo>
                    <a:lnTo>
                      <a:pt x="792" y="1140"/>
                    </a:lnTo>
                    <a:lnTo>
                      <a:pt x="796" y="1142"/>
                    </a:lnTo>
                    <a:lnTo>
                      <a:pt x="800" y="1144"/>
                    </a:lnTo>
                    <a:lnTo>
                      <a:pt x="800" y="1144"/>
                    </a:lnTo>
                    <a:lnTo>
                      <a:pt x="802" y="1140"/>
                    </a:lnTo>
                    <a:lnTo>
                      <a:pt x="804" y="1136"/>
                    </a:lnTo>
                    <a:lnTo>
                      <a:pt x="804" y="1136"/>
                    </a:lnTo>
                    <a:lnTo>
                      <a:pt x="804" y="1130"/>
                    </a:lnTo>
                    <a:lnTo>
                      <a:pt x="804" y="1126"/>
                    </a:lnTo>
                    <a:lnTo>
                      <a:pt x="804" y="1126"/>
                    </a:lnTo>
                    <a:lnTo>
                      <a:pt x="806" y="1122"/>
                    </a:lnTo>
                    <a:lnTo>
                      <a:pt x="806" y="1120"/>
                    </a:lnTo>
                    <a:lnTo>
                      <a:pt x="804" y="1112"/>
                    </a:lnTo>
                    <a:lnTo>
                      <a:pt x="794" y="1094"/>
                    </a:lnTo>
                    <a:lnTo>
                      <a:pt x="794" y="1094"/>
                    </a:lnTo>
                    <a:lnTo>
                      <a:pt x="786" y="1078"/>
                    </a:lnTo>
                    <a:lnTo>
                      <a:pt x="780" y="1072"/>
                    </a:lnTo>
                    <a:lnTo>
                      <a:pt x="778" y="1072"/>
                    </a:lnTo>
                    <a:lnTo>
                      <a:pt x="774" y="1072"/>
                    </a:lnTo>
                    <a:lnTo>
                      <a:pt x="774" y="1072"/>
                    </a:lnTo>
                    <a:lnTo>
                      <a:pt x="776" y="1088"/>
                    </a:lnTo>
                    <a:lnTo>
                      <a:pt x="782" y="1108"/>
                    </a:lnTo>
                    <a:lnTo>
                      <a:pt x="782" y="1108"/>
                    </a:lnTo>
                    <a:lnTo>
                      <a:pt x="1246" y="1100"/>
                    </a:lnTo>
                    <a:lnTo>
                      <a:pt x="1246" y="1100"/>
                    </a:lnTo>
                    <a:lnTo>
                      <a:pt x="1252" y="1100"/>
                    </a:lnTo>
                    <a:lnTo>
                      <a:pt x="1254" y="1104"/>
                    </a:lnTo>
                    <a:lnTo>
                      <a:pt x="1254" y="1104"/>
                    </a:lnTo>
                    <a:lnTo>
                      <a:pt x="1250" y="1104"/>
                    </a:lnTo>
                    <a:lnTo>
                      <a:pt x="1248" y="1104"/>
                    </a:lnTo>
                    <a:lnTo>
                      <a:pt x="1244" y="1102"/>
                    </a:lnTo>
                    <a:lnTo>
                      <a:pt x="1242" y="1102"/>
                    </a:lnTo>
                    <a:lnTo>
                      <a:pt x="1242" y="1102"/>
                    </a:lnTo>
                    <a:lnTo>
                      <a:pt x="1240" y="1108"/>
                    </a:lnTo>
                    <a:lnTo>
                      <a:pt x="1240" y="1108"/>
                    </a:lnTo>
                    <a:lnTo>
                      <a:pt x="1246" y="1110"/>
                    </a:lnTo>
                    <a:lnTo>
                      <a:pt x="1250" y="1110"/>
                    </a:lnTo>
                    <a:lnTo>
                      <a:pt x="1258" y="1110"/>
                    </a:lnTo>
                    <a:lnTo>
                      <a:pt x="1264" y="1112"/>
                    </a:lnTo>
                    <a:lnTo>
                      <a:pt x="1264" y="1112"/>
                    </a:lnTo>
                    <a:lnTo>
                      <a:pt x="1256" y="1112"/>
                    </a:lnTo>
                    <a:lnTo>
                      <a:pt x="1248" y="1112"/>
                    </a:lnTo>
                    <a:lnTo>
                      <a:pt x="1248" y="1112"/>
                    </a:lnTo>
                    <a:lnTo>
                      <a:pt x="1250" y="1118"/>
                    </a:lnTo>
                    <a:lnTo>
                      <a:pt x="1248" y="1120"/>
                    </a:lnTo>
                    <a:lnTo>
                      <a:pt x="1246" y="1122"/>
                    </a:lnTo>
                    <a:lnTo>
                      <a:pt x="1242" y="1124"/>
                    </a:lnTo>
                    <a:lnTo>
                      <a:pt x="1236" y="1126"/>
                    </a:lnTo>
                    <a:lnTo>
                      <a:pt x="1232" y="1126"/>
                    </a:lnTo>
                    <a:lnTo>
                      <a:pt x="1230" y="1128"/>
                    </a:lnTo>
                    <a:lnTo>
                      <a:pt x="1230" y="1128"/>
                    </a:lnTo>
                    <a:lnTo>
                      <a:pt x="1236" y="1128"/>
                    </a:lnTo>
                    <a:lnTo>
                      <a:pt x="1242" y="1126"/>
                    </a:lnTo>
                    <a:lnTo>
                      <a:pt x="1254" y="1128"/>
                    </a:lnTo>
                    <a:lnTo>
                      <a:pt x="1254" y="1128"/>
                    </a:lnTo>
                    <a:lnTo>
                      <a:pt x="1262" y="1120"/>
                    </a:lnTo>
                    <a:lnTo>
                      <a:pt x="1272" y="1112"/>
                    </a:lnTo>
                    <a:lnTo>
                      <a:pt x="1272" y="1112"/>
                    </a:lnTo>
                    <a:lnTo>
                      <a:pt x="1270" y="1110"/>
                    </a:lnTo>
                    <a:lnTo>
                      <a:pt x="1270" y="1108"/>
                    </a:lnTo>
                    <a:lnTo>
                      <a:pt x="1270" y="1108"/>
                    </a:lnTo>
                    <a:lnTo>
                      <a:pt x="1272" y="1106"/>
                    </a:lnTo>
                    <a:lnTo>
                      <a:pt x="1274" y="1102"/>
                    </a:lnTo>
                    <a:lnTo>
                      <a:pt x="1274" y="1094"/>
                    </a:lnTo>
                    <a:lnTo>
                      <a:pt x="1270" y="1076"/>
                    </a:lnTo>
                    <a:lnTo>
                      <a:pt x="1270" y="1076"/>
                    </a:lnTo>
                    <a:lnTo>
                      <a:pt x="1262" y="1078"/>
                    </a:lnTo>
                    <a:lnTo>
                      <a:pt x="1254" y="1084"/>
                    </a:lnTo>
                    <a:lnTo>
                      <a:pt x="1250" y="1090"/>
                    </a:lnTo>
                    <a:lnTo>
                      <a:pt x="1246" y="1100"/>
                    </a:lnTo>
                    <a:lnTo>
                      <a:pt x="1246" y="1100"/>
                    </a:lnTo>
                    <a:lnTo>
                      <a:pt x="256" y="1130"/>
                    </a:lnTo>
                    <a:lnTo>
                      <a:pt x="256" y="1130"/>
                    </a:lnTo>
                    <a:lnTo>
                      <a:pt x="262" y="1132"/>
                    </a:lnTo>
                    <a:lnTo>
                      <a:pt x="268" y="1134"/>
                    </a:lnTo>
                    <a:lnTo>
                      <a:pt x="282" y="1134"/>
                    </a:lnTo>
                    <a:lnTo>
                      <a:pt x="294" y="1134"/>
                    </a:lnTo>
                    <a:lnTo>
                      <a:pt x="300" y="1136"/>
                    </a:lnTo>
                    <a:lnTo>
                      <a:pt x="304" y="1140"/>
                    </a:lnTo>
                    <a:lnTo>
                      <a:pt x="304" y="1140"/>
                    </a:lnTo>
                    <a:lnTo>
                      <a:pt x="302" y="1144"/>
                    </a:lnTo>
                    <a:lnTo>
                      <a:pt x="296" y="1148"/>
                    </a:lnTo>
                    <a:lnTo>
                      <a:pt x="292" y="1150"/>
                    </a:lnTo>
                    <a:lnTo>
                      <a:pt x="288" y="1154"/>
                    </a:lnTo>
                    <a:lnTo>
                      <a:pt x="288" y="1154"/>
                    </a:lnTo>
                    <a:lnTo>
                      <a:pt x="314" y="1164"/>
                    </a:lnTo>
                    <a:lnTo>
                      <a:pt x="338" y="1172"/>
                    </a:lnTo>
                    <a:lnTo>
                      <a:pt x="338" y="1172"/>
                    </a:lnTo>
                    <a:lnTo>
                      <a:pt x="326" y="1148"/>
                    </a:lnTo>
                    <a:lnTo>
                      <a:pt x="312" y="1124"/>
                    </a:lnTo>
                    <a:lnTo>
                      <a:pt x="284" y="1078"/>
                    </a:lnTo>
                    <a:lnTo>
                      <a:pt x="284" y="1078"/>
                    </a:lnTo>
                    <a:lnTo>
                      <a:pt x="270" y="1080"/>
                    </a:lnTo>
                    <a:lnTo>
                      <a:pt x="258" y="1082"/>
                    </a:lnTo>
                    <a:lnTo>
                      <a:pt x="244" y="1080"/>
                    </a:lnTo>
                    <a:lnTo>
                      <a:pt x="234" y="1076"/>
                    </a:lnTo>
                    <a:lnTo>
                      <a:pt x="234" y="1076"/>
                    </a:lnTo>
                    <a:lnTo>
                      <a:pt x="232" y="1082"/>
                    </a:lnTo>
                    <a:lnTo>
                      <a:pt x="236" y="1084"/>
                    </a:lnTo>
                    <a:lnTo>
                      <a:pt x="242" y="1086"/>
                    </a:lnTo>
                    <a:lnTo>
                      <a:pt x="248" y="1086"/>
                    </a:lnTo>
                    <a:lnTo>
                      <a:pt x="264" y="1084"/>
                    </a:lnTo>
                    <a:lnTo>
                      <a:pt x="272" y="1084"/>
                    </a:lnTo>
                    <a:lnTo>
                      <a:pt x="278" y="1086"/>
                    </a:lnTo>
                    <a:lnTo>
                      <a:pt x="278" y="1086"/>
                    </a:lnTo>
                    <a:lnTo>
                      <a:pt x="280" y="1090"/>
                    </a:lnTo>
                    <a:lnTo>
                      <a:pt x="282" y="1096"/>
                    </a:lnTo>
                    <a:lnTo>
                      <a:pt x="282" y="1102"/>
                    </a:lnTo>
                    <a:lnTo>
                      <a:pt x="280" y="1104"/>
                    </a:lnTo>
                    <a:lnTo>
                      <a:pt x="278" y="1106"/>
                    </a:lnTo>
                    <a:lnTo>
                      <a:pt x="278" y="1106"/>
                    </a:lnTo>
                    <a:lnTo>
                      <a:pt x="274" y="1106"/>
                    </a:lnTo>
                    <a:lnTo>
                      <a:pt x="270" y="1104"/>
                    </a:lnTo>
                    <a:lnTo>
                      <a:pt x="268" y="1100"/>
                    </a:lnTo>
                    <a:lnTo>
                      <a:pt x="264" y="1100"/>
                    </a:lnTo>
                    <a:lnTo>
                      <a:pt x="264" y="1100"/>
                    </a:lnTo>
                    <a:lnTo>
                      <a:pt x="256" y="1098"/>
                    </a:lnTo>
                    <a:lnTo>
                      <a:pt x="246" y="1100"/>
                    </a:lnTo>
                    <a:lnTo>
                      <a:pt x="238" y="1100"/>
                    </a:lnTo>
                    <a:lnTo>
                      <a:pt x="230" y="1100"/>
                    </a:lnTo>
                    <a:lnTo>
                      <a:pt x="230" y="1100"/>
                    </a:lnTo>
                    <a:lnTo>
                      <a:pt x="236" y="1104"/>
                    </a:lnTo>
                    <a:lnTo>
                      <a:pt x="238" y="1110"/>
                    </a:lnTo>
                    <a:lnTo>
                      <a:pt x="242" y="1114"/>
                    </a:lnTo>
                    <a:lnTo>
                      <a:pt x="246" y="1118"/>
                    </a:lnTo>
                    <a:lnTo>
                      <a:pt x="246" y="1118"/>
                    </a:lnTo>
                    <a:lnTo>
                      <a:pt x="248" y="1114"/>
                    </a:lnTo>
                    <a:lnTo>
                      <a:pt x="252" y="1110"/>
                    </a:lnTo>
                    <a:lnTo>
                      <a:pt x="252" y="1110"/>
                    </a:lnTo>
                    <a:lnTo>
                      <a:pt x="248" y="1116"/>
                    </a:lnTo>
                    <a:lnTo>
                      <a:pt x="250" y="1122"/>
                    </a:lnTo>
                    <a:lnTo>
                      <a:pt x="252" y="1126"/>
                    </a:lnTo>
                    <a:lnTo>
                      <a:pt x="256" y="1130"/>
                    </a:lnTo>
                    <a:lnTo>
                      <a:pt x="256" y="1130"/>
                    </a:lnTo>
                    <a:lnTo>
                      <a:pt x="868" y="1126"/>
                    </a:lnTo>
                    <a:lnTo>
                      <a:pt x="868" y="1126"/>
                    </a:lnTo>
                    <a:lnTo>
                      <a:pt x="854" y="1126"/>
                    </a:lnTo>
                    <a:lnTo>
                      <a:pt x="838" y="1130"/>
                    </a:lnTo>
                    <a:lnTo>
                      <a:pt x="810" y="1138"/>
                    </a:lnTo>
                    <a:lnTo>
                      <a:pt x="810" y="1138"/>
                    </a:lnTo>
                    <a:lnTo>
                      <a:pt x="806" y="1148"/>
                    </a:lnTo>
                    <a:lnTo>
                      <a:pt x="804" y="1158"/>
                    </a:lnTo>
                    <a:lnTo>
                      <a:pt x="804" y="1168"/>
                    </a:lnTo>
                    <a:lnTo>
                      <a:pt x="804" y="1172"/>
                    </a:lnTo>
                    <a:lnTo>
                      <a:pt x="808" y="1176"/>
                    </a:lnTo>
                    <a:lnTo>
                      <a:pt x="808" y="1176"/>
                    </a:lnTo>
                    <a:lnTo>
                      <a:pt x="812" y="1174"/>
                    </a:lnTo>
                    <a:lnTo>
                      <a:pt x="818" y="1172"/>
                    </a:lnTo>
                    <a:lnTo>
                      <a:pt x="818" y="1172"/>
                    </a:lnTo>
                    <a:lnTo>
                      <a:pt x="824" y="1176"/>
                    </a:lnTo>
                    <a:lnTo>
                      <a:pt x="824" y="1182"/>
                    </a:lnTo>
                    <a:lnTo>
                      <a:pt x="824" y="1188"/>
                    </a:lnTo>
                    <a:lnTo>
                      <a:pt x="820" y="1194"/>
                    </a:lnTo>
                    <a:lnTo>
                      <a:pt x="820" y="1194"/>
                    </a:lnTo>
                    <a:lnTo>
                      <a:pt x="824" y="1192"/>
                    </a:lnTo>
                    <a:lnTo>
                      <a:pt x="826" y="1190"/>
                    </a:lnTo>
                    <a:lnTo>
                      <a:pt x="828" y="1192"/>
                    </a:lnTo>
                    <a:lnTo>
                      <a:pt x="828" y="1192"/>
                    </a:lnTo>
                    <a:lnTo>
                      <a:pt x="824" y="1194"/>
                    </a:lnTo>
                    <a:lnTo>
                      <a:pt x="818" y="1194"/>
                    </a:lnTo>
                    <a:lnTo>
                      <a:pt x="818" y="1194"/>
                    </a:lnTo>
                    <a:lnTo>
                      <a:pt x="822" y="1198"/>
                    </a:lnTo>
                    <a:lnTo>
                      <a:pt x="824" y="1200"/>
                    </a:lnTo>
                    <a:lnTo>
                      <a:pt x="828" y="1202"/>
                    </a:lnTo>
                    <a:lnTo>
                      <a:pt x="828" y="1206"/>
                    </a:lnTo>
                    <a:lnTo>
                      <a:pt x="828" y="1206"/>
                    </a:lnTo>
                    <a:lnTo>
                      <a:pt x="828" y="1210"/>
                    </a:lnTo>
                    <a:lnTo>
                      <a:pt x="826" y="1212"/>
                    </a:lnTo>
                    <a:lnTo>
                      <a:pt x="826" y="1216"/>
                    </a:lnTo>
                    <a:lnTo>
                      <a:pt x="824" y="1218"/>
                    </a:lnTo>
                    <a:lnTo>
                      <a:pt x="824" y="1218"/>
                    </a:lnTo>
                    <a:lnTo>
                      <a:pt x="826" y="1224"/>
                    </a:lnTo>
                    <a:lnTo>
                      <a:pt x="828" y="1228"/>
                    </a:lnTo>
                    <a:lnTo>
                      <a:pt x="840" y="1234"/>
                    </a:lnTo>
                    <a:lnTo>
                      <a:pt x="840" y="1234"/>
                    </a:lnTo>
                    <a:lnTo>
                      <a:pt x="836" y="1242"/>
                    </a:lnTo>
                    <a:lnTo>
                      <a:pt x="834" y="1246"/>
                    </a:lnTo>
                    <a:lnTo>
                      <a:pt x="834" y="1250"/>
                    </a:lnTo>
                    <a:lnTo>
                      <a:pt x="834" y="1250"/>
                    </a:lnTo>
                    <a:lnTo>
                      <a:pt x="840" y="1250"/>
                    </a:lnTo>
                    <a:lnTo>
                      <a:pt x="844" y="1248"/>
                    </a:lnTo>
                    <a:lnTo>
                      <a:pt x="850" y="1248"/>
                    </a:lnTo>
                    <a:lnTo>
                      <a:pt x="852" y="1250"/>
                    </a:lnTo>
                    <a:lnTo>
                      <a:pt x="854" y="1252"/>
                    </a:lnTo>
                    <a:lnTo>
                      <a:pt x="854" y="1252"/>
                    </a:lnTo>
                    <a:lnTo>
                      <a:pt x="850" y="1256"/>
                    </a:lnTo>
                    <a:lnTo>
                      <a:pt x="846" y="1258"/>
                    </a:lnTo>
                    <a:lnTo>
                      <a:pt x="842" y="1262"/>
                    </a:lnTo>
                    <a:lnTo>
                      <a:pt x="840" y="1266"/>
                    </a:lnTo>
                    <a:lnTo>
                      <a:pt x="840" y="1266"/>
                    </a:lnTo>
                    <a:lnTo>
                      <a:pt x="854" y="1280"/>
                    </a:lnTo>
                    <a:lnTo>
                      <a:pt x="866" y="1298"/>
                    </a:lnTo>
                    <a:lnTo>
                      <a:pt x="878" y="1316"/>
                    </a:lnTo>
                    <a:lnTo>
                      <a:pt x="886" y="1336"/>
                    </a:lnTo>
                    <a:lnTo>
                      <a:pt x="886" y="1336"/>
                    </a:lnTo>
                    <a:lnTo>
                      <a:pt x="894" y="1350"/>
                    </a:lnTo>
                    <a:lnTo>
                      <a:pt x="900" y="1362"/>
                    </a:lnTo>
                    <a:lnTo>
                      <a:pt x="900" y="1362"/>
                    </a:lnTo>
                    <a:lnTo>
                      <a:pt x="902" y="1378"/>
                    </a:lnTo>
                    <a:lnTo>
                      <a:pt x="904" y="1384"/>
                    </a:lnTo>
                    <a:lnTo>
                      <a:pt x="908" y="1390"/>
                    </a:lnTo>
                    <a:lnTo>
                      <a:pt x="908" y="1390"/>
                    </a:lnTo>
                    <a:lnTo>
                      <a:pt x="912" y="1396"/>
                    </a:lnTo>
                    <a:lnTo>
                      <a:pt x="918" y="1398"/>
                    </a:lnTo>
                    <a:lnTo>
                      <a:pt x="924" y="1400"/>
                    </a:lnTo>
                    <a:lnTo>
                      <a:pt x="934" y="1398"/>
                    </a:lnTo>
                    <a:lnTo>
                      <a:pt x="934" y="1398"/>
                    </a:lnTo>
                    <a:lnTo>
                      <a:pt x="936" y="1392"/>
                    </a:lnTo>
                    <a:lnTo>
                      <a:pt x="936" y="1384"/>
                    </a:lnTo>
                    <a:lnTo>
                      <a:pt x="936" y="1366"/>
                    </a:lnTo>
                    <a:lnTo>
                      <a:pt x="936" y="1366"/>
                    </a:lnTo>
                    <a:lnTo>
                      <a:pt x="930" y="1288"/>
                    </a:lnTo>
                    <a:lnTo>
                      <a:pt x="930" y="1288"/>
                    </a:lnTo>
                    <a:lnTo>
                      <a:pt x="932" y="1236"/>
                    </a:lnTo>
                    <a:lnTo>
                      <a:pt x="932" y="1210"/>
                    </a:lnTo>
                    <a:lnTo>
                      <a:pt x="930" y="1186"/>
                    </a:lnTo>
                    <a:lnTo>
                      <a:pt x="928" y="1164"/>
                    </a:lnTo>
                    <a:lnTo>
                      <a:pt x="922" y="1144"/>
                    </a:lnTo>
                    <a:lnTo>
                      <a:pt x="918" y="1134"/>
                    </a:lnTo>
                    <a:lnTo>
                      <a:pt x="912" y="1128"/>
                    </a:lnTo>
                    <a:lnTo>
                      <a:pt x="906" y="1120"/>
                    </a:lnTo>
                    <a:lnTo>
                      <a:pt x="898" y="1116"/>
                    </a:lnTo>
                    <a:lnTo>
                      <a:pt x="898" y="1116"/>
                    </a:lnTo>
                    <a:lnTo>
                      <a:pt x="890" y="1122"/>
                    </a:lnTo>
                    <a:lnTo>
                      <a:pt x="884" y="1124"/>
                    </a:lnTo>
                    <a:lnTo>
                      <a:pt x="878" y="1122"/>
                    </a:lnTo>
                    <a:lnTo>
                      <a:pt x="878" y="1122"/>
                    </a:lnTo>
                    <a:lnTo>
                      <a:pt x="880" y="1120"/>
                    </a:lnTo>
                    <a:lnTo>
                      <a:pt x="882" y="1118"/>
                    </a:lnTo>
                    <a:lnTo>
                      <a:pt x="882" y="1118"/>
                    </a:lnTo>
                    <a:lnTo>
                      <a:pt x="882" y="1116"/>
                    </a:lnTo>
                    <a:lnTo>
                      <a:pt x="882" y="1116"/>
                    </a:lnTo>
                    <a:lnTo>
                      <a:pt x="876" y="1120"/>
                    </a:lnTo>
                    <a:lnTo>
                      <a:pt x="868" y="1126"/>
                    </a:lnTo>
                    <a:lnTo>
                      <a:pt x="868" y="1126"/>
                    </a:lnTo>
                    <a:lnTo>
                      <a:pt x="890" y="1110"/>
                    </a:lnTo>
                    <a:lnTo>
                      <a:pt x="890" y="1110"/>
                    </a:lnTo>
                    <a:lnTo>
                      <a:pt x="858" y="1094"/>
                    </a:lnTo>
                    <a:lnTo>
                      <a:pt x="842" y="1086"/>
                    </a:lnTo>
                    <a:lnTo>
                      <a:pt x="824" y="1078"/>
                    </a:lnTo>
                    <a:lnTo>
                      <a:pt x="824" y="1078"/>
                    </a:lnTo>
                    <a:lnTo>
                      <a:pt x="818" y="1106"/>
                    </a:lnTo>
                    <a:lnTo>
                      <a:pt x="812" y="1134"/>
                    </a:lnTo>
                    <a:lnTo>
                      <a:pt x="812" y="1134"/>
                    </a:lnTo>
                    <a:lnTo>
                      <a:pt x="832" y="1128"/>
                    </a:lnTo>
                    <a:lnTo>
                      <a:pt x="854" y="1124"/>
                    </a:lnTo>
                    <a:lnTo>
                      <a:pt x="874" y="1120"/>
                    </a:lnTo>
                    <a:lnTo>
                      <a:pt x="882" y="1116"/>
                    </a:lnTo>
                    <a:lnTo>
                      <a:pt x="890" y="1110"/>
                    </a:lnTo>
                    <a:lnTo>
                      <a:pt x="890" y="1110"/>
                    </a:lnTo>
                    <a:lnTo>
                      <a:pt x="462" y="1080"/>
                    </a:lnTo>
                    <a:lnTo>
                      <a:pt x="462" y="1080"/>
                    </a:lnTo>
                    <a:lnTo>
                      <a:pt x="464" y="1082"/>
                    </a:lnTo>
                    <a:lnTo>
                      <a:pt x="464" y="1086"/>
                    </a:lnTo>
                    <a:lnTo>
                      <a:pt x="464" y="1086"/>
                    </a:lnTo>
                    <a:lnTo>
                      <a:pt x="468" y="1086"/>
                    </a:lnTo>
                    <a:lnTo>
                      <a:pt x="472" y="1084"/>
                    </a:lnTo>
                    <a:lnTo>
                      <a:pt x="472" y="1084"/>
                    </a:lnTo>
                    <a:lnTo>
                      <a:pt x="472" y="1082"/>
                    </a:lnTo>
                    <a:lnTo>
                      <a:pt x="468" y="1080"/>
                    </a:lnTo>
                    <a:lnTo>
                      <a:pt x="466" y="1078"/>
                    </a:lnTo>
                    <a:lnTo>
                      <a:pt x="462" y="1080"/>
                    </a:lnTo>
                    <a:lnTo>
                      <a:pt x="462" y="1080"/>
                    </a:lnTo>
                    <a:lnTo>
                      <a:pt x="632" y="1126"/>
                    </a:lnTo>
                    <a:lnTo>
                      <a:pt x="632" y="1126"/>
                    </a:lnTo>
                    <a:lnTo>
                      <a:pt x="640" y="1120"/>
                    </a:lnTo>
                    <a:lnTo>
                      <a:pt x="642" y="1116"/>
                    </a:lnTo>
                    <a:lnTo>
                      <a:pt x="642" y="1112"/>
                    </a:lnTo>
                    <a:lnTo>
                      <a:pt x="640" y="1106"/>
                    </a:lnTo>
                    <a:lnTo>
                      <a:pt x="634" y="1098"/>
                    </a:lnTo>
                    <a:lnTo>
                      <a:pt x="634" y="1098"/>
                    </a:lnTo>
                    <a:lnTo>
                      <a:pt x="634" y="1096"/>
                    </a:lnTo>
                    <a:lnTo>
                      <a:pt x="636" y="1094"/>
                    </a:lnTo>
                    <a:lnTo>
                      <a:pt x="636" y="1092"/>
                    </a:lnTo>
                    <a:lnTo>
                      <a:pt x="638" y="1090"/>
                    </a:lnTo>
                    <a:lnTo>
                      <a:pt x="638" y="1090"/>
                    </a:lnTo>
                    <a:lnTo>
                      <a:pt x="628" y="1084"/>
                    </a:lnTo>
                    <a:lnTo>
                      <a:pt x="618" y="1082"/>
                    </a:lnTo>
                    <a:lnTo>
                      <a:pt x="612" y="1082"/>
                    </a:lnTo>
                    <a:lnTo>
                      <a:pt x="608" y="1082"/>
                    </a:lnTo>
                    <a:lnTo>
                      <a:pt x="604" y="1086"/>
                    </a:lnTo>
                    <a:lnTo>
                      <a:pt x="600" y="1090"/>
                    </a:lnTo>
                    <a:lnTo>
                      <a:pt x="600" y="1090"/>
                    </a:lnTo>
                    <a:lnTo>
                      <a:pt x="604" y="1092"/>
                    </a:lnTo>
                    <a:lnTo>
                      <a:pt x="606" y="1096"/>
                    </a:lnTo>
                    <a:lnTo>
                      <a:pt x="606" y="1100"/>
                    </a:lnTo>
                    <a:lnTo>
                      <a:pt x="604" y="1104"/>
                    </a:lnTo>
                    <a:lnTo>
                      <a:pt x="604" y="1104"/>
                    </a:lnTo>
                    <a:lnTo>
                      <a:pt x="602" y="1104"/>
                    </a:lnTo>
                    <a:lnTo>
                      <a:pt x="598" y="1104"/>
                    </a:lnTo>
                    <a:lnTo>
                      <a:pt x="596" y="1102"/>
                    </a:lnTo>
                    <a:lnTo>
                      <a:pt x="592" y="1104"/>
                    </a:lnTo>
                    <a:lnTo>
                      <a:pt x="592" y="1104"/>
                    </a:lnTo>
                    <a:lnTo>
                      <a:pt x="592" y="1106"/>
                    </a:lnTo>
                    <a:lnTo>
                      <a:pt x="592" y="1110"/>
                    </a:lnTo>
                    <a:lnTo>
                      <a:pt x="594" y="1114"/>
                    </a:lnTo>
                    <a:lnTo>
                      <a:pt x="598" y="1118"/>
                    </a:lnTo>
                    <a:lnTo>
                      <a:pt x="600" y="1122"/>
                    </a:lnTo>
                    <a:lnTo>
                      <a:pt x="600" y="1122"/>
                    </a:lnTo>
                    <a:lnTo>
                      <a:pt x="600" y="1126"/>
                    </a:lnTo>
                    <a:lnTo>
                      <a:pt x="598" y="1130"/>
                    </a:lnTo>
                    <a:lnTo>
                      <a:pt x="596" y="1132"/>
                    </a:lnTo>
                    <a:lnTo>
                      <a:pt x="596" y="1134"/>
                    </a:lnTo>
                    <a:lnTo>
                      <a:pt x="596" y="1134"/>
                    </a:lnTo>
                    <a:lnTo>
                      <a:pt x="600" y="1130"/>
                    </a:lnTo>
                    <a:lnTo>
                      <a:pt x="606" y="1128"/>
                    </a:lnTo>
                    <a:lnTo>
                      <a:pt x="606" y="1128"/>
                    </a:lnTo>
                    <a:lnTo>
                      <a:pt x="604" y="1124"/>
                    </a:lnTo>
                    <a:lnTo>
                      <a:pt x="606" y="1122"/>
                    </a:lnTo>
                    <a:lnTo>
                      <a:pt x="608" y="1118"/>
                    </a:lnTo>
                    <a:lnTo>
                      <a:pt x="612" y="1118"/>
                    </a:lnTo>
                    <a:lnTo>
                      <a:pt x="612" y="1118"/>
                    </a:lnTo>
                    <a:lnTo>
                      <a:pt x="620" y="1126"/>
                    </a:lnTo>
                    <a:lnTo>
                      <a:pt x="628" y="1132"/>
                    </a:lnTo>
                    <a:lnTo>
                      <a:pt x="628" y="1132"/>
                    </a:lnTo>
                    <a:lnTo>
                      <a:pt x="626" y="1134"/>
                    </a:lnTo>
                    <a:lnTo>
                      <a:pt x="624" y="1136"/>
                    </a:lnTo>
                    <a:lnTo>
                      <a:pt x="620" y="1138"/>
                    </a:lnTo>
                    <a:lnTo>
                      <a:pt x="614" y="1136"/>
                    </a:lnTo>
                    <a:lnTo>
                      <a:pt x="608" y="1134"/>
                    </a:lnTo>
                    <a:lnTo>
                      <a:pt x="608" y="1134"/>
                    </a:lnTo>
                    <a:lnTo>
                      <a:pt x="606" y="1140"/>
                    </a:lnTo>
                    <a:lnTo>
                      <a:pt x="604" y="1148"/>
                    </a:lnTo>
                    <a:lnTo>
                      <a:pt x="604" y="1148"/>
                    </a:lnTo>
                    <a:lnTo>
                      <a:pt x="606" y="1138"/>
                    </a:lnTo>
                    <a:lnTo>
                      <a:pt x="608" y="1130"/>
                    </a:lnTo>
                    <a:lnTo>
                      <a:pt x="608" y="1130"/>
                    </a:lnTo>
                    <a:lnTo>
                      <a:pt x="604" y="1130"/>
                    </a:lnTo>
                    <a:lnTo>
                      <a:pt x="600" y="1132"/>
                    </a:lnTo>
                    <a:lnTo>
                      <a:pt x="596" y="1136"/>
                    </a:lnTo>
                    <a:lnTo>
                      <a:pt x="590" y="1136"/>
                    </a:lnTo>
                    <a:lnTo>
                      <a:pt x="590" y="1136"/>
                    </a:lnTo>
                    <a:lnTo>
                      <a:pt x="590" y="1160"/>
                    </a:lnTo>
                    <a:lnTo>
                      <a:pt x="588" y="1184"/>
                    </a:lnTo>
                    <a:lnTo>
                      <a:pt x="588" y="1184"/>
                    </a:lnTo>
                    <a:lnTo>
                      <a:pt x="594" y="1178"/>
                    </a:lnTo>
                    <a:lnTo>
                      <a:pt x="596" y="1172"/>
                    </a:lnTo>
                    <a:lnTo>
                      <a:pt x="598" y="1164"/>
                    </a:lnTo>
                    <a:lnTo>
                      <a:pt x="600" y="1156"/>
                    </a:lnTo>
                    <a:lnTo>
                      <a:pt x="600" y="1156"/>
                    </a:lnTo>
                    <a:lnTo>
                      <a:pt x="602" y="1160"/>
                    </a:lnTo>
                    <a:lnTo>
                      <a:pt x="600" y="1164"/>
                    </a:lnTo>
                    <a:lnTo>
                      <a:pt x="598" y="1168"/>
                    </a:lnTo>
                    <a:lnTo>
                      <a:pt x="598" y="1172"/>
                    </a:lnTo>
                    <a:lnTo>
                      <a:pt x="598" y="1172"/>
                    </a:lnTo>
                    <a:lnTo>
                      <a:pt x="606" y="1172"/>
                    </a:lnTo>
                    <a:lnTo>
                      <a:pt x="614" y="1176"/>
                    </a:lnTo>
                    <a:lnTo>
                      <a:pt x="614" y="1176"/>
                    </a:lnTo>
                    <a:lnTo>
                      <a:pt x="610" y="1178"/>
                    </a:lnTo>
                    <a:lnTo>
                      <a:pt x="606" y="1178"/>
                    </a:lnTo>
                    <a:lnTo>
                      <a:pt x="596" y="1176"/>
                    </a:lnTo>
                    <a:lnTo>
                      <a:pt x="596" y="1176"/>
                    </a:lnTo>
                    <a:lnTo>
                      <a:pt x="596" y="1182"/>
                    </a:lnTo>
                    <a:lnTo>
                      <a:pt x="594" y="1188"/>
                    </a:lnTo>
                    <a:lnTo>
                      <a:pt x="590" y="1198"/>
                    </a:lnTo>
                    <a:lnTo>
                      <a:pt x="590" y="1198"/>
                    </a:lnTo>
                    <a:lnTo>
                      <a:pt x="596" y="1204"/>
                    </a:lnTo>
                    <a:lnTo>
                      <a:pt x="598" y="1208"/>
                    </a:lnTo>
                    <a:lnTo>
                      <a:pt x="598" y="1208"/>
                    </a:lnTo>
                    <a:lnTo>
                      <a:pt x="596" y="1208"/>
                    </a:lnTo>
                    <a:lnTo>
                      <a:pt x="594" y="1206"/>
                    </a:lnTo>
                    <a:lnTo>
                      <a:pt x="588" y="1202"/>
                    </a:lnTo>
                    <a:lnTo>
                      <a:pt x="588" y="1202"/>
                    </a:lnTo>
                    <a:lnTo>
                      <a:pt x="588" y="1210"/>
                    </a:lnTo>
                    <a:lnTo>
                      <a:pt x="588" y="1210"/>
                    </a:lnTo>
                    <a:lnTo>
                      <a:pt x="600" y="1210"/>
                    </a:lnTo>
                    <a:lnTo>
                      <a:pt x="608" y="1210"/>
                    </a:lnTo>
                    <a:lnTo>
                      <a:pt x="616" y="1214"/>
                    </a:lnTo>
                    <a:lnTo>
                      <a:pt x="624" y="1220"/>
                    </a:lnTo>
                    <a:lnTo>
                      <a:pt x="628" y="1228"/>
                    </a:lnTo>
                    <a:lnTo>
                      <a:pt x="632" y="1236"/>
                    </a:lnTo>
                    <a:lnTo>
                      <a:pt x="632" y="1246"/>
                    </a:lnTo>
                    <a:lnTo>
                      <a:pt x="630" y="1256"/>
                    </a:lnTo>
                    <a:lnTo>
                      <a:pt x="630" y="1256"/>
                    </a:lnTo>
                    <a:lnTo>
                      <a:pt x="608" y="1248"/>
                    </a:lnTo>
                    <a:lnTo>
                      <a:pt x="584" y="1240"/>
                    </a:lnTo>
                    <a:lnTo>
                      <a:pt x="584" y="1240"/>
                    </a:lnTo>
                    <a:lnTo>
                      <a:pt x="584" y="1260"/>
                    </a:lnTo>
                    <a:lnTo>
                      <a:pt x="584" y="1278"/>
                    </a:lnTo>
                    <a:lnTo>
                      <a:pt x="584" y="1278"/>
                    </a:lnTo>
                    <a:lnTo>
                      <a:pt x="606" y="1288"/>
                    </a:lnTo>
                    <a:lnTo>
                      <a:pt x="626" y="1298"/>
                    </a:lnTo>
                    <a:lnTo>
                      <a:pt x="648" y="1308"/>
                    </a:lnTo>
                    <a:lnTo>
                      <a:pt x="670" y="1318"/>
                    </a:lnTo>
                    <a:lnTo>
                      <a:pt x="670" y="1318"/>
                    </a:lnTo>
                    <a:lnTo>
                      <a:pt x="694" y="1326"/>
                    </a:lnTo>
                    <a:lnTo>
                      <a:pt x="720" y="1330"/>
                    </a:lnTo>
                    <a:lnTo>
                      <a:pt x="744" y="1338"/>
                    </a:lnTo>
                    <a:lnTo>
                      <a:pt x="768" y="1346"/>
                    </a:lnTo>
                    <a:lnTo>
                      <a:pt x="768" y="1346"/>
                    </a:lnTo>
                    <a:lnTo>
                      <a:pt x="766" y="1338"/>
                    </a:lnTo>
                    <a:lnTo>
                      <a:pt x="764" y="1328"/>
                    </a:lnTo>
                    <a:lnTo>
                      <a:pt x="762" y="1318"/>
                    </a:lnTo>
                    <a:lnTo>
                      <a:pt x="756" y="1306"/>
                    </a:lnTo>
                    <a:lnTo>
                      <a:pt x="756" y="1306"/>
                    </a:lnTo>
                    <a:lnTo>
                      <a:pt x="750" y="1302"/>
                    </a:lnTo>
                    <a:lnTo>
                      <a:pt x="742" y="1296"/>
                    </a:lnTo>
                    <a:lnTo>
                      <a:pt x="736" y="1290"/>
                    </a:lnTo>
                    <a:lnTo>
                      <a:pt x="734" y="1288"/>
                    </a:lnTo>
                    <a:lnTo>
                      <a:pt x="734" y="1284"/>
                    </a:lnTo>
                    <a:lnTo>
                      <a:pt x="734" y="1284"/>
                    </a:lnTo>
                    <a:lnTo>
                      <a:pt x="736" y="1280"/>
                    </a:lnTo>
                    <a:lnTo>
                      <a:pt x="740" y="1280"/>
                    </a:lnTo>
                    <a:lnTo>
                      <a:pt x="748" y="1282"/>
                    </a:lnTo>
                    <a:lnTo>
                      <a:pt x="748" y="1282"/>
                    </a:lnTo>
                    <a:lnTo>
                      <a:pt x="744" y="1274"/>
                    </a:lnTo>
                    <a:lnTo>
                      <a:pt x="742" y="1266"/>
                    </a:lnTo>
                    <a:lnTo>
                      <a:pt x="742" y="1266"/>
                    </a:lnTo>
                    <a:lnTo>
                      <a:pt x="732" y="1266"/>
                    </a:lnTo>
                    <a:lnTo>
                      <a:pt x="722" y="1264"/>
                    </a:lnTo>
                    <a:lnTo>
                      <a:pt x="714" y="1260"/>
                    </a:lnTo>
                    <a:lnTo>
                      <a:pt x="712" y="1258"/>
                    </a:lnTo>
                    <a:lnTo>
                      <a:pt x="710" y="1254"/>
                    </a:lnTo>
                    <a:lnTo>
                      <a:pt x="710" y="1254"/>
                    </a:lnTo>
                    <a:lnTo>
                      <a:pt x="712" y="1250"/>
                    </a:lnTo>
                    <a:lnTo>
                      <a:pt x="716" y="1248"/>
                    </a:lnTo>
                    <a:lnTo>
                      <a:pt x="718" y="1244"/>
                    </a:lnTo>
                    <a:lnTo>
                      <a:pt x="720" y="1240"/>
                    </a:lnTo>
                    <a:lnTo>
                      <a:pt x="720" y="1240"/>
                    </a:lnTo>
                    <a:lnTo>
                      <a:pt x="716" y="1240"/>
                    </a:lnTo>
                    <a:lnTo>
                      <a:pt x="712" y="1238"/>
                    </a:lnTo>
                    <a:lnTo>
                      <a:pt x="710" y="1238"/>
                    </a:lnTo>
                    <a:lnTo>
                      <a:pt x="708" y="1234"/>
                    </a:lnTo>
                    <a:lnTo>
                      <a:pt x="708" y="1234"/>
                    </a:lnTo>
                    <a:lnTo>
                      <a:pt x="708" y="1230"/>
                    </a:lnTo>
                    <a:lnTo>
                      <a:pt x="710" y="1228"/>
                    </a:lnTo>
                    <a:lnTo>
                      <a:pt x="718" y="1226"/>
                    </a:lnTo>
                    <a:lnTo>
                      <a:pt x="726" y="1224"/>
                    </a:lnTo>
                    <a:lnTo>
                      <a:pt x="728" y="1222"/>
                    </a:lnTo>
                    <a:lnTo>
                      <a:pt x="728" y="1218"/>
                    </a:lnTo>
                    <a:lnTo>
                      <a:pt x="728" y="1218"/>
                    </a:lnTo>
                    <a:lnTo>
                      <a:pt x="728" y="1214"/>
                    </a:lnTo>
                    <a:lnTo>
                      <a:pt x="726" y="1212"/>
                    </a:lnTo>
                    <a:lnTo>
                      <a:pt x="718" y="1210"/>
                    </a:lnTo>
                    <a:lnTo>
                      <a:pt x="702" y="1204"/>
                    </a:lnTo>
                    <a:lnTo>
                      <a:pt x="702" y="1204"/>
                    </a:lnTo>
                    <a:lnTo>
                      <a:pt x="686" y="1196"/>
                    </a:lnTo>
                    <a:lnTo>
                      <a:pt x="678" y="1194"/>
                    </a:lnTo>
                    <a:lnTo>
                      <a:pt x="670" y="1194"/>
                    </a:lnTo>
                    <a:lnTo>
                      <a:pt x="670" y="1194"/>
                    </a:lnTo>
                    <a:lnTo>
                      <a:pt x="664" y="1196"/>
                    </a:lnTo>
                    <a:lnTo>
                      <a:pt x="658" y="1200"/>
                    </a:lnTo>
                    <a:lnTo>
                      <a:pt x="650" y="1206"/>
                    </a:lnTo>
                    <a:lnTo>
                      <a:pt x="642" y="1210"/>
                    </a:lnTo>
                    <a:lnTo>
                      <a:pt x="642" y="1210"/>
                    </a:lnTo>
                    <a:lnTo>
                      <a:pt x="634" y="1212"/>
                    </a:lnTo>
                    <a:lnTo>
                      <a:pt x="626" y="1212"/>
                    </a:lnTo>
                    <a:lnTo>
                      <a:pt x="626" y="1212"/>
                    </a:lnTo>
                    <a:lnTo>
                      <a:pt x="618" y="1212"/>
                    </a:lnTo>
                    <a:lnTo>
                      <a:pt x="608" y="1208"/>
                    </a:lnTo>
                    <a:lnTo>
                      <a:pt x="604" y="1206"/>
                    </a:lnTo>
                    <a:lnTo>
                      <a:pt x="600" y="1204"/>
                    </a:lnTo>
                    <a:lnTo>
                      <a:pt x="598" y="1200"/>
                    </a:lnTo>
                    <a:lnTo>
                      <a:pt x="598" y="1194"/>
                    </a:lnTo>
                    <a:lnTo>
                      <a:pt x="598" y="1194"/>
                    </a:lnTo>
                    <a:lnTo>
                      <a:pt x="602" y="1190"/>
                    </a:lnTo>
                    <a:lnTo>
                      <a:pt x="608" y="1186"/>
                    </a:lnTo>
                    <a:lnTo>
                      <a:pt x="614" y="1186"/>
                    </a:lnTo>
                    <a:lnTo>
                      <a:pt x="622" y="1186"/>
                    </a:lnTo>
                    <a:lnTo>
                      <a:pt x="630" y="1188"/>
                    </a:lnTo>
                    <a:lnTo>
                      <a:pt x="636" y="1192"/>
                    </a:lnTo>
                    <a:lnTo>
                      <a:pt x="638" y="1198"/>
                    </a:lnTo>
                    <a:lnTo>
                      <a:pt x="638" y="1204"/>
                    </a:lnTo>
                    <a:lnTo>
                      <a:pt x="638" y="1204"/>
                    </a:lnTo>
                    <a:lnTo>
                      <a:pt x="648" y="1202"/>
                    </a:lnTo>
                    <a:lnTo>
                      <a:pt x="656" y="1200"/>
                    </a:lnTo>
                    <a:lnTo>
                      <a:pt x="662" y="1196"/>
                    </a:lnTo>
                    <a:lnTo>
                      <a:pt x="668" y="1192"/>
                    </a:lnTo>
                    <a:lnTo>
                      <a:pt x="668" y="1192"/>
                    </a:lnTo>
                    <a:lnTo>
                      <a:pt x="656" y="1186"/>
                    </a:lnTo>
                    <a:lnTo>
                      <a:pt x="648" y="1180"/>
                    </a:lnTo>
                    <a:lnTo>
                      <a:pt x="648" y="1180"/>
                    </a:lnTo>
                    <a:lnTo>
                      <a:pt x="676" y="1190"/>
                    </a:lnTo>
                    <a:lnTo>
                      <a:pt x="704" y="1198"/>
                    </a:lnTo>
                    <a:lnTo>
                      <a:pt x="704" y="1198"/>
                    </a:lnTo>
                    <a:lnTo>
                      <a:pt x="696" y="1188"/>
                    </a:lnTo>
                    <a:lnTo>
                      <a:pt x="690" y="1176"/>
                    </a:lnTo>
                    <a:lnTo>
                      <a:pt x="684" y="1162"/>
                    </a:lnTo>
                    <a:lnTo>
                      <a:pt x="676" y="1152"/>
                    </a:lnTo>
                    <a:lnTo>
                      <a:pt x="676" y="1152"/>
                    </a:lnTo>
                    <a:lnTo>
                      <a:pt x="666" y="1148"/>
                    </a:lnTo>
                    <a:lnTo>
                      <a:pt x="664" y="1148"/>
                    </a:lnTo>
                    <a:lnTo>
                      <a:pt x="664" y="1144"/>
                    </a:lnTo>
                    <a:lnTo>
                      <a:pt x="664" y="1144"/>
                    </a:lnTo>
                    <a:lnTo>
                      <a:pt x="668" y="1148"/>
                    </a:lnTo>
                    <a:lnTo>
                      <a:pt x="672" y="1150"/>
                    </a:lnTo>
                    <a:lnTo>
                      <a:pt x="676" y="1150"/>
                    </a:lnTo>
                    <a:lnTo>
                      <a:pt x="676" y="1150"/>
                    </a:lnTo>
                    <a:lnTo>
                      <a:pt x="672" y="1144"/>
                    </a:lnTo>
                    <a:lnTo>
                      <a:pt x="668" y="1142"/>
                    </a:lnTo>
                    <a:lnTo>
                      <a:pt x="664" y="1136"/>
                    </a:lnTo>
                    <a:lnTo>
                      <a:pt x="664" y="1134"/>
                    </a:lnTo>
                    <a:lnTo>
                      <a:pt x="666" y="1130"/>
                    </a:lnTo>
                    <a:lnTo>
                      <a:pt x="666" y="1130"/>
                    </a:lnTo>
                    <a:lnTo>
                      <a:pt x="654" y="1132"/>
                    </a:lnTo>
                    <a:lnTo>
                      <a:pt x="644" y="1134"/>
                    </a:lnTo>
                    <a:lnTo>
                      <a:pt x="644" y="1134"/>
                    </a:lnTo>
                    <a:lnTo>
                      <a:pt x="642" y="1142"/>
                    </a:lnTo>
                    <a:lnTo>
                      <a:pt x="640" y="1146"/>
                    </a:lnTo>
                    <a:lnTo>
                      <a:pt x="638" y="1148"/>
                    </a:lnTo>
                    <a:lnTo>
                      <a:pt x="638" y="1148"/>
                    </a:lnTo>
                    <a:lnTo>
                      <a:pt x="636" y="1146"/>
                    </a:lnTo>
                    <a:lnTo>
                      <a:pt x="634" y="1144"/>
                    </a:lnTo>
                    <a:lnTo>
                      <a:pt x="632" y="1144"/>
                    </a:lnTo>
                    <a:lnTo>
                      <a:pt x="632" y="1144"/>
                    </a:lnTo>
                    <a:lnTo>
                      <a:pt x="634" y="1140"/>
                    </a:lnTo>
                    <a:lnTo>
                      <a:pt x="634" y="1136"/>
                    </a:lnTo>
                    <a:lnTo>
                      <a:pt x="632" y="1132"/>
                    </a:lnTo>
                    <a:lnTo>
                      <a:pt x="632" y="1126"/>
                    </a:lnTo>
                    <a:lnTo>
                      <a:pt x="632" y="1126"/>
                    </a:lnTo>
                    <a:lnTo>
                      <a:pt x="582" y="1088"/>
                    </a:lnTo>
                    <a:lnTo>
                      <a:pt x="582" y="1088"/>
                    </a:lnTo>
                    <a:lnTo>
                      <a:pt x="588" y="1088"/>
                    </a:lnTo>
                    <a:lnTo>
                      <a:pt x="596" y="1088"/>
                    </a:lnTo>
                    <a:lnTo>
                      <a:pt x="602" y="1086"/>
                    </a:lnTo>
                    <a:lnTo>
                      <a:pt x="604" y="1084"/>
                    </a:lnTo>
                    <a:lnTo>
                      <a:pt x="604" y="1082"/>
                    </a:lnTo>
                    <a:lnTo>
                      <a:pt x="604" y="1082"/>
                    </a:lnTo>
                    <a:lnTo>
                      <a:pt x="590" y="1082"/>
                    </a:lnTo>
                    <a:lnTo>
                      <a:pt x="584" y="1084"/>
                    </a:lnTo>
                    <a:lnTo>
                      <a:pt x="582" y="1084"/>
                    </a:lnTo>
                    <a:lnTo>
                      <a:pt x="582" y="1088"/>
                    </a:lnTo>
                    <a:lnTo>
                      <a:pt x="582" y="1088"/>
                    </a:lnTo>
                    <a:lnTo>
                      <a:pt x="534" y="1086"/>
                    </a:lnTo>
                    <a:lnTo>
                      <a:pt x="534" y="1086"/>
                    </a:lnTo>
                    <a:lnTo>
                      <a:pt x="538" y="1086"/>
                    </a:lnTo>
                    <a:lnTo>
                      <a:pt x="540" y="1086"/>
                    </a:lnTo>
                    <a:lnTo>
                      <a:pt x="542" y="1086"/>
                    </a:lnTo>
                    <a:lnTo>
                      <a:pt x="542" y="1086"/>
                    </a:lnTo>
                    <a:lnTo>
                      <a:pt x="538" y="1084"/>
                    </a:lnTo>
                    <a:lnTo>
                      <a:pt x="536" y="1084"/>
                    </a:lnTo>
                    <a:lnTo>
                      <a:pt x="534" y="1086"/>
                    </a:lnTo>
                    <a:lnTo>
                      <a:pt x="534" y="1086"/>
                    </a:lnTo>
                    <a:lnTo>
                      <a:pt x="1554" y="1094"/>
                    </a:lnTo>
                    <a:lnTo>
                      <a:pt x="1554" y="1094"/>
                    </a:lnTo>
                    <a:lnTo>
                      <a:pt x="1556" y="1092"/>
                    </a:lnTo>
                    <a:lnTo>
                      <a:pt x="1558" y="1090"/>
                    </a:lnTo>
                    <a:lnTo>
                      <a:pt x="1560" y="1090"/>
                    </a:lnTo>
                    <a:lnTo>
                      <a:pt x="1560" y="1088"/>
                    </a:lnTo>
                    <a:lnTo>
                      <a:pt x="1560" y="1088"/>
                    </a:lnTo>
                    <a:lnTo>
                      <a:pt x="1552" y="1086"/>
                    </a:lnTo>
                    <a:lnTo>
                      <a:pt x="1548" y="1084"/>
                    </a:lnTo>
                    <a:lnTo>
                      <a:pt x="1544" y="1086"/>
                    </a:lnTo>
                    <a:lnTo>
                      <a:pt x="1544" y="1086"/>
                    </a:lnTo>
                    <a:lnTo>
                      <a:pt x="1550" y="1090"/>
                    </a:lnTo>
                    <a:lnTo>
                      <a:pt x="1552" y="1094"/>
                    </a:lnTo>
                    <a:lnTo>
                      <a:pt x="1554" y="1094"/>
                    </a:lnTo>
                    <a:lnTo>
                      <a:pt x="1554" y="1094"/>
                    </a:lnTo>
                    <a:lnTo>
                      <a:pt x="506" y="1092"/>
                    </a:lnTo>
                    <a:lnTo>
                      <a:pt x="506" y="1092"/>
                    </a:lnTo>
                    <a:lnTo>
                      <a:pt x="514" y="1092"/>
                    </a:lnTo>
                    <a:lnTo>
                      <a:pt x="520" y="1088"/>
                    </a:lnTo>
                    <a:lnTo>
                      <a:pt x="520" y="1088"/>
                    </a:lnTo>
                    <a:lnTo>
                      <a:pt x="514" y="1088"/>
                    </a:lnTo>
                    <a:lnTo>
                      <a:pt x="506" y="1086"/>
                    </a:lnTo>
                    <a:lnTo>
                      <a:pt x="506" y="1086"/>
                    </a:lnTo>
                    <a:lnTo>
                      <a:pt x="506" y="1092"/>
                    </a:lnTo>
                    <a:lnTo>
                      <a:pt x="506" y="1092"/>
                    </a:lnTo>
                    <a:lnTo>
                      <a:pt x="566" y="1118"/>
                    </a:lnTo>
                    <a:lnTo>
                      <a:pt x="566" y="1118"/>
                    </a:lnTo>
                    <a:lnTo>
                      <a:pt x="568" y="1108"/>
                    </a:lnTo>
                    <a:lnTo>
                      <a:pt x="570" y="1100"/>
                    </a:lnTo>
                    <a:lnTo>
                      <a:pt x="570" y="1100"/>
                    </a:lnTo>
                    <a:lnTo>
                      <a:pt x="564" y="1100"/>
                    </a:lnTo>
                    <a:lnTo>
                      <a:pt x="560" y="1104"/>
                    </a:lnTo>
                    <a:lnTo>
                      <a:pt x="556" y="1106"/>
                    </a:lnTo>
                    <a:lnTo>
                      <a:pt x="554" y="1110"/>
                    </a:lnTo>
                    <a:lnTo>
                      <a:pt x="554" y="1114"/>
                    </a:lnTo>
                    <a:lnTo>
                      <a:pt x="556" y="1116"/>
                    </a:lnTo>
                    <a:lnTo>
                      <a:pt x="560" y="1118"/>
                    </a:lnTo>
                    <a:lnTo>
                      <a:pt x="566" y="1118"/>
                    </a:lnTo>
                    <a:lnTo>
                      <a:pt x="566" y="1118"/>
                    </a:lnTo>
                    <a:lnTo>
                      <a:pt x="424" y="1108"/>
                    </a:lnTo>
                    <a:lnTo>
                      <a:pt x="424" y="1108"/>
                    </a:lnTo>
                    <a:lnTo>
                      <a:pt x="426" y="1106"/>
                    </a:lnTo>
                    <a:lnTo>
                      <a:pt x="428" y="1104"/>
                    </a:lnTo>
                    <a:lnTo>
                      <a:pt x="428" y="1104"/>
                    </a:lnTo>
                    <a:lnTo>
                      <a:pt x="426" y="1102"/>
                    </a:lnTo>
                    <a:lnTo>
                      <a:pt x="424" y="1102"/>
                    </a:lnTo>
                    <a:lnTo>
                      <a:pt x="422" y="1102"/>
                    </a:lnTo>
                    <a:lnTo>
                      <a:pt x="422" y="1102"/>
                    </a:lnTo>
                    <a:lnTo>
                      <a:pt x="422" y="1106"/>
                    </a:lnTo>
                    <a:lnTo>
                      <a:pt x="422" y="1108"/>
                    </a:lnTo>
                    <a:lnTo>
                      <a:pt x="424" y="1108"/>
                    </a:lnTo>
                    <a:lnTo>
                      <a:pt x="424" y="1108"/>
                    </a:lnTo>
                    <a:lnTo>
                      <a:pt x="416" y="1104"/>
                    </a:lnTo>
                    <a:lnTo>
                      <a:pt x="416" y="1104"/>
                    </a:lnTo>
                    <a:lnTo>
                      <a:pt x="418" y="1110"/>
                    </a:lnTo>
                    <a:lnTo>
                      <a:pt x="420" y="1112"/>
                    </a:lnTo>
                    <a:lnTo>
                      <a:pt x="420" y="1112"/>
                    </a:lnTo>
                    <a:lnTo>
                      <a:pt x="422" y="1108"/>
                    </a:lnTo>
                    <a:lnTo>
                      <a:pt x="422" y="1104"/>
                    </a:lnTo>
                    <a:lnTo>
                      <a:pt x="420" y="1102"/>
                    </a:lnTo>
                    <a:lnTo>
                      <a:pt x="420" y="1102"/>
                    </a:lnTo>
                    <a:lnTo>
                      <a:pt x="420" y="1104"/>
                    </a:lnTo>
                    <a:lnTo>
                      <a:pt x="416" y="1104"/>
                    </a:lnTo>
                    <a:lnTo>
                      <a:pt x="416" y="1104"/>
                    </a:lnTo>
                    <a:lnTo>
                      <a:pt x="574" y="1112"/>
                    </a:lnTo>
                    <a:lnTo>
                      <a:pt x="574" y="1112"/>
                    </a:lnTo>
                    <a:lnTo>
                      <a:pt x="574" y="1110"/>
                    </a:lnTo>
                    <a:lnTo>
                      <a:pt x="576" y="1108"/>
                    </a:lnTo>
                    <a:lnTo>
                      <a:pt x="576" y="1106"/>
                    </a:lnTo>
                    <a:lnTo>
                      <a:pt x="574" y="1104"/>
                    </a:lnTo>
                    <a:lnTo>
                      <a:pt x="574" y="1104"/>
                    </a:lnTo>
                    <a:lnTo>
                      <a:pt x="572" y="1108"/>
                    </a:lnTo>
                    <a:lnTo>
                      <a:pt x="572" y="1110"/>
                    </a:lnTo>
                    <a:lnTo>
                      <a:pt x="574" y="1112"/>
                    </a:lnTo>
                    <a:lnTo>
                      <a:pt x="574" y="1112"/>
                    </a:lnTo>
                    <a:lnTo>
                      <a:pt x="1172" y="1110"/>
                    </a:lnTo>
                    <a:lnTo>
                      <a:pt x="1172" y="1110"/>
                    </a:lnTo>
                    <a:lnTo>
                      <a:pt x="1170" y="1114"/>
                    </a:lnTo>
                    <a:lnTo>
                      <a:pt x="1172" y="1116"/>
                    </a:lnTo>
                    <a:lnTo>
                      <a:pt x="1174" y="1118"/>
                    </a:lnTo>
                    <a:lnTo>
                      <a:pt x="1172" y="1120"/>
                    </a:lnTo>
                    <a:lnTo>
                      <a:pt x="1172" y="1120"/>
                    </a:lnTo>
                    <a:lnTo>
                      <a:pt x="1168" y="1124"/>
                    </a:lnTo>
                    <a:lnTo>
                      <a:pt x="1162" y="1126"/>
                    </a:lnTo>
                    <a:lnTo>
                      <a:pt x="1158" y="1130"/>
                    </a:lnTo>
                    <a:lnTo>
                      <a:pt x="1154" y="1134"/>
                    </a:lnTo>
                    <a:lnTo>
                      <a:pt x="1154" y="1134"/>
                    </a:lnTo>
                    <a:lnTo>
                      <a:pt x="1158" y="1136"/>
                    </a:lnTo>
                    <a:lnTo>
                      <a:pt x="1164" y="1136"/>
                    </a:lnTo>
                    <a:lnTo>
                      <a:pt x="1174" y="1134"/>
                    </a:lnTo>
                    <a:lnTo>
                      <a:pt x="1186" y="1134"/>
                    </a:lnTo>
                    <a:lnTo>
                      <a:pt x="1190" y="1136"/>
                    </a:lnTo>
                    <a:lnTo>
                      <a:pt x="1192" y="1140"/>
                    </a:lnTo>
                    <a:lnTo>
                      <a:pt x="1192" y="1140"/>
                    </a:lnTo>
                    <a:lnTo>
                      <a:pt x="1192" y="1142"/>
                    </a:lnTo>
                    <a:lnTo>
                      <a:pt x="1190" y="1144"/>
                    </a:lnTo>
                    <a:lnTo>
                      <a:pt x="1184" y="1146"/>
                    </a:lnTo>
                    <a:lnTo>
                      <a:pt x="1180" y="1148"/>
                    </a:lnTo>
                    <a:lnTo>
                      <a:pt x="1174" y="1150"/>
                    </a:lnTo>
                    <a:lnTo>
                      <a:pt x="1174" y="1150"/>
                    </a:lnTo>
                    <a:lnTo>
                      <a:pt x="1180" y="1154"/>
                    </a:lnTo>
                    <a:lnTo>
                      <a:pt x="1184" y="1158"/>
                    </a:lnTo>
                    <a:lnTo>
                      <a:pt x="1192" y="1158"/>
                    </a:lnTo>
                    <a:lnTo>
                      <a:pt x="1198" y="1158"/>
                    </a:lnTo>
                    <a:lnTo>
                      <a:pt x="1198" y="1158"/>
                    </a:lnTo>
                    <a:lnTo>
                      <a:pt x="1198" y="1152"/>
                    </a:lnTo>
                    <a:lnTo>
                      <a:pt x="1198" y="1146"/>
                    </a:lnTo>
                    <a:lnTo>
                      <a:pt x="1202" y="1142"/>
                    </a:lnTo>
                    <a:lnTo>
                      <a:pt x="1204" y="1138"/>
                    </a:lnTo>
                    <a:lnTo>
                      <a:pt x="1212" y="1130"/>
                    </a:lnTo>
                    <a:lnTo>
                      <a:pt x="1216" y="1126"/>
                    </a:lnTo>
                    <a:lnTo>
                      <a:pt x="1216" y="1120"/>
                    </a:lnTo>
                    <a:lnTo>
                      <a:pt x="1216" y="1120"/>
                    </a:lnTo>
                    <a:lnTo>
                      <a:pt x="1206" y="1116"/>
                    </a:lnTo>
                    <a:lnTo>
                      <a:pt x="1194" y="1110"/>
                    </a:lnTo>
                    <a:lnTo>
                      <a:pt x="1182" y="1108"/>
                    </a:lnTo>
                    <a:lnTo>
                      <a:pt x="1178" y="1108"/>
                    </a:lnTo>
                    <a:lnTo>
                      <a:pt x="1172" y="1110"/>
                    </a:lnTo>
                    <a:lnTo>
                      <a:pt x="1172" y="1110"/>
                    </a:lnTo>
                    <a:lnTo>
                      <a:pt x="670" y="1130"/>
                    </a:lnTo>
                    <a:lnTo>
                      <a:pt x="670" y="1130"/>
                    </a:lnTo>
                    <a:lnTo>
                      <a:pt x="676" y="1130"/>
                    </a:lnTo>
                    <a:lnTo>
                      <a:pt x="684" y="1132"/>
                    </a:lnTo>
                    <a:lnTo>
                      <a:pt x="692" y="1134"/>
                    </a:lnTo>
                    <a:lnTo>
                      <a:pt x="696" y="1132"/>
                    </a:lnTo>
                    <a:lnTo>
                      <a:pt x="700" y="1130"/>
                    </a:lnTo>
                    <a:lnTo>
                      <a:pt x="700" y="1130"/>
                    </a:lnTo>
                    <a:lnTo>
                      <a:pt x="690" y="1126"/>
                    </a:lnTo>
                    <a:lnTo>
                      <a:pt x="682" y="1120"/>
                    </a:lnTo>
                    <a:lnTo>
                      <a:pt x="672" y="1114"/>
                    </a:lnTo>
                    <a:lnTo>
                      <a:pt x="664" y="1110"/>
                    </a:lnTo>
                    <a:lnTo>
                      <a:pt x="664" y="1110"/>
                    </a:lnTo>
                    <a:lnTo>
                      <a:pt x="668" y="1114"/>
                    </a:lnTo>
                    <a:lnTo>
                      <a:pt x="670" y="1120"/>
                    </a:lnTo>
                    <a:lnTo>
                      <a:pt x="670" y="1126"/>
                    </a:lnTo>
                    <a:lnTo>
                      <a:pt x="670" y="1130"/>
                    </a:lnTo>
                    <a:lnTo>
                      <a:pt x="670" y="1130"/>
                    </a:lnTo>
                    <a:lnTo>
                      <a:pt x="242" y="1122"/>
                    </a:lnTo>
                    <a:lnTo>
                      <a:pt x="242" y="1122"/>
                    </a:lnTo>
                    <a:lnTo>
                      <a:pt x="244" y="1120"/>
                    </a:lnTo>
                    <a:lnTo>
                      <a:pt x="244" y="1120"/>
                    </a:lnTo>
                    <a:lnTo>
                      <a:pt x="240" y="1116"/>
                    </a:lnTo>
                    <a:lnTo>
                      <a:pt x="240" y="1116"/>
                    </a:lnTo>
                    <a:lnTo>
                      <a:pt x="240" y="1120"/>
                    </a:lnTo>
                    <a:lnTo>
                      <a:pt x="242" y="1122"/>
                    </a:lnTo>
                    <a:lnTo>
                      <a:pt x="242" y="1122"/>
                    </a:lnTo>
                    <a:lnTo>
                      <a:pt x="748" y="1122"/>
                    </a:lnTo>
                    <a:lnTo>
                      <a:pt x="748" y="1122"/>
                    </a:lnTo>
                    <a:lnTo>
                      <a:pt x="748" y="1126"/>
                    </a:lnTo>
                    <a:lnTo>
                      <a:pt x="750" y="1130"/>
                    </a:lnTo>
                    <a:lnTo>
                      <a:pt x="750" y="1132"/>
                    </a:lnTo>
                    <a:lnTo>
                      <a:pt x="750" y="1134"/>
                    </a:lnTo>
                    <a:lnTo>
                      <a:pt x="750" y="1134"/>
                    </a:lnTo>
                    <a:lnTo>
                      <a:pt x="748" y="1130"/>
                    </a:lnTo>
                    <a:lnTo>
                      <a:pt x="748" y="1128"/>
                    </a:lnTo>
                    <a:lnTo>
                      <a:pt x="748" y="1126"/>
                    </a:lnTo>
                    <a:lnTo>
                      <a:pt x="748" y="1126"/>
                    </a:lnTo>
                    <a:lnTo>
                      <a:pt x="740" y="1132"/>
                    </a:lnTo>
                    <a:lnTo>
                      <a:pt x="734" y="1138"/>
                    </a:lnTo>
                    <a:lnTo>
                      <a:pt x="734" y="1138"/>
                    </a:lnTo>
                    <a:lnTo>
                      <a:pt x="736" y="1142"/>
                    </a:lnTo>
                    <a:lnTo>
                      <a:pt x="742" y="1146"/>
                    </a:lnTo>
                    <a:lnTo>
                      <a:pt x="748" y="1148"/>
                    </a:lnTo>
                    <a:lnTo>
                      <a:pt x="756" y="1148"/>
                    </a:lnTo>
                    <a:lnTo>
                      <a:pt x="756" y="1148"/>
                    </a:lnTo>
                    <a:lnTo>
                      <a:pt x="756" y="1152"/>
                    </a:lnTo>
                    <a:lnTo>
                      <a:pt x="758" y="1156"/>
                    </a:lnTo>
                    <a:lnTo>
                      <a:pt x="758" y="1156"/>
                    </a:lnTo>
                    <a:lnTo>
                      <a:pt x="766" y="1154"/>
                    </a:lnTo>
                    <a:lnTo>
                      <a:pt x="768" y="1154"/>
                    </a:lnTo>
                    <a:lnTo>
                      <a:pt x="772" y="1156"/>
                    </a:lnTo>
                    <a:lnTo>
                      <a:pt x="772" y="1156"/>
                    </a:lnTo>
                    <a:lnTo>
                      <a:pt x="768" y="1158"/>
                    </a:lnTo>
                    <a:lnTo>
                      <a:pt x="768" y="1160"/>
                    </a:lnTo>
                    <a:lnTo>
                      <a:pt x="768" y="1160"/>
                    </a:lnTo>
                    <a:lnTo>
                      <a:pt x="770" y="1160"/>
                    </a:lnTo>
                    <a:lnTo>
                      <a:pt x="774" y="1162"/>
                    </a:lnTo>
                    <a:lnTo>
                      <a:pt x="778" y="1164"/>
                    </a:lnTo>
                    <a:lnTo>
                      <a:pt x="778" y="1164"/>
                    </a:lnTo>
                    <a:lnTo>
                      <a:pt x="784" y="1156"/>
                    </a:lnTo>
                    <a:lnTo>
                      <a:pt x="784" y="1156"/>
                    </a:lnTo>
                    <a:lnTo>
                      <a:pt x="778" y="1152"/>
                    </a:lnTo>
                    <a:lnTo>
                      <a:pt x="778" y="1152"/>
                    </a:lnTo>
                    <a:lnTo>
                      <a:pt x="778" y="1144"/>
                    </a:lnTo>
                    <a:lnTo>
                      <a:pt x="776" y="1138"/>
                    </a:lnTo>
                    <a:lnTo>
                      <a:pt x="774" y="1130"/>
                    </a:lnTo>
                    <a:lnTo>
                      <a:pt x="772" y="1120"/>
                    </a:lnTo>
                    <a:lnTo>
                      <a:pt x="772" y="1120"/>
                    </a:lnTo>
                    <a:lnTo>
                      <a:pt x="760" y="1120"/>
                    </a:lnTo>
                    <a:lnTo>
                      <a:pt x="752" y="1120"/>
                    </a:lnTo>
                    <a:lnTo>
                      <a:pt x="748" y="1122"/>
                    </a:lnTo>
                    <a:lnTo>
                      <a:pt x="748" y="1122"/>
                    </a:lnTo>
                    <a:lnTo>
                      <a:pt x="238" y="1132"/>
                    </a:lnTo>
                    <a:lnTo>
                      <a:pt x="238" y="1132"/>
                    </a:lnTo>
                    <a:lnTo>
                      <a:pt x="246" y="1130"/>
                    </a:lnTo>
                    <a:lnTo>
                      <a:pt x="250" y="1130"/>
                    </a:lnTo>
                    <a:lnTo>
                      <a:pt x="252" y="1128"/>
                    </a:lnTo>
                    <a:lnTo>
                      <a:pt x="252" y="1128"/>
                    </a:lnTo>
                    <a:lnTo>
                      <a:pt x="248" y="1126"/>
                    </a:lnTo>
                    <a:lnTo>
                      <a:pt x="244" y="1122"/>
                    </a:lnTo>
                    <a:lnTo>
                      <a:pt x="244" y="1122"/>
                    </a:lnTo>
                    <a:lnTo>
                      <a:pt x="238" y="1132"/>
                    </a:lnTo>
                    <a:lnTo>
                      <a:pt x="238" y="1132"/>
                    </a:lnTo>
                    <a:lnTo>
                      <a:pt x="486" y="1142"/>
                    </a:lnTo>
                    <a:lnTo>
                      <a:pt x="486" y="1142"/>
                    </a:lnTo>
                    <a:lnTo>
                      <a:pt x="488" y="1138"/>
                    </a:lnTo>
                    <a:lnTo>
                      <a:pt x="490" y="1134"/>
                    </a:lnTo>
                    <a:lnTo>
                      <a:pt x="490" y="1134"/>
                    </a:lnTo>
                    <a:lnTo>
                      <a:pt x="486" y="1134"/>
                    </a:lnTo>
                    <a:lnTo>
                      <a:pt x="482" y="1134"/>
                    </a:lnTo>
                    <a:lnTo>
                      <a:pt x="482" y="1134"/>
                    </a:lnTo>
                    <a:lnTo>
                      <a:pt x="484" y="1138"/>
                    </a:lnTo>
                    <a:lnTo>
                      <a:pt x="486" y="1142"/>
                    </a:lnTo>
                    <a:lnTo>
                      <a:pt x="486" y="1142"/>
                    </a:lnTo>
                    <a:lnTo>
                      <a:pt x="574" y="1150"/>
                    </a:lnTo>
                    <a:lnTo>
                      <a:pt x="574" y="1150"/>
                    </a:lnTo>
                    <a:lnTo>
                      <a:pt x="578" y="1164"/>
                    </a:lnTo>
                    <a:lnTo>
                      <a:pt x="582" y="1180"/>
                    </a:lnTo>
                    <a:lnTo>
                      <a:pt x="582" y="1180"/>
                    </a:lnTo>
                    <a:lnTo>
                      <a:pt x="586" y="1160"/>
                    </a:lnTo>
                    <a:lnTo>
                      <a:pt x="586" y="1150"/>
                    </a:lnTo>
                    <a:lnTo>
                      <a:pt x="586" y="1138"/>
                    </a:lnTo>
                    <a:lnTo>
                      <a:pt x="586" y="1138"/>
                    </a:lnTo>
                    <a:lnTo>
                      <a:pt x="584" y="1142"/>
                    </a:lnTo>
                    <a:lnTo>
                      <a:pt x="580" y="1144"/>
                    </a:lnTo>
                    <a:lnTo>
                      <a:pt x="576" y="1146"/>
                    </a:lnTo>
                    <a:lnTo>
                      <a:pt x="574" y="1150"/>
                    </a:lnTo>
                    <a:lnTo>
                      <a:pt x="574" y="1150"/>
                    </a:lnTo>
                    <a:lnTo>
                      <a:pt x="242" y="1148"/>
                    </a:lnTo>
                    <a:lnTo>
                      <a:pt x="242" y="1148"/>
                    </a:lnTo>
                    <a:lnTo>
                      <a:pt x="242" y="1152"/>
                    </a:lnTo>
                    <a:lnTo>
                      <a:pt x="246" y="1154"/>
                    </a:lnTo>
                    <a:lnTo>
                      <a:pt x="250" y="1156"/>
                    </a:lnTo>
                    <a:lnTo>
                      <a:pt x="254" y="1158"/>
                    </a:lnTo>
                    <a:lnTo>
                      <a:pt x="264" y="1156"/>
                    </a:lnTo>
                    <a:lnTo>
                      <a:pt x="266" y="1154"/>
                    </a:lnTo>
                    <a:lnTo>
                      <a:pt x="268" y="1150"/>
                    </a:lnTo>
                    <a:lnTo>
                      <a:pt x="268" y="1150"/>
                    </a:lnTo>
                    <a:lnTo>
                      <a:pt x="264" y="1148"/>
                    </a:lnTo>
                    <a:lnTo>
                      <a:pt x="256" y="1146"/>
                    </a:lnTo>
                    <a:lnTo>
                      <a:pt x="248" y="1146"/>
                    </a:lnTo>
                    <a:lnTo>
                      <a:pt x="242" y="1148"/>
                    </a:lnTo>
                    <a:lnTo>
                      <a:pt x="242" y="1148"/>
                    </a:lnTo>
                    <a:lnTo>
                      <a:pt x="706" y="1146"/>
                    </a:lnTo>
                    <a:lnTo>
                      <a:pt x="706" y="1146"/>
                    </a:lnTo>
                    <a:lnTo>
                      <a:pt x="692" y="1148"/>
                    </a:lnTo>
                    <a:lnTo>
                      <a:pt x="676" y="1146"/>
                    </a:lnTo>
                    <a:lnTo>
                      <a:pt x="676" y="1146"/>
                    </a:lnTo>
                    <a:lnTo>
                      <a:pt x="678" y="1150"/>
                    </a:lnTo>
                    <a:lnTo>
                      <a:pt x="680" y="1154"/>
                    </a:lnTo>
                    <a:lnTo>
                      <a:pt x="686" y="1160"/>
                    </a:lnTo>
                    <a:lnTo>
                      <a:pt x="686" y="1160"/>
                    </a:lnTo>
                    <a:lnTo>
                      <a:pt x="686" y="1160"/>
                    </a:lnTo>
                    <a:lnTo>
                      <a:pt x="686" y="1164"/>
                    </a:lnTo>
                    <a:lnTo>
                      <a:pt x="686" y="1164"/>
                    </a:lnTo>
                    <a:lnTo>
                      <a:pt x="694" y="1176"/>
                    </a:lnTo>
                    <a:lnTo>
                      <a:pt x="700" y="1190"/>
                    </a:lnTo>
                    <a:lnTo>
                      <a:pt x="704" y="1196"/>
                    </a:lnTo>
                    <a:lnTo>
                      <a:pt x="710" y="1200"/>
                    </a:lnTo>
                    <a:lnTo>
                      <a:pt x="716" y="1204"/>
                    </a:lnTo>
                    <a:lnTo>
                      <a:pt x="724" y="1206"/>
                    </a:lnTo>
                    <a:lnTo>
                      <a:pt x="724" y="1206"/>
                    </a:lnTo>
                    <a:lnTo>
                      <a:pt x="720" y="1192"/>
                    </a:lnTo>
                    <a:lnTo>
                      <a:pt x="714" y="1180"/>
                    </a:lnTo>
                    <a:lnTo>
                      <a:pt x="706" y="1168"/>
                    </a:lnTo>
                    <a:lnTo>
                      <a:pt x="698" y="1160"/>
                    </a:lnTo>
                    <a:lnTo>
                      <a:pt x="698" y="1160"/>
                    </a:lnTo>
                    <a:lnTo>
                      <a:pt x="700" y="1156"/>
                    </a:lnTo>
                    <a:lnTo>
                      <a:pt x="702" y="1154"/>
                    </a:lnTo>
                    <a:lnTo>
                      <a:pt x="704" y="1154"/>
                    </a:lnTo>
                    <a:lnTo>
                      <a:pt x="704" y="1154"/>
                    </a:lnTo>
                    <a:lnTo>
                      <a:pt x="704" y="1160"/>
                    </a:lnTo>
                    <a:lnTo>
                      <a:pt x="706" y="1164"/>
                    </a:lnTo>
                    <a:lnTo>
                      <a:pt x="712" y="1172"/>
                    </a:lnTo>
                    <a:lnTo>
                      <a:pt x="712" y="1172"/>
                    </a:lnTo>
                    <a:lnTo>
                      <a:pt x="714" y="1166"/>
                    </a:lnTo>
                    <a:lnTo>
                      <a:pt x="712" y="1160"/>
                    </a:lnTo>
                    <a:lnTo>
                      <a:pt x="710" y="1152"/>
                    </a:lnTo>
                    <a:lnTo>
                      <a:pt x="706" y="1148"/>
                    </a:lnTo>
                    <a:lnTo>
                      <a:pt x="706" y="1148"/>
                    </a:lnTo>
                    <a:lnTo>
                      <a:pt x="706" y="1150"/>
                    </a:lnTo>
                    <a:lnTo>
                      <a:pt x="704" y="1152"/>
                    </a:lnTo>
                    <a:lnTo>
                      <a:pt x="704" y="1150"/>
                    </a:lnTo>
                    <a:lnTo>
                      <a:pt x="704" y="1150"/>
                    </a:lnTo>
                    <a:lnTo>
                      <a:pt x="706" y="1148"/>
                    </a:lnTo>
                    <a:lnTo>
                      <a:pt x="706" y="1146"/>
                    </a:lnTo>
                    <a:lnTo>
                      <a:pt x="706" y="1146"/>
                    </a:lnTo>
                    <a:lnTo>
                      <a:pt x="516" y="1154"/>
                    </a:lnTo>
                    <a:lnTo>
                      <a:pt x="516" y="1154"/>
                    </a:lnTo>
                    <a:lnTo>
                      <a:pt x="518" y="1150"/>
                    </a:lnTo>
                    <a:lnTo>
                      <a:pt x="516" y="1148"/>
                    </a:lnTo>
                    <a:lnTo>
                      <a:pt x="516" y="1148"/>
                    </a:lnTo>
                    <a:lnTo>
                      <a:pt x="514" y="1152"/>
                    </a:lnTo>
                    <a:lnTo>
                      <a:pt x="514" y="1154"/>
                    </a:lnTo>
                    <a:lnTo>
                      <a:pt x="516" y="1154"/>
                    </a:lnTo>
                    <a:lnTo>
                      <a:pt x="516" y="1154"/>
                    </a:lnTo>
                    <a:lnTo>
                      <a:pt x="540" y="1164"/>
                    </a:lnTo>
                    <a:lnTo>
                      <a:pt x="540" y="1164"/>
                    </a:lnTo>
                    <a:lnTo>
                      <a:pt x="536" y="1164"/>
                    </a:lnTo>
                    <a:lnTo>
                      <a:pt x="532" y="1162"/>
                    </a:lnTo>
                    <a:lnTo>
                      <a:pt x="532" y="1162"/>
                    </a:lnTo>
                    <a:lnTo>
                      <a:pt x="534" y="1166"/>
                    </a:lnTo>
                    <a:lnTo>
                      <a:pt x="536" y="1166"/>
                    </a:lnTo>
                    <a:lnTo>
                      <a:pt x="538" y="1166"/>
                    </a:lnTo>
                    <a:lnTo>
                      <a:pt x="540" y="1164"/>
                    </a:lnTo>
                    <a:lnTo>
                      <a:pt x="540" y="1164"/>
                    </a:lnTo>
                    <a:lnTo>
                      <a:pt x="520" y="1150"/>
                    </a:lnTo>
                    <a:lnTo>
                      <a:pt x="520" y="1150"/>
                    </a:lnTo>
                    <a:lnTo>
                      <a:pt x="520" y="1152"/>
                    </a:lnTo>
                    <a:lnTo>
                      <a:pt x="518" y="1156"/>
                    </a:lnTo>
                    <a:lnTo>
                      <a:pt x="518" y="1156"/>
                    </a:lnTo>
                    <a:lnTo>
                      <a:pt x="522" y="1158"/>
                    </a:lnTo>
                    <a:lnTo>
                      <a:pt x="524" y="1162"/>
                    </a:lnTo>
                    <a:lnTo>
                      <a:pt x="524" y="1162"/>
                    </a:lnTo>
                    <a:lnTo>
                      <a:pt x="522" y="1164"/>
                    </a:lnTo>
                    <a:lnTo>
                      <a:pt x="518" y="1164"/>
                    </a:lnTo>
                    <a:lnTo>
                      <a:pt x="516" y="1166"/>
                    </a:lnTo>
                    <a:lnTo>
                      <a:pt x="516" y="1170"/>
                    </a:lnTo>
                    <a:lnTo>
                      <a:pt x="516" y="1170"/>
                    </a:lnTo>
                    <a:lnTo>
                      <a:pt x="520" y="1168"/>
                    </a:lnTo>
                    <a:lnTo>
                      <a:pt x="526" y="1170"/>
                    </a:lnTo>
                    <a:lnTo>
                      <a:pt x="530" y="1170"/>
                    </a:lnTo>
                    <a:lnTo>
                      <a:pt x="532" y="1168"/>
                    </a:lnTo>
                    <a:lnTo>
                      <a:pt x="534" y="1166"/>
                    </a:lnTo>
                    <a:lnTo>
                      <a:pt x="534" y="1166"/>
                    </a:lnTo>
                    <a:lnTo>
                      <a:pt x="530" y="1162"/>
                    </a:lnTo>
                    <a:lnTo>
                      <a:pt x="526" y="1158"/>
                    </a:lnTo>
                    <a:lnTo>
                      <a:pt x="524" y="1152"/>
                    </a:lnTo>
                    <a:lnTo>
                      <a:pt x="520" y="1150"/>
                    </a:lnTo>
                    <a:lnTo>
                      <a:pt x="520" y="1150"/>
                    </a:lnTo>
                    <a:lnTo>
                      <a:pt x="580" y="1186"/>
                    </a:lnTo>
                    <a:lnTo>
                      <a:pt x="580" y="1186"/>
                    </a:lnTo>
                    <a:lnTo>
                      <a:pt x="576" y="1186"/>
                    </a:lnTo>
                    <a:lnTo>
                      <a:pt x="572" y="1184"/>
                    </a:lnTo>
                    <a:lnTo>
                      <a:pt x="572" y="1184"/>
                    </a:lnTo>
                    <a:lnTo>
                      <a:pt x="576" y="1184"/>
                    </a:lnTo>
                    <a:lnTo>
                      <a:pt x="580" y="1186"/>
                    </a:lnTo>
                    <a:lnTo>
                      <a:pt x="580" y="1186"/>
                    </a:lnTo>
                    <a:lnTo>
                      <a:pt x="576" y="1166"/>
                    </a:lnTo>
                    <a:lnTo>
                      <a:pt x="572" y="1158"/>
                    </a:lnTo>
                    <a:lnTo>
                      <a:pt x="568" y="1150"/>
                    </a:lnTo>
                    <a:lnTo>
                      <a:pt x="568" y="1150"/>
                    </a:lnTo>
                    <a:lnTo>
                      <a:pt x="562" y="1156"/>
                    </a:lnTo>
                    <a:lnTo>
                      <a:pt x="558" y="1162"/>
                    </a:lnTo>
                    <a:lnTo>
                      <a:pt x="550" y="1178"/>
                    </a:lnTo>
                    <a:lnTo>
                      <a:pt x="550" y="1178"/>
                    </a:lnTo>
                    <a:lnTo>
                      <a:pt x="554" y="1180"/>
                    </a:lnTo>
                    <a:lnTo>
                      <a:pt x="560" y="1180"/>
                    </a:lnTo>
                    <a:lnTo>
                      <a:pt x="566" y="1182"/>
                    </a:lnTo>
                    <a:lnTo>
                      <a:pt x="568" y="1184"/>
                    </a:lnTo>
                    <a:lnTo>
                      <a:pt x="568" y="1188"/>
                    </a:lnTo>
                    <a:lnTo>
                      <a:pt x="568" y="1188"/>
                    </a:lnTo>
                    <a:lnTo>
                      <a:pt x="564" y="1188"/>
                    </a:lnTo>
                    <a:lnTo>
                      <a:pt x="558" y="1188"/>
                    </a:lnTo>
                    <a:lnTo>
                      <a:pt x="552" y="1186"/>
                    </a:lnTo>
                    <a:lnTo>
                      <a:pt x="548" y="1186"/>
                    </a:lnTo>
                    <a:lnTo>
                      <a:pt x="548" y="1186"/>
                    </a:lnTo>
                    <a:lnTo>
                      <a:pt x="556" y="1190"/>
                    </a:lnTo>
                    <a:lnTo>
                      <a:pt x="562" y="1194"/>
                    </a:lnTo>
                    <a:lnTo>
                      <a:pt x="564" y="1198"/>
                    </a:lnTo>
                    <a:lnTo>
                      <a:pt x="566" y="1202"/>
                    </a:lnTo>
                    <a:lnTo>
                      <a:pt x="566" y="1206"/>
                    </a:lnTo>
                    <a:lnTo>
                      <a:pt x="564" y="1212"/>
                    </a:lnTo>
                    <a:lnTo>
                      <a:pt x="564" y="1212"/>
                    </a:lnTo>
                    <a:lnTo>
                      <a:pt x="568" y="1212"/>
                    </a:lnTo>
                    <a:lnTo>
                      <a:pt x="566" y="1214"/>
                    </a:lnTo>
                    <a:lnTo>
                      <a:pt x="566" y="1214"/>
                    </a:lnTo>
                    <a:lnTo>
                      <a:pt x="568" y="1214"/>
                    </a:lnTo>
                    <a:lnTo>
                      <a:pt x="568" y="1214"/>
                    </a:lnTo>
                    <a:lnTo>
                      <a:pt x="572" y="1220"/>
                    </a:lnTo>
                    <a:lnTo>
                      <a:pt x="574" y="1222"/>
                    </a:lnTo>
                    <a:lnTo>
                      <a:pt x="576" y="1222"/>
                    </a:lnTo>
                    <a:lnTo>
                      <a:pt x="576" y="1222"/>
                    </a:lnTo>
                    <a:lnTo>
                      <a:pt x="576" y="1220"/>
                    </a:lnTo>
                    <a:lnTo>
                      <a:pt x="576" y="1218"/>
                    </a:lnTo>
                    <a:lnTo>
                      <a:pt x="574" y="1218"/>
                    </a:lnTo>
                    <a:lnTo>
                      <a:pt x="572" y="1214"/>
                    </a:lnTo>
                    <a:lnTo>
                      <a:pt x="572" y="1214"/>
                    </a:lnTo>
                    <a:lnTo>
                      <a:pt x="578" y="1214"/>
                    </a:lnTo>
                    <a:lnTo>
                      <a:pt x="582" y="1212"/>
                    </a:lnTo>
                    <a:lnTo>
                      <a:pt x="582" y="1212"/>
                    </a:lnTo>
                    <a:lnTo>
                      <a:pt x="584" y="1188"/>
                    </a:lnTo>
                    <a:lnTo>
                      <a:pt x="584" y="1188"/>
                    </a:lnTo>
                    <a:lnTo>
                      <a:pt x="580" y="1190"/>
                    </a:lnTo>
                    <a:lnTo>
                      <a:pt x="576" y="1192"/>
                    </a:lnTo>
                    <a:lnTo>
                      <a:pt x="574" y="1194"/>
                    </a:lnTo>
                    <a:lnTo>
                      <a:pt x="572" y="1194"/>
                    </a:lnTo>
                    <a:lnTo>
                      <a:pt x="572" y="1194"/>
                    </a:lnTo>
                    <a:lnTo>
                      <a:pt x="576" y="1190"/>
                    </a:lnTo>
                    <a:lnTo>
                      <a:pt x="580" y="1186"/>
                    </a:lnTo>
                    <a:lnTo>
                      <a:pt x="580" y="1186"/>
                    </a:lnTo>
                    <a:lnTo>
                      <a:pt x="1090" y="1164"/>
                    </a:lnTo>
                    <a:lnTo>
                      <a:pt x="1090" y="1164"/>
                    </a:lnTo>
                    <a:lnTo>
                      <a:pt x="1070" y="1162"/>
                    </a:lnTo>
                    <a:lnTo>
                      <a:pt x="1062" y="1158"/>
                    </a:lnTo>
                    <a:lnTo>
                      <a:pt x="1056" y="1154"/>
                    </a:lnTo>
                    <a:lnTo>
                      <a:pt x="1056" y="1154"/>
                    </a:lnTo>
                    <a:lnTo>
                      <a:pt x="1042" y="1170"/>
                    </a:lnTo>
                    <a:lnTo>
                      <a:pt x="1030" y="1188"/>
                    </a:lnTo>
                    <a:lnTo>
                      <a:pt x="1024" y="1198"/>
                    </a:lnTo>
                    <a:lnTo>
                      <a:pt x="1020" y="1208"/>
                    </a:lnTo>
                    <a:lnTo>
                      <a:pt x="1016" y="1220"/>
                    </a:lnTo>
                    <a:lnTo>
                      <a:pt x="1014" y="1232"/>
                    </a:lnTo>
                    <a:lnTo>
                      <a:pt x="1014" y="1232"/>
                    </a:lnTo>
                    <a:lnTo>
                      <a:pt x="1014" y="1250"/>
                    </a:lnTo>
                    <a:lnTo>
                      <a:pt x="1016" y="1266"/>
                    </a:lnTo>
                    <a:lnTo>
                      <a:pt x="1020" y="1282"/>
                    </a:lnTo>
                    <a:lnTo>
                      <a:pt x="1024" y="1298"/>
                    </a:lnTo>
                    <a:lnTo>
                      <a:pt x="1034" y="1330"/>
                    </a:lnTo>
                    <a:lnTo>
                      <a:pt x="1038" y="1344"/>
                    </a:lnTo>
                    <a:lnTo>
                      <a:pt x="1040" y="1360"/>
                    </a:lnTo>
                    <a:lnTo>
                      <a:pt x="1040" y="1360"/>
                    </a:lnTo>
                    <a:lnTo>
                      <a:pt x="1046" y="1356"/>
                    </a:lnTo>
                    <a:lnTo>
                      <a:pt x="1052" y="1352"/>
                    </a:lnTo>
                    <a:lnTo>
                      <a:pt x="1060" y="1340"/>
                    </a:lnTo>
                    <a:lnTo>
                      <a:pt x="1066" y="1328"/>
                    </a:lnTo>
                    <a:lnTo>
                      <a:pt x="1074" y="1316"/>
                    </a:lnTo>
                    <a:lnTo>
                      <a:pt x="1074" y="1316"/>
                    </a:lnTo>
                    <a:lnTo>
                      <a:pt x="1084" y="1308"/>
                    </a:lnTo>
                    <a:lnTo>
                      <a:pt x="1094" y="1298"/>
                    </a:lnTo>
                    <a:lnTo>
                      <a:pt x="1104" y="1290"/>
                    </a:lnTo>
                    <a:lnTo>
                      <a:pt x="1114" y="1280"/>
                    </a:lnTo>
                    <a:lnTo>
                      <a:pt x="1114" y="1280"/>
                    </a:lnTo>
                    <a:lnTo>
                      <a:pt x="1124" y="1264"/>
                    </a:lnTo>
                    <a:lnTo>
                      <a:pt x="1132" y="1248"/>
                    </a:lnTo>
                    <a:lnTo>
                      <a:pt x="1132" y="1248"/>
                    </a:lnTo>
                    <a:lnTo>
                      <a:pt x="1140" y="1240"/>
                    </a:lnTo>
                    <a:lnTo>
                      <a:pt x="1148" y="1230"/>
                    </a:lnTo>
                    <a:lnTo>
                      <a:pt x="1158" y="1222"/>
                    </a:lnTo>
                    <a:lnTo>
                      <a:pt x="1166" y="1214"/>
                    </a:lnTo>
                    <a:lnTo>
                      <a:pt x="1166" y="1214"/>
                    </a:lnTo>
                    <a:lnTo>
                      <a:pt x="1156" y="1210"/>
                    </a:lnTo>
                    <a:lnTo>
                      <a:pt x="1146" y="1204"/>
                    </a:lnTo>
                    <a:lnTo>
                      <a:pt x="1144" y="1200"/>
                    </a:lnTo>
                    <a:lnTo>
                      <a:pt x="1144" y="1196"/>
                    </a:lnTo>
                    <a:lnTo>
                      <a:pt x="1148" y="1192"/>
                    </a:lnTo>
                    <a:lnTo>
                      <a:pt x="1154" y="1192"/>
                    </a:lnTo>
                    <a:lnTo>
                      <a:pt x="1154" y="1192"/>
                    </a:lnTo>
                    <a:lnTo>
                      <a:pt x="1142" y="1188"/>
                    </a:lnTo>
                    <a:lnTo>
                      <a:pt x="1128" y="1184"/>
                    </a:lnTo>
                    <a:lnTo>
                      <a:pt x="1114" y="1180"/>
                    </a:lnTo>
                    <a:lnTo>
                      <a:pt x="1108" y="1176"/>
                    </a:lnTo>
                    <a:lnTo>
                      <a:pt x="1104" y="1172"/>
                    </a:lnTo>
                    <a:lnTo>
                      <a:pt x="1104" y="1172"/>
                    </a:lnTo>
                    <a:lnTo>
                      <a:pt x="1114" y="1178"/>
                    </a:lnTo>
                    <a:lnTo>
                      <a:pt x="1120" y="1180"/>
                    </a:lnTo>
                    <a:lnTo>
                      <a:pt x="1126" y="1182"/>
                    </a:lnTo>
                    <a:lnTo>
                      <a:pt x="1126" y="1182"/>
                    </a:lnTo>
                    <a:lnTo>
                      <a:pt x="1120" y="1176"/>
                    </a:lnTo>
                    <a:lnTo>
                      <a:pt x="1112" y="1172"/>
                    </a:lnTo>
                    <a:lnTo>
                      <a:pt x="1092" y="1164"/>
                    </a:lnTo>
                    <a:lnTo>
                      <a:pt x="1092" y="1164"/>
                    </a:lnTo>
                    <a:lnTo>
                      <a:pt x="1090" y="1174"/>
                    </a:lnTo>
                    <a:lnTo>
                      <a:pt x="1088" y="1182"/>
                    </a:lnTo>
                    <a:lnTo>
                      <a:pt x="1082" y="1190"/>
                    </a:lnTo>
                    <a:lnTo>
                      <a:pt x="1078" y="1194"/>
                    </a:lnTo>
                    <a:lnTo>
                      <a:pt x="1078" y="1194"/>
                    </a:lnTo>
                    <a:lnTo>
                      <a:pt x="1082" y="1188"/>
                    </a:lnTo>
                    <a:lnTo>
                      <a:pt x="1086" y="1182"/>
                    </a:lnTo>
                    <a:lnTo>
                      <a:pt x="1090" y="1174"/>
                    </a:lnTo>
                    <a:lnTo>
                      <a:pt x="1090" y="1164"/>
                    </a:lnTo>
                    <a:lnTo>
                      <a:pt x="1090" y="1164"/>
                    </a:lnTo>
                    <a:lnTo>
                      <a:pt x="468" y="1192"/>
                    </a:lnTo>
                    <a:lnTo>
                      <a:pt x="468" y="1192"/>
                    </a:lnTo>
                    <a:lnTo>
                      <a:pt x="466" y="1188"/>
                    </a:lnTo>
                    <a:lnTo>
                      <a:pt x="464" y="1188"/>
                    </a:lnTo>
                    <a:lnTo>
                      <a:pt x="462" y="1188"/>
                    </a:lnTo>
                    <a:lnTo>
                      <a:pt x="460" y="1186"/>
                    </a:lnTo>
                    <a:lnTo>
                      <a:pt x="460" y="1186"/>
                    </a:lnTo>
                    <a:lnTo>
                      <a:pt x="468" y="1186"/>
                    </a:lnTo>
                    <a:lnTo>
                      <a:pt x="468" y="1186"/>
                    </a:lnTo>
                    <a:lnTo>
                      <a:pt x="466" y="1178"/>
                    </a:lnTo>
                    <a:lnTo>
                      <a:pt x="464" y="1172"/>
                    </a:lnTo>
                    <a:lnTo>
                      <a:pt x="462" y="1164"/>
                    </a:lnTo>
                    <a:lnTo>
                      <a:pt x="464" y="1156"/>
                    </a:lnTo>
                    <a:lnTo>
                      <a:pt x="464" y="1156"/>
                    </a:lnTo>
                    <a:lnTo>
                      <a:pt x="456" y="1154"/>
                    </a:lnTo>
                    <a:lnTo>
                      <a:pt x="452" y="1154"/>
                    </a:lnTo>
                    <a:lnTo>
                      <a:pt x="448" y="1156"/>
                    </a:lnTo>
                    <a:lnTo>
                      <a:pt x="448" y="1156"/>
                    </a:lnTo>
                    <a:lnTo>
                      <a:pt x="450" y="1160"/>
                    </a:lnTo>
                    <a:lnTo>
                      <a:pt x="452" y="1164"/>
                    </a:lnTo>
                    <a:lnTo>
                      <a:pt x="456" y="1178"/>
                    </a:lnTo>
                    <a:lnTo>
                      <a:pt x="458" y="1182"/>
                    </a:lnTo>
                    <a:lnTo>
                      <a:pt x="460" y="1188"/>
                    </a:lnTo>
                    <a:lnTo>
                      <a:pt x="462" y="1190"/>
                    </a:lnTo>
                    <a:lnTo>
                      <a:pt x="468" y="1192"/>
                    </a:lnTo>
                    <a:lnTo>
                      <a:pt x="468" y="1192"/>
                    </a:lnTo>
                    <a:lnTo>
                      <a:pt x="1222" y="1156"/>
                    </a:lnTo>
                    <a:lnTo>
                      <a:pt x="1222" y="1156"/>
                    </a:lnTo>
                    <a:lnTo>
                      <a:pt x="1222" y="1160"/>
                    </a:lnTo>
                    <a:lnTo>
                      <a:pt x="1222" y="1160"/>
                    </a:lnTo>
                    <a:lnTo>
                      <a:pt x="1222" y="1162"/>
                    </a:lnTo>
                    <a:lnTo>
                      <a:pt x="1222" y="1162"/>
                    </a:lnTo>
                    <a:lnTo>
                      <a:pt x="1224" y="1158"/>
                    </a:lnTo>
                    <a:lnTo>
                      <a:pt x="1228" y="1154"/>
                    </a:lnTo>
                    <a:lnTo>
                      <a:pt x="1228" y="1154"/>
                    </a:lnTo>
                    <a:lnTo>
                      <a:pt x="1224" y="1154"/>
                    </a:lnTo>
                    <a:lnTo>
                      <a:pt x="1222" y="1156"/>
                    </a:lnTo>
                    <a:lnTo>
                      <a:pt x="1222" y="1156"/>
                    </a:lnTo>
                    <a:lnTo>
                      <a:pt x="228" y="1164"/>
                    </a:lnTo>
                    <a:lnTo>
                      <a:pt x="228" y="1164"/>
                    </a:lnTo>
                    <a:lnTo>
                      <a:pt x="228" y="1160"/>
                    </a:lnTo>
                    <a:lnTo>
                      <a:pt x="226" y="1158"/>
                    </a:lnTo>
                    <a:lnTo>
                      <a:pt x="222" y="1156"/>
                    </a:lnTo>
                    <a:lnTo>
                      <a:pt x="220" y="1156"/>
                    </a:lnTo>
                    <a:lnTo>
                      <a:pt x="220" y="1156"/>
                    </a:lnTo>
                    <a:lnTo>
                      <a:pt x="224" y="1160"/>
                    </a:lnTo>
                    <a:lnTo>
                      <a:pt x="228" y="1164"/>
                    </a:lnTo>
                    <a:lnTo>
                      <a:pt x="228" y="1164"/>
                    </a:lnTo>
                    <a:lnTo>
                      <a:pt x="1156" y="1192"/>
                    </a:lnTo>
                    <a:lnTo>
                      <a:pt x="1156" y="1192"/>
                    </a:lnTo>
                    <a:lnTo>
                      <a:pt x="1168" y="1198"/>
                    </a:lnTo>
                    <a:lnTo>
                      <a:pt x="1182" y="1204"/>
                    </a:lnTo>
                    <a:lnTo>
                      <a:pt x="1182" y="1204"/>
                    </a:lnTo>
                    <a:lnTo>
                      <a:pt x="1190" y="1198"/>
                    </a:lnTo>
                    <a:lnTo>
                      <a:pt x="1194" y="1188"/>
                    </a:lnTo>
                    <a:lnTo>
                      <a:pt x="1200" y="1168"/>
                    </a:lnTo>
                    <a:lnTo>
                      <a:pt x="1200" y="1168"/>
                    </a:lnTo>
                    <a:lnTo>
                      <a:pt x="1196" y="1170"/>
                    </a:lnTo>
                    <a:lnTo>
                      <a:pt x="1192" y="1170"/>
                    </a:lnTo>
                    <a:lnTo>
                      <a:pt x="1182" y="1168"/>
                    </a:lnTo>
                    <a:lnTo>
                      <a:pt x="1166" y="1158"/>
                    </a:lnTo>
                    <a:lnTo>
                      <a:pt x="1166" y="1158"/>
                    </a:lnTo>
                    <a:lnTo>
                      <a:pt x="1164" y="1170"/>
                    </a:lnTo>
                    <a:lnTo>
                      <a:pt x="1164" y="1176"/>
                    </a:lnTo>
                    <a:lnTo>
                      <a:pt x="1166" y="1180"/>
                    </a:lnTo>
                    <a:lnTo>
                      <a:pt x="1166" y="1180"/>
                    </a:lnTo>
                    <a:lnTo>
                      <a:pt x="1162" y="1184"/>
                    </a:lnTo>
                    <a:lnTo>
                      <a:pt x="1158" y="1188"/>
                    </a:lnTo>
                    <a:lnTo>
                      <a:pt x="1158" y="1188"/>
                    </a:lnTo>
                    <a:lnTo>
                      <a:pt x="1162" y="1190"/>
                    </a:lnTo>
                    <a:lnTo>
                      <a:pt x="1168" y="1190"/>
                    </a:lnTo>
                    <a:lnTo>
                      <a:pt x="1174" y="1186"/>
                    </a:lnTo>
                    <a:lnTo>
                      <a:pt x="1174" y="1186"/>
                    </a:lnTo>
                    <a:lnTo>
                      <a:pt x="1172" y="1190"/>
                    </a:lnTo>
                    <a:lnTo>
                      <a:pt x="1166" y="1190"/>
                    </a:lnTo>
                    <a:lnTo>
                      <a:pt x="1156" y="1192"/>
                    </a:lnTo>
                    <a:lnTo>
                      <a:pt x="1156" y="1192"/>
                    </a:lnTo>
                    <a:lnTo>
                      <a:pt x="264" y="1180"/>
                    </a:lnTo>
                    <a:lnTo>
                      <a:pt x="264" y="1180"/>
                    </a:lnTo>
                    <a:lnTo>
                      <a:pt x="276" y="1178"/>
                    </a:lnTo>
                    <a:lnTo>
                      <a:pt x="288" y="1174"/>
                    </a:lnTo>
                    <a:lnTo>
                      <a:pt x="298" y="1170"/>
                    </a:lnTo>
                    <a:lnTo>
                      <a:pt x="306" y="1166"/>
                    </a:lnTo>
                    <a:lnTo>
                      <a:pt x="306" y="1166"/>
                    </a:lnTo>
                    <a:lnTo>
                      <a:pt x="300" y="1164"/>
                    </a:lnTo>
                    <a:lnTo>
                      <a:pt x="294" y="1160"/>
                    </a:lnTo>
                    <a:lnTo>
                      <a:pt x="294" y="1160"/>
                    </a:lnTo>
                    <a:lnTo>
                      <a:pt x="294" y="1166"/>
                    </a:lnTo>
                    <a:lnTo>
                      <a:pt x="292" y="1168"/>
                    </a:lnTo>
                    <a:lnTo>
                      <a:pt x="288" y="1170"/>
                    </a:lnTo>
                    <a:lnTo>
                      <a:pt x="282" y="1170"/>
                    </a:lnTo>
                    <a:lnTo>
                      <a:pt x="270" y="1172"/>
                    </a:lnTo>
                    <a:lnTo>
                      <a:pt x="266" y="1176"/>
                    </a:lnTo>
                    <a:lnTo>
                      <a:pt x="264" y="1180"/>
                    </a:lnTo>
                    <a:lnTo>
                      <a:pt x="264" y="1180"/>
                    </a:lnTo>
                    <a:lnTo>
                      <a:pt x="492" y="1162"/>
                    </a:lnTo>
                    <a:lnTo>
                      <a:pt x="492" y="1162"/>
                    </a:lnTo>
                    <a:lnTo>
                      <a:pt x="492" y="1170"/>
                    </a:lnTo>
                    <a:lnTo>
                      <a:pt x="496" y="1174"/>
                    </a:lnTo>
                    <a:lnTo>
                      <a:pt x="496" y="1174"/>
                    </a:lnTo>
                    <a:lnTo>
                      <a:pt x="508" y="1172"/>
                    </a:lnTo>
                    <a:lnTo>
                      <a:pt x="512" y="1170"/>
                    </a:lnTo>
                    <a:lnTo>
                      <a:pt x="514" y="1164"/>
                    </a:lnTo>
                    <a:lnTo>
                      <a:pt x="514" y="1164"/>
                    </a:lnTo>
                    <a:lnTo>
                      <a:pt x="508" y="1164"/>
                    </a:lnTo>
                    <a:lnTo>
                      <a:pt x="502" y="1162"/>
                    </a:lnTo>
                    <a:lnTo>
                      <a:pt x="498" y="1162"/>
                    </a:lnTo>
                    <a:lnTo>
                      <a:pt x="492" y="1162"/>
                    </a:lnTo>
                    <a:lnTo>
                      <a:pt x="492" y="1162"/>
                    </a:lnTo>
                    <a:lnTo>
                      <a:pt x="540" y="1174"/>
                    </a:lnTo>
                    <a:lnTo>
                      <a:pt x="540" y="1174"/>
                    </a:lnTo>
                    <a:lnTo>
                      <a:pt x="542" y="1170"/>
                    </a:lnTo>
                    <a:lnTo>
                      <a:pt x="542" y="1168"/>
                    </a:lnTo>
                    <a:lnTo>
                      <a:pt x="540" y="1166"/>
                    </a:lnTo>
                    <a:lnTo>
                      <a:pt x="540" y="1166"/>
                    </a:lnTo>
                    <a:lnTo>
                      <a:pt x="538" y="1170"/>
                    </a:lnTo>
                    <a:lnTo>
                      <a:pt x="538" y="1172"/>
                    </a:lnTo>
                    <a:lnTo>
                      <a:pt x="540" y="1174"/>
                    </a:lnTo>
                    <a:lnTo>
                      <a:pt x="540" y="1174"/>
                    </a:lnTo>
                    <a:lnTo>
                      <a:pt x="436" y="1172"/>
                    </a:lnTo>
                    <a:lnTo>
                      <a:pt x="436" y="1172"/>
                    </a:lnTo>
                    <a:lnTo>
                      <a:pt x="440" y="1172"/>
                    </a:lnTo>
                    <a:lnTo>
                      <a:pt x="442" y="1172"/>
                    </a:lnTo>
                    <a:lnTo>
                      <a:pt x="442" y="1172"/>
                    </a:lnTo>
                    <a:lnTo>
                      <a:pt x="442" y="1168"/>
                    </a:lnTo>
                    <a:lnTo>
                      <a:pt x="438" y="1168"/>
                    </a:lnTo>
                    <a:lnTo>
                      <a:pt x="438" y="1168"/>
                    </a:lnTo>
                    <a:lnTo>
                      <a:pt x="436" y="1170"/>
                    </a:lnTo>
                    <a:lnTo>
                      <a:pt x="436" y="1172"/>
                    </a:lnTo>
                    <a:lnTo>
                      <a:pt x="436" y="1172"/>
                    </a:lnTo>
                    <a:lnTo>
                      <a:pt x="312" y="1168"/>
                    </a:lnTo>
                    <a:lnTo>
                      <a:pt x="312" y="1168"/>
                    </a:lnTo>
                    <a:lnTo>
                      <a:pt x="292" y="1178"/>
                    </a:lnTo>
                    <a:lnTo>
                      <a:pt x="280" y="1182"/>
                    </a:lnTo>
                    <a:lnTo>
                      <a:pt x="268" y="1182"/>
                    </a:lnTo>
                    <a:lnTo>
                      <a:pt x="268" y="1182"/>
                    </a:lnTo>
                    <a:lnTo>
                      <a:pt x="270" y="1186"/>
                    </a:lnTo>
                    <a:lnTo>
                      <a:pt x="276" y="1188"/>
                    </a:lnTo>
                    <a:lnTo>
                      <a:pt x="280" y="1190"/>
                    </a:lnTo>
                    <a:lnTo>
                      <a:pt x="282" y="1194"/>
                    </a:lnTo>
                    <a:lnTo>
                      <a:pt x="282" y="1194"/>
                    </a:lnTo>
                    <a:lnTo>
                      <a:pt x="280" y="1196"/>
                    </a:lnTo>
                    <a:lnTo>
                      <a:pt x="274" y="1200"/>
                    </a:lnTo>
                    <a:lnTo>
                      <a:pt x="270" y="1202"/>
                    </a:lnTo>
                    <a:lnTo>
                      <a:pt x="270" y="1204"/>
                    </a:lnTo>
                    <a:lnTo>
                      <a:pt x="270" y="1206"/>
                    </a:lnTo>
                    <a:lnTo>
                      <a:pt x="270" y="1206"/>
                    </a:lnTo>
                    <a:lnTo>
                      <a:pt x="308" y="1196"/>
                    </a:lnTo>
                    <a:lnTo>
                      <a:pt x="344" y="1182"/>
                    </a:lnTo>
                    <a:lnTo>
                      <a:pt x="344" y="1182"/>
                    </a:lnTo>
                    <a:lnTo>
                      <a:pt x="336" y="1178"/>
                    </a:lnTo>
                    <a:lnTo>
                      <a:pt x="328" y="1172"/>
                    </a:lnTo>
                    <a:lnTo>
                      <a:pt x="318" y="1168"/>
                    </a:lnTo>
                    <a:lnTo>
                      <a:pt x="316" y="1168"/>
                    </a:lnTo>
                    <a:lnTo>
                      <a:pt x="312" y="1168"/>
                    </a:lnTo>
                    <a:lnTo>
                      <a:pt x="312" y="1168"/>
                    </a:lnTo>
                    <a:lnTo>
                      <a:pt x="532" y="1172"/>
                    </a:lnTo>
                    <a:lnTo>
                      <a:pt x="532" y="1172"/>
                    </a:lnTo>
                    <a:lnTo>
                      <a:pt x="536" y="1174"/>
                    </a:lnTo>
                    <a:lnTo>
                      <a:pt x="538" y="1174"/>
                    </a:lnTo>
                    <a:lnTo>
                      <a:pt x="538" y="1172"/>
                    </a:lnTo>
                    <a:lnTo>
                      <a:pt x="538" y="1172"/>
                    </a:lnTo>
                    <a:lnTo>
                      <a:pt x="538" y="1170"/>
                    </a:lnTo>
                    <a:lnTo>
                      <a:pt x="538" y="1170"/>
                    </a:lnTo>
                    <a:lnTo>
                      <a:pt x="534" y="1172"/>
                    </a:lnTo>
                    <a:lnTo>
                      <a:pt x="532" y="1172"/>
                    </a:lnTo>
                    <a:lnTo>
                      <a:pt x="532" y="1172"/>
                    </a:lnTo>
                    <a:lnTo>
                      <a:pt x="766" y="1178"/>
                    </a:lnTo>
                    <a:lnTo>
                      <a:pt x="766" y="1178"/>
                    </a:lnTo>
                    <a:lnTo>
                      <a:pt x="764" y="1182"/>
                    </a:lnTo>
                    <a:lnTo>
                      <a:pt x="762" y="1186"/>
                    </a:lnTo>
                    <a:lnTo>
                      <a:pt x="762" y="1186"/>
                    </a:lnTo>
                    <a:lnTo>
                      <a:pt x="768" y="1186"/>
                    </a:lnTo>
                    <a:lnTo>
                      <a:pt x="774" y="1188"/>
                    </a:lnTo>
                    <a:lnTo>
                      <a:pt x="774" y="1188"/>
                    </a:lnTo>
                    <a:lnTo>
                      <a:pt x="772" y="1184"/>
                    </a:lnTo>
                    <a:lnTo>
                      <a:pt x="774" y="1180"/>
                    </a:lnTo>
                    <a:lnTo>
                      <a:pt x="774" y="1178"/>
                    </a:lnTo>
                    <a:lnTo>
                      <a:pt x="774" y="1176"/>
                    </a:lnTo>
                    <a:lnTo>
                      <a:pt x="774" y="1176"/>
                    </a:lnTo>
                    <a:lnTo>
                      <a:pt x="772" y="1178"/>
                    </a:lnTo>
                    <a:lnTo>
                      <a:pt x="770" y="1178"/>
                    </a:lnTo>
                    <a:lnTo>
                      <a:pt x="766" y="1178"/>
                    </a:lnTo>
                    <a:lnTo>
                      <a:pt x="766" y="1178"/>
                    </a:lnTo>
                    <a:lnTo>
                      <a:pt x="450" y="1180"/>
                    </a:lnTo>
                    <a:lnTo>
                      <a:pt x="450" y="1180"/>
                    </a:lnTo>
                    <a:lnTo>
                      <a:pt x="444" y="1182"/>
                    </a:lnTo>
                    <a:lnTo>
                      <a:pt x="442" y="1182"/>
                    </a:lnTo>
                    <a:lnTo>
                      <a:pt x="440" y="1184"/>
                    </a:lnTo>
                    <a:lnTo>
                      <a:pt x="440" y="1184"/>
                    </a:lnTo>
                    <a:lnTo>
                      <a:pt x="442" y="1188"/>
                    </a:lnTo>
                    <a:lnTo>
                      <a:pt x="440" y="1192"/>
                    </a:lnTo>
                    <a:lnTo>
                      <a:pt x="440" y="1192"/>
                    </a:lnTo>
                    <a:lnTo>
                      <a:pt x="438" y="1188"/>
                    </a:lnTo>
                    <a:lnTo>
                      <a:pt x="436" y="1186"/>
                    </a:lnTo>
                    <a:lnTo>
                      <a:pt x="434" y="1186"/>
                    </a:lnTo>
                    <a:lnTo>
                      <a:pt x="434" y="1186"/>
                    </a:lnTo>
                    <a:lnTo>
                      <a:pt x="432" y="1192"/>
                    </a:lnTo>
                    <a:lnTo>
                      <a:pt x="432" y="1192"/>
                    </a:lnTo>
                    <a:lnTo>
                      <a:pt x="440" y="1194"/>
                    </a:lnTo>
                    <a:lnTo>
                      <a:pt x="444" y="1194"/>
                    </a:lnTo>
                    <a:lnTo>
                      <a:pt x="448" y="1190"/>
                    </a:lnTo>
                    <a:lnTo>
                      <a:pt x="450" y="1180"/>
                    </a:lnTo>
                    <a:lnTo>
                      <a:pt x="450" y="1180"/>
                    </a:lnTo>
                    <a:lnTo>
                      <a:pt x="534" y="1188"/>
                    </a:lnTo>
                    <a:lnTo>
                      <a:pt x="534" y="1188"/>
                    </a:lnTo>
                    <a:lnTo>
                      <a:pt x="538" y="1188"/>
                    </a:lnTo>
                    <a:lnTo>
                      <a:pt x="542" y="1188"/>
                    </a:lnTo>
                    <a:lnTo>
                      <a:pt x="544" y="1186"/>
                    </a:lnTo>
                    <a:lnTo>
                      <a:pt x="544" y="1182"/>
                    </a:lnTo>
                    <a:lnTo>
                      <a:pt x="544" y="1182"/>
                    </a:lnTo>
                    <a:lnTo>
                      <a:pt x="534" y="1180"/>
                    </a:lnTo>
                    <a:lnTo>
                      <a:pt x="534" y="1180"/>
                    </a:lnTo>
                    <a:lnTo>
                      <a:pt x="534" y="1182"/>
                    </a:lnTo>
                    <a:lnTo>
                      <a:pt x="534" y="1182"/>
                    </a:lnTo>
                    <a:lnTo>
                      <a:pt x="534" y="1188"/>
                    </a:lnTo>
                    <a:lnTo>
                      <a:pt x="534" y="1188"/>
                    </a:lnTo>
                    <a:lnTo>
                      <a:pt x="510" y="1184"/>
                    </a:lnTo>
                    <a:lnTo>
                      <a:pt x="510" y="1184"/>
                    </a:lnTo>
                    <a:lnTo>
                      <a:pt x="508" y="1194"/>
                    </a:lnTo>
                    <a:lnTo>
                      <a:pt x="508" y="1194"/>
                    </a:lnTo>
                    <a:lnTo>
                      <a:pt x="518" y="1192"/>
                    </a:lnTo>
                    <a:lnTo>
                      <a:pt x="522" y="1188"/>
                    </a:lnTo>
                    <a:lnTo>
                      <a:pt x="524" y="1184"/>
                    </a:lnTo>
                    <a:lnTo>
                      <a:pt x="524" y="1184"/>
                    </a:lnTo>
                    <a:lnTo>
                      <a:pt x="522" y="1182"/>
                    </a:lnTo>
                    <a:lnTo>
                      <a:pt x="518" y="1182"/>
                    </a:lnTo>
                    <a:lnTo>
                      <a:pt x="510" y="1184"/>
                    </a:lnTo>
                    <a:lnTo>
                      <a:pt x="510" y="1184"/>
                    </a:lnTo>
                    <a:lnTo>
                      <a:pt x="394" y="1196"/>
                    </a:lnTo>
                    <a:lnTo>
                      <a:pt x="394" y="1196"/>
                    </a:lnTo>
                    <a:lnTo>
                      <a:pt x="384" y="1194"/>
                    </a:lnTo>
                    <a:lnTo>
                      <a:pt x="374" y="1188"/>
                    </a:lnTo>
                    <a:lnTo>
                      <a:pt x="364" y="1186"/>
                    </a:lnTo>
                    <a:lnTo>
                      <a:pt x="352" y="1186"/>
                    </a:lnTo>
                    <a:lnTo>
                      <a:pt x="352" y="1186"/>
                    </a:lnTo>
                    <a:lnTo>
                      <a:pt x="344" y="1188"/>
                    </a:lnTo>
                    <a:lnTo>
                      <a:pt x="334" y="1190"/>
                    </a:lnTo>
                    <a:lnTo>
                      <a:pt x="316" y="1198"/>
                    </a:lnTo>
                    <a:lnTo>
                      <a:pt x="300" y="1206"/>
                    </a:lnTo>
                    <a:lnTo>
                      <a:pt x="290" y="1208"/>
                    </a:lnTo>
                    <a:lnTo>
                      <a:pt x="280" y="1210"/>
                    </a:lnTo>
                    <a:lnTo>
                      <a:pt x="280" y="1210"/>
                    </a:lnTo>
                    <a:lnTo>
                      <a:pt x="274" y="1220"/>
                    </a:lnTo>
                    <a:lnTo>
                      <a:pt x="266" y="1228"/>
                    </a:lnTo>
                    <a:lnTo>
                      <a:pt x="266" y="1228"/>
                    </a:lnTo>
                    <a:lnTo>
                      <a:pt x="268" y="1234"/>
                    </a:lnTo>
                    <a:lnTo>
                      <a:pt x="270" y="1240"/>
                    </a:lnTo>
                    <a:lnTo>
                      <a:pt x="270" y="1248"/>
                    </a:lnTo>
                    <a:lnTo>
                      <a:pt x="268" y="1254"/>
                    </a:lnTo>
                    <a:lnTo>
                      <a:pt x="264" y="1258"/>
                    </a:lnTo>
                    <a:lnTo>
                      <a:pt x="260" y="1264"/>
                    </a:lnTo>
                    <a:lnTo>
                      <a:pt x="256" y="1268"/>
                    </a:lnTo>
                    <a:lnTo>
                      <a:pt x="250" y="1270"/>
                    </a:lnTo>
                    <a:lnTo>
                      <a:pt x="250" y="1270"/>
                    </a:lnTo>
                    <a:lnTo>
                      <a:pt x="250" y="1270"/>
                    </a:lnTo>
                    <a:lnTo>
                      <a:pt x="248" y="1270"/>
                    </a:lnTo>
                    <a:lnTo>
                      <a:pt x="248" y="1270"/>
                    </a:lnTo>
                    <a:lnTo>
                      <a:pt x="252" y="1276"/>
                    </a:lnTo>
                    <a:lnTo>
                      <a:pt x="258" y="1280"/>
                    </a:lnTo>
                    <a:lnTo>
                      <a:pt x="270" y="1288"/>
                    </a:lnTo>
                    <a:lnTo>
                      <a:pt x="270" y="1288"/>
                    </a:lnTo>
                    <a:lnTo>
                      <a:pt x="310" y="1324"/>
                    </a:lnTo>
                    <a:lnTo>
                      <a:pt x="310" y="1324"/>
                    </a:lnTo>
                    <a:lnTo>
                      <a:pt x="312" y="1324"/>
                    </a:lnTo>
                    <a:lnTo>
                      <a:pt x="314" y="1324"/>
                    </a:lnTo>
                    <a:lnTo>
                      <a:pt x="320" y="1328"/>
                    </a:lnTo>
                    <a:lnTo>
                      <a:pt x="326" y="1334"/>
                    </a:lnTo>
                    <a:lnTo>
                      <a:pt x="330" y="1336"/>
                    </a:lnTo>
                    <a:lnTo>
                      <a:pt x="336" y="1336"/>
                    </a:lnTo>
                    <a:lnTo>
                      <a:pt x="336" y="1336"/>
                    </a:lnTo>
                    <a:lnTo>
                      <a:pt x="336" y="1328"/>
                    </a:lnTo>
                    <a:lnTo>
                      <a:pt x="336" y="1324"/>
                    </a:lnTo>
                    <a:lnTo>
                      <a:pt x="332" y="1320"/>
                    </a:lnTo>
                    <a:lnTo>
                      <a:pt x="328" y="1316"/>
                    </a:lnTo>
                    <a:lnTo>
                      <a:pt x="318" y="1312"/>
                    </a:lnTo>
                    <a:lnTo>
                      <a:pt x="314" y="1308"/>
                    </a:lnTo>
                    <a:lnTo>
                      <a:pt x="310" y="1306"/>
                    </a:lnTo>
                    <a:lnTo>
                      <a:pt x="310" y="1306"/>
                    </a:lnTo>
                    <a:lnTo>
                      <a:pt x="310" y="1286"/>
                    </a:lnTo>
                    <a:lnTo>
                      <a:pt x="310" y="1270"/>
                    </a:lnTo>
                    <a:lnTo>
                      <a:pt x="310" y="1270"/>
                    </a:lnTo>
                    <a:lnTo>
                      <a:pt x="318" y="1268"/>
                    </a:lnTo>
                    <a:lnTo>
                      <a:pt x="328" y="1268"/>
                    </a:lnTo>
                    <a:lnTo>
                      <a:pt x="338" y="1270"/>
                    </a:lnTo>
                    <a:lnTo>
                      <a:pt x="346" y="1274"/>
                    </a:lnTo>
                    <a:lnTo>
                      <a:pt x="346" y="1274"/>
                    </a:lnTo>
                    <a:lnTo>
                      <a:pt x="342" y="1290"/>
                    </a:lnTo>
                    <a:lnTo>
                      <a:pt x="340" y="1308"/>
                    </a:lnTo>
                    <a:lnTo>
                      <a:pt x="340" y="1316"/>
                    </a:lnTo>
                    <a:lnTo>
                      <a:pt x="344" y="1322"/>
                    </a:lnTo>
                    <a:lnTo>
                      <a:pt x="350" y="1326"/>
                    </a:lnTo>
                    <a:lnTo>
                      <a:pt x="360" y="1328"/>
                    </a:lnTo>
                    <a:lnTo>
                      <a:pt x="360" y="1328"/>
                    </a:lnTo>
                    <a:lnTo>
                      <a:pt x="368" y="1320"/>
                    </a:lnTo>
                    <a:lnTo>
                      <a:pt x="372" y="1318"/>
                    </a:lnTo>
                    <a:lnTo>
                      <a:pt x="378" y="1320"/>
                    </a:lnTo>
                    <a:lnTo>
                      <a:pt x="378" y="1320"/>
                    </a:lnTo>
                    <a:lnTo>
                      <a:pt x="372" y="1332"/>
                    </a:lnTo>
                    <a:lnTo>
                      <a:pt x="370" y="1346"/>
                    </a:lnTo>
                    <a:lnTo>
                      <a:pt x="370" y="1346"/>
                    </a:lnTo>
                    <a:lnTo>
                      <a:pt x="374" y="1346"/>
                    </a:lnTo>
                    <a:lnTo>
                      <a:pt x="376" y="1344"/>
                    </a:lnTo>
                    <a:lnTo>
                      <a:pt x="380" y="1342"/>
                    </a:lnTo>
                    <a:lnTo>
                      <a:pt x="382" y="1340"/>
                    </a:lnTo>
                    <a:lnTo>
                      <a:pt x="382" y="1340"/>
                    </a:lnTo>
                    <a:lnTo>
                      <a:pt x="384" y="1346"/>
                    </a:lnTo>
                    <a:lnTo>
                      <a:pt x="384" y="1352"/>
                    </a:lnTo>
                    <a:lnTo>
                      <a:pt x="384" y="1356"/>
                    </a:lnTo>
                    <a:lnTo>
                      <a:pt x="380" y="1360"/>
                    </a:lnTo>
                    <a:lnTo>
                      <a:pt x="374" y="1366"/>
                    </a:lnTo>
                    <a:lnTo>
                      <a:pt x="366" y="1372"/>
                    </a:lnTo>
                    <a:lnTo>
                      <a:pt x="366" y="1372"/>
                    </a:lnTo>
                    <a:lnTo>
                      <a:pt x="372" y="1376"/>
                    </a:lnTo>
                    <a:lnTo>
                      <a:pt x="376" y="1380"/>
                    </a:lnTo>
                    <a:lnTo>
                      <a:pt x="386" y="1388"/>
                    </a:lnTo>
                    <a:lnTo>
                      <a:pt x="386" y="1388"/>
                    </a:lnTo>
                    <a:lnTo>
                      <a:pt x="402" y="1390"/>
                    </a:lnTo>
                    <a:lnTo>
                      <a:pt x="418" y="1390"/>
                    </a:lnTo>
                    <a:lnTo>
                      <a:pt x="434" y="1388"/>
                    </a:lnTo>
                    <a:lnTo>
                      <a:pt x="450" y="1384"/>
                    </a:lnTo>
                    <a:lnTo>
                      <a:pt x="478" y="1374"/>
                    </a:lnTo>
                    <a:lnTo>
                      <a:pt x="506" y="1364"/>
                    </a:lnTo>
                    <a:lnTo>
                      <a:pt x="506" y="1364"/>
                    </a:lnTo>
                    <a:lnTo>
                      <a:pt x="504" y="1356"/>
                    </a:lnTo>
                    <a:lnTo>
                      <a:pt x="500" y="1350"/>
                    </a:lnTo>
                    <a:lnTo>
                      <a:pt x="488" y="1340"/>
                    </a:lnTo>
                    <a:lnTo>
                      <a:pt x="488" y="1340"/>
                    </a:lnTo>
                    <a:lnTo>
                      <a:pt x="468" y="1326"/>
                    </a:lnTo>
                    <a:lnTo>
                      <a:pt x="468" y="1326"/>
                    </a:lnTo>
                    <a:lnTo>
                      <a:pt x="456" y="1316"/>
                    </a:lnTo>
                    <a:lnTo>
                      <a:pt x="444" y="1306"/>
                    </a:lnTo>
                    <a:lnTo>
                      <a:pt x="432" y="1300"/>
                    </a:lnTo>
                    <a:lnTo>
                      <a:pt x="424" y="1298"/>
                    </a:lnTo>
                    <a:lnTo>
                      <a:pt x="418" y="1298"/>
                    </a:lnTo>
                    <a:lnTo>
                      <a:pt x="418" y="1298"/>
                    </a:lnTo>
                    <a:lnTo>
                      <a:pt x="422" y="1296"/>
                    </a:lnTo>
                    <a:lnTo>
                      <a:pt x="422" y="1294"/>
                    </a:lnTo>
                    <a:lnTo>
                      <a:pt x="422" y="1292"/>
                    </a:lnTo>
                    <a:lnTo>
                      <a:pt x="422" y="1292"/>
                    </a:lnTo>
                    <a:lnTo>
                      <a:pt x="408" y="1284"/>
                    </a:lnTo>
                    <a:lnTo>
                      <a:pt x="402" y="1280"/>
                    </a:lnTo>
                    <a:lnTo>
                      <a:pt x="396" y="1274"/>
                    </a:lnTo>
                    <a:lnTo>
                      <a:pt x="396" y="1274"/>
                    </a:lnTo>
                    <a:lnTo>
                      <a:pt x="412" y="1284"/>
                    </a:lnTo>
                    <a:lnTo>
                      <a:pt x="420" y="1288"/>
                    </a:lnTo>
                    <a:lnTo>
                      <a:pt x="428" y="1290"/>
                    </a:lnTo>
                    <a:lnTo>
                      <a:pt x="428" y="1290"/>
                    </a:lnTo>
                    <a:lnTo>
                      <a:pt x="440" y="1284"/>
                    </a:lnTo>
                    <a:lnTo>
                      <a:pt x="446" y="1282"/>
                    </a:lnTo>
                    <a:lnTo>
                      <a:pt x="452" y="1286"/>
                    </a:lnTo>
                    <a:lnTo>
                      <a:pt x="452" y="1286"/>
                    </a:lnTo>
                    <a:lnTo>
                      <a:pt x="450" y="1290"/>
                    </a:lnTo>
                    <a:lnTo>
                      <a:pt x="446" y="1292"/>
                    </a:lnTo>
                    <a:lnTo>
                      <a:pt x="436" y="1296"/>
                    </a:lnTo>
                    <a:lnTo>
                      <a:pt x="436" y="1296"/>
                    </a:lnTo>
                    <a:lnTo>
                      <a:pt x="452" y="1308"/>
                    </a:lnTo>
                    <a:lnTo>
                      <a:pt x="470" y="1320"/>
                    </a:lnTo>
                    <a:lnTo>
                      <a:pt x="470" y="1320"/>
                    </a:lnTo>
                    <a:lnTo>
                      <a:pt x="464" y="1302"/>
                    </a:lnTo>
                    <a:lnTo>
                      <a:pt x="460" y="1286"/>
                    </a:lnTo>
                    <a:lnTo>
                      <a:pt x="454" y="1270"/>
                    </a:lnTo>
                    <a:lnTo>
                      <a:pt x="446" y="1256"/>
                    </a:lnTo>
                    <a:lnTo>
                      <a:pt x="446" y="1256"/>
                    </a:lnTo>
                    <a:lnTo>
                      <a:pt x="438" y="1258"/>
                    </a:lnTo>
                    <a:lnTo>
                      <a:pt x="434" y="1258"/>
                    </a:lnTo>
                    <a:lnTo>
                      <a:pt x="432" y="1256"/>
                    </a:lnTo>
                    <a:lnTo>
                      <a:pt x="432" y="1256"/>
                    </a:lnTo>
                    <a:lnTo>
                      <a:pt x="436" y="1250"/>
                    </a:lnTo>
                    <a:lnTo>
                      <a:pt x="438" y="1246"/>
                    </a:lnTo>
                    <a:lnTo>
                      <a:pt x="438" y="1244"/>
                    </a:lnTo>
                    <a:lnTo>
                      <a:pt x="438" y="1244"/>
                    </a:lnTo>
                    <a:lnTo>
                      <a:pt x="436" y="1238"/>
                    </a:lnTo>
                    <a:lnTo>
                      <a:pt x="432" y="1234"/>
                    </a:lnTo>
                    <a:lnTo>
                      <a:pt x="426" y="1232"/>
                    </a:lnTo>
                    <a:lnTo>
                      <a:pt x="420" y="1228"/>
                    </a:lnTo>
                    <a:lnTo>
                      <a:pt x="406" y="1226"/>
                    </a:lnTo>
                    <a:lnTo>
                      <a:pt x="394" y="1226"/>
                    </a:lnTo>
                    <a:lnTo>
                      <a:pt x="394" y="1226"/>
                    </a:lnTo>
                    <a:lnTo>
                      <a:pt x="400" y="1224"/>
                    </a:lnTo>
                    <a:lnTo>
                      <a:pt x="404" y="1224"/>
                    </a:lnTo>
                    <a:lnTo>
                      <a:pt x="406" y="1224"/>
                    </a:lnTo>
                    <a:lnTo>
                      <a:pt x="412" y="1224"/>
                    </a:lnTo>
                    <a:lnTo>
                      <a:pt x="412" y="1224"/>
                    </a:lnTo>
                    <a:lnTo>
                      <a:pt x="410" y="1218"/>
                    </a:lnTo>
                    <a:lnTo>
                      <a:pt x="406" y="1212"/>
                    </a:lnTo>
                    <a:lnTo>
                      <a:pt x="394" y="1196"/>
                    </a:lnTo>
                    <a:lnTo>
                      <a:pt x="394" y="1196"/>
                    </a:lnTo>
                    <a:lnTo>
                      <a:pt x="484" y="1208"/>
                    </a:lnTo>
                    <a:lnTo>
                      <a:pt x="484" y="1208"/>
                    </a:lnTo>
                    <a:lnTo>
                      <a:pt x="490" y="1206"/>
                    </a:lnTo>
                    <a:lnTo>
                      <a:pt x="492" y="1202"/>
                    </a:lnTo>
                    <a:lnTo>
                      <a:pt x="494" y="1194"/>
                    </a:lnTo>
                    <a:lnTo>
                      <a:pt x="494" y="1194"/>
                    </a:lnTo>
                    <a:lnTo>
                      <a:pt x="492" y="1192"/>
                    </a:lnTo>
                    <a:lnTo>
                      <a:pt x="490" y="1190"/>
                    </a:lnTo>
                    <a:lnTo>
                      <a:pt x="490" y="1188"/>
                    </a:lnTo>
                    <a:lnTo>
                      <a:pt x="486" y="1186"/>
                    </a:lnTo>
                    <a:lnTo>
                      <a:pt x="486" y="1186"/>
                    </a:lnTo>
                    <a:lnTo>
                      <a:pt x="484" y="1190"/>
                    </a:lnTo>
                    <a:lnTo>
                      <a:pt x="482" y="1196"/>
                    </a:lnTo>
                    <a:lnTo>
                      <a:pt x="482" y="1202"/>
                    </a:lnTo>
                    <a:lnTo>
                      <a:pt x="484" y="1208"/>
                    </a:lnTo>
                    <a:lnTo>
                      <a:pt x="484" y="1208"/>
                    </a:lnTo>
                    <a:lnTo>
                      <a:pt x="782" y="1204"/>
                    </a:lnTo>
                    <a:lnTo>
                      <a:pt x="782" y="1204"/>
                    </a:lnTo>
                    <a:lnTo>
                      <a:pt x="778" y="1200"/>
                    </a:lnTo>
                    <a:lnTo>
                      <a:pt x="776" y="1194"/>
                    </a:lnTo>
                    <a:lnTo>
                      <a:pt x="772" y="1190"/>
                    </a:lnTo>
                    <a:lnTo>
                      <a:pt x="770" y="1190"/>
                    </a:lnTo>
                    <a:lnTo>
                      <a:pt x="766" y="1192"/>
                    </a:lnTo>
                    <a:lnTo>
                      <a:pt x="766" y="1192"/>
                    </a:lnTo>
                    <a:lnTo>
                      <a:pt x="774" y="1200"/>
                    </a:lnTo>
                    <a:lnTo>
                      <a:pt x="778" y="1204"/>
                    </a:lnTo>
                    <a:lnTo>
                      <a:pt x="782" y="1204"/>
                    </a:lnTo>
                    <a:lnTo>
                      <a:pt x="782" y="1204"/>
                    </a:lnTo>
                    <a:lnTo>
                      <a:pt x="1224" y="1220"/>
                    </a:lnTo>
                    <a:lnTo>
                      <a:pt x="1224" y="1220"/>
                    </a:lnTo>
                    <a:lnTo>
                      <a:pt x="1218" y="1216"/>
                    </a:lnTo>
                    <a:lnTo>
                      <a:pt x="1214" y="1216"/>
                    </a:lnTo>
                    <a:lnTo>
                      <a:pt x="1208" y="1216"/>
                    </a:lnTo>
                    <a:lnTo>
                      <a:pt x="1204" y="1218"/>
                    </a:lnTo>
                    <a:lnTo>
                      <a:pt x="1194" y="1226"/>
                    </a:lnTo>
                    <a:lnTo>
                      <a:pt x="1186" y="1234"/>
                    </a:lnTo>
                    <a:lnTo>
                      <a:pt x="1186" y="1234"/>
                    </a:lnTo>
                    <a:lnTo>
                      <a:pt x="1174" y="1244"/>
                    </a:lnTo>
                    <a:lnTo>
                      <a:pt x="1164" y="1254"/>
                    </a:lnTo>
                    <a:lnTo>
                      <a:pt x="1164" y="1254"/>
                    </a:lnTo>
                    <a:lnTo>
                      <a:pt x="1156" y="1266"/>
                    </a:lnTo>
                    <a:lnTo>
                      <a:pt x="1148" y="1280"/>
                    </a:lnTo>
                    <a:lnTo>
                      <a:pt x="1142" y="1294"/>
                    </a:lnTo>
                    <a:lnTo>
                      <a:pt x="1132" y="1304"/>
                    </a:lnTo>
                    <a:lnTo>
                      <a:pt x="1132" y="1304"/>
                    </a:lnTo>
                    <a:lnTo>
                      <a:pt x="1146" y="1306"/>
                    </a:lnTo>
                    <a:lnTo>
                      <a:pt x="1158" y="1310"/>
                    </a:lnTo>
                    <a:lnTo>
                      <a:pt x="1170" y="1312"/>
                    </a:lnTo>
                    <a:lnTo>
                      <a:pt x="1182" y="1312"/>
                    </a:lnTo>
                    <a:lnTo>
                      <a:pt x="1182" y="1312"/>
                    </a:lnTo>
                    <a:lnTo>
                      <a:pt x="1188" y="1310"/>
                    </a:lnTo>
                    <a:lnTo>
                      <a:pt x="1196" y="1306"/>
                    </a:lnTo>
                    <a:lnTo>
                      <a:pt x="1210" y="1296"/>
                    </a:lnTo>
                    <a:lnTo>
                      <a:pt x="1210" y="1296"/>
                    </a:lnTo>
                    <a:lnTo>
                      <a:pt x="1224" y="1286"/>
                    </a:lnTo>
                    <a:lnTo>
                      <a:pt x="1236" y="1276"/>
                    </a:lnTo>
                    <a:lnTo>
                      <a:pt x="1236" y="1276"/>
                    </a:lnTo>
                    <a:lnTo>
                      <a:pt x="1234" y="1256"/>
                    </a:lnTo>
                    <a:lnTo>
                      <a:pt x="1232" y="1236"/>
                    </a:lnTo>
                    <a:lnTo>
                      <a:pt x="1232" y="1236"/>
                    </a:lnTo>
                    <a:lnTo>
                      <a:pt x="1216" y="1230"/>
                    </a:lnTo>
                    <a:lnTo>
                      <a:pt x="1210" y="1228"/>
                    </a:lnTo>
                    <a:lnTo>
                      <a:pt x="1204" y="1222"/>
                    </a:lnTo>
                    <a:lnTo>
                      <a:pt x="1204" y="1222"/>
                    </a:lnTo>
                    <a:lnTo>
                      <a:pt x="1206" y="1220"/>
                    </a:lnTo>
                    <a:lnTo>
                      <a:pt x="1210" y="1220"/>
                    </a:lnTo>
                    <a:lnTo>
                      <a:pt x="1216" y="1222"/>
                    </a:lnTo>
                    <a:lnTo>
                      <a:pt x="1224" y="1224"/>
                    </a:lnTo>
                    <a:lnTo>
                      <a:pt x="1230" y="1226"/>
                    </a:lnTo>
                    <a:lnTo>
                      <a:pt x="1230" y="1226"/>
                    </a:lnTo>
                    <a:lnTo>
                      <a:pt x="1230" y="1210"/>
                    </a:lnTo>
                    <a:lnTo>
                      <a:pt x="1230" y="1194"/>
                    </a:lnTo>
                    <a:lnTo>
                      <a:pt x="1230" y="1194"/>
                    </a:lnTo>
                    <a:lnTo>
                      <a:pt x="1224" y="1196"/>
                    </a:lnTo>
                    <a:lnTo>
                      <a:pt x="1222" y="1198"/>
                    </a:lnTo>
                    <a:lnTo>
                      <a:pt x="1220" y="1202"/>
                    </a:lnTo>
                    <a:lnTo>
                      <a:pt x="1218" y="1206"/>
                    </a:lnTo>
                    <a:lnTo>
                      <a:pt x="1220" y="1214"/>
                    </a:lnTo>
                    <a:lnTo>
                      <a:pt x="1222" y="1218"/>
                    </a:lnTo>
                    <a:lnTo>
                      <a:pt x="1224" y="1220"/>
                    </a:lnTo>
                    <a:lnTo>
                      <a:pt x="1224" y="1220"/>
                    </a:lnTo>
                    <a:lnTo>
                      <a:pt x="792" y="1220"/>
                    </a:lnTo>
                    <a:lnTo>
                      <a:pt x="792" y="1220"/>
                    </a:lnTo>
                    <a:lnTo>
                      <a:pt x="794" y="1218"/>
                    </a:lnTo>
                    <a:lnTo>
                      <a:pt x="798" y="1218"/>
                    </a:lnTo>
                    <a:lnTo>
                      <a:pt x="798" y="1218"/>
                    </a:lnTo>
                    <a:lnTo>
                      <a:pt x="796" y="1214"/>
                    </a:lnTo>
                    <a:lnTo>
                      <a:pt x="796" y="1210"/>
                    </a:lnTo>
                    <a:lnTo>
                      <a:pt x="794" y="1208"/>
                    </a:lnTo>
                    <a:lnTo>
                      <a:pt x="790" y="1208"/>
                    </a:lnTo>
                    <a:lnTo>
                      <a:pt x="790" y="1208"/>
                    </a:lnTo>
                    <a:lnTo>
                      <a:pt x="790" y="1214"/>
                    </a:lnTo>
                    <a:lnTo>
                      <a:pt x="790" y="1216"/>
                    </a:lnTo>
                    <a:lnTo>
                      <a:pt x="792" y="1220"/>
                    </a:lnTo>
                    <a:lnTo>
                      <a:pt x="792" y="1220"/>
                    </a:lnTo>
                    <a:lnTo>
                      <a:pt x="548" y="1222"/>
                    </a:lnTo>
                    <a:lnTo>
                      <a:pt x="548" y="1222"/>
                    </a:lnTo>
                    <a:lnTo>
                      <a:pt x="556" y="1222"/>
                    </a:lnTo>
                    <a:lnTo>
                      <a:pt x="560" y="1224"/>
                    </a:lnTo>
                    <a:lnTo>
                      <a:pt x="564" y="1226"/>
                    </a:lnTo>
                    <a:lnTo>
                      <a:pt x="564" y="1226"/>
                    </a:lnTo>
                    <a:lnTo>
                      <a:pt x="560" y="1226"/>
                    </a:lnTo>
                    <a:lnTo>
                      <a:pt x="556" y="1228"/>
                    </a:lnTo>
                    <a:lnTo>
                      <a:pt x="548" y="1226"/>
                    </a:lnTo>
                    <a:lnTo>
                      <a:pt x="540" y="1224"/>
                    </a:lnTo>
                    <a:lnTo>
                      <a:pt x="532" y="1226"/>
                    </a:lnTo>
                    <a:lnTo>
                      <a:pt x="532" y="1226"/>
                    </a:lnTo>
                    <a:lnTo>
                      <a:pt x="544" y="1238"/>
                    </a:lnTo>
                    <a:lnTo>
                      <a:pt x="552" y="1252"/>
                    </a:lnTo>
                    <a:lnTo>
                      <a:pt x="564" y="1266"/>
                    </a:lnTo>
                    <a:lnTo>
                      <a:pt x="570" y="1270"/>
                    </a:lnTo>
                    <a:lnTo>
                      <a:pt x="578" y="1274"/>
                    </a:lnTo>
                    <a:lnTo>
                      <a:pt x="578" y="1274"/>
                    </a:lnTo>
                    <a:lnTo>
                      <a:pt x="580" y="1254"/>
                    </a:lnTo>
                    <a:lnTo>
                      <a:pt x="580" y="1246"/>
                    </a:lnTo>
                    <a:lnTo>
                      <a:pt x="578" y="1236"/>
                    </a:lnTo>
                    <a:lnTo>
                      <a:pt x="578" y="1236"/>
                    </a:lnTo>
                    <a:lnTo>
                      <a:pt x="570" y="1234"/>
                    </a:lnTo>
                    <a:lnTo>
                      <a:pt x="566" y="1228"/>
                    </a:lnTo>
                    <a:lnTo>
                      <a:pt x="566" y="1228"/>
                    </a:lnTo>
                    <a:lnTo>
                      <a:pt x="568" y="1226"/>
                    </a:lnTo>
                    <a:lnTo>
                      <a:pt x="570" y="1222"/>
                    </a:lnTo>
                    <a:lnTo>
                      <a:pt x="570" y="1222"/>
                    </a:lnTo>
                    <a:lnTo>
                      <a:pt x="568" y="1220"/>
                    </a:lnTo>
                    <a:lnTo>
                      <a:pt x="566" y="1218"/>
                    </a:lnTo>
                    <a:lnTo>
                      <a:pt x="564" y="1214"/>
                    </a:lnTo>
                    <a:lnTo>
                      <a:pt x="562" y="1212"/>
                    </a:lnTo>
                    <a:lnTo>
                      <a:pt x="562" y="1212"/>
                    </a:lnTo>
                    <a:lnTo>
                      <a:pt x="558" y="1216"/>
                    </a:lnTo>
                    <a:lnTo>
                      <a:pt x="556" y="1218"/>
                    </a:lnTo>
                    <a:lnTo>
                      <a:pt x="548" y="1222"/>
                    </a:lnTo>
                    <a:lnTo>
                      <a:pt x="548" y="1222"/>
                    </a:lnTo>
                    <a:lnTo>
                      <a:pt x="452" y="1228"/>
                    </a:lnTo>
                    <a:lnTo>
                      <a:pt x="452" y="1228"/>
                    </a:lnTo>
                    <a:lnTo>
                      <a:pt x="448" y="1224"/>
                    </a:lnTo>
                    <a:lnTo>
                      <a:pt x="444" y="1220"/>
                    </a:lnTo>
                    <a:lnTo>
                      <a:pt x="440" y="1218"/>
                    </a:lnTo>
                    <a:lnTo>
                      <a:pt x="434" y="1218"/>
                    </a:lnTo>
                    <a:lnTo>
                      <a:pt x="434" y="1218"/>
                    </a:lnTo>
                    <a:lnTo>
                      <a:pt x="438" y="1222"/>
                    </a:lnTo>
                    <a:lnTo>
                      <a:pt x="442" y="1226"/>
                    </a:lnTo>
                    <a:lnTo>
                      <a:pt x="446" y="1230"/>
                    </a:lnTo>
                    <a:lnTo>
                      <a:pt x="450" y="1228"/>
                    </a:lnTo>
                    <a:lnTo>
                      <a:pt x="452" y="1228"/>
                    </a:lnTo>
                    <a:lnTo>
                      <a:pt x="452" y="1228"/>
                    </a:lnTo>
                    <a:lnTo>
                      <a:pt x="520" y="1246"/>
                    </a:lnTo>
                    <a:lnTo>
                      <a:pt x="520" y="1246"/>
                    </a:lnTo>
                    <a:lnTo>
                      <a:pt x="516" y="1240"/>
                    </a:lnTo>
                    <a:lnTo>
                      <a:pt x="514" y="1232"/>
                    </a:lnTo>
                    <a:lnTo>
                      <a:pt x="512" y="1224"/>
                    </a:lnTo>
                    <a:lnTo>
                      <a:pt x="510" y="1222"/>
                    </a:lnTo>
                    <a:lnTo>
                      <a:pt x="506" y="1220"/>
                    </a:lnTo>
                    <a:lnTo>
                      <a:pt x="506" y="1220"/>
                    </a:lnTo>
                    <a:lnTo>
                      <a:pt x="504" y="1222"/>
                    </a:lnTo>
                    <a:lnTo>
                      <a:pt x="502" y="1224"/>
                    </a:lnTo>
                    <a:lnTo>
                      <a:pt x="500" y="1230"/>
                    </a:lnTo>
                    <a:lnTo>
                      <a:pt x="502" y="1236"/>
                    </a:lnTo>
                    <a:lnTo>
                      <a:pt x="504" y="1242"/>
                    </a:lnTo>
                    <a:lnTo>
                      <a:pt x="504" y="1242"/>
                    </a:lnTo>
                    <a:lnTo>
                      <a:pt x="512" y="1246"/>
                    </a:lnTo>
                    <a:lnTo>
                      <a:pt x="520" y="1246"/>
                    </a:lnTo>
                    <a:lnTo>
                      <a:pt x="520" y="1246"/>
                    </a:lnTo>
                    <a:lnTo>
                      <a:pt x="540" y="1256"/>
                    </a:lnTo>
                    <a:lnTo>
                      <a:pt x="540" y="1256"/>
                    </a:lnTo>
                    <a:lnTo>
                      <a:pt x="534" y="1250"/>
                    </a:lnTo>
                    <a:lnTo>
                      <a:pt x="528" y="1242"/>
                    </a:lnTo>
                    <a:lnTo>
                      <a:pt x="524" y="1234"/>
                    </a:lnTo>
                    <a:lnTo>
                      <a:pt x="518" y="1230"/>
                    </a:lnTo>
                    <a:lnTo>
                      <a:pt x="518" y="1230"/>
                    </a:lnTo>
                    <a:lnTo>
                      <a:pt x="526" y="1246"/>
                    </a:lnTo>
                    <a:lnTo>
                      <a:pt x="532" y="1254"/>
                    </a:lnTo>
                    <a:lnTo>
                      <a:pt x="536" y="1256"/>
                    </a:lnTo>
                    <a:lnTo>
                      <a:pt x="540" y="1256"/>
                    </a:lnTo>
                    <a:lnTo>
                      <a:pt x="540" y="1256"/>
                    </a:lnTo>
                    <a:lnTo>
                      <a:pt x="502" y="1344"/>
                    </a:lnTo>
                    <a:lnTo>
                      <a:pt x="502" y="1344"/>
                    </a:lnTo>
                    <a:lnTo>
                      <a:pt x="514" y="1352"/>
                    </a:lnTo>
                    <a:lnTo>
                      <a:pt x="520" y="1356"/>
                    </a:lnTo>
                    <a:lnTo>
                      <a:pt x="524" y="1358"/>
                    </a:lnTo>
                    <a:lnTo>
                      <a:pt x="524" y="1358"/>
                    </a:lnTo>
                    <a:lnTo>
                      <a:pt x="534" y="1352"/>
                    </a:lnTo>
                    <a:lnTo>
                      <a:pt x="546" y="1348"/>
                    </a:lnTo>
                    <a:lnTo>
                      <a:pt x="558" y="1346"/>
                    </a:lnTo>
                    <a:lnTo>
                      <a:pt x="572" y="1344"/>
                    </a:lnTo>
                    <a:lnTo>
                      <a:pt x="572" y="1344"/>
                    </a:lnTo>
                    <a:lnTo>
                      <a:pt x="566" y="1332"/>
                    </a:lnTo>
                    <a:lnTo>
                      <a:pt x="558" y="1318"/>
                    </a:lnTo>
                    <a:lnTo>
                      <a:pt x="546" y="1292"/>
                    </a:lnTo>
                    <a:lnTo>
                      <a:pt x="538" y="1280"/>
                    </a:lnTo>
                    <a:lnTo>
                      <a:pt x="528" y="1270"/>
                    </a:lnTo>
                    <a:lnTo>
                      <a:pt x="516" y="1262"/>
                    </a:lnTo>
                    <a:lnTo>
                      <a:pt x="500" y="1260"/>
                    </a:lnTo>
                    <a:lnTo>
                      <a:pt x="500" y="1260"/>
                    </a:lnTo>
                    <a:lnTo>
                      <a:pt x="486" y="1258"/>
                    </a:lnTo>
                    <a:lnTo>
                      <a:pt x="474" y="1256"/>
                    </a:lnTo>
                    <a:lnTo>
                      <a:pt x="474" y="1256"/>
                    </a:lnTo>
                    <a:lnTo>
                      <a:pt x="482" y="1256"/>
                    </a:lnTo>
                    <a:lnTo>
                      <a:pt x="490" y="1258"/>
                    </a:lnTo>
                    <a:lnTo>
                      <a:pt x="498" y="1258"/>
                    </a:lnTo>
                    <a:lnTo>
                      <a:pt x="504" y="1256"/>
                    </a:lnTo>
                    <a:lnTo>
                      <a:pt x="504" y="1256"/>
                    </a:lnTo>
                    <a:lnTo>
                      <a:pt x="494" y="1252"/>
                    </a:lnTo>
                    <a:lnTo>
                      <a:pt x="484" y="1246"/>
                    </a:lnTo>
                    <a:lnTo>
                      <a:pt x="466" y="1236"/>
                    </a:lnTo>
                    <a:lnTo>
                      <a:pt x="466" y="1236"/>
                    </a:lnTo>
                    <a:lnTo>
                      <a:pt x="466" y="1242"/>
                    </a:lnTo>
                    <a:lnTo>
                      <a:pt x="466" y="1246"/>
                    </a:lnTo>
                    <a:lnTo>
                      <a:pt x="466" y="1248"/>
                    </a:lnTo>
                    <a:lnTo>
                      <a:pt x="466" y="1248"/>
                    </a:lnTo>
                    <a:lnTo>
                      <a:pt x="466" y="1236"/>
                    </a:lnTo>
                    <a:lnTo>
                      <a:pt x="466" y="1236"/>
                    </a:lnTo>
                    <a:lnTo>
                      <a:pt x="460" y="1232"/>
                    </a:lnTo>
                    <a:lnTo>
                      <a:pt x="452" y="1230"/>
                    </a:lnTo>
                    <a:lnTo>
                      <a:pt x="444" y="1232"/>
                    </a:lnTo>
                    <a:lnTo>
                      <a:pt x="442" y="1234"/>
                    </a:lnTo>
                    <a:lnTo>
                      <a:pt x="440" y="1236"/>
                    </a:lnTo>
                    <a:lnTo>
                      <a:pt x="440" y="1236"/>
                    </a:lnTo>
                    <a:lnTo>
                      <a:pt x="444" y="1238"/>
                    </a:lnTo>
                    <a:lnTo>
                      <a:pt x="448" y="1238"/>
                    </a:lnTo>
                    <a:lnTo>
                      <a:pt x="458" y="1236"/>
                    </a:lnTo>
                    <a:lnTo>
                      <a:pt x="458" y="1236"/>
                    </a:lnTo>
                    <a:lnTo>
                      <a:pt x="456" y="1238"/>
                    </a:lnTo>
                    <a:lnTo>
                      <a:pt x="454" y="1240"/>
                    </a:lnTo>
                    <a:lnTo>
                      <a:pt x="454" y="1240"/>
                    </a:lnTo>
                    <a:lnTo>
                      <a:pt x="460" y="1242"/>
                    </a:lnTo>
                    <a:lnTo>
                      <a:pt x="464" y="1244"/>
                    </a:lnTo>
                    <a:lnTo>
                      <a:pt x="464" y="1244"/>
                    </a:lnTo>
                    <a:lnTo>
                      <a:pt x="464" y="1248"/>
                    </a:lnTo>
                    <a:lnTo>
                      <a:pt x="460" y="1250"/>
                    </a:lnTo>
                    <a:lnTo>
                      <a:pt x="458" y="1250"/>
                    </a:lnTo>
                    <a:lnTo>
                      <a:pt x="456" y="1254"/>
                    </a:lnTo>
                    <a:lnTo>
                      <a:pt x="456" y="1254"/>
                    </a:lnTo>
                    <a:lnTo>
                      <a:pt x="464" y="1254"/>
                    </a:lnTo>
                    <a:lnTo>
                      <a:pt x="470" y="1256"/>
                    </a:lnTo>
                    <a:lnTo>
                      <a:pt x="470" y="1256"/>
                    </a:lnTo>
                    <a:lnTo>
                      <a:pt x="464" y="1256"/>
                    </a:lnTo>
                    <a:lnTo>
                      <a:pt x="460" y="1256"/>
                    </a:lnTo>
                    <a:lnTo>
                      <a:pt x="456" y="1254"/>
                    </a:lnTo>
                    <a:lnTo>
                      <a:pt x="450" y="1254"/>
                    </a:lnTo>
                    <a:lnTo>
                      <a:pt x="450" y="1254"/>
                    </a:lnTo>
                    <a:lnTo>
                      <a:pt x="462" y="1280"/>
                    </a:lnTo>
                    <a:lnTo>
                      <a:pt x="472" y="1310"/>
                    </a:lnTo>
                    <a:lnTo>
                      <a:pt x="472" y="1310"/>
                    </a:lnTo>
                    <a:lnTo>
                      <a:pt x="474" y="1308"/>
                    </a:lnTo>
                    <a:lnTo>
                      <a:pt x="476" y="1306"/>
                    </a:lnTo>
                    <a:lnTo>
                      <a:pt x="476" y="1304"/>
                    </a:lnTo>
                    <a:lnTo>
                      <a:pt x="478" y="1306"/>
                    </a:lnTo>
                    <a:lnTo>
                      <a:pt x="478" y="1306"/>
                    </a:lnTo>
                    <a:lnTo>
                      <a:pt x="474" y="1314"/>
                    </a:lnTo>
                    <a:lnTo>
                      <a:pt x="474" y="1320"/>
                    </a:lnTo>
                    <a:lnTo>
                      <a:pt x="476" y="1324"/>
                    </a:lnTo>
                    <a:lnTo>
                      <a:pt x="480" y="1330"/>
                    </a:lnTo>
                    <a:lnTo>
                      <a:pt x="492" y="1336"/>
                    </a:lnTo>
                    <a:lnTo>
                      <a:pt x="502" y="1344"/>
                    </a:lnTo>
                    <a:lnTo>
                      <a:pt x="502" y="1344"/>
                    </a:lnTo>
                    <a:lnTo>
                      <a:pt x="758" y="1256"/>
                    </a:lnTo>
                    <a:lnTo>
                      <a:pt x="758" y="1256"/>
                    </a:lnTo>
                    <a:lnTo>
                      <a:pt x="762" y="1258"/>
                    </a:lnTo>
                    <a:lnTo>
                      <a:pt x="764" y="1258"/>
                    </a:lnTo>
                    <a:lnTo>
                      <a:pt x="766" y="1258"/>
                    </a:lnTo>
                    <a:lnTo>
                      <a:pt x="766" y="1258"/>
                    </a:lnTo>
                    <a:lnTo>
                      <a:pt x="762" y="1250"/>
                    </a:lnTo>
                    <a:lnTo>
                      <a:pt x="760" y="1248"/>
                    </a:lnTo>
                    <a:lnTo>
                      <a:pt x="758" y="1246"/>
                    </a:lnTo>
                    <a:lnTo>
                      <a:pt x="758" y="1246"/>
                    </a:lnTo>
                    <a:lnTo>
                      <a:pt x="756" y="1248"/>
                    </a:lnTo>
                    <a:lnTo>
                      <a:pt x="756" y="1250"/>
                    </a:lnTo>
                    <a:lnTo>
                      <a:pt x="758" y="1254"/>
                    </a:lnTo>
                    <a:lnTo>
                      <a:pt x="758" y="1256"/>
                    </a:lnTo>
                    <a:lnTo>
                      <a:pt x="758" y="1256"/>
                    </a:lnTo>
                    <a:lnTo>
                      <a:pt x="826" y="1362"/>
                    </a:lnTo>
                    <a:lnTo>
                      <a:pt x="826" y="1362"/>
                    </a:lnTo>
                    <a:lnTo>
                      <a:pt x="836" y="1366"/>
                    </a:lnTo>
                    <a:lnTo>
                      <a:pt x="844" y="1366"/>
                    </a:lnTo>
                    <a:lnTo>
                      <a:pt x="860" y="1368"/>
                    </a:lnTo>
                    <a:lnTo>
                      <a:pt x="860" y="1368"/>
                    </a:lnTo>
                    <a:lnTo>
                      <a:pt x="840" y="1320"/>
                    </a:lnTo>
                    <a:lnTo>
                      <a:pt x="840" y="1320"/>
                    </a:lnTo>
                    <a:lnTo>
                      <a:pt x="830" y="1322"/>
                    </a:lnTo>
                    <a:lnTo>
                      <a:pt x="828" y="1322"/>
                    </a:lnTo>
                    <a:lnTo>
                      <a:pt x="824" y="1320"/>
                    </a:lnTo>
                    <a:lnTo>
                      <a:pt x="824" y="1320"/>
                    </a:lnTo>
                    <a:lnTo>
                      <a:pt x="828" y="1316"/>
                    </a:lnTo>
                    <a:lnTo>
                      <a:pt x="834" y="1312"/>
                    </a:lnTo>
                    <a:lnTo>
                      <a:pt x="834" y="1312"/>
                    </a:lnTo>
                    <a:lnTo>
                      <a:pt x="826" y="1298"/>
                    </a:lnTo>
                    <a:lnTo>
                      <a:pt x="816" y="1286"/>
                    </a:lnTo>
                    <a:lnTo>
                      <a:pt x="816" y="1286"/>
                    </a:lnTo>
                    <a:lnTo>
                      <a:pt x="812" y="1288"/>
                    </a:lnTo>
                    <a:lnTo>
                      <a:pt x="810" y="1292"/>
                    </a:lnTo>
                    <a:lnTo>
                      <a:pt x="808" y="1294"/>
                    </a:lnTo>
                    <a:lnTo>
                      <a:pt x="802" y="1294"/>
                    </a:lnTo>
                    <a:lnTo>
                      <a:pt x="802" y="1294"/>
                    </a:lnTo>
                    <a:lnTo>
                      <a:pt x="802" y="1290"/>
                    </a:lnTo>
                    <a:lnTo>
                      <a:pt x="804" y="1284"/>
                    </a:lnTo>
                    <a:lnTo>
                      <a:pt x="808" y="1276"/>
                    </a:lnTo>
                    <a:lnTo>
                      <a:pt x="808" y="1276"/>
                    </a:lnTo>
                    <a:lnTo>
                      <a:pt x="800" y="1268"/>
                    </a:lnTo>
                    <a:lnTo>
                      <a:pt x="794" y="1262"/>
                    </a:lnTo>
                    <a:lnTo>
                      <a:pt x="790" y="1260"/>
                    </a:lnTo>
                    <a:lnTo>
                      <a:pt x="790" y="1260"/>
                    </a:lnTo>
                    <a:lnTo>
                      <a:pt x="784" y="1264"/>
                    </a:lnTo>
                    <a:lnTo>
                      <a:pt x="782" y="1270"/>
                    </a:lnTo>
                    <a:lnTo>
                      <a:pt x="782" y="1276"/>
                    </a:lnTo>
                    <a:lnTo>
                      <a:pt x="784" y="1284"/>
                    </a:lnTo>
                    <a:lnTo>
                      <a:pt x="788" y="1290"/>
                    </a:lnTo>
                    <a:lnTo>
                      <a:pt x="794" y="1294"/>
                    </a:lnTo>
                    <a:lnTo>
                      <a:pt x="800" y="1296"/>
                    </a:lnTo>
                    <a:lnTo>
                      <a:pt x="804" y="1296"/>
                    </a:lnTo>
                    <a:lnTo>
                      <a:pt x="804" y="1296"/>
                    </a:lnTo>
                    <a:lnTo>
                      <a:pt x="804" y="1298"/>
                    </a:lnTo>
                    <a:lnTo>
                      <a:pt x="806" y="1298"/>
                    </a:lnTo>
                    <a:lnTo>
                      <a:pt x="806" y="1298"/>
                    </a:lnTo>
                    <a:lnTo>
                      <a:pt x="808" y="1298"/>
                    </a:lnTo>
                    <a:lnTo>
                      <a:pt x="810" y="1296"/>
                    </a:lnTo>
                    <a:lnTo>
                      <a:pt x="812" y="1294"/>
                    </a:lnTo>
                    <a:lnTo>
                      <a:pt x="816" y="1294"/>
                    </a:lnTo>
                    <a:lnTo>
                      <a:pt x="816" y="1294"/>
                    </a:lnTo>
                    <a:lnTo>
                      <a:pt x="812" y="1296"/>
                    </a:lnTo>
                    <a:lnTo>
                      <a:pt x="808" y="1300"/>
                    </a:lnTo>
                    <a:lnTo>
                      <a:pt x="800" y="1300"/>
                    </a:lnTo>
                    <a:lnTo>
                      <a:pt x="792" y="1296"/>
                    </a:lnTo>
                    <a:lnTo>
                      <a:pt x="786" y="1292"/>
                    </a:lnTo>
                    <a:lnTo>
                      <a:pt x="786" y="1292"/>
                    </a:lnTo>
                    <a:lnTo>
                      <a:pt x="790" y="1302"/>
                    </a:lnTo>
                    <a:lnTo>
                      <a:pt x="792" y="1314"/>
                    </a:lnTo>
                    <a:lnTo>
                      <a:pt x="796" y="1324"/>
                    </a:lnTo>
                    <a:lnTo>
                      <a:pt x="798" y="1330"/>
                    </a:lnTo>
                    <a:lnTo>
                      <a:pt x="802" y="1332"/>
                    </a:lnTo>
                    <a:lnTo>
                      <a:pt x="802" y="1332"/>
                    </a:lnTo>
                    <a:lnTo>
                      <a:pt x="800" y="1332"/>
                    </a:lnTo>
                    <a:lnTo>
                      <a:pt x="800" y="1334"/>
                    </a:lnTo>
                    <a:lnTo>
                      <a:pt x="802" y="1336"/>
                    </a:lnTo>
                    <a:lnTo>
                      <a:pt x="800" y="1338"/>
                    </a:lnTo>
                    <a:lnTo>
                      <a:pt x="800" y="1338"/>
                    </a:lnTo>
                    <a:lnTo>
                      <a:pt x="798" y="1332"/>
                    </a:lnTo>
                    <a:lnTo>
                      <a:pt x="794" y="1330"/>
                    </a:lnTo>
                    <a:lnTo>
                      <a:pt x="784" y="1322"/>
                    </a:lnTo>
                    <a:lnTo>
                      <a:pt x="784" y="1322"/>
                    </a:lnTo>
                    <a:lnTo>
                      <a:pt x="788" y="1340"/>
                    </a:lnTo>
                    <a:lnTo>
                      <a:pt x="792" y="1350"/>
                    </a:lnTo>
                    <a:lnTo>
                      <a:pt x="798" y="1356"/>
                    </a:lnTo>
                    <a:lnTo>
                      <a:pt x="798" y="1356"/>
                    </a:lnTo>
                    <a:lnTo>
                      <a:pt x="800" y="1352"/>
                    </a:lnTo>
                    <a:lnTo>
                      <a:pt x="804" y="1352"/>
                    </a:lnTo>
                    <a:lnTo>
                      <a:pt x="808" y="1352"/>
                    </a:lnTo>
                    <a:lnTo>
                      <a:pt x="812" y="1352"/>
                    </a:lnTo>
                    <a:lnTo>
                      <a:pt x="818" y="1358"/>
                    </a:lnTo>
                    <a:lnTo>
                      <a:pt x="826" y="1362"/>
                    </a:lnTo>
                    <a:lnTo>
                      <a:pt x="826" y="1362"/>
                    </a:lnTo>
                    <a:lnTo>
                      <a:pt x="794" y="1328"/>
                    </a:lnTo>
                    <a:lnTo>
                      <a:pt x="794" y="1328"/>
                    </a:lnTo>
                    <a:lnTo>
                      <a:pt x="784" y="1294"/>
                    </a:lnTo>
                    <a:lnTo>
                      <a:pt x="778" y="1280"/>
                    </a:lnTo>
                    <a:lnTo>
                      <a:pt x="774" y="1274"/>
                    </a:lnTo>
                    <a:lnTo>
                      <a:pt x="768" y="1268"/>
                    </a:lnTo>
                    <a:lnTo>
                      <a:pt x="768" y="1268"/>
                    </a:lnTo>
                    <a:lnTo>
                      <a:pt x="770" y="1268"/>
                    </a:lnTo>
                    <a:lnTo>
                      <a:pt x="768" y="1266"/>
                    </a:lnTo>
                    <a:lnTo>
                      <a:pt x="768" y="1262"/>
                    </a:lnTo>
                    <a:lnTo>
                      <a:pt x="768" y="1262"/>
                    </a:lnTo>
                    <a:lnTo>
                      <a:pt x="764" y="1262"/>
                    </a:lnTo>
                    <a:lnTo>
                      <a:pt x="762" y="1264"/>
                    </a:lnTo>
                    <a:lnTo>
                      <a:pt x="762" y="1264"/>
                    </a:lnTo>
                    <a:lnTo>
                      <a:pt x="766" y="1268"/>
                    </a:lnTo>
                    <a:lnTo>
                      <a:pt x="766" y="1268"/>
                    </a:lnTo>
                    <a:lnTo>
                      <a:pt x="764" y="1268"/>
                    </a:lnTo>
                    <a:lnTo>
                      <a:pt x="762" y="1270"/>
                    </a:lnTo>
                    <a:lnTo>
                      <a:pt x="762" y="1270"/>
                    </a:lnTo>
                    <a:lnTo>
                      <a:pt x="768" y="1282"/>
                    </a:lnTo>
                    <a:lnTo>
                      <a:pt x="772" y="1294"/>
                    </a:lnTo>
                    <a:lnTo>
                      <a:pt x="776" y="1308"/>
                    </a:lnTo>
                    <a:lnTo>
                      <a:pt x="782" y="1320"/>
                    </a:lnTo>
                    <a:lnTo>
                      <a:pt x="782" y="1320"/>
                    </a:lnTo>
                    <a:lnTo>
                      <a:pt x="782" y="1318"/>
                    </a:lnTo>
                    <a:lnTo>
                      <a:pt x="782" y="1316"/>
                    </a:lnTo>
                    <a:lnTo>
                      <a:pt x="782" y="1316"/>
                    </a:lnTo>
                    <a:lnTo>
                      <a:pt x="786" y="1324"/>
                    </a:lnTo>
                    <a:lnTo>
                      <a:pt x="790" y="1326"/>
                    </a:lnTo>
                    <a:lnTo>
                      <a:pt x="794" y="1328"/>
                    </a:lnTo>
                    <a:lnTo>
                      <a:pt x="794" y="1328"/>
                    </a:lnTo>
                    <a:lnTo>
                      <a:pt x="1002" y="1442"/>
                    </a:lnTo>
                    <a:lnTo>
                      <a:pt x="1002" y="1442"/>
                    </a:lnTo>
                    <a:lnTo>
                      <a:pt x="1004" y="1436"/>
                    </a:lnTo>
                    <a:lnTo>
                      <a:pt x="1006" y="1430"/>
                    </a:lnTo>
                    <a:lnTo>
                      <a:pt x="1014" y="1422"/>
                    </a:lnTo>
                    <a:lnTo>
                      <a:pt x="1020" y="1412"/>
                    </a:lnTo>
                    <a:lnTo>
                      <a:pt x="1022" y="1408"/>
                    </a:lnTo>
                    <a:lnTo>
                      <a:pt x="1022" y="1400"/>
                    </a:lnTo>
                    <a:lnTo>
                      <a:pt x="1022" y="1400"/>
                    </a:lnTo>
                    <a:lnTo>
                      <a:pt x="1022" y="1388"/>
                    </a:lnTo>
                    <a:lnTo>
                      <a:pt x="1018" y="1374"/>
                    </a:lnTo>
                    <a:lnTo>
                      <a:pt x="1018" y="1374"/>
                    </a:lnTo>
                    <a:lnTo>
                      <a:pt x="1016" y="1360"/>
                    </a:lnTo>
                    <a:lnTo>
                      <a:pt x="1012" y="1348"/>
                    </a:lnTo>
                    <a:lnTo>
                      <a:pt x="1012" y="1348"/>
                    </a:lnTo>
                    <a:lnTo>
                      <a:pt x="1008" y="1344"/>
                    </a:lnTo>
                    <a:lnTo>
                      <a:pt x="1004" y="1338"/>
                    </a:lnTo>
                    <a:lnTo>
                      <a:pt x="1004" y="1338"/>
                    </a:lnTo>
                    <a:lnTo>
                      <a:pt x="996" y="1320"/>
                    </a:lnTo>
                    <a:lnTo>
                      <a:pt x="990" y="1304"/>
                    </a:lnTo>
                    <a:lnTo>
                      <a:pt x="980" y="1268"/>
                    </a:lnTo>
                    <a:lnTo>
                      <a:pt x="980" y="1268"/>
                    </a:lnTo>
                    <a:lnTo>
                      <a:pt x="982" y="1290"/>
                    </a:lnTo>
                    <a:lnTo>
                      <a:pt x="984" y="1314"/>
                    </a:lnTo>
                    <a:lnTo>
                      <a:pt x="984" y="1362"/>
                    </a:lnTo>
                    <a:lnTo>
                      <a:pt x="984" y="1384"/>
                    </a:lnTo>
                    <a:lnTo>
                      <a:pt x="988" y="1406"/>
                    </a:lnTo>
                    <a:lnTo>
                      <a:pt x="994" y="1426"/>
                    </a:lnTo>
                    <a:lnTo>
                      <a:pt x="998" y="1434"/>
                    </a:lnTo>
                    <a:lnTo>
                      <a:pt x="1002" y="1442"/>
                    </a:lnTo>
                    <a:lnTo>
                      <a:pt x="1002" y="1442"/>
                    </a:lnTo>
                    <a:lnTo>
                      <a:pt x="1510" y="1280"/>
                    </a:lnTo>
                    <a:lnTo>
                      <a:pt x="1510" y="1280"/>
                    </a:lnTo>
                    <a:lnTo>
                      <a:pt x="1512" y="1280"/>
                    </a:lnTo>
                    <a:lnTo>
                      <a:pt x="1514" y="1280"/>
                    </a:lnTo>
                    <a:lnTo>
                      <a:pt x="1516" y="1276"/>
                    </a:lnTo>
                    <a:lnTo>
                      <a:pt x="1518" y="1270"/>
                    </a:lnTo>
                    <a:lnTo>
                      <a:pt x="1516" y="1270"/>
                    </a:lnTo>
                    <a:lnTo>
                      <a:pt x="1514" y="1268"/>
                    </a:lnTo>
                    <a:lnTo>
                      <a:pt x="1514" y="1268"/>
                    </a:lnTo>
                    <a:lnTo>
                      <a:pt x="1514" y="1272"/>
                    </a:lnTo>
                    <a:lnTo>
                      <a:pt x="1512" y="1274"/>
                    </a:lnTo>
                    <a:lnTo>
                      <a:pt x="1510" y="1276"/>
                    </a:lnTo>
                    <a:lnTo>
                      <a:pt x="1510" y="1280"/>
                    </a:lnTo>
                    <a:lnTo>
                      <a:pt x="1510" y="1280"/>
                    </a:lnTo>
                    <a:lnTo>
                      <a:pt x="574" y="1324"/>
                    </a:lnTo>
                    <a:lnTo>
                      <a:pt x="574" y="1324"/>
                    </a:lnTo>
                    <a:lnTo>
                      <a:pt x="574" y="1316"/>
                    </a:lnTo>
                    <a:lnTo>
                      <a:pt x="576" y="1310"/>
                    </a:lnTo>
                    <a:lnTo>
                      <a:pt x="578" y="1302"/>
                    </a:lnTo>
                    <a:lnTo>
                      <a:pt x="578" y="1294"/>
                    </a:lnTo>
                    <a:lnTo>
                      <a:pt x="578" y="1294"/>
                    </a:lnTo>
                    <a:lnTo>
                      <a:pt x="562" y="1286"/>
                    </a:lnTo>
                    <a:lnTo>
                      <a:pt x="554" y="1282"/>
                    </a:lnTo>
                    <a:lnTo>
                      <a:pt x="546" y="1280"/>
                    </a:lnTo>
                    <a:lnTo>
                      <a:pt x="546" y="1280"/>
                    </a:lnTo>
                    <a:lnTo>
                      <a:pt x="554" y="1292"/>
                    </a:lnTo>
                    <a:lnTo>
                      <a:pt x="560" y="1302"/>
                    </a:lnTo>
                    <a:lnTo>
                      <a:pt x="574" y="1324"/>
                    </a:lnTo>
                    <a:lnTo>
                      <a:pt x="574" y="1324"/>
                    </a:lnTo>
                    <a:lnTo>
                      <a:pt x="1472" y="1290"/>
                    </a:lnTo>
                    <a:lnTo>
                      <a:pt x="1472" y="1290"/>
                    </a:lnTo>
                    <a:lnTo>
                      <a:pt x="1478" y="1290"/>
                    </a:lnTo>
                    <a:lnTo>
                      <a:pt x="1482" y="1288"/>
                    </a:lnTo>
                    <a:lnTo>
                      <a:pt x="1486" y="1284"/>
                    </a:lnTo>
                    <a:lnTo>
                      <a:pt x="1488" y="1280"/>
                    </a:lnTo>
                    <a:lnTo>
                      <a:pt x="1488" y="1280"/>
                    </a:lnTo>
                    <a:lnTo>
                      <a:pt x="1478" y="1284"/>
                    </a:lnTo>
                    <a:lnTo>
                      <a:pt x="1474" y="1286"/>
                    </a:lnTo>
                    <a:lnTo>
                      <a:pt x="1472" y="1290"/>
                    </a:lnTo>
                    <a:lnTo>
                      <a:pt x="1472" y="1290"/>
                    </a:lnTo>
                    <a:lnTo>
                      <a:pt x="1492" y="1294"/>
                    </a:lnTo>
                    <a:lnTo>
                      <a:pt x="1492" y="1294"/>
                    </a:lnTo>
                    <a:lnTo>
                      <a:pt x="1498" y="1294"/>
                    </a:lnTo>
                    <a:lnTo>
                      <a:pt x="1498" y="1294"/>
                    </a:lnTo>
                    <a:lnTo>
                      <a:pt x="1498" y="1292"/>
                    </a:lnTo>
                    <a:lnTo>
                      <a:pt x="1500" y="1288"/>
                    </a:lnTo>
                    <a:lnTo>
                      <a:pt x="1502" y="1286"/>
                    </a:lnTo>
                    <a:lnTo>
                      <a:pt x="1500" y="1284"/>
                    </a:lnTo>
                    <a:lnTo>
                      <a:pt x="1500" y="1284"/>
                    </a:lnTo>
                    <a:lnTo>
                      <a:pt x="1496" y="1290"/>
                    </a:lnTo>
                    <a:lnTo>
                      <a:pt x="1492" y="1294"/>
                    </a:lnTo>
                    <a:lnTo>
                      <a:pt x="1492" y="1294"/>
                    </a:lnTo>
                    <a:lnTo>
                      <a:pt x="1552" y="1308"/>
                    </a:lnTo>
                    <a:lnTo>
                      <a:pt x="1552" y="1308"/>
                    </a:lnTo>
                    <a:lnTo>
                      <a:pt x="1546" y="1308"/>
                    </a:lnTo>
                    <a:lnTo>
                      <a:pt x="1538" y="1308"/>
                    </a:lnTo>
                    <a:lnTo>
                      <a:pt x="1526" y="1304"/>
                    </a:lnTo>
                    <a:lnTo>
                      <a:pt x="1514" y="1298"/>
                    </a:lnTo>
                    <a:lnTo>
                      <a:pt x="1506" y="1290"/>
                    </a:lnTo>
                    <a:lnTo>
                      <a:pt x="1506" y="1290"/>
                    </a:lnTo>
                    <a:lnTo>
                      <a:pt x="1496" y="1310"/>
                    </a:lnTo>
                    <a:lnTo>
                      <a:pt x="1492" y="1320"/>
                    </a:lnTo>
                    <a:lnTo>
                      <a:pt x="1488" y="1330"/>
                    </a:lnTo>
                    <a:lnTo>
                      <a:pt x="1488" y="1330"/>
                    </a:lnTo>
                    <a:lnTo>
                      <a:pt x="1502" y="1318"/>
                    </a:lnTo>
                    <a:lnTo>
                      <a:pt x="1510" y="1310"/>
                    </a:lnTo>
                    <a:lnTo>
                      <a:pt x="1516" y="1304"/>
                    </a:lnTo>
                    <a:lnTo>
                      <a:pt x="1516" y="1304"/>
                    </a:lnTo>
                    <a:lnTo>
                      <a:pt x="1508" y="1314"/>
                    </a:lnTo>
                    <a:lnTo>
                      <a:pt x="1500" y="1324"/>
                    </a:lnTo>
                    <a:lnTo>
                      <a:pt x="1500" y="1324"/>
                    </a:lnTo>
                    <a:lnTo>
                      <a:pt x="1506" y="1324"/>
                    </a:lnTo>
                    <a:lnTo>
                      <a:pt x="1512" y="1324"/>
                    </a:lnTo>
                    <a:lnTo>
                      <a:pt x="1514" y="1326"/>
                    </a:lnTo>
                    <a:lnTo>
                      <a:pt x="1516" y="1330"/>
                    </a:lnTo>
                    <a:lnTo>
                      <a:pt x="1516" y="1330"/>
                    </a:lnTo>
                    <a:lnTo>
                      <a:pt x="1528" y="1328"/>
                    </a:lnTo>
                    <a:lnTo>
                      <a:pt x="1538" y="1322"/>
                    </a:lnTo>
                    <a:lnTo>
                      <a:pt x="1546" y="1316"/>
                    </a:lnTo>
                    <a:lnTo>
                      <a:pt x="1552" y="1308"/>
                    </a:lnTo>
                    <a:lnTo>
                      <a:pt x="1552" y="1308"/>
                    </a:lnTo>
                    <a:lnTo>
                      <a:pt x="1512" y="1336"/>
                    </a:lnTo>
                    <a:lnTo>
                      <a:pt x="1512" y="1336"/>
                    </a:lnTo>
                    <a:lnTo>
                      <a:pt x="1500" y="1336"/>
                    </a:lnTo>
                    <a:lnTo>
                      <a:pt x="1486" y="1338"/>
                    </a:lnTo>
                    <a:lnTo>
                      <a:pt x="1486" y="1338"/>
                    </a:lnTo>
                    <a:lnTo>
                      <a:pt x="1486" y="1340"/>
                    </a:lnTo>
                    <a:lnTo>
                      <a:pt x="1488" y="1340"/>
                    </a:lnTo>
                    <a:lnTo>
                      <a:pt x="1492" y="1342"/>
                    </a:lnTo>
                    <a:lnTo>
                      <a:pt x="1492" y="1342"/>
                    </a:lnTo>
                    <a:lnTo>
                      <a:pt x="1504" y="1338"/>
                    </a:lnTo>
                    <a:lnTo>
                      <a:pt x="1516" y="1338"/>
                    </a:lnTo>
                    <a:lnTo>
                      <a:pt x="1526" y="1334"/>
                    </a:lnTo>
                    <a:lnTo>
                      <a:pt x="1532" y="1332"/>
                    </a:lnTo>
                    <a:lnTo>
                      <a:pt x="1536" y="1328"/>
                    </a:lnTo>
                    <a:lnTo>
                      <a:pt x="1536" y="1328"/>
                    </a:lnTo>
                    <a:lnTo>
                      <a:pt x="1518" y="1330"/>
                    </a:lnTo>
                    <a:lnTo>
                      <a:pt x="1512" y="1332"/>
                    </a:lnTo>
                    <a:lnTo>
                      <a:pt x="1510" y="1334"/>
                    </a:lnTo>
                    <a:lnTo>
                      <a:pt x="1512" y="1336"/>
                    </a:lnTo>
                    <a:lnTo>
                      <a:pt x="1512" y="1336"/>
                    </a:lnTo>
                    <a:lnTo>
                      <a:pt x="584" y="1342"/>
                    </a:lnTo>
                    <a:lnTo>
                      <a:pt x="584" y="1342"/>
                    </a:lnTo>
                    <a:lnTo>
                      <a:pt x="612" y="1334"/>
                    </a:lnTo>
                    <a:lnTo>
                      <a:pt x="638" y="1324"/>
                    </a:lnTo>
                    <a:lnTo>
                      <a:pt x="638" y="1324"/>
                    </a:lnTo>
                    <a:lnTo>
                      <a:pt x="584" y="1298"/>
                    </a:lnTo>
                    <a:lnTo>
                      <a:pt x="584" y="1298"/>
                    </a:lnTo>
                    <a:lnTo>
                      <a:pt x="584" y="1320"/>
                    </a:lnTo>
                    <a:lnTo>
                      <a:pt x="582" y="1330"/>
                    </a:lnTo>
                    <a:lnTo>
                      <a:pt x="584" y="1342"/>
                    </a:lnTo>
                    <a:lnTo>
                      <a:pt x="584" y="1342"/>
                    </a:lnTo>
                    <a:lnTo>
                      <a:pt x="1468" y="1328"/>
                    </a:lnTo>
                    <a:lnTo>
                      <a:pt x="1468" y="1328"/>
                    </a:lnTo>
                    <a:lnTo>
                      <a:pt x="1472" y="1328"/>
                    </a:lnTo>
                    <a:lnTo>
                      <a:pt x="1474" y="1332"/>
                    </a:lnTo>
                    <a:lnTo>
                      <a:pt x="1480" y="1336"/>
                    </a:lnTo>
                    <a:lnTo>
                      <a:pt x="1480" y="1336"/>
                    </a:lnTo>
                    <a:lnTo>
                      <a:pt x="1486" y="1324"/>
                    </a:lnTo>
                    <a:lnTo>
                      <a:pt x="1486" y="1324"/>
                    </a:lnTo>
                    <a:lnTo>
                      <a:pt x="1486" y="1320"/>
                    </a:lnTo>
                    <a:lnTo>
                      <a:pt x="1484" y="1320"/>
                    </a:lnTo>
                    <a:lnTo>
                      <a:pt x="1482" y="1318"/>
                    </a:lnTo>
                    <a:lnTo>
                      <a:pt x="1482" y="1314"/>
                    </a:lnTo>
                    <a:lnTo>
                      <a:pt x="1482" y="1314"/>
                    </a:lnTo>
                    <a:lnTo>
                      <a:pt x="1474" y="1320"/>
                    </a:lnTo>
                    <a:lnTo>
                      <a:pt x="1468" y="1328"/>
                    </a:lnTo>
                    <a:lnTo>
                      <a:pt x="1468" y="1328"/>
                    </a:lnTo>
                    <a:lnTo>
                      <a:pt x="1486" y="1320"/>
                    </a:lnTo>
                    <a:lnTo>
                      <a:pt x="1486" y="1320"/>
                    </a:lnTo>
                    <a:lnTo>
                      <a:pt x="1494" y="1310"/>
                    </a:lnTo>
                    <a:lnTo>
                      <a:pt x="1496" y="1304"/>
                    </a:lnTo>
                    <a:lnTo>
                      <a:pt x="1496" y="1298"/>
                    </a:lnTo>
                    <a:lnTo>
                      <a:pt x="1496" y="1298"/>
                    </a:lnTo>
                    <a:lnTo>
                      <a:pt x="1488" y="1306"/>
                    </a:lnTo>
                    <a:lnTo>
                      <a:pt x="1484" y="1310"/>
                    </a:lnTo>
                    <a:lnTo>
                      <a:pt x="1482" y="1314"/>
                    </a:lnTo>
                    <a:lnTo>
                      <a:pt x="1482" y="1314"/>
                    </a:lnTo>
                    <a:lnTo>
                      <a:pt x="1484" y="1318"/>
                    </a:lnTo>
                    <a:lnTo>
                      <a:pt x="1484" y="1318"/>
                    </a:lnTo>
                    <a:lnTo>
                      <a:pt x="1486" y="1320"/>
                    </a:lnTo>
                    <a:lnTo>
                      <a:pt x="1486" y="1320"/>
                    </a:lnTo>
                    <a:lnTo>
                      <a:pt x="1330" y="1514"/>
                    </a:lnTo>
                    <a:lnTo>
                      <a:pt x="1330" y="1514"/>
                    </a:lnTo>
                    <a:lnTo>
                      <a:pt x="1352" y="1500"/>
                    </a:lnTo>
                    <a:lnTo>
                      <a:pt x="1362" y="1492"/>
                    </a:lnTo>
                    <a:lnTo>
                      <a:pt x="1372" y="1482"/>
                    </a:lnTo>
                    <a:lnTo>
                      <a:pt x="1372" y="1482"/>
                    </a:lnTo>
                    <a:lnTo>
                      <a:pt x="1378" y="1482"/>
                    </a:lnTo>
                    <a:lnTo>
                      <a:pt x="1380" y="1482"/>
                    </a:lnTo>
                    <a:lnTo>
                      <a:pt x="1380" y="1480"/>
                    </a:lnTo>
                    <a:lnTo>
                      <a:pt x="1380" y="1480"/>
                    </a:lnTo>
                    <a:lnTo>
                      <a:pt x="1374" y="1480"/>
                    </a:lnTo>
                    <a:lnTo>
                      <a:pt x="1368" y="1478"/>
                    </a:lnTo>
                    <a:lnTo>
                      <a:pt x="1366" y="1476"/>
                    </a:lnTo>
                    <a:lnTo>
                      <a:pt x="1364" y="1472"/>
                    </a:lnTo>
                    <a:lnTo>
                      <a:pt x="1364" y="1472"/>
                    </a:lnTo>
                    <a:lnTo>
                      <a:pt x="1364" y="1468"/>
                    </a:lnTo>
                    <a:lnTo>
                      <a:pt x="1366" y="1466"/>
                    </a:lnTo>
                    <a:lnTo>
                      <a:pt x="1368" y="1462"/>
                    </a:lnTo>
                    <a:lnTo>
                      <a:pt x="1368" y="1458"/>
                    </a:lnTo>
                    <a:lnTo>
                      <a:pt x="1368" y="1458"/>
                    </a:lnTo>
                    <a:lnTo>
                      <a:pt x="1366" y="1456"/>
                    </a:lnTo>
                    <a:lnTo>
                      <a:pt x="1364" y="1454"/>
                    </a:lnTo>
                    <a:lnTo>
                      <a:pt x="1362" y="1450"/>
                    </a:lnTo>
                    <a:lnTo>
                      <a:pt x="1362" y="1448"/>
                    </a:lnTo>
                    <a:lnTo>
                      <a:pt x="1362" y="1448"/>
                    </a:lnTo>
                    <a:lnTo>
                      <a:pt x="1356" y="1448"/>
                    </a:lnTo>
                    <a:lnTo>
                      <a:pt x="1350" y="1448"/>
                    </a:lnTo>
                    <a:lnTo>
                      <a:pt x="1346" y="1444"/>
                    </a:lnTo>
                    <a:lnTo>
                      <a:pt x="1346" y="1440"/>
                    </a:lnTo>
                    <a:lnTo>
                      <a:pt x="1346" y="1440"/>
                    </a:lnTo>
                    <a:lnTo>
                      <a:pt x="1346" y="1438"/>
                    </a:lnTo>
                    <a:lnTo>
                      <a:pt x="1350" y="1436"/>
                    </a:lnTo>
                    <a:lnTo>
                      <a:pt x="1356" y="1434"/>
                    </a:lnTo>
                    <a:lnTo>
                      <a:pt x="1356" y="1434"/>
                    </a:lnTo>
                    <a:lnTo>
                      <a:pt x="1346" y="1406"/>
                    </a:lnTo>
                    <a:lnTo>
                      <a:pt x="1334" y="1382"/>
                    </a:lnTo>
                    <a:lnTo>
                      <a:pt x="1308" y="1336"/>
                    </a:lnTo>
                    <a:lnTo>
                      <a:pt x="1308" y="1336"/>
                    </a:lnTo>
                    <a:lnTo>
                      <a:pt x="1298" y="1332"/>
                    </a:lnTo>
                    <a:lnTo>
                      <a:pt x="1288" y="1332"/>
                    </a:lnTo>
                    <a:lnTo>
                      <a:pt x="1266" y="1332"/>
                    </a:lnTo>
                    <a:lnTo>
                      <a:pt x="1246" y="1334"/>
                    </a:lnTo>
                    <a:lnTo>
                      <a:pt x="1226" y="1334"/>
                    </a:lnTo>
                    <a:lnTo>
                      <a:pt x="1226" y="1334"/>
                    </a:lnTo>
                    <a:lnTo>
                      <a:pt x="1198" y="1330"/>
                    </a:lnTo>
                    <a:lnTo>
                      <a:pt x="1170" y="1326"/>
                    </a:lnTo>
                    <a:lnTo>
                      <a:pt x="1118" y="1318"/>
                    </a:lnTo>
                    <a:lnTo>
                      <a:pt x="1118" y="1318"/>
                    </a:lnTo>
                    <a:lnTo>
                      <a:pt x="1104" y="1332"/>
                    </a:lnTo>
                    <a:lnTo>
                      <a:pt x="1094" y="1348"/>
                    </a:lnTo>
                    <a:lnTo>
                      <a:pt x="1084" y="1364"/>
                    </a:lnTo>
                    <a:lnTo>
                      <a:pt x="1074" y="1384"/>
                    </a:lnTo>
                    <a:lnTo>
                      <a:pt x="1060" y="1422"/>
                    </a:lnTo>
                    <a:lnTo>
                      <a:pt x="1044" y="1462"/>
                    </a:lnTo>
                    <a:lnTo>
                      <a:pt x="1044" y="1462"/>
                    </a:lnTo>
                    <a:lnTo>
                      <a:pt x="1034" y="1478"/>
                    </a:lnTo>
                    <a:lnTo>
                      <a:pt x="1022" y="1496"/>
                    </a:lnTo>
                    <a:lnTo>
                      <a:pt x="1012" y="1514"/>
                    </a:lnTo>
                    <a:lnTo>
                      <a:pt x="1010" y="1524"/>
                    </a:lnTo>
                    <a:lnTo>
                      <a:pt x="1008" y="1534"/>
                    </a:lnTo>
                    <a:lnTo>
                      <a:pt x="1008" y="1534"/>
                    </a:lnTo>
                    <a:lnTo>
                      <a:pt x="1008" y="1558"/>
                    </a:lnTo>
                    <a:lnTo>
                      <a:pt x="1008" y="1582"/>
                    </a:lnTo>
                    <a:lnTo>
                      <a:pt x="1008" y="1604"/>
                    </a:lnTo>
                    <a:lnTo>
                      <a:pt x="1006" y="1630"/>
                    </a:lnTo>
                    <a:lnTo>
                      <a:pt x="1006" y="1630"/>
                    </a:lnTo>
                    <a:lnTo>
                      <a:pt x="1004" y="1650"/>
                    </a:lnTo>
                    <a:lnTo>
                      <a:pt x="1006" y="1658"/>
                    </a:lnTo>
                    <a:lnTo>
                      <a:pt x="1008" y="1662"/>
                    </a:lnTo>
                    <a:lnTo>
                      <a:pt x="1010" y="1664"/>
                    </a:lnTo>
                    <a:lnTo>
                      <a:pt x="1010" y="1664"/>
                    </a:lnTo>
                    <a:lnTo>
                      <a:pt x="1018" y="1660"/>
                    </a:lnTo>
                    <a:lnTo>
                      <a:pt x="1026" y="1658"/>
                    </a:lnTo>
                    <a:lnTo>
                      <a:pt x="1044" y="1654"/>
                    </a:lnTo>
                    <a:lnTo>
                      <a:pt x="1044" y="1654"/>
                    </a:lnTo>
                    <a:lnTo>
                      <a:pt x="1066" y="1646"/>
                    </a:lnTo>
                    <a:lnTo>
                      <a:pt x="1090" y="1636"/>
                    </a:lnTo>
                    <a:lnTo>
                      <a:pt x="1102" y="1632"/>
                    </a:lnTo>
                    <a:lnTo>
                      <a:pt x="1114" y="1630"/>
                    </a:lnTo>
                    <a:lnTo>
                      <a:pt x="1128" y="1628"/>
                    </a:lnTo>
                    <a:lnTo>
                      <a:pt x="1142" y="1630"/>
                    </a:lnTo>
                    <a:lnTo>
                      <a:pt x="1142" y="1630"/>
                    </a:lnTo>
                    <a:lnTo>
                      <a:pt x="1156" y="1630"/>
                    </a:lnTo>
                    <a:lnTo>
                      <a:pt x="1172" y="1630"/>
                    </a:lnTo>
                    <a:lnTo>
                      <a:pt x="1186" y="1628"/>
                    </a:lnTo>
                    <a:lnTo>
                      <a:pt x="1204" y="1626"/>
                    </a:lnTo>
                    <a:lnTo>
                      <a:pt x="1204" y="1626"/>
                    </a:lnTo>
                    <a:lnTo>
                      <a:pt x="1206" y="1620"/>
                    </a:lnTo>
                    <a:lnTo>
                      <a:pt x="1210" y="1616"/>
                    </a:lnTo>
                    <a:lnTo>
                      <a:pt x="1210" y="1616"/>
                    </a:lnTo>
                    <a:lnTo>
                      <a:pt x="1202" y="1612"/>
                    </a:lnTo>
                    <a:lnTo>
                      <a:pt x="1200" y="1610"/>
                    </a:lnTo>
                    <a:lnTo>
                      <a:pt x="1200" y="1606"/>
                    </a:lnTo>
                    <a:lnTo>
                      <a:pt x="1200" y="1606"/>
                    </a:lnTo>
                    <a:lnTo>
                      <a:pt x="1204" y="1604"/>
                    </a:lnTo>
                    <a:lnTo>
                      <a:pt x="1208" y="1606"/>
                    </a:lnTo>
                    <a:lnTo>
                      <a:pt x="1214" y="1608"/>
                    </a:lnTo>
                    <a:lnTo>
                      <a:pt x="1214" y="1608"/>
                    </a:lnTo>
                    <a:lnTo>
                      <a:pt x="1222" y="1604"/>
                    </a:lnTo>
                    <a:lnTo>
                      <a:pt x="1228" y="1596"/>
                    </a:lnTo>
                    <a:lnTo>
                      <a:pt x="1230" y="1588"/>
                    </a:lnTo>
                    <a:lnTo>
                      <a:pt x="1232" y="1576"/>
                    </a:lnTo>
                    <a:lnTo>
                      <a:pt x="1232" y="1552"/>
                    </a:lnTo>
                    <a:lnTo>
                      <a:pt x="1232" y="1540"/>
                    </a:lnTo>
                    <a:lnTo>
                      <a:pt x="1234" y="1530"/>
                    </a:lnTo>
                    <a:lnTo>
                      <a:pt x="1234" y="1530"/>
                    </a:lnTo>
                    <a:lnTo>
                      <a:pt x="1234" y="1542"/>
                    </a:lnTo>
                    <a:lnTo>
                      <a:pt x="1234" y="1544"/>
                    </a:lnTo>
                    <a:lnTo>
                      <a:pt x="1238" y="1544"/>
                    </a:lnTo>
                    <a:lnTo>
                      <a:pt x="1238" y="1544"/>
                    </a:lnTo>
                    <a:lnTo>
                      <a:pt x="1234" y="1552"/>
                    </a:lnTo>
                    <a:lnTo>
                      <a:pt x="1234" y="1564"/>
                    </a:lnTo>
                    <a:lnTo>
                      <a:pt x="1236" y="1584"/>
                    </a:lnTo>
                    <a:lnTo>
                      <a:pt x="1236" y="1584"/>
                    </a:lnTo>
                    <a:lnTo>
                      <a:pt x="1262" y="1546"/>
                    </a:lnTo>
                    <a:lnTo>
                      <a:pt x="1276" y="1528"/>
                    </a:lnTo>
                    <a:lnTo>
                      <a:pt x="1290" y="1510"/>
                    </a:lnTo>
                    <a:lnTo>
                      <a:pt x="1290" y="1510"/>
                    </a:lnTo>
                    <a:lnTo>
                      <a:pt x="1290" y="1506"/>
                    </a:lnTo>
                    <a:lnTo>
                      <a:pt x="1290" y="1502"/>
                    </a:lnTo>
                    <a:lnTo>
                      <a:pt x="1290" y="1502"/>
                    </a:lnTo>
                    <a:lnTo>
                      <a:pt x="1290" y="1508"/>
                    </a:lnTo>
                    <a:lnTo>
                      <a:pt x="1288" y="1514"/>
                    </a:lnTo>
                    <a:lnTo>
                      <a:pt x="1280" y="1526"/>
                    </a:lnTo>
                    <a:lnTo>
                      <a:pt x="1272" y="1536"/>
                    </a:lnTo>
                    <a:lnTo>
                      <a:pt x="1268" y="1542"/>
                    </a:lnTo>
                    <a:lnTo>
                      <a:pt x="1266" y="1548"/>
                    </a:lnTo>
                    <a:lnTo>
                      <a:pt x="1266" y="1548"/>
                    </a:lnTo>
                    <a:lnTo>
                      <a:pt x="1290" y="1540"/>
                    </a:lnTo>
                    <a:lnTo>
                      <a:pt x="1316" y="1536"/>
                    </a:lnTo>
                    <a:lnTo>
                      <a:pt x="1316" y="1536"/>
                    </a:lnTo>
                    <a:lnTo>
                      <a:pt x="1300" y="1540"/>
                    </a:lnTo>
                    <a:lnTo>
                      <a:pt x="1282" y="1546"/>
                    </a:lnTo>
                    <a:lnTo>
                      <a:pt x="1282" y="1546"/>
                    </a:lnTo>
                    <a:lnTo>
                      <a:pt x="1280" y="1550"/>
                    </a:lnTo>
                    <a:lnTo>
                      <a:pt x="1274" y="1554"/>
                    </a:lnTo>
                    <a:lnTo>
                      <a:pt x="1268" y="1556"/>
                    </a:lnTo>
                    <a:lnTo>
                      <a:pt x="1260" y="1556"/>
                    </a:lnTo>
                    <a:lnTo>
                      <a:pt x="1260" y="1556"/>
                    </a:lnTo>
                    <a:lnTo>
                      <a:pt x="1242" y="1584"/>
                    </a:lnTo>
                    <a:lnTo>
                      <a:pt x="1222" y="1614"/>
                    </a:lnTo>
                    <a:lnTo>
                      <a:pt x="1222" y="1614"/>
                    </a:lnTo>
                    <a:lnTo>
                      <a:pt x="1228" y="1616"/>
                    </a:lnTo>
                    <a:lnTo>
                      <a:pt x="1232" y="1614"/>
                    </a:lnTo>
                    <a:lnTo>
                      <a:pt x="1244" y="1610"/>
                    </a:lnTo>
                    <a:lnTo>
                      <a:pt x="1244" y="1610"/>
                    </a:lnTo>
                    <a:lnTo>
                      <a:pt x="1262" y="1602"/>
                    </a:lnTo>
                    <a:lnTo>
                      <a:pt x="1272" y="1600"/>
                    </a:lnTo>
                    <a:lnTo>
                      <a:pt x="1278" y="1594"/>
                    </a:lnTo>
                    <a:lnTo>
                      <a:pt x="1278" y="1594"/>
                    </a:lnTo>
                    <a:lnTo>
                      <a:pt x="1290" y="1596"/>
                    </a:lnTo>
                    <a:lnTo>
                      <a:pt x="1300" y="1594"/>
                    </a:lnTo>
                    <a:lnTo>
                      <a:pt x="1310" y="1592"/>
                    </a:lnTo>
                    <a:lnTo>
                      <a:pt x="1318" y="1588"/>
                    </a:lnTo>
                    <a:lnTo>
                      <a:pt x="1336" y="1580"/>
                    </a:lnTo>
                    <a:lnTo>
                      <a:pt x="1344" y="1578"/>
                    </a:lnTo>
                    <a:lnTo>
                      <a:pt x="1354" y="1574"/>
                    </a:lnTo>
                    <a:lnTo>
                      <a:pt x="1354" y="1574"/>
                    </a:lnTo>
                    <a:lnTo>
                      <a:pt x="1370" y="1556"/>
                    </a:lnTo>
                    <a:lnTo>
                      <a:pt x="1386" y="1538"/>
                    </a:lnTo>
                    <a:lnTo>
                      <a:pt x="1386" y="1538"/>
                    </a:lnTo>
                    <a:lnTo>
                      <a:pt x="1374" y="1530"/>
                    </a:lnTo>
                    <a:lnTo>
                      <a:pt x="1368" y="1528"/>
                    </a:lnTo>
                    <a:lnTo>
                      <a:pt x="1360" y="1528"/>
                    </a:lnTo>
                    <a:lnTo>
                      <a:pt x="1360" y="1528"/>
                    </a:lnTo>
                    <a:lnTo>
                      <a:pt x="1358" y="1530"/>
                    </a:lnTo>
                    <a:lnTo>
                      <a:pt x="1358" y="1532"/>
                    </a:lnTo>
                    <a:lnTo>
                      <a:pt x="1360" y="1536"/>
                    </a:lnTo>
                    <a:lnTo>
                      <a:pt x="1358" y="1538"/>
                    </a:lnTo>
                    <a:lnTo>
                      <a:pt x="1358" y="1538"/>
                    </a:lnTo>
                    <a:lnTo>
                      <a:pt x="1342" y="1528"/>
                    </a:lnTo>
                    <a:lnTo>
                      <a:pt x="1334" y="1522"/>
                    </a:lnTo>
                    <a:lnTo>
                      <a:pt x="1330" y="1514"/>
                    </a:lnTo>
                    <a:lnTo>
                      <a:pt x="1330" y="1514"/>
                    </a:lnTo>
                    <a:lnTo>
                      <a:pt x="1486" y="1336"/>
                    </a:lnTo>
                    <a:lnTo>
                      <a:pt x="1486" y="1336"/>
                    </a:lnTo>
                    <a:lnTo>
                      <a:pt x="1490" y="1334"/>
                    </a:lnTo>
                    <a:lnTo>
                      <a:pt x="1494" y="1334"/>
                    </a:lnTo>
                    <a:lnTo>
                      <a:pt x="1494" y="1334"/>
                    </a:lnTo>
                    <a:lnTo>
                      <a:pt x="1494" y="1332"/>
                    </a:lnTo>
                    <a:lnTo>
                      <a:pt x="1492" y="1330"/>
                    </a:lnTo>
                    <a:lnTo>
                      <a:pt x="1492" y="1330"/>
                    </a:lnTo>
                    <a:lnTo>
                      <a:pt x="1486" y="1336"/>
                    </a:lnTo>
                    <a:lnTo>
                      <a:pt x="1486" y="1336"/>
                    </a:lnTo>
                    <a:lnTo>
                      <a:pt x="908" y="1458"/>
                    </a:lnTo>
                    <a:lnTo>
                      <a:pt x="908" y="1458"/>
                    </a:lnTo>
                    <a:lnTo>
                      <a:pt x="902" y="1440"/>
                    </a:lnTo>
                    <a:lnTo>
                      <a:pt x="898" y="1430"/>
                    </a:lnTo>
                    <a:lnTo>
                      <a:pt x="892" y="1422"/>
                    </a:lnTo>
                    <a:lnTo>
                      <a:pt x="892" y="1422"/>
                    </a:lnTo>
                    <a:lnTo>
                      <a:pt x="884" y="1414"/>
                    </a:lnTo>
                    <a:lnTo>
                      <a:pt x="874" y="1406"/>
                    </a:lnTo>
                    <a:lnTo>
                      <a:pt x="852" y="1396"/>
                    </a:lnTo>
                    <a:lnTo>
                      <a:pt x="852" y="1396"/>
                    </a:lnTo>
                    <a:lnTo>
                      <a:pt x="842" y="1392"/>
                    </a:lnTo>
                    <a:lnTo>
                      <a:pt x="828" y="1390"/>
                    </a:lnTo>
                    <a:lnTo>
                      <a:pt x="802" y="1384"/>
                    </a:lnTo>
                    <a:lnTo>
                      <a:pt x="802" y="1384"/>
                    </a:lnTo>
                    <a:lnTo>
                      <a:pt x="780" y="1376"/>
                    </a:lnTo>
                    <a:lnTo>
                      <a:pt x="758" y="1368"/>
                    </a:lnTo>
                    <a:lnTo>
                      <a:pt x="736" y="1360"/>
                    </a:lnTo>
                    <a:lnTo>
                      <a:pt x="712" y="1352"/>
                    </a:lnTo>
                    <a:lnTo>
                      <a:pt x="712" y="1352"/>
                    </a:lnTo>
                    <a:lnTo>
                      <a:pt x="688" y="1344"/>
                    </a:lnTo>
                    <a:lnTo>
                      <a:pt x="676" y="1340"/>
                    </a:lnTo>
                    <a:lnTo>
                      <a:pt x="666" y="1338"/>
                    </a:lnTo>
                    <a:lnTo>
                      <a:pt x="666" y="1338"/>
                    </a:lnTo>
                    <a:lnTo>
                      <a:pt x="656" y="1338"/>
                    </a:lnTo>
                    <a:lnTo>
                      <a:pt x="646" y="1338"/>
                    </a:lnTo>
                    <a:lnTo>
                      <a:pt x="626" y="1344"/>
                    </a:lnTo>
                    <a:lnTo>
                      <a:pt x="608" y="1352"/>
                    </a:lnTo>
                    <a:lnTo>
                      <a:pt x="592" y="1356"/>
                    </a:lnTo>
                    <a:lnTo>
                      <a:pt x="592" y="1356"/>
                    </a:lnTo>
                    <a:lnTo>
                      <a:pt x="606" y="1382"/>
                    </a:lnTo>
                    <a:lnTo>
                      <a:pt x="618" y="1408"/>
                    </a:lnTo>
                    <a:lnTo>
                      <a:pt x="630" y="1436"/>
                    </a:lnTo>
                    <a:lnTo>
                      <a:pt x="642" y="1462"/>
                    </a:lnTo>
                    <a:lnTo>
                      <a:pt x="642" y="1462"/>
                    </a:lnTo>
                    <a:lnTo>
                      <a:pt x="652" y="1478"/>
                    </a:lnTo>
                    <a:lnTo>
                      <a:pt x="664" y="1492"/>
                    </a:lnTo>
                    <a:lnTo>
                      <a:pt x="664" y="1492"/>
                    </a:lnTo>
                    <a:lnTo>
                      <a:pt x="670" y="1506"/>
                    </a:lnTo>
                    <a:lnTo>
                      <a:pt x="674" y="1512"/>
                    </a:lnTo>
                    <a:lnTo>
                      <a:pt x="680" y="1516"/>
                    </a:lnTo>
                    <a:lnTo>
                      <a:pt x="680" y="1516"/>
                    </a:lnTo>
                    <a:lnTo>
                      <a:pt x="686" y="1518"/>
                    </a:lnTo>
                    <a:lnTo>
                      <a:pt x="694" y="1520"/>
                    </a:lnTo>
                    <a:lnTo>
                      <a:pt x="712" y="1522"/>
                    </a:lnTo>
                    <a:lnTo>
                      <a:pt x="712" y="1522"/>
                    </a:lnTo>
                    <a:lnTo>
                      <a:pt x="754" y="1528"/>
                    </a:lnTo>
                    <a:lnTo>
                      <a:pt x="790" y="1538"/>
                    </a:lnTo>
                    <a:lnTo>
                      <a:pt x="824" y="1550"/>
                    </a:lnTo>
                    <a:lnTo>
                      <a:pt x="856" y="1564"/>
                    </a:lnTo>
                    <a:lnTo>
                      <a:pt x="856" y="1564"/>
                    </a:lnTo>
                    <a:lnTo>
                      <a:pt x="884" y="1578"/>
                    </a:lnTo>
                    <a:lnTo>
                      <a:pt x="896" y="1584"/>
                    </a:lnTo>
                    <a:lnTo>
                      <a:pt x="908" y="1588"/>
                    </a:lnTo>
                    <a:lnTo>
                      <a:pt x="908" y="1588"/>
                    </a:lnTo>
                    <a:lnTo>
                      <a:pt x="922" y="1588"/>
                    </a:lnTo>
                    <a:lnTo>
                      <a:pt x="922" y="1588"/>
                    </a:lnTo>
                    <a:lnTo>
                      <a:pt x="926" y="1576"/>
                    </a:lnTo>
                    <a:lnTo>
                      <a:pt x="926" y="1562"/>
                    </a:lnTo>
                    <a:lnTo>
                      <a:pt x="924" y="1534"/>
                    </a:lnTo>
                    <a:lnTo>
                      <a:pt x="922" y="1506"/>
                    </a:lnTo>
                    <a:lnTo>
                      <a:pt x="922" y="1492"/>
                    </a:lnTo>
                    <a:lnTo>
                      <a:pt x="926" y="1478"/>
                    </a:lnTo>
                    <a:lnTo>
                      <a:pt x="926" y="1478"/>
                    </a:lnTo>
                    <a:lnTo>
                      <a:pt x="922" y="1472"/>
                    </a:lnTo>
                    <a:lnTo>
                      <a:pt x="916" y="1468"/>
                    </a:lnTo>
                    <a:lnTo>
                      <a:pt x="912" y="1464"/>
                    </a:lnTo>
                    <a:lnTo>
                      <a:pt x="908" y="1458"/>
                    </a:lnTo>
                    <a:lnTo>
                      <a:pt x="908" y="1458"/>
                    </a:lnTo>
                    <a:lnTo>
                      <a:pt x="1430" y="1348"/>
                    </a:lnTo>
                    <a:lnTo>
                      <a:pt x="1430" y="1348"/>
                    </a:lnTo>
                    <a:lnTo>
                      <a:pt x="1410" y="1350"/>
                    </a:lnTo>
                    <a:lnTo>
                      <a:pt x="1392" y="1354"/>
                    </a:lnTo>
                    <a:lnTo>
                      <a:pt x="1392" y="1354"/>
                    </a:lnTo>
                    <a:lnTo>
                      <a:pt x="1412" y="1356"/>
                    </a:lnTo>
                    <a:lnTo>
                      <a:pt x="1430" y="1356"/>
                    </a:lnTo>
                    <a:lnTo>
                      <a:pt x="1448" y="1354"/>
                    </a:lnTo>
                    <a:lnTo>
                      <a:pt x="1456" y="1352"/>
                    </a:lnTo>
                    <a:lnTo>
                      <a:pt x="1464" y="1348"/>
                    </a:lnTo>
                    <a:lnTo>
                      <a:pt x="1464" y="1348"/>
                    </a:lnTo>
                    <a:lnTo>
                      <a:pt x="1456" y="1344"/>
                    </a:lnTo>
                    <a:lnTo>
                      <a:pt x="1448" y="1344"/>
                    </a:lnTo>
                    <a:lnTo>
                      <a:pt x="1430" y="1348"/>
                    </a:lnTo>
                    <a:lnTo>
                      <a:pt x="1430" y="1348"/>
                    </a:lnTo>
                    <a:lnTo>
                      <a:pt x="538" y="1366"/>
                    </a:lnTo>
                    <a:lnTo>
                      <a:pt x="538" y="1366"/>
                    </a:lnTo>
                    <a:lnTo>
                      <a:pt x="554" y="1378"/>
                    </a:lnTo>
                    <a:lnTo>
                      <a:pt x="572" y="1390"/>
                    </a:lnTo>
                    <a:lnTo>
                      <a:pt x="588" y="1400"/>
                    </a:lnTo>
                    <a:lnTo>
                      <a:pt x="606" y="1408"/>
                    </a:lnTo>
                    <a:lnTo>
                      <a:pt x="606" y="1408"/>
                    </a:lnTo>
                    <a:lnTo>
                      <a:pt x="594" y="1382"/>
                    </a:lnTo>
                    <a:lnTo>
                      <a:pt x="588" y="1368"/>
                    </a:lnTo>
                    <a:lnTo>
                      <a:pt x="580" y="1356"/>
                    </a:lnTo>
                    <a:lnTo>
                      <a:pt x="580" y="1356"/>
                    </a:lnTo>
                    <a:lnTo>
                      <a:pt x="568" y="1356"/>
                    </a:lnTo>
                    <a:lnTo>
                      <a:pt x="556" y="1358"/>
                    </a:lnTo>
                    <a:lnTo>
                      <a:pt x="546" y="1362"/>
                    </a:lnTo>
                    <a:lnTo>
                      <a:pt x="538" y="1366"/>
                    </a:lnTo>
                    <a:lnTo>
                      <a:pt x="538" y="1366"/>
                    </a:lnTo>
                    <a:lnTo>
                      <a:pt x="632" y="1472"/>
                    </a:lnTo>
                    <a:lnTo>
                      <a:pt x="632" y="1472"/>
                    </a:lnTo>
                    <a:lnTo>
                      <a:pt x="628" y="1460"/>
                    </a:lnTo>
                    <a:lnTo>
                      <a:pt x="622" y="1446"/>
                    </a:lnTo>
                    <a:lnTo>
                      <a:pt x="616" y="1434"/>
                    </a:lnTo>
                    <a:lnTo>
                      <a:pt x="610" y="1424"/>
                    </a:lnTo>
                    <a:lnTo>
                      <a:pt x="610" y="1424"/>
                    </a:lnTo>
                    <a:lnTo>
                      <a:pt x="590" y="1412"/>
                    </a:lnTo>
                    <a:lnTo>
                      <a:pt x="568" y="1398"/>
                    </a:lnTo>
                    <a:lnTo>
                      <a:pt x="568" y="1398"/>
                    </a:lnTo>
                    <a:lnTo>
                      <a:pt x="544" y="1378"/>
                    </a:lnTo>
                    <a:lnTo>
                      <a:pt x="532" y="1372"/>
                    </a:lnTo>
                    <a:lnTo>
                      <a:pt x="526" y="1370"/>
                    </a:lnTo>
                    <a:lnTo>
                      <a:pt x="520" y="1372"/>
                    </a:lnTo>
                    <a:lnTo>
                      <a:pt x="520" y="1372"/>
                    </a:lnTo>
                    <a:lnTo>
                      <a:pt x="526" y="1384"/>
                    </a:lnTo>
                    <a:lnTo>
                      <a:pt x="528" y="1390"/>
                    </a:lnTo>
                    <a:lnTo>
                      <a:pt x="528" y="1398"/>
                    </a:lnTo>
                    <a:lnTo>
                      <a:pt x="528" y="1398"/>
                    </a:lnTo>
                    <a:lnTo>
                      <a:pt x="522" y="1404"/>
                    </a:lnTo>
                    <a:lnTo>
                      <a:pt x="516" y="1408"/>
                    </a:lnTo>
                    <a:lnTo>
                      <a:pt x="508" y="1408"/>
                    </a:lnTo>
                    <a:lnTo>
                      <a:pt x="502" y="1406"/>
                    </a:lnTo>
                    <a:lnTo>
                      <a:pt x="496" y="1402"/>
                    </a:lnTo>
                    <a:lnTo>
                      <a:pt x="492" y="1396"/>
                    </a:lnTo>
                    <a:lnTo>
                      <a:pt x="494" y="1388"/>
                    </a:lnTo>
                    <a:lnTo>
                      <a:pt x="498" y="1380"/>
                    </a:lnTo>
                    <a:lnTo>
                      <a:pt x="498" y="1380"/>
                    </a:lnTo>
                    <a:lnTo>
                      <a:pt x="482" y="1384"/>
                    </a:lnTo>
                    <a:lnTo>
                      <a:pt x="466" y="1386"/>
                    </a:lnTo>
                    <a:lnTo>
                      <a:pt x="452" y="1390"/>
                    </a:lnTo>
                    <a:lnTo>
                      <a:pt x="438" y="1396"/>
                    </a:lnTo>
                    <a:lnTo>
                      <a:pt x="438" y="1396"/>
                    </a:lnTo>
                    <a:lnTo>
                      <a:pt x="432" y="1400"/>
                    </a:lnTo>
                    <a:lnTo>
                      <a:pt x="428" y="1406"/>
                    </a:lnTo>
                    <a:lnTo>
                      <a:pt x="416" y="1420"/>
                    </a:lnTo>
                    <a:lnTo>
                      <a:pt x="416" y="1420"/>
                    </a:lnTo>
                    <a:lnTo>
                      <a:pt x="404" y="1430"/>
                    </a:lnTo>
                    <a:lnTo>
                      <a:pt x="398" y="1436"/>
                    </a:lnTo>
                    <a:lnTo>
                      <a:pt x="394" y="1442"/>
                    </a:lnTo>
                    <a:lnTo>
                      <a:pt x="394" y="1442"/>
                    </a:lnTo>
                    <a:lnTo>
                      <a:pt x="402" y="1442"/>
                    </a:lnTo>
                    <a:lnTo>
                      <a:pt x="406" y="1444"/>
                    </a:lnTo>
                    <a:lnTo>
                      <a:pt x="408" y="1446"/>
                    </a:lnTo>
                    <a:lnTo>
                      <a:pt x="408" y="1446"/>
                    </a:lnTo>
                    <a:lnTo>
                      <a:pt x="404" y="1454"/>
                    </a:lnTo>
                    <a:lnTo>
                      <a:pt x="402" y="1458"/>
                    </a:lnTo>
                    <a:lnTo>
                      <a:pt x="402" y="1458"/>
                    </a:lnTo>
                    <a:lnTo>
                      <a:pt x="406" y="1464"/>
                    </a:lnTo>
                    <a:lnTo>
                      <a:pt x="412" y="1468"/>
                    </a:lnTo>
                    <a:lnTo>
                      <a:pt x="418" y="1472"/>
                    </a:lnTo>
                    <a:lnTo>
                      <a:pt x="428" y="1474"/>
                    </a:lnTo>
                    <a:lnTo>
                      <a:pt x="428" y="1474"/>
                    </a:lnTo>
                    <a:lnTo>
                      <a:pt x="428" y="1472"/>
                    </a:lnTo>
                    <a:lnTo>
                      <a:pt x="430" y="1468"/>
                    </a:lnTo>
                    <a:lnTo>
                      <a:pt x="430" y="1466"/>
                    </a:lnTo>
                    <a:lnTo>
                      <a:pt x="432" y="1464"/>
                    </a:lnTo>
                    <a:lnTo>
                      <a:pt x="432" y="1464"/>
                    </a:lnTo>
                    <a:lnTo>
                      <a:pt x="432" y="1470"/>
                    </a:lnTo>
                    <a:lnTo>
                      <a:pt x="430" y="1474"/>
                    </a:lnTo>
                    <a:lnTo>
                      <a:pt x="430" y="1474"/>
                    </a:lnTo>
                    <a:lnTo>
                      <a:pt x="434" y="1476"/>
                    </a:lnTo>
                    <a:lnTo>
                      <a:pt x="438" y="1478"/>
                    </a:lnTo>
                    <a:lnTo>
                      <a:pt x="438" y="1478"/>
                    </a:lnTo>
                    <a:lnTo>
                      <a:pt x="436" y="1482"/>
                    </a:lnTo>
                    <a:lnTo>
                      <a:pt x="434" y="1484"/>
                    </a:lnTo>
                    <a:lnTo>
                      <a:pt x="430" y="1486"/>
                    </a:lnTo>
                    <a:lnTo>
                      <a:pt x="428" y="1488"/>
                    </a:lnTo>
                    <a:lnTo>
                      <a:pt x="428" y="1488"/>
                    </a:lnTo>
                    <a:lnTo>
                      <a:pt x="434" y="1490"/>
                    </a:lnTo>
                    <a:lnTo>
                      <a:pt x="438" y="1494"/>
                    </a:lnTo>
                    <a:lnTo>
                      <a:pt x="438" y="1494"/>
                    </a:lnTo>
                    <a:lnTo>
                      <a:pt x="442" y="1502"/>
                    </a:lnTo>
                    <a:lnTo>
                      <a:pt x="446" y="1508"/>
                    </a:lnTo>
                    <a:lnTo>
                      <a:pt x="452" y="1510"/>
                    </a:lnTo>
                    <a:lnTo>
                      <a:pt x="458" y="1510"/>
                    </a:lnTo>
                    <a:lnTo>
                      <a:pt x="474" y="1508"/>
                    </a:lnTo>
                    <a:lnTo>
                      <a:pt x="492" y="1502"/>
                    </a:lnTo>
                    <a:lnTo>
                      <a:pt x="492" y="1502"/>
                    </a:lnTo>
                    <a:lnTo>
                      <a:pt x="512" y="1498"/>
                    </a:lnTo>
                    <a:lnTo>
                      <a:pt x="532" y="1496"/>
                    </a:lnTo>
                    <a:lnTo>
                      <a:pt x="554" y="1494"/>
                    </a:lnTo>
                    <a:lnTo>
                      <a:pt x="576" y="1496"/>
                    </a:lnTo>
                    <a:lnTo>
                      <a:pt x="596" y="1496"/>
                    </a:lnTo>
                    <a:lnTo>
                      <a:pt x="618" y="1500"/>
                    </a:lnTo>
                    <a:lnTo>
                      <a:pt x="636" y="1504"/>
                    </a:lnTo>
                    <a:lnTo>
                      <a:pt x="654" y="1508"/>
                    </a:lnTo>
                    <a:lnTo>
                      <a:pt x="654" y="1508"/>
                    </a:lnTo>
                    <a:lnTo>
                      <a:pt x="644" y="1490"/>
                    </a:lnTo>
                    <a:lnTo>
                      <a:pt x="632" y="1472"/>
                    </a:lnTo>
                    <a:lnTo>
                      <a:pt x="632" y="1472"/>
                    </a:lnTo>
                    <a:lnTo>
                      <a:pt x="382" y="1400"/>
                    </a:lnTo>
                    <a:lnTo>
                      <a:pt x="382" y="1400"/>
                    </a:lnTo>
                    <a:lnTo>
                      <a:pt x="384" y="1404"/>
                    </a:lnTo>
                    <a:lnTo>
                      <a:pt x="388" y="1408"/>
                    </a:lnTo>
                    <a:lnTo>
                      <a:pt x="392" y="1410"/>
                    </a:lnTo>
                    <a:lnTo>
                      <a:pt x="394" y="1414"/>
                    </a:lnTo>
                    <a:lnTo>
                      <a:pt x="394" y="1414"/>
                    </a:lnTo>
                    <a:lnTo>
                      <a:pt x="388" y="1426"/>
                    </a:lnTo>
                    <a:lnTo>
                      <a:pt x="388" y="1432"/>
                    </a:lnTo>
                    <a:lnTo>
                      <a:pt x="390" y="1438"/>
                    </a:lnTo>
                    <a:lnTo>
                      <a:pt x="390" y="1438"/>
                    </a:lnTo>
                    <a:lnTo>
                      <a:pt x="398" y="1426"/>
                    </a:lnTo>
                    <a:lnTo>
                      <a:pt x="408" y="1416"/>
                    </a:lnTo>
                    <a:lnTo>
                      <a:pt x="418" y="1406"/>
                    </a:lnTo>
                    <a:lnTo>
                      <a:pt x="426" y="1396"/>
                    </a:lnTo>
                    <a:lnTo>
                      <a:pt x="426" y="1396"/>
                    </a:lnTo>
                    <a:lnTo>
                      <a:pt x="416" y="1398"/>
                    </a:lnTo>
                    <a:lnTo>
                      <a:pt x="404" y="1398"/>
                    </a:lnTo>
                    <a:lnTo>
                      <a:pt x="392" y="1398"/>
                    </a:lnTo>
                    <a:lnTo>
                      <a:pt x="386" y="1398"/>
                    </a:lnTo>
                    <a:lnTo>
                      <a:pt x="382" y="1400"/>
                    </a:lnTo>
                    <a:lnTo>
                      <a:pt x="382" y="1400"/>
                    </a:lnTo>
                    <a:lnTo>
                      <a:pt x="330" y="1434"/>
                    </a:lnTo>
                    <a:lnTo>
                      <a:pt x="330" y="1434"/>
                    </a:lnTo>
                    <a:lnTo>
                      <a:pt x="354" y="1422"/>
                    </a:lnTo>
                    <a:lnTo>
                      <a:pt x="354" y="1422"/>
                    </a:lnTo>
                    <a:lnTo>
                      <a:pt x="346" y="1408"/>
                    </a:lnTo>
                    <a:lnTo>
                      <a:pt x="342" y="1402"/>
                    </a:lnTo>
                    <a:lnTo>
                      <a:pt x="336" y="1398"/>
                    </a:lnTo>
                    <a:lnTo>
                      <a:pt x="336" y="1398"/>
                    </a:lnTo>
                    <a:lnTo>
                      <a:pt x="334" y="1402"/>
                    </a:lnTo>
                    <a:lnTo>
                      <a:pt x="336" y="1406"/>
                    </a:lnTo>
                    <a:lnTo>
                      <a:pt x="338" y="1408"/>
                    </a:lnTo>
                    <a:lnTo>
                      <a:pt x="340" y="1412"/>
                    </a:lnTo>
                    <a:lnTo>
                      <a:pt x="340" y="1412"/>
                    </a:lnTo>
                    <a:lnTo>
                      <a:pt x="338" y="1418"/>
                    </a:lnTo>
                    <a:lnTo>
                      <a:pt x="336" y="1424"/>
                    </a:lnTo>
                    <a:lnTo>
                      <a:pt x="330" y="1434"/>
                    </a:lnTo>
                    <a:lnTo>
                      <a:pt x="330" y="1434"/>
                    </a:lnTo>
                    <a:lnTo>
                      <a:pt x="136" y="1404"/>
                    </a:lnTo>
                    <a:lnTo>
                      <a:pt x="136" y="1404"/>
                    </a:lnTo>
                    <a:lnTo>
                      <a:pt x="136" y="1408"/>
                    </a:lnTo>
                    <a:lnTo>
                      <a:pt x="138" y="1408"/>
                    </a:lnTo>
                    <a:lnTo>
                      <a:pt x="142" y="1412"/>
                    </a:lnTo>
                    <a:lnTo>
                      <a:pt x="142" y="1412"/>
                    </a:lnTo>
                    <a:lnTo>
                      <a:pt x="138" y="1414"/>
                    </a:lnTo>
                    <a:lnTo>
                      <a:pt x="132" y="1416"/>
                    </a:lnTo>
                    <a:lnTo>
                      <a:pt x="124" y="1422"/>
                    </a:lnTo>
                    <a:lnTo>
                      <a:pt x="124" y="1422"/>
                    </a:lnTo>
                    <a:lnTo>
                      <a:pt x="126" y="1424"/>
                    </a:lnTo>
                    <a:lnTo>
                      <a:pt x="126" y="1426"/>
                    </a:lnTo>
                    <a:lnTo>
                      <a:pt x="132" y="1430"/>
                    </a:lnTo>
                    <a:lnTo>
                      <a:pt x="138" y="1432"/>
                    </a:lnTo>
                    <a:lnTo>
                      <a:pt x="144" y="1434"/>
                    </a:lnTo>
                    <a:lnTo>
                      <a:pt x="144" y="1434"/>
                    </a:lnTo>
                    <a:lnTo>
                      <a:pt x="144" y="1438"/>
                    </a:lnTo>
                    <a:lnTo>
                      <a:pt x="144" y="1440"/>
                    </a:lnTo>
                    <a:lnTo>
                      <a:pt x="142" y="1444"/>
                    </a:lnTo>
                    <a:lnTo>
                      <a:pt x="142" y="1444"/>
                    </a:lnTo>
                    <a:lnTo>
                      <a:pt x="148" y="1450"/>
                    </a:lnTo>
                    <a:lnTo>
                      <a:pt x="152" y="1450"/>
                    </a:lnTo>
                    <a:lnTo>
                      <a:pt x="158" y="1450"/>
                    </a:lnTo>
                    <a:lnTo>
                      <a:pt x="158" y="1450"/>
                    </a:lnTo>
                    <a:lnTo>
                      <a:pt x="146" y="1400"/>
                    </a:lnTo>
                    <a:lnTo>
                      <a:pt x="146" y="1400"/>
                    </a:lnTo>
                    <a:lnTo>
                      <a:pt x="140" y="1402"/>
                    </a:lnTo>
                    <a:lnTo>
                      <a:pt x="136" y="1404"/>
                    </a:lnTo>
                    <a:lnTo>
                      <a:pt x="136" y="1404"/>
                    </a:lnTo>
                    <a:lnTo>
                      <a:pt x="356" y="1410"/>
                    </a:lnTo>
                    <a:lnTo>
                      <a:pt x="356" y="1410"/>
                    </a:lnTo>
                    <a:lnTo>
                      <a:pt x="356" y="1406"/>
                    </a:lnTo>
                    <a:lnTo>
                      <a:pt x="356" y="1400"/>
                    </a:lnTo>
                    <a:lnTo>
                      <a:pt x="356" y="1400"/>
                    </a:lnTo>
                    <a:lnTo>
                      <a:pt x="354" y="1402"/>
                    </a:lnTo>
                    <a:lnTo>
                      <a:pt x="352" y="1406"/>
                    </a:lnTo>
                    <a:lnTo>
                      <a:pt x="354" y="1408"/>
                    </a:lnTo>
                    <a:lnTo>
                      <a:pt x="356" y="1410"/>
                    </a:lnTo>
                    <a:lnTo>
                      <a:pt x="356" y="1410"/>
                    </a:lnTo>
                    <a:lnTo>
                      <a:pt x="252" y="1422"/>
                    </a:lnTo>
                    <a:lnTo>
                      <a:pt x="252" y="1422"/>
                    </a:lnTo>
                    <a:lnTo>
                      <a:pt x="268" y="1426"/>
                    </a:lnTo>
                    <a:lnTo>
                      <a:pt x="276" y="1426"/>
                    </a:lnTo>
                    <a:lnTo>
                      <a:pt x="284" y="1424"/>
                    </a:lnTo>
                    <a:lnTo>
                      <a:pt x="284" y="1424"/>
                    </a:lnTo>
                    <a:lnTo>
                      <a:pt x="282" y="1422"/>
                    </a:lnTo>
                    <a:lnTo>
                      <a:pt x="280" y="1420"/>
                    </a:lnTo>
                    <a:lnTo>
                      <a:pt x="278" y="1420"/>
                    </a:lnTo>
                    <a:lnTo>
                      <a:pt x="276" y="1418"/>
                    </a:lnTo>
                    <a:lnTo>
                      <a:pt x="276" y="1418"/>
                    </a:lnTo>
                    <a:lnTo>
                      <a:pt x="290" y="1414"/>
                    </a:lnTo>
                    <a:lnTo>
                      <a:pt x="294" y="1412"/>
                    </a:lnTo>
                    <a:lnTo>
                      <a:pt x="298" y="1408"/>
                    </a:lnTo>
                    <a:lnTo>
                      <a:pt x="298" y="1408"/>
                    </a:lnTo>
                    <a:lnTo>
                      <a:pt x="294" y="1408"/>
                    </a:lnTo>
                    <a:lnTo>
                      <a:pt x="292" y="1408"/>
                    </a:lnTo>
                    <a:lnTo>
                      <a:pt x="290" y="1406"/>
                    </a:lnTo>
                    <a:lnTo>
                      <a:pt x="290" y="1406"/>
                    </a:lnTo>
                    <a:lnTo>
                      <a:pt x="294" y="1406"/>
                    </a:lnTo>
                    <a:lnTo>
                      <a:pt x="296" y="1404"/>
                    </a:lnTo>
                    <a:lnTo>
                      <a:pt x="296" y="1404"/>
                    </a:lnTo>
                    <a:lnTo>
                      <a:pt x="280" y="1402"/>
                    </a:lnTo>
                    <a:lnTo>
                      <a:pt x="268" y="1404"/>
                    </a:lnTo>
                    <a:lnTo>
                      <a:pt x="262" y="1406"/>
                    </a:lnTo>
                    <a:lnTo>
                      <a:pt x="256" y="1410"/>
                    </a:lnTo>
                    <a:lnTo>
                      <a:pt x="254" y="1414"/>
                    </a:lnTo>
                    <a:lnTo>
                      <a:pt x="252" y="1422"/>
                    </a:lnTo>
                    <a:lnTo>
                      <a:pt x="252" y="1422"/>
                    </a:lnTo>
                    <a:lnTo>
                      <a:pt x="116" y="1428"/>
                    </a:lnTo>
                    <a:lnTo>
                      <a:pt x="116" y="1428"/>
                    </a:lnTo>
                    <a:lnTo>
                      <a:pt x="122" y="1428"/>
                    </a:lnTo>
                    <a:lnTo>
                      <a:pt x="124" y="1430"/>
                    </a:lnTo>
                    <a:lnTo>
                      <a:pt x="126" y="1428"/>
                    </a:lnTo>
                    <a:lnTo>
                      <a:pt x="126" y="1428"/>
                    </a:lnTo>
                    <a:lnTo>
                      <a:pt x="124" y="1426"/>
                    </a:lnTo>
                    <a:lnTo>
                      <a:pt x="120" y="1424"/>
                    </a:lnTo>
                    <a:lnTo>
                      <a:pt x="120" y="1424"/>
                    </a:lnTo>
                    <a:lnTo>
                      <a:pt x="120" y="1424"/>
                    </a:lnTo>
                    <a:lnTo>
                      <a:pt x="118" y="1426"/>
                    </a:lnTo>
                    <a:lnTo>
                      <a:pt x="118" y="1426"/>
                    </a:lnTo>
                    <a:lnTo>
                      <a:pt x="116" y="1428"/>
                    </a:lnTo>
                    <a:lnTo>
                      <a:pt x="116" y="1428"/>
                    </a:lnTo>
                    <a:lnTo>
                      <a:pt x="324" y="1442"/>
                    </a:lnTo>
                    <a:lnTo>
                      <a:pt x="324" y="1442"/>
                    </a:lnTo>
                    <a:lnTo>
                      <a:pt x="322" y="1446"/>
                    </a:lnTo>
                    <a:lnTo>
                      <a:pt x="322" y="1448"/>
                    </a:lnTo>
                    <a:lnTo>
                      <a:pt x="322" y="1448"/>
                    </a:lnTo>
                    <a:lnTo>
                      <a:pt x="328" y="1448"/>
                    </a:lnTo>
                    <a:lnTo>
                      <a:pt x="334" y="1446"/>
                    </a:lnTo>
                    <a:lnTo>
                      <a:pt x="334" y="1446"/>
                    </a:lnTo>
                    <a:lnTo>
                      <a:pt x="328" y="1444"/>
                    </a:lnTo>
                    <a:lnTo>
                      <a:pt x="324" y="1442"/>
                    </a:lnTo>
                    <a:lnTo>
                      <a:pt x="324" y="1442"/>
                    </a:lnTo>
                    <a:lnTo>
                      <a:pt x="354" y="1438"/>
                    </a:lnTo>
                    <a:lnTo>
                      <a:pt x="354" y="1438"/>
                    </a:lnTo>
                    <a:lnTo>
                      <a:pt x="354" y="1434"/>
                    </a:lnTo>
                    <a:lnTo>
                      <a:pt x="356" y="1432"/>
                    </a:lnTo>
                    <a:lnTo>
                      <a:pt x="358" y="1430"/>
                    </a:lnTo>
                    <a:lnTo>
                      <a:pt x="356" y="1428"/>
                    </a:lnTo>
                    <a:lnTo>
                      <a:pt x="356" y="1428"/>
                    </a:lnTo>
                    <a:lnTo>
                      <a:pt x="352" y="1428"/>
                    </a:lnTo>
                    <a:lnTo>
                      <a:pt x="350" y="1430"/>
                    </a:lnTo>
                    <a:lnTo>
                      <a:pt x="346" y="1434"/>
                    </a:lnTo>
                    <a:lnTo>
                      <a:pt x="346" y="1434"/>
                    </a:lnTo>
                    <a:lnTo>
                      <a:pt x="340" y="1432"/>
                    </a:lnTo>
                    <a:lnTo>
                      <a:pt x="334" y="1434"/>
                    </a:lnTo>
                    <a:lnTo>
                      <a:pt x="328" y="1436"/>
                    </a:lnTo>
                    <a:lnTo>
                      <a:pt x="326" y="1442"/>
                    </a:lnTo>
                    <a:lnTo>
                      <a:pt x="326" y="1442"/>
                    </a:lnTo>
                    <a:lnTo>
                      <a:pt x="330" y="1444"/>
                    </a:lnTo>
                    <a:lnTo>
                      <a:pt x="332" y="1444"/>
                    </a:lnTo>
                    <a:lnTo>
                      <a:pt x="338" y="1442"/>
                    </a:lnTo>
                    <a:lnTo>
                      <a:pt x="346" y="1438"/>
                    </a:lnTo>
                    <a:lnTo>
                      <a:pt x="354" y="1438"/>
                    </a:lnTo>
                    <a:lnTo>
                      <a:pt x="354" y="1438"/>
                    </a:lnTo>
                    <a:lnTo>
                      <a:pt x="312" y="1438"/>
                    </a:lnTo>
                    <a:lnTo>
                      <a:pt x="312" y="1438"/>
                    </a:lnTo>
                    <a:lnTo>
                      <a:pt x="302" y="1440"/>
                    </a:lnTo>
                    <a:lnTo>
                      <a:pt x="294" y="1442"/>
                    </a:lnTo>
                    <a:lnTo>
                      <a:pt x="282" y="1450"/>
                    </a:lnTo>
                    <a:lnTo>
                      <a:pt x="268" y="1458"/>
                    </a:lnTo>
                    <a:lnTo>
                      <a:pt x="260" y="1460"/>
                    </a:lnTo>
                    <a:lnTo>
                      <a:pt x="252" y="1462"/>
                    </a:lnTo>
                    <a:lnTo>
                      <a:pt x="252" y="1462"/>
                    </a:lnTo>
                    <a:lnTo>
                      <a:pt x="276" y="1466"/>
                    </a:lnTo>
                    <a:lnTo>
                      <a:pt x="288" y="1468"/>
                    </a:lnTo>
                    <a:lnTo>
                      <a:pt x="296" y="1474"/>
                    </a:lnTo>
                    <a:lnTo>
                      <a:pt x="296" y="1474"/>
                    </a:lnTo>
                    <a:lnTo>
                      <a:pt x="296" y="1480"/>
                    </a:lnTo>
                    <a:lnTo>
                      <a:pt x="296" y="1480"/>
                    </a:lnTo>
                    <a:lnTo>
                      <a:pt x="310" y="1486"/>
                    </a:lnTo>
                    <a:lnTo>
                      <a:pt x="316" y="1488"/>
                    </a:lnTo>
                    <a:lnTo>
                      <a:pt x="322" y="1490"/>
                    </a:lnTo>
                    <a:lnTo>
                      <a:pt x="322" y="1490"/>
                    </a:lnTo>
                    <a:lnTo>
                      <a:pt x="326" y="1488"/>
                    </a:lnTo>
                    <a:lnTo>
                      <a:pt x="328" y="1486"/>
                    </a:lnTo>
                    <a:lnTo>
                      <a:pt x="328" y="1482"/>
                    </a:lnTo>
                    <a:lnTo>
                      <a:pt x="330" y="1482"/>
                    </a:lnTo>
                    <a:lnTo>
                      <a:pt x="330" y="1482"/>
                    </a:lnTo>
                    <a:lnTo>
                      <a:pt x="330" y="1484"/>
                    </a:lnTo>
                    <a:lnTo>
                      <a:pt x="328" y="1486"/>
                    </a:lnTo>
                    <a:lnTo>
                      <a:pt x="326" y="1488"/>
                    </a:lnTo>
                    <a:lnTo>
                      <a:pt x="326" y="1492"/>
                    </a:lnTo>
                    <a:lnTo>
                      <a:pt x="326" y="1492"/>
                    </a:lnTo>
                    <a:lnTo>
                      <a:pt x="334" y="1494"/>
                    </a:lnTo>
                    <a:lnTo>
                      <a:pt x="342" y="1494"/>
                    </a:lnTo>
                    <a:lnTo>
                      <a:pt x="348" y="1490"/>
                    </a:lnTo>
                    <a:lnTo>
                      <a:pt x="354" y="1486"/>
                    </a:lnTo>
                    <a:lnTo>
                      <a:pt x="364" y="1472"/>
                    </a:lnTo>
                    <a:lnTo>
                      <a:pt x="372" y="1460"/>
                    </a:lnTo>
                    <a:lnTo>
                      <a:pt x="372" y="1460"/>
                    </a:lnTo>
                    <a:lnTo>
                      <a:pt x="360" y="1460"/>
                    </a:lnTo>
                    <a:lnTo>
                      <a:pt x="360" y="1460"/>
                    </a:lnTo>
                    <a:lnTo>
                      <a:pt x="358" y="1464"/>
                    </a:lnTo>
                    <a:lnTo>
                      <a:pt x="354" y="1468"/>
                    </a:lnTo>
                    <a:lnTo>
                      <a:pt x="346" y="1472"/>
                    </a:lnTo>
                    <a:lnTo>
                      <a:pt x="334" y="1474"/>
                    </a:lnTo>
                    <a:lnTo>
                      <a:pt x="326" y="1474"/>
                    </a:lnTo>
                    <a:lnTo>
                      <a:pt x="326" y="1474"/>
                    </a:lnTo>
                    <a:lnTo>
                      <a:pt x="326" y="1466"/>
                    </a:lnTo>
                    <a:lnTo>
                      <a:pt x="328" y="1458"/>
                    </a:lnTo>
                    <a:lnTo>
                      <a:pt x="328" y="1458"/>
                    </a:lnTo>
                    <a:lnTo>
                      <a:pt x="324" y="1456"/>
                    </a:lnTo>
                    <a:lnTo>
                      <a:pt x="322" y="1456"/>
                    </a:lnTo>
                    <a:lnTo>
                      <a:pt x="312" y="1460"/>
                    </a:lnTo>
                    <a:lnTo>
                      <a:pt x="304" y="1462"/>
                    </a:lnTo>
                    <a:lnTo>
                      <a:pt x="302" y="1462"/>
                    </a:lnTo>
                    <a:lnTo>
                      <a:pt x="298" y="1460"/>
                    </a:lnTo>
                    <a:lnTo>
                      <a:pt x="298" y="1460"/>
                    </a:lnTo>
                    <a:lnTo>
                      <a:pt x="302" y="1454"/>
                    </a:lnTo>
                    <a:lnTo>
                      <a:pt x="306" y="1450"/>
                    </a:lnTo>
                    <a:lnTo>
                      <a:pt x="310" y="1446"/>
                    </a:lnTo>
                    <a:lnTo>
                      <a:pt x="312" y="1438"/>
                    </a:lnTo>
                    <a:lnTo>
                      <a:pt x="312" y="1438"/>
                    </a:lnTo>
                    <a:lnTo>
                      <a:pt x="1364" y="1446"/>
                    </a:lnTo>
                    <a:lnTo>
                      <a:pt x="1364" y="1446"/>
                    </a:lnTo>
                    <a:lnTo>
                      <a:pt x="1366" y="1452"/>
                    </a:lnTo>
                    <a:lnTo>
                      <a:pt x="1370" y="1458"/>
                    </a:lnTo>
                    <a:lnTo>
                      <a:pt x="1370" y="1458"/>
                    </a:lnTo>
                    <a:lnTo>
                      <a:pt x="1376" y="1458"/>
                    </a:lnTo>
                    <a:lnTo>
                      <a:pt x="1380" y="1458"/>
                    </a:lnTo>
                    <a:lnTo>
                      <a:pt x="1390" y="1460"/>
                    </a:lnTo>
                    <a:lnTo>
                      <a:pt x="1390" y="1460"/>
                    </a:lnTo>
                    <a:lnTo>
                      <a:pt x="1384" y="1452"/>
                    </a:lnTo>
                    <a:lnTo>
                      <a:pt x="1380" y="1446"/>
                    </a:lnTo>
                    <a:lnTo>
                      <a:pt x="1376" y="1442"/>
                    </a:lnTo>
                    <a:lnTo>
                      <a:pt x="1374" y="1442"/>
                    </a:lnTo>
                    <a:lnTo>
                      <a:pt x="1370" y="1442"/>
                    </a:lnTo>
                    <a:lnTo>
                      <a:pt x="1364" y="1446"/>
                    </a:lnTo>
                    <a:lnTo>
                      <a:pt x="1364" y="1446"/>
                    </a:lnTo>
                    <a:lnTo>
                      <a:pt x="126" y="1452"/>
                    </a:lnTo>
                    <a:lnTo>
                      <a:pt x="126" y="1452"/>
                    </a:lnTo>
                    <a:lnTo>
                      <a:pt x="130" y="1454"/>
                    </a:lnTo>
                    <a:lnTo>
                      <a:pt x="134" y="1454"/>
                    </a:lnTo>
                    <a:lnTo>
                      <a:pt x="144" y="1452"/>
                    </a:lnTo>
                    <a:lnTo>
                      <a:pt x="144" y="1452"/>
                    </a:lnTo>
                    <a:lnTo>
                      <a:pt x="144" y="1450"/>
                    </a:lnTo>
                    <a:lnTo>
                      <a:pt x="142" y="1448"/>
                    </a:lnTo>
                    <a:lnTo>
                      <a:pt x="140" y="1444"/>
                    </a:lnTo>
                    <a:lnTo>
                      <a:pt x="140" y="1444"/>
                    </a:lnTo>
                    <a:lnTo>
                      <a:pt x="136" y="1446"/>
                    </a:lnTo>
                    <a:lnTo>
                      <a:pt x="132" y="1450"/>
                    </a:lnTo>
                    <a:lnTo>
                      <a:pt x="132" y="1450"/>
                    </a:lnTo>
                    <a:lnTo>
                      <a:pt x="134" y="1450"/>
                    </a:lnTo>
                    <a:lnTo>
                      <a:pt x="138" y="1452"/>
                    </a:lnTo>
                    <a:lnTo>
                      <a:pt x="138" y="1452"/>
                    </a:lnTo>
                    <a:lnTo>
                      <a:pt x="134" y="1452"/>
                    </a:lnTo>
                    <a:lnTo>
                      <a:pt x="132" y="1452"/>
                    </a:lnTo>
                    <a:lnTo>
                      <a:pt x="128" y="1450"/>
                    </a:lnTo>
                    <a:lnTo>
                      <a:pt x="126" y="1452"/>
                    </a:lnTo>
                    <a:lnTo>
                      <a:pt x="126" y="1452"/>
                    </a:lnTo>
                    <a:lnTo>
                      <a:pt x="82" y="1454"/>
                    </a:lnTo>
                    <a:lnTo>
                      <a:pt x="82" y="1454"/>
                    </a:lnTo>
                    <a:lnTo>
                      <a:pt x="86" y="1456"/>
                    </a:lnTo>
                    <a:lnTo>
                      <a:pt x="92" y="1456"/>
                    </a:lnTo>
                    <a:lnTo>
                      <a:pt x="98" y="1456"/>
                    </a:lnTo>
                    <a:lnTo>
                      <a:pt x="102" y="1454"/>
                    </a:lnTo>
                    <a:lnTo>
                      <a:pt x="102" y="1454"/>
                    </a:lnTo>
                    <a:lnTo>
                      <a:pt x="102" y="1452"/>
                    </a:lnTo>
                    <a:lnTo>
                      <a:pt x="100" y="1450"/>
                    </a:lnTo>
                    <a:lnTo>
                      <a:pt x="92" y="1448"/>
                    </a:lnTo>
                    <a:lnTo>
                      <a:pt x="86" y="1448"/>
                    </a:lnTo>
                    <a:lnTo>
                      <a:pt x="84" y="1450"/>
                    </a:lnTo>
                    <a:lnTo>
                      <a:pt x="82" y="1454"/>
                    </a:lnTo>
                    <a:lnTo>
                      <a:pt x="82" y="1454"/>
                    </a:lnTo>
                    <a:lnTo>
                      <a:pt x="188" y="1468"/>
                    </a:lnTo>
                    <a:lnTo>
                      <a:pt x="188" y="1468"/>
                    </a:lnTo>
                    <a:lnTo>
                      <a:pt x="194" y="1468"/>
                    </a:lnTo>
                    <a:lnTo>
                      <a:pt x="202" y="1464"/>
                    </a:lnTo>
                    <a:lnTo>
                      <a:pt x="208" y="1462"/>
                    </a:lnTo>
                    <a:lnTo>
                      <a:pt x="212" y="1462"/>
                    </a:lnTo>
                    <a:lnTo>
                      <a:pt x="214" y="1462"/>
                    </a:lnTo>
                    <a:lnTo>
                      <a:pt x="214" y="1462"/>
                    </a:lnTo>
                    <a:lnTo>
                      <a:pt x="212" y="1458"/>
                    </a:lnTo>
                    <a:lnTo>
                      <a:pt x="210" y="1456"/>
                    </a:lnTo>
                    <a:lnTo>
                      <a:pt x="204" y="1456"/>
                    </a:lnTo>
                    <a:lnTo>
                      <a:pt x="198" y="1456"/>
                    </a:lnTo>
                    <a:lnTo>
                      <a:pt x="194" y="1458"/>
                    </a:lnTo>
                    <a:lnTo>
                      <a:pt x="190" y="1460"/>
                    </a:lnTo>
                    <a:lnTo>
                      <a:pt x="188" y="1464"/>
                    </a:lnTo>
                    <a:lnTo>
                      <a:pt x="188" y="1468"/>
                    </a:lnTo>
                    <a:lnTo>
                      <a:pt x="188" y="1468"/>
                    </a:lnTo>
                    <a:lnTo>
                      <a:pt x="268" y="1480"/>
                    </a:lnTo>
                    <a:lnTo>
                      <a:pt x="268" y="1480"/>
                    </a:lnTo>
                    <a:lnTo>
                      <a:pt x="258" y="1474"/>
                    </a:lnTo>
                    <a:lnTo>
                      <a:pt x="254" y="1470"/>
                    </a:lnTo>
                    <a:lnTo>
                      <a:pt x="254" y="1468"/>
                    </a:lnTo>
                    <a:lnTo>
                      <a:pt x="256" y="1464"/>
                    </a:lnTo>
                    <a:lnTo>
                      <a:pt x="256" y="1464"/>
                    </a:lnTo>
                    <a:lnTo>
                      <a:pt x="252" y="1466"/>
                    </a:lnTo>
                    <a:lnTo>
                      <a:pt x="248" y="1468"/>
                    </a:lnTo>
                    <a:lnTo>
                      <a:pt x="248" y="1468"/>
                    </a:lnTo>
                    <a:lnTo>
                      <a:pt x="246" y="1464"/>
                    </a:lnTo>
                    <a:lnTo>
                      <a:pt x="246" y="1462"/>
                    </a:lnTo>
                    <a:lnTo>
                      <a:pt x="248" y="1460"/>
                    </a:lnTo>
                    <a:lnTo>
                      <a:pt x="248" y="1460"/>
                    </a:lnTo>
                    <a:lnTo>
                      <a:pt x="244" y="1460"/>
                    </a:lnTo>
                    <a:lnTo>
                      <a:pt x="244" y="1458"/>
                    </a:lnTo>
                    <a:lnTo>
                      <a:pt x="242" y="1458"/>
                    </a:lnTo>
                    <a:lnTo>
                      <a:pt x="240" y="1458"/>
                    </a:lnTo>
                    <a:lnTo>
                      <a:pt x="240" y="1458"/>
                    </a:lnTo>
                    <a:lnTo>
                      <a:pt x="238" y="1466"/>
                    </a:lnTo>
                    <a:lnTo>
                      <a:pt x="238" y="1472"/>
                    </a:lnTo>
                    <a:lnTo>
                      <a:pt x="238" y="1472"/>
                    </a:lnTo>
                    <a:lnTo>
                      <a:pt x="238" y="1470"/>
                    </a:lnTo>
                    <a:lnTo>
                      <a:pt x="236" y="1466"/>
                    </a:lnTo>
                    <a:lnTo>
                      <a:pt x="236" y="1466"/>
                    </a:lnTo>
                    <a:lnTo>
                      <a:pt x="228" y="1470"/>
                    </a:lnTo>
                    <a:lnTo>
                      <a:pt x="226" y="1472"/>
                    </a:lnTo>
                    <a:lnTo>
                      <a:pt x="224" y="1474"/>
                    </a:lnTo>
                    <a:lnTo>
                      <a:pt x="224" y="1474"/>
                    </a:lnTo>
                    <a:lnTo>
                      <a:pt x="224" y="1478"/>
                    </a:lnTo>
                    <a:lnTo>
                      <a:pt x="226" y="1480"/>
                    </a:lnTo>
                    <a:lnTo>
                      <a:pt x="232" y="1480"/>
                    </a:lnTo>
                    <a:lnTo>
                      <a:pt x="240" y="1480"/>
                    </a:lnTo>
                    <a:lnTo>
                      <a:pt x="246" y="1480"/>
                    </a:lnTo>
                    <a:lnTo>
                      <a:pt x="246" y="1480"/>
                    </a:lnTo>
                    <a:lnTo>
                      <a:pt x="248" y="1474"/>
                    </a:lnTo>
                    <a:lnTo>
                      <a:pt x="248" y="1470"/>
                    </a:lnTo>
                    <a:lnTo>
                      <a:pt x="248" y="1470"/>
                    </a:lnTo>
                    <a:lnTo>
                      <a:pt x="250" y="1472"/>
                    </a:lnTo>
                    <a:lnTo>
                      <a:pt x="252" y="1472"/>
                    </a:lnTo>
                    <a:lnTo>
                      <a:pt x="252" y="1472"/>
                    </a:lnTo>
                    <a:lnTo>
                      <a:pt x="248" y="1478"/>
                    </a:lnTo>
                    <a:lnTo>
                      <a:pt x="248" y="1484"/>
                    </a:lnTo>
                    <a:lnTo>
                      <a:pt x="248" y="1492"/>
                    </a:lnTo>
                    <a:lnTo>
                      <a:pt x="244" y="1498"/>
                    </a:lnTo>
                    <a:lnTo>
                      <a:pt x="244" y="1498"/>
                    </a:lnTo>
                    <a:lnTo>
                      <a:pt x="254" y="1500"/>
                    </a:lnTo>
                    <a:lnTo>
                      <a:pt x="262" y="1506"/>
                    </a:lnTo>
                    <a:lnTo>
                      <a:pt x="276" y="1512"/>
                    </a:lnTo>
                    <a:lnTo>
                      <a:pt x="276" y="1512"/>
                    </a:lnTo>
                    <a:lnTo>
                      <a:pt x="274" y="1510"/>
                    </a:lnTo>
                    <a:lnTo>
                      <a:pt x="272" y="1506"/>
                    </a:lnTo>
                    <a:lnTo>
                      <a:pt x="274" y="1506"/>
                    </a:lnTo>
                    <a:lnTo>
                      <a:pt x="274" y="1506"/>
                    </a:lnTo>
                    <a:lnTo>
                      <a:pt x="276" y="1508"/>
                    </a:lnTo>
                    <a:lnTo>
                      <a:pt x="278" y="1512"/>
                    </a:lnTo>
                    <a:lnTo>
                      <a:pt x="280" y="1514"/>
                    </a:lnTo>
                    <a:lnTo>
                      <a:pt x="278" y="1514"/>
                    </a:lnTo>
                    <a:lnTo>
                      <a:pt x="278" y="1514"/>
                    </a:lnTo>
                    <a:lnTo>
                      <a:pt x="288" y="1510"/>
                    </a:lnTo>
                    <a:lnTo>
                      <a:pt x="300" y="1504"/>
                    </a:lnTo>
                    <a:lnTo>
                      <a:pt x="312" y="1500"/>
                    </a:lnTo>
                    <a:lnTo>
                      <a:pt x="326" y="1496"/>
                    </a:lnTo>
                    <a:lnTo>
                      <a:pt x="326" y="1496"/>
                    </a:lnTo>
                    <a:lnTo>
                      <a:pt x="312" y="1488"/>
                    </a:lnTo>
                    <a:lnTo>
                      <a:pt x="298" y="1482"/>
                    </a:lnTo>
                    <a:lnTo>
                      <a:pt x="298" y="1482"/>
                    </a:lnTo>
                    <a:lnTo>
                      <a:pt x="298" y="1488"/>
                    </a:lnTo>
                    <a:lnTo>
                      <a:pt x="296" y="1490"/>
                    </a:lnTo>
                    <a:lnTo>
                      <a:pt x="292" y="1494"/>
                    </a:lnTo>
                    <a:lnTo>
                      <a:pt x="290" y="1494"/>
                    </a:lnTo>
                    <a:lnTo>
                      <a:pt x="282" y="1492"/>
                    </a:lnTo>
                    <a:lnTo>
                      <a:pt x="276" y="1488"/>
                    </a:lnTo>
                    <a:lnTo>
                      <a:pt x="276" y="1488"/>
                    </a:lnTo>
                    <a:lnTo>
                      <a:pt x="266" y="1492"/>
                    </a:lnTo>
                    <a:lnTo>
                      <a:pt x="260" y="1492"/>
                    </a:lnTo>
                    <a:lnTo>
                      <a:pt x="256" y="1492"/>
                    </a:lnTo>
                    <a:lnTo>
                      <a:pt x="256" y="1492"/>
                    </a:lnTo>
                    <a:lnTo>
                      <a:pt x="264" y="1488"/>
                    </a:lnTo>
                    <a:lnTo>
                      <a:pt x="266" y="1484"/>
                    </a:lnTo>
                    <a:lnTo>
                      <a:pt x="268" y="1480"/>
                    </a:lnTo>
                    <a:lnTo>
                      <a:pt x="268" y="1480"/>
                    </a:lnTo>
                    <a:lnTo>
                      <a:pt x="346" y="1464"/>
                    </a:lnTo>
                    <a:lnTo>
                      <a:pt x="346" y="1464"/>
                    </a:lnTo>
                    <a:lnTo>
                      <a:pt x="348" y="1462"/>
                    </a:lnTo>
                    <a:lnTo>
                      <a:pt x="350" y="1462"/>
                    </a:lnTo>
                    <a:lnTo>
                      <a:pt x="352" y="1458"/>
                    </a:lnTo>
                    <a:lnTo>
                      <a:pt x="352" y="1458"/>
                    </a:lnTo>
                    <a:lnTo>
                      <a:pt x="346" y="1458"/>
                    </a:lnTo>
                    <a:lnTo>
                      <a:pt x="346" y="1458"/>
                    </a:lnTo>
                    <a:lnTo>
                      <a:pt x="346" y="1464"/>
                    </a:lnTo>
                    <a:lnTo>
                      <a:pt x="346" y="1464"/>
                    </a:lnTo>
                    <a:lnTo>
                      <a:pt x="92" y="1466"/>
                    </a:lnTo>
                    <a:lnTo>
                      <a:pt x="92" y="1466"/>
                    </a:lnTo>
                    <a:lnTo>
                      <a:pt x="90" y="1464"/>
                    </a:lnTo>
                    <a:lnTo>
                      <a:pt x="88" y="1462"/>
                    </a:lnTo>
                    <a:lnTo>
                      <a:pt x="82" y="1462"/>
                    </a:lnTo>
                    <a:lnTo>
                      <a:pt x="82" y="1462"/>
                    </a:lnTo>
                    <a:lnTo>
                      <a:pt x="84" y="1466"/>
                    </a:lnTo>
                    <a:lnTo>
                      <a:pt x="92" y="1466"/>
                    </a:lnTo>
                    <a:lnTo>
                      <a:pt x="92" y="1466"/>
                    </a:lnTo>
                    <a:lnTo>
                      <a:pt x="158" y="1496"/>
                    </a:lnTo>
                    <a:lnTo>
                      <a:pt x="158" y="1496"/>
                    </a:lnTo>
                    <a:lnTo>
                      <a:pt x="166" y="1496"/>
                    </a:lnTo>
                    <a:lnTo>
                      <a:pt x="174" y="1498"/>
                    </a:lnTo>
                    <a:lnTo>
                      <a:pt x="180" y="1500"/>
                    </a:lnTo>
                    <a:lnTo>
                      <a:pt x="188" y="1500"/>
                    </a:lnTo>
                    <a:lnTo>
                      <a:pt x="188" y="1500"/>
                    </a:lnTo>
                    <a:lnTo>
                      <a:pt x="180" y="1492"/>
                    </a:lnTo>
                    <a:lnTo>
                      <a:pt x="174" y="1482"/>
                    </a:lnTo>
                    <a:lnTo>
                      <a:pt x="174" y="1482"/>
                    </a:lnTo>
                    <a:lnTo>
                      <a:pt x="164" y="1484"/>
                    </a:lnTo>
                    <a:lnTo>
                      <a:pt x="152" y="1486"/>
                    </a:lnTo>
                    <a:lnTo>
                      <a:pt x="148" y="1484"/>
                    </a:lnTo>
                    <a:lnTo>
                      <a:pt x="142" y="1482"/>
                    </a:lnTo>
                    <a:lnTo>
                      <a:pt x="140" y="1480"/>
                    </a:lnTo>
                    <a:lnTo>
                      <a:pt x="138" y="1476"/>
                    </a:lnTo>
                    <a:lnTo>
                      <a:pt x="138" y="1476"/>
                    </a:lnTo>
                    <a:lnTo>
                      <a:pt x="142" y="1474"/>
                    </a:lnTo>
                    <a:lnTo>
                      <a:pt x="150" y="1474"/>
                    </a:lnTo>
                    <a:lnTo>
                      <a:pt x="156" y="1472"/>
                    </a:lnTo>
                    <a:lnTo>
                      <a:pt x="160" y="1470"/>
                    </a:lnTo>
                    <a:lnTo>
                      <a:pt x="160" y="1470"/>
                    </a:lnTo>
                    <a:lnTo>
                      <a:pt x="154" y="1468"/>
                    </a:lnTo>
                    <a:lnTo>
                      <a:pt x="146" y="1466"/>
                    </a:lnTo>
                    <a:lnTo>
                      <a:pt x="132" y="1464"/>
                    </a:lnTo>
                    <a:lnTo>
                      <a:pt x="132" y="1464"/>
                    </a:lnTo>
                    <a:lnTo>
                      <a:pt x="128" y="1468"/>
                    </a:lnTo>
                    <a:lnTo>
                      <a:pt x="124" y="1474"/>
                    </a:lnTo>
                    <a:lnTo>
                      <a:pt x="122" y="1480"/>
                    </a:lnTo>
                    <a:lnTo>
                      <a:pt x="122" y="1490"/>
                    </a:lnTo>
                    <a:lnTo>
                      <a:pt x="122" y="1490"/>
                    </a:lnTo>
                    <a:lnTo>
                      <a:pt x="142" y="1492"/>
                    </a:lnTo>
                    <a:lnTo>
                      <a:pt x="152" y="1494"/>
                    </a:lnTo>
                    <a:lnTo>
                      <a:pt x="160" y="1494"/>
                    </a:lnTo>
                    <a:lnTo>
                      <a:pt x="160" y="1494"/>
                    </a:lnTo>
                    <a:lnTo>
                      <a:pt x="158" y="1496"/>
                    </a:lnTo>
                    <a:lnTo>
                      <a:pt x="158" y="1496"/>
                    </a:lnTo>
                    <a:lnTo>
                      <a:pt x="402" y="1482"/>
                    </a:lnTo>
                    <a:lnTo>
                      <a:pt x="402" y="1482"/>
                    </a:lnTo>
                    <a:lnTo>
                      <a:pt x="394" y="1488"/>
                    </a:lnTo>
                    <a:lnTo>
                      <a:pt x="384" y="1496"/>
                    </a:lnTo>
                    <a:lnTo>
                      <a:pt x="380" y="1498"/>
                    </a:lnTo>
                    <a:lnTo>
                      <a:pt x="376" y="1500"/>
                    </a:lnTo>
                    <a:lnTo>
                      <a:pt x="370" y="1500"/>
                    </a:lnTo>
                    <a:lnTo>
                      <a:pt x="364" y="1498"/>
                    </a:lnTo>
                    <a:lnTo>
                      <a:pt x="364" y="1498"/>
                    </a:lnTo>
                    <a:lnTo>
                      <a:pt x="370" y="1492"/>
                    </a:lnTo>
                    <a:lnTo>
                      <a:pt x="376" y="1484"/>
                    </a:lnTo>
                    <a:lnTo>
                      <a:pt x="378" y="1474"/>
                    </a:lnTo>
                    <a:lnTo>
                      <a:pt x="378" y="1464"/>
                    </a:lnTo>
                    <a:lnTo>
                      <a:pt x="378" y="1464"/>
                    </a:lnTo>
                    <a:lnTo>
                      <a:pt x="370" y="1474"/>
                    </a:lnTo>
                    <a:lnTo>
                      <a:pt x="364" y="1482"/>
                    </a:lnTo>
                    <a:lnTo>
                      <a:pt x="356" y="1490"/>
                    </a:lnTo>
                    <a:lnTo>
                      <a:pt x="348" y="1498"/>
                    </a:lnTo>
                    <a:lnTo>
                      <a:pt x="348" y="1498"/>
                    </a:lnTo>
                    <a:lnTo>
                      <a:pt x="360" y="1500"/>
                    </a:lnTo>
                    <a:lnTo>
                      <a:pt x="368" y="1504"/>
                    </a:lnTo>
                    <a:lnTo>
                      <a:pt x="378" y="1508"/>
                    </a:lnTo>
                    <a:lnTo>
                      <a:pt x="382" y="1510"/>
                    </a:lnTo>
                    <a:lnTo>
                      <a:pt x="388" y="1510"/>
                    </a:lnTo>
                    <a:lnTo>
                      <a:pt x="388" y="1510"/>
                    </a:lnTo>
                    <a:lnTo>
                      <a:pt x="384" y="1508"/>
                    </a:lnTo>
                    <a:lnTo>
                      <a:pt x="382" y="1504"/>
                    </a:lnTo>
                    <a:lnTo>
                      <a:pt x="382" y="1504"/>
                    </a:lnTo>
                    <a:lnTo>
                      <a:pt x="390" y="1510"/>
                    </a:lnTo>
                    <a:lnTo>
                      <a:pt x="392" y="1512"/>
                    </a:lnTo>
                    <a:lnTo>
                      <a:pt x="398" y="1514"/>
                    </a:lnTo>
                    <a:lnTo>
                      <a:pt x="398" y="1514"/>
                    </a:lnTo>
                    <a:lnTo>
                      <a:pt x="400" y="1506"/>
                    </a:lnTo>
                    <a:lnTo>
                      <a:pt x="406" y="1500"/>
                    </a:lnTo>
                    <a:lnTo>
                      <a:pt x="410" y="1496"/>
                    </a:lnTo>
                    <a:lnTo>
                      <a:pt x="416" y="1492"/>
                    </a:lnTo>
                    <a:lnTo>
                      <a:pt x="416" y="1492"/>
                    </a:lnTo>
                    <a:lnTo>
                      <a:pt x="416" y="1490"/>
                    </a:lnTo>
                    <a:lnTo>
                      <a:pt x="414" y="1488"/>
                    </a:lnTo>
                    <a:lnTo>
                      <a:pt x="408" y="1484"/>
                    </a:lnTo>
                    <a:lnTo>
                      <a:pt x="408" y="1484"/>
                    </a:lnTo>
                    <a:lnTo>
                      <a:pt x="408" y="1488"/>
                    </a:lnTo>
                    <a:lnTo>
                      <a:pt x="406" y="1486"/>
                    </a:lnTo>
                    <a:lnTo>
                      <a:pt x="404" y="1484"/>
                    </a:lnTo>
                    <a:lnTo>
                      <a:pt x="402" y="1482"/>
                    </a:lnTo>
                    <a:lnTo>
                      <a:pt x="402" y="1482"/>
                    </a:lnTo>
                    <a:lnTo>
                      <a:pt x="412" y="1470"/>
                    </a:lnTo>
                    <a:lnTo>
                      <a:pt x="412" y="1470"/>
                    </a:lnTo>
                    <a:lnTo>
                      <a:pt x="408" y="1468"/>
                    </a:lnTo>
                    <a:lnTo>
                      <a:pt x="406" y="1466"/>
                    </a:lnTo>
                    <a:lnTo>
                      <a:pt x="404" y="1466"/>
                    </a:lnTo>
                    <a:lnTo>
                      <a:pt x="404" y="1466"/>
                    </a:lnTo>
                    <a:lnTo>
                      <a:pt x="408" y="1470"/>
                    </a:lnTo>
                    <a:lnTo>
                      <a:pt x="410" y="1472"/>
                    </a:lnTo>
                    <a:lnTo>
                      <a:pt x="412" y="1470"/>
                    </a:lnTo>
                    <a:lnTo>
                      <a:pt x="412" y="1470"/>
                    </a:lnTo>
                    <a:lnTo>
                      <a:pt x="94" y="1478"/>
                    </a:lnTo>
                    <a:lnTo>
                      <a:pt x="94" y="1478"/>
                    </a:lnTo>
                    <a:lnTo>
                      <a:pt x="96" y="1482"/>
                    </a:lnTo>
                    <a:lnTo>
                      <a:pt x="98" y="1484"/>
                    </a:lnTo>
                    <a:lnTo>
                      <a:pt x="102" y="1486"/>
                    </a:lnTo>
                    <a:lnTo>
                      <a:pt x="106" y="1484"/>
                    </a:lnTo>
                    <a:lnTo>
                      <a:pt x="110" y="1484"/>
                    </a:lnTo>
                    <a:lnTo>
                      <a:pt x="112" y="1480"/>
                    </a:lnTo>
                    <a:lnTo>
                      <a:pt x="114" y="1476"/>
                    </a:lnTo>
                    <a:lnTo>
                      <a:pt x="116" y="1472"/>
                    </a:lnTo>
                    <a:lnTo>
                      <a:pt x="116" y="1472"/>
                    </a:lnTo>
                    <a:lnTo>
                      <a:pt x="108" y="1468"/>
                    </a:lnTo>
                    <a:lnTo>
                      <a:pt x="102" y="1470"/>
                    </a:lnTo>
                    <a:lnTo>
                      <a:pt x="96" y="1474"/>
                    </a:lnTo>
                    <a:lnTo>
                      <a:pt x="94" y="1478"/>
                    </a:lnTo>
                    <a:lnTo>
                      <a:pt x="94" y="1478"/>
                    </a:lnTo>
                    <a:lnTo>
                      <a:pt x="210" y="1484"/>
                    </a:lnTo>
                    <a:lnTo>
                      <a:pt x="210" y="1484"/>
                    </a:lnTo>
                    <a:lnTo>
                      <a:pt x="214" y="1484"/>
                    </a:lnTo>
                    <a:lnTo>
                      <a:pt x="214" y="1484"/>
                    </a:lnTo>
                    <a:lnTo>
                      <a:pt x="214" y="1480"/>
                    </a:lnTo>
                    <a:lnTo>
                      <a:pt x="214" y="1480"/>
                    </a:lnTo>
                    <a:lnTo>
                      <a:pt x="212" y="1480"/>
                    </a:lnTo>
                    <a:lnTo>
                      <a:pt x="212" y="1482"/>
                    </a:lnTo>
                    <a:lnTo>
                      <a:pt x="210" y="1484"/>
                    </a:lnTo>
                    <a:lnTo>
                      <a:pt x="210" y="1484"/>
                    </a:lnTo>
                    <a:lnTo>
                      <a:pt x="212" y="1478"/>
                    </a:lnTo>
                    <a:lnTo>
                      <a:pt x="212" y="1478"/>
                    </a:lnTo>
                    <a:lnTo>
                      <a:pt x="200" y="1482"/>
                    </a:lnTo>
                    <a:lnTo>
                      <a:pt x="186" y="1488"/>
                    </a:lnTo>
                    <a:lnTo>
                      <a:pt x="186" y="1488"/>
                    </a:lnTo>
                    <a:lnTo>
                      <a:pt x="184" y="1484"/>
                    </a:lnTo>
                    <a:lnTo>
                      <a:pt x="182" y="1482"/>
                    </a:lnTo>
                    <a:lnTo>
                      <a:pt x="178" y="1482"/>
                    </a:lnTo>
                    <a:lnTo>
                      <a:pt x="176" y="1480"/>
                    </a:lnTo>
                    <a:lnTo>
                      <a:pt x="176" y="1480"/>
                    </a:lnTo>
                    <a:lnTo>
                      <a:pt x="180" y="1484"/>
                    </a:lnTo>
                    <a:lnTo>
                      <a:pt x="184" y="1488"/>
                    </a:lnTo>
                    <a:lnTo>
                      <a:pt x="194" y="1494"/>
                    </a:lnTo>
                    <a:lnTo>
                      <a:pt x="194" y="1494"/>
                    </a:lnTo>
                    <a:lnTo>
                      <a:pt x="190" y="1494"/>
                    </a:lnTo>
                    <a:lnTo>
                      <a:pt x="188" y="1496"/>
                    </a:lnTo>
                    <a:lnTo>
                      <a:pt x="188" y="1496"/>
                    </a:lnTo>
                    <a:lnTo>
                      <a:pt x="198" y="1504"/>
                    </a:lnTo>
                    <a:lnTo>
                      <a:pt x="210" y="1508"/>
                    </a:lnTo>
                    <a:lnTo>
                      <a:pt x="210" y="1508"/>
                    </a:lnTo>
                    <a:lnTo>
                      <a:pt x="206" y="1502"/>
                    </a:lnTo>
                    <a:lnTo>
                      <a:pt x="202" y="1498"/>
                    </a:lnTo>
                    <a:lnTo>
                      <a:pt x="198" y="1494"/>
                    </a:lnTo>
                    <a:lnTo>
                      <a:pt x="196" y="1486"/>
                    </a:lnTo>
                    <a:lnTo>
                      <a:pt x="196" y="1486"/>
                    </a:lnTo>
                    <a:lnTo>
                      <a:pt x="210" y="1486"/>
                    </a:lnTo>
                    <a:lnTo>
                      <a:pt x="210" y="1486"/>
                    </a:lnTo>
                    <a:lnTo>
                      <a:pt x="210" y="1482"/>
                    </a:lnTo>
                    <a:lnTo>
                      <a:pt x="212" y="1478"/>
                    </a:lnTo>
                    <a:lnTo>
                      <a:pt x="212" y="1478"/>
                    </a:lnTo>
                    <a:lnTo>
                      <a:pt x="1416" y="1512"/>
                    </a:lnTo>
                    <a:lnTo>
                      <a:pt x="1416" y="1512"/>
                    </a:lnTo>
                    <a:lnTo>
                      <a:pt x="1422" y="1508"/>
                    </a:lnTo>
                    <a:lnTo>
                      <a:pt x="1422" y="1508"/>
                    </a:lnTo>
                    <a:lnTo>
                      <a:pt x="1420" y="1500"/>
                    </a:lnTo>
                    <a:lnTo>
                      <a:pt x="1416" y="1492"/>
                    </a:lnTo>
                    <a:lnTo>
                      <a:pt x="1412" y="1484"/>
                    </a:lnTo>
                    <a:lnTo>
                      <a:pt x="1406" y="1480"/>
                    </a:lnTo>
                    <a:lnTo>
                      <a:pt x="1406" y="1480"/>
                    </a:lnTo>
                    <a:lnTo>
                      <a:pt x="1404" y="1486"/>
                    </a:lnTo>
                    <a:lnTo>
                      <a:pt x="1400" y="1490"/>
                    </a:lnTo>
                    <a:lnTo>
                      <a:pt x="1390" y="1496"/>
                    </a:lnTo>
                    <a:lnTo>
                      <a:pt x="1390" y="1496"/>
                    </a:lnTo>
                    <a:lnTo>
                      <a:pt x="1392" y="1500"/>
                    </a:lnTo>
                    <a:lnTo>
                      <a:pt x="1392" y="1502"/>
                    </a:lnTo>
                    <a:lnTo>
                      <a:pt x="1398" y="1504"/>
                    </a:lnTo>
                    <a:lnTo>
                      <a:pt x="1402" y="1504"/>
                    </a:lnTo>
                    <a:lnTo>
                      <a:pt x="1408" y="1508"/>
                    </a:lnTo>
                    <a:lnTo>
                      <a:pt x="1408" y="1508"/>
                    </a:lnTo>
                    <a:lnTo>
                      <a:pt x="1406" y="1508"/>
                    </a:lnTo>
                    <a:lnTo>
                      <a:pt x="1404" y="1506"/>
                    </a:lnTo>
                    <a:lnTo>
                      <a:pt x="1402" y="1506"/>
                    </a:lnTo>
                    <a:lnTo>
                      <a:pt x="1402" y="1508"/>
                    </a:lnTo>
                    <a:lnTo>
                      <a:pt x="1402" y="1508"/>
                    </a:lnTo>
                    <a:lnTo>
                      <a:pt x="1408" y="1510"/>
                    </a:lnTo>
                    <a:lnTo>
                      <a:pt x="1414" y="1512"/>
                    </a:lnTo>
                    <a:lnTo>
                      <a:pt x="1414" y="1512"/>
                    </a:lnTo>
                    <a:lnTo>
                      <a:pt x="1414" y="1510"/>
                    </a:lnTo>
                    <a:lnTo>
                      <a:pt x="1414" y="1508"/>
                    </a:lnTo>
                    <a:lnTo>
                      <a:pt x="1416" y="1508"/>
                    </a:lnTo>
                    <a:lnTo>
                      <a:pt x="1418" y="1510"/>
                    </a:lnTo>
                    <a:lnTo>
                      <a:pt x="1418" y="1510"/>
                    </a:lnTo>
                    <a:lnTo>
                      <a:pt x="1416" y="1510"/>
                    </a:lnTo>
                    <a:lnTo>
                      <a:pt x="1416" y="1512"/>
                    </a:lnTo>
                    <a:lnTo>
                      <a:pt x="1416" y="1512"/>
                    </a:lnTo>
                    <a:lnTo>
                      <a:pt x="66" y="1500"/>
                    </a:lnTo>
                    <a:lnTo>
                      <a:pt x="66" y="1500"/>
                    </a:lnTo>
                    <a:lnTo>
                      <a:pt x="76" y="1504"/>
                    </a:lnTo>
                    <a:lnTo>
                      <a:pt x="82" y="1506"/>
                    </a:lnTo>
                    <a:lnTo>
                      <a:pt x="84" y="1504"/>
                    </a:lnTo>
                    <a:lnTo>
                      <a:pt x="86" y="1502"/>
                    </a:lnTo>
                    <a:lnTo>
                      <a:pt x="86" y="1502"/>
                    </a:lnTo>
                    <a:lnTo>
                      <a:pt x="82" y="1498"/>
                    </a:lnTo>
                    <a:lnTo>
                      <a:pt x="74" y="1494"/>
                    </a:lnTo>
                    <a:lnTo>
                      <a:pt x="72" y="1494"/>
                    </a:lnTo>
                    <a:lnTo>
                      <a:pt x="68" y="1494"/>
                    </a:lnTo>
                    <a:lnTo>
                      <a:pt x="66" y="1496"/>
                    </a:lnTo>
                    <a:lnTo>
                      <a:pt x="66" y="1500"/>
                    </a:lnTo>
                    <a:lnTo>
                      <a:pt x="66" y="1500"/>
                    </a:lnTo>
                    <a:lnTo>
                      <a:pt x="160" y="1524"/>
                    </a:lnTo>
                    <a:lnTo>
                      <a:pt x="160" y="1524"/>
                    </a:lnTo>
                    <a:lnTo>
                      <a:pt x="152" y="1512"/>
                    </a:lnTo>
                    <a:lnTo>
                      <a:pt x="144" y="1500"/>
                    </a:lnTo>
                    <a:lnTo>
                      <a:pt x="140" y="1496"/>
                    </a:lnTo>
                    <a:lnTo>
                      <a:pt x="136" y="1494"/>
                    </a:lnTo>
                    <a:lnTo>
                      <a:pt x="128" y="1492"/>
                    </a:lnTo>
                    <a:lnTo>
                      <a:pt x="120" y="1496"/>
                    </a:lnTo>
                    <a:lnTo>
                      <a:pt x="120" y="1496"/>
                    </a:lnTo>
                    <a:lnTo>
                      <a:pt x="120" y="1500"/>
                    </a:lnTo>
                    <a:lnTo>
                      <a:pt x="118" y="1504"/>
                    </a:lnTo>
                    <a:lnTo>
                      <a:pt x="110" y="1508"/>
                    </a:lnTo>
                    <a:lnTo>
                      <a:pt x="110" y="1508"/>
                    </a:lnTo>
                    <a:lnTo>
                      <a:pt x="112" y="1512"/>
                    </a:lnTo>
                    <a:lnTo>
                      <a:pt x="112" y="1514"/>
                    </a:lnTo>
                    <a:lnTo>
                      <a:pt x="116" y="1520"/>
                    </a:lnTo>
                    <a:lnTo>
                      <a:pt x="116" y="1520"/>
                    </a:lnTo>
                    <a:lnTo>
                      <a:pt x="124" y="1520"/>
                    </a:lnTo>
                    <a:lnTo>
                      <a:pt x="134" y="1520"/>
                    </a:lnTo>
                    <a:lnTo>
                      <a:pt x="152" y="1524"/>
                    </a:lnTo>
                    <a:lnTo>
                      <a:pt x="152" y="1524"/>
                    </a:lnTo>
                    <a:lnTo>
                      <a:pt x="138" y="1530"/>
                    </a:lnTo>
                    <a:lnTo>
                      <a:pt x="134" y="1534"/>
                    </a:lnTo>
                    <a:lnTo>
                      <a:pt x="132" y="1540"/>
                    </a:lnTo>
                    <a:lnTo>
                      <a:pt x="132" y="1540"/>
                    </a:lnTo>
                    <a:lnTo>
                      <a:pt x="140" y="1540"/>
                    </a:lnTo>
                    <a:lnTo>
                      <a:pt x="150" y="1538"/>
                    </a:lnTo>
                    <a:lnTo>
                      <a:pt x="158" y="1536"/>
                    </a:lnTo>
                    <a:lnTo>
                      <a:pt x="166" y="1538"/>
                    </a:lnTo>
                    <a:lnTo>
                      <a:pt x="166" y="1538"/>
                    </a:lnTo>
                    <a:lnTo>
                      <a:pt x="166" y="1532"/>
                    </a:lnTo>
                    <a:lnTo>
                      <a:pt x="164" y="1530"/>
                    </a:lnTo>
                    <a:lnTo>
                      <a:pt x="160" y="1524"/>
                    </a:lnTo>
                    <a:lnTo>
                      <a:pt x="160" y="1524"/>
                    </a:lnTo>
                    <a:lnTo>
                      <a:pt x="150" y="1502"/>
                    </a:lnTo>
                    <a:lnTo>
                      <a:pt x="150" y="1502"/>
                    </a:lnTo>
                    <a:lnTo>
                      <a:pt x="152" y="1508"/>
                    </a:lnTo>
                    <a:lnTo>
                      <a:pt x="156" y="1516"/>
                    </a:lnTo>
                    <a:lnTo>
                      <a:pt x="162" y="1522"/>
                    </a:lnTo>
                    <a:lnTo>
                      <a:pt x="166" y="1530"/>
                    </a:lnTo>
                    <a:lnTo>
                      <a:pt x="166" y="1530"/>
                    </a:lnTo>
                    <a:lnTo>
                      <a:pt x="168" y="1530"/>
                    </a:lnTo>
                    <a:lnTo>
                      <a:pt x="172" y="1528"/>
                    </a:lnTo>
                    <a:lnTo>
                      <a:pt x="176" y="1526"/>
                    </a:lnTo>
                    <a:lnTo>
                      <a:pt x="180" y="1526"/>
                    </a:lnTo>
                    <a:lnTo>
                      <a:pt x="180" y="1526"/>
                    </a:lnTo>
                    <a:lnTo>
                      <a:pt x="178" y="1520"/>
                    </a:lnTo>
                    <a:lnTo>
                      <a:pt x="180" y="1516"/>
                    </a:lnTo>
                    <a:lnTo>
                      <a:pt x="182" y="1516"/>
                    </a:lnTo>
                    <a:lnTo>
                      <a:pt x="182" y="1516"/>
                    </a:lnTo>
                    <a:lnTo>
                      <a:pt x="200" y="1522"/>
                    </a:lnTo>
                    <a:lnTo>
                      <a:pt x="204" y="1522"/>
                    </a:lnTo>
                    <a:lnTo>
                      <a:pt x="208" y="1522"/>
                    </a:lnTo>
                    <a:lnTo>
                      <a:pt x="210" y="1518"/>
                    </a:lnTo>
                    <a:lnTo>
                      <a:pt x="212" y="1514"/>
                    </a:lnTo>
                    <a:lnTo>
                      <a:pt x="212" y="1514"/>
                    </a:lnTo>
                    <a:lnTo>
                      <a:pt x="200" y="1508"/>
                    </a:lnTo>
                    <a:lnTo>
                      <a:pt x="184" y="1504"/>
                    </a:lnTo>
                    <a:lnTo>
                      <a:pt x="168" y="1502"/>
                    </a:lnTo>
                    <a:lnTo>
                      <a:pt x="150" y="1502"/>
                    </a:lnTo>
                    <a:lnTo>
                      <a:pt x="150" y="1502"/>
                    </a:lnTo>
                    <a:lnTo>
                      <a:pt x="96" y="1510"/>
                    </a:lnTo>
                    <a:lnTo>
                      <a:pt x="96" y="1510"/>
                    </a:lnTo>
                    <a:lnTo>
                      <a:pt x="84" y="1510"/>
                    </a:lnTo>
                    <a:lnTo>
                      <a:pt x="84" y="1510"/>
                    </a:lnTo>
                    <a:lnTo>
                      <a:pt x="84" y="1512"/>
                    </a:lnTo>
                    <a:lnTo>
                      <a:pt x="86" y="1514"/>
                    </a:lnTo>
                    <a:lnTo>
                      <a:pt x="90" y="1514"/>
                    </a:lnTo>
                    <a:lnTo>
                      <a:pt x="94" y="1512"/>
                    </a:lnTo>
                    <a:lnTo>
                      <a:pt x="96" y="1510"/>
                    </a:lnTo>
                    <a:lnTo>
                      <a:pt x="96" y="1510"/>
                    </a:lnTo>
                    <a:lnTo>
                      <a:pt x="668" y="1538"/>
                    </a:lnTo>
                    <a:lnTo>
                      <a:pt x="668" y="1538"/>
                    </a:lnTo>
                    <a:lnTo>
                      <a:pt x="610" y="1520"/>
                    </a:lnTo>
                    <a:lnTo>
                      <a:pt x="580" y="1512"/>
                    </a:lnTo>
                    <a:lnTo>
                      <a:pt x="566" y="1512"/>
                    </a:lnTo>
                    <a:lnTo>
                      <a:pt x="550" y="1512"/>
                    </a:lnTo>
                    <a:lnTo>
                      <a:pt x="550" y="1512"/>
                    </a:lnTo>
                    <a:lnTo>
                      <a:pt x="534" y="1512"/>
                    </a:lnTo>
                    <a:lnTo>
                      <a:pt x="518" y="1514"/>
                    </a:lnTo>
                    <a:lnTo>
                      <a:pt x="518" y="1514"/>
                    </a:lnTo>
                    <a:lnTo>
                      <a:pt x="512" y="1516"/>
                    </a:lnTo>
                    <a:lnTo>
                      <a:pt x="506" y="1524"/>
                    </a:lnTo>
                    <a:lnTo>
                      <a:pt x="502" y="1530"/>
                    </a:lnTo>
                    <a:lnTo>
                      <a:pt x="500" y="1534"/>
                    </a:lnTo>
                    <a:lnTo>
                      <a:pt x="500" y="1534"/>
                    </a:lnTo>
                    <a:lnTo>
                      <a:pt x="548" y="1542"/>
                    </a:lnTo>
                    <a:lnTo>
                      <a:pt x="596" y="1552"/>
                    </a:lnTo>
                    <a:lnTo>
                      <a:pt x="644" y="1562"/>
                    </a:lnTo>
                    <a:lnTo>
                      <a:pt x="668" y="1566"/>
                    </a:lnTo>
                    <a:lnTo>
                      <a:pt x="692" y="1568"/>
                    </a:lnTo>
                    <a:lnTo>
                      <a:pt x="692" y="1568"/>
                    </a:lnTo>
                    <a:lnTo>
                      <a:pt x="714" y="1568"/>
                    </a:lnTo>
                    <a:lnTo>
                      <a:pt x="714" y="1568"/>
                    </a:lnTo>
                    <a:lnTo>
                      <a:pt x="784" y="1564"/>
                    </a:lnTo>
                    <a:lnTo>
                      <a:pt x="784" y="1564"/>
                    </a:lnTo>
                    <a:lnTo>
                      <a:pt x="758" y="1556"/>
                    </a:lnTo>
                    <a:lnTo>
                      <a:pt x="728" y="1550"/>
                    </a:lnTo>
                    <a:lnTo>
                      <a:pt x="698" y="1544"/>
                    </a:lnTo>
                    <a:lnTo>
                      <a:pt x="668" y="1538"/>
                    </a:lnTo>
                    <a:lnTo>
                      <a:pt x="668" y="1538"/>
                    </a:lnTo>
                    <a:lnTo>
                      <a:pt x="1410" y="1518"/>
                    </a:lnTo>
                    <a:lnTo>
                      <a:pt x="1410" y="1518"/>
                    </a:lnTo>
                    <a:lnTo>
                      <a:pt x="1410" y="1520"/>
                    </a:lnTo>
                    <a:lnTo>
                      <a:pt x="1412" y="1520"/>
                    </a:lnTo>
                    <a:lnTo>
                      <a:pt x="1414" y="1522"/>
                    </a:lnTo>
                    <a:lnTo>
                      <a:pt x="1414" y="1524"/>
                    </a:lnTo>
                    <a:lnTo>
                      <a:pt x="1414" y="1524"/>
                    </a:lnTo>
                    <a:lnTo>
                      <a:pt x="1412" y="1522"/>
                    </a:lnTo>
                    <a:lnTo>
                      <a:pt x="1406" y="1522"/>
                    </a:lnTo>
                    <a:lnTo>
                      <a:pt x="1404" y="1524"/>
                    </a:lnTo>
                    <a:lnTo>
                      <a:pt x="1402" y="1526"/>
                    </a:lnTo>
                    <a:lnTo>
                      <a:pt x="1402" y="1526"/>
                    </a:lnTo>
                    <a:lnTo>
                      <a:pt x="1410" y="1528"/>
                    </a:lnTo>
                    <a:lnTo>
                      <a:pt x="1418" y="1526"/>
                    </a:lnTo>
                    <a:lnTo>
                      <a:pt x="1420" y="1524"/>
                    </a:lnTo>
                    <a:lnTo>
                      <a:pt x="1422" y="1522"/>
                    </a:lnTo>
                    <a:lnTo>
                      <a:pt x="1422" y="1518"/>
                    </a:lnTo>
                    <a:lnTo>
                      <a:pt x="1422" y="1514"/>
                    </a:lnTo>
                    <a:lnTo>
                      <a:pt x="1422" y="1514"/>
                    </a:lnTo>
                    <a:lnTo>
                      <a:pt x="1418" y="1512"/>
                    </a:lnTo>
                    <a:lnTo>
                      <a:pt x="1414" y="1514"/>
                    </a:lnTo>
                    <a:lnTo>
                      <a:pt x="1412" y="1516"/>
                    </a:lnTo>
                    <a:lnTo>
                      <a:pt x="1410" y="1518"/>
                    </a:lnTo>
                    <a:lnTo>
                      <a:pt x="1410" y="1518"/>
                    </a:lnTo>
                    <a:lnTo>
                      <a:pt x="116" y="1534"/>
                    </a:lnTo>
                    <a:lnTo>
                      <a:pt x="116" y="1534"/>
                    </a:lnTo>
                    <a:lnTo>
                      <a:pt x="114" y="1528"/>
                    </a:lnTo>
                    <a:lnTo>
                      <a:pt x="112" y="1524"/>
                    </a:lnTo>
                    <a:lnTo>
                      <a:pt x="104" y="1514"/>
                    </a:lnTo>
                    <a:lnTo>
                      <a:pt x="104" y="1514"/>
                    </a:lnTo>
                    <a:lnTo>
                      <a:pt x="106" y="1518"/>
                    </a:lnTo>
                    <a:lnTo>
                      <a:pt x="108" y="1524"/>
                    </a:lnTo>
                    <a:lnTo>
                      <a:pt x="108" y="1524"/>
                    </a:lnTo>
                    <a:lnTo>
                      <a:pt x="98" y="1526"/>
                    </a:lnTo>
                    <a:lnTo>
                      <a:pt x="88" y="1528"/>
                    </a:lnTo>
                    <a:lnTo>
                      <a:pt x="88" y="1528"/>
                    </a:lnTo>
                    <a:lnTo>
                      <a:pt x="92" y="1530"/>
                    </a:lnTo>
                    <a:lnTo>
                      <a:pt x="94" y="1532"/>
                    </a:lnTo>
                    <a:lnTo>
                      <a:pt x="98" y="1536"/>
                    </a:lnTo>
                    <a:lnTo>
                      <a:pt x="102" y="1542"/>
                    </a:lnTo>
                    <a:lnTo>
                      <a:pt x="106" y="1542"/>
                    </a:lnTo>
                    <a:lnTo>
                      <a:pt x="110" y="1542"/>
                    </a:lnTo>
                    <a:lnTo>
                      <a:pt x="110" y="1542"/>
                    </a:lnTo>
                    <a:lnTo>
                      <a:pt x="110" y="1538"/>
                    </a:lnTo>
                    <a:lnTo>
                      <a:pt x="110" y="1538"/>
                    </a:lnTo>
                    <a:lnTo>
                      <a:pt x="102" y="1536"/>
                    </a:lnTo>
                    <a:lnTo>
                      <a:pt x="100" y="1534"/>
                    </a:lnTo>
                    <a:lnTo>
                      <a:pt x="100" y="1532"/>
                    </a:lnTo>
                    <a:lnTo>
                      <a:pt x="100" y="1532"/>
                    </a:lnTo>
                    <a:lnTo>
                      <a:pt x="106" y="1536"/>
                    </a:lnTo>
                    <a:lnTo>
                      <a:pt x="110" y="1536"/>
                    </a:lnTo>
                    <a:lnTo>
                      <a:pt x="112" y="1534"/>
                    </a:lnTo>
                    <a:lnTo>
                      <a:pt x="112" y="1534"/>
                    </a:lnTo>
                    <a:lnTo>
                      <a:pt x="108" y="1532"/>
                    </a:lnTo>
                    <a:lnTo>
                      <a:pt x="106" y="1532"/>
                    </a:lnTo>
                    <a:lnTo>
                      <a:pt x="108" y="1530"/>
                    </a:lnTo>
                    <a:lnTo>
                      <a:pt x="108" y="1530"/>
                    </a:lnTo>
                    <a:lnTo>
                      <a:pt x="110" y="1532"/>
                    </a:lnTo>
                    <a:lnTo>
                      <a:pt x="116" y="1534"/>
                    </a:lnTo>
                    <a:lnTo>
                      <a:pt x="116" y="1534"/>
                    </a:lnTo>
                    <a:lnTo>
                      <a:pt x="374" y="1514"/>
                    </a:lnTo>
                    <a:lnTo>
                      <a:pt x="374" y="1514"/>
                    </a:lnTo>
                    <a:lnTo>
                      <a:pt x="364" y="1522"/>
                    </a:lnTo>
                    <a:lnTo>
                      <a:pt x="356" y="1530"/>
                    </a:lnTo>
                    <a:lnTo>
                      <a:pt x="356" y="1530"/>
                    </a:lnTo>
                    <a:lnTo>
                      <a:pt x="378" y="1528"/>
                    </a:lnTo>
                    <a:lnTo>
                      <a:pt x="390" y="1528"/>
                    </a:lnTo>
                    <a:lnTo>
                      <a:pt x="398" y="1524"/>
                    </a:lnTo>
                    <a:lnTo>
                      <a:pt x="398" y="1524"/>
                    </a:lnTo>
                    <a:lnTo>
                      <a:pt x="396" y="1522"/>
                    </a:lnTo>
                    <a:lnTo>
                      <a:pt x="396" y="1518"/>
                    </a:lnTo>
                    <a:lnTo>
                      <a:pt x="396" y="1518"/>
                    </a:lnTo>
                    <a:lnTo>
                      <a:pt x="384" y="1516"/>
                    </a:lnTo>
                    <a:lnTo>
                      <a:pt x="374" y="1514"/>
                    </a:lnTo>
                    <a:lnTo>
                      <a:pt x="374" y="1514"/>
                    </a:lnTo>
                    <a:lnTo>
                      <a:pt x="266" y="1522"/>
                    </a:lnTo>
                    <a:lnTo>
                      <a:pt x="266" y="1522"/>
                    </a:lnTo>
                    <a:lnTo>
                      <a:pt x="264" y="1518"/>
                    </a:lnTo>
                    <a:lnTo>
                      <a:pt x="260" y="1518"/>
                    </a:lnTo>
                    <a:lnTo>
                      <a:pt x="256" y="1520"/>
                    </a:lnTo>
                    <a:lnTo>
                      <a:pt x="252" y="1524"/>
                    </a:lnTo>
                    <a:lnTo>
                      <a:pt x="252" y="1524"/>
                    </a:lnTo>
                    <a:lnTo>
                      <a:pt x="256" y="1526"/>
                    </a:lnTo>
                    <a:lnTo>
                      <a:pt x="260" y="1526"/>
                    </a:lnTo>
                    <a:lnTo>
                      <a:pt x="264" y="1528"/>
                    </a:lnTo>
                    <a:lnTo>
                      <a:pt x="266" y="1526"/>
                    </a:lnTo>
                    <a:lnTo>
                      <a:pt x="266" y="1526"/>
                    </a:lnTo>
                    <a:lnTo>
                      <a:pt x="264" y="1526"/>
                    </a:lnTo>
                    <a:lnTo>
                      <a:pt x="264" y="1524"/>
                    </a:lnTo>
                    <a:lnTo>
                      <a:pt x="266" y="1524"/>
                    </a:lnTo>
                    <a:lnTo>
                      <a:pt x="266" y="1522"/>
                    </a:lnTo>
                    <a:lnTo>
                      <a:pt x="266" y="1522"/>
                    </a:lnTo>
                    <a:lnTo>
                      <a:pt x="470" y="1524"/>
                    </a:lnTo>
                    <a:lnTo>
                      <a:pt x="470" y="1524"/>
                    </a:lnTo>
                    <a:lnTo>
                      <a:pt x="470" y="1528"/>
                    </a:lnTo>
                    <a:lnTo>
                      <a:pt x="474" y="1530"/>
                    </a:lnTo>
                    <a:lnTo>
                      <a:pt x="478" y="1530"/>
                    </a:lnTo>
                    <a:lnTo>
                      <a:pt x="484" y="1530"/>
                    </a:lnTo>
                    <a:lnTo>
                      <a:pt x="488" y="1528"/>
                    </a:lnTo>
                    <a:lnTo>
                      <a:pt x="492" y="1526"/>
                    </a:lnTo>
                    <a:lnTo>
                      <a:pt x="494" y="1522"/>
                    </a:lnTo>
                    <a:lnTo>
                      <a:pt x="492" y="1518"/>
                    </a:lnTo>
                    <a:lnTo>
                      <a:pt x="492" y="1518"/>
                    </a:lnTo>
                    <a:lnTo>
                      <a:pt x="488" y="1520"/>
                    </a:lnTo>
                    <a:lnTo>
                      <a:pt x="482" y="1522"/>
                    </a:lnTo>
                    <a:lnTo>
                      <a:pt x="470" y="1524"/>
                    </a:lnTo>
                    <a:lnTo>
                      <a:pt x="470" y="1524"/>
                    </a:lnTo>
                    <a:lnTo>
                      <a:pt x="28" y="1528"/>
                    </a:lnTo>
                    <a:lnTo>
                      <a:pt x="28" y="1528"/>
                    </a:lnTo>
                    <a:lnTo>
                      <a:pt x="28" y="1530"/>
                    </a:lnTo>
                    <a:lnTo>
                      <a:pt x="32" y="1532"/>
                    </a:lnTo>
                    <a:lnTo>
                      <a:pt x="34" y="1532"/>
                    </a:lnTo>
                    <a:lnTo>
                      <a:pt x="36" y="1532"/>
                    </a:lnTo>
                    <a:lnTo>
                      <a:pt x="36" y="1532"/>
                    </a:lnTo>
                    <a:lnTo>
                      <a:pt x="34" y="1528"/>
                    </a:lnTo>
                    <a:lnTo>
                      <a:pt x="30" y="1526"/>
                    </a:lnTo>
                    <a:lnTo>
                      <a:pt x="28" y="1528"/>
                    </a:lnTo>
                    <a:lnTo>
                      <a:pt x="28" y="1528"/>
                    </a:lnTo>
                    <a:lnTo>
                      <a:pt x="308" y="1530"/>
                    </a:lnTo>
                    <a:lnTo>
                      <a:pt x="308" y="1530"/>
                    </a:lnTo>
                    <a:lnTo>
                      <a:pt x="302" y="1528"/>
                    </a:lnTo>
                    <a:lnTo>
                      <a:pt x="300" y="1526"/>
                    </a:lnTo>
                    <a:lnTo>
                      <a:pt x="296" y="1528"/>
                    </a:lnTo>
                    <a:lnTo>
                      <a:pt x="296" y="1528"/>
                    </a:lnTo>
                    <a:lnTo>
                      <a:pt x="302" y="1530"/>
                    </a:lnTo>
                    <a:lnTo>
                      <a:pt x="306" y="1532"/>
                    </a:lnTo>
                    <a:lnTo>
                      <a:pt x="308" y="1530"/>
                    </a:lnTo>
                    <a:lnTo>
                      <a:pt x="308" y="1530"/>
                    </a:lnTo>
                    <a:lnTo>
                      <a:pt x="290" y="1532"/>
                    </a:lnTo>
                    <a:lnTo>
                      <a:pt x="290" y="1532"/>
                    </a:lnTo>
                    <a:lnTo>
                      <a:pt x="296" y="1532"/>
                    </a:lnTo>
                    <a:lnTo>
                      <a:pt x="298" y="1532"/>
                    </a:lnTo>
                    <a:lnTo>
                      <a:pt x="298" y="1532"/>
                    </a:lnTo>
                    <a:lnTo>
                      <a:pt x="298" y="1532"/>
                    </a:lnTo>
                    <a:lnTo>
                      <a:pt x="296" y="1530"/>
                    </a:lnTo>
                    <a:lnTo>
                      <a:pt x="296" y="1528"/>
                    </a:lnTo>
                    <a:lnTo>
                      <a:pt x="294" y="1528"/>
                    </a:lnTo>
                    <a:lnTo>
                      <a:pt x="294" y="1528"/>
                    </a:lnTo>
                    <a:lnTo>
                      <a:pt x="290" y="1532"/>
                    </a:lnTo>
                    <a:lnTo>
                      <a:pt x="290" y="1532"/>
                    </a:lnTo>
                    <a:lnTo>
                      <a:pt x="38" y="1534"/>
                    </a:lnTo>
                    <a:lnTo>
                      <a:pt x="38" y="1534"/>
                    </a:lnTo>
                    <a:lnTo>
                      <a:pt x="42" y="1534"/>
                    </a:lnTo>
                    <a:lnTo>
                      <a:pt x="44" y="1534"/>
                    </a:lnTo>
                    <a:lnTo>
                      <a:pt x="44" y="1532"/>
                    </a:lnTo>
                    <a:lnTo>
                      <a:pt x="44" y="1532"/>
                    </a:lnTo>
                    <a:lnTo>
                      <a:pt x="42" y="1532"/>
                    </a:lnTo>
                    <a:lnTo>
                      <a:pt x="40" y="1530"/>
                    </a:lnTo>
                    <a:lnTo>
                      <a:pt x="38" y="1530"/>
                    </a:lnTo>
                    <a:lnTo>
                      <a:pt x="36" y="1530"/>
                    </a:lnTo>
                    <a:lnTo>
                      <a:pt x="36" y="1530"/>
                    </a:lnTo>
                    <a:lnTo>
                      <a:pt x="38" y="1532"/>
                    </a:lnTo>
                    <a:lnTo>
                      <a:pt x="38" y="1534"/>
                    </a:lnTo>
                    <a:lnTo>
                      <a:pt x="38" y="1534"/>
                    </a:lnTo>
                    <a:lnTo>
                      <a:pt x="310" y="1534"/>
                    </a:lnTo>
                    <a:lnTo>
                      <a:pt x="310" y="1534"/>
                    </a:lnTo>
                    <a:lnTo>
                      <a:pt x="314" y="1534"/>
                    </a:lnTo>
                    <a:lnTo>
                      <a:pt x="316" y="1534"/>
                    </a:lnTo>
                    <a:lnTo>
                      <a:pt x="318" y="1534"/>
                    </a:lnTo>
                    <a:lnTo>
                      <a:pt x="318" y="1534"/>
                    </a:lnTo>
                    <a:lnTo>
                      <a:pt x="314" y="1532"/>
                    </a:lnTo>
                    <a:lnTo>
                      <a:pt x="310" y="1532"/>
                    </a:lnTo>
                    <a:lnTo>
                      <a:pt x="310" y="1534"/>
                    </a:lnTo>
                    <a:lnTo>
                      <a:pt x="310" y="1534"/>
                    </a:lnTo>
                    <a:lnTo>
                      <a:pt x="398" y="1548"/>
                    </a:lnTo>
                    <a:lnTo>
                      <a:pt x="398" y="1548"/>
                    </a:lnTo>
                    <a:lnTo>
                      <a:pt x="418" y="1548"/>
                    </a:lnTo>
                    <a:lnTo>
                      <a:pt x="442" y="1552"/>
                    </a:lnTo>
                    <a:lnTo>
                      <a:pt x="462" y="1552"/>
                    </a:lnTo>
                    <a:lnTo>
                      <a:pt x="468" y="1552"/>
                    </a:lnTo>
                    <a:lnTo>
                      <a:pt x="472" y="1548"/>
                    </a:lnTo>
                    <a:lnTo>
                      <a:pt x="472" y="1548"/>
                    </a:lnTo>
                    <a:lnTo>
                      <a:pt x="472" y="1544"/>
                    </a:lnTo>
                    <a:lnTo>
                      <a:pt x="468" y="1540"/>
                    </a:lnTo>
                    <a:lnTo>
                      <a:pt x="462" y="1536"/>
                    </a:lnTo>
                    <a:lnTo>
                      <a:pt x="452" y="1532"/>
                    </a:lnTo>
                    <a:lnTo>
                      <a:pt x="446" y="1532"/>
                    </a:lnTo>
                    <a:lnTo>
                      <a:pt x="444" y="1534"/>
                    </a:lnTo>
                    <a:lnTo>
                      <a:pt x="444" y="1534"/>
                    </a:lnTo>
                    <a:lnTo>
                      <a:pt x="442" y="1536"/>
                    </a:lnTo>
                    <a:lnTo>
                      <a:pt x="444" y="1538"/>
                    </a:lnTo>
                    <a:lnTo>
                      <a:pt x="448" y="1542"/>
                    </a:lnTo>
                    <a:lnTo>
                      <a:pt x="448" y="1546"/>
                    </a:lnTo>
                    <a:lnTo>
                      <a:pt x="448" y="1546"/>
                    </a:lnTo>
                    <a:lnTo>
                      <a:pt x="442" y="1548"/>
                    </a:lnTo>
                    <a:lnTo>
                      <a:pt x="438" y="1548"/>
                    </a:lnTo>
                    <a:lnTo>
                      <a:pt x="428" y="1546"/>
                    </a:lnTo>
                    <a:lnTo>
                      <a:pt x="408" y="1536"/>
                    </a:lnTo>
                    <a:lnTo>
                      <a:pt x="408" y="1536"/>
                    </a:lnTo>
                    <a:lnTo>
                      <a:pt x="390" y="1540"/>
                    </a:lnTo>
                    <a:lnTo>
                      <a:pt x="382" y="1544"/>
                    </a:lnTo>
                    <a:lnTo>
                      <a:pt x="374" y="1548"/>
                    </a:lnTo>
                    <a:lnTo>
                      <a:pt x="374" y="1548"/>
                    </a:lnTo>
                    <a:lnTo>
                      <a:pt x="386" y="1548"/>
                    </a:lnTo>
                    <a:lnTo>
                      <a:pt x="398" y="1548"/>
                    </a:lnTo>
                    <a:lnTo>
                      <a:pt x="398" y="1548"/>
                    </a:lnTo>
                    <a:lnTo>
                      <a:pt x="256" y="1542"/>
                    </a:lnTo>
                    <a:lnTo>
                      <a:pt x="256" y="1542"/>
                    </a:lnTo>
                    <a:lnTo>
                      <a:pt x="260" y="1538"/>
                    </a:lnTo>
                    <a:lnTo>
                      <a:pt x="264" y="1534"/>
                    </a:lnTo>
                    <a:lnTo>
                      <a:pt x="264" y="1534"/>
                    </a:lnTo>
                    <a:lnTo>
                      <a:pt x="256" y="1532"/>
                    </a:lnTo>
                    <a:lnTo>
                      <a:pt x="248" y="1534"/>
                    </a:lnTo>
                    <a:lnTo>
                      <a:pt x="248" y="1534"/>
                    </a:lnTo>
                    <a:lnTo>
                      <a:pt x="252" y="1538"/>
                    </a:lnTo>
                    <a:lnTo>
                      <a:pt x="256" y="1542"/>
                    </a:lnTo>
                    <a:lnTo>
                      <a:pt x="256" y="1542"/>
                    </a:lnTo>
                    <a:lnTo>
                      <a:pt x="1472" y="1540"/>
                    </a:lnTo>
                    <a:lnTo>
                      <a:pt x="1472" y="1540"/>
                    </a:lnTo>
                    <a:lnTo>
                      <a:pt x="1474" y="1538"/>
                    </a:lnTo>
                    <a:lnTo>
                      <a:pt x="1474" y="1536"/>
                    </a:lnTo>
                    <a:lnTo>
                      <a:pt x="1474" y="1534"/>
                    </a:lnTo>
                    <a:lnTo>
                      <a:pt x="1474" y="1534"/>
                    </a:lnTo>
                    <a:lnTo>
                      <a:pt x="1470" y="1534"/>
                    </a:lnTo>
                    <a:lnTo>
                      <a:pt x="1468" y="1534"/>
                    </a:lnTo>
                    <a:lnTo>
                      <a:pt x="1468" y="1534"/>
                    </a:lnTo>
                    <a:lnTo>
                      <a:pt x="1468" y="1534"/>
                    </a:lnTo>
                    <a:lnTo>
                      <a:pt x="1470" y="1536"/>
                    </a:lnTo>
                    <a:lnTo>
                      <a:pt x="1470" y="1536"/>
                    </a:lnTo>
                    <a:lnTo>
                      <a:pt x="1470" y="1538"/>
                    </a:lnTo>
                    <a:lnTo>
                      <a:pt x="1472" y="1540"/>
                    </a:lnTo>
                    <a:lnTo>
                      <a:pt x="1472" y="1540"/>
                    </a:lnTo>
                    <a:lnTo>
                      <a:pt x="1466" y="1540"/>
                    </a:lnTo>
                    <a:lnTo>
                      <a:pt x="1466" y="1540"/>
                    </a:lnTo>
                    <a:lnTo>
                      <a:pt x="1468" y="1540"/>
                    </a:lnTo>
                    <a:lnTo>
                      <a:pt x="1468" y="1538"/>
                    </a:lnTo>
                    <a:lnTo>
                      <a:pt x="1468" y="1538"/>
                    </a:lnTo>
                    <a:lnTo>
                      <a:pt x="1466" y="1536"/>
                    </a:lnTo>
                    <a:lnTo>
                      <a:pt x="1466" y="1536"/>
                    </a:lnTo>
                    <a:lnTo>
                      <a:pt x="1464" y="1534"/>
                    </a:lnTo>
                    <a:lnTo>
                      <a:pt x="1464" y="1534"/>
                    </a:lnTo>
                    <a:lnTo>
                      <a:pt x="1464" y="1538"/>
                    </a:lnTo>
                    <a:lnTo>
                      <a:pt x="1466" y="1540"/>
                    </a:lnTo>
                    <a:lnTo>
                      <a:pt x="1466" y="1540"/>
                    </a:lnTo>
                    <a:lnTo>
                      <a:pt x="128" y="1542"/>
                    </a:lnTo>
                    <a:lnTo>
                      <a:pt x="128" y="1542"/>
                    </a:lnTo>
                    <a:lnTo>
                      <a:pt x="130" y="1548"/>
                    </a:lnTo>
                    <a:lnTo>
                      <a:pt x="134" y="1552"/>
                    </a:lnTo>
                    <a:lnTo>
                      <a:pt x="140" y="1554"/>
                    </a:lnTo>
                    <a:lnTo>
                      <a:pt x="146" y="1556"/>
                    </a:lnTo>
                    <a:lnTo>
                      <a:pt x="152" y="1554"/>
                    </a:lnTo>
                    <a:lnTo>
                      <a:pt x="158" y="1554"/>
                    </a:lnTo>
                    <a:lnTo>
                      <a:pt x="164" y="1550"/>
                    </a:lnTo>
                    <a:lnTo>
                      <a:pt x="170" y="1548"/>
                    </a:lnTo>
                    <a:lnTo>
                      <a:pt x="170" y="1548"/>
                    </a:lnTo>
                    <a:lnTo>
                      <a:pt x="168" y="1544"/>
                    </a:lnTo>
                    <a:lnTo>
                      <a:pt x="166" y="1542"/>
                    </a:lnTo>
                    <a:lnTo>
                      <a:pt x="166" y="1540"/>
                    </a:lnTo>
                    <a:lnTo>
                      <a:pt x="166" y="1540"/>
                    </a:lnTo>
                    <a:lnTo>
                      <a:pt x="146" y="1540"/>
                    </a:lnTo>
                    <a:lnTo>
                      <a:pt x="128" y="1542"/>
                    </a:lnTo>
                    <a:lnTo>
                      <a:pt x="128" y="1542"/>
                    </a:lnTo>
                    <a:lnTo>
                      <a:pt x="496" y="1540"/>
                    </a:lnTo>
                    <a:lnTo>
                      <a:pt x="496" y="1540"/>
                    </a:lnTo>
                    <a:lnTo>
                      <a:pt x="492" y="1540"/>
                    </a:lnTo>
                    <a:lnTo>
                      <a:pt x="490" y="1542"/>
                    </a:lnTo>
                    <a:lnTo>
                      <a:pt x="488" y="1544"/>
                    </a:lnTo>
                    <a:lnTo>
                      <a:pt x="486" y="1548"/>
                    </a:lnTo>
                    <a:lnTo>
                      <a:pt x="486" y="1548"/>
                    </a:lnTo>
                    <a:lnTo>
                      <a:pt x="492" y="1552"/>
                    </a:lnTo>
                    <a:lnTo>
                      <a:pt x="498" y="1556"/>
                    </a:lnTo>
                    <a:lnTo>
                      <a:pt x="510" y="1560"/>
                    </a:lnTo>
                    <a:lnTo>
                      <a:pt x="542" y="1566"/>
                    </a:lnTo>
                    <a:lnTo>
                      <a:pt x="542" y="1566"/>
                    </a:lnTo>
                    <a:lnTo>
                      <a:pt x="570" y="1572"/>
                    </a:lnTo>
                    <a:lnTo>
                      <a:pt x="598" y="1576"/>
                    </a:lnTo>
                    <a:lnTo>
                      <a:pt x="628" y="1578"/>
                    </a:lnTo>
                    <a:lnTo>
                      <a:pt x="644" y="1576"/>
                    </a:lnTo>
                    <a:lnTo>
                      <a:pt x="658" y="1574"/>
                    </a:lnTo>
                    <a:lnTo>
                      <a:pt x="658" y="1574"/>
                    </a:lnTo>
                    <a:lnTo>
                      <a:pt x="638" y="1570"/>
                    </a:lnTo>
                    <a:lnTo>
                      <a:pt x="616" y="1566"/>
                    </a:lnTo>
                    <a:lnTo>
                      <a:pt x="574" y="1556"/>
                    </a:lnTo>
                    <a:lnTo>
                      <a:pt x="534" y="1546"/>
                    </a:lnTo>
                    <a:lnTo>
                      <a:pt x="496" y="1540"/>
                    </a:lnTo>
                    <a:lnTo>
                      <a:pt x="496" y="1540"/>
                    </a:lnTo>
                    <a:lnTo>
                      <a:pt x="316" y="1546"/>
                    </a:lnTo>
                    <a:lnTo>
                      <a:pt x="316" y="1546"/>
                    </a:lnTo>
                    <a:lnTo>
                      <a:pt x="314" y="1552"/>
                    </a:lnTo>
                    <a:lnTo>
                      <a:pt x="312" y="1558"/>
                    </a:lnTo>
                    <a:lnTo>
                      <a:pt x="312" y="1558"/>
                    </a:lnTo>
                    <a:lnTo>
                      <a:pt x="324" y="1556"/>
                    </a:lnTo>
                    <a:lnTo>
                      <a:pt x="336" y="1552"/>
                    </a:lnTo>
                    <a:lnTo>
                      <a:pt x="336" y="1552"/>
                    </a:lnTo>
                    <a:lnTo>
                      <a:pt x="326" y="1548"/>
                    </a:lnTo>
                    <a:lnTo>
                      <a:pt x="322" y="1546"/>
                    </a:lnTo>
                    <a:lnTo>
                      <a:pt x="316" y="1546"/>
                    </a:lnTo>
                    <a:lnTo>
                      <a:pt x="316" y="1546"/>
                    </a:lnTo>
                    <a:lnTo>
                      <a:pt x="374" y="1540"/>
                    </a:lnTo>
                    <a:lnTo>
                      <a:pt x="374" y="1540"/>
                    </a:lnTo>
                    <a:lnTo>
                      <a:pt x="348" y="1542"/>
                    </a:lnTo>
                    <a:lnTo>
                      <a:pt x="336" y="1544"/>
                    </a:lnTo>
                    <a:lnTo>
                      <a:pt x="326" y="1546"/>
                    </a:lnTo>
                    <a:lnTo>
                      <a:pt x="326" y="1546"/>
                    </a:lnTo>
                    <a:lnTo>
                      <a:pt x="330" y="1550"/>
                    </a:lnTo>
                    <a:lnTo>
                      <a:pt x="338" y="1552"/>
                    </a:lnTo>
                    <a:lnTo>
                      <a:pt x="352" y="1550"/>
                    </a:lnTo>
                    <a:lnTo>
                      <a:pt x="364" y="1548"/>
                    </a:lnTo>
                    <a:lnTo>
                      <a:pt x="374" y="1540"/>
                    </a:lnTo>
                    <a:lnTo>
                      <a:pt x="374" y="1540"/>
                    </a:lnTo>
                    <a:lnTo>
                      <a:pt x="142" y="1564"/>
                    </a:lnTo>
                    <a:lnTo>
                      <a:pt x="142" y="1564"/>
                    </a:lnTo>
                    <a:lnTo>
                      <a:pt x="126" y="1554"/>
                    </a:lnTo>
                    <a:lnTo>
                      <a:pt x="116" y="1550"/>
                    </a:lnTo>
                    <a:lnTo>
                      <a:pt x="108" y="1548"/>
                    </a:lnTo>
                    <a:lnTo>
                      <a:pt x="108" y="1548"/>
                    </a:lnTo>
                    <a:lnTo>
                      <a:pt x="110" y="1548"/>
                    </a:lnTo>
                    <a:lnTo>
                      <a:pt x="112" y="1546"/>
                    </a:lnTo>
                    <a:lnTo>
                      <a:pt x="112" y="1546"/>
                    </a:lnTo>
                    <a:lnTo>
                      <a:pt x="104" y="1544"/>
                    </a:lnTo>
                    <a:lnTo>
                      <a:pt x="98" y="1542"/>
                    </a:lnTo>
                    <a:lnTo>
                      <a:pt x="98" y="1542"/>
                    </a:lnTo>
                    <a:lnTo>
                      <a:pt x="98" y="1542"/>
                    </a:lnTo>
                    <a:lnTo>
                      <a:pt x="98" y="1544"/>
                    </a:lnTo>
                    <a:lnTo>
                      <a:pt x="100" y="1546"/>
                    </a:lnTo>
                    <a:lnTo>
                      <a:pt x="100" y="1548"/>
                    </a:lnTo>
                    <a:lnTo>
                      <a:pt x="100" y="1548"/>
                    </a:lnTo>
                    <a:lnTo>
                      <a:pt x="98" y="1546"/>
                    </a:lnTo>
                    <a:lnTo>
                      <a:pt x="96" y="1544"/>
                    </a:lnTo>
                    <a:lnTo>
                      <a:pt x="90" y="1544"/>
                    </a:lnTo>
                    <a:lnTo>
                      <a:pt x="82" y="1546"/>
                    </a:lnTo>
                    <a:lnTo>
                      <a:pt x="76" y="1546"/>
                    </a:lnTo>
                    <a:lnTo>
                      <a:pt x="76" y="1546"/>
                    </a:lnTo>
                    <a:lnTo>
                      <a:pt x="76" y="1550"/>
                    </a:lnTo>
                    <a:lnTo>
                      <a:pt x="78" y="1550"/>
                    </a:lnTo>
                    <a:lnTo>
                      <a:pt x="84" y="1552"/>
                    </a:lnTo>
                    <a:lnTo>
                      <a:pt x="92" y="1552"/>
                    </a:lnTo>
                    <a:lnTo>
                      <a:pt x="96" y="1552"/>
                    </a:lnTo>
                    <a:lnTo>
                      <a:pt x="96" y="1552"/>
                    </a:lnTo>
                    <a:lnTo>
                      <a:pt x="94" y="1552"/>
                    </a:lnTo>
                    <a:lnTo>
                      <a:pt x="90" y="1554"/>
                    </a:lnTo>
                    <a:lnTo>
                      <a:pt x="84" y="1556"/>
                    </a:lnTo>
                    <a:lnTo>
                      <a:pt x="84" y="1556"/>
                    </a:lnTo>
                    <a:lnTo>
                      <a:pt x="86" y="1558"/>
                    </a:lnTo>
                    <a:lnTo>
                      <a:pt x="90" y="1562"/>
                    </a:lnTo>
                    <a:lnTo>
                      <a:pt x="100" y="1566"/>
                    </a:lnTo>
                    <a:lnTo>
                      <a:pt x="112" y="1566"/>
                    </a:lnTo>
                    <a:lnTo>
                      <a:pt x="116" y="1566"/>
                    </a:lnTo>
                    <a:lnTo>
                      <a:pt x="120" y="1564"/>
                    </a:lnTo>
                    <a:lnTo>
                      <a:pt x="120" y="1564"/>
                    </a:lnTo>
                    <a:lnTo>
                      <a:pt x="124" y="1566"/>
                    </a:lnTo>
                    <a:lnTo>
                      <a:pt x="130" y="1566"/>
                    </a:lnTo>
                    <a:lnTo>
                      <a:pt x="136" y="1566"/>
                    </a:lnTo>
                    <a:lnTo>
                      <a:pt x="142" y="1564"/>
                    </a:lnTo>
                    <a:lnTo>
                      <a:pt x="142" y="1564"/>
                    </a:lnTo>
                    <a:lnTo>
                      <a:pt x="1398" y="1546"/>
                    </a:lnTo>
                    <a:lnTo>
                      <a:pt x="1398" y="1546"/>
                    </a:lnTo>
                    <a:lnTo>
                      <a:pt x="1398" y="1552"/>
                    </a:lnTo>
                    <a:lnTo>
                      <a:pt x="1398" y="1554"/>
                    </a:lnTo>
                    <a:lnTo>
                      <a:pt x="1396" y="1564"/>
                    </a:lnTo>
                    <a:lnTo>
                      <a:pt x="1396" y="1564"/>
                    </a:lnTo>
                    <a:lnTo>
                      <a:pt x="1410" y="1564"/>
                    </a:lnTo>
                    <a:lnTo>
                      <a:pt x="1424" y="1566"/>
                    </a:lnTo>
                    <a:lnTo>
                      <a:pt x="1424" y="1566"/>
                    </a:lnTo>
                    <a:lnTo>
                      <a:pt x="1424" y="1558"/>
                    </a:lnTo>
                    <a:lnTo>
                      <a:pt x="1424" y="1552"/>
                    </a:lnTo>
                    <a:lnTo>
                      <a:pt x="1422" y="1548"/>
                    </a:lnTo>
                    <a:lnTo>
                      <a:pt x="1418" y="1544"/>
                    </a:lnTo>
                    <a:lnTo>
                      <a:pt x="1412" y="1544"/>
                    </a:lnTo>
                    <a:lnTo>
                      <a:pt x="1408" y="1542"/>
                    </a:lnTo>
                    <a:lnTo>
                      <a:pt x="1404" y="1544"/>
                    </a:lnTo>
                    <a:lnTo>
                      <a:pt x="1398" y="1546"/>
                    </a:lnTo>
                    <a:lnTo>
                      <a:pt x="1398" y="1546"/>
                    </a:lnTo>
                    <a:lnTo>
                      <a:pt x="1368" y="1566"/>
                    </a:lnTo>
                    <a:lnTo>
                      <a:pt x="1368" y="1566"/>
                    </a:lnTo>
                    <a:lnTo>
                      <a:pt x="1374" y="1562"/>
                    </a:lnTo>
                    <a:lnTo>
                      <a:pt x="1380" y="1558"/>
                    </a:lnTo>
                    <a:lnTo>
                      <a:pt x="1386" y="1552"/>
                    </a:lnTo>
                    <a:lnTo>
                      <a:pt x="1386" y="1548"/>
                    </a:lnTo>
                    <a:lnTo>
                      <a:pt x="1384" y="1544"/>
                    </a:lnTo>
                    <a:lnTo>
                      <a:pt x="1384" y="1544"/>
                    </a:lnTo>
                    <a:lnTo>
                      <a:pt x="1374" y="1556"/>
                    </a:lnTo>
                    <a:lnTo>
                      <a:pt x="1370" y="1560"/>
                    </a:lnTo>
                    <a:lnTo>
                      <a:pt x="1368" y="1566"/>
                    </a:lnTo>
                    <a:lnTo>
                      <a:pt x="1368" y="1566"/>
                    </a:lnTo>
                    <a:lnTo>
                      <a:pt x="1482" y="1572"/>
                    </a:lnTo>
                    <a:lnTo>
                      <a:pt x="1482" y="1572"/>
                    </a:lnTo>
                    <a:lnTo>
                      <a:pt x="1482" y="1564"/>
                    </a:lnTo>
                    <a:lnTo>
                      <a:pt x="1484" y="1556"/>
                    </a:lnTo>
                    <a:lnTo>
                      <a:pt x="1486" y="1548"/>
                    </a:lnTo>
                    <a:lnTo>
                      <a:pt x="1486" y="1544"/>
                    </a:lnTo>
                    <a:lnTo>
                      <a:pt x="1486" y="1544"/>
                    </a:lnTo>
                    <a:lnTo>
                      <a:pt x="1486" y="1546"/>
                    </a:lnTo>
                    <a:lnTo>
                      <a:pt x="1484" y="1546"/>
                    </a:lnTo>
                    <a:lnTo>
                      <a:pt x="1476" y="1546"/>
                    </a:lnTo>
                    <a:lnTo>
                      <a:pt x="1470" y="1546"/>
                    </a:lnTo>
                    <a:lnTo>
                      <a:pt x="1466" y="1548"/>
                    </a:lnTo>
                    <a:lnTo>
                      <a:pt x="1466" y="1550"/>
                    </a:lnTo>
                    <a:lnTo>
                      <a:pt x="1466" y="1550"/>
                    </a:lnTo>
                    <a:lnTo>
                      <a:pt x="1466" y="1552"/>
                    </a:lnTo>
                    <a:lnTo>
                      <a:pt x="1468" y="1552"/>
                    </a:lnTo>
                    <a:lnTo>
                      <a:pt x="1470" y="1552"/>
                    </a:lnTo>
                    <a:lnTo>
                      <a:pt x="1472" y="1552"/>
                    </a:lnTo>
                    <a:lnTo>
                      <a:pt x="1472" y="1552"/>
                    </a:lnTo>
                    <a:lnTo>
                      <a:pt x="1456" y="1564"/>
                    </a:lnTo>
                    <a:lnTo>
                      <a:pt x="1456" y="1564"/>
                    </a:lnTo>
                    <a:lnTo>
                      <a:pt x="1460" y="1562"/>
                    </a:lnTo>
                    <a:lnTo>
                      <a:pt x="1460" y="1562"/>
                    </a:lnTo>
                    <a:lnTo>
                      <a:pt x="1462" y="1564"/>
                    </a:lnTo>
                    <a:lnTo>
                      <a:pt x="1462" y="1564"/>
                    </a:lnTo>
                    <a:lnTo>
                      <a:pt x="1462" y="1566"/>
                    </a:lnTo>
                    <a:lnTo>
                      <a:pt x="1460" y="1566"/>
                    </a:lnTo>
                    <a:lnTo>
                      <a:pt x="1454" y="1568"/>
                    </a:lnTo>
                    <a:lnTo>
                      <a:pt x="1448" y="1568"/>
                    </a:lnTo>
                    <a:lnTo>
                      <a:pt x="1444" y="1570"/>
                    </a:lnTo>
                    <a:lnTo>
                      <a:pt x="1444" y="1570"/>
                    </a:lnTo>
                    <a:lnTo>
                      <a:pt x="1444" y="1576"/>
                    </a:lnTo>
                    <a:lnTo>
                      <a:pt x="1444" y="1580"/>
                    </a:lnTo>
                    <a:lnTo>
                      <a:pt x="1444" y="1580"/>
                    </a:lnTo>
                    <a:lnTo>
                      <a:pt x="1458" y="1578"/>
                    </a:lnTo>
                    <a:lnTo>
                      <a:pt x="1472" y="1576"/>
                    </a:lnTo>
                    <a:lnTo>
                      <a:pt x="1472" y="1576"/>
                    </a:lnTo>
                    <a:lnTo>
                      <a:pt x="1472" y="1572"/>
                    </a:lnTo>
                    <a:lnTo>
                      <a:pt x="1470" y="1568"/>
                    </a:lnTo>
                    <a:lnTo>
                      <a:pt x="1470" y="1566"/>
                    </a:lnTo>
                    <a:lnTo>
                      <a:pt x="1470" y="1564"/>
                    </a:lnTo>
                    <a:lnTo>
                      <a:pt x="1470" y="1564"/>
                    </a:lnTo>
                    <a:lnTo>
                      <a:pt x="1472" y="1570"/>
                    </a:lnTo>
                    <a:lnTo>
                      <a:pt x="1474" y="1572"/>
                    </a:lnTo>
                    <a:lnTo>
                      <a:pt x="1478" y="1574"/>
                    </a:lnTo>
                    <a:lnTo>
                      <a:pt x="1482" y="1572"/>
                    </a:lnTo>
                    <a:lnTo>
                      <a:pt x="1482" y="1572"/>
                    </a:lnTo>
                    <a:lnTo>
                      <a:pt x="1472" y="1588"/>
                    </a:lnTo>
                    <a:lnTo>
                      <a:pt x="1472" y="1588"/>
                    </a:lnTo>
                    <a:lnTo>
                      <a:pt x="1476" y="1586"/>
                    </a:lnTo>
                    <a:lnTo>
                      <a:pt x="1478" y="1584"/>
                    </a:lnTo>
                    <a:lnTo>
                      <a:pt x="1480" y="1578"/>
                    </a:lnTo>
                    <a:lnTo>
                      <a:pt x="1482" y="1574"/>
                    </a:lnTo>
                    <a:lnTo>
                      <a:pt x="1482" y="1574"/>
                    </a:lnTo>
                    <a:lnTo>
                      <a:pt x="1478" y="1574"/>
                    </a:lnTo>
                    <a:lnTo>
                      <a:pt x="1476" y="1576"/>
                    </a:lnTo>
                    <a:lnTo>
                      <a:pt x="1476" y="1578"/>
                    </a:lnTo>
                    <a:lnTo>
                      <a:pt x="1474" y="1580"/>
                    </a:lnTo>
                    <a:lnTo>
                      <a:pt x="1474" y="1580"/>
                    </a:lnTo>
                    <a:lnTo>
                      <a:pt x="1472" y="1578"/>
                    </a:lnTo>
                    <a:lnTo>
                      <a:pt x="1470" y="1578"/>
                    </a:lnTo>
                    <a:lnTo>
                      <a:pt x="1462" y="1578"/>
                    </a:lnTo>
                    <a:lnTo>
                      <a:pt x="1454" y="1580"/>
                    </a:lnTo>
                    <a:lnTo>
                      <a:pt x="1446" y="1582"/>
                    </a:lnTo>
                    <a:lnTo>
                      <a:pt x="1446" y="1582"/>
                    </a:lnTo>
                    <a:lnTo>
                      <a:pt x="1448" y="1584"/>
                    </a:lnTo>
                    <a:lnTo>
                      <a:pt x="1448" y="1586"/>
                    </a:lnTo>
                    <a:lnTo>
                      <a:pt x="1446" y="1588"/>
                    </a:lnTo>
                    <a:lnTo>
                      <a:pt x="1448" y="1590"/>
                    </a:lnTo>
                    <a:lnTo>
                      <a:pt x="1448" y="1590"/>
                    </a:lnTo>
                    <a:lnTo>
                      <a:pt x="1450" y="1586"/>
                    </a:lnTo>
                    <a:lnTo>
                      <a:pt x="1452" y="1584"/>
                    </a:lnTo>
                    <a:lnTo>
                      <a:pt x="1456" y="1584"/>
                    </a:lnTo>
                    <a:lnTo>
                      <a:pt x="1456" y="1584"/>
                    </a:lnTo>
                    <a:lnTo>
                      <a:pt x="1462" y="1586"/>
                    </a:lnTo>
                    <a:lnTo>
                      <a:pt x="1464" y="1588"/>
                    </a:lnTo>
                    <a:lnTo>
                      <a:pt x="1468" y="1590"/>
                    </a:lnTo>
                    <a:lnTo>
                      <a:pt x="1468" y="1590"/>
                    </a:lnTo>
                    <a:lnTo>
                      <a:pt x="1470" y="1584"/>
                    </a:lnTo>
                    <a:lnTo>
                      <a:pt x="1472" y="1582"/>
                    </a:lnTo>
                    <a:lnTo>
                      <a:pt x="1474" y="1582"/>
                    </a:lnTo>
                    <a:lnTo>
                      <a:pt x="1474" y="1582"/>
                    </a:lnTo>
                    <a:lnTo>
                      <a:pt x="1472" y="1584"/>
                    </a:lnTo>
                    <a:lnTo>
                      <a:pt x="1472" y="1588"/>
                    </a:lnTo>
                    <a:lnTo>
                      <a:pt x="1472" y="1588"/>
                    </a:lnTo>
                    <a:lnTo>
                      <a:pt x="120" y="1548"/>
                    </a:lnTo>
                    <a:lnTo>
                      <a:pt x="120" y="1548"/>
                    </a:lnTo>
                    <a:lnTo>
                      <a:pt x="122" y="1548"/>
                    </a:lnTo>
                    <a:lnTo>
                      <a:pt x="126" y="1550"/>
                    </a:lnTo>
                    <a:lnTo>
                      <a:pt x="126" y="1550"/>
                    </a:lnTo>
                    <a:lnTo>
                      <a:pt x="126" y="1546"/>
                    </a:lnTo>
                    <a:lnTo>
                      <a:pt x="126" y="1546"/>
                    </a:lnTo>
                    <a:lnTo>
                      <a:pt x="122" y="1546"/>
                    </a:lnTo>
                    <a:lnTo>
                      <a:pt x="120" y="1548"/>
                    </a:lnTo>
                    <a:lnTo>
                      <a:pt x="120" y="1548"/>
                    </a:lnTo>
                    <a:lnTo>
                      <a:pt x="228" y="1548"/>
                    </a:lnTo>
                    <a:lnTo>
                      <a:pt x="228" y="1548"/>
                    </a:lnTo>
                    <a:lnTo>
                      <a:pt x="226" y="1548"/>
                    </a:lnTo>
                    <a:lnTo>
                      <a:pt x="226" y="1548"/>
                    </a:lnTo>
                    <a:lnTo>
                      <a:pt x="226" y="1552"/>
                    </a:lnTo>
                    <a:lnTo>
                      <a:pt x="226" y="1552"/>
                    </a:lnTo>
                    <a:lnTo>
                      <a:pt x="230" y="1550"/>
                    </a:lnTo>
                    <a:lnTo>
                      <a:pt x="230" y="1546"/>
                    </a:lnTo>
                    <a:lnTo>
                      <a:pt x="230" y="1546"/>
                    </a:lnTo>
                    <a:lnTo>
                      <a:pt x="228" y="1546"/>
                    </a:lnTo>
                    <a:lnTo>
                      <a:pt x="228" y="1548"/>
                    </a:lnTo>
                    <a:lnTo>
                      <a:pt x="228" y="1548"/>
                    </a:lnTo>
                    <a:lnTo>
                      <a:pt x="228" y="1548"/>
                    </a:lnTo>
                    <a:lnTo>
                      <a:pt x="228" y="1548"/>
                    </a:lnTo>
                    <a:lnTo>
                      <a:pt x="228" y="1548"/>
                    </a:lnTo>
                    <a:lnTo>
                      <a:pt x="372" y="1556"/>
                    </a:lnTo>
                    <a:lnTo>
                      <a:pt x="372" y="1556"/>
                    </a:lnTo>
                    <a:lnTo>
                      <a:pt x="360" y="1564"/>
                    </a:lnTo>
                    <a:lnTo>
                      <a:pt x="348" y="1570"/>
                    </a:lnTo>
                    <a:lnTo>
                      <a:pt x="342" y="1574"/>
                    </a:lnTo>
                    <a:lnTo>
                      <a:pt x="338" y="1578"/>
                    </a:lnTo>
                    <a:lnTo>
                      <a:pt x="334" y="1584"/>
                    </a:lnTo>
                    <a:lnTo>
                      <a:pt x="334" y="1594"/>
                    </a:lnTo>
                    <a:lnTo>
                      <a:pt x="334" y="1594"/>
                    </a:lnTo>
                    <a:lnTo>
                      <a:pt x="342" y="1602"/>
                    </a:lnTo>
                    <a:lnTo>
                      <a:pt x="344" y="1608"/>
                    </a:lnTo>
                    <a:lnTo>
                      <a:pt x="346" y="1616"/>
                    </a:lnTo>
                    <a:lnTo>
                      <a:pt x="346" y="1616"/>
                    </a:lnTo>
                    <a:lnTo>
                      <a:pt x="352" y="1618"/>
                    </a:lnTo>
                    <a:lnTo>
                      <a:pt x="358" y="1618"/>
                    </a:lnTo>
                    <a:lnTo>
                      <a:pt x="366" y="1618"/>
                    </a:lnTo>
                    <a:lnTo>
                      <a:pt x="372" y="1616"/>
                    </a:lnTo>
                    <a:lnTo>
                      <a:pt x="372" y="1616"/>
                    </a:lnTo>
                    <a:lnTo>
                      <a:pt x="374" y="1608"/>
                    </a:lnTo>
                    <a:lnTo>
                      <a:pt x="374" y="1602"/>
                    </a:lnTo>
                    <a:lnTo>
                      <a:pt x="370" y="1598"/>
                    </a:lnTo>
                    <a:lnTo>
                      <a:pt x="370" y="1598"/>
                    </a:lnTo>
                    <a:lnTo>
                      <a:pt x="372" y="1596"/>
                    </a:lnTo>
                    <a:lnTo>
                      <a:pt x="376" y="1596"/>
                    </a:lnTo>
                    <a:lnTo>
                      <a:pt x="378" y="1596"/>
                    </a:lnTo>
                    <a:lnTo>
                      <a:pt x="378" y="1592"/>
                    </a:lnTo>
                    <a:lnTo>
                      <a:pt x="378" y="1592"/>
                    </a:lnTo>
                    <a:lnTo>
                      <a:pt x="376" y="1592"/>
                    </a:lnTo>
                    <a:lnTo>
                      <a:pt x="376" y="1592"/>
                    </a:lnTo>
                    <a:lnTo>
                      <a:pt x="374" y="1594"/>
                    </a:lnTo>
                    <a:lnTo>
                      <a:pt x="372" y="1594"/>
                    </a:lnTo>
                    <a:lnTo>
                      <a:pt x="372" y="1594"/>
                    </a:lnTo>
                    <a:lnTo>
                      <a:pt x="370" y="1580"/>
                    </a:lnTo>
                    <a:lnTo>
                      <a:pt x="374" y="1568"/>
                    </a:lnTo>
                    <a:lnTo>
                      <a:pt x="376" y="1562"/>
                    </a:lnTo>
                    <a:lnTo>
                      <a:pt x="380" y="1558"/>
                    </a:lnTo>
                    <a:lnTo>
                      <a:pt x="384" y="1556"/>
                    </a:lnTo>
                    <a:lnTo>
                      <a:pt x="390" y="1554"/>
                    </a:lnTo>
                    <a:lnTo>
                      <a:pt x="390" y="1554"/>
                    </a:lnTo>
                    <a:lnTo>
                      <a:pt x="388" y="1554"/>
                    </a:lnTo>
                    <a:lnTo>
                      <a:pt x="384" y="1554"/>
                    </a:lnTo>
                    <a:lnTo>
                      <a:pt x="374" y="1554"/>
                    </a:lnTo>
                    <a:lnTo>
                      <a:pt x="374" y="1554"/>
                    </a:lnTo>
                    <a:lnTo>
                      <a:pt x="374" y="1556"/>
                    </a:lnTo>
                    <a:lnTo>
                      <a:pt x="374" y="1558"/>
                    </a:lnTo>
                    <a:lnTo>
                      <a:pt x="376" y="1560"/>
                    </a:lnTo>
                    <a:lnTo>
                      <a:pt x="374" y="1560"/>
                    </a:lnTo>
                    <a:lnTo>
                      <a:pt x="374" y="1560"/>
                    </a:lnTo>
                    <a:lnTo>
                      <a:pt x="372" y="1556"/>
                    </a:lnTo>
                    <a:lnTo>
                      <a:pt x="372" y="1556"/>
                    </a:lnTo>
                    <a:lnTo>
                      <a:pt x="402" y="1594"/>
                    </a:lnTo>
                    <a:lnTo>
                      <a:pt x="402" y="1594"/>
                    </a:lnTo>
                    <a:lnTo>
                      <a:pt x="398" y="1596"/>
                    </a:lnTo>
                    <a:lnTo>
                      <a:pt x="394" y="1598"/>
                    </a:lnTo>
                    <a:lnTo>
                      <a:pt x="390" y="1598"/>
                    </a:lnTo>
                    <a:lnTo>
                      <a:pt x="388" y="1602"/>
                    </a:lnTo>
                    <a:lnTo>
                      <a:pt x="388" y="1602"/>
                    </a:lnTo>
                    <a:lnTo>
                      <a:pt x="392" y="1606"/>
                    </a:lnTo>
                    <a:lnTo>
                      <a:pt x="398" y="1608"/>
                    </a:lnTo>
                    <a:lnTo>
                      <a:pt x="398" y="1608"/>
                    </a:lnTo>
                    <a:lnTo>
                      <a:pt x="400" y="1602"/>
                    </a:lnTo>
                    <a:lnTo>
                      <a:pt x="402" y="1598"/>
                    </a:lnTo>
                    <a:lnTo>
                      <a:pt x="402" y="1594"/>
                    </a:lnTo>
                    <a:lnTo>
                      <a:pt x="402" y="1594"/>
                    </a:lnTo>
                    <a:lnTo>
                      <a:pt x="398" y="1608"/>
                    </a:lnTo>
                    <a:lnTo>
                      <a:pt x="398" y="1608"/>
                    </a:lnTo>
                    <a:lnTo>
                      <a:pt x="406" y="1612"/>
                    </a:lnTo>
                    <a:lnTo>
                      <a:pt x="406" y="1612"/>
                    </a:lnTo>
                    <a:lnTo>
                      <a:pt x="422" y="1602"/>
                    </a:lnTo>
                    <a:lnTo>
                      <a:pt x="430" y="1596"/>
                    </a:lnTo>
                    <a:lnTo>
                      <a:pt x="434" y="1588"/>
                    </a:lnTo>
                    <a:lnTo>
                      <a:pt x="434" y="1588"/>
                    </a:lnTo>
                    <a:lnTo>
                      <a:pt x="426" y="1586"/>
                    </a:lnTo>
                    <a:lnTo>
                      <a:pt x="422" y="1584"/>
                    </a:lnTo>
                    <a:lnTo>
                      <a:pt x="422" y="1584"/>
                    </a:lnTo>
                    <a:lnTo>
                      <a:pt x="426" y="1578"/>
                    </a:lnTo>
                    <a:lnTo>
                      <a:pt x="432" y="1572"/>
                    </a:lnTo>
                    <a:lnTo>
                      <a:pt x="440" y="1570"/>
                    </a:lnTo>
                    <a:lnTo>
                      <a:pt x="450" y="1570"/>
                    </a:lnTo>
                    <a:lnTo>
                      <a:pt x="450" y="1570"/>
                    </a:lnTo>
                    <a:lnTo>
                      <a:pt x="454" y="1566"/>
                    </a:lnTo>
                    <a:lnTo>
                      <a:pt x="456" y="1560"/>
                    </a:lnTo>
                    <a:lnTo>
                      <a:pt x="456" y="1560"/>
                    </a:lnTo>
                    <a:lnTo>
                      <a:pt x="444" y="1560"/>
                    </a:lnTo>
                    <a:lnTo>
                      <a:pt x="432" y="1558"/>
                    </a:lnTo>
                    <a:lnTo>
                      <a:pt x="432" y="1558"/>
                    </a:lnTo>
                    <a:lnTo>
                      <a:pt x="432" y="1562"/>
                    </a:lnTo>
                    <a:lnTo>
                      <a:pt x="432" y="1562"/>
                    </a:lnTo>
                    <a:lnTo>
                      <a:pt x="432" y="1564"/>
                    </a:lnTo>
                    <a:lnTo>
                      <a:pt x="432" y="1564"/>
                    </a:lnTo>
                    <a:lnTo>
                      <a:pt x="430" y="1560"/>
                    </a:lnTo>
                    <a:lnTo>
                      <a:pt x="428" y="1558"/>
                    </a:lnTo>
                    <a:lnTo>
                      <a:pt x="420" y="1554"/>
                    </a:lnTo>
                    <a:lnTo>
                      <a:pt x="412" y="1554"/>
                    </a:lnTo>
                    <a:lnTo>
                      <a:pt x="404" y="1556"/>
                    </a:lnTo>
                    <a:lnTo>
                      <a:pt x="404" y="1556"/>
                    </a:lnTo>
                    <a:lnTo>
                      <a:pt x="408" y="1556"/>
                    </a:lnTo>
                    <a:lnTo>
                      <a:pt x="414" y="1558"/>
                    </a:lnTo>
                    <a:lnTo>
                      <a:pt x="418" y="1560"/>
                    </a:lnTo>
                    <a:lnTo>
                      <a:pt x="420" y="1564"/>
                    </a:lnTo>
                    <a:lnTo>
                      <a:pt x="422" y="1568"/>
                    </a:lnTo>
                    <a:lnTo>
                      <a:pt x="420" y="1572"/>
                    </a:lnTo>
                    <a:lnTo>
                      <a:pt x="418" y="1576"/>
                    </a:lnTo>
                    <a:lnTo>
                      <a:pt x="414" y="1576"/>
                    </a:lnTo>
                    <a:lnTo>
                      <a:pt x="414" y="1576"/>
                    </a:lnTo>
                    <a:lnTo>
                      <a:pt x="412" y="1576"/>
                    </a:lnTo>
                    <a:lnTo>
                      <a:pt x="410" y="1576"/>
                    </a:lnTo>
                    <a:lnTo>
                      <a:pt x="406" y="1572"/>
                    </a:lnTo>
                    <a:lnTo>
                      <a:pt x="400" y="1570"/>
                    </a:lnTo>
                    <a:lnTo>
                      <a:pt x="398" y="1570"/>
                    </a:lnTo>
                    <a:lnTo>
                      <a:pt x="394" y="1570"/>
                    </a:lnTo>
                    <a:lnTo>
                      <a:pt x="394" y="1570"/>
                    </a:lnTo>
                    <a:lnTo>
                      <a:pt x="400" y="1582"/>
                    </a:lnTo>
                    <a:lnTo>
                      <a:pt x="402" y="1588"/>
                    </a:lnTo>
                    <a:lnTo>
                      <a:pt x="404" y="1588"/>
                    </a:lnTo>
                    <a:lnTo>
                      <a:pt x="406" y="1588"/>
                    </a:lnTo>
                    <a:lnTo>
                      <a:pt x="406" y="1588"/>
                    </a:lnTo>
                    <a:lnTo>
                      <a:pt x="402" y="1598"/>
                    </a:lnTo>
                    <a:lnTo>
                      <a:pt x="398" y="1608"/>
                    </a:lnTo>
                    <a:lnTo>
                      <a:pt x="398" y="1608"/>
                    </a:lnTo>
                    <a:lnTo>
                      <a:pt x="1426" y="1562"/>
                    </a:lnTo>
                    <a:lnTo>
                      <a:pt x="1426" y="1562"/>
                    </a:lnTo>
                    <a:lnTo>
                      <a:pt x="1428" y="1562"/>
                    </a:lnTo>
                    <a:lnTo>
                      <a:pt x="1428" y="1560"/>
                    </a:lnTo>
                    <a:lnTo>
                      <a:pt x="1428" y="1556"/>
                    </a:lnTo>
                    <a:lnTo>
                      <a:pt x="1426" y="1556"/>
                    </a:lnTo>
                    <a:lnTo>
                      <a:pt x="1426" y="1556"/>
                    </a:lnTo>
                    <a:lnTo>
                      <a:pt x="1426" y="1562"/>
                    </a:lnTo>
                    <a:lnTo>
                      <a:pt x="1426" y="1562"/>
                    </a:lnTo>
                    <a:lnTo>
                      <a:pt x="306" y="1578"/>
                    </a:lnTo>
                    <a:lnTo>
                      <a:pt x="306" y="1578"/>
                    </a:lnTo>
                    <a:lnTo>
                      <a:pt x="306" y="1588"/>
                    </a:lnTo>
                    <a:lnTo>
                      <a:pt x="306" y="1588"/>
                    </a:lnTo>
                    <a:lnTo>
                      <a:pt x="310" y="1586"/>
                    </a:lnTo>
                    <a:lnTo>
                      <a:pt x="312" y="1584"/>
                    </a:lnTo>
                    <a:lnTo>
                      <a:pt x="312" y="1584"/>
                    </a:lnTo>
                    <a:lnTo>
                      <a:pt x="312" y="1582"/>
                    </a:lnTo>
                    <a:lnTo>
                      <a:pt x="310" y="1582"/>
                    </a:lnTo>
                    <a:lnTo>
                      <a:pt x="308" y="1580"/>
                    </a:lnTo>
                    <a:lnTo>
                      <a:pt x="308" y="1578"/>
                    </a:lnTo>
                    <a:lnTo>
                      <a:pt x="308" y="1578"/>
                    </a:lnTo>
                    <a:lnTo>
                      <a:pt x="310" y="1580"/>
                    </a:lnTo>
                    <a:lnTo>
                      <a:pt x="312" y="1580"/>
                    </a:lnTo>
                    <a:lnTo>
                      <a:pt x="318" y="1582"/>
                    </a:lnTo>
                    <a:lnTo>
                      <a:pt x="318" y="1582"/>
                    </a:lnTo>
                    <a:lnTo>
                      <a:pt x="324" y="1580"/>
                    </a:lnTo>
                    <a:lnTo>
                      <a:pt x="330" y="1576"/>
                    </a:lnTo>
                    <a:lnTo>
                      <a:pt x="340" y="1568"/>
                    </a:lnTo>
                    <a:lnTo>
                      <a:pt x="340" y="1568"/>
                    </a:lnTo>
                    <a:lnTo>
                      <a:pt x="352" y="1562"/>
                    </a:lnTo>
                    <a:lnTo>
                      <a:pt x="354" y="1560"/>
                    </a:lnTo>
                    <a:lnTo>
                      <a:pt x="356" y="1556"/>
                    </a:lnTo>
                    <a:lnTo>
                      <a:pt x="356" y="1556"/>
                    </a:lnTo>
                    <a:lnTo>
                      <a:pt x="342" y="1560"/>
                    </a:lnTo>
                    <a:lnTo>
                      <a:pt x="330" y="1566"/>
                    </a:lnTo>
                    <a:lnTo>
                      <a:pt x="306" y="1578"/>
                    </a:lnTo>
                    <a:lnTo>
                      <a:pt x="306" y="1578"/>
                    </a:lnTo>
                    <a:lnTo>
                      <a:pt x="306" y="1572"/>
                    </a:lnTo>
                    <a:lnTo>
                      <a:pt x="306" y="1572"/>
                    </a:lnTo>
                    <a:lnTo>
                      <a:pt x="322" y="1566"/>
                    </a:lnTo>
                    <a:lnTo>
                      <a:pt x="336" y="1558"/>
                    </a:lnTo>
                    <a:lnTo>
                      <a:pt x="336" y="1558"/>
                    </a:lnTo>
                    <a:lnTo>
                      <a:pt x="326" y="1558"/>
                    </a:lnTo>
                    <a:lnTo>
                      <a:pt x="318" y="1560"/>
                    </a:lnTo>
                    <a:lnTo>
                      <a:pt x="310" y="1566"/>
                    </a:lnTo>
                    <a:lnTo>
                      <a:pt x="306" y="1572"/>
                    </a:lnTo>
                    <a:lnTo>
                      <a:pt x="306" y="1572"/>
                    </a:lnTo>
                    <a:lnTo>
                      <a:pt x="184" y="1564"/>
                    </a:lnTo>
                    <a:lnTo>
                      <a:pt x="184" y="1564"/>
                    </a:lnTo>
                    <a:lnTo>
                      <a:pt x="188" y="1566"/>
                    </a:lnTo>
                    <a:lnTo>
                      <a:pt x="190" y="1566"/>
                    </a:lnTo>
                    <a:lnTo>
                      <a:pt x="190" y="1566"/>
                    </a:lnTo>
                    <a:lnTo>
                      <a:pt x="192" y="1562"/>
                    </a:lnTo>
                    <a:lnTo>
                      <a:pt x="192" y="1562"/>
                    </a:lnTo>
                    <a:lnTo>
                      <a:pt x="186" y="1562"/>
                    </a:lnTo>
                    <a:lnTo>
                      <a:pt x="184" y="1564"/>
                    </a:lnTo>
                    <a:lnTo>
                      <a:pt x="184" y="1564"/>
                    </a:lnTo>
                    <a:lnTo>
                      <a:pt x="208" y="1568"/>
                    </a:lnTo>
                    <a:lnTo>
                      <a:pt x="208" y="1568"/>
                    </a:lnTo>
                    <a:lnTo>
                      <a:pt x="208" y="1566"/>
                    </a:lnTo>
                    <a:lnTo>
                      <a:pt x="210" y="1566"/>
                    </a:lnTo>
                    <a:lnTo>
                      <a:pt x="214" y="1566"/>
                    </a:lnTo>
                    <a:lnTo>
                      <a:pt x="214" y="1566"/>
                    </a:lnTo>
                    <a:lnTo>
                      <a:pt x="214" y="1566"/>
                    </a:lnTo>
                    <a:lnTo>
                      <a:pt x="210" y="1564"/>
                    </a:lnTo>
                    <a:lnTo>
                      <a:pt x="206" y="1562"/>
                    </a:lnTo>
                    <a:lnTo>
                      <a:pt x="206" y="1562"/>
                    </a:lnTo>
                    <a:lnTo>
                      <a:pt x="206" y="1566"/>
                    </a:lnTo>
                    <a:lnTo>
                      <a:pt x="208" y="1568"/>
                    </a:lnTo>
                    <a:lnTo>
                      <a:pt x="208" y="1568"/>
                    </a:lnTo>
                    <a:lnTo>
                      <a:pt x="208" y="1568"/>
                    </a:lnTo>
                    <a:lnTo>
                      <a:pt x="486" y="1564"/>
                    </a:lnTo>
                    <a:lnTo>
                      <a:pt x="486" y="1564"/>
                    </a:lnTo>
                    <a:lnTo>
                      <a:pt x="478" y="1564"/>
                    </a:lnTo>
                    <a:lnTo>
                      <a:pt x="472" y="1564"/>
                    </a:lnTo>
                    <a:lnTo>
                      <a:pt x="466" y="1568"/>
                    </a:lnTo>
                    <a:lnTo>
                      <a:pt x="462" y="1572"/>
                    </a:lnTo>
                    <a:lnTo>
                      <a:pt x="462" y="1572"/>
                    </a:lnTo>
                    <a:lnTo>
                      <a:pt x="464" y="1576"/>
                    </a:lnTo>
                    <a:lnTo>
                      <a:pt x="468" y="1578"/>
                    </a:lnTo>
                    <a:lnTo>
                      <a:pt x="472" y="1582"/>
                    </a:lnTo>
                    <a:lnTo>
                      <a:pt x="472" y="1584"/>
                    </a:lnTo>
                    <a:lnTo>
                      <a:pt x="472" y="1584"/>
                    </a:lnTo>
                    <a:lnTo>
                      <a:pt x="448" y="1588"/>
                    </a:lnTo>
                    <a:lnTo>
                      <a:pt x="448" y="1588"/>
                    </a:lnTo>
                    <a:lnTo>
                      <a:pt x="440" y="1600"/>
                    </a:lnTo>
                    <a:lnTo>
                      <a:pt x="432" y="1610"/>
                    </a:lnTo>
                    <a:lnTo>
                      <a:pt x="424" y="1622"/>
                    </a:lnTo>
                    <a:lnTo>
                      <a:pt x="422" y="1630"/>
                    </a:lnTo>
                    <a:lnTo>
                      <a:pt x="422" y="1640"/>
                    </a:lnTo>
                    <a:lnTo>
                      <a:pt x="422" y="1640"/>
                    </a:lnTo>
                    <a:lnTo>
                      <a:pt x="430" y="1644"/>
                    </a:lnTo>
                    <a:lnTo>
                      <a:pt x="438" y="1646"/>
                    </a:lnTo>
                    <a:lnTo>
                      <a:pt x="448" y="1648"/>
                    </a:lnTo>
                    <a:lnTo>
                      <a:pt x="458" y="1646"/>
                    </a:lnTo>
                    <a:lnTo>
                      <a:pt x="466" y="1644"/>
                    </a:lnTo>
                    <a:lnTo>
                      <a:pt x="474" y="1640"/>
                    </a:lnTo>
                    <a:lnTo>
                      <a:pt x="480" y="1634"/>
                    </a:lnTo>
                    <a:lnTo>
                      <a:pt x="486" y="1626"/>
                    </a:lnTo>
                    <a:lnTo>
                      <a:pt x="486" y="1626"/>
                    </a:lnTo>
                    <a:lnTo>
                      <a:pt x="486" y="1630"/>
                    </a:lnTo>
                    <a:lnTo>
                      <a:pt x="486" y="1632"/>
                    </a:lnTo>
                    <a:lnTo>
                      <a:pt x="488" y="1632"/>
                    </a:lnTo>
                    <a:lnTo>
                      <a:pt x="488" y="1632"/>
                    </a:lnTo>
                    <a:lnTo>
                      <a:pt x="508" y="1620"/>
                    </a:lnTo>
                    <a:lnTo>
                      <a:pt x="530" y="1608"/>
                    </a:lnTo>
                    <a:lnTo>
                      <a:pt x="552" y="1598"/>
                    </a:lnTo>
                    <a:lnTo>
                      <a:pt x="572" y="1584"/>
                    </a:lnTo>
                    <a:lnTo>
                      <a:pt x="572" y="1584"/>
                    </a:lnTo>
                    <a:lnTo>
                      <a:pt x="550" y="1580"/>
                    </a:lnTo>
                    <a:lnTo>
                      <a:pt x="528" y="1574"/>
                    </a:lnTo>
                    <a:lnTo>
                      <a:pt x="508" y="1566"/>
                    </a:lnTo>
                    <a:lnTo>
                      <a:pt x="486" y="1564"/>
                    </a:lnTo>
                    <a:lnTo>
                      <a:pt x="486" y="1564"/>
                    </a:lnTo>
                    <a:lnTo>
                      <a:pt x="1352" y="1584"/>
                    </a:lnTo>
                    <a:lnTo>
                      <a:pt x="1352" y="1584"/>
                    </a:lnTo>
                    <a:lnTo>
                      <a:pt x="1360" y="1584"/>
                    </a:lnTo>
                    <a:lnTo>
                      <a:pt x="1360" y="1584"/>
                    </a:lnTo>
                    <a:lnTo>
                      <a:pt x="1370" y="1574"/>
                    </a:lnTo>
                    <a:lnTo>
                      <a:pt x="1374" y="1568"/>
                    </a:lnTo>
                    <a:lnTo>
                      <a:pt x="1376" y="1564"/>
                    </a:lnTo>
                    <a:lnTo>
                      <a:pt x="1376" y="1564"/>
                    </a:lnTo>
                    <a:lnTo>
                      <a:pt x="1370" y="1570"/>
                    </a:lnTo>
                    <a:lnTo>
                      <a:pt x="1362" y="1574"/>
                    </a:lnTo>
                    <a:lnTo>
                      <a:pt x="1356" y="1578"/>
                    </a:lnTo>
                    <a:lnTo>
                      <a:pt x="1352" y="1584"/>
                    </a:lnTo>
                    <a:lnTo>
                      <a:pt x="1352" y="1584"/>
                    </a:lnTo>
                    <a:lnTo>
                      <a:pt x="1390" y="1584"/>
                    </a:lnTo>
                    <a:lnTo>
                      <a:pt x="1390" y="1584"/>
                    </a:lnTo>
                    <a:lnTo>
                      <a:pt x="1396" y="1586"/>
                    </a:lnTo>
                    <a:lnTo>
                      <a:pt x="1400" y="1586"/>
                    </a:lnTo>
                    <a:lnTo>
                      <a:pt x="1404" y="1584"/>
                    </a:lnTo>
                    <a:lnTo>
                      <a:pt x="1408" y="1582"/>
                    </a:lnTo>
                    <a:lnTo>
                      <a:pt x="1414" y="1574"/>
                    </a:lnTo>
                    <a:lnTo>
                      <a:pt x="1420" y="1568"/>
                    </a:lnTo>
                    <a:lnTo>
                      <a:pt x="1420" y="1568"/>
                    </a:lnTo>
                    <a:lnTo>
                      <a:pt x="1408" y="1564"/>
                    </a:lnTo>
                    <a:lnTo>
                      <a:pt x="1402" y="1564"/>
                    </a:lnTo>
                    <a:lnTo>
                      <a:pt x="1396" y="1566"/>
                    </a:lnTo>
                    <a:lnTo>
                      <a:pt x="1392" y="1568"/>
                    </a:lnTo>
                    <a:lnTo>
                      <a:pt x="1388" y="1572"/>
                    </a:lnTo>
                    <a:lnTo>
                      <a:pt x="1388" y="1578"/>
                    </a:lnTo>
                    <a:lnTo>
                      <a:pt x="1390" y="1584"/>
                    </a:lnTo>
                    <a:lnTo>
                      <a:pt x="1390" y="1584"/>
                    </a:lnTo>
                    <a:lnTo>
                      <a:pt x="88" y="1572"/>
                    </a:lnTo>
                    <a:lnTo>
                      <a:pt x="88" y="1572"/>
                    </a:lnTo>
                    <a:lnTo>
                      <a:pt x="94" y="1576"/>
                    </a:lnTo>
                    <a:lnTo>
                      <a:pt x="102" y="1580"/>
                    </a:lnTo>
                    <a:lnTo>
                      <a:pt x="110" y="1582"/>
                    </a:lnTo>
                    <a:lnTo>
                      <a:pt x="120" y="1582"/>
                    </a:lnTo>
                    <a:lnTo>
                      <a:pt x="128" y="1582"/>
                    </a:lnTo>
                    <a:lnTo>
                      <a:pt x="136" y="1578"/>
                    </a:lnTo>
                    <a:lnTo>
                      <a:pt x="142" y="1574"/>
                    </a:lnTo>
                    <a:lnTo>
                      <a:pt x="146" y="1568"/>
                    </a:lnTo>
                    <a:lnTo>
                      <a:pt x="146" y="1568"/>
                    </a:lnTo>
                    <a:lnTo>
                      <a:pt x="132" y="1568"/>
                    </a:lnTo>
                    <a:lnTo>
                      <a:pt x="114" y="1568"/>
                    </a:lnTo>
                    <a:lnTo>
                      <a:pt x="100" y="1568"/>
                    </a:lnTo>
                    <a:lnTo>
                      <a:pt x="94" y="1570"/>
                    </a:lnTo>
                    <a:lnTo>
                      <a:pt x="88" y="1572"/>
                    </a:lnTo>
                    <a:lnTo>
                      <a:pt x="88" y="1572"/>
                    </a:lnTo>
                    <a:lnTo>
                      <a:pt x="236" y="1584"/>
                    </a:lnTo>
                    <a:lnTo>
                      <a:pt x="236" y="1584"/>
                    </a:lnTo>
                    <a:lnTo>
                      <a:pt x="236" y="1582"/>
                    </a:lnTo>
                    <a:lnTo>
                      <a:pt x="238" y="1580"/>
                    </a:lnTo>
                    <a:lnTo>
                      <a:pt x="240" y="1578"/>
                    </a:lnTo>
                    <a:lnTo>
                      <a:pt x="242" y="1576"/>
                    </a:lnTo>
                    <a:lnTo>
                      <a:pt x="242" y="1576"/>
                    </a:lnTo>
                    <a:lnTo>
                      <a:pt x="238" y="1574"/>
                    </a:lnTo>
                    <a:lnTo>
                      <a:pt x="236" y="1574"/>
                    </a:lnTo>
                    <a:lnTo>
                      <a:pt x="236" y="1572"/>
                    </a:lnTo>
                    <a:lnTo>
                      <a:pt x="236" y="1572"/>
                    </a:lnTo>
                    <a:lnTo>
                      <a:pt x="240" y="1574"/>
                    </a:lnTo>
                    <a:lnTo>
                      <a:pt x="242" y="1574"/>
                    </a:lnTo>
                    <a:lnTo>
                      <a:pt x="242" y="1574"/>
                    </a:lnTo>
                    <a:lnTo>
                      <a:pt x="242" y="1574"/>
                    </a:lnTo>
                    <a:lnTo>
                      <a:pt x="236" y="1570"/>
                    </a:lnTo>
                    <a:lnTo>
                      <a:pt x="230" y="1572"/>
                    </a:lnTo>
                    <a:lnTo>
                      <a:pt x="224" y="1574"/>
                    </a:lnTo>
                    <a:lnTo>
                      <a:pt x="218" y="1578"/>
                    </a:lnTo>
                    <a:lnTo>
                      <a:pt x="218" y="1578"/>
                    </a:lnTo>
                    <a:lnTo>
                      <a:pt x="226" y="1580"/>
                    </a:lnTo>
                    <a:lnTo>
                      <a:pt x="232" y="1584"/>
                    </a:lnTo>
                    <a:lnTo>
                      <a:pt x="232" y="1584"/>
                    </a:lnTo>
                    <a:lnTo>
                      <a:pt x="232" y="1580"/>
                    </a:lnTo>
                    <a:lnTo>
                      <a:pt x="230" y="1578"/>
                    </a:lnTo>
                    <a:lnTo>
                      <a:pt x="228" y="1576"/>
                    </a:lnTo>
                    <a:lnTo>
                      <a:pt x="230" y="1574"/>
                    </a:lnTo>
                    <a:lnTo>
                      <a:pt x="230" y="1574"/>
                    </a:lnTo>
                    <a:lnTo>
                      <a:pt x="232" y="1580"/>
                    </a:lnTo>
                    <a:lnTo>
                      <a:pt x="234" y="1582"/>
                    </a:lnTo>
                    <a:lnTo>
                      <a:pt x="236" y="1584"/>
                    </a:lnTo>
                    <a:lnTo>
                      <a:pt x="236" y="1584"/>
                    </a:lnTo>
                    <a:lnTo>
                      <a:pt x="1418" y="1574"/>
                    </a:lnTo>
                    <a:lnTo>
                      <a:pt x="1418" y="1574"/>
                    </a:lnTo>
                    <a:lnTo>
                      <a:pt x="1410" y="1584"/>
                    </a:lnTo>
                    <a:lnTo>
                      <a:pt x="1410" y="1584"/>
                    </a:lnTo>
                    <a:lnTo>
                      <a:pt x="1418" y="1582"/>
                    </a:lnTo>
                    <a:lnTo>
                      <a:pt x="1426" y="1582"/>
                    </a:lnTo>
                    <a:lnTo>
                      <a:pt x="1434" y="1580"/>
                    </a:lnTo>
                    <a:lnTo>
                      <a:pt x="1442" y="1580"/>
                    </a:lnTo>
                    <a:lnTo>
                      <a:pt x="1442" y="1580"/>
                    </a:lnTo>
                    <a:lnTo>
                      <a:pt x="1440" y="1578"/>
                    </a:lnTo>
                    <a:lnTo>
                      <a:pt x="1442" y="1576"/>
                    </a:lnTo>
                    <a:lnTo>
                      <a:pt x="1444" y="1574"/>
                    </a:lnTo>
                    <a:lnTo>
                      <a:pt x="1442" y="1572"/>
                    </a:lnTo>
                    <a:lnTo>
                      <a:pt x="1442" y="1570"/>
                    </a:lnTo>
                    <a:lnTo>
                      <a:pt x="1442" y="1570"/>
                    </a:lnTo>
                    <a:lnTo>
                      <a:pt x="1430" y="1572"/>
                    </a:lnTo>
                    <a:lnTo>
                      <a:pt x="1418" y="1574"/>
                    </a:lnTo>
                    <a:lnTo>
                      <a:pt x="1418" y="1574"/>
                    </a:lnTo>
                    <a:lnTo>
                      <a:pt x="238" y="1588"/>
                    </a:lnTo>
                    <a:lnTo>
                      <a:pt x="238" y="1588"/>
                    </a:lnTo>
                    <a:lnTo>
                      <a:pt x="244" y="1588"/>
                    </a:lnTo>
                    <a:lnTo>
                      <a:pt x="248" y="1590"/>
                    </a:lnTo>
                    <a:lnTo>
                      <a:pt x="248" y="1590"/>
                    </a:lnTo>
                    <a:lnTo>
                      <a:pt x="250" y="1584"/>
                    </a:lnTo>
                    <a:lnTo>
                      <a:pt x="248" y="1582"/>
                    </a:lnTo>
                    <a:lnTo>
                      <a:pt x="246" y="1580"/>
                    </a:lnTo>
                    <a:lnTo>
                      <a:pt x="246" y="1580"/>
                    </a:lnTo>
                    <a:lnTo>
                      <a:pt x="242" y="1584"/>
                    </a:lnTo>
                    <a:lnTo>
                      <a:pt x="238" y="1586"/>
                    </a:lnTo>
                    <a:lnTo>
                      <a:pt x="238" y="1588"/>
                    </a:lnTo>
                    <a:lnTo>
                      <a:pt x="238" y="1588"/>
                    </a:lnTo>
                    <a:lnTo>
                      <a:pt x="1428" y="1588"/>
                    </a:lnTo>
                    <a:lnTo>
                      <a:pt x="1428" y="1588"/>
                    </a:lnTo>
                    <a:lnTo>
                      <a:pt x="1438" y="1588"/>
                    </a:lnTo>
                    <a:lnTo>
                      <a:pt x="1440" y="1586"/>
                    </a:lnTo>
                    <a:lnTo>
                      <a:pt x="1442" y="1582"/>
                    </a:lnTo>
                    <a:lnTo>
                      <a:pt x="1442" y="1582"/>
                    </a:lnTo>
                    <a:lnTo>
                      <a:pt x="1434" y="1584"/>
                    </a:lnTo>
                    <a:lnTo>
                      <a:pt x="1430" y="1586"/>
                    </a:lnTo>
                    <a:lnTo>
                      <a:pt x="1428" y="1588"/>
                    </a:lnTo>
                    <a:lnTo>
                      <a:pt x="1428" y="1588"/>
                    </a:lnTo>
                    <a:lnTo>
                      <a:pt x="158" y="1588"/>
                    </a:lnTo>
                    <a:lnTo>
                      <a:pt x="158" y="1588"/>
                    </a:lnTo>
                    <a:lnTo>
                      <a:pt x="160" y="1590"/>
                    </a:lnTo>
                    <a:lnTo>
                      <a:pt x="164" y="1590"/>
                    </a:lnTo>
                    <a:lnTo>
                      <a:pt x="166" y="1590"/>
                    </a:lnTo>
                    <a:lnTo>
                      <a:pt x="168" y="1586"/>
                    </a:lnTo>
                    <a:lnTo>
                      <a:pt x="168" y="1586"/>
                    </a:lnTo>
                    <a:lnTo>
                      <a:pt x="162" y="1584"/>
                    </a:lnTo>
                    <a:lnTo>
                      <a:pt x="160" y="1584"/>
                    </a:lnTo>
                    <a:lnTo>
                      <a:pt x="158" y="1588"/>
                    </a:lnTo>
                    <a:lnTo>
                      <a:pt x="158" y="1588"/>
                    </a:lnTo>
                    <a:lnTo>
                      <a:pt x="326" y="1590"/>
                    </a:lnTo>
                    <a:lnTo>
                      <a:pt x="326" y="1590"/>
                    </a:lnTo>
                    <a:lnTo>
                      <a:pt x="328" y="1590"/>
                    </a:lnTo>
                    <a:lnTo>
                      <a:pt x="330" y="1590"/>
                    </a:lnTo>
                    <a:lnTo>
                      <a:pt x="330" y="1590"/>
                    </a:lnTo>
                    <a:lnTo>
                      <a:pt x="330" y="1586"/>
                    </a:lnTo>
                    <a:lnTo>
                      <a:pt x="330" y="1586"/>
                    </a:lnTo>
                    <a:lnTo>
                      <a:pt x="330" y="1584"/>
                    </a:lnTo>
                    <a:lnTo>
                      <a:pt x="330" y="1584"/>
                    </a:lnTo>
                    <a:lnTo>
                      <a:pt x="328" y="1586"/>
                    </a:lnTo>
                    <a:lnTo>
                      <a:pt x="326" y="1590"/>
                    </a:lnTo>
                    <a:lnTo>
                      <a:pt x="326" y="1590"/>
                    </a:lnTo>
                    <a:lnTo>
                      <a:pt x="160" y="1618"/>
                    </a:lnTo>
                    <a:lnTo>
                      <a:pt x="160" y="1618"/>
                    </a:lnTo>
                    <a:lnTo>
                      <a:pt x="166" y="1612"/>
                    </a:lnTo>
                    <a:lnTo>
                      <a:pt x="170" y="1604"/>
                    </a:lnTo>
                    <a:lnTo>
                      <a:pt x="176" y="1588"/>
                    </a:lnTo>
                    <a:lnTo>
                      <a:pt x="176" y="1588"/>
                    </a:lnTo>
                    <a:lnTo>
                      <a:pt x="172" y="1588"/>
                    </a:lnTo>
                    <a:lnTo>
                      <a:pt x="170" y="1588"/>
                    </a:lnTo>
                    <a:lnTo>
                      <a:pt x="168" y="1590"/>
                    </a:lnTo>
                    <a:lnTo>
                      <a:pt x="166" y="1592"/>
                    </a:lnTo>
                    <a:lnTo>
                      <a:pt x="166" y="1592"/>
                    </a:lnTo>
                    <a:lnTo>
                      <a:pt x="168" y="1594"/>
                    </a:lnTo>
                    <a:lnTo>
                      <a:pt x="168" y="1598"/>
                    </a:lnTo>
                    <a:lnTo>
                      <a:pt x="168" y="1598"/>
                    </a:lnTo>
                    <a:lnTo>
                      <a:pt x="158" y="1600"/>
                    </a:lnTo>
                    <a:lnTo>
                      <a:pt x="148" y="1604"/>
                    </a:lnTo>
                    <a:lnTo>
                      <a:pt x="142" y="1610"/>
                    </a:lnTo>
                    <a:lnTo>
                      <a:pt x="136" y="1618"/>
                    </a:lnTo>
                    <a:lnTo>
                      <a:pt x="136" y="1618"/>
                    </a:lnTo>
                    <a:lnTo>
                      <a:pt x="146" y="1618"/>
                    </a:lnTo>
                    <a:lnTo>
                      <a:pt x="154" y="1622"/>
                    </a:lnTo>
                    <a:lnTo>
                      <a:pt x="154" y="1622"/>
                    </a:lnTo>
                    <a:lnTo>
                      <a:pt x="156" y="1618"/>
                    </a:lnTo>
                    <a:lnTo>
                      <a:pt x="154" y="1612"/>
                    </a:lnTo>
                    <a:lnTo>
                      <a:pt x="152" y="1608"/>
                    </a:lnTo>
                    <a:lnTo>
                      <a:pt x="154" y="1606"/>
                    </a:lnTo>
                    <a:lnTo>
                      <a:pt x="154" y="1604"/>
                    </a:lnTo>
                    <a:lnTo>
                      <a:pt x="154" y="1604"/>
                    </a:lnTo>
                    <a:lnTo>
                      <a:pt x="156" y="1614"/>
                    </a:lnTo>
                    <a:lnTo>
                      <a:pt x="158" y="1618"/>
                    </a:lnTo>
                    <a:lnTo>
                      <a:pt x="160" y="1618"/>
                    </a:lnTo>
                    <a:lnTo>
                      <a:pt x="160" y="1618"/>
                    </a:lnTo>
                    <a:lnTo>
                      <a:pt x="1398" y="1590"/>
                    </a:lnTo>
                    <a:lnTo>
                      <a:pt x="1398" y="1590"/>
                    </a:lnTo>
                    <a:lnTo>
                      <a:pt x="1404" y="1590"/>
                    </a:lnTo>
                    <a:lnTo>
                      <a:pt x="1406" y="1588"/>
                    </a:lnTo>
                    <a:lnTo>
                      <a:pt x="1406" y="1588"/>
                    </a:lnTo>
                    <a:lnTo>
                      <a:pt x="1402" y="1588"/>
                    </a:lnTo>
                    <a:lnTo>
                      <a:pt x="1400" y="1588"/>
                    </a:lnTo>
                    <a:lnTo>
                      <a:pt x="1398" y="1590"/>
                    </a:lnTo>
                    <a:lnTo>
                      <a:pt x="1398" y="1590"/>
                    </a:lnTo>
                    <a:lnTo>
                      <a:pt x="1442" y="1590"/>
                    </a:lnTo>
                    <a:lnTo>
                      <a:pt x="1442" y="1590"/>
                    </a:lnTo>
                    <a:lnTo>
                      <a:pt x="1434" y="1590"/>
                    </a:lnTo>
                    <a:lnTo>
                      <a:pt x="1426" y="1590"/>
                    </a:lnTo>
                    <a:lnTo>
                      <a:pt x="1410" y="1594"/>
                    </a:lnTo>
                    <a:lnTo>
                      <a:pt x="1410" y="1594"/>
                    </a:lnTo>
                    <a:lnTo>
                      <a:pt x="1412" y="1598"/>
                    </a:lnTo>
                    <a:lnTo>
                      <a:pt x="1416" y="1602"/>
                    </a:lnTo>
                    <a:lnTo>
                      <a:pt x="1418" y="1604"/>
                    </a:lnTo>
                    <a:lnTo>
                      <a:pt x="1422" y="1606"/>
                    </a:lnTo>
                    <a:lnTo>
                      <a:pt x="1422" y="1606"/>
                    </a:lnTo>
                    <a:lnTo>
                      <a:pt x="1412" y="1600"/>
                    </a:lnTo>
                    <a:lnTo>
                      <a:pt x="1408" y="1598"/>
                    </a:lnTo>
                    <a:lnTo>
                      <a:pt x="1402" y="1598"/>
                    </a:lnTo>
                    <a:lnTo>
                      <a:pt x="1402" y="1598"/>
                    </a:lnTo>
                    <a:lnTo>
                      <a:pt x="1406" y="1604"/>
                    </a:lnTo>
                    <a:lnTo>
                      <a:pt x="1410" y="1610"/>
                    </a:lnTo>
                    <a:lnTo>
                      <a:pt x="1416" y="1614"/>
                    </a:lnTo>
                    <a:lnTo>
                      <a:pt x="1424" y="1618"/>
                    </a:lnTo>
                    <a:lnTo>
                      <a:pt x="1424" y="1618"/>
                    </a:lnTo>
                    <a:lnTo>
                      <a:pt x="1428" y="1614"/>
                    </a:lnTo>
                    <a:lnTo>
                      <a:pt x="1430" y="1612"/>
                    </a:lnTo>
                    <a:lnTo>
                      <a:pt x="1430" y="1610"/>
                    </a:lnTo>
                    <a:lnTo>
                      <a:pt x="1430" y="1610"/>
                    </a:lnTo>
                    <a:lnTo>
                      <a:pt x="1434" y="1610"/>
                    </a:lnTo>
                    <a:lnTo>
                      <a:pt x="1436" y="1610"/>
                    </a:lnTo>
                    <a:lnTo>
                      <a:pt x="1438" y="1606"/>
                    </a:lnTo>
                    <a:lnTo>
                      <a:pt x="1440" y="1604"/>
                    </a:lnTo>
                    <a:lnTo>
                      <a:pt x="1442" y="1596"/>
                    </a:lnTo>
                    <a:lnTo>
                      <a:pt x="1442" y="1590"/>
                    </a:lnTo>
                    <a:lnTo>
                      <a:pt x="1442" y="1590"/>
                    </a:lnTo>
                    <a:lnTo>
                      <a:pt x="1318" y="1594"/>
                    </a:lnTo>
                    <a:lnTo>
                      <a:pt x="1318" y="1594"/>
                    </a:lnTo>
                    <a:lnTo>
                      <a:pt x="1298" y="1598"/>
                    </a:lnTo>
                    <a:lnTo>
                      <a:pt x="1290" y="1602"/>
                    </a:lnTo>
                    <a:lnTo>
                      <a:pt x="1284" y="1606"/>
                    </a:lnTo>
                    <a:lnTo>
                      <a:pt x="1284" y="1606"/>
                    </a:lnTo>
                    <a:lnTo>
                      <a:pt x="1292" y="1608"/>
                    </a:lnTo>
                    <a:lnTo>
                      <a:pt x="1298" y="1612"/>
                    </a:lnTo>
                    <a:lnTo>
                      <a:pt x="1314" y="1618"/>
                    </a:lnTo>
                    <a:lnTo>
                      <a:pt x="1328" y="1624"/>
                    </a:lnTo>
                    <a:lnTo>
                      <a:pt x="1334" y="1624"/>
                    </a:lnTo>
                    <a:lnTo>
                      <a:pt x="1342" y="1624"/>
                    </a:lnTo>
                    <a:lnTo>
                      <a:pt x="1342" y="1624"/>
                    </a:lnTo>
                    <a:lnTo>
                      <a:pt x="1336" y="1616"/>
                    </a:lnTo>
                    <a:lnTo>
                      <a:pt x="1328" y="1610"/>
                    </a:lnTo>
                    <a:lnTo>
                      <a:pt x="1322" y="1602"/>
                    </a:lnTo>
                    <a:lnTo>
                      <a:pt x="1318" y="1594"/>
                    </a:lnTo>
                    <a:lnTo>
                      <a:pt x="1318" y="1594"/>
                    </a:lnTo>
                    <a:lnTo>
                      <a:pt x="1448" y="1608"/>
                    </a:lnTo>
                    <a:lnTo>
                      <a:pt x="1448" y="1608"/>
                    </a:lnTo>
                    <a:lnTo>
                      <a:pt x="1450" y="1608"/>
                    </a:lnTo>
                    <a:lnTo>
                      <a:pt x="1452" y="1606"/>
                    </a:lnTo>
                    <a:lnTo>
                      <a:pt x="1452" y="1606"/>
                    </a:lnTo>
                    <a:lnTo>
                      <a:pt x="1452" y="1600"/>
                    </a:lnTo>
                    <a:lnTo>
                      <a:pt x="1450" y="1594"/>
                    </a:lnTo>
                    <a:lnTo>
                      <a:pt x="1450" y="1594"/>
                    </a:lnTo>
                    <a:lnTo>
                      <a:pt x="1448" y="1600"/>
                    </a:lnTo>
                    <a:lnTo>
                      <a:pt x="1448" y="1608"/>
                    </a:lnTo>
                    <a:lnTo>
                      <a:pt x="1448" y="1608"/>
                    </a:lnTo>
                    <a:lnTo>
                      <a:pt x="76" y="1602"/>
                    </a:lnTo>
                    <a:lnTo>
                      <a:pt x="76" y="1602"/>
                    </a:lnTo>
                    <a:lnTo>
                      <a:pt x="84" y="1602"/>
                    </a:lnTo>
                    <a:lnTo>
                      <a:pt x="92" y="1602"/>
                    </a:lnTo>
                    <a:lnTo>
                      <a:pt x="100" y="1602"/>
                    </a:lnTo>
                    <a:lnTo>
                      <a:pt x="104" y="1600"/>
                    </a:lnTo>
                    <a:lnTo>
                      <a:pt x="106" y="1598"/>
                    </a:lnTo>
                    <a:lnTo>
                      <a:pt x="106" y="1598"/>
                    </a:lnTo>
                    <a:lnTo>
                      <a:pt x="98" y="1596"/>
                    </a:lnTo>
                    <a:lnTo>
                      <a:pt x="88" y="1596"/>
                    </a:lnTo>
                    <a:lnTo>
                      <a:pt x="82" y="1598"/>
                    </a:lnTo>
                    <a:lnTo>
                      <a:pt x="76" y="1602"/>
                    </a:lnTo>
                    <a:lnTo>
                      <a:pt x="76" y="1602"/>
                    </a:lnTo>
                    <a:lnTo>
                      <a:pt x="306" y="1604"/>
                    </a:lnTo>
                    <a:lnTo>
                      <a:pt x="306" y="1604"/>
                    </a:lnTo>
                    <a:lnTo>
                      <a:pt x="316" y="1602"/>
                    </a:lnTo>
                    <a:lnTo>
                      <a:pt x="326" y="1602"/>
                    </a:lnTo>
                    <a:lnTo>
                      <a:pt x="326" y="1602"/>
                    </a:lnTo>
                    <a:lnTo>
                      <a:pt x="322" y="1598"/>
                    </a:lnTo>
                    <a:lnTo>
                      <a:pt x="316" y="1598"/>
                    </a:lnTo>
                    <a:lnTo>
                      <a:pt x="310" y="1600"/>
                    </a:lnTo>
                    <a:lnTo>
                      <a:pt x="306" y="1604"/>
                    </a:lnTo>
                    <a:lnTo>
                      <a:pt x="306" y="1604"/>
                    </a:lnTo>
                    <a:lnTo>
                      <a:pt x="292" y="1606"/>
                    </a:lnTo>
                    <a:lnTo>
                      <a:pt x="292" y="1606"/>
                    </a:lnTo>
                    <a:lnTo>
                      <a:pt x="298" y="1606"/>
                    </a:lnTo>
                    <a:lnTo>
                      <a:pt x="302" y="1604"/>
                    </a:lnTo>
                    <a:lnTo>
                      <a:pt x="306" y="1602"/>
                    </a:lnTo>
                    <a:lnTo>
                      <a:pt x="306" y="1598"/>
                    </a:lnTo>
                    <a:lnTo>
                      <a:pt x="306" y="1598"/>
                    </a:lnTo>
                    <a:lnTo>
                      <a:pt x="298" y="1602"/>
                    </a:lnTo>
                    <a:lnTo>
                      <a:pt x="292" y="1606"/>
                    </a:lnTo>
                    <a:lnTo>
                      <a:pt x="292" y="1606"/>
                    </a:lnTo>
                    <a:lnTo>
                      <a:pt x="1390" y="1604"/>
                    </a:lnTo>
                    <a:lnTo>
                      <a:pt x="1390" y="1604"/>
                    </a:lnTo>
                    <a:lnTo>
                      <a:pt x="1398" y="1606"/>
                    </a:lnTo>
                    <a:lnTo>
                      <a:pt x="1400" y="1606"/>
                    </a:lnTo>
                    <a:lnTo>
                      <a:pt x="1404" y="1606"/>
                    </a:lnTo>
                    <a:lnTo>
                      <a:pt x="1404" y="1606"/>
                    </a:lnTo>
                    <a:lnTo>
                      <a:pt x="1402" y="1602"/>
                    </a:lnTo>
                    <a:lnTo>
                      <a:pt x="1400" y="1600"/>
                    </a:lnTo>
                    <a:lnTo>
                      <a:pt x="1400" y="1600"/>
                    </a:lnTo>
                    <a:lnTo>
                      <a:pt x="1392" y="1600"/>
                    </a:lnTo>
                    <a:lnTo>
                      <a:pt x="1390" y="1602"/>
                    </a:lnTo>
                    <a:lnTo>
                      <a:pt x="1390" y="1604"/>
                    </a:lnTo>
                    <a:lnTo>
                      <a:pt x="1390" y="1604"/>
                    </a:lnTo>
                    <a:lnTo>
                      <a:pt x="1448" y="1612"/>
                    </a:lnTo>
                    <a:lnTo>
                      <a:pt x="1448" y="1612"/>
                    </a:lnTo>
                    <a:lnTo>
                      <a:pt x="1448" y="1616"/>
                    </a:lnTo>
                    <a:lnTo>
                      <a:pt x="1448" y="1620"/>
                    </a:lnTo>
                    <a:lnTo>
                      <a:pt x="1450" y="1622"/>
                    </a:lnTo>
                    <a:lnTo>
                      <a:pt x="1450" y="1622"/>
                    </a:lnTo>
                    <a:lnTo>
                      <a:pt x="1452" y="1616"/>
                    </a:lnTo>
                    <a:lnTo>
                      <a:pt x="1454" y="1612"/>
                    </a:lnTo>
                    <a:lnTo>
                      <a:pt x="1458" y="1606"/>
                    </a:lnTo>
                    <a:lnTo>
                      <a:pt x="1458" y="1602"/>
                    </a:lnTo>
                    <a:lnTo>
                      <a:pt x="1458" y="1602"/>
                    </a:lnTo>
                    <a:lnTo>
                      <a:pt x="1454" y="1608"/>
                    </a:lnTo>
                    <a:lnTo>
                      <a:pt x="1448" y="1612"/>
                    </a:lnTo>
                    <a:lnTo>
                      <a:pt x="1448" y="1612"/>
                    </a:lnTo>
                    <a:lnTo>
                      <a:pt x="248" y="1610"/>
                    </a:lnTo>
                    <a:lnTo>
                      <a:pt x="248" y="1610"/>
                    </a:lnTo>
                    <a:lnTo>
                      <a:pt x="256" y="1610"/>
                    </a:lnTo>
                    <a:lnTo>
                      <a:pt x="258" y="1608"/>
                    </a:lnTo>
                    <a:lnTo>
                      <a:pt x="260" y="1606"/>
                    </a:lnTo>
                    <a:lnTo>
                      <a:pt x="260" y="1606"/>
                    </a:lnTo>
                    <a:lnTo>
                      <a:pt x="254" y="1606"/>
                    </a:lnTo>
                    <a:lnTo>
                      <a:pt x="250" y="1608"/>
                    </a:lnTo>
                    <a:lnTo>
                      <a:pt x="248" y="1610"/>
                    </a:lnTo>
                    <a:lnTo>
                      <a:pt x="248" y="1610"/>
                    </a:lnTo>
                    <a:lnTo>
                      <a:pt x="410" y="1614"/>
                    </a:lnTo>
                    <a:lnTo>
                      <a:pt x="410" y="1614"/>
                    </a:lnTo>
                    <a:lnTo>
                      <a:pt x="416" y="1618"/>
                    </a:lnTo>
                    <a:lnTo>
                      <a:pt x="416" y="1618"/>
                    </a:lnTo>
                    <a:lnTo>
                      <a:pt x="420" y="1612"/>
                    </a:lnTo>
                    <a:lnTo>
                      <a:pt x="422" y="1608"/>
                    </a:lnTo>
                    <a:lnTo>
                      <a:pt x="420" y="1606"/>
                    </a:lnTo>
                    <a:lnTo>
                      <a:pt x="420" y="1606"/>
                    </a:lnTo>
                    <a:lnTo>
                      <a:pt x="418" y="1608"/>
                    </a:lnTo>
                    <a:lnTo>
                      <a:pt x="414" y="1610"/>
                    </a:lnTo>
                    <a:lnTo>
                      <a:pt x="412" y="1612"/>
                    </a:lnTo>
                    <a:lnTo>
                      <a:pt x="410" y="1614"/>
                    </a:lnTo>
                    <a:lnTo>
                      <a:pt x="410" y="1614"/>
                    </a:lnTo>
                    <a:lnTo>
                      <a:pt x="1396" y="1610"/>
                    </a:lnTo>
                    <a:lnTo>
                      <a:pt x="1396" y="1610"/>
                    </a:lnTo>
                    <a:lnTo>
                      <a:pt x="1386" y="1612"/>
                    </a:lnTo>
                    <a:lnTo>
                      <a:pt x="1382" y="1614"/>
                    </a:lnTo>
                    <a:lnTo>
                      <a:pt x="1380" y="1618"/>
                    </a:lnTo>
                    <a:lnTo>
                      <a:pt x="1380" y="1618"/>
                    </a:lnTo>
                    <a:lnTo>
                      <a:pt x="1382" y="1618"/>
                    </a:lnTo>
                    <a:lnTo>
                      <a:pt x="1384" y="1620"/>
                    </a:lnTo>
                    <a:lnTo>
                      <a:pt x="1384" y="1624"/>
                    </a:lnTo>
                    <a:lnTo>
                      <a:pt x="1384" y="1624"/>
                    </a:lnTo>
                    <a:lnTo>
                      <a:pt x="1376" y="1622"/>
                    </a:lnTo>
                    <a:lnTo>
                      <a:pt x="1366" y="1626"/>
                    </a:lnTo>
                    <a:lnTo>
                      <a:pt x="1348" y="1632"/>
                    </a:lnTo>
                    <a:lnTo>
                      <a:pt x="1348" y="1632"/>
                    </a:lnTo>
                    <a:lnTo>
                      <a:pt x="1358" y="1636"/>
                    </a:lnTo>
                    <a:lnTo>
                      <a:pt x="1366" y="1640"/>
                    </a:lnTo>
                    <a:lnTo>
                      <a:pt x="1366" y="1640"/>
                    </a:lnTo>
                    <a:lnTo>
                      <a:pt x="1370" y="1634"/>
                    </a:lnTo>
                    <a:lnTo>
                      <a:pt x="1376" y="1630"/>
                    </a:lnTo>
                    <a:lnTo>
                      <a:pt x="1376" y="1630"/>
                    </a:lnTo>
                    <a:lnTo>
                      <a:pt x="1372" y="1634"/>
                    </a:lnTo>
                    <a:lnTo>
                      <a:pt x="1370" y="1638"/>
                    </a:lnTo>
                    <a:lnTo>
                      <a:pt x="1372" y="1640"/>
                    </a:lnTo>
                    <a:lnTo>
                      <a:pt x="1372" y="1640"/>
                    </a:lnTo>
                    <a:lnTo>
                      <a:pt x="1382" y="1630"/>
                    </a:lnTo>
                    <a:lnTo>
                      <a:pt x="1392" y="1618"/>
                    </a:lnTo>
                    <a:lnTo>
                      <a:pt x="1392" y="1618"/>
                    </a:lnTo>
                    <a:lnTo>
                      <a:pt x="1390" y="1616"/>
                    </a:lnTo>
                    <a:lnTo>
                      <a:pt x="1388" y="1616"/>
                    </a:lnTo>
                    <a:lnTo>
                      <a:pt x="1388" y="1616"/>
                    </a:lnTo>
                    <a:lnTo>
                      <a:pt x="1388" y="1616"/>
                    </a:lnTo>
                    <a:lnTo>
                      <a:pt x="1392" y="1614"/>
                    </a:lnTo>
                    <a:lnTo>
                      <a:pt x="1396" y="1610"/>
                    </a:lnTo>
                    <a:lnTo>
                      <a:pt x="1396" y="1610"/>
                    </a:lnTo>
                    <a:lnTo>
                      <a:pt x="1338" y="1632"/>
                    </a:lnTo>
                    <a:lnTo>
                      <a:pt x="1338" y="1632"/>
                    </a:lnTo>
                    <a:lnTo>
                      <a:pt x="1346" y="1642"/>
                    </a:lnTo>
                    <a:lnTo>
                      <a:pt x="1350" y="1646"/>
                    </a:lnTo>
                    <a:lnTo>
                      <a:pt x="1356" y="1650"/>
                    </a:lnTo>
                    <a:lnTo>
                      <a:pt x="1356" y="1650"/>
                    </a:lnTo>
                    <a:lnTo>
                      <a:pt x="1360" y="1646"/>
                    </a:lnTo>
                    <a:lnTo>
                      <a:pt x="1364" y="1640"/>
                    </a:lnTo>
                    <a:lnTo>
                      <a:pt x="1364" y="1640"/>
                    </a:lnTo>
                    <a:lnTo>
                      <a:pt x="1358" y="1638"/>
                    </a:lnTo>
                    <a:lnTo>
                      <a:pt x="1350" y="1636"/>
                    </a:lnTo>
                    <a:lnTo>
                      <a:pt x="1344" y="1632"/>
                    </a:lnTo>
                    <a:lnTo>
                      <a:pt x="1338" y="1632"/>
                    </a:lnTo>
                    <a:lnTo>
                      <a:pt x="1338" y="1632"/>
                    </a:lnTo>
                    <a:lnTo>
                      <a:pt x="1356" y="1652"/>
                    </a:lnTo>
                    <a:lnTo>
                      <a:pt x="1356" y="1652"/>
                    </a:lnTo>
                    <a:lnTo>
                      <a:pt x="1362" y="1656"/>
                    </a:lnTo>
                    <a:lnTo>
                      <a:pt x="1370" y="1660"/>
                    </a:lnTo>
                    <a:lnTo>
                      <a:pt x="1378" y="1664"/>
                    </a:lnTo>
                    <a:lnTo>
                      <a:pt x="1384" y="1668"/>
                    </a:lnTo>
                    <a:lnTo>
                      <a:pt x="1384" y="1668"/>
                    </a:lnTo>
                    <a:lnTo>
                      <a:pt x="1392" y="1666"/>
                    </a:lnTo>
                    <a:lnTo>
                      <a:pt x="1394" y="1664"/>
                    </a:lnTo>
                    <a:lnTo>
                      <a:pt x="1398" y="1660"/>
                    </a:lnTo>
                    <a:lnTo>
                      <a:pt x="1398" y="1660"/>
                    </a:lnTo>
                    <a:lnTo>
                      <a:pt x="1392" y="1656"/>
                    </a:lnTo>
                    <a:lnTo>
                      <a:pt x="1386" y="1652"/>
                    </a:lnTo>
                    <a:lnTo>
                      <a:pt x="1382" y="1650"/>
                    </a:lnTo>
                    <a:lnTo>
                      <a:pt x="1380" y="1648"/>
                    </a:lnTo>
                    <a:lnTo>
                      <a:pt x="1380" y="1644"/>
                    </a:lnTo>
                    <a:lnTo>
                      <a:pt x="1382" y="1640"/>
                    </a:lnTo>
                    <a:lnTo>
                      <a:pt x="1382" y="1640"/>
                    </a:lnTo>
                    <a:lnTo>
                      <a:pt x="1396" y="1640"/>
                    </a:lnTo>
                    <a:lnTo>
                      <a:pt x="1396" y="1640"/>
                    </a:lnTo>
                    <a:lnTo>
                      <a:pt x="1394" y="1636"/>
                    </a:lnTo>
                    <a:lnTo>
                      <a:pt x="1392" y="1632"/>
                    </a:lnTo>
                    <a:lnTo>
                      <a:pt x="1392" y="1632"/>
                    </a:lnTo>
                    <a:lnTo>
                      <a:pt x="1382" y="1636"/>
                    </a:lnTo>
                    <a:lnTo>
                      <a:pt x="1374" y="1640"/>
                    </a:lnTo>
                    <a:lnTo>
                      <a:pt x="1356" y="1652"/>
                    </a:lnTo>
                    <a:lnTo>
                      <a:pt x="1356" y="1652"/>
                    </a:lnTo>
                    <a:lnTo>
                      <a:pt x="1436" y="1646"/>
                    </a:lnTo>
                    <a:lnTo>
                      <a:pt x="1436" y="1646"/>
                    </a:lnTo>
                    <a:lnTo>
                      <a:pt x="1438" y="1640"/>
                    </a:lnTo>
                    <a:lnTo>
                      <a:pt x="1442" y="1634"/>
                    </a:lnTo>
                    <a:lnTo>
                      <a:pt x="1444" y="1630"/>
                    </a:lnTo>
                    <a:lnTo>
                      <a:pt x="1446" y="1622"/>
                    </a:lnTo>
                    <a:lnTo>
                      <a:pt x="1446" y="1622"/>
                    </a:lnTo>
                    <a:lnTo>
                      <a:pt x="1442" y="1618"/>
                    </a:lnTo>
                    <a:lnTo>
                      <a:pt x="1442" y="1618"/>
                    </a:lnTo>
                    <a:lnTo>
                      <a:pt x="1426" y="1620"/>
                    </a:lnTo>
                    <a:lnTo>
                      <a:pt x="1420" y="1618"/>
                    </a:lnTo>
                    <a:lnTo>
                      <a:pt x="1414" y="1616"/>
                    </a:lnTo>
                    <a:lnTo>
                      <a:pt x="1414" y="1616"/>
                    </a:lnTo>
                    <a:lnTo>
                      <a:pt x="1412" y="1614"/>
                    </a:lnTo>
                    <a:lnTo>
                      <a:pt x="1410" y="1612"/>
                    </a:lnTo>
                    <a:lnTo>
                      <a:pt x="1408" y="1610"/>
                    </a:lnTo>
                    <a:lnTo>
                      <a:pt x="1406" y="1608"/>
                    </a:lnTo>
                    <a:lnTo>
                      <a:pt x="1406" y="1608"/>
                    </a:lnTo>
                    <a:lnTo>
                      <a:pt x="1402" y="1608"/>
                    </a:lnTo>
                    <a:lnTo>
                      <a:pt x="1398" y="1610"/>
                    </a:lnTo>
                    <a:lnTo>
                      <a:pt x="1394" y="1614"/>
                    </a:lnTo>
                    <a:lnTo>
                      <a:pt x="1392" y="1618"/>
                    </a:lnTo>
                    <a:lnTo>
                      <a:pt x="1392" y="1618"/>
                    </a:lnTo>
                    <a:lnTo>
                      <a:pt x="1400" y="1618"/>
                    </a:lnTo>
                    <a:lnTo>
                      <a:pt x="1404" y="1620"/>
                    </a:lnTo>
                    <a:lnTo>
                      <a:pt x="1408" y="1622"/>
                    </a:lnTo>
                    <a:lnTo>
                      <a:pt x="1412" y="1618"/>
                    </a:lnTo>
                    <a:lnTo>
                      <a:pt x="1412" y="1618"/>
                    </a:lnTo>
                    <a:lnTo>
                      <a:pt x="1408" y="1624"/>
                    </a:lnTo>
                    <a:lnTo>
                      <a:pt x="1408" y="1628"/>
                    </a:lnTo>
                    <a:lnTo>
                      <a:pt x="1410" y="1632"/>
                    </a:lnTo>
                    <a:lnTo>
                      <a:pt x="1414" y="1636"/>
                    </a:lnTo>
                    <a:lnTo>
                      <a:pt x="1426" y="1640"/>
                    </a:lnTo>
                    <a:lnTo>
                      <a:pt x="1436" y="1646"/>
                    </a:lnTo>
                    <a:lnTo>
                      <a:pt x="1436" y="1646"/>
                    </a:lnTo>
                    <a:lnTo>
                      <a:pt x="244" y="1616"/>
                    </a:lnTo>
                    <a:lnTo>
                      <a:pt x="244" y="1616"/>
                    </a:lnTo>
                    <a:lnTo>
                      <a:pt x="248" y="1616"/>
                    </a:lnTo>
                    <a:lnTo>
                      <a:pt x="250" y="1620"/>
                    </a:lnTo>
                    <a:lnTo>
                      <a:pt x="254" y="1620"/>
                    </a:lnTo>
                    <a:lnTo>
                      <a:pt x="260" y="1622"/>
                    </a:lnTo>
                    <a:lnTo>
                      <a:pt x="260" y="1622"/>
                    </a:lnTo>
                    <a:lnTo>
                      <a:pt x="264" y="1616"/>
                    </a:lnTo>
                    <a:lnTo>
                      <a:pt x="264" y="1614"/>
                    </a:lnTo>
                    <a:lnTo>
                      <a:pt x="264" y="1610"/>
                    </a:lnTo>
                    <a:lnTo>
                      <a:pt x="264" y="1610"/>
                    </a:lnTo>
                    <a:lnTo>
                      <a:pt x="252" y="1612"/>
                    </a:lnTo>
                    <a:lnTo>
                      <a:pt x="244" y="1616"/>
                    </a:lnTo>
                    <a:lnTo>
                      <a:pt x="244" y="1616"/>
                    </a:lnTo>
                    <a:lnTo>
                      <a:pt x="1238" y="1622"/>
                    </a:lnTo>
                    <a:lnTo>
                      <a:pt x="1238" y="1622"/>
                    </a:lnTo>
                    <a:lnTo>
                      <a:pt x="1248" y="1626"/>
                    </a:lnTo>
                    <a:lnTo>
                      <a:pt x="1262" y="1628"/>
                    </a:lnTo>
                    <a:lnTo>
                      <a:pt x="1274" y="1626"/>
                    </a:lnTo>
                    <a:lnTo>
                      <a:pt x="1284" y="1622"/>
                    </a:lnTo>
                    <a:lnTo>
                      <a:pt x="1284" y="1622"/>
                    </a:lnTo>
                    <a:lnTo>
                      <a:pt x="1286" y="1624"/>
                    </a:lnTo>
                    <a:lnTo>
                      <a:pt x="1286" y="1626"/>
                    </a:lnTo>
                    <a:lnTo>
                      <a:pt x="1286" y="1626"/>
                    </a:lnTo>
                    <a:lnTo>
                      <a:pt x="1286" y="1626"/>
                    </a:lnTo>
                    <a:lnTo>
                      <a:pt x="1282" y="1632"/>
                    </a:lnTo>
                    <a:lnTo>
                      <a:pt x="1274" y="1636"/>
                    </a:lnTo>
                    <a:lnTo>
                      <a:pt x="1266" y="1636"/>
                    </a:lnTo>
                    <a:lnTo>
                      <a:pt x="1258" y="1636"/>
                    </a:lnTo>
                    <a:lnTo>
                      <a:pt x="1240" y="1632"/>
                    </a:lnTo>
                    <a:lnTo>
                      <a:pt x="1234" y="1630"/>
                    </a:lnTo>
                    <a:lnTo>
                      <a:pt x="1228" y="1626"/>
                    </a:lnTo>
                    <a:lnTo>
                      <a:pt x="1228" y="1626"/>
                    </a:lnTo>
                    <a:lnTo>
                      <a:pt x="1214" y="1630"/>
                    </a:lnTo>
                    <a:lnTo>
                      <a:pt x="1208" y="1632"/>
                    </a:lnTo>
                    <a:lnTo>
                      <a:pt x="1204" y="1636"/>
                    </a:lnTo>
                    <a:lnTo>
                      <a:pt x="1204" y="1636"/>
                    </a:lnTo>
                    <a:lnTo>
                      <a:pt x="1230" y="1638"/>
                    </a:lnTo>
                    <a:lnTo>
                      <a:pt x="1256" y="1642"/>
                    </a:lnTo>
                    <a:lnTo>
                      <a:pt x="1280" y="1648"/>
                    </a:lnTo>
                    <a:lnTo>
                      <a:pt x="1300" y="1656"/>
                    </a:lnTo>
                    <a:lnTo>
                      <a:pt x="1300" y="1656"/>
                    </a:lnTo>
                    <a:lnTo>
                      <a:pt x="1316" y="1644"/>
                    </a:lnTo>
                    <a:lnTo>
                      <a:pt x="1324" y="1638"/>
                    </a:lnTo>
                    <a:lnTo>
                      <a:pt x="1330" y="1630"/>
                    </a:lnTo>
                    <a:lnTo>
                      <a:pt x="1330" y="1630"/>
                    </a:lnTo>
                    <a:lnTo>
                      <a:pt x="1320" y="1624"/>
                    </a:lnTo>
                    <a:lnTo>
                      <a:pt x="1306" y="1618"/>
                    </a:lnTo>
                    <a:lnTo>
                      <a:pt x="1294" y="1614"/>
                    </a:lnTo>
                    <a:lnTo>
                      <a:pt x="1280" y="1610"/>
                    </a:lnTo>
                    <a:lnTo>
                      <a:pt x="1280" y="1610"/>
                    </a:lnTo>
                    <a:lnTo>
                      <a:pt x="1272" y="1614"/>
                    </a:lnTo>
                    <a:lnTo>
                      <a:pt x="1268" y="1616"/>
                    </a:lnTo>
                    <a:lnTo>
                      <a:pt x="1264" y="1614"/>
                    </a:lnTo>
                    <a:lnTo>
                      <a:pt x="1264" y="1614"/>
                    </a:lnTo>
                    <a:lnTo>
                      <a:pt x="1264" y="1612"/>
                    </a:lnTo>
                    <a:lnTo>
                      <a:pt x="1264" y="1612"/>
                    </a:lnTo>
                    <a:lnTo>
                      <a:pt x="1264" y="1610"/>
                    </a:lnTo>
                    <a:lnTo>
                      <a:pt x="1264" y="1610"/>
                    </a:lnTo>
                    <a:lnTo>
                      <a:pt x="1264" y="1610"/>
                    </a:lnTo>
                    <a:lnTo>
                      <a:pt x="1258" y="1614"/>
                    </a:lnTo>
                    <a:lnTo>
                      <a:pt x="1252" y="1616"/>
                    </a:lnTo>
                    <a:lnTo>
                      <a:pt x="1244" y="1618"/>
                    </a:lnTo>
                    <a:lnTo>
                      <a:pt x="1238" y="1622"/>
                    </a:lnTo>
                    <a:lnTo>
                      <a:pt x="1238" y="1622"/>
                    </a:lnTo>
                    <a:lnTo>
                      <a:pt x="1354" y="1626"/>
                    </a:lnTo>
                    <a:lnTo>
                      <a:pt x="1354" y="1626"/>
                    </a:lnTo>
                    <a:lnTo>
                      <a:pt x="1344" y="1624"/>
                    </a:lnTo>
                    <a:lnTo>
                      <a:pt x="1342" y="1624"/>
                    </a:lnTo>
                    <a:lnTo>
                      <a:pt x="1340" y="1630"/>
                    </a:lnTo>
                    <a:lnTo>
                      <a:pt x="1340" y="1630"/>
                    </a:lnTo>
                    <a:lnTo>
                      <a:pt x="1352" y="1628"/>
                    </a:lnTo>
                    <a:lnTo>
                      <a:pt x="1360" y="1626"/>
                    </a:lnTo>
                    <a:lnTo>
                      <a:pt x="1370" y="1624"/>
                    </a:lnTo>
                    <a:lnTo>
                      <a:pt x="1376" y="1620"/>
                    </a:lnTo>
                    <a:lnTo>
                      <a:pt x="1376" y="1620"/>
                    </a:lnTo>
                    <a:lnTo>
                      <a:pt x="1374" y="1616"/>
                    </a:lnTo>
                    <a:lnTo>
                      <a:pt x="1370" y="1614"/>
                    </a:lnTo>
                    <a:lnTo>
                      <a:pt x="1368" y="1614"/>
                    </a:lnTo>
                    <a:lnTo>
                      <a:pt x="1364" y="1616"/>
                    </a:lnTo>
                    <a:lnTo>
                      <a:pt x="1360" y="1620"/>
                    </a:lnTo>
                    <a:lnTo>
                      <a:pt x="1354" y="1626"/>
                    </a:lnTo>
                    <a:lnTo>
                      <a:pt x="1354" y="1626"/>
                    </a:lnTo>
                    <a:lnTo>
                      <a:pt x="1304" y="1658"/>
                    </a:lnTo>
                    <a:lnTo>
                      <a:pt x="1304" y="1658"/>
                    </a:lnTo>
                    <a:lnTo>
                      <a:pt x="1310" y="1660"/>
                    </a:lnTo>
                    <a:lnTo>
                      <a:pt x="1316" y="1664"/>
                    </a:lnTo>
                    <a:lnTo>
                      <a:pt x="1316" y="1664"/>
                    </a:lnTo>
                    <a:lnTo>
                      <a:pt x="1320" y="1656"/>
                    </a:lnTo>
                    <a:lnTo>
                      <a:pt x="1326" y="1650"/>
                    </a:lnTo>
                    <a:lnTo>
                      <a:pt x="1334" y="1644"/>
                    </a:lnTo>
                    <a:lnTo>
                      <a:pt x="1342" y="1640"/>
                    </a:lnTo>
                    <a:lnTo>
                      <a:pt x="1342" y="1640"/>
                    </a:lnTo>
                    <a:lnTo>
                      <a:pt x="1336" y="1636"/>
                    </a:lnTo>
                    <a:lnTo>
                      <a:pt x="1332" y="1636"/>
                    </a:lnTo>
                    <a:lnTo>
                      <a:pt x="1326" y="1638"/>
                    </a:lnTo>
                    <a:lnTo>
                      <a:pt x="1322" y="1640"/>
                    </a:lnTo>
                    <a:lnTo>
                      <a:pt x="1312" y="1650"/>
                    </a:lnTo>
                    <a:lnTo>
                      <a:pt x="1304" y="1658"/>
                    </a:lnTo>
                    <a:lnTo>
                      <a:pt x="1304" y="1658"/>
                    </a:lnTo>
                    <a:lnTo>
                      <a:pt x="334" y="1686"/>
                    </a:lnTo>
                    <a:lnTo>
                      <a:pt x="334" y="1686"/>
                    </a:lnTo>
                    <a:lnTo>
                      <a:pt x="356" y="1682"/>
                    </a:lnTo>
                    <a:lnTo>
                      <a:pt x="366" y="1680"/>
                    </a:lnTo>
                    <a:lnTo>
                      <a:pt x="374" y="1676"/>
                    </a:lnTo>
                    <a:lnTo>
                      <a:pt x="374" y="1676"/>
                    </a:lnTo>
                    <a:lnTo>
                      <a:pt x="380" y="1668"/>
                    </a:lnTo>
                    <a:lnTo>
                      <a:pt x="384" y="1662"/>
                    </a:lnTo>
                    <a:lnTo>
                      <a:pt x="390" y="1656"/>
                    </a:lnTo>
                    <a:lnTo>
                      <a:pt x="394" y="1648"/>
                    </a:lnTo>
                    <a:lnTo>
                      <a:pt x="394" y="1648"/>
                    </a:lnTo>
                    <a:lnTo>
                      <a:pt x="386" y="1644"/>
                    </a:lnTo>
                    <a:lnTo>
                      <a:pt x="376" y="1640"/>
                    </a:lnTo>
                    <a:lnTo>
                      <a:pt x="366" y="1636"/>
                    </a:lnTo>
                    <a:lnTo>
                      <a:pt x="362" y="1636"/>
                    </a:lnTo>
                    <a:lnTo>
                      <a:pt x="356" y="1638"/>
                    </a:lnTo>
                    <a:lnTo>
                      <a:pt x="356" y="1638"/>
                    </a:lnTo>
                    <a:lnTo>
                      <a:pt x="356" y="1644"/>
                    </a:lnTo>
                    <a:lnTo>
                      <a:pt x="356" y="1644"/>
                    </a:lnTo>
                    <a:lnTo>
                      <a:pt x="370" y="1648"/>
                    </a:lnTo>
                    <a:lnTo>
                      <a:pt x="376" y="1650"/>
                    </a:lnTo>
                    <a:lnTo>
                      <a:pt x="378" y="1652"/>
                    </a:lnTo>
                    <a:lnTo>
                      <a:pt x="378" y="1656"/>
                    </a:lnTo>
                    <a:lnTo>
                      <a:pt x="378" y="1656"/>
                    </a:lnTo>
                    <a:lnTo>
                      <a:pt x="374" y="1660"/>
                    </a:lnTo>
                    <a:lnTo>
                      <a:pt x="368" y="1664"/>
                    </a:lnTo>
                    <a:lnTo>
                      <a:pt x="362" y="1666"/>
                    </a:lnTo>
                    <a:lnTo>
                      <a:pt x="360" y="1672"/>
                    </a:lnTo>
                    <a:lnTo>
                      <a:pt x="360" y="1672"/>
                    </a:lnTo>
                    <a:lnTo>
                      <a:pt x="360" y="1674"/>
                    </a:lnTo>
                    <a:lnTo>
                      <a:pt x="362" y="1676"/>
                    </a:lnTo>
                    <a:lnTo>
                      <a:pt x="366" y="1678"/>
                    </a:lnTo>
                    <a:lnTo>
                      <a:pt x="366" y="1678"/>
                    </a:lnTo>
                    <a:lnTo>
                      <a:pt x="356" y="1680"/>
                    </a:lnTo>
                    <a:lnTo>
                      <a:pt x="348" y="1680"/>
                    </a:lnTo>
                    <a:lnTo>
                      <a:pt x="340" y="1682"/>
                    </a:lnTo>
                    <a:lnTo>
                      <a:pt x="334" y="1686"/>
                    </a:lnTo>
                    <a:lnTo>
                      <a:pt x="334" y="1686"/>
                    </a:lnTo>
                    <a:lnTo>
                      <a:pt x="446" y="1662"/>
                    </a:lnTo>
                    <a:lnTo>
                      <a:pt x="446" y="1662"/>
                    </a:lnTo>
                    <a:lnTo>
                      <a:pt x="454" y="1668"/>
                    </a:lnTo>
                    <a:lnTo>
                      <a:pt x="462" y="1672"/>
                    </a:lnTo>
                    <a:lnTo>
                      <a:pt x="482" y="1678"/>
                    </a:lnTo>
                    <a:lnTo>
                      <a:pt x="482" y="1678"/>
                    </a:lnTo>
                    <a:lnTo>
                      <a:pt x="486" y="1668"/>
                    </a:lnTo>
                    <a:lnTo>
                      <a:pt x="490" y="1658"/>
                    </a:lnTo>
                    <a:lnTo>
                      <a:pt x="490" y="1658"/>
                    </a:lnTo>
                    <a:lnTo>
                      <a:pt x="484" y="1654"/>
                    </a:lnTo>
                    <a:lnTo>
                      <a:pt x="480" y="1652"/>
                    </a:lnTo>
                    <a:lnTo>
                      <a:pt x="480" y="1648"/>
                    </a:lnTo>
                    <a:lnTo>
                      <a:pt x="480" y="1648"/>
                    </a:lnTo>
                    <a:lnTo>
                      <a:pt x="484" y="1648"/>
                    </a:lnTo>
                    <a:lnTo>
                      <a:pt x="488" y="1650"/>
                    </a:lnTo>
                    <a:lnTo>
                      <a:pt x="490" y="1650"/>
                    </a:lnTo>
                    <a:lnTo>
                      <a:pt x="494" y="1650"/>
                    </a:lnTo>
                    <a:lnTo>
                      <a:pt x="494" y="1650"/>
                    </a:lnTo>
                    <a:lnTo>
                      <a:pt x="496" y="1642"/>
                    </a:lnTo>
                    <a:lnTo>
                      <a:pt x="498" y="1636"/>
                    </a:lnTo>
                    <a:lnTo>
                      <a:pt x="498" y="1636"/>
                    </a:lnTo>
                    <a:lnTo>
                      <a:pt x="488" y="1640"/>
                    </a:lnTo>
                    <a:lnTo>
                      <a:pt x="476" y="1644"/>
                    </a:lnTo>
                    <a:lnTo>
                      <a:pt x="466" y="1650"/>
                    </a:lnTo>
                    <a:lnTo>
                      <a:pt x="454" y="1652"/>
                    </a:lnTo>
                    <a:lnTo>
                      <a:pt x="454" y="1652"/>
                    </a:lnTo>
                    <a:lnTo>
                      <a:pt x="456" y="1656"/>
                    </a:lnTo>
                    <a:lnTo>
                      <a:pt x="454" y="1658"/>
                    </a:lnTo>
                    <a:lnTo>
                      <a:pt x="452" y="1658"/>
                    </a:lnTo>
                    <a:lnTo>
                      <a:pt x="450" y="1660"/>
                    </a:lnTo>
                    <a:lnTo>
                      <a:pt x="450" y="1660"/>
                    </a:lnTo>
                    <a:lnTo>
                      <a:pt x="454" y="1660"/>
                    </a:lnTo>
                    <a:lnTo>
                      <a:pt x="458" y="1662"/>
                    </a:lnTo>
                    <a:lnTo>
                      <a:pt x="458" y="1662"/>
                    </a:lnTo>
                    <a:lnTo>
                      <a:pt x="454" y="1662"/>
                    </a:lnTo>
                    <a:lnTo>
                      <a:pt x="450" y="1660"/>
                    </a:lnTo>
                    <a:lnTo>
                      <a:pt x="448" y="1660"/>
                    </a:lnTo>
                    <a:lnTo>
                      <a:pt x="446" y="1662"/>
                    </a:lnTo>
                    <a:lnTo>
                      <a:pt x="446" y="1662"/>
                    </a:lnTo>
                    <a:lnTo>
                      <a:pt x="388" y="1668"/>
                    </a:lnTo>
                    <a:lnTo>
                      <a:pt x="388" y="1668"/>
                    </a:lnTo>
                    <a:lnTo>
                      <a:pt x="402" y="1668"/>
                    </a:lnTo>
                    <a:lnTo>
                      <a:pt x="412" y="1666"/>
                    </a:lnTo>
                    <a:lnTo>
                      <a:pt x="414" y="1662"/>
                    </a:lnTo>
                    <a:lnTo>
                      <a:pt x="418" y="1660"/>
                    </a:lnTo>
                    <a:lnTo>
                      <a:pt x="420" y="1654"/>
                    </a:lnTo>
                    <a:lnTo>
                      <a:pt x="420" y="1650"/>
                    </a:lnTo>
                    <a:lnTo>
                      <a:pt x="420" y="1650"/>
                    </a:lnTo>
                    <a:lnTo>
                      <a:pt x="420" y="1652"/>
                    </a:lnTo>
                    <a:lnTo>
                      <a:pt x="422" y="1654"/>
                    </a:lnTo>
                    <a:lnTo>
                      <a:pt x="424" y="1654"/>
                    </a:lnTo>
                    <a:lnTo>
                      <a:pt x="432" y="1652"/>
                    </a:lnTo>
                    <a:lnTo>
                      <a:pt x="432" y="1652"/>
                    </a:lnTo>
                    <a:lnTo>
                      <a:pt x="424" y="1644"/>
                    </a:lnTo>
                    <a:lnTo>
                      <a:pt x="424" y="1644"/>
                    </a:lnTo>
                    <a:lnTo>
                      <a:pt x="422" y="1646"/>
                    </a:lnTo>
                    <a:lnTo>
                      <a:pt x="420" y="1648"/>
                    </a:lnTo>
                    <a:lnTo>
                      <a:pt x="420" y="1648"/>
                    </a:lnTo>
                    <a:lnTo>
                      <a:pt x="420" y="1644"/>
                    </a:lnTo>
                    <a:lnTo>
                      <a:pt x="418" y="1642"/>
                    </a:lnTo>
                    <a:lnTo>
                      <a:pt x="418" y="1642"/>
                    </a:lnTo>
                    <a:lnTo>
                      <a:pt x="412" y="1642"/>
                    </a:lnTo>
                    <a:lnTo>
                      <a:pt x="408" y="1644"/>
                    </a:lnTo>
                    <a:lnTo>
                      <a:pt x="400" y="1652"/>
                    </a:lnTo>
                    <a:lnTo>
                      <a:pt x="394" y="1660"/>
                    </a:lnTo>
                    <a:lnTo>
                      <a:pt x="388" y="1668"/>
                    </a:lnTo>
                    <a:lnTo>
                      <a:pt x="388" y="1668"/>
                    </a:lnTo>
                    <a:lnTo>
                      <a:pt x="276" y="1652"/>
                    </a:lnTo>
                    <a:lnTo>
                      <a:pt x="276" y="1652"/>
                    </a:lnTo>
                    <a:lnTo>
                      <a:pt x="278" y="1652"/>
                    </a:lnTo>
                    <a:lnTo>
                      <a:pt x="280" y="1648"/>
                    </a:lnTo>
                    <a:lnTo>
                      <a:pt x="278" y="1646"/>
                    </a:lnTo>
                    <a:lnTo>
                      <a:pt x="276" y="1646"/>
                    </a:lnTo>
                    <a:lnTo>
                      <a:pt x="276" y="1646"/>
                    </a:lnTo>
                    <a:lnTo>
                      <a:pt x="276" y="1652"/>
                    </a:lnTo>
                    <a:lnTo>
                      <a:pt x="276" y="1652"/>
                    </a:lnTo>
                    <a:lnTo>
                      <a:pt x="1254" y="1664"/>
                    </a:lnTo>
                    <a:lnTo>
                      <a:pt x="1254" y="1664"/>
                    </a:lnTo>
                    <a:lnTo>
                      <a:pt x="1250" y="1658"/>
                    </a:lnTo>
                    <a:lnTo>
                      <a:pt x="1246" y="1656"/>
                    </a:lnTo>
                    <a:lnTo>
                      <a:pt x="1236" y="1652"/>
                    </a:lnTo>
                    <a:lnTo>
                      <a:pt x="1222" y="1652"/>
                    </a:lnTo>
                    <a:lnTo>
                      <a:pt x="1210" y="1652"/>
                    </a:lnTo>
                    <a:lnTo>
                      <a:pt x="1210" y="1652"/>
                    </a:lnTo>
                    <a:lnTo>
                      <a:pt x="1222" y="1654"/>
                    </a:lnTo>
                    <a:lnTo>
                      <a:pt x="1232" y="1658"/>
                    </a:lnTo>
                    <a:lnTo>
                      <a:pt x="1242" y="1660"/>
                    </a:lnTo>
                    <a:lnTo>
                      <a:pt x="1254" y="1664"/>
                    </a:lnTo>
                    <a:lnTo>
                      <a:pt x="1254" y="1664"/>
                    </a:lnTo>
                    <a:lnTo>
                      <a:pt x="1284" y="1664"/>
                    </a:lnTo>
                    <a:lnTo>
                      <a:pt x="1284" y="1664"/>
                    </a:lnTo>
                    <a:lnTo>
                      <a:pt x="1280" y="1660"/>
                    </a:lnTo>
                    <a:lnTo>
                      <a:pt x="1274" y="1658"/>
                    </a:lnTo>
                    <a:lnTo>
                      <a:pt x="1268" y="1656"/>
                    </a:lnTo>
                    <a:lnTo>
                      <a:pt x="1262" y="1658"/>
                    </a:lnTo>
                    <a:lnTo>
                      <a:pt x="1262" y="1658"/>
                    </a:lnTo>
                    <a:lnTo>
                      <a:pt x="1266" y="1662"/>
                    </a:lnTo>
                    <a:lnTo>
                      <a:pt x="1272" y="1668"/>
                    </a:lnTo>
                    <a:lnTo>
                      <a:pt x="1276" y="1668"/>
                    </a:lnTo>
                    <a:lnTo>
                      <a:pt x="1278" y="1668"/>
                    </a:lnTo>
                    <a:lnTo>
                      <a:pt x="1282" y="1668"/>
                    </a:lnTo>
                    <a:lnTo>
                      <a:pt x="1284" y="1664"/>
                    </a:lnTo>
                    <a:lnTo>
                      <a:pt x="1284" y="1664"/>
                    </a:lnTo>
                    <a:lnTo>
                      <a:pt x="1358" y="1678"/>
                    </a:lnTo>
                    <a:lnTo>
                      <a:pt x="1358" y="1678"/>
                    </a:lnTo>
                    <a:lnTo>
                      <a:pt x="1366" y="1676"/>
                    </a:lnTo>
                    <a:lnTo>
                      <a:pt x="1372" y="1672"/>
                    </a:lnTo>
                    <a:lnTo>
                      <a:pt x="1372" y="1672"/>
                    </a:lnTo>
                    <a:lnTo>
                      <a:pt x="1362" y="1666"/>
                    </a:lnTo>
                    <a:lnTo>
                      <a:pt x="1356" y="1664"/>
                    </a:lnTo>
                    <a:lnTo>
                      <a:pt x="1350" y="1664"/>
                    </a:lnTo>
                    <a:lnTo>
                      <a:pt x="1350" y="1664"/>
                    </a:lnTo>
                    <a:lnTo>
                      <a:pt x="1350" y="1670"/>
                    </a:lnTo>
                    <a:lnTo>
                      <a:pt x="1352" y="1674"/>
                    </a:lnTo>
                    <a:lnTo>
                      <a:pt x="1358" y="1678"/>
                    </a:lnTo>
                    <a:lnTo>
                      <a:pt x="1358" y="1678"/>
                    </a:lnTo>
                    <a:lnTo>
                      <a:pt x="1284" y="1670"/>
                    </a:lnTo>
                    <a:lnTo>
                      <a:pt x="1284" y="1670"/>
                    </a:lnTo>
                    <a:lnTo>
                      <a:pt x="1292" y="1672"/>
                    </a:lnTo>
                    <a:lnTo>
                      <a:pt x="1298" y="1672"/>
                    </a:lnTo>
                    <a:lnTo>
                      <a:pt x="1304" y="1674"/>
                    </a:lnTo>
                    <a:lnTo>
                      <a:pt x="1312" y="1672"/>
                    </a:lnTo>
                    <a:lnTo>
                      <a:pt x="1312" y="1672"/>
                    </a:lnTo>
                    <a:lnTo>
                      <a:pt x="1304" y="1668"/>
                    </a:lnTo>
                    <a:lnTo>
                      <a:pt x="1298" y="1666"/>
                    </a:lnTo>
                    <a:lnTo>
                      <a:pt x="1290" y="1666"/>
                    </a:lnTo>
                    <a:lnTo>
                      <a:pt x="1288" y="1668"/>
                    </a:lnTo>
                    <a:lnTo>
                      <a:pt x="1284" y="1670"/>
                    </a:lnTo>
                    <a:lnTo>
                      <a:pt x="1284" y="1670"/>
                    </a:lnTo>
                    <a:lnTo>
                      <a:pt x="378" y="1678"/>
                    </a:lnTo>
                    <a:lnTo>
                      <a:pt x="378" y="1678"/>
                    </a:lnTo>
                    <a:lnTo>
                      <a:pt x="376" y="1694"/>
                    </a:lnTo>
                    <a:lnTo>
                      <a:pt x="372" y="1708"/>
                    </a:lnTo>
                    <a:lnTo>
                      <a:pt x="372" y="1724"/>
                    </a:lnTo>
                    <a:lnTo>
                      <a:pt x="374" y="1730"/>
                    </a:lnTo>
                    <a:lnTo>
                      <a:pt x="378" y="1734"/>
                    </a:lnTo>
                    <a:lnTo>
                      <a:pt x="378" y="1734"/>
                    </a:lnTo>
                    <a:lnTo>
                      <a:pt x="384" y="1726"/>
                    </a:lnTo>
                    <a:lnTo>
                      <a:pt x="390" y="1716"/>
                    </a:lnTo>
                    <a:lnTo>
                      <a:pt x="390" y="1716"/>
                    </a:lnTo>
                    <a:lnTo>
                      <a:pt x="388" y="1714"/>
                    </a:lnTo>
                    <a:lnTo>
                      <a:pt x="386" y="1712"/>
                    </a:lnTo>
                    <a:lnTo>
                      <a:pt x="384" y="1710"/>
                    </a:lnTo>
                    <a:lnTo>
                      <a:pt x="384" y="1708"/>
                    </a:lnTo>
                    <a:lnTo>
                      <a:pt x="384" y="1708"/>
                    </a:lnTo>
                    <a:lnTo>
                      <a:pt x="386" y="1704"/>
                    </a:lnTo>
                    <a:lnTo>
                      <a:pt x="390" y="1704"/>
                    </a:lnTo>
                    <a:lnTo>
                      <a:pt x="400" y="1702"/>
                    </a:lnTo>
                    <a:lnTo>
                      <a:pt x="400" y="1702"/>
                    </a:lnTo>
                    <a:lnTo>
                      <a:pt x="404" y="1696"/>
                    </a:lnTo>
                    <a:lnTo>
                      <a:pt x="406" y="1688"/>
                    </a:lnTo>
                    <a:lnTo>
                      <a:pt x="410" y="1682"/>
                    </a:lnTo>
                    <a:lnTo>
                      <a:pt x="414" y="1676"/>
                    </a:lnTo>
                    <a:lnTo>
                      <a:pt x="414" y="1676"/>
                    </a:lnTo>
                    <a:lnTo>
                      <a:pt x="412" y="1672"/>
                    </a:lnTo>
                    <a:lnTo>
                      <a:pt x="406" y="1670"/>
                    </a:lnTo>
                    <a:lnTo>
                      <a:pt x="402" y="1670"/>
                    </a:lnTo>
                    <a:lnTo>
                      <a:pt x="398" y="1672"/>
                    </a:lnTo>
                    <a:lnTo>
                      <a:pt x="378" y="1678"/>
                    </a:lnTo>
                    <a:lnTo>
                      <a:pt x="378" y="1678"/>
                    </a:lnTo>
                    <a:lnTo>
                      <a:pt x="1308" y="1684"/>
                    </a:lnTo>
                    <a:lnTo>
                      <a:pt x="1308" y="1684"/>
                    </a:lnTo>
                    <a:lnTo>
                      <a:pt x="1310" y="1678"/>
                    </a:lnTo>
                    <a:lnTo>
                      <a:pt x="1310" y="1674"/>
                    </a:lnTo>
                    <a:lnTo>
                      <a:pt x="1310" y="1674"/>
                    </a:lnTo>
                    <a:lnTo>
                      <a:pt x="1304" y="1674"/>
                    </a:lnTo>
                    <a:lnTo>
                      <a:pt x="1298" y="1674"/>
                    </a:lnTo>
                    <a:lnTo>
                      <a:pt x="1292" y="1674"/>
                    </a:lnTo>
                    <a:lnTo>
                      <a:pt x="1288" y="1674"/>
                    </a:lnTo>
                    <a:lnTo>
                      <a:pt x="1288" y="1674"/>
                    </a:lnTo>
                    <a:lnTo>
                      <a:pt x="1296" y="1680"/>
                    </a:lnTo>
                    <a:lnTo>
                      <a:pt x="1302" y="1682"/>
                    </a:lnTo>
                    <a:lnTo>
                      <a:pt x="1308" y="1684"/>
                    </a:lnTo>
                    <a:lnTo>
                      <a:pt x="1308" y="1684"/>
                    </a:lnTo>
                    <a:lnTo>
                      <a:pt x="1402" y="1690"/>
                    </a:lnTo>
                    <a:lnTo>
                      <a:pt x="1402" y="1690"/>
                    </a:lnTo>
                    <a:lnTo>
                      <a:pt x="1404" y="1690"/>
                    </a:lnTo>
                    <a:lnTo>
                      <a:pt x="1408" y="1690"/>
                    </a:lnTo>
                    <a:lnTo>
                      <a:pt x="1410" y="1688"/>
                    </a:lnTo>
                    <a:lnTo>
                      <a:pt x="1412" y="1686"/>
                    </a:lnTo>
                    <a:lnTo>
                      <a:pt x="1412" y="1686"/>
                    </a:lnTo>
                    <a:lnTo>
                      <a:pt x="1404" y="1684"/>
                    </a:lnTo>
                    <a:lnTo>
                      <a:pt x="1404" y="1684"/>
                    </a:lnTo>
                    <a:lnTo>
                      <a:pt x="1404" y="1686"/>
                    </a:lnTo>
                    <a:lnTo>
                      <a:pt x="1402" y="1686"/>
                    </a:lnTo>
                    <a:lnTo>
                      <a:pt x="1402" y="1688"/>
                    </a:lnTo>
                    <a:lnTo>
                      <a:pt x="1402" y="1690"/>
                    </a:lnTo>
                    <a:lnTo>
                      <a:pt x="1402" y="1690"/>
                    </a:lnTo>
                    <a:lnTo>
                      <a:pt x="1360" y="1686"/>
                    </a:lnTo>
                    <a:lnTo>
                      <a:pt x="1360" y="1686"/>
                    </a:lnTo>
                    <a:lnTo>
                      <a:pt x="1370" y="1690"/>
                    </a:lnTo>
                    <a:lnTo>
                      <a:pt x="1380" y="1694"/>
                    </a:lnTo>
                    <a:lnTo>
                      <a:pt x="1380" y="1694"/>
                    </a:lnTo>
                    <a:lnTo>
                      <a:pt x="1382" y="1684"/>
                    </a:lnTo>
                    <a:lnTo>
                      <a:pt x="1382" y="1684"/>
                    </a:lnTo>
                    <a:lnTo>
                      <a:pt x="1380" y="1684"/>
                    </a:lnTo>
                    <a:lnTo>
                      <a:pt x="1378" y="1686"/>
                    </a:lnTo>
                    <a:lnTo>
                      <a:pt x="1376" y="1688"/>
                    </a:lnTo>
                    <a:lnTo>
                      <a:pt x="1376" y="1688"/>
                    </a:lnTo>
                    <a:lnTo>
                      <a:pt x="1374" y="1686"/>
                    </a:lnTo>
                    <a:lnTo>
                      <a:pt x="1370" y="1684"/>
                    </a:lnTo>
                    <a:lnTo>
                      <a:pt x="1364" y="1684"/>
                    </a:lnTo>
                    <a:lnTo>
                      <a:pt x="1360" y="1686"/>
                    </a:lnTo>
                    <a:lnTo>
                      <a:pt x="1360" y="1686"/>
                    </a:lnTo>
                    <a:lnTo>
                      <a:pt x="1322" y="1720"/>
                    </a:lnTo>
                    <a:lnTo>
                      <a:pt x="1322" y="1720"/>
                    </a:lnTo>
                    <a:lnTo>
                      <a:pt x="1342" y="1730"/>
                    </a:lnTo>
                    <a:lnTo>
                      <a:pt x="1360" y="1736"/>
                    </a:lnTo>
                    <a:lnTo>
                      <a:pt x="1360" y="1736"/>
                    </a:lnTo>
                    <a:lnTo>
                      <a:pt x="1364" y="1736"/>
                    </a:lnTo>
                    <a:lnTo>
                      <a:pt x="1366" y="1734"/>
                    </a:lnTo>
                    <a:lnTo>
                      <a:pt x="1368" y="1732"/>
                    </a:lnTo>
                    <a:lnTo>
                      <a:pt x="1372" y="1730"/>
                    </a:lnTo>
                    <a:lnTo>
                      <a:pt x="1372" y="1730"/>
                    </a:lnTo>
                    <a:lnTo>
                      <a:pt x="1380" y="1730"/>
                    </a:lnTo>
                    <a:lnTo>
                      <a:pt x="1390" y="1732"/>
                    </a:lnTo>
                    <a:lnTo>
                      <a:pt x="1392" y="1730"/>
                    </a:lnTo>
                    <a:lnTo>
                      <a:pt x="1394" y="1730"/>
                    </a:lnTo>
                    <a:lnTo>
                      <a:pt x="1396" y="1728"/>
                    </a:lnTo>
                    <a:lnTo>
                      <a:pt x="1396" y="1724"/>
                    </a:lnTo>
                    <a:lnTo>
                      <a:pt x="1396" y="1724"/>
                    </a:lnTo>
                    <a:lnTo>
                      <a:pt x="1390" y="1724"/>
                    </a:lnTo>
                    <a:lnTo>
                      <a:pt x="1388" y="1726"/>
                    </a:lnTo>
                    <a:lnTo>
                      <a:pt x="1382" y="1728"/>
                    </a:lnTo>
                    <a:lnTo>
                      <a:pt x="1382" y="1728"/>
                    </a:lnTo>
                    <a:lnTo>
                      <a:pt x="1374" y="1728"/>
                    </a:lnTo>
                    <a:lnTo>
                      <a:pt x="1366" y="1726"/>
                    </a:lnTo>
                    <a:lnTo>
                      <a:pt x="1350" y="1720"/>
                    </a:lnTo>
                    <a:lnTo>
                      <a:pt x="1350" y="1720"/>
                    </a:lnTo>
                    <a:lnTo>
                      <a:pt x="1340" y="1720"/>
                    </a:lnTo>
                    <a:lnTo>
                      <a:pt x="1336" y="1720"/>
                    </a:lnTo>
                    <a:lnTo>
                      <a:pt x="1332" y="1718"/>
                    </a:lnTo>
                    <a:lnTo>
                      <a:pt x="1332" y="1718"/>
                    </a:lnTo>
                    <a:lnTo>
                      <a:pt x="1328" y="1702"/>
                    </a:lnTo>
                    <a:lnTo>
                      <a:pt x="1326" y="1696"/>
                    </a:lnTo>
                    <a:lnTo>
                      <a:pt x="1320" y="1692"/>
                    </a:lnTo>
                    <a:lnTo>
                      <a:pt x="1320" y="1692"/>
                    </a:lnTo>
                    <a:lnTo>
                      <a:pt x="1310" y="1696"/>
                    </a:lnTo>
                    <a:lnTo>
                      <a:pt x="1300" y="1694"/>
                    </a:lnTo>
                    <a:lnTo>
                      <a:pt x="1290" y="1692"/>
                    </a:lnTo>
                    <a:lnTo>
                      <a:pt x="1282" y="1686"/>
                    </a:lnTo>
                    <a:lnTo>
                      <a:pt x="1282" y="1686"/>
                    </a:lnTo>
                    <a:lnTo>
                      <a:pt x="1284" y="1694"/>
                    </a:lnTo>
                    <a:lnTo>
                      <a:pt x="1288" y="1698"/>
                    </a:lnTo>
                    <a:lnTo>
                      <a:pt x="1298" y="1708"/>
                    </a:lnTo>
                    <a:lnTo>
                      <a:pt x="1310" y="1714"/>
                    </a:lnTo>
                    <a:lnTo>
                      <a:pt x="1322" y="1720"/>
                    </a:lnTo>
                    <a:lnTo>
                      <a:pt x="1322" y="1720"/>
                    </a:lnTo>
                    <a:lnTo>
                      <a:pt x="274" y="1690"/>
                    </a:lnTo>
                    <a:lnTo>
                      <a:pt x="274" y="1690"/>
                    </a:lnTo>
                    <a:lnTo>
                      <a:pt x="274" y="1694"/>
                    </a:lnTo>
                    <a:lnTo>
                      <a:pt x="272" y="1696"/>
                    </a:lnTo>
                    <a:lnTo>
                      <a:pt x="274" y="1698"/>
                    </a:lnTo>
                    <a:lnTo>
                      <a:pt x="274" y="1698"/>
                    </a:lnTo>
                    <a:lnTo>
                      <a:pt x="278" y="1696"/>
                    </a:lnTo>
                    <a:lnTo>
                      <a:pt x="278" y="1694"/>
                    </a:lnTo>
                    <a:lnTo>
                      <a:pt x="278" y="1690"/>
                    </a:lnTo>
                    <a:lnTo>
                      <a:pt x="274" y="1690"/>
                    </a:lnTo>
                    <a:lnTo>
                      <a:pt x="274" y="1690"/>
                    </a:lnTo>
                    <a:lnTo>
                      <a:pt x="1410" y="1692"/>
                    </a:lnTo>
                    <a:lnTo>
                      <a:pt x="1410" y="1692"/>
                    </a:lnTo>
                    <a:lnTo>
                      <a:pt x="1414" y="1692"/>
                    </a:lnTo>
                    <a:lnTo>
                      <a:pt x="1416" y="1694"/>
                    </a:lnTo>
                    <a:lnTo>
                      <a:pt x="1416" y="1694"/>
                    </a:lnTo>
                    <a:lnTo>
                      <a:pt x="1416" y="1690"/>
                    </a:lnTo>
                    <a:lnTo>
                      <a:pt x="1414" y="1688"/>
                    </a:lnTo>
                    <a:lnTo>
                      <a:pt x="1414" y="1688"/>
                    </a:lnTo>
                    <a:lnTo>
                      <a:pt x="1412" y="1690"/>
                    </a:lnTo>
                    <a:lnTo>
                      <a:pt x="1412" y="1690"/>
                    </a:lnTo>
                    <a:lnTo>
                      <a:pt x="1410" y="1692"/>
                    </a:lnTo>
                    <a:lnTo>
                      <a:pt x="1410" y="1692"/>
                    </a:lnTo>
                    <a:lnTo>
                      <a:pt x="1398" y="1704"/>
                    </a:lnTo>
                    <a:lnTo>
                      <a:pt x="1398" y="1704"/>
                    </a:lnTo>
                    <a:lnTo>
                      <a:pt x="1404" y="1704"/>
                    </a:lnTo>
                    <a:lnTo>
                      <a:pt x="1408" y="1704"/>
                    </a:lnTo>
                    <a:lnTo>
                      <a:pt x="1414" y="1700"/>
                    </a:lnTo>
                    <a:lnTo>
                      <a:pt x="1416" y="1696"/>
                    </a:lnTo>
                    <a:lnTo>
                      <a:pt x="1416" y="1696"/>
                    </a:lnTo>
                    <a:lnTo>
                      <a:pt x="1406" y="1694"/>
                    </a:lnTo>
                    <a:lnTo>
                      <a:pt x="1400" y="1690"/>
                    </a:lnTo>
                    <a:lnTo>
                      <a:pt x="1400" y="1690"/>
                    </a:lnTo>
                    <a:lnTo>
                      <a:pt x="1398" y="1692"/>
                    </a:lnTo>
                    <a:lnTo>
                      <a:pt x="1396" y="1696"/>
                    </a:lnTo>
                    <a:lnTo>
                      <a:pt x="1398" y="1704"/>
                    </a:lnTo>
                    <a:lnTo>
                      <a:pt x="1398" y="1704"/>
                    </a:lnTo>
                    <a:lnTo>
                      <a:pt x="340" y="1722"/>
                    </a:lnTo>
                    <a:lnTo>
                      <a:pt x="340" y="1722"/>
                    </a:lnTo>
                    <a:lnTo>
                      <a:pt x="344" y="1722"/>
                    </a:lnTo>
                    <a:lnTo>
                      <a:pt x="348" y="1722"/>
                    </a:lnTo>
                    <a:lnTo>
                      <a:pt x="354" y="1720"/>
                    </a:lnTo>
                    <a:lnTo>
                      <a:pt x="362" y="1720"/>
                    </a:lnTo>
                    <a:lnTo>
                      <a:pt x="364" y="1722"/>
                    </a:lnTo>
                    <a:lnTo>
                      <a:pt x="366" y="1724"/>
                    </a:lnTo>
                    <a:lnTo>
                      <a:pt x="366" y="1724"/>
                    </a:lnTo>
                    <a:lnTo>
                      <a:pt x="368" y="1708"/>
                    </a:lnTo>
                    <a:lnTo>
                      <a:pt x="370" y="1692"/>
                    </a:lnTo>
                    <a:lnTo>
                      <a:pt x="370" y="1692"/>
                    </a:lnTo>
                    <a:lnTo>
                      <a:pt x="362" y="1700"/>
                    </a:lnTo>
                    <a:lnTo>
                      <a:pt x="356" y="1708"/>
                    </a:lnTo>
                    <a:lnTo>
                      <a:pt x="340" y="1722"/>
                    </a:lnTo>
                    <a:lnTo>
                      <a:pt x="340" y="1722"/>
                    </a:lnTo>
                    <a:lnTo>
                      <a:pt x="1356" y="1700"/>
                    </a:lnTo>
                    <a:lnTo>
                      <a:pt x="1356" y="1700"/>
                    </a:lnTo>
                    <a:lnTo>
                      <a:pt x="1358" y="1704"/>
                    </a:lnTo>
                    <a:lnTo>
                      <a:pt x="1360" y="1708"/>
                    </a:lnTo>
                    <a:lnTo>
                      <a:pt x="1366" y="1712"/>
                    </a:lnTo>
                    <a:lnTo>
                      <a:pt x="1374" y="1714"/>
                    </a:lnTo>
                    <a:lnTo>
                      <a:pt x="1382" y="1712"/>
                    </a:lnTo>
                    <a:lnTo>
                      <a:pt x="1382" y="1712"/>
                    </a:lnTo>
                    <a:lnTo>
                      <a:pt x="1378" y="1706"/>
                    </a:lnTo>
                    <a:lnTo>
                      <a:pt x="1372" y="1702"/>
                    </a:lnTo>
                    <a:lnTo>
                      <a:pt x="1364" y="1700"/>
                    </a:lnTo>
                    <a:lnTo>
                      <a:pt x="1356" y="1700"/>
                    </a:lnTo>
                    <a:lnTo>
                      <a:pt x="1356" y="1700"/>
                    </a:lnTo>
                    <a:lnTo>
                      <a:pt x="1430" y="1724"/>
                    </a:lnTo>
                    <a:lnTo>
                      <a:pt x="1430" y="1724"/>
                    </a:lnTo>
                    <a:lnTo>
                      <a:pt x="1438" y="1718"/>
                    </a:lnTo>
                    <a:lnTo>
                      <a:pt x="1442" y="1714"/>
                    </a:lnTo>
                    <a:lnTo>
                      <a:pt x="1444" y="1710"/>
                    </a:lnTo>
                    <a:lnTo>
                      <a:pt x="1444" y="1710"/>
                    </a:lnTo>
                    <a:lnTo>
                      <a:pt x="1434" y="1714"/>
                    </a:lnTo>
                    <a:lnTo>
                      <a:pt x="1430" y="1718"/>
                    </a:lnTo>
                    <a:lnTo>
                      <a:pt x="1428" y="1720"/>
                    </a:lnTo>
                    <a:lnTo>
                      <a:pt x="1430" y="1724"/>
                    </a:lnTo>
                    <a:lnTo>
                      <a:pt x="1430" y="1724"/>
                    </a:lnTo>
                    <a:lnTo>
                      <a:pt x="1336" y="1768"/>
                    </a:lnTo>
                    <a:lnTo>
                      <a:pt x="1336" y="1768"/>
                    </a:lnTo>
                    <a:lnTo>
                      <a:pt x="1342" y="1768"/>
                    </a:lnTo>
                    <a:lnTo>
                      <a:pt x="1346" y="1770"/>
                    </a:lnTo>
                    <a:lnTo>
                      <a:pt x="1356" y="1774"/>
                    </a:lnTo>
                    <a:lnTo>
                      <a:pt x="1364" y="1776"/>
                    </a:lnTo>
                    <a:lnTo>
                      <a:pt x="1368" y="1774"/>
                    </a:lnTo>
                    <a:lnTo>
                      <a:pt x="1372" y="1772"/>
                    </a:lnTo>
                    <a:lnTo>
                      <a:pt x="1372" y="1772"/>
                    </a:lnTo>
                    <a:lnTo>
                      <a:pt x="1370" y="1768"/>
                    </a:lnTo>
                    <a:lnTo>
                      <a:pt x="1368" y="1764"/>
                    </a:lnTo>
                    <a:lnTo>
                      <a:pt x="1360" y="1756"/>
                    </a:lnTo>
                    <a:lnTo>
                      <a:pt x="1354" y="1752"/>
                    </a:lnTo>
                    <a:lnTo>
                      <a:pt x="1348" y="1744"/>
                    </a:lnTo>
                    <a:lnTo>
                      <a:pt x="1348" y="1744"/>
                    </a:lnTo>
                    <a:lnTo>
                      <a:pt x="1352" y="1744"/>
                    </a:lnTo>
                    <a:lnTo>
                      <a:pt x="1354" y="1744"/>
                    </a:lnTo>
                    <a:lnTo>
                      <a:pt x="1354" y="1742"/>
                    </a:lnTo>
                    <a:lnTo>
                      <a:pt x="1354" y="1742"/>
                    </a:lnTo>
                    <a:lnTo>
                      <a:pt x="1338" y="1736"/>
                    </a:lnTo>
                    <a:lnTo>
                      <a:pt x="1324" y="1728"/>
                    </a:lnTo>
                    <a:lnTo>
                      <a:pt x="1310" y="1720"/>
                    </a:lnTo>
                    <a:lnTo>
                      <a:pt x="1294" y="1712"/>
                    </a:lnTo>
                    <a:lnTo>
                      <a:pt x="1294" y="1712"/>
                    </a:lnTo>
                    <a:lnTo>
                      <a:pt x="1302" y="1730"/>
                    </a:lnTo>
                    <a:lnTo>
                      <a:pt x="1312" y="1744"/>
                    </a:lnTo>
                    <a:lnTo>
                      <a:pt x="1336" y="1768"/>
                    </a:lnTo>
                    <a:lnTo>
                      <a:pt x="1336" y="1768"/>
                    </a:lnTo>
                    <a:lnTo>
                      <a:pt x="308" y="1740"/>
                    </a:lnTo>
                    <a:lnTo>
                      <a:pt x="308" y="1740"/>
                    </a:lnTo>
                    <a:lnTo>
                      <a:pt x="316" y="1738"/>
                    </a:lnTo>
                    <a:lnTo>
                      <a:pt x="322" y="1734"/>
                    </a:lnTo>
                    <a:lnTo>
                      <a:pt x="330" y="1726"/>
                    </a:lnTo>
                    <a:lnTo>
                      <a:pt x="330" y="1726"/>
                    </a:lnTo>
                    <a:lnTo>
                      <a:pt x="324" y="1724"/>
                    </a:lnTo>
                    <a:lnTo>
                      <a:pt x="318" y="1724"/>
                    </a:lnTo>
                    <a:lnTo>
                      <a:pt x="318" y="1724"/>
                    </a:lnTo>
                    <a:lnTo>
                      <a:pt x="316" y="1728"/>
                    </a:lnTo>
                    <a:lnTo>
                      <a:pt x="314" y="1732"/>
                    </a:lnTo>
                    <a:lnTo>
                      <a:pt x="308" y="1740"/>
                    </a:lnTo>
                    <a:lnTo>
                      <a:pt x="308" y="1740"/>
                    </a:lnTo>
                    <a:lnTo>
                      <a:pt x="1448" y="1732"/>
                    </a:lnTo>
                    <a:lnTo>
                      <a:pt x="1448" y="1732"/>
                    </a:lnTo>
                    <a:lnTo>
                      <a:pt x="1452" y="1730"/>
                    </a:lnTo>
                    <a:lnTo>
                      <a:pt x="1452" y="1728"/>
                    </a:lnTo>
                    <a:lnTo>
                      <a:pt x="1452" y="1726"/>
                    </a:lnTo>
                    <a:lnTo>
                      <a:pt x="1452" y="1726"/>
                    </a:lnTo>
                    <a:lnTo>
                      <a:pt x="1450" y="1728"/>
                    </a:lnTo>
                    <a:lnTo>
                      <a:pt x="1448" y="1728"/>
                    </a:lnTo>
                    <a:lnTo>
                      <a:pt x="1446" y="1730"/>
                    </a:lnTo>
                    <a:lnTo>
                      <a:pt x="1448" y="1732"/>
                    </a:lnTo>
                    <a:lnTo>
                      <a:pt x="1448" y="1732"/>
                    </a:lnTo>
                    <a:lnTo>
                      <a:pt x="326" y="1750"/>
                    </a:lnTo>
                    <a:lnTo>
                      <a:pt x="326" y="1750"/>
                    </a:lnTo>
                    <a:lnTo>
                      <a:pt x="342" y="1752"/>
                    </a:lnTo>
                    <a:lnTo>
                      <a:pt x="360" y="1752"/>
                    </a:lnTo>
                    <a:lnTo>
                      <a:pt x="360" y="1752"/>
                    </a:lnTo>
                    <a:lnTo>
                      <a:pt x="360" y="1748"/>
                    </a:lnTo>
                    <a:lnTo>
                      <a:pt x="362" y="1744"/>
                    </a:lnTo>
                    <a:lnTo>
                      <a:pt x="362" y="1744"/>
                    </a:lnTo>
                    <a:lnTo>
                      <a:pt x="360" y="1744"/>
                    </a:lnTo>
                    <a:lnTo>
                      <a:pt x="358" y="1746"/>
                    </a:lnTo>
                    <a:lnTo>
                      <a:pt x="356" y="1748"/>
                    </a:lnTo>
                    <a:lnTo>
                      <a:pt x="352" y="1748"/>
                    </a:lnTo>
                    <a:lnTo>
                      <a:pt x="352" y="1748"/>
                    </a:lnTo>
                    <a:lnTo>
                      <a:pt x="348" y="1746"/>
                    </a:lnTo>
                    <a:lnTo>
                      <a:pt x="346" y="1742"/>
                    </a:lnTo>
                    <a:lnTo>
                      <a:pt x="344" y="1732"/>
                    </a:lnTo>
                    <a:lnTo>
                      <a:pt x="344" y="1732"/>
                    </a:lnTo>
                    <a:lnTo>
                      <a:pt x="336" y="1728"/>
                    </a:lnTo>
                    <a:lnTo>
                      <a:pt x="336" y="1728"/>
                    </a:lnTo>
                    <a:lnTo>
                      <a:pt x="326" y="1750"/>
                    </a:lnTo>
                    <a:lnTo>
                      <a:pt x="326" y="1750"/>
                    </a:lnTo>
                    <a:lnTo>
                      <a:pt x="298" y="1754"/>
                    </a:lnTo>
                    <a:lnTo>
                      <a:pt x="298" y="1754"/>
                    </a:lnTo>
                    <a:lnTo>
                      <a:pt x="314" y="1762"/>
                    </a:lnTo>
                    <a:lnTo>
                      <a:pt x="314" y="1762"/>
                    </a:lnTo>
                    <a:lnTo>
                      <a:pt x="314" y="1758"/>
                    </a:lnTo>
                    <a:lnTo>
                      <a:pt x="316" y="1754"/>
                    </a:lnTo>
                    <a:lnTo>
                      <a:pt x="322" y="1746"/>
                    </a:lnTo>
                    <a:lnTo>
                      <a:pt x="328" y="1740"/>
                    </a:lnTo>
                    <a:lnTo>
                      <a:pt x="330" y="1736"/>
                    </a:lnTo>
                    <a:lnTo>
                      <a:pt x="330" y="1732"/>
                    </a:lnTo>
                    <a:lnTo>
                      <a:pt x="330" y="1732"/>
                    </a:lnTo>
                    <a:lnTo>
                      <a:pt x="314" y="1742"/>
                    </a:lnTo>
                    <a:lnTo>
                      <a:pt x="298" y="1754"/>
                    </a:lnTo>
                    <a:lnTo>
                      <a:pt x="298" y="1754"/>
                    </a:lnTo>
                    <a:lnTo>
                      <a:pt x="1502" y="1750"/>
                    </a:lnTo>
                    <a:lnTo>
                      <a:pt x="1502" y="1750"/>
                    </a:lnTo>
                    <a:lnTo>
                      <a:pt x="1520" y="1756"/>
                    </a:lnTo>
                    <a:lnTo>
                      <a:pt x="1526" y="1756"/>
                    </a:lnTo>
                    <a:lnTo>
                      <a:pt x="1536" y="1754"/>
                    </a:lnTo>
                    <a:lnTo>
                      <a:pt x="1536" y="1754"/>
                    </a:lnTo>
                    <a:lnTo>
                      <a:pt x="1534" y="1750"/>
                    </a:lnTo>
                    <a:lnTo>
                      <a:pt x="1534" y="1744"/>
                    </a:lnTo>
                    <a:lnTo>
                      <a:pt x="1534" y="1744"/>
                    </a:lnTo>
                    <a:lnTo>
                      <a:pt x="1524" y="1742"/>
                    </a:lnTo>
                    <a:lnTo>
                      <a:pt x="1516" y="1736"/>
                    </a:lnTo>
                    <a:lnTo>
                      <a:pt x="1508" y="1732"/>
                    </a:lnTo>
                    <a:lnTo>
                      <a:pt x="1502" y="1732"/>
                    </a:lnTo>
                    <a:lnTo>
                      <a:pt x="1498" y="1734"/>
                    </a:lnTo>
                    <a:lnTo>
                      <a:pt x="1498" y="1734"/>
                    </a:lnTo>
                    <a:lnTo>
                      <a:pt x="1496" y="1738"/>
                    </a:lnTo>
                    <a:lnTo>
                      <a:pt x="1498" y="1740"/>
                    </a:lnTo>
                    <a:lnTo>
                      <a:pt x="1498" y="1744"/>
                    </a:lnTo>
                    <a:lnTo>
                      <a:pt x="1498" y="1746"/>
                    </a:lnTo>
                    <a:lnTo>
                      <a:pt x="1498" y="1746"/>
                    </a:lnTo>
                    <a:lnTo>
                      <a:pt x="1496" y="1740"/>
                    </a:lnTo>
                    <a:lnTo>
                      <a:pt x="1494" y="1736"/>
                    </a:lnTo>
                    <a:lnTo>
                      <a:pt x="1492" y="1734"/>
                    </a:lnTo>
                    <a:lnTo>
                      <a:pt x="1492" y="1734"/>
                    </a:lnTo>
                    <a:lnTo>
                      <a:pt x="1492" y="1736"/>
                    </a:lnTo>
                    <a:lnTo>
                      <a:pt x="1492" y="1738"/>
                    </a:lnTo>
                    <a:lnTo>
                      <a:pt x="1492" y="1740"/>
                    </a:lnTo>
                    <a:lnTo>
                      <a:pt x="1490" y="1742"/>
                    </a:lnTo>
                    <a:lnTo>
                      <a:pt x="1490" y="1742"/>
                    </a:lnTo>
                    <a:lnTo>
                      <a:pt x="1484" y="1742"/>
                    </a:lnTo>
                    <a:lnTo>
                      <a:pt x="1476" y="1740"/>
                    </a:lnTo>
                    <a:lnTo>
                      <a:pt x="1470" y="1740"/>
                    </a:lnTo>
                    <a:lnTo>
                      <a:pt x="1466" y="1742"/>
                    </a:lnTo>
                    <a:lnTo>
                      <a:pt x="1464" y="1744"/>
                    </a:lnTo>
                    <a:lnTo>
                      <a:pt x="1464" y="1744"/>
                    </a:lnTo>
                    <a:lnTo>
                      <a:pt x="1474" y="1748"/>
                    </a:lnTo>
                    <a:lnTo>
                      <a:pt x="1488" y="1752"/>
                    </a:lnTo>
                    <a:lnTo>
                      <a:pt x="1494" y="1752"/>
                    </a:lnTo>
                    <a:lnTo>
                      <a:pt x="1500" y="1750"/>
                    </a:lnTo>
                    <a:lnTo>
                      <a:pt x="1504" y="1746"/>
                    </a:lnTo>
                    <a:lnTo>
                      <a:pt x="1508" y="1742"/>
                    </a:lnTo>
                    <a:lnTo>
                      <a:pt x="1508" y="1742"/>
                    </a:lnTo>
                    <a:lnTo>
                      <a:pt x="1506" y="1746"/>
                    </a:lnTo>
                    <a:lnTo>
                      <a:pt x="1502" y="1750"/>
                    </a:lnTo>
                    <a:lnTo>
                      <a:pt x="1502" y="1750"/>
                    </a:lnTo>
                    <a:lnTo>
                      <a:pt x="1456" y="1746"/>
                    </a:lnTo>
                    <a:lnTo>
                      <a:pt x="1456" y="1746"/>
                    </a:lnTo>
                    <a:lnTo>
                      <a:pt x="1448" y="1746"/>
                    </a:lnTo>
                    <a:lnTo>
                      <a:pt x="1448" y="1746"/>
                    </a:lnTo>
                    <a:lnTo>
                      <a:pt x="1448" y="1752"/>
                    </a:lnTo>
                    <a:lnTo>
                      <a:pt x="1450" y="1758"/>
                    </a:lnTo>
                    <a:lnTo>
                      <a:pt x="1450" y="1758"/>
                    </a:lnTo>
                    <a:lnTo>
                      <a:pt x="1454" y="1756"/>
                    </a:lnTo>
                    <a:lnTo>
                      <a:pt x="1456" y="1756"/>
                    </a:lnTo>
                    <a:lnTo>
                      <a:pt x="1456" y="1756"/>
                    </a:lnTo>
                    <a:lnTo>
                      <a:pt x="1456" y="1752"/>
                    </a:lnTo>
                    <a:lnTo>
                      <a:pt x="1456" y="1750"/>
                    </a:lnTo>
                    <a:lnTo>
                      <a:pt x="1458" y="1750"/>
                    </a:lnTo>
                    <a:lnTo>
                      <a:pt x="1458" y="1750"/>
                    </a:lnTo>
                    <a:lnTo>
                      <a:pt x="1458" y="1754"/>
                    </a:lnTo>
                    <a:lnTo>
                      <a:pt x="1458" y="1754"/>
                    </a:lnTo>
                    <a:lnTo>
                      <a:pt x="1464" y="1754"/>
                    </a:lnTo>
                    <a:lnTo>
                      <a:pt x="1468" y="1752"/>
                    </a:lnTo>
                    <a:lnTo>
                      <a:pt x="1468" y="1752"/>
                    </a:lnTo>
                    <a:lnTo>
                      <a:pt x="1452" y="1742"/>
                    </a:lnTo>
                    <a:lnTo>
                      <a:pt x="1442" y="1738"/>
                    </a:lnTo>
                    <a:lnTo>
                      <a:pt x="1438" y="1738"/>
                    </a:lnTo>
                    <a:lnTo>
                      <a:pt x="1434" y="1740"/>
                    </a:lnTo>
                    <a:lnTo>
                      <a:pt x="1434" y="1740"/>
                    </a:lnTo>
                    <a:lnTo>
                      <a:pt x="1438" y="1742"/>
                    </a:lnTo>
                    <a:lnTo>
                      <a:pt x="1444" y="1744"/>
                    </a:lnTo>
                    <a:lnTo>
                      <a:pt x="1456" y="1746"/>
                    </a:lnTo>
                    <a:lnTo>
                      <a:pt x="1456" y="1746"/>
                    </a:lnTo>
                    <a:lnTo>
                      <a:pt x="366" y="1752"/>
                    </a:lnTo>
                    <a:lnTo>
                      <a:pt x="366" y="1752"/>
                    </a:lnTo>
                    <a:lnTo>
                      <a:pt x="380" y="1750"/>
                    </a:lnTo>
                    <a:lnTo>
                      <a:pt x="380" y="1750"/>
                    </a:lnTo>
                    <a:lnTo>
                      <a:pt x="378" y="1746"/>
                    </a:lnTo>
                    <a:lnTo>
                      <a:pt x="378" y="1744"/>
                    </a:lnTo>
                    <a:lnTo>
                      <a:pt x="376" y="1744"/>
                    </a:lnTo>
                    <a:lnTo>
                      <a:pt x="374" y="1744"/>
                    </a:lnTo>
                    <a:lnTo>
                      <a:pt x="370" y="1748"/>
                    </a:lnTo>
                    <a:lnTo>
                      <a:pt x="366" y="1752"/>
                    </a:lnTo>
                    <a:lnTo>
                      <a:pt x="366" y="1752"/>
                    </a:lnTo>
                    <a:lnTo>
                      <a:pt x="1418" y="1760"/>
                    </a:lnTo>
                    <a:lnTo>
                      <a:pt x="1418" y="1760"/>
                    </a:lnTo>
                    <a:lnTo>
                      <a:pt x="1432" y="1762"/>
                    </a:lnTo>
                    <a:lnTo>
                      <a:pt x="1438" y="1762"/>
                    </a:lnTo>
                    <a:lnTo>
                      <a:pt x="1444" y="1760"/>
                    </a:lnTo>
                    <a:lnTo>
                      <a:pt x="1444" y="1760"/>
                    </a:lnTo>
                    <a:lnTo>
                      <a:pt x="1442" y="1754"/>
                    </a:lnTo>
                    <a:lnTo>
                      <a:pt x="1438" y="1750"/>
                    </a:lnTo>
                    <a:lnTo>
                      <a:pt x="1436" y="1748"/>
                    </a:lnTo>
                    <a:lnTo>
                      <a:pt x="1430" y="1748"/>
                    </a:lnTo>
                    <a:lnTo>
                      <a:pt x="1426" y="1748"/>
                    </a:lnTo>
                    <a:lnTo>
                      <a:pt x="1422" y="1750"/>
                    </a:lnTo>
                    <a:lnTo>
                      <a:pt x="1420" y="1754"/>
                    </a:lnTo>
                    <a:lnTo>
                      <a:pt x="1418" y="1760"/>
                    </a:lnTo>
                    <a:lnTo>
                      <a:pt x="1418" y="1760"/>
                    </a:lnTo>
                    <a:lnTo>
                      <a:pt x="242" y="1752"/>
                    </a:lnTo>
                    <a:lnTo>
                      <a:pt x="242" y="1752"/>
                    </a:lnTo>
                    <a:lnTo>
                      <a:pt x="242" y="1754"/>
                    </a:lnTo>
                    <a:lnTo>
                      <a:pt x="246" y="1754"/>
                    </a:lnTo>
                    <a:lnTo>
                      <a:pt x="254" y="1754"/>
                    </a:lnTo>
                    <a:lnTo>
                      <a:pt x="254" y="1754"/>
                    </a:lnTo>
                    <a:lnTo>
                      <a:pt x="252" y="1752"/>
                    </a:lnTo>
                    <a:lnTo>
                      <a:pt x="248" y="1750"/>
                    </a:lnTo>
                    <a:lnTo>
                      <a:pt x="242" y="1752"/>
                    </a:lnTo>
                    <a:lnTo>
                      <a:pt x="242" y="1752"/>
                    </a:lnTo>
                    <a:lnTo>
                      <a:pt x="364" y="1760"/>
                    </a:lnTo>
                    <a:lnTo>
                      <a:pt x="364" y="1760"/>
                    </a:lnTo>
                    <a:lnTo>
                      <a:pt x="362" y="1768"/>
                    </a:lnTo>
                    <a:lnTo>
                      <a:pt x="360" y="1774"/>
                    </a:lnTo>
                    <a:lnTo>
                      <a:pt x="360" y="1774"/>
                    </a:lnTo>
                    <a:lnTo>
                      <a:pt x="368" y="1772"/>
                    </a:lnTo>
                    <a:lnTo>
                      <a:pt x="374" y="1768"/>
                    </a:lnTo>
                    <a:lnTo>
                      <a:pt x="380" y="1764"/>
                    </a:lnTo>
                    <a:lnTo>
                      <a:pt x="388" y="1762"/>
                    </a:lnTo>
                    <a:lnTo>
                      <a:pt x="388" y="1762"/>
                    </a:lnTo>
                    <a:lnTo>
                      <a:pt x="386" y="1760"/>
                    </a:lnTo>
                    <a:lnTo>
                      <a:pt x="384" y="1758"/>
                    </a:lnTo>
                    <a:lnTo>
                      <a:pt x="378" y="1758"/>
                    </a:lnTo>
                    <a:lnTo>
                      <a:pt x="370" y="1760"/>
                    </a:lnTo>
                    <a:lnTo>
                      <a:pt x="364" y="1760"/>
                    </a:lnTo>
                    <a:lnTo>
                      <a:pt x="364" y="1760"/>
                    </a:lnTo>
                    <a:lnTo>
                      <a:pt x="1408" y="1760"/>
                    </a:lnTo>
                    <a:lnTo>
                      <a:pt x="1408" y="1760"/>
                    </a:lnTo>
                    <a:lnTo>
                      <a:pt x="1408" y="1762"/>
                    </a:lnTo>
                    <a:lnTo>
                      <a:pt x="1408" y="1762"/>
                    </a:lnTo>
                    <a:lnTo>
                      <a:pt x="1412" y="1762"/>
                    </a:lnTo>
                    <a:lnTo>
                      <a:pt x="1416" y="1760"/>
                    </a:lnTo>
                    <a:lnTo>
                      <a:pt x="1416" y="1760"/>
                    </a:lnTo>
                    <a:lnTo>
                      <a:pt x="1412" y="1758"/>
                    </a:lnTo>
                    <a:lnTo>
                      <a:pt x="1410" y="1758"/>
                    </a:lnTo>
                    <a:lnTo>
                      <a:pt x="1408" y="1760"/>
                    </a:lnTo>
                    <a:lnTo>
                      <a:pt x="1408" y="1760"/>
                    </a:lnTo>
                    <a:lnTo>
                      <a:pt x="348" y="1772"/>
                    </a:lnTo>
                    <a:lnTo>
                      <a:pt x="348" y="1772"/>
                    </a:lnTo>
                    <a:lnTo>
                      <a:pt x="352" y="1772"/>
                    </a:lnTo>
                    <a:lnTo>
                      <a:pt x="356" y="1770"/>
                    </a:lnTo>
                    <a:lnTo>
                      <a:pt x="360" y="1762"/>
                    </a:lnTo>
                    <a:lnTo>
                      <a:pt x="360" y="1762"/>
                    </a:lnTo>
                    <a:lnTo>
                      <a:pt x="356" y="1764"/>
                    </a:lnTo>
                    <a:lnTo>
                      <a:pt x="352" y="1766"/>
                    </a:lnTo>
                    <a:lnTo>
                      <a:pt x="348" y="1772"/>
                    </a:lnTo>
                    <a:lnTo>
                      <a:pt x="348" y="1772"/>
                    </a:lnTo>
                    <a:lnTo>
                      <a:pt x="1494" y="1764"/>
                    </a:lnTo>
                    <a:lnTo>
                      <a:pt x="1494" y="1764"/>
                    </a:lnTo>
                    <a:lnTo>
                      <a:pt x="1498" y="1768"/>
                    </a:lnTo>
                    <a:lnTo>
                      <a:pt x="1504" y="1770"/>
                    </a:lnTo>
                    <a:lnTo>
                      <a:pt x="1512" y="1768"/>
                    </a:lnTo>
                    <a:lnTo>
                      <a:pt x="1514" y="1766"/>
                    </a:lnTo>
                    <a:lnTo>
                      <a:pt x="1516" y="1764"/>
                    </a:lnTo>
                    <a:lnTo>
                      <a:pt x="1516" y="1764"/>
                    </a:lnTo>
                    <a:lnTo>
                      <a:pt x="1504" y="1762"/>
                    </a:lnTo>
                    <a:lnTo>
                      <a:pt x="1498" y="1762"/>
                    </a:lnTo>
                    <a:lnTo>
                      <a:pt x="1494" y="1764"/>
                    </a:lnTo>
                    <a:lnTo>
                      <a:pt x="1494" y="1764"/>
                    </a:lnTo>
                    <a:lnTo>
                      <a:pt x="1376" y="1782"/>
                    </a:lnTo>
                    <a:lnTo>
                      <a:pt x="1376" y="1782"/>
                    </a:lnTo>
                    <a:lnTo>
                      <a:pt x="1382" y="1780"/>
                    </a:lnTo>
                    <a:lnTo>
                      <a:pt x="1388" y="1778"/>
                    </a:lnTo>
                    <a:lnTo>
                      <a:pt x="1392" y="1776"/>
                    </a:lnTo>
                    <a:lnTo>
                      <a:pt x="1398" y="1778"/>
                    </a:lnTo>
                    <a:lnTo>
                      <a:pt x="1398" y="1778"/>
                    </a:lnTo>
                    <a:lnTo>
                      <a:pt x="1398" y="1770"/>
                    </a:lnTo>
                    <a:lnTo>
                      <a:pt x="1396" y="1768"/>
                    </a:lnTo>
                    <a:lnTo>
                      <a:pt x="1396" y="1766"/>
                    </a:lnTo>
                    <a:lnTo>
                      <a:pt x="1396" y="1766"/>
                    </a:lnTo>
                    <a:lnTo>
                      <a:pt x="1390" y="1768"/>
                    </a:lnTo>
                    <a:lnTo>
                      <a:pt x="1384" y="1772"/>
                    </a:lnTo>
                    <a:lnTo>
                      <a:pt x="1378" y="1776"/>
                    </a:lnTo>
                    <a:lnTo>
                      <a:pt x="1376" y="1782"/>
                    </a:lnTo>
                    <a:lnTo>
                      <a:pt x="1376" y="1782"/>
                    </a:lnTo>
                    <a:lnTo>
                      <a:pt x="1490" y="1772"/>
                    </a:lnTo>
                    <a:lnTo>
                      <a:pt x="1490" y="1772"/>
                    </a:lnTo>
                    <a:lnTo>
                      <a:pt x="1490" y="1770"/>
                    </a:lnTo>
                    <a:lnTo>
                      <a:pt x="1492" y="1770"/>
                    </a:lnTo>
                    <a:lnTo>
                      <a:pt x="1494" y="1770"/>
                    </a:lnTo>
                    <a:lnTo>
                      <a:pt x="1494" y="1770"/>
                    </a:lnTo>
                    <a:lnTo>
                      <a:pt x="1494" y="1770"/>
                    </a:lnTo>
                    <a:lnTo>
                      <a:pt x="1492" y="1768"/>
                    </a:lnTo>
                    <a:lnTo>
                      <a:pt x="1490" y="1766"/>
                    </a:lnTo>
                    <a:lnTo>
                      <a:pt x="1490" y="1766"/>
                    </a:lnTo>
                    <a:lnTo>
                      <a:pt x="1488" y="1768"/>
                    </a:lnTo>
                    <a:lnTo>
                      <a:pt x="1488" y="1770"/>
                    </a:lnTo>
                    <a:lnTo>
                      <a:pt x="1490" y="1772"/>
                    </a:lnTo>
                    <a:lnTo>
                      <a:pt x="1490" y="1772"/>
                    </a:lnTo>
                    <a:lnTo>
                      <a:pt x="1410" y="1796"/>
                    </a:lnTo>
                    <a:lnTo>
                      <a:pt x="1410" y="1796"/>
                    </a:lnTo>
                    <a:lnTo>
                      <a:pt x="1414" y="1796"/>
                    </a:lnTo>
                    <a:lnTo>
                      <a:pt x="1420" y="1796"/>
                    </a:lnTo>
                    <a:lnTo>
                      <a:pt x="1428" y="1794"/>
                    </a:lnTo>
                    <a:lnTo>
                      <a:pt x="1428" y="1794"/>
                    </a:lnTo>
                    <a:lnTo>
                      <a:pt x="1424" y="1786"/>
                    </a:lnTo>
                    <a:lnTo>
                      <a:pt x="1420" y="1778"/>
                    </a:lnTo>
                    <a:lnTo>
                      <a:pt x="1412" y="1774"/>
                    </a:lnTo>
                    <a:lnTo>
                      <a:pt x="1404" y="1770"/>
                    </a:lnTo>
                    <a:lnTo>
                      <a:pt x="1404" y="1770"/>
                    </a:lnTo>
                    <a:lnTo>
                      <a:pt x="1404" y="1778"/>
                    </a:lnTo>
                    <a:lnTo>
                      <a:pt x="1406" y="1784"/>
                    </a:lnTo>
                    <a:lnTo>
                      <a:pt x="1408" y="1790"/>
                    </a:lnTo>
                    <a:lnTo>
                      <a:pt x="1410" y="1796"/>
                    </a:lnTo>
                    <a:lnTo>
                      <a:pt x="1410" y="1796"/>
                    </a:lnTo>
                    <a:lnTo>
                      <a:pt x="1502" y="1792"/>
                    </a:lnTo>
                    <a:lnTo>
                      <a:pt x="1502" y="1792"/>
                    </a:lnTo>
                    <a:lnTo>
                      <a:pt x="1502" y="1786"/>
                    </a:lnTo>
                    <a:lnTo>
                      <a:pt x="1500" y="1782"/>
                    </a:lnTo>
                    <a:lnTo>
                      <a:pt x="1500" y="1782"/>
                    </a:lnTo>
                    <a:lnTo>
                      <a:pt x="1494" y="1782"/>
                    </a:lnTo>
                    <a:lnTo>
                      <a:pt x="1494" y="1782"/>
                    </a:lnTo>
                    <a:lnTo>
                      <a:pt x="1498" y="1786"/>
                    </a:lnTo>
                    <a:lnTo>
                      <a:pt x="1502" y="1792"/>
                    </a:lnTo>
                    <a:lnTo>
                      <a:pt x="1502" y="1792"/>
                    </a:lnTo>
                    <a:lnTo>
                      <a:pt x="1492" y="1802"/>
                    </a:lnTo>
                    <a:lnTo>
                      <a:pt x="1492" y="1802"/>
                    </a:lnTo>
                    <a:lnTo>
                      <a:pt x="1496" y="1800"/>
                    </a:lnTo>
                    <a:lnTo>
                      <a:pt x="1498" y="1800"/>
                    </a:lnTo>
                    <a:lnTo>
                      <a:pt x="1502" y="1794"/>
                    </a:lnTo>
                    <a:lnTo>
                      <a:pt x="1502" y="1794"/>
                    </a:lnTo>
                    <a:lnTo>
                      <a:pt x="1498" y="1792"/>
                    </a:lnTo>
                    <a:lnTo>
                      <a:pt x="1492" y="1792"/>
                    </a:lnTo>
                    <a:lnTo>
                      <a:pt x="1490" y="1796"/>
                    </a:lnTo>
                    <a:lnTo>
                      <a:pt x="1492" y="1802"/>
                    </a:lnTo>
                    <a:lnTo>
                      <a:pt x="1492" y="1802"/>
                    </a:lnTo>
                    <a:lnTo>
                      <a:pt x="1490" y="1782"/>
                    </a:lnTo>
                    <a:lnTo>
                      <a:pt x="1490" y="1782"/>
                    </a:lnTo>
                    <a:lnTo>
                      <a:pt x="1490" y="1784"/>
                    </a:lnTo>
                    <a:lnTo>
                      <a:pt x="1486" y="1784"/>
                    </a:lnTo>
                    <a:lnTo>
                      <a:pt x="1486" y="1784"/>
                    </a:lnTo>
                    <a:lnTo>
                      <a:pt x="1488" y="1786"/>
                    </a:lnTo>
                    <a:lnTo>
                      <a:pt x="1488" y="1788"/>
                    </a:lnTo>
                    <a:lnTo>
                      <a:pt x="1484" y="1792"/>
                    </a:lnTo>
                    <a:lnTo>
                      <a:pt x="1484" y="1792"/>
                    </a:lnTo>
                    <a:lnTo>
                      <a:pt x="1486" y="1796"/>
                    </a:lnTo>
                    <a:lnTo>
                      <a:pt x="1486" y="1796"/>
                    </a:lnTo>
                    <a:lnTo>
                      <a:pt x="1492" y="1794"/>
                    </a:lnTo>
                    <a:lnTo>
                      <a:pt x="1494" y="1790"/>
                    </a:lnTo>
                    <a:lnTo>
                      <a:pt x="1494" y="1786"/>
                    </a:lnTo>
                    <a:lnTo>
                      <a:pt x="1490" y="1782"/>
                    </a:lnTo>
                    <a:lnTo>
                      <a:pt x="1490" y="1782"/>
                    </a:lnTo>
                    <a:lnTo>
                      <a:pt x="1394" y="1796"/>
                    </a:lnTo>
                    <a:lnTo>
                      <a:pt x="1394" y="1796"/>
                    </a:lnTo>
                    <a:lnTo>
                      <a:pt x="1402" y="1796"/>
                    </a:lnTo>
                    <a:lnTo>
                      <a:pt x="1402" y="1796"/>
                    </a:lnTo>
                    <a:lnTo>
                      <a:pt x="1400" y="1790"/>
                    </a:lnTo>
                    <a:lnTo>
                      <a:pt x="1398" y="1786"/>
                    </a:lnTo>
                    <a:lnTo>
                      <a:pt x="1398" y="1786"/>
                    </a:lnTo>
                    <a:lnTo>
                      <a:pt x="1398" y="1790"/>
                    </a:lnTo>
                    <a:lnTo>
                      <a:pt x="1396" y="1792"/>
                    </a:lnTo>
                    <a:lnTo>
                      <a:pt x="1396" y="1792"/>
                    </a:lnTo>
                    <a:lnTo>
                      <a:pt x="1396" y="1790"/>
                    </a:lnTo>
                    <a:lnTo>
                      <a:pt x="1396" y="1788"/>
                    </a:lnTo>
                    <a:lnTo>
                      <a:pt x="1396" y="1788"/>
                    </a:lnTo>
                    <a:lnTo>
                      <a:pt x="1392" y="1792"/>
                    </a:lnTo>
                    <a:lnTo>
                      <a:pt x="1392" y="1794"/>
                    </a:lnTo>
                    <a:lnTo>
                      <a:pt x="1392" y="1796"/>
                    </a:lnTo>
                    <a:lnTo>
                      <a:pt x="1392" y="1796"/>
                    </a:lnTo>
                    <a:lnTo>
                      <a:pt x="1394" y="1794"/>
                    </a:lnTo>
                    <a:lnTo>
                      <a:pt x="1394" y="1796"/>
                    </a:lnTo>
                    <a:lnTo>
                      <a:pt x="1394" y="1796"/>
                    </a:lnTo>
                    <a:lnTo>
                      <a:pt x="1464" y="1798"/>
                    </a:lnTo>
                    <a:lnTo>
                      <a:pt x="1464" y="1798"/>
                    </a:lnTo>
                    <a:lnTo>
                      <a:pt x="1468" y="1802"/>
                    </a:lnTo>
                    <a:lnTo>
                      <a:pt x="1476" y="1802"/>
                    </a:lnTo>
                    <a:lnTo>
                      <a:pt x="1482" y="1802"/>
                    </a:lnTo>
                    <a:lnTo>
                      <a:pt x="1484" y="1800"/>
                    </a:lnTo>
                    <a:lnTo>
                      <a:pt x="1486" y="1798"/>
                    </a:lnTo>
                    <a:lnTo>
                      <a:pt x="1486" y="1798"/>
                    </a:lnTo>
                    <a:lnTo>
                      <a:pt x="1480" y="1794"/>
                    </a:lnTo>
                    <a:lnTo>
                      <a:pt x="1474" y="1792"/>
                    </a:lnTo>
                    <a:lnTo>
                      <a:pt x="1468" y="1792"/>
                    </a:lnTo>
                    <a:lnTo>
                      <a:pt x="1464" y="1794"/>
                    </a:lnTo>
                    <a:lnTo>
                      <a:pt x="1464" y="1798"/>
                    </a:lnTo>
                    <a:lnTo>
                      <a:pt x="1464" y="1798"/>
                    </a:lnTo>
                    <a:lnTo>
                      <a:pt x="1512" y="1810"/>
                    </a:lnTo>
                    <a:lnTo>
                      <a:pt x="1512" y="1810"/>
                    </a:lnTo>
                    <a:lnTo>
                      <a:pt x="1516" y="1808"/>
                    </a:lnTo>
                    <a:lnTo>
                      <a:pt x="1520" y="1806"/>
                    </a:lnTo>
                    <a:lnTo>
                      <a:pt x="1532" y="1804"/>
                    </a:lnTo>
                    <a:lnTo>
                      <a:pt x="1532" y="1804"/>
                    </a:lnTo>
                    <a:lnTo>
                      <a:pt x="1528" y="1802"/>
                    </a:lnTo>
                    <a:lnTo>
                      <a:pt x="1524" y="1800"/>
                    </a:lnTo>
                    <a:lnTo>
                      <a:pt x="1522" y="1796"/>
                    </a:lnTo>
                    <a:lnTo>
                      <a:pt x="1518" y="1792"/>
                    </a:lnTo>
                    <a:lnTo>
                      <a:pt x="1518" y="1792"/>
                    </a:lnTo>
                    <a:lnTo>
                      <a:pt x="1516" y="1794"/>
                    </a:lnTo>
                    <a:lnTo>
                      <a:pt x="1512" y="1794"/>
                    </a:lnTo>
                    <a:lnTo>
                      <a:pt x="1508" y="1792"/>
                    </a:lnTo>
                    <a:lnTo>
                      <a:pt x="1508" y="1792"/>
                    </a:lnTo>
                    <a:lnTo>
                      <a:pt x="1510" y="1800"/>
                    </a:lnTo>
                    <a:lnTo>
                      <a:pt x="1512" y="1810"/>
                    </a:lnTo>
                    <a:lnTo>
                      <a:pt x="1512" y="1810"/>
                    </a:lnTo>
                    <a:lnTo>
                      <a:pt x="1432" y="1798"/>
                    </a:lnTo>
                    <a:lnTo>
                      <a:pt x="1432" y="1798"/>
                    </a:lnTo>
                    <a:lnTo>
                      <a:pt x="1440" y="1798"/>
                    </a:lnTo>
                    <a:lnTo>
                      <a:pt x="1444" y="1796"/>
                    </a:lnTo>
                    <a:lnTo>
                      <a:pt x="1448" y="1796"/>
                    </a:lnTo>
                    <a:lnTo>
                      <a:pt x="1448" y="1796"/>
                    </a:lnTo>
                    <a:lnTo>
                      <a:pt x="1444" y="1794"/>
                    </a:lnTo>
                    <a:lnTo>
                      <a:pt x="1438" y="1794"/>
                    </a:lnTo>
                    <a:lnTo>
                      <a:pt x="1434" y="1794"/>
                    </a:lnTo>
                    <a:lnTo>
                      <a:pt x="1432" y="1798"/>
                    </a:lnTo>
                    <a:lnTo>
                      <a:pt x="1432" y="1798"/>
                    </a:lnTo>
                    <a:lnTo>
                      <a:pt x="1536" y="1804"/>
                    </a:lnTo>
                    <a:lnTo>
                      <a:pt x="1536" y="1804"/>
                    </a:lnTo>
                    <a:lnTo>
                      <a:pt x="1538" y="1802"/>
                    </a:lnTo>
                    <a:lnTo>
                      <a:pt x="1542" y="1800"/>
                    </a:lnTo>
                    <a:lnTo>
                      <a:pt x="1546" y="1798"/>
                    </a:lnTo>
                    <a:lnTo>
                      <a:pt x="1548" y="1796"/>
                    </a:lnTo>
                    <a:lnTo>
                      <a:pt x="1548" y="1796"/>
                    </a:lnTo>
                    <a:lnTo>
                      <a:pt x="1538" y="1796"/>
                    </a:lnTo>
                    <a:lnTo>
                      <a:pt x="1532" y="1796"/>
                    </a:lnTo>
                    <a:lnTo>
                      <a:pt x="1528" y="1798"/>
                    </a:lnTo>
                    <a:lnTo>
                      <a:pt x="1528" y="1798"/>
                    </a:lnTo>
                    <a:lnTo>
                      <a:pt x="1532" y="1802"/>
                    </a:lnTo>
                    <a:lnTo>
                      <a:pt x="1536" y="1804"/>
                    </a:lnTo>
                    <a:lnTo>
                      <a:pt x="1536" y="1804"/>
                    </a:lnTo>
                    <a:lnTo>
                      <a:pt x="1490" y="1816"/>
                    </a:lnTo>
                    <a:lnTo>
                      <a:pt x="1490" y="1816"/>
                    </a:lnTo>
                    <a:lnTo>
                      <a:pt x="1488" y="1812"/>
                    </a:lnTo>
                    <a:lnTo>
                      <a:pt x="1486" y="1810"/>
                    </a:lnTo>
                    <a:lnTo>
                      <a:pt x="1480" y="1808"/>
                    </a:lnTo>
                    <a:lnTo>
                      <a:pt x="1472" y="1806"/>
                    </a:lnTo>
                    <a:lnTo>
                      <a:pt x="1468" y="1806"/>
                    </a:lnTo>
                    <a:lnTo>
                      <a:pt x="1466" y="1802"/>
                    </a:lnTo>
                    <a:lnTo>
                      <a:pt x="1466" y="1802"/>
                    </a:lnTo>
                    <a:lnTo>
                      <a:pt x="1470" y="1808"/>
                    </a:lnTo>
                    <a:lnTo>
                      <a:pt x="1476" y="1812"/>
                    </a:lnTo>
                    <a:lnTo>
                      <a:pt x="1490" y="1816"/>
                    </a:lnTo>
                    <a:lnTo>
                      <a:pt x="1490" y="1816"/>
                    </a:lnTo>
                    <a:lnTo>
                      <a:pt x="1494" y="1818"/>
                    </a:lnTo>
                    <a:lnTo>
                      <a:pt x="1494" y="1818"/>
                    </a:lnTo>
                    <a:lnTo>
                      <a:pt x="1502" y="1818"/>
                    </a:lnTo>
                    <a:lnTo>
                      <a:pt x="1504" y="1816"/>
                    </a:lnTo>
                    <a:lnTo>
                      <a:pt x="1506" y="1814"/>
                    </a:lnTo>
                    <a:lnTo>
                      <a:pt x="1506" y="1814"/>
                    </a:lnTo>
                    <a:lnTo>
                      <a:pt x="1500" y="1814"/>
                    </a:lnTo>
                    <a:lnTo>
                      <a:pt x="1494" y="1812"/>
                    </a:lnTo>
                    <a:lnTo>
                      <a:pt x="1494" y="1812"/>
                    </a:lnTo>
                    <a:lnTo>
                      <a:pt x="1500" y="1812"/>
                    </a:lnTo>
                    <a:lnTo>
                      <a:pt x="1502" y="1812"/>
                    </a:lnTo>
                    <a:lnTo>
                      <a:pt x="1504" y="1810"/>
                    </a:lnTo>
                    <a:lnTo>
                      <a:pt x="1504" y="1810"/>
                    </a:lnTo>
                    <a:lnTo>
                      <a:pt x="1492" y="1804"/>
                    </a:lnTo>
                    <a:lnTo>
                      <a:pt x="1492" y="1804"/>
                    </a:lnTo>
                    <a:lnTo>
                      <a:pt x="1494" y="1812"/>
                    </a:lnTo>
                    <a:lnTo>
                      <a:pt x="1494" y="1818"/>
                    </a:lnTo>
                    <a:lnTo>
                      <a:pt x="1494" y="1818"/>
                    </a:lnTo>
                    <a:lnTo>
                      <a:pt x="1550" y="1804"/>
                    </a:lnTo>
                    <a:lnTo>
                      <a:pt x="1550" y="1804"/>
                    </a:lnTo>
                    <a:lnTo>
                      <a:pt x="1548" y="1804"/>
                    </a:lnTo>
                    <a:lnTo>
                      <a:pt x="1546" y="1804"/>
                    </a:lnTo>
                    <a:lnTo>
                      <a:pt x="1546" y="1804"/>
                    </a:lnTo>
                    <a:lnTo>
                      <a:pt x="1546" y="1806"/>
                    </a:lnTo>
                    <a:lnTo>
                      <a:pt x="1548" y="1808"/>
                    </a:lnTo>
                    <a:lnTo>
                      <a:pt x="1550" y="1806"/>
                    </a:lnTo>
                    <a:lnTo>
                      <a:pt x="1550" y="1804"/>
                    </a:lnTo>
                    <a:lnTo>
                      <a:pt x="1550" y="1804"/>
                    </a:lnTo>
                    <a:lnTo>
                      <a:pt x="1552" y="1810"/>
                    </a:lnTo>
                    <a:lnTo>
                      <a:pt x="1552" y="1810"/>
                    </a:lnTo>
                    <a:lnTo>
                      <a:pt x="1556" y="1812"/>
                    </a:lnTo>
                    <a:lnTo>
                      <a:pt x="1558" y="1812"/>
                    </a:lnTo>
                    <a:lnTo>
                      <a:pt x="1560" y="1810"/>
                    </a:lnTo>
                    <a:lnTo>
                      <a:pt x="1560" y="1810"/>
                    </a:lnTo>
                    <a:lnTo>
                      <a:pt x="1556" y="1808"/>
                    </a:lnTo>
                    <a:lnTo>
                      <a:pt x="1552" y="1808"/>
                    </a:lnTo>
                    <a:lnTo>
                      <a:pt x="1552" y="1810"/>
                    </a:lnTo>
                    <a:lnTo>
                      <a:pt x="1552" y="1810"/>
                    </a:lnTo>
                    <a:lnTo>
                      <a:pt x="1396" y="1812"/>
                    </a:lnTo>
                    <a:lnTo>
                      <a:pt x="1396" y="1812"/>
                    </a:lnTo>
                    <a:lnTo>
                      <a:pt x="1398" y="1814"/>
                    </a:lnTo>
                    <a:lnTo>
                      <a:pt x="1400" y="1816"/>
                    </a:lnTo>
                    <a:lnTo>
                      <a:pt x="1406" y="1818"/>
                    </a:lnTo>
                    <a:lnTo>
                      <a:pt x="1406" y="1818"/>
                    </a:lnTo>
                    <a:lnTo>
                      <a:pt x="1404" y="1814"/>
                    </a:lnTo>
                    <a:lnTo>
                      <a:pt x="1404" y="1810"/>
                    </a:lnTo>
                    <a:lnTo>
                      <a:pt x="1404" y="1810"/>
                    </a:lnTo>
                    <a:lnTo>
                      <a:pt x="1400" y="1810"/>
                    </a:lnTo>
                    <a:lnTo>
                      <a:pt x="1396" y="1812"/>
                    </a:lnTo>
                    <a:lnTo>
                      <a:pt x="1396" y="1812"/>
                    </a:lnTo>
                    <a:lnTo>
                      <a:pt x="1416" y="1822"/>
                    </a:lnTo>
                    <a:lnTo>
                      <a:pt x="1416" y="1822"/>
                    </a:lnTo>
                    <a:lnTo>
                      <a:pt x="1416" y="1818"/>
                    </a:lnTo>
                    <a:lnTo>
                      <a:pt x="1414" y="1814"/>
                    </a:lnTo>
                    <a:lnTo>
                      <a:pt x="1410" y="1812"/>
                    </a:lnTo>
                    <a:lnTo>
                      <a:pt x="1406" y="1810"/>
                    </a:lnTo>
                    <a:lnTo>
                      <a:pt x="1406" y="1810"/>
                    </a:lnTo>
                    <a:lnTo>
                      <a:pt x="1406" y="1816"/>
                    </a:lnTo>
                    <a:lnTo>
                      <a:pt x="1408" y="1818"/>
                    </a:lnTo>
                    <a:lnTo>
                      <a:pt x="1416" y="1822"/>
                    </a:lnTo>
                    <a:lnTo>
                      <a:pt x="1416" y="1822"/>
                    </a:lnTo>
                    <a:lnTo>
                      <a:pt x="1424" y="1826"/>
                    </a:lnTo>
                    <a:lnTo>
                      <a:pt x="1424" y="1826"/>
                    </a:lnTo>
                    <a:lnTo>
                      <a:pt x="1426" y="1824"/>
                    </a:lnTo>
                    <a:lnTo>
                      <a:pt x="1428" y="1824"/>
                    </a:lnTo>
                    <a:lnTo>
                      <a:pt x="1432" y="1820"/>
                    </a:lnTo>
                    <a:lnTo>
                      <a:pt x="1432" y="1820"/>
                    </a:lnTo>
                    <a:lnTo>
                      <a:pt x="1428" y="1816"/>
                    </a:lnTo>
                    <a:lnTo>
                      <a:pt x="1424" y="1814"/>
                    </a:lnTo>
                    <a:lnTo>
                      <a:pt x="1416" y="1812"/>
                    </a:lnTo>
                    <a:lnTo>
                      <a:pt x="1416" y="1812"/>
                    </a:lnTo>
                    <a:lnTo>
                      <a:pt x="1418" y="1820"/>
                    </a:lnTo>
                    <a:lnTo>
                      <a:pt x="1420" y="1824"/>
                    </a:lnTo>
                    <a:lnTo>
                      <a:pt x="1424" y="1826"/>
                    </a:lnTo>
                    <a:lnTo>
                      <a:pt x="1424" y="1826"/>
                    </a:lnTo>
                    <a:lnTo>
                      <a:pt x="1526" y="1826"/>
                    </a:lnTo>
                    <a:lnTo>
                      <a:pt x="1526" y="1826"/>
                    </a:lnTo>
                    <a:lnTo>
                      <a:pt x="1526" y="1824"/>
                    </a:lnTo>
                    <a:lnTo>
                      <a:pt x="1524" y="1824"/>
                    </a:lnTo>
                    <a:lnTo>
                      <a:pt x="1522" y="1822"/>
                    </a:lnTo>
                    <a:lnTo>
                      <a:pt x="1520" y="1824"/>
                    </a:lnTo>
                    <a:lnTo>
                      <a:pt x="1520" y="1824"/>
                    </a:lnTo>
                    <a:lnTo>
                      <a:pt x="1522" y="1826"/>
                    </a:lnTo>
                    <a:lnTo>
                      <a:pt x="1526" y="1826"/>
                    </a:lnTo>
                    <a:lnTo>
                      <a:pt x="1526" y="1826"/>
                    </a:lnTo>
                    <a:lnTo>
                      <a:pt x="1506" y="1834"/>
                    </a:lnTo>
                    <a:lnTo>
                      <a:pt x="1506" y="1834"/>
                    </a:lnTo>
                    <a:lnTo>
                      <a:pt x="1508" y="1832"/>
                    </a:lnTo>
                    <a:lnTo>
                      <a:pt x="1512" y="1832"/>
                    </a:lnTo>
                    <a:lnTo>
                      <a:pt x="1516" y="1830"/>
                    </a:lnTo>
                    <a:lnTo>
                      <a:pt x="1518" y="1828"/>
                    </a:lnTo>
                    <a:lnTo>
                      <a:pt x="1518" y="1828"/>
                    </a:lnTo>
                    <a:lnTo>
                      <a:pt x="1510" y="1828"/>
                    </a:lnTo>
                    <a:lnTo>
                      <a:pt x="1506" y="1830"/>
                    </a:lnTo>
                    <a:lnTo>
                      <a:pt x="1504" y="1832"/>
                    </a:lnTo>
                    <a:lnTo>
                      <a:pt x="1506" y="1834"/>
                    </a:lnTo>
                    <a:lnTo>
                      <a:pt x="1506" y="1834"/>
                    </a:lnTo>
                    <a:lnTo>
                      <a:pt x="1516" y="1850"/>
                    </a:lnTo>
                    <a:lnTo>
                      <a:pt x="1516" y="1850"/>
                    </a:lnTo>
                    <a:lnTo>
                      <a:pt x="1516" y="1856"/>
                    </a:lnTo>
                    <a:lnTo>
                      <a:pt x="1518" y="1860"/>
                    </a:lnTo>
                    <a:lnTo>
                      <a:pt x="1518" y="1860"/>
                    </a:lnTo>
                    <a:lnTo>
                      <a:pt x="1522" y="1860"/>
                    </a:lnTo>
                    <a:lnTo>
                      <a:pt x="1526" y="1858"/>
                    </a:lnTo>
                    <a:lnTo>
                      <a:pt x="1528" y="1854"/>
                    </a:lnTo>
                    <a:lnTo>
                      <a:pt x="1528" y="1850"/>
                    </a:lnTo>
                    <a:lnTo>
                      <a:pt x="1528" y="1850"/>
                    </a:lnTo>
                    <a:lnTo>
                      <a:pt x="1524" y="1848"/>
                    </a:lnTo>
                    <a:lnTo>
                      <a:pt x="1522" y="1848"/>
                    </a:lnTo>
                    <a:lnTo>
                      <a:pt x="1516" y="1850"/>
                    </a:lnTo>
                    <a:lnTo>
                      <a:pt x="1516" y="1850"/>
                    </a:lnTo>
                    <a:lnTo>
                      <a:pt x="872" y="2106"/>
                    </a:lnTo>
                    <a:lnTo>
                      <a:pt x="872" y="2106"/>
                    </a:lnTo>
                    <a:lnTo>
                      <a:pt x="874" y="2096"/>
                    </a:lnTo>
                    <a:lnTo>
                      <a:pt x="876" y="2084"/>
                    </a:lnTo>
                    <a:lnTo>
                      <a:pt x="884" y="2064"/>
                    </a:lnTo>
                    <a:lnTo>
                      <a:pt x="890" y="2044"/>
                    </a:lnTo>
                    <a:lnTo>
                      <a:pt x="892" y="2036"/>
                    </a:lnTo>
                    <a:lnTo>
                      <a:pt x="894" y="2024"/>
                    </a:lnTo>
                    <a:lnTo>
                      <a:pt x="894" y="2024"/>
                    </a:lnTo>
                    <a:lnTo>
                      <a:pt x="880" y="2064"/>
                    </a:lnTo>
                    <a:lnTo>
                      <a:pt x="874" y="2086"/>
                    </a:lnTo>
                    <a:lnTo>
                      <a:pt x="872" y="2106"/>
                    </a:lnTo>
                    <a:lnTo>
                      <a:pt x="872" y="2106"/>
                    </a:lnTo>
                    <a:lnTo>
                      <a:pt x="858" y="3434"/>
                    </a:lnTo>
                    <a:lnTo>
                      <a:pt x="858" y="3434"/>
                    </a:lnTo>
                    <a:lnTo>
                      <a:pt x="878" y="3426"/>
                    </a:lnTo>
                    <a:lnTo>
                      <a:pt x="896" y="3418"/>
                    </a:lnTo>
                    <a:lnTo>
                      <a:pt x="896" y="3418"/>
                    </a:lnTo>
                    <a:lnTo>
                      <a:pt x="904" y="3416"/>
                    </a:lnTo>
                    <a:lnTo>
                      <a:pt x="908" y="3414"/>
                    </a:lnTo>
                    <a:lnTo>
                      <a:pt x="908" y="3412"/>
                    </a:lnTo>
                    <a:lnTo>
                      <a:pt x="908" y="3412"/>
                    </a:lnTo>
                    <a:lnTo>
                      <a:pt x="882" y="3424"/>
                    </a:lnTo>
                    <a:lnTo>
                      <a:pt x="858" y="3434"/>
                    </a:lnTo>
                    <a:lnTo>
                      <a:pt x="858" y="3434"/>
                    </a:lnTo>
                    <a:lnTo>
                      <a:pt x="786" y="3432"/>
                    </a:lnTo>
                    <a:lnTo>
                      <a:pt x="786" y="3432"/>
                    </a:lnTo>
                    <a:lnTo>
                      <a:pt x="778" y="3432"/>
                    </a:lnTo>
                    <a:lnTo>
                      <a:pt x="782" y="3434"/>
                    </a:lnTo>
                    <a:lnTo>
                      <a:pt x="782" y="3434"/>
                    </a:lnTo>
                    <a:lnTo>
                      <a:pt x="794" y="3434"/>
                    </a:lnTo>
                    <a:lnTo>
                      <a:pt x="808" y="3436"/>
                    </a:lnTo>
                    <a:lnTo>
                      <a:pt x="820" y="3438"/>
                    </a:lnTo>
                    <a:lnTo>
                      <a:pt x="834" y="3438"/>
                    </a:lnTo>
                    <a:lnTo>
                      <a:pt x="834" y="3438"/>
                    </a:lnTo>
                    <a:lnTo>
                      <a:pt x="810" y="3434"/>
                    </a:lnTo>
                    <a:lnTo>
                      <a:pt x="786" y="3432"/>
                    </a:lnTo>
                    <a:lnTo>
                      <a:pt x="786" y="34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>
                <a:off x="6922800" y="2126160"/>
                <a:ext cx="25920" cy="187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2" y="0"/>
                    </a:moveTo>
                    <a:lnTo>
                      <a:pt x="12" y="0"/>
                    </a:lnTo>
                    <a:lnTo>
                      <a:pt x="12" y="2"/>
                    </a:lnTo>
                    <a:lnTo>
                      <a:pt x="8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9329040" y="1382040"/>
                <a:ext cx="73800" cy="29520"/>
              </a:xfrm>
              <a:custGeom>
                <a:avLst/>
                <a:gdLst/>
                <a:ahLst/>
                <a:rect l="l" t="t" r="r" b="b"/>
                <a:pathLst>
                  <a:path w="34" h="16">
                    <a:moveTo>
                      <a:pt x="0" y="16"/>
                    </a:moveTo>
                    <a:lnTo>
                      <a:pt x="0" y="16"/>
                    </a:lnTo>
                    <a:lnTo>
                      <a:pt x="8" y="12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18" y="10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>
                <a:off x="8627040" y="1325880"/>
                <a:ext cx="43200" cy="147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20" y="0"/>
                    </a:moveTo>
                    <a:lnTo>
                      <a:pt x="20" y="0"/>
                    </a:lnTo>
                    <a:lnTo>
                      <a:pt x="18" y="2"/>
                    </a:lnTo>
                    <a:lnTo>
                      <a:pt x="14" y="6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0" y="4"/>
                    </a:lnTo>
                    <a:lnTo>
                      <a:pt x="16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>
                <a:off x="9298080" y="630360"/>
                <a:ext cx="47880" cy="2628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0"/>
                    </a:moveTo>
                    <a:lnTo>
                      <a:pt x="22" y="0"/>
                    </a:lnTo>
                    <a:lnTo>
                      <a:pt x="12" y="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8" y="8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未知"/>
              <p:cNvSpPr/>
              <p:nvPr/>
            </p:nvSpPr>
            <p:spPr>
              <a:xfrm>
                <a:off x="9416520" y="374400"/>
                <a:ext cx="12600" cy="338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18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4"/>
                    </a:lnTo>
                    <a:lnTo>
                      <a:pt x="4" y="10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8051760" y="-1049400"/>
                <a:ext cx="13320" cy="3348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8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8108640" y="-985680"/>
                <a:ext cx="12600" cy="259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6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8143200" y="-985680"/>
                <a:ext cx="25920" cy="259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7977600" y="-940320"/>
                <a:ext cx="17280" cy="147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8474760" y="-861480"/>
                <a:ext cx="29880" cy="1872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0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10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6" y="6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8940960" y="-794160"/>
                <a:ext cx="43200" cy="378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0"/>
                    </a:moveTo>
                    <a:lnTo>
                      <a:pt x="20" y="0"/>
                    </a:lnTo>
                    <a:lnTo>
                      <a:pt x="16" y="4"/>
                    </a:lnTo>
                    <a:lnTo>
                      <a:pt x="12" y="1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7716240" y="-794160"/>
                <a:ext cx="25920" cy="151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0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>
                <a:off x="8945280" y="-730440"/>
                <a:ext cx="52200" cy="19080"/>
              </a:xfrm>
              <a:custGeom>
                <a:avLst/>
                <a:gdLst/>
                <a:ahLst/>
                <a:rect l="l" t="t" r="r" b="b"/>
                <a:pathLst>
                  <a:path w="24" h="10">
                    <a:moveTo>
                      <a:pt x="0" y="0"/>
                    </a:moveTo>
                    <a:lnTo>
                      <a:pt x="0" y="0"/>
                    </a:lnTo>
                    <a:lnTo>
                      <a:pt x="6" y="2"/>
                    </a:lnTo>
                    <a:lnTo>
                      <a:pt x="10" y="6"/>
                    </a:lnTo>
                    <a:lnTo>
                      <a:pt x="16" y="8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18" y="10"/>
                    </a:lnTo>
                    <a:lnTo>
                      <a:pt x="10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>
                <a:off x="8897400" y="-707760"/>
                <a:ext cx="47880" cy="3024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10" y="0"/>
                    </a:moveTo>
                    <a:lnTo>
                      <a:pt x="10" y="0"/>
                    </a:lnTo>
                    <a:lnTo>
                      <a:pt x="14" y="0"/>
                    </a:lnTo>
                    <a:lnTo>
                      <a:pt x="16" y="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2" y="14"/>
                    </a:lnTo>
                    <a:lnTo>
                      <a:pt x="6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>
                <a:off x="9006480" y="-689040"/>
                <a:ext cx="25560" cy="302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16"/>
                    </a:moveTo>
                    <a:lnTo>
                      <a:pt x="0" y="16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>
                <a:off x="8945280" y="-673560"/>
                <a:ext cx="17280" cy="259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6" y="12"/>
                    </a:lnTo>
                    <a:lnTo>
                      <a:pt x="4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>
                <a:off x="8710200" y="-482040"/>
                <a:ext cx="30600" cy="111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4" y="0"/>
                    </a:moveTo>
                    <a:lnTo>
                      <a:pt x="14" y="0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2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8095320" y="-462960"/>
                <a:ext cx="13320" cy="295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8365680" y="-39564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2" y="0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7079760" y="-30924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7162560" y="-290520"/>
                <a:ext cx="12600" cy="3024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7201800" y="-15480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6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9063000" y="-15120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4" y="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7371720" y="-121320"/>
                <a:ext cx="30600" cy="14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2"/>
                    </a:lnTo>
                    <a:lnTo>
                      <a:pt x="10" y="6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2" y="6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9054720" y="51480"/>
                <a:ext cx="21600" cy="108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7110360" y="62640"/>
                <a:ext cx="30600" cy="151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0"/>
                    </a:moveTo>
                    <a:lnTo>
                      <a:pt x="14" y="0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2"/>
                    </a:lnTo>
                    <a:lnTo>
                      <a:pt x="10" y="2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7254000" y="171720"/>
                <a:ext cx="78480" cy="4104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26" y="6"/>
                    </a:moveTo>
                    <a:lnTo>
                      <a:pt x="26" y="6"/>
                    </a:lnTo>
                    <a:lnTo>
                      <a:pt x="18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10"/>
                    </a:lnTo>
                    <a:lnTo>
                      <a:pt x="6" y="16"/>
                    </a:lnTo>
                    <a:lnTo>
                      <a:pt x="4" y="2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4" y="1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4" y="4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0" y="14"/>
                    </a:lnTo>
                    <a:lnTo>
                      <a:pt x="30" y="12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9063000" y="186480"/>
                <a:ext cx="34920" cy="151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2"/>
                    </a:lnTo>
                    <a:lnTo>
                      <a:pt x="12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0" y="4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7350120" y="186480"/>
                <a:ext cx="30600" cy="302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14" y="0"/>
                    </a:moveTo>
                    <a:lnTo>
                      <a:pt x="14" y="0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0" y="1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6" y="10"/>
                    </a:lnTo>
                    <a:lnTo>
                      <a:pt x="10" y="6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8758080" y="254520"/>
                <a:ext cx="17280" cy="7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6787440" y="378360"/>
                <a:ext cx="13320" cy="147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6404040" y="378360"/>
                <a:ext cx="161280" cy="9000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28" y="0"/>
                    </a:moveTo>
                    <a:lnTo>
                      <a:pt x="28" y="0"/>
                    </a:lnTo>
                    <a:lnTo>
                      <a:pt x="32" y="8"/>
                    </a:lnTo>
                    <a:lnTo>
                      <a:pt x="40" y="14"/>
                    </a:lnTo>
                    <a:lnTo>
                      <a:pt x="46" y="18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8"/>
                    </a:lnTo>
                    <a:lnTo>
                      <a:pt x="56" y="32"/>
                    </a:lnTo>
                    <a:lnTo>
                      <a:pt x="56" y="32"/>
                    </a:lnTo>
                    <a:lnTo>
                      <a:pt x="60" y="26"/>
                    </a:lnTo>
                    <a:lnTo>
                      <a:pt x="62" y="22"/>
                    </a:lnTo>
                    <a:lnTo>
                      <a:pt x="62" y="22"/>
                    </a:lnTo>
                    <a:lnTo>
                      <a:pt x="62" y="24"/>
                    </a:lnTo>
                    <a:lnTo>
                      <a:pt x="62" y="26"/>
                    </a:lnTo>
                    <a:lnTo>
                      <a:pt x="58" y="32"/>
                    </a:lnTo>
                    <a:lnTo>
                      <a:pt x="58" y="32"/>
                    </a:lnTo>
                    <a:lnTo>
                      <a:pt x="66" y="38"/>
                    </a:lnTo>
                    <a:lnTo>
                      <a:pt x="74" y="44"/>
                    </a:lnTo>
                    <a:lnTo>
                      <a:pt x="74" y="44"/>
                    </a:lnTo>
                    <a:lnTo>
                      <a:pt x="70" y="46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4" y="46"/>
                    </a:lnTo>
                    <a:lnTo>
                      <a:pt x="66" y="44"/>
                    </a:lnTo>
                    <a:lnTo>
                      <a:pt x="68" y="44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0" y="38"/>
                    </a:lnTo>
                    <a:lnTo>
                      <a:pt x="56" y="34"/>
                    </a:lnTo>
                    <a:lnTo>
                      <a:pt x="54" y="32"/>
                    </a:lnTo>
                    <a:lnTo>
                      <a:pt x="54" y="32"/>
                    </a:lnTo>
                    <a:lnTo>
                      <a:pt x="48" y="32"/>
                    </a:lnTo>
                    <a:lnTo>
                      <a:pt x="42" y="32"/>
                    </a:lnTo>
                    <a:lnTo>
                      <a:pt x="28" y="30"/>
                    </a:lnTo>
                    <a:lnTo>
                      <a:pt x="16" y="26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10"/>
                    </a:lnTo>
                    <a:lnTo>
                      <a:pt x="12" y="10"/>
                    </a:lnTo>
                    <a:lnTo>
                      <a:pt x="26" y="12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6" y="12"/>
                    </a:lnTo>
                    <a:lnTo>
                      <a:pt x="32" y="8"/>
                    </a:lnTo>
                    <a:lnTo>
                      <a:pt x="30" y="6"/>
                    </a:lnTo>
                    <a:lnTo>
                      <a:pt x="28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9442080" y="385920"/>
                <a:ext cx="21960" cy="48240"/>
              </a:xfrm>
              <a:custGeom>
                <a:avLst/>
                <a:gdLst/>
                <a:ahLst/>
                <a:rect l="l" t="t" r="r" b="b"/>
                <a:pathLst>
                  <a:path w="10" h="26">
                    <a:moveTo>
                      <a:pt x="0" y="0"/>
                    </a:moveTo>
                    <a:lnTo>
                      <a:pt x="0" y="0"/>
                    </a:lnTo>
                    <a:lnTo>
                      <a:pt x="6" y="14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4" y="14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>
                <a:off x="8544600" y="472680"/>
                <a:ext cx="8280" cy="3348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8"/>
                    </a:moveTo>
                    <a:lnTo>
                      <a:pt x="4" y="18"/>
                    </a:lnTo>
                    <a:lnTo>
                      <a:pt x="2" y="1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12"/>
                    </a:lnTo>
                    <a:lnTo>
                      <a:pt x="4" y="18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7572240" y="514080"/>
                <a:ext cx="8640" cy="18720"/>
              </a:xfrm>
              <a:custGeom>
                <a:avLst/>
                <a:gdLst/>
                <a:ahLst/>
                <a:rect l="l" t="t" r="r" b="b"/>
                <a:pathLst>
                  <a:path w="4" h="10">
                    <a:moveTo>
                      <a:pt x="4" y="10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10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>
                <a:off x="9368280" y="551520"/>
                <a:ext cx="21600" cy="108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10" y="0"/>
                    </a:lnTo>
                    <a:lnTo>
                      <a:pt x="10" y="2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未知"/>
              <p:cNvSpPr/>
              <p:nvPr/>
            </p:nvSpPr>
            <p:spPr>
              <a:xfrm>
                <a:off x="6774840" y="581400"/>
                <a:ext cx="34920" cy="1872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16" y="0"/>
                    </a:lnTo>
                    <a:lnTo>
                      <a:pt x="14" y="2"/>
                    </a:lnTo>
                    <a:lnTo>
                      <a:pt x="8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6" y="6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未知"/>
              <p:cNvSpPr/>
              <p:nvPr/>
            </p:nvSpPr>
            <p:spPr>
              <a:xfrm>
                <a:off x="9677880" y="73944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0"/>
                    </a:moveTo>
                    <a:lnTo>
                      <a:pt x="8" y="0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未知"/>
              <p:cNvSpPr/>
              <p:nvPr/>
            </p:nvSpPr>
            <p:spPr>
              <a:xfrm>
                <a:off x="6369480" y="784440"/>
                <a:ext cx="47880" cy="259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22" y="0"/>
                    </a:moveTo>
                    <a:lnTo>
                      <a:pt x="22" y="0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0"/>
                    </a:lnTo>
                    <a:lnTo>
                      <a:pt x="12" y="8"/>
                    </a:lnTo>
                    <a:lnTo>
                      <a:pt x="18" y="4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未知"/>
              <p:cNvSpPr/>
              <p:nvPr/>
            </p:nvSpPr>
            <p:spPr>
              <a:xfrm>
                <a:off x="8278560" y="807120"/>
                <a:ext cx="12600" cy="187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6" y="0"/>
                    </a:moveTo>
                    <a:lnTo>
                      <a:pt x="6" y="0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未知"/>
              <p:cNvSpPr/>
              <p:nvPr/>
            </p:nvSpPr>
            <p:spPr>
              <a:xfrm>
                <a:off x="9773640" y="821880"/>
                <a:ext cx="17280" cy="72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0"/>
                    </a:moveTo>
                    <a:lnTo>
                      <a:pt x="8" y="0"/>
                    </a:lnTo>
                    <a:lnTo>
                      <a:pt x="6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9730080" y="848520"/>
                <a:ext cx="38880" cy="48240"/>
              </a:xfrm>
              <a:custGeom>
                <a:avLst/>
                <a:gdLst/>
                <a:ahLst/>
                <a:rect l="l" t="t" r="r" b="b"/>
                <a:pathLst>
                  <a:path w="18" h="26">
                    <a:moveTo>
                      <a:pt x="0" y="0"/>
                    </a:moveTo>
                    <a:lnTo>
                      <a:pt x="0" y="0"/>
                    </a:lnTo>
                    <a:lnTo>
                      <a:pt x="6" y="16"/>
                    </a:lnTo>
                    <a:lnTo>
                      <a:pt x="10" y="22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0" y="24"/>
                    </a:lnTo>
                    <a:lnTo>
                      <a:pt x="6" y="18"/>
                    </a:lnTo>
                    <a:lnTo>
                      <a:pt x="2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8343720" y="851760"/>
                <a:ext cx="30600" cy="756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9076320" y="867240"/>
                <a:ext cx="12600" cy="108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6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818040" y="1043640"/>
                <a:ext cx="21600" cy="75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4"/>
                    </a:moveTo>
                    <a:lnTo>
                      <a:pt x="10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8331120" y="885960"/>
                <a:ext cx="43200" cy="2232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0" y="4"/>
                    </a:lnTo>
                    <a:lnTo>
                      <a:pt x="16" y="8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18" y="12"/>
                    </a:lnTo>
                    <a:lnTo>
                      <a:pt x="14" y="12"/>
                    </a:lnTo>
                    <a:lnTo>
                      <a:pt x="8" y="10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9089280" y="889920"/>
                <a:ext cx="38880" cy="223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0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8" y="6"/>
                    </a:lnTo>
                    <a:lnTo>
                      <a:pt x="12" y="10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6726600" y="931320"/>
                <a:ext cx="52200" cy="7200"/>
              </a:xfrm>
              <a:custGeom>
                <a:avLst/>
                <a:gdLst/>
                <a:ahLst/>
                <a:rect l="l" t="t" r="r" b="b"/>
                <a:pathLst>
                  <a:path w="2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12" y="2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18" y="4"/>
                    </a:lnTo>
                    <a:lnTo>
                      <a:pt x="1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9752040" y="934560"/>
                <a:ext cx="25920" cy="756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7799400" y="1051200"/>
                <a:ext cx="17280" cy="10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0"/>
                    </a:moveTo>
                    <a:lnTo>
                      <a:pt x="8" y="0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未知"/>
            <p:cNvSpPr/>
            <p:nvPr/>
          </p:nvSpPr>
          <p:spPr>
            <a:xfrm>
              <a:off x="7568280" y="1055160"/>
              <a:ext cx="12600" cy="187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9351000" y="1070280"/>
              <a:ext cx="130680" cy="11988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28" y="0"/>
                  </a:moveTo>
                  <a:lnTo>
                    <a:pt x="28" y="0"/>
                  </a:lnTo>
                  <a:lnTo>
                    <a:pt x="28" y="4"/>
                  </a:lnTo>
                  <a:lnTo>
                    <a:pt x="24" y="8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22" y="16"/>
                  </a:lnTo>
                  <a:lnTo>
                    <a:pt x="28" y="20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54" y="42"/>
                  </a:lnTo>
                  <a:lnTo>
                    <a:pt x="58" y="46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60" y="56"/>
                  </a:lnTo>
                  <a:lnTo>
                    <a:pt x="58" y="60"/>
                  </a:lnTo>
                  <a:lnTo>
                    <a:pt x="56" y="62"/>
                  </a:lnTo>
                  <a:lnTo>
                    <a:pt x="52" y="64"/>
                  </a:lnTo>
                  <a:lnTo>
                    <a:pt x="52" y="64"/>
                  </a:lnTo>
                  <a:lnTo>
                    <a:pt x="46" y="62"/>
                  </a:lnTo>
                  <a:lnTo>
                    <a:pt x="40" y="58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0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6" y="12"/>
                  </a:lnTo>
                  <a:lnTo>
                    <a:pt x="22" y="8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9455760" y="1077840"/>
              <a:ext cx="56160" cy="1080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0" y="0"/>
                  </a:moveTo>
                  <a:lnTo>
                    <a:pt x="0" y="0"/>
                  </a:lnTo>
                  <a:lnTo>
                    <a:pt x="10" y="2"/>
                  </a:lnTo>
                  <a:lnTo>
                    <a:pt x="18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4"/>
                  </a:lnTo>
                  <a:lnTo>
                    <a:pt x="1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7376400" y="1085040"/>
              <a:ext cx="21600" cy="75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7289280" y="1107720"/>
              <a:ext cx="21600" cy="14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7315200" y="1107720"/>
              <a:ext cx="17640" cy="2628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6" y="0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6" y="8"/>
                  </a:lnTo>
                  <a:lnTo>
                    <a:pt x="4" y="1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7275960" y="1137960"/>
              <a:ext cx="25920" cy="72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2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8766720" y="1153080"/>
              <a:ext cx="13320" cy="3024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0" y="0"/>
                  </a:moveTo>
                  <a:lnTo>
                    <a:pt x="0" y="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2" y="10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8627400" y="1183320"/>
              <a:ext cx="8640" cy="259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6273720" y="1216800"/>
              <a:ext cx="12600" cy="22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6535080" y="1254240"/>
              <a:ext cx="34560" cy="334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4" y="0"/>
                  </a:moveTo>
                  <a:lnTo>
                    <a:pt x="14" y="0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6186240" y="1269360"/>
              <a:ext cx="8640" cy="2628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4" y="2"/>
                  </a:move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6116400" y="1288080"/>
              <a:ext cx="25920" cy="223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0"/>
                  </a:lnTo>
                  <a:lnTo>
                    <a:pt x="12" y="2"/>
                  </a:lnTo>
                  <a:lnTo>
                    <a:pt x="10" y="8"/>
                  </a:lnTo>
                  <a:lnTo>
                    <a:pt x="6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7681320" y="1442160"/>
              <a:ext cx="17640" cy="147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8466120" y="1295640"/>
              <a:ext cx="113040" cy="48960"/>
            </a:xfrm>
            <a:custGeom>
              <a:avLst/>
              <a:gdLst/>
              <a:ahLst/>
              <a:rect l="l" t="t" r="r" b="b"/>
              <a:pathLst>
                <a:path w="52" h="26">
                  <a:moveTo>
                    <a:pt x="38" y="22"/>
                  </a:moveTo>
                  <a:lnTo>
                    <a:pt x="38" y="22"/>
                  </a:lnTo>
                  <a:lnTo>
                    <a:pt x="36" y="20"/>
                  </a:lnTo>
                  <a:lnTo>
                    <a:pt x="30" y="16"/>
                  </a:lnTo>
                  <a:lnTo>
                    <a:pt x="18" y="14"/>
                  </a:lnTo>
                  <a:lnTo>
                    <a:pt x="6" y="10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14" y="0"/>
                  </a:lnTo>
                  <a:lnTo>
                    <a:pt x="32" y="2"/>
                  </a:lnTo>
                  <a:lnTo>
                    <a:pt x="46" y="6"/>
                  </a:lnTo>
                  <a:lnTo>
                    <a:pt x="50" y="10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0" y="18"/>
                  </a:lnTo>
                  <a:lnTo>
                    <a:pt x="48" y="20"/>
                  </a:lnTo>
                  <a:lnTo>
                    <a:pt x="42" y="24"/>
                  </a:lnTo>
                  <a:lnTo>
                    <a:pt x="36" y="26"/>
                  </a:lnTo>
                  <a:lnTo>
                    <a:pt x="38" y="22"/>
                  </a:lnTo>
                  <a:lnTo>
                    <a:pt x="3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9010800" y="1322280"/>
              <a:ext cx="30600" cy="1080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8" y="6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6417360" y="1329480"/>
              <a:ext cx="17280" cy="190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0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6975720" y="1341000"/>
              <a:ext cx="12600" cy="2952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0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9207000" y="1370880"/>
              <a:ext cx="8640" cy="1512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9290160" y="1487520"/>
              <a:ext cx="43200" cy="1872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16" y="0"/>
                  </a:moveTo>
                  <a:lnTo>
                    <a:pt x="16" y="0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0"/>
                  </a:lnTo>
                  <a:lnTo>
                    <a:pt x="14" y="10"/>
                  </a:lnTo>
                  <a:lnTo>
                    <a:pt x="6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6"/>
                  </a:lnTo>
                  <a:lnTo>
                    <a:pt x="10" y="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9228960" y="1502280"/>
              <a:ext cx="133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8758440" y="1701720"/>
              <a:ext cx="25920" cy="3744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0" y="20"/>
                  </a:moveTo>
                  <a:lnTo>
                    <a:pt x="0" y="20"/>
                  </a:lnTo>
                  <a:lnTo>
                    <a:pt x="2" y="16"/>
                  </a:lnTo>
                  <a:lnTo>
                    <a:pt x="4" y="1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4"/>
                  </a:lnTo>
                  <a:lnTo>
                    <a:pt x="8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8714520" y="1705320"/>
              <a:ext cx="17640" cy="3024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0"/>
                  </a:moveTo>
                  <a:lnTo>
                    <a:pt x="0" y="0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0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9237600" y="1837080"/>
              <a:ext cx="91080" cy="30240"/>
            </a:xfrm>
            <a:custGeom>
              <a:avLst/>
              <a:gdLst/>
              <a:ahLst/>
              <a:rect l="l" t="t" r="r" b="b"/>
              <a:pathLst>
                <a:path w="42" h="16">
                  <a:moveTo>
                    <a:pt x="26" y="0"/>
                  </a:moveTo>
                  <a:lnTo>
                    <a:pt x="26" y="0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20" y="12"/>
                  </a:lnTo>
                  <a:lnTo>
                    <a:pt x="26" y="10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22" y="16"/>
                  </a:lnTo>
                  <a:lnTo>
                    <a:pt x="1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4" y="8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5933520" y="1882080"/>
              <a:ext cx="17280" cy="2952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6"/>
                  </a:lnTo>
                  <a:lnTo>
                    <a:pt x="6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2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9294120" y="1882080"/>
              <a:ext cx="17640" cy="10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5950800" y="1923480"/>
              <a:ext cx="21600" cy="2628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6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0"/>
                  </a:lnTo>
                  <a:lnTo>
                    <a:pt x="4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6003360" y="1931040"/>
              <a:ext cx="30600" cy="720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6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9015480" y="1976040"/>
              <a:ext cx="21600" cy="22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12"/>
                  </a:moveTo>
                  <a:lnTo>
                    <a:pt x="10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6" y="4"/>
                  </a:lnTo>
                  <a:lnTo>
                    <a:pt x="10" y="12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5877000" y="1950120"/>
              <a:ext cx="52200" cy="3240"/>
            </a:xfrm>
            <a:custGeom>
              <a:avLst/>
              <a:gdLst/>
              <a:ahLst/>
              <a:rect l="l" t="t" r="r" b="b"/>
              <a:pathLst>
                <a:path w="24" h="2">
                  <a:moveTo>
                    <a:pt x="0" y="2"/>
                  </a:moveTo>
                  <a:lnTo>
                    <a:pt x="0" y="2"/>
                  </a:lnTo>
                  <a:lnTo>
                    <a:pt x="12" y="0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5937480" y="1960920"/>
              <a:ext cx="104760" cy="561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6" y="0"/>
                  </a:moveTo>
                  <a:lnTo>
                    <a:pt x="46" y="0"/>
                  </a:lnTo>
                  <a:lnTo>
                    <a:pt x="48" y="2"/>
                  </a:lnTo>
                  <a:lnTo>
                    <a:pt x="46" y="4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26" y="20"/>
                  </a:lnTo>
                  <a:lnTo>
                    <a:pt x="14" y="26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22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6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32" y="14"/>
                  </a:lnTo>
                  <a:lnTo>
                    <a:pt x="36" y="10"/>
                  </a:lnTo>
                  <a:lnTo>
                    <a:pt x="40" y="4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6303960" y="2055240"/>
              <a:ext cx="25920" cy="259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14"/>
                  </a:moveTo>
                  <a:lnTo>
                    <a:pt x="12" y="14"/>
                  </a:lnTo>
                  <a:lnTo>
                    <a:pt x="8" y="14"/>
                  </a:lnTo>
                  <a:lnTo>
                    <a:pt x="4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8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8675280" y="2103840"/>
              <a:ext cx="13320" cy="223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0"/>
                  </a:moveTo>
                  <a:lnTo>
                    <a:pt x="6" y="0"/>
                  </a:lnTo>
                  <a:lnTo>
                    <a:pt x="6" y="4"/>
                  </a:lnTo>
                  <a:lnTo>
                    <a:pt x="4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6561360" y="2269080"/>
              <a:ext cx="21600" cy="75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9372600" y="2370600"/>
              <a:ext cx="25920" cy="111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9420480" y="2382120"/>
              <a:ext cx="39240" cy="1080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8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9403200" y="2404800"/>
              <a:ext cx="21600" cy="720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4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8749440" y="2434680"/>
              <a:ext cx="30600" cy="756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9150120" y="2434680"/>
              <a:ext cx="21960" cy="75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8962920" y="2434680"/>
              <a:ext cx="8640" cy="3384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0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9168120" y="2453400"/>
              <a:ext cx="34560" cy="1512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4" y="2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4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8980200" y="2464920"/>
              <a:ext cx="21960" cy="756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9202680" y="2472480"/>
              <a:ext cx="30600" cy="720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9132840" y="2487600"/>
              <a:ext cx="21600" cy="223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6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8793000" y="2494800"/>
              <a:ext cx="21600" cy="111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9263880" y="2502360"/>
              <a:ext cx="43200" cy="4104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0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10" y="16"/>
                  </a:lnTo>
                  <a:lnTo>
                    <a:pt x="14" y="18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6" y="22"/>
                  </a:lnTo>
                  <a:lnTo>
                    <a:pt x="12" y="20"/>
                  </a:lnTo>
                  <a:lnTo>
                    <a:pt x="8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未知"/>
          <p:cNvSpPr/>
          <p:nvPr/>
        </p:nvSpPr>
        <p:spPr>
          <a:xfrm rot="463200">
            <a:off x="2457000" y="4214520"/>
            <a:ext cx="693720" cy="928800"/>
          </a:xfrm>
          <a:custGeom>
            <a:avLst/>
            <a:gdLst/>
            <a:ahLst/>
            <a:rect l="l" t="t" r="r" b="b"/>
            <a:pathLst>
              <a:path w="483" h="649">
                <a:moveTo>
                  <a:pt x="344" y="277"/>
                </a:moveTo>
                <a:cubicBezTo>
                  <a:pt x="363" y="256"/>
                  <a:pt x="405" y="261"/>
                  <a:pt x="405" y="261"/>
                </a:cubicBezTo>
                <a:cubicBezTo>
                  <a:pt x="405" y="261"/>
                  <a:pt x="397" y="254"/>
                  <a:pt x="382" y="250"/>
                </a:cubicBezTo>
                <a:cubicBezTo>
                  <a:pt x="367" y="246"/>
                  <a:pt x="356" y="243"/>
                  <a:pt x="356" y="243"/>
                </a:cubicBezTo>
                <a:cubicBezTo>
                  <a:pt x="356" y="243"/>
                  <a:pt x="355" y="236"/>
                  <a:pt x="342" y="231"/>
                </a:cubicBezTo>
                <a:cubicBezTo>
                  <a:pt x="334" y="228"/>
                  <a:pt x="312" y="234"/>
                  <a:pt x="293" y="237"/>
                </a:cubicBezTo>
                <a:cubicBezTo>
                  <a:pt x="280" y="239"/>
                  <a:pt x="267" y="238"/>
                  <a:pt x="263" y="235"/>
                </a:cubicBezTo>
                <a:cubicBezTo>
                  <a:pt x="258" y="232"/>
                  <a:pt x="249" y="217"/>
                  <a:pt x="245" y="197"/>
                </a:cubicBezTo>
                <a:cubicBezTo>
                  <a:pt x="240" y="174"/>
                  <a:pt x="240" y="146"/>
                  <a:pt x="236" y="136"/>
                </a:cubicBezTo>
                <a:cubicBezTo>
                  <a:pt x="227" y="118"/>
                  <a:pt x="209" y="101"/>
                  <a:pt x="209" y="101"/>
                </a:cubicBezTo>
                <a:cubicBezTo>
                  <a:pt x="209" y="101"/>
                  <a:pt x="184" y="60"/>
                  <a:pt x="167" y="43"/>
                </a:cubicBezTo>
                <a:cubicBezTo>
                  <a:pt x="151" y="27"/>
                  <a:pt x="133" y="22"/>
                  <a:pt x="133" y="22"/>
                </a:cubicBezTo>
                <a:cubicBezTo>
                  <a:pt x="133" y="22"/>
                  <a:pt x="134" y="27"/>
                  <a:pt x="139" y="34"/>
                </a:cubicBezTo>
                <a:cubicBezTo>
                  <a:pt x="144" y="42"/>
                  <a:pt x="148" y="48"/>
                  <a:pt x="148" y="48"/>
                </a:cubicBezTo>
                <a:cubicBezTo>
                  <a:pt x="148" y="48"/>
                  <a:pt x="133" y="33"/>
                  <a:pt x="108" y="19"/>
                </a:cubicBezTo>
                <a:cubicBezTo>
                  <a:pt x="82" y="5"/>
                  <a:pt x="68" y="0"/>
                  <a:pt x="68" y="0"/>
                </a:cubicBezTo>
                <a:cubicBezTo>
                  <a:pt x="68" y="0"/>
                  <a:pt x="63" y="9"/>
                  <a:pt x="77" y="22"/>
                </a:cubicBezTo>
                <a:cubicBezTo>
                  <a:pt x="91" y="36"/>
                  <a:pt x="133" y="60"/>
                  <a:pt x="133" y="60"/>
                </a:cubicBezTo>
                <a:cubicBezTo>
                  <a:pt x="133" y="60"/>
                  <a:pt x="48" y="19"/>
                  <a:pt x="42" y="21"/>
                </a:cubicBezTo>
                <a:cubicBezTo>
                  <a:pt x="35" y="24"/>
                  <a:pt x="38" y="34"/>
                  <a:pt x="49" y="43"/>
                </a:cubicBezTo>
                <a:cubicBezTo>
                  <a:pt x="67" y="57"/>
                  <a:pt x="102" y="70"/>
                  <a:pt x="102" y="70"/>
                </a:cubicBezTo>
                <a:cubicBezTo>
                  <a:pt x="102" y="70"/>
                  <a:pt x="27" y="49"/>
                  <a:pt x="22" y="54"/>
                </a:cubicBezTo>
                <a:cubicBezTo>
                  <a:pt x="19" y="56"/>
                  <a:pt x="24" y="67"/>
                  <a:pt x="35" y="74"/>
                </a:cubicBezTo>
                <a:cubicBezTo>
                  <a:pt x="50" y="82"/>
                  <a:pt x="73" y="86"/>
                  <a:pt x="73" y="86"/>
                </a:cubicBezTo>
                <a:cubicBezTo>
                  <a:pt x="73" y="86"/>
                  <a:pt x="16" y="85"/>
                  <a:pt x="15" y="92"/>
                </a:cubicBezTo>
                <a:cubicBezTo>
                  <a:pt x="15" y="99"/>
                  <a:pt x="40" y="106"/>
                  <a:pt x="40" y="106"/>
                </a:cubicBezTo>
                <a:cubicBezTo>
                  <a:pt x="40" y="106"/>
                  <a:pt x="25" y="110"/>
                  <a:pt x="25" y="114"/>
                </a:cubicBezTo>
                <a:cubicBezTo>
                  <a:pt x="25" y="119"/>
                  <a:pt x="43" y="128"/>
                  <a:pt x="43" y="128"/>
                </a:cubicBezTo>
                <a:cubicBezTo>
                  <a:pt x="43" y="128"/>
                  <a:pt x="36" y="131"/>
                  <a:pt x="34" y="138"/>
                </a:cubicBezTo>
                <a:cubicBezTo>
                  <a:pt x="33" y="145"/>
                  <a:pt x="44" y="150"/>
                  <a:pt x="44" y="150"/>
                </a:cubicBezTo>
                <a:cubicBezTo>
                  <a:pt x="44" y="150"/>
                  <a:pt x="35" y="157"/>
                  <a:pt x="38" y="162"/>
                </a:cubicBezTo>
                <a:cubicBezTo>
                  <a:pt x="41" y="168"/>
                  <a:pt x="47" y="173"/>
                  <a:pt x="47" y="173"/>
                </a:cubicBezTo>
                <a:cubicBezTo>
                  <a:pt x="47" y="173"/>
                  <a:pt x="43" y="181"/>
                  <a:pt x="45" y="186"/>
                </a:cubicBezTo>
                <a:cubicBezTo>
                  <a:pt x="47" y="192"/>
                  <a:pt x="58" y="196"/>
                  <a:pt x="58" y="196"/>
                </a:cubicBezTo>
                <a:cubicBezTo>
                  <a:pt x="58" y="196"/>
                  <a:pt x="53" y="207"/>
                  <a:pt x="56" y="213"/>
                </a:cubicBezTo>
                <a:cubicBezTo>
                  <a:pt x="60" y="218"/>
                  <a:pt x="68" y="218"/>
                  <a:pt x="68" y="218"/>
                </a:cubicBezTo>
                <a:cubicBezTo>
                  <a:pt x="68" y="218"/>
                  <a:pt x="62" y="227"/>
                  <a:pt x="63" y="229"/>
                </a:cubicBezTo>
                <a:cubicBezTo>
                  <a:pt x="65" y="231"/>
                  <a:pt x="67" y="231"/>
                  <a:pt x="67" y="231"/>
                </a:cubicBezTo>
                <a:cubicBezTo>
                  <a:pt x="85" y="215"/>
                  <a:pt x="85" y="215"/>
                  <a:pt x="85" y="215"/>
                </a:cubicBezTo>
                <a:cubicBezTo>
                  <a:pt x="85" y="215"/>
                  <a:pt x="68" y="233"/>
                  <a:pt x="65" y="236"/>
                </a:cubicBezTo>
                <a:cubicBezTo>
                  <a:pt x="61" y="239"/>
                  <a:pt x="67" y="244"/>
                  <a:pt x="67" y="244"/>
                </a:cubicBezTo>
                <a:cubicBezTo>
                  <a:pt x="67" y="244"/>
                  <a:pt x="63" y="247"/>
                  <a:pt x="64" y="251"/>
                </a:cubicBezTo>
                <a:cubicBezTo>
                  <a:pt x="66" y="254"/>
                  <a:pt x="69" y="255"/>
                  <a:pt x="69" y="255"/>
                </a:cubicBezTo>
                <a:cubicBezTo>
                  <a:pt x="69" y="255"/>
                  <a:pt x="64" y="264"/>
                  <a:pt x="66" y="270"/>
                </a:cubicBezTo>
                <a:cubicBezTo>
                  <a:pt x="69" y="276"/>
                  <a:pt x="74" y="278"/>
                  <a:pt x="74" y="278"/>
                </a:cubicBezTo>
                <a:cubicBezTo>
                  <a:pt x="74" y="278"/>
                  <a:pt x="69" y="284"/>
                  <a:pt x="71" y="290"/>
                </a:cubicBezTo>
                <a:cubicBezTo>
                  <a:pt x="74" y="297"/>
                  <a:pt x="78" y="299"/>
                  <a:pt x="78" y="299"/>
                </a:cubicBezTo>
                <a:cubicBezTo>
                  <a:pt x="78" y="299"/>
                  <a:pt x="74" y="307"/>
                  <a:pt x="76" y="311"/>
                </a:cubicBezTo>
                <a:cubicBezTo>
                  <a:pt x="78" y="316"/>
                  <a:pt x="85" y="319"/>
                  <a:pt x="85" y="319"/>
                </a:cubicBezTo>
                <a:cubicBezTo>
                  <a:pt x="85" y="319"/>
                  <a:pt x="82" y="328"/>
                  <a:pt x="86" y="332"/>
                </a:cubicBezTo>
                <a:cubicBezTo>
                  <a:pt x="90" y="337"/>
                  <a:pt x="95" y="339"/>
                  <a:pt x="95" y="339"/>
                </a:cubicBezTo>
                <a:cubicBezTo>
                  <a:pt x="95" y="339"/>
                  <a:pt x="94" y="354"/>
                  <a:pt x="97" y="358"/>
                </a:cubicBezTo>
                <a:cubicBezTo>
                  <a:pt x="100" y="362"/>
                  <a:pt x="109" y="357"/>
                  <a:pt x="109" y="357"/>
                </a:cubicBezTo>
                <a:cubicBezTo>
                  <a:pt x="109" y="357"/>
                  <a:pt x="77" y="387"/>
                  <a:pt x="36" y="402"/>
                </a:cubicBezTo>
                <a:cubicBezTo>
                  <a:pt x="19" y="408"/>
                  <a:pt x="12" y="418"/>
                  <a:pt x="12" y="420"/>
                </a:cubicBezTo>
                <a:cubicBezTo>
                  <a:pt x="10" y="427"/>
                  <a:pt x="14" y="425"/>
                  <a:pt x="14" y="425"/>
                </a:cubicBezTo>
                <a:cubicBezTo>
                  <a:pt x="14" y="425"/>
                  <a:pt x="0" y="437"/>
                  <a:pt x="2" y="442"/>
                </a:cubicBezTo>
                <a:cubicBezTo>
                  <a:pt x="4" y="446"/>
                  <a:pt x="11" y="452"/>
                  <a:pt x="11" y="452"/>
                </a:cubicBezTo>
                <a:cubicBezTo>
                  <a:pt x="11" y="452"/>
                  <a:pt x="3" y="467"/>
                  <a:pt x="6" y="472"/>
                </a:cubicBezTo>
                <a:cubicBezTo>
                  <a:pt x="9" y="476"/>
                  <a:pt x="23" y="480"/>
                  <a:pt x="23" y="480"/>
                </a:cubicBezTo>
                <a:cubicBezTo>
                  <a:pt x="23" y="480"/>
                  <a:pt x="12" y="500"/>
                  <a:pt x="18" y="506"/>
                </a:cubicBezTo>
                <a:cubicBezTo>
                  <a:pt x="23" y="513"/>
                  <a:pt x="38" y="509"/>
                  <a:pt x="38" y="509"/>
                </a:cubicBezTo>
                <a:cubicBezTo>
                  <a:pt x="38" y="509"/>
                  <a:pt x="28" y="534"/>
                  <a:pt x="32" y="537"/>
                </a:cubicBezTo>
                <a:cubicBezTo>
                  <a:pt x="35" y="540"/>
                  <a:pt x="42" y="539"/>
                  <a:pt x="42" y="539"/>
                </a:cubicBezTo>
                <a:cubicBezTo>
                  <a:pt x="42" y="539"/>
                  <a:pt x="39" y="544"/>
                  <a:pt x="47" y="548"/>
                </a:cubicBezTo>
                <a:cubicBezTo>
                  <a:pt x="55" y="551"/>
                  <a:pt x="73" y="541"/>
                  <a:pt x="73" y="541"/>
                </a:cubicBezTo>
                <a:cubicBezTo>
                  <a:pt x="73" y="541"/>
                  <a:pt x="66" y="560"/>
                  <a:pt x="83" y="569"/>
                </a:cubicBezTo>
                <a:cubicBezTo>
                  <a:pt x="100" y="578"/>
                  <a:pt x="135" y="565"/>
                  <a:pt x="135" y="565"/>
                </a:cubicBezTo>
                <a:cubicBezTo>
                  <a:pt x="135" y="565"/>
                  <a:pt x="147" y="580"/>
                  <a:pt x="165" y="555"/>
                </a:cubicBezTo>
                <a:cubicBezTo>
                  <a:pt x="183" y="530"/>
                  <a:pt x="193" y="478"/>
                  <a:pt x="196" y="475"/>
                </a:cubicBezTo>
                <a:cubicBezTo>
                  <a:pt x="198" y="471"/>
                  <a:pt x="201" y="473"/>
                  <a:pt x="201" y="473"/>
                </a:cubicBezTo>
                <a:cubicBezTo>
                  <a:pt x="201" y="473"/>
                  <a:pt x="204" y="483"/>
                  <a:pt x="207" y="486"/>
                </a:cubicBezTo>
                <a:cubicBezTo>
                  <a:pt x="210" y="488"/>
                  <a:pt x="218" y="485"/>
                  <a:pt x="218" y="485"/>
                </a:cubicBezTo>
                <a:cubicBezTo>
                  <a:pt x="218" y="485"/>
                  <a:pt x="219" y="494"/>
                  <a:pt x="225" y="497"/>
                </a:cubicBezTo>
                <a:cubicBezTo>
                  <a:pt x="230" y="499"/>
                  <a:pt x="237" y="498"/>
                  <a:pt x="237" y="498"/>
                </a:cubicBezTo>
                <a:cubicBezTo>
                  <a:pt x="237" y="498"/>
                  <a:pt x="237" y="504"/>
                  <a:pt x="242" y="508"/>
                </a:cubicBezTo>
                <a:cubicBezTo>
                  <a:pt x="246" y="513"/>
                  <a:pt x="255" y="511"/>
                  <a:pt x="255" y="511"/>
                </a:cubicBezTo>
                <a:cubicBezTo>
                  <a:pt x="255" y="511"/>
                  <a:pt x="258" y="519"/>
                  <a:pt x="261" y="520"/>
                </a:cubicBezTo>
                <a:cubicBezTo>
                  <a:pt x="263" y="520"/>
                  <a:pt x="269" y="518"/>
                  <a:pt x="269" y="518"/>
                </a:cubicBezTo>
                <a:cubicBezTo>
                  <a:pt x="269" y="518"/>
                  <a:pt x="268" y="523"/>
                  <a:pt x="271" y="525"/>
                </a:cubicBezTo>
                <a:cubicBezTo>
                  <a:pt x="274" y="526"/>
                  <a:pt x="279" y="524"/>
                  <a:pt x="279" y="524"/>
                </a:cubicBezTo>
                <a:cubicBezTo>
                  <a:pt x="279" y="524"/>
                  <a:pt x="281" y="529"/>
                  <a:pt x="284" y="531"/>
                </a:cubicBezTo>
                <a:cubicBezTo>
                  <a:pt x="286" y="533"/>
                  <a:pt x="291" y="526"/>
                  <a:pt x="291" y="526"/>
                </a:cubicBezTo>
                <a:cubicBezTo>
                  <a:pt x="291" y="526"/>
                  <a:pt x="291" y="538"/>
                  <a:pt x="295" y="540"/>
                </a:cubicBezTo>
                <a:cubicBezTo>
                  <a:pt x="300" y="542"/>
                  <a:pt x="308" y="541"/>
                  <a:pt x="308" y="541"/>
                </a:cubicBezTo>
                <a:cubicBezTo>
                  <a:pt x="308" y="541"/>
                  <a:pt x="311" y="560"/>
                  <a:pt x="317" y="561"/>
                </a:cubicBezTo>
                <a:cubicBezTo>
                  <a:pt x="322" y="563"/>
                  <a:pt x="328" y="560"/>
                  <a:pt x="328" y="560"/>
                </a:cubicBezTo>
                <a:cubicBezTo>
                  <a:pt x="328" y="560"/>
                  <a:pt x="337" y="581"/>
                  <a:pt x="342" y="581"/>
                </a:cubicBezTo>
                <a:cubicBezTo>
                  <a:pt x="347" y="580"/>
                  <a:pt x="352" y="574"/>
                  <a:pt x="352" y="574"/>
                </a:cubicBezTo>
                <a:cubicBezTo>
                  <a:pt x="352" y="574"/>
                  <a:pt x="364" y="598"/>
                  <a:pt x="368" y="597"/>
                </a:cubicBezTo>
                <a:cubicBezTo>
                  <a:pt x="372" y="596"/>
                  <a:pt x="375" y="592"/>
                  <a:pt x="375" y="592"/>
                </a:cubicBezTo>
                <a:cubicBezTo>
                  <a:pt x="375" y="592"/>
                  <a:pt x="389" y="625"/>
                  <a:pt x="394" y="624"/>
                </a:cubicBezTo>
                <a:cubicBezTo>
                  <a:pt x="399" y="622"/>
                  <a:pt x="400" y="613"/>
                  <a:pt x="400" y="613"/>
                </a:cubicBezTo>
                <a:cubicBezTo>
                  <a:pt x="400" y="613"/>
                  <a:pt x="406" y="649"/>
                  <a:pt x="416" y="646"/>
                </a:cubicBezTo>
                <a:cubicBezTo>
                  <a:pt x="425" y="644"/>
                  <a:pt x="417" y="579"/>
                  <a:pt x="417" y="579"/>
                </a:cubicBezTo>
                <a:cubicBezTo>
                  <a:pt x="417" y="579"/>
                  <a:pt x="429" y="638"/>
                  <a:pt x="438" y="635"/>
                </a:cubicBezTo>
                <a:cubicBezTo>
                  <a:pt x="447" y="632"/>
                  <a:pt x="440" y="594"/>
                  <a:pt x="440" y="594"/>
                </a:cubicBezTo>
                <a:cubicBezTo>
                  <a:pt x="440" y="594"/>
                  <a:pt x="448" y="628"/>
                  <a:pt x="457" y="621"/>
                </a:cubicBezTo>
                <a:cubicBezTo>
                  <a:pt x="467" y="613"/>
                  <a:pt x="444" y="518"/>
                  <a:pt x="444" y="518"/>
                </a:cubicBezTo>
                <a:cubicBezTo>
                  <a:pt x="444" y="518"/>
                  <a:pt x="460" y="600"/>
                  <a:pt x="471" y="597"/>
                </a:cubicBezTo>
                <a:cubicBezTo>
                  <a:pt x="483" y="595"/>
                  <a:pt x="466" y="525"/>
                  <a:pt x="466" y="525"/>
                </a:cubicBezTo>
                <a:cubicBezTo>
                  <a:pt x="466" y="525"/>
                  <a:pt x="475" y="534"/>
                  <a:pt x="474" y="512"/>
                </a:cubicBezTo>
                <a:cubicBezTo>
                  <a:pt x="474" y="504"/>
                  <a:pt x="468" y="484"/>
                  <a:pt x="456" y="464"/>
                </a:cubicBezTo>
                <a:cubicBezTo>
                  <a:pt x="438" y="432"/>
                  <a:pt x="411" y="399"/>
                  <a:pt x="411" y="399"/>
                </a:cubicBezTo>
                <a:cubicBezTo>
                  <a:pt x="411" y="399"/>
                  <a:pt x="400" y="348"/>
                  <a:pt x="360" y="331"/>
                </a:cubicBezTo>
                <a:cubicBezTo>
                  <a:pt x="319" y="314"/>
                  <a:pt x="312" y="306"/>
                  <a:pt x="312" y="306"/>
                </a:cubicBezTo>
                <a:cubicBezTo>
                  <a:pt x="312" y="306"/>
                  <a:pt x="326" y="299"/>
                  <a:pt x="344" y="27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252"/>
          <p:cNvGrpSpPr/>
          <p:nvPr/>
        </p:nvGrpSpPr>
        <p:grpSpPr>
          <a:xfrm>
            <a:off x="2399760" y="4603320"/>
            <a:ext cx="838080" cy="396360"/>
            <a:chOff x="2399760" y="4603320"/>
            <a:chExt cx="838080" cy="396360"/>
          </a:xfrm>
        </p:grpSpPr>
        <p:grpSp>
          <p:nvGrpSpPr>
            <p:cNvPr id="288" name="Group 253"/>
            <p:cNvGrpSpPr/>
            <p:nvPr/>
          </p:nvGrpSpPr>
          <p:grpSpPr>
            <a:xfrm>
              <a:off x="2399760" y="4603320"/>
              <a:ext cx="838080" cy="396360"/>
              <a:chOff x="2399760" y="4603320"/>
              <a:chExt cx="838080" cy="396360"/>
            </a:xfrm>
          </p:grpSpPr>
          <p:sp>
            <p:nvSpPr>
              <p:cNvPr id="289" name="未知"/>
              <p:cNvSpPr/>
              <p:nvPr/>
            </p:nvSpPr>
            <p:spPr>
              <a:xfrm rot="21199800">
                <a:off x="2698920" y="4857120"/>
                <a:ext cx="176040" cy="132480"/>
              </a:xfrm>
              <a:custGeom>
                <a:avLst/>
                <a:gdLst/>
                <a:ahLst/>
                <a:rect l="l" t="t" r="r" b="b"/>
                <a:pathLst>
                  <a:path w="274" h="205">
                    <a:moveTo>
                      <a:pt x="274" y="33"/>
                    </a:moveTo>
                    <a:cubicBezTo>
                      <a:pt x="274" y="33"/>
                      <a:pt x="266" y="55"/>
                      <a:pt x="258" y="71"/>
                    </a:cubicBezTo>
                    <a:cubicBezTo>
                      <a:pt x="248" y="87"/>
                      <a:pt x="230" y="95"/>
                      <a:pt x="230" y="95"/>
                    </a:cubicBezTo>
                    <a:cubicBezTo>
                      <a:pt x="164" y="171"/>
                      <a:pt x="164" y="171"/>
                      <a:pt x="164" y="171"/>
                    </a:cubicBezTo>
                    <a:cubicBezTo>
                      <a:pt x="220" y="179"/>
                      <a:pt x="220" y="179"/>
                      <a:pt x="220" y="179"/>
                    </a:cubicBezTo>
                    <a:cubicBezTo>
                      <a:pt x="222" y="185"/>
                      <a:pt x="222" y="185"/>
                      <a:pt x="222" y="185"/>
                    </a:cubicBezTo>
                    <a:cubicBezTo>
                      <a:pt x="164" y="179"/>
                      <a:pt x="164" y="179"/>
                      <a:pt x="164" y="179"/>
                    </a:cubicBezTo>
                    <a:cubicBezTo>
                      <a:pt x="148" y="189"/>
                      <a:pt x="148" y="189"/>
                      <a:pt x="148" y="189"/>
                    </a:cubicBezTo>
                    <a:cubicBezTo>
                      <a:pt x="148" y="179"/>
                      <a:pt x="148" y="179"/>
                      <a:pt x="148" y="179"/>
                    </a:cubicBezTo>
                    <a:cubicBezTo>
                      <a:pt x="134" y="173"/>
                      <a:pt x="134" y="173"/>
                      <a:pt x="134" y="173"/>
                    </a:cubicBezTo>
                    <a:cubicBezTo>
                      <a:pt x="134" y="173"/>
                      <a:pt x="200" y="107"/>
                      <a:pt x="206" y="89"/>
                    </a:cubicBezTo>
                    <a:cubicBezTo>
                      <a:pt x="210" y="71"/>
                      <a:pt x="206" y="41"/>
                      <a:pt x="206" y="41"/>
                    </a:cubicBezTo>
                    <a:cubicBezTo>
                      <a:pt x="206" y="41"/>
                      <a:pt x="200" y="57"/>
                      <a:pt x="174" y="93"/>
                    </a:cubicBezTo>
                    <a:cubicBezTo>
                      <a:pt x="148" y="129"/>
                      <a:pt x="132" y="163"/>
                      <a:pt x="132" y="163"/>
                    </a:cubicBezTo>
                    <a:cubicBezTo>
                      <a:pt x="134" y="187"/>
                      <a:pt x="134" y="187"/>
                      <a:pt x="134" y="187"/>
                    </a:cubicBezTo>
                    <a:cubicBezTo>
                      <a:pt x="124" y="179"/>
                      <a:pt x="124" y="179"/>
                      <a:pt x="124" y="179"/>
                    </a:cubicBezTo>
                    <a:cubicBezTo>
                      <a:pt x="86" y="187"/>
                      <a:pt x="86" y="187"/>
                      <a:pt x="86" y="187"/>
                    </a:cubicBezTo>
                    <a:cubicBezTo>
                      <a:pt x="84" y="199"/>
                      <a:pt x="84" y="199"/>
                      <a:pt x="84" y="199"/>
                    </a:cubicBezTo>
                    <a:cubicBezTo>
                      <a:pt x="78" y="187"/>
                      <a:pt x="78" y="187"/>
                      <a:pt x="78" y="187"/>
                    </a:cubicBezTo>
                    <a:cubicBezTo>
                      <a:pt x="0" y="205"/>
                      <a:pt x="0" y="205"/>
                      <a:pt x="0" y="205"/>
                    </a:cubicBezTo>
                    <a:cubicBezTo>
                      <a:pt x="0" y="205"/>
                      <a:pt x="6" y="191"/>
                      <a:pt x="38" y="183"/>
                    </a:cubicBezTo>
                    <a:cubicBezTo>
                      <a:pt x="54" y="179"/>
                      <a:pt x="62" y="177"/>
                      <a:pt x="76" y="175"/>
                    </a:cubicBezTo>
                    <a:cubicBezTo>
                      <a:pt x="92" y="171"/>
                      <a:pt x="104" y="165"/>
                      <a:pt x="104" y="165"/>
                    </a:cubicBezTo>
                    <a:cubicBezTo>
                      <a:pt x="104" y="165"/>
                      <a:pt x="140" y="123"/>
                      <a:pt x="148" y="89"/>
                    </a:cubicBezTo>
                    <a:cubicBezTo>
                      <a:pt x="154" y="55"/>
                      <a:pt x="130" y="9"/>
                      <a:pt x="130" y="9"/>
                    </a:cubicBezTo>
                    <a:cubicBezTo>
                      <a:pt x="151" y="0"/>
                      <a:pt x="253" y="23"/>
                      <a:pt x="274" y="3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 rot="21268200">
                <a:off x="2411280" y="4641840"/>
                <a:ext cx="814680" cy="281880"/>
              </a:xfrm>
              <a:custGeom>
                <a:avLst/>
                <a:gdLst/>
                <a:ahLst/>
                <a:rect l="l" t="t" r="r" b="b"/>
                <a:pathLst>
                  <a:path w="1267" h="436">
                    <a:moveTo>
                      <a:pt x="229" y="340"/>
                    </a:moveTo>
                    <a:cubicBezTo>
                      <a:pt x="146" y="330"/>
                      <a:pt x="105" y="361"/>
                      <a:pt x="105" y="361"/>
                    </a:cubicBezTo>
                    <a:cubicBezTo>
                      <a:pt x="105" y="361"/>
                      <a:pt x="99" y="361"/>
                      <a:pt x="72" y="385"/>
                    </a:cubicBezTo>
                    <a:cubicBezTo>
                      <a:pt x="46" y="410"/>
                      <a:pt x="31" y="436"/>
                      <a:pt x="31" y="436"/>
                    </a:cubicBezTo>
                    <a:cubicBezTo>
                      <a:pt x="31" y="436"/>
                      <a:pt x="0" y="418"/>
                      <a:pt x="24" y="373"/>
                    </a:cubicBezTo>
                    <a:cubicBezTo>
                      <a:pt x="47" y="329"/>
                      <a:pt x="54" y="291"/>
                      <a:pt x="54" y="291"/>
                    </a:cubicBezTo>
                    <a:cubicBezTo>
                      <a:pt x="54" y="291"/>
                      <a:pt x="63" y="201"/>
                      <a:pt x="135" y="165"/>
                    </a:cubicBezTo>
                    <a:cubicBezTo>
                      <a:pt x="208" y="128"/>
                      <a:pt x="270" y="120"/>
                      <a:pt x="347" y="105"/>
                    </a:cubicBezTo>
                    <a:cubicBezTo>
                      <a:pt x="396" y="97"/>
                      <a:pt x="582" y="37"/>
                      <a:pt x="731" y="13"/>
                    </a:cubicBezTo>
                    <a:cubicBezTo>
                      <a:pt x="828" y="0"/>
                      <a:pt x="917" y="15"/>
                      <a:pt x="917" y="15"/>
                    </a:cubicBezTo>
                    <a:cubicBezTo>
                      <a:pt x="880" y="43"/>
                      <a:pt x="880" y="43"/>
                      <a:pt x="880" y="43"/>
                    </a:cubicBezTo>
                    <a:cubicBezTo>
                      <a:pt x="880" y="43"/>
                      <a:pt x="1043" y="23"/>
                      <a:pt x="1125" y="14"/>
                    </a:cubicBezTo>
                    <a:cubicBezTo>
                      <a:pt x="1208" y="9"/>
                      <a:pt x="1258" y="26"/>
                      <a:pt x="1263" y="32"/>
                    </a:cubicBezTo>
                    <a:cubicBezTo>
                      <a:pt x="1267" y="37"/>
                      <a:pt x="1167" y="90"/>
                      <a:pt x="1167" y="90"/>
                    </a:cubicBezTo>
                    <a:cubicBezTo>
                      <a:pt x="1241" y="92"/>
                      <a:pt x="1241" y="92"/>
                      <a:pt x="1241" y="92"/>
                    </a:cubicBezTo>
                    <a:cubicBezTo>
                      <a:pt x="1241" y="92"/>
                      <a:pt x="1217" y="107"/>
                      <a:pt x="1148" y="122"/>
                    </a:cubicBezTo>
                    <a:cubicBezTo>
                      <a:pt x="1120" y="127"/>
                      <a:pt x="1060" y="140"/>
                      <a:pt x="1008" y="159"/>
                    </a:cubicBezTo>
                    <a:cubicBezTo>
                      <a:pt x="966" y="174"/>
                      <a:pt x="910" y="201"/>
                      <a:pt x="871" y="233"/>
                    </a:cubicBezTo>
                    <a:cubicBezTo>
                      <a:pt x="834" y="260"/>
                      <a:pt x="812" y="289"/>
                      <a:pt x="812" y="289"/>
                    </a:cubicBezTo>
                    <a:cubicBezTo>
                      <a:pt x="795" y="307"/>
                      <a:pt x="789" y="310"/>
                      <a:pt x="768" y="323"/>
                    </a:cubicBezTo>
                    <a:cubicBezTo>
                      <a:pt x="750" y="321"/>
                      <a:pt x="724" y="357"/>
                      <a:pt x="688" y="366"/>
                    </a:cubicBezTo>
                    <a:cubicBezTo>
                      <a:pt x="688" y="366"/>
                      <a:pt x="631" y="380"/>
                      <a:pt x="552" y="393"/>
                    </a:cubicBezTo>
                    <a:cubicBezTo>
                      <a:pt x="472" y="408"/>
                      <a:pt x="363" y="364"/>
                      <a:pt x="363" y="364"/>
                    </a:cubicBezTo>
                    <a:cubicBezTo>
                      <a:pt x="363" y="364"/>
                      <a:pt x="312" y="350"/>
                      <a:pt x="229" y="34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56"/>
            <p:cNvGrpSpPr/>
            <p:nvPr/>
          </p:nvGrpSpPr>
          <p:grpSpPr>
            <a:xfrm>
              <a:off x="2486160" y="4821480"/>
              <a:ext cx="47520" cy="46440"/>
              <a:chOff x="2486160" y="4821480"/>
              <a:chExt cx="47520" cy="46440"/>
            </a:xfrm>
          </p:grpSpPr>
          <p:sp>
            <p:nvSpPr>
              <p:cNvPr id="292" name="未知"/>
              <p:cNvSpPr/>
              <p:nvPr/>
            </p:nvSpPr>
            <p:spPr>
              <a:xfrm rot="19200000">
                <a:off x="2490480" y="483012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169" h="106">
                    <a:moveTo>
                      <a:pt x="52" y="70"/>
                    </a:moveTo>
                    <a:cubicBezTo>
                      <a:pt x="59" y="90"/>
                      <a:pt x="74" y="106"/>
                      <a:pt x="96" y="106"/>
                    </a:cubicBezTo>
                    <a:cubicBezTo>
                      <a:pt x="87" y="105"/>
                      <a:pt x="80" y="97"/>
                      <a:pt x="74" y="91"/>
                    </a:cubicBezTo>
                    <a:cubicBezTo>
                      <a:pt x="71" y="88"/>
                      <a:pt x="69" y="83"/>
                      <a:pt x="66" y="80"/>
                    </a:cubicBezTo>
                    <a:cubicBezTo>
                      <a:pt x="63" y="77"/>
                      <a:pt x="59" y="76"/>
                      <a:pt x="59" y="71"/>
                    </a:cubicBezTo>
                    <a:cubicBezTo>
                      <a:pt x="65" y="73"/>
                      <a:pt x="71" y="74"/>
                      <a:pt x="77" y="77"/>
                    </a:cubicBezTo>
                    <a:cubicBezTo>
                      <a:pt x="83" y="80"/>
                      <a:pt x="87" y="82"/>
                      <a:pt x="94" y="82"/>
                    </a:cubicBezTo>
                    <a:cubicBezTo>
                      <a:pt x="101" y="82"/>
                      <a:pt x="107" y="82"/>
                      <a:pt x="113" y="84"/>
                    </a:cubicBezTo>
                    <a:cubicBezTo>
                      <a:pt x="116" y="85"/>
                      <a:pt x="119" y="85"/>
                      <a:pt x="122" y="86"/>
                    </a:cubicBezTo>
                    <a:cubicBezTo>
                      <a:pt x="125" y="87"/>
                      <a:pt x="127" y="89"/>
                      <a:pt x="130" y="89"/>
                    </a:cubicBezTo>
                    <a:cubicBezTo>
                      <a:pt x="119" y="88"/>
                      <a:pt x="111" y="79"/>
                      <a:pt x="101" y="76"/>
                    </a:cubicBezTo>
                    <a:cubicBezTo>
                      <a:pt x="93" y="74"/>
                      <a:pt x="85" y="71"/>
                      <a:pt x="77" y="68"/>
                    </a:cubicBezTo>
                    <a:cubicBezTo>
                      <a:pt x="84" y="66"/>
                      <a:pt x="92" y="64"/>
                      <a:pt x="98" y="62"/>
                    </a:cubicBezTo>
                    <a:cubicBezTo>
                      <a:pt x="102" y="61"/>
                      <a:pt x="105" y="60"/>
                      <a:pt x="109" y="58"/>
                    </a:cubicBezTo>
                    <a:cubicBezTo>
                      <a:pt x="114" y="57"/>
                      <a:pt x="116" y="58"/>
                      <a:pt x="121" y="58"/>
                    </a:cubicBezTo>
                    <a:cubicBezTo>
                      <a:pt x="129" y="59"/>
                      <a:pt x="137" y="59"/>
                      <a:pt x="145" y="60"/>
                    </a:cubicBezTo>
                    <a:cubicBezTo>
                      <a:pt x="147" y="60"/>
                      <a:pt x="150" y="60"/>
                      <a:pt x="153" y="60"/>
                    </a:cubicBezTo>
                    <a:cubicBezTo>
                      <a:pt x="158" y="60"/>
                      <a:pt x="164" y="59"/>
                      <a:pt x="168" y="63"/>
                    </a:cubicBezTo>
                    <a:cubicBezTo>
                      <a:pt x="160" y="60"/>
                      <a:pt x="153" y="58"/>
                      <a:pt x="145" y="55"/>
                    </a:cubicBezTo>
                    <a:cubicBezTo>
                      <a:pt x="138" y="53"/>
                      <a:pt x="128" y="52"/>
                      <a:pt x="123" y="48"/>
                    </a:cubicBezTo>
                    <a:cubicBezTo>
                      <a:pt x="134" y="45"/>
                      <a:pt x="143" y="44"/>
                      <a:pt x="153" y="35"/>
                    </a:cubicBezTo>
                    <a:cubicBezTo>
                      <a:pt x="159" y="29"/>
                      <a:pt x="165" y="23"/>
                      <a:pt x="169" y="15"/>
                    </a:cubicBezTo>
                    <a:cubicBezTo>
                      <a:pt x="162" y="14"/>
                      <a:pt x="154" y="14"/>
                      <a:pt x="148" y="13"/>
                    </a:cubicBezTo>
                    <a:cubicBezTo>
                      <a:pt x="144" y="12"/>
                      <a:pt x="140" y="12"/>
                      <a:pt x="136" y="12"/>
                    </a:cubicBezTo>
                    <a:cubicBezTo>
                      <a:pt x="132" y="11"/>
                      <a:pt x="130" y="10"/>
                      <a:pt x="126" y="9"/>
                    </a:cubicBezTo>
                    <a:cubicBezTo>
                      <a:pt x="118" y="8"/>
                      <a:pt x="111" y="9"/>
                      <a:pt x="104" y="10"/>
                    </a:cubicBezTo>
                    <a:cubicBezTo>
                      <a:pt x="96" y="11"/>
                      <a:pt x="89" y="13"/>
                      <a:pt x="81" y="12"/>
                    </a:cubicBezTo>
                    <a:cubicBezTo>
                      <a:pt x="81" y="6"/>
                      <a:pt x="90" y="2"/>
                      <a:pt x="94" y="0"/>
                    </a:cubicBezTo>
                    <a:cubicBezTo>
                      <a:pt x="75" y="0"/>
                      <a:pt x="52" y="8"/>
                      <a:pt x="38" y="20"/>
                    </a:cubicBezTo>
                    <a:cubicBezTo>
                      <a:pt x="33" y="24"/>
                      <a:pt x="28" y="28"/>
                      <a:pt x="24" y="32"/>
                    </a:cubicBezTo>
                    <a:cubicBezTo>
                      <a:pt x="17" y="37"/>
                      <a:pt x="7" y="44"/>
                      <a:pt x="3" y="53"/>
                    </a:cubicBezTo>
                    <a:cubicBezTo>
                      <a:pt x="2" y="57"/>
                      <a:pt x="0" y="67"/>
                      <a:pt x="6" y="69"/>
                    </a:cubicBezTo>
                    <a:cubicBezTo>
                      <a:pt x="9" y="70"/>
                      <a:pt x="14" y="66"/>
                      <a:pt x="17" y="64"/>
                    </a:cubicBezTo>
                    <a:cubicBezTo>
                      <a:pt x="21" y="62"/>
                      <a:pt x="26" y="59"/>
                      <a:pt x="32" y="58"/>
                    </a:cubicBezTo>
                    <a:cubicBezTo>
                      <a:pt x="41" y="57"/>
                      <a:pt x="48" y="62"/>
                      <a:pt x="52" y="7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 rot="19200000">
                <a:off x="2489760" y="4835160"/>
                <a:ext cx="33840" cy="1224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149" y="5"/>
                    </a:moveTo>
                    <a:cubicBezTo>
                      <a:pt x="148" y="4"/>
                      <a:pt x="142" y="10"/>
                      <a:pt x="141" y="11"/>
                    </a:cubicBezTo>
                    <a:cubicBezTo>
                      <a:pt x="116" y="23"/>
                      <a:pt x="93" y="40"/>
                      <a:pt x="65" y="42"/>
                    </a:cubicBezTo>
                    <a:cubicBezTo>
                      <a:pt x="58" y="43"/>
                      <a:pt x="52" y="38"/>
                      <a:pt x="44" y="36"/>
                    </a:cubicBezTo>
                    <a:cubicBezTo>
                      <a:pt x="30" y="33"/>
                      <a:pt x="13" y="38"/>
                      <a:pt x="0" y="45"/>
                    </a:cubicBezTo>
                    <a:cubicBezTo>
                      <a:pt x="4" y="43"/>
                      <a:pt x="7" y="37"/>
                      <a:pt x="9" y="33"/>
                    </a:cubicBezTo>
                    <a:cubicBezTo>
                      <a:pt x="13" y="29"/>
                      <a:pt x="17" y="25"/>
                      <a:pt x="21" y="21"/>
                    </a:cubicBezTo>
                    <a:cubicBezTo>
                      <a:pt x="28" y="14"/>
                      <a:pt x="41" y="7"/>
                      <a:pt x="50" y="4"/>
                    </a:cubicBezTo>
                    <a:cubicBezTo>
                      <a:pt x="67" y="0"/>
                      <a:pt x="84" y="3"/>
                      <a:pt x="101" y="4"/>
                    </a:cubicBezTo>
                    <a:cubicBezTo>
                      <a:pt x="108" y="4"/>
                      <a:pt x="114" y="4"/>
                      <a:pt x="120" y="4"/>
                    </a:cubicBezTo>
                    <a:cubicBezTo>
                      <a:pt x="130" y="3"/>
                      <a:pt x="140" y="3"/>
                      <a:pt x="149" y="5"/>
                    </a:cubicBezTo>
                  </a:path>
                </a:pathLst>
              </a:custGeom>
              <a:solidFill>
                <a:srgbClr val="f37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 rot="19200000">
                <a:off x="2513520" y="48279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5" y="0"/>
                    </a:moveTo>
                    <a:cubicBezTo>
                      <a:pt x="4" y="0"/>
                      <a:pt x="2" y="0"/>
                      <a:pt x="0" y="0"/>
                    </a:cubicBezTo>
                    <a:cubicBezTo>
                      <a:pt x="2" y="3"/>
                      <a:pt x="3" y="6"/>
                      <a:pt x="4" y="10"/>
                    </a:cubicBezTo>
                    <a:cubicBezTo>
                      <a:pt x="4" y="10"/>
                      <a:pt x="4" y="11"/>
                      <a:pt x="4" y="12"/>
                    </a:cubicBezTo>
                    <a:cubicBezTo>
                      <a:pt x="7" y="10"/>
                      <a:pt x="10" y="9"/>
                      <a:pt x="13" y="8"/>
                    </a:cubicBezTo>
                    <a:cubicBezTo>
                      <a:pt x="14" y="7"/>
                      <a:pt x="20" y="2"/>
                      <a:pt x="21" y="2"/>
                    </a:cubicBezTo>
                    <a:cubicBezTo>
                      <a:pt x="21" y="2"/>
                      <a:pt x="21" y="2"/>
                      <a:pt x="21" y="2"/>
                    </a:cubicBezTo>
                    <a:cubicBezTo>
                      <a:pt x="16" y="1"/>
                      <a:pt x="11" y="0"/>
                      <a:pt x="5" y="0"/>
                    </a:cubicBezTo>
                  </a:path>
                </a:pathLst>
              </a:custGeom>
              <a:solidFill>
                <a:srgbClr val="5b2d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 rot="19200000">
                <a:off x="2513880" y="4829400"/>
                <a:ext cx="720" cy="324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3"/>
                      <a:pt x="3" y="6"/>
                      <a:pt x="3" y="10"/>
                    </a:cubicBezTo>
                    <a:cubicBezTo>
                      <a:pt x="4" y="11"/>
                      <a:pt x="4" y="11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1"/>
                      <a:pt x="4" y="10"/>
                      <a:pt x="4" y="10"/>
                    </a:cubicBezTo>
                    <a:cubicBezTo>
                      <a:pt x="3" y="6"/>
                      <a:pt x="2" y="3"/>
                      <a:pt x="0" y="0"/>
                    </a:cubicBezTo>
                  </a:path>
                </a:pathLst>
              </a:custGeom>
              <a:solidFill>
                <a:srgbClr val="5b2d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 rot="19200000">
                <a:off x="2513880" y="482904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2" y="3"/>
                      <a:pt x="3" y="7"/>
                      <a:pt x="4" y="10"/>
                    </a:cubicBezTo>
                    <a:cubicBezTo>
                      <a:pt x="4" y="11"/>
                      <a:pt x="4" y="12"/>
                      <a:pt x="4" y="12"/>
                    </a:cubicBezTo>
                    <a:cubicBezTo>
                      <a:pt x="4" y="12"/>
                      <a:pt x="5" y="12"/>
                      <a:pt x="5" y="12"/>
                    </a:cubicBezTo>
                    <a:cubicBezTo>
                      <a:pt x="5" y="11"/>
                      <a:pt x="5" y="11"/>
                      <a:pt x="4" y="10"/>
                    </a:cubicBezTo>
                    <a:cubicBezTo>
                      <a:pt x="4" y="6"/>
                      <a:pt x="2" y="3"/>
                      <a:pt x="1" y="0"/>
                    </a:cubicBezTo>
                  </a:path>
                </a:pathLst>
              </a:custGeom>
              <a:solidFill>
                <a:srgbClr val="5b2d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 rot="19200000">
                <a:off x="2513880" y="4829400"/>
                <a:ext cx="720" cy="32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3" y="7"/>
                      <a:pt x="4" y="10"/>
                    </a:cubicBezTo>
                    <a:cubicBezTo>
                      <a:pt x="4" y="11"/>
                      <a:pt x="4" y="12"/>
                      <a:pt x="4" y="13"/>
                    </a:cubicBezTo>
                    <a:cubicBezTo>
                      <a:pt x="4" y="13"/>
                      <a:pt x="4" y="13"/>
                      <a:pt x="4" y="12"/>
                    </a:cubicBezTo>
                    <a:cubicBezTo>
                      <a:pt x="4" y="12"/>
                      <a:pt x="4" y="11"/>
                      <a:pt x="4" y="10"/>
                    </a:cubicBezTo>
                    <a:cubicBezTo>
                      <a:pt x="3" y="7"/>
                      <a:pt x="2" y="3"/>
                      <a:pt x="0" y="0"/>
                    </a:cubicBezTo>
                  </a:path>
                </a:pathLst>
              </a:custGeom>
              <a:solidFill>
                <a:srgbClr val="5c2d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 rot="19200000">
                <a:off x="2513520" y="482904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2" y="3"/>
                      <a:pt x="3" y="7"/>
                      <a:pt x="4" y="10"/>
                    </a:cubicBezTo>
                    <a:cubicBezTo>
                      <a:pt x="4" y="11"/>
                      <a:pt x="4" y="12"/>
                      <a:pt x="4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1"/>
                      <a:pt x="5" y="10"/>
                    </a:cubicBezTo>
                    <a:cubicBezTo>
                      <a:pt x="4" y="7"/>
                      <a:pt x="3" y="3"/>
                      <a:pt x="1" y="0"/>
                    </a:cubicBezTo>
                  </a:path>
                </a:pathLst>
              </a:custGeom>
              <a:solidFill>
                <a:srgbClr val="5d2d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 rot="19200000">
                <a:off x="2513520" y="4829400"/>
                <a:ext cx="720" cy="32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3" y="7"/>
                      <a:pt x="4" y="10"/>
                    </a:cubicBezTo>
                    <a:cubicBezTo>
                      <a:pt x="4" y="11"/>
                      <a:pt x="4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2"/>
                      <a:pt x="4" y="11"/>
                      <a:pt x="4" y="10"/>
                    </a:cubicBezTo>
                    <a:cubicBezTo>
                      <a:pt x="3" y="7"/>
                      <a:pt x="2" y="3"/>
                      <a:pt x="0" y="0"/>
                    </a:cubicBezTo>
                  </a:path>
                </a:pathLst>
              </a:custGeom>
              <a:solidFill>
                <a:srgbClr val="5d2e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 rot="19200000">
                <a:off x="2513520" y="4829760"/>
                <a:ext cx="720" cy="32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2" y="3"/>
                      <a:pt x="3" y="7"/>
                      <a:pt x="4" y="10"/>
                    </a:cubicBezTo>
                    <a:cubicBezTo>
                      <a:pt x="4" y="11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1"/>
                      <a:pt x="5" y="10"/>
                    </a:cubicBezTo>
                    <a:cubicBezTo>
                      <a:pt x="4" y="7"/>
                      <a:pt x="3" y="3"/>
                      <a:pt x="1" y="0"/>
                    </a:cubicBezTo>
                  </a:path>
                </a:pathLst>
              </a:custGeom>
              <a:solidFill>
                <a:srgbClr val="5e2e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 rot="19200000">
                <a:off x="2513520" y="4829760"/>
                <a:ext cx="72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3" y="7"/>
                      <a:pt x="4" y="10"/>
                    </a:cubicBezTo>
                    <a:cubicBezTo>
                      <a:pt x="4" y="11"/>
                      <a:pt x="4" y="13"/>
                      <a:pt x="4" y="14"/>
                    </a:cubicBezTo>
                    <a:cubicBezTo>
                      <a:pt x="4" y="14"/>
                      <a:pt x="4" y="13"/>
                      <a:pt x="5" y="13"/>
                    </a:cubicBezTo>
                    <a:cubicBezTo>
                      <a:pt x="5" y="12"/>
                      <a:pt x="4" y="11"/>
                      <a:pt x="4" y="10"/>
                    </a:cubicBezTo>
                    <a:cubicBezTo>
                      <a:pt x="3" y="7"/>
                      <a:pt x="2" y="3"/>
                      <a:pt x="0" y="0"/>
                    </a:cubicBezTo>
                  </a:path>
                </a:pathLst>
              </a:custGeom>
              <a:solidFill>
                <a:srgbClr val="5f2e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 rot="19200000">
                <a:off x="2513520" y="482940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2" y="4"/>
                      <a:pt x="4" y="7"/>
                      <a:pt x="4" y="10"/>
                    </a:cubicBezTo>
                    <a:cubicBezTo>
                      <a:pt x="5" y="12"/>
                      <a:pt x="5" y="13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3"/>
                      <a:pt x="5" y="11"/>
                      <a:pt x="5" y="10"/>
                    </a:cubicBezTo>
                    <a:cubicBezTo>
                      <a:pt x="4" y="7"/>
                      <a:pt x="3" y="4"/>
                      <a:pt x="1" y="0"/>
                    </a:cubicBezTo>
                  </a:path>
                </a:pathLst>
              </a:custGeom>
              <a:solidFill>
                <a:srgbClr val="602f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 rot="19200000">
                <a:off x="2513520" y="482940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2" y="4"/>
                      <a:pt x="3" y="7"/>
                      <a:pt x="4" y="11"/>
                    </a:cubicBezTo>
                    <a:cubicBezTo>
                      <a:pt x="4" y="12"/>
                      <a:pt x="4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5" y="13"/>
                      <a:pt x="5" y="12"/>
                      <a:pt x="4" y="10"/>
                    </a:cubicBezTo>
                    <a:cubicBezTo>
                      <a:pt x="4" y="7"/>
                      <a:pt x="2" y="4"/>
                      <a:pt x="0" y="0"/>
                    </a:cubicBezTo>
                  </a:path>
                </a:pathLst>
              </a:custGeom>
              <a:solidFill>
                <a:srgbClr val="612f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 rot="19200000">
                <a:off x="2513520" y="482976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2" y="3"/>
                      <a:pt x="4" y="6"/>
                      <a:pt x="4" y="10"/>
                    </a:cubicBezTo>
                    <a:cubicBezTo>
                      <a:pt x="5" y="11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1"/>
                      <a:pt x="5" y="10"/>
                    </a:cubicBezTo>
                    <a:cubicBezTo>
                      <a:pt x="4" y="6"/>
                      <a:pt x="3" y="3"/>
                      <a:pt x="1" y="0"/>
                    </a:cubicBezTo>
                  </a:path>
                </a:pathLst>
              </a:custGeom>
              <a:solidFill>
                <a:srgbClr val="612f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 rot="19200000">
                <a:off x="2513520" y="482976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3" y="6"/>
                      <a:pt x="4" y="10"/>
                    </a:cubicBezTo>
                    <a:cubicBezTo>
                      <a:pt x="4" y="11"/>
                      <a:pt x="4" y="12"/>
                      <a:pt x="4" y="14"/>
                    </a:cubicBezTo>
                    <a:cubicBezTo>
                      <a:pt x="5" y="14"/>
                      <a:pt x="5" y="13"/>
                      <a:pt x="5" y="13"/>
                    </a:cubicBezTo>
                    <a:cubicBezTo>
                      <a:pt x="5" y="12"/>
                      <a:pt x="5" y="11"/>
                      <a:pt x="4" y="10"/>
                    </a:cubicBezTo>
                    <a:cubicBezTo>
                      <a:pt x="4" y="6"/>
                      <a:pt x="2" y="3"/>
                      <a:pt x="0" y="0"/>
                    </a:cubicBezTo>
                  </a:path>
                </a:pathLst>
              </a:custGeom>
              <a:solidFill>
                <a:srgbClr val="623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 rot="19200000">
                <a:off x="2498400" y="48571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623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 rot="19200000">
                <a:off x="2513520" y="4830120"/>
                <a:ext cx="72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2" y="3"/>
                      <a:pt x="4" y="6"/>
                      <a:pt x="5" y="10"/>
                    </a:cubicBezTo>
                    <a:cubicBezTo>
                      <a:pt x="5" y="11"/>
                      <a:pt x="5" y="13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2"/>
                      <a:pt x="5" y="11"/>
                      <a:pt x="5" y="10"/>
                    </a:cubicBezTo>
                    <a:cubicBezTo>
                      <a:pt x="4" y="6"/>
                      <a:pt x="3" y="3"/>
                      <a:pt x="1" y="0"/>
                    </a:cubicBezTo>
                  </a:path>
                </a:pathLst>
              </a:custGeom>
              <a:solidFill>
                <a:srgbClr val="633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 rot="19200000">
                <a:off x="2498400" y="48571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633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未知"/>
              <p:cNvSpPr/>
              <p:nvPr/>
            </p:nvSpPr>
            <p:spPr>
              <a:xfrm rot="19200000">
                <a:off x="2513520" y="4830120"/>
                <a:ext cx="72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3" y="6"/>
                      <a:pt x="4" y="10"/>
                    </a:cubicBezTo>
                    <a:cubicBezTo>
                      <a:pt x="4" y="11"/>
                      <a:pt x="5" y="13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3"/>
                      <a:pt x="5" y="11"/>
                      <a:pt x="5" y="10"/>
                    </a:cubicBezTo>
                    <a:cubicBezTo>
                      <a:pt x="4" y="6"/>
                      <a:pt x="2" y="3"/>
                      <a:pt x="0" y="0"/>
                    </a:cubicBezTo>
                  </a:path>
                </a:pathLst>
              </a:custGeom>
              <a:solidFill>
                <a:srgbClr val="6431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275"/>
              <p:cNvSpPr/>
              <p:nvPr/>
            </p:nvSpPr>
            <p:spPr>
              <a:xfrm rot="19200000">
                <a:off x="2498400" y="4857120"/>
                <a:ext cx="360" cy="360"/>
              </a:xfrm>
              <a:prstGeom prst="ellipse">
                <a:avLst/>
              </a:prstGeom>
              <a:solidFill>
                <a:srgbClr val="6431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未知"/>
              <p:cNvSpPr/>
              <p:nvPr/>
            </p:nvSpPr>
            <p:spPr>
              <a:xfrm rot="19200000">
                <a:off x="2513160" y="483012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2" y="3"/>
                      <a:pt x="4" y="6"/>
                      <a:pt x="5" y="10"/>
                    </a:cubicBezTo>
                    <a:cubicBezTo>
                      <a:pt x="5" y="11"/>
                      <a:pt x="5" y="13"/>
                      <a:pt x="5" y="14"/>
                    </a:cubicBezTo>
                    <a:cubicBezTo>
                      <a:pt x="5" y="14"/>
                      <a:pt x="5" y="14"/>
                      <a:pt x="6" y="14"/>
                    </a:cubicBezTo>
                    <a:cubicBezTo>
                      <a:pt x="6" y="13"/>
                      <a:pt x="5" y="11"/>
                      <a:pt x="5" y="10"/>
                    </a:cubicBezTo>
                    <a:cubicBezTo>
                      <a:pt x="4" y="6"/>
                      <a:pt x="3" y="3"/>
                      <a:pt x="1" y="0"/>
                    </a:cubicBezTo>
                  </a:path>
                </a:pathLst>
              </a:custGeom>
              <a:solidFill>
                <a:srgbClr val="6431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未知"/>
              <p:cNvSpPr/>
              <p:nvPr/>
            </p:nvSpPr>
            <p:spPr>
              <a:xfrm rot="19200000">
                <a:off x="2498400" y="4856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6431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 rot="19200000">
                <a:off x="2513520" y="48301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3" y="6"/>
                      <a:pt x="4" y="10"/>
                    </a:cubicBezTo>
                    <a:cubicBezTo>
                      <a:pt x="4" y="12"/>
                      <a:pt x="5" y="13"/>
                      <a:pt x="5" y="15"/>
                    </a:cubicBezTo>
                    <a:cubicBezTo>
                      <a:pt x="5" y="15"/>
                      <a:pt x="5" y="14"/>
                      <a:pt x="5" y="14"/>
                    </a:cubicBezTo>
                    <a:cubicBezTo>
                      <a:pt x="5" y="13"/>
                      <a:pt x="5" y="11"/>
                      <a:pt x="5" y="10"/>
                    </a:cubicBezTo>
                    <a:cubicBezTo>
                      <a:pt x="4" y="6"/>
                      <a:pt x="2" y="3"/>
                      <a:pt x="0" y="0"/>
                    </a:cubicBezTo>
                  </a:path>
                </a:pathLst>
              </a:custGeom>
              <a:solidFill>
                <a:srgbClr val="6531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未知"/>
              <p:cNvSpPr/>
              <p:nvPr/>
            </p:nvSpPr>
            <p:spPr>
              <a:xfrm rot="19200000">
                <a:off x="2498400" y="48567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6531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未知"/>
              <p:cNvSpPr/>
              <p:nvPr/>
            </p:nvSpPr>
            <p:spPr>
              <a:xfrm rot="19200000">
                <a:off x="2513160" y="483048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4" y="6"/>
                      <a:pt x="5" y="10"/>
                    </a:cubicBezTo>
                    <a:cubicBezTo>
                      <a:pt x="5" y="12"/>
                      <a:pt x="5" y="13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6" y="13"/>
                      <a:pt x="5" y="12"/>
                      <a:pt x="5" y="10"/>
                    </a:cubicBezTo>
                    <a:cubicBezTo>
                      <a:pt x="4" y="6"/>
                      <a:pt x="3" y="3"/>
                      <a:pt x="1" y="0"/>
                    </a:cubicBezTo>
                  </a:path>
                </a:pathLst>
              </a:custGeom>
              <a:solidFill>
                <a:srgbClr val="6632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281"/>
              <p:cNvSpPr/>
              <p:nvPr/>
            </p:nvSpPr>
            <p:spPr>
              <a:xfrm rot="19200000">
                <a:off x="2498400" y="4856760"/>
                <a:ext cx="360" cy="360"/>
              </a:xfrm>
              <a:prstGeom prst="ellipse">
                <a:avLst/>
              </a:prstGeom>
              <a:solidFill>
                <a:srgbClr val="6632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未知"/>
              <p:cNvSpPr/>
              <p:nvPr/>
            </p:nvSpPr>
            <p:spPr>
              <a:xfrm rot="19200000">
                <a:off x="2513160" y="483048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4" y="6"/>
                      <a:pt x="4" y="10"/>
                    </a:cubicBezTo>
                    <a:cubicBezTo>
                      <a:pt x="5" y="12"/>
                      <a:pt x="5" y="13"/>
                      <a:pt x="5" y="15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5" y="13"/>
                      <a:pt x="5" y="12"/>
                      <a:pt x="5" y="10"/>
                    </a:cubicBezTo>
                    <a:cubicBezTo>
                      <a:pt x="4" y="6"/>
                      <a:pt x="2" y="3"/>
                      <a:pt x="0" y="0"/>
                    </a:cubicBezTo>
                  </a:path>
                </a:pathLst>
              </a:custGeom>
              <a:solidFill>
                <a:srgbClr val="6632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 rot="19200000">
                <a:off x="2498040" y="4856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0" y="1"/>
                      <a:pt x="0" y="0"/>
                    </a:cubicBezTo>
                  </a:path>
                </a:pathLst>
              </a:custGeom>
              <a:solidFill>
                <a:srgbClr val="6632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未知"/>
              <p:cNvSpPr/>
              <p:nvPr/>
            </p:nvSpPr>
            <p:spPr>
              <a:xfrm rot="19200000">
                <a:off x="2512800" y="4830480"/>
                <a:ext cx="1440" cy="39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4" y="6"/>
                      <a:pt x="5" y="10"/>
                    </a:cubicBezTo>
                    <a:cubicBezTo>
                      <a:pt x="5" y="12"/>
                      <a:pt x="5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6" y="13"/>
                      <a:pt x="6" y="12"/>
                      <a:pt x="5" y="10"/>
                    </a:cubicBezTo>
                    <a:cubicBezTo>
                      <a:pt x="5" y="6"/>
                      <a:pt x="3" y="3"/>
                      <a:pt x="1" y="0"/>
                    </a:cubicBezTo>
                  </a:path>
                </a:pathLst>
              </a:custGeom>
              <a:solidFill>
                <a:srgbClr val="6732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未知"/>
              <p:cNvSpPr/>
              <p:nvPr/>
            </p:nvSpPr>
            <p:spPr>
              <a:xfrm rot="19200000">
                <a:off x="2498040" y="48564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6732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 rot="19200000">
                <a:off x="2512800" y="48304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4" y="7"/>
                      <a:pt x="4" y="10"/>
                    </a:cubicBezTo>
                    <a:cubicBezTo>
                      <a:pt x="5" y="12"/>
                      <a:pt x="5" y="14"/>
                      <a:pt x="5" y="16"/>
                    </a:cubicBezTo>
                    <a:cubicBezTo>
                      <a:pt x="5" y="16"/>
                      <a:pt x="5" y="15"/>
                      <a:pt x="5" y="15"/>
                    </a:cubicBezTo>
                    <a:cubicBezTo>
                      <a:pt x="5" y="14"/>
                      <a:pt x="5" y="12"/>
                      <a:pt x="5" y="10"/>
                    </a:cubicBezTo>
                    <a:cubicBezTo>
                      <a:pt x="4" y="6"/>
                      <a:pt x="2" y="3"/>
                      <a:pt x="0" y="0"/>
                    </a:cubicBezTo>
                  </a:path>
                </a:pathLst>
              </a:custGeom>
              <a:solidFill>
                <a:srgbClr val="6832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 rot="19200000">
                <a:off x="2498400" y="4856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6832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 rot="19200000">
                <a:off x="2512800" y="48304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4" y="7"/>
                      <a:pt x="5" y="11"/>
                    </a:cubicBezTo>
                    <a:cubicBezTo>
                      <a:pt x="5" y="12"/>
                      <a:pt x="5" y="14"/>
                      <a:pt x="5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4"/>
                      <a:pt x="6" y="12"/>
                      <a:pt x="5" y="10"/>
                    </a:cubicBezTo>
                    <a:cubicBezTo>
                      <a:pt x="5" y="7"/>
                      <a:pt x="3" y="3"/>
                      <a:pt x="1" y="0"/>
                    </a:cubicBezTo>
                  </a:path>
                </a:pathLst>
              </a:custGeom>
              <a:solidFill>
                <a:srgbClr val="693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 rot="19200000">
                <a:off x="2498040" y="4856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693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 rot="19200000">
                <a:off x="2512800" y="483048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4" y="7"/>
                      <a:pt x="5" y="11"/>
                    </a:cubicBezTo>
                    <a:cubicBezTo>
                      <a:pt x="5" y="12"/>
                      <a:pt x="5" y="14"/>
                      <a:pt x="5" y="1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5" y="14"/>
                      <a:pt x="5" y="12"/>
                      <a:pt x="5" y="11"/>
                    </a:cubicBezTo>
                    <a:cubicBezTo>
                      <a:pt x="4" y="7"/>
                      <a:pt x="3" y="3"/>
                      <a:pt x="0" y="0"/>
                    </a:cubicBezTo>
                  </a:path>
                </a:pathLst>
              </a:custGeom>
              <a:solidFill>
                <a:srgbClr val="6a3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 rot="19200000">
                <a:off x="2498040" y="48560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</a:path>
                </a:pathLst>
              </a:custGeom>
              <a:solidFill>
                <a:srgbClr val="6a3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 rot="19200000">
                <a:off x="2512440" y="48308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4" y="7"/>
                      <a:pt x="5" y="11"/>
                    </a:cubicBezTo>
                    <a:cubicBezTo>
                      <a:pt x="5" y="13"/>
                      <a:pt x="6" y="14"/>
                      <a:pt x="6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4"/>
                      <a:pt x="6" y="12"/>
                      <a:pt x="6" y="11"/>
                    </a:cubicBezTo>
                    <a:cubicBezTo>
                      <a:pt x="5" y="7"/>
                      <a:pt x="3" y="3"/>
                      <a:pt x="1" y="0"/>
                    </a:cubicBezTo>
                  </a:path>
                </a:pathLst>
              </a:custGeom>
              <a:solidFill>
                <a:srgbClr val="6a34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rot="19200000">
                <a:off x="2498040" y="485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6a34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未知"/>
              <p:cNvSpPr/>
              <p:nvPr/>
            </p:nvSpPr>
            <p:spPr>
              <a:xfrm rot="19200000">
                <a:off x="2512440" y="483084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4" y="7"/>
                      <a:pt x="5" y="11"/>
                    </a:cubicBezTo>
                    <a:cubicBezTo>
                      <a:pt x="5" y="13"/>
                      <a:pt x="5" y="15"/>
                      <a:pt x="5" y="17"/>
                    </a:cubicBezTo>
                    <a:cubicBezTo>
                      <a:pt x="5" y="17"/>
                      <a:pt x="5" y="16"/>
                      <a:pt x="6" y="16"/>
                    </a:cubicBezTo>
                    <a:cubicBezTo>
                      <a:pt x="6" y="14"/>
                      <a:pt x="5" y="13"/>
                      <a:pt x="5" y="11"/>
                    </a:cubicBezTo>
                    <a:cubicBezTo>
                      <a:pt x="4" y="7"/>
                      <a:pt x="3" y="3"/>
                      <a:pt x="0" y="0"/>
                    </a:cubicBezTo>
                  </a:path>
                </a:pathLst>
              </a:custGeom>
              <a:solidFill>
                <a:srgbClr val="6b34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未知"/>
              <p:cNvSpPr/>
              <p:nvPr/>
            </p:nvSpPr>
            <p:spPr>
              <a:xfrm rot="19200000">
                <a:off x="2498040" y="485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6b34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 rot="19200000">
                <a:off x="2512440" y="48308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4" y="7"/>
                      <a:pt x="5" y="11"/>
                    </a:cubicBezTo>
                    <a:cubicBezTo>
                      <a:pt x="6" y="13"/>
                      <a:pt x="6" y="15"/>
                      <a:pt x="6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7"/>
                      <a:pt x="3" y="3"/>
                      <a:pt x="1" y="0"/>
                    </a:cubicBezTo>
                  </a:path>
                </a:pathLst>
              </a:custGeom>
              <a:solidFill>
                <a:srgbClr val="6c34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未知"/>
              <p:cNvSpPr/>
              <p:nvPr/>
            </p:nvSpPr>
            <p:spPr>
              <a:xfrm rot="19200000">
                <a:off x="2498040" y="485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</a:path>
                </a:pathLst>
              </a:custGeom>
              <a:solidFill>
                <a:srgbClr val="6c34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未知"/>
              <p:cNvSpPr/>
              <p:nvPr/>
            </p:nvSpPr>
            <p:spPr>
              <a:xfrm rot="19200000">
                <a:off x="2512440" y="483084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4" y="7"/>
                      <a:pt x="5" y="11"/>
                    </a:cubicBezTo>
                    <a:cubicBezTo>
                      <a:pt x="5" y="13"/>
                      <a:pt x="5" y="15"/>
                      <a:pt x="5" y="17"/>
                    </a:cubicBezTo>
                    <a:cubicBezTo>
                      <a:pt x="5" y="17"/>
                      <a:pt x="5" y="17"/>
                      <a:pt x="6" y="17"/>
                    </a:cubicBezTo>
                    <a:cubicBezTo>
                      <a:pt x="6" y="15"/>
                      <a:pt x="6" y="13"/>
                      <a:pt x="5" y="11"/>
                    </a:cubicBezTo>
                    <a:cubicBezTo>
                      <a:pt x="4" y="7"/>
                      <a:pt x="3" y="3"/>
                      <a:pt x="0" y="0"/>
                    </a:cubicBezTo>
                  </a:path>
                </a:pathLst>
              </a:custGeom>
              <a:solidFill>
                <a:srgbClr val="6d3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未知"/>
              <p:cNvSpPr/>
              <p:nvPr/>
            </p:nvSpPr>
            <p:spPr>
              <a:xfrm rot="19200000">
                <a:off x="2498040" y="48553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solidFill>
                <a:srgbClr val="6d3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未知"/>
              <p:cNvSpPr/>
              <p:nvPr/>
            </p:nvSpPr>
            <p:spPr>
              <a:xfrm rot="19200000">
                <a:off x="2512440" y="483120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5" y="7"/>
                      <a:pt x="5" y="11"/>
                    </a:cubicBezTo>
                    <a:cubicBezTo>
                      <a:pt x="6" y="13"/>
                      <a:pt x="6" y="15"/>
                      <a:pt x="6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7"/>
                      <a:pt x="3" y="3"/>
                      <a:pt x="1" y="0"/>
                    </a:cubicBezTo>
                  </a:path>
                </a:pathLst>
              </a:custGeom>
              <a:solidFill>
                <a:srgbClr val="6d3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未知"/>
              <p:cNvSpPr/>
              <p:nvPr/>
            </p:nvSpPr>
            <p:spPr>
              <a:xfrm rot="19200000">
                <a:off x="2498040" y="485496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6d3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未知"/>
              <p:cNvSpPr/>
              <p:nvPr/>
            </p:nvSpPr>
            <p:spPr>
              <a:xfrm rot="19200000">
                <a:off x="2512440" y="48312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3" y="3"/>
                      <a:pt x="5" y="7"/>
                      <a:pt x="6" y="11"/>
                    </a:cubicBezTo>
                    <a:cubicBezTo>
                      <a:pt x="6" y="13"/>
                      <a:pt x="6" y="15"/>
                      <a:pt x="6" y="18"/>
                    </a:cubicBezTo>
                    <a:cubicBezTo>
                      <a:pt x="6" y="18"/>
                      <a:pt x="7" y="17"/>
                      <a:pt x="7" y="17"/>
                    </a:cubicBezTo>
                    <a:cubicBezTo>
                      <a:pt x="7" y="15"/>
                      <a:pt x="7" y="13"/>
                      <a:pt x="6" y="11"/>
                    </a:cubicBezTo>
                    <a:cubicBezTo>
                      <a:pt x="6" y="7"/>
                      <a:pt x="4" y="3"/>
                      <a:pt x="1" y="0"/>
                    </a:cubicBezTo>
                  </a:path>
                </a:pathLst>
              </a:custGeom>
              <a:solidFill>
                <a:srgbClr val="6e3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未知"/>
              <p:cNvSpPr/>
              <p:nvPr/>
            </p:nvSpPr>
            <p:spPr>
              <a:xfrm rot="19200000">
                <a:off x="2498040" y="485496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1" y="2"/>
                      <a:pt x="1" y="1"/>
                      <a:pt x="1" y="0"/>
                    </a:cubicBezTo>
                  </a:path>
                </a:pathLst>
              </a:custGeom>
              <a:solidFill>
                <a:srgbClr val="6e3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未知"/>
              <p:cNvSpPr/>
              <p:nvPr/>
            </p:nvSpPr>
            <p:spPr>
              <a:xfrm rot="19200000">
                <a:off x="2512440" y="483120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5" y="7"/>
                      <a:pt x="5" y="11"/>
                    </a:cubicBezTo>
                    <a:cubicBezTo>
                      <a:pt x="6" y="13"/>
                      <a:pt x="6" y="16"/>
                      <a:pt x="6" y="18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7"/>
                      <a:pt x="3" y="3"/>
                      <a:pt x="0" y="0"/>
                    </a:cubicBezTo>
                  </a:path>
                </a:pathLst>
              </a:custGeom>
              <a:solidFill>
                <a:srgbClr val="6f3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 rot="19200000">
                <a:off x="2498040" y="4854600"/>
                <a:ext cx="360" cy="10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2"/>
                      <a:pt x="0" y="0"/>
                    </a:cubicBezTo>
                  </a:path>
                </a:pathLst>
              </a:custGeom>
              <a:solidFill>
                <a:srgbClr val="6f3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 rot="19200000">
                <a:off x="2512080" y="48312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3" y="3"/>
                      <a:pt x="5" y="7"/>
                      <a:pt x="6" y="11"/>
                    </a:cubicBezTo>
                    <a:cubicBezTo>
                      <a:pt x="6" y="14"/>
                      <a:pt x="7" y="16"/>
                      <a:pt x="6" y="18"/>
                    </a:cubicBezTo>
                    <a:cubicBezTo>
                      <a:pt x="6" y="18"/>
                      <a:pt x="7" y="18"/>
                      <a:pt x="7" y="18"/>
                    </a:cubicBezTo>
                    <a:cubicBezTo>
                      <a:pt x="7" y="16"/>
                      <a:pt x="7" y="13"/>
                      <a:pt x="6" y="11"/>
                    </a:cubicBezTo>
                    <a:cubicBezTo>
                      <a:pt x="6" y="7"/>
                      <a:pt x="4" y="3"/>
                      <a:pt x="1" y="0"/>
                    </a:cubicBezTo>
                  </a:path>
                </a:pathLst>
              </a:custGeom>
              <a:solidFill>
                <a:srgbClr val="6f36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 rot="19200000">
                <a:off x="2498040" y="4854600"/>
                <a:ext cx="360" cy="10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6f36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 rot="19200000">
                <a:off x="2512080" y="48312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5" y="7"/>
                      <a:pt x="6" y="11"/>
                    </a:cubicBezTo>
                    <a:cubicBezTo>
                      <a:pt x="6" y="14"/>
                      <a:pt x="6" y="16"/>
                      <a:pt x="6" y="18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7" y="16"/>
                      <a:pt x="6" y="14"/>
                      <a:pt x="6" y="11"/>
                    </a:cubicBezTo>
                    <a:cubicBezTo>
                      <a:pt x="5" y="7"/>
                      <a:pt x="3" y="3"/>
                      <a:pt x="0" y="0"/>
                    </a:cubicBezTo>
                  </a:path>
                </a:pathLst>
              </a:custGeom>
              <a:solidFill>
                <a:srgbClr val="7036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 rot="19200000">
                <a:off x="2497680" y="485424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2"/>
                      <a:pt x="1" y="3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7036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 rot="19200000">
                <a:off x="2512080" y="483156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3" y="3"/>
                      <a:pt x="5" y="7"/>
                      <a:pt x="6" y="11"/>
                    </a:cubicBezTo>
                    <a:cubicBezTo>
                      <a:pt x="7" y="14"/>
                      <a:pt x="7" y="16"/>
                      <a:pt x="6" y="19"/>
                    </a:cubicBezTo>
                    <a:cubicBezTo>
                      <a:pt x="7" y="19"/>
                      <a:pt x="7" y="19"/>
                      <a:pt x="7" y="18"/>
                    </a:cubicBezTo>
                    <a:cubicBezTo>
                      <a:pt x="7" y="16"/>
                      <a:pt x="7" y="14"/>
                      <a:pt x="7" y="11"/>
                    </a:cubicBezTo>
                    <a:cubicBezTo>
                      <a:pt x="6" y="7"/>
                      <a:pt x="4" y="3"/>
                      <a:pt x="1" y="0"/>
                    </a:cubicBezTo>
                  </a:path>
                </a:pathLst>
              </a:custGeom>
              <a:solidFill>
                <a:srgbClr val="7037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 rot="19200000">
                <a:off x="2498040" y="485424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2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7037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 rot="19200000">
                <a:off x="2512080" y="483156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5" y="7"/>
                      <a:pt x="6" y="12"/>
                    </a:cubicBezTo>
                    <a:cubicBezTo>
                      <a:pt x="6" y="14"/>
                      <a:pt x="6" y="16"/>
                      <a:pt x="6" y="19"/>
                    </a:cubicBezTo>
                    <a:cubicBezTo>
                      <a:pt x="6" y="19"/>
                      <a:pt x="6" y="19"/>
                      <a:pt x="6" y="19"/>
                    </a:cubicBezTo>
                    <a:cubicBezTo>
                      <a:pt x="7" y="16"/>
                      <a:pt x="7" y="14"/>
                      <a:pt x="6" y="11"/>
                    </a:cubicBezTo>
                    <a:cubicBezTo>
                      <a:pt x="5" y="7"/>
                      <a:pt x="3" y="3"/>
                      <a:pt x="0" y="0"/>
                    </a:cubicBezTo>
                  </a:path>
                </a:pathLst>
              </a:custGeom>
              <a:solidFill>
                <a:srgbClr val="7137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 rot="19200000">
                <a:off x="2498040" y="4854240"/>
                <a:ext cx="360" cy="10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3"/>
                      <a:pt x="1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1" y="4"/>
                      <a:pt x="1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7137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 rot="19200000">
                <a:off x="2512080" y="483156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3" y="3"/>
                      <a:pt x="5" y="7"/>
                      <a:pt x="6" y="12"/>
                    </a:cubicBezTo>
                    <a:cubicBezTo>
                      <a:pt x="7" y="14"/>
                      <a:pt x="7" y="17"/>
                      <a:pt x="6" y="19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6"/>
                      <a:pt x="7" y="14"/>
                      <a:pt x="7" y="12"/>
                    </a:cubicBezTo>
                    <a:cubicBezTo>
                      <a:pt x="6" y="7"/>
                      <a:pt x="4" y="3"/>
                      <a:pt x="1" y="0"/>
                    </a:cubicBezTo>
                  </a:path>
                </a:pathLst>
              </a:custGeom>
              <a:solidFill>
                <a:srgbClr val="7237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 rot="19200000">
                <a:off x="2498040" y="485388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0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5"/>
                      <a:pt x="1" y="3"/>
                      <a:pt x="1" y="2"/>
                    </a:cubicBezTo>
                    <a:cubicBezTo>
                      <a:pt x="1" y="2"/>
                      <a:pt x="1" y="1"/>
                      <a:pt x="1" y="0"/>
                    </a:cubicBezTo>
                  </a:path>
                </a:pathLst>
              </a:custGeom>
              <a:solidFill>
                <a:srgbClr val="7237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 rot="19200000">
                <a:off x="2512080" y="483156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5" y="7"/>
                      <a:pt x="6" y="12"/>
                    </a:cubicBezTo>
                    <a:cubicBezTo>
                      <a:pt x="6" y="14"/>
                      <a:pt x="6" y="17"/>
                      <a:pt x="6" y="19"/>
                    </a:cubicBezTo>
                    <a:cubicBezTo>
                      <a:pt x="6" y="19"/>
                      <a:pt x="6" y="19"/>
                      <a:pt x="6" y="19"/>
                    </a:cubicBezTo>
                    <a:cubicBezTo>
                      <a:pt x="7" y="17"/>
                      <a:pt x="7" y="14"/>
                      <a:pt x="6" y="12"/>
                    </a:cubicBezTo>
                    <a:cubicBezTo>
                      <a:pt x="5" y="7"/>
                      <a:pt x="3" y="3"/>
                      <a:pt x="0" y="0"/>
                    </a:cubicBezTo>
                  </a:path>
                </a:pathLst>
              </a:custGeom>
              <a:solidFill>
                <a:srgbClr val="7338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 rot="19200000">
                <a:off x="2498040" y="485388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4"/>
                      <a:pt x="1" y="3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7338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 rot="19200000">
                <a:off x="2511720" y="483120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5" y="7"/>
                      <a:pt x="6" y="12"/>
                    </a:cubicBezTo>
                    <a:cubicBezTo>
                      <a:pt x="7" y="14"/>
                      <a:pt x="7" y="17"/>
                      <a:pt x="6" y="20"/>
                    </a:cubicBezTo>
                    <a:cubicBezTo>
                      <a:pt x="7" y="20"/>
                      <a:pt x="7" y="20"/>
                      <a:pt x="7" y="19"/>
                    </a:cubicBezTo>
                    <a:cubicBezTo>
                      <a:pt x="7" y="17"/>
                      <a:pt x="7" y="14"/>
                      <a:pt x="7" y="12"/>
                    </a:cubicBezTo>
                    <a:cubicBezTo>
                      <a:pt x="6" y="7"/>
                      <a:pt x="4" y="3"/>
                      <a:pt x="1" y="0"/>
                    </a:cubicBezTo>
                  </a:path>
                </a:pathLst>
              </a:custGeom>
              <a:solidFill>
                <a:srgbClr val="7438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 rot="19200000">
                <a:off x="2498040" y="4853520"/>
                <a:ext cx="360" cy="1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1" y="4"/>
                      <a:pt x="1" y="5"/>
                      <a:pt x="1" y="7"/>
                    </a:cubicBezTo>
                    <a:cubicBezTo>
                      <a:pt x="2" y="7"/>
                      <a:pt x="2" y="6"/>
                      <a:pt x="2" y="6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2"/>
                      <a:pt x="1" y="1"/>
                      <a:pt x="1" y="0"/>
                    </a:cubicBezTo>
                  </a:path>
                </a:pathLst>
              </a:custGeom>
              <a:solidFill>
                <a:srgbClr val="7438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 rot="19200000">
                <a:off x="2511720" y="483120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5" y="7"/>
                      <a:pt x="6" y="12"/>
                    </a:cubicBezTo>
                    <a:cubicBezTo>
                      <a:pt x="6" y="15"/>
                      <a:pt x="6" y="17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7"/>
                      <a:pt x="7" y="14"/>
                      <a:pt x="6" y="12"/>
                    </a:cubicBezTo>
                    <a:cubicBezTo>
                      <a:pt x="5" y="7"/>
                      <a:pt x="3" y="3"/>
                      <a:pt x="0" y="0"/>
                    </a:cubicBezTo>
                  </a:path>
                </a:pathLst>
              </a:custGeom>
              <a:solidFill>
                <a:srgbClr val="7438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 rot="19200000">
                <a:off x="2498400" y="485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solidFill>
                <a:srgbClr val="7438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 rot="19200000">
                <a:off x="2511720" y="483156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4"/>
                      <a:pt x="6" y="8"/>
                      <a:pt x="6" y="12"/>
                    </a:cubicBezTo>
                    <a:cubicBezTo>
                      <a:pt x="7" y="15"/>
                      <a:pt x="7" y="18"/>
                      <a:pt x="6" y="20"/>
                    </a:cubicBezTo>
                    <a:cubicBezTo>
                      <a:pt x="7" y="20"/>
                      <a:pt x="7" y="20"/>
                      <a:pt x="7" y="20"/>
                    </a:cubicBezTo>
                    <a:cubicBezTo>
                      <a:pt x="7" y="17"/>
                      <a:pt x="7" y="15"/>
                      <a:pt x="7" y="12"/>
                    </a:cubicBezTo>
                    <a:cubicBezTo>
                      <a:pt x="6" y="7"/>
                      <a:pt x="4" y="3"/>
                      <a:pt x="1" y="0"/>
                    </a:cubicBezTo>
                  </a:path>
                </a:pathLst>
              </a:custGeom>
              <a:solidFill>
                <a:srgbClr val="753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未知"/>
              <p:cNvSpPr/>
              <p:nvPr/>
            </p:nvSpPr>
            <p:spPr>
              <a:xfrm rot="19200000">
                <a:off x="2498040" y="4853160"/>
                <a:ext cx="360" cy="1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2"/>
                      <a:pt x="0" y="1"/>
                      <a:pt x="0" y="0"/>
                    </a:cubicBezTo>
                  </a:path>
                </a:pathLst>
              </a:custGeom>
              <a:solidFill>
                <a:srgbClr val="753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未知"/>
              <p:cNvSpPr/>
              <p:nvPr/>
            </p:nvSpPr>
            <p:spPr>
              <a:xfrm rot="19200000">
                <a:off x="2511360" y="483192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4" y="4"/>
                      <a:pt x="6" y="8"/>
                      <a:pt x="7" y="12"/>
                    </a:cubicBezTo>
                    <a:cubicBezTo>
                      <a:pt x="8" y="15"/>
                      <a:pt x="8" y="18"/>
                      <a:pt x="7" y="21"/>
                    </a:cubicBezTo>
                    <a:cubicBezTo>
                      <a:pt x="7" y="20"/>
                      <a:pt x="7" y="20"/>
                      <a:pt x="7" y="20"/>
                    </a:cubicBezTo>
                    <a:cubicBezTo>
                      <a:pt x="8" y="18"/>
                      <a:pt x="8" y="15"/>
                      <a:pt x="7" y="12"/>
                    </a:cubicBezTo>
                    <a:cubicBezTo>
                      <a:pt x="7" y="8"/>
                      <a:pt x="4" y="4"/>
                      <a:pt x="1" y="0"/>
                    </a:cubicBezTo>
                  </a:path>
                </a:pathLst>
              </a:custGeom>
              <a:solidFill>
                <a:srgbClr val="763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未知"/>
              <p:cNvSpPr/>
              <p:nvPr/>
            </p:nvSpPr>
            <p:spPr>
              <a:xfrm rot="19200000">
                <a:off x="2498040" y="485280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1" y="0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5"/>
                    </a:cubicBezTo>
                    <a:cubicBezTo>
                      <a:pt x="1" y="6"/>
                      <a:pt x="1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7"/>
                      <a:pt x="1" y="6"/>
                      <a:pt x="1" y="5"/>
                    </a:cubicBezTo>
                    <a:cubicBezTo>
                      <a:pt x="1" y="3"/>
                      <a:pt x="1" y="2"/>
                      <a:pt x="1" y="0"/>
                    </a:cubicBezTo>
                  </a:path>
                </a:pathLst>
              </a:custGeom>
              <a:solidFill>
                <a:srgbClr val="763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未知"/>
              <p:cNvSpPr/>
              <p:nvPr/>
            </p:nvSpPr>
            <p:spPr>
              <a:xfrm rot="19200000">
                <a:off x="2511360" y="483192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4"/>
                      <a:pt x="6" y="8"/>
                      <a:pt x="7" y="12"/>
                    </a:cubicBezTo>
                    <a:cubicBezTo>
                      <a:pt x="7" y="15"/>
                      <a:pt x="7" y="18"/>
                      <a:pt x="6" y="2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8" y="18"/>
                      <a:pt x="8" y="15"/>
                      <a:pt x="7" y="12"/>
                    </a:cubicBezTo>
                    <a:cubicBezTo>
                      <a:pt x="6" y="8"/>
                      <a:pt x="4" y="4"/>
                      <a:pt x="0" y="0"/>
                    </a:cubicBezTo>
                  </a:path>
                </a:pathLst>
              </a:custGeom>
              <a:solidFill>
                <a:srgbClr val="773a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未知"/>
              <p:cNvSpPr/>
              <p:nvPr/>
            </p:nvSpPr>
            <p:spPr>
              <a:xfrm rot="19200000">
                <a:off x="2498400" y="485244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6"/>
                      <a:pt x="1" y="7"/>
                      <a:pt x="1" y="8"/>
                    </a:cubicBezTo>
                    <a:cubicBezTo>
                      <a:pt x="1" y="8"/>
                      <a:pt x="1" y="8"/>
                      <a:pt x="2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solidFill>
                <a:srgbClr val="773a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未知"/>
              <p:cNvSpPr/>
              <p:nvPr/>
            </p:nvSpPr>
            <p:spPr>
              <a:xfrm rot="19200000">
                <a:off x="2511360" y="483192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0"/>
                    </a:moveTo>
                    <a:cubicBezTo>
                      <a:pt x="4" y="4"/>
                      <a:pt x="6" y="8"/>
                      <a:pt x="7" y="12"/>
                    </a:cubicBezTo>
                    <a:cubicBezTo>
                      <a:pt x="8" y="15"/>
                      <a:pt x="8" y="18"/>
                      <a:pt x="7" y="2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8" y="18"/>
                      <a:pt x="8" y="15"/>
                      <a:pt x="8" y="12"/>
                    </a:cubicBezTo>
                    <a:cubicBezTo>
                      <a:pt x="7" y="8"/>
                      <a:pt x="4" y="4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783a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 rot="19200000">
                <a:off x="2498040" y="48520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0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2"/>
                      <a:pt x="0" y="4"/>
                      <a:pt x="1" y="6"/>
                    </a:cubicBezTo>
                    <a:cubicBezTo>
                      <a:pt x="1" y="7"/>
                      <a:pt x="1" y="8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8"/>
                      <a:pt x="1" y="7"/>
                      <a:pt x="1" y="5"/>
                    </a:cubicBezTo>
                    <a:cubicBezTo>
                      <a:pt x="1" y="4"/>
                      <a:pt x="1" y="2"/>
                      <a:pt x="1" y="0"/>
                    </a:cubicBezTo>
                  </a:path>
                </a:pathLst>
              </a:custGeom>
              <a:solidFill>
                <a:srgbClr val="783a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未知"/>
              <p:cNvSpPr/>
              <p:nvPr/>
            </p:nvSpPr>
            <p:spPr>
              <a:xfrm rot="19200000">
                <a:off x="2511360" y="483192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0"/>
                    </a:moveTo>
                    <a:cubicBezTo>
                      <a:pt x="3" y="4"/>
                      <a:pt x="6" y="8"/>
                      <a:pt x="7" y="12"/>
                    </a:cubicBezTo>
                    <a:cubicBezTo>
                      <a:pt x="7" y="15"/>
                      <a:pt x="7" y="18"/>
                      <a:pt x="6" y="2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8" y="18"/>
                      <a:pt x="8" y="15"/>
                      <a:pt x="7" y="12"/>
                    </a:cubicBezTo>
                    <a:cubicBezTo>
                      <a:pt x="6" y="8"/>
                      <a:pt x="4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783a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未知"/>
              <p:cNvSpPr/>
              <p:nvPr/>
            </p:nvSpPr>
            <p:spPr>
              <a:xfrm rot="19200000">
                <a:off x="2498040" y="48520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1" y="9"/>
                      <a:pt x="1" y="8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0" y="3"/>
                      <a:pt x="0" y="2"/>
                      <a:pt x="0" y="0"/>
                    </a:cubicBezTo>
                  </a:path>
                </a:pathLst>
              </a:custGeom>
              <a:solidFill>
                <a:srgbClr val="783a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未知"/>
              <p:cNvSpPr/>
              <p:nvPr/>
            </p:nvSpPr>
            <p:spPr>
              <a:xfrm rot="19200000">
                <a:off x="2511000" y="4831920"/>
                <a:ext cx="1800" cy="57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0" y="0"/>
                    </a:moveTo>
                    <a:cubicBezTo>
                      <a:pt x="4" y="4"/>
                      <a:pt x="6" y="8"/>
                      <a:pt x="7" y="12"/>
                    </a:cubicBezTo>
                    <a:cubicBezTo>
                      <a:pt x="8" y="15"/>
                      <a:pt x="8" y="19"/>
                      <a:pt x="7" y="22"/>
                    </a:cubicBezTo>
                    <a:cubicBezTo>
                      <a:pt x="7" y="22"/>
                      <a:pt x="7" y="21"/>
                      <a:pt x="7" y="21"/>
                    </a:cubicBezTo>
                    <a:cubicBezTo>
                      <a:pt x="8" y="18"/>
                      <a:pt x="8" y="15"/>
                      <a:pt x="8" y="12"/>
                    </a:cubicBezTo>
                    <a:cubicBezTo>
                      <a:pt x="7" y="8"/>
                      <a:pt x="4" y="4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793b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 rot="19200000">
                <a:off x="2498040" y="4852080"/>
                <a:ext cx="360" cy="252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3"/>
                      <a:pt x="0" y="4"/>
                      <a:pt x="1" y="6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1" y="7"/>
                      <a:pt x="1" y="6"/>
                    </a:cubicBezTo>
                    <a:cubicBezTo>
                      <a:pt x="1" y="4"/>
                      <a:pt x="1" y="2"/>
                      <a:pt x="1" y="0"/>
                    </a:cubicBezTo>
                  </a:path>
                </a:pathLst>
              </a:custGeom>
              <a:solidFill>
                <a:srgbClr val="793b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 rot="19200000">
                <a:off x="2511000" y="4831920"/>
                <a:ext cx="1800" cy="576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0" y="0"/>
                    </a:moveTo>
                    <a:cubicBezTo>
                      <a:pt x="4" y="4"/>
                      <a:pt x="7" y="8"/>
                      <a:pt x="8" y="12"/>
                    </a:cubicBezTo>
                    <a:cubicBezTo>
                      <a:pt x="8" y="16"/>
                      <a:pt x="8" y="19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19"/>
                      <a:pt x="9" y="15"/>
                      <a:pt x="8" y="12"/>
                    </a:cubicBezTo>
                    <a:cubicBezTo>
                      <a:pt x="7" y="8"/>
                      <a:pt x="5" y="4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7a3b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 rot="19200000">
                <a:off x="2498400" y="4851720"/>
                <a:ext cx="360" cy="252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4"/>
                      <a:pt x="0" y="6"/>
                    </a:cubicBezTo>
                    <a:cubicBezTo>
                      <a:pt x="0" y="7"/>
                      <a:pt x="0" y="8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7"/>
                      <a:pt x="0" y="6"/>
                    </a:cubicBezTo>
                    <a:cubicBezTo>
                      <a:pt x="0" y="4"/>
                      <a:pt x="0" y="2"/>
                      <a:pt x="0" y="0"/>
                    </a:cubicBezTo>
                  </a:path>
                </a:pathLst>
              </a:custGeom>
              <a:solidFill>
                <a:srgbClr val="7a3b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未知"/>
              <p:cNvSpPr/>
              <p:nvPr/>
            </p:nvSpPr>
            <p:spPr>
              <a:xfrm rot="19200000">
                <a:off x="2511000" y="4831920"/>
                <a:ext cx="1800" cy="57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0" y="0"/>
                    </a:moveTo>
                    <a:cubicBezTo>
                      <a:pt x="4" y="4"/>
                      <a:pt x="6" y="8"/>
                      <a:pt x="7" y="13"/>
                    </a:cubicBezTo>
                    <a:cubicBezTo>
                      <a:pt x="8" y="16"/>
                      <a:pt x="8" y="19"/>
                      <a:pt x="7" y="22"/>
                    </a:cubicBezTo>
                    <a:cubicBezTo>
                      <a:pt x="7" y="22"/>
                      <a:pt x="7" y="22"/>
                      <a:pt x="7" y="22"/>
                    </a:cubicBezTo>
                    <a:cubicBezTo>
                      <a:pt x="8" y="19"/>
                      <a:pt x="8" y="16"/>
                      <a:pt x="8" y="12"/>
                    </a:cubicBezTo>
                    <a:cubicBezTo>
                      <a:pt x="7" y="8"/>
                      <a:pt x="4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7a3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未知"/>
              <p:cNvSpPr/>
              <p:nvPr/>
            </p:nvSpPr>
            <p:spPr>
              <a:xfrm rot="19200000">
                <a:off x="2498400" y="4851360"/>
                <a:ext cx="360" cy="252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8"/>
                      <a:pt x="1" y="9"/>
                      <a:pt x="1" y="10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0" y="5"/>
                      <a:pt x="0" y="2"/>
                      <a:pt x="1" y="0"/>
                    </a:cubicBezTo>
                  </a:path>
                </a:pathLst>
              </a:custGeom>
              <a:solidFill>
                <a:srgbClr val="7a3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未知"/>
              <p:cNvSpPr/>
              <p:nvPr/>
            </p:nvSpPr>
            <p:spPr>
              <a:xfrm rot="19200000">
                <a:off x="2510640" y="4832280"/>
                <a:ext cx="1800" cy="576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0" y="0"/>
                    </a:moveTo>
                    <a:cubicBezTo>
                      <a:pt x="4" y="4"/>
                      <a:pt x="7" y="8"/>
                      <a:pt x="8" y="13"/>
                    </a:cubicBezTo>
                    <a:cubicBezTo>
                      <a:pt x="8" y="16"/>
                      <a:pt x="8" y="19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19"/>
                      <a:pt x="9" y="16"/>
                      <a:pt x="8" y="13"/>
                    </a:cubicBezTo>
                    <a:cubicBezTo>
                      <a:pt x="7" y="8"/>
                      <a:pt x="5" y="4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7b3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未知"/>
              <p:cNvSpPr/>
              <p:nvPr/>
            </p:nvSpPr>
            <p:spPr>
              <a:xfrm rot="19200000">
                <a:off x="2498400" y="4851360"/>
                <a:ext cx="360" cy="252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2"/>
                      <a:pt x="0" y="5"/>
                      <a:pt x="1" y="7"/>
                    </a:cubicBezTo>
                    <a:cubicBezTo>
                      <a:pt x="1" y="8"/>
                      <a:pt x="1" y="9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9"/>
                      <a:pt x="2" y="8"/>
                      <a:pt x="1" y="7"/>
                    </a:cubicBezTo>
                    <a:cubicBezTo>
                      <a:pt x="1" y="5"/>
                      <a:pt x="1" y="2"/>
                      <a:pt x="1" y="0"/>
                    </a:cubicBezTo>
                  </a:path>
                </a:pathLst>
              </a:custGeom>
              <a:solidFill>
                <a:srgbClr val="7b3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未知"/>
              <p:cNvSpPr/>
              <p:nvPr/>
            </p:nvSpPr>
            <p:spPr>
              <a:xfrm rot="19200000">
                <a:off x="2510640" y="483228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0" y="0"/>
                    </a:moveTo>
                    <a:cubicBezTo>
                      <a:pt x="4" y="4"/>
                      <a:pt x="6" y="8"/>
                      <a:pt x="7" y="13"/>
                    </a:cubicBezTo>
                    <a:cubicBezTo>
                      <a:pt x="8" y="16"/>
                      <a:pt x="8" y="19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8" y="19"/>
                      <a:pt x="8" y="16"/>
                      <a:pt x="8" y="13"/>
                    </a:cubicBezTo>
                    <a:cubicBezTo>
                      <a:pt x="7" y="8"/>
                      <a:pt x="4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7b3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未知"/>
              <p:cNvSpPr/>
              <p:nvPr/>
            </p:nvSpPr>
            <p:spPr>
              <a:xfrm rot="19200000">
                <a:off x="2498400" y="485136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3"/>
                      <a:pt x="0" y="6"/>
                      <a:pt x="0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1"/>
                      <a:pt x="1" y="11"/>
                      <a:pt x="2" y="11"/>
                    </a:cubicBezTo>
                    <a:cubicBezTo>
                      <a:pt x="1" y="10"/>
                      <a:pt x="1" y="9"/>
                      <a:pt x="1" y="8"/>
                    </a:cubicBezTo>
                    <a:cubicBezTo>
                      <a:pt x="0" y="5"/>
                      <a:pt x="0" y="3"/>
                      <a:pt x="1" y="0"/>
                    </a:cubicBezTo>
                  </a:path>
                </a:pathLst>
              </a:custGeom>
              <a:solidFill>
                <a:srgbClr val="7b3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未知"/>
              <p:cNvSpPr/>
              <p:nvPr/>
            </p:nvSpPr>
            <p:spPr>
              <a:xfrm rot="19200000">
                <a:off x="2510640" y="483228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0" y="0"/>
                    </a:moveTo>
                    <a:cubicBezTo>
                      <a:pt x="4" y="4"/>
                      <a:pt x="7" y="8"/>
                      <a:pt x="8" y="13"/>
                    </a:cubicBezTo>
                    <a:cubicBezTo>
                      <a:pt x="9" y="16"/>
                      <a:pt x="8" y="20"/>
                      <a:pt x="7" y="23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9" y="19"/>
                      <a:pt x="9" y="16"/>
                      <a:pt x="8" y="13"/>
                    </a:cubicBezTo>
                    <a:cubicBezTo>
                      <a:pt x="7" y="8"/>
                      <a:pt x="5" y="4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7d3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未知"/>
              <p:cNvSpPr/>
              <p:nvPr/>
            </p:nvSpPr>
            <p:spPr>
              <a:xfrm rot="19200000">
                <a:off x="2498040" y="4851000"/>
                <a:ext cx="360" cy="324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4"/>
                      <a:pt x="0" y="6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2" y="11"/>
                      <a:pt x="1" y="10"/>
                      <a:pt x="1" y="9"/>
                    </a:cubicBezTo>
                    <a:cubicBezTo>
                      <a:pt x="1" y="6"/>
                      <a:pt x="1" y="3"/>
                      <a:pt x="1" y="0"/>
                    </a:cubicBezTo>
                  </a:path>
                </a:pathLst>
              </a:custGeom>
              <a:solidFill>
                <a:srgbClr val="7d3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未知"/>
              <p:cNvSpPr/>
              <p:nvPr/>
            </p:nvSpPr>
            <p:spPr>
              <a:xfrm rot="19200000">
                <a:off x="2510640" y="4832640"/>
                <a:ext cx="2160" cy="61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0"/>
                    </a:moveTo>
                    <a:cubicBezTo>
                      <a:pt x="5" y="3"/>
                      <a:pt x="8" y="8"/>
                      <a:pt x="9" y="13"/>
                    </a:cubicBezTo>
                    <a:cubicBezTo>
                      <a:pt x="9" y="16"/>
                      <a:pt x="9" y="20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9" y="20"/>
                      <a:pt x="10" y="16"/>
                      <a:pt x="9" y="13"/>
                    </a:cubicBezTo>
                    <a:cubicBezTo>
                      <a:pt x="8" y="8"/>
                      <a:pt x="5" y="4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7d3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未知"/>
              <p:cNvSpPr/>
              <p:nvPr/>
            </p:nvSpPr>
            <p:spPr>
              <a:xfrm rot="19200000">
                <a:off x="2498400" y="4851000"/>
                <a:ext cx="360" cy="324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3"/>
                      <a:pt x="0" y="6"/>
                      <a:pt x="0" y="9"/>
                    </a:cubicBezTo>
                    <a:cubicBezTo>
                      <a:pt x="0" y="10"/>
                      <a:pt x="1" y="11"/>
                      <a:pt x="1" y="12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0" y="6"/>
                      <a:pt x="0" y="3"/>
                      <a:pt x="1" y="0"/>
                    </a:cubicBezTo>
                  </a:path>
                </a:pathLst>
              </a:custGeom>
              <a:solidFill>
                <a:srgbClr val="7d3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未知"/>
              <p:cNvSpPr/>
              <p:nvPr/>
            </p:nvSpPr>
            <p:spPr>
              <a:xfrm rot="19200000">
                <a:off x="2511000" y="483264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0" y="0"/>
                    </a:moveTo>
                    <a:cubicBezTo>
                      <a:pt x="4" y="3"/>
                      <a:pt x="7" y="8"/>
                      <a:pt x="8" y="13"/>
                    </a:cubicBezTo>
                    <a:cubicBezTo>
                      <a:pt x="9" y="17"/>
                      <a:pt x="8" y="20"/>
                      <a:pt x="7" y="24"/>
                    </a:cubicBezTo>
                    <a:cubicBezTo>
                      <a:pt x="8" y="24"/>
                      <a:pt x="8" y="23"/>
                      <a:pt x="8" y="23"/>
                    </a:cubicBezTo>
                    <a:cubicBezTo>
                      <a:pt x="9" y="20"/>
                      <a:pt x="9" y="16"/>
                      <a:pt x="9" y="13"/>
                    </a:cubicBezTo>
                    <a:cubicBezTo>
                      <a:pt x="8" y="8"/>
                      <a:pt x="5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7e3e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 rot="19200000">
                <a:off x="2498040" y="48506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4"/>
                      <a:pt x="0" y="7"/>
                      <a:pt x="1" y="10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1" y="11"/>
                      <a:pt x="1" y="11"/>
                      <a:pt x="1" y="10"/>
                    </a:cubicBezTo>
                    <a:cubicBezTo>
                      <a:pt x="0" y="7"/>
                      <a:pt x="1" y="3"/>
                      <a:pt x="1" y="0"/>
                    </a:cubicBezTo>
                  </a:path>
                </a:pathLst>
              </a:custGeom>
              <a:solidFill>
                <a:srgbClr val="7e3e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未知"/>
              <p:cNvSpPr/>
              <p:nvPr/>
            </p:nvSpPr>
            <p:spPr>
              <a:xfrm rot="19200000">
                <a:off x="2510640" y="483228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0"/>
                    </a:moveTo>
                    <a:cubicBezTo>
                      <a:pt x="5" y="3"/>
                      <a:pt x="8" y="8"/>
                      <a:pt x="9" y="13"/>
                    </a:cubicBezTo>
                    <a:cubicBezTo>
                      <a:pt x="9" y="17"/>
                      <a:pt x="9" y="20"/>
                      <a:pt x="8" y="24"/>
                    </a:cubicBezTo>
                    <a:cubicBezTo>
                      <a:pt x="8" y="24"/>
                      <a:pt x="8" y="24"/>
                      <a:pt x="8" y="24"/>
                    </a:cubicBezTo>
                    <a:cubicBezTo>
                      <a:pt x="9" y="20"/>
                      <a:pt x="10" y="17"/>
                      <a:pt x="9" y="13"/>
                    </a:cubicBezTo>
                    <a:cubicBezTo>
                      <a:pt x="8" y="8"/>
                      <a:pt x="5" y="3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7f3e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未知"/>
              <p:cNvSpPr/>
              <p:nvPr/>
            </p:nvSpPr>
            <p:spPr>
              <a:xfrm rot="19200000">
                <a:off x="2498040" y="485064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3"/>
                      <a:pt x="0" y="7"/>
                      <a:pt x="1" y="10"/>
                    </a:cubicBezTo>
                    <a:cubicBezTo>
                      <a:pt x="1" y="11"/>
                      <a:pt x="1" y="11"/>
                      <a:pt x="2" y="12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1" y="6"/>
                      <a:pt x="1" y="3"/>
                      <a:pt x="2" y="0"/>
                    </a:cubicBezTo>
                  </a:path>
                </a:pathLst>
              </a:custGeom>
              <a:solidFill>
                <a:srgbClr val="7f3e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 rot="19200000">
                <a:off x="2510640" y="483228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0"/>
                    </a:moveTo>
                    <a:cubicBezTo>
                      <a:pt x="5" y="3"/>
                      <a:pt x="8" y="8"/>
                      <a:pt x="9" y="13"/>
                    </a:cubicBezTo>
                    <a:cubicBezTo>
                      <a:pt x="10" y="17"/>
                      <a:pt x="10" y="21"/>
                      <a:pt x="8" y="24"/>
                    </a:cubicBezTo>
                    <a:cubicBezTo>
                      <a:pt x="8" y="24"/>
                      <a:pt x="9" y="24"/>
                      <a:pt x="9" y="24"/>
                    </a:cubicBezTo>
                    <a:cubicBezTo>
                      <a:pt x="10" y="20"/>
                      <a:pt x="10" y="17"/>
                      <a:pt x="10" y="13"/>
                    </a:cubicBezTo>
                    <a:cubicBezTo>
                      <a:pt x="9" y="8"/>
                      <a:pt x="6" y="3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803e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未知"/>
              <p:cNvSpPr/>
              <p:nvPr/>
            </p:nvSpPr>
            <p:spPr>
              <a:xfrm rot="19200000">
                <a:off x="2498040" y="4850280"/>
                <a:ext cx="360" cy="324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2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4"/>
                      <a:pt x="0" y="7"/>
                      <a:pt x="1" y="11"/>
                    </a:cubicBezTo>
                    <a:cubicBezTo>
                      <a:pt x="1" y="11"/>
                      <a:pt x="1" y="12"/>
                      <a:pt x="1" y="13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0" y="7"/>
                      <a:pt x="1" y="4"/>
                      <a:pt x="2" y="0"/>
                    </a:cubicBezTo>
                  </a:path>
                </a:pathLst>
              </a:custGeom>
              <a:solidFill>
                <a:srgbClr val="803e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未知"/>
              <p:cNvSpPr/>
              <p:nvPr/>
            </p:nvSpPr>
            <p:spPr>
              <a:xfrm rot="19200000">
                <a:off x="2510640" y="483228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0"/>
                    </a:moveTo>
                    <a:cubicBezTo>
                      <a:pt x="4" y="3"/>
                      <a:pt x="8" y="8"/>
                      <a:pt x="9" y="13"/>
                    </a:cubicBezTo>
                    <a:cubicBezTo>
                      <a:pt x="9" y="17"/>
                      <a:pt x="9" y="21"/>
                      <a:pt x="8" y="24"/>
                    </a:cubicBezTo>
                    <a:cubicBezTo>
                      <a:pt x="8" y="24"/>
                      <a:pt x="8" y="24"/>
                      <a:pt x="8" y="24"/>
                    </a:cubicBezTo>
                    <a:cubicBezTo>
                      <a:pt x="10" y="21"/>
                      <a:pt x="10" y="17"/>
                      <a:pt x="9" y="13"/>
                    </a:cubicBezTo>
                    <a:cubicBezTo>
                      <a:pt x="8" y="8"/>
                      <a:pt x="5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813f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 rot="19200000">
                <a:off x="2498040" y="4850280"/>
                <a:ext cx="360" cy="324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4"/>
                      <a:pt x="0" y="7"/>
                      <a:pt x="1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2"/>
                      <a:pt x="2" y="11"/>
                      <a:pt x="1" y="10"/>
                    </a:cubicBezTo>
                    <a:cubicBezTo>
                      <a:pt x="1" y="7"/>
                      <a:pt x="1" y="3"/>
                      <a:pt x="2" y="0"/>
                    </a:cubicBezTo>
                  </a:path>
                </a:pathLst>
              </a:custGeom>
              <a:solidFill>
                <a:srgbClr val="813f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未知"/>
              <p:cNvSpPr/>
              <p:nvPr/>
            </p:nvSpPr>
            <p:spPr>
              <a:xfrm rot="19200000">
                <a:off x="2510280" y="483264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0"/>
                    </a:moveTo>
                    <a:cubicBezTo>
                      <a:pt x="5" y="3"/>
                      <a:pt x="8" y="8"/>
                      <a:pt x="9" y="13"/>
                    </a:cubicBezTo>
                    <a:cubicBezTo>
                      <a:pt x="10" y="17"/>
                      <a:pt x="10" y="21"/>
                      <a:pt x="8" y="25"/>
                    </a:cubicBezTo>
                    <a:cubicBezTo>
                      <a:pt x="8" y="25"/>
                      <a:pt x="9" y="25"/>
                      <a:pt x="9" y="24"/>
                    </a:cubicBezTo>
                    <a:cubicBezTo>
                      <a:pt x="10" y="21"/>
                      <a:pt x="10" y="17"/>
                      <a:pt x="10" y="13"/>
                    </a:cubicBezTo>
                    <a:cubicBezTo>
                      <a:pt x="9" y="8"/>
                      <a:pt x="5" y="3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813f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未知"/>
              <p:cNvSpPr/>
              <p:nvPr/>
            </p:nvSpPr>
            <p:spPr>
              <a:xfrm rot="19200000">
                <a:off x="2498400" y="4850280"/>
                <a:ext cx="360" cy="360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2" y="0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0" y="4"/>
                      <a:pt x="0" y="8"/>
                      <a:pt x="0" y="11"/>
                    </a:cubicBezTo>
                    <a:cubicBezTo>
                      <a:pt x="1" y="12"/>
                      <a:pt x="1" y="13"/>
                      <a:pt x="1" y="14"/>
                    </a:cubicBezTo>
                    <a:cubicBezTo>
                      <a:pt x="1" y="14"/>
                      <a:pt x="1" y="14"/>
                      <a:pt x="2" y="14"/>
                    </a:cubicBezTo>
                    <a:cubicBezTo>
                      <a:pt x="1" y="13"/>
                      <a:pt x="1" y="12"/>
                      <a:pt x="1" y="11"/>
                    </a:cubicBezTo>
                    <a:cubicBezTo>
                      <a:pt x="0" y="8"/>
                      <a:pt x="1" y="4"/>
                      <a:pt x="2" y="0"/>
                    </a:cubicBezTo>
                  </a:path>
                </a:pathLst>
              </a:custGeom>
              <a:solidFill>
                <a:srgbClr val="813f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未知"/>
              <p:cNvSpPr/>
              <p:nvPr/>
            </p:nvSpPr>
            <p:spPr>
              <a:xfrm rot="19200000">
                <a:off x="2509920" y="483300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0" y="0"/>
                    </a:moveTo>
                    <a:cubicBezTo>
                      <a:pt x="5" y="3"/>
                      <a:pt x="9" y="8"/>
                      <a:pt x="10" y="13"/>
                    </a:cubicBezTo>
                    <a:cubicBezTo>
                      <a:pt x="11" y="17"/>
                      <a:pt x="10" y="21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11" y="21"/>
                      <a:pt x="11" y="17"/>
                      <a:pt x="10" y="13"/>
                    </a:cubicBezTo>
                    <a:cubicBezTo>
                      <a:pt x="9" y="8"/>
                      <a:pt x="6" y="3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834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未知"/>
              <p:cNvSpPr/>
              <p:nvPr/>
            </p:nvSpPr>
            <p:spPr>
              <a:xfrm rot="19200000">
                <a:off x="2498040" y="484992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3" y="0"/>
                    </a:moveTo>
                    <a:cubicBezTo>
                      <a:pt x="3" y="0"/>
                      <a:pt x="2" y="1"/>
                      <a:pt x="2" y="1"/>
                    </a:cubicBezTo>
                    <a:cubicBezTo>
                      <a:pt x="1" y="5"/>
                      <a:pt x="0" y="9"/>
                      <a:pt x="1" y="12"/>
                    </a:cubicBezTo>
                    <a:cubicBezTo>
                      <a:pt x="1" y="13"/>
                      <a:pt x="1" y="14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8"/>
                      <a:pt x="1" y="4"/>
                      <a:pt x="3" y="0"/>
                    </a:cubicBezTo>
                  </a:path>
                </a:pathLst>
              </a:custGeom>
              <a:solidFill>
                <a:srgbClr val="834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未知"/>
              <p:cNvSpPr/>
              <p:nvPr/>
            </p:nvSpPr>
            <p:spPr>
              <a:xfrm rot="19200000">
                <a:off x="2509560" y="4833000"/>
                <a:ext cx="2520" cy="648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0" y="0"/>
                    </a:moveTo>
                    <a:cubicBezTo>
                      <a:pt x="6" y="3"/>
                      <a:pt x="9" y="8"/>
                      <a:pt x="10" y="14"/>
                    </a:cubicBezTo>
                    <a:cubicBezTo>
                      <a:pt x="11" y="17"/>
                      <a:pt x="11" y="21"/>
                      <a:pt x="9" y="25"/>
                    </a:cubicBezTo>
                    <a:cubicBezTo>
                      <a:pt x="9" y="25"/>
                      <a:pt x="9" y="25"/>
                      <a:pt x="10" y="25"/>
                    </a:cubicBezTo>
                    <a:cubicBezTo>
                      <a:pt x="11" y="21"/>
                      <a:pt x="12" y="17"/>
                      <a:pt x="11" y="13"/>
                    </a:cubicBezTo>
                    <a:cubicBezTo>
                      <a:pt x="10" y="8"/>
                      <a:pt x="6" y="3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834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未知"/>
              <p:cNvSpPr/>
              <p:nvPr/>
            </p:nvSpPr>
            <p:spPr>
              <a:xfrm rot="19200000">
                <a:off x="2498400" y="484884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3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0" y="5"/>
                      <a:pt x="0" y="9"/>
                      <a:pt x="0" y="13"/>
                    </a:cubicBezTo>
                    <a:cubicBezTo>
                      <a:pt x="0" y="14"/>
                      <a:pt x="1" y="15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5"/>
                      <a:pt x="1" y="14"/>
                      <a:pt x="1" y="13"/>
                    </a:cubicBezTo>
                    <a:cubicBezTo>
                      <a:pt x="0" y="9"/>
                      <a:pt x="1" y="5"/>
                      <a:pt x="3" y="0"/>
                    </a:cubicBezTo>
                  </a:path>
                </a:pathLst>
              </a:custGeom>
              <a:solidFill>
                <a:srgbClr val="834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未知"/>
              <p:cNvSpPr/>
              <p:nvPr/>
            </p:nvSpPr>
            <p:spPr>
              <a:xfrm rot="19200000">
                <a:off x="2509920" y="483300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0" y="0"/>
                    </a:moveTo>
                    <a:cubicBezTo>
                      <a:pt x="5" y="3"/>
                      <a:pt x="9" y="8"/>
                      <a:pt x="10" y="14"/>
                    </a:cubicBezTo>
                    <a:cubicBezTo>
                      <a:pt x="11" y="18"/>
                      <a:pt x="10" y="22"/>
                      <a:pt x="8" y="26"/>
                    </a:cubicBezTo>
                    <a:cubicBezTo>
                      <a:pt x="9" y="26"/>
                      <a:pt x="9" y="25"/>
                      <a:pt x="9" y="25"/>
                    </a:cubicBezTo>
                    <a:cubicBezTo>
                      <a:pt x="11" y="21"/>
                      <a:pt x="11" y="17"/>
                      <a:pt x="10" y="14"/>
                    </a:cubicBezTo>
                    <a:cubicBezTo>
                      <a:pt x="9" y="8"/>
                      <a:pt x="6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844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未知"/>
              <p:cNvSpPr/>
              <p:nvPr/>
            </p:nvSpPr>
            <p:spPr>
              <a:xfrm rot="19200000">
                <a:off x="2498400" y="484884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5"/>
                      <a:pt x="0" y="9"/>
                      <a:pt x="1" y="13"/>
                    </a:cubicBezTo>
                    <a:cubicBezTo>
                      <a:pt x="1" y="14"/>
                      <a:pt x="1" y="15"/>
                      <a:pt x="1" y="16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1" y="14"/>
                      <a:pt x="1" y="13"/>
                    </a:cubicBezTo>
                    <a:cubicBezTo>
                      <a:pt x="0" y="9"/>
                      <a:pt x="1" y="4"/>
                      <a:pt x="3" y="0"/>
                    </a:cubicBezTo>
                  </a:path>
                </a:pathLst>
              </a:custGeom>
              <a:solidFill>
                <a:srgbClr val="844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未知"/>
              <p:cNvSpPr/>
              <p:nvPr/>
            </p:nvSpPr>
            <p:spPr>
              <a:xfrm rot="19200000">
                <a:off x="2509560" y="4832640"/>
                <a:ext cx="2520" cy="720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0"/>
                    </a:moveTo>
                    <a:cubicBezTo>
                      <a:pt x="5" y="4"/>
                      <a:pt x="9" y="9"/>
                      <a:pt x="11" y="15"/>
                    </a:cubicBezTo>
                    <a:cubicBezTo>
                      <a:pt x="11" y="19"/>
                      <a:pt x="11" y="23"/>
                      <a:pt x="9" y="27"/>
                    </a:cubicBezTo>
                    <a:cubicBezTo>
                      <a:pt x="9" y="27"/>
                      <a:pt x="9" y="27"/>
                      <a:pt x="9" y="27"/>
                    </a:cubicBezTo>
                    <a:cubicBezTo>
                      <a:pt x="11" y="23"/>
                      <a:pt x="12" y="19"/>
                      <a:pt x="11" y="15"/>
                    </a:cubicBezTo>
                    <a:cubicBezTo>
                      <a:pt x="10" y="9"/>
                      <a:pt x="6" y="4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844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未知"/>
              <p:cNvSpPr/>
              <p:nvPr/>
            </p:nvSpPr>
            <p:spPr>
              <a:xfrm rot="19200000">
                <a:off x="2498040" y="484884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3" y="1"/>
                      <a:pt x="3" y="1"/>
                    </a:cubicBezTo>
                    <a:cubicBezTo>
                      <a:pt x="1" y="5"/>
                      <a:pt x="0" y="10"/>
                      <a:pt x="1" y="14"/>
                    </a:cubicBezTo>
                    <a:cubicBezTo>
                      <a:pt x="1" y="15"/>
                      <a:pt x="2" y="16"/>
                      <a:pt x="2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5"/>
                      <a:pt x="2" y="14"/>
                    </a:cubicBezTo>
                    <a:cubicBezTo>
                      <a:pt x="1" y="9"/>
                      <a:pt x="2" y="4"/>
                      <a:pt x="4" y="0"/>
                    </a:cubicBezTo>
                  </a:path>
                </a:pathLst>
              </a:custGeom>
              <a:solidFill>
                <a:srgbClr val="844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rot="19200000">
                <a:off x="2509200" y="4833000"/>
                <a:ext cx="2520" cy="720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0"/>
                    </a:moveTo>
                    <a:cubicBezTo>
                      <a:pt x="6" y="4"/>
                      <a:pt x="10" y="9"/>
                      <a:pt x="11" y="15"/>
                    </a:cubicBezTo>
                    <a:cubicBezTo>
                      <a:pt x="12" y="19"/>
                      <a:pt x="11" y="23"/>
                      <a:pt x="9" y="2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2" y="23"/>
                      <a:pt x="12" y="19"/>
                      <a:pt x="12" y="15"/>
                    </a:cubicBezTo>
                    <a:cubicBezTo>
                      <a:pt x="10" y="9"/>
                      <a:pt x="6" y="4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854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未知"/>
              <p:cNvSpPr/>
              <p:nvPr/>
            </p:nvSpPr>
            <p:spPr>
              <a:xfrm rot="19200000">
                <a:off x="2498400" y="484848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4" y="0"/>
                    </a:moveTo>
                    <a:cubicBezTo>
                      <a:pt x="4" y="0"/>
                      <a:pt x="4" y="1"/>
                      <a:pt x="3" y="1"/>
                    </a:cubicBezTo>
                    <a:cubicBezTo>
                      <a:pt x="1" y="5"/>
                      <a:pt x="0" y="10"/>
                      <a:pt x="1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1" y="16"/>
                      <a:pt x="1" y="16"/>
                      <a:pt x="1" y="15"/>
                    </a:cubicBezTo>
                    <a:cubicBezTo>
                      <a:pt x="0" y="10"/>
                      <a:pt x="1" y="5"/>
                      <a:pt x="4" y="0"/>
                    </a:cubicBezTo>
                  </a:path>
                </a:pathLst>
              </a:custGeom>
              <a:solidFill>
                <a:srgbClr val="854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未知"/>
              <p:cNvSpPr/>
              <p:nvPr/>
            </p:nvSpPr>
            <p:spPr>
              <a:xfrm rot="19200000">
                <a:off x="2509200" y="4833000"/>
                <a:ext cx="2880" cy="72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cubicBezTo>
                      <a:pt x="6" y="4"/>
                      <a:pt x="10" y="9"/>
                      <a:pt x="12" y="15"/>
                    </a:cubicBezTo>
                    <a:cubicBezTo>
                      <a:pt x="12" y="19"/>
                      <a:pt x="12" y="23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2" y="23"/>
                      <a:pt x="13" y="19"/>
                      <a:pt x="12" y="15"/>
                    </a:cubicBezTo>
                    <a:cubicBezTo>
                      <a:pt x="11" y="9"/>
                      <a:pt x="7" y="4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8642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未知"/>
              <p:cNvSpPr/>
              <p:nvPr/>
            </p:nvSpPr>
            <p:spPr>
              <a:xfrm rot="19200000">
                <a:off x="2498040" y="484812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0"/>
                    </a:moveTo>
                    <a:cubicBezTo>
                      <a:pt x="5" y="0"/>
                      <a:pt x="5" y="1"/>
                      <a:pt x="4" y="1"/>
                    </a:cubicBezTo>
                    <a:cubicBezTo>
                      <a:pt x="1" y="6"/>
                      <a:pt x="0" y="11"/>
                      <a:pt x="1" y="16"/>
                    </a:cubicBezTo>
                    <a:cubicBezTo>
                      <a:pt x="1" y="17"/>
                      <a:pt x="1" y="17"/>
                      <a:pt x="2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17"/>
                      <a:pt x="2" y="17"/>
                      <a:pt x="2" y="16"/>
                    </a:cubicBezTo>
                    <a:cubicBezTo>
                      <a:pt x="0" y="10"/>
                      <a:pt x="2" y="5"/>
                      <a:pt x="5" y="0"/>
                    </a:cubicBezTo>
                  </a:path>
                </a:pathLst>
              </a:custGeom>
              <a:solidFill>
                <a:srgbClr val="8642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未知"/>
              <p:cNvSpPr/>
              <p:nvPr/>
            </p:nvSpPr>
            <p:spPr>
              <a:xfrm rot="19200000">
                <a:off x="2508840" y="483300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0" y="0"/>
                    </a:moveTo>
                    <a:cubicBezTo>
                      <a:pt x="7" y="4"/>
                      <a:pt x="11" y="9"/>
                      <a:pt x="12" y="15"/>
                    </a:cubicBezTo>
                    <a:cubicBezTo>
                      <a:pt x="13" y="19"/>
                      <a:pt x="12" y="24"/>
                      <a:pt x="10" y="28"/>
                    </a:cubicBezTo>
                    <a:cubicBezTo>
                      <a:pt x="10" y="28"/>
                      <a:pt x="11" y="28"/>
                      <a:pt x="11" y="27"/>
                    </a:cubicBezTo>
                    <a:cubicBezTo>
                      <a:pt x="13" y="23"/>
                      <a:pt x="13" y="19"/>
                      <a:pt x="13" y="15"/>
                    </a:cubicBezTo>
                    <a:cubicBezTo>
                      <a:pt x="11" y="9"/>
                      <a:pt x="7" y="4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8742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未知"/>
              <p:cNvSpPr/>
              <p:nvPr/>
            </p:nvSpPr>
            <p:spPr>
              <a:xfrm rot="19200000">
                <a:off x="2498040" y="4847760"/>
                <a:ext cx="1080" cy="504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cubicBezTo>
                      <a:pt x="6" y="0"/>
                      <a:pt x="6" y="1"/>
                      <a:pt x="5" y="1"/>
                    </a:cubicBezTo>
                    <a:cubicBezTo>
                      <a:pt x="2" y="6"/>
                      <a:pt x="0" y="11"/>
                      <a:pt x="2" y="17"/>
                    </a:cubicBezTo>
                    <a:cubicBezTo>
                      <a:pt x="2" y="18"/>
                      <a:pt x="2" y="18"/>
                      <a:pt x="2" y="19"/>
                    </a:cubicBezTo>
                    <a:cubicBezTo>
                      <a:pt x="2" y="19"/>
                      <a:pt x="2" y="19"/>
                      <a:pt x="3" y="19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1" y="11"/>
                      <a:pt x="3" y="5"/>
                      <a:pt x="6" y="0"/>
                    </a:cubicBezTo>
                  </a:path>
                </a:pathLst>
              </a:custGeom>
              <a:solidFill>
                <a:srgbClr val="8742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未知"/>
              <p:cNvSpPr/>
              <p:nvPr/>
            </p:nvSpPr>
            <p:spPr>
              <a:xfrm rot="19200000">
                <a:off x="2508840" y="483300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cubicBezTo>
                      <a:pt x="7" y="4"/>
                      <a:pt x="12" y="9"/>
                      <a:pt x="13" y="15"/>
                    </a:cubicBezTo>
                    <a:cubicBezTo>
                      <a:pt x="14" y="19"/>
                      <a:pt x="13" y="24"/>
                      <a:pt x="11" y="28"/>
                    </a:cubicBezTo>
                    <a:cubicBezTo>
                      <a:pt x="11" y="28"/>
                      <a:pt x="11" y="28"/>
                      <a:pt x="11" y="28"/>
                    </a:cubicBezTo>
                    <a:cubicBezTo>
                      <a:pt x="13" y="24"/>
                      <a:pt x="14" y="19"/>
                      <a:pt x="13" y="15"/>
                    </a:cubicBezTo>
                    <a:cubicBezTo>
                      <a:pt x="12" y="9"/>
                      <a:pt x="8" y="4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8843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未知"/>
              <p:cNvSpPr/>
              <p:nvPr/>
            </p:nvSpPr>
            <p:spPr>
              <a:xfrm rot="19200000">
                <a:off x="2498040" y="4847760"/>
                <a:ext cx="1080" cy="54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0"/>
                    </a:moveTo>
                    <a:cubicBezTo>
                      <a:pt x="6" y="1"/>
                      <a:pt x="6" y="1"/>
                      <a:pt x="5" y="1"/>
                    </a:cubicBezTo>
                    <a:cubicBezTo>
                      <a:pt x="2" y="6"/>
                      <a:pt x="0" y="12"/>
                      <a:pt x="1" y="18"/>
                    </a:cubicBezTo>
                    <a:cubicBezTo>
                      <a:pt x="1" y="18"/>
                      <a:pt x="1" y="19"/>
                      <a:pt x="2" y="20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2" y="19"/>
                      <a:pt x="2" y="18"/>
                      <a:pt x="1" y="18"/>
                    </a:cubicBezTo>
                    <a:cubicBezTo>
                      <a:pt x="0" y="12"/>
                      <a:pt x="2" y="6"/>
                      <a:pt x="6" y="0"/>
                    </a:cubicBezTo>
                  </a:path>
                </a:pathLst>
              </a:custGeom>
              <a:solidFill>
                <a:srgbClr val="8843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未知"/>
              <p:cNvSpPr/>
              <p:nvPr/>
            </p:nvSpPr>
            <p:spPr>
              <a:xfrm rot="19200000">
                <a:off x="2508840" y="4833000"/>
                <a:ext cx="3240" cy="756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0" y="0"/>
                    </a:moveTo>
                    <a:cubicBezTo>
                      <a:pt x="7" y="4"/>
                      <a:pt x="12" y="9"/>
                      <a:pt x="13" y="15"/>
                    </a:cubicBezTo>
                    <a:cubicBezTo>
                      <a:pt x="14" y="20"/>
                      <a:pt x="13" y="24"/>
                      <a:pt x="11" y="28"/>
                    </a:cubicBezTo>
                    <a:cubicBezTo>
                      <a:pt x="11" y="28"/>
                      <a:pt x="11" y="28"/>
                      <a:pt x="12" y="28"/>
                    </a:cubicBezTo>
                    <a:cubicBezTo>
                      <a:pt x="14" y="24"/>
                      <a:pt x="15" y="19"/>
                      <a:pt x="14" y="15"/>
                    </a:cubicBezTo>
                    <a:cubicBezTo>
                      <a:pt x="13" y="9"/>
                      <a:pt x="8" y="4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8943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未知"/>
              <p:cNvSpPr/>
              <p:nvPr/>
            </p:nvSpPr>
            <p:spPr>
              <a:xfrm rot="19200000">
                <a:off x="2498040" y="484740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8" y="0"/>
                    </a:moveTo>
                    <a:cubicBezTo>
                      <a:pt x="7" y="1"/>
                      <a:pt x="7" y="1"/>
                      <a:pt x="6" y="1"/>
                    </a:cubicBezTo>
                    <a:cubicBezTo>
                      <a:pt x="2" y="7"/>
                      <a:pt x="0" y="13"/>
                      <a:pt x="1" y="19"/>
                    </a:cubicBezTo>
                    <a:cubicBezTo>
                      <a:pt x="2" y="19"/>
                      <a:pt x="2" y="20"/>
                      <a:pt x="2" y="21"/>
                    </a:cubicBezTo>
                    <a:cubicBezTo>
                      <a:pt x="2" y="21"/>
                      <a:pt x="2" y="21"/>
                      <a:pt x="2" y="21"/>
                    </a:cubicBezTo>
                    <a:cubicBezTo>
                      <a:pt x="2" y="20"/>
                      <a:pt x="2" y="19"/>
                      <a:pt x="2" y="19"/>
                    </a:cubicBezTo>
                    <a:cubicBezTo>
                      <a:pt x="1" y="12"/>
                      <a:pt x="3" y="6"/>
                      <a:pt x="8" y="0"/>
                    </a:cubicBezTo>
                  </a:path>
                </a:pathLst>
              </a:custGeom>
              <a:solidFill>
                <a:srgbClr val="8943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未知"/>
              <p:cNvSpPr/>
              <p:nvPr/>
            </p:nvSpPr>
            <p:spPr>
              <a:xfrm rot="19200000">
                <a:off x="2508840" y="48333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0" y="0"/>
                    </a:moveTo>
                    <a:cubicBezTo>
                      <a:pt x="8" y="3"/>
                      <a:pt x="13" y="9"/>
                      <a:pt x="14" y="15"/>
                    </a:cubicBezTo>
                    <a:cubicBezTo>
                      <a:pt x="15" y="20"/>
                      <a:pt x="14" y="24"/>
                      <a:pt x="11" y="29"/>
                    </a:cubicBezTo>
                    <a:cubicBezTo>
                      <a:pt x="12" y="29"/>
                      <a:pt x="12" y="28"/>
                      <a:pt x="12" y="28"/>
                    </a:cubicBezTo>
                    <a:cubicBezTo>
                      <a:pt x="14" y="24"/>
                      <a:pt x="15" y="20"/>
                      <a:pt x="14" y="15"/>
                    </a:cubicBezTo>
                    <a:cubicBezTo>
                      <a:pt x="13" y="9"/>
                      <a:pt x="8" y="4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8943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未知"/>
              <p:cNvSpPr/>
              <p:nvPr/>
            </p:nvSpPr>
            <p:spPr>
              <a:xfrm rot="19200000">
                <a:off x="2498040" y="484668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8" y="0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2" y="7"/>
                      <a:pt x="0" y="13"/>
                      <a:pt x="1" y="20"/>
                    </a:cubicBezTo>
                    <a:cubicBezTo>
                      <a:pt x="1" y="20"/>
                      <a:pt x="1" y="21"/>
                      <a:pt x="1" y="22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1"/>
                      <a:pt x="1" y="20"/>
                      <a:pt x="1" y="19"/>
                    </a:cubicBezTo>
                    <a:cubicBezTo>
                      <a:pt x="0" y="13"/>
                      <a:pt x="3" y="6"/>
                      <a:pt x="8" y="0"/>
                    </a:cubicBezTo>
                  </a:path>
                </a:pathLst>
              </a:custGeom>
              <a:solidFill>
                <a:srgbClr val="8943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未知"/>
              <p:cNvSpPr/>
              <p:nvPr/>
            </p:nvSpPr>
            <p:spPr>
              <a:xfrm rot="19200000">
                <a:off x="2508840" y="48333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0" y="0"/>
                    </a:moveTo>
                    <a:cubicBezTo>
                      <a:pt x="8" y="3"/>
                      <a:pt x="13" y="9"/>
                      <a:pt x="14" y="15"/>
                    </a:cubicBezTo>
                    <a:cubicBezTo>
                      <a:pt x="15" y="20"/>
                      <a:pt x="14" y="25"/>
                      <a:pt x="12" y="29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5" y="24"/>
                      <a:pt x="16" y="20"/>
                      <a:pt x="15" y="15"/>
                    </a:cubicBezTo>
                    <a:cubicBezTo>
                      <a:pt x="14" y="9"/>
                      <a:pt x="9" y="3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8a44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未知"/>
              <p:cNvSpPr/>
              <p:nvPr/>
            </p:nvSpPr>
            <p:spPr>
              <a:xfrm rot="19200000">
                <a:off x="2497680" y="484632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9" y="0"/>
                    </a:moveTo>
                    <a:cubicBezTo>
                      <a:pt x="9" y="1"/>
                      <a:pt x="9" y="1"/>
                      <a:pt x="8" y="1"/>
                    </a:cubicBezTo>
                    <a:cubicBezTo>
                      <a:pt x="3" y="7"/>
                      <a:pt x="0" y="14"/>
                      <a:pt x="1" y="20"/>
                    </a:cubicBezTo>
                    <a:cubicBezTo>
                      <a:pt x="1" y="21"/>
                      <a:pt x="2" y="22"/>
                      <a:pt x="2" y="23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2" y="22"/>
                      <a:pt x="2" y="21"/>
                      <a:pt x="2" y="20"/>
                    </a:cubicBezTo>
                    <a:cubicBezTo>
                      <a:pt x="0" y="13"/>
                      <a:pt x="3" y="6"/>
                      <a:pt x="9" y="0"/>
                    </a:cubicBezTo>
                  </a:path>
                </a:pathLst>
              </a:custGeom>
              <a:solidFill>
                <a:srgbClr val="8a44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未知"/>
              <p:cNvSpPr/>
              <p:nvPr/>
            </p:nvSpPr>
            <p:spPr>
              <a:xfrm rot="19200000">
                <a:off x="2508120" y="4833720"/>
                <a:ext cx="3600" cy="792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0" y="0"/>
                    </a:moveTo>
                    <a:cubicBezTo>
                      <a:pt x="8" y="3"/>
                      <a:pt x="14" y="9"/>
                      <a:pt x="15" y="15"/>
                    </a:cubicBezTo>
                    <a:cubicBezTo>
                      <a:pt x="16" y="20"/>
                      <a:pt x="15" y="25"/>
                      <a:pt x="12" y="29"/>
                    </a:cubicBezTo>
                    <a:cubicBezTo>
                      <a:pt x="12" y="29"/>
                      <a:pt x="13" y="29"/>
                      <a:pt x="13" y="29"/>
                    </a:cubicBezTo>
                    <a:cubicBezTo>
                      <a:pt x="15" y="25"/>
                      <a:pt x="16" y="20"/>
                      <a:pt x="15" y="15"/>
                    </a:cubicBezTo>
                    <a:cubicBezTo>
                      <a:pt x="14" y="9"/>
                      <a:pt x="9" y="3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8b44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未知"/>
              <p:cNvSpPr/>
              <p:nvPr/>
            </p:nvSpPr>
            <p:spPr>
              <a:xfrm rot="19200000">
                <a:off x="2498040" y="484596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11" h="24">
                    <a:moveTo>
                      <a:pt x="11" y="0"/>
                    </a:moveTo>
                    <a:cubicBezTo>
                      <a:pt x="11" y="1"/>
                      <a:pt x="10" y="1"/>
                      <a:pt x="9" y="1"/>
                    </a:cubicBezTo>
                    <a:cubicBezTo>
                      <a:pt x="3" y="7"/>
                      <a:pt x="0" y="14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2" y="24"/>
                      <a:pt x="3" y="24"/>
                      <a:pt x="3" y="23"/>
                    </a:cubicBezTo>
                    <a:cubicBezTo>
                      <a:pt x="3" y="23"/>
                      <a:pt x="2" y="22"/>
                      <a:pt x="2" y="21"/>
                    </a:cubicBezTo>
                    <a:cubicBezTo>
                      <a:pt x="1" y="14"/>
                      <a:pt x="4" y="6"/>
                      <a:pt x="11" y="0"/>
                    </a:cubicBezTo>
                  </a:path>
                </a:pathLst>
              </a:custGeom>
              <a:solidFill>
                <a:srgbClr val="8b44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未知"/>
              <p:cNvSpPr/>
              <p:nvPr/>
            </p:nvSpPr>
            <p:spPr>
              <a:xfrm rot="19200000">
                <a:off x="2507760" y="4833720"/>
                <a:ext cx="3600" cy="792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0" y="0"/>
                    </a:moveTo>
                    <a:cubicBezTo>
                      <a:pt x="8" y="3"/>
                      <a:pt x="14" y="8"/>
                      <a:pt x="16" y="16"/>
                    </a:cubicBezTo>
                    <a:cubicBezTo>
                      <a:pt x="16" y="20"/>
                      <a:pt x="15" y="25"/>
                      <a:pt x="12" y="30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16" y="25"/>
                      <a:pt x="17" y="20"/>
                      <a:pt x="16" y="15"/>
                    </a:cubicBezTo>
                    <a:cubicBezTo>
                      <a:pt x="15" y="9"/>
                      <a:pt x="9" y="3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8c4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未知"/>
              <p:cNvSpPr/>
              <p:nvPr/>
            </p:nvSpPr>
            <p:spPr>
              <a:xfrm rot="19200000">
                <a:off x="2497680" y="4845600"/>
                <a:ext cx="2520" cy="612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0"/>
                    </a:moveTo>
                    <a:cubicBezTo>
                      <a:pt x="11" y="0"/>
                      <a:pt x="11" y="1"/>
                      <a:pt x="10" y="1"/>
                    </a:cubicBezTo>
                    <a:cubicBezTo>
                      <a:pt x="3" y="7"/>
                      <a:pt x="0" y="15"/>
                      <a:pt x="1" y="22"/>
                    </a:cubicBezTo>
                    <a:cubicBezTo>
                      <a:pt x="1" y="23"/>
                      <a:pt x="2" y="24"/>
                      <a:pt x="2" y="24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2" y="24"/>
                      <a:pt x="2" y="23"/>
                      <a:pt x="2" y="22"/>
                    </a:cubicBezTo>
                    <a:cubicBezTo>
                      <a:pt x="0" y="14"/>
                      <a:pt x="4" y="6"/>
                      <a:pt x="12" y="0"/>
                    </a:cubicBezTo>
                  </a:path>
                </a:pathLst>
              </a:custGeom>
              <a:solidFill>
                <a:srgbClr val="8c4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未知"/>
              <p:cNvSpPr/>
              <p:nvPr/>
            </p:nvSpPr>
            <p:spPr>
              <a:xfrm rot="19200000">
                <a:off x="2507760" y="4833360"/>
                <a:ext cx="3960" cy="792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0" y="0"/>
                    </a:moveTo>
                    <a:cubicBezTo>
                      <a:pt x="9" y="3"/>
                      <a:pt x="15" y="8"/>
                      <a:pt x="16" y="16"/>
                    </a:cubicBezTo>
                    <a:cubicBezTo>
                      <a:pt x="17" y="20"/>
                      <a:pt x="16" y="25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6" y="25"/>
                      <a:pt x="17" y="20"/>
                      <a:pt x="17" y="16"/>
                    </a:cubicBezTo>
                    <a:cubicBezTo>
                      <a:pt x="15" y="8"/>
                      <a:pt x="9" y="3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8d4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未知"/>
              <p:cNvSpPr/>
              <p:nvPr/>
            </p:nvSpPr>
            <p:spPr>
              <a:xfrm rot="19200000">
                <a:off x="2497680" y="484524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14" y="0"/>
                    </a:moveTo>
                    <a:cubicBezTo>
                      <a:pt x="13" y="0"/>
                      <a:pt x="13" y="1"/>
                      <a:pt x="12" y="1"/>
                    </a:cubicBezTo>
                    <a:cubicBezTo>
                      <a:pt x="4" y="7"/>
                      <a:pt x="0" y="15"/>
                      <a:pt x="2" y="23"/>
                    </a:cubicBezTo>
                    <a:cubicBezTo>
                      <a:pt x="2" y="24"/>
                      <a:pt x="2" y="25"/>
                      <a:pt x="2" y="25"/>
                    </a:cubicBezTo>
                    <a:cubicBezTo>
                      <a:pt x="2" y="25"/>
                      <a:pt x="3" y="25"/>
                      <a:pt x="3" y="25"/>
                    </a:cubicBezTo>
                    <a:cubicBezTo>
                      <a:pt x="2" y="25"/>
                      <a:pt x="2" y="24"/>
                      <a:pt x="2" y="23"/>
                    </a:cubicBezTo>
                    <a:cubicBezTo>
                      <a:pt x="0" y="15"/>
                      <a:pt x="5" y="6"/>
                      <a:pt x="14" y="0"/>
                    </a:cubicBezTo>
                  </a:path>
                </a:pathLst>
              </a:custGeom>
              <a:solidFill>
                <a:srgbClr val="8d4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未知"/>
              <p:cNvSpPr/>
              <p:nvPr/>
            </p:nvSpPr>
            <p:spPr>
              <a:xfrm rot="19200000">
                <a:off x="2507400" y="483408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0"/>
                    </a:moveTo>
                    <a:cubicBezTo>
                      <a:pt x="10" y="3"/>
                      <a:pt x="16" y="8"/>
                      <a:pt x="18" y="16"/>
                    </a:cubicBezTo>
                    <a:cubicBezTo>
                      <a:pt x="19" y="21"/>
                      <a:pt x="17" y="26"/>
                      <a:pt x="14" y="30"/>
                    </a:cubicBezTo>
                    <a:cubicBezTo>
                      <a:pt x="14" y="30"/>
                      <a:pt x="15" y="30"/>
                      <a:pt x="15" y="30"/>
                    </a:cubicBezTo>
                    <a:cubicBezTo>
                      <a:pt x="18" y="25"/>
                      <a:pt x="19" y="20"/>
                      <a:pt x="18" y="16"/>
                    </a:cubicBezTo>
                    <a:cubicBezTo>
                      <a:pt x="17" y="8"/>
                      <a:pt x="11" y="3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8e4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未知"/>
              <p:cNvSpPr/>
              <p:nvPr/>
            </p:nvSpPr>
            <p:spPr>
              <a:xfrm rot="19200000">
                <a:off x="2497320" y="484452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7" y="0"/>
                    </a:moveTo>
                    <a:cubicBezTo>
                      <a:pt x="16" y="1"/>
                      <a:pt x="15" y="1"/>
                      <a:pt x="14" y="2"/>
                    </a:cubicBezTo>
                    <a:cubicBezTo>
                      <a:pt x="5" y="8"/>
                      <a:pt x="0" y="17"/>
                      <a:pt x="2" y="25"/>
                    </a:cubicBezTo>
                    <a:cubicBezTo>
                      <a:pt x="2" y="26"/>
                      <a:pt x="2" y="27"/>
                      <a:pt x="3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" y="27"/>
                      <a:pt x="3" y="26"/>
                      <a:pt x="3" y="25"/>
                    </a:cubicBezTo>
                    <a:cubicBezTo>
                      <a:pt x="1" y="16"/>
                      <a:pt x="7" y="7"/>
                      <a:pt x="17" y="0"/>
                    </a:cubicBezTo>
                  </a:path>
                </a:pathLst>
              </a:custGeom>
              <a:solidFill>
                <a:srgbClr val="8e4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未知"/>
              <p:cNvSpPr/>
              <p:nvPr/>
            </p:nvSpPr>
            <p:spPr>
              <a:xfrm rot="19200000">
                <a:off x="2507400" y="483408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0" y="0"/>
                    </a:moveTo>
                    <a:cubicBezTo>
                      <a:pt x="10" y="2"/>
                      <a:pt x="17" y="8"/>
                      <a:pt x="18" y="16"/>
                    </a:cubicBezTo>
                    <a:cubicBezTo>
                      <a:pt x="19" y="21"/>
                      <a:pt x="18" y="26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8" y="26"/>
                      <a:pt x="20" y="21"/>
                      <a:pt x="19" y="16"/>
                    </a:cubicBezTo>
                    <a:cubicBezTo>
                      <a:pt x="17" y="8"/>
                      <a:pt x="11" y="3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8f4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未知"/>
              <p:cNvSpPr/>
              <p:nvPr/>
            </p:nvSpPr>
            <p:spPr>
              <a:xfrm rot="19200000">
                <a:off x="2497320" y="4843800"/>
                <a:ext cx="4320" cy="75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0"/>
                    </a:moveTo>
                    <a:cubicBezTo>
                      <a:pt x="18" y="0"/>
                      <a:pt x="17" y="1"/>
                      <a:pt x="16" y="1"/>
                    </a:cubicBezTo>
                    <a:cubicBezTo>
                      <a:pt x="6" y="8"/>
                      <a:pt x="0" y="17"/>
                      <a:pt x="2" y="26"/>
                    </a:cubicBezTo>
                    <a:cubicBezTo>
                      <a:pt x="2" y="27"/>
                      <a:pt x="2" y="28"/>
                      <a:pt x="2" y="28"/>
                    </a:cubicBezTo>
                    <a:cubicBezTo>
                      <a:pt x="2" y="28"/>
                      <a:pt x="2" y="28"/>
                      <a:pt x="3" y="28"/>
                    </a:cubicBezTo>
                    <a:cubicBezTo>
                      <a:pt x="2" y="27"/>
                      <a:pt x="2" y="27"/>
                      <a:pt x="2" y="26"/>
                    </a:cubicBezTo>
                    <a:cubicBezTo>
                      <a:pt x="0" y="16"/>
                      <a:pt x="7" y="6"/>
                      <a:pt x="19" y="0"/>
                    </a:cubicBezTo>
                  </a:path>
                </a:pathLst>
              </a:custGeom>
              <a:solidFill>
                <a:srgbClr val="8f4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未知"/>
              <p:cNvSpPr/>
              <p:nvPr/>
            </p:nvSpPr>
            <p:spPr>
              <a:xfrm rot="19200000">
                <a:off x="2507040" y="4834080"/>
                <a:ext cx="4680" cy="864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0" y="0"/>
                    </a:moveTo>
                    <a:cubicBezTo>
                      <a:pt x="11" y="3"/>
                      <a:pt x="18" y="9"/>
                      <a:pt x="20" y="17"/>
                    </a:cubicBezTo>
                    <a:cubicBezTo>
                      <a:pt x="21" y="22"/>
                      <a:pt x="19" y="27"/>
                      <a:pt x="16" y="32"/>
                    </a:cubicBezTo>
                    <a:cubicBezTo>
                      <a:pt x="16" y="32"/>
                      <a:pt x="16" y="31"/>
                      <a:pt x="17" y="31"/>
                    </a:cubicBezTo>
                    <a:cubicBezTo>
                      <a:pt x="20" y="27"/>
                      <a:pt x="21" y="22"/>
                      <a:pt x="20" y="17"/>
                    </a:cubicBezTo>
                    <a:cubicBezTo>
                      <a:pt x="19" y="9"/>
                      <a:pt x="12" y="3"/>
                      <a:pt x="2" y="1"/>
                    </a:cubicBez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904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未知"/>
              <p:cNvSpPr/>
              <p:nvPr/>
            </p:nvSpPr>
            <p:spPr>
              <a:xfrm rot="19200000">
                <a:off x="2496960" y="48430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24" y="0"/>
                    </a:moveTo>
                    <a:cubicBezTo>
                      <a:pt x="23" y="0"/>
                      <a:pt x="21" y="1"/>
                      <a:pt x="19" y="2"/>
                    </a:cubicBezTo>
                    <a:cubicBezTo>
                      <a:pt x="7" y="8"/>
                      <a:pt x="0" y="18"/>
                      <a:pt x="2" y="28"/>
                    </a:cubicBezTo>
                    <a:cubicBezTo>
                      <a:pt x="2" y="29"/>
                      <a:pt x="2" y="29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29"/>
                      <a:pt x="3" y="29"/>
                      <a:pt x="2" y="28"/>
                    </a:cubicBezTo>
                    <a:cubicBezTo>
                      <a:pt x="0" y="17"/>
                      <a:pt x="10" y="6"/>
                      <a:pt x="24" y="0"/>
                    </a:cubicBezTo>
                  </a:path>
                </a:pathLst>
              </a:custGeom>
              <a:solidFill>
                <a:srgbClr val="904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 rot="19200000">
                <a:off x="2506680" y="483408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23" h="32">
                    <a:moveTo>
                      <a:pt x="0" y="0"/>
                    </a:moveTo>
                    <a:cubicBezTo>
                      <a:pt x="12" y="3"/>
                      <a:pt x="20" y="9"/>
                      <a:pt x="21" y="17"/>
                    </a:cubicBezTo>
                    <a:cubicBezTo>
                      <a:pt x="22" y="22"/>
                      <a:pt x="21" y="27"/>
                      <a:pt x="17" y="32"/>
                    </a:cubicBezTo>
                    <a:cubicBezTo>
                      <a:pt x="17" y="32"/>
                      <a:pt x="18" y="32"/>
                      <a:pt x="18" y="32"/>
                    </a:cubicBezTo>
                    <a:cubicBezTo>
                      <a:pt x="21" y="27"/>
                      <a:pt x="23" y="22"/>
                      <a:pt x="22" y="17"/>
                    </a:cubicBezTo>
                    <a:cubicBezTo>
                      <a:pt x="20" y="9"/>
                      <a:pt x="13" y="3"/>
                      <a:pt x="2" y="0"/>
                    </a:cubicBez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914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未知"/>
              <p:cNvSpPr/>
              <p:nvPr/>
            </p:nvSpPr>
            <p:spPr>
              <a:xfrm rot="19200000">
                <a:off x="2496960" y="484236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0"/>
                    </a:moveTo>
                    <a:cubicBezTo>
                      <a:pt x="29" y="0"/>
                      <a:pt x="29" y="0"/>
                      <a:pt x="28" y="0"/>
                    </a:cubicBezTo>
                    <a:cubicBezTo>
                      <a:pt x="27" y="1"/>
                      <a:pt x="26" y="1"/>
                      <a:pt x="24" y="2"/>
                    </a:cubicBezTo>
                    <a:cubicBezTo>
                      <a:pt x="10" y="8"/>
                      <a:pt x="0" y="19"/>
                      <a:pt x="2" y="30"/>
                    </a:cubicBezTo>
                    <a:cubicBezTo>
                      <a:pt x="3" y="31"/>
                      <a:pt x="3" y="31"/>
                      <a:pt x="3" y="32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1" y="18"/>
                      <a:pt x="12" y="6"/>
                      <a:pt x="29" y="0"/>
                    </a:cubicBezTo>
                  </a:path>
                </a:pathLst>
              </a:custGeom>
              <a:solidFill>
                <a:srgbClr val="914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未知"/>
              <p:cNvSpPr/>
              <p:nvPr/>
            </p:nvSpPr>
            <p:spPr>
              <a:xfrm rot="19200000">
                <a:off x="2505960" y="483408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0" y="0"/>
                    </a:moveTo>
                    <a:cubicBezTo>
                      <a:pt x="12" y="2"/>
                      <a:pt x="21" y="8"/>
                      <a:pt x="23" y="17"/>
                    </a:cubicBezTo>
                    <a:cubicBezTo>
                      <a:pt x="24" y="22"/>
                      <a:pt x="22" y="28"/>
                      <a:pt x="18" y="32"/>
                    </a:cubicBezTo>
                    <a:cubicBezTo>
                      <a:pt x="19" y="32"/>
                      <a:pt x="19" y="32"/>
                      <a:pt x="19" y="32"/>
                    </a:cubicBezTo>
                    <a:cubicBezTo>
                      <a:pt x="23" y="27"/>
                      <a:pt x="24" y="22"/>
                      <a:pt x="23" y="17"/>
                    </a:cubicBezTo>
                    <a:cubicBezTo>
                      <a:pt x="22" y="9"/>
                      <a:pt x="14" y="3"/>
                      <a:pt x="2" y="0"/>
                    </a:cubicBez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924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未知"/>
              <p:cNvSpPr/>
              <p:nvPr/>
            </p:nvSpPr>
            <p:spPr>
              <a:xfrm rot="19200000">
                <a:off x="2496960" y="484200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0"/>
                    </a:moveTo>
                    <a:cubicBezTo>
                      <a:pt x="30" y="0"/>
                      <a:pt x="29" y="0"/>
                      <a:pt x="28" y="0"/>
                    </a:cubicBezTo>
                    <a:cubicBezTo>
                      <a:pt x="11" y="6"/>
                      <a:pt x="0" y="18"/>
                      <a:pt x="2" y="30"/>
                    </a:cubicBezTo>
                    <a:cubicBezTo>
                      <a:pt x="2" y="31"/>
                      <a:pt x="2" y="31"/>
                      <a:pt x="2" y="32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1"/>
                      <a:pt x="2" y="30"/>
                      <a:pt x="2" y="30"/>
                    </a:cubicBezTo>
                    <a:cubicBezTo>
                      <a:pt x="0" y="17"/>
                      <a:pt x="13" y="4"/>
                      <a:pt x="32" y="0"/>
                    </a:cubicBezTo>
                  </a:path>
                </a:pathLst>
              </a:custGeom>
              <a:solidFill>
                <a:srgbClr val="924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未知"/>
              <p:cNvSpPr/>
              <p:nvPr/>
            </p:nvSpPr>
            <p:spPr>
              <a:xfrm rot="19200000">
                <a:off x="2505600" y="483444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0" y="0"/>
                    </a:moveTo>
                    <a:cubicBezTo>
                      <a:pt x="13" y="1"/>
                      <a:pt x="24" y="8"/>
                      <a:pt x="25" y="17"/>
                    </a:cubicBezTo>
                    <a:cubicBezTo>
                      <a:pt x="26" y="22"/>
                      <a:pt x="25" y="28"/>
                      <a:pt x="21" y="33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5" y="28"/>
                      <a:pt x="27" y="22"/>
                      <a:pt x="26" y="17"/>
                    </a:cubicBezTo>
                    <a:cubicBezTo>
                      <a:pt x="24" y="8"/>
                      <a:pt x="15" y="2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9348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未知"/>
              <p:cNvSpPr/>
              <p:nvPr/>
            </p:nvSpPr>
            <p:spPr>
              <a:xfrm rot="19200000">
                <a:off x="2496960" y="484128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37" h="33">
                    <a:moveTo>
                      <a:pt x="37" y="0"/>
                    </a:moveTo>
                    <a:cubicBezTo>
                      <a:pt x="35" y="0"/>
                      <a:pt x="33" y="0"/>
                      <a:pt x="32" y="1"/>
                    </a:cubicBezTo>
                    <a:cubicBezTo>
                      <a:pt x="13" y="5"/>
                      <a:pt x="0" y="18"/>
                      <a:pt x="2" y="31"/>
                    </a:cubicBezTo>
                    <a:cubicBezTo>
                      <a:pt x="2" y="31"/>
                      <a:pt x="3" y="32"/>
                      <a:pt x="3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2"/>
                      <a:pt x="3" y="31"/>
                      <a:pt x="3" y="31"/>
                    </a:cubicBezTo>
                    <a:cubicBezTo>
                      <a:pt x="0" y="18"/>
                      <a:pt x="15" y="4"/>
                      <a:pt x="35" y="0"/>
                    </a:cubicBezTo>
                    <a:cubicBezTo>
                      <a:pt x="36" y="0"/>
                      <a:pt x="36" y="0"/>
                      <a:pt x="37" y="0"/>
                    </a:cubicBezTo>
                  </a:path>
                </a:pathLst>
              </a:custGeom>
              <a:solidFill>
                <a:srgbClr val="9348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未知"/>
              <p:cNvSpPr/>
              <p:nvPr/>
            </p:nvSpPr>
            <p:spPr>
              <a:xfrm rot="19200000">
                <a:off x="2495520" y="483804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49" y="0"/>
                    </a:moveTo>
                    <a:cubicBezTo>
                      <a:pt x="45" y="0"/>
                      <a:pt x="41" y="0"/>
                      <a:pt x="37" y="1"/>
                    </a:cubicBezTo>
                    <a:cubicBezTo>
                      <a:pt x="36" y="1"/>
                      <a:pt x="36" y="1"/>
                      <a:pt x="35" y="1"/>
                    </a:cubicBezTo>
                    <a:cubicBezTo>
                      <a:pt x="15" y="5"/>
                      <a:pt x="0" y="19"/>
                      <a:pt x="3" y="32"/>
                    </a:cubicBezTo>
                    <a:cubicBezTo>
                      <a:pt x="3" y="32"/>
                      <a:pt x="3" y="33"/>
                      <a:pt x="3" y="34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4" y="33"/>
                      <a:pt x="3" y="32"/>
                      <a:pt x="3" y="31"/>
                    </a:cubicBezTo>
                    <a:cubicBezTo>
                      <a:pt x="1" y="19"/>
                      <a:pt x="15" y="5"/>
                      <a:pt x="35" y="1"/>
                    </a:cubicBezTo>
                    <a:cubicBezTo>
                      <a:pt x="39" y="1"/>
                      <a:pt x="43" y="0"/>
                      <a:pt x="46" y="0"/>
                    </a:cubicBezTo>
                    <a:cubicBezTo>
                      <a:pt x="61" y="0"/>
                      <a:pt x="74" y="7"/>
                      <a:pt x="76" y="17"/>
                    </a:cubicBezTo>
                    <a:cubicBezTo>
                      <a:pt x="77" y="23"/>
                      <a:pt x="75" y="28"/>
                      <a:pt x="71" y="33"/>
                    </a:cubicBezTo>
                    <a:cubicBezTo>
                      <a:pt x="71" y="33"/>
                      <a:pt x="72" y="33"/>
                      <a:pt x="72" y="33"/>
                    </a:cubicBezTo>
                    <a:cubicBezTo>
                      <a:pt x="76" y="28"/>
                      <a:pt x="77" y="22"/>
                      <a:pt x="76" y="17"/>
                    </a:cubicBezTo>
                    <a:cubicBezTo>
                      <a:pt x="75" y="8"/>
                      <a:pt x="64" y="1"/>
                      <a:pt x="51" y="0"/>
                    </a:cubicBezTo>
                    <a:cubicBezTo>
                      <a:pt x="50" y="0"/>
                      <a:pt x="49" y="0"/>
                      <a:pt x="49" y="0"/>
                    </a:cubicBezTo>
                  </a:path>
                </a:pathLst>
              </a:custGeom>
              <a:solidFill>
                <a:srgbClr val="9448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未知"/>
              <p:cNvSpPr/>
              <p:nvPr/>
            </p:nvSpPr>
            <p:spPr>
              <a:xfrm rot="19200000">
                <a:off x="2495520" y="483804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76" h="34">
                    <a:moveTo>
                      <a:pt x="45" y="0"/>
                    </a:moveTo>
                    <a:cubicBezTo>
                      <a:pt x="42" y="0"/>
                      <a:pt x="38" y="1"/>
                      <a:pt x="34" y="1"/>
                    </a:cubicBezTo>
                    <a:cubicBezTo>
                      <a:pt x="14" y="5"/>
                      <a:pt x="0" y="19"/>
                      <a:pt x="2" y="31"/>
                    </a:cubicBezTo>
                    <a:cubicBezTo>
                      <a:pt x="2" y="32"/>
                      <a:pt x="3" y="33"/>
                      <a:pt x="3" y="34"/>
                    </a:cubicBezTo>
                    <a:cubicBezTo>
                      <a:pt x="3" y="34"/>
                      <a:pt x="3" y="34"/>
                      <a:pt x="3" y="34"/>
                    </a:cubicBezTo>
                    <a:cubicBezTo>
                      <a:pt x="3" y="33"/>
                      <a:pt x="3" y="32"/>
                      <a:pt x="3" y="31"/>
                    </a:cubicBezTo>
                    <a:cubicBezTo>
                      <a:pt x="0" y="19"/>
                      <a:pt x="14" y="5"/>
                      <a:pt x="34" y="2"/>
                    </a:cubicBezTo>
                    <a:cubicBezTo>
                      <a:pt x="38" y="1"/>
                      <a:pt x="41" y="1"/>
                      <a:pt x="45" y="1"/>
                    </a:cubicBezTo>
                    <a:cubicBezTo>
                      <a:pt x="60" y="1"/>
                      <a:pt x="73" y="7"/>
                      <a:pt x="75" y="17"/>
                    </a:cubicBezTo>
                    <a:cubicBezTo>
                      <a:pt x="76" y="23"/>
                      <a:pt x="74" y="28"/>
                      <a:pt x="69" y="33"/>
                    </a:cubicBezTo>
                    <a:cubicBezTo>
                      <a:pt x="70" y="33"/>
                      <a:pt x="70" y="33"/>
                      <a:pt x="70" y="33"/>
                    </a:cubicBezTo>
                    <a:cubicBezTo>
                      <a:pt x="74" y="28"/>
                      <a:pt x="76" y="23"/>
                      <a:pt x="75" y="17"/>
                    </a:cubicBezTo>
                    <a:cubicBezTo>
                      <a:pt x="73" y="7"/>
                      <a:pt x="60" y="0"/>
                      <a:pt x="45" y="0"/>
                    </a:cubicBezTo>
                  </a:path>
                </a:pathLst>
              </a:custGeom>
              <a:solidFill>
                <a:srgbClr val="954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未知"/>
              <p:cNvSpPr/>
              <p:nvPr/>
            </p:nvSpPr>
            <p:spPr>
              <a:xfrm rot="19200000">
                <a:off x="2495880" y="4838400"/>
                <a:ext cx="17280" cy="8640"/>
              </a:xfrm>
              <a:custGeom>
                <a:avLst/>
                <a:gdLst/>
                <a:ahLst/>
                <a:rect l="l" t="t" r="r" b="b"/>
                <a:pathLst>
                  <a:path w="76" h="33">
                    <a:moveTo>
                      <a:pt x="45" y="0"/>
                    </a:moveTo>
                    <a:cubicBezTo>
                      <a:pt x="41" y="0"/>
                      <a:pt x="38" y="0"/>
                      <a:pt x="34" y="1"/>
                    </a:cubicBezTo>
                    <a:cubicBezTo>
                      <a:pt x="14" y="4"/>
                      <a:pt x="0" y="18"/>
                      <a:pt x="3" y="30"/>
                    </a:cubicBezTo>
                    <a:cubicBezTo>
                      <a:pt x="3" y="31"/>
                      <a:pt x="3" y="32"/>
                      <a:pt x="3" y="33"/>
                    </a:cubicBezTo>
                    <a:cubicBezTo>
                      <a:pt x="3" y="33"/>
                      <a:pt x="4" y="33"/>
                      <a:pt x="4" y="33"/>
                    </a:cubicBezTo>
                    <a:cubicBezTo>
                      <a:pt x="3" y="32"/>
                      <a:pt x="3" y="31"/>
                      <a:pt x="3" y="30"/>
                    </a:cubicBezTo>
                    <a:cubicBezTo>
                      <a:pt x="1" y="18"/>
                      <a:pt x="15" y="5"/>
                      <a:pt x="34" y="1"/>
                    </a:cubicBezTo>
                    <a:cubicBezTo>
                      <a:pt x="38" y="0"/>
                      <a:pt x="41" y="0"/>
                      <a:pt x="45" y="0"/>
                    </a:cubicBezTo>
                    <a:cubicBezTo>
                      <a:pt x="60" y="0"/>
                      <a:pt x="72" y="6"/>
                      <a:pt x="74" y="16"/>
                    </a:cubicBezTo>
                    <a:cubicBezTo>
                      <a:pt x="75" y="22"/>
                      <a:pt x="73" y="28"/>
                      <a:pt x="69" y="32"/>
                    </a:cubicBezTo>
                    <a:cubicBezTo>
                      <a:pt x="69" y="32"/>
                      <a:pt x="69" y="32"/>
                      <a:pt x="69" y="32"/>
                    </a:cubicBezTo>
                    <a:cubicBezTo>
                      <a:pt x="74" y="27"/>
                      <a:pt x="76" y="22"/>
                      <a:pt x="75" y="16"/>
                    </a:cubicBezTo>
                    <a:cubicBezTo>
                      <a:pt x="73" y="6"/>
                      <a:pt x="60" y="0"/>
                      <a:pt x="45" y="0"/>
                    </a:cubicBezTo>
                  </a:path>
                </a:pathLst>
              </a:custGeom>
              <a:solidFill>
                <a:srgbClr val="964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未知"/>
              <p:cNvSpPr/>
              <p:nvPr/>
            </p:nvSpPr>
            <p:spPr>
              <a:xfrm rot="19200000">
                <a:off x="2495880" y="4838400"/>
                <a:ext cx="16560" cy="8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44" y="0"/>
                    </a:moveTo>
                    <a:cubicBezTo>
                      <a:pt x="40" y="0"/>
                      <a:pt x="37" y="0"/>
                      <a:pt x="33" y="1"/>
                    </a:cubicBezTo>
                    <a:cubicBezTo>
                      <a:pt x="14" y="5"/>
                      <a:pt x="0" y="18"/>
                      <a:pt x="2" y="30"/>
                    </a:cubicBezTo>
                    <a:cubicBezTo>
                      <a:pt x="2" y="31"/>
                      <a:pt x="2" y="32"/>
                      <a:pt x="3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2"/>
                      <a:pt x="3" y="31"/>
                      <a:pt x="3" y="30"/>
                    </a:cubicBezTo>
                    <a:cubicBezTo>
                      <a:pt x="0" y="18"/>
                      <a:pt x="14" y="5"/>
                      <a:pt x="33" y="1"/>
                    </a:cubicBezTo>
                    <a:cubicBezTo>
                      <a:pt x="37" y="0"/>
                      <a:pt x="40" y="0"/>
                      <a:pt x="44" y="0"/>
                    </a:cubicBezTo>
                    <a:cubicBezTo>
                      <a:pt x="59" y="0"/>
                      <a:pt x="71" y="7"/>
                      <a:pt x="73" y="16"/>
                    </a:cubicBezTo>
                    <a:cubicBezTo>
                      <a:pt x="74" y="22"/>
                      <a:pt x="71" y="28"/>
                      <a:pt x="67" y="33"/>
                    </a:cubicBezTo>
                    <a:cubicBezTo>
                      <a:pt x="67" y="33"/>
                      <a:pt x="67" y="33"/>
                      <a:pt x="68" y="32"/>
                    </a:cubicBezTo>
                    <a:cubicBezTo>
                      <a:pt x="72" y="28"/>
                      <a:pt x="74" y="22"/>
                      <a:pt x="73" y="16"/>
                    </a:cubicBezTo>
                    <a:cubicBezTo>
                      <a:pt x="71" y="6"/>
                      <a:pt x="59" y="0"/>
                      <a:pt x="44" y="0"/>
                    </a:cubicBezTo>
                  </a:path>
                </a:pathLst>
              </a:custGeom>
              <a:solidFill>
                <a:srgbClr val="964a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未知"/>
              <p:cNvSpPr/>
              <p:nvPr/>
            </p:nvSpPr>
            <p:spPr>
              <a:xfrm rot="19200000">
                <a:off x="2495880" y="4838400"/>
                <a:ext cx="16560" cy="8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44" y="0"/>
                    </a:moveTo>
                    <a:cubicBezTo>
                      <a:pt x="40" y="0"/>
                      <a:pt x="37" y="0"/>
                      <a:pt x="33" y="1"/>
                    </a:cubicBezTo>
                    <a:cubicBezTo>
                      <a:pt x="14" y="5"/>
                      <a:pt x="0" y="18"/>
                      <a:pt x="3" y="30"/>
                    </a:cubicBezTo>
                    <a:cubicBezTo>
                      <a:pt x="3" y="31"/>
                      <a:pt x="3" y="32"/>
                      <a:pt x="3" y="33"/>
                    </a:cubicBezTo>
                    <a:cubicBezTo>
                      <a:pt x="3" y="33"/>
                      <a:pt x="4" y="33"/>
                      <a:pt x="4" y="33"/>
                    </a:cubicBezTo>
                    <a:cubicBezTo>
                      <a:pt x="3" y="32"/>
                      <a:pt x="3" y="31"/>
                      <a:pt x="3" y="30"/>
                    </a:cubicBezTo>
                    <a:cubicBezTo>
                      <a:pt x="1" y="18"/>
                      <a:pt x="14" y="5"/>
                      <a:pt x="33" y="1"/>
                    </a:cubicBezTo>
                    <a:cubicBezTo>
                      <a:pt x="37" y="1"/>
                      <a:pt x="40" y="0"/>
                      <a:pt x="44" y="0"/>
                    </a:cubicBezTo>
                    <a:cubicBezTo>
                      <a:pt x="58" y="0"/>
                      <a:pt x="70" y="7"/>
                      <a:pt x="72" y="17"/>
                    </a:cubicBezTo>
                    <a:cubicBezTo>
                      <a:pt x="73" y="22"/>
                      <a:pt x="71" y="28"/>
                      <a:pt x="66" y="33"/>
                    </a:cubicBezTo>
                    <a:cubicBezTo>
                      <a:pt x="66" y="33"/>
                      <a:pt x="67" y="33"/>
                      <a:pt x="67" y="33"/>
                    </a:cubicBezTo>
                    <a:cubicBezTo>
                      <a:pt x="71" y="28"/>
                      <a:pt x="74" y="22"/>
                      <a:pt x="73" y="16"/>
                    </a:cubicBezTo>
                    <a:cubicBezTo>
                      <a:pt x="71" y="7"/>
                      <a:pt x="59" y="0"/>
                      <a:pt x="44" y="0"/>
                    </a:cubicBezTo>
                  </a:path>
                </a:pathLst>
              </a:custGeom>
              <a:solidFill>
                <a:srgbClr val="984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未知"/>
              <p:cNvSpPr/>
              <p:nvPr/>
            </p:nvSpPr>
            <p:spPr>
              <a:xfrm rot="19200000">
                <a:off x="2496240" y="4838400"/>
                <a:ext cx="16200" cy="864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43" y="0"/>
                    </a:moveTo>
                    <a:cubicBezTo>
                      <a:pt x="39" y="0"/>
                      <a:pt x="36" y="1"/>
                      <a:pt x="32" y="1"/>
                    </a:cubicBezTo>
                    <a:cubicBezTo>
                      <a:pt x="13" y="5"/>
                      <a:pt x="0" y="18"/>
                      <a:pt x="2" y="30"/>
                    </a:cubicBezTo>
                    <a:cubicBezTo>
                      <a:pt x="2" y="31"/>
                      <a:pt x="2" y="32"/>
                      <a:pt x="3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2"/>
                      <a:pt x="3" y="31"/>
                      <a:pt x="2" y="30"/>
                    </a:cubicBezTo>
                    <a:cubicBezTo>
                      <a:pt x="0" y="18"/>
                      <a:pt x="13" y="5"/>
                      <a:pt x="32" y="2"/>
                    </a:cubicBezTo>
                    <a:cubicBezTo>
                      <a:pt x="36" y="1"/>
                      <a:pt x="39" y="1"/>
                      <a:pt x="43" y="1"/>
                    </a:cubicBezTo>
                    <a:cubicBezTo>
                      <a:pt x="57" y="1"/>
                      <a:pt x="69" y="7"/>
                      <a:pt x="71" y="17"/>
                    </a:cubicBezTo>
                    <a:cubicBezTo>
                      <a:pt x="72" y="22"/>
                      <a:pt x="69" y="28"/>
                      <a:pt x="64" y="33"/>
                    </a:cubicBezTo>
                    <a:cubicBezTo>
                      <a:pt x="65" y="33"/>
                      <a:pt x="65" y="33"/>
                      <a:pt x="65" y="33"/>
                    </a:cubicBezTo>
                    <a:cubicBezTo>
                      <a:pt x="70" y="28"/>
                      <a:pt x="72" y="22"/>
                      <a:pt x="71" y="17"/>
                    </a:cubicBezTo>
                    <a:cubicBezTo>
                      <a:pt x="69" y="7"/>
                      <a:pt x="57" y="0"/>
                      <a:pt x="43" y="0"/>
                    </a:cubicBezTo>
                  </a:path>
                </a:pathLst>
              </a:custGeom>
              <a:solidFill>
                <a:srgbClr val="984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未知"/>
              <p:cNvSpPr/>
              <p:nvPr/>
            </p:nvSpPr>
            <p:spPr>
              <a:xfrm rot="19200000">
                <a:off x="2496600" y="4838760"/>
                <a:ext cx="16200" cy="864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43" y="0"/>
                    </a:moveTo>
                    <a:cubicBezTo>
                      <a:pt x="39" y="0"/>
                      <a:pt x="36" y="0"/>
                      <a:pt x="32" y="1"/>
                    </a:cubicBezTo>
                    <a:cubicBezTo>
                      <a:pt x="13" y="4"/>
                      <a:pt x="0" y="17"/>
                      <a:pt x="2" y="29"/>
                    </a:cubicBezTo>
                    <a:cubicBezTo>
                      <a:pt x="3" y="30"/>
                      <a:pt x="3" y="31"/>
                      <a:pt x="3" y="32"/>
                    </a:cubicBezTo>
                    <a:cubicBezTo>
                      <a:pt x="3" y="32"/>
                      <a:pt x="3" y="32"/>
                      <a:pt x="4" y="32"/>
                    </a:cubicBezTo>
                    <a:cubicBezTo>
                      <a:pt x="3" y="31"/>
                      <a:pt x="3" y="30"/>
                      <a:pt x="3" y="29"/>
                    </a:cubicBezTo>
                    <a:cubicBezTo>
                      <a:pt x="1" y="17"/>
                      <a:pt x="14" y="5"/>
                      <a:pt x="32" y="1"/>
                    </a:cubicBezTo>
                    <a:cubicBezTo>
                      <a:pt x="36" y="0"/>
                      <a:pt x="39" y="0"/>
                      <a:pt x="43" y="0"/>
                    </a:cubicBezTo>
                    <a:cubicBezTo>
                      <a:pt x="57" y="0"/>
                      <a:pt x="68" y="6"/>
                      <a:pt x="70" y="16"/>
                    </a:cubicBezTo>
                    <a:cubicBezTo>
                      <a:pt x="71" y="22"/>
                      <a:pt x="69" y="28"/>
                      <a:pt x="63" y="33"/>
                    </a:cubicBezTo>
                    <a:cubicBezTo>
                      <a:pt x="64" y="33"/>
                      <a:pt x="64" y="32"/>
                      <a:pt x="64" y="32"/>
                    </a:cubicBezTo>
                    <a:cubicBezTo>
                      <a:pt x="69" y="27"/>
                      <a:pt x="72" y="21"/>
                      <a:pt x="71" y="16"/>
                    </a:cubicBezTo>
                    <a:cubicBezTo>
                      <a:pt x="69" y="6"/>
                      <a:pt x="57" y="0"/>
                      <a:pt x="43" y="0"/>
                    </a:cubicBezTo>
                  </a:path>
                </a:pathLst>
              </a:custGeom>
              <a:solidFill>
                <a:srgbClr val="9a4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未知"/>
              <p:cNvSpPr/>
              <p:nvPr/>
            </p:nvSpPr>
            <p:spPr>
              <a:xfrm rot="19200000">
                <a:off x="2496600" y="4839120"/>
                <a:ext cx="15840" cy="8640"/>
              </a:xfrm>
              <a:custGeom>
                <a:avLst/>
                <a:gdLst/>
                <a:ahLst/>
                <a:rect l="l" t="t" r="r" b="b"/>
                <a:pathLst>
                  <a:path w="70" h="33">
                    <a:moveTo>
                      <a:pt x="42" y="0"/>
                    </a:moveTo>
                    <a:cubicBezTo>
                      <a:pt x="38" y="0"/>
                      <a:pt x="35" y="0"/>
                      <a:pt x="31" y="1"/>
                    </a:cubicBezTo>
                    <a:cubicBezTo>
                      <a:pt x="13" y="5"/>
                      <a:pt x="0" y="17"/>
                      <a:pt x="2" y="29"/>
                    </a:cubicBezTo>
                    <a:cubicBezTo>
                      <a:pt x="2" y="30"/>
                      <a:pt x="2" y="31"/>
                      <a:pt x="3" y="32"/>
                    </a:cubicBezTo>
                    <a:cubicBezTo>
                      <a:pt x="3" y="32"/>
                      <a:pt x="3" y="31"/>
                      <a:pt x="3" y="31"/>
                    </a:cubicBezTo>
                    <a:cubicBezTo>
                      <a:pt x="3" y="31"/>
                      <a:pt x="2" y="30"/>
                      <a:pt x="2" y="29"/>
                    </a:cubicBezTo>
                    <a:cubicBezTo>
                      <a:pt x="0" y="17"/>
                      <a:pt x="13" y="5"/>
                      <a:pt x="31" y="1"/>
                    </a:cubicBezTo>
                    <a:cubicBezTo>
                      <a:pt x="35" y="1"/>
                      <a:pt x="38" y="0"/>
                      <a:pt x="42" y="0"/>
                    </a:cubicBezTo>
                    <a:cubicBezTo>
                      <a:pt x="56" y="0"/>
                      <a:pt x="67" y="6"/>
                      <a:pt x="69" y="16"/>
                    </a:cubicBezTo>
                    <a:cubicBezTo>
                      <a:pt x="70" y="22"/>
                      <a:pt x="67" y="28"/>
                      <a:pt x="62" y="33"/>
                    </a:cubicBezTo>
                    <a:cubicBezTo>
                      <a:pt x="62" y="33"/>
                      <a:pt x="62" y="33"/>
                      <a:pt x="62" y="33"/>
                    </a:cubicBezTo>
                    <a:cubicBezTo>
                      <a:pt x="68" y="28"/>
                      <a:pt x="70" y="22"/>
                      <a:pt x="69" y="16"/>
                    </a:cubicBezTo>
                    <a:cubicBezTo>
                      <a:pt x="67" y="6"/>
                      <a:pt x="56" y="0"/>
                      <a:pt x="42" y="0"/>
                    </a:cubicBezTo>
                  </a:path>
                </a:pathLst>
              </a:custGeom>
              <a:solidFill>
                <a:srgbClr val="9a4c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未知"/>
              <p:cNvSpPr/>
              <p:nvPr/>
            </p:nvSpPr>
            <p:spPr>
              <a:xfrm rot="19200000">
                <a:off x="2496600" y="4839120"/>
                <a:ext cx="15840" cy="8640"/>
              </a:xfrm>
              <a:custGeom>
                <a:avLst/>
                <a:gdLst/>
                <a:ahLst/>
                <a:rect l="l" t="t" r="r" b="b"/>
                <a:pathLst>
                  <a:path w="70" h="33">
                    <a:moveTo>
                      <a:pt x="42" y="0"/>
                    </a:moveTo>
                    <a:cubicBezTo>
                      <a:pt x="38" y="0"/>
                      <a:pt x="35" y="1"/>
                      <a:pt x="31" y="1"/>
                    </a:cubicBezTo>
                    <a:cubicBezTo>
                      <a:pt x="13" y="5"/>
                      <a:pt x="0" y="17"/>
                      <a:pt x="2" y="29"/>
                    </a:cubicBezTo>
                    <a:cubicBezTo>
                      <a:pt x="2" y="30"/>
                      <a:pt x="3" y="31"/>
                      <a:pt x="3" y="31"/>
                    </a:cubicBezTo>
                    <a:cubicBezTo>
                      <a:pt x="3" y="31"/>
                      <a:pt x="3" y="31"/>
                      <a:pt x="4" y="31"/>
                    </a:cubicBezTo>
                    <a:cubicBezTo>
                      <a:pt x="3" y="31"/>
                      <a:pt x="3" y="30"/>
                      <a:pt x="3" y="29"/>
                    </a:cubicBezTo>
                    <a:cubicBezTo>
                      <a:pt x="1" y="17"/>
                      <a:pt x="13" y="5"/>
                      <a:pt x="32" y="2"/>
                    </a:cubicBezTo>
                    <a:cubicBezTo>
                      <a:pt x="35" y="1"/>
                      <a:pt x="38" y="1"/>
                      <a:pt x="41" y="1"/>
                    </a:cubicBezTo>
                    <a:cubicBezTo>
                      <a:pt x="55" y="1"/>
                      <a:pt x="67" y="7"/>
                      <a:pt x="68" y="16"/>
                    </a:cubicBezTo>
                    <a:cubicBezTo>
                      <a:pt x="70" y="22"/>
                      <a:pt x="67" y="28"/>
                      <a:pt x="61" y="33"/>
                    </a:cubicBezTo>
                    <a:cubicBezTo>
                      <a:pt x="61" y="33"/>
                      <a:pt x="61" y="33"/>
                      <a:pt x="62" y="33"/>
                    </a:cubicBezTo>
                    <a:cubicBezTo>
                      <a:pt x="67" y="28"/>
                      <a:pt x="70" y="22"/>
                      <a:pt x="69" y="16"/>
                    </a:cubicBezTo>
                    <a:cubicBezTo>
                      <a:pt x="67" y="6"/>
                      <a:pt x="56" y="0"/>
                      <a:pt x="42" y="0"/>
                    </a:cubicBezTo>
                  </a:path>
                </a:pathLst>
              </a:custGeom>
              <a:solidFill>
                <a:srgbClr val="9b4c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未知"/>
              <p:cNvSpPr/>
              <p:nvPr/>
            </p:nvSpPr>
            <p:spPr>
              <a:xfrm rot="19200000">
                <a:off x="2496960" y="4838760"/>
                <a:ext cx="15480" cy="8640"/>
              </a:xfrm>
              <a:custGeom>
                <a:avLst/>
                <a:gdLst/>
                <a:ahLst/>
                <a:rect l="l" t="t" r="r" b="b"/>
                <a:pathLst>
                  <a:path w="69" h="33">
                    <a:moveTo>
                      <a:pt x="40" y="0"/>
                    </a:moveTo>
                    <a:cubicBezTo>
                      <a:pt x="37" y="0"/>
                      <a:pt x="34" y="0"/>
                      <a:pt x="31" y="1"/>
                    </a:cubicBezTo>
                    <a:cubicBezTo>
                      <a:pt x="12" y="4"/>
                      <a:pt x="0" y="16"/>
                      <a:pt x="2" y="28"/>
                    </a:cubicBezTo>
                    <a:cubicBezTo>
                      <a:pt x="2" y="29"/>
                      <a:pt x="2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2" y="29"/>
                      <a:pt x="2" y="28"/>
                    </a:cubicBezTo>
                    <a:cubicBezTo>
                      <a:pt x="0" y="16"/>
                      <a:pt x="13" y="4"/>
                      <a:pt x="31" y="1"/>
                    </a:cubicBezTo>
                    <a:cubicBezTo>
                      <a:pt x="34" y="0"/>
                      <a:pt x="37" y="0"/>
                      <a:pt x="40" y="0"/>
                    </a:cubicBezTo>
                    <a:cubicBezTo>
                      <a:pt x="54" y="0"/>
                      <a:pt x="65" y="6"/>
                      <a:pt x="67" y="15"/>
                    </a:cubicBezTo>
                    <a:cubicBezTo>
                      <a:pt x="68" y="21"/>
                      <a:pt x="65" y="28"/>
                      <a:pt x="59" y="33"/>
                    </a:cubicBezTo>
                    <a:cubicBezTo>
                      <a:pt x="59" y="32"/>
                      <a:pt x="60" y="32"/>
                      <a:pt x="60" y="32"/>
                    </a:cubicBezTo>
                    <a:cubicBezTo>
                      <a:pt x="66" y="27"/>
                      <a:pt x="69" y="21"/>
                      <a:pt x="67" y="15"/>
                    </a:cubicBezTo>
                    <a:cubicBezTo>
                      <a:pt x="66" y="6"/>
                      <a:pt x="54" y="0"/>
                      <a:pt x="40" y="0"/>
                    </a:cubicBezTo>
                  </a:path>
                </a:pathLst>
              </a:custGeom>
              <a:solidFill>
                <a:srgbClr val="9c4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未知"/>
              <p:cNvSpPr/>
              <p:nvPr/>
            </p:nvSpPr>
            <p:spPr>
              <a:xfrm rot="19200000">
                <a:off x="2496960" y="4838760"/>
                <a:ext cx="15480" cy="864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40" y="0"/>
                    </a:moveTo>
                    <a:cubicBezTo>
                      <a:pt x="37" y="0"/>
                      <a:pt x="34" y="0"/>
                      <a:pt x="31" y="1"/>
                    </a:cubicBezTo>
                    <a:cubicBezTo>
                      <a:pt x="13" y="4"/>
                      <a:pt x="0" y="16"/>
                      <a:pt x="2" y="28"/>
                    </a:cubicBezTo>
                    <a:cubicBezTo>
                      <a:pt x="2" y="29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29"/>
                      <a:pt x="3" y="28"/>
                    </a:cubicBezTo>
                    <a:cubicBezTo>
                      <a:pt x="0" y="16"/>
                      <a:pt x="13" y="5"/>
                      <a:pt x="31" y="1"/>
                    </a:cubicBezTo>
                    <a:cubicBezTo>
                      <a:pt x="34" y="0"/>
                      <a:pt x="37" y="0"/>
                      <a:pt x="40" y="0"/>
                    </a:cubicBezTo>
                    <a:cubicBezTo>
                      <a:pt x="54" y="0"/>
                      <a:pt x="65" y="6"/>
                      <a:pt x="67" y="15"/>
                    </a:cubicBezTo>
                    <a:cubicBezTo>
                      <a:pt x="68" y="21"/>
                      <a:pt x="64" y="28"/>
                      <a:pt x="58" y="33"/>
                    </a:cubicBezTo>
                    <a:cubicBezTo>
                      <a:pt x="58" y="33"/>
                      <a:pt x="59" y="33"/>
                      <a:pt x="59" y="33"/>
                    </a:cubicBezTo>
                    <a:cubicBezTo>
                      <a:pt x="65" y="28"/>
                      <a:pt x="68" y="21"/>
                      <a:pt x="67" y="15"/>
                    </a:cubicBezTo>
                    <a:cubicBezTo>
                      <a:pt x="65" y="6"/>
                      <a:pt x="54" y="0"/>
                      <a:pt x="40" y="0"/>
                    </a:cubicBezTo>
                  </a:path>
                </a:pathLst>
              </a:custGeom>
              <a:solidFill>
                <a:srgbClr val="9d4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未知"/>
              <p:cNvSpPr/>
              <p:nvPr/>
            </p:nvSpPr>
            <p:spPr>
              <a:xfrm rot="19200000">
                <a:off x="2496960" y="4838760"/>
                <a:ext cx="15480" cy="864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40" y="0"/>
                    </a:moveTo>
                    <a:cubicBezTo>
                      <a:pt x="37" y="0"/>
                      <a:pt x="34" y="0"/>
                      <a:pt x="31" y="1"/>
                    </a:cubicBezTo>
                    <a:cubicBezTo>
                      <a:pt x="13" y="5"/>
                      <a:pt x="0" y="16"/>
                      <a:pt x="3" y="28"/>
                    </a:cubicBezTo>
                    <a:cubicBezTo>
                      <a:pt x="3" y="29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29"/>
                      <a:pt x="3" y="29"/>
                      <a:pt x="3" y="28"/>
                    </a:cubicBezTo>
                    <a:cubicBezTo>
                      <a:pt x="1" y="17"/>
                      <a:pt x="13" y="5"/>
                      <a:pt x="31" y="1"/>
                    </a:cubicBezTo>
                    <a:cubicBezTo>
                      <a:pt x="34" y="1"/>
                      <a:pt x="37" y="0"/>
                      <a:pt x="40" y="0"/>
                    </a:cubicBezTo>
                    <a:cubicBezTo>
                      <a:pt x="54" y="0"/>
                      <a:pt x="64" y="6"/>
                      <a:pt x="66" y="15"/>
                    </a:cubicBezTo>
                    <a:cubicBezTo>
                      <a:pt x="67" y="22"/>
                      <a:pt x="64" y="28"/>
                      <a:pt x="57" y="33"/>
                    </a:cubicBezTo>
                    <a:cubicBezTo>
                      <a:pt x="57" y="33"/>
                      <a:pt x="58" y="33"/>
                      <a:pt x="58" y="33"/>
                    </a:cubicBezTo>
                    <a:cubicBezTo>
                      <a:pt x="64" y="28"/>
                      <a:pt x="68" y="21"/>
                      <a:pt x="67" y="15"/>
                    </a:cubicBezTo>
                    <a:cubicBezTo>
                      <a:pt x="65" y="6"/>
                      <a:pt x="54" y="0"/>
                      <a:pt x="40" y="0"/>
                    </a:cubicBezTo>
                  </a:path>
                </a:pathLst>
              </a:custGeom>
              <a:solidFill>
                <a:srgbClr val="9e4e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未知"/>
              <p:cNvSpPr/>
              <p:nvPr/>
            </p:nvSpPr>
            <p:spPr>
              <a:xfrm rot="19200000">
                <a:off x="2496960" y="4838760"/>
                <a:ext cx="14760" cy="8640"/>
              </a:xfrm>
              <a:custGeom>
                <a:avLst/>
                <a:gdLst/>
                <a:ahLst/>
                <a:rect l="l" t="t" r="r" b="b"/>
                <a:pathLst>
                  <a:path w="66" h="33">
                    <a:moveTo>
                      <a:pt x="39" y="0"/>
                    </a:moveTo>
                    <a:cubicBezTo>
                      <a:pt x="36" y="0"/>
                      <a:pt x="33" y="1"/>
                      <a:pt x="30" y="1"/>
                    </a:cubicBezTo>
                    <a:cubicBezTo>
                      <a:pt x="12" y="5"/>
                      <a:pt x="0" y="17"/>
                      <a:pt x="2" y="28"/>
                    </a:cubicBezTo>
                    <a:cubicBezTo>
                      <a:pt x="2" y="29"/>
                      <a:pt x="3" y="29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29"/>
                      <a:pt x="3" y="28"/>
                      <a:pt x="3" y="27"/>
                    </a:cubicBezTo>
                    <a:cubicBezTo>
                      <a:pt x="0" y="17"/>
                      <a:pt x="13" y="5"/>
                      <a:pt x="30" y="2"/>
                    </a:cubicBezTo>
                    <a:cubicBezTo>
                      <a:pt x="33" y="1"/>
                      <a:pt x="36" y="1"/>
                      <a:pt x="39" y="1"/>
                    </a:cubicBezTo>
                    <a:cubicBezTo>
                      <a:pt x="52" y="1"/>
                      <a:pt x="63" y="6"/>
                      <a:pt x="65" y="15"/>
                    </a:cubicBezTo>
                    <a:cubicBezTo>
                      <a:pt x="66" y="22"/>
                      <a:pt x="62" y="28"/>
                      <a:pt x="55" y="33"/>
                    </a:cubicBezTo>
                    <a:cubicBezTo>
                      <a:pt x="56" y="33"/>
                      <a:pt x="56" y="33"/>
                      <a:pt x="56" y="33"/>
                    </a:cubicBezTo>
                    <a:cubicBezTo>
                      <a:pt x="63" y="28"/>
                      <a:pt x="66" y="22"/>
                      <a:pt x="65" y="15"/>
                    </a:cubicBezTo>
                    <a:cubicBezTo>
                      <a:pt x="63" y="6"/>
                      <a:pt x="53" y="0"/>
                      <a:pt x="39" y="0"/>
                    </a:cubicBezTo>
                  </a:path>
                </a:pathLst>
              </a:custGeom>
              <a:solidFill>
                <a:srgbClr val="9f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未知"/>
              <p:cNvSpPr/>
              <p:nvPr/>
            </p:nvSpPr>
            <p:spPr>
              <a:xfrm rot="19200000">
                <a:off x="2497320" y="4839120"/>
                <a:ext cx="14760" cy="8640"/>
              </a:xfrm>
              <a:custGeom>
                <a:avLst/>
                <a:gdLst/>
                <a:ahLst/>
                <a:rect l="l" t="t" r="r" b="b"/>
                <a:pathLst>
                  <a:path w="66" h="33">
                    <a:moveTo>
                      <a:pt x="39" y="0"/>
                    </a:moveTo>
                    <a:cubicBezTo>
                      <a:pt x="36" y="0"/>
                      <a:pt x="33" y="0"/>
                      <a:pt x="30" y="1"/>
                    </a:cubicBezTo>
                    <a:cubicBezTo>
                      <a:pt x="13" y="4"/>
                      <a:pt x="0" y="16"/>
                      <a:pt x="3" y="26"/>
                    </a:cubicBezTo>
                    <a:cubicBezTo>
                      <a:pt x="3" y="27"/>
                      <a:pt x="3" y="28"/>
                      <a:pt x="3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4" y="28"/>
                      <a:pt x="3" y="27"/>
                      <a:pt x="3" y="26"/>
                    </a:cubicBezTo>
                    <a:cubicBezTo>
                      <a:pt x="1" y="16"/>
                      <a:pt x="13" y="4"/>
                      <a:pt x="30" y="1"/>
                    </a:cubicBezTo>
                    <a:cubicBezTo>
                      <a:pt x="33" y="0"/>
                      <a:pt x="36" y="0"/>
                      <a:pt x="39" y="0"/>
                    </a:cubicBezTo>
                    <a:cubicBezTo>
                      <a:pt x="52" y="0"/>
                      <a:pt x="63" y="6"/>
                      <a:pt x="64" y="14"/>
                    </a:cubicBezTo>
                    <a:cubicBezTo>
                      <a:pt x="66" y="21"/>
                      <a:pt x="61" y="28"/>
                      <a:pt x="54" y="33"/>
                    </a:cubicBezTo>
                    <a:cubicBezTo>
                      <a:pt x="55" y="33"/>
                      <a:pt x="55" y="33"/>
                      <a:pt x="55" y="32"/>
                    </a:cubicBezTo>
                    <a:cubicBezTo>
                      <a:pt x="62" y="27"/>
                      <a:pt x="66" y="21"/>
                      <a:pt x="65" y="14"/>
                    </a:cubicBezTo>
                    <a:cubicBezTo>
                      <a:pt x="63" y="5"/>
                      <a:pt x="52" y="0"/>
                      <a:pt x="39" y="0"/>
                    </a:cubicBezTo>
                  </a:path>
                </a:pathLst>
              </a:custGeom>
              <a:solidFill>
                <a:srgbClr val="a04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未知"/>
              <p:cNvSpPr/>
              <p:nvPr/>
            </p:nvSpPr>
            <p:spPr>
              <a:xfrm rot="19200000">
                <a:off x="2497320" y="4839120"/>
                <a:ext cx="14760" cy="8640"/>
              </a:xfrm>
              <a:custGeom>
                <a:avLst/>
                <a:gdLst/>
                <a:ahLst/>
                <a:rect l="l" t="t" r="r" b="b"/>
                <a:pathLst>
                  <a:path w="65" h="33">
                    <a:moveTo>
                      <a:pt x="38" y="0"/>
                    </a:moveTo>
                    <a:cubicBezTo>
                      <a:pt x="35" y="0"/>
                      <a:pt x="32" y="0"/>
                      <a:pt x="29" y="1"/>
                    </a:cubicBezTo>
                    <a:cubicBezTo>
                      <a:pt x="12" y="4"/>
                      <a:pt x="0" y="16"/>
                      <a:pt x="2" y="26"/>
                    </a:cubicBezTo>
                    <a:cubicBezTo>
                      <a:pt x="2" y="27"/>
                      <a:pt x="3" y="28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8"/>
                      <a:pt x="3" y="27"/>
                      <a:pt x="2" y="26"/>
                    </a:cubicBezTo>
                    <a:cubicBezTo>
                      <a:pt x="0" y="16"/>
                      <a:pt x="12" y="5"/>
                      <a:pt x="29" y="1"/>
                    </a:cubicBezTo>
                    <a:cubicBezTo>
                      <a:pt x="32" y="1"/>
                      <a:pt x="35" y="0"/>
                      <a:pt x="38" y="0"/>
                    </a:cubicBezTo>
                    <a:cubicBezTo>
                      <a:pt x="51" y="0"/>
                      <a:pt x="61" y="6"/>
                      <a:pt x="63" y="14"/>
                    </a:cubicBezTo>
                    <a:cubicBezTo>
                      <a:pt x="64" y="21"/>
                      <a:pt x="60" y="28"/>
                      <a:pt x="52" y="33"/>
                    </a:cubicBezTo>
                    <a:cubicBezTo>
                      <a:pt x="53" y="33"/>
                      <a:pt x="53" y="33"/>
                      <a:pt x="53" y="33"/>
                    </a:cubicBezTo>
                    <a:cubicBezTo>
                      <a:pt x="60" y="28"/>
                      <a:pt x="65" y="21"/>
                      <a:pt x="63" y="14"/>
                    </a:cubicBezTo>
                    <a:cubicBezTo>
                      <a:pt x="62" y="6"/>
                      <a:pt x="51" y="0"/>
                      <a:pt x="38" y="0"/>
                    </a:cubicBezTo>
                  </a:path>
                </a:pathLst>
              </a:custGeom>
              <a:solidFill>
                <a:srgbClr val="a150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未知"/>
              <p:cNvSpPr/>
              <p:nvPr/>
            </p:nvSpPr>
            <p:spPr>
              <a:xfrm rot="19200000">
                <a:off x="2497680" y="4839120"/>
                <a:ext cx="14400" cy="8640"/>
              </a:xfrm>
              <a:custGeom>
                <a:avLst/>
                <a:gdLst/>
                <a:ahLst/>
                <a:rect l="l" t="t" r="r" b="b"/>
                <a:pathLst>
                  <a:path w="64" h="33">
                    <a:moveTo>
                      <a:pt x="38" y="0"/>
                    </a:moveTo>
                    <a:cubicBezTo>
                      <a:pt x="35" y="0"/>
                      <a:pt x="32" y="1"/>
                      <a:pt x="29" y="1"/>
                    </a:cubicBezTo>
                    <a:cubicBezTo>
                      <a:pt x="12" y="5"/>
                      <a:pt x="0" y="16"/>
                      <a:pt x="2" y="26"/>
                    </a:cubicBezTo>
                    <a:cubicBezTo>
                      <a:pt x="3" y="27"/>
                      <a:pt x="3" y="28"/>
                      <a:pt x="3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8"/>
                      <a:pt x="3" y="27"/>
                      <a:pt x="3" y="26"/>
                    </a:cubicBezTo>
                    <a:cubicBezTo>
                      <a:pt x="1" y="16"/>
                      <a:pt x="12" y="5"/>
                      <a:pt x="29" y="2"/>
                    </a:cubicBezTo>
                    <a:cubicBezTo>
                      <a:pt x="32" y="1"/>
                      <a:pt x="35" y="1"/>
                      <a:pt x="38" y="1"/>
                    </a:cubicBezTo>
                    <a:cubicBezTo>
                      <a:pt x="50" y="1"/>
                      <a:pt x="61" y="6"/>
                      <a:pt x="62" y="15"/>
                    </a:cubicBezTo>
                    <a:cubicBezTo>
                      <a:pt x="64" y="21"/>
                      <a:pt x="59" y="28"/>
                      <a:pt x="51" y="33"/>
                    </a:cubicBezTo>
                    <a:cubicBezTo>
                      <a:pt x="52" y="33"/>
                      <a:pt x="52" y="33"/>
                      <a:pt x="52" y="33"/>
                    </a:cubicBezTo>
                    <a:cubicBezTo>
                      <a:pt x="60" y="28"/>
                      <a:pt x="64" y="21"/>
                      <a:pt x="63" y="14"/>
                    </a:cubicBezTo>
                    <a:cubicBezTo>
                      <a:pt x="61" y="6"/>
                      <a:pt x="51" y="0"/>
                      <a:pt x="38" y="0"/>
                    </a:cubicBezTo>
                  </a:path>
                </a:pathLst>
              </a:custGeom>
              <a:solidFill>
                <a:srgbClr val="a250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未知"/>
              <p:cNvSpPr/>
              <p:nvPr/>
            </p:nvSpPr>
            <p:spPr>
              <a:xfrm rot="19200000">
                <a:off x="2498040" y="4839120"/>
                <a:ext cx="14040" cy="8640"/>
              </a:xfrm>
              <a:custGeom>
                <a:avLst/>
                <a:gdLst/>
                <a:ahLst/>
                <a:rect l="l" t="t" r="r" b="b"/>
                <a:pathLst>
                  <a:path w="63" h="33">
                    <a:moveTo>
                      <a:pt x="37" y="0"/>
                    </a:moveTo>
                    <a:cubicBezTo>
                      <a:pt x="34" y="0"/>
                      <a:pt x="31" y="0"/>
                      <a:pt x="28" y="1"/>
                    </a:cubicBezTo>
                    <a:cubicBezTo>
                      <a:pt x="11" y="4"/>
                      <a:pt x="0" y="15"/>
                      <a:pt x="2" y="25"/>
                    </a:cubicBezTo>
                    <a:cubicBezTo>
                      <a:pt x="2" y="26"/>
                      <a:pt x="2" y="27"/>
                      <a:pt x="3" y="28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3" y="27"/>
                      <a:pt x="3" y="26"/>
                      <a:pt x="2" y="25"/>
                    </a:cubicBezTo>
                    <a:cubicBezTo>
                      <a:pt x="0" y="15"/>
                      <a:pt x="12" y="4"/>
                      <a:pt x="28" y="1"/>
                    </a:cubicBezTo>
                    <a:cubicBezTo>
                      <a:pt x="31" y="0"/>
                      <a:pt x="34" y="0"/>
                      <a:pt x="37" y="0"/>
                    </a:cubicBezTo>
                    <a:cubicBezTo>
                      <a:pt x="49" y="0"/>
                      <a:pt x="59" y="5"/>
                      <a:pt x="61" y="14"/>
                    </a:cubicBezTo>
                    <a:cubicBezTo>
                      <a:pt x="62" y="21"/>
                      <a:pt x="57" y="28"/>
                      <a:pt x="49" y="33"/>
                    </a:cubicBezTo>
                    <a:cubicBezTo>
                      <a:pt x="50" y="33"/>
                      <a:pt x="50" y="32"/>
                      <a:pt x="50" y="32"/>
                    </a:cubicBezTo>
                    <a:cubicBezTo>
                      <a:pt x="58" y="27"/>
                      <a:pt x="63" y="20"/>
                      <a:pt x="61" y="14"/>
                    </a:cubicBezTo>
                    <a:cubicBezTo>
                      <a:pt x="60" y="5"/>
                      <a:pt x="49" y="0"/>
                      <a:pt x="37" y="0"/>
                    </a:cubicBezTo>
                  </a:path>
                </a:pathLst>
              </a:custGeom>
              <a:solidFill>
                <a:srgbClr val="a35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未知"/>
              <p:cNvSpPr/>
              <p:nvPr/>
            </p:nvSpPr>
            <p:spPr>
              <a:xfrm rot="19200000">
                <a:off x="2498040" y="4839120"/>
                <a:ext cx="14040" cy="8640"/>
              </a:xfrm>
              <a:custGeom>
                <a:avLst/>
                <a:gdLst/>
                <a:ahLst/>
                <a:rect l="l" t="t" r="r" b="b"/>
                <a:pathLst>
                  <a:path w="62" h="33">
                    <a:moveTo>
                      <a:pt x="37" y="0"/>
                    </a:moveTo>
                    <a:cubicBezTo>
                      <a:pt x="34" y="0"/>
                      <a:pt x="31" y="0"/>
                      <a:pt x="28" y="1"/>
                    </a:cubicBezTo>
                    <a:cubicBezTo>
                      <a:pt x="12" y="4"/>
                      <a:pt x="0" y="15"/>
                      <a:pt x="2" y="25"/>
                    </a:cubicBezTo>
                    <a:cubicBezTo>
                      <a:pt x="3" y="26"/>
                      <a:pt x="3" y="27"/>
                      <a:pt x="3" y="28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3" y="27"/>
                      <a:pt x="3" y="26"/>
                      <a:pt x="3" y="25"/>
                    </a:cubicBezTo>
                    <a:cubicBezTo>
                      <a:pt x="1" y="15"/>
                      <a:pt x="12" y="4"/>
                      <a:pt x="28" y="1"/>
                    </a:cubicBezTo>
                    <a:cubicBezTo>
                      <a:pt x="31" y="1"/>
                      <a:pt x="34" y="0"/>
                      <a:pt x="37" y="0"/>
                    </a:cubicBezTo>
                    <a:cubicBezTo>
                      <a:pt x="49" y="0"/>
                      <a:pt x="59" y="6"/>
                      <a:pt x="60" y="14"/>
                    </a:cubicBezTo>
                    <a:cubicBezTo>
                      <a:pt x="62" y="21"/>
                      <a:pt x="57" y="28"/>
                      <a:pt x="48" y="33"/>
                    </a:cubicBezTo>
                    <a:cubicBezTo>
                      <a:pt x="48" y="33"/>
                      <a:pt x="49" y="33"/>
                      <a:pt x="49" y="33"/>
                    </a:cubicBezTo>
                    <a:cubicBezTo>
                      <a:pt x="57" y="28"/>
                      <a:pt x="62" y="21"/>
                      <a:pt x="61" y="14"/>
                    </a:cubicBezTo>
                    <a:cubicBezTo>
                      <a:pt x="59" y="5"/>
                      <a:pt x="49" y="0"/>
                      <a:pt x="37" y="0"/>
                    </a:cubicBezTo>
                  </a:path>
                </a:pathLst>
              </a:custGeom>
              <a:solidFill>
                <a:srgbClr val="a45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未知"/>
              <p:cNvSpPr/>
              <p:nvPr/>
            </p:nvSpPr>
            <p:spPr>
              <a:xfrm rot="19200000">
                <a:off x="2498400" y="483912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61" h="33">
                    <a:moveTo>
                      <a:pt x="36" y="0"/>
                    </a:moveTo>
                    <a:cubicBezTo>
                      <a:pt x="33" y="0"/>
                      <a:pt x="30" y="1"/>
                      <a:pt x="27" y="1"/>
                    </a:cubicBezTo>
                    <a:cubicBezTo>
                      <a:pt x="11" y="4"/>
                      <a:pt x="0" y="15"/>
                      <a:pt x="2" y="25"/>
                    </a:cubicBezTo>
                    <a:cubicBezTo>
                      <a:pt x="2" y="26"/>
                      <a:pt x="2" y="27"/>
                      <a:pt x="3" y="28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3" y="27"/>
                      <a:pt x="2" y="26"/>
                      <a:pt x="2" y="25"/>
                    </a:cubicBezTo>
                    <a:cubicBezTo>
                      <a:pt x="0" y="15"/>
                      <a:pt x="11" y="4"/>
                      <a:pt x="27" y="1"/>
                    </a:cubicBezTo>
                    <a:cubicBezTo>
                      <a:pt x="30" y="1"/>
                      <a:pt x="33" y="1"/>
                      <a:pt x="36" y="1"/>
                    </a:cubicBezTo>
                    <a:cubicBezTo>
                      <a:pt x="48" y="1"/>
                      <a:pt x="57" y="6"/>
                      <a:pt x="59" y="14"/>
                    </a:cubicBezTo>
                    <a:cubicBezTo>
                      <a:pt x="60" y="21"/>
                      <a:pt x="55" y="28"/>
                      <a:pt x="46" y="33"/>
                    </a:cubicBezTo>
                    <a:cubicBezTo>
                      <a:pt x="46" y="33"/>
                      <a:pt x="47" y="33"/>
                      <a:pt x="47" y="33"/>
                    </a:cubicBezTo>
                    <a:cubicBezTo>
                      <a:pt x="56" y="28"/>
                      <a:pt x="61" y="21"/>
                      <a:pt x="59" y="14"/>
                    </a:cubicBezTo>
                    <a:cubicBezTo>
                      <a:pt x="58" y="6"/>
                      <a:pt x="48" y="0"/>
                      <a:pt x="36" y="0"/>
                    </a:cubicBezTo>
                  </a:path>
                </a:pathLst>
              </a:custGeom>
              <a:solidFill>
                <a:srgbClr val="a552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未知"/>
              <p:cNvSpPr/>
              <p:nvPr/>
            </p:nvSpPr>
            <p:spPr>
              <a:xfrm rot="19200000">
                <a:off x="2498400" y="483912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60" h="32">
                    <a:moveTo>
                      <a:pt x="36" y="0"/>
                    </a:moveTo>
                    <a:cubicBezTo>
                      <a:pt x="33" y="0"/>
                      <a:pt x="30" y="0"/>
                      <a:pt x="27" y="0"/>
                    </a:cubicBezTo>
                    <a:cubicBezTo>
                      <a:pt x="11" y="3"/>
                      <a:pt x="0" y="14"/>
                      <a:pt x="2" y="24"/>
                    </a:cubicBezTo>
                    <a:cubicBezTo>
                      <a:pt x="2" y="25"/>
                      <a:pt x="3" y="26"/>
                      <a:pt x="3" y="27"/>
                    </a:cubicBezTo>
                    <a:cubicBezTo>
                      <a:pt x="4" y="27"/>
                      <a:pt x="4" y="27"/>
                      <a:pt x="4" y="27"/>
                    </a:cubicBezTo>
                    <a:cubicBezTo>
                      <a:pt x="3" y="26"/>
                      <a:pt x="3" y="25"/>
                      <a:pt x="3" y="24"/>
                    </a:cubicBezTo>
                    <a:cubicBezTo>
                      <a:pt x="1" y="14"/>
                      <a:pt x="12" y="4"/>
                      <a:pt x="27" y="1"/>
                    </a:cubicBezTo>
                    <a:cubicBezTo>
                      <a:pt x="30" y="0"/>
                      <a:pt x="33" y="0"/>
                      <a:pt x="36" y="0"/>
                    </a:cubicBezTo>
                    <a:cubicBezTo>
                      <a:pt x="47" y="0"/>
                      <a:pt x="57" y="5"/>
                      <a:pt x="59" y="13"/>
                    </a:cubicBezTo>
                    <a:cubicBezTo>
                      <a:pt x="60" y="20"/>
                      <a:pt x="54" y="28"/>
                      <a:pt x="45" y="32"/>
                    </a:cubicBezTo>
                    <a:cubicBezTo>
                      <a:pt x="45" y="32"/>
                      <a:pt x="46" y="32"/>
                      <a:pt x="46" y="32"/>
                    </a:cubicBezTo>
                    <a:cubicBezTo>
                      <a:pt x="55" y="27"/>
                      <a:pt x="60" y="20"/>
                      <a:pt x="59" y="13"/>
                    </a:cubicBezTo>
                    <a:cubicBezTo>
                      <a:pt x="57" y="5"/>
                      <a:pt x="48" y="0"/>
                      <a:pt x="36" y="0"/>
                    </a:cubicBezTo>
                  </a:path>
                </a:pathLst>
              </a:custGeom>
              <a:solidFill>
                <a:srgbClr val="a652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未知"/>
              <p:cNvSpPr/>
              <p:nvPr/>
            </p:nvSpPr>
            <p:spPr>
              <a:xfrm rot="19200000">
                <a:off x="2498400" y="483948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59" h="33">
                    <a:moveTo>
                      <a:pt x="35" y="0"/>
                    </a:moveTo>
                    <a:cubicBezTo>
                      <a:pt x="32" y="0"/>
                      <a:pt x="29" y="0"/>
                      <a:pt x="26" y="1"/>
                    </a:cubicBezTo>
                    <a:cubicBezTo>
                      <a:pt x="11" y="4"/>
                      <a:pt x="0" y="14"/>
                      <a:pt x="2" y="24"/>
                    </a:cubicBezTo>
                    <a:cubicBezTo>
                      <a:pt x="2" y="25"/>
                      <a:pt x="2" y="26"/>
                      <a:pt x="3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" y="26"/>
                      <a:pt x="2" y="25"/>
                      <a:pt x="2" y="24"/>
                    </a:cubicBezTo>
                    <a:cubicBezTo>
                      <a:pt x="0" y="14"/>
                      <a:pt x="11" y="4"/>
                      <a:pt x="26" y="1"/>
                    </a:cubicBezTo>
                    <a:cubicBezTo>
                      <a:pt x="29" y="0"/>
                      <a:pt x="32" y="0"/>
                      <a:pt x="34" y="0"/>
                    </a:cubicBezTo>
                    <a:cubicBezTo>
                      <a:pt x="46" y="0"/>
                      <a:pt x="56" y="5"/>
                      <a:pt x="57" y="13"/>
                    </a:cubicBezTo>
                    <a:cubicBezTo>
                      <a:pt x="59" y="20"/>
                      <a:pt x="52" y="28"/>
                      <a:pt x="42" y="33"/>
                    </a:cubicBezTo>
                    <a:cubicBezTo>
                      <a:pt x="43" y="33"/>
                      <a:pt x="43" y="33"/>
                      <a:pt x="44" y="32"/>
                    </a:cubicBezTo>
                    <a:cubicBezTo>
                      <a:pt x="53" y="28"/>
                      <a:pt x="59" y="20"/>
                      <a:pt x="58" y="13"/>
                    </a:cubicBezTo>
                    <a:cubicBezTo>
                      <a:pt x="56" y="5"/>
                      <a:pt x="46" y="0"/>
                      <a:pt x="35" y="0"/>
                    </a:cubicBezTo>
                  </a:path>
                </a:pathLst>
              </a:custGeom>
              <a:solidFill>
                <a:srgbClr val="a752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未知"/>
              <p:cNvSpPr/>
              <p:nvPr/>
            </p:nvSpPr>
            <p:spPr>
              <a:xfrm rot="19200000">
                <a:off x="2498400" y="483948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59" h="33">
                    <a:moveTo>
                      <a:pt x="34" y="0"/>
                    </a:moveTo>
                    <a:cubicBezTo>
                      <a:pt x="32" y="0"/>
                      <a:pt x="29" y="0"/>
                      <a:pt x="26" y="1"/>
                    </a:cubicBezTo>
                    <a:cubicBezTo>
                      <a:pt x="11" y="4"/>
                      <a:pt x="0" y="14"/>
                      <a:pt x="2" y="24"/>
                    </a:cubicBezTo>
                    <a:cubicBezTo>
                      <a:pt x="2" y="25"/>
                      <a:pt x="3" y="26"/>
                      <a:pt x="3" y="27"/>
                    </a:cubicBezTo>
                    <a:cubicBezTo>
                      <a:pt x="4" y="27"/>
                      <a:pt x="4" y="27"/>
                      <a:pt x="4" y="27"/>
                    </a:cubicBezTo>
                    <a:cubicBezTo>
                      <a:pt x="3" y="26"/>
                      <a:pt x="3" y="25"/>
                      <a:pt x="2" y="24"/>
                    </a:cubicBezTo>
                    <a:cubicBezTo>
                      <a:pt x="1" y="14"/>
                      <a:pt x="11" y="4"/>
                      <a:pt x="26" y="1"/>
                    </a:cubicBezTo>
                    <a:cubicBezTo>
                      <a:pt x="29" y="1"/>
                      <a:pt x="32" y="0"/>
                      <a:pt x="34" y="0"/>
                    </a:cubicBezTo>
                    <a:cubicBezTo>
                      <a:pt x="46" y="0"/>
                      <a:pt x="55" y="5"/>
                      <a:pt x="57" y="13"/>
                    </a:cubicBezTo>
                    <a:cubicBezTo>
                      <a:pt x="58" y="21"/>
                      <a:pt x="52" y="29"/>
                      <a:pt x="41" y="33"/>
                    </a:cubicBezTo>
                    <a:cubicBezTo>
                      <a:pt x="41" y="33"/>
                      <a:pt x="42" y="33"/>
                      <a:pt x="42" y="33"/>
                    </a:cubicBezTo>
                    <a:cubicBezTo>
                      <a:pt x="52" y="28"/>
                      <a:pt x="59" y="20"/>
                      <a:pt x="57" y="13"/>
                    </a:cubicBezTo>
                    <a:cubicBezTo>
                      <a:pt x="56" y="5"/>
                      <a:pt x="46" y="0"/>
                      <a:pt x="34" y="0"/>
                    </a:cubicBezTo>
                  </a:path>
                </a:pathLst>
              </a:custGeom>
              <a:solidFill>
                <a:srgbClr val="a85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未知"/>
              <p:cNvSpPr/>
              <p:nvPr/>
            </p:nvSpPr>
            <p:spPr>
              <a:xfrm rot="19200000">
                <a:off x="2498760" y="4839120"/>
                <a:ext cx="12600" cy="86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33" y="0"/>
                    </a:moveTo>
                    <a:cubicBezTo>
                      <a:pt x="31" y="0"/>
                      <a:pt x="28" y="1"/>
                      <a:pt x="25" y="1"/>
                    </a:cubicBezTo>
                    <a:cubicBezTo>
                      <a:pt x="10" y="4"/>
                      <a:pt x="0" y="14"/>
                      <a:pt x="1" y="24"/>
                    </a:cubicBezTo>
                    <a:cubicBezTo>
                      <a:pt x="2" y="25"/>
                      <a:pt x="2" y="26"/>
                      <a:pt x="3" y="27"/>
                    </a:cubicBezTo>
                    <a:cubicBezTo>
                      <a:pt x="3" y="27"/>
                      <a:pt x="3" y="27"/>
                      <a:pt x="4" y="27"/>
                    </a:cubicBezTo>
                    <a:cubicBezTo>
                      <a:pt x="3" y="26"/>
                      <a:pt x="2" y="25"/>
                      <a:pt x="2" y="24"/>
                    </a:cubicBezTo>
                    <a:cubicBezTo>
                      <a:pt x="0" y="14"/>
                      <a:pt x="11" y="4"/>
                      <a:pt x="25" y="2"/>
                    </a:cubicBezTo>
                    <a:cubicBezTo>
                      <a:pt x="28" y="1"/>
                      <a:pt x="31" y="1"/>
                      <a:pt x="33" y="1"/>
                    </a:cubicBezTo>
                    <a:cubicBezTo>
                      <a:pt x="45" y="1"/>
                      <a:pt x="54" y="6"/>
                      <a:pt x="55" y="13"/>
                    </a:cubicBezTo>
                    <a:cubicBezTo>
                      <a:pt x="57" y="21"/>
                      <a:pt x="50" y="29"/>
                      <a:pt x="38" y="33"/>
                    </a:cubicBezTo>
                    <a:cubicBezTo>
                      <a:pt x="39" y="33"/>
                      <a:pt x="40" y="33"/>
                      <a:pt x="40" y="33"/>
                    </a:cubicBezTo>
                    <a:cubicBezTo>
                      <a:pt x="51" y="29"/>
                      <a:pt x="57" y="21"/>
                      <a:pt x="56" y="13"/>
                    </a:cubicBezTo>
                    <a:cubicBezTo>
                      <a:pt x="54" y="5"/>
                      <a:pt x="45" y="0"/>
                      <a:pt x="33" y="0"/>
                    </a:cubicBezTo>
                  </a:path>
                </a:pathLst>
              </a:custGeom>
              <a:solidFill>
                <a:srgbClr val="a95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未知"/>
              <p:cNvSpPr/>
              <p:nvPr/>
            </p:nvSpPr>
            <p:spPr>
              <a:xfrm rot="19200000">
                <a:off x="2499120" y="4839480"/>
                <a:ext cx="12600" cy="86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33" y="0"/>
                    </a:moveTo>
                    <a:cubicBezTo>
                      <a:pt x="31" y="0"/>
                      <a:pt x="28" y="0"/>
                      <a:pt x="25" y="1"/>
                    </a:cubicBezTo>
                    <a:cubicBezTo>
                      <a:pt x="11" y="3"/>
                      <a:pt x="0" y="13"/>
                      <a:pt x="2" y="23"/>
                    </a:cubicBezTo>
                    <a:cubicBezTo>
                      <a:pt x="2" y="24"/>
                      <a:pt x="3" y="25"/>
                      <a:pt x="4" y="26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3" y="25"/>
                      <a:pt x="3" y="24"/>
                      <a:pt x="2" y="22"/>
                    </a:cubicBezTo>
                    <a:cubicBezTo>
                      <a:pt x="1" y="13"/>
                      <a:pt x="11" y="4"/>
                      <a:pt x="25" y="1"/>
                    </a:cubicBezTo>
                    <a:cubicBezTo>
                      <a:pt x="28" y="0"/>
                      <a:pt x="31" y="0"/>
                      <a:pt x="33" y="0"/>
                    </a:cubicBezTo>
                    <a:cubicBezTo>
                      <a:pt x="44" y="0"/>
                      <a:pt x="53" y="5"/>
                      <a:pt x="55" y="12"/>
                    </a:cubicBezTo>
                    <a:cubicBezTo>
                      <a:pt x="56" y="20"/>
                      <a:pt x="49" y="29"/>
                      <a:pt x="37" y="33"/>
                    </a:cubicBezTo>
                    <a:cubicBezTo>
                      <a:pt x="38" y="32"/>
                      <a:pt x="38" y="32"/>
                      <a:pt x="38" y="32"/>
                    </a:cubicBezTo>
                    <a:cubicBezTo>
                      <a:pt x="50" y="28"/>
                      <a:pt x="57" y="20"/>
                      <a:pt x="55" y="12"/>
                    </a:cubicBezTo>
                    <a:cubicBezTo>
                      <a:pt x="54" y="5"/>
                      <a:pt x="45" y="0"/>
                      <a:pt x="33" y="0"/>
                    </a:cubicBezTo>
                  </a:path>
                </a:pathLst>
              </a:custGeom>
              <a:solidFill>
                <a:srgbClr val="aa5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未知"/>
              <p:cNvSpPr/>
              <p:nvPr/>
            </p:nvSpPr>
            <p:spPr>
              <a:xfrm rot="19200000">
                <a:off x="2499120" y="4839840"/>
                <a:ext cx="12240" cy="864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32" y="0"/>
                    </a:moveTo>
                    <a:cubicBezTo>
                      <a:pt x="30" y="0"/>
                      <a:pt x="27" y="0"/>
                      <a:pt x="24" y="1"/>
                    </a:cubicBezTo>
                    <a:cubicBezTo>
                      <a:pt x="10" y="4"/>
                      <a:pt x="0" y="13"/>
                      <a:pt x="1" y="22"/>
                    </a:cubicBezTo>
                    <a:cubicBezTo>
                      <a:pt x="2" y="24"/>
                      <a:pt x="2" y="25"/>
                      <a:pt x="3" y="26"/>
                    </a:cubicBezTo>
                    <a:cubicBezTo>
                      <a:pt x="3" y="26"/>
                      <a:pt x="3" y="27"/>
                      <a:pt x="4" y="27"/>
                    </a:cubicBezTo>
                    <a:cubicBezTo>
                      <a:pt x="3" y="25"/>
                      <a:pt x="2" y="24"/>
                      <a:pt x="2" y="22"/>
                    </a:cubicBezTo>
                    <a:cubicBezTo>
                      <a:pt x="0" y="13"/>
                      <a:pt x="10" y="4"/>
                      <a:pt x="24" y="1"/>
                    </a:cubicBezTo>
                    <a:cubicBezTo>
                      <a:pt x="27" y="1"/>
                      <a:pt x="30" y="0"/>
                      <a:pt x="32" y="0"/>
                    </a:cubicBezTo>
                    <a:cubicBezTo>
                      <a:pt x="43" y="0"/>
                      <a:pt x="52" y="5"/>
                      <a:pt x="53" y="12"/>
                    </a:cubicBezTo>
                    <a:cubicBezTo>
                      <a:pt x="55" y="21"/>
                      <a:pt x="47" y="29"/>
                      <a:pt x="34" y="33"/>
                    </a:cubicBezTo>
                    <a:cubicBezTo>
                      <a:pt x="35" y="33"/>
                      <a:pt x="35" y="33"/>
                      <a:pt x="36" y="33"/>
                    </a:cubicBezTo>
                    <a:cubicBezTo>
                      <a:pt x="48" y="29"/>
                      <a:pt x="55" y="20"/>
                      <a:pt x="54" y="12"/>
                    </a:cubicBezTo>
                    <a:cubicBezTo>
                      <a:pt x="52" y="5"/>
                      <a:pt x="43" y="0"/>
                      <a:pt x="32" y="0"/>
                    </a:cubicBezTo>
                  </a:path>
                </a:pathLst>
              </a:custGeom>
              <a:solidFill>
                <a:srgbClr val="ab5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未知"/>
              <p:cNvSpPr/>
              <p:nvPr/>
            </p:nvSpPr>
            <p:spPr>
              <a:xfrm rot="19200000">
                <a:off x="2499120" y="4839840"/>
                <a:ext cx="12240" cy="864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32" y="0"/>
                    </a:moveTo>
                    <a:cubicBezTo>
                      <a:pt x="30" y="0"/>
                      <a:pt x="27" y="1"/>
                      <a:pt x="24" y="1"/>
                    </a:cubicBezTo>
                    <a:cubicBezTo>
                      <a:pt x="10" y="4"/>
                      <a:pt x="0" y="13"/>
                      <a:pt x="2" y="22"/>
                    </a:cubicBezTo>
                    <a:cubicBezTo>
                      <a:pt x="2" y="24"/>
                      <a:pt x="3" y="25"/>
                      <a:pt x="4" y="27"/>
                    </a:cubicBezTo>
                    <a:cubicBezTo>
                      <a:pt x="4" y="27"/>
                      <a:pt x="4" y="27"/>
                      <a:pt x="4" y="27"/>
                    </a:cubicBezTo>
                    <a:cubicBezTo>
                      <a:pt x="3" y="25"/>
                      <a:pt x="3" y="24"/>
                      <a:pt x="2" y="22"/>
                    </a:cubicBezTo>
                    <a:cubicBezTo>
                      <a:pt x="1" y="13"/>
                      <a:pt x="10" y="4"/>
                      <a:pt x="24" y="1"/>
                    </a:cubicBezTo>
                    <a:cubicBezTo>
                      <a:pt x="27" y="1"/>
                      <a:pt x="30" y="1"/>
                      <a:pt x="32" y="1"/>
                    </a:cubicBezTo>
                    <a:cubicBezTo>
                      <a:pt x="43" y="1"/>
                      <a:pt x="51" y="5"/>
                      <a:pt x="53" y="12"/>
                    </a:cubicBezTo>
                    <a:cubicBezTo>
                      <a:pt x="55" y="21"/>
                      <a:pt x="45" y="30"/>
                      <a:pt x="32" y="33"/>
                    </a:cubicBezTo>
                    <a:cubicBezTo>
                      <a:pt x="33" y="33"/>
                      <a:pt x="33" y="33"/>
                      <a:pt x="34" y="33"/>
                    </a:cubicBezTo>
                    <a:cubicBezTo>
                      <a:pt x="47" y="29"/>
                      <a:pt x="55" y="21"/>
                      <a:pt x="53" y="12"/>
                    </a:cubicBezTo>
                    <a:cubicBezTo>
                      <a:pt x="52" y="5"/>
                      <a:pt x="43" y="0"/>
                      <a:pt x="32" y="0"/>
                    </a:cubicBezTo>
                  </a:path>
                </a:pathLst>
              </a:custGeom>
              <a:solidFill>
                <a:srgbClr val="ac5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未知"/>
              <p:cNvSpPr/>
              <p:nvPr/>
            </p:nvSpPr>
            <p:spPr>
              <a:xfrm rot="19200000">
                <a:off x="2499480" y="4839840"/>
                <a:ext cx="12240" cy="864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31" y="0"/>
                    </a:moveTo>
                    <a:cubicBezTo>
                      <a:pt x="29" y="0"/>
                      <a:pt x="26" y="0"/>
                      <a:pt x="23" y="0"/>
                    </a:cubicBezTo>
                    <a:cubicBezTo>
                      <a:pt x="9" y="3"/>
                      <a:pt x="0" y="12"/>
                      <a:pt x="1" y="21"/>
                    </a:cubicBezTo>
                    <a:cubicBezTo>
                      <a:pt x="2" y="23"/>
                      <a:pt x="2" y="24"/>
                      <a:pt x="3" y="26"/>
                    </a:cubicBezTo>
                    <a:cubicBezTo>
                      <a:pt x="3" y="26"/>
                      <a:pt x="4" y="26"/>
                      <a:pt x="4" y="26"/>
                    </a:cubicBezTo>
                    <a:cubicBezTo>
                      <a:pt x="3" y="24"/>
                      <a:pt x="2" y="23"/>
                      <a:pt x="2" y="21"/>
                    </a:cubicBezTo>
                    <a:cubicBezTo>
                      <a:pt x="0" y="13"/>
                      <a:pt x="10" y="3"/>
                      <a:pt x="24" y="1"/>
                    </a:cubicBezTo>
                    <a:cubicBezTo>
                      <a:pt x="26" y="0"/>
                      <a:pt x="29" y="0"/>
                      <a:pt x="31" y="0"/>
                    </a:cubicBezTo>
                    <a:cubicBezTo>
                      <a:pt x="42" y="0"/>
                      <a:pt x="50" y="4"/>
                      <a:pt x="51" y="11"/>
                    </a:cubicBezTo>
                    <a:cubicBezTo>
                      <a:pt x="53" y="20"/>
                      <a:pt x="43" y="29"/>
                      <a:pt x="30" y="32"/>
                    </a:cubicBezTo>
                    <a:cubicBezTo>
                      <a:pt x="29" y="32"/>
                      <a:pt x="29" y="32"/>
                      <a:pt x="29" y="32"/>
                    </a:cubicBezTo>
                    <a:cubicBezTo>
                      <a:pt x="29" y="32"/>
                      <a:pt x="29" y="32"/>
                      <a:pt x="29" y="32"/>
                    </a:cubicBezTo>
                    <a:cubicBezTo>
                      <a:pt x="30" y="32"/>
                      <a:pt x="31" y="32"/>
                      <a:pt x="31" y="32"/>
                    </a:cubicBezTo>
                    <a:cubicBezTo>
                      <a:pt x="44" y="29"/>
                      <a:pt x="54" y="20"/>
                      <a:pt x="52" y="11"/>
                    </a:cubicBezTo>
                    <a:cubicBezTo>
                      <a:pt x="50" y="4"/>
                      <a:pt x="42" y="0"/>
                      <a:pt x="31" y="0"/>
                    </a:cubicBezTo>
                  </a:path>
                </a:pathLst>
              </a:custGeom>
              <a:solidFill>
                <a:srgbClr val="ac5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未知"/>
              <p:cNvSpPr/>
              <p:nvPr/>
            </p:nvSpPr>
            <p:spPr>
              <a:xfrm rot="19200000">
                <a:off x="2499480" y="4839840"/>
                <a:ext cx="11880" cy="8640"/>
              </a:xfrm>
              <a:custGeom>
                <a:avLst/>
                <a:gdLst/>
                <a:ahLst/>
                <a:rect l="l" t="t" r="r" b="b"/>
                <a:pathLst>
                  <a:path w="53" h="32">
                    <a:moveTo>
                      <a:pt x="31" y="0"/>
                    </a:moveTo>
                    <a:cubicBezTo>
                      <a:pt x="29" y="0"/>
                      <a:pt x="26" y="0"/>
                      <a:pt x="24" y="1"/>
                    </a:cubicBezTo>
                    <a:cubicBezTo>
                      <a:pt x="10" y="3"/>
                      <a:pt x="0" y="13"/>
                      <a:pt x="2" y="21"/>
                    </a:cubicBezTo>
                    <a:cubicBezTo>
                      <a:pt x="2" y="23"/>
                      <a:pt x="3" y="24"/>
                      <a:pt x="4" y="26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3" y="24"/>
                      <a:pt x="2" y="23"/>
                      <a:pt x="2" y="21"/>
                    </a:cubicBezTo>
                    <a:cubicBezTo>
                      <a:pt x="1" y="13"/>
                      <a:pt x="10" y="4"/>
                      <a:pt x="24" y="1"/>
                    </a:cubicBezTo>
                    <a:cubicBezTo>
                      <a:pt x="26" y="0"/>
                      <a:pt x="29" y="0"/>
                      <a:pt x="31" y="0"/>
                    </a:cubicBezTo>
                    <a:cubicBezTo>
                      <a:pt x="41" y="0"/>
                      <a:pt x="50" y="5"/>
                      <a:pt x="51" y="12"/>
                    </a:cubicBezTo>
                    <a:cubicBezTo>
                      <a:pt x="53" y="20"/>
                      <a:pt x="43" y="29"/>
                      <a:pt x="30" y="32"/>
                    </a:cubicBezTo>
                    <a:cubicBezTo>
                      <a:pt x="29" y="32"/>
                      <a:pt x="28" y="32"/>
                      <a:pt x="27" y="32"/>
                    </a:cubicBezTo>
                    <a:cubicBezTo>
                      <a:pt x="27" y="32"/>
                      <a:pt x="28" y="32"/>
                      <a:pt x="28" y="32"/>
                    </a:cubicBezTo>
                    <a:cubicBezTo>
                      <a:pt x="28" y="32"/>
                      <a:pt x="28" y="32"/>
                      <a:pt x="29" y="32"/>
                    </a:cubicBezTo>
                    <a:cubicBezTo>
                      <a:pt x="29" y="32"/>
                      <a:pt x="29" y="32"/>
                      <a:pt x="30" y="32"/>
                    </a:cubicBezTo>
                    <a:cubicBezTo>
                      <a:pt x="43" y="29"/>
                      <a:pt x="53" y="20"/>
                      <a:pt x="51" y="11"/>
                    </a:cubicBezTo>
                    <a:cubicBezTo>
                      <a:pt x="50" y="4"/>
                      <a:pt x="42" y="0"/>
                      <a:pt x="31" y="0"/>
                    </a:cubicBezTo>
                  </a:path>
                </a:pathLst>
              </a:custGeom>
              <a:solidFill>
                <a:srgbClr val="ad5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未知"/>
              <p:cNvSpPr/>
              <p:nvPr/>
            </p:nvSpPr>
            <p:spPr>
              <a:xfrm rot="19200000">
                <a:off x="2499840" y="4839480"/>
                <a:ext cx="11520" cy="864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0" y="0"/>
                    </a:moveTo>
                    <a:cubicBezTo>
                      <a:pt x="28" y="0"/>
                      <a:pt x="25" y="0"/>
                      <a:pt x="23" y="1"/>
                    </a:cubicBezTo>
                    <a:cubicBezTo>
                      <a:pt x="9" y="4"/>
                      <a:pt x="0" y="13"/>
                      <a:pt x="1" y="21"/>
                    </a:cubicBezTo>
                    <a:cubicBezTo>
                      <a:pt x="1" y="23"/>
                      <a:pt x="2" y="24"/>
                      <a:pt x="3" y="26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3" y="24"/>
                      <a:pt x="2" y="23"/>
                      <a:pt x="2" y="21"/>
                    </a:cubicBezTo>
                    <a:cubicBezTo>
                      <a:pt x="0" y="13"/>
                      <a:pt x="9" y="4"/>
                      <a:pt x="23" y="1"/>
                    </a:cubicBezTo>
                    <a:cubicBezTo>
                      <a:pt x="25" y="1"/>
                      <a:pt x="28" y="0"/>
                      <a:pt x="30" y="0"/>
                    </a:cubicBezTo>
                    <a:cubicBezTo>
                      <a:pt x="40" y="0"/>
                      <a:pt x="48" y="5"/>
                      <a:pt x="50" y="12"/>
                    </a:cubicBezTo>
                    <a:cubicBezTo>
                      <a:pt x="51" y="20"/>
                      <a:pt x="42" y="29"/>
                      <a:pt x="29" y="32"/>
                    </a:cubicBezTo>
                    <a:cubicBezTo>
                      <a:pt x="27" y="32"/>
                      <a:pt x="26" y="32"/>
                      <a:pt x="25" y="32"/>
                    </a:cubicBezTo>
                    <a:cubicBezTo>
                      <a:pt x="25" y="32"/>
                      <a:pt x="25" y="32"/>
                      <a:pt x="26" y="32"/>
                    </a:cubicBezTo>
                    <a:cubicBezTo>
                      <a:pt x="27" y="32"/>
                      <a:pt x="28" y="32"/>
                      <a:pt x="29" y="32"/>
                    </a:cubicBezTo>
                    <a:cubicBezTo>
                      <a:pt x="42" y="29"/>
                      <a:pt x="52" y="20"/>
                      <a:pt x="50" y="12"/>
                    </a:cubicBezTo>
                    <a:cubicBezTo>
                      <a:pt x="49" y="5"/>
                      <a:pt x="40" y="0"/>
                      <a:pt x="30" y="0"/>
                    </a:cubicBezTo>
                  </a:path>
                </a:pathLst>
              </a:custGeom>
              <a:solidFill>
                <a:srgbClr val="af5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未知"/>
              <p:cNvSpPr/>
              <p:nvPr/>
            </p:nvSpPr>
            <p:spPr>
              <a:xfrm rot="19200000">
                <a:off x="2499840" y="4839480"/>
                <a:ext cx="11520" cy="8640"/>
              </a:xfrm>
              <a:custGeom>
                <a:avLst/>
                <a:gdLst/>
                <a:ahLst/>
                <a:rect l="l" t="t" r="r" b="b"/>
                <a:pathLst>
                  <a:path w="51" h="32">
                    <a:moveTo>
                      <a:pt x="30" y="0"/>
                    </a:moveTo>
                    <a:cubicBezTo>
                      <a:pt x="28" y="0"/>
                      <a:pt x="25" y="1"/>
                      <a:pt x="23" y="1"/>
                    </a:cubicBezTo>
                    <a:cubicBezTo>
                      <a:pt x="9" y="4"/>
                      <a:pt x="0" y="13"/>
                      <a:pt x="2" y="21"/>
                    </a:cubicBezTo>
                    <a:cubicBezTo>
                      <a:pt x="2" y="23"/>
                      <a:pt x="3" y="24"/>
                      <a:pt x="4" y="26"/>
                    </a:cubicBezTo>
                    <a:cubicBezTo>
                      <a:pt x="4" y="26"/>
                      <a:pt x="4" y="26"/>
                      <a:pt x="5" y="26"/>
                    </a:cubicBezTo>
                    <a:cubicBezTo>
                      <a:pt x="3" y="24"/>
                      <a:pt x="2" y="23"/>
                      <a:pt x="2" y="21"/>
                    </a:cubicBezTo>
                    <a:cubicBezTo>
                      <a:pt x="0" y="13"/>
                      <a:pt x="10" y="4"/>
                      <a:pt x="23" y="1"/>
                    </a:cubicBezTo>
                    <a:cubicBezTo>
                      <a:pt x="25" y="1"/>
                      <a:pt x="27" y="1"/>
                      <a:pt x="30" y="1"/>
                    </a:cubicBezTo>
                    <a:cubicBezTo>
                      <a:pt x="40" y="1"/>
                      <a:pt x="48" y="5"/>
                      <a:pt x="49" y="12"/>
                    </a:cubicBezTo>
                    <a:cubicBezTo>
                      <a:pt x="51" y="20"/>
                      <a:pt x="42" y="29"/>
                      <a:pt x="29" y="31"/>
                    </a:cubicBezTo>
                    <a:cubicBezTo>
                      <a:pt x="27" y="32"/>
                      <a:pt x="25" y="32"/>
                      <a:pt x="23" y="32"/>
                    </a:cubicBezTo>
                    <a:cubicBezTo>
                      <a:pt x="24" y="32"/>
                      <a:pt x="24" y="32"/>
                      <a:pt x="25" y="32"/>
                    </a:cubicBezTo>
                    <a:cubicBezTo>
                      <a:pt x="26" y="32"/>
                      <a:pt x="27" y="32"/>
                      <a:pt x="29" y="32"/>
                    </a:cubicBezTo>
                    <a:cubicBezTo>
                      <a:pt x="42" y="29"/>
                      <a:pt x="51" y="20"/>
                      <a:pt x="50" y="12"/>
                    </a:cubicBezTo>
                    <a:cubicBezTo>
                      <a:pt x="48" y="5"/>
                      <a:pt x="40" y="0"/>
                      <a:pt x="30" y="0"/>
                    </a:cubicBezTo>
                  </a:path>
                </a:pathLst>
              </a:custGeom>
              <a:solidFill>
                <a:srgbClr val="b05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未知"/>
              <p:cNvSpPr/>
              <p:nvPr/>
            </p:nvSpPr>
            <p:spPr>
              <a:xfrm rot="19200000">
                <a:off x="2499840" y="4840200"/>
                <a:ext cx="11520" cy="8280"/>
              </a:xfrm>
              <a:custGeom>
                <a:avLst/>
                <a:gdLst/>
                <a:ahLst/>
                <a:rect l="l" t="t" r="r" b="b"/>
                <a:pathLst>
                  <a:path w="51" h="31">
                    <a:moveTo>
                      <a:pt x="30" y="0"/>
                    </a:moveTo>
                    <a:cubicBezTo>
                      <a:pt x="27" y="0"/>
                      <a:pt x="25" y="0"/>
                      <a:pt x="23" y="0"/>
                    </a:cubicBezTo>
                    <a:cubicBezTo>
                      <a:pt x="10" y="3"/>
                      <a:pt x="0" y="12"/>
                      <a:pt x="2" y="20"/>
                    </a:cubicBezTo>
                    <a:cubicBezTo>
                      <a:pt x="2" y="22"/>
                      <a:pt x="3" y="23"/>
                      <a:pt x="5" y="25"/>
                    </a:cubicBezTo>
                    <a:cubicBezTo>
                      <a:pt x="5" y="25"/>
                      <a:pt x="5" y="25"/>
                      <a:pt x="5" y="25"/>
                    </a:cubicBezTo>
                    <a:cubicBezTo>
                      <a:pt x="4" y="24"/>
                      <a:pt x="3" y="22"/>
                      <a:pt x="2" y="20"/>
                    </a:cubicBezTo>
                    <a:cubicBezTo>
                      <a:pt x="1" y="12"/>
                      <a:pt x="10" y="3"/>
                      <a:pt x="23" y="1"/>
                    </a:cubicBezTo>
                    <a:cubicBezTo>
                      <a:pt x="25" y="0"/>
                      <a:pt x="27" y="0"/>
                      <a:pt x="30" y="0"/>
                    </a:cubicBezTo>
                    <a:cubicBezTo>
                      <a:pt x="39" y="0"/>
                      <a:pt x="47" y="4"/>
                      <a:pt x="49" y="11"/>
                    </a:cubicBezTo>
                    <a:cubicBezTo>
                      <a:pt x="50" y="19"/>
                      <a:pt x="41" y="27"/>
                      <a:pt x="28" y="30"/>
                    </a:cubicBezTo>
                    <a:cubicBezTo>
                      <a:pt x="26" y="30"/>
                      <a:pt x="24" y="31"/>
                      <a:pt x="22" y="31"/>
                    </a:cubicBezTo>
                    <a:cubicBezTo>
                      <a:pt x="22" y="31"/>
                      <a:pt x="23" y="31"/>
                      <a:pt x="23" y="31"/>
                    </a:cubicBezTo>
                    <a:cubicBezTo>
                      <a:pt x="25" y="31"/>
                      <a:pt x="27" y="31"/>
                      <a:pt x="29" y="30"/>
                    </a:cubicBezTo>
                    <a:cubicBezTo>
                      <a:pt x="42" y="28"/>
                      <a:pt x="51" y="19"/>
                      <a:pt x="49" y="11"/>
                    </a:cubicBezTo>
                    <a:cubicBezTo>
                      <a:pt x="48" y="4"/>
                      <a:pt x="40" y="0"/>
                      <a:pt x="30" y="0"/>
                    </a:cubicBezTo>
                  </a:path>
                </a:pathLst>
              </a:custGeom>
              <a:solidFill>
                <a:srgbClr val="b15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未知"/>
              <p:cNvSpPr/>
              <p:nvPr/>
            </p:nvSpPr>
            <p:spPr>
              <a:xfrm rot="19200000">
                <a:off x="2499840" y="484020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29" y="0"/>
                    </a:moveTo>
                    <a:cubicBezTo>
                      <a:pt x="26" y="0"/>
                      <a:pt x="24" y="0"/>
                      <a:pt x="22" y="1"/>
                    </a:cubicBezTo>
                    <a:cubicBezTo>
                      <a:pt x="9" y="3"/>
                      <a:pt x="0" y="12"/>
                      <a:pt x="1" y="20"/>
                    </a:cubicBezTo>
                    <a:cubicBezTo>
                      <a:pt x="2" y="22"/>
                      <a:pt x="3" y="24"/>
                      <a:pt x="4" y="25"/>
                    </a:cubicBezTo>
                    <a:cubicBezTo>
                      <a:pt x="4" y="25"/>
                      <a:pt x="5" y="25"/>
                      <a:pt x="5" y="25"/>
                    </a:cubicBezTo>
                    <a:cubicBezTo>
                      <a:pt x="3" y="24"/>
                      <a:pt x="2" y="22"/>
                      <a:pt x="2" y="20"/>
                    </a:cubicBezTo>
                    <a:cubicBezTo>
                      <a:pt x="0" y="12"/>
                      <a:pt x="9" y="3"/>
                      <a:pt x="22" y="1"/>
                    </a:cubicBezTo>
                    <a:cubicBezTo>
                      <a:pt x="24" y="1"/>
                      <a:pt x="26" y="0"/>
                      <a:pt x="29" y="0"/>
                    </a:cubicBezTo>
                    <a:cubicBezTo>
                      <a:pt x="38" y="0"/>
                      <a:pt x="46" y="4"/>
                      <a:pt x="47" y="11"/>
                    </a:cubicBezTo>
                    <a:cubicBezTo>
                      <a:pt x="49" y="19"/>
                      <a:pt x="40" y="27"/>
                      <a:pt x="27" y="30"/>
                    </a:cubicBezTo>
                    <a:cubicBezTo>
                      <a:pt x="25" y="30"/>
                      <a:pt x="23" y="30"/>
                      <a:pt x="21" y="30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0" y="30"/>
                      <a:pt x="21" y="31"/>
                      <a:pt x="21" y="31"/>
                    </a:cubicBezTo>
                    <a:cubicBezTo>
                      <a:pt x="23" y="31"/>
                      <a:pt x="25" y="30"/>
                      <a:pt x="27" y="30"/>
                    </a:cubicBezTo>
                    <a:cubicBezTo>
                      <a:pt x="40" y="27"/>
                      <a:pt x="49" y="19"/>
                      <a:pt x="48" y="11"/>
                    </a:cubicBezTo>
                    <a:cubicBezTo>
                      <a:pt x="46" y="4"/>
                      <a:pt x="38" y="0"/>
                      <a:pt x="29" y="0"/>
                    </a:cubicBezTo>
                  </a:path>
                </a:pathLst>
              </a:custGeom>
              <a:solidFill>
                <a:srgbClr val="b25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未知"/>
              <p:cNvSpPr/>
              <p:nvPr/>
            </p:nvSpPr>
            <p:spPr>
              <a:xfrm rot="19200000">
                <a:off x="2499840" y="48402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49" h="30">
                    <a:moveTo>
                      <a:pt x="29" y="0"/>
                    </a:moveTo>
                    <a:cubicBezTo>
                      <a:pt x="26" y="0"/>
                      <a:pt x="24" y="1"/>
                      <a:pt x="22" y="1"/>
                    </a:cubicBezTo>
                    <a:cubicBezTo>
                      <a:pt x="9" y="3"/>
                      <a:pt x="0" y="12"/>
                      <a:pt x="2" y="20"/>
                    </a:cubicBezTo>
                    <a:cubicBezTo>
                      <a:pt x="2" y="22"/>
                      <a:pt x="3" y="24"/>
                      <a:pt x="5" y="25"/>
                    </a:cubicBezTo>
                    <a:cubicBezTo>
                      <a:pt x="5" y="25"/>
                      <a:pt x="5" y="25"/>
                      <a:pt x="6" y="25"/>
                    </a:cubicBezTo>
                    <a:cubicBezTo>
                      <a:pt x="4" y="24"/>
                      <a:pt x="3" y="22"/>
                      <a:pt x="2" y="20"/>
                    </a:cubicBezTo>
                    <a:cubicBezTo>
                      <a:pt x="1" y="12"/>
                      <a:pt x="10" y="4"/>
                      <a:pt x="22" y="1"/>
                    </a:cubicBezTo>
                    <a:cubicBezTo>
                      <a:pt x="24" y="1"/>
                      <a:pt x="26" y="1"/>
                      <a:pt x="29" y="1"/>
                    </a:cubicBezTo>
                    <a:cubicBezTo>
                      <a:pt x="38" y="1"/>
                      <a:pt x="46" y="5"/>
                      <a:pt x="47" y="11"/>
                    </a:cubicBezTo>
                    <a:cubicBezTo>
                      <a:pt x="48" y="19"/>
                      <a:pt x="40" y="27"/>
                      <a:pt x="27" y="29"/>
                    </a:cubicBezTo>
                    <a:cubicBezTo>
                      <a:pt x="25" y="30"/>
                      <a:pt x="23" y="30"/>
                      <a:pt x="21" y="30"/>
                    </a:cubicBezTo>
                    <a:cubicBezTo>
                      <a:pt x="20" y="30"/>
                      <a:pt x="19" y="30"/>
                      <a:pt x="19" y="30"/>
                    </a:cubicBezTo>
                    <a:cubicBezTo>
                      <a:pt x="19" y="30"/>
                      <a:pt x="20" y="30"/>
                      <a:pt x="20" y="30"/>
                    </a:cubicBezTo>
                    <a:cubicBezTo>
                      <a:pt x="20" y="30"/>
                      <a:pt x="20" y="30"/>
                      <a:pt x="21" y="30"/>
                    </a:cubicBezTo>
                    <a:cubicBezTo>
                      <a:pt x="23" y="30"/>
                      <a:pt x="25" y="30"/>
                      <a:pt x="27" y="30"/>
                    </a:cubicBezTo>
                    <a:cubicBezTo>
                      <a:pt x="40" y="27"/>
                      <a:pt x="49" y="19"/>
                      <a:pt x="47" y="11"/>
                    </a:cubicBezTo>
                    <a:cubicBezTo>
                      <a:pt x="46" y="4"/>
                      <a:pt x="38" y="0"/>
                      <a:pt x="29" y="0"/>
                    </a:cubicBezTo>
                  </a:path>
                </a:pathLst>
              </a:custGeom>
              <a:solidFill>
                <a:srgbClr val="b35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未知"/>
              <p:cNvSpPr/>
              <p:nvPr/>
            </p:nvSpPr>
            <p:spPr>
              <a:xfrm rot="19200000">
                <a:off x="2500560" y="4840560"/>
                <a:ext cx="10440" cy="75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28" y="0"/>
                    </a:moveTo>
                    <a:cubicBezTo>
                      <a:pt x="25" y="0"/>
                      <a:pt x="23" y="0"/>
                      <a:pt x="21" y="0"/>
                    </a:cubicBezTo>
                    <a:cubicBezTo>
                      <a:pt x="9" y="3"/>
                      <a:pt x="0" y="11"/>
                      <a:pt x="1" y="19"/>
                    </a:cubicBezTo>
                    <a:cubicBezTo>
                      <a:pt x="2" y="21"/>
                      <a:pt x="3" y="23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4"/>
                      <a:pt x="6" y="24"/>
                    </a:cubicBezTo>
                    <a:cubicBezTo>
                      <a:pt x="4" y="23"/>
                      <a:pt x="2" y="21"/>
                      <a:pt x="2" y="19"/>
                    </a:cubicBezTo>
                    <a:cubicBezTo>
                      <a:pt x="0" y="11"/>
                      <a:pt x="9" y="3"/>
                      <a:pt x="21" y="1"/>
                    </a:cubicBezTo>
                    <a:cubicBezTo>
                      <a:pt x="23" y="0"/>
                      <a:pt x="25" y="0"/>
                      <a:pt x="27" y="0"/>
                    </a:cubicBezTo>
                    <a:cubicBezTo>
                      <a:pt x="37" y="0"/>
                      <a:pt x="44" y="4"/>
                      <a:pt x="45" y="10"/>
                    </a:cubicBezTo>
                    <a:cubicBezTo>
                      <a:pt x="47" y="18"/>
                      <a:pt x="38" y="26"/>
                      <a:pt x="26" y="28"/>
                    </a:cubicBezTo>
                    <a:cubicBezTo>
                      <a:pt x="24" y="29"/>
                      <a:pt x="22" y="29"/>
                      <a:pt x="20" y="29"/>
                    </a:cubicBezTo>
                    <a:cubicBezTo>
                      <a:pt x="19" y="29"/>
                      <a:pt x="18" y="29"/>
                      <a:pt x="17" y="29"/>
                    </a:cubicBezTo>
                    <a:cubicBezTo>
                      <a:pt x="17" y="29"/>
                      <a:pt x="18" y="29"/>
                      <a:pt x="18" y="29"/>
                    </a:cubicBezTo>
                    <a:cubicBezTo>
                      <a:pt x="18" y="29"/>
                      <a:pt x="19" y="29"/>
                      <a:pt x="20" y="29"/>
                    </a:cubicBezTo>
                    <a:cubicBezTo>
                      <a:pt x="22" y="29"/>
                      <a:pt x="24" y="29"/>
                      <a:pt x="26" y="28"/>
                    </a:cubicBezTo>
                    <a:cubicBezTo>
                      <a:pt x="39" y="26"/>
                      <a:pt x="47" y="18"/>
                      <a:pt x="46" y="10"/>
                    </a:cubicBezTo>
                    <a:cubicBezTo>
                      <a:pt x="45" y="4"/>
                      <a:pt x="37" y="0"/>
                      <a:pt x="28" y="0"/>
                    </a:cubicBezTo>
                  </a:path>
                </a:pathLst>
              </a:custGeom>
              <a:solidFill>
                <a:srgbClr val="b45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未知"/>
              <p:cNvSpPr/>
              <p:nvPr/>
            </p:nvSpPr>
            <p:spPr>
              <a:xfrm rot="19200000">
                <a:off x="2500560" y="4840560"/>
                <a:ext cx="10440" cy="75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27" y="0"/>
                    </a:moveTo>
                    <a:cubicBezTo>
                      <a:pt x="25" y="0"/>
                      <a:pt x="23" y="0"/>
                      <a:pt x="21" y="1"/>
                    </a:cubicBezTo>
                    <a:cubicBezTo>
                      <a:pt x="9" y="3"/>
                      <a:pt x="0" y="11"/>
                      <a:pt x="2" y="19"/>
                    </a:cubicBezTo>
                    <a:cubicBezTo>
                      <a:pt x="2" y="21"/>
                      <a:pt x="4" y="23"/>
                      <a:pt x="6" y="24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4" y="23"/>
                      <a:pt x="3" y="21"/>
                      <a:pt x="2" y="19"/>
                    </a:cubicBezTo>
                    <a:cubicBezTo>
                      <a:pt x="1" y="11"/>
                      <a:pt x="9" y="3"/>
                      <a:pt x="21" y="1"/>
                    </a:cubicBezTo>
                    <a:cubicBezTo>
                      <a:pt x="23" y="0"/>
                      <a:pt x="25" y="0"/>
                      <a:pt x="27" y="0"/>
                    </a:cubicBezTo>
                    <a:cubicBezTo>
                      <a:pt x="36" y="0"/>
                      <a:pt x="44" y="4"/>
                      <a:pt x="45" y="10"/>
                    </a:cubicBezTo>
                    <a:cubicBezTo>
                      <a:pt x="46" y="18"/>
                      <a:pt x="38" y="26"/>
                      <a:pt x="26" y="28"/>
                    </a:cubicBezTo>
                    <a:cubicBezTo>
                      <a:pt x="24" y="28"/>
                      <a:pt x="22" y="28"/>
                      <a:pt x="20" y="28"/>
                    </a:cubicBezTo>
                    <a:cubicBezTo>
                      <a:pt x="18" y="28"/>
                      <a:pt x="17" y="28"/>
                      <a:pt x="16" y="28"/>
                    </a:cubicBezTo>
                    <a:cubicBezTo>
                      <a:pt x="16" y="28"/>
                      <a:pt x="16" y="28"/>
                      <a:pt x="17" y="29"/>
                    </a:cubicBezTo>
                    <a:cubicBezTo>
                      <a:pt x="18" y="29"/>
                      <a:pt x="19" y="29"/>
                      <a:pt x="20" y="29"/>
                    </a:cubicBezTo>
                    <a:cubicBezTo>
                      <a:pt x="22" y="29"/>
                      <a:pt x="24" y="29"/>
                      <a:pt x="26" y="28"/>
                    </a:cubicBezTo>
                    <a:cubicBezTo>
                      <a:pt x="38" y="26"/>
                      <a:pt x="47" y="18"/>
                      <a:pt x="45" y="10"/>
                    </a:cubicBezTo>
                    <a:cubicBezTo>
                      <a:pt x="44" y="4"/>
                      <a:pt x="37" y="0"/>
                      <a:pt x="27" y="0"/>
                    </a:cubicBezTo>
                  </a:path>
                </a:pathLst>
              </a:custGeom>
              <a:solidFill>
                <a:srgbClr val="b55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未知"/>
              <p:cNvSpPr/>
              <p:nvPr/>
            </p:nvSpPr>
            <p:spPr>
              <a:xfrm rot="19200000">
                <a:off x="2500920" y="4840200"/>
                <a:ext cx="10080" cy="75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26" y="0"/>
                    </a:moveTo>
                    <a:cubicBezTo>
                      <a:pt x="24" y="0"/>
                      <a:pt x="22" y="0"/>
                      <a:pt x="20" y="1"/>
                    </a:cubicBezTo>
                    <a:cubicBezTo>
                      <a:pt x="8" y="3"/>
                      <a:pt x="0" y="11"/>
                      <a:pt x="1" y="19"/>
                    </a:cubicBezTo>
                    <a:cubicBezTo>
                      <a:pt x="2" y="21"/>
                      <a:pt x="3" y="23"/>
                      <a:pt x="5" y="25"/>
                    </a:cubicBezTo>
                    <a:cubicBezTo>
                      <a:pt x="6" y="25"/>
                      <a:pt x="6" y="25"/>
                      <a:pt x="7" y="25"/>
                    </a:cubicBezTo>
                    <a:cubicBezTo>
                      <a:pt x="4" y="23"/>
                      <a:pt x="2" y="21"/>
                      <a:pt x="2" y="18"/>
                    </a:cubicBezTo>
                    <a:cubicBezTo>
                      <a:pt x="0" y="11"/>
                      <a:pt x="8" y="3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35" y="1"/>
                      <a:pt x="42" y="4"/>
                      <a:pt x="43" y="10"/>
                    </a:cubicBezTo>
                    <a:cubicBezTo>
                      <a:pt x="45" y="18"/>
                      <a:pt x="37" y="25"/>
                      <a:pt x="25" y="28"/>
                    </a:cubicBezTo>
                    <a:cubicBezTo>
                      <a:pt x="23" y="28"/>
                      <a:pt x="21" y="28"/>
                      <a:pt x="19" y="28"/>
                    </a:cubicBezTo>
                    <a:cubicBezTo>
                      <a:pt x="17" y="28"/>
                      <a:pt x="15" y="28"/>
                      <a:pt x="13" y="28"/>
                    </a:cubicBezTo>
                    <a:cubicBezTo>
                      <a:pt x="14" y="28"/>
                      <a:pt x="14" y="28"/>
                      <a:pt x="15" y="28"/>
                    </a:cubicBezTo>
                    <a:cubicBezTo>
                      <a:pt x="16" y="28"/>
                      <a:pt x="17" y="28"/>
                      <a:pt x="19" y="28"/>
                    </a:cubicBezTo>
                    <a:cubicBezTo>
                      <a:pt x="21" y="28"/>
                      <a:pt x="23" y="28"/>
                      <a:pt x="25" y="28"/>
                    </a:cubicBezTo>
                    <a:cubicBezTo>
                      <a:pt x="37" y="26"/>
                      <a:pt x="45" y="18"/>
                      <a:pt x="44" y="10"/>
                    </a:cubicBezTo>
                    <a:cubicBezTo>
                      <a:pt x="43" y="4"/>
                      <a:pt x="35" y="0"/>
                      <a:pt x="26" y="0"/>
                    </a:cubicBezTo>
                  </a:path>
                </a:pathLst>
              </a:custGeom>
              <a:solidFill>
                <a:srgbClr val="b65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未知"/>
              <p:cNvSpPr/>
              <p:nvPr/>
            </p:nvSpPr>
            <p:spPr>
              <a:xfrm rot="19200000">
                <a:off x="2500920" y="4840200"/>
                <a:ext cx="10080" cy="7200"/>
              </a:xfrm>
              <a:custGeom>
                <a:avLst/>
                <a:gdLst/>
                <a:ahLst/>
                <a:rect l="l" t="t" r="r" b="b"/>
                <a:pathLst>
                  <a:path w="45" h="27">
                    <a:moveTo>
                      <a:pt x="26" y="0"/>
                    </a:moveTo>
                    <a:cubicBezTo>
                      <a:pt x="24" y="0"/>
                      <a:pt x="22" y="0"/>
                      <a:pt x="20" y="0"/>
                    </a:cubicBezTo>
                    <a:cubicBezTo>
                      <a:pt x="8" y="2"/>
                      <a:pt x="0" y="10"/>
                      <a:pt x="2" y="17"/>
                    </a:cubicBezTo>
                    <a:cubicBezTo>
                      <a:pt x="2" y="20"/>
                      <a:pt x="4" y="22"/>
                      <a:pt x="7" y="24"/>
                    </a:cubicBezTo>
                    <a:cubicBezTo>
                      <a:pt x="7" y="24"/>
                      <a:pt x="8" y="24"/>
                      <a:pt x="9" y="25"/>
                    </a:cubicBezTo>
                    <a:cubicBezTo>
                      <a:pt x="5" y="23"/>
                      <a:pt x="3" y="21"/>
                      <a:pt x="2" y="17"/>
                    </a:cubicBezTo>
                    <a:cubicBezTo>
                      <a:pt x="1" y="10"/>
                      <a:pt x="9" y="3"/>
                      <a:pt x="20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35" y="0"/>
                      <a:pt x="42" y="4"/>
                      <a:pt x="43" y="9"/>
                    </a:cubicBezTo>
                    <a:cubicBezTo>
                      <a:pt x="44" y="16"/>
                      <a:pt x="36" y="24"/>
                      <a:pt x="25" y="26"/>
                    </a:cubicBezTo>
                    <a:cubicBezTo>
                      <a:pt x="23" y="27"/>
                      <a:pt x="21" y="27"/>
                      <a:pt x="19" y="27"/>
                    </a:cubicBezTo>
                    <a:cubicBezTo>
                      <a:pt x="16" y="27"/>
                      <a:pt x="14" y="26"/>
                      <a:pt x="11" y="26"/>
                    </a:cubicBezTo>
                    <a:cubicBezTo>
                      <a:pt x="12" y="26"/>
                      <a:pt x="13" y="26"/>
                      <a:pt x="13" y="27"/>
                    </a:cubicBezTo>
                    <a:cubicBezTo>
                      <a:pt x="15" y="27"/>
                      <a:pt x="17" y="27"/>
                      <a:pt x="19" y="27"/>
                    </a:cubicBezTo>
                    <a:cubicBezTo>
                      <a:pt x="21" y="27"/>
                      <a:pt x="23" y="27"/>
                      <a:pt x="25" y="27"/>
                    </a:cubicBezTo>
                    <a:cubicBezTo>
                      <a:pt x="37" y="24"/>
                      <a:pt x="45" y="17"/>
                      <a:pt x="43" y="9"/>
                    </a:cubicBezTo>
                    <a:cubicBezTo>
                      <a:pt x="42" y="3"/>
                      <a:pt x="35" y="0"/>
                      <a:pt x="26" y="0"/>
                    </a:cubicBezTo>
                  </a:path>
                </a:pathLst>
              </a:custGeom>
              <a:solidFill>
                <a:srgbClr val="b75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未知"/>
              <p:cNvSpPr/>
              <p:nvPr/>
            </p:nvSpPr>
            <p:spPr>
              <a:xfrm rot="19200000">
                <a:off x="2500920" y="48402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18" y="27"/>
                    </a:moveTo>
                    <a:cubicBezTo>
                      <a:pt x="10" y="27"/>
                      <a:pt x="3" y="23"/>
                      <a:pt x="2" y="17"/>
                    </a:cubicBezTo>
                    <a:cubicBezTo>
                      <a:pt x="0" y="10"/>
                      <a:pt x="8" y="3"/>
                      <a:pt x="19" y="1"/>
                    </a:cubicBezTo>
                    <a:cubicBezTo>
                      <a:pt x="21" y="0"/>
                      <a:pt x="23" y="0"/>
                      <a:pt x="25" y="0"/>
                    </a:cubicBezTo>
                    <a:cubicBezTo>
                      <a:pt x="34" y="0"/>
                      <a:pt x="40" y="4"/>
                      <a:pt x="42" y="9"/>
                    </a:cubicBezTo>
                    <a:cubicBezTo>
                      <a:pt x="43" y="16"/>
                      <a:pt x="35" y="24"/>
                      <a:pt x="24" y="26"/>
                    </a:cubicBezTo>
                    <a:cubicBezTo>
                      <a:pt x="22" y="26"/>
                      <a:pt x="20" y="27"/>
                      <a:pt x="18" y="27"/>
                    </a:cubicBezTo>
                    <a:moveTo>
                      <a:pt x="25" y="0"/>
                    </a:moveTo>
                    <a:cubicBezTo>
                      <a:pt x="23" y="0"/>
                      <a:pt x="21" y="0"/>
                      <a:pt x="19" y="0"/>
                    </a:cubicBezTo>
                    <a:cubicBezTo>
                      <a:pt x="8" y="3"/>
                      <a:pt x="0" y="10"/>
                      <a:pt x="1" y="17"/>
                    </a:cubicBezTo>
                    <a:cubicBezTo>
                      <a:pt x="2" y="21"/>
                      <a:pt x="4" y="23"/>
                      <a:pt x="8" y="25"/>
                    </a:cubicBezTo>
                    <a:cubicBezTo>
                      <a:pt x="8" y="25"/>
                      <a:pt x="9" y="25"/>
                      <a:pt x="10" y="26"/>
                    </a:cubicBezTo>
                    <a:cubicBezTo>
                      <a:pt x="13" y="26"/>
                      <a:pt x="15" y="27"/>
                      <a:pt x="18" y="27"/>
                    </a:cubicBezTo>
                    <a:cubicBezTo>
                      <a:pt x="20" y="27"/>
                      <a:pt x="22" y="27"/>
                      <a:pt x="24" y="26"/>
                    </a:cubicBezTo>
                    <a:cubicBezTo>
                      <a:pt x="35" y="24"/>
                      <a:pt x="43" y="16"/>
                      <a:pt x="42" y="9"/>
                    </a:cubicBezTo>
                    <a:cubicBezTo>
                      <a:pt x="41" y="4"/>
                      <a:pt x="34" y="0"/>
                      <a:pt x="25" y="0"/>
                    </a:cubicBezTo>
                  </a:path>
                </a:pathLst>
              </a:custGeom>
              <a:solidFill>
                <a:srgbClr val="b85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未知"/>
              <p:cNvSpPr/>
              <p:nvPr/>
            </p:nvSpPr>
            <p:spPr>
              <a:xfrm rot="19200000">
                <a:off x="2500920" y="48402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18" y="26"/>
                    </a:moveTo>
                    <a:cubicBezTo>
                      <a:pt x="10" y="26"/>
                      <a:pt x="3" y="23"/>
                      <a:pt x="2" y="17"/>
                    </a:cubicBezTo>
                    <a:cubicBezTo>
                      <a:pt x="1" y="10"/>
                      <a:pt x="8" y="3"/>
                      <a:pt x="19" y="1"/>
                    </a:cubicBezTo>
                    <a:cubicBezTo>
                      <a:pt x="21" y="1"/>
                      <a:pt x="23" y="0"/>
                      <a:pt x="25" y="0"/>
                    </a:cubicBezTo>
                    <a:cubicBezTo>
                      <a:pt x="33" y="0"/>
                      <a:pt x="40" y="4"/>
                      <a:pt x="41" y="10"/>
                    </a:cubicBezTo>
                    <a:cubicBezTo>
                      <a:pt x="42" y="16"/>
                      <a:pt x="35" y="24"/>
                      <a:pt x="24" y="26"/>
                    </a:cubicBezTo>
                    <a:cubicBezTo>
                      <a:pt x="22" y="26"/>
                      <a:pt x="20" y="26"/>
                      <a:pt x="18" y="26"/>
                    </a:cubicBezTo>
                    <a:moveTo>
                      <a:pt x="25" y="0"/>
                    </a:moveTo>
                    <a:cubicBezTo>
                      <a:pt x="23" y="0"/>
                      <a:pt x="21" y="0"/>
                      <a:pt x="19" y="1"/>
                    </a:cubicBezTo>
                    <a:cubicBezTo>
                      <a:pt x="8" y="3"/>
                      <a:pt x="0" y="10"/>
                      <a:pt x="2" y="17"/>
                    </a:cubicBezTo>
                    <a:cubicBezTo>
                      <a:pt x="3" y="23"/>
                      <a:pt x="10" y="27"/>
                      <a:pt x="18" y="27"/>
                    </a:cubicBezTo>
                    <a:cubicBezTo>
                      <a:pt x="20" y="27"/>
                      <a:pt x="22" y="26"/>
                      <a:pt x="24" y="26"/>
                    </a:cubicBezTo>
                    <a:cubicBezTo>
                      <a:pt x="35" y="24"/>
                      <a:pt x="43" y="16"/>
                      <a:pt x="42" y="9"/>
                    </a:cubicBezTo>
                    <a:cubicBezTo>
                      <a:pt x="40" y="4"/>
                      <a:pt x="34" y="0"/>
                      <a:pt x="25" y="0"/>
                    </a:cubicBezTo>
                  </a:path>
                </a:pathLst>
              </a:custGeom>
              <a:solidFill>
                <a:srgbClr val="b95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未知"/>
              <p:cNvSpPr/>
              <p:nvPr/>
            </p:nvSpPr>
            <p:spPr>
              <a:xfrm rot="19200000">
                <a:off x="2500920" y="484056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41" h="26">
                    <a:moveTo>
                      <a:pt x="17" y="26"/>
                    </a:moveTo>
                    <a:cubicBezTo>
                      <a:pt x="9" y="26"/>
                      <a:pt x="3" y="23"/>
                      <a:pt x="1" y="17"/>
                    </a:cubicBezTo>
                    <a:cubicBezTo>
                      <a:pt x="0" y="10"/>
                      <a:pt x="8" y="3"/>
                      <a:pt x="18" y="1"/>
                    </a:cubicBezTo>
                    <a:cubicBezTo>
                      <a:pt x="20" y="1"/>
                      <a:pt x="22" y="1"/>
                      <a:pt x="24" y="1"/>
                    </a:cubicBezTo>
                    <a:cubicBezTo>
                      <a:pt x="32" y="1"/>
                      <a:pt x="39" y="4"/>
                      <a:pt x="40" y="10"/>
                    </a:cubicBezTo>
                    <a:cubicBezTo>
                      <a:pt x="41" y="16"/>
                      <a:pt x="33" y="23"/>
                      <a:pt x="23" y="25"/>
                    </a:cubicBezTo>
                    <a:cubicBezTo>
                      <a:pt x="21" y="26"/>
                      <a:pt x="19" y="26"/>
                      <a:pt x="17" y="26"/>
                    </a:cubicBezTo>
                    <a:moveTo>
                      <a:pt x="24" y="0"/>
                    </a:moveTo>
                    <a:cubicBezTo>
                      <a:pt x="22" y="0"/>
                      <a:pt x="20" y="1"/>
                      <a:pt x="18" y="1"/>
                    </a:cubicBezTo>
                    <a:cubicBezTo>
                      <a:pt x="7" y="3"/>
                      <a:pt x="0" y="10"/>
                      <a:pt x="1" y="17"/>
                    </a:cubicBezTo>
                    <a:cubicBezTo>
                      <a:pt x="2" y="23"/>
                      <a:pt x="9" y="26"/>
                      <a:pt x="17" y="26"/>
                    </a:cubicBezTo>
                    <a:cubicBezTo>
                      <a:pt x="19" y="26"/>
                      <a:pt x="21" y="26"/>
                      <a:pt x="23" y="26"/>
                    </a:cubicBezTo>
                    <a:cubicBezTo>
                      <a:pt x="34" y="24"/>
                      <a:pt x="41" y="16"/>
                      <a:pt x="40" y="10"/>
                    </a:cubicBezTo>
                    <a:cubicBezTo>
                      <a:pt x="39" y="4"/>
                      <a:pt x="32" y="0"/>
                      <a:pt x="24" y="0"/>
                    </a:cubicBezTo>
                  </a:path>
                </a:pathLst>
              </a:custGeom>
              <a:solidFill>
                <a:srgbClr val="ba5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未知"/>
              <p:cNvSpPr/>
              <p:nvPr/>
            </p:nvSpPr>
            <p:spPr>
              <a:xfrm rot="19200000">
                <a:off x="2501280" y="484056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17" y="25"/>
                    </a:moveTo>
                    <a:cubicBezTo>
                      <a:pt x="9" y="25"/>
                      <a:pt x="3" y="21"/>
                      <a:pt x="2" y="16"/>
                    </a:cubicBezTo>
                    <a:cubicBezTo>
                      <a:pt x="1" y="9"/>
                      <a:pt x="8" y="3"/>
                      <a:pt x="18" y="1"/>
                    </a:cubicBezTo>
                    <a:cubicBezTo>
                      <a:pt x="20" y="0"/>
                      <a:pt x="22" y="0"/>
                      <a:pt x="24" y="0"/>
                    </a:cubicBezTo>
                    <a:cubicBezTo>
                      <a:pt x="32" y="0"/>
                      <a:pt x="38" y="3"/>
                      <a:pt x="39" y="9"/>
                    </a:cubicBezTo>
                    <a:cubicBezTo>
                      <a:pt x="41" y="15"/>
                      <a:pt x="33" y="22"/>
                      <a:pt x="23" y="24"/>
                    </a:cubicBezTo>
                    <a:cubicBezTo>
                      <a:pt x="21" y="25"/>
                      <a:pt x="19" y="25"/>
                      <a:pt x="17" y="25"/>
                    </a:cubicBezTo>
                    <a:moveTo>
                      <a:pt x="24" y="0"/>
                    </a:moveTo>
                    <a:cubicBezTo>
                      <a:pt x="22" y="0"/>
                      <a:pt x="20" y="0"/>
                      <a:pt x="18" y="0"/>
                    </a:cubicBezTo>
                    <a:cubicBezTo>
                      <a:pt x="8" y="2"/>
                      <a:pt x="0" y="9"/>
                      <a:pt x="1" y="16"/>
                    </a:cubicBezTo>
                    <a:cubicBezTo>
                      <a:pt x="3" y="22"/>
                      <a:pt x="9" y="25"/>
                      <a:pt x="17" y="25"/>
                    </a:cubicBezTo>
                    <a:cubicBezTo>
                      <a:pt x="19" y="25"/>
                      <a:pt x="21" y="25"/>
                      <a:pt x="23" y="24"/>
                    </a:cubicBezTo>
                    <a:cubicBezTo>
                      <a:pt x="33" y="22"/>
                      <a:pt x="41" y="15"/>
                      <a:pt x="40" y="9"/>
                    </a:cubicBezTo>
                    <a:cubicBezTo>
                      <a:pt x="39" y="3"/>
                      <a:pt x="32" y="0"/>
                      <a:pt x="24" y="0"/>
                    </a:cubicBezTo>
                  </a:path>
                </a:pathLst>
              </a:custGeom>
              <a:solidFill>
                <a:srgbClr val="bb5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未知"/>
              <p:cNvSpPr/>
              <p:nvPr/>
            </p:nvSpPr>
            <p:spPr>
              <a:xfrm rot="19200000">
                <a:off x="2501280" y="484056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16" y="24"/>
                    </a:moveTo>
                    <a:cubicBezTo>
                      <a:pt x="9" y="24"/>
                      <a:pt x="2" y="21"/>
                      <a:pt x="1" y="16"/>
                    </a:cubicBezTo>
                    <a:cubicBezTo>
                      <a:pt x="0" y="10"/>
                      <a:pt x="7" y="3"/>
                      <a:pt x="17" y="1"/>
                    </a:cubicBezTo>
                    <a:cubicBezTo>
                      <a:pt x="19" y="0"/>
                      <a:pt x="21" y="0"/>
                      <a:pt x="23" y="0"/>
                    </a:cubicBezTo>
                    <a:cubicBezTo>
                      <a:pt x="31" y="0"/>
                      <a:pt x="37" y="4"/>
                      <a:pt x="38" y="9"/>
                    </a:cubicBezTo>
                    <a:cubicBezTo>
                      <a:pt x="39" y="15"/>
                      <a:pt x="32" y="22"/>
                      <a:pt x="22" y="24"/>
                    </a:cubicBezTo>
                    <a:cubicBezTo>
                      <a:pt x="20" y="24"/>
                      <a:pt x="18" y="24"/>
                      <a:pt x="16" y="24"/>
                    </a:cubicBezTo>
                    <a:moveTo>
                      <a:pt x="23" y="0"/>
                    </a:moveTo>
                    <a:cubicBezTo>
                      <a:pt x="21" y="0"/>
                      <a:pt x="19" y="0"/>
                      <a:pt x="17" y="1"/>
                    </a:cubicBezTo>
                    <a:cubicBezTo>
                      <a:pt x="7" y="3"/>
                      <a:pt x="0" y="9"/>
                      <a:pt x="1" y="16"/>
                    </a:cubicBezTo>
                    <a:cubicBezTo>
                      <a:pt x="2" y="21"/>
                      <a:pt x="8" y="25"/>
                      <a:pt x="16" y="25"/>
                    </a:cubicBezTo>
                    <a:cubicBezTo>
                      <a:pt x="18" y="25"/>
                      <a:pt x="20" y="25"/>
                      <a:pt x="22" y="24"/>
                    </a:cubicBezTo>
                    <a:cubicBezTo>
                      <a:pt x="32" y="22"/>
                      <a:pt x="40" y="15"/>
                      <a:pt x="38" y="9"/>
                    </a:cubicBezTo>
                    <a:cubicBezTo>
                      <a:pt x="37" y="3"/>
                      <a:pt x="31" y="0"/>
                      <a:pt x="23" y="0"/>
                    </a:cubicBezTo>
                  </a:path>
                </a:pathLst>
              </a:custGeom>
              <a:solidFill>
                <a:srgbClr val="bc5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未知"/>
              <p:cNvSpPr/>
              <p:nvPr/>
            </p:nvSpPr>
            <p:spPr>
              <a:xfrm rot="19200000">
                <a:off x="2500920" y="48409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6" y="24"/>
                    </a:moveTo>
                    <a:cubicBezTo>
                      <a:pt x="9" y="24"/>
                      <a:pt x="3" y="21"/>
                      <a:pt x="2" y="16"/>
                    </a:cubicBezTo>
                    <a:cubicBezTo>
                      <a:pt x="1" y="10"/>
                      <a:pt x="8" y="3"/>
                      <a:pt x="17" y="1"/>
                    </a:cubicBezTo>
                    <a:cubicBezTo>
                      <a:pt x="19" y="1"/>
                      <a:pt x="21" y="1"/>
                      <a:pt x="23" y="1"/>
                    </a:cubicBezTo>
                    <a:cubicBezTo>
                      <a:pt x="30" y="1"/>
                      <a:pt x="36" y="4"/>
                      <a:pt x="37" y="9"/>
                    </a:cubicBezTo>
                    <a:cubicBezTo>
                      <a:pt x="39" y="15"/>
                      <a:pt x="32" y="22"/>
                      <a:pt x="22" y="24"/>
                    </a:cubicBezTo>
                    <a:cubicBezTo>
                      <a:pt x="20" y="24"/>
                      <a:pt x="18" y="24"/>
                      <a:pt x="16" y="24"/>
                    </a:cubicBezTo>
                    <a:moveTo>
                      <a:pt x="23" y="0"/>
                    </a:moveTo>
                    <a:cubicBezTo>
                      <a:pt x="21" y="0"/>
                      <a:pt x="19" y="0"/>
                      <a:pt x="17" y="1"/>
                    </a:cubicBezTo>
                    <a:cubicBezTo>
                      <a:pt x="7" y="3"/>
                      <a:pt x="0" y="10"/>
                      <a:pt x="1" y="16"/>
                    </a:cubicBezTo>
                    <a:cubicBezTo>
                      <a:pt x="2" y="21"/>
                      <a:pt x="9" y="24"/>
                      <a:pt x="16" y="24"/>
                    </a:cubicBezTo>
                    <a:cubicBezTo>
                      <a:pt x="18" y="24"/>
                      <a:pt x="20" y="24"/>
                      <a:pt x="22" y="24"/>
                    </a:cubicBezTo>
                    <a:cubicBezTo>
                      <a:pt x="32" y="22"/>
                      <a:pt x="39" y="15"/>
                      <a:pt x="38" y="9"/>
                    </a:cubicBezTo>
                    <a:cubicBezTo>
                      <a:pt x="37" y="4"/>
                      <a:pt x="31" y="0"/>
                      <a:pt x="23" y="0"/>
                    </a:cubicBezTo>
                  </a:path>
                </a:pathLst>
              </a:custGeom>
              <a:solidFill>
                <a:srgbClr val="be5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未知"/>
              <p:cNvSpPr/>
              <p:nvPr/>
            </p:nvSpPr>
            <p:spPr>
              <a:xfrm rot="19200000">
                <a:off x="2501280" y="484128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6" y="23"/>
                    </a:moveTo>
                    <a:cubicBezTo>
                      <a:pt x="8" y="23"/>
                      <a:pt x="2" y="20"/>
                      <a:pt x="1" y="15"/>
                    </a:cubicBezTo>
                    <a:cubicBezTo>
                      <a:pt x="0" y="9"/>
                      <a:pt x="7" y="2"/>
                      <a:pt x="16" y="0"/>
                    </a:cubicBezTo>
                    <a:cubicBezTo>
                      <a:pt x="18" y="0"/>
                      <a:pt x="20" y="0"/>
                      <a:pt x="22" y="0"/>
                    </a:cubicBezTo>
                    <a:cubicBezTo>
                      <a:pt x="29" y="0"/>
                      <a:pt x="35" y="3"/>
                      <a:pt x="36" y="8"/>
                    </a:cubicBezTo>
                    <a:cubicBezTo>
                      <a:pt x="37" y="14"/>
                      <a:pt x="30" y="20"/>
                      <a:pt x="21" y="22"/>
                    </a:cubicBezTo>
                    <a:cubicBezTo>
                      <a:pt x="19" y="23"/>
                      <a:pt x="17" y="23"/>
                      <a:pt x="16" y="23"/>
                    </a:cubicBezTo>
                    <a:moveTo>
                      <a:pt x="22" y="0"/>
                    </a:moveTo>
                    <a:cubicBezTo>
                      <a:pt x="20" y="0"/>
                      <a:pt x="18" y="0"/>
                      <a:pt x="16" y="0"/>
                    </a:cubicBezTo>
                    <a:cubicBezTo>
                      <a:pt x="7" y="2"/>
                      <a:pt x="0" y="9"/>
                      <a:pt x="1" y="15"/>
                    </a:cubicBezTo>
                    <a:cubicBezTo>
                      <a:pt x="2" y="20"/>
                      <a:pt x="8" y="23"/>
                      <a:pt x="15" y="23"/>
                    </a:cubicBezTo>
                    <a:cubicBezTo>
                      <a:pt x="17" y="23"/>
                      <a:pt x="19" y="23"/>
                      <a:pt x="21" y="23"/>
                    </a:cubicBezTo>
                    <a:cubicBezTo>
                      <a:pt x="31" y="21"/>
                      <a:pt x="38" y="14"/>
                      <a:pt x="36" y="8"/>
                    </a:cubicBezTo>
                    <a:cubicBezTo>
                      <a:pt x="35" y="3"/>
                      <a:pt x="29" y="0"/>
                      <a:pt x="22" y="0"/>
                    </a:cubicBezTo>
                  </a:path>
                </a:pathLst>
              </a:custGeom>
              <a:solidFill>
                <a:srgbClr val="bf5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未知"/>
              <p:cNvSpPr/>
              <p:nvPr/>
            </p:nvSpPr>
            <p:spPr>
              <a:xfrm rot="19200000">
                <a:off x="2501280" y="484128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6" y="23"/>
                    </a:moveTo>
                    <a:cubicBezTo>
                      <a:pt x="8" y="23"/>
                      <a:pt x="3" y="19"/>
                      <a:pt x="2" y="15"/>
                    </a:cubicBezTo>
                    <a:cubicBezTo>
                      <a:pt x="1" y="9"/>
                      <a:pt x="7" y="3"/>
                      <a:pt x="17" y="1"/>
                    </a:cubicBezTo>
                    <a:cubicBezTo>
                      <a:pt x="18" y="0"/>
                      <a:pt x="20" y="0"/>
                      <a:pt x="22" y="0"/>
                    </a:cubicBezTo>
                    <a:cubicBezTo>
                      <a:pt x="29" y="0"/>
                      <a:pt x="35" y="3"/>
                      <a:pt x="35" y="8"/>
                    </a:cubicBezTo>
                    <a:cubicBezTo>
                      <a:pt x="37" y="14"/>
                      <a:pt x="30" y="20"/>
                      <a:pt x="21" y="22"/>
                    </a:cubicBezTo>
                    <a:cubicBezTo>
                      <a:pt x="19" y="22"/>
                      <a:pt x="17" y="23"/>
                      <a:pt x="16" y="23"/>
                    </a:cubicBezTo>
                    <a:moveTo>
                      <a:pt x="22" y="0"/>
                    </a:moveTo>
                    <a:cubicBezTo>
                      <a:pt x="20" y="0"/>
                      <a:pt x="18" y="0"/>
                      <a:pt x="16" y="0"/>
                    </a:cubicBezTo>
                    <a:cubicBezTo>
                      <a:pt x="7" y="2"/>
                      <a:pt x="0" y="9"/>
                      <a:pt x="1" y="15"/>
                    </a:cubicBezTo>
                    <a:cubicBezTo>
                      <a:pt x="2" y="20"/>
                      <a:pt x="8" y="23"/>
                      <a:pt x="16" y="23"/>
                    </a:cubicBezTo>
                    <a:cubicBezTo>
                      <a:pt x="17" y="23"/>
                      <a:pt x="19" y="23"/>
                      <a:pt x="21" y="22"/>
                    </a:cubicBezTo>
                    <a:cubicBezTo>
                      <a:pt x="30" y="20"/>
                      <a:pt x="37" y="14"/>
                      <a:pt x="36" y="8"/>
                    </a:cubicBezTo>
                    <a:cubicBezTo>
                      <a:pt x="35" y="3"/>
                      <a:pt x="29" y="0"/>
                      <a:pt x="22" y="0"/>
                    </a:cubicBezTo>
                  </a:path>
                </a:pathLst>
              </a:custGeom>
              <a:solidFill>
                <a:srgbClr val="c06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未知"/>
              <p:cNvSpPr/>
              <p:nvPr/>
            </p:nvSpPr>
            <p:spPr>
              <a:xfrm rot="19200000">
                <a:off x="2501640" y="484092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15" y="22"/>
                    </a:moveTo>
                    <a:cubicBezTo>
                      <a:pt x="8" y="22"/>
                      <a:pt x="2" y="19"/>
                      <a:pt x="1" y="15"/>
                    </a:cubicBezTo>
                    <a:cubicBezTo>
                      <a:pt x="0" y="9"/>
                      <a:pt x="6" y="3"/>
                      <a:pt x="16" y="1"/>
                    </a:cubicBezTo>
                    <a:cubicBezTo>
                      <a:pt x="17" y="1"/>
                      <a:pt x="19" y="0"/>
                      <a:pt x="20" y="0"/>
                    </a:cubicBezTo>
                    <a:cubicBezTo>
                      <a:pt x="27" y="0"/>
                      <a:pt x="33" y="3"/>
                      <a:pt x="34" y="8"/>
                    </a:cubicBezTo>
                    <a:cubicBezTo>
                      <a:pt x="35" y="14"/>
                      <a:pt x="29" y="20"/>
                      <a:pt x="20" y="22"/>
                    </a:cubicBezTo>
                    <a:cubicBezTo>
                      <a:pt x="18" y="22"/>
                      <a:pt x="16" y="22"/>
                      <a:pt x="15" y="22"/>
                    </a:cubicBezTo>
                    <a:moveTo>
                      <a:pt x="21" y="0"/>
                    </a:moveTo>
                    <a:cubicBezTo>
                      <a:pt x="19" y="0"/>
                      <a:pt x="17" y="0"/>
                      <a:pt x="16" y="1"/>
                    </a:cubicBezTo>
                    <a:cubicBezTo>
                      <a:pt x="6" y="3"/>
                      <a:pt x="0" y="9"/>
                      <a:pt x="1" y="15"/>
                    </a:cubicBezTo>
                    <a:cubicBezTo>
                      <a:pt x="2" y="19"/>
                      <a:pt x="7" y="23"/>
                      <a:pt x="15" y="23"/>
                    </a:cubicBezTo>
                    <a:cubicBezTo>
                      <a:pt x="16" y="23"/>
                      <a:pt x="18" y="22"/>
                      <a:pt x="20" y="22"/>
                    </a:cubicBezTo>
                    <a:cubicBezTo>
                      <a:pt x="29" y="20"/>
                      <a:pt x="36" y="14"/>
                      <a:pt x="34" y="8"/>
                    </a:cubicBezTo>
                    <a:cubicBezTo>
                      <a:pt x="34" y="3"/>
                      <a:pt x="28" y="0"/>
                      <a:pt x="21" y="0"/>
                    </a:cubicBezTo>
                  </a:path>
                </a:pathLst>
              </a:custGeom>
              <a:solidFill>
                <a:srgbClr val="c06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未知"/>
              <p:cNvSpPr/>
              <p:nvPr/>
            </p:nvSpPr>
            <p:spPr>
              <a:xfrm rot="19200000">
                <a:off x="2501640" y="4841280"/>
                <a:ext cx="7920" cy="576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5" y="22"/>
                    </a:moveTo>
                    <a:cubicBezTo>
                      <a:pt x="8" y="22"/>
                      <a:pt x="2" y="19"/>
                      <a:pt x="2" y="14"/>
                    </a:cubicBezTo>
                    <a:cubicBezTo>
                      <a:pt x="1" y="9"/>
                      <a:pt x="7" y="3"/>
                      <a:pt x="16" y="1"/>
                    </a:cubicBezTo>
                    <a:cubicBezTo>
                      <a:pt x="17" y="1"/>
                      <a:pt x="19" y="1"/>
                      <a:pt x="20" y="1"/>
                    </a:cubicBezTo>
                    <a:cubicBezTo>
                      <a:pt x="27" y="1"/>
                      <a:pt x="33" y="4"/>
                      <a:pt x="34" y="8"/>
                    </a:cubicBezTo>
                    <a:cubicBezTo>
                      <a:pt x="35" y="14"/>
                      <a:pt x="28" y="20"/>
                      <a:pt x="20" y="21"/>
                    </a:cubicBezTo>
                    <a:cubicBezTo>
                      <a:pt x="18" y="22"/>
                      <a:pt x="16" y="22"/>
                      <a:pt x="15" y="22"/>
                    </a:cubicBezTo>
                    <a:moveTo>
                      <a:pt x="20" y="0"/>
                    </a:moveTo>
                    <a:cubicBezTo>
                      <a:pt x="19" y="0"/>
                      <a:pt x="17" y="1"/>
                      <a:pt x="16" y="1"/>
                    </a:cubicBezTo>
                    <a:cubicBezTo>
                      <a:pt x="6" y="3"/>
                      <a:pt x="0" y="9"/>
                      <a:pt x="1" y="15"/>
                    </a:cubicBezTo>
                    <a:cubicBezTo>
                      <a:pt x="2" y="19"/>
                      <a:pt x="8" y="22"/>
                      <a:pt x="15" y="22"/>
                    </a:cubicBezTo>
                    <a:cubicBezTo>
                      <a:pt x="16" y="22"/>
                      <a:pt x="18" y="22"/>
                      <a:pt x="20" y="22"/>
                    </a:cubicBezTo>
                    <a:cubicBezTo>
                      <a:pt x="29" y="20"/>
                      <a:pt x="35" y="14"/>
                      <a:pt x="34" y="8"/>
                    </a:cubicBezTo>
                    <a:cubicBezTo>
                      <a:pt x="33" y="3"/>
                      <a:pt x="27" y="0"/>
                      <a:pt x="20" y="0"/>
                    </a:cubicBezTo>
                  </a:path>
                </a:pathLst>
              </a:custGeom>
              <a:solidFill>
                <a:srgbClr val="c16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未知"/>
              <p:cNvSpPr/>
              <p:nvPr/>
            </p:nvSpPr>
            <p:spPr>
              <a:xfrm rot="19200000">
                <a:off x="2502000" y="484164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14" y="21"/>
                    </a:moveTo>
                    <a:cubicBezTo>
                      <a:pt x="7" y="21"/>
                      <a:pt x="2" y="18"/>
                      <a:pt x="1" y="13"/>
                    </a:cubicBezTo>
                    <a:cubicBezTo>
                      <a:pt x="0" y="8"/>
                      <a:pt x="6" y="2"/>
                      <a:pt x="15" y="1"/>
                    </a:cubicBezTo>
                    <a:cubicBezTo>
                      <a:pt x="16" y="0"/>
                      <a:pt x="18" y="0"/>
                      <a:pt x="19" y="0"/>
                    </a:cubicBezTo>
                    <a:cubicBezTo>
                      <a:pt x="26" y="0"/>
                      <a:pt x="31" y="3"/>
                      <a:pt x="32" y="7"/>
                    </a:cubicBezTo>
                    <a:cubicBezTo>
                      <a:pt x="33" y="13"/>
                      <a:pt x="27" y="18"/>
                      <a:pt x="19" y="20"/>
                    </a:cubicBezTo>
                    <a:cubicBezTo>
                      <a:pt x="17" y="20"/>
                      <a:pt x="15" y="21"/>
                      <a:pt x="14" y="21"/>
                    </a:cubicBezTo>
                    <a:moveTo>
                      <a:pt x="19" y="0"/>
                    </a:moveTo>
                    <a:cubicBezTo>
                      <a:pt x="18" y="0"/>
                      <a:pt x="16" y="0"/>
                      <a:pt x="15" y="0"/>
                    </a:cubicBezTo>
                    <a:cubicBezTo>
                      <a:pt x="6" y="2"/>
                      <a:pt x="0" y="8"/>
                      <a:pt x="1" y="13"/>
                    </a:cubicBezTo>
                    <a:cubicBezTo>
                      <a:pt x="1" y="18"/>
                      <a:pt x="7" y="21"/>
                      <a:pt x="14" y="21"/>
                    </a:cubicBezTo>
                    <a:cubicBezTo>
                      <a:pt x="15" y="21"/>
                      <a:pt x="17" y="21"/>
                      <a:pt x="19" y="20"/>
                    </a:cubicBezTo>
                    <a:cubicBezTo>
                      <a:pt x="27" y="19"/>
                      <a:pt x="34" y="13"/>
                      <a:pt x="33" y="7"/>
                    </a:cubicBezTo>
                    <a:cubicBezTo>
                      <a:pt x="32" y="3"/>
                      <a:pt x="26" y="0"/>
                      <a:pt x="19" y="0"/>
                    </a:cubicBezTo>
                  </a:path>
                </a:pathLst>
              </a:custGeom>
              <a:solidFill>
                <a:srgbClr val="c26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未知"/>
              <p:cNvSpPr/>
              <p:nvPr/>
            </p:nvSpPr>
            <p:spPr>
              <a:xfrm rot="19200000">
                <a:off x="2502000" y="4841640"/>
                <a:ext cx="7200" cy="54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14" y="20"/>
                    </a:moveTo>
                    <a:cubicBezTo>
                      <a:pt x="8" y="20"/>
                      <a:pt x="2" y="18"/>
                      <a:pt x="1" y="13"/>
                    </a:cubicBezTo>
                    <a:cubicBezTo>
                      <a:pt x="0" y="8"/>
                      <a:pt x="6" y="2"/>
                      <a:pt x="15" y="1"/>
                    </a:cubicBezTo>
                    <a:cubicBezTo>
                      <a:pt x="16" y="0"/>
                      <a:pt x="18" y="0"/>
                      <a:pt x="19" y="0"/>
                    </a:cubicBezTo>
                    <a:cubicBezTo>
                      <a:pt x="26" y="0"/>
                      <a:pt x="31" y="3"/>
                      <a:pt x="32" y="7"/>
                    </a:cubicBezTo>
                    <a:cubicBezTo>
                      <a:pt x="33" y="13"/>
                      <a:pt x="27" y="18"/>
                      <a:pt x="18" y="20"/>
                    </a:cubicBezTo>
                    <a:cubicBezTo>
                      <a:pt x="17" y="20"/>
                      <a:pt x="15" y="20"/>
                      <a:pt x="14" y="20"/>
                    </a:cubicBezTo>
                    <a:moveTo>
                      <a:pt x="19" y="0"/>
                    </a:moveTo>
                    <a:cubicBezTo>
                      <a:pt x="18" y="0"/>
                      <a:pt x="16" y="0"/>
                      <a:pt x="15" y="1"/>
                    </a:cubicBezTo>
                    <a:cubicBezTo>
                      <a:pt x="6" y="2"/>
                      <a:pt x="0" y="8"/>
                      <a:pt x="1" y="13"/>
                    </a:cubicBezTo>
                    <a:cubicBezTo>
                      <a:pt x="2" y="18"/>
                      <a:pt x="7" y="21"/>
                      <a:pt x="14" y="21"/>
                    </a:cubicBezTo>
                    <a:cubicBezTo>
                      <a:pt x="15" y="21"/>
                      <a:pt x="17" y="20"/>
                      <a:pt x="19" y="20"/>
                    </a:cubicBezTo>
                    <a:cubicBezTo>
                      <a:pt x="27" y="18"/>
                      <a:pt x="33" y="13"/>
                      <a:pt x="32" y="7"/>
                    </a:cubicBezTo>
                    <a:cubicBezTo>
                      <a:pt x="31" y="3"/>
                      <a:pt x="26" y="0"/>
                      <a:pt x="19" y="0"/>
                    </a:cubicBezTo>
                  </a:path>
                </a:pathLst>
              </a:custGeom>
              <a:solidFill>
                <a:srgbClr val="c36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未知"/>
              <p:cNvSpPr/>
              <p:nvPr/>
            </p:nvSpPr>
            <p:spPr>
              <a:xfrm rot="19200000">
                <a:off x="2502000" y="4841640"/>
                <a:ext cx="7200" cy="5400"/>
              </a:xfrm>
              <a:custGeom>
                <a:avLst/>
                <a:gdLst/>
                <a:ahLst/>
                <a:rect l="l" t="t" r="r" b="b"/>
                <a:pathLst>
                  <a:path w="33" h="20">
                    <a:moveTo>
                      <a:pt x="14" y="20"/>
                    </a:moveTo>
                    <a:cubicBezTo>
                      <a:pt x="8" y="20"/>
                      <a:pt x="3" y="17"/>
                      <a:pt x="2" y="13"/>
                    </a:cubicBezTo>
                    <a:cubicBezTo>
                      <a:pt x="1" y="8"/>
                      <a:pt x="7" y="3"/>
                      <a:pt x="15" y="1"/>
                    </a:cubicBezTo>
                    <a:cubicBezTo>
                      <a:pt x="16" y="1"/>
                      <a:pt x="18" y="1"/>
                      <a:pt x="19" y="1"/>
                    </a:cubicBezTo>
                    <a:cubicBezTo>
                      <a:pt x="25" y="1"/>
                      <a:pt x="30" y="3"/>
                      <a:pt x="31" y="7"/>
                    </a:cubicBezTo>
                    <a:cubicBezTo>
                      <a:pt x="32" y="13"/>
                      <a:pt x="27" y="18"/>
                      <a:pt x="18" y="20"/>
                    </a:cubicBezTo>
                    <a:cubicBezTo>
                      <a:pt x="17" y="20"/>
                      <a:pt x="15" y="20"/>
                      <a:pt x="14" y="20"/>
                    </a:cubicBezTo>
                    <a:moveTo>
                      <a:pt x="19" y="0"/>
                    </a:moveTo>
                    <a:cubicBezTo>
                      <a:pt x="18" y="0"/>
                      <a:pt x="16" y="0"/>
                      <a:pt x="15" y="1"/>
                    </a:cubicBezTo>
                    <a:cubicBezTo>
                      <a:pt x="6" y="2"/>
                      <a:pt x="0" y="8"/>
                      <a:pt x="1" y="13"/>
                    </a:cubicBezTo>
                    <a:cubicBezTo>
                      <a:pt x="2" y="18"/>
                      <a:pt x="8" y="20"/>
                      <a:pt x="14" y="20"/>
                    </a:cubicBezTo>
                    <a:cubicBezTo>
                      <a:pt x="15" y="20"/>
                      <a:pt x="17" y="20"/>
                      <a:pt x="18" y="20"/>
                    </a:cubicBezTo>
                    <a:cubicBezTo>
                      <a:pt x="27" y="18"/>
                      <a:pt x="33" y="13"/>
                      <a:pt x="32" y="7"/>
                    </a:cubicBezTo>
                    <a:cubicBezTo>
                      <a:pt x="31" y="3"/>
                      <a:pt x="26" y="0"/>
                      <a:pt x="19" y="0"/>
                    </a:cubicBezTo>
                  </a:path>
                </a:pathLst>
              </a:custGeom>
              <a:solidFill>
                <a:srgbClr val="c56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未知"/>
              <p:cNvSpPr/>
              <p:nvPr/>
            </p:nvSpPr>
            <p:spPr>
              <a:xfrm rot="19200000">
                <a:off x="2502360" y="484164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13" y="19"/>
                    </a:moveTo>
                    <a:cubicBezTo>
                      <a:pt x="7" y="19"/>
                      <a:pt x="2" y="16"/>
                      <a:pt x="1" y="12"/>
                    </a:cubicBezTo>
                    <a:cubicBezTo>
                      <a:pt x="0" y="7"/>
                      <a:pt x="6" y="2"/>
                      <a:pt x="14" y="0"/>
                    </a:cubicBezTo>
                    <a:cubicBezTo>
                      <a:pt x="15" y="0"/>
                      <a:pt x="17" y="0"/>
                      <a:pt x="18" y="0"/>
                    </a:cubicBezTo>
                    <a:cubicBezTo>
                      <a:pt x="24" y="0"/>
                      <a:pt x="29" y="3"/>
                      <a:pt x="30" y="7"/>
                    </a:cubicBezTo>
                    <a:cubicBezTo>
                      <a:pt x="31" y="12"/>
                      <a:pt x="25" y="17"/>
                      <a:pt x="17" y="18"/>
                    </a:cubicBezTo>
                    <a:cubicBezTo>
                      <a:pt x="16" y="19"/>
                      <a:pt x="14" y="19"/>
                      <a:pt x="13" y="19"/>
                    </a:cubicBezTo>
                    <a:moveTo>
                      <a:pt x="18" y="0"/>
                    </a:moveTo>
                    <a:cubicBezTo>
                      <a:pt x="17" y="0"/>
                      <a:pt x="15" y="0"/>
                      <a:pt x="14" y="0"/>
                    </a:cubicBezTo>
                    <a:cubicBezTo>
                      <a:pt x="6" y="2"/>
                      <a:pt x="0" y="7"/>
                      <a:pt x="1" y="12"/>
                    </a:cubicBezTo>
                    <a:cubicBezTo>
                      <a:pt x="2" y="16"/>
                      <a:pt x="7" y="19"/>
                      <a:pt x="13" y="19"/>
                    </a:cubicBezTo>
                    <a:cubicBezTo>
                      <a:pt x="14" y="19"/>
                      <a:pt x="16" y="19"/>
                      <a:pt x="17" y="19"/>
                    </a:cubicBezTo>
                    <a:cubicBezTo>
                      <a:pt x="26" y="17"/>
                      <a:pt x="31" y="12"/>
                      <a:pt x="30" y="6"/>
                    </a:cubicBezTo>
                    <a:cubicBezTo>
                      <a:pt x="29" y="2"/>
                      <a:pt x="24" y="0"/>
                      <a:pt x="18" y="0"/>
                    </a:cubicBezTo>
                  </a:path>
                </a:pathLst>
              </a:custGeom>
              <a:solidFill>
                <a:srgbClr val="c564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未知"/>
              <p:cNvSpPr/>
              <p:nvPr/>
            </p:nvSpPr>
            <p:spPr>
              <a:xfrm rot="19200000">
                <a:off x="2502360" y="484164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13" y="18"/>
                    </a:moveTo>
                    <a:cubicBezTo>
                      <a:pt x="7" y="18"/>
                      <a:pt x="3" y="16"/>
                      <a:pt x="2" y="12"/>
                    </a:cubicBezTo>
                    <a:cubicBezTo>
                      <a:pt x="1" y="7"/>
                      <a:pt x="6" y="2"/>
                      <a:pt x="14" y="1"/>
                    </a:cubicBezTo>
                    <a:cubicBezTo>
                      <a:pt x="15" y="0"/>
                      <a:pt x="17" y="0"/>
                      <a:pt x="18" y="0"/>
                    </a:cubicBezTo>
                    <a:cubicBezTo>
                      <a:pt x="24" y="0"/>
                      <a:pt x="29" y="3"/>
                      <a:pt x="29" y="7"/>
                    </a:cubicBezTo>
                    <a:cubicBezTo>
                      <a:pt x="30" y="11"/>
                      <a:pt x="25" y="17"/>
                      <a:pt x="17" y="18"/>
                    </a:cubicBezTo>
                    <a:cubicBezTo>
                      <a:pt x="16" y="18"/>
                      <a:pt x="14" y="18"/>
                      <a:pt x="13" y="18"/>
                    </a:cubicBezTo>
                    <a:moveTo>
                      <a:pt x="18" y="0"/>
                    </a:moveTo>
                    <a:cubicBezTo>
                      <a:pt x="17" y="0"/>
                      <a:pt x="15" y="0"/>
                      <a:pt x="14" y="0"/>
                    </a:cubicBezTo>
                    <a:cubicBezTo>
                      <a:pt x="6" y="2"/>
                      <a:pt x="0" y="7"/>
                      <a:pt x="1" y="12"/>
                    </a:cubicBezTo>
                    <a:cubicBezTo>
                      <a:pt x="2" y="16"/>
                      <a:pt x="7" y="19"/>
                      <a:pt x="13" y="19"/>
                    </a:cubicBezTo>
                    <a:cubicBezTo>
                      <a:pt x="14" y="19"/>
                      <a:pt x="16" y="19"/>
                      <a:pt x="17" y="18"/>
                    </a:cubicBezTo>
                    <a:cubicBezTo>
                      <a:pt x="25" y="17"/>
                      <a:pt x="31" y="12"/>
                      <a:pt x="30" y="7"/>
                    </a:cubicBezTo>
                    <a:cubicBezTo>
                      <a:pt x="29" y="3"/>
                      <a:pt x="24" y="0"/>
                      <a:pt x="18" y="0"/>
                    </a:cubicBezTo>
                  </a:path>
                </a:pathLst>
              </a:custGeom>
              <a:solidFill>
                <a:srgbClr val="c764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未知"/>
              <p:cNvSpPr/>
              <p:nvPr/>
            </p:nvSpPr>
            <p:spPr>
              <a:xfrm rot="19200000">
                <a:off x="2502360" y="484128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12" y="18"/>
                    </a:moveTo>
                    <a:cubicBezTo>
                      <a:pt x="7" y="18"/>
                      <a:pt x="2" y="16"/>
                      <a:pt x="1" y="12"/>
                    </a:cubicBezTo>
                    <a:cubicBezTo>
                      <a:pt x="0" y="7"/>
                      <a:pt x="6" y="2"/>
                      <a:pt x="13" y="1"/>
                    </a:cubicBezTo>
                    <a:cubicBezTo>
                      <a:pt x="14" y="1"/>
                      <a:pt x="16" y="1"/>
                      <a:pt x="17" y="1"/>
                    </a:cubicBezTo>
                    <a:cubicBezTo>
                      <a:pt x="23" y="1"/>
                      <a:pt x="27" y="3"/>
                      <a:pt x="28" y="7"/>
                    </a:cubicBezTo>
                    <a:cubicBezTo>
                      <a:pt x="29" y="11"/>
                      <a:pt x="24" y="16"/>
                      <a:pt x="16" y="18"/>
                    </a:cubicBezTo>
                    <a:cubicBezTo>
                      <a:pt x="15" y="18"/>
                      <a:pt x="13" y="18"/>
                      <a:pt x="12" y="18"/>
                    </a:cubicBezTo>
                    <a:moveTo>
                      <a:pt x="17" y="0"/>
                    </a:moveTo>
                    <a:cubicBezTo>
                      <a:pt x="16" y="0"/>
                      <a:pt x="14" y="0"/>
                      <a:pt x="13" y="1"/>
                    </a:cubicBezTo>
                    <a:cubicBezTo>
                      <a:pt x="5" y="2"/>
                      <a:pt x="0" y="7"/>
                      <a:pt x="1" y="12"/>
                    </a:cubicBezTo>
                    <a:cubicBezTo>
                      <a:pt x="2" y="16"/>
                      <a:pt x="6" y="18"/>
                      <a:pt x="12" y="18"/>
                    </a:cubicBezTo>
                    <a:cubicBezTo>
                      <a:pt x="13" y="18"/>
                      <a:pt x="15" y="18"/>
                      <a:pt x="16" y="18"/>
                    </a:cubicBezTo>
                    <a:cubicBezTo>
                      <a:pt x="24" y="17"/>
                      <a:pt x="29" y="11"/>
                      <a:pt x="28" y="7"/>
                    </a:cubicBezTo>
                    <a:cubicBezTo>
                      <a:pt x="28" y="3"/>
                      <a:pt x="23" y="0"/>
                      <a:pt x="17" y="0"/>
                    </a:cubicBezTo>
                  </a:path>
                </a:pathLst>
              </a:custGeom>
              <a:solidFill>
                <a:srgbClr val="c865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未知"/>
              <p:cNvSpPr/>
              <p:nvPr/>
            </p:nvSpPr>
            <p:spPr>
              <a:xfrm rot="19200000">
                <a:off x="2502360" y="484164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12" y="17"/>
                    </a:moveTo>
                    <a:cubicBezTo>
                      <a:pt x="7" y="17"/>
                      <a:pt x="2" y="15"/>
                      <a:pt x="2" y="11"/>
                    </a:cubicBezTo>
                    <a:cubicBezTo>
                      <a:pt x="1" y="6"/>
                      <a:pt x="6" y="2"/>
                      <a:pt x="13" y="0"/>
                    </a:cubicBezTo>
                    <a:cubicBezTo>
                      <a:pt x="14" y="0"/>
                      <a:pt x="16" y="0"/>
                      <a:pt x="17" y="0"/>
                    </a:cubicBezTo>
                    <a:cubicBezTo>
                      <a:pt x="22" y="0"/>
                      <a:pt x="27" y="2"/>
                      <a:pt x="27" y="6"/>
                    </a:cubicBezTo>
                    <a:cubicBezTo>
                      <a:pt x="28" y="10"/>
                      <a:pt x="23" y="15"/>
                      <a:pt x="16" y="16"/>
                    </a:cubicBezTo>
                    <a:cubicBezTo>
                      <a:pt x="15" y="17"/>
                      <a:pt x="14" y="17"/>
                      <a:pt x="12" y="17"/>
                    </a:cubicBezTo>
                    <a:moveTo>
                      <a:pt x="17" y="0"/>
                    </a:moveTo>
                    <a:cubicBezTo>
                      <a:pt x="16" y="0"/>
                      <a:pt x="14" y="0"/>
                      <a:pt x="13" y="0"/>
                    </a:cubicBezTo>
                    <a:cubicBezTo>
                      <a:pt x="6" y="1"/>
                      <a:pt x="0" y="6"/>
                      <a:pt x="1" y="11"/>
                    </a:cubicBezTo>
                    <a:cubicBezTo>
                      <a:pt x="2" y="15"/>
                      <a:pt x="7" y="17"/>
                      <a:pt x="12" y="17"/>
                    </a:cubicBezTo>
                    <a:cubicBezTo>
                      <a:pt x="13" y="17"/>
                      <a:pt x="15" y="17"/>
                      <a:pt x="16" y="17"/>
                    </a:cubicBezTo>
                    <a:cubicBezTo>
                      <a:pt x="24" y="15"/>
                      <a:pt x="29" y="10"/>
                      <a:pt x="28" y="6"/>
                    </a:cubicBezTo>
                    <a:cubicBezTo>
                      <a:pt x="27" y="2"/>
                      <a:pt x="23" y="0"/>
                      <a:pt x="17" y="0"/>
                    </a:cubicBezTo>
                  </a:path>
                </a:pathLst>
              </a:custGeom>
              <a:solidFill>
                <a:srgbClr val="c965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未知"/>
              <p:cNvSpPr/>
              <p:nvPr/>
            </p:nvSpPr>
            <p:spPr>
              <a:xfrm rot="19200000">
                <a:off x="2502360" y="4842000"/>
                <a:ext cx="6120" cy="43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1" y="17"/>
                    </a:moveTo>
                    <a:cubicBezTo>
                      <a:pt x="6" y="17"/>
                      <a:pt x="2" y="14"/>
                      <a:pt x="1" y="11"/>
                    </a:cubicBezTo>
                    <a:cubicBezTo>
                      <a:pt x="0" y="6"/>
                      <a:pt x="5" y="2"/>
                      <a:pt x="12" y="0"/>
                    </a:cubicBezTo>
                    <a:cubicBezTo>
                      <a:pt x="13" y="0"/>
                      <a:pt x="15" y="0"/>
                      <a:pt x="16" y="0"/>
                    </a:cubicBezTo>
                    <a:cubicBezTo>
                      <a:pt x="21" y="0"/>
                      <a:pt x="25" y="2"/>
                      <a:pt x="26" y="6"/>
                    </a:cubicBezTo>
                    <a:cubicBezTo>
                      <a:pt x="27" y="10"/>
                      <a:pt x="22" y="15"/>
                      <a:pt x="15" y="16"/>
                    </a:cubicBezTo>
                    <a:cubicBezTo>
                      <a:pt x="14" y="16"/>
                      <a:pt x="13" y="17"/>
                      <a:pt x="11" y="17"/>
                    </a:cubicBezTo>
                    <a:moveTo>
                      <a:pt x="16" y="0"/>
                    </a:moveTo>
                    <a:cubicBezTo>
                      <a:pt x="15" y="0"/>
                      <a:pt x="13" y="0"/>
                      <a:pt x="12" y="0"/>
                    </a:cubicBezTo>
                    <a:cubicBezTo>
                      <a:pt x="5" y="2"/>
                      <a:pt x="0" y="6"/>
                      <a:pt x="1" y="11"/>
                    </a:cubicBezTo>
                    <a:cubicBezTo>
                      <a:pt x="1" y="15"/>
                      <a:pt x="6" y="17"/>
                      <a:pt x="11" y="17"/>
                    </a:cubicBezTo>
                    <a:cubicBezTo>
                      <a:pt x="13" y="17"/>
                      <a:pt x="14" y="17"/>
                      <a:pt x="15" y="16"/>
                    </a:cubicBezTo>
                    <a:cubicBezTo>
                      <a:pt x="22" y="15"/>
                      <a:pt x="27" y="10"/>
                      <a:pt x="26" y="6"/>
                    </a:cubicBezTo>
                    <a:cubicBezTo>
                      <a:pt x="26" y="2"/>
                      <a:pt x="21" y="0"/>
                      <a:pt x="16" y="0"/>
                    </a:cubicBezTo>
                  </a:path>
                </a:pathLst>
              </a:custGeom>
              <a:solidFill>
                <a:srgbClr val="ca66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未知"/>
              <p:cNvSpPr/>
              <p:nvPr/>
            </p:nvSpPr>
            <p:spPr>
              <a:xfrm rot="19200000">
                <a:off x="2502720" y="48358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10" y="28"/>
                    </a:moveTo>
                    <a:cubicBezTo>
                      <a:pt x="14" y="40"/>
                      <a:pt x="19" y="52"/>
                      <a:pt x="18" y="52"/>
                    </a:cubicBezTo>
                    <a:cubicBezTo>
                      <a:pt x="25" y="47"/>
                      <a:pt x="26" y="38"/>
                      <a:pt x="27" y="30"/>
                    </a:cubicBezTo>
                    <a:cubicBezTo>
                      <a:pt x="27" y="23"/>
                      <a:pt x="28" y="12"/>
                      <a:pt x="25" y="5"/>
                    </a:cubicBezTo>
                    <a:cubicBezTo>
                      <a:pt x="24" y="4"/>
                      <a:pt x="25" y="1"/>
                      <a:pt x="21" y="1"/>
                    </a:cubicBezTo>
                    <a:cubicBezTo>
                      <a:pt x="19" y="0"/>
                      <a:pt x="11" y="1"/>
                      <a:pt x="8" y="1"/>
                    </a:cubicBezTo>
                    <a:cubicBezTo>
                      <a:pt x="6" y="1"/>
                      <a:pt x="2" y="2"/>
                      <a:pt x="0" y="2"/>
                    </a:cubicBezTo>
                    <a:cubicBezTo>
                      <a:pt x="7" y="5"/>
                      <a:pt x="8" y="21"/>
                      <a:pt x="10" y="2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未知"/>
              <p:cNvSpPr/>
              <p:nvPr/>
            </p:nvSpPr>
            <p:spPr>
              <a:xfrm rot="19200000">
                <a:off x="2503800" y="484236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3"/>
                    </a:moveTo>
                    <a:cubicBezTo>
                      <a:pt x="6" y="0"/>
                      <a:pt x="2" y="2"/>
                      <a:pt x="1" y="4"/>
                    </a:cubicBezTo>
                    <a:cubicBezTo>
                      <a:pt x="0" y="7"/>
                      <a:pt x="1" y="11"/>
                      <a:pt x="4" y="10"/>
                    </a:cubicBezTo>
                    <a:cubicBezTo>
                      <a:pt x="7" y="10"/>
                      <a:pt x="10" y="5"/>
                      <a:pt x="8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8" name="Picture 453" descr=""/>
              <p:cNvPicPr/>
              <p:nvPr/>
            </p:nvPicPr>
            <p:blipFill>
              <a:blip r:embed="rId1"/>
              <a:stretch/>
            </p:blipFill>
            <p:spPr>
              <a:xfrm rot="19200000">
                <a:off x="2502360" y="4841640"/>
                <a:ext cx="6480" cy="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89" name="Group 454"/>
          <p:cNvGrpSpPr/>
          <p:nvPr/>
        </p:nvGrpSpPr>
        <p:grpSpPr>
          <a:xfrm>
            <a:off x="2367000" y="4462560"/>
            <a:ext cx="861840" cy="522360"/>
            <a:chOff x="2367000" y="4462560"/>
            <a:chExt cx="861840" cy="522360"/>
          </a:xfrm>
        </p:grpSpPr>
        <p:sp>
          <p:nvSpPr>
            <p:cNvPr id="490" name="未知"/>
            <p:cNvSpPr/>
            <p:nvPr/>
          </p:nvSpPr>
          <p:spPr>
            <a:xfrm>
              <a:off x="2367000" y="4462560"/>
              <a:ext cx="861840" cy="522360"/>
            </a:xfrm>
            <a:custGeom>
              <a:avLst/>
              <a:gdLst/>
              <a:ahLst/>
              <a:rect l="l" t="t" r="r" b="b"/>
              <a:pathLst>
                <a:path w="602" h="365">
                  <a:moveTo>
                    <a:pt x="112" y="107"/>
                  </a:moveTo>
                  <a:cubicBezTo>
                    <a:pt x="84" y="76"/>
                    <a:pt x="58" y="74"/>
                    <a:pt x="58" y="74"/>
                  </a:cubicBezTo>
                  <a:cubicBezTo>
                    <a:pt x="58" y="74"/>
                    <a:pt x="56" y="72"/>
                    <a:pt x="38" y="72"/>
                  </a:cubicBezTo>
                  <a:cubicBezTo>
                    <a:pt x="20" y="73"/>
                    <a:pt x="6" y="78"/>
                    <a:pt x="6" y="78"/>
                  </a:cubicBezTo>
                  <a:cubicBezTo>
                    <a:pt x="6" y="78"/>
                    <a:pt x="0" y="61"/>
                    <a:pt x="24" y="52"/>
                  </a:cubicBezTo>
                  <a:cubicBezTo>
                    <a:pt x="47" y="43"/>
                    <a:pt x="62" y="31"/>
                    <a:pt x="62" y="31"/>
                  </a:cubicBezTo>
                  <a:cubicBezTo>
                    <a:pt x="62" y="31"/>
                    <a:pt x="95" y="0"/>
                    <a:pt x="134" y="10"/>
                  </a:cubicBezTo>
                  <a:cubicBezTo>
                    <a:pt x="173" y="20"/>
                    <a:pt x="199" y="37"/>
                    <a:pt x="233" y="57"/>
                  </a:cubicBezTo>
                  <a:cubicBezTo>
                    <a:pt x="254" y="70"/>
                    <a:pt x="344" y="108"/>
                    <a:pt x="408" y="148"/>
                  </a:cubicBezTo>
                  <a:cubicBezTo>
                    <a:pt x="449" y="175"/>
                    <a:pt x="477" y="210"/>
                    <a:pt x="477" y="210"/>
                  </a:cubicBezTo>
                  <a:cubicBezTo>
                    <a:pt x="454" y="208"/>
                    <a:pt x="454" y="208"/>
                    <a:pt x="454" y="208"/>
                  </a:cubicBezTo>
                  <a:cubicBezTo>
                    <a:pt x="454" y="208"/>
                    <a:pt x="522" y="254"/>
                    <a:pt x="556" y="278"/>
                  </a:cubicBezTo>
                  <a:cubicBezTo>
                    <a:pt x="589" y="303"/>
                    <a:pt x="602" y="326"/>
                    <a:pt x="602" y="330"/>
                  </a:cubicBezTo>
                  <a:cubicBezTo>
                    <a:pt x="602" y="333"/>
                    <a:pt x="547" y="320"/>
                    <a:pt x="547" y="320"/>
                  </a:cubicBezTo>
                  <a:cubicBezTo>
                    <a:pt x="574" y="345"/>
                    <a:pt x="574" y="345"/>
                    <a:pt x="574" y="345"/>
                  </a:cubicBezTo>
                  <a:cubicBezTo>
                    <a:pt x="574" y="345"/>
                    <a:pt x="560" y="343"/>
                    <a:pt x="529" y="326"/>
                  </a:cubicBezTo>
                  <a:cubicBezTo>
                    <a:pt x="517" y="319"/>
                    <a:pt x="490" y="304"/>
                    <a:pt x="464" y="294"/>
                  </a:cubicBezTo>
                  <a:cubicBezTo>
                    <a:pt x="444" y="286"/>
                    <a:pt x="414" y="278"/>
                    <a:pt x="389" y="277"/>
                  </a:cubicBezTo>
                  <a:cubicBezTo>
                    <a:pt x="366" y="275"/>
                    <a:pt x="348" y="279"/>
                    <a:pt x="348" y="279"/>
                  </a:cubicBezTo>
                  <a:cubicBezTo>
                    <a:pt x="348" y="279"/>
                    <a:pt x="344" y="290"/>
                    <a:pt x="340" y="298"/>
                  </a:cubicBezTo>
                  <a:cubicBezTo>
                    <a:pt x="335" y="306"/>
                    <a:pt x="326" y="310"/>
                    <a:pt x="326" y="310"/>
                  </a:cubicBezTo>
                  <a:cubicBezTo>
                    <a:pt x="293" y="348"/>
                    <a:pt x="293" y="348"/>
                    <a:pt x="293" y="348"/>
                  </a:cubicBezTo>
                  <a:cubicBezTo>
                    <a:pt x="321" y="352"/>
                    <a:pt x="321" y="352"/>
                    <a:pt x="321" y="352"/>
                  </a:cubicBezTo>
                  <a:cubicBezTo>
                    <a:pt x="322" y="355"/>
                    <a:pt x="322" y="355"/>
                    <a:pt x="322" y="355"/>
                  </a:cubicBezTo>
                  <a:cubicBezTo>
                    <a:pt x="293" y="352"/>
                    <a:pt x="293" y="352"/>
                    <a:pt x="293" y="352"/>
                  </a:cubicBezTo>
                  <a:cubicBezTo>
                    <a:pt x="285" y="357"/>
                    <a:pt x="285" y="357"/>
                    <a:pt x="285" y="357"/>
                  </a:cubicBezTo>
                  <a:cubicBezTo>
                    <a:pt x="285" y="352"/>
                    <a:pt x="285" y="352"/>
                    <a:pt x="285" y="352"/>
                  </a:cubicBezTo>
                  <a:cubicBezTo>
                    <a:pt x="278" y="349"/>
                    <a:pt x="278" y="349"/>
                    <a:pt x="278" y="349"/>
                  </a:cubicBezTo>
                  <a:cubicBezTo>
                    <a:pt x="278" y="349"/>
                    <a:pt x="311" y="316"/>
                    <a:pt x="314" y="307"/>
                  </a:cubicBezTo>
                  <a:cubicBezTo>
                    <a:pt x="316" y="298"/>
                    <a:pt x="314" y="283"/>
                    <a:pt x="314" y="283"/>
                  </a:cubicBezTo>
                  <a:cubicBezTo>
                    <a:pt x="314" y="283"/>
                    <a:pt x="311" y="291"/>
                    <a:pt x="298" y="309"/>
                  </a:cubicBezTo>
                  <a:cubicBezTo>
                    <a:pt x="285" y="327"/>
                    <a:pt x="277" y="344"/>
                    <a:pt x="277" y="344"/>
                  </a:cubicBezTo>
                  <a:cubicBezTo>
                    <a:pt x="278" y="356"/>
                    <a:pt x="278" y="356"/>
                    <a:pt x="278" y="356"/>
                  </a:cubicBezTo>
                  <a:cubicBezTo>
                    <a:pt x="273" y="352"/>
                    <a:pt x="273" y="352"/>
                    <a:pt x="273" y="352"/>
                  </a:cubicBezTo>
                  <a:cubicBezTo>
                    <a:pt x="254" y="356"/>
                    <a:pt x="254" y="356"/>
                    <a:pt x="254" y="356"/>
                  </a:cubicBezTo>
                  <a:cubicBezTo>
                    <a:pt x="253" y="362"/>
                    <a:pt x="253" y="362"/>
                    <a:pt x="253" y="362"/>
                  </a:cubicBezTo>
                  <a:cubicBezTo>
                    <a:pt x="250" y="356"/>
                    <a:pt x="250" y="356"/>
                    <a:pt x="250" y="356"/>
                  </a:cubicBezTo>
                  <a:cubicBezTo>
                    <a:pt x="211" y="365"/>
                    <a:pt x="211" y="365"/>
                    <a:pt x="211" y="365"/>
                  </a:cubicBezTo>
                  <a:cubicBezTo>
                    <a:pt x="211" y="365"/>
                    <a:pt x="214" y="358"/>
                    <a:pt x="230" y="354"/>
                  </a:cubicBezTo>
                  <a:cubicBezTo>
                    <a:pt x="238" y="352"/>
                    <a:pt x="242" y="351"/>
                    <a:pt x="249" y="350"/>
                  </a:cubicBezTo>
                  <a:cubicBezTo>
                    <a:pt x="257" y="348"/>
                    <a:pt x="263" y="345"/>
                    <a:pt x="263" y="345"/>
                  </a:cubicBezTo>
                  <a:cubicBezTo>
                    <a:pt x="263" y="345"/>
                    <a:pt x="281" y="324"/>
                    <a:pt x="285" y="307"/>
                  </a:cubicBezTo>
                  <a:cubicBezTo>
                    <a:pt x="288" y="290"/>
                    <a:pt x="276" y="267"/>
                    <a:pt x="276" y="267"/>
                  </a:cubicBezTo>
                  <a:cubicBezTo>
                    <a:pt x="276" y="267"/>
                    <a:pt x="250" y="254"/>
                    <a:pt x="216" y="233"/>
                  </a:cubicBezTo>
                  <a:cubicBezTo>
                    <a:pt x="181" y="212"/>
                    <a:pt x="154" y="160"/>
                    <a:pt x="154" y="160"/>
                  </a:cubicBezTo>
                  <a:cubicBezTo>
                    <a:pt x="154" y="160"/>
                    <a:pt x="140" y="138"/>
                    <a:pt x="112" y="10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456"/>
            <p:cNvGrpSpPr/>
            <p:nvPr/>
          </p:nvGrpSpPr>
          <p:grpSpPr>
            <a:xfrm>
              <a:off x="2481120" y="4511520"/>
              <a:ext cx="37800" cy="28440"/>
              <a:chOff x="2481120" y="4511520"/>
              <a:chExt cx="37800" cy="28440"/>
            </a:xfrm>
          </p:grpSpPr>
          <p:sp>
            <p:nvSpPr>
              <p:cNvPr id="492" name="未知"/>
              <p:cNvSpPr/>
              <p:nvPr/>
            </p:nvSpPr>
            <p:spPr>
              <a:xfrm>
                <a:off x="2481120" y="451152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169" h="106">
                    <a:moveTo>
                      <a:pt x="52" y="70"/>
                    </a:moveTo>
                    <a:cubicBezTo>
                      <a:pt x="59" y="90"/>
                      <a:pt x="74" y="106"/>
                      <a:pt x="96" y="106"/>
                    </a:cubicBezTo>
                    <a:cubicBezTo>
                      <a:pt x="87" y="105"/>
                      <a:pt x="80" y="97"/>
                      <a:pt x="74" y="91"/>
                    </a:cubicBezTo>
                    <a:cubicBezTo>
                      <a:pt x="71" y="88"/>
                      <a:pt x="69" y="83"/>
                      <a:pt x="66" y="80"/>
                    </a:cubicBezTo>
                    <a:cubicBezTo>
                      <a:pt x="63" y="77"/>
                      <a:pt x="59" y="76"/>
                      <a:pt x="59" y="71"/>
                    </a:cubicBezTo>
                    <a:cubicBezTo>
                      <a:pt x="65" y="73"/>
                      <a:pt x="71" y="74"/>
                      <a:pt x="77" y="77"/>
                    </a:cubicBezTo>
                    <a:cubicBezTo>
                      <a:pt x="83" y="80"/>
                      <a:pt x="87" y="82"/>
                      <a:pt x="94" y="82"/>
                    </a:cubicBezTo>
                    <a:cubicBezTo>
                      <a:pt x="101" y="82"/>
                      <a:pt x="107" y="82"/>
                      <a:pt x="113" y="84"/>
                    </a:cubicBezTo>
                    <a:cubicBezTo>
                      <a:pt x="116" y="85"/>
                      <a:pt x="119" y="85"/>
                      <a:pt x="122" y="86"/>
                    </a:cubicBezTo>
                    <a:cubicBezTo>
                      <a:pt x="125" y="87"/>
                      <a:pt x="127" y="89"/>
                      <a:pt x="130" y="89"/>
                    </a:cubicBezTo>
                    <a:cubicBezTo>
                      <a:pt x="119" y="88"/>
                      <a:pt x="111" y="79"/>
                      <a:pt x="101" y="76"/>
                    </a:cubicBezTo>
                    <a:cubicBezTo>
                      <a:pt x="93" y="74"/>
                      <a:pt x="85" y="71"/>
                      <a:pt x="77" y="68"/>
                    </a:cubicBezTo>
                    <a:cubicBezTo>
                      <a:pt x="84" y="66"/>
                      <a:pt x="92" y="64"/>
                      <a:pt x="98" y="62"/>
                    </a:cubicBezTo>
                    <a:cubicBezTo>
                      <a:pt x="102" y="61"/>
                      <a:pt x="105" y="60"/>
                      <a:pt x="109" y="58"/>
                    </a:cubicBezTo>
                    <a:cubicBezTo>
                      <a:pt x="114" y="57"/>
                      <a:pt x="116" y="58"/>
                      <a:pt x="121" y="58"/>
                    </a:cubicBezTo>
                    <a:cubicBezTo>
                      <a:pt x="129" y="59"/>
                      <a:pt x="137" y="59"/>
                      <a:pt x="145" y="60"/>
                    </a:cubicBezTo>
                    <a:cubicBezTo>
                      <a:pt x="147" y="60"/>
                      <a:pt x="150" y="60"/>
                      <a:pt x="153" y="60"/>
                    </a:cubicBezTo>
                    <a:cubicBezTo>
                      <a:pt x="158" y="60"/>
                      <a:pt x="164" y="59"/>
                      <a:pt x="168" y="63"/>
                    </a:cubicBezTo>
                    <a:cubicBezTo>
                      <a:pt x="160" y="60"/>
                      <a:pt x="153" y="58"/>
                      <a:pt x="145" y="55"/>
                    </a:cubicBezTo>
                    <a:cubicBezTo>
                      <a:pt x="138" y="53"/>
                      <a:pt x="128" y="52"/>
                      <a:pt x="123" y="48"/>
                    </a:cubicBezTo>
                    <a:cubicBezTo>
                      <a:pt x="134" y="45"/>
                      <a:pt x="143" y="44"/>
                      <a:pt x="153" y="35"/>
                    </a:cubicBezTo>
                    <a:cubicBezTo>
                      <a:pt x="159" y="29"/>
                      <a:pt x="165" y="23"/>
                      <a:pt x="169" y="15"/>
                    </a:cubicBezTo>
                    <a:cubicBezTo>
                      <a:pt x="162" y="14"/>
                      <a:pt x="154" y="14"/>
                      <a:pt x="148" y="13"/>
                    </a:cubicBezTo>
                    <a:cubicBezTo>
                      <a:pt x="144" y="12"/>
                      <a:pt x="140" y="12"/>
                      <a:pt x="136" y="12"/>
                    </a:cubicBezTo>
                    <a:cubicBezTo>
                      <a:pt x="132" y="11"/>
                      <a:pt x="130" y="10"/>
                      <a:pt x="126" y="9"/>
                    </a:cubicBezTo>
                    <a:cubicBezTo>
                      <a:pt x="118" y="8"/>
                      <a:pt x="111" y="9"/>
                      <a:pt x="104" y="10"/>
                    </a:cubicBezTo>
                    <a:cubicBezTo>
                      <a:pt x="96" y="11"/>
                      <a:pt x="89" y="13"/>
                      <a:pt x="81" y="12"/>
                    </a:cubicBezTo>
                    <a:cubicBezTo>
                      <a:pt x="81" y="6"/>
                      <a:pt x="90" y="2"/>
                      <a:pt x="94" y="0"/>
                    </a:cubicBezTo>
                    <a:cubicBezTo>
                      <a:pt x="75" y="0"/>
                      <a:pt x="52" y="8"/>
                      <a:pt x="38" y="20"/>
                    </a:cubicBezTo>
                    <a:cubicBezTo>
                      <a:pt x="33" y="24"/>
                      <a:pt x="28" y="28"/>
                      <a:pt x="24" y="32"/>
                    </a:cubicBezTo>
                    <a:cubicBezTo>
                      <a:pt x="17" y="37"/>
                      <a:pt x="7" y="44"/>
                      <a:pt x="3" y="53"/>
                    </a:cubicBezTo>
                    <a:cubicBezTo>
                      <a:pt x="2" y="57"/>
                      <a:pt x="0" y="67"/>
                      <a:pt x="6" y="69"/>
                    </a:cubicBezTo>
                    <a:cubicBezTo>
                      <a:pt x="9" y="70"/>
                      <a:pt x="14" y="66"/>
                      <a:pt x="17" y="64"/>
                    </a:cubicBezTo>
                    <a:cubicBezTo>
                      <a:pt x="21" y="62"/>
                      <a:pt x="26" y="59"/>
                      <a:pt x="32" y="58"/>
                    </a:cubicBezTo>
                    <a:cubicBezTo>
                      <a:pt x="41" y="57"/>
                      <a:pt x="48" y="62"/>
                      <a:pt x="52" y="70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未知"/>
              <p:cNvSpPr/>
              <p:nvPr/>
            </p:nvSpPr>
            <p:spPr>
              <a:xfrm>
                <a:off x="2482920" y="4515480"/>
                <a:ext cx="33480" cy="12240"/>
              </a:xfrm>
              <a:custGeom>
                <a:avLst/>
                <a:gdLst/>
                <a:ahLst/>
                <a:rect l="l" t="t" r="r" b="b"/>
                <a:pathLst>
                  <a:path w="149" h="45">
                    <a:moveTo>
                      <a:pt x="149" y="5"/>
                    </a:moveTo>
                    <a:cubicBezTo>
                      <a:pt x="148" y="4"/>
                      <a:pt x="142" y="10"/>
                      <a:pt x="141" y="11"/>
                    </a:cubicBezTo>
                    <a:cubicBezTo>
                      <a:pt x="116" y="23"/>
                      <a:pt x="93" y="40"/>
                      <a:pt x="65" y="42"/>
                    </a:cubicBezTo>
                    <a:cubicBezTo>
                      <a:pt x="58" y="43"/>
                      <a:pt x="52" y="38"/>
                      <a:pt x="44" y="36"/>
                    </a:cubicBezTo>
                    <a:cubicBezTo>
                      <a:pt x="30" y="33"/>
                      <a:pt x="13" y="38"/>
                      <a:pt x="0" y="45"/>
                    </a:cubicBezTo>
                    <a:cubicBezTo>
                      <a:pt x="4" y="43"/>
                      <a:pt x="7" y="37"/>
                      <a:pt x="9" y="33"/>
                    </a:cubicBezTo>
                    <a:cubicBezTo>
                      <a:pt x="13" y="29"/>
                      <a:pt x="17" y="25"/>
                      <a:pt x="21" y="21"/>
                    </a:cubicBezTo>
                    <a:cubicBezTo>
                      <a:pt x="28" y="14"/>
                      <a:pt x="41" y="7"/>
                      <a:pt x="50" y="4"/>
                    </a:cubicBezTo>
                    <a:cubicBezTo>
                      <a:pt x="67" y="0"/>
                      <a:pt x="84" y="3"/>
                      <a:pt x="101" y="4"/>
                    </a:cubicBezTo>
                    <a:cubicBezTo>
                      <a:pt x="108" y="4"/>
                      <a:pt x="114" y="4"/>
                      <a:pt x="120" y="4"/>
                    </a:cubicBezTo>
                    <a:cubicBezTo>
                      <a:pt x="130" y="3"/>
                      <a:pt x="140" y="3"/>
                      <a:pt x="149" y="5"/>
                    </a:cubicBezTo>
                  </a:path>
                </a:pathLst>
              </a:custGeom>
              <a:solidFill>
                <a:srgbClr val="f37c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未知"/>
              <p:cNvSpPr/>
              <p:nvPr/>
            </p:nvSpPr>
            <p:spPr>
              <a:xfrm>
                <a:off x="2512080" y="451656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5" y="0"/>
                    </a:moveTo>
                    <a:cubicBezTo>
                      <a:pt x="4" y="0"/>
                      <a:pt x="2" y="0"/>
                      <a:pt x="0" y="0"/>
                    </a:cubicBezTo>
                    <a:cubicBezTo>
                      <a:pt x="2" y="3"/>
                      <a:pt x="3" y="6"/>
                      <a:pt x="4" y="10"/>
                    </a:cubicBezTo>
                    <a:cubicBezTo>
                      <a:pt x="4" y="10"/>
                      <a:pt x="4" y="11"/>
                      <a:pt x="4" y="12"/>
                    </a:cubicBezTo>
                    <a:cubicBezTo>
                      <a:pt x="7" y="10"/>
                      <a:pt x="10" y="9"/>
                      <a:pt x="13" y="8"/>
                    </a:cubicBezTo>
                    <a:cubicBezTo>
                      <a:pt x="14" y="7"/>
                      <a:pt x="20" y="2"/>
                      <a:pt x="21" y="2"/>
                    </a:cubicBezTo>
                    <a:cubicBezTo>
                      <a:pt x="21" y="2"/>
                      <a:pt x="21" y="2"/>
                      <a:pt x="21" y="2"/>
                    </a:cubicBezTo>
                    <a:cubicBezTo>
                      <a:pt x="16" y="1"/>
                      <a:pt x="11" y="0"/>
                      <a:pt x="5" y="0"/>
                    </a:cubicBezTo>
                  </a:path>
                </a:pathLst>
              </a:custGeom>
              <a:solidFill>
                <a:srgbClr val="5b2d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未知"/>
              <p:cNvSpPr/>
              <p:nvPr/>
            </p:nvSpPr>
            <p:spPr>
              <a:xfrm>
                <a:off x="2512080" y="4516560"/>
                <a:ext cx="720" cy="3240"/>
              </a:xfrm>
              <a:custGeom>
                <a:avLst/>
                <a:gdLst/>
                <a:ahLst/>
                <a:rect l="l" t="t" r="r" b="b"/>
                <a:pathLst>
                  <a:path w="4" h="1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3"/>
                      <a:pt x="3" y="6"/>
                      <a:pt x="3" y="10"/>
                    </a:cubicBezTo>
                    <a:cubicBezTo>
                      <a:pt x="4" y="11"/>
                      <a:pt x="4" y="11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1"/>
                      <a:pt x="4" y="10"/>
                      <a:pt x="4" y="10"/>
                    </a:cubicBezTo>
                    <a:cubicBezTo>
                      <a:pt x="3" y="6"/>
                      <a:pt x="2" y="3"/>
                      <a:pt x="0" y="0"/>
                    </a:cubicBezTo>
                  </a:path>
                </a:pathLst>
              </a:custGeom>
              <a:solidFill>
                <a:srgbClr val="5b2d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未知"/>
              <p:cNvSpPr/>
              <p:nvPr/>
            </p:nvSpPr>
            <p:spPr>
              <a:xfrm>
                <a:off x="2511720" y="451656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5" h="12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2" y="3"/>
                      <a:pt x="3" y="7"/>
                      <a:pt x="4" y="10"/>
                    </a:cubicBezTo>
                    <a:cubicBezTo>
                      <a:pt x="4" y="11"/>
                      <a:pt x="4" y="12"/>
                      <a:pt x="4" y="12"/>
                    </a:cubicBezTo>
                    <a:cubicBezTo>
                      <a:pt x="4" y="12"/>
                      <a:pt x="5" y="12"/>
                      <a:pt x="5" y="12"/>
                    </a:cubicBezTo>
                    <a:cubicBezTo>
                      <a:pt x="5" y="11"/>
                      <a:pt x="5" y="11"/>
                      <a:pt x="4" y="10"/>
                    </a:cubicBezTo>
                    <a:cubicBezTo>
                      <a:pt x="4" y="6"/>
                      <a:pt x="2" y="3"/>
                      <a:pt x="1" y="0"/>
                    </a:cubicBezTo>
                  </a:path>
                </a:pathLst>
              </a:custGeom>
              <a:solidFill>
                <a:srgbClr val="5b2d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未知"/>
              <p:cNvSpPr/>
              <p:nvPr/>
            </p:nvSpPr>
            <p:spPr>
              <a:xfrm>
                <a:off x="2511720" y="4516560"/>
                <a:ext cx="720" cy="32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3" y="7"/>
                      <a:pt x="4" y="10"/>
                    </a:cubicBezTo>
                    <a:cubicBezTo>
                      <a:pt x="4" y="11"/>
                      <a:pt x="4" y="12"/>
                      <a:pt x="4" y="13"/>
                    </a:cubicBezTo>
                    <a:cubicBezTo>
                      <a:pt x="4" y="13"/>
                      <a:pt x="4" y="13"/>
                      <a:pt x="4" y="12"/>
                    </a:cubicBezTo>
                    <a:cubicBezTo>
                      <a:pt x="4" y="12"/>
                      <a:pt x="4" y="11"/>
                      <a:pt x="4" y="10"/>
                    </a:cubicBezTo>
                    <a:cubicBezTo>
                      <a:pt x="3" y="7"/>
                      <a:pt x="2" y="3"/>
                      <a:pt x="0" y="0"/>
                    </a:cubicBezTo>
                  </a:path>
                </a:pathLst>
              </a:custGeom>
              <a:solidFill>
                <a:srgbClr val="5c2d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未知"/>
              <p:cNvSpPr/>
              <p:nvPr/>
            </p:nvSpPr>
            <p:spPr>
              <a:xfrm>
                <a:off x="2511360" y="451656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2" y="3"/>
                      <a:pt x="3" y="7"/>
                      <a:pt x="4" y="10"/>
                    </a:cubicBezTo>
                    <a:cubicBezTo>
                      <a:pt x="4" y="11"/>
                      <a:pt x="4" y="12"/>
                      <a:pt x="4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1"/>
                      <a:pt x="5" y="10"/>
                    </a:cubicBezTo>
                    <a:cubicBezTo>
                      <a:pt x="4" y="7"/>
                      <a:pt x="3" y="3"/>
                      <a:pt x="1" y="0"/>
                    </a:cubicBezTo>
                  </a:path>
                </a:pathLst>
              </a:custGeom>
              <a:solidFill>
                <a:srgbClr val="5d2d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未知"/>
              <p:cNvSpPr/>
              <p:nvPr/>
            </p:nvSpPr>
            <p:spPr>
              <a:xfrm>
                <a:off x="2511360" y="4516560"/>
                <a:ext cx="720" cy="324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3" y="7"/>
                      <a:pt x="4" y="10"/>
                    </a:cubicBezTo>
                    <a:cubicBezTo>
                      <a:pt x="4" y="11"/>
                      <a:pt x="4" y="12"/>
                      <a:pt x="4" y="13"/>
                    </a:cubicBezTo>
                    <a:cubicBezTo>
                      <a:pt x="4" y="13"/>
                      <a:pt x="4" y="13"/>
                      <a:pt x="4" y="13"/>
                    </a:cubicBezTo>
                    <a:cubicBezTo>
                      <a:pt x="4" y="12"/>
                      <a:pt x="4" y="11"/>
                      <a:pt x="4" y="10"/>
                    </a:cubicBezTo>
                    <a:cubicBezTo>
                      <a:pt x="3" y="7"/>
                      <a:pt x="2" y="3"/>
                      <a:pt x="0" y="0"/>
                    </a:cubicBezTo>
                  </a:path>
                </a:pathLst>
              </a:custGeom>
              <a:solidFill>
                <a:srgbClr val="5d2e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未知"/>
              <p:cNvSpPr/>
              <p:nvPr/>
            </p:nvSpPr>
            <p:spPr>
              <a:xfrm>
                <a:off x="2511360" y="4516560"/>
                <a:ext cx="720" cy="32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2" y="3"/>
                      <a:pt x="3" y="7"/>
                      <a:pt x="4" y="10"/>
                    </a:cubicBezTo>
                    <a:cubicBezTo>
                      <a:pt x="4" y="11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1"/>
                      <a:pt x="5" y="10"/>
                    </a:cubicBezTo>
                    <a:cubicBezTo>
                      <a:pt x="4" y="7"/>
                      <a:pt x="3" y="3"/>
                      <a:pt x="1" y="0"/>
                    </a:cubicBezTo>
                  </a:path>
                </a:pathLst>
              </a:custGeom>
              <a:solidFill>
                <a:srgbClr val="5e2e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未知"/>
              <p:cNvSpPr/>
              <p:nvPr/>
            </p:nvSpPr>
            <p:spPr>
              <a:xfrm>
                <a:off x="2511360" y="4516560"/>
                <a:ext cx="72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3" y="7"/>
                      <a:pt x="4" y="10"/>
                    </a:cubicBezTo>
                    <a:cubicBezTo>
                      <a:pt x="4" y="11"/>
                      <a:pt x="4" y="13"/>
                      <a:pt x="4" y="14"/>
                    </a:cubicBezTo>
                    <a:cubicBezTo>
                      <a:pt x="4" y="14"/>
                      <a:pt x="4" y="13"/>
                      <a:pt x="5" y="13"/>
                    </a:cubicBezTo>
                    <a:cubicBezTo>
                      <a:pt x="5" y="12"/>
                      <a:pt x="4" y="11"/>
                      <a:pt x="4" y="10"/>
                    </a:cubicBezTo>
                    <a:cubicBezTo>
                      <a:pt x="3" y="7"/>
                      <a:pt x="2" y="3"/>
                      <a:pt x="0" y="0"/>
                    </a:cubicBezTo>
                  </a:path>
                </a:pathLst>
              </a:custGeom>
              <a:solidFill>
                <a:srgbClr val="5f2e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未知"/>
              <p:cNvSpPr/>
              <p:nvPr/>
            </p:nvSpPr>
            <p:spPr>
              <a:xfrm>
                <a:off x="2511000" y="451656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2" y="4"/>
                      <a:pt x="4" y="7"/>
                      <a:pt x="4" y="10"/>
                    </a:cubicBezTo>
                    <a:cubicBezTo>
                      <a:pt x="5" y="12"/>
                      <a:pt x="5" y="13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3"/>
                      <a:pt x="5" y="11"/>
                      <a:pt x="5" y="10"/>
                    </a:cubicBezTo>
                    <a:cubicBezTo>
                      <a:pt x="4" y="7"/>
                      <a:pt x="3" y="4"/>
                      <a:pt x="1" y="0"/>
                    </a:cubicBezTo>
                  </a:path>
                </a:pathLst>
              </a:custGeom>
              <a:solidFill>
                <a:srgbClr val="602f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未知"/>
              <p:cNvSpPr/>
              <p:nvPr/>
            </p:nvSpPr>
            <p:spPr>
              <a:xfrm>
                <a:off x="2511000" y="451656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2" y="4"/>
                      <a:pt x="3" y="7"/>
                      <a:pt x="4" y="11"/>
                    </a:cubicBezTo>
                    <a:cubicBezTo>
                      <a:pt x="4" y="12"/>
                      <a:pt x="4" y="13"/>
                      <a:pt x="4" y="14"/>
                    </a:cubicBezTo>
                    <a:cubicBezTo>
                      <a:pt x="4" y="14"/>
                      <a:pt x="5" y="14"/>
                      <a:pt x="5" y="14"/>
                    </a:cubicBezTo>
                    <a:cubicBezTo>
                      <a:pt x="5" y="13"/>
                      <a:pt x="5" y="12"/>
                      <a:pt x="4" y="10"/>
                    </a:cubicBezTo>
                    <a:cubicBezTo>
                      <a:pt x="4" y="7"/>
                      <a:pt x="2" y="4"/>
                      <a:pt x="0" y="0"/>
                    </a:cubicBezTo>
                  </a:path>
                </a:pathLst>
              </a:custGeom>
              <a:solidFill>
                <a:srgbClr val="612f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未知"/>
              <p:cNvSpPr/>
              <p:nvPr/>
            </p:nvSpPr>
            <p:spPr>
              <a:xfrm>
                <a:off x="2510640" y="451692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2" y="3"/>
                      <a:pt x="4" y="6"/>
                      <a:pt x="4" y="10"/>
                    </a:cubicBezTo>
                    <a:cubicBezTo>
                      <a:pt x="5" y="11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1"/>
                      <a:pt x="5" y="10"/>
                    </a:cubicBezTo>
                    <a:cubicBezTo>
                      <a:pt x="4" y="6"/>
                      <a:pt x="3" y="3"/>
                      <a:pt x="1" y="0"/>
                    </a:cubicBezTo>
                  </a:path>
                </a:pathLst>
              </a:custGeom>
              <a:solidFill>
                <a:srgbClr val="612f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未知"/>
              <p:cNvSpPr/>
              <p:nvPr/>
            </p:nvSpPr>
            <p:spPr>
              <a:xfrm>
                <a:off x="2510640" y="451692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3" y="6"/>
                      <a:pt x="4" y="10"/>
                    </a:cubicBezTo>
                    <a:cubicBezTo>
                      <a:pt x="4" y="11"/>
                      <a:pt x="4" y="12"/>
                      <a:pt x="4" y="14"/>
                    </a:cubicBezTo>
                    <a:cubicBezTo>
                      <a:pt x="5" y="14"/>
                      <a:pt x="5" y="13"/>
                      <a:pt x="5" y="13"/>
                    </a:cubicBezTo>
                    <a:cubicBezTo>
                      <a:pt x="5" y="12"/>
                      <a:pt x="5" y="11"/>
                      <a:pt x="4" y="10"/>
                    </a:cubicBezTo>
                    <a:cubicBezTo>
                      <a:pt x="4" y="6"/>
                      <a:pt x="2" y="3"/>
                      <a:pt x="0" y="0"/>
                    </a:cubicBezTo>
                  </a:path>
                </a:pathLst>
              </a:custGeom>
              <a:solidFill>
                <a:srgbClr val="623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未知"/>
              <p:cNvSpPr/>
              <p:nvPr/>
            </p:nvSpPr>
            <p:spPr>
              <a:xfrm>
                <a:off x="2482920" y="45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623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未知"/>
              <p:cNvSpPr/>
              <p:nvPr/>
            </p:nvSpPr>
            <p:spPr>
              <a:xfrm>
                <a:off x="2510640" y="4516920"/>
                <a:ext cx="72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2" y="3"/>
                      <a:pt x="4" y="6"/>
                      <a:pt x="5" y="10"/>
                    </a:cubicBezTo>
                    <a:cubicBezTo>
                      <a:pt x="5" y="11"/>
                      <a:pt x="5" y="13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2"/>
                      <a:pt x="5" y="11"/>
                      <a:pt x="5" y="10"/>
                    </a:cubicBezTo>
                    <a:cubicBezTo>
                      <a:pt x="4" y="6"/>
                      <a:pt x="3" y="3"/>
                      <a:pt x="1" y="0"/>
                    </a:cubicBezTo>
                  </a:path>
                </a:pathLst>
              </a:custGeom>
              <a:solidFill>
                <a:srgbClr val="633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未知"/>
              <p:cNvSpPr/>
              <p:nvPr/>
            </p:nvSpPr>
            <p:spPr>
              <a:xfrm>
                <a:off x="2482920" y="452808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633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未知"/>
              <p:cNvSpPr/>
              <p:nvPr/>
            </p:nvSpPr>
            <p:spPr>
              <a:xfrm>
                <a:off x="2510640" y="4516920"/>
                <a:ext cx="720" cy="360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3" y="6"/>
                      <a:pt x="4" y="10"/>
                    </a:cubicBezTo>
                    <a:cubicBezTo>
                      <a:pt x="4" y="11"/>
                      <a:pt x="5" y="13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3"/>
                      <a:pt x="5" y="11"/>
                      <a:pt x="5" y="10"/>
                    </a:cubicBezTo>
                    <a:cubicBezTo>
                      <a:pt x="4" y="6"/>
                      <a:pt x="2" y="3"/>
                      <a:pt x="0" y="0"/>
                    </a:cubicBezTo>
                  </a:path>
                </a:pathLst>
              </a:custGeom>
              <a:solidFill>
                <a:srgbClr val="6431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475"/>
              <p:cNvSpPr/>
              <p:nvPr/>
            </p:nvSpPr>
            <p:spPr>
              <a:xfrm>
                <a:off x="2483280" y="4528080"/>
                <a:ext cx="360" cy="360"/>
              </a:xfrm>
              <a:prstGeom prst="ellipse">
                <a:avLst/>
              </a:prstGeom>
              <a:solidFill>
                <a:srgbClr val="6431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未知"/>
              <p:cNvSpPr/>
              <p:nvPr/>
            </p:nvSpPr>
            <p:spPr>
              <a:xfrm>
                <a:off x="2510280" y="4516920"/>
                <a:ext cx="1080" cy="360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2" y="3"/>
                      <a:pt x="4" y="6"/>
                      <a:pt x="5" y="10"/>
                    </a:cubicBezTo>
                    <a:cubicBezTo>
                      <a:pt x="5" y="11"/>
                      <a:pt x="5" y="13"/>
                      <a:pt x="5" y="14"/>
                    </a:cubicBezTo>
                    <a:cubicBezTo>
                      <a:pt x="5" y="14"/>
                      <a:pt x="5" y="14"/>
                      <a:pt x="6" y="14"/>
                    </a:cubicBezTo>
                    <a:cubicBezTo>
                      <a:pt x="6" y="13"/>
                      <a:pt x="5" y="11"/>
                      <a:pt x="5" y="10"/>
                    </a:cubicBezTo>
                    <a:cubicBezTo>
                      <a:pt x="4" y="6"/>
                      <a:pt x="3" y="3"/>
                      <a:pt x="1" y="0"/>
                    </a:cubicBezTo>
                  </a:path>
                </a:pathLst>
              </a:custGeom>
              <a:solidFill>
                <a:srgbClr val="6431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未知"/>
              <p:cNvSpPr/>
              <p:nvPr/>
            </p:nvSpPr>
            <p:spPr>
              <a:xfrm>
                <a:off x="2483280" y="4527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6431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未知"/>
              <p:cNvSpPr/>
              <p:nvPr/>
            </p:nvSpPr>
            <p:spPr>
              <a:xfrm>
                <a:off x="2510280" y="45169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3" y="6"/>
                      <a:pt x="4" y="10"/>
                    </a:cubicBezTo>
                    <a:cubicBezTo>
                      <a:pt x="4" y="12"/>
                      <a:pt x="5" y="13"/>
                      <a:pt x="5" y="15"/>
                    </a:cubicBezTo>
                    <a:cubicBezTo>
                      <a:pt x="5" y="15"/>
                      <a:pt x="5" y="14"/>
                      <a:pt x="5" y="14"/>
                    </a:cubicBezTo>
                    <a:cubicBezTo>
                      <a:pt x="5" y="13"/>
                      <a:pt x="5" y="11"/>
                      <a:pt x="5" y="10"/>
                    </a:cubicBezTo>
                    <a:cubicBezTo>
                      <a:pt x="4" y="6"/>
                      <a:pt x="2" y="3"/>
                      <a:pt x="0" y="0"/>
                    </a:cubicBezTo>
                  </a:path>
                </a:pathLst>
              </a:custGeom>
              <a:solidFill>
                <a:srgbClr val="6531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未知"/>
              <p:cNvSpPr/>
              <p:nvPr/>
            </p:nvSpPr>
            <p:spPr>
              <a:xfrm>
                <a:off x="2483280" y="452772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6531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未知"/>
              <p:cNvSpPr/>
              <p:nvPr/>
            </p:nvSpPr>
            <p:spPr>
              <a:xfrm>
                <a:off x="2510280" y="45169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4" y="6"/>
                      <a:pt x="5" y="10"/>
                    </a:cubicBezTo>
                    <a:cubicBezTo>
                      <a:pt x="5" y="12"/>
                      <a:pt x="5" y="13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6" y="13"/>
                      <a:pt x="5" y="12"/>
                      <a:pt x="5" y="10"/>
                    </a:cubicBezTo>
                    <a:cubicBezTo>
                      <a:pt x="4" y="6"/>
                      <a:pt x="3" y="3"/>
                      <a:pt x="1" y="0"/>
                    </a:cubicBezTo>
                  </a:path>
                </a:pathLst>
              </a:custGeom>
              <a:solidFill>
                <a:srgbClr val="6632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Oval 481"/>
              <p:cNvSpPr/>
              <p:nvPr/>
            </p:nvSpPr>
            <p:spPr>
              <a:xfrm>
                <a:off x="2483280" y="4527720"/>
                <a:ext cx="360" cy="360"/>
              </a:xfrm>
              <a:prstGeom prst="ellipse">
                <a:avLst/>
              </a:prstGeom>
              <a:solidFill>
                <a:srgbClr val="6632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未知"/>
              <p:cNvSpPr/>
              <p:nvPr/>
            </p:nvSpPr>
            <p:spPr>
              <a:xfrm>
                <a:off x="2510280" y="45169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4" y="6"/>
                      <a:pt x="4" y="10"/>
                    </a:cubicBezTo>
                    <a:cubicBezTo>
                      <a:pt x="5" y="12"/>
                      <a:pt x="5" y="13"/>
                      <a:pt x="5" y="15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5" y="13"/>
                      <a:pt x="5" y="12"/>
                      <a:pt x="5" y="10"/>
                    </a:cubicBezTo>
                    <a:cubicBezTo>
                      <a:pt x="4" y="6"/>
                      <a:pt x="2" y="3"/>
                      <a:pt x="0" y="0"/>
                    </a:cubicBezTo>
                  </a:path>
                </a:pathLst>
              </a:custGeom>
              <a:solidFill>
                <a:srgbClr val="6632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未知"/>
              <p:cNvSpPr/>
              <p:nvPr/>
            </p:nvSpPr>
            <p:spPr>
              <a:xfrm>
                <a:off x="2483280" y="452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0" y="1"/>
                      <a:pt x="0" y="0"/>
                    </a:cubicBezTo>
                  </a:path>
                </a:pathLst>
              </a:custGeom>
              <a:solidFill>
                <a:srgbClr val="6632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未知"/>
              <p:cNvSpPr/>
              <p:nvPr/>
            </p:nvSpPr>
            <p:spPr>
              <a:xfrm>
                <a:off x="2509920" y="4516920"/>
                <a:ext cx="1080" cy="396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4" y="6"/>
                      <a:pt x="5" y="10"/>
                    </a:cubicBezTo>
                    <a:cubicBezTo>
                      <a:pt x="5" y="12"/>
                      <a:pt x="5" y="14"/>
                      <a:pt x="5" y="15"/>
                    </a:cubicBezTo>
                    <a:cubicBezTo>
                      <a:pt x="5" y="15"/>
                      <a:pt x="6" y="15"/>
                      <a:pt x="6" y="15"/>
                    </a:cubicBezTo>
                    <a:cubicBezTo>
                      <a:pt x="6" y="13"/>
                      <a:pt x="6" y="12"/>
                      <a:pt x="5" y="10"/>
                    </a:cubicBezTo>
                    <a:cubicBezTo>
                      <a:pt x="5" y="6"/>
                      <a:pt x="3" y="3"/>
                      <a:pt x="1" y="0"/>
                    </a:cubicBezTo>
                  </a:path>
                </a:pathLst>
              </a:custGeom>
              <a:solidFill>
                <a:srgbClr val="6732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未知"/>
              <p:cNvSpPr/>
              <p:nvPr/>
            </p:nvSpPr>
            <p:spPr>
              <a:xfrm>
                <a:off x="2483280" y="452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6732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未知"/>
              <p:cNvSpPr/>
              <p:nvPr/>
            </p:nvSpPr>
            <p:spPr>
              <a:xfrm>
                <a:off x="2509920" y="45169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4" y="7"/>
                      <a:pt x="4" y="10"/>
                    </a:cubicBezTo>
                    <a:cubicBezTo>
                      <a:pt x="5" y="12"/>
                      <a:pt x="5" y="14"/>
                      <a:pt x="5" y="16"/>
                    </a:cubicBezTo>
                    <a:cubicBezTo>
                      <a:pt x="5" y="16"/>
                      <a:pt x="5" y="15"/>
                      <a:pt x="5" y="15"/>
                    </a:cubicBezTo>
                    <a:cubicBezTo>
                      <a:pt x="5" y="14"/>
                      <a:pt x="5" y="12"/>
                      <a:pt x="5" y="10"/>
                    </a:cubicBezTo>
                    <a:cubicBezTo>
                      <a:pt x="4" y="6"/>
                      <a:pt x="2" y="3"/>
                      <a:pt x="0" y="0"/>
                    </a:cubicBezTo>
                  </a:path>
                </a:pathLst>
              </a:custGeom>
              <a:solidFill>
                <a:srgbClr val="6832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未知"/>
              <p:cNvSpPr/>
              <p:nvPr/>
            </p:nvSpPr>
            <p:spPr>
              <a:xfrm>
                <a:off x="2483640" y="452736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6832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未知"/>
              <p:cNvSpPr/>
              <p:nvPr/>
            </p:nvSpPr>
            <p:spPr>
              <a:xfrm>
                <a:off x="2509560" y="45169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4" y="7"/>
                      <a:pt x="5" y="11"/>
                    </a:cubicBezTo>
                    <a:cubicBezTo>
                      <a:pt x="5" y="12"/>
                      <a:pt x="5" y="14"/>
                      <a:pt x="5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4"/>
                      <a:pt x="6" y="12"/>
                      <a:pt x="5" y="10"/>
                    </a:cubicBezTo>
                    <a:cubicBezTo>
                      <a:pt x="5" y="7"/>
                      <a:pt x="3" y="3"/>
                      <a:pt x="1" y="0"/>
                    </a:cubicBezTo>
                  </a:path>
                </a:pathLst>
              </a:custGeom>
              <a:solidFill>
                <a:srgbClr val="693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未知"/>
              <p:cNvSpPr/>
              <p:nvPr/>
            </p:nvSpPr>
            <p:spPr>
              <a:xfrm>
                <a:off x="2483640" y="4527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6933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未知"/>
              <p:cNvSpPr/>
              <p:nvPr/>
            </p:nvSpPr>
            <p:spPr>
              <a:xfrm>
                <a:off x="2509560" y="45169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4" y="7"/>
                      <a:pt x="5" y="11"/>
                    </a:cubicBezTo>
                    <a:cubicBezTo>
                      <a:pt x="5" y="12"/>
                      <a:pt x="5" y="14"/>
                      <a:pt x="5" y="16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5" y="14"/>
                      <a:pt x="5" y="12"/>
                      <a:pt x="5" y="11"/>
                    </a:cubicBezTo>
                    <a:cubicBezTo>
                      <a:pt x="4" y="7"/>
                      <a:pt x="3" y="3"/>
                      <a:pt x="0" y="0"/>
                    </a:cubicBezTo>
                  </a:path>
                </a:pathLst>
              </a:custGeom>
              <a:solidFill>
                <a:srgbClr val="6a3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未知"/>
              <p:cNvSpPr/>
              <p:nvPr/>
            </p:nvSpPr>
            <p:spPr>
              <a:xfrm>
                <a:off x="2483640" y="452700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</a:path>
                </a:pathLst>
              </a:custGeom>
              <a:solidFill>
                <a:srgbClr val="6a33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未知"/>
              <p:cNvSpPr/>
              <p:nvPr/>
            </p:nvSpPr>
            <p:spPr>
              <a:xfrm>
                <a:off x="2509560" y="45169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4" y="7"/>
                      <a:pt x="5" y="11"/>
                    </a:cubicBezTo>
                    <a:cubicBezTo>
                      <a:pt x="5" y="13"/>
                      <a:pt x="6" y="14"/>
                      <a:pt x="6" y="16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6" y="14"/>
                      <a:pt x="6" y="12"/>
                      <a:pt x="6" y="11"/>
                    </a:cubicBezTo>
                    <a:cubicBezTo>
                      <a:pt x="5" y="7"/>
                      <a:pt x="3" y="3"/>
                      <a:pt x="1" y="0"/>
                    </a:cubicBezTo>
                  </a:path>
                </a:pathLst>
              </a:custGeom>
              <a:solidFill>
                <a:srgbClr val="6a34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未知"/>
              <p:cNvSpPr/>
              <p:nvPr/>
            </p:nvSpPr>
            <p:spPr>
              <a:xfrm>
                <a:off x="2484000" y="4526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6a34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未知"/>
              <p:cNvSpPr/>
              <p:nvPr/>
            </p:nvSpPr>
            <p:spPr>
              <a:xfrm>
                <a:off x="2509560" y="45169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4" y="7"/>
                      <a:pt x="5" y="11"/>
                    </a:cubicBezTo>
                    <a:cubicBezTo>
                      <a:pt x="5" y="13"/>
                      <a:pt x="5" y="15"/>
                      <a:pt x="5" y="17"/>
                    </a:cubicBezTo>
                    <a:cubicBezTo>
                      <a:pt x="5" y="17"/>
                      <a:pt x="5" y="16"/>
                      <a:pt x="6" y="16"/>
                    </a:cubicBezTo>
                    <a:cubicBezTo>
                      <a:pt x="6" y="14"/>
                      <a:pt x="5" y="13"/>
                      <a:pt x="5" y="11"/>
                    </a:cubicBezTo>
                    <a:cubicBezTo>
                      <a:pt x="4" y="7"/>
                      <a:pt x="3" y="3"/>
                      <a:pt x="0" y="0"/>
                    </a:cubicBezTo>
                  </a:path>
                </a:pathLst>
              </a:custGeom>
              <a:solidFill>
                <a:srgbClr val="6b34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未知"/>
              <p:cNvSpPr/>
              <p:nvPr/>
            </p:nvSpPr>
            <p:spPr>
              <a:xfrm>
                <a:off x="2484000" y="4526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6b34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未知"/>
              <p:cNvSpPr/>
              <p:nvPr/>
            </p:nvSpPr>
            <p:spPr>
              <a:xfrm>
                <a:off x="2509200" y="45169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4" y="7"/>
                      <a:pt x="5" y="11"/>
                    </a:cubicBezTo>
                    <a:cubicBezTo>
                      <a:pt x="6" y="13"/>
                      <a:pt x="6" y="15"/>
                      <a:pt x="6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7"/>
                      <a:pt x="3" y="3"/>
                      <a:pt x="1" y="0"/>
                    </a:cubicBezTo>
                  </a:path>
                </a:pathLst>
              </a:custGeom>
              <a:solidFill>
                <a:srgbClr val="6c34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未知"/>
              <p:cNvSpPr/>
              <p:nvPr/>
            </p:nvSpPr>
            <p:spPr>
              <a:xfrm>
                <a:off x="2484000" y="4526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</a:path>
                </a:pathLst>
              </a:custGeom>
              <a:solidFill>
                <a:srgbClr val="6c34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未知"/>
              <p:cNvSpPr/>
              <p:nvPr/>
            </p:nvSpPr>
            <p:spPr>
              <a:xfrm>
                <a:off x="2509200" y="45169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3"/>
                      <a:pt x="4" y="7"/>
                      <a:pt x="5" y="11"/>
                    </a:cubicBezTo>
                    <a:cubicBezTo>
                      <a:pt x="5" y="13"/>
                      <a:pt x="5" y="15"/>
                      <a:pt x="5" y="17"/>
                    </a:cubicBezTo>
                    <a:cubicBezTo>
                      <a:pt x="5" y="17"/>
                      <a:pt x="5" y="17"/>
                      <a:pt x="6" y="17"/>
                    </a:cubicBezTo>
                    <a:cubicBezTo>
                      <a:pt x="6" y="15"/>
                      <a:pt x="6" y="13"/>
                      <a:pt x="5" y="11"/>
                    </a:cubicBezTo>
                    <a:cubicBezTo>
                      <a:pt x="4" y="7"/>
                      <a:pt x="3" y="3"/>
                      <a:pt x="0" y="0"/>
                    </a:cubicBezTo>
                  </a:path>
                </a:pathLst>
              </a:custGeom>
              <a:solidFill>
                <a:srgbClr val="6d3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未知"/>
              <p:cNvSpPr/>
              <p:nvPr/>
            </p:nvSpPr>
            <p:spPr>
              <a:xfrm>
                <a:off x="2484000" y="4526640"/>
                <a:ext cx="360" cy="36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solidFill>
                <a:srgbClr val="6d3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未知"/>
              <p:cNvSpPr/>
              <p:nvPr/>
            </p:nvSpPr>
            <p:spPr>
              <a:xfrm>
                <a:off x="2508840" y="4516920"/>
                <a:ext cx="1080" cy="432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5" y="7"/>
                      <a:pt x="5" y="11"/>
                    </a:cubicBezTo>
                    <a:cubicBezTo>
                      <a:pt x="6" y="13"/>
                      <a:pt x="6" y="15"/>
                      <a:pt x="6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7"/>
                      <a:pt x="3" y="3"/>
                      <a:pt x="1" y="0"/>
                    </a:cubicBezTo>
                  </a:path>
                </a:pathLst>
              </a:custGeom>
              <a:solidFill>
                <a:srgbClr val="6d3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未知"/>
              <p:cNvSpPr/>
              <p:nvPr/>
            </p:nvSpPr>
            <p:spPr>
              <a:xfrm>
                <a:off x="2484000" y="452628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6d3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未知"/>
              <p:cNvSpPr/>
              <p:nvPr/>
            </p:nvSpPr>
            <p:spPr>
              <a:xfrm>
                <a:off x="2508840" y="45169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3" y="3"/>
                      <a:pt x="5" y="7"/>
                      <a:pt x="6" y="11"/>
                    </a:cubicBezTo>
                    <a:cubicBezTo>
                      <a:pt x="6" y="13"/>
                      <a:pt x="6" y="15"/>
                      <a:pt x="6" y="18"/>
                    </a:cubicBezTo>
                    <a:cubicBezTo>
                      <a:pt x="6" y="18"/>
                      <a:pt x="7" y="17"/>
                      <a:pt x="7" y="17"/>
                    </a:cubicBezTo>
                    <a:cubicBezTo>
                      <a:pt x="7" y="15"/>
                      <a:pt x="7" y="13"/>
                      <a:pt x="6" y="11"/>
                    </a:cubicBezTo>
                    <a:cubicBezTo>
                      <a:pt x="6" y="7"/>
                      <a:pt x="4" y="3"/>
                      <a:pt x="1" y="0"/>
                    </a:cubicBezTo>
                  </a:path>
                </a:pathLst>
              </a:custGeom>
              <a:solidFill>
                <a:srgbClr val="6e3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未知"/>
              <p:cNvSpPr/>
              <p:nvPr/>
            </p:nvSpPr>
            <p:spPr>
              <a:xfrm>
                <a:off x="2484000" y="452628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1" y="2"/>
                      <a:pt x="1" y="1"/>
                      <a:pt x="1" y="0"/>
                    </a:cubicBezTo>
                  </a:path>
                </a:pathLst>
              </a:custGeom>
              <a:solidFill>
                <a:srgbClr val="6e3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未知"/>
              <p:cNvSpPr/>
              <p:nvPr/>
            </p:nvSpPr>
            <p:spPr>
              <a:xfrm>
                <a:off x="2508840" y="451692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5" y="7"/>
                      <a:pt x="5" y="11"/>
                    </a:cubicBezTo>
                    <a:cubicBezTo>
                      <a:pt x="6" y="13"/>
                      <a:pt x="6" y="16"/>
                      <a:pt x="6" y="18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7"/>
                      <a:pt x="3" y="3"/>
                      <a:pt x="0" y="0"/>
                    </a:cubicBezTo>
                  </a:path>
                </a:pathLst>
              </a:custGeom>
              <a:solidFill>
                <a:srgbClr val="6f3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未知"/>
              <p:cNvSpPr/>
              <p:nvPr/>
            </p:nvSpPr>
            <p:spPr>
              <a:xfrm>
                <a:off x="2484360" y="4525920"/>
                <a:ext cx="360" cy="10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2"/>
                      <a:pt x="0" y="0"/>
                    </a:cubicBezTo>
                  </a:path>
                </a:pathLst>
              </a:custGeom>
              <a:solidFill>
                <a:srgbClr val="6f35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未知"/>
              <p:cNvSpPr/>
              <p:nvPr/>
            </p:nvSpPr>
            <p:spPr>
              <a:xfrm>
                <a:off x="2508480" y="45169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3" y="3"/>
                      <a:pt x="5" y="7"/>
                      <a:pt x="6" y="11"/>
                    </a:cubicBezTo>
                    <a:cubicBezTo>
                      <a:pt x="6" y="14"/>
                      <a:pt x="7" y="16"/>
                      <a:pt x="6" y="18"/>
                    </a:cubicBezTo>
                    <a:cubicBezTo>
                      <a:pt x="6" y="18"/>
                      <a:pt x="7" y="18"/>
                      <a:pt x="7" y="18"/>
                    </a:cubicBezTo>
                    <a:cubicBezTo>
                      <a:pt x="7" y="16"/>
                      <a:pt x="7" y="13"/>
                      <a:pt x="6" y="11"/>
                    </a:cubicBezTo>
                    <a:cubicBezTo>
                      <a:pt x="6" y="7"/>
                      <a:pt x="4" y="3"/>
                      <a:pt x="1" y="0"/>
                    </a:cubicBezTo>
                  </a:path>
                </a:pathLst>
              </a:custGeom>
              <a:solidFill>
                <a:srgbClr val="6f36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未知"/>
              <p:cNvSpPr/>
              <p:nvPr/>
            </p:nvSpPr>
            <p:spPr>
              <a:xfrm>
                <a:off x="2484360" y="4525920"/>
                <a:ext cx="360" cy="10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1" y="3"/>
                      <a:pt x="1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6f36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未知"/>
              <p:cNvSpPr/>
              <p:nvPr/>
            </p:nvSpPr>
            <p:spPr>
              <a:xfrm>
                <a:off x="2508480" y="451692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5" y="7"/>
                      <a:pt x="6" y="11"/>
                    </a:cubicBezTo>
                    <a:cubicBezTo>
                      <a:pt x="6" y="14"/>
                      <a:pt x="6" y="16"/>
                      <a:pt x="6" y="18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7" y="16"/>
                      <a:pt x="6" y="14"/>
                      <a:pt x="6" y="11"/>
                    </a:cubicBezTo>
                    <a:cubicBezTo>
                      <a:pt x="5" y="7"/>
                      <a:pt x="3" y="3"/>
                      <a:pt x="0" y="0"/>
                    </a:cubicBezTo>
                  </a:path>
                </a:pathLst>
              </a:custGeom>
              <a:solidFill>
                <a:srgbClr val="7036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未知"/>
              <p:cNvSpPr/>
              <p:nvPr/>
            </p:nvSpPr>
            <p:spPr>
              <a:xfrm>
                <a:off x="2484360" y="452556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2"/>
                      <a:pt x="1" y="3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3"/>
                      <a:pt x="1" y="2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7036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未知"/>
              <p:cNvSpPr/>
              <p:nvPr/>
            </p:nvSpPr>
            <p:spPr>
              <a:xfrm>
                <a:off x="2508120" y="45169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3" y="3"/>
                      <a:pt x="5" y="7"/>
                      <a:pt x="6" y="11"/>
                    </a:cubicBezTo>
                    <a:cubicBezTo>
                      <a:pt x="7" y="14"/>
                      <a:pt x="7" y="16"/>
                      <a:pt x="6" y="19"/>
                    </a:cubicBezTo>
                    <a:cubicBezTo>
                      <a:pt x="7" y="19"/>
                      <a:pt x="7" y="19"/>
                      <a:pt x="7" y="18"/>
                    </a:cubicBezTo>
                    <a:cubicBezTo>
                      <a:pt x="7" y="16"/>
                      <a:pt x="7" y="14"/>
                      <a:pt x="7" y="11"/>
                    </a:cubicBezTo>
                    <a:cubicBezTo>
                      <a:pt x="6" y="7"/>
                      <a:pt x="4" y="3"/>
                      <a:pt x="1" y="0"/>
                    </a:cubicBezTo>
                  </a:path>
                </a:pathLst>
              </a:custGeom>
              <a:solidFill>
                <a:srgbClr val="7037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未知"/>
              <p:cNvSpPr/>
              <p:nvPr/>
            </p:nvSpPr>
            <p:spPr>
              <a:xfrm>
                <a:off x="2484720" y="4525560"/>
                <a:ext cx="360" cy="7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3"/>
                      <a:pt x="0" y="2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7037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未知"/>
              <p:cNvSpPr/>
              <p:nvPr/>
            </p:nvSpPr>
            <p:spPr>
              <a:xfrm>
                <a:off x="2508120" y="45169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5" y="7"/>
                      <a:pt x="6" y="12"/>
                    </a:cubicBezTo>
                    <a:cubicBezTo>
                      <a:pt x="6" y="14"/>
                      <a:pt x="6" y="16"/>
                      <a:pt x="6" y="19"/>
                    </a:cubicBezTo>
                    <a:cubicBezTo>
                      <a:pt x="6" y="19"/>
                      <a:pt x="6" y="19"/>
                      <a:pt x="6" y="19"/>
                    </a:cubicBezTo>
                    <a:cubicBezTo>
                      <a:pt x="7" y="16"/>
                      <a:pt x="7" y="14"/>
                      <a:pt x="6" y="11"/>
                    </a:cubicBezTo>
                    <a:cubicBezTo>
                      <a:pt x="5" y="7"/>
                      <a:pt x="3" y="3"/>
                      <a:pt x="0" y="0"/>
                    </a:cubicBezTo>
                  </a:path>
                </a:pathLst>
              </a:custGeom>
              <a:solidFill>
                <a:srgbClr val="7137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未知"/>
              <p:cNvSpPr/>
              <p:nvPr/>
            </p:nvSpPr>
            <p:spPr>
              <a:xfrm>
                <a:off x="2484720" y="4525560"/>
                <a:ext cx="360" cy="108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3"/>
                      <a:pt x="1" y="4"/>
                      <a:pt x="1" y="5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1" y="4"/>
                      <a:pt x="1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7137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未知"/>
              <p:cNvSpPr/>
              <p:nvPr/>
            </p:nvSpPr>
            <p:spPr>
              <a:xfrm>
                <a:off x="2508120" y="45169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3" y="3"/>
                      <a:pt x="5" y="7"/>
                      <a:pt x="6" y="12"/>
                    </a:cubicBezTo>
                    <a:cubicBezTo>
                      <a:pt x="7" y="14"/>
                      <a:pt x="7" y="17"/>
                      <a:pt x="6" y="19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6"/>
                      <a:pt x="7" y="14"/>
                      <a:pt x="7" y="12"/>
                    </a:cubicBezTo>
                    <a:cubicBezTo>
                      <a:pt x="6" y="7"/>
                      <a:pt x="4" y="3"/>
                      <a:pt x="1" y="0"/>
                    </a:cubicBezTo>
                  </a:path>
                </a:pathLst>
              </a:custGeom>
              <a:solidFill>
                <a:srgbClr val="7237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未知"/>
              <p:cNvSpPr/>
              <p:nvPr/>
            </p:nvSpPr>
            <p:spPr>
              <a:xfrm>
                <a:off x="2484720" y="452520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0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3"/>
                      <a:pt x="1" y="5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5"/>
                      <a:pt x="1" y="3"/>
                      <a:pt x="1" y="2"/>
                    </a:cubicBezTo>
                    <a:cubicBezTo>
                      <a:pt x="1" y="2"/>
                      <a:pt x="1" y="1"/>
                      <a:pt x="1" y="0"/>
                    </a:cubicBezTo>
                  </a:path>
                </a:pathLst>
              </a:custGeom>
              <a:solidFill>
                <a:srgbClr val="7237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未知"/>
              <p:cNvSpPr/>
              <p:nvPr/>
            </p:nvSpPr>
            <p:spPr>
              <a:xfrm>
                <a:off x="2508120" y="451692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5" y="7"/>
                      <a:pt x="6" y="12"/>
                    </a:cubicBezTo>
                    <a:cubicBezTo>
                      <a:pt x="6" y="14"/>
                      <a:pt x="6" y="17"/>
                      <a:pt x="6" y="19"/>
                    </a:cubicBezTo>
                    <a:cubicBezTo>
                      <a:pt x="6" y="19"/>
                      <a:pt x="6" y="19"/>
                      <a:pt x="6" y="19"/>
                    </a:cubicBezTo>
                    <a:cubicBezTo>
                      <a:pt x="7" y="17"/>
                      <a:pt x="7" y="14"/>
                      <a:pt x="6" y="12"/>
                    </a:cubicBezTo>
                    <a:cubicBezTo>
                      <a:pt x="5" y="7"/>
                      <a:pt x="3" y="3"/>
                      <a:pt x="0" y="0"/>
                    </a:cubicBezTo>
                  </a:path>
                </a:pathLst>
              </a:custGeom>
              <a:solidFill>
                <a:srgbClr val="7338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未知"/>
              <p:cNvSpPr/>
              <p:nvPr/>
            </p:nvSpPr>
            <p:spPr>
              <a:xfrm>
                <a:off x="2484720" y="452520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4"/>
                      <a:pt x="1" y="3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7338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未知"/>
              <p:cNvSpPr/>
              <p:nvPr/>
            </p:nvSpPr>
            <p:spPr>
              <a:xfrm>
                <a:off x="2507760" y="451692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5" y="7"/>
                      <a:pt x="6" y="12"/>
                    </a:cubicBezTo>
                    <a:cubicBezTo>
                      <a:pt x="7" y="14"/>
                      <a:pt x="7" y="17"/>
                      <a:pt x="6" y="20"/>
                    </a:cubicBezTo>
                    <a:cubicBezTo>
                      <a:pt x="7" y="20"/>
                      <a:pt x="7" y="20"/>
                      <a:pt x="7" y="19"/>
                    </a:cubicBezTo>
                    <a:cubicBezTo>
                      <a:pt x="7" y="17"/>
                      <a:pt x="7" y="14"/>
                      <a:pt x="7" y="12"/>
                    </a:cubicBezTo>
                    <a:cubicBezTo>
                      <a:pt x="6" y="7"/>
                      <a:pt x="4" y="3"/>
                      <a:pt x="1" y="0"/>
                    </a:cubicBezTo>
                  </a:path>
                </a:pathLst>
              </a:custGeom>
              <a:solidFill>
                <a:srgbClr val="7438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未知"/>
              <p:cNvSpPr/>
              <p:nvPr/>
            </p:nvSpPr>
            <p:spPr>
              <a:xfrm>
                <a:off x="2484720" y="4524840"/>
                <a:ext cx="360" cy="1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1" y="4"/>
                      <a:pt x="1" y="5"/>
                      <a:pt x="1" y="7"/>
                    </a:cubicBezTo>
                    <a:cubicBezTo>
                      <a:pt x="2" y="7"/>
                      <a:pt x="2" y="6"/>
                      <a:pt x="2" y="6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2"/>
                      <a:pt x="1" y="1"/>
                      <a:pt x="1" y="0"/>
                    </a:cubicBezTo>
                  </a:path>
                </a:pathLst>
              </a:custGeom>
              <a:solidFill>
                <a:srgbClr val="7438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未知"/>
              <p:cNvSpPr/>
              <p:nvPr/>
            </p:nvSpPr>
            <p:spPr>
              <a:xfrm>
                <a:off x="2507760" y="451692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3"/>
                      <a:pt x="5" y="7"/>
                      <a:pt x="6" y="12"/>
                    </a:cubicBezTo>
                    <a:cubicBezTo>
                      <a:pt x="6" y="15"/>
                      <a:pt x="6" y="17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7"/>
                      <a:pt x="7" y="14"/>
                      <a:pt x="6" y="12"/>
                    </a:cubicBezTo>
                    <a:cubicBezTo>
                      <a:pt x="5" y="7"/>
                      <a:pt x="3" y="3"/>
                      <a:pt x="0" y="0"/>
                    </a:cubicBezTo>
                  </a:path>
                </a:pathLst>
              </a:custGeom>
              <a:solidFill>
                <a:srgbClr val="7438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未知"/>
              <p:cNvSpPr/>
              <p:nvPr/>
            </p:nvSpPr>
            <p:spPr>
              <a:xfrm>
                <a:off x="2485080" y="452484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solidFill>
                <a:srgbClr val="7438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未知"/>
              <p:cNvSpPr/>
              <p:nvPr/>
            </p:nvSpPr>
            <p:spPr>
              <a:xfrm>
                <a:off x="2507760" y="451692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3" y="4"/>
                      <a:pt x="6" y="8"/>
                      <a:pt x="6" y="12"/>
                    </a:cubicBezTo>
                    <a:cubicBezTo>
                      <a:pt x="7" y="15"/>
                      <a:pt x="7" y="18"/>
                      <a:pt x="6" y="20"/>
                    </a:cubicBezTo>
                    <a:cubicBezTo>
                      <a:pt x="7" y="20"/>
                      <a:pt x="7" y="20"/>
                      <a:pt x="7" y="20"/>
                    </a:cubicBezTo>
                    <a:cubicBezTo>
                      <a:pt x="7" y="17"/>
                      <a:pt x="7" y="15"/>
                      <a:pt x="7" y="12"/>
                    </a:cubicBezTo>
                    <a:cubicBezTo>
                      <a:pt x="6" y="7"/>
                      <a:pt x="4" y="3"/>
                      <a:pt x="1" y="0"/>
                    </a:cubicBezTo>
                  </a:path>
                </a:pathLst>
              </a:custGeom>
              <a:solidFill>
                <a:srgbClr val="753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未知"/>
              <p:cNvSpPr/>
              <p:nvPr/>
            </p:nvSpPr>
            <p:spPr>
              <a:xfrm>
                <a:off x="2485080" y="4524480"/>
                <a:ext cx="360" cy="180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1" y="5"/>
                      <a:pt x="1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1" y="6"/>
                      <a:pt x="1" y="5"/>
                      <a:pt x="1" y="4"/>
                    </a:cubicBezTo>
                    <a:cubicBezTo>
                      <a:pt x="1" y="2"/>
                      <a:pt x="0" y="1"/>
                      <a:pt x="0" y="0"/>
                    </a:cubicBezTo>
                  </a:path>
                </a:pathLst>
              </a:custGeom>
              <a:solidFill>
                <a:srgbClr val="753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未知"/>
              <p:cNvSpPr/>
              <p:nvPr/>
            </p:nvSpPr>
            <p:spPr>
              <a:xfrm>
                <a:off x="2507400" y="451692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4" y="4"/>
                      <a:pt x="6" y="8"/>
                      <a:pt x="7" y="12"/>
                    </a:cubicBezTo>
                    <a:cubicBezTo>
                      <a:pt x="8" y="15"/>
                      <a:pt x="8" y="18"/>
                      <a:pt x="7" y="21"/>
                    </a:cubicBezTo>
                    <a:cubicBezTo>
                      <a:pt x="7" y="20"/>
                      <a:pt x="7" y="20"/>
                      <a:pt x="7" y="20"/>
                    </a:cubicBezTo>
                    <a:cubicBezTo>
                      <a:pt x="8" y="18"/>
                      <a:pt x="8" y="15"/>
                      <a:pt x="7" y="12"/>
                    </a:cubicBezTo>
                    <a:cubicBezTo>
                      <a:pt x="7" y="8"/>
                      <a:pt x="4" y="4"/>
                      <a:pt x="1" y="0"/>
                    </a:cubicBezTo>
                  </a:path>
                </a:pathLst>
              </a:custGeom>
              <a:solidFill>
                <a:srgbClr val="763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未知"/>
              <p:cNvSpPr/>
              <p:nvPr/>
            </p:nvSpPr>
            <p:spPr>
              <a:xfrm>
                <a:off x="2485080" y="45244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1" y="0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3"/>
                      <a:pt x="1" y="5"/>
                    </a:cubicBezTo>
                    <a:cubicBezTo>
                      <a:pt x="1" y="6"/>
                      <a:pt x="1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7"/>
                      <a:pt x="1" y="6"/>
                      <a:pt x="1" y="5"/>
                    </a:cubicBezTo>
                    <a:cubicBezTo>
                      <a:pt x="1" y="3"/>
                      <a:pt x="1" y="2"/>
                      <a:pt x="1" y="0"/>
                    </a:cubicBezTo>
                  </a:path>
                </a:pathLst>
              </a:custGeom>
              <a:solidFill>
                <a:srgbClr val="763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未知"/>
              <p:cNvSpPr/>
              <p:nvPr/>
            </p:nvSpPr>
            <p:spPr>
              <a:xfrm>
                <a:off x="2507400" y="451692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4"/>
                      <a:pt x="6" y="8"/>
                      <a:pt x="7" y="12"/>
                    </a:cubicBezTo>
                    <a:cubicBezTo>
                      <a:pt x="7" y="15"/>
                      <a:pt x="7" y="18"/>
                      <a:pt x="6" y="2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8" y="18"/>
                      <a:pt x="8" y="15"/>
                      <a:pt x="7" y="12"/>
                    </a:cubicBezTo>
                    <a:cubicBezTo>
                      <a:pt x="6" y="8"/>
                      <a:pt x="4" y="4"/>
                      <a:pt x="0" y="0"/>
                    </a:cubicBezTo>
                  </a:path>
                </a:pathLst>
              </a:custGeom>
              <a:solidFill>
                <a:srgbClr val="773a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未知"/>
              <p:cNvSpPr/>
              <p:nvPr/>
            </p:nvSpPr>
            <p:spPr>
              <a:xfrm>
                <a:off x="2485080" y="452448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3"/>
                      <a:pt x="0" y="5"/>
                    </a:cubicBezTo>
                    <a:cubicBezTo>
                      <a:pt x="0" y="6"/>
                      <a:pt x="1" y="7"/>
                      <a:pt x="1" y="8"/>
                    </a:cubicBezTo>
                    <a:cubicBezTo>
                      <a:pt x="1" y="8"/>
                      <a:pt x="1" y="8"/>
                      <a:pt x="2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solidFill>
                <a:srgbClr val="773a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未知"/>
              <p:cNvSpPr/>
              <p:nvPr/>
            </p:nvSpPr>
            <p:spPr>
              <a:xfrm>
                <a:off x="2507040" y="451692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0"/>
                    </a:moveTo>
                    <a:cubicBezTo>
                      <a:pt x="4" y="4"/>
                      <a:pt x="6" y="8"/>
                      <a:pt x="7" y="12"/>
                    </a:cubicBezTo>
                    <a:cubicBezTo>
                      <a:pt x="8" y="15"/>
                      <a:pt x="8" y="18"/>
                      <a:pt x="7" y="2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8" y="18"/>
                      <a:pt x="8" y="15"/>
                      <a:pt x="8" y="12"/>
                    </a:cubicBezTo>
                    <a:cubicBezTo>
                      <a:pt x="7" y="8"/>
                      <a:pt x="4" y="4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783a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未知"/>
              <p:cNvSpPr/>
              <p:nvPr/>
            </p:nvSpPr>
            <p:spPr>
              <a:xfrm>
                <a:off x="2485080" y="45241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0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2"/>
                      <a:pt x="0" y="4"/>
                      <a:pt x="1" y="6"/>
                    </a:cubicBezTo>
                    <a:cubicBezTo>
                      <a:pt x="1" y="7"/>
                      <a:pt x="1" y="8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8"/>
                      <a:pt x="1" y="7"/>
                      <a:pt x="1" y="5"/>
                    </a:cubicBezTo>
                    <a:cubicBezTo>
                      <a:pt x="1" y="4"/>
                      <a:pt x="1" y="2"/>
                      <a:pt x="1" y="0"/>
                    </a:cubicBezTo>
                  </a:path>
                </a:pathLst>
              </a:custGeom>
              <a:solidFill>
                <a:srgbClr val="783a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未知"/>
              <p:cNvSpPr/>
              <p:nvPr/>
            </p:nvSpPr>
            <p:spPr>
              <a:xfrm>
                <a:off x="2507040" y="451692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0" y="0"/>
                    </a:moveTo>
                    <a:cubicBezTo>
                      <a:pt x="3" y="4"/>
                      <a:pt x="6" y="8"/>
                      <a:pt x="7" y="12"/>
                    </a:cubicBezTo>
                    <a:cubicBezTo>
                      <a:pt x="7" y="15"/>
                      <a:pt x="7" y="18"/>
                      <a:pt x="6" y="21"/>
                    </a:cubicBezTo>
                    <a:cubicBezTo>
                      <a:pt x="7" y="21"/>
                      <a:pt x="7" y="21"/>
                      <a:pt x="7" y="21"/>
                    </a:cubicBezTo>
                    <a:cubicBezTo>
                      <a:pt x="8" y="18"/>
                      <a:pt x="8" y="15"/>
                      <a:pt x="7" y="12"/>
                    </a:cubicBezTo>
                    <a:cubicBezTo>
                      <a:pt x="6" y="8"/>
                      <a:pt x="4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783a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未知"/>
              <p:cNvSpPr/>
              <p:nvPr/>
            </p:nvSpPr>
            <p:spPr>
              <a:xfrm>
                <a:off x="2485440" y="4524120"/>
                <a:ext cx="360" cy="216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1" y="9"/>
                      <a:pt x="1" y="8"/>
                      <a:pt x="1" y="8"/>
                    </a:cubicBezTo>
                    <a:cubicBezTo>
                      <a:pt x="1" y="7"/>
                      <a:pt x="1" y="6"/>
                      <a:pt x="1" y="5"/>
                    </a:cubicBezTo>
                    <a:cubicBezTo>
                      <a:pt x="0" y="3"/>
                      <a:pt x="0" y="2"/>
                      <a:pt x="0" y="0"/>
                    </a:cubicBezTo>
                  </a:path>
                </a:pathLst>
              </a:custGeom>
              <a:solidFill>
                <a:srgbClr val="783a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未知"/>
              <p:cNvSpPr/>
              <p:nvPr/>
            </p:nvSpPr>
            <p:spPr>
              <a:xfrm>
                <a:off x="2507040" y="4516920"/>
                <a:ext cx="1800" cy="57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0" y="0"/>
                    </a:moveTo>
                    <a:cubicBezTo>
                      <a:pt x="4" y="4"/>
                      <a:pt x="6" y="8"/>
                      <a:pt x="7" y="12"/>
                    </a:cubicBezTo>
                    <a:cubicBezTo>
                      <a:pt x="8" y="15"/>
                      <a:pt x="8" y="19"/>
                      <a:pt x="7" y="22"/>
                    </a:cubicBezTo>
                    <a:cubicBezTo>
                      <a:pt x="7" y="22"/>
                      <a:pt x="7" y="21"/>
                      <a:pt x="7" y="21"/>
                    </a:cubicBezTo>
                    <a:cubicBezTo>
                      <a:pt x="8" y="18"/>
                      <a:pt x="8" y="15"/>
                      <a:pt x="8" y="12"/>
                    </a:cubicBezTo>
                    <a:cubicBezTo>
                      <a:pt x="7" y="8"/>
                      <a:pt x="4" y="4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793b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未知"/>
              <p:cNvSpPr/>
              <p:nvPr/>
            </p:nvSpPr>
            <p:spPr>
              <a:xfrm>
                <a:off x="2485440" y="4523760"/>
                <a:ext cx="360" cy="252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3"/>
                      <a:pt x="0" y="4"/>
                      <a:pt x="1" y="6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1" y="7"/>
                      <a:pt x="1" y="6"/>
                    </a:cubicBezTo>
                    <a:cubicBezTo>
                      <a:pt x="1" y="4"/>
                      <a:pt x="1" y="2"/>
                      <a:pt x="1" y="0"/>
                    </a:cubicBezTo>
                  </a:path>
                </a:pathLst>
              </a:custGeom>
              <a:solidFill>
                <a:srgbClr val="793b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未知"/>
              <p:cNvSpPr/>
              <p:nvPr/>
            </p:nvSpPr>
            <p:spPr>
              <a:xfrm>
                <a:off x="2506680" y="4516920"/>
                <a:ext cx="1800" cy="576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0" y="0"/>
                    </a:moveTo>
                    <a:cubicBezTo>
                      <a:pt x="4" y="4"/>
                      <a:pt x="7" y="8"/>
                      <a:pt x="8" y="12"/>
                    </a:cubicBezTo>
                    <a:cubicBezTo>
                      <a:pt x="8" y="16"/>
                      <a:pt x="8" y="19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19"/>
                      <a:pt x="9" y="15"/>
                      <a:pt x="8" y="12"/>
                    </a:cubicBezTo>
                    <a:cubicBezTo>
                      <a:pt x="7" y="8"/>
                      <a:pt x="5" y="4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7a3b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未知"/>
              <p:cNvSpPr/>
              <p:nvPr/>
            </p:nvSpPr>
            <p:spPr>
              <a:xfrm>
                <a:off x="2485800" y="4523760"/>
                <a:ext cx="360" cy="252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4"/>
                      <a:pt x="0" y="6"/>
                    </a:cubicBezTo>
                    <a:cubicBezTo>
                      <a:pt x="0" y="7"/>
                      <a:pt x="0" y="8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7"/>
                      <a:pt x="0" y="6"/>
                    </a:cubicBezTo>
                    <a:cubicBezTo>
                      <a:pt x="0" y="4"/>
                      <a:pt x="0" y="2"/>
                      <a:pt x="0" y="0"/>
                    </a:cubicBezTo>
                  </a:path>
                </a:pathLst>
              </a:custGeom>
              <a:solidFill>
                <a:srgbClr val="7a3b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未知"/>
              <p:cNvSpPr/>
              <p:nvPr/>
            </p:nvSpPr>
            <p:spPr>
              <a:xfrm>
                <a:off x="2506680" y="4516920"/>
                <a:ext cx="1800" cy="57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0" y="0"/>
                    </a:moveTo>
                    <a:cubicBezTo>
                      <a:pt x="4" y="4"/>
                      <a:pt x="6" y="8"/>
                      <a:pt x="7" y="13"/>
                    </a:cubicBezTo>
                    <a:cubicBezTo>
                      <a:pt x="8" y="16"/>
                      <a:pt x="8" y="19"/>
                      <a:pt x="7" y="22"/>
                    </a:cubicBezTo>
                    <a:cubicBezTo>
                      <a:pt x="7" y="22"/>
                      <a:pt x="7" y="22"/>
                      <a:pt x="7" y="22"/>
                    </a:cubicBezTo>
                    <a:cubicBezTo>
                      <a:pt x="8" y="19"/>
                      <a:pt x="8" y="16"/>
                      <a:pt x="8" y="12"/>
                    </a:cubicBezTo>
                    <a:cubicBezTo>
                      <a:pt x="7" y="8"/>
                      <a:pt x="4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7a3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未知"/>
              <p:cNvSpPr/>
              <p:nvPr/>
            </p:nvSpPr>
            <p:spPr>
              <a:xfrm>
                <a:off x="2485800" y="4523400"/>
                <a:ext cx="360" cy="252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0" y="3"/>
                      <a:pt x="0" y="5"/>
                      <a:pt x="0" y="7"/>
                    </a:cubicBezTo>
                    <a:cubicBezTo>
                      <a:pt x="1" y="8"/>
                      <a:pt x="1" y="9"/>
                      <a:pt x="1" y="10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1" y="9"/>
                      <a:pt x="1" y="8"/>
                      <a:pt x="1" y="7"/>
                    </a:cubicBezTo>
                    <a:cubicBezTo>
                      <a:pt x="0" y="5"/>
                      <a:pt x="0" y="2"/>
                      <a:pt x="1" y="0"/>
                    </a:cubicBezTo>
                  </a:path>
                </a:pathLst>
              </a:custGeom>
              <a:solidFill>
                <a:srgbClr val="7a3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未知"/>
              <p:cNvSpPr/>
              <p:nvPr/>
            </p:nvSpPr>
            <p:spPr>
              <a:xfrm>
                <a:off x="2506320" y="4516920"/>
                <a:ext cx="1800" cy="576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0" y="0"/>
                    </a:moveTo>
                    <a:cubicBezTo>
                      <a:pt x="4" y="4"/>
                      <a:pt x="7" y="8"/>
                      <a:pt x="8" y="13"/>
                    </a:cubicBezTo>
                    <a:cubicBezTo>
                      <a:pt x="8" y="16"/>
                      <a:pt x="8" y="19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19"/>
                      <a:pt x="9" y="16"/>
                      <a:pt x="8" y="13"/>
                    </a:cubicBezTo>
                    <a:cubicBezTo>
                      <a:pt x="7" y="8"/>
                      <a:pt x="5" y="4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7b3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未知"/>
              <p:cNvSpPr/>
              <p:nvPr/>
            </p:nvSpPr>
            <p:spPr>
              <a:xfrm>
                <a:off x="2485800" y="4523400"/>
                <a:ext cx="360" cy="2520"/>
              </a:xfrm>
              <a:custGeom>
                <a:avLst/>
                <a:gdLst/>
                <a:ahLst/>
                <a:rect l="l" t="t" r="r" b="b"/>
                <a:pathLst>
                  <a:path w="2" h="10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2"/>
                      <a:pt x="0" y="5"/>
                      <a:pt x="1" y="7"/>
                    </a:cubicBezTo>
                    <a:cubicBezTo>
                      <a:pt x="1" y="8"/>
                      <a:pt x="1" y="9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9"/>
                      <a:pt x="2" y="8"/>
                      <a:pt x="1" y="7"/>
                    </a:cubicBezTo>
                    <a:cubicBezTo>
                      <a:pt x="1" y="5"/>
                      <a:pt x="1" y="2"/>
                      <a:pt x="1" y="0"/>
                    </a:cubicBezTo>
                  </a:path>
                </a:pathLst>
              </a:custGeom>
              <a:solidFill>
                <a:srgbClr val="7b3c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未知"/>
              <p:cNvSpPr/>
              <p:nvPr/>
            </p:nvSpPr>
            <p:spPr>
              <a:xfrm>
                <a:off x="2506320" y="451692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8" h="23">
                    <a:moveTo>
                      <a:pt x="0" y="0"/>
                    </a:moveTo>
                    <a:cubicBezTo>
                      <a:pt x="4" y="4"/>
                      <a:pt x="6" y="8"/>
                      <a:pt x="7" y="13"/>
                    </a:cubicBezTo>
                    <a:cubicBezTo>
                      <a:pt x="8" y="16"/>
                      <a:pt x="8" y="19"/>
                      <a:pt x="7" y="23"/>
                    </a:cubicBezTo>
                    <a:cubicBezTo>
                      <a:pt x="7" y="23"/>
                      <a:pt x="7" y="23"/>
                      <a:pt x="7" y="22"/>
                    </a:cubicBezTo>
                    <a:cubicBezTo>
                      <a:pt x="8" y="19"/>
                      <a:pt x="8" y="16"/>
                      <a:pt x="8" y="13"/>
                    </a:cubicBezTo>
                    <a:cubicBezTo>
                      <a:pt x="7" y="8"/>
                      <a:pt x="4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7b3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未知"/>
              <p:cNvSpPr/>
              <p:nvPr/>
            </p:nvSpPr>
            <p:spPr>
              <a:xfrm>
                <a:off x="2485800" y="452340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1" y="0"/>
                    </a:moveTo>
                    <a:cubicBezTo>
                      <a:pt x="1" y="0"/>
                      <a:pt x="0" y="0"/>
                      <a:pt x="0" y="1"/>
                    </a:cubicBezTo>
                    <a:cubicBezTo>
                      <a:pt x="0" y="3"/>
                      <a:pt x="0" y="6"/>
                      <a:pt x="0" y="8"/>
                    </a:cubicBezTo>
                    <a:cubicBezTo>
                      <a:pt x="1" y="9"/>
                      <a:pt x="1" y="10"/>
                      <a:pt x="1" y="11"/>
                    </a:cubicBezTo>
                    <a:cubicBezTo>
                      <a:pt x="1" y="11"/>
                      <a:pt x="1" y="11"/>
                      <a:pt x="2" y="11"/>
                    </a:cubicBezTo>
                    <a:cubicBezTo>
                      <a:pt x="1" y="10"/>
                      <a:pt x="1" y="9"/>
                      <a:pt x="1" y="8"/>
                    </a:cubicBezTo>
                    <a:cubicBezTo>
                      <a:pt x="0" y="5"/>
                      <a:pt x="0" y="3"/>
                      <a:pt x="1" y="0"/>
                    </a:cubicBezTo>
                  </a:path>
                </a:pathLst>
              </a:custGeom>
              <a:solidFill>
                <a:srgbClr val="7b3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未知"/>
              <p:cNvSpPr/>
              <p:nvPr/>
            </p:nvSpPr>
            <p:spPr>
              <a:xfrm>
                <a:off x="2506320" y="451692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0" y="0"/>
                    </a:moveTo>
                    <a:cubicBezTo>
                      <a:pt x="4" y="4"/>
                      <a:pt x="7" y="8"/>
                      <a:pt x="8" y="13"/>
                    </a:cubicBezTo>
                    <a:cubicBezTo>
                      <a:pt x="9" y="16"/>
                      <a:pt x="8" y="20"/>
                      <a:pt x="7" y="23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9" y="19"/>
                      <a:pt x="9" y="16"/>
                      <a:pt x="8" y="13"/>
                    </a:cubicBezTo>
                    <a:cubicBezTo>
                      <a:pt x="7" y="8"/>
                      <a:pt x="5" y="4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7d3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未知"/>
              <p:cNvSpPr/>
              <p:nvPr/>
            </p:nvSpPr>
            <p:spPr>
              <a:xfrm>
                <a:off x="2485800" y="4523040"/>
                <a:ext cx="360" cy="324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4"/>
                      <a:pt x="0" y="6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2" y="11"/>
                      <a:pt x="1" y="10"/>
                      <a:pt x="1" y="9"/>
                    </a:cubicBezTo>
                    <a:cubicBezTo>
                      <a:pt x="1" y="6"/>
                      <a:pt x="1" y="3"/>
                      <a:pt x="1" y="0"/>
                    </a:cubicBezTo>
                  </a:path>
                </a:pathLst>
              </a:custGeom>
              <a:solidFill>
                <a:srgbClr val="7d3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未知"/>
              <p:cNvSpPr/>
              <p:nvPr/>
            </p:nvSpPr>
            <p:spPr>
              <a:xfrm>
                <a:off x="2505960" y="4516920"/>
                <a:ext cx="2160" cy="612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0"/>
                    </a:moveTo>
                    <a:cubicBezTo>
                      <a:pt x="5" y="3"/>
                      <a:pt x="8" y="8"/>
                      <a:pt x="9" y="13"/>
                    </a:cubicBezTo>
                    <a:cubicBezTo>
                      <a:pt x="9" y="16"/>
                      <a:pt x="9" y="20"/>
                      <a:pt x="8" y="23"/>
                    </a:cubicBezTo>
                    <a:cubicBezTo>
                      <a:pt x="8" y="23"/>
                      <a:pt x="8" y="23"/>
                      <a:pt x="8" y="23"/>
                    </a:cubicBezTo>
                    <a:cubicBezTo>
                      <a:pt x="9" y="20"/>
                      <a:pt x="10" y="16"/>
                      <a:pt x="9" y="13"/>
                    </a:cubicBezTo>
                    <a:cubicBezTo>
                      <a:pt x="8" y="8"/>
                      <a:pt x="5" y="4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7d3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未知"/>
              <p:cNvSpPr/>
              <p:nvPr/>
            </p:nvSpPr>
            <p:spPr>
              <a:xfrm>
                <a:off x="2486160" y="4523040"/>
                <a:ext cx="360" cy="324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3"/>
                      <a:pt x="0" y="6"/>
                      <a:pt x="0" y="9"/>
                    </a:cubicBezTo>
                    <a:cubicBezTo>
                      <a:pt x="0" y="10"/>
                      <a:pt x="1" y="11"/>
                      <a:pt x="1" y="12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0"/>
                      <a:pt x="1" y="9"/>
                    </a:cubicBezTo>
                    <a:cubicBezTo>
                      <a:pt x="0" y="6"/>
                      <a:pt x="0" y="3"/>
                      <a:pt x="1" y="0"/>
                    </a:cubicBezTo>
                  </a:path>
                </a:pathLst>
              </a:custGeom>
              <a:solidFill>
                <a:srgbClr val="7d3d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未知"/>
              <p:cNvSpPr/>
              <p:nvPr/>
            </p:nvSpPr>
            <p:spPr>
              <a:xfrm>
                <a:off x="2505960" y="451692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0" y="0"/>
                    </a:moveTo>
                    <a:cubicBezTo>
                      <a:pt x="4" y="3"/>
                      <a:pt x="7" y="8"/>
                      <a:pt x="8" y="13"/>
                    </a:cubicBezTo>
                    <a:cubicBezTo>
                      <a:pt x="9" y="17"/>
                      <a:pt x="8" y="20"/>
                      <a:pt x="7" y="24"/>
                    </a:cubicBezTo>
                    <a:cubicBezTo>
                      <a:pt x="8" y="24"/>
                      <a:pt x="8" y="23"/>
                      <a:pt x="8" y="23"/>
                    </a:cubicBezTo>
                    <a:cubicBezTo>
                      <a:pt x="9" y="20"/>
                      <a:pt x="9" y="16"/>
                      <a:pt x="9" y="13"/>
                    </a:cubicBezTo>
                    <a:cubicBezTo>
                      <a:pt x="8" y="8"/>
                      <a:pt x="5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7e3e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未知"/>
              <p:cNvSpPr/>
              <p:nvPr/>
            </p:nvSpPr>
            <p:spPr>
              <a:xfrm>
                <a:off x="2486160" y="45226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4"/>
                      <a:pt x="0" y="7"/>
                      <a:pt x="1" y="10"/>
                    </a:cubicBezTo>
                    <a:cubicBezTo>
                      <a:pt x="1" y="11"/>
                      <a:pt x="1" y="12"/>
                      <a:pt x="1" y="12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1" y="11"/>
                      <a:pt x="1" y="11"/>
                      <a:pt x="1" y="10"/>
                    </a:cubicBezTo>
                    <a:cubicBezTo>
                      <a:pt x="0" y="7"/>
                      <a:pt x="1" y="3"/>
                      <a:pt x="1" y="0"/>
                    </a:cubicBezTo>
                  </a:path>
                </a:pathLst>
              </a:custGeom>
              <a:solidFill>
                <a:srgbClr val="7e3e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未知"/>
              <p:cNvSpPr/>
              <p:nvPr/>
            </p:nvSpPr>
            <p:spPr>
              <a:xfrm>
                <a:off x="2505960" y="451692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0"/>
                    </a:moveTo>
                    <a:cubicBezTo>
                      <a:pt x="5" y="3"/>
                      <a:pt x="8" y="8"/>
                      <a:pt x="9" y="13"/>
                    </a:cubicBezTo>
                    <a:cubicBezTo>
                      <a:pt x="9" y="17"/>
                      <a:pt x="9" y="20"/>
                      <a:pt x="8" y="24"/>
                    </a:cubicBezTo>
                    <a:cubicBezTo>
                      <a:pt x="8" y="24"/>
                      <a:pt x="8" y="24"/>
                      <a:pt x="8" y="24"/>
                    </a:cubicBezTo>
                    <a:cubicBezTo>
                      <a:pt x="9" y="20"/>
                      <a:pt x="10" y="17"/>
                      <a:pt x="9" y="13"/>
                    </a:cubicBezTo>
                    <a:cubicBezTo>
                      <a:pt x="8" y="8"/>
                      <a:pt x="5" y="3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7f3e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未知"/>
              <p:cNvSpPr/>
              <p:nvPr/>
            </p:nvSpPr>
            <p:spPr>
              <a:xfrm>
                <a:off x="2486160" y="4522680"/>
                <a:ext cx="360" cy="288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2" y="0"/>
                    </a:moveTo>
                    <a:cubicBezTo>
                      <a:pt x="2" y="0"/>
                      <a:pt x="2" y="0"/>
                      <a:pt x="1" y="0"/>
                    </a:cubicBezTo>
                    <a:cubicBezTo>
                      <a:pt x="1" y="3"/>
                      <a:pt x="0" y="7"/>
                      <a:pt x="1" y="10"/>
                    </a:cubicBezTo>
                    <a:cubicBezTo>
                      <a:pt x="1" y="11"/>
                      <a:pt x="1" y="11"/>
                      <a:pt x="2" y="12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1" y="6"/>
                      <a:pt x="1" y="3"/>
                      <a:pt x="2" y="0"/>
                    </a:cubicBezTo>
                  </a:path>
                </a:pathLst>
              </a:custGeom>
              <a:solidFill>
                <a:srgbClr val="7f3e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未知"/>
              <p:cNvSpPr/>
              <p:nvPr/>
            </p:nvSpPr>
            <p:spPr>
              <a:xfrm>
                <a:off x="2505600" y="451692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0"/>
                    </a:moveTo>
                    <a:cubicBezTo>
                      <a:pt x="5" y="3"/>
                      <a:pt x="8" y="8"/>
                      <a:pt x="9" y="13"/>
                    </a:cubicBezTo>
                    <a:cubicBezTo>
                      <a:pt x="10" y="17"/>
                      <a:pt x="10" y="21"/>
                      <a:pt x="8" y="24"/>
                    </a:cubicBezTo>
                    <a:cubicBezTo>
                      <a:pt x="8" y="24"/>
                      <a:pt x="9" y="24"/>
                      <a:pt x="9" y="24"/>
                    </a:cubicBezTo>
                    <a:cubicBezTo>
                      <a:pt x="10" y="20"/>
                      <a:pt x="10" y="17"/>
                      <a:pt x="10" y="13"/>
                    </a:cubicBezTo>
                    <a:cubicBezTo>
                      <a:pt x="9" y="8"/>
                      <a:pt x="6" y="3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803e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未知"/>
              <p:cNvSpPr/>
              <p:nvPr/>
            </p:nvSpPr>
            <p:spPr>
              <a:xfrm>
                <a:off x="2486520" y="4522320"/>
                <a:ext cx="360" cy="324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2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4"/>
                      <a:pt x="0" y="7"/>
                      <a:pt x="1" y="11"/>
                    </a:cubicBezTo>
                    <a:cubicBezTo>
                      <a:pt x="1" y="11"/>
                      <a:pt x="1" y="12"/>
                      <a:pt x="1" y="13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0" y="7"/>
                      <a:pt x="1" y="4"/>
                      <a:pt x="2" y="0"/>
                    </a:cubicBezTo>
                  </a:path>
                </a:pathLst>
              </a:custGeom>
              <a:solidFill>
                <a:srgbClr val="803e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未知"/>
              <p:cNvSpPr/>
              <p:nvPr/>
            </p:nvSpPr>
            <p:spPr>
              <a:xfrm>
                <a:off x="2505600" y="451692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0" y="0"/>
                    </a:moveTo>
                    <a:cubicBezTo>
                      <a:pt x="4" y="3"/>
                      <a:pt x="8" y="8"/>
                      <a:pt x="9" y="13"/>
                    </a:cubicBezTo>
                    <a:cubicBezTo>
                      <a:pt x="9" y="17"/>
                      <a:pt x="9" y="21"/>
                      <a:pt x="8" y="24"/>
                    </a:cubicBezTo>
                    <a:cubicBezTo>
                      <a:pt x="8" y="24"/>
                      <a:pt x="8" y="24"/>
                      <a:pt x="8" y="24"/>
                    </a:cubicBezTo>
                    <a:cubicBezTo>
                      <a:pt x="10" y="21"/>
                      <a:pt x="10" y="17"/>
                      <a:pt x="9" y="13"/>
                    </a:cubicBezTo>
                    <a:cubicBezTo>
                      <a:pt x="8" y="8"/>
                      <a:pt x="5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813f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未知"/>
              <p:cNvSpPr/>
              <p:nvPr/>
            </p:nvSpPr>
            <p:spPr>
              <a:xfrm>
                <a:off x="2486520" y="4522320"/>
                <a:ext cx="360" cy="3240"/>
              </a:xfrm>
              <a:custGeom>
                <a:avLst/>
                <a:gdLst/>
                <a:ahLst/>
                <a:rect l="l" t="t" r="r" b="b"/>
                <a:pathLst>
                  <a:path w="2" h="13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4"/>
                      <a:pt x="0" y="7"/>
                      <a:pt x="1" y="10"/>
                    </a:cubicBezTo>
                    <a:cubicBezTo>
                      <a:pt x="1" y="11"/>
                      <a:pt x="1" y="12"/>
                      <a:pt x="2" y="13"/>
                    </a:cubicBezTo>
                    <a:cubicBezTo>
                      <a:pt x="2" y="13"/>
                      <a:pt x="2" y="13"/>
                      <a:pt x="2" y="13"/>
                    </a:cubicBezTo>
                    <a:cubicBezTo>
                      <a:pt x="2" y="12"/>
                      <a:pt x="2" y="11"/>
                      <a:pt x="1" y="10"/>
                    </a:cubicBezTo>
                    <a:cubicBezTo>
                      <a:pt x="1" y="7"/>
                      <a:pt x="1" y="3"/>
                      <a:pt x="2" y="0"/>
                    </a:cubicBezTo>
                  </a:path>
                </a:pathLst>
              </a:custGeom>
              <a:solidFill>
                <a:srgbClr val="813f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未知"/>
              <p:cNvSpPr/>
              <p:nvPr/>
            </p:nvSpPr>
            <p:spPr>
              <a:xfrm>
                <a:off x="2505240" y="451692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0"/>
                    </a:moveTo>
                    <a:cubicBezTo>
                      <a:pt x="5" y="3"/>
                      <a:pt x="8" y="8"/>
                      <a:pt x="9" y="13"/>
                    </a:cubicBezTo>
                    <a:cubicBezTo>
                      <a:pt x="10" y="17"/>
                      <a:pt x="10" y="21"/>
                      <a:pt x="8" y="25"/>
                    </a:cubicBezTo>
                    <a:cubicBezTo>
                      <a:pt x="8" y="25"/>
                      <a:pt x="9" y="25"/>
                      <a:pt x="9" y="24"/>
                    </a:cubicBezTo>
                    <a:cubicBezTo>
                      <a:pt x="10" y="21"/>
                      <a:pt x="10" y="17"/>
                      <a:pt x="10" y="13"/>
                    </a:cubicBezTo>
                    <a:cubicBezTo>
                      <a:pt x="9" y="8"/>
                      <a:pt x="5" y="3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813f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未知"/>
              <p:cNvSpPr/>
              <p:nvPr/>
            </p:nvSpPr>
            <p:spPr>
              <a:xfrm>
                <a:off x="2486520" y="4522320"/>
                <a:ext cx="360" cy="360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2" y="0"/>
                    </a:moveTo>
                    <a:cubicBezTo>
                      <a:pt x="2" y="0"/>
                      <a:pt x="2" y="0"/>
                      <a:pt x="1" y="1"/>
                    </a:cubicBezTo>
                    <a:cubicBezTo>
                      <a:pt x="0" y="4"/>
                      <a:pt x="0" y="8"/>
                      <a:pt x="0" y="11"/>
                    </a:cubicBezTo>
                    <a:cubicBezTo>
                      <a:pt x="1" y="12"/>
                      <a:pt x="1" y="13"/>
                      <a:pt x="1" y="14"/>
                    </a:cubicBezTo>
                    <a:cubicBezTo>
                      <a:pt x="1" y="14"/>
                      <a:pt x="1" y="14"/>
                      <a:pt x="2" y="14"/>
                    </a:cubicBezTo>
                    <a:cubicBezTo>
                      <a:pt x="1" y="13"/>
                      <a:pt x="1" y="12"/>
                      <a:pt x="1" y="11"/>
                    </a:cubicBezTo>
                    <a:cubicBezTo>
                      <a:pt x="0" y="8"/>
                      <a:pt x="1" y="4"/>
                      <a:pt x="2" y="0"/>
                    </a:cubicBezTo>
                  </a:path>
                </a:pathLst>
              </a:custGeom>
              <a:solidFill>
                <a:srgbClr val="813f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未知"/>
              <p:cNvSpPr/>
              <p:nvPr/>
            </p:nvSpPr>
            <p:spPr>
              <a:xfrm>
                <a:off x="2505240" y="451692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0" y="0"/>
                    </a:moveTo>
                    <a:cubicBezTo>
                      <a:pt x="5" y="3"/>
                      <a:pt x="9" y="8"/>
                      <a:pt x="10" y="13"/>
                    </a:cubicBezTo>
                    <a:cubicBezTo>
                      <a:pt x="11" y="17"/>
                      <a:pt x="10" y="21"/>
                      <a:pt x="9" y="25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11" y="21"/>
                      <a:pt x="11" y="17"/>
                      <a:pt x="10" y="13"/>
                    </a:cubicBezTo>
                    <a:cubicBezTo>
                      <a:pt x="9" y="8"/>
                      <a:pt x="6" y="3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834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未知"/>
              <p:cNvSpPr/>
              <p:nvPr/>
            </p:nvSpPr>
            <p:spPr>
              <a:xfrm>
                <a:off x="2486520" y="4521960"/>
                <a:ext cx="360" cy="3960"/>
              </a:xfrm>
              <a:custGeom>
                <a:avLst/>
                <a:gdLst/>
                <a:ahLst/>
                <a:rect l="l" t="t" r="r" b="b"/>
                <a:pathLst>
                  <a:path w="3" h="15">
                    <a:moveTo>
                      <a:pt x="3" y="0"/>
                    </a:moveTo>
                    <a:cubicBezTo>
                      <a:pt x="3" y="0"/>
                      <a:pt x="2" y="1"/>
                      <a:pt x="2" y="1"/>
                    </a:cubicBezTo>
                    <a:cubicBezTo>
                      <a:pt x="1" y="5"/>
                      <a:pt x="0" y="9"/>
                      <a:pt x="1" y="12"/>
                    </a:cubicBezTo>
                    <a:cubicBezTo>
                      <a:pt x="1" y="13"/>
                      <a:pt x="1" y="14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8"/>
                      <a:pt x="1" y="4"/>
                      <a:pt x="3" y="0"/>
                    </a:cubicBezTo>
                  </a:path>
                </a:pathLst>
              </a:custGeom>
              <a:solidFill>
                <a:srgbClr val="834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未知"/>
              <p:cNvSpPr/>
              <p:nvPr/>
            </p:nvSpPr>
            <p:spPr>
              <a:xfrm>
                <a:off x="2504880" y="4516920"/>
                <a:ext cx="2520" cy="648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0" y="0"/>
                    </a:moveTo>
                    <a:cubicBezTo>
                      <a:pt x="6" y="3"/>
                      <a:pt x="9" y="8"/>
                      <a:pt x="10" y="14"/>
                    </a:cubicBezTo>
                    <a:cubicBezTo>
                      <a:pt x="11" y="17"/>
                      <a:pt x="11" y="21"/>
                      <a:pt x="9" y="25"/>
                    </a:cubicBezTo>
                    <a:cubicBezTo>
                      <a:pt x="9" y="25"/>
                      <a:pt x="9" y="25"/>
                      <a:pt x="10" y="25"/>
                    </a:cubicBezTo>
                    <a:cubicBezTo>
                      <a:pt x="11" y="21"/>
                      <a:pt x="12" y="17"/>
                      <a:pt x="11" y="13"/>
                    </a:cubicBezTo>
                    <a:cubicBezTo>
                      <a:pt x="10" y="8"/>
                      <a:pt x="6" y="3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834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未知"/>
              <p:cNvSpPr/>
              <p:nvPr/>
            </p:nvSpPr>
            <p:spPr>
              <a:xfrm>
                <a:off x="2486880" y="45216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3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0" y="5"/>
                      <a:pt x="0" y="9"/>
                      <a:pt x="0" y="13"/>
                    </a:cubicBezTo>
                    <a:cubicBezTo>
                      <a:pt x="0" y="14"/>
                      <a:pt x="1" y="15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5"/>
                      <a:pt x="1" y="14"/>
                      <a:pt x="1" y="13"/>
                    </a:cubicBezTo>
                    <a:cubicBezTo>
                      <a:pt x="0" y="9"/>
                      <a:pt x="1" y="5"/>
                      <a:pt x="3" y="0"/>
                    </a:cubicBezTo>
                  </a:path>
                </a:pathLst>
              </a:custGeom>
              <a:solidFill>
                <a:srgbClr val="834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未知"/>
              <p:cNvSpPr/>
              <p:nvPr/>
            </p:nvSpPr>
            <p:spPr>
              <a:xfrm>
                <a:off x="2504880" y="4516920"/>
                <a:ext cx="2160" cy="684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0" y="0"/>
                    </a:moveTo>
                    <a:cubicBezTo>
                      <a:pt x="5" y="3"/>
                      <a:pt x="9" y="8"/>
                      <a:pt x="10" y="14"/>
                    </a:cubicBezTo>
                    <a:cubicBezTo>
                      <a:pt x="11" y="18"/>
                      <a:pt x="10" y="22"/>
                      <a:pt x="8" y="26"/>
                    </a:cubicBezTo>
                    <a:cubicBezTo>
                      <a:pt x="9" y="26"/>
                      <a:pt x="9" y="25"/>
                      <a:pt x="9" y="25"/>
                    </a:cubicBezTo>
                    <a:cubicBezTo>
                      <a:pt x="11" y="21"/>
                      <a:pt x="11" y="17"/>
                      <a:pt x="10" y="14"/>
                    </a:cubicBezTo>
                    <a:cubicBezTo>
                      <a:pt x="9" y="8"/>
                      <a:pt x="6" y="3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844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未知"/>
              <p:cNvSpPr/>
              <p:nvPr/>
            </p:nvSpPr>
            <p:spPr>
              <a:xfrm>
                <a:off x="2486880" y="452160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3" h="16"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1" y="5"/>
                      <a:pt x="0" y="9"/>
                      <a:pt x="1" y="13"/>
                    </a:cubicBezTo>
                    <a:cubicBezTo>
                      <a:pt x="1" y="14"/>
                      <a:pt x="1" y="15"/>
                      <a:pt x="1" y="16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1" y="14"/>
                      <a:pt x="1" y="13"/>
                    </a:cubicBezTo>
                    <a:cubicBezTo>
                      <a:pt x="0" y="9"/>
                      <a:pt x="1" y="4"/>
                      <a:pt x="3" y="0"/>
                    </a:cubicBezTo>
                  </a:path>
                </a:pathLst>
              </a:custGeom>
              <a:solidFill>
                <a:srgbClr val="844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未知"/>
              <p:cNvSpPr/>
              <p:nvPr/>
            </p:nvSpPr>
            <p:spPr>
              <a:xfrm>
                <a:off x="2504520" y="4516560"/>
                <a:ext cx="2520" cy="720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0"/>
                    </a:moveTo>
                    <a:cubicBezTo>
                      <a:pt x="5" y="4"/>
                      <a:pt x="9" y="9"/>
                      <a:pt x="11" y="15"/>
                    </a:cubicBezTo>
                    <a:cubicBezTo>
                      <a:pt x="11" y="19"/>
                      <a:pt x="11" y="23"/>
                      <a:pt x="9" y="27"/>
                    </a:cubicBezTo>
                    <a:cubicBezTo>
                      <a:pt x="9" y="27"/>
                      <a:pt x="9" y="27"/>
                      <a:pt x="9" y="27"/>
                    </a:cubicBezTo>
                    <a:cubicBezTo>
                      <a:pt x="11" y="23"/>
                      <a:pt x="12" y="19"/>
                      <a:pt x="11" y="15"/>
                    </a:cubicBezTo>
                    <a:cubicBezTo>
                      <a:pt x="10" y="9"/>
                      <a:pt x="6" y="4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844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>
                <a:off x="2486880" y="452124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4" h="16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3" y="1"/>
                      <a:pt x="3" y="1"/>
                    </a:cubicBezTo>
                    <a:cubicBezTo>
                      <a:pt x="1" y="5"/>
                      <a:pt x="0" y="10"/>
                      <a:pt x="1" y="14"/>
                    </a:cubicBezTo>
                    <a:cubicBezTo>
                      <a:pt x="1" y="15"/>
                      <a:pt x="2" y="16"/>
                      <a:pt x="2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2" y="16"/>
                      <a:pt x="2" y="15"/>
                      <a:pt x="2" y="14"/>
                    </a:cubicBezTo>
                    <a:cubicBezTo>
                      <a:pt x="1" y="9"/>
                      <a:pt x="2" y="4"/>
                      <a:pt x="4" y="0"/>
                    </a:cubicBezTo>
                  </a:path>
                </a:pathLst>
              </a:custGeom>
              <a:solidFill>
                <a:srgbClr val="844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未知"/>
              <p:cNvSpPr/>
              <p:nvPr/>
            </p:nvSpPr>
            <p:spPr>
              <a:xfrm>
                <a:off x="2504520" y="4516560"/>
                <a:ext cx="2520" cy="720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0"/>
                    </a:moveTo>
                    <a:cubicBezTo>
                      <a:pt x="6" y="4"/>
                      <a:pt x="10" y="9"/>
                      <a:pt x="11" y="15"/>
                    </a:cubicBezTo>
                    <a:cubicBezTo>
                      <a:pt x="12" y="19"/>
                      <a:pt x="11" y="23"/>
                      <a:pt x="9" y="2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2" y="23"/>
                      <a:pt x="12" y="19"/>
                      <a:pt x="12" y="15"/>
                    </a:cubicBezTo>
                    <a:cubicBezTo>
                      <a:pt x="10" y="9"/>
                      <a:pt x="6" y="4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854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未知"/>
              <p:cNvSpPr/>
              <p:nvPr/>
            </p:nvSpPr>
            <p:spPr>
              <a:xfrm>
                <a:off x="2486880" y="4521240"/>
                <a:ext cx="720" cy="4320"/>
              </a:xfrm>
              <a:custGeom>
                <a:avLst/>
                <a:gdLst/>
                <a:ahLst/>
                <a:rect l="l" t="t" r="r" b="b"/>
                <a:pathLst>
                  <a:path w="4" h="17">
                    <a:moveTo>
                      <a:pt x="4" y="0"/>
                    </a:moveTo>
                    <a:cubicBezTo>
                      <a:pt x="4" y="0"/>
                      <a:pt x="4" y="1"/>
                      <a:pt x="3" y="1"/>
                    </a:cubicBezTo>
                    <a:cubicBezTo>
                      <a:pt x="1" y="5"/>
                      <a:pt x="0" y="10"/>
                      <a:pt x="1" y="15"/>
                    </a:cubicBezTo>
                    <a:cubicBezTo>
                      <a:pt x="1" y="16"/>
                      <a:pt x="1" y="17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1" y="16"/>
                      <a:pt x="1" y="16"/>
                      <a:pt x="1" y="15"/>
                    </a:cubicBezTo>
                    <a:cubicBezTo>
                      <a:pt x="0" y="10"/>
                      <a:pt x="1" y="5"/>
                      <a:pt x="4" y="0"/>
                    </a:cubicBezTo>
                  </a:path>
                </a:pathLst>
              </a:custGeom>
              <a:solidFill>
                <a:srgbClr val="854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未知"/>
              <p:cNvSpPr/>
              <p:nvPr/>
            </p:nvSpPr>
            <p:spPr>
              <a:xfrm>
                <a:off x="2504160" y="4516560"/>
                <a:ext cx="2880" cy="72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cubicBezTo>
                      <a:pt x="6" y="4"/>
                      <a:pt x="10" y="9"/>
                      <a:pt x="12" y="15"/>
                    </a:cubicBezTo>
                    <a:cubicBezTo>
                      <a:pt x="12" y="19"/>
                      <a:pt x="12" y="23"/>
                      <a:pt x="10" y="27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2" y="23"/>
                      <a:pt x="13" y="19"/>
                      <a:pt x="12" y="15"/>
                    </a:cubicBezTo>
                    <a:cubicBezTo>
                      <a:pt x="11" y="9"/>
                      <a:pt x="7" y="4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8642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未知"/>
              <p:cNvSpPr/>
              <p:nvPr/>
            </p:nvSpPr>
            <p:spPr>
              <a:xfrm>
                <a:off x="2486880" y="452088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0"/>
                    </a:moveTo>
                    <a:cubicBezTo>
                      <a:pt x="5" y="0"/>
                      <a:pt x="5" y="1"/>
                      <a:pt x="4" y="1"/>
                    </a:cubicBezTo>
                    <a:cubicBezTo>
                      <a:pt x="1" y="6"/>
                      <a:pt x="0" y="11"/>
                      <a:pt x="1" y="16"/>
                    </a:cubicBezTo>
                    <a:cubicBezTo>
                      <a:pt x="1" y="17"/>
                      <a:pt x="1" y="17"/>
                      <a:pt x="2" y="18"/>
                    </a:cubicBezTo>
                    <a:cubicBezTo>
                      <a:pt x="2" y="18"/>
                      <a:pt x="2" y="18"/>
                      <a:pt x="2" y="18"/>
                    </a:cubicBezTo>
                    <a:cubicBezTo>
                      <a:pt x="2" y="17"/>
                      <a:pt x="2" y="17"/>
                      <a:pt x="2" y="16"/>
                    </a:cubicBezTo>
                    <a:cubicBezTo>
                      <a:pt x="0" y="10"/>
                      <a:pt x="2" y="5"/>
                      <a:pt x="5" y="0"/>
                    </a:cubicBezTo>
                  </a:path>
                </a:pathLst>
              </a:custGeom>
              <a:solidFill>
                <a:srgbClr val="8642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未知"/>
              <p:cNvSpPr/>
              <p:nvPr/>
            </p:nvSpPr>
            <p:spPr>
              <a:xfrm>
                <a:off x="2504160" y="451656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0" y="0"/>
                    </a:moveTo>
                    <a:cubicBezTo>
                      <a:pt x="7" y="4"/>
                      <a:pt x="11" y="9"/>
                      <a:pt x="12" y="15"/>
                    </a:cubicBezTo>
                    <a:cubicBezTo>
                      <a:pt x="13" y="19"/>
                      <a:pt x="12" y="24"/>
                      <a:pt x="10" y="28"/>
                    </a:cubicBezTo>
                    <a:cubicBezTo>
                      <a:pt x="10" y="28"/>
                      <a:pt x="11" y="28"/>
                      <a:pt x="11" y="27"/>
                    </a:cubicBezTo>
                    <a:cubicBezTo>
                      <a:pt x="13" y="23"/>
                      <a:pt x="13" y="19"/>
                      <a:pt x="13" y="15"/>
                    </a:cubicBezTo>
                    <a:cubicBezTo>
                      <a:pt x="11" y="9"/>
                      <a:pt x="7" y="4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8742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未知"/>
              <p:cNvSpPr/>
              <p:nvPr/>
            </p:nvSpPr>
            <p:spPr>
              <a:xfrm>
                <a:off x="2486880" y="4520520"/>
                <a:ext cx="1080" cy="504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cubicBezTo>
                      <a:pt x="6" y="0"/>
                      <a:pt x="6" y="1"/>
                      <a:pt x="5" y="1"/>
                    </a:cubicBezTo>
                    <a:cubicBezTo>
                      <a:pt x="2" y="6"/>
                      <a:pt x="0" y="11"/>
                      <a:pt x="2" y="17"/>
                    </a:cubicBezTo>
                    <a:cubicBezTo>
                      <a:pt x="2" y="18"/>
                      <a:pt x="2" y="18"/>
                      <a:pt x="2" y="19"/>
                    </a:cubicBezTo>
                    <a:cubicBezTo>
                      <a:pt x="2" y="19"/>
                      <a:pt x="2" y="19"/>
                      <a:pt x="3" y="19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1" y="11"/>
                      <a:pt x="3" y="5"/>
                      <a:pt x="6" y="0"/>
                    </a:cubicBezTo>
                  </a:path>
                </a:pathLst>
              </a:custGeom>
              <a:solidFill>
                <a:srgbClr val="8742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未知"/>
              <p:cNvSpPr/>
              <p:nvPr/>
            </p:nvSpPr>
            <p:spPr>
              <a:xfrm>
                <a:off x="2503800" y="451656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cubicBezTo>
                      <a:pt x="7" y="4"/>
                      <a:pt x="12" y="9"/>
                      <a:pt x="13" y="15"/>
                    </a:cubicBezTo>
                    <a:cubicBezTo>
                      <a:pt x="14" y="19"/>
                      <a:pt x="13" y="24"/>
                      <a:pt x="11" y="28"/>
                    </a:cubicBezTo>
                    <a:cubicBezTo>
                      <a:pt x="11" y="28"/>
                      <a:pt x="11" y="28"/>
                      <a:pt x="11" y="28"/>
                    </a:cubicBezTo>
                    <a:cubicBezTo>
                      <a:pt x="13" y="24"/>
                      <a:pt x="14" y="19"/>
                      <a:pt x="13" y="15"/>
                    </a:cubicBezTo>
                    <a:cubicBezTo>
                      <a:pt x="12" y="9"/>
                      <a:pt x="8" y="4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8843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未知"/>
              <p:cNvSpPr/>
              <p:nvPr/>
            </p:nvSpPr>
            <p:spPr>
              <a:xfrm>
                <a:off x="2487240" y="4520160"/>
                <a:ext cx="1080" cy="540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0"/>
                    </a:moveTo>
                    <a:cubicBezTo>
                      <a:pt x="6" y="1"/>
                      <a:pt x="6" y="1"/>
                      <a:pt x="5" y="1"/>
                    </a:cubicBezTo>
                    <a:cubicBezTo>
                      <a:pt x="2" y="6"/>
                      <a:pt x="0" y="12"/>
                      <a:pt x="1" y="18"/>
                    </a:cubicBezTo>
                    <a:cubicBezTo>
                      <a:pt x="1" y="18"/>
                      <a:pt x="1" y="19"/>
                      <a:pt x="2" y="20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2" y="19"/>
                      <a:pt x="2" y="18"/>
                      <a:pt x="1" y="18"/>
                    </a:cubicBezTo>
                    <a:cubicBezTo>
                      <a:pt x="0" y="12"/>
                      <a:pt x="2" y="6"/>
                      <a:pt x="6" y="0"/>
                    </a:cubicBezTo>
                  </a:path>
                </a:pathLst>
              </a:custGeom>
              <a:solidFill>
                <a:srgbClr val="8843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未知"/>
              <p:cNvSpPr/>
              <p:nvPr/>
            </p:nvSpPr>
            <p:spPr>
              <a:xfrm>
                <a:off x="2503440" y="4516560"/>
                <a:ext cx="3240" cy="7560"/>
              </a:xfrm>
              <a:custGeom>
                <a:avLst/>
                <a:gdLst/>
                <a:ahLst/>
                <a:rect l="l" t="t" r="r" b="b"/>
                <a:pathLst>
                  <a:path w="15" h="28">
                    <a:moveTo>
                      <a:pt x="0" y="0"/>
                    </a:moveTo>
                    <a:cubicBezTo>
                      <a:pt x="7" y="4"/>
                      <a:pt x="12" y="9"/>
                      <a:pt x="13" y="15"/>
                    </a:cubicBezTo>
                    <a:cubicBezTo>
                      <a:pt x="14" y="20"/>
                      <a:pt x="13" y="24"/>
                      <a:pt x="11" y="28"/>
                    </a:cubicBezTo>
                    <a:cubicBezTo>
                      <a:pt x="11" y="28"/>
                      <a:pt x="11" y="28"/>
                      <a:pt x="12" y="28"/>
                    </a:cubicBezTo>
                    <a:cubicBezTo>
                      <a:pt x="14" y="24"/>
                      <a:pt x="15" y="19"/>
                      <a:pt x="14" y="15"/>
                    </a:cubicBezTo>
                    <a:cubicBezTo>
                      <a:pt x="13" y="9"/>
                      <a:pt x="8" y="4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8943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未知"/>
              <p:cNvSpPr/>
              <p:nvPr/>
            </p:nvSpPr>
            <p:spPr>
              <a:xfrm>
                <a:off x="2487240" y="4520160"/>
                <a:ext cx="1800" cy="540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8" y="0"/>
                    </a:moveTo>
                    <a:cubicBezTo>
                      <a:pt x="7" y="1"/>
                      <a:pt x="7" y="1"/>
                      <a:pt x="6" y="1"/>
                    </a:cubicBezTo>
                    <a:cubicBezTo>
                      <a:pt x="2" y="7"/>
                      <a:pt x="0" y="13"/>
                      <a:pt x="1" y="19"/>
                    </a:cubicBezTo>
                    <a:cubicBezTo>
                      <a:pt x="2" y="19"/>
                      <a:pt x="2" y="20"/>
                      <a:pt x="2" y="21"/>
                    </a:cubicBezTo>
                    <a:cubicBezTo>
                      <a:pt x="2" y="21"/>
                      <a:pt x="2" y="21"/>
                      <a:pt x="2" y="21"/>
                    </a:cubicBezTo>
                    <a:cubicBezTo>
                      <a:pt x="2" y="20"/>
                      <a:pt x="2" y="19"/>
                      <a:pt x="2" y="19"/>
                    </a:cubicBezTo>
                    <a:cubicBezTo>
                      <a:pt x="1" y="12"/>
                      <a:pt x="3" y="6"/>
                      <a:pt x="8" y="0"/>
                    </a:cubicBezTo>
                  </a:path>
                </a:pathLst>
              </a:custGeom>
              <a:solidFill>
                <a:srgbClr val="8943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未知"/>
              <p:cNvSpPr/>
              <p:nvPr/>
            </p:nvSpPr>
            <p:spPr>
              <a:xfrm>
                <a:off x="2503440" y="45165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0" y="0"/>
                    </a:moveTo>
                    <a:cubicBezTo>
                      <a:pt x="8" y="3"/>
                      <a:pt x="13" y="9"/>
                      <a:pt x="14" y="15"/>
                    </a:cubicBezTo>
                    <a:cubicBezTo>
                      <a:pt x="15" y="20"/>
                      <a:pt x="14" y="24"/>
                      <a:pt x="11" y="29"/>
                    </a:cubicBezTo>
                    <a:cubicBezTo>
                      <a:pt x="12" y="29"/>
                      <a:pt x="12" y="28"/>
                      <a:pt x="12" y="28"/>
                    </a:cubicBezTo>
                    <a:cubicBezTo>
                      <a:pt x="14" y="24"/>
                      <a:pt x="15" y="20"/>
                      <a:pt x="14" y="15"/>
                    </a:cubicBezTo>
                    <a:cubicBezTo>
                      <a:pt x="13" y="9"/>
                      <a:pt x="8" y="4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8943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未知"/>
              <p:cNvSpPr/>
              <p:nvPr/>
            </p:nvSpPr>
            <p:spPr>
              <a:xfrm>
                <a:off x="2487600" y="4519800"/>
                <a:ext cx="1440" cy="57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8" y="0"/>
                    </a:moveTo>
                    <a:cubicBezTo>
                      <a:pt x="8" y="1"/>
                      <a:pt x="7" y="1"/>
                      <a:pt x="7" y="1"/>
                    </a:cubicBezTo>
                    <a:cubicBezTo>
                      <a:pt x="2" y="7"/>
                      <a:pt x="0" y="13"/>
                      <a:pt x="1" y="20"/>
                    </a:cubicBezTo>
                    <a:cubicBezTo>
                      <a:pt x="1" y="20"/>
                      <a:pt x="1" y="21"/>
                      <a:pt x="1" y="22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1"/>
                      <a:pt x="1" y="20"/>
                      <a:pt x="1" y="19"/>
                    </a:cubicBezTo>
                    <a:cubicBezTo>
                      <a:pt x="0" y="13"/>
                      <a:pt x="3" y="6"/>
                      <a:pt x="8" y="0"/>
                    </a:cubicBezTo>
                  </a:path>
                </a:pathLst>
              </a:custGeom>
              <a:solidFill>
                <a:srgbClr val="8943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未知"/>
              <p:cNvSpPr/>
              <p:nvPr/>
            </p:nvSpPr>
            <p:spPr>
              <a:xfrm>
                <a:off x="2503080" y="45165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0" y="0"/>
                    </a:moveTo>
                    <a:cubicBezTo>
                      <a:pt x="8" y="3"/>
                      <a:pt x="13" y="9"/>
                      <a:pt x="14" y="15"/>
                    </a:cubicBezTo>
                    <a:cubicBezTo>
                      <a:pt x="15" y="20"/>
                      <a:pt x="14" y="25"/>
                      <a:pt x="12" y="29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5" y="24"/>
                      <a:pt x="16" y="20"/>
                      <a:pt x="15" y="15"/>
                    </a:cubicBezTo>
                    <a:cubicBezTo>
                      <a:pt x="14" y="9"/>
                      <a:pt x="9" y="3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8a44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未知"/>
              <p:cNvSpPr/>
              <p:nvPr/>
            </p:nvSpPr>
            <p:spPr>
              <a:xfrm>
                <a:off x="2487600" y="451944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9" h="23">
                    <a:moveTo>
                      <a:pt x="9" y="0"/>
                    </a:moveTo>
                    <a:cubicBezTo>
                      <a:pt x="9" y="1"/>
                      <a:pt x="9" y="1"/>
                      <a:pt x="8" y="1"/>
                    </a:cubicBezTo>
                    <a:cubicBezTo>
                      <a:pt x="3" y="7"/>
                      <a:pt x="0" y="14"/>
                      <a:pt x="1" y="20"/>
                    </a:cubicBezTo>
                    <a:cubicBezTo>
                      <a:pt x="1" y="21"/>
                      <a:pt x="2" y="22"/>
                      <a:pt x="2" y="23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2" y="22"/>
                      <a:pt x="2" y="21"/>
                      <a:pt x="2" y="20"/>
                    </a:cubicBezTo>
                    <a:cubicBezTo>
                      <a:pt x="0" y="13"/>
                      <a:pt x="3" y="6"/>
                      <a:pt x="9" y="0"/>
                    </a:cubicBezTo>
                  </a:path>
                </a:pathLst>
              </a:custGeom>
              <a:solidFill>
                <a:srgbClr val="8a44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未知"/>
              <p:cNvSpPr/>
              <p:nvPr/>
            </p:nvSpPr>
            <p:spPr>
              <a:xfrm>
                <a:off x="2502720" y="4516560"/>
                <a:ext cx="3600" cy="792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0" y="0"/>
                    </a:moveTo>
                    <a:cubicBezTo>
                      <a:pt x="8" y="3"/>
                      <a:pt x="14" y="9"/>
                      <a:pt x="15" y="15"/>
                    </a:cubicBezTo>
                    <a:cubicBezTo>
                      <a:pt x="16" y="20"/>
                      <a:pt x="15" y="25"/>
                      <a:pt x="12" y="29"/>
                    </a:cubicBezTo>
                    <a:cubicBezTo>
                      <a:pt x="12" y="29"/>
                      <a:pt x="13" y="29"/>
                      <a:pt x="13" y="29"/>
                    </a:cubicBezTo>
                    <a:cubicBezTo>
                      <a:pt x="15" y="25"/>
                      <a:pt x="16" y="20"/>
                      <a:pt x="15" y="15"/>
                    </a:cubicBezTo>
                    <a:cubicBezTo>
                      <a:pt x="14" y="9"/>
                      <a:pt x="9" y="3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8b44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未知"/>
              <p:cNvSpPr/>
              <p:nvPr/>
            </p:nvSpPr>
            <p:spPr>
              <a:xfrm>
                <a:off x="2487600" y="4519080"/>
                <a:ext cx="2160" cy="6480"/>
              </a:xfrm>
              <a:custGeom>
                <a:avLst/>
                <a:gdLst/>
                <a:ahLst/>
                <a:rect l="l" t="t" r="r" b="b"/>
                <a:pathLst>
                  <a:path w="11" h="24">
                    <a:moveTo>
                      <a:pt x="11" y="0"/>
                    </a:moveTo>
                    <a:cubicBezTo>
                      <a:pt x="11" y="1"/>
                      <a:pt x="10" y="1"/>
                      <a:pt x="9" y="1"/>
                    </a:cubicBezTo>
                    <a:cubicBezTo>
                      <a:pt x="3" y="7"/>
                      <a:pt x="0" y="14"/>
                      <a:pt x="2" y="21"/>
                    </a:cubicBezTo>
                    <a:cubicBezTo>
                      <a:pt x="2" y="22"/>
                      <a:pt x="2" y="23"/>
                      <a:pt x="2" y="24"/>
                    </a:cubicBezTo>
                    <a:cubicBezTo>
                      <a:pt x="2" y="24"/>
                      <a:pt x="3" y="24"/>
                      <a:pt x="3" y="23"/>
                    </a:cubicBezTo>
                    <a:cubicBezTo>
                      <a:pt x="3" y="23"/>
                      <a:pt x="2" y="22"/>
                      <a:pt x="2" y="21"/>
                    </a:cubicBezTo>
                    <a:cubicBezTo>
                      <a:pt x="1" y="14"/>
                      <a:pt x="4" y="6"/>
                      <a:pt x="11" y="0"/>
                    </a:cubicBezTo>
                  </a:path>
                </a:pathLst>
              </a:custGeom>
              <a:solidFill>
                <a:srgbClr val="8b44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未知"/>
              <p:cNvSpPr/>
              <p:nvPr/>
            </p:nvSpPr>
            <p:spPr>
              <a:xfrm>
                <a:off x="2502720" y="4516560"/>
                <a:ext cx="3600" cy="792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0" y="0"/>
                    </a:moveTo>
                    <a:cubicBezTo>
                      <a:pt x="8" y="3"/>
                      <a:pt x="14" y="8"/>
                      <a:pt x="16" y="16"/>
                    </a:cubicBezTo>
                    <a:cubicBezTo>
                      <a:pt x="16" y="20"/>
                      <a:pt x="15" y="25"/>
                      <a:pt x="12" y="30"/>
                    </a:cubicBezTo>
                    <a:cubicBezTo>
                      <a:pt x="13" y="29"/>
                      <a:pt x="13" y="29"/>
                      <a:pt x="13" y="29"/>
                    </a:cubicBezTo>
                    <a:cubicBezTo>
                      <a:pt x="16" y="25"/>
                      <a:pt x="17" y="20"/>
                      <a:pt x="16" y="15"/>
                    </a:cubicBezTo>
                    <a:cubicBezTo>
                      <a:pt x="15" y="9"/>
                      <a:pt x="9" y="3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8c4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未知"/>
              <p:cNvSpPr/>
              <p:nvPr/>
            </p:nvSpPr>
            <p:spPr>
              <a:xfrm>
                <a:off x="2487600" y="4519080"/>
                <a:ext cx="2520" cy="612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0"/>
                    </a:moveTo>
                    <a:cubicBezTo>
                      <a:pt x="11" y="0"/>
                      <a:pt x="11" y="1"/>
                      <a:pt x="10" y="1"/>
                    </a:cubicBezTo>
                    <a:cubicBezTo>
                      <a:pt x="3" y="7"/>
                      <a:pt x="0" y="15"/>
                      <a:pt x="1" y="22"/>
                    </a:cubicBezTo>
                    <a:cubicBezTo>
                      <a:pt x="1" y="23"/>
                      <a:pt x="2" y="24"/>
                      <a:pt x="2" y="24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2" y="24"/>
                      <a:pt x="2" y="23"/>
                      <a:pt x="2" y="22"/>
                    </a:cubicBezTo>
                    <a:cubicBezTo>
                      <a:pt x="0" y="14"/>
                      <a:pt x="4" y="6"/>
                      <a:pt x="12" y="0"/>
                    </a:cubicBezTo>
                  </a:path>
                </a:pathLst>
              </a:custGeom>
              <a:solidFill>
                <a:srgbClr val="8c4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未知"/>
              <p:cNvSpPr/>
              <p:nvPr/>
            </p:nvSpPr>
            <p:spPr>
              <a:xfrm>
                <a:off x="2502360" y="4516560"/>
                <a:ext cx="3600" cy="792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0" y="0"/>
                    </a:moveTo>
                    <a:cubicBezTo>
                      <a:pt x="9" y="3"/>
                      <a:pt x="15" y="8"/>
                      <a:pt x="16" y="16"/>
                    </a:cubicBezTo>
                    <a:cubicBezTo>
                      <a:pt x="17" y="20"/>
                      <a:pt x="16" y="25"/>
                      <a:pt x="13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6" y="25"/>
                      <a:pt x="17" y="20"/>
                      <a:pt x="17" y="16"/>
                    </a:cubicBezTo>
                    <a:cubicBezTo>
                      <a:pt x="15" y="8"/>
                      <a:pt x="9" y="3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8d4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未知"/>
              <p:cNvSpPr/>
              <p:nvPr/>
            </p:nvSpPr>
            <p:spPr>
              <a:xfrm>
                <a:off x="2487600" y="451872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14" y="0"/>
                    </a:moveTo>
                    <a:cubicBezTo>
                      <a:pt x="13" y="0"/>
                      <a:pt x="13" y="1"/>
                      <a:pt x="12" y="1"/>
                    </a:cubicBezTo>
                    <a:cubicBezTo>
                      <a:pt x="4" y="7"/>
                      <a:pt x="0" y="15"/>
                      <a:pt x="2" y="23"/>
                    </a:cubicBezTo>
                    <a:cubicBezTo>
                      <a:pt x="2" y="24"/>
                      <a:pt x="2" y="25"/>
                      <a:pt x="2" y="25"/>
                    </a:cubicBezTo>
                    <a:cubicBezTo>
                      <a:pt x="2" y="25"/>
                      <a:pt x="3" y="25"/>
                      <a:pt x="3" y="25"/>
                    </a:cubicBezTo>
                    <a:cubicBezTo>
                      <a:pt x="2" y="25"/>
                      <a:pt x="2" y="24"/>
                      <a:pt x="2" y="23"/>
                    </a:cubicBezTo>
                    <a:cubicBezTo>
                      <a:pt x="0" y="15"/>
                      <a:pt x="5" y="6"/>
                      <a:pt x="14" y="0"/>
                    </a:cubicBezTo>
                  </a:path>
                </a:pathLst>
              </a:custGeom>
              <a:solidFill>
                <a:srgbClr val="8d45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未知"/>
              <p:cNvSpPr/>
              <p:nvPr/>
            </p:nvSpPr>
            <p:spPr>
              <a:xfrm>
                <a:off x="2502000" y="4516560"/>
                <a:ext cx="3960" cy="79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0" y="0"/>
                    </a:moveTo>
                    <a:cubicBezTo>
                      <a:pt x="10" y="3"/>
                      <a:pt x="16" y="8"/>
                      <a:pt x="18" y="16"/>
                    </a:cubicBezTo>
                    <a:cubicBezTo>
                      <a:pt x="19" y="21"/>
                      <a:pt x="17" y="26"/>
                      <a:pt x="14" y="30"/>
                    </a:cubicBezTo>
                    <a:cubicBezTo>
                      <a:pt x="14" y="30"/>
                      <a:pt x="15" y="30"/>
                      <a:pt x="15" y="30"/>
                    </a:cubicBezTo>
                    <a:cubicBezTo>
                      <a:pt x="18" y="25"/>
                      <a:pt x="19" y="20"/>
                      <a:pt x="18" y="16"/>
                    </a:cubicBezTo>
                    <a:cubicBezTo>
                      <a:pt x="17" y="8"/>
                      <a:pt x="11" y="3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8e4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未知"/>
              <p:cNvSpPr/>
              <p:nvPr/>
            </p:nvSpPr>
            <p:spPr>
              <a:xfrm>
                <a:off x="2487600" y="4518000"/>
                <a:ext cx="3600" cy="720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7" y="0"/>
                    </a:moveTo>
                    <a:cubicBezTo>
                      <a:pt x="16" y="1"/>
                      <a:pt x="15" y="1"/>
                      <a:pt x="14" y="2"/>
                    </a:cubicBezTo>
                    <a:cubicBezTo>
                      <a:pt x="5" y="8"/>
                      <a:pt x="0" y="17"/>
                      <a:pt x="2" y="25"/>
                    </a:cubicBezTo>
                    <a:cubicBezTo>
                      <a:pt x="2" y="26"/>
                      <a:pt x="2" y="27"/>
                      <a:pt x="3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" y="27"/>
                      <a:pt x="3" y="26"/>
                      <a:pt x="3" y="25"/>
                    </a:cubicBezTo>
                    <a:cubicBezTo>
                      <a:pt x="1" y="16"/>
                      <a:pt x="7" y="7"/>
                      <a:pt x="17" y="0"/>
                    </a:cubicBezTo>
                  </a:path>
                </a:pathLst>
              </a:custGeom>
              <a:solidFill>
                <a:srgbClr val="8e4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未知"/>
              <p:cNvSpPr/>
              <p:nvPr/>
            </p:nvSpPr>
            <p:spPr>
              <a:xfrm>
                <a:off x="2501640" y="451656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0" y="0"/>
                    </a:moveTo>
                    <a:cubicBezTo>
                      <a:pt x="10" y="2"/>
                      <a:pt x="17" y="8"/>
                      <a:pt x="18" y="16"/>
                    </a:cubicBezTo>
                    <a:cubicBezTo>
                      <a:pt x="19" y="21"/>
                      <a:pt x="18" y="26"/>
                      <a:pt x="15" y="30"/>
                    </a:cubicBezTo>
                    <a:cubicBezTo>
                      <a:pt x="15" y="30"/>
                      <a:pt x="15" y="30"/>
                      <a:pt x="15" y="30"/>
                    </a:cubicBezTo>
                    <a:cubicBezTo>
                      <a:pt x="18" y="26"/>
                      <a:pt x="20" y="21"/>
                      <a:pt x="19" y="16"/>
                    </a:cubicBezTo>
                    <a:cubicBezTo>
                      <a:pt x="17" y="8"/>
                      <a:pt x="11" y="3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8f4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未知"/>
              <p:cNvSpPr/>
              <p:nvPr/>
            </p:nvSpPr>
            <p:spPr>
              <a:xfrm>
                <a:off x="2487960" y="451764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9" y="0"/>
                    </a:moveTo>
                    <a:cubicBezTo>
                      <a:pt x="18" y="0"/>
                      <a:pt x="17" y="1"/>
                      <a:pt x="16" y="1"/>
                    </a:cubicBezTo>
                    <a:cubicBezTo>
                      <a:pt x="6" y="8"/>
                      <a:pt x="0" y="17"/>
                      <a:pt x="2" y="26"/>
                    </a:cubicBezTo>
                    <a:cubicBezTo>
                      <a:pt x="2" y="27"/>
                      <a:pt x="2" y="28"/>
                      <a:pt x="2" y="28"/>
                    </a:cubicBezTo>
                    <a:cubicBezTo>
                      <a:pt x="2" y="28"/>
                      <a:pt x="2" y="28"/>
                      <a:pt x="3" y="28"/>
                    </a:cubicBezTo>
                    <a:cubicBezTo>
                      <a:pt x="2" y="27"/>
                      <a:pt x="2" y="27"/>
                      <a:pt x="2" y="26"/>
                    </a:cubicBezTo>
                    <a:cubicBezTo>
                      <a:pt x="0" y="16"/>
                      <a:pt x="7" y="6"/>
                      <a:pt x="19" y="0"/>
                    </a:cubicBezTo>
                  </a:path>
                </a:pathLst>
              </a:custGeom>
              <a:solidFill>
                <a:srgbClr val="8f46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未知"/>
              <p:cNvSpPr/>
              <p:nvPr/>
            </p:nvSpPr>
            <p:spPr>
              <a:xfrm>
                <a:off x="2501280" y="4516200"/>
                <a:ext cx="4680" cy="8640"/>
              </a:xfrm>
              <a:custGeom>
                <a:avLst/>
                <a:gdLst/>
                <a:ahLst/>
                <a:rect l="l" t="t" r="r" b="b"/>
                <a:pathLst>
                  <a:path w="21" h="32">
                    <a:moveTo>
                      <a:pt x="0" y="0"/>
                    </a:moveTo>
                    <a:cubicBezTo>
                      <a:pt x="11" y="3"/>
                      <a:pt x="18" y="9"/>
                      <a:pt x="20" y="17"/>
                    </a:cubicBezTo>
                    <a:cubicBezTo>
                      <a:pt x="21" y="22"/>
                      <a:pt x="19" y="27"/>
                      <a:pt x="16" y="32"/>
                    </a:cubicBezTo>
                    <a:cubicBezTo>
                      <a:pt x="16" y="32"/>
                      <a:pt x="16" y="31"/>
                      <a:pt x="17" y="31"/>
                    </a:cubicBezTo>
                    <a:cubicBezTo>
                      <a:pt x="20" y="27"/>
                      <a:pt x="21" y="22"/>
                      <a:pt x="20" y="17"/>
                    </a:cubicBezTo>
                    <a:cubicBezTo>
                      <a:pt x="19" y="9"/>
                      <a:pt x="12" y="3"/>
                      <a:pt x="2" y="1"/>
                    </a:cubicBez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904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未知"/>
              <p:cNvSpPr/>
              <p:nvPr/>
            </p:nvSpPr>
            <p:spPr>
              <a:xfrm>
                <a:off x="2487960" y="45172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24" y="0"/>
                    </a:moveTo>
                    <a:cubicBezTo>
                      <a:pt x="23" y="0"/>
                      <a:pt x="21" y="1"/>
                      <a:pt x="19" y="2"/>
                    </a:cubicBezTo>
                    <a:cubicBezTo>
                      <a:pt x="7" y="8"/>
                      <a:pt x="0" y="18"/>
                      <a:pt x="2" y="28"/>
                    </a:cubicBezTo>
                    <a:cubicBezTo>
                      <a:pt x="2" y="29"/>
                      <a:pt x="2" y="29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29"/>
                      <a:pt x="3" y="29"/>
                      <a:pt x="2" y="28"/>
                    </a:cubicBezTo>
                    <a:cubicBezTo>
                      <a:pt x="0" y="17"/>
                      <a:pt x="10" y="6"/>
                      <a:pt x="24" y="0"/>
                    </a:cubicBezTo>
                  </a:path>
                </a:pathLst>
              </a:custGeom>
              <a:solidFill>
                <a:srgbClr val="904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未知"/>
              <p:cNvSpPr/>
              <p:nvPr/>
            </p:nvSpPr>
            <p:spPr>
              <a:xfrm>
                <a:off x="2500920" y="45162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23" h="32">
                    <a:moveTo>
                      <a:pt x="0" y="0"/>
                    </a:moveTo>
                    <a:cubicBezTo>
                      <a:pt x="12" y="3"/>
                      <a:pt x="20" y="9"/>
                      <a:pt x="21" y="17"/>
                    </a:cubicBezTo>
                    <a:cubicBezTo>
                      <a:pt x="22" y="22"/>
                      <a:pt x="21" y="27"/>
                      <a:pt x="17" y="32"/>
                    </a:cubicBezTo>
                    <a:cubicBezTo>
                      <a:pt x="17" y="32"/>
                      <a:pt x="18" y="32"/>
                      <a:pt x="18" y="32"/>
                    </a:cubicBezTo>
                    <a:cubicBezTo>
                      <a:pt x="21" y="27"/>
                      <a:pt x="23" y="22"/>
                      <a:pt x="22" y="17"/>
                    </a:cubicBezTo>
                    <a:cubicBezTo>
                      <a:pt x="20" y="9"/>
                      <a:pt x="13" y="3"/>
                      <a:pt x="2" y="0"/>
                    </a:cubicBez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914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未知"/>
              <p:cNvSpPr/>
              <p:nvPr/>
            </p:nvSpPr>
            <p:spPr>
              <a:xfrm>
                <a:off x="2487960" y="451692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29" y="0"/>
                    </a:moveTo>
                    <a:cubicBezTo>
                      <a:pt x="29" y="0"/>
                      <a:pt x="29" y="0"/>
                      <a:pt x="28" y="0"/>
                    </a:cubicBezTo>
                    <a:cubicBezTo>
                      <a:pt x="27" y="1"/>
                      <a:pt x="26" y="1"/>
                      <a:pt x="24" y="2"/>
                    </a:cubicBezTo>
                    <a:cubicBezTo>
                      <a:pt x="10" y="8"/>
                      <a:pt x="0" y="19"/>
                      <a:pt x="2" y="30"/>
                    </a:cubicBezTo>
                    <a:cubicBezTo>
                      <a:pt x="3" y="31"/>
                      <a:pt x="3" y="31"/>
                      <a:pt x="3" y="32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1"/>
                      <a:pt x="3" y="31"/>
                      <a:pt x="3" y="30"/>
                    </a:cubicBezTo>
                    <a:cubicBezTo>
                      <a:pt x="1" y="18"/>
                      <a:pt x="12" y="6"/>
                      <a:pt x="29" y="0"/>
                    </a:cubicBezTo>
                  </a:path>
                </a:pathLst>
              </a:custGeom>
              <a:solidFill>
                <a:srgbClr val="914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未知"/>
              <p:cNvSpPr/>
              <p:nvPr/>
            </p:nvSpPr>
            <p:spPr>
              <a:xfrm>
                <a:off x="2500200" y="4516200"/>
                <a:ext cx="5400" cy="864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0" y="0"/>
                    </a:moveTo>
                    <a:cubicBezTo>
                      <a:pt x="12" y="2"/>
                      <a:pt x="21" y="8"/>
                      <a:pt x="23" y="17"/>
                    </a:cubicBezTo>
                    <a:cubicBezTo>
                      <a:pt x="24" y="22"/>
                      <a:pt x="22" y="28"/>
                      <a:pt x="18" y="32"/>
                    </a:cubicBezTo>
                    <a:cubicBezTo>
                      <a:pt x="19" y="32"/>
                      <a:pt x="19" y="32"/>
                      <a:pt x="19" y="32"/>
                    </a:cubicBezTo>
                    <a:cubicBezTo>
                      <a:pt x="23" y="27"/>
                      <a:pt x="24" y="22"/>
                      <a:pt x="23" y="17"/>
                    </a:cubicBezTo>
                    <a:cubicBezTo>
                      <a:pt x="22" y="9"/>
                      <a:pt x="14" y="3"/>
                      <a:pt x="2" y="0"/>
                    </a:cubicBez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924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未知"/>
              <p:cNvSpPr/>
              <p:nvPr/>
            </p:nvSpPr>
            <p:spPr>
              <a:xfrm>
                <a:off x="2488320" y="451692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32" y="0"/>
                    </a:moveTo>
                    <a:cubicBezTo>
                      <a:pt x="30" y="0"/>
                      <a:pt x="29" y="0"/>
                      <a:pt x="28" y="0"/>
                    </a:cubicBezTo>
                    <a:cubicBezTo>
                      <a:pt x="11" y="6"/>
                      <a:pt x="0" y="18"/>
                      <a:pt x="2" y="30"/>
                    </a:cubicBezTo>
                    <a:cubicBezTo>
                      <a:pt x="2" y="31"/>
                      <a:pt x="2" y="31"/>
                      <a:pt x="2" y="32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1"/>
                      <a:pt x="2" y="30"/>
                      <a:pt x="2" y="30"/>
                    </a:cubicBezTo>
                    <a:cubicBezTo>
                      <a:pt x="0" y="17"/>
                      <a:pt x="13" y="4"/>
                      <a:pt x="32" y="0"/>
                    </a:cubicBezTo>
                  </a:path>
                </a:pathLst>
              </a:custGeom>
              <a:solidFill>
                <a:srgbClr val="9247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未知"/>
              <p:cNvSpPr/>
              <p:nvPr/>
            </p:nvSpPr>
            <p:spPr>
              <a:xfrm>
                <a:off x="2499840" y="4516200"/>
                <a:ext cx="6120" cy="864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0" y="0"/>
                    </a:moveTo>
                    <a:cubicBezTo>
                      <a:pt x="13" y="1"/>
                      <a:pt x="24" y="8"/>
                      <a:pt x="25" y="17"/>
                    </a:cubicBezTo>
                    <a:cubicBezTo>
                      <a:pt x="26" y="22"/>
                      <a:pt x="25" y="28"/>
                      <a:pt x="21" y="33"/>
                    </a:cubicBezTo>
                    <a:cubicBezTo>
                      <a:pt x="21" y="32"/>
                      <a:pt x="21" y="32"/>
                      <a:pt x="21" y="32"/>
                    </a:cubicBezTo>
                    <a:cubicBezTo>
                      <a:pt x="25" y="28"/>
                      <a:pt x="27" y="22"/>
                      <a:pt x="26" y="17"/>
                    </a:cubicBezTo>
                    <a:cubicBezTo>
                      <a:pt x="24" y="8"/>
                      <a:pt x="15" y="2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9348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未知"/>
              <p:cNvSpPr/>
              <p:nvPr/>
            </p:nvSpPr>
            <p:spPr>
              <a:xfrm>
                <a:off x="2488320" y="4516560"/>
                <a:ext cx="8280" cy="8640"/>
              </a:xfrm>
              <a:custGeom>
                <a:avLst/>
                <a:gdLst/>
                <a:ahLst/>
                <a:rect l="l" t="t" r="r" b="b"/>
                <a:pathLst>
                  <a:path w="37" h="33">
                    <a:moveTo>
                      <a:pt x="37" y="0"/>
                    </a:moveTo>
                    <a:cubicBezTo>
                      <a:pt x="35" y="0"/>
                      <a:pt x="33" y="0"/>
                      <a:pt x="32" y="1"/>
                    </a:cubicBezTo>
                    <a:cubicBezTo>
                      <a:pt x="13" y="5"/>
                      <a:pt x="0" y="18"/>
                      <a:pt x="2" y="31"/>
                    </a:cubicBezTo>
                    <a:cubicBezTo>
                      <a:pt x="2" y="31"/>
                      <a:pt x="3" y="32"/>
                      <a:pt x="3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2"/>
                      <a:pt x="3" y="31"/>
                      <a:pt x="3" y="31"/>
                    </a:cubicBezTo>
                    <a:cubicBezTo>
                      <a:pt x="0" y="18"/>
                      <a:pt x="15" y="4"/>
                      <a:pt x="35" y="0"/>
                    </a:cubicBezTo>
                    <a:cubicBezTo>
                      <a:pt x="36" y="0"/>
                      <a:pt x="36" y="0"/>
                      <a:pt x="37" y="0"/>
                    </a:cubicBezTo>
                  </a:path>
                </a:pathLst>
              </a:custGeom>
              <a:solidFill>
                <a:srgbClr val="9348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未知"/>
              <p:cNvSpPr/>
              <p:nvPr/>
            </p:nvSpPr>
            <p:spPr>
              <a:xfrm>
                <a:off x="2488320" y="451620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49" y="0"/>
                    </a:moveTo>
                    <a:cubicBezTo>
                      <a:pt x="45" y="0"/>
                      <a:pt x="41" y="0"/>
                      <a:pt x="37" y="1"/>
                    </a:cubicBezTo>
                    <a:cubicBezTo>
                      <a:pt x="36" y="1"/>
                      <a:pt x="36" y="1"/>
                      <a:pt x="35" y="1"/>
                    </a:cubicBezTo>
                    <a:cubicBezTo>
                      <a:pt x="15" y="5"/>
                      <a:pt x="0" y="19"/>
                      <a:pt x="3" y="32"/>
                    </a:cubicBezTo>
                    <a:cubicBezTo>
                      <a:pt x="3" y="32"/>
                      <a:pt x="3" y="33"/>
                      <a:pt x="3" y="34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4" y="33"/>
                      <a:pt x="3" y="32"/>
                      <a:pt x="3" y="31"/>
                    </a:cubicBezTo>
                    <a:cubicBezTo>
                      <a:pt x="1" y="19"/>
                      <a:pt x="15" y="5"/>
                      <a:pt x="35" y="1"/>
                    </a:cubicBezTo>
                    <a:cubicBezTo>
                      <a:pt x="39" y="1"/>
                      <a:pt x="43" y="0"/>
                      <a:pt x="46" y="0"/>
                    </a:cubicBezTo>
                    <a:cubicBezTo>
                      <a:pt x="61" y="0"/>
                      <a:pt x="74" y="7"/>
                      <a:pt x="76" y="17"/>
                    </a:cubicBezTo>
                    <a:cubicBezTo>
                      <a:pt x="77" y="23"/>
                      <a:pt x="75" y="28"/>
                      <a:pt x="71" y="33"/>
                    </a:cubicBezTo>
                    <a:cubicBezTo>
                      <a:pt x="71" y="33"/>
                      <a:pt x="72" y="33"/>
                      <a:pt x="72" y="33"/>
                    </a:cubicBezTo>
                    <a:cubicBezTo>
                      <a:pt x="76" y="28"/>
                      <a:pt x="77" y="22"/>
                      <a:pt x="76" y="17"/>
                    </a:cubicBezTo>
                    <a:cubicBezTo>
                      <a:pt x="75" y="8"/>
                      <a:pt x="64" y="1"/>
                      <a:pt x="51" y="0"/>
                    </a:cubicBezTo>
                    <a:cubicBezTo>
                      <a:pt x="50" y="0"/>
                      <a:pt x="49" y="0"/>
                      <a:pt x="49" y="0"/>
                    </a:cubicBezTo>
                  </a:path>
                </a:pathLst>
              </a:custGeom>
              <a:solidFill>
                <a:srgbClr val="9448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未知"/>
              <p:cNvSpPr/>
              <p:nvPr/>
            </p:nvSpPr>
            <p:spPr>
              <a:xfrm>
                <a:off x="2488320" y="4516200"/>
                <a:ext cx="16920" cy="9000"/>
              </a:xfrm>
              <a:custGeom>
                <a:avLst/>
                <a:gdLst/>
                <a:ahLst/>
                <a:rect l="l" t="t" r="r" b="b"/>
                <a:pathLst>
                  <a:path w="76" h="34">
                    <a:moveTo>
                      <a:pt x="45" y="0"/>
                    </a:moveTo>
                    <a:cubicBezTo>
                      <a:pt x="42" y="0"/>
                      <a:pt x="38" y="1"/>
                      <a:pt x="34" y="1"/>
                    </a:cubicBezTo>
                    <a:cubicBezTo>
                      <a:pt x="14" y="5"/>
                      <a:pt x="0" y="19"/>
                      <a:pt x="2" y="31"/>
                    </a:cubicBezTo>
                    <a:cubicBezTo>
                      <a:pt x="2" y="32"/>
                      <a:pt x="3" y="33"/>
                      <a:pt x="3" y="34"/>
                    </a:cubicBezTo>
                    <a:cubicBezTo>
                      <a:pt x="3" y="34"/>
                      <a:pt x="3" y="34"/>
                      <a:pt x="3" y="34"/>
                    </a:cubicBezTo>
                    <a:cubicBezTo>
                      <a:pt x="3" y="33"/>
                      <a:pt x="3" y="32"/>
                      <a:pt x="3" y="31"/>
                    </a:cubicBezTo>
                    <a:cubicBezTo>
                      <a:pt x="0" y="19"/>
                      <a:pt x="14" y="5"/>
                      <a:pt x="34" y="2"/>
                    </a:cubicBezTo>
                    <a:cubicBezTo>
                      <a:pt x="38" y="1"/>
                      <a:pt x="41" y="1"/>
                      <a:pt x="45" y="1"/>
                    </a:cubicBezTo>
                    <a:cubicBezTo>
                      <a:pt x="60" y="1"/>
                      <a:pt x="73" y="7"/>
                      <a:pt x="75" y="17"/>
                    </a:cubicBezTo>
                    <a:cubicBezTo>
                      <a:pt x="76" y="23"/>
                      <a:pt x="74" y="28"/>
                      <a:pt x="69" y="33"/>
                    </a:cubicBezTo>
                    <a:cubicBezTo>
                      <a:pt x="70" y="33"/>
                      <a:pt x="70" y="33"/>
                      <a:pt x="70" y="33"/>
                    </a:cubicBezTo>
                    <a:cubicBezTo>
                      <a:pt x="74" y="28"/>
                      <a:pt x="76" y="23"/>
                      <a:pt x="75" y="17"/>
                    </a:cubicBezTo>
                    <a:cubicBezTo>
                      <a:pt x="73" y="7"/>
                      <a:pt x="60" y="0"/>
                      <a:pt x="45" y="0"/>
                    </a:cubicBezTo>
                  </a:path>
                </a:pathLst>
              </a:custGeom>
              <a:solidFill>
                <a:srgbClr val="954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未知"/>
              <p:cNvSpPr/>
              <p:nvPr/>
            </p:nvSpPr>
            <p:spPr>
              <a:xfrm>
                <a:off x="2488320" y="4516560"/>
                <a:ext cx="16920" cy="8640"/>
              </a:xfrm>
              <a:custGeom>
                <a:avLst/>
                <a:gdLst/>
                <a:ahLst/>
                <a:rect l="l" t="t" r="r" b="b"/>
                <a:pathLst>
                  <a:path w="76" h="33">
                    <a:moveTo>
                      <a:pt x="45" y="0"/>
                    </a:moveTo>
                    <a:cubicBezTo>
                      <a:pt x="41" y="0"/>
                      <a:pt x="38" y="0"/>
                      <a:pt x="34" y="1"/>
                    </a:cubicBezTo>
                    <a:cubicBezTo>
                      <a:pt x="14" y="4"/>
                      <a:pt x="0" y="18"/>
                      <a:pt x="3" y="30"/>
                    </a:cubicBezTo>
                    <a:cubicBezTo>
                      <a:pt x="3" y="31"/>
                      <a:pt x="3" y="32"/>
                      <a:pt x="3" y="33"/>
                    </a:cubicBezTo>
                    <a:cubicBezTo>
                      <a:pt x="3" y="33"/>
                      <a:pt x="4" y="33"/>
                      <a:pt x="4" y="33"/>
                    </a:cubicBezTo>
                    <a:cubicBezTo>
                      <a:pt x="3" y="32"/>
                      <a:pt x="3" y="31"/>
                      <a:pt x="3" y="30"/>
                    </a:cubicBezTo>
                    <a:cubicBezTo>
                      <a:pt x="1" y="18"/>
                      <a:pt x="15" y="5"/>
                      <a:pt x="34" y="1"/>
                    </a:cubicBezTo>
                    <a:cubicBezTo>
                      <a:pt x="38" y="0"/>
                      <a:pt x="41" y="0"/>
                      <a:pt x="45" y="0"/>
                    </a:cubicBezTo>
                    <a:cubicBezTo>
                      <a:pt x="60" y="0"/>
                      <a:pt x="72" y="6"/>
                      <a:pt x="74" y="16"/>
                    </a:cubicBezTo>
                    <a:cubicBezTo>
                      <a:pt x="75" y="22"/>
                      <a:pt x="73" y="28"/>
                      <a:pt x="69" y="32"/>
                    </a:cubicBezTo>
                    <a:cubicBezTo>
                      <a:pt x="69" y="32"/>
                      <a:pt x="69" y="32"/>
                      <a:pt x="69" y="32"/>
                    </a:cubicBezTo>
                    <a:cubicBezTo>
                      <a:pt x="74" y="27"/>
                      <a:pt x="76" y="22"/>
                      <a:pt x="75" y="16"/>
                    </a:cubicBezTo>
                    <a:cubicBezTo>
                      <a:pt x="73" y="6"/>
                      <a:pt x="60" y="0"/>
                      <a:pt x="45" y="0"/>
                    </a:cubicBezTo>
                  </a:path>
                </a:pathLst>
              </a:custGeom>
              <a:solidFill>
                <a:srgbClr val="9649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未知"/>
              <p:cNvSpPr/>
              <p:nvPr/>
            </p:nvSpPr>
            <p:spPr>
              <a:xfrm>
                <a:off x="2488680" y="4516560"/>
                <a:ext cx="16560" cy="8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44" y="0"/>
                    </a:moveTo>
                    <a:cubicBezTo>
                      <a:pt x="40" y="0"/>
                      <a:pt x="37" y="0"/>
                      <a:pt x="33" y="1"/>
                    </a:cubicBezTo>
                    <a:cubicBezTo>
                      <a:pt x="14" y="5"/>
                      <a:pt x="0" y="18"/>
                      <a:pt x="2" y="30"/>
                    </a:cubicBezTo>
                    <a:cubicBezTo>
                      <a:pt x="2" y="31"/>
                      <a:pt x="2" y="32"/>
                      <a:pt x="3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2"/>
                      <a:pt x="3" y="31"/>
                      <a:pt x="3" y="30"/>
                    </a:cubicBezTo>
                    <a:cubicBezTo>
                      <a:pt x="0" y="18"/>
                      <a:pt x="14" y="5"/>
                      <a:pt x="33" y="1"/>
                    </a:cubicBezTo>
                    <a:cubicBezTo>
                      <a:pt x="37" y="0"/>
                      <a:pt x="40" y="0"/>
                      <a:pt x="44" y="0"/>
                    </a:cubicBezTo>
                    <a:cubicBezTo>
                      <a:pt x="59" y="0"/>
                      <a:pt x="71" y="7"/>
                      <a:pt x="73" y="16"/>
                    </a:cubicBezTo>
                    <a:cubicBezTo>
                      <a:pt x="74" y="22"/>
                      <a:pt x="71" y="28"/>
                      <a:pt x="67" y="33"/>
                    </a:cubicBezTo>
                    <a:cubicBezTo>
                      <a:pt x="67" y="33"/>
                      <a:pt x="67" y="33"/>
                      <a:pt x="68" y="32"/>
                    </a:cubicBezTo>
                    <a:cubicBezTo>
                      <a:pt x="72" y="28"/>
                      <a:pt x="74" y="22"/>
                      <a:pt x="73" y="16"/>
                    </a:cubicBezTo>
                    <a:cubicBezTo>
                      <a:pt x="71" y="6"/>
                      <a:pt x="59" y="0"/>
                      <a:pt x="44" y="0"/>
                    </a:cubicBezTo>
                  </a:path>
                </a:pathLst>
              </a:custGeom>
              <a:solidFill>
                <a:srgbClr val="964a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未知"/>
              <p:cNvSpPr/>
              <p:nvPr/>
            </p:nvSpPr>
            <p:spPr>
              <a:xfrm>
                <a:off x="2488680" y="4516560"/>
                <a:ext cx="16560" cy="86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44" y="0"/>
                    </a:moveTo>
                    <a:cubicBezTo>
                      <a:pt x="40" y="0"/>
                      <a:pt x="37" y="0"/>
                      <a:pt x="33" y="1"/>
                    </a:cubicBezTo>
                    <a:cubicBezTo>
                      <a:pt x="14" y="5"/>
                      <a:pt x="0" y="18"/>
                      <a:pt x="3" y="30"/>
                    </a:cubicBezTo>
                    <a:cubicBezTo>
                      <a:pt x="3" y="31"/>
                      <a:pt x="3" y="32"/>
                      <a:pt x="3" y="33"/>
                    </a:cubicBezTo>
                    <a:cubicBezTo>
                      <a:pt x="3" y="33"/>
                      <a:pt x="4" y="33"/>
                      <a:pt x="4" y="33"/>
                    </a:cubicBezTo>
                    <a:cubicBezTo>
                      <a:pt x="3" y="32"/>
                      <a:pt x="3" y="31"/>
                      <a:pt x="3" y="30"/>
                    </a:cubicBezTo>
                    <a:cubicBezTo>
                      <a:pt x="1" y="18"/>
                      <a:pt x="14" y="5"/>
                      <a:pt x="33" y="1"/>
                    </a:cubicBezTo>
                    <a:cubicBezTo>
                      <a:pt x="37" y="1"/>
                      <a:pt x="40" y="0"/>
                      <a:pt x="44" y="0"/>
                    </a:cubicBezTo>
                    <a:cubicBezTo>
                      <a:pt x="58" y="0"/>
                      <a:pt x="70" y="7"/>
                      <a:pt x="72" y="17"/>
                    </a:cubicBezTo>
                    <a:cubicBezTo>
                      <a:pt x="73" y="22"/>
                      <a:pt x="71" y="28"/>
                      <a:pt x="66" y="33"/>
                    </a:cubicBezTo>
                    <a:cubicBezTo>
                      <a:pt x="66" y="33"/>
                      <a:pt x="67" y="33"/>
                      <a:pt x="67" y="33"/>
                    </a:cubicBezTo>
                    <a:cubicBezTo>
                      <a:pt x="71" y="28"/>
                      <a:pt x="74" y="22"/>
                      <a:pt x="73" y="16"/>
                    </a:cubicBezTo>
                    <a:cubicBezTo>
                      <a:pt x="71" y="7"/>
                      <a:pt x="59" y="0"/>
                      <a:pt x="44" y="0"/>
                    </a:cubicBezTo>
                  </a:path>
                </a:pathLst>
              </a:custGeom>
              <a:solidFill>
                <a:srgbClr val="984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未知"/>
              <p:cNvSpPr/>
              <p:nvPr/>
            </p:nvSpPr>
            <p:spPr>
              <a:xfrm>
                <a:off x="2489040" y="4516560"/>
                <a:ext cx="16200" cy="864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43" y="0"/>
                    </a:moveTo>
                    <a:cubicBezTo>
                      <a:pt x="39" y="0"/>
                      <a:pt x="36" y="1"/>
                      <a:pt x="32" y="1"/>
                    </a:cubicBezTo>
                    <a:cubicBezTo>
                      <a:pt x="13" y="5"/>
                      <a:pt x="0" y="18"/>
                      <a:pt x="2" y="30"/>
                    </a:cubicBezTo>
                    <a:cubicBezTo>
                      <a:pt x="2" y="31"/>
                      <a:pt x="2" y="32"/>
                      <a:pt x="3" y="33"/>
                    </a:cubicBezTo>
                    <a:cubicBezTo>
                      <a:pt x="3" y="33"/>
                      <a:pt x="3" y="33"/>
                      <a:pt x="3" y="33"/>
                    </a:cubicBezTo>
                    <a:cubicBezTo>
                      <a:pt x="3" y="32"/>
                      <a:pt x="3" y="31"/>
                      <a:pt x="2" y="30"/>
                    </a:cubicBezTo>
                    <a:cubicBezTo>
                      <a:pt x="0" y="18"/>
                      <a:pt x="13" y="5"/>
                      <a:pt x="32" y="2"/>
                    </a:cubicBezTo>
                    <a:cubicBezTo>
                      <a:pt x="36" y="1"/>
                      <a:pt x="39" y="1"/>
                      <a:pt x="43" y="1"/>
                    </a:cubicBezTo>
                    <a:cubicBezTo>
                      <a:pt x="57" y="1"/>
                      <a:pt x="69" y="7"/>
                      <a:pt x="71" y="17"/>
                    </a:cubicBezTo>
                    <a:cubicBezTo>
                      <a:pt x="72" y="22"/>
                      <a:pt x="69" y="28"/>
                      <a:pt x="64" y="33"/>
                    </a:cubicBezTo>
                    <a:cubicBezTo>
                      <a:pt x="65" y="33"/>
                      <a:pt x="65" y="33"/>
                      <a:pt x="65" y="33"/>
                    </a:cubicBezTo>
                    <a:cubicBezTo>
                      <a:pt x="70" y="28"/>
                      <a:pt x="72" y="22"/>
                      <a:pt x="71" y="17"/>
                    </a:cubicBezTo>
                    <a:cubicBezTo>
                      <a:pt x="69" y="7"/>
                      <a:pt x="57" y="0"/>
                      <a:pt x="43" y="0"/>
                    </a:cubicBezTo>
                  </a:path>
                </a:pathLst>
              </a:custGeom>
              <a:solidFill>
                <a:srgbClr val="984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未知"/>
              <p:cNvSpPr/>
              <p:nvPr/>
            </p:nvSpPr>
            <p:spPr>
              <a:xfrm>
                <a:off x="2489040" y="4516920"/>
                <a:ext cx="16200" cy="864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43" y="0"/>
                    </a:moveTo>
                    <a:cubicBezTo>
                      <a:pt x="39" y="0"/>
                      <a:pt x="36" y="0"/>
                      <a:pt x="32" y="1"/>
                    </a:cubicBezTo>
                    <a:cubicBezTo>
                      <a:pt x="13" y="4"/>
                      <a:pt x="0" y="17"/>
                      <a:pt x="2" y="29"/>
                    </a:cubicBezTo>
                    <a:cubicBezTo>
                      <a:pt x="3" y="30"/>
                      <a:pt x="3" y="31"/>
                      <a:pt x="3" y="32"/>
                    </a:cubicBezTo>
                    <a:cubicBezTo>
                      <a:pt x="3" y="32"/>
                      <a:pt x="3" y="32"/>
                      <a:pt x="4" y="32"/>
                    </a:cubicBezTo>
                    <a:cubicBezTo>
                      <a:pt x="3" y="31"/>
                      <a:pt x="3" y="30"/>
                      <a:pt x="3" y="29"/>
                    </a:cubicBezTo>
                    <a:cubicBezTo>
                      <a:pt x="1" y="17"/>
                      <a:pt x="14" y="5"/>
                      <a:pt x="32" y="1"/>
                    </a:cubicBezTo>
                    <a:cubicBezTo>
                      <a:pt x="36" y="0"/>
                      <a:pt x="39" y="0"/>
                      <a:pt x="43" y="0"/>
                    </a:cubicBezTo>
                    <a:cubicBezTo>
                      <a:pt x="57" y="0"/>
                      <a:pt x="68" y="6"/>
                      <a:pt x="70" y="16"/>
                    </a:cubicBezTo>
                    <a:cubicBezTo>
                      <a:pt x="71" y="22"/>
                      <a:pt x="69" y="28"/>
                      <a:pt x="63" y="33"/>
                    </a:cubicBezTo>
                    <a:cubicBezTo>
                      <a:pt x="64" y="33"/>
                      <a:pt x="64" y="32"/>
                      <a:pt x="64" y="32"/>
                    </a:cubicBezTo>
                    <a:cubicBezTo>
                      <a:pt x="69" y="27"/>
                      <a:pt x="72" y="21"/>
                      <a:pt x="71" y="16"/>
                    </a:cubicBezTo>
                    <a:cubicBezTo>
                      <a:pt x="69" y="6"/>
                      <a:pt x="57" y="0"/>
                      <a:pt x="43" y="0"/>
                    </a:cubicBezTo>
                  </a:path>
                </a:pathLst>
              </a:custGeom>
              <a:solidFill>
                <a:srgbClr val="9a4b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未知"/>
              <p:cNvSpPr/>
              <p:nvPr/>
            </p:nvSpPr>
            <p:spPr>
              <a:xfrm>
                <a:off x="2489040" y="4516920"/>
                <a:ext cx="15480" cy="8640"/>
              </a:xfrm>
              <a:custGeom>
                <a:avLst/>
                <a:gdLst/>
                <a:ahLst/>
                <a:rect l="l" t="t" r="r" b="b"/>
                <a:pathLst>
                  <a:path w="70" h="33">
                    <a:moveTo>
                      <a:pt x="42" y="0"/>
                    </a:moveTo>
                    <a:cubicBezTo>
                      <a:pt x="38" y="0"/>
                      <a:pt x="35" y="0"/>
                      <a:pt x="31" y="1"/>
                    </a:cubicBezTo>
                    <a:cubicBezTo>
                      <a:pt x="13" y="5"/>
                      <a:pt x="0" y="17"/>
                      <a:pt x="2" y="29"/>
                    </a:cubicBezTo>
                    <a:cubicBezTo>
                      <a:pt x="2" y="30"/>
                      <a:pt x="2" y="31"/>
                      <a:pt x="3" y="32"/>
                    </a:cubicBezTo>
                    <a:cubicBezTo>
                      <a:pt x="3" y="32"/>
                      <a:pt x="3" y="31"/>
                      <a:pt x="3" y="31"/>
                    </a:cubicBezTo>
                    <a:cubicBezTo>
                      <a:pt x="3" y="31"/>
                      <a:pt x="2" y="30"/>
                      <a:pt x="2" y="29"/>
                    </a:cubicBezTo>
                    <a:cubicBezTo>
                      <a:pt x="0" y="17"/>
                      <a:pt x="13" y="5"/>
                      <a:pt x="31" y="1"/>
                    </a:cubicBezTo>
                    <a:cubicBezTo>
                      <a:pt x="35" y="1"/>
                      <a:pt x="38" y="0"/>
                      <a:pt x="42" y="0"/>
                    </a:cubicBezTo>
                    <a:cubicBezTo>
                      <a:pt x="56" y="0"/>
                      <a:pt x="67" y="6"/>
                      <a:pt x="69" y="16"/>
                    </a:cubicBezTo>
                    <a:cubicBezTo>
                      <a:pt x="70" y="22"/>
                      <a:pt x="67" y="28"/>
                      <a:pt x="62" y="33"/>
                    </a:cubicBezTo>
                    <a:cubicBezTo>
                      <a:pt x="62" y="33"/>
                      <a:pt x="62" y="33"/>
                      <a:pt x="62" y="33"/>
                    </a:cubicBezTo>
                    <a:cubicBezTo>
                      <a:pt x="68" y="28"/>
                      <a:pt x="70" y="22"/>
                      <a:pt x="69" y="16"/>
                    </a:cubicBezTo>
                    <a:cubicBezTo>
                      <a:pt x="67" y="6"/>
                      <a:pt x="56" y="0"/>
                      <a:pt x="42" y="0"/>
                    </a:cubicBezTo>
                  </a:path>
                </a:pathLst>
              </a:custGeom>
              <a:solidFill>
                <a:srgbClr val="9a4c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未知"/>
              <p:cNvSpPr/>
              <p:nvPr/>
            </p:nvSpPr>
            <p:spPr>
              <a:xfrm>
                <a:off x="2489040" y="4516920"/>
                <a:ext cx="15480" cy="8640"/>
              </a:xfrm>
              <a:custGeom>
                <a:avLst/>
                <a:gdLst/>
                <a:ahLst/>
                <a:rect l="l" t="t" r="r" b="b"/>
                <a:pathLst>
                  <a:path w="70" h="33">
                    <a:moveTo>
                      <a:pt x="42" y="0"/>
                    </a:moveTo>
                    <a:cubicBezTo>
                      <a:pt x="38" y="0"/>
                      <a:pt x="35" y="1"/>
                      <a:pt x="31" y="1"/>
                    </a:cubicBezTo>
                    <a:cubicBezTo>
                      <a:pt x="13" y="5"/>
                      <a:pt x="0" y="17"/>
                      <a:pt x="2" y="29"/>
                    </a:cubicBezTo>
                    <a:cubicBezTo>
                      <a:pt x="2" y="30"/>
                      <a:pt x="3" y="31"/>
                      <a:pt x="3" y="31"/>
                    </a:cubicBezTo>
                    <a:cubicBezTo>
                      <a:pt x="3" y="31"/>
                      <a:pt x="3" y="31"/>
                      <a:pt x="4" y="31"/>
                    </a:cubicBezTo>
                    <a:cubicBezTo>
                      <a:pt x="3" y="31"/>
                      <a:pt x="3" y="30"/>
                      <a:pt x="3" y="29"/>
                    </a:cubicBezTo>
                    <a:cubicBezTo>
                      <a:pt x="1" y="17"/>
                      <a:pt x="13" y="5"/>
                      <a:pt x="32" y="2"/>
                    </a:cubicBezTo>
                    <a:cubicBezTo>
                      <a:pt x="35" y="1"/>
                      <a:pt x="38" y="1"/>
                      <a:pt x="41" y="1"/>
                    </a:cubicBezTo>
                    <a:cubicBezTo>
                      <a:pt x="55" y="1"/>
                      <a:pt x="67" y="7"/>
                      <a:pt x="68" y="16"/>
                    </a:cubicBezTo>
                    <a:cubicBezTo>
                      <a:pt x="70" y="22"/>
                      <a:pt x="67" y="28"/>
                      <a:pt x="61" y="33"/>
                    </a:cubicBezTo>
                    <a:cubicBezTo>
                      <a:pt x="61" y="33"/>
                      <a:pt x="61" y="33"/>
                      <a:pt x="62" y="33"/>
                    </a:cubicBezTo>
                    <a:cubicBezTo>
                      <a:pt x="67" y="28"/>
                      <a:pt x="70" y="22"/>
                      <a:pt x="69" y="16"/>
                    </a:cubicBezTo>
                    <a:cubicBezTo>
                      <a:pt x="67" y="6"/>
                      <a:pt x="56" y="0"/>
                      <a:pt x="42" y="0"/>
                    </a:cubicBezTo>
                  </a:path>
                </a:pathLst>
              </a:custGeom>
              <a:solidFill>
                <a:srgbClr val="9b4c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未知"/>
              <p:cNvSpPr/>
              <p:nvPr/>
            </p:nvSpPr>
            <p:spPr>
              <a:xfrm>
                <a:off x="2489400" y="4516920"/>
                <a:ext cx="15480" cy="8640"/>
              </a:xfrm>
              <a:custGeom>
                <a:avLst/>
                <a:gdLst/>
                <a:ahLst/>
                <a:rect l="l" t="t" r="r" b="b"/>
                <a:pathLst>
                  <a:path w="69" h="33">
                    <a:moveTo>
                      <a:pt x="40" y="0"/>
                    </a:moveTo>
                    <a:cubicBezTo>
                      <a:pt x="37" y="0"/>
                      <a:pt x="34" y="0"/>
                      <a:pt x="31" y="1"/>
                    </a:cubicBezTo>
                    <a:cubicBezTo>
                      <a:pt x="12" y="4"/>
                      <a:pt x="0" y="16"/>
                      <a:pt x="2" y="28"/>
                    </a:cubicBezTo>
                    <a:cubicBezTo>
                      <a:pt x="2" y="29"/>
                      <a:pt x="2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2" y="29"/>
                      <a:pt x="2" y="28"/>
                    </a:cubicBezTo>
                    <a:cubicBezTo>
                      <a:pt x="0" y="16"/>
                      <a:pt x="13" y="4"/>
                      <a:pt x="31" y="1"/>
                    </a:cubicBezTo>
                    <a:cubicBezTo>
                      <a:pt x="34" y="0"/>
                      <a:pt x="37" y="0"/>
                      <a:pt x="40" y="0"/>
                    </a:cubicBezTo>
                    <a:cubicBezTo>
                      <a:pt x="54" y="0"/>
                      <a:pt x="65" y="6"/>
                      <a:pt x="67" y="15"/>
                    </a:cubicBezTo>
                    <a:cubicBezTo>
                      <a:pt x="68" y="21"/>
                      <a:pt x="65" y="28"/>
                      <a:pt x="59" y="33"/>
                    </a:cubicBezTo>
                    <a:cubicBezTo>
                      <a:pt x="59" y="32"/>
                      <a:pt x="60" y="32"/>
                      <a:pt x="60" y="32"/>
                    </a:cubicBezTo>
                    <a:cubicBezTo>
                      <a:pt x="66" y="27"/>
                      <a:pt x="69" y="21"/>
                      <a:pt x="67" y="15"/>
                    </a:cubicBezTo>
                    <a:cubicBezTo>
                      <a:pt x="66" y="6"/>
                      <a:pt x="54" y="0"/>
                      <a:pt x="40" y="0"/>
                    </a:cubicBezTo>
                  </a:path>
                </a:pathLst>
              </a:custGeom>
              <a:solidFill>
                <a:srgbClr val="9c4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未知"/>
              <p:cNvSpPr/>
              <p:nvPr/>
            </p:nvSpPr>
            <p:spPr>
              <a:xfrm>
                <a:off x="2489400" y="451692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40" y="0"/>
                    </a:moveTo>
                    <a:cubicBezTo>
                      <a:pt x="37" y="0"/>
                      <a:pt x="34" y="0"/>
                      <a:pt x="31" y="1"/>
                    </a:cubicBezTo>
                    <a:cubicBezTo>
                      <a:pt x="13" y="4"/>
                      <a:pt x="0" y="16"/>
                      <a:pt x="2" y="28"/>
                    </a:cubicBezTo>
                    <a:cubicBezTo>
                      <a:pt x="2" y="29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29"/>
                      <a:pt x="3" y="28"/>
                    </a:cubicBezTo>
                    <a:cubicBezTo>
                      <a:pt x="0" y="16"/>
                      <a:pt x="13" y="5"/>
                      <a:pt x="31" y="1"/>
                    </a:cubicBezTo>
                    <a:cubicBezTo>
                      <a:pt x="34" y="0"/>
                      <a:pt x="37" y="0"/>
                      <a:pt x="40" y="0"/>
                    </a:cubicBezTo>
                    <a:cubicBezTo>
                      <a:pt x="54" y="0"/>
                      <a:pt x="65" y="6"/>
                      <a:pt x="67" y="15"/>
                    </a:cubicBezTo>
                    <a:cubicBezTo>
                      <a:pt x="68" y="21"/>
                      <a:pt x="64" y="28"/>
                      <a:pt x="58" y="33"/>
                    </a:cubicBezTo>
                    <a:cubicBezTo>
                      <a:pt x="58" y="33"/>
                      <a:pt x="59" y="33"/>
                      <a:pt x="59" y="33"/>
                    </a:cubicBezTo>
                    <a:cubicBezTo>
                      <a:pt x="65" y="28"/>
                      <a:pt x="68" y="21"/>
                      <a:pt x="67" y="15"/>
                    </a:cubicBezTo>
                    <a:cubicBezTo>
                      <a:pt x="65" y="6"/>
                      <a:pt x="54" y="0"/>
                      <a:pt x="40" y="0"/>
                    </a:cubicBezTo>
                  </a:path>
                </a:pathLst>
              </a:custGeom>
              <a:solidFill>
                <a:srgbClr val="9d4d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未知"/>
              <p:cNvSpPr/>
              <p:nvPr/>
            </p:nvSpPr>
            <p:spPr>
              <a:xfrm>
                <a:off x="2489400" y="4516920"/>
                <a:ext cx="15120" cy="864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40" y="0"/>
                    </a:moveTo>
                    <a:cubicBezTo>
                      <a:pt x="37" y="0"/>
                      <a:pt x="34" y="0"/>
                      <a:pt x="31" y="1"/>
                    </a:cubicBezTo>
                    <a:cubicBezTo>
                      <a:pt x="13" y="5"/>
                      <a:pt x="0" y="16"/>
                      <a:pt x="3" y="28"/>
                    </a:cubicBezTo>
                    <a:cubicBezTo>
                      <a:pt x="3" y="29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29"/>
                      <a:pt x="3" y="29"/>
                      <a:pt x="3" y="28"/>
                    </a:cubicBezTo>
                    <a:cubicBezTo>
                      <a:pt x="1" y="17"/>
                      <a:pt x="13" y="5"/>
                      <a:pt x="31" y="1"/>
                    </a:cubicBezTo>
                    <a:cubicBezTo>
                      <a:pt x="34" y="1"/>
                      <a:pt x="37" y="0"/>
                      <a:pt x="40" y="0"/>
                    </a:cubicBezTo>
                    <a:cubicBezTo>
                      <a:pt x="54" y="0"/>
                      <a:pt x="64" y="6"/>
                      <a:pt x="66" y="15"/>
                    </a:cubicBezTo>
                    <a:cubicBezTo>
                      <a:pt x="67" y="22"/>
                      <a:pt x="64" y="28"/>
                      <a:pt x="57" y="33"/>
                    </a:cubicBezTo>
                    <a:cubicBezTo>
                      <a:pt x="57" y="33"/>
                      <a:pt x="58" y="33"/>
                      <a:pt x="58" y="33"/>
                    </a:cubicBezTo>
                    <a:cubicBezTo>
                      <a:pt x="64" y="28"/>
                      <a:pt x="68" y="21"/>
                      <a:pt x="67" y="15"/>
                    </a:cubicBezTo>
                    <a:cubicBezTo>
                      <a:pt x="65" y="6"/>
                      <a:pt x="54" y="0"/>
                      <a:pt x="40" y="0"/>
                    </a:cubicBezTo>
                  </a:path>
                </a:pathLst>
              </a:custGeom>
              <a:solidFill>
                <a:srgbClr val="9e4e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未知"/>
              <p:cNvSpPr/>
              <p:nvPr/>
            </p:nvSpPr>
            <p:spPr>
              <a:xfrm>
                <a:off x="2489400" y="4516920"/>
                <a:ext cx="14760" cy="8640"/>
              </a:xfrm>
              <a:custGeom>
                <a:avLst/>
                <a:gdLst/>
                <a:ahLst/>
                <a:rect l="l" t="t" r="r" b="b"/>
                <a:pathLst>
                  <a:path w="66" h="33">
                    <a:moveTo>
                      <a:pt x="39" y="0"/>
                    </a:moveTo>
                    <a:cubicBezTo>
                      <a:pt x="36" y="0"/>
                      <a:pt x="33" y="1"/>
                      <a:pt x="30" y="1"/>
                    </a:cubicBezTo>
                    <a:cubicBezTo>
                      <a:pt x="12" y="5"/>
                      <a:pt x="0" y="17"/>
                      <a:pt x="2" y="28"/>
                    </a:cubicBezTo>
                    <a:cubicBezTo>
                      <a:pt x="2" y="29"/>
                      <a:pt x="3" y="29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29"/>
                      <a:pt x="3" y="28"/>
                      <a:pt x="3" y="27"/>
                    </a:cubicBezTo>
                    <a:cubicBezTo>
                      <a:pt x="0" y="17"/>
                      <a:pt x="13" y="5"/>
                      <a:pt x="30" y="2"/>
                    </a:cubicBezTo>
                    <a:cubicBezTo>
                      <a:pt x="33" y="1"/>
                      <a:pt x="36" y="1"/>
                      <a:pt x="39" y="1"/>
                    </a:cubicBezTo>
                    <a:cubicBezTo>
                      <a:pt x="52" y="1"/>
                      <a:pt x="63" y="6"/>
                      <a:pt x="65" y="15"/>
                    </a:cubicBezTo>
                    <a:cubicBezTo>
                      <a:pt x="66" y="22"/>
                      <a:pt x="62" y="28"/>
                      <a:pt x="55" y="33"/>
                    </a:cubicBezTo>
                    <a:cubicBezTo>
                      <a:pt x="56" y="33"/>
                      <a:pt x="56" y="33"/>
                      <a:pt x="56" y="33"/>
                    </a:cubicBezTo>
                    <a:cubicBezTo>
                      <a:pt x="63" y="28"/>
                      <a:pt x="66" y="22"/>
                      <a:pt x="65" y="15"/>
                    </a:cubicBezTo>
                    <a:cubicBezTo>
                      <a:pt x="63" y="6"/>
                      <a:pt x="53" y="0"/>
                      <a:pt x="39" y="0"/>
                    </a:cubicBezTo>
                  </a:path>
                </a:pathLst>
              </a:custGeom>
              <a:solidFill>
                <a:srgbClr val="9f4e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未知"/>
              <p:cNvSpPr/>
              <p:nvPr/>
            </p:nvSpPr>
            <p:spPr>
              <a:xfrm>
                <a:off x="2489400" y="4517280"/>
                <a:ext cx="14760" cy="8640"/>
              </a:xfrm>
              <a:custGeom>
                <a:avLst/>
                <a:gdLst/>
                <a:ahLst/>
                <a:rect l="l" t="t" r="r" b="b"/>
                <a:pathLst>
                  <a:path w="66" h="33">
                    <a:moveTo>
                      <a:pt x="39" y="0"/>
                    </a:moveTo>
                    <a:cubicBezTo>
                      <a:pt x="36" y="0"/>
                      <a:pt x="33" y="0"/>
                      <a:pt x="30" y="1"/>
                    </a:cubicBezTo>
                    <a:cubicBezTo>
                      <a:pt x="13" y="4"/>
                      <a:pt x="0" y="16"/>
                      <a:pt x="3" y="26"/>
                    </a:cubicBezTo>
                    <a:cubicBezTo>
                      <a:pt x="3" y="27"/>
                      <a:pt x="3" y="28"/>
                      <a:pt x="3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4" y="28"/>
                      <a:pt x="3" y="27"/>
                      <a:pt x="3" y="26"/>
                    </a:cubicBezTo>
                    <a:cubicBezTo>
                      <a:pt x="1" y="16"/>
                      <a:pt x="13" y="4"/>
                      <a:pt x="30" y="1"/>
                    </a:cubicBezTo>
                    <a:cubicBezTo>
                      <a:pt x="33" y="0"/>
                      <a:pt x="36" y="0"/>
                      <a:pt x="39" y="0"/>
                    </a:cubicBezTo>
                    <a:cubicBezTo>
                      <a:pt x="52" y="0"/>
                      <a:pt x="63" y="6"/>
                      <a:pt x="64" y="14"/>
                    </a:cubicBezTo>
                    <a:cubicBezTo>
                      <a:pt x="66" y="21"/>
                      <a:pt x="61" y="28"/>
                      <a:pt x="54" y="33"/>
                    </a:cubicBezTo>
                    <a:cubicBezTo>
                      <a:pt x="55" y="33"/>
                      <a:pt x="55" y="33"/>
                      <a:pt x="55" y="32"/>
                    </a:cubicBezTo>
                    <a:cubicBezTo>
                      <a:pt x="62" y="27"/>
                      <a:pt x="66" y="21"/>
                      <a:pt x="65" y="14"/>
                    </a:cubicBezTo>
                    <a:cubicBezTo>
                      <a:pt x="63" y="5"/>
                      <a:pt x="52" y="0"/>
                      <a:pt x="39" y="0"/>
                    </a:cubicBezTo>
                  </a:path>
                </a:pathLst>
              </a:custGeom>
              <a:solidFill>
                <a:srgbClr val="a04f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未知"/>
              <p:cNvSpPr/>
              <p:nvPr/>
            </p:nvSpPr>
            <p:spPr>
              <a:xfrm>
                <a:off x="2489760" y="4517280"/>
                <a:ext cx="14400" cy="8640"/>
              </a:xfrm>
              <a:custGeom>
                <a:avLst/>
                <a:gdLst/>
                <a:ahLst/>
                <a:rect l="l" t="t" r="r" b="b"/>
                <a:pathLst>
                  <a:path w="65" h="33">
                    <a:moveTo>
                      <a:pt x="38" y="0"/>
                    </a:moveTo>
                    <a:cubicBezTo>
                      <a:pt x="35" y="0"/>
                      <a:pt x="32" y="0"/>
                      <a:pt x="29" y="1"/>
                    </a:cubicBezTo>
                    <a:cubicBezTo>
                      <a:pt x="12" y="4"/>
                      <a:pt x="0" y="16"/>
                      <a:pt x="2" y="26"/>
                    </a:cubicBezTo>
                    <a:cubicBezTo>
                      <a:pt x="2" y="27"/>
                      <a:pt x="3" y="28"/>
                      <a:pt x="3" y="29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3" y="28"/>
                      <a:pt x="3" y="27"/>
                      <a:pt x="2" y="26"/>
                    </a:cubicBezTo>
                    <a:cubicBezTo>
                      <a:pt x="0" y="16"/>
                      <a:pt x="12" y="5"/>
                      <a:pt x="29" y="1"/>
                    </a:cubicBezTo>
                    <a:cubicBezTo>
                      <a:pt x="32" y="1"/>
                      <a:pt x="35" y="0"/>
                      <a:pt x="38" y="0"/>
                    </a:cubicBezTo>
                    <a:cubicBezTo>
                      <a:pt x="51" y="0"/>
                      <a:pt x="61" y="6"/>
                      <a:pt x="63" y="14"/>
                    </a:cubicBezTo>
                    <a:cubicBezTo>
                      <a:pt x="64" y="21"/>
                      <a:pt x="60" y="28"/>
                      <a:pt x="52" y="33"/>
                    </a:cubicBezTo>
                    <a:cubicBezTo>
                      <a:pt x="53" y="33"/>
                      <a:pt x="53" y="33"/>
                      <a:pt x="53" y="33"/>
                    </a:cubicBezTo>
                    <a:cubicBezTo>
                      <a:pt x="60" y="28"/>
                      <a:pt x="65" y="21"/>
                      <a:pt x="63" y="14"/>
                    </a:cubicBezTo>
                    <a:cubicBezTo>
                      <a:pt x="62" y="6"/>
                      <a:pt x="51" y="0"/>
                      <a:pt x="38" y="0"/>
                    </a:cubicBezTo>
                  </a:path>
                </a:pathLst>
              </a:custGeom>
              <a:solidFill>
                <a:srgbClr val="a150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未知"/>
              <p:cNvSpPr/>
              <p:nvPr/>
            </p:nvSpPr>
            <p:spPr>
              <a:xfrm>
                <a:off x="2489760" y="4517280"/>
                <a:ext cx="14400" cy="8640"/>
              </a:xfrm>
              <a:custGeom>
                <a:avLst/>
                <a:gdLst/>
                <a:ahLst/>
                <a:rect l="l" t="t" r="r" b="b"/>
                <a:pathLst>
                  <a:path w="64" h="33">
                    <a:moveTo>
                      <a:pt x="38" y="0"/>
                    </a:moveTo>
                    <a:cubicBezTo>
                      <a:pt x="35" y="0"/>
                      <a:pt x="32" y="1"/>
                      <a:pt x="29" y="1"/>
                    </a:cubicBezTo>
                    <a:cubicBezTo>
                      <a:pt x="12" y="5"/>
                      <a:pt x="0" y="16"/>
                      <a:pt x="2" y="26"/>
                    </a:cubicBezTo>
                    <a:cubicBezTo>
                      <a:pt x="3" y="27"/>
                      <a:pt x="3" y="28"/>
                      <a:pt x="3" y="29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3" y="28"/>
                      <a:pt x="3" y="27"/>
                      <a:pt x="3" y="26"/>
                    </a:cubicBezTo>
                    <a:cubicBezTo>
                      <a:pt x="1" y="16"/>
                      <a:pt x="12" y="5"/>
                      <a:pt x="29" y="2"/>
                    </a:cubicBezTo>
                    <a:cubicBezTo>
                      <a:pt x="32" y="1"/>
                      <a:pt x="35" y="1"/>
                      <a:pt x="38" y="1"/>
                    </a:cubicBezTo>
                    <a:cubicBezTo>
                      <a:pt x="50" y="1"/>
                      <a:pt x="61" y="6"/>
                      <a:pt x="62" y="15"/>
                    </a:cubicBezTo>
                    <a:cubicBezTo>
                      <a:pt x="64" y="21"/>
                      <a:pt x="59" y="28"/>
                      <a:pt x="51" y="33"/>
                    </a:cubicBezTo>
                    <a:cubicBezTo>
                      <a:pt x="52" y="33"/>
                      <a:pt x="52" y="33"/>
                      <a:pt x="52" y="33"/>
                    </a:cubicBezTo>
                    <a:cubicBezTo>
                      <a:pt x="60" y="28"/>
                      <a:pt x="64" y="21"/>
                      <a:pt x="63" y="14"/>
                    </a:cubicBezTo>
                    <a:cubicBezTo>
                      <a:pt x="61" y="6"/>
                      <a:pt x="51" y="0"/>
                      <a:pt x="38" y="0"/>
                    </a:cubicBezTo>
                  </a:path>
                </a:pathLst>
              </a:custGeom>
              <a:solidFill>
                <a:srgbClr val="a250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未知"/>
              <p:cNvSpPr/>
              <p:nvPr/>
            </p:nvSpPr>
            <p:spPr>
              <a:xfrm>
                <a:off x="2490120" y="4517640"/>
                <a:ext cx="14040" cy="8640"/>
              </a:xfrm>
              <a:custGeom>
                <a:avLst/>
                <a:gdLst/>
                <a:ahLst/>
                <a:rect l="l" t="t" r="r" b="b"/>
                <a:pathLst>
                  <a:path w="63" h="33">
                    <a:moveTo>
                      <a:pt x="37" y="0"/>
                    </a:moveTo>
                    <a:cubicBezTo>
                      <a:pt x="34" y="0"/>
                      <a:pt x="31" y="0"/>
                      <a:pt x="28" y="1"/>
                    </a:cubicBezTo>
                    <a:cubicBezTo>
                      <a:pt x="11" y="4"/>
                      <a:pt x="0" y="15"/>
                      <a:pt x="2" y="25"/>
                    </a:cubicBezTo>
                    <a:cubicBezTo>
                      <a:pt x="2" y="26"/>
                      <a:pt x="2" y="27"/>
                      <a:pt x="3" y="28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3" y="27"/>
                      <a:pt x="3" y="26"/>
                      <a:pt x="2" y="25"/>
                    </a:cubicBezTo>
                    <a:cubicBezTo>
                      <a:pt x="0" y="15"/>
                      <a:pt x="12" y="4"/>
                      <a:pt x="28" y="1"/>
                    </a:cubicBezTo>
                    <a:cubicBezTo>
                      <a:pt x="31" y="0"/>
                      <a:pt x="34" y="0"/>
                      <a:pt x="37" y="0"/>
                    </a:cubicBezTo>
                    <a:cubicBezTo>
                      <a:pt x="49" y="0"/>
                      <a:pt x="59" y="5"/>
                      <a:pt x="61" y="14"/>
                    </a:cubicBezTo>
                    <a:cubicBezTo>
                      <a:pt x="62" y="21"/>
                      <a:pt x="57" y="28"/>
                      <a:pt x="49" y="33"/>
                    </a:cubicBezTo>
                    <a:cubicBezTo>
                      <a:pt x="50" y="33"/>
                      <a:pt x="50" y="32"/>
                      <a:pt x="50" y="32"/>
                    </a:cubicBezTo>
                    <a:cubicBezTo>
                      <a:pt x="58" y="27"/>
                      <a:pt x="63" y="20"/>
                      <a:pt x="61" y="14"/>
                    </a:cubicBezTo>
                    <a:cubicBezTo>
                      <a:pt x="60" y="5"/>
                      <a:pt x="49" y="0"/>
                      <a:pt x="37" y="0"/>
                    </a:cubicBezTo>
                  </a:path>
                </a:pathLst>
              </a:custGeom>
              <a:solidFill>
                <a:srgbClr val="a35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未知"/>
              <p:cNvSpPr/>
              <p:nvPr/>
            </p:nvSpPr>
            <p:spPr>
              <a:xfrm>
                <a:off x="2490120" y="451764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62" h="33">
                    <a:moveTo>
                      <a:pt x="37" y="0"/>
                    </a:moveTo>
                    <a:cubicBezTo>
                      <a:pt x="34" y="0"/>
                      <a:pt x="31" y="0"/>
                      <a:pt x="28" y="1"/>
                    </a:cubicBezTo>
                    <a:cubicBezTo>
                      <a:pt x="12" y="4"/>
                      <a:pt x="0" y="15"/>
                      <a:pt x="2" y="25"/>
                    </a:cubicBezTo>
                    <a:cubicBezTo>
                      <a:pt x="3" y="26"/>
                      <a:pt x="3" y="27"/>
                      <a:pt x="3" y="28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3" y="27"/>
                      <a:pt x="3" y="26"/>
                      <a:pt x="3" y="25"/>
                    </a:cubicBezTo>
                    <a:cubicBezTo>
                      <a:pt x="1" y="15"/>
                      <a:pt x="12" y="4"/>
                      <a:pt x="28" y="1"/>
                    </a:cubicBezTo>
                    <a:cubicBezTo>
                      <a:pt x="31" y="1"/>
                      <a:pt x="34" y="0"/>
                      <a:pt x="37" y="0"/>
                    </a:cubicBezTo>
                    <a:cubicBezTo>
                      <a:pt x="49" y="0"/>
                      <a:pt x="59" y="6"/>
                      <a:pt x="60" y="14"/>
                    </a:cubicBezTo>
                    <a:cubicBezTo>
                      <a:pt x="62" y="21"/>
                      <a:pt x="57" y="28"/>
                      <a:pt x="48" y="33"/>
                    </a:cubicBezTo>
                    <a:cubicBezTo>
                      <a:pt x="48" y="33"/>
                      <a:pt x="49" y="33"/>
                      <a:pt x="49" y="33"/>
                    </a:cubicBezTo>
                    <a:cubicBezTo>
                      <a:pt x="57" y="28"/>
                      <a:pt x="62" y="21"/>
                      <a:pt x="61" y="14"/>
                    </a:cubicBezTo>
                    <a:cubicBezTo>
                      <a:pt x="59" y="5"/>
                      <a:pt x="49" y="0"/>
                      <a:pt x="37" y="0"/>
                    </a:cubicBezTo>
                  </a:path>
                </a:pathLst>
              </a:custGeom>
              <a:solidFill>
                <a:srgbClr val="a45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未知"/>
              <p:cNvSpPr/>
              <p:nvPr/>
            </p:nvSpPr>
            <p:spPr>
              <a:xfrm>
                <a:off x="2490120" y="4517640"/>
                <a:ext cx="13680" cy="8640"/>
              </a:xfrm>
              <a:custGeom>
                <a:avLst/>
                <a:gdLst/>
                <a:ahLst/>
                <a:rect l="l" t="t" r="r" b="b"/>
                <a:pathLst>
                  <a:path w="61" h="33">
                    <a:moveTo>
                      <a:pt x="36" y="0"/>
                    </a:moveTo>
                    <a:cubicBezTo>
                      <a:pt x="33" y="0"/>
                      <a:pt x="30" y="1"/>
                      <a:pt x="27" y="1"/>
                    </a:cubicBezTo>
                    <a:cubicBezTo>
                      <a:pt x="11" y="4"/>
                      <a:pt x="0" y="15"/>
                      <a:pt x="2" y="25"/>
                    </a:cubicBezTo>
                    <a:cubicBezTo>
                      <a:pt x="2" y="26"/>
                      <a:pt x="2" y="27"/>
                      <a:pt x="3" y="28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3" y="27"/>
                      <a:pt x="2" y="26"/>
                      <a:pt x="2" y="25"/>
                    </a:cubicBezTo>
                    <a:cubicBezTo>
                      <a:pt x="0" y="15"/>
                      <a:pt x="11" y="4"/>
                      <a:pt x="27" y="1"/>
                    </a:cubicBezTo>
                    <a:cubicBezTo>
                      <a:pt x="30" y="1"/>
                      <a:pt x="33" y="1"/>
                      <a:pt x="36" y="1"/>
                    </a:cubicBezTo>
                    <a:cubicBezTo>
                      <a:pt x="48" y="1"/>
                      <a:pt x="57" y="6"/>
                      <a:pt x="59" y="14"/>
                    </a:cubicBezTo>
                    <a:cubicBezTo>
                      <a:pt x="60" y="21"/>
                      <a:pt x="55" y="28"/>
                      <a:pt x="46" y="33"/>
                    </a:cubicBezTo>
                    <a:cubicBezTo>
                      <a:pt x="46" y="33"/>
                      <a:pt x="47" y="33"/>
                      <a:pt x="47" y="33"/>
                    </a:cubicBezTo>
                    <a:cubicBezTo>
                      <a:pt x="56" y="28"/>
                      <a:pt x="61" y="21"/>
                      <a:pt x="59" y="14"/>
                    </a:cubicBezTo>
                    <a:cubicBezTo>
                      <a:pt x="58" y="6"/>
                      <a:pt x="48" y="0"/>
                      <a:pt x="36" y="0"/>
                    </a:cubicBezTo>
                  </a:path>
                </a:pathLst>
              </a:custGeom>
              <a:solidFill>
                <a:srgbClr val="a552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未知"/>
              <p:cNvSpPr/>
              <p:nvPr/>
            </p:nvSpPr>
            <p:spPr>
              <a:xfrm>
                <a:off x="2490120" y="451764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60" h="32">
                    <a:moveTo>
                      <a:pt x="36" y="0"/>
                    </a:moveTo>
                    <a:cubicBezTo>
                      <a:pt x="33" y="0"/>
                      <a:pt x="30" y="0"/>
                      <a:pt x="27" y="0"/>
                    </a:cubicBezTo>
                    <a:cubicBezTo>
                      <a:pt x="11" y="3"/>
                      <a:pt x="0" y="14"/>
                      <a:pt x="2" y="24"/>
                    </a:cubicBezTo>
                    <a:cubicBezTo>
                      <a:pt x="2" y="25"/>
                      <a:pt x="3" y="26"/>
                      <a:pt x="3" y="27"/>
                    </a:cubicBezTo>
                    <a:cubicBezTo>
                      <a:pt x="4" y="27"/>
                      <a:pt x="4" y="27"/>
                      <a:pt x="4" y="27"/>
                    </a:cubicBezTo>
                    <a:cubicBezTo>
                      <a:pt x="3" y="26"/>
                      <a:pt x="3" y="25"/>
                      <a:pt x="3" y="24"/>
                    </a:cubicBezTo>
                    <a:cubicBezTo>
                      <a:pt x="1" y="14"/>
                      <a:pt x="12" y="4"/>
                      <a:pt x="27" y="1"/>
                    </a:cubicBezTo>
                    <a:cubicBezTo>
                      <a:pt x="30" y="0"/>
                      <a:pt x="33" y="0"/>
                      <a:pt x="36" y="0"/>
                    </a:cubicBezTo>
                    <a:cubicBezTo>
                      <a:pt x="47" y="0"/>
                      <a:pt x="57" y="5"/>
                      <a:pt x="59" y="13"/>
                    </a:cubicBezTo>
                    <a:cubicBezTo>
                      <a:pt x="60" y="20"/>
                      <a:pt x="54" y="28"/>
                      <a:pt x="45" y="32"/>
                    </a:cubicBezTo>
                    <a:cubicBezTo>
                      <a:pt x="45" y="32"/>
                      <a:pt x="46" y="32"/>
                      <a:pt x="46" y="32"/>
                    </a:cubicBezTo>
                    <a:cubicBezTo>
                      <a:pt x="55" y="27"/>
                      <a:pt x="60" y="20"/>
                      <a:pt x="59" y="13"/>
                    </a:cubicBezTo>
                    <a:cubicBezTo>
                      <a:pt x="57" y="5"/>
                      <a:pt x="48" y="0"/>
                      <a:pt x="36" y="0"/>
                    </a:cubicBezTo>
                  </a:path>
                </a:pathLst>
              </a:custGeom>
              <a:solidFill>
                <a:srgbClr val="a652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未知"/>
              <p:cNvSpPr/>
              <p:nvPr/>
            </p:nvSpPr>
            <p:spPr>
              <a:xfrm>
                <a:off x="2490480" y="451764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59" h="33">
                    <a:moveTo>
                      <a:pt x="35" y="0"/>
                    </a:moveTo>
                    <a:cubicBezTo>
                      <a:pt x="32" y="0"/>
                      <a:pt x="29" y="0"/>
                      <a:pt x="26" y="1"/>
                    </a:cubicBezTo>
                    <a:cubicBezTo>
                      <a:pt x="11" y="4"/>
                      <a:pt x="0" y="14"/>
                      <a:pt x="2" y="24"/>
                    </a:cubicBezTo>
                    <a:cubicBezTo>
                      <a:pt x="2" y="25"/>
                      <a:pt x="2" y="26"/>
                      <a:pt x="3" y="27"/>
                    </a:cubicBezTo>
                    <a:cubicBezTo>
                      <a:pt x="3" y="27"/>
                      <a:pt x="3" y="27"/>
                      <a:pt x="3" y="27"/>
                    </a:cubicBezTo>
                    <a:cubicBezTo>
                      <a:pt x="3" y="26"/>
                      <a:pt x="2" y="25"/>
                      <a:pt x="2" y="24"/>
                    </a:cubicBezTo>
                    <a:cubicBezTo>
                      <a:pt x="0" y="14"/>
                      <a:pt x="11" y="4"/>
                      <a:pt x="26" y="1"/>
                    </a:cubicBezTo>
                    <a:cubicBezTo>
                      <a:pt x="29" y="0"/>
                      <a:pt x="32" y="0"/>
                      <a:pt x="34" y="0"/>
                    </a:cubicBezTo>
                    <a:cubicBezTo>
                      <a:pt x="46" y="0"/>
                      <a:pt x="56" y="5"/>
                      <a:pt x="57" y="13"/>
                    </a:cubicBezTo>
                    <a:cubicBezTo>
                      <a:pt x="59" y="20"/>
                      <a:pt x="52" y="28"/>
                      <a:pt x="42" y="33"/>
                    </a:cubicBezTo>
                    <a:cubicBezTo>
                      <a:pt x="43" y="33"/>
                      <a:pt x="43" y="33"/>
                      <a:pt x="44" y="32"/>
                    </a:cubicBezTo>
                    <a:cubicBezTo>
                      <a:pt x="53" y="28"/>
                      <a:pt x="59" y="20"/>
                      <a:pt x="58" y="13"/>
                    </a:cubicBezTo>
                    <a:cubicBezTo>
                      <a:pt x="56" y="5"/>
                      <a:pt x="46" y="0"/>
                      <a:pt x="35" y="0"/>
                    </a:cubicBezTo>
                  </a:path>
                </a:pathLst>
              </a:custGeom>
              <a:solidFill>
                <a:srgbClr val="a752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未知"/>
              <p:cNvSpPr/>
              <p:nvPr/>
            </p:nvSpPr>
            <p:spPr>
              <a:xfrm>
                <a:off x="2490480" y="4517640"/>
                <a:ext cx="13320" cy="8640"/>
              </a:xfrm>
              <a:custGeom>
                <a:avLst/>
                <a:gdLst/>
                <a:ahLst/>
                <a:rect l="l" t="t" r="r" b="b"/>
                <a:pathLst>
                  <a:path w="59" h="33">
                    <a:moveTo>
                      <a:pt x="34" y="0"/>
                    </a:moveTo>
                    <a:cubicBezTo>
                      <a:pt x="32" y="0"/>
                      <a:pt x="29" y="0"/>
                      <a:pt x="26" y="1"/>
                    </a:cubicBezTo>
                    <a:cubicBezTo>
                      <a:pt x="11" y="4"/>
                      <a:pt x="0" y="14"/>
                      <a:pt x="2" y="24"/>
                    </a:cubicBezTo>
                    <a:cubicBezTo>
                      <a:pt x="2" y="25"/>
                      <a:pt x="3" y="26"/>
                      <a:pt x="3" y="27"/>
                    </a:cubicBezTo>
                    <a:cubicBezTo>
                      <a:pt x="4" y="27"/>
                      <a:pt x="4" y="27"/>
                      <a:pt x="4" y="27"/>
                    </a:cubicBezTo>
                    <a:cubicBezTo>
                      <a:pt x="3" y="26"/>
                      <a:pt x="3" y="25"/>
                      <a:pt x="2" y="24"/>
                    </a:cubicBezTo>
                    <a:cubicBezTo>
                      <a:pt x="1" y="14"/>
                      <a:pt x="11" y="4"/>
                      <a:pt x="26" y="1"/>
                    </a:cubicBezTo>
                    <a:cubicBezTo>
                      <a:pt x="29" y="1"/>
                      <a:pt x="32" y="0"/>
                      <a:pt x="34" y="0"/>
                    </a:cubicBezTo>
                    <a:cubicBezTo>
                      <a:pt x="46" y="0"/>
                      <a:pt x="55" y="5"/>
                      <a:pt x="57" y="13"/>
                    </a:cubicBezTo>
                    <a:cubicBezTo>
                      <a:pt x="58" y="21"/>
                      <a:pt x="52" y="29"/>
                      <a:pt x="41" y="33"/>
                    </a:cubicBezTo>
                    <a:cubicBezTo>
                      <a:pt x="41" y="33"/>
                      <a:pt x="42" y="33"/>
                      <a:pt x="42" y="33"/>
                    </a:cubicBezTo>
                    <a:cubicBezTo>
                      <a:pt x="52" y="28"/>
                      <a:pt x="59" y="20"/>
                      <a:pt x="57" y="13"/>
                    </a:cubicBezTo>
                    <a:cubicBezTo>
                      <a:pt x="56" y="5"/>
                      <a:pt x="46" y="0"/>
                      <a:pt x="34" y="0"/>
                    </a:cubicBezTo>
                  </a:path>
                </a:pathLst>
              </a:custGeom>
              <a:solidFill>
                <a:srgbClr val="a853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未知"/>
              <p:cNvSpPr/>
              <p:nvPr/>
            </p:nvSpPr>
            <p:spPr>
              <a:xfrm>
                <a:off x="2490840" y="4517640"/>
                <a:ext cx="12600" cy="86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33" y="0"/>
                    </a:moveTo>
                    <a:cubicBezTo>
                      <a:pt x="31" y="0"/>
                      <a:pt x="28" y="1"/>
                      <a:pt x="25" y="1"/>
                    </a:cubicBezTo>
                    <a:cubicBezTo>
                      <a:pt x="10" y="4"/>
                      <a:pt x="0" y="14"/>
                      <a:pt x="1" y="24"/>
                    </a:cubicBezTo>
                    <a:cubicBezTo>
                      <a:pt x="2" y="25"/>
                      <a:pt x="2" y="26"/>
                      <a:pt x="3" y="27"/>
                    </a:cubicBezTo>
                    <a:cubicBezTo>
                      <a:pt x="3" y="27"/>
                      <a:pt x="3" y="27"/>
                      <a:pt x="4" y="27"/>
                    </a:cubicBezTo>
                    <a:cubicBezTo>
                      <a:pt x="3" y="26"/>
                      <a:pt x="2" y="25"/>
                      <a:pt x="2" y="24"/>
                    </a:cubicBezTo>
                    <a:cubicBezTo>
                      <a:pt x="0" y="14"/>
                      <a:pt x="11" y="4"/>
                      <a:pt x="25" y="2"/>
                    </a:cubicBezTo>
                    <a:cubicBezTo>
                      <a:pt x="28" y="1"/>
                      <a:pt x="31" y="1"/>
                      <a:pt x="33" y="1"/>
                    </a:cubicBezTo>
                    <a:cubicBezTo>
                      <a:pt x="45" y="1"/>
                      <a:pt x="54" y="6"/>
                      <a:pt x="55" y="13"/>
                    </a:cubicBezTo>
                    <a:cubicBezTo>
                      <a:pt x="57" y="21"/>
                      <a:pt x="50" y="29"/>
                      <a:pt x="38" y="33"/>
                    </a:cubicBezTo>
                    <a:cubicBezTo>
                      <a:pt x="39" y="33"/>
                      <a:pt x="40" y="33"/>
                      <a:pt x="40" y="33"/>
                    </a:cubicBezTo>
                    <a:cubicBezTo>
                      <a:pt x="51" y="29"/>
                      <a:pt x="57" y="21"/>
                      <a:pt x="56" y="13"/>
                    </a:cubicBezTo>
                    <a:cubicBezTo>
                      <a:pt x="54" y="5"/>
                      <a:pt x="45" y="0"/>
                      <a:pt x="33" y="0"/>
                    </a:cubicBezTo>
                  </a:path>
                </a:pathLst>
              </a:custGeom>
              <a:solidFill>
                <a:srgbClr val="a95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未知"/>
              <p:cNvSpPr/>
              <p:nvPr/>
            </p:nvSpPr>
            <p:spPr>
              <a:xfrm>
                <a:off x="2490840" y="4518000"/>
                <a:ext cx="12600" cy="864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33" y="0"/>
                    </a:moveTo>
                    <a:cubicBezTo>
                      <a:pt x="31" y="0"/>
                      <a:pt x="28" y="0"/>
                      <a:pt x="25" y="1"/>
                    </a:cubicBezTo>
                    <a:cubicBezTo>
                      <a:pt x="11" y="3"/>
                      <a:pt x="0" y="13"/>
                      <a:pt x="2" y="23"/>
                    </a:cubicBezTo>
                    <a:cubicBezTo>
                      <a:pt x="2" y="24"/>
                      <a:pt x="3" y="25"/>
                      <a:pt x="4" y="26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3" y="25"/>
                      <a:pt x="3" y="24"/>
                      <a:pt x="2" y="22"/>
                    </a:cubicBezTo>
                    <a:cubicBezTo>
                      <a:pt x="1" y="13"/>
                      <a:pt x="11" y="4"/>
                      <a:pt x="25" y="1"/>
                    </a:cubicBezTo>
                    <a:cubicBezTo>
                      <a:pt x="28" y="0"/>
                      <a:pt x="31" y="0"/>
                      <a:pt x="33" y="0"/>
                    </a:cubicBezTo>
                    <a:cubicBezTo>
                      <a:pt x="44" y="0"/>
                      <a:pt x="53" y="5"/>
                      <a:pt x="55" y="12"/>
                    </a:cubicBezTo>
                    <a:cubicBezTo>
                      <a:pt x="56" y="20"/>
                      <a:pt x="49" y="29"/>
                      <a:pt x="37" y="33"/>
                    </a:cubicBezTo>
                    <a:cubicBezTo>
                      <a:pt x="38" y="32"/>
                      <a:pt x="38" y="32"/>
                      <a:pt x="38" y="32"/>
                    </a:cubicBezTo>
                    <a:cubicBezTo>
                      <a:pt x="50" y="28"/>
                      <a:pt x="57" y="20"/>
                      <a:pt x="55" y="12"/>
                    </a:cubicBezTo>
                    <a:cubicBezTo>
                      <a:pt x="54" y="5"/>
                      <a:pt x="45" y="0"/>
                      <a:pt x="33" y="0"/>
                    </a:cubicBezTo>
                  </a:path>
                </a:pathLst>
              </a:custGeom>
              <a:solidFill>
                <a:srgbClr val="aa5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未知"/>
              <p:cNvSpPr/>
              <p:nvPr/>
            </p:nvSpPr>
            <p:spPr>
              <a:xfrm>
                <a:off x="2490840" y="4518000"/>
                <a:ext cx="12240" cy="864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32" y="0"/>
                    </a:moveTo>
                    <a:cubicBezTo>
                      <a:pt x="30" y="0"/>
                      <a:pt x="27" y="0"/>
                      <a:pt x="24" y="1"/>
                    </a:cubicBezTo>
                    <a:cubicBezTo>
                      <a:pt x="10" y="4"/>
                      <a:pt x="0" y="13"/>
                      <a:pt x="1" y="22"/>
                    </a:cubicBezTo>
                    <a:cubicBezTo>
                      <a:pt x="2" y="24"/>
                      <a:pt x="2" y="25"/>
                      <a:pt x="3" y="26"/>
                    </a:cubicBezTo>
                    <a:cubicBezTo>
                      <a:pt x="3" y="26"/>
                      <a:pt x="3" y="27"/>
                      <a:pt x="4" y="27"/>
                    </a:cubicBezTo>
                    <a:cubicBezTo>
                      <a:pt x="3" y="25"/>
                      <a:pt x="2" y="24"/>
                      <a:pt x="2" y="22"/>
                    </a:cubicBezTo>
                    <a:cubicBezTo>
                      <a:pt x="0" y="13"/>
                      <a:pt x="10" y="4"/>
                      <a:pt x="24" y="1"/>
                    </a:cubicBezTo>
                    <a:cubicBezTo>
                      <a:pt x="27" y="1"/>
                      <a:pt x="30" y="0"/>
                      <a:pt x="32" y="0"/>
                    </a:cubicBezTo>
                    <a:cubicBezTo>
                      <a:pt x="43" y="0"/>
                      <a:pt x="52" y="5"/>
                      <a:pt x="53" y="12"/>
                    </a:cubicBezTo>
                    <a:cubicBezTo>
                      <a:pt x="55" y="21"/>
                      <a:pt x="47" y="29"/>
                      <a:pt x="34" y="33"/>
                    </a:cubicBezTo>
                    <a:cubicBezTo>
                      <a:pt x="35" y="33"/>
                      <a:pt x="35" y="33"/>
                      <a:pt x="36" y="33"/>
                    </a:cubicBezTo>
                    <a:cubicBezTo>
                      <a:pt x="48" y="29"/>
                      <a:pt x="55" y="20"/>
                      <a:pt x="54" y="12"/>
                    </a:cubicBezTo>
                    <a:cubicBezTo>
                      <a:pt x="52" y="5"/>
                      <a:pt x="43" y="0"/>
                      <a:pt x="32" y="0"/>
                    </a:cubicBezTo>
                  </a:path>
                </a:pathLst>
              </a:custGeom>
              <a:solidFill>
                <a:srgbClr val="ab5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未知"/>
              <p:cNvSpPr/>
              <p:nvPr/>
            </p:nvSpPr>
            <p:spPr>
              <a:xfrm>
                <a:off x="2490840" y="4518000"/>
                <a:ext cx="12240" cy="8640"/>
              </a:xfrm>
              <a:custGeom>
                <a:avLst/>
                <a:gdLst/>
                <a:ahLst/>
                <a:rect l="l" t="t" r="r" b="b"/>
                <a:pathLst>
                  <a:path w="55" h="33">
                    <a:moveTo>
                      <a:pt x="32" y="0"/>
                    </a:moveTo>
                    <a:cubicBezTo>
                      <a:pt x="30" y="0"/>
                      <a:pt x="27" y="1"/>
                      <a:pt x="24" y="1"/>
                    </a:cubicBezTo>
                    <a:cubicBezTo>
                      <a:pt x="10" y="4"/>
                      <a:pt x="0" y="13"/>
                      <a:pt x="2" y="22"/>
                    </a:cubicBezTo>
                    <a:cubicBezTo>
                      <a:pt x="2" y="24"/>
                      <a:pt x="3" y="25"/>
                      <a:pt x="4" y="27"/>
                    </a:cubicBezTo>
                    <a:cubicBezTo>
                      <a:pt x="4" y="27"/>
                      <a:pt x="4" y="27"/>
                      <a:pt x="4" y="27"/>
                    </a:cubicBezTo>
                    <a:cubicBezTo>
                      <a:pt x="3" y="25"/>
                      <a:pt x="3" y="24"/>
                      <a:pt x="2" y="22"/>
                    </a:cubicBezTo>
                    <a:cubicBezTo>
                      <a:pt x="1" y="13"/>
                      <a:pt x="10" y="4"/>
                      <a:pt x="24" y="1"/>
                    </a:cubicBezTo>
                    <a:cubicBezTo>
                      <a:pt x="27" y="1"/>
                      <a:pt x="30" y="1"/>
                      <a:pt x="32" y="1"/>
                    </a:cubicBezTo>
                    <a:cubicBezTo>
                      <a:pt x="43" y="1"/>
                      <a:pt x="51" y="5"/>
                      <a:pt x="53" y="12"/>
                    </a:cubicBezTo>
                    <a:cubicBezTo>
                      <a:pt x="55" y="21"/>
                      <a:pt x="45" y="30"/>
                      <a:pt x="32" y="33"/>
                    </a:cubicBezTo>
                    <a:cubicBezTo>
                      <a:pt x="33" y="33"/>
                      <a:pt x="33" y="33"/>
                      <a:pt x="34" y="33"/>
                    </a:cubicBezTo>
                    <a:cubicBezTo>
                      <a:pt x="47" y="29"/>
                      <a:pt x="55" y="21"/>
                      <a:pt x="53" y="12"/>
                    </a:cubicBezTo>
                    <a:cubicBezTo>
                      <a:pt x="52" y="5"/>
                      <a:pt x="43" y="0"/>
                      <a:pt x="32" y="0"/>
                    </a:cubicBezTo>
                  </a:path>
                </a:pathLst>
              </a:custGeom>
              <a:solidFill>
                <a:srgbClr val="ac5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未知"/>
              <p:cNvSpPr/>
              <p:nvPr/>
            </p:nvSpPr>
            <p:spPr>
              <a:xfrm>
                <a:off x="2491200" y="4518360"/>
                <a:ext cx="12240" cy="864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31" y="0"/>
                    </a:moveTo>
                    <a:cubicBezTo>
                      <a:pt x="29" y="0"/>
                      <a:pt x="26" y="0"/>
                      <a:pt x="23" y="0"/>
                    </a:cubicBezTo>
                    <a:cubicBezTo>
                      <a:pt x="9" y="3"/>
                      <a:pt x="0" y="12"/>
                      <a:pt x="1" y="21"/>
                    </a:cubicBezTo>
                    <a:cubicBezTo>
                      <a:pt x="2" y="23"/>
                      <a:pt x="2" y="24"/>
                      <a:pt x="3" y="26"/>
                    </a:cubicBezTo>
                    <a:cubicBezTo>
                      <a:pt x="3" y="26"/>
                      <a:pt x="4" y="26"/>
                      <a:pt x="4" y="26"/>
                    </a:cubicBezTo>
                    <a:cubicBezTo>
                      <a:pt x="3" y="24"/>
                      <a:pt x="2" y="23"/>
                      <a:pt x="2" y="21"/>
                    </a:cubicBezTo>
                    <a:cubicBezTo>
                      <a:pt x="0" y="13"/>
                      <a:pt x="10" y="3"/>
                      <a:pt x="24" y="1"/>
                    </a:cubicBezTo>
                    <a:cubicBezTo>
                      <a:pt x="26" y="0"/>
                      <a:pt x="29" y="0"/>
                      <a:pt x="31" y="0"/>
                    </a:cubicBezTo>
                    <a:cubicBezTo>
                      <a:pt x="42" y="0"/>
                      <a:pt x="50" y="4"/>
                      <a:pt x="51" y="11"/>
                    </a:cubicBezTo>
                    <a:cubicBezTo>
                      <a:pt x="53" y="20"/>
                      <a:pt x="43" y="29"/>
                      <a:pt x="30" y="32"/>
                    </a:cubicBezTo>
                    <a:cubicBezTo>
                      <a:pt x="29" y="32"/>
                      <a:pt x="29" y="32"/>
                      <a:pt x="29" y="32"/>
                    </a:cubicBezTo>
                    <a:cubicBezTo>
                      <a:pt x="29" y="32"/>
                      <a:pt x="29" y="32"/>
                      <a:pt x="29" y="32"/>
                    </a:cubicBezTo>
                    <a:cubicBezTo>
                      <a:pt x="30" y="32"/>
                      <a:pt x="31" y="32"/>
                      <a:pt x="31" y="32"/>
                    </a:cubicBezTo>
                    <a:cubicBezTo>
                      <a:pt x="44" y="29"/>
                      <a:pt x="54" y="20"/>
                      <a:pt x="52" y="11"/>
                    </a:cubicBezTo>
                    <a:cubicBezTo>
                      <a:pt x="50" y="4"/>
                      <a:pt x="42" y="0"/>
                      <a:pt x="31" y="0"/>
                    </a:cubicBezTo>
                  </a:path>
                </a:pathLst>
              </a:custGeom>
              <a:solidFill>
                <a:srgbClr val="ac5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未知"/>
              <p:cNvSpPr/>
              <p:nvPr/>
            </p:nvSpPr>
            <p:spPr>
              <a:xfrm>
                <a:off x="2491200" y="4518360"/>
                <a:ext cx="11880" cy="8640"/>
              </a:xfrm>
              <a:custGeom>
                <a:avLst/>
                <a:gdLst/>
                <a:ahLst/>
                <a:rect l="l" t="t" r="r" b="b"/>
                <a:pathLst>
                  <a:path w="53" h="32">
                    <a:moveTo>
                      <a:pt x="31" y="0"/>
                    </a:moveTo>
                    <a:cubicBezTo>
                      <a:pt x="29" y="0"/>
                      <a:pt x="26" y="0"/>
                      <a:pt x="24" y="1"/>
                    </a:cubicBezTo>
                    <a:cubicBezTo>
                      <a:pt x="10" y="3"/>
                      <a:pt x="0" y="13"/>
                      <a:pt x="2" y="21"/>
                    </a:cubicBezTo>
                    <a:cubicBezTo>
                      <a:pt x="2" y="23"/>
                      <a:pt x="3" y="24"/>
                      <a:pt x="4" y="26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3" y="24"/>
                      <a:pt x="2" y="23"/>
                      <a:pt x="2" y="21"/>
                    </a:cubicBezTo>
                    <a:cubicBezTo>
                      <a:pt x="1" y="13"/>
                      <a:pt x="10" y="4"/>
                      <a:pt x="24" y="1"/>
                    </a:cubicBezTo>
                    <a:cubicBezTo>
                      <a:pt x="26" y="0"/>
                      <a:pt x="29" y="0"/>
                      <a:pt x="31" y="0"/>
                    </a:cubicBezTo>
                    <a:cubicBezTo>
                      <a:pt x="41" y="0"/>
                      <a:pt x="50" y="5"/>
                      <a:pt x="51" y="12"/>
                    </a:cubicBezTo>
                    <a:cubicBezTo>
                      <a:pt x="53" y="20"/>
                      <a:pt x="43" y="29"/>
                      <a:pt x="30" y="32"/>
                    </a:cubicBezTo>
                    <a:cubicBezTo>
                      <a:pt x="29" y="32"/>
                      <a:pt x="28" y="32"/>
                      <a:pt x="27" y="32"/>
                    </a:cubicBezTo>
                    <a:cubicBezTo>
                      <a:pt x="27" y="32"/>
                      <a:pt x="28" y="32"/>
                      <a:pt x="28" y="32"/>
                    </a:cubicBezTo>
                    <a:cubicBezTo>
                      <a:pt x="28" y="32"/>
                      <a:pt x="28" y="32"/>
                      <a:pt x="29" y="32"/>
                    </a:cubicBezTo>
                    <a:cubicBezTo>
                      <a:pt x="29" y="32"/>
                      <a:pt x="29" y="32"/>
                      <a:pt x="30" y="32"/>
                    </a:cubicBezTo>
                    <a:cubicBezTo>
                      <a:pt x="43" y="29"/>
                      <a:pt x="53" y="20"/>
                      <a:pt x="51" y="11"/>
                    </a:cubicBezTo>
                    <a:cubicBezTo>
                      <a:pt x="50" y="4"/>
                      <a:pt x="42" y="0"/>
                      <a:pt x="31" y="0"/>
                    </a:cubicBezTo>
                  </a:path>
                </a:pathLst>
              </a:custGeom>
              <a:solidFill>
                <a:srgbClr val="ad56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未知"/>
              <p:cNvSpPr/>
              <p:nvPr/>
            </p:nvSpPr>
            <p:spPr>
              <a:xfrm>
                <a:off x="2491200" y="4518360"/>
                <a:ext cx="11520" cy="864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30" y="0"/>
                    </a:moveTo>
                    <a:cubicBezTo>
                      <a:pt x="28" y="0"/>
                      <a:pt x="25" y="0"/>
                      <a:pt x="23" y="1"/>
                    </a:cubicBezTo>
                    <a:cubicBezTo>
                      <a:pt x="9" y="4"/>
                      <a:pt x="0" y="13"/>
                      <a:pt x="1" y="21"/>
                    </a:cubicBezTo>
                    <a:cubicBezTo>
                      <a:pt x="1" y="23"/>
                      <a:pt x="2" y="24"/>
                      <a:pt x="3" y="26"/>
                    </a:cubicBezTo>
                    <a:cubicBezTo>
                      <a:pt x="4" y="26"/>
                      <a:pt x="4" y="26"/>
                      <a:pt x="4" y="26"/>
                    </a:cubicBezTo>
                    <a:cubicBezTo>
                      <a:pt x="3" y="24"/>
                      <a:pt x="2" y="23"/>
                      <a:pt x="2" y="21"/>
                    </a:cubicBezTo>
                    <a:cubicBezTo>
                      <a:pt x="0" y="13"/>
                      <a:pt x="9" y="4"/>
                      <a:pt x="23" y="1"/>
                    </a:cubicBezTo>
                    <a:cubicBezTo>
                      <a:pt x="25" y="1"/>
                      <a:pt x="28" y="0"/>
                      <a:pt x="30" y="0"/>
                    </a:cubicBezTo>
                    <a:cubicBezTo>
                      <a:pt x="40" y="0"/>
                      <a:pt x="48" y="5"/>
                      <a:pt x="50" y="12"/>
                    </a:cubicBezTo>
                    <a:cubicBezTo>
                      <a:pt x="51" y="20"/>
                      <a:pt x="42" y="29"/>
                      <a:pt x="29" y="32"/>
                    </a:cubicBezTo>
                    <a:cubicBezTo>
                      <a:pt x="27" y="32"/>
                      <a:pt x="26" y="32"/>
                      <a:pt x="25" y="32"/>
                    </a:cubicBezTo>
                    <a:cubicBezTo>
                      <a:pt x="25" y="32"/>
                      <a:pt x="25" y="32"/>
                      <a:pt x="26" y="32"/>
                    </a:cubicBezTo>
                    <a:cubicBezTo>
                      <a:pt x="27" y="32"/>
                      <a:pt x="28" y="32"/>
                      <a:pt x="29" y="32"/>
                    </a:cubicBezTo>
                    <a:cubicBezTo>
                      <a:pt x="42" y="29"/>
                      <a:pt x="52" y="20"/>
                      <a:pt x="50" y="12"/>
                    </a:cubicBezTo>
                    <a:cubicBezTo>
                      <a:pt x="49" y="5"/>
                      <a:pt x="40" y="0"/>
                      <a:pt x="30" y="0"/>
                    </a:cubicBezTo>
                  </a:path>
                </a:pathLst>
              </a:custGeom>
              <a:solidFill>
                <a:srgbClr val="af5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未知"/>
              <p:cNvSpPr/>
              <p:nvPr/>
            </p:nvSpPr>
            <p:spPr>
              <a:xfrm>
                <a:off x="2491200" y="4518360"/>
                <a:ext cx="11160" cy="8640"/>
              </a:xfrm>
              <a:custGeom>
                <a:avLst/>
                <a:gdLst/>
                <a:ahLst/>
                <a:rect l="l" t="t" r="r" b="b"/>
                <a:pathLst>
                  <a:path w="51" h="32">
                    <a:moveTo>
                      <a:pt x="30" y="0"/>
                    </a:moveTo>
                    <a:cubicBezTo>
                      <a:pt x="28" y="0"/>
                      <a:pt x="25" y="1"/>
                      <a:pt x="23" y="1"/>
                    </a:cubicBezTo>
                    <a:cubicBezTo>
                      <a:pt x="9" y="4"/>
                      <a:pt x="0" y="13"/>
                      <a:pt x="2" y="21"/>
                    </a:cubicBezTo>
                    <a:cubicBezTo>
                      <a:pt x="2" y="23"/>
                      <a:pt x="3" y="24"/>
                      <a:pt x="4" y="26"/>
                    </a:cubicBezTo>
                    <a:cubicBezTo>
                      <a:pt x="4" y="26"/>
                      <a:pt x="4" y="26"/>
                      <a:pt x="5" y="26"/>
                    </a:cubicBezTo>
                    <a:cubicBezTo>
                      <a:pt x="3" y="24"/>
                      <a:pt x="2" y="23"/>
                      <a:pt x="2" y="21"/>
                    </a:cubicBezTo>
                    <a:cubicBezTo>
                      <a:pt x="0" y="13"/>
                      <a:pt x="10" y="4"/>
                      <a:pt x="23" y="1"/>
                    </a:cubicBezTo>
                    <a:cubicBezTo>
                      <a:pt x="25" y="1"/>
                      <a:pt x="27" y="1"/>
                      <a:pt x="30" y="1"/>
                    </a:cubicBezTo>
                    <a:cubicBezTo>
                      <a:pt x="40" y="1"/>
                      <a:pt x="48" y="5"/>
                      <a:pt x="49" y="12"/>
                    </a:cubicBezTo>
                    <a:cubicBezTo>
                      <a:pt x="51" y="20"/>
                      <a:pt x="42" y="29"/>
                      <a:pt x="29" y="31"/>
                    </a:cubicBezTo>
                    <a:cubicBezTo>
                      <a:pt x="27" y="32"/>
                      <a:pt x="25" y="32"/>
                      <a:pt x="23" y="32"/>
                    </a:cubicBezTo>
                    <a:cubicBezTo>
                      <a:pt x="24" y="32"/>
                      <a:pt x="24" y="32"/>
                      <a:pt x="25" y="32"/>
                    </a:cubicBezTo>
                    <a:cubicBezTo>
                      <a:pt x="26" y="32"/>
                      <a:pt x="27" y="32"/>
                      <a:pt x="29" y="32"/>
                    </a:cubicBezTo>
                    <a:cubicBezTo>
                      <a:pt x="42" y="29"/>
                      <a:pt x="51" y="20"/>
                      <a:pt x="50" y="12"/>
                    </a:cubicBezTo>
                    <a:cubicBezTo>
                      <a:pt x="48" y="5"/>
                      <a:pt x="40" y="0"/>
                      <a:pt x="30" y="0"/>
                    </a:cubicBezTo>
                  </a:path>
                </a:pathLst>
              </a:custGeom>
              <a:solidFill>
                <a:srgbClr val="b05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未知"/>
              <p:cNvSpPr/>
              <p:nvPr/>
            </p:nvSpPr>
            <p:spPr>
              <a:xfrm>
                <a:off x="2491200" y="451872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51" h="31">
                    <a:moveTo>
                      <a:pt x="30" y="0"/>
                    </a:moveTo>
                    <a:cubicBezTo>
                      <a:pt x="27" y="0"/>
                      <a:pt x="25" y="0"/>
                      <a:pt x="23" y="0"/>
                    </a:cubicBezTo>
                    <a:cubicBezTo>
                      <a:pt x="10" y="3"/>
                      <a:pt x="0" y="12"/>
                      <a:pt x="2" y="20"/>
                    </a:cubicBezTo>
                    <a:cubicBezTo>
                      <a:pt x="2" y="22"/>
                      <a:pt x="3" y="23"/>
                      <a:pt x="5" y="25"/>
                    </a:cubicBezTo>
                    <a:cubicBezTo>
                      <a:pt x="5" y="25"/>
                      <a:pt x="5" y="25"/>
                      <a:pt x="5" y="25"/>
                    </a:cubicBezTo>
                    <a:cubicBezTo>
                      <a:pt x="4" y="24"/>
                      <a:pt x="3" y="22"/>
                      <a:pt x="2" y="20"/>
                    </a:cubicBezTo>
                    <a:cubicBezTo>
                      <a:pt x="1" y="12"/>
                      <a:pt x="10" y="3"/>
                      <a:pt x="23" y="1"/>
                    </a:cubicBezTo>
                    <a:cubicBezTo>
                      <a:pt x="25" y="0"/>
                      <a:pt x="27" y="0"/>
                      <a:pt x="30" y="0"/>
                    </a:cubicBezTo>
                    <a:cubicBezTo>
                      <a:pt x="39" y="0"/>
                      <a:pt x="47" y="4"/>
                      <a:pt x="49" y="11"/>
                    </a:cubicBezTo>
                    <a:cubicBezTo>
                      <a:pt x="50" y="19"/>
                      <a:pt x="41" y="27"/>
                      <a:pt x="28" y="30"/>
                    </a:cubicBezTo>
                    <a:cubicBezTo>
                      <a:pt x="26" y="30"/>
                      <a:pt x="24" y="31"/>
                      <a:pt x="22" y="31"/>
                    </a:cubicBezTo>
                    <a:cubicBezTo>
                      <a:pt x="22" y="31"/>
                      <a:pt x="23" y="31"/>
                      <a:pt x="23" y="31"/>
                    </a:cubicBezTo>
                    <a:cubicBezTo>
                      <a:pt x="25" y="31"/>
                      <a:pt x="27" y="31"/>
                      <a:pt x="29" y="30"/>
                    </a:cubicBezTo>
                    <a:cubicBezTo>
                      <a:pt x="42" y="28"/>
                      <a:pt x="51" y="19"/>
                      <a:pt x="49" y="11"/>
                    </a:cubicBezTo>
                    <a:cubicBezTo>
                      <a:pt x="48" y="4"/>
                      <a:pt x="40" y="0"/>
                      <a:pt x="30" y="0"/>
                    </a:cubicBezTo>
                  </a:path>
                </a:pathLst>
              </a:custGeom>
              <a:solidFill>
                <a:srgbClr val="b158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未知"/>
              <p:cNvSpPr/>
              <p:nvPr/>
            </p:nvSpPr>
            <p:spPr>
              <a:xfrm>
                <a:off x="2491560" y="4518720"/>
                <a:ext cx="10800" cy="828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29" y="0"/>
                    </a:moveTo>
                    <a:cubicBezTo>
                      <a:pt x="26" y="0"/>
                      <a:pt x="24" y="0"/>
                      <a:pt x="22" y="1"/>
                    </a:cubicBezTo>
                    <a:cubicBezTo>
                      <a:pt x="9" y="3"/>
                      <a:pt x="0" y="12"/>
                      <a:pt x="1" y="20"/>
                    </a:cubicBezTo>
                    <a:cubicBezTo>
                      <a:pt x="2" y="22"/>
                      <a:pt x="3" y="24"/>
                      <a:pt x="4" y="25"/>
                    </a:cubicBezTo>
                    <a:cubicBezTo>
                      <a:pt x="4" y="25"/>
                      <a:pt x="5" y="25"/>
                      <a:pt x="5" y="25"/>
                    </a:cubicBezTo>
                    <a:cubicBezTo>
                      <a:pt x="3" y="24"/>
                      <a:pt x="2" y="22"/>
                      <a:pt x="2" y="20"/>
                    </a:cubicBezTo>
                    <a:cubicBezTo>
                      <a:pt x="0" y="12"/>
                      <a:pt x="9" y="3"/>
                      <a:pt x="22" y="1"/>
                    </a:cubicBezTo>
                    <a:cubicBezTo>
                      <a:pt x="24" y="1"/>
                      <a:pt x="26" y="0"/>
                      <a:pt x="29" y="0"/>
                    </a:cubicBezTo>
                    <a:cubicBezTo>
                      <a:pt x="38" y="0"/>
                      <a:pt x="46" y="4"/>
                      <a:pt x="47" y="11"/>
                    </a:cubicBezTo>
                    <a:cubicBezTo>
                      <a:pt x="49" y="19"/>
                      <a:pt x="40" y="27"/>
                      <a:pt x="27" y="30"/>
                    </a:cubicBezTo>
                    <a:cubicBezTo>
                      <a:pt x="25" y="30"/>
                      <a:pt x="23" y="30"/>
                      <a:pt x="21" y="30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20" y="30"/>
                      <a:pt x="21" y="31"/>
                      <a:pt x="21" y="31"/>
                    </a:cubicBezTo>
                    <a:cubicBezTo>
                      <a:pt x="23" y="31"/>
                      <a:pt x="25" y="30"/>
                      <a:pt x="27" y="30"/>
                    </a:cubicBezTo>
                    <a:cubicBezTo>
                      <a:pt x="40" y="27"/>
                      <a:pt x="49" y="19"/>
                      <a:pt x="48" y="11"/>
                    </a:cubicBezTo>
                    <a:cubicBezTo>
                      <a:pt x="46" y="4"/>
                      <a:pt x="38" y="0"/>
                      <a:pt x="29" y="0"/>
                    </a:cubicBezTo>
                  </a:path>
                </a:pathLst>
              </a:custGeom>
              <a:solidFill>
                <a:srgbClr val="b25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未知"/>
              <p:cNvSpPr/>
              <p:nvPr/>
            </p:nvSpPr>
            <p:spPr>
              <a:xfrm>
                <a:off x="2491560" y="45187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49" h="30">
                    <a:moveTo>
                      <a:pt x="29" y="0"/>
                    </a:moveTo>
                    <a:cubicBezTo>
                      <a:pt x="26" y="0"/>
                      <a:pt x="24" y="1"/>
                      <a:pt x="22" y="1"/>
                    </a:cubicBezTo>
                    <a:cubicBezTo>
                      <a:pt x="9" y="3"/>
                      <a:pt x="0" y="12"/>
                      <a:pt x="2" y="20"/>
                    </a:cubicBezTo>
                    <a:cubicBezTo>
                      <a:pt x="2" y="22"/>
                      <a:pt x="3" y="24"/>
                      <a:pt x="5" y="25"/>
                    </a:cubicBezTo>
                    <a:cubicBezTo>
                      <a:pt x="5" y="25"/>
                      <a:pt x="5" y="25"/>
                      <a:pt x="6" y="25"/>
                    </a:cubicBezTo>
                    <a:cubicBezTo>
                      <a:pt x="4" y="24"/>
                      <a:pt x="3" y="22"/>
                      <a:pt x="2" y="20"/>
                    </a:cubicBezTo>
                    <a:cubicBezTo>
                      <a:pt x="1" y="12"/>
                      <a:pt x="10" y="4"/>
                      <a:pt x="22" y="1"/>
                    </a:cubicBezTo>
                    <a:cubicBezTo>
                      <a:pt x="24" y="1"/>
                      <a:pt x="26" y="1"/>
                      <a:pt x="29" y="1"/>
                    </a:cubicBezTo>
                    <a:cubicBezTo>
                      <a:pt x="38" y="1"/>
                      <a:pt x="46" y="5"/>
                      <a:pt x="47" y="11"/>
                    </a:cubicBezTo>
                    <a:cubicBezTo>
                      <a:pt x="48" y="19"/>
                      <a:pt x="40" y="27"/>
                      <a:pt x="27" y="29"/>
                    </a:cubicBezTo>
                    <a:cubicBezTo>
                      <a:pt x="25" y="30"/>
                      <a:pt x="23" y="30"/>
                      <a:pt x="21" y="30"/>
                    </a:cubicBezTo>
                    <a:cubicBezTo>
                      <a:pt x="20" y="30"/>
                      <a:pt x="19" y="30"/>
                      <a:pt x="19" y="30"/>
                    </a:cubicBezTo>
                    <a:cubicBezTo>
                      <a:pt x="19" y="30"/>
                      <a:pt x="20" y="30"/>
                      <a:pt x="20" y="30"/>
                    </a:cubicBezTo>
                    <a:cubicBezTo>
                      <a:pt x="20" y="30"/>
                      <a:pt x="20" y="30"/>
                      <a:pt x="21" y="30"/>
                    </a:cubicBezTo>
                    <a:cubicBezTo>
                      <a:pt x="23" y="30"/>
                      <a:pt x="25" y="30"/>
                      <a:pt x="27" y="30"/>
                    </a:cubicBezTo>
                    <a:cubicBezTo>
                      <a:pt x="40" y="27"/>
                      <a:pt x="49" y="19"/>
                      <a:pt x="47" y="11"/>
                    </a:cubicBezTo>
                    <a:cubicBezTo>
                      <a:pt x="46" y="4"/>
                      <a:pt x="38" y="0"/>
                      <a:pt x="29" y="0"/>
                    </a:cubicBezTo>
                  </a:path>
                </a:pathLst>
              </a:custGeom>
              <a:solidFill>
                <a:srgbClr val="b35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未知"/>
              <p:cNvSpPr/>
              <p:nvPr/>
            </p:nvSpPr>
            <p:spPr>
              <a:xfrm>
                <a:off x="2491560" y="4519080"/>
                <a:ext cx="10440" cy="75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28" y="0"/>
                    </a:moveTo>
                    <a:cubicBezTo>
                      <a:pt x="25" y="0"/>
                      <a:pt x="23" y="0"/>
                      <a:pt x="21" y="0"/>
                    </a:cubicBezTo>
                    <a:cubicBezTo>
                      <a:pt x="9" y="3"/>
                      <a:pt x="0" y="11"/>
                      <a:pt x="1" y="19"/>
                    </a:cubicBezTo>
                    <a:cubicBezTo>
                      <a:pt x="2" y="21"/>
                      <a:pt x="3" y="23"/>
                      <a:pt x="5" y="24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5" y="24"/>
                      <a:pt x="5" y="24"/>
                      <a:pt x="6" y="24"/>
                    </a:cubicBezTo>
                    <a:cubicBezTo>
                      <a:pt x="4" y="23"/>
                      <a:pt x="2" y="21"/>
                      <a:pt x="2" y="19"/>
                    </a:cubicBezTo>
                    <a:cubicBezTo>
                      <a:pt x="0" y="11"/>
                      <a:pt x="9" y="3"/>
                      <a:pt x="21" y="1"/>
                    </a:cubicBezTo>
                    <a:cubicBezTo>
                      <a:pt x="23" y="0"/>
                      <a:pt x="25" y="0"/>
                      <a:pt x="27" y="0"/>
                    </a:cubicBezTo>
                    <a:cubicBezTo>
                      <a:pt x="37" y="0"/>
                      <a:pt x="44" y="4"/>
                      <a:pt x="45" y="10"/>
                    </a:cubicBezTo>
                    <a:cubicBezTo>
                      <a:pt x="47" y="18"/>
                      <a:pt x="38" y="26"/>
                      <a:pt x="26" y="28"/>
                    </a:cubicBezTo>
                    <a:cubicBezTo>
                      <a:pt x="24" y="29"/>
                      <a:pt x="22" y="29"/>
                      <a:pt x="20" y="29"/>
                    </a:cubicBezTo>
                    <a:cubicBezTo>
                      <a:pt x="19" y="29"/>
                      <a:pt x="18" y="29"/>
                      <a:pt x="17" y="29"/>
                    </a:cubicBezTo>
                    <a:cubicBezTo>
                      <a:pt x="17" y="29"/>
                      <a:pt x="18" y="29"/>
                      <a:pt x="18" y="29"/>
                    </a:cubicBezTo>
                    <a:cubicBezTo>
                      <a:pt x="18" y="29"/>
                      <a:pt x="19" y="29"/>
                      <a:pt x="20" y="29"/>
                    </a:cubicBezTo>
                    <a:cubicBezTo>
                      <a:pt x="22" y="29"/>
                      <a:pt x="24" y="29"/>
                      <a:pt x="26" y="28"/>
                    </a:cubicBezTo>
                    <a:cubicBezTo>
                      <a:pt x="39" y="26"/>
                      <a:pt x="47" y="18"/>
                      <a:pt x="46" y="10"/>
                    </a:cubicBezTo>
                    <a:cubicBezTo>
                      <a:pt x="45" y="4"/>
                      <a:pt x="37" y="0"/>
                      <a:pt x="28" y="0"/>
                    </a:cubicBezTo>
                  </a:path>
                </a:pathLst>
              </a:custGeom>
              <a:solidFill>
                <a:srgbClr val="b45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未知"/>
              <p:cNvSpPr/>
              <p:nvPr/>
            </p:nvSpPr>
            <p:spPr>
              <a:xfrm>
                <a:off x="2491560" y="4519080"/>
                <a:ext cx="10440" cy="75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27" y="0"/>
                    </a:moveTo>
                    <a:cubicBezTo>
                      <a:pt x="25" y="0"/>
                      <a:pt x="23" y="0"/>
                      <a:pt x="21" y="1"/>
                    </a:cubicBezTo>
                    <a:cubicBezTo>
                      <a:pt x="9" y="3"/>
                      <a:pt x="0" y="11"/>
                      <a:pt x="2" y="19"/>
                    </a:cubicBezTo>
                    <a:cubicBezTo>
                      <a:pt x="2" y="21"/>
                      <a:pt x="4" y="23"/>
                      <a:pt x="6" y="24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4" y="23"/>
                      <a:pt x="3" y="21"/>
                      <a:pt x="2" y="19"/>
                    </a:cubicBezTo>
                    <a:cubicBezTo>
                      <a:pt x="1" y="11"/>
                      <a:pt x="9" y="3"/>
                      <a:pt x="21" y="1"/>
                    </a:cubicBezTo>
                    <a:cubicBezTo>
                      <a:pt x="23" y="0"/>
                      <a:pt x="25" y="0"/>
                      <a:pt x="27" y="0"/>
                    </a:cubicBezTo>
                    <a:cubicBezTo>
                      <a:pt x="36" y="0"/>
                      <a:pt x="44" y="4"/>
                      <a:pt x="45" y="10"/>
                    </a:cubicBezTo>
                    <a:cubicBezTo>
                      <a:pt x="46" y="18"/>
                      <a:pt x="38" y="26"/>
                      <a:pt x="26" y="28"/>
                    </a:cubicBezTo>
                    <a:cubicBezTo>
                      <a:pt x="24" y="28"/>
                      <a:pt x="22" y="28"/>
                      <a:pt x="20" y="28"/>
                    </a:cubicBezTo>
                    <a:cubicBezTo>
                      <a:pt x="18" y="28"/>
                      <a:pt x="17" y="28"/>
                      <a:pt x="16" y="28"/>
                    </a:cubicBezTo>
                    <a:cubicBezTo>
                      <a:pt x="16" y="28"/>
                      <a:pt x="16" y="28"/>
                      <a:pt x="17" y="29"/>
                    </a:cubicBezTo>
                    <a:cubicBezTo>
                      <a:pt x="18" y="29"/>
                      <a:pt x="19" y="29"/>
                      <a:pt x="20" y="29"/>
                    </a:cubicBezTo>
                    <a:cubicBezTo>
                      <a:pt x="22" y="29"/>
                      <a:pt x="24" y="29"/>
                      <a:pt x="26" y="28"/>
                    </a:cubicBezTo>
                    <a:cubicBezTo>
                      <a:pt x="38" y="26"/>
                      <a:pt x="47" y="18"/>
                      <a:pt x="45" y="10"/>
                    </a:cubicBezTo>
                    <a:cubicBezTo>
                      <a:pt x="44" y="4"/>
                      <a:pt x="37" y="0"/>
                      <a:pt x="27" y="0"/>
                    </a:cubicBezTo>
                  </a:path>
                </a:pathLst>
              </a:custGeom>
              <a:solidFill>
                <a:srgbClr val="b55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未知"/>
              <p:cNvSpPr/>
              <p:nvPr/>
            </p:nvSpPr>
            <p:spPr>
              <a:xfrm>
                <a:off x="2491920" y="4519080"/>
                <a:ext cx="10080" cy="7560"/>
              </a:xfrm>
              <a:custGeom>
                <a:avLst/>
                <a:gdLst/>
                <a:ahLst/>
                <a:rect l="l" t="t" r="r" b="b"/>
                <a:pathLst>
                  <a:path w="45" h="28">
                    <a:moveTo>
                      <a:pt x="26" y="0"/>
                    </a:moveTo>
                    <a:cubicBezTo>
                      <a:pt x="24" y="0"/>
                      <a:pt x="22" y="0"/>
                      <a:pt x="20" y="1"/>
                    </a:cubicBezTo>
                    <a:cubicBezTo>
                      <a:pt x="8" y="3"/>
                      <a:pt x="0" y="11"/>
                      <a:pt x="1" y="19"/>
                    </a:cubicBezTo>
                    <a:cubicBezTo>
                      <a:pt x="2" y="21"/>
                      <a:pt x="3" y="23"/>
                      <a:pt x="5" y="25"/>
                    </a:cubicBezTo>
                    <a:cubicBezTo>
                      <a:pt x="6" y="25"/>
                      <a:pt x="6" y="25"/>
                      <a:pt x="7" y="25"/>
                    </a:cubicBezTo>
                    <a:cubicBezTo>
                      <a:pt x="4" y="23"/>
                      <a:pt x="2" y="21"/>
                      <a:pt x="2" y="18"/>
                    </a:cubicBezTo>
                    <a:cubicBezTo>
                      <a:pt x="0" y="11"/>
                      <a:pt x="8" y="3"/>
                      <a:pt x="20" y="1"/>
                    </a:cubicBezTo>
                    <a:cubicBezTo>
                      <a:pt x="22" y="1"/>
                      <a:pt x="24" y="1"/>
                      <a:pt x="26" y="1"/>
                    </a:cubicBezTo>
                    <a:cubicBezTo>
                      <a:pt x="35" y="1"/>
                      <a:pt x="42" y="4"/>
                      <a:pt x="43" y="10"/>
                    </a:cubicBezTo>
                    <a:cubicBezTo>
                      <a:pt x="45" y="18"/>
                      <a:pt x="37" y="25"/>
                      <a:pt x="25" y="28"/>
                    </a:cubicBezTo>
                    <a:cubicBezTo>
                      <a:pt x="23" y="28"/>
                      <a:pt x="21" y="28"/>
                      <a:pt x="19" y="28"/>
                    </a:cubicBezTo>
                    <a:cubicBezTo>
                      <a:pt x="17" y="28"/>
                      <a:pt x="15" y="28"/>
                      <a:pt x="13" y="28"/>
                    </a:cubicBezTo>
                    <a:cubicBezTo>
                      <a:pt x="14" y="28"/>
                      <a:pt x="14" y="28"/>
                      <a:pt x="15" y="28"/>
                    </a:cubicBezTo>
                    <a:cubicBezTo>
                      <a:pt x="16" y="28"/>
                      <a:pt x="17" y="28"/>
                      <a:pt x="19" y="28"/>
                    </a:cubicBezTo>
                    <a:cubicBezTo>
                      <a:pt x="21" y="28"/>
                      <a:pt x="23" y="28"/>
                      <a:pt x="25" y="28"/>
                    </a:cubicBezTo>
                    <a:cubicBezTo>
                      <a:pt x="37" y="26"/>
                      <a:pt x="45" y="18"/>
                      <a:pt x="44" y="10"/>
                    </a:cubicBezTo>
                    <a:cubicBezTo>
                      <a:pt x="43" y="4"/>
                      <a:pt x="35" y="0"/>
                      <a:pt x="26" y="0"/>
                    </a:cubicBezTo>
                  </a:path>
                </a:pathLst>
              </a:custGeom>
              <a:solidFill>
                <a:srgbClr val="b65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未知"/>
              <p:cNvSpPr/>
              <p:nvPr/>
            </p:nvSpPr>
            <p:spPr>
              <a:xfrm>
                <a:off x="2491920" y="4519080"/>
                <a:ext cx="10080" cy="7200"/>
              </a:xfrm>
              <a:custGeom>
                <a:avLst/>
                <a:gdLst/>
                <a:ahLst/>
                <a:rect l="l" t="t" r="r" b="b"/>
                <a:pathLst>
                  <a:path w="45" h="27">
                    <a:moveTo>
                      <a:pt x="26" y="0"/>
                    </a:moveTo>
                    <a:cubicBezTo>
                      <a:pt x="24" y="0"/>
                      <a:pt x="22" y="0"/>
                      <a:pt x="20" y="0"/>
                    </a:cubicBezTo>
                    <a:cubicBezTo>
                      <a:pt x="8" y="2"/>
                      <a:pt x="0" y="10"/>
                      <a:pt x="2" y="17"/>
                    </a:cubicBezTo>
                    <a:cubicBezTo>
                      <a:pt x="2" y="20"/>
                      <a:pt x="4" y="22"/>
                      <a:pt x="7" y="24"/>
                    </a:cubicBezTo>
                    <a:cubicBezTo>
                      <a:pt x="7" y="24"/>
                      <a:pt x="8" y="24"/>
                      <a:pt x="9" y="25"/>
                    </a:cubicBezTo>
                    <a:cubicBezTo>
                      <a:pt x="5" y="23"/>
                      <a:pt x="3" y="21"/>
                      <a:pt x="2" y="17"/>
                    </a:cubicBezTo>
                    <a:cubicBezTo>
                      <a:pt x="1" y="10"/>
                      <a:pt x="9" y="3"/>
                      <a:pt x="20" y="0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35" y="0"/>
                      <a:pt x="42" y="4"/>
                      <a:pt x="43" y="9"/>
                    </a:cubicBezTo>
                    <a:cubicBezTo>
                      <a:pt x="44" y="16"/>
                      <a:pt x="36" y="24"/>
                      <a:pt x="25" y="26"/>
                    </a:cubicBezTo>
                    <a:cubicBezTo>
                      <a:pt x="23" y="27"/>
                      <a:pt x="21" y="27"/>
                      <a:pt x="19" y="27"/>
                    </a:cubicBezTo>
                    <a:cubicBezTo>
                      <a:pt x="16" y="27"/>
                      <a:pt x="14" y="26"/>
                      <a:pt x="11" y="26"/>
                    </a:cubicBezTo>
                    <a:cubicBezTo>
                      <a:pt x="12" y="26"/>
                      <a:pt x="13" y="26"/>
                      <a:pt x="13" y="27"/>
                    </a:cubicBezTo>
                    <a:cubicBezTo>
                      <a:pt x="15" y="27"/>
                      <a:pt x="17" y="27"/>
                      <a:pt x="19" y="27"/>
                    </a:cubicBezTo>
                    <a:cubicBezTo>
                      <a:pt x="21" y="27"/>
                      <a:pt x="23" y="27"/>
                      <a:pt x="25" y="27"/>
                    </a:cubicBezTo>
                    <a:cubicBezTo>
                      <a:pt x="37" y="24"/>
                      <a:pt x="45" y="17"/>
                      <a:pt x="43" y="9"/>
                    </a:cubicBezTo>
                    <a:cubicBezTo>
                      <a:pt x="42" y="3"/>
                      <a:pt x="35" y="0"/>
                      <a:pt x="26" y="0"/>
                    </a:cubicBezTo>
                  </a:path>
                </a:pathLst>
              </a:custGeom>
              <a:solidFill>
                <a:srgbClr val="b75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未知"/>
              <p:cNvSpPr/>
              <p:nvPr/>
            </p:nvSpPr>
            <p:spPr>
              <a:xfrm>
                <a:off x="2492280" y="451908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18" y="27"/>
                    </a:moveTo>
                    <a:cubicBezTo>
                      <a:pt x="10" y="27"/>
                      <a:pt x="3" y="23"/>
                      <a:pt x="2" y="17"/>
                    </a:cubicBezTo>
                    <a:cubicBezTo>
                      <a:pt x="0" y="10"/>
                      <a:pt x="8" y="3"/>
                      <a:pt x="19" y="1"/>
                    </a:cubicBezTo>
                    <a:cubicBezTo>
                      <a:pt x="21" y="0"/>
                      <a:pt x="23" y="0"/>
                      <a:pt x="25" y="0"/>
                    </a:cubicBezTo>
                    <a:cubicBezTo>
                      <a:pt x="34" y="0"/>
                      <a:pt x="40" y="4"/>
                      <a:pt x="42" y="9"/>
                    </a:cubicBezTo>
                    <a:cubicBezTo>
                      <a:pt x="43" y="16"/>
                      <a:pt x="35" y="24"/>
                      <a:pt x="24" y="26"/>
                    </a:cubicBezTo>
                    <a:cubicBezTo>
                      <a:pt x="22" y="26"/>
                      <a:pt x="20" y="27"/>
                      <a:pt x="18" y="27"/>
                    </a:cubicBezTo>
                    <a:moveTo>
                      <a:pt x="25" y="0"/>
                    </a:moveTo>
                    <a:cubicBezTo>
                      <a:pt x="23" y="0"/>
                      <a:pt x="21" y="0"/>
                      <a:pt x="19" y="0"/>
                    </a:cubicBezTo>
                    <a:cubicBezTo>
                      <a:pt x="8" y="3"/>
                      <a:pt x="0" y="10"/>
                      <a:pt x="1" y="17"/>
                    </a:cubicBezTo>
                    <a:cubicBezTo>
                      <a:pt x="2" y="21"/>
                      <a:pt x="4" y="23"/>
                      <a:pt x="8" y="25"/>
                    </a:cubicBezTo>
                    <a:cubicBezTo>
                      <a:pt x="8" y="25"/>
                      <a:pt x="9" y="25"/>
                      <a:pt x="10" y="26"/>
                    </a:cubicBezTo>
                    <a:cubicBezTo>
                      <a:pt x="13" y="26"/>
                      <a:pt x="15" y="27"/>
                      <a:pt x="18" y="27"/>
                    </a:cubicBezTo>
                    <a:cubicBezTo>
                      <a:pt x="20" y="27"/>
                      <a:pt x="22" y="27"/>
                      <a:pt x="24" y="26"/>
                    </a:cubicBezTo>
                    <a:cubicBezTo>
                      <a:pt x="35" y="24"/>
                      <a:pt x="43" y="16"/>
                      <a:pt x="42" y="9"/>
                    </a:cubicBezTo>
                    <a:cubicBezTo>
                      <a:pt x="41" y="4"/>
                      <a:pt x="34" y="0"/>
                      <a:pt x="25" y="0"/>
                    </a:cubicBezTo>
                  </a:path>
                </a:pathLst>
              </a:custGeom>
              <a:solidFill>
                <a:srgbClr val="b85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未知"/>
              <p:cNvSpPr/>
              <p:nvPr/>
            </p:nvSpPr>
            <p:spPr>
              <a:xfrm>
                <a:off x="2492280" y="451908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43" h="27">
                    <a:moveTo>
                      <a:pt x="18" y="26"/>
                    </a:moveTo>
                    <a:cubicBezTo>
                      <a:pt x="10" y="26"/>
                      <a:pt x="3" y="23"/>
                      <a:pt x="2" y="17"/>
                    </a:cubicBezTo>
                    <a:cubicBezTo>
                      <a:pt x="1" y="10"/>
                      <a:pt x="8" y="3"/>
                      <a:pt x="19" y="1"/>
                    </a:cubicBezTo>
                    <a:cubicBezTo>
                      <a:pt x="21" y="1"/>
                      <a:pt x="23" y="0"/>
                      <a:pt x="25" y="0"/>
                    </a:cubicBezTo>
                    <a:cubicBezTo>
                      <a:pt x="33" y="0"/>
                      <a:pt x="40" y="4"/>
                      <a:pt x="41" y="10"/>
                    </a:cubicBezTo>
                    <a:cubicBezTo>
                      <a:pt x="42" y="16"/>
                      <a:pt x="35" y="24"/>
                      <a:pt x="24" y="26"/>
                    </a:cubicBezTo>
                    <a:cubicBezTo>
                      <a:pt x="22" y="26"/>
                      <a:pt x="20" y="26"/>
                      <a:pt x="18" y="26"/>
                    </a:cubicBezTo>
                    <a:moveTo>
                      <a:pt x="25" y="0"/>
                    </a:moveTo>
                    <a:cubicBezTo>
                      <a:pt x="23" y="0"/>
                      <a:pt x="21" y="0"/>
                      <a:pt x="19" y="1"/>
                    </a:cubicBezTo>
                    <a:cubicBezTo>
                      <a:pt x="8" y="3"/>
                      <a:pt x="0" y="10"/>
                      <a:pt x="2" y="17"/>
                    </a:cubicBezTo>
                    <a:cubicBezTo>
                      <a:pt x="3" y="23"/>
                      <a:pt x="10" y="27"/>
                      <a:pt x="18" y="27"/>
                    </a:cubicBezTo>
                    <a:cubicBezTo>
                      <a:pt x="20" y="27"/>
                      <a:pt x="22" y="26"/>
                      <a:pt x="24" y="26"/>
                    </a:cubicBezTo>
                    <a:cubicBezTo>
                      <a:pt x="35" y="24"/>
                      <a:pt x="43" y="16"/>
                      <a:pt x="42" y="9"/>
                    </a:cubicBezTo>
                    <a:cubicBezTo>
                      <a:pt x="40" y="4"/>
                      <a:pt x="34" y="0"/>
                      <a:pt x="25" y="0"/>
                    </a:cubicBezTo>
                  </a:path>
                </a:pathLst>
              </a:custGeom>
              <a:solidFill>
                <a:srgbClr val="b95c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未知"/>
              <p:cNvSpPr/>
              <p:nvPr/>
            </p:nvSpPr>
            <p:spPr>
              <a:xfrm>
                <a:off x="2492640" y="451908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41" h="26">
                    <a:moveTo>
                      <a:pt x="17" y="26"/>
                    </a:moveTo>
                    <a:cubicBezTo>
                      <a:pt x="9" y="26"/>
                      <a:pt x="3" y="23"/>
                      <a:pt x="1" y="17"/>
                    </a:cubicBezTo>
                    <a:cubicBezTo>
                      <a:pt x="0" y="10"/>
                      <a:pt x="8" y="3"/>
                      <a:pt x="18" y="1"/>
                    </a:cubicBezTo>
                    <a:cubicBezTo>
                      <a:pt x="20" y="1"/>
                      <a:pt x="22" y="1"/>
                      <a:pt x="24" y="1"/>
                    </a:cubicBezTo>
                    <a:cubicBezTo>
                      <a:pt x="32" y="1"/>
                      <a:pt x="39" y="4"/>
                      <a:pt x="40" y="10"/>
                    </a:cubicBezTo>
                    <a:cubicBezTo>
                      <a:pt x="41" y="16"/>
                      <a:pt x="33" y="23"/>
                      <a:pt x="23" y="25"/>
                    </a:cubicBezTo>
                    <a:cubicBezTo>
                      <a:pt x="21" y="26"/>
                      <a:pt x="19" y="26"/>
                      <a:pt x="17" y="26"/>
                    </a:cubicBezTo>
                    <a:moveTo>
                      <a:pt x="24" y="0"/>
                    </a:moveTo>
                    <a:cubicBezTo>
                      <a:pt x="22" y="0"/>
                      <a:pt x="20" y="1"/>
                      <a:pt x="18" y="1"/>
                    </a:cubicBezTo>
                    <a:cubicBezTo>
                      <a:pt x="7" y="3"/>
                      <a:pt x="0" y="10"/>
                      <a:pt x="1" y="17"/>
                    </a:cubicBezTo>
                    <a:cubicBezTo>
                      <a:pt x="2" y="23"/>
                      <a:pt x="9" y="26"/>
                      <a:pt x="17" y="26"/>
                    </a:cubicBezTo>
                    <a:cubicBezTo>
                      <a:pt x="19" y="26"/>
                      <a:pt x="21" y="26"/>
                      <a:pt x="23" y="26"/>
                    </a:cubicBezTo>
                    <a:cubicBezTo>
                      <a:pt x="34" y="24"/>
                      <a:pt x="41" y="16"/>
                      <a:pt x="40" y="10"/>
                    </a:cubicBezTo>
                    <a:cubicBezTo>
                      <a:pt x="39" y="4"/>
                      <a:pt x="32" y="0"/>
                      <a:pt x="24" y="0"/>
                    </a:cubicBezTo>
                  </a:path>
                </a:pathLst>
              </a:custGeom>
              <a:solidFill>
                <a:srgbClr val="ba5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未知"/>
              <p:cNvSpPr/>
              <p:nvPr/>
            </p:nvSpPr>
            <p:spPr>
              <a:xfrm>
                <a:off x="2492640" y="451944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17" y="25"/>
                    </a:moveTo>
                    <a:cubicBezTo>
                      <a:pt x="9" y="25"/>
                      <a:pt x="3" y="21"/>
                      <a:pt x="2" y="16"/>
                    </a:cubicBezTo>
                    <a:cubicBezTo>
                      <a:pt x="1" y="9"/>
                      <a:pt x="8" y="3"/>
                      <a:pt x="18" y="1"/>
                    </a:cubicBezTo>
                    <a:cubicBezTo>
                      <a:pt x="20" y="0"/>
                      <a:pt x="22" y="0"/>
                      <a:pt x="24" y="0"/>
                    </a:cubicBezTo>
                    <a:cubicBezTo>
                      <a:pt x="32" y="0"/>
                      <a:pt x="38" y="3"/>
                      <a:pt x="39" y="9"/>
                    </a:cubicBezTo>
                    <a:cubicBezTo>
                      <a:pt x="41" y="15"/>
                      <a:pt x="33" y="22"/>
                      <a:pt x="23" y="24"/>
                    </a:cubicBezTo>
                    <a:cubicBezTo>
                      <a:pt x="21" y="25"/>
                      <a:pt x="19" y="25"/>
                      <a:pt x="17" y="25"/>
                    </a:cubicBezTo>
                    <a:moveTo>
                      <a:pt x="24" y="0"/>
                    </a:moveTo>
                    <a:cubicBezTo>
                      <a:pt x="22" y="0"/>
                      <a:pt x="20" y="0"/>
                      <a:pt x="18" y="0"/>
                    </a:cubicBezTo>
                    <a:cubicBezTo>
                      <a:pt x="8" y="2"/>
                      <a:pt x="0" y="9"/>
                      <a:pt x="1" y="16"/>
                    </a:cubicBezTo>
                    <a:cubicBezTo>
                      <a:pt x="3" y="22"/>
                      <a:pt x="9" y="25"/>
                      <a:pt x="17" y="25"/>
                    </a:cubicBezTo>
                    <a:cubicBezTo>
                      <a:pt x="19" y="25"/>
                      <a:pt x="21" y="25"/>
                      <a:pt x="23" y="24"/>
                    </a:cubicBezTo>
                    <a:cubicBezTo>
                      <a:pt x="33" y="22"/>
                      <a:pt x="41" y="15"/>
                      <a:pt x="40" y="9"/>
                    </a:cubicBezTo>
                    <a:cubicBezTo>
                      <a:pt x="39" y="3"/>
                      <a:pt x="32" y="0"/>
                      <a:pt x="24" y="0"/>
                    </a:cubicBezTo>
                  </a:path>
                </a:pathLst>
              </a:custGeom>
              <a:solidFill>
                <a:srgbClr val="bb5d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未知"/>
              <p:cNvSpPr/>
              <p:nvPr/>
            </p:nvSpPr>
            <p:spPr>
              <a:xfrm>
                <a:off x="2492640" y="4519440"/>
                <a:ext cx="8640" cy="6840"/>
              </a:xfrm>
              <a:custGeom>
                <a:avLst/>
                <a:gdLst/>
                <a:ahLst/>
                <a:rect l="l" t="t" r="r" b="b"/>
                <a:pathLst>
                  <a:path w="40" h="25">
                    <a:moveTo>
                      <a:pt x="16" y="24"/>
                    </a:moveTo>
                    <a:cubicBezTo>
                      <a:pt x="9" y="24"/>
                      <a:pt x="2" y="21"/>
                      <a:pt x="1" y="16"/>
                    </a:cubicBezTo>
                    <a:cubicBezTo>
                      <a:pt x="0" y="10"/>
                      <a:pt x="7" y="3"/>
                      <a:pt x="17" y="1"/>
                    </a:cubicBezTo>
                    <a:cubicBezTo>
                      <a:pt x="19" y="0"/>
                      <a:pt x="21" y="0"/>
                      <a:pt x="23" y="0"/>
                    </a:cubicBezTo>
                    <a:cubicBezTo>
                      <a:pt x="31" y="0"/>
                      <a:pt x="37" y="4"/>
                      <a:pt x="38" y="9"/>
                    </a:cubicBezTo>
                    <a:cubicBezTo>
                      <a:pt x="39" y="15"/>
                      <a:pt x="32" y="22"/>
                      <a:pt x="22" y="24"/>
                    </a:cubicBezTo>
                    <a:cubicBezTo>
                      <a:pt x="20" y="24"/>
                      <a:pt x="18" y="24"/>
                      <a:pt x="16" y="24"/>
                    </a:cubicBezTo>
                    <a:moveTo>
                      <a:pt x="23" y="0"/>
                    </a:moveTo>
                    <a:cubicBezTo>
                      <a:pt x="21" y="0"/>
                      <a:pt x="19" y="0"/>
                      <a:pt x="17" y="1"/>
                    </a:cubicBezTo>
                    <a:cubicBezTo>
                      <a:pt x="7" y="3"/>
                      <a:pt x="0" y="9"/>
                      <a:pt x="1" y="16"/>
                    </a:cubicBezTo>
                    <a:cubicBezTo>
                      <a:pt x="2" y="21"/>
                      <a:pt x="8" y="25"/>
                      <a:pt x="16" y="25"/>
                    </a:cubicBezTo>
                    <a:cubicBezTo>
                      <a:pt x="18" y="25"/>
                      <a:pt x="20" y="25"/>
                      <a:pt x="22" y="24"/>
                    </a:cubicBezTo>
                    <a:cubicBezTo>
                      <a:pt x="32" y="22"/>
                      <a:pt x="40" y="15"/>
                      <a:pt x="38" y="9"/>
                    </a:cubicBezTo>
                    <a:cubicBezTo>
                      <a:pt x="37" y="3"/>
                      <a:pt x="31" y="0"/>
                      <a:pt x="23" y="0"/>
                    </a:cubicBezTo>
                  </a:path>
                </a:pathLst>
              </a:custGeom>
              <a:solidFill>
                <a:srgbClr val="bc5e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未知"/>
              <p:cNvSpPr/>
              <p:nvPr/>
            </p:nvSpPr>
            <p:spPr>
              <a:xfrm>
                <a:off x="2492640" y="451944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6" y="24"/>
                    </a:moveTo>
                    <a:cubicBezTo>
                      <a:pt x="9" y="24"/>
                      <a:pt x="3" y="21"/>
                      <a:pt x="2" y="16"/>
                    </a:cubicBezTo>
                    <a:cubicBezTo>
                      <a:pt x="1" y="10"/>
                      <a:pt x="8" y="3"/>
                      <a:pt x="17" y="1"/>
                    </a:cubicBezTo>
                    <a:cubicBezTo>
                      <a:pt x="19" y="1"/>
                      <a:pt x="21" y="1"/>
                      <a:pt x="23" y="1"/>
                    </a:cubicBezTo>
                    <a:cubicBezTo>
                      <a:pt x="30" y="1"/>
                      <a:pt x="36" y="4"/>
                      <a:pt x="37" y="9"/>
                    </a:cubicBezTo>
                    <a:cubicBezTo>
                      <a:pt x="39" y="15"/>
                      <a:pt x="32" y="22"/>
                      <a:pt x="22" y="24"/>
                    </a:cubicBezTo>
                    <a:cubicBezTo>
                      <a:pt x="20" y="24"/>
                      <a:pt x="18" y="24"/>
                      <a:pt x="16" y="24"/>
                    </a:cubicBezTo>
                    <a:moveTo>
                      <a:pt x="23" y="0"/>
                    </a:moveTo>
                    <a:cubicBezTo>
                      <a:pt x="21" y="0"/>
                      <a:pt x="19" y="0"/>
                      <a:pt x="17" y="1"/>
                    </a:cubicBezTo>
                    <a:cubicBezTo>
                      <a:pt x="7" y="3"/>
                      <a:pt x="0" y="10"/>
                      <a:pt x="1" y="16"/>
                    </a:cubicBezTo>
                    <a:cubicBezTo>
                      <a:pt x="2" y="21"/>
                      <a:pt x="9" y="24"/>
                      <a:pt x="16" y="24"/>
                    </a:cubicBezTo>
                    <a:cubicBezTo>
                      <a:pt x="18" y="24"/>
                      <a:pt x="20" y="24"/>
                      <a:pt x="22" y="24"/>
                    </a:cubicBezTo>
                    <a:cubicBezTo>
                      <a:pt x="32" y="22"/>
                      <a:pt x="39" y="15"/>
                      <a:pt x="38" y="9"/>
                    </a:cubicBezTo>
                    <a:cubicBezTo>
                      <a:pt x="37" y="4"/>
                      <a:pt x="31" y="0"/>
                      <a:pt x="23" y="0"/>
                    </a:cubicBezTo>
                  </a:path>
                </a:pathLst>
              </a:custGeom>
              <a:solidFill>
                <a:srgbClr val="be5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未知"/>
              <p:cNvSpPr/>
              <p:nvPr/>
            </p:nvSpPr>
            <p:spPr>
              <a:xfrm>
                <a:off x="2493000" y="451980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6" y="23"/>
                    </a:moveTo>
                    <a:cubicBezTo>
                      <a:pt x="8" y="23"/>
                      <a:pt x="2" y="20"/>
                      <a:pt x="1" y="15"/>
                    </a:cubicBezTo>
                    <a:cubicBezTo>
                      <a:pt x="0" y="9"/>
                      <a:pt x="7" y="2"/>
                      <a:pt x="16" y="0"/>
                    </a:cubicBezTo>
                    <a:cubicBezTo>
                      <a:pt x="18" y="0"/>
                      <a:pt x="20" y="0"/>
                      <a:pt x="22" y="0"/>
                    </a:cubicBezTo>
                    <a:cubicBezTo>
                      <a:pt x="29" y="0"/>
                      <a:pt x="35" y="3"/>
                      <a:pt x="36" y="8"/>
                    </a:cubicBezTo>
                    <a:cubicBezTo>
                      <a:pt x="37" y="14"/>
                      <a:pt x="30" y="20"/>
                      <a:pt x="21" y="22"/>
                    </a:cubicBezTo>
                    <a:cubicBezTo>
                      <a:pt x="19" y="23"/>
                      <a:pt x="17" y="23"/>
                      <a:pt x="16" y="23"/>
                    </a:cubicBezTo>
                    <a:moveTo>
                      <a:pt x="22" y="0"/>
                    </a:moveTo>
                    <a:cubicBezTo>
                      <a:pt x="20" y="0"/>
                      <a:pt x="18" y="0"/>
                      <a:pt x="16" y="0"/>
                    </a:cubicBezTo>
                    <a:cubicBezTo>
                      <a:pt x="7" y="2"/>
                      <a:pt x="0" y="9"/>
                      <a:pt x="1" y="15"/>
                    </a:cubicBezTo>
                    <a:cubicBezTo>
                      <a:pt x="2" y="20"/>
                      <a:pt x="8" y="23"/>
                      <a:pt x="15" y="23"/>
                    </a:cubicBezTo>
                    <a:cubicBezTo>
                      <a:pt x="17" y="23"/>
                      <a:pt x="19" y="23"/>
                      <a:pt x="21" y="23"/>
                    </a:cubicBezTo>
                    <a:cubicBezTo>
                      <a:pt x="31" y="21"/>
                      <a:pt x="38" y="14"/>
                      <a:pt x="36" y="8"/>
                    </a:cubicBezTo>
                    <a:cubicBezTo>
                      <a:pt x="35" y="3"/>
                      <a:pt x="29" y="0"/>
                      <a:pt x="22" y="0"/>
                    </a:cubicBezTo>
                  </a:path>
                </a:pathLst>
              </a:custGeom>
              <a:solidFill>
                <a:srgbClr val="bf5f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未知"/>
              <p:cNvSpPr/>
              <p:nvPr/>
            </p:nvSpPr>
            <p:spPr>
              <a:xfrm>
                <a:off x="2493000" y="4519800"/>
                <a:ext cx="8280" cy="612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6" y="23"/>
                    </a:moveTo>
                    <a:cubicBezTo>
                      <a:pt x="8" y="23"/>
                      <a:pt x="3" y="19"/>
                      <a:pt x="2" y="15"/>
                    </a:cubicBezTo>
                    <a:cubicBezTo>
                      <a:pt x="1" y="9"/>
                      <a:pt x="7" y="3"/>
                      <a:pt x="17" y="1"/>
                    </a:cubicBezTo>
                    <a:cubicBezTo>
                      <a:pt x="18" y="0"/>
                      <a:pt x="20" y="0"/>
                      <a:pt x="22" y="0"/>
                    </a:cubicBezTo>
                    <a:cubicBezTo>
                      <a:pt x="29" y="0"/>
                      <a:pt x="35" y="3"/>
                      <a:pt x="35" y="8"/>
                    </a:cubicBezTo>
                    <a:cubicBezTo>
                      <a:pt x="37" y="14"/>
                      <a:pt x="30" y="20"/>
                      <a:pt x="21" y="22"/>
                    </a:cubicBezTo>
                    <a:cubicBezTo>
                      <a:pt x="19" y="22"/>
                      <a:pt x="17" y="23"/>
                      <a:pt x="16" y="23"/>
                    </a:cubicBezTo>
                    <a:moveTo>
                      <a:pt x="22" y="0"/>
                    </a:moveTo>
                    <a:cubicBezTo>
                      <a:pt x="20" y="0"/>
                      <a:pt x="18" y="0"/>
                      <a:pt x="16" y="0"/>
                    </a:cubicBezTo>
                    <a:cubicBezTo>
                      <a:pt x="7" y="2"/>
                      <a:pt x="0" y="9"/>
                      <a:pt x="1" y="15"/>
                    </a:cubicBezTo>
                    <a:cubicBezTo>
                      <a:pt x="2" y="20"/>
                      <a:pt x="8" y="23"/>
                      <a:pt x="16" y="23"/>
                    </a:cubicBezTo>
                    <a:cubicBezTo>
                      <a:pt x="17" y="23"/>
                      <a:pt x="19" y="23"/>
                      <a:pt x="21" y="22"/>
                    </a:cubicBezTo>
                    <a:cubicBezTo>
                      <a:pt x="30" y="20"/>
                      <a:pt x="37" y="14"/>
                      <a:pt x="36" y="8"/>
                    </a:cubicBezTo>
                    <a:cubicBezTo>
                      <a:pt x="35" y="3"/>
                      <a:pt x="29" y="0"/>
                      <a:pt x="22" y="0"/>
                    </a:cubicBezTo>
                  </a:path>
                </a:pathLst>
              </a:custGeom>
              <a:solidFill>
                <a:srgbClr val="c06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未知"/>
              <p:cNvSpPr/>
              <p:nvPr/>
            </p:nvSpPr>
            <p:spPr>
              <a:xfrm>
                <a:off x="2493000" y="451980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36" h="23">
                    <a:moveTo>
                      <a:pt x="15" y="22"/>
                    </a:moveTo>
                    <a:cubicBezTo>
                      <a:pt x="8" y="22"/>
                      <a:pt x="2" y="19"/>
                      <a:pt x="1" y="15"/>
                    </a:cubicBezTo>
                    <a:cubicBezTo>
                      <a:pt x="0" y="9"/>
                      <a:pt x="6" y="3"/>
                      <a:pt x="16" y="1"/>
                    </a:cubicBezTo>
                    <a:cubicBezTo>
                      <a:pt x="17" y="1"/>
                      <a:pt x="19" y="0"/>
                      <a:pt x="20" y="0"/>
                    </a:cubicBezTo>
                    <a:cubicBezTo>
                      <a:pt x="27" y="0"/>
                      <a:pt x="33" y="3"/>
                      <a:pt x="34" y="8"/>
                    </a:cubicBezTo>
                    <a:cubicBezTo>
                      <a:pt x="35" y="14"/>
                      <a:pt x="29" y="20"/>
                      <a:pt x="20" y="22"/>
                    </a:cubicBezTo>
                    <a:cubicBezTo>
                      <a:pt x="18" y="22"/>
                      <a:pt x="16" y="22"/>
                      <a:pt x="15" y="22"/>
                    </a:cubicBezTo>
                    <a:moveTo>
                      <a:pt x="21" y="0"/>
                    </a:moveTo>
                    <a:cubicBezTo>
                      <a:pt x="19" y="0"/>
                      <a:pt x="17" y="0"/>
                      <a:pt x="16" y="1"/>
                    </a:cubicBezTo>
                    <a:cubicBezTo>
                      <a:pt x="6" y="3"/>
                      <a:pt x="0" y="9"/>
                      <a:pt x="1" y="15"/>
                    </a:cubicBezTo>
                    <a:cubicBezTo>
                      <a:pt x="2" y="19"/>
                      <a:pt x="7" y="23"/>
                      <a:pt x="15" y="23"/>
                    </a:cubicBezTo>
                    <a:cubicBezTo>
                      <a:pt x="16" y="23"/>
                      <a:pt x="18" y="22"/>
                      <a:pt x="20" y="22"/>
                    </a:cubicBezTo>
                    <a:cubicBezTo>
                      <a:pt x="29" y="20"/>
                      <a:pt x="36" y="14"/>
                      <a:pt x="34" y="8"/>
                    </a:cubicBezTo>
                    <a:cubicBezTo>
                      <a:pt x="34" y="3"/>
                      <a:pt x="28" y="0"/>
                      <a:pt x="21" y="0"/>
                    </a:cubicBezTo>
                  </a:path>
                </a:pathLst>
              </a:custGeom>
              <a:solidFill>
                <a:srgbClr val="c06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未知"/>
              <p:cNvSpPr/>
              <p:nvPr/>
            </p:nvSpPr>
            <p:spPr>
              <a:xfrm>
                <a:off x="2493000" y="4519800"/>
                <a:ext cx="7560" cy="576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15" y="22"/>
                    </a:moveTo>
                    <a:cubicBezTo>
                      <a:pt x="8" y="22"/>
                      <a:pt x="2" y="19"/>
                      <a:pt x="2" y="14"/>
                    </a:cubicBezTo>
                    <a:cubicBezTo>
                      <a:pt x="1" y="9"/>
                      <a:pt x="7" y="3"/>
                      <a:pt x="16" y="1"/>
                    </a:cubicBezTo>
                    <a:cubicBezTo>
                      <a:pt x="17" y="1"/>
                      <a:pt x="19" y="1"/>
                      <a:pt x="20" y="1"/>
                    </a:cubicBezTo>
                    <a:cubicBezTo>
                      <a:pt x="27" y="1"/>
                      <a:pt x="33" y="4"/>
                      <a:pt x="34" y="8"/>
                    </a:cubicBezTo>
                    <a:cubicBezTo>
                      <a:pt x="35" y="14"/>
                      <a:pt x="28" y="20"/>
                      <a:pt x="20" y="21"/>
                    </a:cubicBezTo>
                    <a:cubicBezTo>
                      <a:pt x="18" y="22"/>
                      <a:pt x="16" y="22"/>
                      <a:pt x="15" y="22"/>
                    </a:cubicBezTo>
                    <a:moveTo>
                      <a:pt x="20" y="0"/>
                    </a:moveTo>
                    <a:cubicBezTo>
                      <a:pt x="19" y="0"/>
                      <a:pt x="17" y="1"/>
                      <a:pt x="16" y="1"/>
                    </a:cubicBezTo>
                    <a:cubicBezTo>
                      <a:pt x="6" y="3"/>
                      <a:pt x="0" y="9"/>
                      <a:pt x="1" y="15"/>
                    </a:cubicBezTo>
                    <a:cubicBezTo>
                      <a:pt x="2" y="19"/>
                      <a:pt x="8" y="22"/>
                      <a:pt x="15" y="22"/>
                    </a:cubicBezTo>
                    <a:cubicBezTo>
                      <a:pt x="16" y="22"/>
                      <a:pt x="18" y="22"/>
                      <a:pt x="20" y="22"/>
                    </a:cubicBezTo>
                    <a:cubicBezTo>
                      <a:pt x="29" y="20"/>
                      <a:pt x="35" y="14"/>
                      <a:pt x="34" y="8"/>
                    </a:cubicBezTo>
                    <a:cubicBezTo>
                      <a:pt x="33" y="3"/>
                      <a:pt x="27" y="0"/>
                      <a:pt x="20" y="0"/>
                    </a:cubicBezTo>
                  </a:path>
                </a:pathLst>
              </a:custGeom>
              <a:solidFill>
                <a:srgbClr val="c161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未知"/>
              <p:cNvSpPr/>
              <p:nvPr/>
            </p:nvSpPr>
            <p:spPr>
              <a:xfrm>
                <a:off x="2493360" y="4520160"/>
                <a:ext cx="7560" cy="540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14" y="21"/>
                    </a:moveTo>
                    <a:cubicBezTo>
                      <a:pt x="7" y="21"/>
                      <a:pt x="2" y="18"/>
                      <a:pt x="1" y="13"/>
                    </a:cubicBezTo>
                    <a:cubicBezTo>
                      <a:pt x="0" y="8"/>
                      <a:pt x="6" y="2"/>
                      <a:pt x="15" y="1"/>
                    </a:cubicBezTo>
                    <a:cubicBezTo>
                      <a:pt x="16" y="0"/>
                      <a:pt x="18" y="0"/>
                      <a:pt x="19" y="0"/>
                    </a:cubicBezTo>
                    <a:cubicBezTo>
                      <a:pt x="26" y="0"/>
                      <a:pt x="31" y="3"/>
                      <a:pt x="32" y="7"/>
                    </a:cubicBezTo>
                    <a:cubicBezTo>
                      <a:pt x="33" y="13"/>
                      <a:pt x="27" y="18"/>
                      <a:pt x="19" y="20"/>
                    </a:cubicBezTo>
                    <a:cubicBezTo>
                      <a:pt x="17" y="20"/>
                      <a:pt x="15" y="21"/>
                      <a:pt x="14" y="21"/>
                    </a:cubicBezTo>
                    <a:moveTo>
                      <a:pt x="19" y="0"/>
                    </a:moveTo>
                    <a:cubicBezTo>
                      <a:pt x="18" y="0"/>
                      <a:pt x="16" y="0"/>
                      <a:pt x="15" y="0"/>
                    </a:cubicBezTo>
                    <a:cubicBezTo>
                      <a:pt x="6" y="2"/>
                      <a:pt x="0" y="8"/>
                      <a:pt x="1" y="13"/>
                    </a:cubicBezTo>
                    <a:cubicBezTo>
                      <a:pt x="1" y="18"/>
                      <a:pt x="7" y="21"/>
                      <a:pt x="14" y="21"/>
                    </a:cubicBezTo>
                    <a:cubicBezTo>
                      <a:pt x="15" y="21"/>
                      <a:pt x="17" y="21"/>
                      <a:pt x="19" y="20"/>
                    </a:cubicBezTo>
                    <a:cubicBezTo>
                      <a:pt x="27" y="19"/>
                      <a:pt x="34" y="13"/>
                      <a:pt x="33" y="7"/>
                    </a:cubicBezTo>
                    <a:cubicBezTo>
                      <a:pt x="32" y="3"/>
                      <a:pt x="26" y="0"/>
                      <a:pt x="19" y="0"/>
                    </a:cubicBezTo>
                  </a:path>
                </a:pathLst>
              </a:custGeom>
              <a:solidFill>
                <a:srgbClr val="c26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未知"/>
              <p:cNvSpPr/>
              <p:nvPr/>
            </p:nvSpPr>
            <p:spPr>
              <a:xfrm>
                <a:off x="2493360" y="4520160"/>
                <a:ext cx="7200" cy="54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14" y="20"/>
                    </a:moveTo>
                    <a:cubicBezTo>
                      <a:pt x="8" y="20"/>
                      <a:pt x="2" y="18"/>
                      <a:pt x="1" y="13"/>
                    </a:cubicBezTo>
                    <a:cubicBezTo>
                      <a:pt x="0" y="8"/>
                      <a:pt x="6" y="2"/>
                      <a:pt x="15" y="1"/>
                    </a:cubicBezTo>
                    <a:cubicBezTo>
                      <a:pt x="16" y="0"/>
                      <a:pt x="18" y="0"/>
                      <a:pt x="19" y="0"/>
                    </a:cubicBezTo>
                    <a:cubicBezTo>
                      <a:pt x="26" y="0"/>
                      <a:pt x="31" y="3"/>
                      <a:pt x="32" y="7"/>
                    </a:cubicBezTo>
                    <a:cubicBezTo>
                      <a:pt x="33" y="13"/>
                      <a:pt x="27" y="18"/>
                      <a:pt x="18" y="20"/>
                    </a:cubicBezTo>
                    <a:cubicBezTo>
                      <a:pt x="17" y="20"/>
                      <a:pt x="15" y="20"/>
                      <a:pt x="14" y="20"/>
                    </a:cubicBezTo>
                    <a:moveTo>
                      <a:pt x="19" y="0"/>
                    </a:moveTo>
                    <a:cubicBezTo>
                      <a:pt x="18" y="0"/>
                      <a:pt x="16" y="0"/>
                      <a:pt x="15" y="1"/>
                    </a:cubicBezTo>
                    <a:cubicBezTo>
                      <a:pt x="6" y="2"/>
                      <a:pt x="0" y="8"/>
                      <a:pt x="1" y="13"/>
                    </a:cubicBezTo>
                    <a:cubicBezTo>
                      <a:pt x="2" y="18"/>
                      <a:pt x="7" y="21"/>
                      <a:pt x="14" y="21"/>
                    </a:cubicBezTo>
                    <a:cubicBezTo>
                      <a:pt x="15" y="21"/>
                      <a:pt x="17" y="20"/>
                      <a:pt x="19" y="20"/>
                    </a:cubicBezTo>
                    <a:cubicBezTo>
                      <a:pt x="27" y="18"/>
                      <a:pt x="33" y="13"/>
                      <a:pt x="32" y="7"/>
                    </a:cubicBezTo>
                    <a:cubicBezTo>
                      <a:pt x="31" y="3"/>
                      <a:pt x="26" y="0"/>
                      <a:pt x="19" y="0"/>
                    </a:cubicBezTo>
                  </a:path>
                </a:pathLst>
              </a:custGeom>
              <a:solidFill>
                <a:srgbClr val="c36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未知"/>
              <p:cNvSpPr/>
              <p:nvPr/>
            </p:nvSpPr>
            <p:spPr>
              <a:xfrm>
                <a:off x="2493360" y="4520160"/>
                <a:ext cx="7200" cy="5400"/>
              </a:xfrm>
              <a:custGeom>
                <a:avLst/>
                <a:gdLst/>
                <a:ahLst/>
                <a:rect l="l" t="t" r="r" b="b"/>
                <a:pathLst>
                  <a:path w="33" h="20">
                    <a:moveTo>
                      <a:pt x="14" y="20"/>
                    </a:moveTo>
                    <a:cubicBezTo>
                      <a:pt x="8" y="20"/>
                      <a:pt x="3" y="17"/>
                      <a:pt x="2" y="13"/>
                    </a:cubicBezTo>
                    <a:cubicBezTo>
                      <a:pt x="1" y="8"/>
                      <a:pt x="7" y="3"/>
                      <a:pt x="15" y="1"/>
                    </a:cubicBezTo>
                    <a:cubicBezTo>
                      <a:pt x="16" y="1"/>
                      <a:pt x="18" y="1"/>
                      <a:pt x="19" y="1"/>
                    </a:cubicBezTo>
                    <a:cubicBezTo>
                      <a:pt x="25" y="1"/>
                      <a:pt x="30" y="3"/>
                      <a:pt x="31" y="7"/>
                    </a:cubicBezTo>
                    <a:cubicBezTo>
                      <a:pt x="32" y="13"/>
                      <a:pt x="27" y="18"/>
                      <a:pt x="18" y="20"/>
                    </a:cubicBezTo>
                    <a:cubicBezTo>
                      <a:pt x="17" y="20"/>
                      <a:pt x="15" y="20"/>
                      <a:pt x="14" y="20"/>
                    </a:cubicBezTo>
                    <a:moveTo>
                      <a:pt x="19" y="0"/>
                    </a:moveTo>
                    <a:cubicBezTo>
                      <a:pt x="18" y="0"/>
                      <a:pt x="16" y="0"/>
                      <a:pt x="15" y="1"/>
                    </a:cubicBezTo>
                    <a:cubicBezTo>
                      <a:pt x="6" y="2"/>
                      <a:pt x="0" y="8"/>
                      <a:pt x="1" y="13"/>
                    </a:cubicBezTo>
                    <a:cubicBezTo>
                      <a:pt x="2" y="18"/>
                      <a:pt x="8" y="20"/>
                      <a:pt x="14" y="20"/>
                    </a:cubicBezTo>
                    <a:cubicBezTo>
                      <a:pt x="15" y="20"/>
                      <a:pt x="17" y="20"/>
                      <a:pt x="18" y="20"/>
                    </a:cubicBezTo>
                    <a:cubicBezTo>
                      <a:pt x="27" y="18"/>
                      <a:pt x="33" y="13"/>
                      <a:pt x="32" y="7"/>
                    </a:cubicBezTo>
                    <a:cubicBezTo>
                      <a:pt x="31" y="3"/>
                      <a:pt x="26" y="0"/>
                      <a:pt x="19" y="0"/>
                    </a:cubicBezTo>
                  </a:path>
                </a:pathLst>
              </a:custGeom>
              <a:solidFill>
                <a:srgbClr val="c563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未知"/>
              <p:cNvSpPr/>
              <p:nvPr/>
            </p:nvSpPr>
            <p:spPr>
              <a:xfrm>
                <a:off x="2493720" y="452016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13" y="19"/>
                    </a:moveTo>
                    <a:cubicBezTo>
                      <a:pt x="7" y="19"/>
                      <a:pt x="2" y="16"/>
                      <a:pt x="1" y="12"/>
                    </a:cubicBezTo>
                    <a:cubicBezTo>
                      <a:pt x="0" y="7"/>
                      <a:pt x="6" y="2"/>
                      <a:pt x="14" y="0"/>
                    </a:cubicBezTo>
                    <a:cubicBezTo>
                      <a:pt x="15" y="0"/>
                      <a:pt x="17" y="0"/>
                      <a:pt x="18" y="0"/>
                    </a:cubicBezTo>
                    <a:cubicBezTo>
                      <a:pt x="24" y="0"/>
                      <a:pt x="29" y="3"/>
                      <a:pt x="30" y="7"/>
                    </a:cubicBezTo>
                    <a:cubicBezTo>
                      <a:pt x="31" y="12"/>
                      <a:pt x="25" y="17"/>
                      <a:pt x="17" y="18"/>
                    </a:cubicBezTo>
                    <a:cubicBezTo>
                      <a:pt x="16" y="19"/>
                      <a:pt x="14" y="19"/>
                      <a:pt x="13" y="19"/>
                    </a:cubicBezTo>
                    <a:moveTo>
                      <a:pt x="18" y="0"/>
                    </a:moveTo>
                    <a:cubicBezTo>
                      <a:pt x="17" y="0"/>
                      <a:pt x="15" y="0"/>
                      <a:pt x="14" y="0"/>
                    </a:cubicBezTo>
                    <a:cubicBezTo>
                      <a:pt x="6" y="2"/>
                      <a:pt x="0" y="7"/>
                      <a:pt x="1" y="12"/>
                    </a:cubicBezTo>
                    <a:cubicBezTo>
                      <a:pt x="2" y="16"/>
                      <a:pt x="7" y="19"/>
                      <a:pt x="13" y="19"/>
                    </a:cubicBezTo>
                    <a:cubicBezTo>
                      <a:pt x="14" y="19"/>
                      <a:pt x="16" y="19"/>
                      <a:pt x="17" y="19"/>
                    </a:cubicBezTo>
                    <a:cubicBezTo>
                      <a:pt x="26" y="17"/>
                      <a:pt x="31" y="12"/>
                      <a:pt x="30" y="6"/>
                    </a:cubicBezTo>
                    <a:cubicBezTo>
                      <a:pt x="29" y="2"/>
                      <a:pt x="24" y="0"/>
                      <a:pt x="18" y="0"/>
                    </a:cubicBezTo>
                  </a:path>
                </a:pathLst>
              </a:custGeom>
              <a:solidFill>
                <a:srgbClr val="c564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未知"/>
              <p:cNvSpPr/>
              <p:nvPr/>
            </p:nvSpPr>
            <p:spPr>
              <a:xfrm>
                <a:off x="2493720" y="4520160"/>
                <a:ext cx="6840" cy="50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13" y="18"/>
                    </a:moveTo>
                    <a:cubicBezTo>
                      <a:pt x="7" y="18"/>
                      <a:pt x="3" y="16"/>
                      <a:pt x="2" y="12"/>
                    </a:cubicBezTo>
                    <a:cubicBezTo>
                      <a:pt x="1" y="7"/>
                      <a:pt x="6" y="2"/>
                      <a:pt x="14" y="1"/>
                    </a:cubicBezTo>
                    <a:cubicBezTo>
                      <a:pt x="15" y="0"/>
                      <a:pt x="17" y="0"/>
                      <a:pt x="18" y="0"/>
                    </a:cubicBezTo>
                    <a:cubicBezTo>
                      <a:pt x="24" y="0"/>
                      <a:pt x="29" y="3"/>
                      <a:pt x="29" y="7"/>
                    </a:cubicBezTo>
                    <a:cubicBezTo>
                      <a:pt x="30" y="11"/>
                      <a:pt x="25" y="17"/>
                      <a:pt x="17" y="18"/>
                    </a:cubicBezTo>
                    <a:cubicBezTo>
                      <a:pt x="16" y="18"/>
                      <a:pt x="14" y="18"/>
                      <a:pt x="13" y="18"/>
                    </a:cubicBezTo>
                    <a:moveTo>
                      <a:pt x="18" y="0"/>
                    </a:moveTo>
                    <a:cubicBezTo>
                      <a:pt x="17" y="0"/>
                      <a:pt x="15" y="0"/>
                      <a:pt x="14" y="0"/>
                    </a:cubicBezTo>
                    <a:cubicBezTo>
                      <a:pt x="6" y="2"/>
                      <a:pt x="0" y="7"/>
                      <a:pt x="1" y="12"/>
                    </a:cubicBezTo>
                    <a:cubicBezTo>
                      <a:pt x="2" y="16"/>
                      <a:pt x="7" y="19"/>
                      <a:pt x="13" y="19"/>
                    </a:cubicBezTo>
                    <a:cubicBezTo>
                      <a:pt x="14" y="19"/>
                      <a:pt x="16" y="19"/>
                      <a:pt x="17" y="18"/>
                    </a:cubicBezTo>
                    <a:cubicBezTo>
                      <a:pt x="25" y="17"/>
                      <a:pt x="31" y="12"/>
                      <a:pt x="30" y="7"/>
                    </a:cubicBezTo>
                    <a:cubicBezTo>
                      <a:pt x="29" y="3"/>
                      <a:pt x="24" y="0"/>
                      <a:pt x="18" y="0"/>
                    </a:cubicBezTo>
                  </a:path>
                </a:pathLst>
              </a:custGeom>
              <a:solidFill>
                <a:srgbClr val="c764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未知"/>
              <p:cNvSpPr/>
              <p:nvPr/>
            </p:nvSpPr>
            <p:spPr>
              <a:xfrm>
                <a:off x="2493720" y="45201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12" y="18"/>
                    </a:moveTo>
                    <a:cubicBezTo>
                      <a:pt x="7" y="18"/>
                      <a:pt x="2" y="16"/>
                      <a:pt x="1" y="12"/>
                    </a:cubicBezTo>
                    <a:cubicBezTo>
                      <a:pt x="0" y="7"/>
                      <a:pt x="6" y="2"/>
                      <a:pt x="13" y="1"/>
                    </a:cubicBezTo>
                    <a:cubicBezTo>
                      <a:pt x="14" y="1"/>
                      <a:pt x="16" y="1"/>
                      <a:pt x="17" y="1"/>
                    </a:cubicBezTo>
                    <a:cubicBezTo>
                      <a:pt x="23" y="1"/>
                      <a:pt x="27" y="3"/>
                      <a:pt x="28" y="7"/>
                    </a:cubicBezTo>
                    <a:cubicBezTo>
                      <a:pt x="29" y="11"/>
                      <a:pt x="24" y="16"/>
                      <a:pt x="16" y="18"/>
                    </a:cubicBezTo>
                    <a:cubicBezTo>
                      <a:pt x="15" y="18"/>
                      <a:pt x="13" y="18"/>
                      <a:pt x="12" y="18"/>
                    </a:cubicBezTo>
                    <a:moveTo>
                      <a:pt x="17" y="0"/>
                    </a:moveTo>
                    <a:cubicBezTo>
                      <a:pt x="16" y="0"/>
                      <a:pt x="14" y="0"/>
                      <a:pt x="13" y="1"/>
                    </a:cubicBezTo>
                    <a:cubicBezTo>
                      <a:pt x="5" y="2"/>
                      <a:pt x="0" y="7"/>
                      <a:pt x="1" y="12"/>
                    </a:cubicBezTo>
                    <a:cubicBezTo>
                      <a:pt x="2" y="16"/>
                      <a:pt x="6" y="18"/>
                      <a:pt x="12" y="18"/>
                    </a:cubicBezTo>
                    <a:cubicBezTo>
                      <a:pt x="13" y="18"/>
                      <a:pt x="15" y="18"/>
                      <a:pt x="16" y="18"/>
                    </a:cubicBezTo>
                    <a:cubicBezTo>
                      <a:pt x="24" y="17"/>
                      <a:pt x="29" y="11"/>
                      <a:pt x="28" y="7"/>
                    </a:cubicBezTo>
                    <a:cubicBezTo>
                      <a:pt x="28" y="3"/>
                      <a:pt x="23" y="0"/>
                      <a:pt x="17" y="0"/>
                    </a:cubicBezTo>
                  </a:path>
                </a:pathLst>
              </a:custGeom>
              <a:solidFill>
                <a:srgbClr val="c865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未知"/>
              <p:cNvSpPr/>
              <p:nvPr/>
            </p:nvSpPr>
            <p:spPr>
              <a:xfrm>
                <a:off x="2493720" y="4520520"/>
                <a:ext cx="6480" cy="432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12" y="17"/>
                    </a:moveTo>
                    <a:cubicBezTo>
                      <a:pt x="7" y="17"/>
                      <a:pt x="2" y="15"/>
                      <a:pt x="2" y="11"/>
                    </a:cubicBezTo>
                    <a:cubicBezTo>
                      <a:pt x="1" y="6"/>
                      <a:pt x="6" y="2"/>
                      <a:pt x="13" y="0"/>
                    </a:cubicBezTo>
                    <a:cubicBezTo>
                      <a:pt x="14" y="0"/>
                      <a:pt x="16" y="0"/>
                      <a:pt x="17" y="0"/>
                    </a:cubicBezTo>
                    <a:cubicBezTo>
                      <a:pt x="22" y="0"/>
                      <a:pt x="27" y="2"/>
                      <a:pt x="27" y="6"/>
                    </a:cubicBezTo>
                    <a:cubicBezTo>
                      <a:pt x="28" y="10"/>
                      <a:pt x="23" y="15"/>
                      <a:pt x="16" y="16"/>
                    </a:cubicBezTo>
                    <a:cubicBezTo>
                      <a:pt x="15" y="17"/>
                      <a:pt x="14" y="17"/>
                      <a:pt x="12" y="17"/>
                    </a:cubicBezTo>
                    <a:moveTo>
                      <a:pt x="17" y="0"/>
                    </a:moveTo>
                    <a:cubicBezTo>
                      <a:pt x="16" y="0"/>
                      <a:pt x="14" y="0"/>
                      <a:pt x="13" y="0"/>
                    </a:cubicBezTo>
                    <a:cubicBezTo>
                      <a:pt x="6" y="1"/>
                      <a:pt x="0" y="6"/>
                      <a:pt x="1" y="11"/>
                    </a:cubicBezTo>
                    <a:cubicBezTo>
                      <a:pt x="2" y="15"/>
                      <a:pt x="7" y="17"/>
                      <a:pt x="12" y="17"/>
                    </a:cubicBezTo>
                    <a:cubicBezTo>
                      <a:pt x="13" y="17"/>
                      <a:pt x="15" y="17"/>
                      <a:pt x="16" y="17"/>
                    </a:cubicBezTo>
                    <a:cubicBezTo>
                      <a:pt x="24" y="15"/>
                      <a:pt x="29" y="10"/>
                      <a:pt x="28" y="6"/>
                    </a:cubicBezTo>
                    <a:cubicBezTo>
                      <a:pt x="27" y="2"/>
                      <a:pt x="23" y="0"/>
                      <a:pt x="17" y="0"/>
                    </a:cubicBezTo>
                  </a:path>
                </a:pathLst>
              </a:custGeom>
              <a:solidFill>
                <a:srgbClr val="c965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未知"/>
              <p:cNvSpPr/>
              <p:nvPr/>
            </p:nvSpPr>
            <p:spPr>
              <a:xfrm>
                <a:off x="2494080" y="4520520"/>
                <a:ext cx="5760" cy="432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1" y="17"/>
                    </a:moveTo>
                    <a:cubicBezTo>
                      <a:pt x="6" y="17"/>
                      <a:pt x="2" y="14"/>
                      <a:pt x="1" y="11"/>
                    </a:cubicBezTo>
                    <a:cubicBezTo>
                      <a:pt x="0" y="6"/>
                      <a:pt x="5" y="2"/>
                      <a:pt x="12" y="0"/>
                    </a:cubicBezTo>
                    <a:cubicBezTo>
                      <a:pt x="13" y="0"/>
                      <a:pt x="15" y="0"/>
                      <a:pt x="16" y="0"/>
                    </a:cubicBezTo>
                    <a:cubicBezTo>
                      <a:pt x="21" y="0"/>
                      <a:pt x="25" y="2"/>
                      <a:pt x="26" y="6"/>
                    </a:cubicBezTo>
                    <a:cubicBezTo>
                      <a:pt x="27" y="10"/>
                      <a:pt x="22" y="15"/>
                      <a:pt x="15" y="16"/>
                    </a:cubicBezTo>
                    <a:cubicBezTo>
                      <a:pt x="14" y="16"/>
                      <a:pt x="13" y="17"/>
                      <a:pt x="11" y="17"/>
                    </a:cubicBezTo>
                    <a:moveTo>
                      <a:pt x="16" y="0"/>
                    </a:moveTo>
                    <a:cubicBezTo>
                      <a:pt x="15" y="0"/>
                      <a:pt x="13" y="0"/>
                      <a:pt x="12" y="0"/>
                    </a:cubicBezTo>
                    <a:cubicBezTo>
                      <a:pt x="5" y="2"/>
                      <a:pt x="0" y="6"/>
                      <a:pt x="1" y="11"/>
                    </a:cubicBezTo>
                    <a:cubicBezTo>
                      <a:pt x="1" y="15"/>
                      <a:pt x="6" y="17"/>
                      <a:pt x="11" y="17"/>
                    </a:cubicBezTo>
                    <a:cubicBezTo>
                      <a:pt x="13" y="17"/>
                      <a:pt x="14" y="17"/>
                      <a:pt x="15" y="16"/>
                    </a:cubicBezTo>
                    <a:cubicBezTo>
                      <a:pt x="22" y="15"/>
                      <a:pt x="27" y="10"/>
                      <a:pt x="26" y="6"/>
                    </a:cubicBezTo>
                    <a:cubicBezTo>
                      <a:pt x="26" y="2"/>
                      <a:pt x="21" y="0"/>
                      <a:pt x="16" y="0"/>
                    </a:cubicBezTo>
                  </a:path>
                </a:pathLst>
              </a:custGeom>
              <a:solidFill>
                <a:srgbClr val="ca66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未知"/>
              <p:cNvSpPr/>
              <p:nvPr/>
            </p:nvSpPr>
            <p:spPr>
              <a:xfrm>
                <a:off x="2494800" y="451512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10" y="28"/>
                    </a:moveTo>
                    <a:cubicBezTo>
                      <a:pt x="14" y="40"/>
                      <a:pt x="19" y="52"/>
                      <a:pt x="18" y="52"/>
                    </a:cubicBezTo>
                    <a:cubicBezTo>
                      <a:pt x="25" y="47"/>
                      <a:pt x="26" y="38"/>
                      <a:pt x="27" y="30"/>
                    </a:cubicBezTo>
                    <a:cubicBezTo>
                      <a:pt x="27" y="23"/>
                      <a:pt x="28" y="12"/>
                      <a:pt x="25" y="5"/>
                    </a:cubicBezTo>
                    <a:cubicBezTo>
                      <a:pt x="24" y="4"/>
                      <a:pt x="25" y="1"/>
                      <a:pt x="21" y="1"/>
                    </a:cubicBezTo>
                    <a:cubicBezTo>
                      <a:pt x="19" y="0"/>
                      <a:pt x="11" y="1"/>
                      <a:pt x="8" y="1"/>
                    </a:cubicBezTo>
                    <a:cubicBezTo>
                      <a:pt x="6" y="1"/>
                      <a:pt x="2" y="2"/>
                      <a:pt x="0" y="2"/>
                    </a:cubicBezTo>
                    <a:cubicBezTo>
                      <a:pt x="7" y="5"/>
                      <a:pt x="8" y="21"/>
                      <a:pt x="10" y="2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未知"/>
              <p:cNvSpPr/>
              <p:nvPr/>
            </p:nvSpPr>
            <p:spPr>
              <a:xfrm>
                <a:off x="2495880" y="4520520"/>
                <a:ext cx="2160" cy="28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8" y="3"/>
                    </a:moveTo>
                    <a:cubicBezTo>
                      <a:pt x="6" y="0"/>
                      <a:pt x="2" y="2"/>
                      <a:pt x="1" y="4"/>
                    </a:cubicBezTo>
                    <a:cubicBezTo>
                      <a:pt x="0" y="7"/>
                      <a:pt x="1" y="11"/>
                      <a:pt x="4" y="10"/>
                    </a:cubicBezTo>
                    <a:cubicBezTo>
                      <a:pt x="7" y="10"/>
                      <a:pt x="10" y="5"/>
                      <a:pt x="8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8" name="Picture 653" descr=""/>
              <p:cNvPicPr/>
              <p:nvPr/>
            </p:nvPicPr>
            <p:blipFill>
              <a:blip r:embed="rId2"/>
              <a:stretch/>
            </p:blipFill>
            <p:spPr>
              <a:xfrm>
                <a:off x="2493720" y="4520160"/>
                <a:ext cx="6480" cy="5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89" name="Picture 654" descr="LEA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77000" y="-501480"/>
            <a:ext cx="486000" cy="5014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55" descr="LEA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899560" y="-622440"/>
            <a:ext cx="314280" cy="4604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6" descr="LEA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642000" y="-847800"/>
            <a:ext cx="241560" cy="5796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57" descr="各种羽毛"/>
          <p:cNvPicPr/>
          <p:nvPr/>
        </p:nvPicPr>
        <p:blipFill>
          <a:blip r:embed="rId9"/>
          <a:stretch/>
        </p:blipFill>
        <p:spPr>
          <a:xfrm>
            <a:off x="9387000" y="-669960"/>
            <a:ext cx="771480" cy="6699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58" descr="my gir1"/>
          <p:cNvPicPr/>
          <p:nvPr/>
        </p:nvPicPr>
        <p:blipFill>
          <a:blip r:embed="rId10"/>
          <a:stretch/>
        </p:blipFill>
        <p:spPr>
          <a:xfrm>
            <a:off x="2638440" y="1660680"/>
            <a:ext cx="4319640" cy="11952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59" descr="未标题-1"/>
          <p:cNvPicPr/>
          <p:nvPr/>
        </p:nvPicPr>
        <p:blipFill>
          <a:blip r:embed="rId11"/>
          <a:stretch/>
        </p:blipFill>
        <p:spPr>
          <a:xfrm>
            <a:off x="3446640" y="2436840"/>
            <a:ext cx="2408040" cy="789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660" descr="未标题-1副本"/>
          <p:cNvPicPr/>
          <p:nvPr/>
        </p:nvPicPr>
        <p:blipFill>
          <a:blip r:embed="rId12"/>
          <a:srcRect l="0" t="0" r="22363" b="0"/>
          <a:stretch/>
        </p:blipFill>
        <p:spPr>
          <a:xfrm>
            <a:off x="6732720" y="2436840"/>
            <a:ext cx="1672920" cy="16174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661" descr="青蛙1"/>
          <p:cNvPicPr/>
          <p:nvPr/>
        </p:nvPicPr>
        <p:blipFill>
          <a:blip r:embed="rId13"/>
          <a:stretch/>
        </p:blipFill>
        <p:spPr>
          <a:xfrm>
            <a:off x="-3076560" y="2841480"/>
            <a:ext cx="3076560" cy="26449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62" descr="车1"/>
          <p:cNvPicPr/>
          <p:nvPr/>
        </p:nvPicPr>
        <p:blipFill>
          <a:blip r:embed="rId14"/>
          <a:srcRect l="0" t="36599" r="0" b="0"/>
          <a:stretch/>
        </p:blipFill>
        <p:spPr>
          <a:xfrm>
            <a:off x="3492360" y="3786120"/>
            <a:ext cx="3275280" cy="17845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663" descr="副本"/>
          <p:cNvPicPr/>
          <p:nvPr/>
        </p:nvPicPr>
        <p:blipFill>
          <a:blip r:embed="rId15"/>
          <a:stretch/>
        </p:blipFill>
        <p:spPr>
          <a:xfrm>
            <a:off x="4076640" y="3227400"/>
            <a:ext cx="1873440" cy="1916280"/>
          </a:xfrm>
          <a:prstGeom prst="rect">
            <a:avLst/>
          </a:prstGeom>
          <a:ln w="0">
            <a:noFill/>
          </a:ln>
        </p:spPr>
      </p:pic>
      <p:sp>
        <p:nvSpPr>
          <p:cNvPr id="699" name="矩形 1"/>
          <p:cNvSpPr/>
          <p:nvPr/>
        </p:nvSpPr>
        <p:spPr>
          <a:xfrm>
            <a:off x="1565640" y="7048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青蛙骑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2"/>
          <p:cNvSpPr/>
          <p:nvPr/>
        </p:nvSpPr>
        <p:spPr>
          <a:xfrm>
            <a:off x="542160" y="4395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8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evt="end">
                                        <p:tn val="14"/>
                                      </p:cond>
                                    </p:stCondLst>
                                  </p:cTn>
                                  <p:tgtEl>
                                    <p:spTgt spid="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90303E-007 L 0.74462 -1.11025 E">
                                      <p:cBhvr>
                                        <p:cTn id="21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34568E-006 L 0.71858 2.34568E-006 E">
                                      <p:cBhvr>
                                        <p:cTn id="23" dur="2000" fill="hold"/>
                                        <p:tgtEl>
                                          <p:spTgt spid="6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evt="end">
                                        <p:tn val="22"/>
                                      </p:cond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5.06173E-006 C 0.05261 -0.05925 0.10539 -0.1182 0.15556 -0.14567 C 0.20573 -0.17314 0.27709 -0.16203 0.30139 -0.16543 E">
                                      <p:cBhvr>
                                        <p:cTn id="31" dur="5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30"/>
                                      </p:cond>
                                    </p:stCondLst>
                                  </p:cTn>
                                  <p:tgtEl>
                                    <p:spTgt spid="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2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719E-006 C -0.00105 0.02008 -0.00382 0.08493 -0.00921 0.10099 C -0.01129 0.1186 -0.01546 0.13867 -0.02066 0.15288 C -0.02327 0.15998 -0.02709 0.1643 -0.02987 0.17141 C -0.03421 0.18283 -0.03716 0.19333 -0.04254 0.2026 C -0.04514 0.21928 -0.04167 0.2026 -0.0507 0.21835 C -0.06424 0.24182 -0.05226 0.2341 -0.06667 0.23904 C -0.06823 0.24182 -0.06962 0.24522 -0.07136 0.24707 C -0.07275 0.24861 -0.07448 0.24769 -0.07587 0.24954 C -0.08542 0.26159 -0.07101 0.25479 -0.08629 0.26498 C -0.09115 0.26807 -0.09618 0.26807 -0.10122 0.27023 C -0.13993 0.26714 -0.11962 0.27209 -0.13681 0.26004 C -0.14323 0.23719 -0.13455 0.26437 -0.14254 0.24954 C -0.14393 0.24676 -0.14462 0.24244 -0.14601 0.23904 C -0.1474 0.23595 -0.14914 0.2341 -0.1507 0.23132 C -0.15261 0.21742 -0.15417 0.22638 -0.15643 0.2131 C -0.15886 0.18314 -0.16094 0.18314 -0.15747 0.14485 C -0.15625 0.13218 -0.14914 0.12786 -0.1448 0.12477 C -0.14254 0.12323 -0.13802 0.11891 -0.13802 0.11921 C -0.11233 0.12323 -0.10591 0.12045 -0.08733 0.13496 C -0.08316 0.14763 -0.07796 0.15844 -0.07362 0.17141 C -0.07327 0.17944 -0.07362 0.18685 -0.0724 0.19457 C -0.07188 0.19766 -0.06962 0.19735 -0.06893 0.20013 C -0.06737 0.20538 -0.06754 0.21217 -0.06667 0.21835 C -0.06355 0.26498 -0.06528 0.23348 -0.06667 0.33015 C -0.06719 0.37215 -0.06737 0.4194 -0.07587 0.458 C -0.07743 0.4648 -0.07743 0.4753 -0.07934 0.48117 C -0.08334 0.49475 -0.08802 0.50649 -0.09202 0.52039 C -0.09375 0.53367 -0.09775 0.52996 -0.10348 0.53614 C -0.10747 0.54046 -0.11025 0.54695 -0.11389 0.55127 C -0.11997 0.5593 -0.11632 0.5454 -0.12414 0.56455 C -0.12674 0.57073 -0.129 0.57536 -0.1323 0.58061 C -0.13681 0.59605 -0.13612 0.59111 -0.13802 0.60377 C -0.13837 0.60686 -0.13993 0.60995 -0.13907 0.6118 C -0.1382 0.61365 -0.13681 0.60995 -0.13559 0.60902 C -0.13403 0.62755 -0.13664 0.64052 -0.13802 0.65813 C -0.14046 0.69148 -0.14237 0.72422 -0.14375 0.75757 C -0.14306 0.81223 -0.14948 0.84497 -0.13681 0.88234 C -0.13542 0.89902 -0.13212 0.93669 -0.12414 0.94256 C -0.11771 0.95244 -0.1099 0.95461 -0.10226 0.958 C -0.09688 0.96233 -0.09375 0.97097 -0.0908 0.98147 C -0.08907 0.99445 -0.0882 1.00309 -0.08733 1.01761 C -0.08907 1.14454 -0.07709 1.09111 -0.09427 1.1118 E">
                                      <p:cBhvr>
                                        <p:cTn id="41" dur="3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3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1.98271E-006 C -0.00539 0.01359 -0.00504 0.03057 -0.01146 0.04293 C -0.01303 0.05096 -0.0158 0.05713 -0.01737 0.06547 C -0.01928 0.07504 -0.01876 0.07999 -0.0231 0.08771 C -0.02414 0.10346 -0.02813 0.11643 -0.0323 0.13063 C -0.03369 0.14175 -0.03698 0.15349 -0.0415 0.16152 C -0.0441 0.17727 -0.04462 0.19055 -0.04948 0.20414 C -0.05053 0.21742 -0.05365 0.22606 -0.05521 0.23903 C -0.05695 0.25231 -0.05799 0.2622 -0.06216 0.27393 C -0.06372 0.28351 -0.06494 0.29339 -0.06667 0.30265 C -0.06737 0.30636 -0.06719 0.31223 -0.0691 0.3147 C -0.07014 0.31593 -0.07136 0.31717 -0.0724 0.31871 C -0.08039 0.33138 -0.07483 0.32736 -0.0816 0.33107 C -0.08959 0.34064 -0.08594 0.33786 -0.09202 0.34126 C -0.09323 0.3428 -0.09428 0.34435 -0.09549 0.34558 C -0.09653 0.34651 -0.09792 0.3462 -0.09896 0.34743 C -0.10035 0.34898 -0.10122 0.35176 -0.10244 0.3533 C -0.10452 0.35639 -0.10695 0.35917 -0.10921 0.36164 C -0.11042 0.36318 -0.11268 0.36596 -0.11268 0.36596 C -0.1191 0.38357 -0.11042 0.36288 -0.11841 0.37399 C -0.12639 0.38511 -0.11494 0.37646 -0.12414 0.38233 C -0.12692 0.39623 -0.12501 0.39129 -0.12882 0.3987 C -0.13056 0.41229 -0.13317 0.42619 -0.13577 0.43947 C -0.13612 0.44688 -0.13681 0.4546 -0.13681 0.46201 C -0.13681 0.47838 -0.13664 0.49475 -0.13577 0.51112 C -0.13507 0.52285 -0.12935 0.53706 -0.12657 0.54787 C -0.12396 0.55837 -0.12501 0.56609 -0.11962 0.57196 C -0.11928 0.57443 -0.1191 0.57659 -0.11841 0.57813 C -0.11789 0.57968 -0.11667 0.58091 -0.11615 0.58246 C -0.11251 0.59543 -0.11806 0.58709 -0.11146 0.59481 C -0.10973 0.59913 -0.1073 0.60222 -0.10573 0.60685 C -0.09792 0.63033 -0.09462 0.66275 -0.09202 0.689 C -0.0915 0.70321 -0.08646 0.74243 -0.09323 0.75448 C -0.09532 0.76992 -0.09983 0.78196 -0.10469 0.79524 C -0.10608 0.80327 -0.10764 0.80482 -0.11146 0.80945 C -0.11303 0.81748 -0.11615 0.81995 -0.11962 0.82582 C -0.11997 0.82798 -0.1198 0.83045 -0.12067 0.83199 C -0.12153 0.83354 -0.1231 0.83261 -0.12414 0.83415 C -0.12622 0.83632 -0.12778 0.83971 -0.12987 0.84218 C -0.13178 0.85238 -0.14185 0.87183 -0.14723 0.87492 C -0.15157 0.88697 -0.15938 0.89438 -0.16442 0.9058 C -0.16754 0.9126 -0.16719 0.91692 -0.17136 0.92186 C -0.17136 0.92186 -0.17414 0.92989 -0.17483 0.93391 C -0.17587 0.9407 -0.17639 0.95058 -0.17813 0.95676 C -0.17917 0.96016 -0.18126 0.96232 -0.18282 0.9651 C -0.18421 0.97159 -0.18577 0.97622 -0.18855 0.98147 C -0.19341 1.02069 -0.21164 1.1223 -0.18855 1.1223 E">
                                      <p:cBhvr>
                                        <p:cTn id="49" dur="3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3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1.82829E-006 C 0.02796 0.32551 0.05608 0.65102 0.10452 0.84651 C 0.15296 1.042 0.25973 1.1189 0.2908 1.17356 E">
                                      <p:cBhvr>
                                        <p:cTn id="57" dur="30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61334E-006 C -0.00122 0.00123 -0.00243 0.00216 -0.00347 0.00401 C -0.00486 0.00648 -0.00538 0.01019 -0.00695 0.01235 C -0.00729 0.01297 -0.01337 0.01606 -0.01389 0.01637 C -0.02708 0.03428 -0.01024 0.01297 -0.02309 0.02471 C -0.02483 0.02625 -0.02587 0.02934 -0.02761 0.03088 C -0.0316 0.03428 -0.04028 0.03891 -0.04028 0.03891 C -0.04879 0.05127 -0.05955 0.06269 -0.07014 0.06732 C -0.07795 0.07782 -0.09653 0.08369 -0.10695 0.09018 C -0.1125 0.09944 -0.11493 0.09852 -0.12309 0.10037 C -0.13646 0.10778 -0.12344 0.10099 -0.15747 0.10655 C -0.17379 0.10933 -0.18924 0.11952 -0.20573 0.12261 C -0.2099 0.12508 -0.21406 0.12693 -0.2184 0.12878 C -0.22049 0.13156 -0.22344 0.13156 -0.22535 0.13496 C -0.22622 0.1365 -0.22535 0.14021 -0.22639 0.14114 C -0.22882 0.1433 -0.23177 0.14268 -0.23455 0.1433 C -0.23993 0.14608 -0.24445 0.14978 -0.24948 0.15349 C -0.25903 0.16059 -0.26962 0.16368 -0.27934 0.16986 C -0.28577 0.18128 -0.30816 0.19117 -0.31736 0.1924 C -0.32952 0.19425 -0.35399 0.19642 -0.35399 0.19642 C -0.37344 0.20167 -0.38629 0.20136 -0.4092 0.20259 C -0.42031 0.20198 -0.43143 0.20105 -0.44254 0.20043 C -0.45504 0.19981 -0.50556 0.21278 -0.51962 0.17603 C -0.52136 0.16214 -0.52327 0.13064 -0.51389 0.12477 C -0.5092 0.11705 -0.50486 0.11643 -0.49896 0.11241 C -0.49427 0.11303 -0.48958 0.11303 -0.48507 0.11458 C -0.48056 0.11612 -0.47396 0.14175 -0.4724 0.14947 C -0.47049 0.17171 -0.46667 0.19673 -0.47813 0.21062 C -0.48229 0.22112 -0.48958 0.22483 -0.49653 0.22699 C -0.50018 0.23286 -0.50452 0.23471 -0.5092 0.23718 C -0.5474 0.23595 -0.58524 0.23842 -0.62188 0.21896 C -0.62847 0.21062 -0.63681 0.21031 -0.64479 0.20877 C -0.65764 0.2029 -0.67101 0.1958 -0.68403 0.1924 C -0.6882 0.18962 -0.69115 0.18623 -0.69549 0.18406 C -0.70799 0.16955 -0.72604 0.16708 -0.74028 0.16584 C -0.77865 0.15781 -0.81927 0.14793 -0.85643 0.1677 C -0.85747 0.16893 -0.85851 0.17047 -0.85972 0.17171 C -0.86077 0.17264 -0.86215 0.17264 -0.8632 0.17387 C -0.87136 0.18345 -0.86233 0.17789 -0.87014 0.1819 C -0.87292 0.18715 -0.87552 0.18777 -0.87934 0.19024 C -0.88281 0.19642 -0.88386 0.20198 -0.88854 0.20445 C -0.89063 0.21526 -0.89827 0.22884 -0.90347 0.23533 C -0.90504 0.23934 -0.90625 0.24367 -0.90816 0.24737 C -0.90886 0.24892 -0.90972 0.25015 -0.91042 0.2517 C -0.91198 0.25571 -0.91493 0.26343 -0.91493 0.26343 C -0.91649 0.27424 -0.92031 0.28258 -0.92535 0.28845 C -0.92865 0.31316 -0.9342 0.33138 -0.93681 0.35794 C -0.9382 0.38697 -0.9441 0.42866 -0.92761 0.44781 C -0.92604 0.45614 -0.92205 0.46139 -0.91736 0.46417 C -0.91007 0.47251 -0.90278 0.47467 -0.89427 0.47653 C -0.87222 0.47375 -0.88056 0.47622 -0.86667 0.46417 C -0.86372 0.45892 -0.86007 0.45337 -0.85868 0.44595 C -0.85729 0.43916 -0.85695 0.43453 -0.85399 0.42959 C -0.85278 0.42217 -0.85295 0.42557 -0.85295 0.41908 E">
                                      <p:cBhvr>
                                        <p:cTn id="65" dur="5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3" nodeType="after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5295 0.41908 C -0.84947 0.4688 -0.83697 0.50432 -0.82465 0.50432 C -0.81215 0.50432 -0.80121 0.4688 -0.79774 0.41908 C -0.79236 0.4688 -0.78194 0.50432 -0.76909 0.50432 C -0.75659 0.50432 -0.74583 0.4688 -0.74236 0.41908 C -0.73732 0.4688 -0.72638 0.50432 -0.71388 0.50432 C -0.70104 0.50432 -0.68888 0.4688 -0.68524 0.41908 C -0.68177 0.4688 -0.67083 0.50432 -0.65642 0.50432 C -0.646 0.50432 -0.6335 0.4688 -0.62968 0.41908 C -0.62621 0.4688 -0.61371 0.50432 -0.60138 0.50432 C -0.58888 0.50432 -0.57795 0.4688 -0.57447 0.41908 C -0.56909 0.4688 -0.55868 0.50432 -0.54583 0.50432 C -0.53333 0.50432 -0.52256 0.4688 -0.51736 0.41908 C -0.51406 0.4688 -0.50312 0.50432 -0.49062 0.50432 C -0.47777 0.50432 -0.46562 0.4688 -0.46197 0.41908 C -0.4585 0.4688 -0.44756 0.50432 -0.43315 0.50432 C -0.421 0.50432 -0.41024 0.4688 -0.40642 0.41908 E">
                                      <p:cBhvr>
                                        <p:cTn id="74" dur="3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643 0.41908 C -0.42882 0.42526 -0.45035 0.43144 -0.47275 0.43329 C -0.48455 0.44039 -0.49636 0.44132 -0.50851 0.44348 C -0.51059 0.44472 -0.5125 0.44719 -0.51476 0.44811 C -0.51754 0.44966 -0.52084 0.44811 -0.52379 0.45027 C -0.52535 0.4512 -0.52639 0.45614 -0.52795 0.45769 C -0.53143 0.46077 -0.53559 0.46077 -0.53924 0.46294 C -0.5441 0.47066 -0.54861 0.47498 -0.55434 0.47714 C -0.55556 0.47776 -0.5566 0.47838 -0.55747 0.47992 C -0.5592 0.48178 -0.56077 0.48517 -0.5625 0.48703 C -0.56493 0.48919 -0.56736 0.4898 -0.56962 0.49197 C -0.5724 0.49753 -0.57448 0.50123 -0.57778 0.5037 C -0.58143 0.51235 -0.58143 0.51358 -0.58698 0.51575 C -0.59288 0.5247 -0.58785 0.51853 -0.59722 0.52347 C -0.60677 0.5281 -0.61615 0.53613 -0.6257 0.54014 C -0.629 0.54262 -0.63125 0.54725 -0.63386 0.55219 C -0.63559 0.55559 -0.63785 0.56485 -0.63785 0.56547 E">
                                      <p:cBhvr>
                                        <p:cTn id="80" dur="5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784 0.56547 L -0.58854 0.56547 E">
                                      <p:cBhvr>
                                        <p:cTn id="83" dur="3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8854 0.56547 C -0.5875 0.60593 -0.58229 0.63496 -0.57743 0.63496 C -0.57274 0.63496 -0.56823 0.60593 -0.56701 0.56547 C -0.56476 0.60593 -0.56042 0.63496 -0.55556 0.63496 C -0.55069 0.63496 -0.54635 0.60593 -0.54479 0.56547 C -0.54271 0.60593 -0.53837 0.63496 -0.53351 0.63496 C -0.52865 0.63496 -0.52344 0.60593 -0.52205 0.56547 C -0.52101 0.60593 -0.51649 0.63496 -0.51094 0.63496 C -0.50677 0.63496 -0.50174 0.60593 -0.5 0.56547 C -0.49896 0.60593 -0.49375 0.63496 -0.48889 0.63496 C -0.4842 0.63496 -0.47969 0.60593 -0.4783 0.56547 C -0.47604 0.60593 -0.47187 0.63496 -0.46701 0.63496 C -0.46198 0.63496 -0.45781 0.60593 -0.45556 0.56547 C -0.45399 0.60593 -0.44983 0.63496 -0.44479 0.63496 C -0.43993 0.63496 -0.4349 0.60593 -0.43351 0.56547 C -0.43229 0.60593 -0.42795 0.63496 -0.4224 0.63496 C -0.41719 0.63496 -0.41319 0.60593 -0.41128 0.56547 E">
                                      <p:cBhvr>
                                        <p:cTn id="85" dur="3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0T11:04:04Z</dcterms:modified>
  <cp:revision>1</cp:revision>
  <dc:subject/>
  <dc:title>PowerPoint 演示文稿</dc:title>
</cp:coreProperties>
</file>