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25B-509D-4F8E-99AB-20E2F948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7D1-AEDA-4AC0-97E9-18EA35F8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BD620-F326-4EF5-B5BF-2C6B4B08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92166-7F6A-4964-94EC-915480A0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5E2F4-558A-4748-A885-37BB613E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1BAD9-2264-4F2D-B73F-947B4CD1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B810F-29B6-4A49-AB09-026DF9CF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8354C-555D-4BE7-BBFF-8791916C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2AF0A-419C-47EB-B307-82D13E80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98DD7-33BD-461E-A879-62A87796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5BF1B-25E4-4C25-9F49-DE10106F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ED081-AE96-4DA0-B55B-C64164A5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5980-C171-46FF-8E46-AA1F5395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B5198-4705-4F25-A499-54E60E28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4B0CF-EAD8-41D1-BDDA-F6CDA868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CD9F0-2EFF-4645-BC96-9A5A5EFB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399EA-B603-4E26-AA37-862855AE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2F75E-E8F0-425A-932B-FB5B36A1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AFE3D-9D74-4309-A60F-5B2FBAB9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6E76D-2AC2-4869-BDCE-893127E5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7F7EB-EF05-41E5-9863-0F685CD4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9AF52-1259-4D1A-970B-9BA2757F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8D137-7337-468F-86FF-E6523287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0F7-187D-473D-A7F5-2801668B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A18B3-D55C-4CA4-AE0F-B370ED39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DD150-72D4-42FA-8F53-C4BD7116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2282B-68BB-499B-93BB-3A515F2B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03176-DAA7-4422-ADD8-7852E0D2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B0E25-8848-4706-A551-52908830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9FDB9-3B81-4530-A99D-F71D7786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3A962-3421-44E0-ADBC-5AFF9462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3D534-A684-4079-A028-2EE1FC6E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77C27-2718-4E8F-A361-7DD867D4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46D2C-8F4D-4C4E-9D8A-F98FC000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827C-788C-4229-9D03-FE01F8E8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7C4F9-290D-41F3-833F-AE97B091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15E1A-D653-4F17-A364-763B2AEE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0804A-5C5D-4D80-B442-AB231146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91879-FEE2-44EF-9D30-3FD3F2A1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9A4A4-D3A6-4FF7-96CE-3731264D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D9827-31AA-471C-BFD6-5CD9387D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5B0EA-50E5-4FCC-BDE9-40E48593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64EFF-E1F0-48D1-A116-DFC41502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81504-0A07-479F-85DF-D5728735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0E89A-2612-44D6-89CD-0DE9E7F2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D955-0E59-40BB-B740-872E165B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08A06-D6D7-4035-852C-712BDA67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7C6B4-2836-4E42-847A-BE1914B1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F26A0-E92F-48AD-9E05-6CBF4430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4372F-2687-4B8A-BAC7-254ABE0E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118EF-62A7-4C96-9D9C-EAF6C9D9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B7687-1A47-4674-8F46-22C7C8EB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63D7F4-3E14-41D9-AA43-14CB7787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76FF5-D2E0-405D-A3DD-DDC18F8B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79675-AD12-44EE-87A8-069951EF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98C87-1896-4529-8BE3-9671DBC3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7242-BD5F-43BC-B333-12BC1854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52C49-633C-48BF-9FA3-24860FD2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773C9-7C19-4871-97A4-62E43B05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519A0-7F69-4114-B2DE-32BAC2D5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FF578D-F072-43B7-A861-5F3C8582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BF21F9-F5E7-46D6-9DB8-59E353A8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593E4E-3BAB-433E-9702-96A00579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994E4-DB9C-4BAB-ACDF-8B6B9DB5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25EF9F-2FF5-4BBE-899E-797E0492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21177C-4FFA-4CCA-911B-DA36DF34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8408A-1512-40FA-8D78-AA35D47F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08B5-E2ED-45EE-BCEC-E4CC81B2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D99E24-0B25-4FD1-B2F8-AB7C798A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B5113-C09E-4682-B2F9-A28A7A73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69C5D2-B7DD-4671-AC5A-771E6321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EA507D-291D-4A28-90E2-D9246BAA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0A8586-0E17-4075-8AAA-3827A618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A9AB61-61F3-483B-B813-FADC9451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9F8716-A525-4B46-B67C-3AD25F80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8764B-661D-4097-A417-1AA0FE68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9C8930-8F4E-426E-9273-B6F94F94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BF3F-554B-4F9F-A850-512FBF10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94FC-F224-4236-8F81-BF1E9A16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ECBF-8599-4F74-800E-76C9CD04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5A0B-A991-4995-A6B5-3B5C8B2C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DD13-34E0-43B1-A420-B56DA702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A464-6790-48FB-855A-49490B11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A555-244D-4C16-9B80-6187348D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ABE7-2D71-4F13-9B2C-920A509F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D9D4-939C-4429-824B-2779CFE3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53640-659A-4277-8671-9EF3FC60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433FE-E084-46B5-A5E5-8F47E532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5CA41-02BF-47F8-950D-DBFDF57D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9AC5F-FDAC-4BA0-A0E2-6EDB2445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E3E51-E5C1-4D30-A23F-E9DE30FF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D53-402D-478F-8676-0DDC4942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9874A-21A0-401B-BEFB-C056E1AE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9FC80-B59C-464E-9DAE-DBD14823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E1BB2-9163-4A70-BA06-184D9DE6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7E7E2-694A-406F-A6A5-52A7C7D7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2D2DB-5CB9-4286-9780-1C13C892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06266-F1C7-4E90-8047-C0D6B2EB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A3B20-277D-453C-9011-A6D7A888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C6E3B-BFB3-4DFF-8686-274D178E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D5618-3508-435B-8E38-FAC7F494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F09D9-E95A-4885-A51C-45B5C1B8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73DA-616C-4288-B394-E23EE7B1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2A691-EA8B-4CCD-AF25-12A2AF2C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128C7-7A10-4BBE-B4CC-CD3F5668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56A51-921A-40DB-8169-25C13927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B69E2-0539-44CE-BF3B-7AE2DF61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338E6-760F-4E8B-96B9-2629F9EE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47993-9ECB-4464-880D-C5AB16C6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BAE1D-B838-4584-A17E-4DD94190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0C544-FA5B-4B69-8F57-E1CABC79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E92EA-1B50-4A57-AD77-32CDE90C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D7C31-81F5-48F4-A22C-03D50191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2970-0261-45C1-A3D3-0CD320F0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17AB1-6CE8-4537-B0D1-91FF11D0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6C5E9-C9E4-4169-B966-0A71B52D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CB50E-1974-4E5D-9536-0944231A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71561-9900-453D-8EEC-DE686764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84423-23AC-4BB0-B643-7AB9A558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A80AA-4A8B-4EEF-8FB0-56F6D53D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15BEC-11B5-4151-946C-88C8C89F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D2C8F-ACF0-446A-8DB8-90009AFF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D963A-CBB5-4047-BB96-8FB8A3DB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CDFE8-9B84-48F4-AE99-DDCA6445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F75-74AE-4506-899B-DB3E9689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3C24F-5A77-431C-8B4B-7A1083E9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AF88D-0F40-4515-B085-DE9563B3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5BBEC-D04E-4BA7-840C-D393CBAA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4E82F-7785-4BBF-8B91-C8999A74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A052E-DB5C-4323-A363-385ED793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17D11-C178-4F29-8C6C-023952E9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4ABC5-6C02-490D-8FC1-4A335FBB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77761-99AD-49BA-BD7A-D4D814E3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D2C4C-B3D3-4D1F-9468-1A93022D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5A98F-BE68-4CAC-830F-35AF8B0D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7B1-2885-4AEA-B145-4AAA98FA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79151-77DA-40DA-B953-8FBB6568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3D27B-8A00-4A1D-81EB-99EF8979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6F752-C999-4C7D-8D0F-87A52ADF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7E3B3-F54A-46A4-A0D0-2157856A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5FEA3-7158-4D03-86CE-8CF8941B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2B124-9FA0-4B1B-89C8-2F271B64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A39B1-BFAA-4874-94E5-E073E46D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6ACBD-351C-4A82-BA8A-14A95C9F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157DA-7905-4156-9392-BC17C825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08F56-ECE0-4C51-A16E-E2A3FFD0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82A-6A41-40A5-AF21-A47E778B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5F3D7-36BC-4EBE-8FF5-233A5AA2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02347-C6A8-4B45-BC76-E06D234D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1F98E-AD80-4389-97E2-FCE38104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25FDE-7668-413D-B431-0B2F19BA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1ED26-994C-4C7D-B77D-F3D5EAFF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D83AF-75E8-4661-A522-8F9BA8D8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DF5BA-3201-440B-AA42-42833B91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DFE4D-1279-498F-A0A0-295BACDF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640D3-7228-4931-B3D5-20520C74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5D1B4-D927-4069-B782-53372CF9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882B-495B-40FF-B8BE-69EFDBF5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FE1C9-BDAD-48C3-AA56-46E2900D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B4B86-F156-43BF-983E-8AA5122F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7C255-C398-4603-AFB4-952D23FB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904D0-A4F1-4459-BD71-F36579C9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09FDB-1110-4E17-B380-86C9263F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F9B2B-A5EF-4929-9C53-C5FB7F52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2CB5D-4540-4355-9E86-4C0EB3D1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8A742-4321-4ABA-9AE8-9C70CB09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A4FB8-36BD-4AE4-8F2C-C8667404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07EBD-1587-4C39-AD4F-9B180C5B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1" marL="727920" indent="-280080">
              <a:spcBef>
                <a:spcPts val="799"/>
              </a:spcBef>
              <a:buClr>
                <a:srgbClr val="a50021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2" marL="111996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3" marL="156816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4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5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6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0128-057B-430F-8FA9-7D7515BAEB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7210440" y="549360"/>
            <a:ext cx="1817640" cy="1660320"/>
            <a:chOff x="7210440" y="549360"/>
            <a:chExt cx="1817640" cy="1660320"/>
          </a:xfrm>
        </p:grpSpPr>
        <p:sp>
          <p:nvSpPr>
            <p:cNvPr id="6" name="Rectangle 8"/>
            <p:cNvSpPr/>
            <p:nvPr/>
          </p:nvSpPr>
          <p:spPr>
            <a:xfrm>
              <a:off x="7210440" y="549360"/>
              <a:ext cx="1817640" cy="1660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 flipH="1" rot="48000">
              <a:off x="7415640" y="726480"/>
              <a:ext cx="1405080" cy="1305720"/>
            </a:xfrm>
            <a:custGeom>
              <a:avLst/>
              <a:gdLst/>
              <a:ahLst/>
              <a:rect l="l" t="t" r="r" b="b"/>
              <a:pathLst>
                <a:path w="1723" h="1738">
                  <a:moveTo>
                    <a:pt x="1696" y="392"/>
                  </a:moveTo>
                  <a:lnTo>
                    <a:pt x="1696" y="392"/>
                  </a:lnTo>
                  <a:lnTo>
                    <a:pt x="1682" y="340"/>
                  </a:lnTo>
                  <a:lnTo>
                    <a:pt x="1664" y="290"/>
                  </a:lnTo>
                  <a:lnTo>
                    <a:pt x="1643" y="244"/>
                  </a:lnTo>
                  <a:lnTo>
                    <a:pt x="1618" y="200"/>
                  </a:lnTo>
                  <a:lnTo>
                    <a:pt x="1592" y="160"/>
                  </a:lnTo>
                  <a:lnTo>
                    <a:pt x="1562" y="122"/>
                  </a:lnTo>
                  <a:lnTo>
                    <a:pt x="1546" y="104"/>
                  </a:lnTo>
                  <a:lnTo>
                    <a:pt x="1530" y="88"/>
                  </a:lnTo>
                  <a:lnTo>
                    <a:pt x="1512" y="74"/>
                  </a:lnTo>
                  <a:lnTo>
                    <a:pt x="1494" y="60"/>
                  </a:lnTo>
                  <a:lnTo>
                    <a:pt x="1476" y="48"/>
                  </a:lnTo>
                  <a:lnTo>
                    <a:pt x="1459" y="36"/>
                  </a:lnTo>
                  <a:lnTo>
                    <a:pt x="1439" y="26"/>
                  </a:lnTo>
                  <a:lnTo>
                    <a:pt x="1421" y="18"/>
                  </a:lnTo>
                  <a:lnTo>
                    <a:pt x="1402" y="12"/>
                  </a:lnTo>
                  <a:lnTo>
                    <a:pt x="1381" y="6"/>
                  </a:lnTo>
                  <a:lnTo>
                    <a:pt x="1361" y="2"/>
                  </a:lnTo>
                  <a:lnTo>
                    <a:pt x="1340" y="0"/>
                  </a:lnTo>
                  <a:lnTo>
                    <a:pt x="1320" y="0"/>
                  </a:lnTo>
                  <a:lnTo>
                    <a:pt x="1299" y="2"/>
                  </a:lnTo>
                  <a:lnTo>
                    <a:pt x="1278" y="6"/>
                  </a:lnTo>
                  <a:lnTo>
                    <a:pt x="1256" y="10"/>
                  </a:lnTo>
                  <a:lnTo>
                    <a:pt x="1233" y="18"/>
                  </a:lnTo>
                  <a:lnTo>
                    <a:pt x="1212" y="26"/>
                  </a:lnTo>
                  <a:lnTo>
                    <a:pt x="1191" y="38"/>
                  </a:lnTo>
                  <a:lnTo>
                    <a:pt x="1169" y="50"/>
                  </a:lnTo>
                  <a:lnTo>
                    <a:pt x="1114" y="88"/>
                  </a:lnTo>
                  <a:lnTo>
                    <a:pt x="1066" y="126"/>
                  </a:lnTo>
                  <a:lnTo>
                    <a:pt x="1022" y="164"/>
                  </a:lnTo>
                  <a:lnTo>
                    <a:pt x="981" y="202"/>
                  </a:lnTo>
                  <a:lnTo>
                    <a:pt x="946" y="240"/>
                  </a:lnTo>
                  <a:lnTo>
                    <a:pt x="914" y="276"/>
                  </a:lnTo>
                  <a:lnTo>
                    <a:pt x="885" y="310"/>
                  </a:lnTo>
                  <a:lnTo>
                    <a:pt x="862" y="340"/>
                  </a:lnTo>
                  <a:lnTo>
                    <a:pt x="839" y="310"/>
                  </a:lnTo>
                  <a:lnTo>
                    <a:pt x="811" y="276"/>
                  </a:lnTo>
                  <a:lnTo>
                    <a:pt x="779" y="240"/>
                  </a:lnTo>
                  <a:lnTo>
                    <a:pt x="743" y="202"/>
                  </a:lnTo>
                  <a:lnTo>
                    <a:pt x="703" y="164"/>
                  </a:lnTo>
                  <a:lnTo>
                    <a:pt x="658" y="126"/>
                  </a:lnTo>
                  <a:lnTo>
                    <a:pt x="609" y="88"/>
                  </a:lnTo>
                  <a:lnTo>
                    <a:pt x="555" y="50"/>
                  </a:lnTo>
                  <a:lnTo>
                    <a:pt x="534" y="38"/>
                  </a:lnTo>
                  <a:lnTo>
                    <a:pt x="511" y="26"/>
                  </a:lnTo>
                  <a:lnTo>
                    <a:pt x="490" y="16"/>
                  </a:lnTo>
                  <a:lnTo>
                    <a:pt x="468" y="10"/>
                  </a:lnTo>
                  <a:lnTo>
                    <a:pt x="447" y="4"/>
                  </a:lnTo>
                  <a:lnTo>
                    <a:pt x="426" y="2"/>
                  </a:lnTo>
                  <a:lnTo>
                    <a:pt x="405" y="0"/>
                  </a:lnTo>
                  <a:lnTo>
                    <a:pt x="383" y="0"/>
                  </a:lnTo>
                  <a:lnTo>
                    <a:pt x="364" y="2"/>
                  </a:lnTo>
                  <a:lnTo>
                    <a:pt x="342" y="6"/>
                  </a:lnTo>
                  <a:lnTo>
                    <a:pt x="323" y="12"/>
                  </a:lnTo>
                  <a:lnTo>
                    <a:pt x="303" y="18"/>
                  </a:lnTo>
                  <a:lnTo>
                    <a:pt x="284" y="26"/>
                  </a:lnTo>
                  <a:lnTo>
                    <a:pt x="266" y="36"/>
                  </a:lnTo>
                  <a:lnTo>
                    <a:pt x="247" y="48"/>
                  </a:lnTo>
                  <a:lnTo>
                    <a:pt x="229" y="60"/>
                  </a:lnTo>
                  <a:lnTo>
                    <a:pt x="211" y="74"/>
                  </a:lnTo>
                  <a:lnTo>
                    <a:pt x="195" y="88"/>
                  </a:lnTo>
                  <a:lnTo>
                    <a:pt x="177" y="104"/>
                  </a:lnTo>
                  <a:lnTo>
                    <a:pt x="163" y="122"/>
                  </a:lnTo>
                  <a:lnTo>
                    <a:pt x="133" y="158"/>
                  </a:lnTo>
                  <a:lnTo>
                    <a:pt x="105" y="200"/>
                  </a:lnTo>
                  <a:lnTo>
                    <a:pt x="82" y="244"/>
                  </a:lnTo>
                  <a:lnTo>
                    <a:pt x="60" y="290"/>
                  </a:lnTo>
                  <a:lnTo>
                    <a:pt x="43" y="340"/>
                  </a:lnTo>
                  <a:lnTo>
                    <a:pt x="28" y="390"/>
                  </a:lnTo>
                  <a:lnTo>
                    <a:pt x="14" y="456"/>
                  </a:lnTo>
                  <a:lnTo>
                    <a:pt x="5" y="516"/>
                  </a:lnTo>
                  <a:lnTo>
                    <a:pt x="2" y="546"/>
                  </a:lnTo>
                  <a:lnTo>
                    <a:pt x="2" y="574"/>
                  </a:lnTo>
                  <a:lnTo>
                    <a:pt x="0" y="600"/>
                  </a:lnTo>
                  <a:lnTo>
                    <a:pt x="2" y="628"/>
                  </a:lnTo>
                  <a:lnTo>
                    <a:pt x="4" y="654"/>
                  </a:lnTo>
                  <a:lnTo>
                    <a:pt x="7" y="678"/>
                  </a:lnTo>
                  <a:lnTo>
                    <a:pt x="11" y="704"/>
                  </a:lnTo>
                  <a:lnTo>
                    <a:pt x="16" y="728"/>
                  </a:lnTo>
                  <a:lnTo>
                    <a:pt x="28" y="776"/>
                  </a:lnTo>
                  <a:lnTo>
                    <a:pt x="44" y="824"/>
                  </a:lnTo>
                  <a:lnTo>
                    <a:pt x="66" y="870"/>
                  </a:lnTo>
                  <a:lnTo>
                    <a:pt x="89" y="918"/>
                  </a:lnTo>
                  <a:lnTo>
                    <a:pt x="117" y="964"/>
                  </a:lnTo>
                  <a:lnTo>
                    <a:pt x="147" y="1014"/>
                  </a:lnTo>
                  <a:lnTo>
                    <a:pt x="181" y="1064"/>
                  </a:lnTo>
                  <a:lnTo>
                    <a:pt x="216" y="1116"/>
                  </a:lnTo>
                  <a:lnTo>
                    <a:pt x="296" y="1228"/>
                  </a:lnTo>
                  <a:lnTo>
                    <a:pt x="328" y="1272"/>
                  </a:lnTo>
                  <a:lnTo>
                    <a:pt x="364" y="1316"/>
                  </a:lnTo>
                  <a:lnTo>
                    <a:pt x="399" y="1358"/>
                  </a:lnTo>
                  <a:lnTo>
                    <a:pt x="438" y="1396"/>
                  </a:lnTo>
                  <a:lnTo>
                    <a:pt x="476" y="1436"/>
                  </a:lnTo>
                  <a:lnTo>
                    <a:pt x="515" y="1472"/>
                  </a:lnTo>
                  <a:lnTo>
                    <a:pt x="554" y="1506"/>
                  </a:lnTo>
                  <a:lnTo>
                    <a:pt x="593" y="1540"/>
                  </a:lnTo>
                  <a:lnTo>
                    <a:pt x="669" y="1600"/>
                  </a:lnTo>
                  <a:lnTo>
                    <a:pt x="740" y="1652"/>
                  </a:lnTo>
                  <a:lnTo>
                    <a:pt x="804" y="1696"/>
                  </a:lnTo>
                  <a:lnTo>
                    <a:pt x="857" y="1732"/>
                  </a:lnTo>
                  <a:lnTo>
                    <a:pt x="857" y="1738"/>
                  </a:lnTo>
                  <a:lnTo>
                    <a:pt x="862" y="1734"/>
                  </a:lnTo>
                  <a:lnTo>
                    <a:pt x="868" y="1738"/>
                  </a:lnTo>
                  <a:lnTo>
                    <a:pt x="868" y="1732"/>
                  </a:lnTo>
                  <a:lnTo>
                    <a:pt x="921" y="1696"/>
                  </a:lnTo>
                  <a:lnTo>
                    <a:pt x="985" y="1654"/>
                  </a:lnTo>
                  <a:lnTo>
                    <a:pt x="1056" y="1600"/>
                  </a:lnTo>
                  <a:lnTo>
                    <a:pt x="1132" y="1540"/>
                  </a:lnTo>
                  <a:lnTo>
                    <a:pt x="1169" y="1508"/>
                  </a:lnTo>
                  <a:lnTo>
                    <a:pt x="1208" y="1472"/>
                  </a:lnTo>
                  <a:lnTo>
                    <a:pt x="1247" y="1436"/>
                  </a:lnTo>
                  <a:lnTo>
                    <a:pt x="1286" y="1398"/>
                  </a:lnTo>
                  <a:lnTo>
                    <a:pt x="1324" y="1358"/>
                  </a:lnTo>
                  <a:lnTo>
                    <a:pt x="1361" y="1316"/>
                  </a:lnTo>
                  <a:lnTo>
                    <a:pt x="1395" y="1274"/>
                  </a:lnTo>
                  <a:lnTo>
                    <a:pt x="1428" y="1228"/>
                  </a:lnTo>
                  <a:lnTo>
                    <a:pt x="1508" y="1116"/>
                  </a:lnTo>
                  <a:lnTo>
                    <a:pt x="1544" y="1064"/>
                  </a:lnTo>
                  <a:lnTo>
                    <a:pt x="1577" y="1014"/>
                  </a:lnTo>
                  <a:lnTo>
                    <a:pt x="1608" y="966"/>
                  </a:lnTo>
                  <a:lnTo>
                    <a:pt x="1634" y="918"/>
                  </a:lnTo>
                  <a:lnTo>
                    <a:pt x="1659" y="870"/>
                  </a:lnTo>
                  <a:lnTo>
                    <a:pt x="1679" y="824"/>
                  </a:lnTo>
                  <a:lnTo>
                    <a:pt x="1696" y="778"/>
                  </a:lnTo>
                  <a:lnTo>
                    <a:pt x="1709" y="728"/>
                  </a:lnTo>
                  <a:lnTo>
                    <a:pt x="1714" y="704"/>
                  </a:lnTo>
                  <a:lnTo>
                    <a:pt x="1718" y="680"/>
                  </a:lnTo>
                  <a:lnTo>
                    <a:pt x="1721" y="654"/>
                  </a:lnTo>
                  <a:lnTo>
                    <a:pt x="1723" y="628"/>
                  </a:lnTo>
                  <a:lnTo>
                    <a:pt x="1723" y="602"/>
                  </a:lnTo>
                  <a:lnTo>
                    <a:pt x="1723" y="574"/>
                  </a:lnTo>
                  <a:lnTo>
                    <a:pt x="1721" y="546"/>
                  </a:lnTo>
                  <a:lnTo>
                    <a:pt x="1719" y="516"/>
                  </a:lnTo>
                  <a:lnTo>
                    <a:pt x="1711" y="456"/>
                  </a:lnTo>
                  <a:lnTo>
                    <a:pt x="1696" y="3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7210440" y="2644920"/>
            <a:ext cx="1817640" cy="1660320"/>
            <a:chOff x="7210440" y="2644920"/>
            <a:chExt cx="1817640" cy="1660320"/>
          </a:xfrm>
        </p:grpSpPr>
        <p:sp>
          <p:nvSpPr>
            <p:cNvPr id="9" name="Rectangle 11"/>
            <p:cNvSpPr/>
            <p:nvPr/>
          </p:nvSpPr>
          <p:spPr>
            <a:xfrm>
              <a:off x="7210440" y="2644920"/>
              <a:ext cx="1817640" cy="1660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 flipH="1" rot="48000">
              <a:off x="7415640" y="2822040"/>
              <a:ext cx="1405080" cy="1305720"/>
            </a:xfrm>
            <a:custGeom>
              <a:avLst/>
              <a:gdLst/>
              <a:ahLst/>
              <a:rect l="l" t="t" r="r" b="b"/>
              <a:pathLst>
                <a:path w="1723" h="1738">
                  <a:moveTo>
                    <a:pt x="1696" y="392"/>
                  </a:moveTo>
                  <a:lnTo>
                    <a:pt x="1696" y="392"/>
                  </a:lnTo>
                  <a:lnTo>
                    <a:pt x="1682" y="340"/>
                  </a:lnTo>
                  <a:lnTo>
                    <a:pt x="1664" y="290"/>
                  </a:lnTo>
                  <a:lnTo>
                    <a:pt x="1643" y="244"/>
                  </a:lnTo>
                  <a:lnTo>
                    <a:pt x="1618" y="200"/>
                  </a:lnTo>
                  <a:lnTo>
                    <a:pt x="1592" y="160"/>
                  </a:lnTo>
                  <a:lnTo>
                    <a:pt x="1562" y="122"/>
                  </a:lnTo>
                  <a:lnTo>
                    <a:pt x="1546" y="104"/>
                  </a:lnTo>
                  <a:lnTo>
                    <a:pt x="1530" y="88"/>
                  </a:lnTo>
                  <a:lnTo>
                    <a:pt x="1512" y="74"/>
                  </a:lnTo>
                  <a:lnTo>
                    <a:pt x="1494" y="60"/>
                  </a:lnTo>
                  <a:lnTo>
                    <a:pt x="1476" y="48"/>
                  </a:lnTo>
                  <a:lnTo>
                    <a:pt x="1459" y="36"/>
                  </a:lnTo>
                  <a:lnTo>
                    <a:pt x="1439" y="26"/>
                  </a:lnTo>
                  <a:lnTo>
                    <a:pt x="1421" y="18"/>
                  </a:lnTo>
                  <a:lnTo>
                    <a:pt x="1402" y="12"/>
                  </a:lnTo>
                  <a:lnTo>
                    <a:pt x="1381" y="6"/>
                  </a:lnTo>
                  <a:lnTo>
                    <a:pt x="1361" y="2"/>
                  </a:lnTo>
                  <a:lnTo>
                    <a:pt x="1340" y="0"/>
                  </a:lnTo>
                  <a:lnTo>
                    <a:pt x="1320" y="0"/>
                  </a:lnTo>
                  <a:lnTo>
                    <a:pt x="1299" y="2"/>
                  </a:lnTo>
                  <a:lnTo>
                    <a:pt x="1278" y="6"/>
                  </a:lnTo>
                  <a:lnTo>
                    <a:pt x="1256" y="10"/>
                  </a:lnTo>
                  <a:lnTo>
                    <a:pt x="1233" y="18"/>
                  </a:lnTo>
                  <a:lnTo>
                    <a:pt x="1212" y="26"/>
                  </a:lnTo>
                  <a:lnTo>
                    <a:pt x="1191" y="38"/>
                  </a:lnTo>
                  <a:lnTo>
                    <a:pt x="1169" y="50"/>
                  </a:lnTo>
                  <a:lnTo>
                    <a:pt x="1114" y="88"/>
                  </a:lnTo>
                  <a:lnTo>
                    <a:pt x="1066" y="126"/>
                  </a:lnTo>
                  <a:lnTo>
                    <a:pt x="1022" y="164"/>
                  </a:lnTo>
                  <a:lnTo>
                    <a:pt x="981" y="202"/>
                  </a:lnTo>
                  <a:lnTo>
                    <a:pt x="946" y="240"/>
                  </a:lnTo>
                  <a:lnTo>
                    <a:pt x="914" y="276"/>
                  </a:lnTo>
                  <a:lnTo>
                    <a:pt x="885" y="310"/>
                  </a:lnTo>
                  <a:lnTo>
                    <a:pt x="862" y="340"/>
                  </a:lnTo>
                  <a:lnTo>
                    <a:pt x="839" y="310"/>
                  </a:lnTo>
                  <a:lnTo>
                    <a:pt x="811" y="276"/>
                  </a:lnTo>
                  <a:lnTo>
                    <a:pt x="779" y="240"/>
                  </a:lnTo>
                  <a:lnTo>
                    <a:pt x="743" y="202"/>
                  </a:lnTo>
                  <a:lnTo>
                    <a:pt x="703" y="164"/>
                  </a:lnTo>
                  <a:lnTo>
                    <a:pt x="658" y="126"/>
                  </a:lnTo>
                  <a:lnTo>
                    <a:pt x="609" y="88"/>
                  </a:lnTo>
                  <a:lnTo>
                    <a:pt x="555" y="50"/>
                  </a:lnTo>
                  <a:lnTo>
                    <a:pt x="534" y="38"/>
                  </a:lnTo>
                  <a:lnTo>
                    <a:pt x="511" y="26"/>
                  </a:lnTo>
                  <a:lnTo>
                    <a:pt x="490" y="16"/>
                  </a:lnTo>
                  <a:lnTo>
                    <a:pt x="468" y="10"/>
                  </a:lnTo>
                  <a:lnTo>
                    <a:pt x="447" y="4"/>
                  </a:lnTo>
                  <a:lnTo>
                    <a:pt x="426" y="2"/>
                  </a:lnTo>
                  <a:lnTo>
                    <a:pt x="405" y="0"/>
                  </a:lnTo>
                  <a:lnTo>
                    <a:pt x="383" y="0"/>
                  </a:lnTo>
                  <a:lnTo>
                    <a:pt x="364" y="2"/>
                  </a:lnTo>
                  <a:lnTo>
                    <a:pt x="342" y="6"/>
                  </a:lnTo>
                  <a:lnTo>
                    <a:pt x="323" y="12"/>
                  </a:lnTo>
                  <a:lnTo>
                    <a:pt x="303" y="18"/>
                  </a:lnTo>
                  <a:lnTo>
                    <a:pt x="284" y="26"/>
                  </a:lnTo>
                  <a:lnTo>
                    <a:pt x="266" y="36"/>
                  </a:lnTo>
                  <a:lnTo>
                    <a:pt x="247" y="48"/>
                  </a:lnTo>
                  <a:lnTo>
                    <a:pt x="229" y="60"/>
                  </a:lnTo>
                  <a:lnTo>
                    <a:pt x="211" y="74"/>
                  </a:lnTo>
                  <a:lnTo>
                    <a:pt x="195" y="88"/>
                  </a:lnTo>
                  <a:lnTo>
                    <a:pt x="177" y="104"/>
                  </a:lnTo>
                  <a:lnTo>
                    <a:pt x="163" y="122"/>
                  </a:lnTo>
                  <a:lnTo>
                    <a:pt x="133" y="158"/>
                  </a:lnTo>
                  <a:lnTo>
                    <a:pt x="105" y="200"/>
                  </a:lnTo>
                  <a:lnTo>
                    <a:pt x="82" y="244"/>
                  </a:lnTo>
                  <a:lnTo>
                    <a:pt x="60" y="290"/>
                  </a:lnTo>
                  <a:lnTo>
                    <a:pt x="43" y="340"/>
                  </a:lnTo>
                  <a:lnTo>
                    <a:pt x="28" y="390"/>
                  </a:lnTo>
                  <a:lnTo>
                    <a:pt x="14" y="456"/>
                  </a:lnTo>
                  <a:lnTo>
                    <a:pt x="5" y="516"/>
                  </a:lnTo>
                  <a:lnTo>
                    <a:pt x="2" y="546"/>
                  </a:lnTo>
                  <a:lnTo>
                    <a:pt x="2" y="574"/>
                  </a:lnTo>
                  <a:lnTo>
                    <a:pt x="0" y="600"/>
                  </a:lnTo>
                  <a:lnTo>
                    <a:pt x="2" y="628"/>
                  </a:lnTo>
                  <a:lnTo>
                    <a:pt x="4" y="654"/>
                  </a:lnTo>
                  <a:lnTo>
                    <a:pt x="7" y="678"/>
                  </a:lnTo>
                  <a:lnTo>
                    <a:pt x="11" y="704"/>
                  </a:lnTo>
                  <a:lnTo>
                    <a:pt x="16" y="728"/>
                  </a:lnTo>
                  <a:lnTo>
                    <a:pt x="28" y="776"/>
                  </a:lnTo>
                  <a:lnTo>
                    <a:pt x="44" y="824"/>
                  </a:lnTo>
                  <a:lnTo>
                    <a:pt x="66" y="870"/>
                  </a:lnTo>
                  <a:lnTo>
                    <a:pt x="89" y="918"/>
                  </a:lnTo>
                  <a:lnTo>
                    <a:pt x="117" y="964"/>
                  </a:lnTo>
                  <a:lnTo>
                    <a:pt x="147" y="1014"/>
                  </a:lnTo>
                  <a:lnTo>
                    <a:pt x="181" y="1064"/>
                  </a:lnTo>
                  <a:lnTo>
                    <a:pt x="216" y="1116"/>
                  </a:lnTo>
                  <a:lnTo>
                    <a:pt x="296" y="1228"/>
                  </a:lnTo>
                  <a:lnTo>
                    <a:pt x="328" y="1272"/>
                  </a:lnTo>
                  <a:lnTo>
                    <a:pt x="364" y="1316"/>
                  </a:lnTo>
                  <a:lnTo>
                    <a:pt x="399" y="1358"/>
                  </a:lnTo>
                  <a:lnTo>
                    <a:pt x="438" y="1396"/>
                  </a:lnTo>
                  <a:lnTo>
                    <a:pt x="476" y="1436"/>
                  </a:lnTo>
                  <a:lnTo>
                    <a:pt x="515" y="1472"/>
                  </a:lnTo>
                  <a:lnTo>
                    <a:pt x="554" y="1506"/>
                  </a:lnTo>
                  <a:lnTo>
                    <a:pt x="593" y="1540"/>
                  </a:lnTo>
                  <a:lnTo>
                    <a:pt x="669" y="1600"/>
                  </a:lnTo>
                  <a:lnTo>
                    <a:pt x="740" y="1652"/>
                  </a:lnTo>
                  <a:lnTo>
                    <a:pt x="804" y="1696"/>
                  </a:lnTo>
                  <a:lnTo>
                    <a:pt x="857" y="1732"/>
                  </a:lnTo>
                  <a:lnTo>
                    <a:pt x="857" y="1738"/>
                  </a:lnTo>
                  <a:lnTo>
                    <a:pt x="862" y="1734"/>
                  </a:lnTo>
                  <a:lnTo>
                    <a:pt x="868" y="1738"/>
                  </a:lnTo>
                  <a:lnTo>
                    <a:pt x="868" y="1732"/>
                  </a:lnTo>
                  <a:lnTo>
                    <a:pt x="921" y="1696"/>
                  </a:lnTo>
                  <a:lnTo>
                    <a:pt x="985" y="1654"/>
                  </a:lnTo>
                  <a:lnTo>
                    <a:pt x="1056" y="1600"/>
                  </a:lnTo>
                  <a:lnTo>
                    <a:pt x="1132" y="1540"/>
                  </a:lnTo>
                  <a:lnTo>
                    <a:pt x="1169" y="1508"/>
                  </a:lnTo>
                  <a:lnTo>
                    <a:pt x="1208" y="1472"/>
                  </a:lnTo>
                  <a:lnTo>
                    <a:pt x="1247" y="1436"/>
                  </a:lnTo>
                  <a:lnTo>
                    <a:pt x="1286" y="1398"/>
                  </a:lnTo>
                  <a:lnTo>
                    <a:pt x="1324" y="1358"/>
                  </a:lnTo>
                  <a:lnTo>
                    <a:pt x="1361" y="1316"/>
                  </a:lnTo>
                  <a:lnTo>
                    <a:pt x="1395" y="1274"/>
                  </a:lnTo>
                  <a:lnTo>
                    <a:pt x="1428" y="1228"/>
                  </a:lnTo>
                  <a:lnTo>
                    <a:pt x="1508" y="1116"/>
                  </a:lnTo>
                  <a:lnTo>
                    <a:pt x="1544" y="1064"/>
                  </a:lnTo>
                  <a:lnTo>
                    <a:pt x="1577" y="1014"/>
                  </a:lnTo>
                  <a:lnTo>
                    <a:pt x="1608" y="966"/>
                  </a:lnTo>
                  <a:lnTo>
                    <a:pt x="1634" y="918"/>
                  </a:lnTo>
                  <a:lnTo>
                    <a:pt x="1659" y="870"/>
                  </a:lnTo>
                  <a:lnTo>
                    <a:pt x="1679" y="824"/>
                  </a:lnTo>
                  <a:lnTo>
                    <a:pt x="1696" y="778"/>
                  </a:lnTo>
                  <a:lnTo>
                    <a:pt x="1709" y="728"/>
                  </a:lnTo>
                  <a:lnTo>
                    <a:pt x="1714" y="704"/>
                  </a:lnTo>
                  <a:lnTo>
                    <a:pt x="1718" y="680"/>
                  </a:lnTo>
                  <a:lnTo>
                    <a:pt x="1721" y="654"/>
                  </a:lnTo>
                  <a:lnTo>
                    <a:pt x="1723" y="628"/>
                  </a:lnTo>
                  <a:lnTo>
                    <a:pt x="1723" y="602"/>
                  </a:lnTo>
                  <a:lnTo>
                    <a:pt x="1723" y="574"/>
                  </a:lnTo>
                  <a:lnTo>
                    <a:pt x="1721" y="546"/>
                  </a:lnTo>
                  <a:lnTo>
                    <a:pt x="1719" y="516"/>
                  </a:lnTo>
                  <a:lnTo>
                    <a:pt x="1711" y="456"/>
                  </a:lnTo>
                  <a:lnTo>
                    <a:pt x="1696" y="3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7210440" y="4740120"/>
            <a:ext cx="1817640" cy="1660680"/>
            <a:chOff x="7210440" y="4740120"/>
            <a:chExt cx="1817640" cy="1660680"/>
          </a:xfrm>
        </p:grpSpPr>
        <p:sp>
          <p:nvSpPr>
            <p:cNvPr id="12" name="Rectangle 14"/>
            <p:cNvSpPr/>
            <p:nvPr/>
          </p:nvSpPr>
          <p:spPr>
            <a:xfrm>
              <a:off x="7210440" y="4740120"/>
              <a:ext cx="1817640" cy="16606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 flipH="1" rot="48000">
              <a:off x="7415640" y="4917600"/>
              <a:ext cx="1405080" cy="1306080"/>
            </a:xfrm>
            <a:custGeom>
              <a:avLst/>
              <a:gdLst/>
              <a:ahLst/>
              <a:rect l="l" t="t" r="r" b="b"/>
              <a:pathLst>
                <a:path w="1723" h="1738">
                  <a:moveTo>
                    <a:pt x="1696" y="392"/>
                  </a:moveTo>
                  <a:lnTo>
                    <a:pt x="1696" y="392"/>
                  </a:lnTo>
                  <a:lnTo>
                    <a:pt x="1682" y="340"/>
                  </a:lnTo>
                  <a:lnTo>
                    <a:pt x="1664" y="290"/>
                  </a:lnTo>
                  <a:lnTo>
                    <a:pt x="1643" y="244"/>
                  </a:lnTo>
                  <a:lnTo>
                    <a:pt x="1618" y="200"/>
                  </a:lnTo>
                  <a:lnTo>
                    <a:pt x="1592" y="160"/>
                  </a:lnTo>
                  <a:lnTo>
                    <a:pt x="1562" y="122"/>
                  </a:lnTo>
                  <a:lnTo>
                    <a:pt x="1546" y="104"/>
                  </a:lnTo>
                  <a:lnTo>
                    <a:pt x="1530" y="88"/>
                  </a:lnTo>
                  <a:lnTo>
                    <a:pt x="1512" y="74"/>
                  </a:lnTo>
                  <a:lnTo>
                    <a:pt x="1494" y="60"/>
                  </a:lnTo>
                  <a:lnTo>
                    <a:pt x="1476" y="48"/>
                  </a:lnTo>
                  <a:lnTo>
                    <a:pt x="1459" y="36"/>
                  </a:lnTo>
                  <a:lnTo>
                    <a:pt x="1439" y="26"/>
                  </a:lnTo>
                  <a:lnTo>
                    <a:pt x="1421" y="18"/>
                  </a:lnTo>
                  <a:lnTo>
                    <a:pt x="1402" y="12"/>
                  </a:lnTo>
                  <a:lnTo>
                    <a:pt x="1381" y="6"/>
                  </a:lnTo>
                  <a:lnTo>
                    <a:pt x="1361" y="2"/>
                  </a:lnTo>
                  <a:lnTo>
                    <a:pt x="1340" y="0"/>
                  </a:lnTo>
                  <a:lnTo>
                    <a:pt x="1320" y="0"/>
                  </a:lnTo>
                  <a:lnTo>
                    <a:pt x="1299" y="2"/>
                  </a:lnTo>
                  <a:lnTo>
                    <a:pt x="1278" y="6"/>
                  </a:lnTo>
                  <a:lnTo>
                    <a:pt x="1256" y="10"/>
                  </a:lnTo>
                  <a:lnTo>
                    <a:pt x="1233" y="18"/>
                  </a:lnTo>
                  <a:lnTo>
                    <a:pt x="1212" y="26"/>
                  </a:lnTo>
                  <a:lnTo>
                    <a:pt x="1191" y="38"/>
                  </a:lnTo>
                  <a:lnTo>
                    <a:pt x="1169" y="50"/>
                  </a:lnTo>
                  <a:lnTo>
                    <a:pt x="1114" y="88"/>
                  </a:lnTo>
                  <a:lnTo>
                    <a:pt x="1066" y="126"/>
                  </a:lnTo>
                  <a:lnTo>
                    <a:pt x="1022" y="164"/>
                  </a:lnTo>
                  <a:lnTo>
                    <a:pt x="981" y="202"/>
                  </a:lnTo>
                  <a:lnTo>
                    <a:pt x="946" y="240"/>
                  </a:lnTo>
                  <a:lnTo>
                    <a:pt x="914" y="276"/>
                  </a:lnTo>
                  <a:lnTo>
                    <a:pt x="885" y="310"/>
                  </a:lnTo>
                  <a:lnTo>
                    <a:pt x="862" y="340"/>
                  </a:lnTo>
                  <a:lnTo>
                    <a:pt x="839" y="310"/>
                  </a:lnTo>
                  <a:lnTo>
                    <a:pt x="811" y="276"/>
                  </a:lnTo>
                  <a:lnTo>
                    <a:pt x="779" y="240"/>
                  </a:lnTo>
                  <a:lnTo>
                    <a:pt x="743" y="202"/>
                  </a:lnTo>
                  <a:lnTo>
                    <a:pt x="703" y="164"/>
                  </a:lnTo>
                  <a:lnTo>
                    <a:pt x="658" y="126"/>
                  </a:lnTo>
                  <a:lnTo>
                    <a:pt x="609" y="88"/>
                  </a:lnTo>
                  <a:lnTo>
                    <a:pt x="555" y="50"/>
                  </a:lnTo>
                  <a:lnTo>
                    <a:pt x="534" y="38"/>
                  </a:lnTo>
                  <a:lnTo>
                    <a:pt x="511" y="26"/>
                  </a:lnTo>
                  <a:lnTo>
                    <a:pt x="490" y="16"/>
                  </a:lnTo>
                  <a:lnTo>
                    <a:pt x="468" y="10"/>
                  </a:lnTo>
                  <a:lnTo>
                    <a:pt x="447" y="4"/>
                  </a:lnTo>
                  <a:lnTo>
                    <a:pt x="426" y="2"/>
                  </a:lnTo>
                  <a:lnTo>
                    <a:pt x="405" y="0"/>
                  </a:lnTo>
                  <a:lnTo>
                    <a:pt x="383" y="0"/>
                  </a:lnTo>
                  <a:lnTo>
                    <a:pt x="364" y="2"/>
                  </a:lnTo>
                  <a:lnTo>
                    <a:pt x="342" y="6"/>
                  </a:lnTo>
                  <a:lnTo>
                    <a:pt x="323" y="12"/>
                  </a:lnTo>
                  <a:lnTo>
                    <a:pt x="303" y="18"/>
                  </a:lnTo>
                  <a:lnTo>
                    <a:pt x="284" y="26"/>
                  </a:lnTo>
                  <a:lnTo>
                    <a:pt x="266" y="36"/>
                  </a:lnTo>
                  <a:lnTo>
                    <a:pt x="247" y="48"/>
                  </a:lnTo>
                  <a:lnTo>
                    <a:pt x="229" y="60"/>
                  </a:lnTo>
                  <a:lnTo>
                    <a:pt x="211" y="74"/>
                  </a:lnTo>
                  <a:lnTo>
                    <a:pt x="195" y="88"/>
                  </a:lnTo>
                  <a:lnTo>
                    <a:pt x="177" y="104"/>
                  </a:lnTo>
                  <a:lnTo>
                    <a:pt x="163" y="122"/>
                  </a:lnTo>
                  <a:lnTo>
                    <a:pt x="133" y="158"/>
                  </a:lnTo>
                  <a:lnTo>
                    <a:pt x="105" y="200"/>
                  </a:lnTo>
                  <a:lnTo>
                    <a:pt x="82" y="244"/>
                  </a:lnTo>
                  <a:lnTo>
                    <a:pt x="60" y="290"/>
                  </a:lnTo>
                  <a:lnTo>
                    <a:pt x="43" y="340"/>
                  </a:lnTo>
                  <a:lnTo>
                    <a:pt x="28" y="390"/>
                  </a:lnTo>
                  <a:lnTo>
                    <a:pt x="14" y="456"/>
                  </a:lnTo>
                  <a:lnTo>
                    <a:pt x="5" y="516"/>
                  </a:lnTo>
                  <a:lnTo>
                    <a:pt x="2" y="546"/>
                  </a:lnTo>
                  <a:lnTo>
                    <a:pt x="2" y="574"/>
                  </a:lnTo>
                  <a:lnTo>
                    <a:pt x="0" y="600"/>
                  </a:lnTo>
                  <a:lnTo>
                    <a:pt x="2" y="628"/>
                  </a:lnTo>
                  <a:lnTo>
                    <a:pt x="4" y="654"/>
                  </a:lnTo>
                  <a:lnTo>
                    <a:pt x="7" y="678"/>
                  </a:lnTo>
                  <a:lnTo>
                    <a:pt x="11" y="704"/>
                  </a:lnTo>
                  <a:lnTo>
                    <a:pt x="16" y="728"/>
                  </a:lnTo>
                  <a:lnTo>
                    <a:pt x="28" y="776"/>
                  </a:lnTo>
                  <a:lnTo>
                    <a:pt x="44" y="824"/>
                  </a:lnTo>
                  <a:lnTo>
                    <a:pt x="66" y="870"/>
                  </a:lnTo>
                  <a:lnTo>
                    <a:pt x="89" y="918"/>
                  </a:lnTo>
                  <a:lnTo>
                    <a:pt x="117" y="964"/>
                  </a:lnTo>
                  <a:lnTo>
                    <a:pt x="147" y="1014"/>
                  </a:lnTo>
                  <a:lnTo>
                    <a:pt x="181" y="1064"/>
                  </a:lnTo>
                  <a:lnTo>
                    <a:pt x="216" y="1116"/>
                  </a:lnTo>
                  <a:lnTo>
                    <a:pt x="296" y="1228"/>
                  </a:lnTo>
                  <a:lnTo>
                    <a:pt x="328" y="1272"/>
                  </a:lnTo>
                  <a:lnTo>
                    <a:pt x="364" y="1316"/>
                  </a:lnTo>
                  <a:lnTo>
                    <a:pt x="399" y="1358"/>
                  </a:lnTo>
                  <a:lnTo>
                    <a:pt x="438" y="1396"/>
                  </a:lnTo>
                  <a:lnTo>
                    <a:pt x="476" y="1436"/>
                  </a:lnTo>
                  <a:lnTo>
                    <a:pt x="515" y="1472"/>
                  </a:lnTo>
                  <a:lnTo>
                    <a:pt x="554" y="1506"/>
                  </a:lnTo>
                  <a:lnTo>
                    <a:pt x="593" y="1540"/>
                  </a:lnTo>
                  <a:lnTo>
                    <a:pt x="669" y="1600"/>
                  </a:lnTo>
                  <a:lnTo>
                    <a:pt x="740" y="1652"/>
                  </a:lnTo>
                  <a:lnTo>
                    <a:pt x="804" y="1696"/>
                  </a:lnTo>
                  <a:lnTo>
                    <a:pt x="857" y="1732"/>
                  </a:lnTo>
                  <a:lnTo>
                    <a:pt x="857" y="1738"/>
                  </a:lnTo>
                  <a:lnTo>
                    <a:pt x="862" y="1734"/>
                  </a:lnTo>
                  <a:lnTo>
                    <a:pt x="868" y="1738"/>
                  </a:lnTo>
                  <a:lnTo>
                    <a:pt x="868" y="1732"/>
                  </a:lnTo>
                  <a:lnTo>
                    <a:pt x="921" y="1696"/>
                  </a:lnTo>
                  <a:lnTo>
                    <a:pt x="985" y="1654"/>
                  </a:lnTo>
                  <a:lnTo>
                    <a:pt x="1056" y="1600"/>
                  </a:lnTo>
                  <a:lnTo>
                    <a:pt x="1132" y="1540"/>
                  </a:lnTo>
                  <a:lnTo>
                    <a:pt x="1169" y="1508"/>
                  </a:lnTo>
                  <a:lnTo>
                    <a:pt x="1208" y="1472"/>
                  </a:lnTo>
                  <a:lnTo>
                    <a:pt x="1247" y="1436"/>
                  </a:lnTo>
                  <a:lnTo>
                    <a:pt x="1286" y="1398"/>
                  </a:lnTo>
                  <a:lnTo>
                    <a:pt x="1324" y="1358"/>
                  </a:lnTo>
                  <a:lnTo>
                    <a:pt x="1361" y="1316"/>
                  </a:lnTo>
                  <a:lnTo>
                    <a:pt x="1395" y="1274"/>
                  </a:lnTo>
                  <a:lnTo>
                    <a:pt x="1428" y="1228"/>
                  </a:lnTo>
                  <a:lnTo>
                    <a:pt x="1508" y="1116"/>
                  </a:lnTo>
                  <a:lnTo>
                    <a:pt x="1544" y="1064"/>
                  </a:lnTo>
                  <a:lnTo>
                    <a:pt x="1577" y="1014"/>
                  </a:lnTo>
                  <a:lnTo>
                    <a:pt x="1608" y="966"/>
                  </a:lnTo>
                  <a:lnTo>
                    <a:pt x="1634" y="918"/>
                  </a:lnTo>
                  <a:lnTo>
                    <a:pt x="1659" y="870"/>
                  </a:lnTo>
                  <a:lnTo>
                    <a:pt x="1679" y="824"/>
                  </a:lnTo>
                  <a:lnTo>
                    <a:pt x="1696" y="778"/>
                  </a:lnTo>
                  <a:lnTo>
                    <a:pt x="1709" y="728"/>
                  </a:lnTo>
                  <a:lnTo>
                    <a:pt x="1714" y="704"/>
                  </a:lnTo>
                  <a:lnTo>
                    <a:pt x="1718" y="680"/>
                  </a:lnTo>
                  <a:lnTo>
                    <a:pt x="1721" y="654"/>
                  </a:lnTo>
                  <a:lnTo>
                    <a:pt x="1723" y="628"/>
                  </a:lnTo>
                  <a:lnTo>
                    <a:pt x="1723" y="602"/>
                  </a:lnTo>
                  <a:lnTo>
                    <a:pt x="1723" y="574"/>
                  </a:lnTo>
                  <a:lnTo>
                    <a:pt x="1721" y="546"/>
                  </a:lnTo>
                  <a:lnTo>
                    <a:pt x="1719" y="516"/>
                  </a:lnTo>
                  <a:lnTo>
                    <a:pt x="1711" y="456"/>
                  </a:lnTo>
                  <a:lnTo>
                    <a:pt x="1696" y="3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330F-6812-45CD-8BBB-E2641D0748D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0750-67F9-40D6-AB30-CE5120A1A6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36B4-6476-41C6-8B72-6B70252F1B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1F61-96DB-420F-A0AC-E91FED38321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6B74-B455-4A02-BB6F-2CCFBC3855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4525-133F-4387-93CE-8E12346C32A2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7"/>
          <p:cNvSpPr/>
          <p:nvPr/>
        </p:nvSpPr>
        <p:spPr>
          <a:xfrm>
            <a:off x="1835280" y="3139920"/>
            <a:ext cx="2735280" cy="27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590920" y="2498760"/>
            <a:ext cx="3976200" cy="3630240"/>
            <a:chOff x="2590920" y="2498760"/>
            <a:chExt cx="3976200" cy="3630240"/>
          </a:xfrm>
        </p:grpSpPr>
        <p:sp>
          <p:nvSpPr>
            <p:cNvPr id="93" name="Rectangle 9"/>
            <p:cNvSpPr/>
            <p:nvPr/>
          </p:nvSpPr>
          <p:spPr>
            <a:xfrm>
              <a:off x="2590920" y="2498760"/>
              <a:ext cx="3976200" cy="3630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 flipH="1" rot="48000">
              <a:off x="3543480" y="3350160"/>
              <a:ext cx="2072880" cy="1928520"/>
            </a:xfrm>
            <a:custGeom>
              <a:avLst/>
              <a:gdLst/>
              <a:ahLst/>
              <a:rect l="l" t="t" r="r" b="b"/>
              <a:pathLst>
                <a:path w="1723" h="1738">
                  <a:moveTo>
                    <a:pt x="1696" y="392"/>
                  </a:moveTo>
                  <a:lnTo>
                    <a:pt x="1696" y="392"/>
                  </a:lnTo>
                  <a:lnTo>
                    <a:pt x="1682" y="340"/>
                  </a:lnTo>
                  <a:lnTo>
                    <a:pt x="1664" y="290"/>
                  </a:lnTo>
                  <a:lnTo>
                    <a:pt x="1643" y="244"/>
                  </a:lnTo>
                  <a:lnTo>
                    <a:pt x="1618" y="200"/>
                  </a:lnTo>
                  <a:lnTo>
                    <a:pt x="1592" y="160"/>
                  </a:lnTo>
                  <a:lnTo>
                    <a:pt x="1562" y="122"/>
                  </a:lnTo>
                  <a:lnTo>
                    <a:pt x="1546" y="104"/>
                  </a:lnTo>
                  <a:lnTo>
                    <a:pt x="1530" y="88"/>
                  </a:lnTo>
                  <a:lnTo>
                    <a:pt x="1512" y="74"/>
                  </a:lnTo>
                  <a:lnTo>
                    <a:pt x="1494" y="60"/>
                  </a:lnTo>
                  <a:lnTo>
                    <a:pt x="1476" y="48"/>
                  </a:lnTo>
                  <a:lnTo>
                    <a:pt x="1459" y="36"/>
                  </a:lnTo>
                  <a:lnTo>
                    <a:pt x="1439" y="26"/>
                  </a:lnTo>
                  <a:lnTo>
                    <a:pt x="1421" y="18"/>
                  </a:lnTo>
                  <a:lnTo>
                    <a:pt x="1402" y="12"/>
                  </a:lnTo>
                  <a:lnTo>
                    <a:pt x="1381" y="6"/>
                  </a:lnTo>
                  <a:lnTo>
                    <a:pt x="1361" y="2"/>
                  </a:lnTo>
                  <a:lnTo>
                    <a:pt x="1340" y="0"/>
                  </a:lnTo>
                  <a:lnTo>
                    <a:pt x="1320" y="0"/>
                  </a:lnTo>
                  <a:lnTo>
                    <a:pt x="1299" y="2"/>
                  </a:lnTo>
                  <a:lnTo>
                    <a:pt x="1278" y="6"/>
                  </a:lnTo>
                  <a:lnTo>
                    <a:pt x="1256" y="10"/>
                  </a:lnTo>
                  <a:lnTo>
                    <a:pt x="1233" y="18"/>
                  </a:lnTo>
                  <a:lnTo>
                    <a:pt x="1212" y="26"/>
                  </a:lnTo>
                  <a:lnTo>
                    <a:pt x="1191" y="38"/>
                  </a:lnTo>
                  <a:lnTo>
                    <a:pt x="1169" y="50"/>
                  </a:lnTo>
                  <a:lnTo>
                    <a:pt x="1114" y="88"/>
                  </a:lnTo>
                  <a:lnTo>
                    <a:pt x="1066" y="126"/>
                  </a:lnTo>
                  <a:lnTo>
                    <a:pt x="1022" y="164"/>
                  </a:lnTo>
                  <a:lnTo>
                    <a:pt x="981" y="202"/>
                  </a:lnTo>
                  <a:lnTo>
                    <a:pt x="946" y="240"/>
                  </a:lnTo>
                  <a:lnTo>
                    <a:pt x="914" y="276"/>
                  </a:lnTo>
                  <a:lnTo>
                    <a:pt x="885" y="310"/>
                  </a:lnTo>
                  <a:lnTo>
                    <a:pt x="862" y="340"/>
                  </a:lnTo>
                  <a:lnTo>
                    <a:pt x="839" y="310"/>
                  </a:lnTo>
                  <a:lnTo>
                    <a:pt x="811" y="276"/>
                  </a:lnTo>
                  <a:lnTo>
                    <a:pt x="779" y="240"/>
                  </a:lnTo>
                  <a:lnTo>
                    <a:pt x="743" y="202"/>
                  </a:lnTo>
                  <a:lnTo>
                    <a:pt x="703" y="164"/>
                  </a:lnTo>
                  <a:lnTo>
                    <a:pt x="658" y="126"/>
                  </a:lnTo>
                  <a:lnTo>
                    <a:pt x="609" y="88"/>
                  </a:lnTo>
                  <a:lnTo>
                    <a:pt x="555" y="50"/>
                  </a:lnTo>
                  <a:lnTo>
                    <a:pt x="534" y="38"/>
                  </a:lnTo>
                  <a:lnTo>
                    <a:pt x="511" y="26"/>
                  </a:lnTo>
                  <a:lnTo>
                    <a:pt x="490" y="16"/>
                  </a:lnTo>
                  <a:lnTo>
                    <a:pt x="468" y="10"/>
                  </a:lnTo>
                  <a:lnTo>
                    <a:pt x="447" y="4"/>
                  </a:lnTo>
                  <a:lnTo>
                    <a:pt x="426" y="2"/>
                  </a:lnTo>
                  <a:lnTo>
                    <a:pt x="405" y="0"/>
                  </a:lnTo>
                  <a:lnTo>
                    <a:pt x="383" y="0"/>
                  </a:lnTo>
                  <a:lnTo>
                    <a:pt x="364" y="2"/>
                  </a:lnTo>
                  <a:lnTo>
                    <a:pt x="342" y="6"/>
                  </a:lnTo>
                  <a:lnTo>
                    <a:pt x="323" y="12"/>
                  </a:lnTo>
                  <a:lnTo>
                    <a:pt x="303" y="18"/>
                  </a:lnTo>
                  <a:lnTo>
                    <a:pt x="284" y="26"/>
                  </a:lnTo>
                  <a:lnTo>
                    <a:pt x="266" y="36"/>
                  </a:lnTo>
                  <a:lnTo>
                    <a:pt x="247" y="48"/>
                  </a:lnTo>
                  <a:lnTo>
                    <a:pt x="229" y="60"/>
                  </a:lnTo>
                  <a:lnTo>
                    <a:pt x="211" y="74"/>
                  </a:lnTo>
                  <a:lnTo>
                    <a:pt x="195" y="88"/>
                  </a:lnTo>
                  <a:lnTo>
                    <a:pt x="177" y="104"/>
                  </a:lnTo>
                  <a:lnTo>
                    <a:pt x="163" y="122"/>
                  </a:lnTo>
                  <a:lnTo>
                    <a:pt x="133" y="158"/>
                  </a:lnTo>
                  <a:lnTo>
                    <a:pt x="105" y="200"/>
                  </a:lnTo>
                  <a:lnTo>
                    <a:pt x="82" y="244"/>
                  </a:lnTo>
                  <a:lnTo>
                    <a:pt x="60" y="290"/>
                  </a:lnTo>
                  <a:lnTo>
                    <a:pt x="43" y="340"/>
                  </a:lnTo>
                  <a:lnTo>
                    <a:pt x="28" y="390"/>
                  </a:lnTo>
                  <a:lnTo>
                    <a:pt x="14" y="456"/>
                  </a:lnTo>
                  <a:lnTo>
                    <a:pt x="5" y="516"/>
                  </a:lnTo>
                  <a:lnTo>
                    <a:pt x="2" y="546"/>
                  </a:lnTo>
                  <a:lnTo>
                    <a:pt x="2" y="574"/>
                  </a:lnTo>
                  <a:lnTo>
                    <a:pt x="0" y="600"/>
                  </a:lnTo>
                  <a:lnTo>
                    <a:pt x="2" y="628"/>
                  </a:lnTo>
                  <a:lnTo>
                    <a:pt x="4" y="654"/>
                  </a:lnTo>
                  <a:lnTo>
                    <a:pt x="7" y="678"/>
                  </a:lnTo>
                  <a:lnTo>
                    <a:pt x="11" y="704"/>
                  </a:lnTo>
                  <a:lnTo>
                    <a:pt x="16" y="728"/>
                  </a:lnTo>
                  <a:lnTo>
                    <a:pt x="28" y="776"/>
                  </a:lnTo>
                  <a:lnTo>
                    <a:pt x="44" y="824"/>
                  </a:lnTo>
                  <a:lnTo>
                    <a:pt x="66" y="870"/>
                  </a:lnTo>
                  <a:lnTo>
                    <a:pt x="89" y="918"/>
                  </a:lnTo>
                  <a:lnTo>
                    <a:pt x="117" y="964"/>
                  </a:lnTo>
                  <a:lnTo>
                    <a:pt x="147" y="1014"/>
                  </a:lnTo>
                  <a:lnTo>
                    <a:pt x="181" y="1064"/>
                  </a:lnTo>
                  <a:lnTo>
                    <a:pt x="216" y="1116"/>
                  </a:lnTo>
                  <a:lnTo>
                    <a:pt x="296" y="1228"/>
                  </a:lnTo>
                  <a:lnTo>
                    <a:pt x="328" y="1272"/>
                  </a:lnTo>
                  <a:lnTo>
                    <a:pt x="364" y="1316"/>
                  </a:lnTo>
                  <a:lnTo>
                    <a:pt x="399" y="1358"/>
                  </a:lnTo>
                  <a:lnTo>
                    <a:pt x="438" y="1396"/>
                  </a:lnTo>
                  <a:lnTo>
                    <a:pt x="476" y="1436"/>
                  </a:lnTo>
                  <a:lnTo>
                    <a:pt x="515" y="1472"/>
                  </a:lnTo>
                  <a:lnTo>
                    <a:pt x="554" y="1506"/>
                  </a:lnTo>
                  <a:lnTo>
                    <a:pt x="593" y="1540"/>
                  </a:lnTo>
                  <a:lnTo>
                    <a:pt x="669" y="1600"/>
                  </a:lnTo>
                  <a:lnTo>
                    <a:pt x="740" y="1652"/>
                  </a:lnTo>
                  <a:lnTo>
                    <a:pt x="804" y="1696"/>
                  </a:lnTo>
                  <a:lnTo>
                    <a:pt x="857" y="1732"/>
                  </a:lnTo>
                  <a:lnTo>
                    <a:pt x="857" y="1738"/>
                  </a:lnTo>
                  <a:lnTo>
                    <a:pt x="862" y="1734"/>
                  </a:lnTo>
                  <a:lnTo>
                    <a:pt x="868" y="1738"/>
                  </a:lnTo>
                  <a:lnTo>
                    <a:pt x="868" y="1732"/>
                  </a:lnTo>
                  <a:lnTo>
                    <a:pt x="921" y="1696"/>
                  </a:lnTo>
                  <a:lnTo>
                    <a:pt x="985" y="1654"/>
                  </a:lnTo>
                  <a:lnTo>
                    <a:pt x="1056" y="1600"/>
                  </a:lnTo>
                  <a:lnTo>
                    <a:pt x="1132" y="1540"/>
                  </a:lnTo>
                  <a:lnTo>
                    <a:pt x="1169" y="1508"/>
                  </a:lnTo>
                  <a:lnTo>
                    <a:pt x="1208" y="1472"/>
                  </a:lnTo>
                  <a:lnTo>
                    <a:pt x="1247" y="1436"/>
                  </a:lnTo>
                  <a:lnTo>
                    <a:pt x="1286" y="1398"/>
                  </a:lnTo>
                  <a:lnTo>
                    <a:pt x="1324" y="1358"/>
                  </a:lnTo>
                  <a:lnTo>
                    <a:pt x="1361" y="1316"/>
                  </a:lnTo>
                  <a:lnTo>
                    <a:pt x="1395" y="1274"/>
                  </a:lnTo>
                  <a:lnTo>
                    <a:pt x="1428" y="1228"/>
                  </a:lnTo>
                  <a:lnTo>
                    <a:pt x="1508" y="1116"/>
                  </a:lnTo>
                  <a:lnTo>
                    <a:pt x="1544" y="1064"/>
                  </a:lnTo>
                  <a:lnTo>
                    <a:pt x="1577" y="1014"/>
                  </a:lnTo>
                  <a:lnTo>
                    <a:pt x="1608" y="966"/>
                  </a:lnTo>
                  <a:lnTo>
                    <a:pt x="1634" y="918"/>
                  </a:lnTo>
                  <a:lnTo>
                    <a:pt x="1659" y="870"/>
                  </a:lnTo>
                  <a:lnTo>
                    <a:pt x="1679" y="824"/>
                  </a:lnTo>
                  <a:lnTo>
                    <a:pt x="1696" y="778"/>
                  </a:lnTo>
                  <a:lnTo>
                    <a:pt x="1709" y="728"/>
                  </a:lnTo>
                  <a:lnTo>
                    <a:pt x="1714" y="704"/>
                  </a:lnTo>
                  <a:lnTo>
                    <a:pt x="1718" y="680"/>
                  </a:lnTo>
                  <a:lnTo>
                    <a:pt x="1721" y="654"/>
                  </a:lnTo>
                  <a:lnTo>
                    <a:pt x="1723" y="628"/>
                  </a:lnTo>
                  <a:lnTo>
                    <a:pt x="1723" y="602"/>
                  </a:lnTo>
                  <a:lnTo>
                    <a:pt x="1723" y="574"/>
                  </a:lnTo>
                  <a:lnTo>
                    <a:pt x="1721" y="546"/>
                  </a:lnTo>
                  <a:lnTo>
                    <a:pt x="1719" y="516"/>
                  </a:lnTo>
                  <a:lnTo>
                    <a:pt x="1711" y="456"/>
                  </a:lnTo>
                  <a:lnTo>
                    <a:pt x="1696" y="3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1" marL="727920" indent="-280080">
              <a:spcBef>
                <a:spcPts val="799"/>
              </a:spcBef>
              <a:buClr>
                <a:srgbClr val="a50021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2" marL="111996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3" marL="156816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4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5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6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CB11-2640-4C0A-80D6-1A451629CB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2BF9-7EDC-43D5-80DD-86D41E2980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E467-9701-4D59-866B-ADC3E0F8B21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8E06-41D6-4CBD-82FA-0E031815DA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28D9-450C-48D2-AACF-6F44085E3AE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EB75-1F29-4B93-8AD4-D8E2490D0BD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7AC0-640F-439D-9A23-8B2C81E803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微软雅黑"/>
              </a:rPr>
              <a:t>七夕的心</a:t>
            </a:r>
            <a:r>
              <a:rPr b="0" lang="en-US" sz="4000" spc="-1" strike="noStrike">
                <a:solidFill>
                  <a:srgbClr val="a50021"/>
                </a:solidFill>
                <a:latin typeface="微软雅黑"/>
              </a:rPr>
              <a:t>PPT</a:t>
            </a:r>
            <a:r>
              <a:rPr b="0" lang="zh-CN" sz="4000" spc="-1" strike="noStrike">
                <a:solidFill>
                  <a:srgbClr val="a50021"/>
                </a:solidFill>
                <a:latin typeface="微软雅黑"/>
              </a:rPr>
              <a:t>模板免费下载</a:t>
            </a:r>
            <a:endParaRPr b="0" lang="en-US" sz="40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588" name="矩形 2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微软雅黑"/>
              </a:rPr>
              <a:t>你想对他说的话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微软雅黑"/>
              </a:rPr>
              <a:t>你想对她说的话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微软雅黑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微软雅黑"/>
              </a:rPr>
              <a:t>本模版颜色构成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0" y="2241720"/>
            <a:ext cx="9144000" cy="4616280"/>
          </a:xfrm>
          <a:prstGeom prst="rect">
            <a:avLst/>
          </a:prstGeom>
          <a:solidFill>
            <a:srgbClr val="fffffe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1430280" y="3322800"/>
            <a:ext cx="827280" cy="610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2506680" y="3322800"/>
            <a:ext cx="826920" cy="610920"/>
          </a:xfrm>
          <a:prstGeom prst="rect">
            <a:avLst/>
          </a:prstGeom>
          <a:solidFill>
            <a:srgbClr val="808080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4635360" y="3322800"/>
            <a:ext cx="827280" cy="610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5703840" y="3322800"/>
            <a:ext cx="827280" cy="610920"/>
          </a:xfrm>
          <a:prstGeom prst="rect">
            <a:avLst/>
          </a:prstGeom>
          <a:solidFill>
            <a:srgbClr val="cc00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7" name="Rectangle 8"/>
          <p:cNvSpPr/>
          <p:nvPr/>
        </p:nvSpPr>
        <p:spPr>
          <a:xfrm>
            <a:off x="6772320" y="3322800"/>
            <a:ext cx="826920" cy="610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7842240" y="3322800"/>
            <a:ext cx="826920" cy="610920"/>
          </a:xfrm>
          <a:prstGeom prst="rect">
            <a:avLst/>
          </a:prstGeom>
          <a:solidFill>
            <a:srgbClr val="800080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9" name="Rectangle 10"/>
          <p:cNvSpPr/>
          <p:nvPr/>
        </p:nvSpPr>
        <p:spPr>
          <a:xfrm>
            <a:off x="3567240" y="3322800"/>
            <a:ext cx="826920" cy="610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361800" y="3322800"/>
            <a:ext cx="827280" cy="6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56412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背景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2" name="Text Box 13"/>
          <p:cNvSpPr/>
          <p:nvPr/>
        </p:nvSpPr>
        <p:spPr>
          <a:xfrm>
            <a:off x="1451160" y="2682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文字和线条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270792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阴影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4" name="Text Box 15"/>
          <p:cNvSpPr/>
          <p:nvPr/>
        </p:nvSpPr>
        <p:spPr>
          <a:xfrm>
            <a:off x="376812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5" name="Text Box 16"/>
          <p:cNvSpPr/>
          <p:nvPr/>
        </p:nvSpPr>
        <p:spPr>
          <a:xfrm>
            <a:off x="483768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填充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6" name="Text Box 17"/>
          <p:cNvSpPr/>
          <p:nvPr/>
        </p:nvSpPr>
        <p:spPr>
          <a:xfrm>
            <a:off x="591444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加粗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7" name="Text Box 18"/>
          <p:cNvSpPr/>
          <p:nvPr/>
        </p:nvSpPr>
        <p:spPr>
          <a:xfrm>
            <a:off x="6901560" y="26827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超链接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8" name="Text Box 19"/>
          <p:cNvSpPr/>
          <p:nvPr/>
        </p:nvSpPr>
        <p:spPr>
          <a:xfrm>
            <a:off x="7599240" y="2682720"/>
            <a:ext cx="141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已访问过的超链接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3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微软雅黑"/>
              </a:rPr>
              <a:t>你想对他说的话</a:t>
            </a:r>
            <a:endParaRPr b="0" lang="en-US" sz="28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8178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微软雅黑"/>
              </a:rPr>
              <a:t>你想对她说的话</a:t>
            </a:r>
            <a:endParaRPr b="0" lang="en-US" sz="2800" spc="-1" strike="noStrike">
              <a:solidFill>
                <a:srgbClr val="a50021"/>
              </a:solidFill>
              <a:latin typeface="微软雅黑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微软雅黑"/>
              </a:rPr>
              <a:t>七夕庆祝日程表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431640" y="1916280"/>
          <a:ext cx="6229440" cy="3278160"/>
        </p:xfrm>
        <a:graphic>
          <a:graphicData uri="http://schemas.openxmlformats.org/drawingml/2006/table">
            <a:tbl>
              <a:tblPr/>
              <a:tblGrid>
                <a:gridCol w="3114720"/>
                <a:gridCol w="311472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事项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微软雅黑"/>
              </a:rPr>
              <a:t>爱心图表</a:t>
            </a:r>
            <a:r>
              <a:rPr b="0" lang="en-GB" sz="3600" spc="-1" strike="noStrike">
                <a:solidFill>
                  <a:srgbClr val="a50021"/>
                </a:solidFill>
                <a:latin typeface="微软雅黑"/>
              </a:rPr>
              <a:t> </a:t>
            </a:r>
            <a:r>
              <a:rPr b="0" lang="en-GB" sz="3600" spc="-1" strike="noStrike">
                <a:solidFill>
                  <a:srgbClr val="a50021"/>
                </a:solidFill>
                <a:latin typeface="微软雅黑"/>
              </a:rPr>
              <a:t>(3 </a:t>
            </a:r>
            <a:r>
              <a:rPr b="0" lang="zh-CN" sz="3600" spc="-1" strike="noStrike">
                <a:solidFill>
                  <a:srgbClr val="a50021"/>
                </a:solidFill>
                <a:latin typeface="微软雅黑"/>
              </a:rPr>
              <a:t>色</a:t>
            </a:r>
            <a:r>
              <a:rPr b="0" lang="en-GB" sz="3600" spc="-1" strike="noStrike">
                <a:solidFill>
                  <a:srgbClr val="a50021"/>
                </a:solidFill>
                <a:latin typeface="微软雅黑"/>
              </a:rPr>
              <a:t>)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graphicFrame>
        <p:nvGraphicFramePr>
          <p:cNvPr id="615" name="Object 3"/>
          <p:cNvGraphicFramePr/>
          <p:nvPr/>
        </p:nvGraphicFramePr>
        <p:xfrm>
          <a:off x="252360" y="1873080"/>
          <a:ext cx="6732720" cy="37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1873080"/>
                    <a:ext cx="6732720" cy="37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微软雅黑"/>
              </a:rPr>
              <a:t>照片墙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微软雅黑"/>
              </a:rPr>
              <a:t>生日</a:t>
            </a:r>
            <a:endParaRPr b="0" lang="en-US" sz="2800" spc="-1" strike="noStrike">
              <a:solidFill>
                <a:srgbClr val="a50021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微软雅黑"/>
              </a:rPr>
              <a:t>旅游</a:t>
            </a:r>
            <a:endParaRPr b="0" lang="en-US" sz="2800" spc="-1" strike="noStrike">
              <a:solidFill>
                <a:srgbClr val="a50021"/>
              </a:solidFill>
              <a:latin typeface="微软雅黑"/>
            </a:endParaRPr>
          </a:p>
        </p:txBody>
      </p:sp>
      <p:pic>
        <p:nvPicPr>
          <p:cNvPr id="619" name="Picture 4" descr="snowdrop"/>
          <p:cNvPicPr/>
          <p:nvPr/>
        </p:nvPicPr>
        <p:blipFill>
          <a:blip r:embed="rId1"/>
          <a:stretch/>
        </p:blipFill>
        <p:spPr>
          <a:xfrm>
            <a:off x="4140360" y="1916280"/>
            <a:ext cx="2093760" cy="352872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9:17:3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43:3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