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B48-537D-4234-B093-DBD40B4D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2DB-6CA3-437A-85A2-5907F375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6EA-AC47-4715-A252-CFEBD969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771-CB12-4AA9-8778-F51CAD39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948-B86C-4B20-B254-62FDD786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51B-80C9-4F81-9C72-40B5B57A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A1E-51C1-4C7B-B590-6B1DB04F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6C8-6165-45F6-AADE-09CA3634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59C-076D-4FB0-8647-D4EA49B7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75B-02E4-43BC-B082-B56DA398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AD2-FF3C-4B63-BEEA-BC9646CB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914-980F-44BD-8AF2-EB458433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11AD-586F-413A-B438-06E011AB0EE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A279-A78D-4F29-AF12-9E29894A3F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3"/>
          <p:cNvSpPr/>
          <p:nvPr/>
        </p:nvSpPr>
        <p:spPr>
          <a:xfrm>
            <a:off x="0" y="4011480"/>
            <a:ext cx="4067280" cy="1800"/>
          </a:xfrm>
          <a:prstGeom prst="line">
            <a:avLst/>
          </a:prstGeom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rcRect l="0" t="0" r="-4259" b="0"/>
          <a:stretch/>
        </p:blipFill>
        <p:spPr>
          <a:xfrm>
            <a:off x="3203640" y="1851120"/>
            <a:ext cx="3031920" cy="2457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rcRect l="0" t="0" r="-4259" b="0"/>
          <a:stretch/>
        </p:blipFill>
        <p:spPr>
          <a:xfrm>
            <a:off x="1836720" y="771480"/>
            <a:ext cx="3032280" cy="2457360"/>
          </a:xfrm>
          <a:prstGeom prst="rect">
            <a:avLst/>
          </a:prstGeom>
          <a:ln w="0">
            <a:noFill/>
          </a:ln>
        </p:spPr>
      </p:pic>
      <p:sp>
        <p:nvSpPr>
          <p:cNvPr id="44" name="直接连接符 48"/>
          <p:cNvSpPr/>
          <p:nvPr/>
        </p:nvSpPr>
        <p:spPr>
          <a:xfrm>
            <a:off x="5219640" y="4011480"/>
            <a:ext cx="4068720" cy="1800"/>
          </a:xfrm>
          <a:prstGeom prst="line">
            <a:avLst/>
          </a:prstGeom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Make It Last.mp3" descr=""/>
          <p:cNvPicPr/>
          <p:nvPr/>
        </p:nvPicPr>
        <p:blipFill>
          <a:blip r:embed="rId4"/>
          <a:stretch/>
        </p:blipFill>
        <p:spPr>
          <a:xfrm>
            <a:off x="-1260360" y="156204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8038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4560" y="-190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七夕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32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mph" presetID="32" repeatCount="indefinite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直接连接符 3"/>
          <p:cNvSpPr/>
          <p:nvPr/>
        </p:nvSpPr>
        <p:spPr>
          <a:xfrm>
            <a:off x="0" y="4011480"/>
            <a:ext cx="9396360" cy="7920"/>
          </a:xfrm>
          <a:prstGeom prst="line">
            <a:avLst/>
          </a:prstGeom>
          <a:ln w="82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心形 14"/>
          <p:cNvSpPr/>
          <p:nvPr/>
        </p:nvSpPr>
        <p:spPr>
          <a:xfrm>
            <a:off x="324000" y="4373640"/>
            <a:ext cx="287280" cy="21600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心形 15"/>
          <p:cNvSpPr/>
          <p:nvPr/>
        </p:nvSpPr>
        <p:spPr>
          <a:xfrm>
            <a:off x="555480" y="4387680"/>
            <a:ext cx="289080" cy="21600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心形 16"/>
          <p:cNvSpPr/>
          <p:nvPr/>
        </p:nvSpPr>
        <p:spPr>
          <a:xfrm>
            <a:off x="573120" y="4510080"/>
            <a:ext cx="287280" cy="21600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心形 19"/>
          <p:cNvSpPr/>
          <p:nvPr/>
        </p:nvSpPr>
        <p:spPr>
          <a:xfrm>
            <a:off x="4540320" y="4470480"/>
            <a:ext cx="288720" cy="21600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心形 21"/>
          <p:cNvSpPr/>
          <p:nvPr/>
        </p:nvSpPr>
        <p:spPr>
          <a:xfrm>
            <a:off x="2516040" y="43750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心形 24"/>
          <p:cNvSpPr/>
          <p:nvPr/>
        </p:nvSpPr>
        <p:spPr>
          <a:xfrm>
            <a:off x="3373560" y="475128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心形 26"/>
          <p:cNvSpPr/>
          <p:nvPr/>
        </p:nvSpPr>
        <p:spPr>
          <a:xfrm>
            <a:off x="1739880" y="42274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心形 27"/>
          <p:cNvSpPr/>
          <p:nvPr/>
        </p:nvSpPr>
        <p:spPr>
          <a:xfrm>
            <a:off x="2963880" y="44211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心形 28"/>
          <p:cNvSpPr/>
          <p:nvPr/>
        </p:nvSpPr>
        <p:spPr>
          <a:xfrm>
            <a:off x="4957920" y="4489560"/>
            <a:ext cx="239400" cy="180720"/>
          </a:xfrm>
          <a:custGeom>
            <a:avLst/>
            <a:gdLst>
              <a:gd name="textAreaLeft" fmla="*/ 56160 w 239400"/>
              <a:gd name="textAreaRight" fmla="*/ 183240 w 23940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心形 30"/>
          <p:cNvSpPr/>
          <p:nvPr/>
        </p:nvSpPr>
        <p:spPr>
          <a:xfrm>
            <a:off x="1476360" y="44434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心形 36"/>
          <p:cNvSpPr/>
          <p:nvPr/>
        </p:nvSpPr>
        <p:spPr>
          <a:xfrm>
            <a:off x="4587840" y="43322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心形 37"/>
          <p:cNvSpPr/>
          <p:nvPr/>
        </p:nvSpPr>
        <p:spPr>
          <a:xfrm>
            <a:off x="1979640" y="44355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心形 38"/>
          <p:cNvSpPr/>
          <p:nvPr/>
        </p:nvSpPr>
        <p:spPr>
          <a:xfrm>
            <a:off x="4759200" y="43322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心形 42"/>
          <p:cNvSpPr/>
          <p:nvPr/>
        </p:nvSpPr>
        <p:spPr>
          <a:xfrm>
            <a:off x="1947960" y="436392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心形 49"/>
          <p:cNvSpPr/>
          <p:nvPr/>
        </p:nvSpPr>
        <p:spPr>
          <a:xfrm>
            <a:off x="2395440" y="441000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心形 50"/>
          <p:cNvSpPr/>
          <p:nvPr/>
        </p:nvSpPr>
        <p:spPr>
          <a:xfrm>
            <a:off x="1819440" y="4460760"/>
            <a:ext cx="241200" cy="179640"/>
          </a:xfrm>
          <a:custGeom>
            <a:avLst/>
            <a:gdLst>
              <a:gd name="textAreaLeft" fmla="*/ 56520 w 241200"/>
              <a:gd name="textAreaRight" fmla="*/ 184320 w 24120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心形 53"/>
          <p:cNvSpPr/>
          <p:nvPr/>
        </p:nvSpPr>
        <p:spPr>
          <a:xfrm>
            <a:off x="4541760" y="44197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心形 55"/>
          <p:cNvSpPr/>
          <p:nvPr/>
        </p:nvSpPr>
        <p:spPr>
          <a:xfrm>
            <a:off x="4846680" y="43545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心形 56"/>
          <p:cNvSpPr/>
          <p:nvPr/>
        </p:nvSpPr>
        <p:spPr>
          <a:xfrm>
            <a:off x="5046840" y="45068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心形 59"/>
          <p:cNvSpPr/>
          <p:nvPr/>
        </p:nvSpPr>
        <p:spPr>
          <a:xfrm>
            <a:off x="1622520" y="430200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62"/>
          <p:cNvGrpSpPr/>
          <p:nvPr/>
        </p:nvGrpSpPr>
        <p:grpSpPr>
          <a:xfrm>
            <a:off x="3827520" y="3060720"/>
            <a:ext cx="287280" cy="996840"/>
            <a:chOff x="3827520" y="3060720"/>
            <a:chExt cx="287280" cy="996840"/>
          </a:xfrm>
        </p:grpSpPr>
        <p:sp>
          <p:nvSpPr>
            <p:cNvPr id="70" name="直接连接符 6"/>
            <p:cNvSpPr/>
            <p:nvPr/>
          </p:nvSpPr>
          <p:spPr>
            <a:xfrm flipV="1">
              <a:off x="3971520" y="3254040"/>
              <a:ext cx="0" cy="8035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心形 7"/>
            <p:cNvSpPr/>
            <p:nvPr/>
          </p:nvSpPr>
          <p:spPr>
            <a:xfrm>
              <a:off x="3827520" y="3060720"/>
              <a:ext cx="287280" cy="288000"/>
            </a:xfrm>
            <a:custGeom>
              <a:avLst/>
              <a:gdLst>
                <a:gd name="textAreaLeft" fmla="*/ 67320 w 287280"/>
                <a:gd name="textAreaRight" fmla="*/ 219600 w 287280"/>
                <a:gd name="textAreaTop" fmla="*/ 33840 h 288000"/>
                <a:gd name="textAreaBottom" fmla="*/ 180720 h 2880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64"/>
          <p:cNvGrpSpPr/>
          <p:nvPr/>
        </p:nvGrpSpPr>
        <p:grpSpPr>
          <a:xfrm>
            <a:off x="3259080" y="2716200"/>
            <a:ext cx="449280" cy="1295280"/>
            <a:chOff x="3259080" y="2716200"/>
            <a:chExt cx="449280" cy="1295280"/>
          </a:xfrm>
        </p:grpSpPr>
        <p:sp>
          <p:nvSpPr>
            <p:cNvPr id="73" name="直接连接符 65"/>
            <p:cNvSpPr/>
            <p:nvPr/>
          </p:nvSpPr>
          <p:spPr>
            <a:xfrm flipV="1">
              <a:off x="3484440" y="2967480"/>
              <a:ext cx="0" cy="104400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心形 66"/>
            <p:cNvSpPr/>
            <p:nvPr/>
          </p:nvSpPr>
          <p:spPr>
            <a:xfrm>
              <a:off x="3259080" y="2716200"/>
              <a:ext cx="449280" cy="374400"/>
            </a:xfrm>
            <a:custGeom>
              <a:avLst/>
              <a:gdLst>
                <a:gd name="textAreaLeft" fmla="*/ 105480 w 449280"/>
                <a:gd name="textAreaRight" fmla="*/ 343440 w 449280"/>
                <a:gd name="textAreaTop" fmla="*/ 43920 h 374400"/>
                <a:gd name="textAreaBottom" fmla="*/ 234720 h 3744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67"/>
          <p:cNvGrpSpPr/>
          <p:nvPr/>
        </p:nvGrpSpPr>
        <p:grpSpPr>
          <a:xfrm>
            <a:off x="395280" y="2903400"/>
            <a:ext cx="504720" cy="1128600"/>
            <a:chOff x="395280" y="2903400"/>
            <a:chExt cx="504720" cy="1128600"/>
          </a:xfrm>
        </p:grpSpPr>
        <p:sp>
          <p:nvSpPr>
            <p:cNvPr id="76" name="直接连接符 68"/>
            <p:cNvSpPr/>
            <p:nvPr/>
          </p:nvSpPr>
          <p:spPr>
            <a:xfrm flipV="1">
              <a:off x="648720" y="3122280"/>
              <a:ext cx="0" cy="9097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心形 69"/>
            <p:cNvSpPr/>
            <p:nvPr/>
          </p:nvSpPr>
          <p:spPr>
            <a:xfrm>
              <a:off x="395280" y="2903400"/>
              <a:ext cx="504720" cy="326520"/>
            </a:xfrm>
            <a:custGeom>
              <a:avLst/>
              <a:gdLst>
                <a:gd name="textAreaLeft" fmla="*/ 118440 w 504720"/>
                <a:gd name="textAreaRight" fmla="*/ 385920 w 504720"/>
                <a:gd name="textAreaTop" fmla="*/ 38160 h 326520"/>
                <a:gd name="textAreaBottom" fmla="*/ 204840 h 3265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70"/>
          <p:cNvGrpSpPr/>
          <p:nvPr/>
        </p:nvGrpSpPr>
        <p:grpSpPr>
          <a:xfrm>
            <a:off x="1139760" y="3254400"/>
            <a:ext cx="368280" cy="709200"/>
            <a:chOff x="1139760" y="3254400"/>
            <a:chExt cx="368280" cy="709200"/>
          </a:xfrm>
        </p:grpSpPr>
        <p:sp>
          <p:nvSpPr>
            <p:cNvPr id="79" name="直接连接符 71"/>
            <p:cNvSpPr/>
            <p:nvPr/>
          </p:nvSpPr>
          <p:spPr>
            <a:xfrm flipV="1">
              <a:off x="1324440" y="3391560"/>
              <a:ext cx="0" cy="57204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心形 72"/>
            <p:cNvSpPr/>
            <p:nvPr/>
          </p:nvSpPr>
          <p:spPr>
            <a:xfrm>
              <a:off x="1139760" y="3254400"/>
              <a:ext cx="368280" cy="205200"/>
            </a:xfrm>
            <a:custGeom>
              <a:avLst/>
              <a:gdLst>
                <a:gd name="textAreaLeft" fmla="*/ 86400 w 368280"/>
                <a:gd name="textAreaRight" fmla="*/ 281520 w 368280"/>
                <a:gd name="textAreaTop" fmla="*/ 24120 h 205200"/>
                <a:gd name="textAreaBottom" fmla="*/ 128880 h 205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76"/>
          <p:cNvGrpSpPr/>
          <p:nvPr/>
        </p:nvGrpSpPr>
        <p:grpSpPr>
          <a:xfrm>
            <a:off x="4699080" y="3489480"/>
            <a:ext cx="222120" cy="567720"/>
            <a:chOff x="4699080" y="3489480"/>
            <a:chExt cx="222120" cy="567720"/>
          </a:xfrm>
        </p:grpSpPr>
        <p:sp>
          <p:nvSpPr>
            <p:cNvPr id="82" name="直接连接符 74"/>
            <p:cNvSpPr/>
            <p:nvPr/>
          </p:nvSpPr>
          <p:spPr>
            <a:xfrm flipV="1">
              <a:off x="4809960" y="3677400"/>
              <a:ext cx="0" cy="37980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心形 75"/>
            <p:cNvSpPr/>
            <p:nvPr/>
          </p:nvSpPr>
          <p:spPr>
            <a:xfrm>
              <a:off x="4699080" y="3489480"/>
              <a:ext cx="222120" cy="222840"/>
            </a:xfrm>
            <a:custGeom>
              <a:avLst/>
              <a:gdLst>
                <a:gd name="textAreaLeft" fmla="*/ 52200 w 222120"/>
                <a:gd name="textAreaRight" fmla="*/ 169920 w 222120"/>
                <a:gd name="textAreaTop" fmla="*/ 25920 h 222840"/>
                <a:gd name="textAreaBottom" fmla="*/ 139680 h 2228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78"/>
          <p:cNvGrpSpPr/>
          <p:nvPr/>
        </p:nvGrpSpPr>
        <p:grpSpPr>
          <a:xfrm>
            <a:off x="831960" y="3429000"/>
            <a:ext cx="222120" cy="566640"/>
            <a:chOff x="831960" y="3429000"/>
            <a:chExt cx="222120" cy="566640"/>
          </a:xfrm>
        </p:grpSpPr>
        <p:sp>
          <p:nvSpPr>
            <p:cNvPr id="85" name="直接连接符 79"/>
            <p:cNvSpPr/>
            <p:nvPr/>
          </p:nvSpPr>
          <p:spPr>
            <a:xfrm flipV="1">
              <a:off x="942840" y="3616920"/>
              <a:ext cx="0" cy="3787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心形 80"/>
            <p:cNvSpPr/>
            <p:nvPr/>
          </p:nvSpPr>
          <p:spPr>
            <a:xfrm>
              <a:off x="831960" y="3429000"/>
              <a:ext cx="222120" cy="222120"/>
            </a:xfrm>
            <a:custGeom>
              <a:avLst/>
              <a:gdLst>
                <a:gd name="textAreaLeft" fmla="*/ 52200 w 222120"/>
                <a:gd name="textAreaRight" fmla="*/ 169920 w 222120"/>
                <a:gd name="textAreaTop" fmla="*/ 25920 h 222120"/>
                <a:gd name="textAreaBottom" fmla="*/ 139320 h 2221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82"/>
          <p:cNvGrpSpPr/>
          <p:nvPr/>
        </p:nvGrpSpPr>
        <p:grpSpPr>
          <a:xfrm>
            <a:off x="1468440" y="3390840"/>
            <a:ext cx="223920" cy="568440"/>
            <a:chOff x="1468440" y="3390840"/>
            <a:chExt cx="223920" cy="568440"/>
          </a:xfrm>
        </p:grpSpPr>
        <p:sp>
          <p:nvSpPr>
            <p:cNvPr id="88" name="直接连接符 83"/>
            <p:cNvSpPr/>
            <p:nvPr/>
          </p:nvSpPr>
          <p:spPr>
            <a:xfrm flipV="1">
              <a:off x="1580400" y="3579120"/>
              <a:ext cx="0" cy="3801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心形 84"/>
            <p:cNvSpPr/>
            <p:nvPr/>
          </p:nvSpPr>
          <p:spPr>
            <a:xfrm>
              <a:off x="1468440" y="3390840"/>
              <a:ext cx="223920" cy="222840"/>
            </a:xfrm>
            <a:custGeom>
              <a:avLst/>
              <a:gdLst>
                <a:gd name="textAreaLeft" fmla="*/ 52560 w 223920"/>
                <a:gd name="textAreaRight" fmla="*/ 171360 w 223920"/>
                <a:gd name="textAreaTop" fmla="*/ 25920 h 222840"/>
                <a:gd name="textAreaBottom" fmla="*/ 139680 h 2228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85"/>
          <p:cNvGrpSpPr/>
          <p:nvPr/>
        </p:nvGrpSpPr>
        <p:grpSpPr>
          <a:xfrm>
            <a:off x="2003400" y="3060720"/>
            <a:ext cx="289080" cy="996840"/>
            <a:chOff x="2003400" y="3060720"/>
            <a:chExt cx="289080" cy="996840"/>
          </a:xfrm>
        </p:grpSpPr>
        <p:sp>
          <p:nvSpPr>
            <p:cNvPr id="91" name="直接连接符 86"/>
            <p:cNvSpPr/>
            <p:nvPr/>
          </p:nvSpPr>
          <p:spPr>
            <a:xfrm flipV="1">
              <a:off x="2148480" y="3254040"/>
              <a:ext cx="0" cy="8035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心形 87"/>
            <p:cNvSpPr/>
            <p:nvPr/>
          </p:nvSpPr>
          <p:spPr>
            <a:xfrm>
              <a:off x="2003400" y="3060720"/>
              <a:ext cx="289080" cy="288000"/>
            </a:xfrm>
            <a:custGeom>
              <a:avLst/>
              <a:gdLst>
                <a:gd name="textAreaLeft" fmla="*/ 67680 w 289080"/>
                <a:gd name="textAreaRight" fmla="*/ 221040 w 289080"/>
                <a:gd name="textAreaTop" fmla="*/ 33840 h 288000"/>
                <a:gd name="textAreaBottom" fmla="*/ 180720 h 2880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88"/>
          <p:cNvGrpSpPr/>
          <p:nvPr/>
        </p:nvGrpSpPr>
        <p:grpSpPr>
          <a:xfrm>
            <a:off x="2486160" y="3395520"/>
            <a:ext cx="222120" cy="566640"/>
            <a:chOff x="2486160" y="3395520"/>
            <a:chExt cx="222120" cy="566640"/>
          </a:xfrm>
        </p:grpSpPr>
        <p:sp>
          <p:nvSpPr>
            <p:cNvPr id="94" name="直接连接符 89"/>
            <p:cNvSpPr/>
            <p:nvPr/>
          </p:nvSpPr>
          <p:spPr>
            <a:xfrm flipV="1">
              <a:off x="2597040" y="3583080"/>
              <a:ext cx="0" cy="37908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心形 90"/>
            <p:cNvSpPr/>
            <p:nvPr/>
          </p:nvSpPr>
          <p:spPr>
            <a:xfrm>
              <a:off x="2486160" y="3395520"/>
              <a:ext cx="222120" cy="222480"/>
            </a:xfrm>
            <a:custGeom>
              <a:avLst/>
              <a:gdLst>
                <a:gd name="textAreaLeft" fmla="*/ 52200 w 222120"/>
                <a:gd name="textAreaRight" fmla="*/ 169920 w 222120"/>
                <a:gd name="textAreaTop" fmla="*/ 25920 h 222480"/>
                <a:gd name="textAreaBottom" fmla="*/ 139680 h 2224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91"/>
          <p:cNvGrpSpPr/>
          <p:nvPr/>
        </p:nvGrpSpPr>
        <p:grpSpPr>
          <a:xfrm>
            <a:off x="2900520" y="3403440"/>
            <a:ext cx="223560" cy="568440"/>
            <a:chOff x="2900520" y="3403440"/>
            <a:chExt cx="223560" cy="568440"/>
          </a:xfrm>
        </p:grpSpPr>
        <p:sp>
          <p:nvSpPr>
            <p:cNvPr id="97" name="直接连接符 92"/>
            <p:cNvSpPr/>
            <p:nvPr/>
          </p:nvSpPr>
          <p:spPr>
            <a:xfrm flipV="1">
              <a:off x="3012120" y="3591720"/>
              <a:ext cx="0" cy="3801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心形 93"/>
            <p:cNvSpPr/>
            <p:nvPr/>
          </p:nvSpPr>
          <p:spPr>
            <a:xfrm>
              <a:off x="2900520" y="3403440"/>
              <a:ext cx="223560" cy="222840"/>
            </a:xfrm>
            <a:custGeom>
              <a:avLst/>
              <a:gdLst>
                <a:gd name="textAreaLeft" fmla="*/ 52560 w 223560"/>
                <a:gd name="textAreaRight" fmla="*/ 171000 w 223560"/>
                <a:gd name="textAreaTop" fmla="*/ 25920 h 222840"/>
                <a:gd name="textAreaBottom" fmla="*/ 139680 h 2228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94"/>
          <p:cNvGrpSpPr/>
          <p:nvPr/>
        </p:nvGrpSpPr>
        <p:grpSpPr>
          <a:xfrm>
            <a:off x="4211640" y="3122640"/>
            <a:ext cx="360360" cy="899640"/>
            <a:chOff x="4211640" y="3122640"/>
            <a:chExt cx="360360" cy="899640"/>
          </a:xfrm>
        </p:grpSpPr>
        <p:sp>
          <p:nvSpPr>
            <p:cNvPr id="100" name="直接连接符 95"/>
            <p:cNvSpPr/>
            <p:nvPr/>
          </p:nvSpPr>
          <p:spPr>
            <a:xfrm flipV="1">
              <a:off x="4391640" y="3420720"/>
              <a:ext cx="0" cy="6015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心形 96"/>
            <p:cNvSpPr/>
            <p:nvPr/>
          </p:nvSpPr>
          <p:spPr>
            <a:xfrm>
              <a:off x="4211640" y="3122640"/>
              <a:ext cx="360360" cy="353160"/>
            </a:xfrm>
            <a:custGeom>
              <a:avLst/>
              <a:gdLst>
                <a:gd name="textAreaLeft" fmla="*/ 84600 w 360360"/>
                <a:gd name="textAreaRight" fmla="*/ 275400 w 360360"/>
                <a:gd name="textAreaTop" fmla="*/ 41400 h 353160"/>
                <a:gd name="textAreaBottom" fmla="*/ 221400 h 353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97"/>
          <p:cNvGrpSpPr/>
          <p:nvPr/>
        </p:nvGrpSpPr>
        <p:grpSpPr>
          <a:xfrm>
            <a:off x="5219640" y="2787480"/>
            <a:ext cx="360360" cy="1220760"/>
            <a:chOff x="5219640" y="2787480"/>
            <a:chExt cx="360360" cy="1220760"/>
          </a:xfrm>
        </p:grpSpPr>
        <p:sp>
          <p:nvSpPr>
            <p:cNvPr id="103" name="直接连接符 98"/>
            <p:cNvSpPr/>
            <p:nvPr/>
          </p:nvSpPr>
          <p:spPr>
            <a:xfrm flipV="1">
              <a:off x="5399640" y="3192120"/>
              <a:ext cx="0" cy="81612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心形 99"/>
            <p:cNvSpPr/>
            <p:nvPr/>
          </p:nvSpPr>
          <p:spPr>
            <a:xfrm>
              <a:off x="5219640" y="2787480"/>
              <a:ext cx="360360" cy="479160"/>
            </a:xfrm>
            <a:custGeom>
              <a:avLst/>
              <a:gdLst>
                <a:gd name="textAreaLeft" fmla="*/ 84600 w 360360"/>
                <a:gd name="textAreaRight" fmla="*/ 275400 w 360360"/>
                <a:gd name="textAreaTop" fmla="*/ 56160 h 479160"/>
                <a:gd name="textAreaBottom" fmla="*/ 300600 h 4791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100"/>
          <p:cNvGrpSpPr/>
          <p:nvPr/>
        </p:nvGrpSpPr>
        <p:grpSpPr>
          <a:xfrm>
            <a:off x="5867280" y="2967120"/>
            <a:ext cx="432000" cy="1042920"/>
            <a:chOff x="5867280" y="2967120"/>
            <a:chExt cx="432000" cy="1042920"/>
          </a:xfrm>
        </p:grpSpPr>
        <p:sp>
          <p:nvSpPr>
            <p:cNvPr id="106" name="直接连接符 101"/>
            <p:cNvSpPr/>
            <p:nvPr/>
          </p:nvSpPr>
          <p:spPr>
            <a:xfrm flipV="1">
              <a:off x="6083280" y="3313080"/>
              <a:ext cx="0" cy="696960"/>
            </a:xfrm>
            <a:prstGeom prst="line">
              <a:avLst/>
            </a:prstGeom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心形 102"/>
            <p:cNvSpPr/>
            <p:nvPr/>
          </p:nvSpPr>
          <p:spPr>
            <a:xfrm>
              <a:off x="5867280" y="2967120"/>
              <a:ext cx="432000" cy="408960"/>
            </a:xfrm>
            <a:custGeom>
              <a:avLst/>
              <a:gdLst>
                <a:gd name="textAreaLeft" fmla="*/ 101520 w 432000"/>
                <a:gd name="textAreaRight" fmla="*/ 330120 w 432000"/>
                <a:gd name="textAreaTop" fmla="*/ 47880 h 408960"/>
                <a:gd name="textAreaBottom" fmla="*/ 256680 h 4089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心形 103"/>
          <p:cNvSpPr/>
          <p:nvPr/>
        </p:nvSpPr>
        <p:spPr>
          <a:xfrm>
            <a:off x="4235400" y="399240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心形 105"/>
          <p:cNvSpPr/>
          <p:nvPr/>
        </p:nvSpPr>
        <p:spPr>
          <a:xfrm>
            <a:off x="3330720" y="3867120"/>
            <a:ext cx="241200" cy="181080"/>
          </a:xfrm>
          <a:custGeom>
            <a:avLst/>
            <a:gdLst>
              <a:gd name="textAreaLeft" fmla="*/ 56520 w 241200"/>
              <a:gd name="textAreaRight" fmla="*/ 184320 w 24120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心形 107"/>
          <p:cNvSpPr/>
          <p:nvPr/>
        </p:nvSpPr>
        <p:spPr>
          <a:xfrm>
            <a:off x="4540320" y="39290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心形 109"/>
          <p:cNvSpPr/>
          <p:nvPr/>
        </p:nvSpPr>
        <p:spPr>
          <a:xfrm>
            <a:off x="3922560" y="4105440"/>
            <a:ext cx="96840" cy="7272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2720"/>
              <a:gd name="textAreaBottom" fmla="*/ 45720 h 7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心形 110"/>
          <p:cNvSpPr/>
          <p:nvPr/>
        </p:nvSpPr>
        <p:spPr>
          <a:xfrm>
            <a:off x="3778200" y="3914640"/>
            <a:ext cx="241200" cy="181080"/>
          </a:xfrm>
          <a:custGeom>
            <a:avLst/>
            <a:gdLst>
              <a:gd name="textAreaLeft" fmla="*/ 56520 w 241200"/>
              <a:gd name="textAreaRight" fmla="*/ 184320 w 24120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心形 112"/>
          <p:cNvSpPr/>
          <p:nvPr/>
        </p:nvSpPr>
        <p:spPr>
          <a:xfrm>
            <a:off x="3306600" y="46958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心形 113"/>
          <p:cNvSpPr/>
          <p:nvPr/>
        </p:nvSpPr>
        <p:spPr>
          <a:xfrm>
            <a:off x="3987720" y="4000680"/>
            <a:ext cx="241560" cy="180720"/>
          </a:xfrm>
          <a:custGeom>
            <a:avLst/>
            <a:gdLst>
              <a:gd name="textAreaLeft" fmla="*/ 56520 w 241560"/>
              <a:gd name="textAreaRight" fmla="*/ 184680 w 2415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心形 114"/>
          <p:cNvSpPr/>
          <p:nvPr/>
        </p:nvSpPr>
        <p:spPr>
          <a:xfrm>
            <a:off x="3355920" y="44830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心形 115"/>
          <p:cNvSpPr/>
          <p:nvPr/>
        </p:nvSpPr>
        <p:spPr>
          <a:xfrm>
            <a:off x="3508200" y="463536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心形 116"/>
          <p:cNvSpPr/>
          <p:nvPr/>
        </p:nvSpPr>
        <p:spPr>
          <a:xfrm>
            <a:off x="3660840" y="44197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心形 117"/>
          <p:cNvSpPr/>
          <p:nvPr/>
        </p:nvSpPr>
        <p:spPr>
          <a:xfrm>
            <a:off x="3813120" y="42004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心形 118"/>
          <p:cNvSpPr/>
          <p:nvPr/>
        </p:nvSpPr>
        <p:spPr>
          <a:xfrm>
            <a:off x="3005280" y="4014720"/>
            <a:ext cx="239400" cy="179280"/>
          </a:xfrm>
          <a:custGeom>
            <a:avLst/>
            <a:gdLst>
              <a:gd name="textAreaLeft" fmla="*/ 56160 w 239400"/>
              <a:gd name="textAreaRight" fmla="*/ 183240 w 23940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心形 119"/>
          <p:cNvSpPr/>
          <p:nvPr/>
        </p:nvSpPr>
        <p:spPr>
          <a:xfrm>
            <a:off x="3666960" y="435276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心形 120"/>
          <p:cNvSpPr/>
          <p:nvPr/>
        </p:nvSpPr>
        <p:spPr>
          <a:xfrm>
            <a:off x="3819600" y="4133880"/>
            <a:ext cx="95040" cy="730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心形 121"/>
          <p:cNvSpPr/>
          <p:nvPr/>
        </p:nvSpPr>
        <p:spPr>
          <a:xfrm>
            <a:off x="3971880" y="39178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心形 122"/>
          <p:cNvSpPr/>
          <p:nvPr/>
        </p:nvSpPr>
        <p:spPr>
          <a:xfrm>
            <a:off x="4124160" y="40705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心形 123"/>
          <p:cNvSpPr/>
          <p:nvPr/>
        </p:nvSpPr>
        <p:spPr>
          <a:xfrm>
            <a:off x="3355920" y="446580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心形 124"/>
          <p:cNvSpPr/>
          <p:nvPr/>
        </p:nvSpPr>
        <p:spPr>
          <a:xfrm>
            <a:off x="3211560" y="427500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心形 125"/>
          <p:cNvSpPr/>
          <p:nvPr/>
        </p:nvSpPr>
        <p:spPr>
          <a:xfrm>
            <a:off x="3421080" y="43610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心形 126"/>
          <p:cNvSpPr/>
          <p:nvPr/>
        </p:nvSpPr>
        <p:spPr>
          <a:xfrm>
            <a:off x="2940120" y="4460760"/>
            <a:ext cx="95040" cy="730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心形 127"/>
          <p:cNvSpPr/>
          <p:nvPr/>
        </p:nvSpPr>
        <p:spPr>
          <a:xfrm>
            <a:off x="3092400" y="40370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心形 147"/>
          <p:cNvSpPr/>
          <p:nvPr/>
        </p:nvSpPr>
        <p:spPr>
          <a:xfrm>
            <a:off x="4124160" y="450540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心形 155"/>
          <p:cNvSpPr/>
          <p:nvPr/>
        </p:nvSpPr>
        <p:spPr>
          <a:xfrm>
            <a:off x="2195640" y="363204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心形 156"/>
          <p:cNvSpPr/>
          <p:nvPr/>
        </p:nvSpPr>
        <p:spPr>
          <a:xfrm>
            <a:off x="900000" y="3946680"/>
            <a:ext cx="144720" cy="128520"/>
          </a:xfrm>
          <a:custGeom>
            <a:avLst/>
            <a:gdLst>
              <a:gd name="textAreaLeft" fmla="*/ 33840 w 144720"/>
              <a:gd name="textAreaRight" fmla="*/ 110880 w 144720"/>
              <a:gd name="textAreaTop" fmla="*/ 15120 h 128520"/>
              <a:gd name="textAreaBottom" fmla="*/ 80640 h 1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心形 157"/>
          <p:cNvSpPr/>
          <p:nvPr/>
        </p:nvSpPr>
        <p:spPr>
          <a:xfrm>
            <a:off x="512640" y="353376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心形 158"/>
          <p:cNvSpPr/>
          <p:nvPr/>
        </p:nvSpPr>
        <p:spPr>
          <a:xfrm>
            <a:off x="2347920" y="378468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心形 159"/>
          <p:cNvSpPr/>
          <p:nvPr/>
        </p:nvSpPr>
        <p:spPr>
          <a:xfrm>
            <a:off x="2500200" y="356868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心形 160"/>
          <p:cNvSpPr/>
          <p:nvPr/>
        </p:nvSpPr>
        <p:spPr>
          <a:xfrm>
            <a:off x="2652840" y="372096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心形 161"/>
          <p:cNvSpPr/>
          <p:nvPr/>
        </p:nvSpPr>
        <p:spPr>
          <a:xfrm>
            <a:off x="1882800" y="37465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心形 162"/>
          <p:cNvSpPr/>
          <p:nvPr/>
        </p:nvSpPr>
        <p:spPr>
          <a:xfrm>
            <a:off x="960480" y="35812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心形 163"/>
          <p:cNvSpPr/>
          <p:nvPr/>
        </p:nvSpPr>
        <p:spPr>
          <a:xfrm>
            <a:off x="1116000" y="381312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心形 164"/>
          <p:cNvSpPr/>
          <p:nvPr/>
        </p:nvSpPr>
        <p:spPr>
          <a:xfrm>
            <a:off x="1268280" y="396540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心形 165"/>
          <p:cNvSpPr/>
          <p:nvPr/>
        </p:nvSpPr>
        <p:spPr>
          <a:xfrm>
            <a:off x="1949400" y="36417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心形 166"/>
          <p:cNvSpPr/>
          <p:nvPr/>
        </p:nvSpPr>
        <p:spPr>
          <a:xfrm>
            <a:off x="1316160" y="37530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心形 167"/>
          <p:cNvSpPr/>
          <p:nvPr/>
        </p:nvSpPr>
        <p:spPr>
          <a:xfrm>
            <a:off x="1468440" y="39052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心形 168"/>
          <p:cNvSpPr/>
          <p:nvPr/>
        </p:nvSpPr>
        <p:spPr>
          <a:xfrm>
            <a:off x="841320" y="37148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心形 169"/>
          <p:cNvSpPr/>
          <p:nvPr/>
        </p:nvSpPr>
        <p:spPr>
          <a:xfrm>
            <a:off x="1773360" y="384012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心形 170"/>
          <p:cNvSpPr/>
          <p:nvPr/>
        </p:nvSpPr>
        <p:spPr>
          <a:xfrm>
            <a:off x="965160" y="365436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心形 171"/>
          <p:cNvSpPr/>
          <p:nvPr/>
        </p:nvSpPr>
        <p:spPr>
          <a:xfrm>
            <a:off x="847800" y="3648240"/>
            <a:ext cx="96840" cy="7272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2720"/>
              <a:gd name="textAreaBottom" fmla="*/ 45720 h 7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心形 172"/>
          <p:cNvSpPr/>
          <p:nvPr/>
        </p:nvSpPr>
        <p:spPr>
          <a:xfrm>
            <a:off x="1781280" y="377496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心形 173"/>
          <p:cNvSpPr/>
          <p:nvPr/>
        </p:nvSpPr>
        <p:spPr>
          <a:xfrm>
            <a:off x="1152360" y="358452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心形 174"/>
          <p:cNvSpPr/>
          <p:nvPr/>
        </p:nvSpPr>
        <p:spPr>
          <a:xfrm>
            <a:off x="1305000" y="37368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心形 175"/>
          <p:cNvSpPr/>
          <p:nvPr/>
        </p:nvSpPr>
        <p:spPr>
          <a:xfrm>
            <a:off x="1316160" y="373536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心形 176"/>
          <p:cNvSpPr/>
          <p:nvPr/>
        </p:nvSpPr>
        <p:spPr>
          <a:xfrm>
            <a:off x="392040" y="357012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心形 177"/>
          <p:cNvSpPr/>
          <p:nvPr/>
        </p:nvSpPr>
        <p:spPr>
          <a:xfrm>
            <a:off x="1380960" y="3630600"/>
            <a:ext cx="241560" cy="179280"/>
          </a:xfrm>
          <a:custGeom>
            <a:avLst/>
            <a:gdLst>
              <a:gd name="textAreaLeft" fmla="*/ 56520 w 241560"/>
              <a:gd name="textAreaRight" fmla="*/ 184680 w 2415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心形 178"/>
          <p:cNvSpPr/>
          <p:nvPr/>
        </p:nvSpPr>
        <p:spPr>
          <a:xfrm>
            <a:off x="900000" y="38941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心形 179"/>
          <p:cNvSpPr/>
          <p:nvPr/>
        </p:nvSpPr>
        <p:spPr>
          <a:xfrm>
            <a:off x="272880" y="370368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心形 180"/>
          <p:cNvSpPr/>
          <p:nvPr/>
        </p:nvSpPr>
        <p:spPr>
          <a:xfrm>
            <a:off x="1204920" y="382896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心形 186"/>
          <p:cNvSpPr/>
          <p:nvPr/>
        </p:nvSpPr>
        <p:spPr>
          <a:xfrm>
            <a:off x="4083120" y="4654440"/>
            <a:ext cx="241200" cy="179640"/>
          </a:xfrm>
          <a:custGeom>
            <a:avLst/>
            <a:gdLst>
              <a:gd name="textAreaLeft" fmla="*/ 56520 w 241200"/>
              <a:gd name="textAreaRight" fmla="*/ 184320 w 24120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云形 248"/>
          <p:cNvSpPr/>
          <p:nvPr/>
        </p:nvSpPr>
        <p:spPr>
          <a:xfrm>
            <a:off x="4699080" y="231840"/>
            <a:ext cx="942840" cy="57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云形 249"/>
          <p:cNvSpPr/>
          <p:nvPr/>
        </p:nvSpPr>
        <p:spPr>
          <a:xfrm>
            <a:off x="3397320" y="1450800"/>
            <a:ext cx="942840" cy="57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云形 250"/>
          <p:cNvSpPr/>
          <p:nvPr/>
        </p:nvSpPr>
        <p:spPr>
          <a:xfrm>
            <a:off x="6083280" y="919080"/>
            <a:ext cx="944640" cy="57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云形 251"/>
          <p:cNvSpPr/>
          <p:nvPr/>
        </p:nvSpPr>
        <p:spPr>
          <a:xfrm>
            <a:off x="6718320" y="1455840"/>
            <a:ext cx="942840" cy="57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云形 252"/>
          <p:cNvSpPr/>
          <p:nvPr/>
        </p:nvSpPr>
        <p:spPr>
          <a:xfrm>
            <a:off x="8453520" y="700200"/>
            <a:ext cx="942840" cy="57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82"/>
          <p:cNvGrpSpPr/>
          <p:nvPr/>
        </p:nvGrpSpPr>
        <p:grpSpPr>
          <a:xfrm>
            <a:off x="-1093320" y="800280"/>
            <a:ext cx="1144800" cy="1001160"/>
            <a:chOff x="-1093320" y="800280"/>
            <a:chExt cx="1144800" cy="1001160"/>
          </a:xfrm>
        </p:grpSpPr>
        <p:sp>
          <p:nvSpPr>
            <p:cNvPr id="163" name="Oval 96"/>
            <p:cNvSpPr/>
            <p:nvPr/>
          </p:nvSpPr>
          <p:spPr>
            <a:xfrm rot="19806600">
              <a:off x="-1107720" y="1433160"/>
              <a:ext cx="847800" cy="168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7"/>
            <p:cNvSpPr/>
            <p:nvPr/>
          </p:nvSpPr>
          <p:spPr>
            <a:xfrm rot="19806600">
              <a:off x="-511200" y="904680"/>
              <a:ext cx="511200" cy="342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83"/>
          <p:cNvGrpSpPr/>
          <p:nvPr/>
        </p:nvGrpSpPr>
        <p:grpSpPr>
          <a:xfrm>
            <a:off x="-1425240" y="204120"/>
            <a:ext cx="1473840" cy="3106440"/>
            <a:chOff x="-1425240" y="204120"/>
            <a:chExt cx="1473840" cy="3106440"/>
          </a:xfrm>
        </p:grpSpPr>
        <p:sp>
          <p:nvSpPr>
            <p:cNvPr id="166" name="Freeform 93"/>
            <p:cNvSpPr/>
            <p:nvPr/>
          </p:nvSpPr>
          <p:spPr>
            <a:xfrm rot="18546600">
              <a:off x="-1113120" y="321480"/>
              <a:ext cx="819000" cy="10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94"/>
            <p:cNvSpPr/>
            <p:nvPr/>
          </p:nvSpPr>
          <p:spPr>
            <a:xfrm rot="19383600">
              <a:off x="-1188360" y="108432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9"/>
            <p:cNvSpPr/>
            <p:nvPr/>
          </p:nvSpPr>
          <p:spPr>
            <a:xfrm>
              <a:off x="-1126440" y="380880"/>
              <a:ext cx="71280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0"/>
            <p:cNvSpPr/>
            <p:nvPr/>
          </p:nvSpPr>
          <p:spPr>
            <a:xfrm rot="19383600">
              <a:off x="-1268280" y="116820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12"/>
            <p:cNvGrpSpPr/>
            <p:nvPr/>
          </p:nvGrpSpPr>
          <p:grpSpPr>
            <a:xfrm>
              <a:off x="-1425240" y="1645920"/>
              <a:ext cx="1473840" cy="1664640"/>
              <a:chOff x="-1425240" y="1645920"/>
              <a:chExt cx="1473840" cy="1664640"/>
            </a:xfrm>
          </p:grpSpPr>
          <p:sp>
            <p:nvSpPr>
              <p:cNvPr id="171" name="Freeform 113"/>
              <p:cNvSpPr/>
              <p:nvPr/>
            </p:nvSpPr>
            <p:spPr>
              <a:xfrm rot="18546000">
                <a:off x="-1038960" y="1764720"/>
                <a:ext cx="82044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14"/>
              <p:cNvSpPr/>
              <p:nvPr/>
            </p:nvSpPr>
            <p:spPr>
              <a:xfrm rot="19383600">
                <a:off x="-1130040" y="252648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15"/>
              <p:cNvSpPr/>
              <p:nvPr/>
            </p:nvSpPr>
            <p:spPr>
              <a:xfrm rot="17969400">
                <a:off x="-1163520" y="1873800"/>
                <a:ext cx="82152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16"/>
              <p:cNvSpPr/>
              <p:nvPr/>
            </p:nvSpPr>
            <p:spPr>
              <a:xfrm rot="19383600">
                <a:off x="-1197000" y="260856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Group 82"/>
          <p:cNvGrpSpPr/>
          <p:nvPr/>
        </p:nvGrpSpPr>
        <p:grpSpPr>
          <a:xfrm>
            <a:off x="-1589040" y="1546200"/>
            <a:ext cx="1145160" cy="1001880"/>
            <a:chOff x="-1589040" y="1546200"/>
            <a:chExt cx="1145160" cy="1001880"/>
          </a:xfrm>
        </p:grpSpPr>
        <p:sp>
          <p:nvSpPr>
            <p:cNvPr id="176" name="Oval 96"/>
            <p:cNvSpPr/>
            <p:nvPr/>
          </p:nvSpPr>
          <p:spPr>
            <a:xfrm rot="19806600">
              <a:off x="-1603440" y="2179440"/>
              <a:ext cx="847800" cy="16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7"/>
            <p:cNvSpPr/>
            <p:nvPr/>
          </p:nvSpPr>
          <p:spPr>
            <a:xfrm rot="19806600">
              <a:off x="-1006200" y="1650600"/>
              <a:ext cx="511200" cy="343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83"/>
          <p:cNvGrpSpPr/>
          <p:nvPr/>
        </p:nvGrpSpPr>
        <p:grpSpPr>
          <a:xfrm>
            <a:off x="-1920240" y="948600"/>
            <a:ext cx="1473840" cy="3106440"/>
            <a:chOff x="-1920240" y="948600"/>
            <a:chExt cx="1473840" cy="3106440"/>
          </a:xfrm>
        </p:grpSpPr>
        <p:sp>
          <p:nvSpPr>
            <p:cNvPr id="179" name="Freeform 93"/>
            <p:cNvSpPr/>
            <p:nvPr/>
          </p:nvSpPr>
          <p:spPr>
            <a:xfrm rot="18546600">
              <a:off x="-1608480" y="1065960"/>
              <a:ext cx="819000" cy="108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4"/>
            <p:cNvSpPr/>
            <p:nvPr/>
          </p:nvSpPr>
          <p:spPr>
            <a:xfrm rot="19383600">
              <a:off x="-1683360" y="182880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99"/>
            <p:cNvSpPr/>
            <p:nvPr/>
          </p:nvSpPr>
          <p:spPr>
            <a:xfrm>
              <a:off x="-1621440" y="1125360"/>
              <a:ext cx="71244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0"/>
            <p:cNvSpPr/>
            <p:nvPr/>
          </p:nvSpPr>
          <p:spPr>
            <a:xfrm rot="19383600">
              <a:off x="-1763280" y="191268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12"/>
            <p:cNvGrpSpPr/>
            <p:nvPr/>
          </p:nvGrpSpPr>
          <p:grpSpPr>
            <a:xfrm>
              <a:off x="-1920240" y="2390400"/>
              <a:ext cx="1473840" cy="1664640"/>
              <a:chOff x="-1920240" y="2390400"/>
              <a:chExt cx="1473840" cy="1664640"/>
            </a:xfrm>
          </p:grpSpPr>
          <p:sp>
            <p:nvSpPr>
              <p:cNvPr id="184" name="Freeform 113"/>
              <p:cNvSpPr/>
              <p:nvPr/>
            </p:nvSpPr>
            <p:spPr>
              <a:xfrm rot="18546000">
                <a:off x="-1533960" y="2509200"/>
                <a:ext cx="82008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14"/>
              <p:cNvSpPr/>
              <p:nvPr/>
            </p:nvSpPr>
            <p:spPr>
              <a:xfrm rot="19383600">
                <a:off x="-1625040" y="3271320"/>
                <a:ext cx="77724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15"/>
              <p:cNvSpPr/>
              <p:nvPr/>
            </p:nvSpPr>
            <p:spPr>
              <a:xfrm rot="17969400">
                <a:off x="-1658520" y="2618280"/>
                <a:ext cx="82116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16"/>
              <p:cNvSpPr/>
              <p:nvPr/>
            </p:nvSpPr>
            <p:spPr>
              <a:xfrm rot="19383600">
                <a:off x="-1692000" y="3353400"/>
                <a:ext cx="77724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心形 313"/>
          <p:cNvSpPr/>
          <p:nvPr/>
        </p:nvSpPr>
        <p:spPr>
          <a:xfrm>
            <a:off x="6643800" y="414648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心形 314"/>
          <p:cNvSpPr/>
          <p:nvPr/>
        </p:nvSpPr>
        <p:spPr>
          <a:xfrm>
            <a:off x="6796080" y="42991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心形 316"/>
          <p:cNvSpPr/>
          <p:nvPr/>
        </p:nvSpPr>
        <p:spPr>
          <a:xfrm>
            <a:off x="6330960" y="36133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心形 317"/>
          <p:cNvSpPr/>
          <p:nvPr/>
        </p:nvSpPr>
        <p:spPr>
          <a:xfrm>
            <a:off x="6397560" y="350820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心形 318"/>
          <p:cNvSpPr/>
          <p:nvPr/>
        </p:nvSpPr>
        <p:spPr>
          <a:xfrm>
            <a:off x="5916600" y="37720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心形 319"/>
          <p:cNvSpPr/>
          <p:nvPr/>
        </p:nvSpPr>
        <p:spPr>
          <a:xfrm>
            <a:off x="6068880" y="35542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心形 320"/>
          <p:cNvSpPr/>
          <p:nvPr/>
        </p:nvSpPr>
        <p:spPr>
          <a:xfrm>
            <a:off x="6221520" y="37069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心形 321"/>
          <p:cNvSpPr/>
          <p:nvPr/>
        </p:nvSpPr>
        <p:spPr>
          <a:xfrm>
            <a:off x="6227640" y="36417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心形 322"/>
          <p:cNvSpPr/>
          <p:nvPr/>
        </p:nvSpPr>
        <p:spPr>
          <a:xfrm>
            <a:off x="6532560" y="42242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心形 323"/>
          <p:cNvSpPr/>
          <p:nvPr/>
        </p:nvSpPr>
        <p:spPr>
          <a:xfrm>
            <a:off x="6665760" y="4160880"/>
            <a:ext cx="144720" cy="128520"/>
          </a:xfrm>
          <a:custGeom>
            <a:avLst/>
            <a:gdLst>
              <a:gd name="textAreaLeft" fmla="*/ 33840 w 144720"/>
              <a:gd name="textAreaRight" fmla="*/ 110880 w 144720"/>
              <a:gd name="textAreaTop" fmla="*/ 15120 h 128520"/>
              <a:gd name="textAreaBottom" fmla="*/ 80640 h 1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心形 324"/>
          <p:cNvSpPr/>
          <p:nvPr/>
        </p:nvSpPr>
        <p:spPr>
          <a:xfrm>
            <a:off x="7034040" y="41799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心形 325"/>
          <p:cNvSpPr/>
          <p:nvPr/>
        </p:nvSpPr>
        <p:spPr>
          <a:xfrm>
            <a:off x="8115480" y="37879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心形 326"/>
          <p:cNvSpPr/>
          <p:nvPr/>
        </p:nvSpPr>
        <p:spPr>
          <a:xfrm>
            <a:off x="6818400" y="4746600"/>
            <a:ext cx="144360" cy="13032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30320"/>
              <a:gd name="textAreaBottom" fmla="*/ 81720 h 130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心形 328"/>
          <p:cNvSpPr/>
          <p:nvPr/>
        </p:nvSpPr>
        <p:spPr>
          <a:xfrm>
            <a:off x="8267760" y="39402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心形 329"/>
          <p:cNvSpPr/>
          <p:nvPr/>
        </p:nvSpPr>
        <p:spPr>
          <a:xfrm>
            <a:off x="8420040" y="372420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心形 330"/>
          <p:cNvSpPr/>
          <p:nvPr/>
        </p:nvSpPr>
        <p:spPr>
          <a:xfrm>
            <a:off x="8572680" y="387684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心形 331"/>
          <p:cNvSpPr/>
          <p:nvPr/>
        </p:nvSpPr>
        <p:spPr>
          <a:xfrm>
            <a:off x="7451640" y="454824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心形 332"/>
          <p:cNvSpPr/>
          <p:nvPr/>
        </p:nvSpPr>
        <p:spPr>
          <a:xfrm>
            <a:off x="7308720" y="435600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心形 333"/>
          <p:cNvSpPr/>
          <p:nvPr/>
        </p:nvSpPr>
        <p:spPr>
          <a:xfrm>
            <a:off x="7034040" y="461340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心形 335"/>
          <p:cNvSpPr/>
          <p:nvPr/>
        </p:nvSpPr>
        <p:spPr>
          <a:xfrm>
            <a:off x="7869240" y="37958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心形 339"/>
          <p:cNvSpPr/>
          <p:nvPr/>
        </p:nvSpPr>
        <p:spPr>
          <a:xfrm>
            <a:off x="7342200" y="46418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心形 340"/>
          <p:cNvSpPr/>
          <p:nvPr/>
        </p:nvSpPr>
        <p:spPr>
          <a:xfrm>
            <a:off x="6885000" y="44560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心形 342"/>
          <p:cNvSpPr/>
          <p:nvPr/>
        </p:nvSpPr>
        <p:spPr>
          <a:xfrm>
            <a:off x="7348680" y="45766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心形 343"/>
          <p:cNvSpPr/>
          <p:nvPr/>
        </p:nvSpPr>
        <p:spPr>
          <a:xfrm>
            <a:off x="7500960" y="435924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心形 344"/>
          <p:cNvSpPr/>
          <p:nvPr/>
        </p:nvSpPr>
        <p:spPr>
          <a:xfrm>
            <a:off x="8004240" y="386568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心形 348"/>
          <p:cNvSpPr/>
          <p:nvPr/>
        </p:nvSpPr>
        <p:spPr>
          <a:xfrm>
            <a:off x="6819840" y="46958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心形 349"/>
          <p:cNvSpPr/>
          <p:nvPr/>
        </p:nvSpPr>
        <p:spPr>
          <a:xfrm>
            <a:off x="6972480" y="44784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心形 351"/>
          <p:cNvSpPr/>
          <p:nvPr/>
        </p:nvSpPr>
        <p:spPr>
          <a:xfrm>
            <a:off x="8267760" y="39402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心形 352"/>
          <p:cNvSpPr/>
          <p:nvPr/>
        </p:nvSpPr>
        <p:spPr>
          <a:xfrm>
            <a:off x="8420040" y="40924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心形 353"/>
          <p:cNvSpPr/>
          <p:nvPr/>
        </p:nvSpPr>
        <p:spPr>
          <a:xfrm>
            <a:off x="8572680" y="387684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心形 354"/>
          <p:cNvSpPr/>
          <p:nvPr/>
        </p:nvSpPr>
        <p:spPr>
          <a:xfrm>
            <a:off x="8724960" y="40291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心形 355"/>
          <p:cNvSpPr/>
          <p:nvPr/>
        </p:nvSpPr>
        <p:spPr>
          <a:xfrm>
            <a:off x="7954920" y="405288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心形 356"/>
          <p:cNvSpPr/>
          <p:nvPr/>
        </p:nvSpPr>
        <p:spPr>
          <a:xfrm>
            <a:off x="7810560" y="3862440"/>
            <a:ext cx="241200" cy="179280"/>
          </a:xfrm>
          <a:custGeom>
            <a:avLst/>
            <a:gdLst>
              <a:gd name="textAreaLeft" fmla="*/ 56520 w 241200"/>
              <a:gd name="textAreaRight" fmla="*/ 184320 w 24120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心形 357"/>
          <p:cNvSpPr/>
          <p:nvPr/>
        </p:nvSpPr>
        <p:spPr>
          <a:xfrm>
            <a:off x="8021520" y="394812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心形 359"/>
          <p:cNvSpPr/>
          <p:nvPr/>
        </p:nvSpPr>
        <p:spPr>
          <a:xfrm>
            <a:off x="7342200" y="46418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心形 360"/>
          <p:cNvSpPr/>
          <p:nvPr/>
        </p:nvSpPr>
        <p:spPr>
          <a:xfrm>
            <a:off x="7494480" y="479412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心形 361"/>
          <p:cNvSpPr/>
          <p:nvPr/>
        </p:nvSpPr>
        <p:spPr>
          <a:xfrm>
            <a:off x="7348680" y="45766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心形 362"/>
          <p:cNvSpPr/>
          <p:nvPr/>
        </p:nvSpPr>
        <p:spPr>
          <a:xfrm>
            <a:off x="7500960" y="47293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心形 363"/>
          <p:cNvSpPr/>
          <p:nvPr/>
        </p:nvSpPr>
        <p:spPr>
          <a:xfrm>
            <a:off x="8004240" y="386568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心形 364"/>
          <p:cNvSpPr/>
          <p:nvPr/>
        </p:nvSpPr>
        <p:spPr>
          <a:xfrm>
            <a:off x="8156520" y="40179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068560" y="520560"/>
            <a:ext cx="942840" cy="576360"/>
            <a:chOff x="2068560" y="520560"/>
            <a:chExt cx="942840" cy="576360"/>
          </a:xfrm>
        </p:grpSpPr>
        <p:sp>
          <p:nvSpPr>
            <p:cNvPr id="229" name="云形 245"/>
            <p:cNvSpPr/>
            <p:nvPr/>
          </p:nvSpPr>
          <p:spPr>
            <a:xfrm>
              <a:off x="2068560" y="520560"/>
              <a:ext cx="942840" cy="57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184"/>
            <p:cNvSpPr/>
            <p:nvPr/>
          </p:nvSpPr>
          <p:spPr>
            <a:xfrm>
              <a:off x="2147760" y="685800"/>
              <a:ext cx="6901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moban/     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行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hangye/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节日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jieri/   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素材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背景图片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beijing/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图表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tubiao/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优秀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xiazai/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 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powerpoint/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ord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 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word/              Excel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excel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资料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ziliao/        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课件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kejian/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范文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fanwen/             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试卷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shiti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案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ww.1ppt.com/jiaoan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587680" y="4618080"/>
            <a:ext cx="518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54" dur="1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6" dur="1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59" dur="1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1" dur="1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64" dur="1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6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72" dur="1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4" dur="1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77" dur="1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2" dur="1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285" dur="1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0" dur="1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93" dur="1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5" dur="1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01" dur="1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3" dur="1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06" dur="1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8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14" dur="1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1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22" dur="1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1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27" dur="1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9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32" dur="1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4" dur="1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37" dur="1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9" dur="1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42" dur="1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4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47" dur="1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9" dur="1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55" dur="1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7" dur="1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60" dur="1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2" dur="1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365" dur="1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7" dur="1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70" dur="1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2" dur="1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93" dur="1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5" dur="1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398" dur="1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1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403" dur="1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5" dur="1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08" dur="1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" dur="1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13" dur="1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" dur="1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18" dur="1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0" dur="1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23" dur="1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5" dur="1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28" dur="1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" dur="1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33" dur="1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5" dur="1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38" dur="1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0" dur="1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43" dur="1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1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48" dur="1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0" dur="1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53" dur="1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5" dur="1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458" dur="1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" dur="1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63" dur="1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5" dur="1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68" dur="1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" dur="1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73" dur="1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1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78" dur="1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" dur="1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83" dur="1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5" dur="1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88" dur="1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1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93" dur="1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1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98" dur="1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0" dur="1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03" dur="1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5" dur="1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08" dur="1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0" dur="1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13" dur="1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5" dur="1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18" dur="1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0" dur="1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523" dur="1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1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528" dur="1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0" dur="1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33" dur="1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1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38" dur="1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0" dur="1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43" dur="1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5" dur="1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48" dur="1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0" dur="1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53" dur="1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5" dur="1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58" dur="1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0" dur="1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63" dur="1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5" dur="1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68" dur="1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0" dur="1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73" dur="1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5" dur="1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78" dur="1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0" dur="1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83" dur="1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5" dur="1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588" dur="1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0" dur="1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93" dur="1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5" dur="1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598" dur="1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0" dur="1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03" dur="1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5" dur="1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08" dur="1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0" dur="1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13" dur="1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1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18" dur="1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0" dur="1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23" dur="15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5" dur="1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628" dur="1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0" dur="1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33" dur="1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5" dur="1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1406 -0.03453 L -0.51232 -0.04163 E">
                                      <p:cBhvr>
                                        <p:cTn id="64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16667E-006 -8.44897E-007 L -0.51093 -0.00308 E">
                                      <p:cBhvr>
                                        <p:cTn id="64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5E-006 -9.09652E-007 L -0.58455 0.01357 E">
                                      <p:cBhvr>
                                        <p:cTn id="65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2.84613E-006 L -0.49965 2.84613E-006 E">
                                      <p:cBhvr>
                                        <p:cTn id="656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1198 0.04256 L -0.55885 0.04256 E">
                                      <p:cBhvr>
                                        <p:cTn id="661" dur="14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3" dur="5" fill="hold"/>
                                        <p:tgtEl>
                                          <p:spTgt spid="16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-0.00124 0.02378 -0.00062 0.03541 -0.00371 C 0.03854 -0.00463 0.0408 -0.00926 0.04375 -0.01111 C 0.04705 -0.01297 0.05069 -0.0142 0.05416 -0.01482 C 0.07083 -0.0179 0.0875 -0.01976 0.10416 -0.02222 C 0.1434 -0.03611 0.17795 -0.02377 0.21458 -0.00741 C 0.22448 0.00432 0.23715 0.00432 0.24583 0.01481 C 0.25173 0.02191 0.25833 0.02778 0.26458 0.03333 C 0.271 0.0392 0.27882 0.0395 0.28541 0.04444 C 0.29062 0.04845 0.29479 0.05586 0.3 0.05926 C 0.30538 0.06265 0.31666 0.06666 0.31666 0.06666 C 0.32621 0.07808 0.33715 0.08241 0.34791 0.08889 C 0.35 0.09012 0.35208 0.09136 0.35416 0.09259 C 0.35625 0.09382 0.36041 0.09629 0.36041 0.09629 C 0.42968 0.09352 0.43489 0.10123 0.47916 0.08148 C 0.48784 0.07099 0.496 0.06666 0.50625 0.06296 C 0.51128 0.05833 0.51649 0.05463 0.52083 0.04815 C 0.52309 0.04475 0.52465 0.03981 0.52708 0.03703 C 0.5408 0.02191 0.56232 0.02068 0.57708 0.01852 C 0.64132 -0.01945 0.71875 -0.00216 0.78125 -0.00371 C 0.82951 -0.00155 0.85521 -0.00278 0.89583 0.00741 C 0.91458 0.01852 0.93472 0.02531 0.95416 0.02963 C 0.96441 0.03889 0.97222 0.0395 0.98333 0.04444 C 0.99809 0.05092 1.01267 0.06173 1.02708 0.07037 C 1.03229 0.07345 1.04045 0.08148 1.04583 0.08148 C 1.12014 0.08271 1.19444 0.08518 1.26875 0.08518 E">
                                      <p:cBhvr>
                                        <p:cTn id="665" dur="475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-0.00124 0.02378 -0.00062 0.03541 -0.00371 C 0.03854 -0.00463 0.0408 -0.00926 0.04375 -0.01111 C 0.04705 -0.01297 0.05069 -0.0142 0.05416 -0.01482 C 0.07083 -0.0179 0.0875 -0.01976 0.10416 -0.02222 C 0.1434 -0.03611 0.17795 -0.02377 0.21458 -0.00741 C 0.22448 0.00432 0.23715 0.00432 0.24583 0.01481 C 0.25173 0.02191 0.25833 0.02778 0.26458 0.03333 C 0.271 0.0392 0.27882 0.0395 0.28541 0.04444 C 0.29062 0.04845 0.29479 0.05586 0.3 0.05926 C 0.30538 0.06265 0.31666 0.06666 0.31666 0.06666 C 0.32621 0.07808 0.33715 0.08241 0.34791 0.08889 C 0.35 0.09012 0.35208 0.09136 0.35416 0.09259 C 0.35625 0.09382 0.36041 0.09629 0.36041 0.09629 C 0.42968 0.09352 0.43489 0.10123 0.47916 0.08148 C 0.48784 0.07099 0.496 0.06666 0.50625 0.06296 C 0.51128 0.05833 0.51649 0.05463 0.52083 0.04815 C 0.52309 0.04475 0.52465 0.03981 0.52708 0.03703 C 0.5408 0.02191 0.56232 0.02068 0.57708 0.01852 C 0.64132 -0.01945 0.71875 -0.00216 0.78125 -0.00371 C 0.82951 -0.00155 0.85521 -0.00278 0.89583 0.00741 C 0.91458 0.01852 0.93472 0.02531 0.95416 0.02963 C 0.96441 0.03889 0.97222 0.0395 0.98333 0.04444 C 0.99809 0.05092 1.01267 0.06173 1.02708 0.07037 C 1.03229 0.07345 1.04045 0.08148 1.04583 0.08148 C 1.12014 0.08271 1.19444 0.08518 1.26875 0.08518 E">
                                      <p:cBhvr>
                                        <p:cTn id="667" dur="475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9" dur="5" fill="hold"/>
                                        <p:tgtEl>
                                          <p:spTgt spid="17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0123 0.0224 -0.00061 0.03334 -0.0037 C 0.03646 -0.00463 0.03872 -0.00987 0.04167 -0.01111 C 0.04983 -0.01481 0.06667 -0.01852 0.06667 -0.01852 C 0.07466 -0.02778 0.08004 -0.02994 0.08959 -0.03333 C 0.09948 -0.04506 0.11164 -0.04938 0.12275 -0.05555 C 0.12865 -0.05864 0.13403 -0.05802 0.13959 -0.06296 C 0.15348 -0.07531 0.16632 -0.09197 0.17917 -0.1074 C 0.1816 -0.11018 0.18316 -0.11543 0.18542 -0.11852 C 0.18941 -0.12407 0.19375 -0.12839 0.19775 -0.13333 C 0.20035 -0.13611 0.20174 -0.14136 0.204 -0.14444 C 0.20677 -0.14753 0.20973 -0.14876 0.2125 -0.15185 C 0.21702 -0.1574 0.22101 -0.16389 0.225 -0.17037 C 0.22778 -0.175 0.23021 -0.18086 0.23316 -0.18518 C 0.23907 -0.19321 0.24757 -0.1966 0.25209 -0.2074 C 0.25712 -0.21975 0.26181 -0.23487 0.26858 -0.24444 C 0.27275 -0.25 0.27778 -0.25308 0.28108 -0.25926 C 0.28611 -0.26821 0.29514 -0.2858 0.30209 -0.28889 C 0.3125 -0.29352 0.30764 -0.29105 0.3165 -0.29629 C 0.33056 -0.29506 0.34445 -0.29475 0.35834 -0.29259 C 0.36719 -0.29136 0.36667 -0.28703 0.375 -0.28148 C 0.39236 -0.26944 0.39063 -0.27129 0.40625 -0.26666 C 0.42118 -0.24907 0.44098 -0.24321 0.45834 -0.23703 C 0.4625 -0.23333 0.46684 -0.23055 0.47084 -0.22592 C 0.47327 -0.22315 0.47448 -0.21728 0.47709 -0.21481 C 0.48299 -0.20957 0.48959 -0.2074 0.49584 -0.2037 C 0.5033 -0.19907 0.504 -0.19537 0.51042 -0.18889 C 0.52344 -0.17561 0.53594 -0.16543 0.54983 -0.15555 C 0.55868 -0.14938 0.56389 -0.14105 0.57275 -0.13703 C 0.5757 -0.13333 0.57813 -0.1287 0.58125 -0.12592 C 0.58507 -0.12253 0.59011 -0.12284 0.59375 -0.11852 C 0.60261 -0.10802 0.6099 -0.09506 0.62066 -0.09259 C 0.62848 -0.09074 0.63611 -0.09012 0.64358 -0.08889 C 0.69236 -0.05401 0.68733 -0.0787 0.78125 -0.08148 C 0.79653 -0.09506 0.78299 -0.08518 0.80625 -0.09259 C 0.8165 -0.09599 0.82865 -0.10895 0.8375 -0.11852 C 0.84948 -0.15031 0.83351 -0.11296 0.84792 -0.13333 C 0.85261 -0.13981 0.85417 -0.15185 0.85834 -0.15926 C 0.86077 -0.16358 0.86424 -0.16574 0.86667 -0.17037 C 0.86997 -0.17716 0.87084 -0.18765 0.875 -0.19259 C 0.8941 -0.21543 0.86424 -0.17901 0.88959 -0.21481 C 0.89549 -0.22315 0.90295 -0.22747 0.90834 -0.23703 C 0.92153 -0.26049 0.91355 -0.24753 0.93316 -0.27407 C 0.93559 -0.27747 0.93907 -0.27839 0.94167 -0.28148 C 0.95504 -0.29845 0.94011 -0.28919 0.95608 -0.29629 C 0.98247 -0.32778 1.01823 -0.30401 1.04792 -0.3 C 1.07552 -0.28765 1.01962 -0.31173 1.0875 -0.29259 C 1.09063 -0.29166 1.09271 -0.28611 1.09584 -0.28518 C 1.104 -0.2824 1.1125 -0.28271 1.12084 -0.28148 C 1.16667 -0.28271 1.2125 -0.28302 1.25834 -0.28518 C 1.27917 -0.28611 1.29983 -0.31111 1.32084 -0.31111 E">
                                      <p:cBhvr>
                                        <p:cTn id="671" dur="475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0123 0.0224 -0.00061 0.03334 -0.0037 C 0.03646 -0.00463 0.03872 -0.00987 0.04167 -0.01111 C 0.04983 -0.01481 0.06667 -0.01852 0.06667 -0.01852 C 0.07466 -0.02778 0.08004 -0.02994 0.08959 -0.03333 C 0.09948 -0.04506 0.11164 -0.04938 0.12275 -0.05555 C 0.12865 -0.05864 0.13403 -0.05802 0.13959 -0.06296 C 0.15348 -0.07531 0.16632 -0.09197 0.17917 -0.1074 C 0.1816 -0.11018 0.18316 -0.11543 0.18542 -0.11852 C 0.18941 -0.12407 0.19375 -0.12839 0.19775 -0.13333 C 0.20035 -0.13611 0.20174 -0.14136 0.204 -0.14444 C 0.20677 -0.14753 0.20973 -0.14876 0.2125 -0.15185 C 0.21702 -0.1574 0.22101 -0.16389 0.225 -0.17037 C 0.22778 -0.175 0.23021 -0.18086 0.23316 -0.18518 C 0.23907 -0.19321 0.24757 -0.1966 0.25209 -0.2074 C 0.25712 -0.21975 0.26181 -0.23487 0.26858 -0.24444 C 0.27275 -0.25 0.27778 -0.25308 0.28108 -0.25926 C 0.28611 -0.26821 0.29514 -0.2858 0.30209 -0.28889 C 0.3125 -0.29352 0.30764 -0.29105 0.3165 -0.29629 C 0.33056 -0.29506 0.34445 -0.29475 0.35834 -0.29259 C 0.36719 -0.29136 0.36667 -0.28703 0.375 -0.28148 C 0.39236 -0.26944 0.39063 -0.27129 0.40625 -0.26666 C 0.42118 -0.24907 0.44098 -0.24321 0.45834 -0.23703 C 0.4625 -0.23333 0.46684 -0.23055 0.47084 -0.22592 C 0.47327 -0.22315 0.47448 -0.21728 0.47709 -0.21481 C 0.48299 -0.20957 0.48959 -0.2074 0.49584 -0.2037 C 0.5033 -0.19907 0.504 -0.19537 0.51042 -0.18889 C 0.52344 -0.17561 0.53594 -0.16543 0.54983 -0.15555 C 0.55868 -0.14938 0.56389 -0.14105 0.57275 -0.13703 C 0.5757 -0.13333 0.57813 -0.1287 0.58125 -0.12592 C 0.58507 -0.12253 0.59011 -0.12284 0.59375 -0.11852 C 0.60261 -0.10802 0.6099 -0.09506 0.62066 -0.09259 C 0.62848 -0.09074 0.63611 -0.09012 0.64358 -0.08889 C 0.69236 -0.05401 0.68733 -0.0787 0.78125 -0.08148 C 0.79653 -0.09506 0.78299 -0.08518 0.80625 -0.09259 C 0.8165 -0.09599 0.82865 -0.10895 0.8375 -0.11852 C 0.84948 -0.15031 0.83351 -0.11296 0.84792 -0.13333 C 0.85261 -0.13981 0.85417 -0.15185 0.85834 -0.15926 C 0.86077 -0.16358 0.86424 -0.16574 0.86667 -0.17037 C 0.86997 -0.17716 0.87084 -0.18765 0.875 -0.19259 C 0.8941 -0.21543 0.86424 -0.17901 0.88959 -0.21481 C 0.89549 -0.22315 0.90295 -0.22747 0.90834 -0.23703 C 0.92153 -0.26049 0.91355 -0.24753 0.93316 -0.27407 C 0.93559 -0.27747 0.93907 -0.27839 0.94167 -0.28148 C 0.95504 -0.29845 0.94011 -0.28919 0.95608 -0.29629 C 0.98247 -0.32778 1.01823 -0.30401 1.04792 -0.3 C 1.07552 -0.28765 1.01962 -0.31173 1.0875 -0.29259 C 1.09063 -0.29166 1.09271 -0.28611 1.09584 -0.28518 C 1.104 -0.2824 1.1125 -0.28271 1.12084 -0.28148 C 1.16667 -0.28271 1.2125 -0.28302 1.25834 -0.28518 C 1.27917 -0.28611 1.29983 -0.31111 1.32084 -0.31111 E">
                                      <p:cBhvr>
                                        <p:cTn id="673" dur="475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75" dur="1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7" dur="1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80" dur="15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85" dur="15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7" dur="1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90" dur="15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" dur="1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695" dur="15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7" dur="1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00" dur="1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" dur="1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05" dur="1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7" dur="1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710" dur="15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" dur="1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15" dur="15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7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20" dur="1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" dur="1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25" dur="15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7" dur="1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30" dur="15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35" dur="15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7" dur="1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40" dur="15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2" dur="1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745" dur="1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7" dur="1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750" dur="15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2" dur="1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55" dur="15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7" dur="1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60" dur="15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2" dur="1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65" dur="15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7" dur="1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70" dur="15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2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75" dur="15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1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80" dur="1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2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785" dur="15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7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90" dur="15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2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795" dur="15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" dur="1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00" dur="15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2" dur="1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05" dur="15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7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10" dur="15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2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15" dur="1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7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820" dur="1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2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825" dur="1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7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30" dur="1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2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35" dur="1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7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40" dur="15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2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45" dur="1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7" dur="1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50" dur="1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2" dur="1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55" dur="1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7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860" dur="15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2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65" dur="15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7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870" dur="15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2" dur="1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心形 72"/>
          <p:cNvSpPr/>
          <p:nvPr/>
        </p:nvSpPr>
        <p:spPr>
          <a:xfrm rot="334800">
            <a:off x="3513240" y="1012680"/>
            <a:ext cx="3425760" cy="3221280"/>
          </a:xfrm>
          <a:custGeom>
            <a:avLst/>
            <a:gdLst>
              <a:gd name="textAreaLeft" fmla="*/ 804960 w 3425760"/>
              <a:gd name="textAreaRight" fmla="*/ 2618280 w 3425760"/>
              <a:gd name="textAreaTop" fmla="*/ 378720 h 3221280"/>
              <a:gd name="textAreaBottom" fmla="*/ 2020680 h 322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心形 1"/>
          <p:cNvSpPr/>
          <p:nvPr/>
        </p:nvSpPr>
        <p:spPr>
          <a:xfrm rot="20532000">
            <a:off x="1106280" y="761760"/>
            <a:ext cx="3852720" cy="3402000"/>
          </a:xfrm>
          <a:custGeom>
            <a:avLst/>
            <a:gdLst>
              <a:gd name="textAreaLeft" fmla="*/ 905400 w 3852720"/>
              <a:gd name="textAreaRight" fmla="*/ 2944800 w 3852720"/>
              <a:gd name="textAreaTop" fmla="*/ 399960 h 3402000"/>
              <a:gd name="textAreaBottom" fmla="*/ 2134080 h 340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3"/>
          <p:cNvSpPr/>
          <p:nvPr/>
        </p:nvSpPr>
        <p:spPr>
          <a:xfrm rot="17554200">
            <a:off x="6392160" y="4758480"/>
            <a:ext cx="233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4"/>
          <p:cNvSpPr/>
          <p:nvPr/>
        </p:nvSpPr>
        <p:spPr>
          <a:xfrm rot="13339200">
            <a:off x="772920" y="2613960"/>
            <a:ext cx="5097240" cy="495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5"/>
          <p:cNvSpPr/>
          <p:nvPr/>
        </p:nvSpPr>
        <p:spPr>
          <a:xfrm rot="6434400">
            <a:off x="6928200" y="2244960"/>
            <a:ext cx="318960" cy="9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6"/>
          <p:cNvSpPr/>
          <p:nvPr/>
        </p:nvSpPr>
        <p:spPr>
          <a:xfrm flipV="1">
            <a:off x="7512120" y="1722600"/>
            <a:ext cx="360360" cy="9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7"/>
          <p:cNvSpPr/>
          <p:nvPr/>
        </p:nvSpPr>
        <p:spPr>
          <a:xfrm rot="13348200">
            <a:off x="664920" y="2893320"/>
            <a:ext cx="4948200" cy="457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8"/>
          <p:cNvSpPr/>
          <p:nvPr/>
        </p:nvSpPr>
        <p:spPr>
          <a:xfrm rot="13339200">
            <a:off x="2317320" y="-1247760"/>
            <a:ext cx="5684760" cy="977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9"/>
          <p:cNvSpPr/>
          <p:nvPr/>
        </p:nvSpPr>
        <p:spPr>
          <a:xfrm>
            <a:off x="-230040" y="1492200"/>
            <a:ext cx="7862760" cy="390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10"/>
          <p:cNvSpPr/>
          <p:nvPr/>
        </p:nvSpPr>
        <p:spPr>
          <a:xfrm>
            <a:off x="-108000" y="2814480"/>
            <a:ext cx="5767560" cy="258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1"/>
          <p:cNvSpPr/>
          <p:nvPr/>
        </p:nvSpPr>
        <p:spPr>
          <a:xfrm rot="4923000">
            <a:off x="3316320" y="2129040"/>
            <a:ext cx="311040" cy="9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任意多边形 12"/>
          <p:cNvSpPr/>
          <p:nvPr/>
        </p:nvSpPr>
        <p:spPr>
          <a:xfrm rot="2841600">
            <a:off x="3335760" y="3573720"/>
            <a:ext cx="182520" cy="53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3"/>
          <p:cNvSpPr/>
          <p:nvPr/>
        </p:nvSpPr>
        <p:spPr>
          <a:xfrm rot="17554200">
            <a:off x="6678000" y="4560120"/>
            <a:ext cx="233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心形 36"/>
          <p:cNvSpPr/>
          <p:nvPr/>
        </p:nvSpPr>
        <p:spPr>
          <a:xfrm>
            <a:off x="3471840" y="795240"/>
            <a:ext cx="406440" cy="319320"/>
          </a:xfrm>
          <a:custGeom>
            <a:avLst/>
            <a:gdLst>
              <a:gd name="textAreaLeft" fmla="*/ 95400 w 406440"/>
              <a:gd name="textAreaRight" fmla="*/ 310680 w 406440"/>
              <a:gd name="textAreaTop" fmla="*/ 37440 h 319320"/>
              <a:gd name="textAreaBottom" fmla="*/ 200520 h 319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心形 37"/>
          <p:cNvSpPr/>
          <p:nvPr/>
        </p:nvSpPr>
        <p:spPr>
          <a:xfrm>
            <a:off x="6649920" y="1173240"/>
            <a:ext cx="507960" cy="522360"/>
          </a:xfrm>
          <a:custGeom>
            <a:avLst/>
            <a:gdLst>
              <a:gd name="textAreaLeft" fmla="*/ 119160 w 507960"/>
              <a:gd name="textAreaRight" fmla="*/ 388440 w 507960"/>
              <a:gd name="textAreaTop" fmla="*/ 61200 h 522360"/>
              <a:gd name="textAreaBottom" fmla="*/ 327600 h 522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心形 38"/>
          <p:cNvSpPr/>
          <p:nvPr/>
        </p:nvSpPr>
        <p:spPr>
          <a:xfrm>
            <a:off x="8277120" y="258840"/>
            <a:ext cx="559080" cy="615960"/>
          </a:xfrm>
          <a:custGeom>
            <a:avLst/>
            <a:gdLst>
              <a:gd name="textAreaLeft" fmla="*/ 131400 w 559080"/>
              <a:gd name="textAreaRight" fmla="*/ 427320 w 559080"/>
              <a:gd name="textAreaTop" fmla="*/ 72360 h 615960"/>
              <a:gd name="textAreaBottom" fmla="*/ 386280 h 615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心形 39"/>
          <p:cNvSpPr/>
          <p:nvPr/>
        </p:nvSpPr>
        <p:spPr>
          <a:xfrm>
            <a:off x="7304040" y="166680"/>
            <a:ext cx="415800" cy="425520"/>
          </a:xfrm>
          <a:custGeom>
            <a:avLst/>
            <a:gdLst>
              <a:gd name="textAreaLeft" fmla="*/ 97560 w 415800"/>
              <a:gd name="textAreaRight" fmla="*/ 317880 w 415800"/>
              <a:gd name="textAreaTop" fmla="*/ 50040 h 425520"/>
              <a:gd name="textAreaBottom" fmla="*/ 267120 h 425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心形 40"/>
          <p:cNvSpPr/>
          <p:nvPr/>
        </p:nvSpPr>
        <p:spPr>
          <a:xfrm>
            <a:off x="1090440" y="892080"/>
            <a:ext cx="663840" cy="568440"/>
          </a:xfrm>
          <a:custGeom>
            <a:avLst/>
            <a:gdLst>
              <a:gd name="textAreaLeft" fmla="*/ 155880 w 663840"/>
              <a:gd name="textAreaRight" fmla="*/ 507600 w 663840"/>
              <a:gd name="textAreaTop" fmla="*/ 66600 h 568440"/>
              <a:gd name="textAreaBottom" fmla="*/ 356760 h 568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心形 41"/>
          <p:cNvSpPr/>
          <p:nvPr/>
        </p:nvSpPr>
        <p:spPr>
          <a:xfrm>
            <a:off x="236520" y="3508200"/>
            <a:ext cx="406440" cy="406440"/>
          </a:xfrm>
          <a:custGeom>
            <a:avLst/>
            <a:gdLst>
              <a:gd name="textAreaLeft" fmla="*/ 95400 w 406440"/>
              <a:gd name="textAreaRight" fmla="*/ 310680 w 406440"/>
              <a:gd name="textAreaTop" fmla="*/ 47520 h 406440"/>
              <a:gd name="textAreaBottom" fmla="*/ 254880 h 406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心形 42"/>
          <p:cNvSpPr/>
          <p:nvPr/>
        </p:nvSpPr>
        <p:spPr>
          <a:xfrm>
            <a:off x="11160" y="3255840"/>
            <a:ext cx="855720" cy="793800"/>
          </a:xfrm>
          <a:custGeom>
            <a:avLst/>
            <a:gdLst>
              <a:gd name="textAreaLeft" fmla="*/ 200880 w 855720"/>
              <a:gd name="textAreaRight" fmla="*/ 654120 w 855720"/>
              <a:gd name="textAreaTop" fmla="*/ 93240 h 793800"/>
              <a:gd name="textAreaBottom" fmla="*/ 497880 h 793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心形 45"/>
          <p:cNvSpPr/>
          <p:nvPr/>
        </p:nvSpPr>
        <p:spPr>
          <a:xfrm>
            <a:off x="8202600" y="3036960"/>
            <a:ext cx="406440" cy="406440"/>
          </a:xfrm>
          <a:custGeom>
            <a:avLst/>
            <a:gdLst>
              <a:gd name="textAreaLeft" fmla="*/ 95400 w 406440"/>
              <a:gd name="textAreaRight" fmla="*/ 310680 w 406440"/>
              <a:gd name="textAreaTop" fmla="*/ 47520 h 406440"/>
              <a:gd name="textAreaBottom" fmla="*/ 254880 h 406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心形 46"/>
          <p:cNvSpPr/>
          <p:nvPr/>
        </p:nvSpPr>
        <p:spPr>
          <a:xfrm>
            <a:off x="8329680" y="4656240"/>
            <a:ext cx="558720" cy="430200"/>
          </a:xfrm>
          <a:custGeom>
            <a:avLst/>
            <a:gdLst>
              <a:gd name="textAreaLeft" fmla="*/ 131040 w 558720"/>
              <a:gd name="textAreaRight" fmla="*/ 426960 w 558720"/>
              <a:gd name="textAreaTop" fmla="*/ 50400 h 430200"/>
              <a:gd name="textAreaBottom" fmla="*/ 270000 h 430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心形 47"/>
          <p:cNvSpPr/>
          <p:nvPr/>
        </p:nvSpPr>
        <p:spPr>
          <a:xfrm>
            <a:off x="7686720" y="4008600"/>
            <a:ext cx="515880" cy="385560"/>
          </a:xfrm>
          <a:custGeom>
            <a:avLst/>
            <a:gdLst>
              <a:gd name="textAreaLeft" fmla="*/ 121320 w 515880"/>
              <a:gd name="textAreaRight" fmla="*/ 394200 w 515880"/>
              <a:gd name="textAreaTop" fmla="*/ 45360 h 385560"/>
              <a:gd name="textAreaBottom" fmla="*/ 241920 h 385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心形 48"/>
          <p:cNvSpPr/>
          <p:nvPr/>
        </p:nvSpPr>
        <p:spPr>
          <a:xfrm>
            <a:off x="3348000" y="4275000"/>
            <a:ext cx="287280" cy="21600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心形 49"/>
          <p:cNvSpPr/>
          <p:nvPr/>
        </p:nvSpPr>
        <p:spPr>
          <a:xfrm>
            <a:off x="1746360" y="4565520"/>
            <a:ext cx="288720" cy="21600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心形 50"/>
          <p:cNvSpPr/>
          <p:nvPr/>
        </p:nvSpPr>
        <p:spPr>
          <a:xfrm>
            <a:off x="1979640" y="4579920"/>
            <a:ext cx="288720" cy="21600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心形 52"/>
          <p:cNvSpPr/>
          <p:nvPr/>
        </p:nvSpPr>
        <p:spPr>
          <a:xfrm>
            <a:off x="2111400" y="4330800"/>
            <a:ext cx="287280" cy="21564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心形 65"/>
          <p:cNvSpPr/>
          <p:nvPr/>
        </p:nvSpPr>
        <p:spPr>
          <a:xfrm>
            <a:off x="2700360" y="463536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心形 75"/>
          <p:cNvSpPr/>
          <p:nvPr/>
        </p:nvSpPr>
        <p:spPr>
          <a:xfrm>
            <a:off x="2627280" y="4632480"/>
            <a:ext cx="289080" cy="21564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心形 76"/>
          <p:cNvSpPr/>
          <p:nvPr/>
        </p:nvSpPr>
        <p:spPr>
          <a:xfrm>
            <a:off x="2482920" y="4784760"/>
            <a:ext cx="144360" cy="12852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28520"/>
              <a:gd name="textAreaBottom" fmla="*/ 80640 h 1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心形 91"/>
          <p:cNvSpPr/>
          <p:nvPr/>
        </p:nvSpPr>
        <p:spPr>
          <a:xfrm>
            <a:off x="3139920" y="44085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心形 94"/>
          <p:cNvSpPr/>
          <p:nvPr/>
        </p:nvSpPr>
        <p:spPr>
          <a:xfrm>
            <a:off x="5810400" y="402264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心形 109"/>
          <p:cNvSpPr/>
          <p:nvPr/>
        </p:nvSpPr>
        <p:spPr>
          <a:xfrm>
            <a:off x="5810400" y="445788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心形 112"/>
          <p:cNvSpPr/>
          <p:nvPr/>
        </p:nvSpPr>
        <p:spPr>
          <a:xfrm>
            <a:off x="5962680" y="46101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心形 113"/>
          <p:cNvSpPr/>
          <p:nvPr/>
        </p:nvSpPr>
        <p:spPr>
          <a:xfrm>
            <a:off x="6114960" y="439416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心形 114"/>
          <p:cNvSpPr/>
          <p:nvPr/>
        </p:nvSpPr>
        <p:spPr>
          <a:xfrm>
            <a:off x="6267600" y="45464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心形 136"/>
          <p:cNvSpPr/>
          <p:nvPr/>
        </p:nvSpPr>
        <p:spPr>
          <a:xfrm>
            <a:off x="5962680" y="46101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心形 137"/>
          <p:cNvSpPr/>
          <p:nvPr/>
        </p:nvSpPr>
        <p:spPr>
          <a:xfrm>
            <a:off x="6114960" y="47624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心形 138"/>
          <p:cNvSpPr/>
          <p:nvPr/>
        </p:nvSpPr>
        <p:spPr>
          <a:xfrm>
            <a:off x="6267600" y="454644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心形 139"/>
          <p:cNvSpPr/>
          <p:nvPr/>
        </p:nvSpPr>
        <p:spPr>
          <a:xfrm>
            <a:off x="6419880" y="501156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心形 142"/>
          <p:cNvSpPr/>
          <p:nvPr/>
        </p:nvSpPr>
        <p:spPr>
          <a:xfrm>
            <a:off x="5716440" y="46180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心形 149"/>
          <p:cNvSpPr/>
          <p:nvPr/>
        </p:nvSpPr>
        <p:spPr>
          <a:xfrm>
            <a:off x="5853240" y="46879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82"/>
          <p:cNvGrpSpPr/>
          <p:nvPr/>
        </p:nvGrpSpPr>
        <p:grpSpPr>
          <a:xfrm>
            <a:off x="-1057320" y="328680"/>
            <a:ext cx="1145160" cy="1001880"/>
            <a:chOff x="-1057320" y="328680"/>
            <a:chExt cx="1145160" cy="1001880"/>
          </a:xfrm>
        </p:grpSpPr>
        <p:sp>
          <p:nvSpPr>
            <p:cNvPr id="275" name="Oval 96"/>
            <p:cNvSpPr/>
            <p:nvPr/>
          </p:nvSpPr>
          <p:spPr>
            <a:xfrm rot="19806600">
              <a:off x="-1071720" y="961920"/>
              <a:ext cx="847800" cy="16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97"/>
            <p:cNvSpPr/>
            <p:nvPr/>
          </p:nvSpPr>
          <p:spPr>
            <a:xfrm rot="19806600">
              <a:off x="-474480" y="433080"/>
              <a:ext cx="511200" cy="343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83"/>
          <p:cNvGrpSpPr/>
          <p:nvPr/>
        </p:nvGrpSpPr>
        <p:grpSpPr>
          <a:xfrm>
            <a:off x="-1388520" y="-268920"/>
            <a:ext cx="1473840" cy="3106440"/>
            <a:chOff x="-1388520" y="-268920"/>
            <a:chExt cx="1473840" cy="3106440"/>
          </a:xfrm>
        </p:grpSpPr>
        <p:sp>
          <p:nvSpPr>
            <p:cNvPr id="278" name="Freeform 93"/>
            <p:cNvSpPr/>
            <p:nvPr/>
          </p:nvSpPr>
          <p:spPr>
            <a:xfrm rot="18546600">
              <a:off x="-1076400" y="-151200"/>
              <a:ext cx="819000" cy="10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4"/>
            <p:cNvSpPr/>
            <p:nvPr/>
          </p:nvSpPr>
          <p:spPr>
            <a:xfrm rot="19383600">
              <a:off x="-1151640" y="61128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99"/>
            <p:cNvSpPr/>
            <p:nvPr/>
          </p:nvSpPr>
          <p:spPr>
            <a:xfrm>
              <a:off x="-1089720" y="-92160"/>
              <a:ext cx="71280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0"/>
            <p:cNvSpPr/>
            <p:nvPr/>
          </p:nvSpPr>
          <p:spPr>
            <a:xfrm rot="19383600">
              <a:off x="-1231560" y="69516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112"/>
            <p:cNvGrpSpPr/>
            <p:nvPr/>
          </p:nvGrpSpPr>
          <p:grpSpPr>
            <a:xfrm>
              <a:off x="-1388520" y="1172880"/>
              <a:ext cx="1473840" cy="1664640"/>
              <a:chOff x="-1388520" y="1172880"/>
              <a:chExt cx="1473840" cy="1664640"/>
            </a:xfrm>
          </p:grpSpPr>
          <p:sp>
            <p:nvSpPr>
              <p:cNvPr id="283" name="Freeform 113"/>
              <p:cNvSpPr/>
              <p:nvPr/>
            </p:nvSpPr>
            <p:spPr>
              <a:xfrm rot="18546000">
                <a:off x="-1002240" y="1291680"/>
                <a:ext cx="82044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14"/>
              <p:cNvSpPr/>
              <p:nvPr/>
            </p:nvSpPr>
            <p:spPr>
              <a:xfrm rot="19383600">
                <a:off x="-1093320" y="205344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15"/>
              <p:cNvSpPr/>
              <p:nvPr/>
            </p:nvSpPr>
            <p:spPr>
              <a:xfrm rot="17969400">
                <a:off x="-1126800" y="1400760"/>
                <a:ext cx="82152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16"/>
              <p:cNvSpPr/>
              <p:nvPr/>
            </p:nvSpPr>
            <p:spPr>
              <a:xfrm rot="19383600">
                <a:off x="-1160280" y="213552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7" name="Group 82"/>
          <p:cNvGrpSpPr/>
          <p:nvPr/>
        </p:nvGrpSpPr>
        <p:grpSpPr>
          <a:xfrm>
            <a:off x="-554040" y="1297080"/>
            <a:ext cx="1145160" cy="1001880"/>
            <a:chOff x="-554040" y="1297080"/>
            <a:chExt cx="1145160" cy="1001880"/>
          </a:xfrm>
        </p:grpSpPr>
        <p:sp>
          <p:nvSpPr>
            <p:cNvPr id="288" name="Oval 96"/>
            <p:cNvSpPr/>
            <p:nvPr/>
          </p:nvSpPr>
          <p:spPr>
            <a:xfrm rot="19806600">
              <a:off x="-568440" y="1930320"/>
              <a:ext cx="847800" cy="16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7"/>
            <p:cNvSpPr/>
            <p:nvPr/>
          </p:nvSpPr>
          <p:spPr>
            <a:xfrm rot="19806600">
              <a:off x="28440" y="1401480"/>
              <a:ext cx="511200" cy="343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83"/>
          <p:cNvGrpSpPr/>
          <p:nvPr/>
        </p:nvGrpSpPr>
        <p:grpSpPr>
          <a:xfrm>
            <a:off x="-885240" y="699480"/>
            <a:ext cx="1473840" cy="3106440"/>
            <a:chOff x="-885240" y="699480"/>
            <a:chExt cx="1473840" cy="3106440"/>
          </a:xfrm>
        </p:grpSpPr>
        <p:sp>
          <p:nvSpPr>
            <p:cNvPr id="291" name="Freeform 93"/>
            <p:cNvSpPr/>
            <p:nvPr/>
          </p:nvSpPr>
          <p:spPr>
            <a:xfrm rot="18546600">
              <a:off x="-573120" y="816840"/>
              <a:ext cx="819000" cy="10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94"/>
            <p:cNvSpPr/>
            <p:nvPr/>
          </p:nvSpPr>
          <p:spPr>
            <a:xfrm rot="19383600">
              <a:off x="-648360" y="157968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99"/>
            <p:cNvSpPr/>
            <p:nvPr/>
          </p:nvSpPr>
          <p:spPr>
            <a:xfrm>
              <a:off x="-586440" y="876240"/>
              <a:ext cx="71280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0"/>
            <p:cNvSpPr/>
            <p:nvPr/>
          </p:nvSpPr>
          <p:spPr>
            <a:xfrm rot="19383600">
              <a:off x="-728280" y="166356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112"/>
            <p:cNvGrpSpPr/>
            <p:nvPr/>
          </p:nvGrpSpPr>
          <p:grpSpPr>
            <a:xfrm>
              <a:off x="-885240" y="2141280"/>
              <a:ext cx="1473840" cy="1664640"/>
              <a:chOff x="-885240" y="2141280"/>
              <a:chExt cx="1473840" cy="1664640"/>
            </a:xfrm>
          </p:grpSpPr>
          <p:sp>
            <p:nvSpPr>
              <p:cNvPr id="296" name="Freeform 113"/>
              <p:cNvSpPr/>
              <p:nvPr/>
            </p:nvSpPr>
            <p:spPr>
              <a:xfrm rot="18546000">
                <a:off x="-498960" y="2260080"/>
                <a:ext cx="82044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14"/>
              <p:cNvSpPr/>
              <p:nvPr/>
            </p:nvSpPr>
            <p:spPr>
              <a:xfrm rot="19383600">
                <a:off x="-590040" y="302184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15"/>
              <p:cNvSpPr/>
              <p:nvPr/>
            </p:nvSpPr>
            <p:spPr>
              <a:xfrm rot="17969400">
                <a:off x="-623520" y="2369160"/>
                <a:ext cx="82152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6"/>
              <p:cNvSpPr/>
              <p:nvPr/>
            </p:nvSpPr>
            <p:spPr>
              <a:xfrm rot="19383600">
                <a:off x="-657000" y="310392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0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29" dur="1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dur="indefinite" autoRev="1" nodeType="withEffect" fill="hold" presetClass="emph" presetID="6" repeatCount="indefinite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936" dur="1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3" dur="1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dur="indefinite" autoRev="1" nodeType="withEffect" fill="hold" presetClass="emph" presetID="6" repeatCount="indefinite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950" dur="1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dur="indefinite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57" dur="1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64" dur="1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dur="indefinite" autoRev="1" nodeType="withEffect" fill="hold" presetClass="emph" presetID="6" repeatCount="indefinite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971" dur="1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dur="indefinite" autoRev="1" nodeType="withEffect" fill="hold" presetClass="emph" presetID="6" repeatCount="indefinite">
                                  <p:stCondLst>
                                    <p:cond delay="750"/>
                                  </p:stCondLst>
                                  <p:childTnLst>
                                    <p:animScale>
                                      <p:cBhvr>
                                        <p:cTn id="978" dur="1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6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6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autoRev="1" nodeType="withEffect" fill="hold" presetClass="emph" presetID="6" repeatCount="indefinite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985" dur="1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dur="indefinite" autoRev="1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92" dur="1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51" dur="15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3" dur="1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56" dur="15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8" dur="1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61" dur="15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3" dur="1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66" dur="15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8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71" dur="15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3" dur="1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76" dur="15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8" dur="1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81" dur="15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3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86" dur="15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8" dur="1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91" dur="15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3" dur="1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096" dur="1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8" dur="1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101" dur="15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3" dur="1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106" dur="15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8" dur="1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111" dur="1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3" dur="1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116" dur="15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8" dur="1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121" dur="15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3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126" dur="15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8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131" dur="15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3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136" dur="15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8" dur="1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141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3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6" dur="10" fill="hold"/>
                                        <p:tgtEl>
                                          <p:spTgt spid="27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47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8" dur="10" fill="hold"/>
                                        <p:tgtEl>
                                          <p:spTgt spid="29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4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22014 -0.02901 0.44531 -0.01296 0.66458 -0.01111 C 0.68698 -0.00432 0.70694 0.00803 0.72708 0.02593 C 0.72899 0.02778 0.73142 0.02778 0.73333 0.02963 C 0.73767 0.03396 0.74115 0.04167 0.74583 0.04445 C 0.74792 0.04568 0.75208 0.04815 0.75208 0.04815 E">
                                      <p:cBhvr>
                                        <p:cTn id="1150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22014 -0.02901 0.44531 -0.01296 0.66458 -0.01111 C 0.68698 -0.00432 0.70694 0.00803 0.72708 0.02593 C 0.72899 0.02778 0.73142 0.02778 0.73333 0.02963 C 0.73767 0.03396 0.74115 0.04167 0.74583 0.04445 C 0.74792 0.04568 0.75208 0.04815 0.75208 0.04815 E">
                                      <p:cBhvr>
                                        <p:cTn id="1152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684 0.02994 -0.00885 -0.01296 0.02084 0.02223 C 0.02292 0.02469 0.02327 0.03025 0.025 0.03334 C 0.02986 0.04198 0.03386 0.04074 0.03959 0.04815 C 0.05938 0.07315 0.03125 0.0463 0.05417 0.06667 C 0.06216 0.08797 0.07205 0.0963 0.08334 0.11111 C 0.09254 0.12346 0.08611 0.12099 0.09584 0.12963 C 0.10677 0.1392 0.11841 0.14877 0.12917 0.15926 C 0.15677 0.18611 0.12066 0.15525 0.14375 0.18148 C 0.15868 0.19815 0.17674 0.21081 0.19375 0.21852 C 0.20747 0.23673 0.22309 0.23858 0.23941 0.24445 C 0.27292 0.25618 0.30764 0.26173 0.34167 0.26667 C 0.36598 0.26544 0.39028 0.26513 0.41459 0.26297 C 0.41684 0.26266 0.42084 0.25926 0.42084 0.25926 E">
                                      <p:cBhvr>
                                        <p:cTn id="1154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684 0.02994 -0.00885 -0.01296 0.02084 0.02223 C 0.02292 0.02469 0.02327 0.03025 0.025 0.03334 C 0.02986 0.04198 0.03386 0.04074 0.03959 0.04815 C 0.05938 0.07315 0.03125 0.0463 0.05417 0.06667 C 0.06216 0.08797 0.07205 0.0963 0.08334 0.11111 C 0.09254 0.12346 0.08611 0.12099 0.09584 0.12963 C 0.10677 0.1392 0.11841 0.14877 0.12917 0.15926 C 0.15677 0.18611 0.12066 0.15525 0.14375 0.18148 C 0.15868 0.19815 0.17674 0.21081 0.19375 0.21852 C 0.20747 0.23673 0.22309 0.23858 0.23941 0.24445 C 0.27292 0.25618 0.30764 0.26173 0.34167 0.26667 C 0.36598 0.26544 0.39028 0.26513 0.41459 0.26297 C 0.41684 0.26266 0.42084 0.25926 0.42084 0.25926 E">
                                      <p:cBhvr>
                                        <p:cTn id="1156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mph" presetID="32" repeatCount="indefinite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11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emph" presetID="32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1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E78-01E3-43C0-B472-E124760C57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心形 4"/>
          <p:cNvSpPr/>
          <p:nvPr/>
        </p:nvSpPr>
        <p:spPr>
          <a:xfrm>
            <a:off x="2538360" y="3483000"/>
            <a:ext cx="289080" cy="21600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心形 14"/>
          <p:cNvSpPr/>
          <p:nvPr/>
        </p:nvSpPr>
        <p:spPr>
          <a:xfrm>
            <a:off x="1746360" y="3772080"/>
            <a:ext cx="288720" cy="21564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心形 15"/>
          <p:cNvSpPr/>
          <p:nvPr/>
        </p:nvSpPr>
        <p:spPr>
          <a:xfrm>
            <a:off x="1979640" y="3787920"/>
            <a:ext cx="288720" cy="215640"/>
          </a:xfrm>
          <a:custGeom>
            <a:avLst/>
            <a:gdLst>
              <a:gd name="textAreaLeft" fmla="*/ 67680 w 288720"/>
              <a:gd name="textAreaRight" fmla="*/ 220680 w 28872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心形 16"/>
          <p:cNvSpPr/>
          <p:nvPr/>
        </p:nvSpPr>
        <p:spPr>
          <a:xfrm>
            <a:off x="1996920" y="3908520"/>
            <a:ext cx="287640" cy="215640"/>
          </a:xfrm>
          <a:custGeom>
            <a:avLst/>
            <a:gdLst>
              <a:gd name="textAreaLeft" fmla="*/ 67680 w 287640"/>
              <a:gd name="textAreaRight" fmla="*/ 219960 w 287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心形 17"/>
          <p:cNvSpPr/>
          <p:nvPr/>
        </p:nvSpPr>
        <p:spPr>
          <a:xfrm>
            <a:off x="2111400" y="3538440"/>
            <a:ext cx="287280" cy="216000"/>
          </a:xfrm>
          <a:custGeom>
            <a:avLst/>
            <a:gdLst>
              <a:gd name="textAreaLeft" fmla="*/ 67320 w 287280"/>
              <a:gd name="textAreaRight" fmla="*/ 219600 w 2872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心形 18"/>
          <p:cNvSpPr/>
          <p:nvPr/>
        </p:nvSpPr>
        <p:spPr>
          <a:xfrm>
            <a:off x="4108320" y="35002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心形 19"/>
          <p:cNvSpPr/>
          <p:nvPr/>
        </p:nvSpPr>
        <p:spPr>
          <a:xfrm>
            <a:off x="3073320" y="3948120"/>
            <a:ext cx="289080" cy="21600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心形 20"/>
          <p:cNvSpPr/>
          <p:nvPr/>
        </p:nvSpPr>
        <p:spPr>
          <a:xfrm>
            <a:off x="3225960" y="4100400"/>
            <a:ext cx="144360" cy="12888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28880"/>
              <a:gd name="textAreaBottom" fmla="*/ 81000 h 128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心形 21"/>
          <p:cNvSpPr/>
          <p:nvPr/>
        </p:nvSpPr>
        <p:spPr>
          <a:xfrm>
            <a:off x="3619440" y="36622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心形 22"/>
          <p:cNvSpPr/>
          <p:nvPr/>
        </p:nvSpPr>
        <p:spPr>
          <a:xfrm>
            <a:off x="4260960" y="365292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心形 23"/>
          <p:cNvSpPr/>
          <p:nvPr/>
        </p:nvSpPr>
        <p:spPr>
          <a:xfrm>
            <a:off x="4413240" y="3435480"/>
            <a:ext cx="95400" cy="7272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2720"/>
              <a:gd name="textAreaBottom" fmla="*/ 45720 h 7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心形 24"/>
          <p:cNvSpPr/>
          <p:nvPr/>
        </p:nvSpPr>
        <p:spPr>
          <a:xfrm>
            <a:off x="4565520" y="3587760"/>
            <a:ext cx="95400" cy="730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心形 25"/>
          <p:cNvSpPr/>
          <p:nvPr/>
        </p:nvSpPr>
        <p:spPr>
          <a:xfrm>
            <a:off x="3978360" y="37101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心形 26"/>
          <p:cNvSpPr/>
          <p:nvPr/>
        </p:nvSpPr>
        <p:spPr>
          <a:xfrm>
            <a:off x="2843280" y="372420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心形 27"/>
          <p:cNvSpPr/>
          <p:nvPr/>
        </p:nvSpPr>
        <p:spPr>
          <a:xfrm>
            <a:off x="3835440" y="383220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心形 28"/>
          <p:cNvSpPr/>
          <p:nvPr/>
        </p:nvSpPr>
        <p:spPr>
          <a:xfrm>
            <a:off x="3443400" y="396720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心形 29"/>
          <p:cNvSpPr/>
          <p:nvPr/>
        </p:nvSpPr>
        <p:spPr>
          <a:xfrm>
            <a:off x="3595680" y="41194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心形 30"/>
          <p:cNvSpPr/>
          <p:nvPr/>
        </p:nvSpPr>
        <p:spPr>
          <a:xfrm>
            <a:off x="2395440" y="38433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心形 31"/>
          <p:cNvSpPr/>
          <p:nvPr/>
        </p:nvSpPr>
        <p:spPr>
          <a:xfrm>
            <a:off x="3860640" y="3508200"/>
            <a:ext cx="241560" cy="179640"/>
          </a:xfrm>
          <a:custGeom>
            <a:avLst/>
            <a:gdLst>
              <a:gd name="textAreaLeft" fmla="*/ 56520 w 241560"/>
              <a:gd name="textAreaRight" fmla="*/ 184680 w 2415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心形 32"/>
          <p:cNvSpPr/>
          <p:nvPr/>
        </p:nvSpPr>
        <p:spPr>
          <a:xfrm>
            <a:off x="3643200" y="390672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心形 33"/>
          <p:cNvSpPr/>
          <p:nvPr/>
        </p:nvSpPr>
        <p:spPr>
          <a:xfrm>
            <a:off x="3564000" y="418140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心形 34"/>
          <p:cNvSpPr/>
          <p:nvPr/>
        </p:nvSpPr>
        <p:spPr>
          <a:xfrm>
            <a:off x="3716280" y="396540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心形 35"/>
          <p:cNvSpPr/>
          <p:nvPr/>
        </p:nvSpPr>
        <p:spPr>
          <a:xfrm>
            <a:off x="3868560" y="41180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心形 36"/>
          <p:cNvSpPr/>
          <p:nvPr/>
        </p:nvSpPr>
        <p:spPr>
          <a:xfrm>
            <a:off x="3122640" y="38098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心形 37"/>
          <p:cNvSpPr/>
          <p:nvPr/>
        </p:nvSpPr>
        <p:spPr>
          <a:xfrm>
            <a:off x="3083040" y="372420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心形 38"/>
          <p:cNvSpPr/>
          <p:nvPr/>
        </p:nvSpPr>
        <p:spPr>
          <a:xfrm>
            <a:off x="3292560" y="38098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心形 39"/>
          <p:cNvSpPr/>
          <p:nvPr/>
        </p:nvSpPr>
        <p:spPr>
          <a:xfrm>
            <a:off x="3724200" y="3898800"/>
            <a:ext cx="95400" cy="730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心形 40"/>
          <p:cNvSpPr/>
          <p:nvPr/>
        </p:nvSpPr>
        <p:spPr>
          <a:xfrm>
            <a:off x="2322360" y="3840120"/>
            <a:ext cx="289080" cy="216000"/>
          </a:xfrm>
          <a:custGeom>
            <a:avLst/>
            <a:gdLst>
              <a:gd name="textAreaLeft" fmla="*/ 67680 w 289080"/>
              <a:gd name="textAreaRight" fmla="*/ 221040 w 28908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心形 41"/>
          <p:cNvSpPr/>
          <p:nvPr/>
        </p:nvSpPr>
        <p:spPr>
          <a:xfrm>
            <a:off x="2475000" y="3992400"/>
            <a:ext cx="144360" cy="12888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28880"/>
              <a:gd name="textAreaBottom" fmla="*/ 81000 h 128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心形 42"/>
          <p:cNvSpPr/>
          <p:nvPr/>
        </p:nvSpPr>
        <p:spPr>
          <a:xfrm>
            <a:off x="3051000" y="365112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心形 43"/>
          <p:cNvSpPr/>
          <p:nvPr/>
        </p:nvSpPr>
        <p:spPr>
          <a:xfrm>
            <a:off x="3876840" y="4051440"/>
            <a:ext cx="95040" cy="7272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2720"/>
              <a:gd name="textAreaBottom" fmla="*/ 45720 h 72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心形 44"/>
          <p:cNvSpPr/>
          <p:nvPr/>
        </p:nvSpPr>
        <p:spPr>
          <a:xfrm>
            <a:off x="4029120" y="352260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心形 45"/>
          <p:cNvSpPr/>
          <p:nvPr/>
        </p:nvSpPr>
        <p:spPr>
          <a:xfrm>
            <a:off x="3997440" y="3578400"/>
            <a:ext cx="95040" cy="712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心形 46"/>
          <p:cNvSpPr/>
          <p:nvPr/>
        </p:nvSpPr>
        <p:spPr>
          <a:xfrm>
            <a:off x="3643200" y="3889440"/>
            <a:ext cx="95400" cy="730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心形 49"/>
          <p:cNvSpPr/>
          <p:nvPr/>
        </p:nvSpPr>
        <p:spPr>
          <a:xfrm>
            <a:off x="3498840" y="369900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心形 50"/>
          <p:cNvSpPr/>
          <p:nvPr/>
        </p:nvSpPr>
        <p:spPr>
          <a:xfrm>
            <a:off x="2874960" y="395604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心形 51"/>
          <p:cNvSpPr/>
          <p:nvPr/>
        </p:nvSpPr>
        <p:spPr>
          <a:xfrm>
            <a:off x="3027240" y="410832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心形 52"/>
          <p:cNvSpPr/>
          <p:nvPr/>
        </p:nvSpPr>
        <p:spPr>
          <a:xfrm>
            <a:off x="3708360" y="3784680"/>
            <a:ext cx="241200" cy="180720"/>
          </a:xfrm>
          <a:custGeom>
            <a:avLst/>
            <a:gdLst>
              <a:gd name="textAreaLeft" fmla="*/ 56520 w 241200"/>
              <a:gd name="textAreaRight" fmla="*/ 184320 w 24120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心形 53"/>
          <p:cNvSpPr/>
          <p:nvPr/>
        </p:nvSpPr>
        <p:spPr>
          <a:xfrm>
            <a:off x="3075120" y="389556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心形 54"/>
          <p:cNvSpPr/>
          <p:nvPr/>
        </p:nvSpPr>
        <p:spPr>
          <a:xfrm>
            <a:off x="3227400" y="404820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心形 55"/>
          <p:cNvSpPr/>
          <p:nvPr/>
        </p:nvSpPr>
        <p:spPr>
          <a:xfrm>
            <a:off x="3379680" y="38322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心形 56"/>
          <p:cNvSpPr/>
          <p:nvPr/>
        </p:nvSpPr>
        <p:spPr>
          <a:xfrm>
            <a:off x="3532320" y="39844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心形 57"/>
          <p:cNvSpPr/>
          <p:nvPr/>
        </p:nvSpPr>
        <p:spPr>
          <a:xfrm>
            <a:off x="2371680" y="37018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心形 58"/>
          <p:cNvSpPr/>
          <p:nvPr/>
        </p:nvSpPr>
        <p:spPr>
          <a:xfrm>
            <a:off x="2330280" y="3616200"/>
            <a:ext cx="241560" cy="179640"/>
          </a:xfrm>
          <a:custGeom>
            <a:avLst/>
            <a:gdLst>
              <a:gd name="textAreaLeft" fmla="*/ 56520 w 241560"/>
              <a:gd name="textAreaRight" fmla="*/ 184680 w 2415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心形 59"/>
          <p:cNvSpPr/>
          <p:nvPr/>
        </p:nvSpPr>
        <p:spPr>
          <a:xfrm>
            <a:off x="2541600" y="37018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心形 104"/>
          <p:cNvSpPr/>
          <p:nvPr/>
        </p:nvSpPr>
        <p:spPr>
          <a:xfrm>
            <a:off x="4130640" y="3513240"/>
            <a:ext cx="144360" cy="128520"/>
          </a:xfrm>
          <a:custGeom>
            <a:avLst/>
            <a:gdLst>
              <a:gd name="textAreaLeft" fmla="*/ 33840 w 144360"/>
              <a:gd name="textAreaRight" fmla="*/ 110520 w 144360"/>
              <a:gd name="textAreaTop" fmla="*/ 15120 h 128520"/>
              <a:gd name="textAreaBottom" fmla="*/ 80640 h 128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心形 106"/>
          <p:cNvSpPr/>
          <p:nvPr/>
        </p:nvSpPr>
        <p:spPr>
          <a:xfrm>
            <a:off x="5810400" y="32320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心形 108"/>
          <p:cNvSpPr/>
          <p:nvPr/>
        </p:nvSpPr>
        <p:spPr>
          <a:xfrm>
            <a:off x="6114960" y="316692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心形 109"/>
          <p:cNvSpPr/>
          <p:nvPr/>
        </p:nvSpPr>
        <p:spPr>
          <a:xfrm>
            <a:off x="5114880" y="33148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心形 111"/>
          <p:cNvSpPr/>
          <p:nvPr/>
        </p:nvSpPr>
        <p:spPr>
          <a:xfrm>
            <a:off x="4346640" y="33814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心形 112"/>
          <p:cNvSpPr/>
          <p:nvPr/>
        </p:nvSpPr>
        <p:spPr>
          <a:xfrm>
            <a:off x="4498920" y="35337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心形 113"/>
          <p:cNvSpPr/>
          <p:nvPr/>
        </p:nvSpPr>
        <p:spPr>
          <a:xfrm>
            <a:off x="5411880" y="308628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心形 114"/>
          <p:cNvSpPr/>
          <p:nvPr/>
        </p:nvSpPr>
        <p:spPr>
          <a:xfrm>
            <a:off x="4546440" y="33195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心形 115"/>
          <p:cNvSpPr/>
          <p:nvPr/>
        </p:nvSpPr>
        <p:spPr>
          <a:xfrm>
            <a:off x="4699080" y="34718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心形 116"/>
          <p:cNvSpPr/>
          <p:nvPr/>
        </p:nvSpPr>
        <p:spPr>
          <a:xfrm>
            <a:off x="4851360" y="325584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心形 117"/>
          <p:cNvSpPr/>
          <p:nvPr/>
        </p:nvSpPr>
        <p:spPr>
          <a:xfrm>
            <a:off x="5003640" y="34084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心形 118"/>
          <p:cNvSpPr/>
          <p:nvPr/>
        </p:nvSpPr>
        <p:spPr>
          <a:xfrm>
            <a:off x="4195800" y="322272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心形 120"/>
          <p:cNvSpPr/>
          <p:nvPr/>
        </p:nvSpPr>
        <p:spPr>
          <a:xfrm>
            <a:off x="5011560" y="33433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心形 122"/>
          <p:cNvSpPr/>
          <p:nvPr/>
        </p:nvSpPr>
        <p:spPr>
          <a:xfrm>
            <a:off x="5548320" y="31561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心形 123"/>
          <p:cNvSpPr/>
          <p:nvPr/>
        </p:nvSpPr>
        <p:spPr>
          <a:xfrm>
            <a:off x="4546440" y="330372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心形 125"/>
          <p:cNvSpPr/>
          <p:nvPr/>
        </p:nvSpPr>
        <p:spPr>
          <a:xfrm>
            <a:off x="4613400" y="319716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心形 126"/>
          <p:cNvSpPr/>
          <p:nvPr/>
        </p:nvSpPr>
        <p:spPr>
          <a:xfrm>
            <a:off x="4130640" y="3460680"/>
            <a:ext cx="96840" cy="730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心形 127"/>
          <p:cNvSpPr/>
          <p:nvPr/>
        </p:nvSpPr>
        <p:spPr>
          <a:xfrm>
            <a:off x="4282920" y="32446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心形 128"/>
          <p:cNvSpPr/>
          <p:nvPr/>
        </p:nvSpPr>
        <p:spPr>
          <a:xfrm>
            <a:off x="4435560" y="33973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心形 129"/>
          <p:cNvSpPr/>
          <p:nvPr/>
        </p:nvSpPr>
        <p:spPr>
          <a:xfrm>
            <a:off x="5810400" y="366552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心形 130"/>
          <p:cNvSpPr/>
          <p:nvPr/>
        </p:nvSpPr>
        <p:spPr>
          <a:xfrm>
            <a:off x="4282920" y="4100400"/>
            <a:ext cx="144720" cy="128880"/>
          </a:xfrm>
          <a:custGeom>
            <a:avLst/>
            <a:gdLst>
              <a:gd name="textAreaLeft" fmla="*/ 33840 w 144720"/>
              <a:gd name="textAreaRight" fmla="*/ 110880 w 144720"/>
              <a:gd name="textAreaTop" fmla="*/ 15120 h 128880"/>
              <a:gd name="textAreaBottom" fmla="*/ 81000 h 1288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心形 131"/>
          <p:cNvSpPr/>
          <p:nvPr/>
        </p:nvSpPr>
        <p:spPr>
          <a:xfrm>
            <a:off x="4675320" y="36622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心形 132"/>
          <p:cNvSpPr/>
          <p:nvPr/>
        </p:nvSpPr>
        <p:spPr>
          <a:xfrm>
            <a:off x="5962680" y="38178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心形 133"/>
          <p:cNvSpPr/>
          <p:nvPr/>
        </p:nvSpPr>
        <p:spPr>
          <a:xfrm>
            <a:off x="6114960" y="36021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心形 134"/>
          <p:cNvSpPr/>
          <p:nvPr/>
        </p:nvSpPr>
        <p:spPr>
          <a:xfrm>
            <a:off x="6267600" y="375444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心形 135"/>
          <p:cNvSpPr/>
          <p:nvPr/>
        </p:nvSpPr>
        <p:spPr>
          <a:xfrm>
            <a:off x="5267160" y="390060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心形 136"/>
          <p:cNvSpPr/>
          <p:nvPr/>
        </p:nvSpPr>
        <p:spPr>
          <a:xfrm>
            <a:off x="5122800" y="371016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心形 137"/>
          <p:cNvSpPr/>
          <p:nvPr/>
        </p:nvSpPr>
        <p:spPr>
          <a:xfrm>
            <a:off x="4498920" y="396720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心形 138"/>
          <p:cNvSpPr/>
          <p:nvPr/>
        </p:nvSpPr>
        <p:spPr>
          <a:xfrm>
            <a:off x="4651200" y="41194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心形 139"/>
          <p:cNvSpPr/>
          <p:nvPr/>
        </p:nvSpPr>
        <p:spPr>
          <a:xfrm>
            <a:off x="5564160" y="367344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心形 140"/>
          <p:cNvSpPr/>
          <p:nvPr/>
        </p:nvSpPr>
        <p:spPr>
          <a:xfrm>
            <a:off x="4699080" y="390672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心形 141"/>
          <p:cNvSpPr/>
          <p:nvPr/>
        </p:nvSpPr>
        <p:spPr>
          <a:xfrm>
            <a:off x="4851360" y="40593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心形 142"/>
          <p:cNvSpPr/>
          <p:nvPr/>
        </p:nvSpPr>
        <p:spPr>
          <a:xfrm>
            <a:off x="5003640" y="38433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心形 143"/>
          <p:cNvSpPr/>
          <p:nvPr/>
        </p:nvSpPr>
        <p:spPr>
          <a:xfrm>
            <a:off x="5156280" y="39956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心形 144"/>
          <p:cNvSpPr/>
          <p:nvPr/>
        </p:nvSpPr>
        <p:spPr>
          <a:xfrm>
            <a:off x="4348080" y="380988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心形 145"/>
          <p:cNvSpPr/>
          <p:nvPr/>
        </p:nvSpPr>
        <p:spPr>
          <a:xfrm>
            <a:off x="5011560" y="377676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心形 146"/>
          <p:cNvSpPr/>
          <p:nvPr/>
        </p:nvSpPr>
        <p:spPr>
          <a:xfrm>
            <a:off x="5164200" y="39290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心形 147"/>
          <p:cNvSpPr/>
          <p:nvPr/>
        </p:nvSpPr>
        <p:spPr>
          <a:xfrm>
            <a:off x="5548320" y="359100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心形 148"/>
          <p:cNvSpPr/>
          <p:nvPr/>
        </p:nvSpPr>
        <p:spPr>
          <a:xfrm>
            <a:off x="5700600" y="37432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心形 149"/>
          <p:cNvSpPr/>
          <p:nvPr/>
        </p:nvSpPr>
        <p:spPr>
          <a:xfrm>
            <a:off x="4699080" y="3889440"/>
            <a:ext cx="95040" cy="730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心形 150"/>
          <p:cNvSpPr/>
          <p:nvPr/>
        </p:nvSpPr>
        <p:spPr>
          <a:xfrm>
            <a:off x="4556160" y="369900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心形 151"/>
          <p:cNvSpPr/>
          <p:nvPr/>
        </p:nvSpPr>
        <p:spPr>
          <a:xfrm>
            <a:off x="4765680" y="3784680"/>
            <a:ext cx="239760" cy="18072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0720"/>
              <a:gd name="textAreaBottom" fmla="*/ 113400 h 18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心形 152"/>
          <p:cNvSpPr/>
          <p:nvPr/>
        </p:nvSpPr>
        <p:spPr>
          <a:xfrm>
            <a:off x="4282920" y="404820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心形 153"/>
          <p:cNvSpPr/>
          <p:nvPr/>
        </p:nvSpPr>
        <p:spPr>
          <a:xfrm>
            <a:off x="4435560" y="38322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心形 154"/>
          <p:cNvSpPr/>
          <p:nvPr/>
        </p:nvSpPr>
        <p:spPr>
          <a:xfrm>
            <a:off x="4587840" y="398448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心形 164"/>
          <p:cNvSpPr/>
          <p:nvPr/>
        </p:nvSpPr>
        <p:spPr>
          <a:xfrm>
            <a:off x="2874960" y="3460680"/>
            <a:ext cx="239760" cy="17928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280"/>
              <a:gd name="textAreaBottom" fmla="*/ 112680 h 17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心形 181"/>
          <p:cNvSpPr/>
          <p:nvPr/>
        </p:nvSpPr>
        <p:spPr>
          <a:xfrm>
            <a:off x="5962680" y="3817800"/>
            <a:ext cx="96840" cy="7164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心形 182"/>
          <p:cNvSpPr/>
          <p:nvPr/>
        </p:nvSpPr>
        <p:spPr>
          <a:xfrm>
            <a:off x="6114960" y="397044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心形 183"/>
          <p:cNvSpPr/>
          <p:nvPr/>
        </p:nvSpPr>
        <p:spPr>
          <a:xfrm>
            <a:off x="6267600" y="375444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心形 184"/>
          <p:cNvSpPr/>
          <p:nvPr/>
        </p:nvSpPr>
        <p:spPr>
          <a:xfrm>
            <a:off x="6419880" y="4219560"/>
            <a:ext cx="96840" cy="71280"/>
          </a:xfrm>
          <a:custGeom>
            <a:avLst/>
            <a:gdLst>
              <a:gd name="textAreaLeft" fmla="*/ 22680 w 96840"/>
              <a:gd name="textAreaRight" fmla="*/ 74160 w 9684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心形 185"/>
          <p:cNvSpPr/>
          <p:nvPr/>
        </p:nvSpPr>
        <p:spPr>
          <a:xfrm>
            <a:off x="5651640" y="3930480"/>
            <a:ext cx="95040" cy="7308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心形 186"/>
          <p:cNvSpPr/>
          <p:nvPr/>
        </p:nvSpPr>
        <p:spPr>
          <a:xfrm>
            <a:off x="5506920" y="374004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心形 187"/>
          <p:cNvSpPr/>
          <p:nvPr/>
        </p:nvSpPr>
        <p:spPr>
          <a:xfrm>
            <a:off x="5716440" y="3825720"/>
            <a:ext cx="239760" cy="179640"/>
          </a:xfrm>
          <a:custGeom>
            <a:avLst/>
            <a:gdLst>
              <a:gd name="textAreaLeft" fmla="*/ 56160 w 239760"/>
              <a:gd name="textAreaRight" fmla="*/ 183240 w 239760"/>
              <a:gd name="textAreaTop" fmla="*/ 20880 h 179640"/>
              <a:gd name="textAreaBottom" fmla="*/ 112680 h 1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心形 188"/>
          <p:cNvSpPr/>
          <p:nvPr/>
        </p:nvSpPr>
        <p:spPr>
          <a:xfrm>
            <a:off x="5003640" y="421164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心形 189"/>
          <p:cNvSpPr/>
          <p:nvPr/>
        </p:nvSpPr>
        <p:spPr>
          <a:xfrm>
            <a:off x="5156280" y="39956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心形 190"/>
          <p:cNvSpPr/>
          <p:nvPr/>
        </p:nvSpPr>
        <p:spPr>
          <a:xfrm>
            <a:off x="5540400" y="4025880"/>
            <a:ext cx="95400" cy="712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280"/>
              <a:gd name="textAreaBottom" fmla="*/ 44640 h 71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心形 191"/>
          <p:cNvSpPr/>
          <p:nvPr/>
        </p:nvSpPr>
        <p:spPr>
          <a:xfrm>
            <a:off x="5164200" y="392904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心形 192"/>
          <p:cNvSpPr/>
          <p:nvPr/>
        </p:nvSpPr>
        <p:spPr>
          <a:xfrm>
            <a:off x="5548320" y="3959280"/>
            <a:ext cx="95400" cy="7308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3080"/>
              <a:gd name="textAreaBottom" fmla="*/ 45720 h 73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心形 193"/>
          <p:cNvSpPr/>
          <p:nvPr/>
        </p:nvSpPr>
        <p:spPr>
          <a:xfrm>
            <a:off x="5700600" y="3743280"/>
            <a:ext cx="95400" cy="71640"/>
          </a:xfrm>
          <a:custGeom>
            <a:avLst/>
            <a:gdLst>
              <a:gd name="textAreaLeft" fmla="*/ 22320 w 95400"/>
              <a:gd name="textAreaRight" fmla="*/ 73080 w 9540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心形 194"/>
          <p:cNvSpPr/>
          <p:nvPr/>
        </p:nvSpPr>
        <p:spPr>
          <a:xfrm>
            <a:off x="5853240" y="3895560"/>
            <a:ext cx="95040" cy="71640"/>
          </a:xfrm>
          <a:custGeom>
            <a:avLst/>
            <a:gdLst>
              <a:gd name="textAreaLeft" fmla="*/ 22320 w 95040"/>
              <a:gd name="textAreaRight" fmla="*/ 72720 w 95040"/>
              <a:gd name="textAreaTop" fmla="*/ 8280 h 71640"/>
              <a:gd name="textAreaBottom" fmla="*/ 45000 h 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心形 195"/>
          <p:cNvSpPr/>
          <p:nvPr/>
        </p:nvSpPr>
        <p:spPr>
          <a:xfrm>
            <a:off x="4917960" y="3936960"/>
            <a:ext cx="239760" cy="181080"/>
          </a:xfrm>
          <a:custGeom>
            <a:avLst/>
            <a:gdLst>
              <a:gd name="textAreaLeft" fmla="*/ 56160 w 239760"/>
              <a:gd name="textAreaRight" fmla="*/ 183240 w 239760"/>
              <a:gd name="textAreaTop" fmla="*/ 21240 h 181080"/>
              <a:gd name="textAreaBottom" fmla="*/ 113760 h 181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云形 245"/>
          <p:cNvSpPr/>
          <p:nvPr/>
        </p:nvSpPr>
        <p:spPr>
          <a:xfrm>
            <a:off x="947880" y="361800"/>
            <a:ext cx="942840" cy="57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云形 249"/>
          <p:cNvSpPr/>
          <p:nvPr/>
        </p:nvSpPr>
        <p:spPr>
          <a:xfrm>
            <a:off x="5208480" y="396720"/>
            <a:ext cx="943200" cy="57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rcRect l="0" t="0" r="-4259" b="0"/>
          <a:stretch/>
        </p:blipFill>
        <p:spPr>
          <a:xfrm rot="20956200">
            <a:off x="2271240" y="1430280"/>
            <a:ext cx="3032280" cy="2457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3"/>
          <a:srcRect l="0" t="0" r="-4259" b="0"/>
          <a:stretch/>
        </p:blipFill>
        <p:spPr>
          <a:xfrm rot="1082400">
            <a:off x="4118040" y="1433520"/>
            <a:ext cx="3031920" cy="245736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82"/>
          <p:cNvGrpSpPr/>
          <p:nvPr/>
        </p:nvGrpSpPr>
        <p:grpSpPr>
          <a:xfrm>
            <a:off x="-1093320" y="800280"/>
            <a:ext cx="1144800" cy="1001160"/>
            <a:chOff x="-1093320" y="800280"/>
            <a:chExt cx="1144800" cy="1001160"/>
          </a:xfrm>
        </p:grpSpPr>
        <p:sp>
          <p:nvSpPr>
            <p:cNvPr id="414" name="Oval 96"/>
            <p:cNvSpPr/>
            <p:nvPr/>
          </p:nvSpPr>
          <p:spPr>
            <a:xfrm rot="19806600">
              <a:off x="-1107720" y="1433160"/>
              <a:ext cx="847800" cy="168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97"/>
            <p:cNvSpPr/>
            <p:nvPr/>
          </p:nvSpPr>
          <p:spPr>
            <a:xfrm rot="19806600">
              <a:off x="-511200" y="904680"/>
              <a:ext cx="511200" cy="342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83"/>
          <p:cNvGrpSpPr/>
          <p:nvPr/>
        </p:nvGrpSpPr>
        <p:grpSpPr>
          <a:xfrm>
            <a:off x="-1425240" y="204120"/>
            <a:ext cx="1473840" cy="3106440"/>
            <a:chOff x="-1425240" y="204120"/>
            <a:chExt cx="1473840" cy="3106440"/>
          </a:xfrm>
        </p:grpSpPr>
        <p:sp>
          <p:nvSpPr>
            <p:cNvPr id="417" name="Freeform 93"/>
            <p:cNvSpPr/>
            <p:nvPr/>
          </p:nvSpPr>
          <p:spPr>
            <a:xfrm rot="18546600">
              <a:off x="-1113120" y="321480"/>
              <a:ext cx="819000" cy="108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4"/>
            <p:cNvSpPr/>
            <p:nvPr/>
          </p:nvSpPr>
          <p:spPr>
            <a:xfrm rot="19383600">
              <a:off x="-1188360" y="108432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9"/>
            <p:cNvSpPr/>
            <p:nvPr/>
          </p:nvSpPr>
          <p:spPr>
            <a:xfrm>
              <a:off x="-1126440" y="380880"/>
              <a:ext cx="71280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00"/>
            <p:cNvSpPr/>
            <p:nvPr/>
          </p:nvSpPr>
          <p:spPr>
            <a:xfrm rot="19383600">
              <a:off x="-1268280" y="116820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112"/>
            <p:cNvGrpSpPr/>
            <p:nvPr/>
          </p:nvGrpSpPr>
          <p:grpSpPr>
            <a:xfrm>
              <a:off x="-1425240" y="1645920"/>
              <a:ext cx="1473840" cy="1664640"/>
              <a:chOff x="-1425240" y="1645920"/>
              <a:chExt cx="1473840" cy="1664640"/>
            </a:xfrm>
          </p:grpSpPr>
          <p:sp>
            <p:nvSpPr>
              <p:cNvPr id="422" name="Freeform 113"/>
              <p:cNvSpPr/>
              <p:nvPr/>
            </p:nvSpPr>
            <p:spPr>
              <a:xfrm rot="18546000">
                <a:off x="-1038960" y="1764720"/>
                <a:ext cx="82044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14"/>
              <p:cNvSpPr/>
              <p:nvPr/>
            </p:nvSpPr>
            <p:spPr>
              <a:xfrm rot="19383600">
                <a:off x="-1130040" y="252648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5"/>
              <p:cNvSpPr/>
              <p:nvPr/>
            </p:nvSpPr>
            <p:spPr>
              <a:xfrm rot="17969400">
                <a:off x="-1163520" y="1873800"/>
                <a:ext cx="82152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6"/>
              <p:cNvSpPr/>
              <p:nvPr/>
            </p:nvSpPr>
            <p:spPr>
              <a:xfrm rot="19383600">
                <a:off x="-1197000" y="2608560"/>
                <a:ext cx="77760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Group 82"/>
          <p:cNvGrpSpPr/>
          <p:nvPr/>
        </p:nvGrpSpPr>
        <p:grpSpPr>
          <a:xfrm>
            <a:off x="-1589040" y="1546200"/>
            <a:ext cx="1145160" cy="1001880"/>
            <a:chOff x="-1589040" y="1546200"/>
            <a:chExt cx="1145160" cy="1001880"/>
          </a:xfrm>
        </p:grpSpPr>
        <p:sp>
          <p:nvSpPr>
            <p:cNvPr id="427" name="Oval 96"/>
            <p:cNvSpPr/>
            <p:nvPr/>
          </p:nvSpPr>
          <p:spPr>
            <a:xfrm rot="19806600">
              <a:off x="-1603440" y="2179440"/>
              <a:ext cx="847800" cy="168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97"/>
            <p:cNvSpPr/>
            <p:nvPr/>
          </p:nvSpPr>
          <p:spPr>
            <a:xfrm rot="19806600">
              <a:off x="-1006200" y="1650600"/>
              <a:ext cx="511200" cy="343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83"/>
          <p:cNvGrpSpPr/>
          <p:nvPr/>
        </p:nvGrpSpPr>
        <p:grpSpPr>
          <a:xfrm>
            <a:off x="-1920240" y="948600"/>
            <a:ext cx="1473840" cy="3106440"/>
            <a:chOff x="-1920240" y="948600"/>
            <a:chExt cx="1473840" cy="3106440"/>
          </a:xfrm>
        </p:grpSpPr>
        <p:sp>
          <p:nvSpPr>
            <p:cNvPr id="430" name="Freeform 93"/>
            <p:cNvSpPr/>
            <p:nvPr/>
          </p:nvSpPr>
          <p:spPr>
            <a:xfrm rot="18546600">
              <a:off x="-1608480" y="1065960"/>
              <a:ext cx="819000" cy="108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94"/>
            <p:cNvSpPr/>
            <p:nvPr/>
          </p:nvSpPr>
          <p:spPr>
            <a:xfrm rot="19383600">
              <a:off x="-1683360" y="1828800"/>
              <a:ext cx="77796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99"/>
            <p:cNvSpPr/>
            <p:nvPr/>
          </p:nvSpPr>
          <p:spPr>
            <a:xfrm>
              <a:off x="-1621440" y="1125360"/>
              <a:ext cx="712440" cy="1185840"/>
            </a:xfrm>
            <a:prstGeom prst="pie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0"/>
            <p:cNvSpPr/>
            <p:nvPr/>
          </p:nvSpPr>
          <p:spPr>
            <a:xfrm rot="19383600">
              <a:off x="-1763280" y="1912680"/>
              <a:ext cx="778320" cy="5209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112"/>
            <p:cNvGrpSpPr/>
            <p:nvPr/>
          </p:nvGrpSpPr>
          <p:grpSpPr>
            <a:xfrm>
              <a:off x="-1920240" y="2390400"/>
              <a:ext cx="1473840" cy="1664640"/>
              <a:chOff x="-1920240" y="2390400"/>
              <a:chExt cx="1473840" cy="1664640"/>
            </a:xfrm>
          </p:grpSpPr>
          <p:sp>
            <p:nvSpPr>
              <p:cNvPr id="435" name="Freeform 113"/>
              <p:cNvSpPr/>
              <p:nvPr/>
            </p:nvSpPr>
            <p:spPr>
              <a:xfrm rot="18546000">
                <a:off x="-1533960" y="2509200"/>
                <a:ext cx="82008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14"/>
              <p:cNvSpPr/>
              <p:nvPr/>
            </p:nvSpPr>
            <p:spPr>
              <a:xfrm rot="19383600">
                <a:off x="-1625040" y="3271320"/>
                <a:ext cx="77724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15"/>
              <p:cNvSpPr/>
              <p:nvPr/>
            </p:nvSpPr>
            <p:spPr>
              <a:xfrm rot="17969400">
                <a:off x="-1658520" y="2618280"/>
                <a:ext cx="821160" cy="1080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16"/>
              <p:cNvSpPr/>
              <p:nvPr/>
            </p:nvSpPr>
            <p:spPr>
              <a:xfrm rot="19383600">
                <a:off x="-1692000" y="3353400"/>
                <a:ext cx="777240" cy="520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716-50CC-408A-A7FF-3B17044D2450}" type="slidenum">
              <a:t>5</a:t>
            </a:fld>
          </a:p>
        </p:txBody>
      </p:sp>
    </p:spTree>
  </p:cSld>
  <p:transition spd="slow" advTm="0">
    <p:fade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498" dur="1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0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03" dur="1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4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5" dur="1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08" dur="1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13" dur="15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5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18" dur="15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0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23" dur="15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5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28" dur="1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0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33" dur="1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5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38" dur="1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43" dur="1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5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548" dur="1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0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553" dur="1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5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58" dur="1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0" dur="1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63" dur="1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xit" presetID="10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5" dur="1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68" dur="1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0" dur="1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73" dur="1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4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5" dur="1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78" dur="1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0" dur="1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83" dur="1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5" dur="1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88" dur="1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0" dur="1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93" dur="1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5" dur="1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598" dur="1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0" dur="1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03" dur="1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5" dur="1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08" dur="1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0" dur="1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13" dur="1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5" dur="1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18" dur="1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0" dur="1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23" dur="1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5" dur="1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28" dur="1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0" dur="1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33" dur="1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5" dur="1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38" dur="1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0" dur="1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43" dur="1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5" dur="1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1648" dur="1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0" dur="1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53" dur="1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5" dur="1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58" dur="1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0" dur="1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63" dur="1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5" dur="1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68" dur="15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0" dur="1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73" dur="1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4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75" dur="1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78" dur="1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0" dur="1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83" dur="1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5" dur="1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88" dur="1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0" dur="1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93" dur="1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5" dur="1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698" dur="1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0" dur="1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1703" dur="1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5" dur="1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08" dur="1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0" dur="1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13" dur="1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5" dur="1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18" dur="1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0" dur="1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23" dur="1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5" dur="1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28" dur="1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0" dur="1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733" dur="1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5" dur="1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38" dur="1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0" dur="1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43" dur="1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4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5" dur="1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48" dur="1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0" dur="1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53" dur="1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5" dur="1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58" dur="1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0" dur="1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63" dur="1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5" dur="1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68" dur="1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0" dur="1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73" dur="15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5" dur="1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78" dur="1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0" dur="1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1783" dur="1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5" dur="1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88" dur="1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0" dur="1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93" dur="15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5" dur="1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798" dur="15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0" dur="1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03" dur="1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5" dur="1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08" dur="1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0" dur="1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1813" dur="1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5" dur="1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18" dur="1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20" dur="1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23" dur="1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25" dur="1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28" dur="1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0" dur="1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33" dur="15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5" dur="1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838" dur="1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0" dur="1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843" dur="1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5" dur="1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48" dur="1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0" dur="1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53" dur="1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5" dur="1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58" dur="1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dur="indefinite" nodeType="withEffect" fill="hold" presetClass="exit" presetID="10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60" dur="1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63" dur="1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65" dur="1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68" dur="1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9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0" dur="1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73" dur="15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5" dur="1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78" dur="1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0" dur="1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83" dur="1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5" dur="1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88" dur="1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0" dur="1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93" dur="1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5" dur="1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98" dur="15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0" dur="1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1903" dur="1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5" dur="1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08" dur="1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0" dur="1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13" dur="1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5" dur="1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18" dur="15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0" dur="1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23" dur="1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5" dur="1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28" dur="1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0" dur="1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33" dur="1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5" dur="1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38" dur="1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9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0" dur="1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4.08881E-006 L -0.00712 -0.33735 E">
                                      <p:cBhvr>
                                        <p:cTn id="1943" dur="1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5" dur="1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dur="indefinite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48" dur="15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0" dur="1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53" dur="1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55" dur="1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58" dur="1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60" dur="1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4826E-006 L -0.00712 -0.32871 E">
                                      <p:cBhvr>
                                        <p:cTn id="1963" dur="1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65" dur="1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32809E-006 L 0.00781 -0.40025 E">
                                      <p:cBhvr>
                                        <p:cTn id="1968" dur="15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0" dur="1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73" dur="15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5" dur="1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dur="indefinite" nodeType="withEffect" fill="hold" presetClass="path" presetID="64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78" dur="15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80" dur="1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83" dur="1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4" dur="indefinite" nodeType="withEffect" fill="hold" presetClass="exit" presetID="10" repeatCount="indefinite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85" dur="1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dur="indefinite" nodeType="withEffect" fill="hold" presetClass="path" presetID="64" repeatCount="indefinite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88" dur="15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0" dur="1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93" dur="15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5" dur="1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998" dur="15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0" dur="1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dur="indefinite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003" dur="15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4" dur="indefinite" nodeType="withEffect" fill="hold" presetClass="exit" presetID="10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5" dur="1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43509E-006 L 0.00868 -0.34042 E">
                                      <p:cBhvr>
                                        <p:cTn id="2008" dur="15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0" dur="1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013" dur="15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5" dur="1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018" dur="15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9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0" dur="1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dur="indefinite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023" dur="15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4" dur="indefinite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5" dur="1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69136E-006 L 0.20365 0.025 E">
                                      <p:cBhvr>
                                        <p:cTn id="2031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2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dur="indefinite" nodeType="with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1406 -0.03453 L -0.51232 -0.04163 E">
                                      <p:cBhvr>
                                        <p:cTn id="2036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mph" presetID="32" repeatCount="indefinite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20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9" dur="indefinite" nodeType="withEffect" fill="hold" presetClass="emph" presetID="32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20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5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6" dur="10" fill="hold"/>
                                        <p:tgtEl>
                                          <p:spTgt spid="41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5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-0.00124 0.02378 -0.00062 0.03541 -0.00371 C 0.03854 -0.00463 0.0408 -0.00926 0.04375 -0.01111 C 0.04705 -0.01297 0.05069 -0.0142 0.05416 -0.01482 C 0.07083 -0.0179 0.0875 -0.01976 0.10416 -0.02222 C 0.1434 -0.03611 0.17795 -0.02377 0.21458 -0.00741 C 0.22448 0.00432 0.23715 0.00432 0.24583 0.01481 C 0.25173 0.02191 0.25833 0.02778 0.26458 0.03333 C 0.271 0.0392 0.27882 0.0395 0.28541 0.04444 C 0.29062 0.04845 0.29479 0.05586 0.3 0.05926 C 0.30538 0.06265 0.31666 0.06666 0.31666 0.06666 C 0.32621 0.07808 0.33715 0.08241 0.34791 0.08889 C 0.35 0.09012 0.35208 0.09136 0.35416 0.09259 C 0.35625 0.09382 0.36041 0.09629 0.36041 0.09629 C 0.42968 0.09352 0.43489 0.10123 0.47916 0.08148 C 0.48784 0.07099 0.496 0.06666 0.50625 0.06296 C 0.51128 0.05833 0.51649 0.05463 0.52083 0.04815 C 0.52309 0.04475 0.52465 0.03981 0.52708 0.03703 C 0.5408 0.02191 0.56232 0.02068 0.57708 0.01852 C 0.64132 -0.01945 0.71875 -0.00216 0.78125 -0.00371 C 0.82951 -0.00155 0.85521 -0.00278 0.89583 0.00741 C 0.91458 0.01852 0.93472 0.02531 0.95416 0.02963 C 0.96441 0.03889 0.97222 0.0395 0.98333 0.04444 C 0.99809 0.05092 1.01267 0.06173 1.02708 0.07037 C 1.03229 0.07345 1.04045 0.08148 1.04583 0.08148 C 1.12014 0.08271 1.19444 0.08518 1.26875 0.08518 E">
                                      <p:cBhvr>
                                        <p:cTn id="2058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8 -0.00124 0.02378 -0.00062 0.03541 -0.00371 C 0.03854 -0.00463 0.0408 -0.00926 0.04375 -0.01111 C 0.04705 -0.01297 0.05069 -0.0142 0.05416 -0.01482 C 0.07083 -0.0179 0.0875 -0.01976 0.10416 -0.02222 C 0.1434 -0.03611 0.17795 -0.02377 0.21458 -0.00741 C 0.22448 0.00432 0.23715 0.00432 0.24583 0.01481 C 0.25173 0.02191 0.25833 0.02778 0.26458 0.03333 C 0.271 0.0392 0.27882 0.0395 0.28541 0.04444 C 0.29062 0.04845 0.29479 0.05586 0.3 0.05926 C 0.30538 0.06265 0.31666 0.06666 0.31666 0.06666 C 0.32621 0.07808 0.33715 0.08241 0.34791 0.08889 C 0.35 0.09012 0.35208 0.09136 0.35416 0.09259 C 0.35625 0.09382 0.36041 0.09629 0.36041 0.09629 C 0.42968 0.09352 0.43489 0.10123 0.47916 0.08148 C 0.48784 0.07099 0.496 0.06666 0.50625 0.06296 C 0.51128 0.05833 0.51649 0.05463 0.52083 0.04815 C 0.52309 0.04475 0.52465 0.03981 0.52708 0.03703 C 0.5408 0.02191 0.56232 0.02068 0.57708 0.01852 C 0.64132 -0.01945 0.71875 -0.00216 0.78125 -0.00371 C 0.82951 -0.00155 0.85521 -0.00278 0.89583 0.00741 C 0.91458 0.01852 0.93472 0.02531 0.95416 0.02963 C 0.96441 0.03889 0.97222 0.0395 0.98333 0.04444 C 0.99809 0.05092 1.01267 0.06173 1.02708 0.07037 C 1.03229 0.07345 1.04045 0.08148 1.04583 0.08148 C 1.12014 0.08271 1.19444 0.08518 1.26875 0.08518 E">
                                      <p:cBhvr>
                                        <p:cTn id="2060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1" dur="indefinite" autoRev="1" nodeType="withEffect" fill="hold" presetClass="emph" presetID="6" repeatCount="27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2" dur="10" fill="hold"/>
                                        <p:tgtEl>
                                          <p:spTgt spid="42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0123 0.0224 -0.00061 0.03334 -0.0037 C 0.03646 -0.00463 0.03872 -0.00987 0.04167 -0.01111 C 0.04983 -0.01481 0.06667 -0.01852 0.06667 -0.01852 C 0.07466 -0.02778 0.08004 -0.02994 0.08959 -0.03333 C 0.09948 -0.04506 0.11164 -0.04938 0.12275 -0.05555 C 0.12865 -0.05864 0.13403 -0.05802 0.13959 -0.06296 C 0.15348 -0.07531 0.16632 -0.09197 0.17917 -0.1074 C 0.1816 -0.11018 0.18316 -0.11543 0.18542 -0.11852 C 0.18941 -0.12407 0.19375 -0.12839 0.19775 -0.13333 C 0.20035 -0.13611 0.20174 -0.14136 0.204 -0.14444 C 0.20677 -0.14753 0.20973 -0.14876 0.2125 -0.15185 C 0.21702 -0.1574 0.22101 -0.16389 0.225 -0.17037 C 0.22778 -0.175 0.23021 -0.18086 0.23316 -0.18518 C 0.23907 -0.19321 0.24757 -0.1966 0.25209 -0.2074 C 0.25712 -0.21975 0.26181 -0.23487 0.26858 -0.24444 C 0.27275 -0.25 0.27778 -0.25308 0.28108 -0.25926 C 0.28611 -0.26821 0.29514 -0.2858 0.30209 -0.28889 C 0.3125 -0.29352 0.30764 -0.29105 0.3165 -0.29629 C 0.33056 -0.29506 0.34445 -0.29475 0.35834 -0.29259 C 0.36719 -0.29136 0.36667 -0.28703 0.375 -0.28148 C 0.39236 -0.26944 0.39063 -0.27129 0.40625 -0.26666 C 0.42118 -0.24907 0.44098 -0.24321 0.45834 -0.23703 C 0.4625 -0.23333 0.46684 -0.23055 0.47084 -0.22592 C 0.47327 -0.22315 0.47448 -0.21728 0.47709 -0.21481 C 0.48299 -0.20957 0.48959 -0.2074 0.49584 -0.2037 C 0.5033 -0.19907 0.504 -0.19537 0.51042 -0.18889 C 0.52344 -0.17561 0.53594 -0.16543 0.54983 -0.15555 C 0.55868 -0.14938 0.56389 -0.14105 0.57275 -0.13703 C 0.5757 -0.13333 0.57813 -0.1287 0.58125 -0.12592 C 0.58507 -0.12253 0.59011 -0.12284 0.59375 -0.11852 C 0.60261 -0.10802 0.6099 -0.09506 0.62066 -0.09259 C 0.62848 -0.09074 0.63611 -0.09012 0.64358 -0.08889 C 0.69236 -0.05401 0.68733 -0.0787 0.78125 -0.08148 C 0.79653 -0.09506 0.78299 -0.08518 0.80625 -0.09259 C 0.8165 -0.09599 0.82865 -0.10895 0.8375 -0.11852 C 0.84948 -0.15031 0.83351 -0.11296 0.84792 -0.13333 C 0.85261 -0.13981 0.85417 -0.15185 0.85834 -0.15926 C 0.86077 -0.16358 0.86424 -0.16574 0.86667 -0.17037 C 0.86997 -0.17716 0.87084 -0.18765 0.875 -0.19259 C 0.8941 -0.21543 0.86424 -0.17901 0.88959 -0.21481 C 0.89549 -0.22315 0.90295 -0.22747 0.90834 -0.23703 C 0.92153 -0.26049 0.91355 -0.24753 0.93316 -0.27407 C 0.93559 -0.27747 0.93907 -0.27839 0.94167 -0.28148 C 0.95504 -0.29845 0.94011 -0.28919 0.95608 -0.29629 C 0.98247 -0.32778 1.01823 -0.30401 1.04792 -0.3 C 1.07552 -0.28765 1.01962 -0.31173 1.0875 -0.29259 C 1.09063 -0.29166 1.09271 -0.28611 1.09584 -0.28518 C 1.104 -0.2824 1.1125 -0.28271 1.12084 -0.28148 C 1.16667 -0.28271 1.2125 -0.28302 1.25834 -0.28518 C 1.27917 -0.28611 1.29983 -0.31111 1.32084 -0.31111 E">
                                      <p:cBhvr>
                                        <p:cTn id="2064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111 -0.00123 0.0224 -0.00061 0.03334 -0.0037 C 0.03646 -0.00463 0.03872 -0.00987 0.04167 -0.01111 C 0.04983 -0.01481 0.06667 -0.01852 0.06667 -0.01852 C 0.07466 -0.02778 0.08004 -0.02994 0.08959 -0.03333 C 0.09948 -0.04506 0.11164 -0.04938 0.12275 -0.05555 C 0.12865 -0.05864 0.13403 -0.05802 0.13959 -0.06296 C 0.15348 -0.07531 0.16632 -0.09197 0.17917 -0.1074 C 0.1816 -0.11018 0.18316 -0.11543 0.18542 -0.11852 C 0.18941 -0.12407 0.19375 -0.12839 0.19775 -0.13333 C 0.20035 -0.13611 0.20174 -0.14136 0.204 -0.14444 C 0.20677 -0.14753 0.20973 -0.14876 0.2125 -0.15185 C 0.21702 -0.1574 0.22101 -0.16389 0.225 -0.17037 C 0.22778 -0.175 0.23021 -0.18086 0.23316 -0.18518 C 0.23907 -0.19321 0.24757 -0.1966 0.25209 -0.2074 C 0.25712 -0.21975 0.26181 -0.23487 0.26858 -0.24444 C 0.27275 -0.25 0.27778 -0.25308 0.28108 -0.25926 C 0.28611 -0.26821 0.29514 -0.2858 0.30209 -0.28889 C 0.3125 -0.29352 0.30764 -0.29105 0.3165 -0.29629 C 0.33056 -0.29506 0.34445 -0.29475 0.35834 -0.29259 C 0.36719 -0.29136 0.36667 -0.28703 0.375 -0.28148 C 0.39236 -0.26944 0.39063 -0.27129 0.40625 -0.26666 C 0.42118 -0.24907 0.44098 -0.24321 0.45834 -0.23703 C 0.4625 -0.23333 0.46684 -0.23055 0.47084 -0.22592 C 0.47327 -0.22315 0.47448 -0.21728 0.47709 -0.21481 C 0.48299 -0.20957 0.48959 -0.2074 0.49584 -0.2037 C 0.5033 -0.19907 0.504 -0.19537 0.51042 -0.18889 C 0.52344 -0.17561 0.53594 -0.16543 0.54983 -0.15555 C 0.55868 -0.14938 0.56389 -0.14105 0.57275 -0.13703 C 0.5757 -0.13333 0.57813 -0.1287 0.58125 -0.12592 C 0.58507 -0.12253 0.59011 -0.12284 0.59375 -0.11852 C 0.60261 -0.10802 0.6099 -0.09506 0.62066 -0.09259 C 0.62848 -0.09074 0.63611 -0.09012 0.64358 -0.08889 C 0.69236 -0.05401 0.68733 -0.0787 0.78125 -0.08148 C 0.79653 -0.09506 0.78299 -0.08518 0.80625 -0.09259 C 0.8165 -0.09599 0.82865 -0.10895 0.8375 -0.11852 C 0.84948 -0.15031 0.83351 -0.11296 0.84792 -0.13333 C 0.85261 -0.13981 0.85417 -0.15185 0.85834 -0.15926 C 0.86077 -0.16358 0.86424 -0.16574 0.86667 -0.17037 C 0.86997 -0.17716 0.87084 -0.18765 0.875 -0.19259 C 0.8941 -0.21543 0.86424 -0.17901 0.88959 -0.21481 C 0.89549 -0.22315 0.90295 -0.22747 0.90834 -0.23703 C 0.92153 -0.26049 0.91355 -0.24753 0.93316 -0.27407 C 0.93559 -0.27747 0.93907 -0.27839 0.94167 -0.28148 C 0.95504 -0.29845 0.94011 -0.28919 0.95608 -0.29629 C 0.98247 -0.32778 1.01823 -0.30401 1.04792 -0.3 C 1.07552 -0.28765 1.01962 -0.31173 1.0875 -0.29259 C 1.09063 -0.29166 1.09271 -0.28611 1.09584 -0.28518 C 1.104 -0.2824 1.1125 -0.28271 1.12084 -0.28148 C 1.16667 -0.28271 1.2125 -0.28302 1.25834 -0.28518 C 1.27917 -0.28611 1.29983 -0.31111 1.32084 -0.31111 E">
                                      <p:cBhvr>
                                        <p:cTn id="2066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4:38:00Z</dcterms:created>
  <dc:creator>ren</dc:creator>
  <dc:description/>
  <dc:language>en-US</dc:language>
  <cp:lastModifiedBy>微软用户</cp:lastModifiedBy>
  <dcterms:modified xsi:type="dcterms:W3CDTF">2015-07-21T01:54:25Z</dcterms:modified>
  <cp:revision>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