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图片 6" descr="04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9" name="Picture 3" descr="E:\新模板\竹\01.png"/>
          <p:cNvPicPr/>
          <p:nvPr/>
        </p:nvPicPr>
        <p:blipFill>
          <a:blip r:embed="rId3">
            <a:lum bright="20000"/>
          </a:blip>
          <a:stretch/>
        </p:blipFill>
        <p:spPr>
          <a:xfrm>
            <a:off x="246240" y="115920"/>
            <a:ext cx="2178000" cy="809640"/>
          </a:xfrm>
          <a:prstGeom prst="rect">
            <a:avLst/>
          </a:prstGeom>
          <a:ln w="0">
            <a:noFill/>
          </a:ln>
        </p:spPr>
      </p:pic>
      <p:grpSp>
        <p:nvGrpSpPr>
          <p:cNvPr id="40" name="圆角矩形 8"/>
          <p:cNvGrpSpPr/>
          <p:nvPr/>
        </p:nvGrpSpPr>
        <p:grpSpPr>
          <a:xfrm>
            <a:off x="420840" y="841320"/>
            <a:ext cx="8302320" cy="5394240"/>
            <a:chOff x="420840" y="841320"/>
            <a:chExt cx="8302320" cy="5394240"/>
          </a:xfrm>
        </p:grpSpPr>
        <p:pic>
          <p:nvPicPr>
            <p:cNvPr id="41" name="圆角矩形 8" descr=""/>
            <p:cNvPicPr/>
            <p:nvPr/>
          </p:nvPicPr>
          <p:blipFill>
            <a:blip r:embed="rId4"/>
            <a:stretch/>
          </p:blipFill>
          <p:spPr>
            <a:xfrm>
              <a:off x="420840" y="841320"/>
              <a:ext cx="8302320" cy="539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" name=""/>
            <p:cNvSpPr/>
            <p:nvPr/>
          </p:nvSpPr>
          <p:spPr>
            <a:xfrm>
              <a:off x="528480" y="949320"/>
              <a:ext cx="8086320" cy="518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图片 3" descr="03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图片 4" descr="04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3" name="图片 5" descr="03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4" name="图片 6" descr="02.png"/>
          <p:cNvPicPr/>
          <p:nvPr/>
        </p:nvPicPr>
        <p:blipFill>
          <a:blip r:embed="rId4"/>
          <a:stretch/>
        </p:blipFill>
        <p:spPr>
          <a:xfrm>
            <a:off x="187200" y="1214280"/>
            <a:ext cx="8769600" cy="2660760"/>
          </a:xfrm>
          <a:prstGeom prst="rect">
            <a:avLst/>
          </a:prstGeom>
          <a:ln cap="sq" w="88920">
            <a:solidFill>
              <a:srgbClr val="ffffff"/>
            </a:solidFill>
            <a:miter/>
          </a:ln>
          <a:effectLst>
            <a:outerShdw dist="18000" dir="5400000" blurRad="0" rotWithShape="0">
              <a:srgbClr val="000000">
                <a:alpha val="38000"/>
              </a:srgbClr>
            </a:outerShdw>
          </a:effectLst>
        </p:spPr>
      </p:pic>
      <p:pic>
        <p:nvPicPr>
          <p:cNvPr id="85" name="图片 7" descr="02.png"/>
          <p:cNvPicPr/>
          <p:nvPr/>
        </p:nvPicPr>
        <p:blipFill>
          <a:blip r:embed="rId5"/>
          <a:stretch/>
        </p:blipFill>
        <p:spPr>
          <a:xfrm>
            <a:off x="187200" y="1214280"/>
            <a:ext cx="8769600" cy="2660760"/>
          </a:xfrm>
          <a:prstGeom prst="rect">
            <a:avLst/>
          </a:prstGeom>
          <a:ln w="0">
            <a:noFill/>
          </a:ln>
          <a:effectLst>
            <a:outerShdw dist="18000" dir="5400000" blurRad="0" rotWithShape="0">
              <a:srgbClr val="000000">
                <a:alpha val="38000"/>
              </a:srgbClr>
            </a:outerShdw>
          </a:effectLst>
        </p:spPr>
      </p:pic>
      <p:sp>
        <p:nvSpPr>
          <p:cNvPr id="86" name="矩形 8"/>
          <p:cNvSpPr/>
          <p:nvPr/>
        </p:nvSpPr>
        <p:spPr>
          <a:xfrm>
            <a:off x="-1428840" y="1233360"/>
            <a:ext cx="1428840" cy="2627280"/>
          </a:xfrm>
          <a:prstGeom prst="rect">
            <a:avLst/>
          </a:prstGeom>
          <a:gradFill rotWithShape="0">
            <a:gsLst>
              <a:gs pos="0">
                <a:srgbClr val="ffffff">
                  <a:alpha val="38039"/>
                </a:srgbClr>
              </a:gs>
              <a:gs pos="100000">
                <a:srgbClr val="ffffff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9"/>
          <p:cNvSpPr/>
          <p:nvPr/>
        </p:nvSpPr>
        <p:spPr>
          <a:xfrm rot="10800000">
            <a:off x="9143640" y="1233360"/>
            <a:ext cx="647640" cy="2627280"/>
          </a:xfrm>
          <a:prstGeom prst="rect">
            <a:avLst/>
          </a:prstGeom>
          <a:gradFill rotWithShape="0">
            <a:gsLst>
              <a:gs pos="0">
                <a:srgbClr val="ffffff">
                  <a:alpha val="38039"/>
                </a:srgbClr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任意多边形 10"/>
          <p:cNvSpPr/>
          <p:nvPr/>
        </p:nvSpPr>
        <p:spPr>
          <a:xfrm>
            <a:off x="1268280" y="4325760"/>
            <a:ext cx="228600" cy="730440"/>
          </a:xfrm>
          <a:custGeom>
            <a:avLst/>
            <a:gdLst/>
            <a:ahLst/>
            <a:rect l="l" t="t" r="r" b="b"/>
            <a:pathLst>
              <a:path w="227320" h="730167">
                <a:moveTo>
                  <a:pt x="51790" y="0"/>
                </a:moveTo>
                <a:cubicBezTo>
                  <a:pt x="56628" y="72571"/>
                  <a:pt x="58690" y="145381"/>
                  <a:pt x="66304" y="217714"/>
                </a:cubicBezTo>
                <a:cubicBezTo>
                  <a:pt x="68392" y="237553"/>
                  <a:pt x="65494" y="263001"/>
                  <a:pt x="80819" y="275772"/>
                </a:cubicBezTo>
                <a:cubicBezTo>
                  <a:pt x="99771" y="291565"/>
                  <a:pt x="129200" y="285448"/>
                  <a:pt x="153390" y="290286"/>
                </a:cubicBezTo>
                <a:cubicBezTo>
                  <a:pt x="227320" y="364216"/>
                  <a:pt x="208437" y="322866"/>
                  <a:pt x="182419" y="478972"/>
                </a:cubicBezTo>
                <a:cubicBezTo>
                  <a:pt x="175860" y="518325"/>
                  <a:pt x="181601" y="566875"/>
                  <a:pt x="153390" y="595086"/>
                </a:cubicBezTo>
                <a:cubicBezTo>
                  <a:pt x="138876" y="609600"/>
                  <a:pt x="125616" y="625488"/>
                  <a:pt x="109847" y="638629"/>
                </a:cubicBezTo>
                <a:cubicBezTo>
                  <a:pt x="0" y="730167"/>
                  <a:pt x="121720" y="612240"/>
                  <a:pt x="37276" y="696686"/>
                </a:cubicBezTo>
              </a:path>
            </a:pathLst>
          </a:custGeom>
          <a:noFill/>
          <a:ln w="9360">
            <a:solidFill>
              <a:srgbClr val="ffffff">
                <a:alpha val="82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任意多边形 11"/>
          <p:cNvSpPr/>
          <p:nvPr/>
        </p:nvSpPr>
        <p:spPr>
          <a:xfrm>
            <a:off x="1278000" y="363600"/>
            <a:ext cx="347760" cy="434880"/>
          </a:xfrm>
          <a:custGeom>
            <a:avLst/>
            <a:gdLst/>
            <a:ahLst/>
            <a:rect l="l" t="t" r="r" b="b"/>
            <a:pathLst>
              <a:path w="624114" h="580572">
                <a:moveTo>
                  <a:pt x="0" y="0"/>
                </a:moveTo>
                <a:cubicBezTo>
                  <a:pt x="11749" y="14686"/>
                  <a:pt x="111127" y="149862"/>
                  <a:pt x="159657" y="188686"/>
                </a:cubicBezTo>
                <a:cubicBezTo>
                  <a:pt x="192156" y="214685"/>
                  <a:pt x="229486" y="234374"/>
                  <a:pt x="261257" y="261257"/>
                </a:cubicBezTo>
                <a:cubicBezTo>
                  <a:pt x="388562" y="368977"/>
                  <a:pt x="295827" y="335214"/>
                  <a:pt x="406400" y="362857"/>
                </a:cubicBezTo>
                <a:cubicBezTo>
                  <a:pt x="445105" y="387048"/>
                  <a:pt x="483089" y="412431"/>
                  <a:pt x="522514" y="435429"/>
                </a:cubicBezTo>
                <a:cubicBezTo>
                  <a:pt x="541203" y="446331"/>
                  <a:pt x="566491" y="448029"/>
                  <a:pt x="580572" y="464457"/>
                </a:cubicBezTo>
                <a:cubicBezTo>
                  <a:pt x="597528" y="484239"/>
                  <a:pt x="600452" y="512634"/>
                  <a:pt x="609600" y="537029"/>
                </a:cubicBezTo>
                <a:cubicBezTo>
                  <a:pt x="614972" y="551354"/>
                  <a:pt x="624114" y="580572"/>
                  <a:pt x="624114" y="580572"/>
                </a:cubicBezTo>
              </a:path>
            </a:pathLst>
          </a:custGeom>
          <a:noFill/>
          <a:ln w="9360">
            <a:solidFill>
              <a:srgbClr val="ffffff">
                <a:alpha val="82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任意多边形 12"/>
          <p:cNvSpPr/>
          <p:nvPr/>
        </p:nvSpPr>
        <p:spPr>
          <a:xfrm>
            <a:off x="3137040" y="2278080"/>
            <a:ext cx="274320" cy="349200"/>
          </a:xfrm>
          <a:custGeom>
            <a:avLst/>
            <a:gdLst/>
            <a:ahLst/>
            <a:rect l="l" t="t" r="r" b="b"/>
            <a:pathLst>
              <a:path w="1115350" h="2133600">
                <a:moveTo>
                  <a:pt x="56174" y="0"/>
                </a:moveTo>
                <a:cubicBezTo>
                  <a:pt x="41054" y="173872"/>
                  <a:pt x="0" y="476087"/>
                  <a:pt x="41660" y="653143"/>
                </a:cubicBezTo>
                <a:cubicBezTo>
                  <a:pt x="73491" y="788425"/>
                  <a:pt x="150159" y="815892"/>
                  <a:pt x="215831" y="914400"/>
                </a:cubicBezTo>
                <a:cubicBezTo>
                  <a:pt x="490412" y="1326271"/>
                  <a:pt x="171603" y="950722"/>
                  <a:pt x="578688" y="1320800"/>
                </a:cubicBezTo>
                <a:cubicBezTo>
                  <a:pt x="611693" y="1350805"/>
                  <a:pt x="633393" y="1391723"/>
                  <a:pt x="665774" y="1422400"/>
                </a:cubicBezTo>
                <a:cubicBezTo>
                  <a:pt x="725585" y="1479063"/>
                  <a:pt x="793616" y="1526504"/>
                  <a:pt x="854460" y="1582057"/>
                </a:cubicBezTo>
                <a:cubicBezTo>
                  <a:pt x="1033815" y="1745817"/>
                  <a:pt x="929461" y="1703820"/>
                  <a:pt x="1043145" y="1741714"/>
                </a:cubicBezTo>
                <a:cubicBezTo>
                  <a:pt x="909324" y="1830929"/>
                  <a:pt x="1115350" y="1701560"/>
                  <a:pt x="927031" y="1785257"/>
                </a:cubicBezTo>
                <a:cubicBezTo>
                  <a:pt x="904925" y="1795082"/>
                  <a:pt x="888326" y="1814286"/>
                  <a:pt x="868974" y="1828800"/>
                </a:cubicBezTo>
                <a:cubicBezTo>
                  <a:pt x="864136" y="1852990"/>
                  <a:pt x="863122" y="1878272"/>
                  <a:pt x="854460" y="1901371"/>
                </a:cubicBezTo>
                <a:cubicBezTo>
                  <a:pt x="848335" y="1917704"/>
                  <a:pt x="830947" y="1928365"/>
                  <a:pt x="825431" y="1944914"/>
                </a:cubicBezTo>
                <a:cubicBezTo>
                  <a:pt x="785701" y="2064105"/>
                  <a:pt x="848651" y="2006845"/>
                  <a:pt x="767374" y="2061028"/>
                </a:cubicBezTo>
                <a:lnTo>
                  <a:pt x="723831" y="2133600"/>
                </a:lnTo>
              </a:path>
            </a:pathLst>
          </a:custGeom>
          <a:noFill/>
          <a:ln w="9360">
            <a:solidFill>
              <a:srgbClr val="ffffff">
                <a:alpha val="82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任意多边形 14"/>
          <p:cNvSpPr/>
          <p:nvPr/>
        </p:nvSpPr>
        <p:spPr>
          <a:xfrm>
            <a:off x="4941720" y="4441680"/>
            <a:ext cx="181080" cy="463680"/>
          </a:xfrm>
          <a:custGeom>
            <a:avLst/>
            <a:gdLst/>
            <a:ahLst/>
            <a:rect l="l" t="t" r="r" b="b"/>
            <a:pathLst>
              <a:path w="255749" h="595086">
                <a:moveTo>
                  <a:pt x="211234" y="0"/>
                </a:moveTo>
                <a:cubicBezTo>
                  <a:pt x="197541" y="41081"/>
                  <a:pt x="180051" y="100395"/>
                  <a:pt x="153177" y="130628"/>
                </a:cubicBezTo>
                <a:cubicBezTo>
                  <a:pt x="134435" y="151713"/>
                  <a:pt x="104796" y="159657"/>
                  <a:pt x="80606" y="174171"/>
                </a:cubicBezTo>
                <a:cubicBezTo>
                  <a:pt x="23902" y="268677"/>
                  <a:pt x="0" y="276497"/>
                  <a:pt x="51577" y="420914"/>
                </a:cubicBezTo>
                <a:cubicBezTo>
                  <a:pt x="58854" y="441290"/>
                  <a:pt x="90282" y="440267"/>
                  <a:pt x="109634" y="449943"/>
                </a:cubicBezTo>
                <a:cubicBezTo>
                  <a:pt x="114472" y="464457"/>
                  <a:pt x="113331" y="482668"/>
                  <a:pt x="124149" y="493486"/>
                </a:cubicBezTo>
                <a:cubicBezTo>
                  <a:pt x="142695" y="512032"/>
                  <a:pt x="230733" y="511077"/>
                  <a:pt x="240263" y="522514"/>
                </a:cubicBezTo>
                <a:cubicBezTo>
                  <a:pt x="255749" y="541098"/>
                  <a:pt x="240263" y="570895"/>
                  <a:pt x="240263" y="595086"/>
                </a:cubicBezTo>
              </a:path>
            </a:pathLst>
          </a:custGeom>
          <a:noFill/>
          <a:ln w="9360">
            <a:solidFill>
              <a:srgbClr val="ffffff">
                <a:alpha val="82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任意多边形 15"/>
          <p:cNvSpPr/>
          <p:nvPr/>
        </p:nvSpPr>
        <p:spPr>
          <a:xfrm>
            <a:off x="6615000" y="5037120"/>
            <a:ext cx="265320" cy="1324080"/>
          </a:xfrm>
          <a:custGeom>
            <a:avLst/>
            <a:gdLst/>
            <a:ahLst/>
            <a:rect l="l" t="t" r="r" b="b"/>
            <a:pathLst>
              <a:path w="265234" h="1324780">
                <a:moveTo>
                  <a:pt x="265234" y="0"/>
                </a:moveTo>
                <a:cubicBezTo>
                  <a:pt x="236206" y="33867"/>
                  <a:pt x="208153" y="68595"/>
                  <a:pt x="178149" y="101600"/>
                </a:cubicBezTo>
                <a:cubicBezTo>
                  <a:pt x="159739" y="121851"/>
                  <a:pt x="131666" y="134856"/>
                  <a:pt x="120092" y="159657"/>
                </a:cubicBezTo>
                <a:cubicBezTo>
                  <a:pt x="96764" y="209645"/>
                  <a:pt x="94908" y="267296"/>
                  <a:pt x="76549" y="319314"/>
                </a:cubicBezTo>
                <a:cubicBezTo>
                  <a:pt x="65747" y="349919"/>
                  <a:pt x="44657" y="376108"/>
                  <a:pt x="33006" y="406400"/>
                </a:cubicBezTo>
                <a:cubicBezTo>
                  <a:pt x="20362" y="439274"/>
                  <a:pt x="13653" y="474133"/>
                  <a:pt x="3977" y="508000"/>
                </a:cubicBezTo>
                <a:cubicBezTo>
                  <a:pt x="8815" y="604762"/>
                  <a:pt x="0" y="703184"/>
                  <a:pt x="18492" y="798286"/>
                </a:cubicBezTo>
                <a:cubicBezTo>
                  <a:pt x="120866" y="1324780"/>
                  <a:pt x="105577" y="814328"/>
                  <a:pt x="105577" y="1161143"/>
                </a:cubicBezTo>
              </a:path>
            </a:pathLst>
          </a:custGeom>
          <a:noFill/>
          <a:ln w="9360">
            <a:solidFill>
              <a:srgbClr val="ffffff">
                <a:alpha val="82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任意多边形 16"/>
          <p:cNvSpPr/>
          <p:nvPr/>
        </p:nvSpPr>
        <p:spPr>
          <a:xfrm>
            <a:off x="7689960" y="774720"/>
            <a:ext cx="110880" cy="314280"/>
          </a:xfrm>
          <a:custGeom>
            <a:avLst/>
            <a:gdLst/>
            <a:ahLst/>
            <a:rect l="l" t="t" r="r" b="b"/>
            <a:pathLst>
              <a:path w="110176" h="313955">
                <a:moveTo>
                  <a:pt x="31485" y="81727"/>
                </a:moveTo>
                <a:cubicBezTo>
                  <a:pt x="84416" y="240523"/>
                  <a:pt x="0" y="0"/>
                  <a:pt x="75028" y="168813"/>
                </a:cubicBezTo>
                <a:cubicBezTo>
                  <a:pt x="110176" y="247895"/>
                  <a:pt x="104056" y="241972"/>
                  <a:pt x="104056" y="313955"/>
                </a:cubicBezTo>
              </a:path>
            </a:pathLst>
          </a:custGeom>
          <a:noFill/>
          <a:ln w="9360">
            <a:solidFill>
              <a:srgbClr val="ffffff">
                <a:alpha val="82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任意多边形 17"/>
          <p:cNvSpPr/>
          <p:nvPr/>
        </p:nvSpPr>
        <p:spPr>
          <a:xfrm>
            <a:off x="8128080" y="4165560"/>
            <a:ext cx="75960" cy="392040"/>
          </a:xfrm>
          <a:custGeom>
            <a:avLst/>
            <a:gdLst/>
            <a:ahLst/>
            <a:rect l="l" t="t" r="r" b="b"/>
            <a:pathLst>
              <a:path w="75941" h="391886">
                <a:moveTo>
                  <a:pt x="0" y="0"/>
                </a:moveTo>
                <a:cubicBezTo>
                  <a:pt x="4838" y="33867"/>
                  <a:pt x="6217" y="68411"/>
                  <a:pt x="14514" y="101600"/>
                </a:cubicBezTo>
                <a:cubicBezTo>
                  <a:pt x="20833" y="126876"/>
                  <a:pt x="36056" y="149216"/>
                  <a:pt x="43543" y="174171"/>
                </a:cubicBezTo>
                <a:cubicBezTo>
                  <a:pt x="50632" y="197800"/>
                  <a:pt x="52074" y="222810"/>
                  <a:pt x="58057" y="246743"/>
                </a:cubicBezTo>
                <a:cubicBezTo>
                  <a:pt x="61768" y="261586"/>
                  <a:pt x="71049" y="275063"/>
                  <a:pt x="72571" y="290286"/>
                </a:cubicBezTo>
                <a:cubicBezTo>
                  <a:pt x="75941" y="323985"/>
                  <a:pt x="72571" y="358019"/>
                  <a:pt x="72571" y="391886"/>
                </a:cubicBezTo>
              </a:path>
            </a:pathLst>
          </a:custGeom>
          <a:noFill/>
          <a:ln w="9360">
            <a:solidFill>
              <a:srgbClr val="ffffff">
                <a:alpha val="82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任意多边形 18"/>
          <p:cNvSpPr/>
          <p:nvPr/>
        </p:nvSpPr>
        <p:spPr>
          <a:xfrm>
            <a:off x="6894360" y="4267080"/>
            <a:ext cx="360" cy="160560"/>
          </a:xfrm>
          <a:custGeom>
            <a:avLst/>
            <a:gdLst/>
            <a:ahLst/>
            <a:rect l="l" t="t" r="r" b="b"/>
            <a:pathLst>
              <a:path w="0" h="159657">
                <a:moveTo>
                  <a:pt x="0" y="0"/>
                </a:moveTo>
                <a:lnTo>
                  <a:pt x="0" y="159657"/>
                </a:lnTo>
              </a:path>
            </a:pathLst>
          </a:custGeom>
          <a:noFill/>
          <a:ln w="9360">
            <a:solidFill>
              <a:srgbClr val="ffffff">
                <a:alpha val="82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任意多边形 19"/>
          <p:cNvSpPr/>
          <p:nvPr/>
        </p:nvSpPr>
        <p:spPr>
          <a:xfrm>
            <a:off x="8359920" y="5559480"/>
            <a:ext cx="522000" cy="623880"/>
          </a:xfrm>
          <a:custGeom>
            <a:avLst/>
            <a:gdLst/>
            <a:ahLst/>
            <a:rect l="l" t="t" r="r" b="b"/>
            <a:pathLst>
              <a:path w="522514" h="624115">
                <a:moveTo>
                  <a:pt x="522514" y="0"/>
                </a:moveTo>
                <a:cubicBezTo>
                  <a:pt x="503162" y="9676"/>
                  <a:pt x="482063" y="16453"/>
                  <a:pt x="464457" y="29029"/>
                </a:cubicBezTo>
                <a:cubicBezTo>
                  <a:pt x="447754" y="40960"/>
                  <a:pt x="434551" y="57230"/>
                  <a:pt x="420914" y="72572"/>
                </a:cubicBezTo>
                <a:cubicBezTo>
                  <a:pt x="395810" y="100814"/>
                  <a:pt x="371688" y="129945"/>
                  <a:pt x="348342" y="159658"/>
                </a:cubicBezTo>
                <a:cubicBezTo>
                  <a:pt x="318451" y="197701"/>
                  <a:pt x="294073" y="240222"/>
                  <a:pt x="261257" y="275772"/>
                </a:cubicBezTo>
                <a:cubicBezTo>
                  <a:pt x="235627" y="303538"/>
                  <a:pt x="205611" y="327383"/>
                  <a:pt x="174171" y="348343"/>
                </a:cubicBezTo>
                <a:cubicBezTo>
                  <a:pt x="161441" y="356830"/>
                  <a:pt x="145142" y="358020"/>
                  <a:pt x="130628" y="362858"/>
                </a:cubicBezTo>
                <a:cubicBezTo>
                  <a:pt x="92510" y="400976"/>
                  <a:pt x="0" y="484783"/>
                  <a:pt x="0" y="537029"/>
                </a:cubicBezTo>
                <a:lnTo>
                  <a:pt x="0" y="624115"/>
                </a:lnTo>
              </a:path>
            </a:pathLst>
          </a:custGeom>
          <a:noFill/>
          <a:ln w="9360">
            <a:solidFill>
              <a:srgbClr val="ffffff">
                <a:alpha val="82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任意多边形 20"/>
          <p:cNvSpPr/>
          <p:nvPr/>
        </p:nvSpPr>
        <p:spPr>
          <a:xfrm rot="3730200">
            <a:off x="2529360" y="4536000"/>
            <a:ext cx="674640" cy="599760"/>
          </a:xfrm>
          <a:custGeom>
            <a:avLst/>
            <a:gdLst/>
            <a:ahLst/>
            <a:rect l="l" t="t" r="r" b="b"/>
            <a:pathLst>
              <a:path w="624114" h="580572">
                <a:moveTo>
                  <a:pt x="0" y="0"/>
                </a:moveTo>
                <a:cubicBezTo>
                  <a:pt x="11749" y="14686"/>
                  <a:pt x="111127" y="149862"/>
                  <a:pt x="159657" y="188686"/>
                </a:cubicBezTo>
                <a:cubicBezTo>
                  <a:pt x="192156" y="214685"/>
                  <a:pt x="229486" y="234374"/>
                  <a:pt x="261257" y="261257"/>
                </a:cubicBezTo>
                <a:cubicBezTo>
                  <a:pt x="388562" y="368977"/>
                  <a:pt x="295827" y="335214"/>
                  <a:pt x="406400" y="362857"/>
                </a:cubicBezTo>
                <a:cubicBezTo>
                  <a:pt x="445105" y="387048"/>
                  <a:pt x="483089" y="412431"/>
                  <a:pt x="522514" y="435429"/>
                </a:cubicBezTo>
                <a:cubicBezTo>
                  <a:pt x="541203" y="446331"/>
                  <a:pt x="566491" y="448029"/>
                  <a:pt x="580572" y="464457"/>
                </a:cubicBezTo>
                <a:cubicBezTo>
                  <a:pt x="597528" y="484239"/>
                  <a:pt x="600452" y="512634"/>
                  <a:pt x="609600" y="537029"/>
                </a:cubicBezTo>
                <a:cubicBezTo>
                  <a:pt x="614972" y="551354"/>
                  <a:pt x="624114" y="580572"/>
                  <a:pt x="624114" y="580572"/>
                </a:cubicBezTo>
              </a:path>
            </a:pathLst>
          </a:custGeom>
          <a:noFill/>
          <a:ln w="9360">
            <a:solidFill>
              <a:srgbClr val="ffffff">
                <a:alpha val="82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任意多边形 21"/>
          <p:cNvSpPr/>
          <p:nvPr/>
        </p:nvSpPr>
        <p:spPr>
          <a:xfrm rot="3817200">
            <a:off x="804600" y="4989240"/>
            <a:ext cx="111240" cy="139680"/>
          </a:xfrm>
          <a:custGeom>
            <a:avLst/>
            <a:gdLst/>
            <a:ahLst/>
            <a:rect l="l" t="t" r="r" b="b"/>
            <a:pathLst>
              <a:path w="227320" h="730167">
                <a:moveTo>
                  <a:pt x="51790" y="0"/>
                </a:moveTo>
                <a:cubicBezTo>
                  <a:pt x="56628" y="72571"/>
                  <a:pt x="58690" y="145381"/>
                  <a:pt x="66304" y="217714"/>
                </a:cubicBezTo>
                <a:cubicBezTo>
                  <a:pt x="68392" y="237553"/>
                  <a:pt x="65494" y="263001"/>
                  <a:pt x="80819" y="275772"/>
                </a:cubicBezTo>
                <a:cubicBezTo>
                  <a:pt x="99771" y="291565"/>
                  <a:pt x="129200" y="285448"/>
                  <a:pt x="153390" y="290286"/>
                </a:cubicBezTo>
                <a:cubicBezTo>
                  <a:pt x="227320" y="364216"/>
                  <a:pt x="208437" y="322866"/>
                  <a:pt x="182419" y="478972"/>
                </a:cubicBezTo>
                <a:cubicBezTo>
                  <a:pt x="175860" y="518325"/>
                  <a:pt x="181601" y="566875"/>
                  <a:pt x="153390" y="595086"/>
                </a:cubicBezTo>
                <a:cubicBezTo>
                  <a:pt x="138876" y="609600"/>
                  <a:pt x="125616" y="625488"/>
                  <a:pt x="109847" y="638629"/>
                </a:cubicBezTo>
                <a:cubicBezTo>
                  <a:pt x="0" y="730167"/>
                  <a:pt x="121720" y="612240"/>
                  <a:pt x="37276" y="696686"/>
                </a:cubicBezTo>
              </a:path>
            </a:pathLst>
          </a:custGeom>
          <a:noFill/>
          <a:ln w="9360">
            <a:solidFill>
              <a:srgbClr val="ffffff">
                <a:alpha val="82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任意多边形 22"/>
          <p:cNvSpPr/>
          <p:nvPr/>
        </p:nvSpPr>
        <p:spPr>
          <a:xfrm rot="3817200">
            <a:off x="936720" y="826920"/>
            <a:ext cx="169920" cy="84240"/>
          </a:xfrm>
          <a:custGeom>
            <a:avLst/>
            <a:gdLst/>
            <a:ahLst/>
            <a:rect l="l" t="t" r="r" b="b"/>
            <a:pathLst>
              <a:path w="624114" h="580572">
                <a:moveTo>
                  <a:pt x="0" y="0"/>
                </a:moveTo>
                <a:cubicBezTo>
                  <a:pt x="11749" y="14686"/>
                  <a:pt x="111127" y="149862"/>
                  <a:pt x="159657" y="188686"/>
                </a:cubicBezTo>
                <a:cubicBezTo>
                  <a:pt x="192156" y="214685"/>
                  <a:pt x="229486" y="234374"/>
                  <a:pt x="261257" y="261257"/>
                </a:cubicBezTo>
                <a:cubicBezTo>
                  <a:pt x="388562" y="368977"/>
                  <a:pt x="295827" y="335214"/>
                  <a:pt x="406400" y="362857"/>
                </a:cubicBezTo>
                <a:cubicBezTo>
                  <a:pt x="445105" y="387048"/>
                  <a:pt x="483089" y="412431"/>
                  <a:pt x="522514" y="435429"/>
                </a:cubicBezTo>
                <a:cubicBezTo>
                  <a:pt x="541203" y="446331"/>
                  <a:pt x="566491" y="448029"/>
                  <a:pt x="580572" y="464457"/>
                </a:cubicBezTo>
                <a:cubicBezTo>
                  <a:pt x="597528" y="484239"/>
                  <a:pt x="600452" y="512634"/>
                  <a:pt x="609600" y="537029"/>
                </a:cubicBezTo>
                <a:cubicBezTo>
                  <a:pt x="614972" y="551354"/>
                  <a:pt x="624114" y="580572"/>
                  <a:pt x="624114" y="580572"/>
                </a:cubicBezTo>
              </a:path>
            </a:pathLst>
          </a:custGeom>
          <a:noFill/>
          <a:ln w="9360">
            <a:solidFill>
              <a:srgbClr val="ffffff">
                <a:alpha val="82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任意多边形 23"/>
          <p:cNvSpPr/>
          <p:nvPr/>
        </p:nvSpPr>
        <p:spPr>
          <a:xfrm rot="3817200">
            <a:off x="2291400" y="3558240"/>
            <a:ext cx="544680" cy="409680"/>
          </a:xfrm>
          <a:custGeom>
            <a:avLst/>
            <a:gdLst/>
            <a:ahLst/>
            <a:rect l="l" t="t" r="r" b="b"/>
            <a:pathLst>
              <a:path w="1115350" h="2133600">
                <a:moveTo>
                  <a:pt x="56174" y="0"/>
                </a:moveTo>
                <a:cubicBezTo>
                  <a:pt x="41054" y="173872"/>
                  <a:pt x="0" y="476087"/>
                  <a:pt x="41660" y="653143"/>
                </a:cubicBezTo>
                <a:cubicBezTo>
                  <a:pt x="73491" y="788425"/>
                  <a:pt x="150159" y="815892"/>
                  <a:pt x="215831" y="914400"/>
                </a:cubicBezTo>
                <a:cubicBezTo>
                  <a:pt x="490412" y="1326271"/>
                  <a:pt x="171603" y="950722"/>
                  <a:pt x="578688" y="1320800"/>
                </a:cubicBezTo>
                <a:cubicBezTo>
                  <a:pt x="611693" y="1350805"/>
                  <a:pt x="633393" y="1391723"/>
                  <a:pt x="665774" y="1422400"/>
                </a:cubicBezTo>
                <a:cubicBezTo>
                  <a:pt x="725585" y="1479063"/>
                  <a:pt x="793616" y="1526504"/>
                  <a:pt x="854460" y="1582057"/>
                </a:cubicBezTo>
                <a:cubicBezTo>
                  <a:pt x="1033815" y="1745817"/>
                  <a:pt x="929461" y="1703820"/>
                  <a:pt x="1043145" y="1741714"/>
                </a:cubicBezTo>
                <a:cubicBezTo>
                  <a:pt x="909324" y="1830929"/>
                  <a:pt x="1115350" y="1701560"/>
                  <a:pt x="927031" y="1785257"/>
                </a:cubicBezTo>
                <a:cubicBezTo>
                  <a:pt x="904925" y="1795082"/>
                  <a:pt x="888326" y="1814286"/>
                  <a:pt x="868974" y="1828800"/>
                </a:cubicBezTo>
                <a:cubicBezTo>
                  <a:pt x="864136" y="1852990"/>
                  <a:pt x="863122" y="1878272"/>
                  <a:pt x="854460" y="1901371"/>
                </a:cubicBezTo>
                <a:cubicBezTo>
                  <a:pt x="848335" y="1917704"/>
                  <a:pt x="830947" y="1928365"/>
                  <a:pt x="825431" y="1944914"/>
                </a:cubicBezTo>
                <a:cubicBezTo>
                  <a:pt x="785701" y="2064105"/>
                  <a:pt x="848651" y="2006845"/>
                  <a:pt x="767374" y="2061028"/>
                </a:cubicBezTo>
                <a:lnTo>
                  <a:pt x="723831" y="2133600"/>
                </a:lnTo>
              </a:path>
            </a:pathLst>
          </a:custGeom>
          <a:noFill/>
          <a:ln w="9360">
            <a:solidFill>
              <a:srgbClr val="ffffff">
                <a:alpha val="82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任意多边形 24"/>
          <p:cNvSpPr/>
          <p:nvPr/>
        </p:nvSpPr>
        <p:spPr>
          <a:xfrm rot="3817200">
            <a:off x="4530240" y="4889880"/>
            <a:ext cx="123840" cy="114120"/>
          </a:xfrm>
          <a:custGeom>
            <a:avLst/>
            <a:gdLst/>
            <a:ahLst/>
            <a:rect l="l" t="t" r="r" b="b"/>
            <a:pathLst>
              <a:path w="255749" h="595086">
                <a:moveTo>
                  <a:pt x="211234" y="0"/>
                </a:moveTo>
                <a:cubicBezTo>
                  <a:pt x="197541" y="41081"/>
                  <a:pt x="180051" y="100395"/>
                  <a:pt x="153177" y="130628"/>
                </a:cubicBezTo>
                <a:cubicBezTo>
                  <a:pt x="134435" y="151713"/>
                  <a:pt x="104796" y="159657"/>
                  <a:pt x="80606" y="174171"/>
                </a:cubicBezTo>
                <a:cubicBezTo>
                  <a:pt x="23902" y="268677"/>
                  <a:pt x="0" y="276497"/>
                  <a:pt x="51577" y="420914"/>
                </a:cubicBezTo>
                <a:cubicBezTo>
                  <a:pt x="58854" y="441290"/>
                  <a:pt x="90282" y="440267"/>
                  <a:pt x="109634" y="449943"/>
                </a:cubicBezTo>
                <a:cubicBezTo>
                  <a:pt x="114472" y="464457"/>
                  <a:pt x="113331" y="482668"/>
                  <a:pt x="124149" y="493486"/>
                </a:cubicBezTo>
                <a:cubicBezTo>
                  <a:pt x="142695" y="512032"/>
                  <a:pt x="230733" y="511077"/>
                  <a:pt x="240263" y="522514"/>
                </a:cubicBezTo>
                <a:cubicBezTo>
                  <a:pt x="255749" y="541098"/>
                  <a:pt x="240263" y="570895"/>
                  <a:pt x="240263" y="595086"/>
                </a:cubicBezTo>
              </a:path>
            </a:pathLst>
          </a:custGeom>
          <a:noFill/>
          <a:ln w="9360">
            <a:solidFill>
              <a:srgbClr val="ffffff">
                <a:alpha val="82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任意多边形 25"/>
          <p:cNvSpPr/>
          <p:nvPr/>
        </p:nvSpPr>
        <p:spPr>
          <a:xfrm rot="3817200">
            <a:off x="5940360" y="6038640"/>
            <a:ext cx="129960" cy="254160"/>
          </a:xfrm>
          <a:custGeom>
            <a:avLst/>
            <a:gdLst/>
            <a:ahLst/>
            <a:rect l="l" t="t" r="r" b="b"/>
            <a:pathLst>
              <a:path w="265234" h="1324780">
                <a:moveTo>
                  <a:pt x="265234" y="0"/>
                </a:moveTo>
                <a:cubicBezTo>
                  <a:pt x="236206" y="33867"/>
                  <a:pt x="208153" y="68595"/>
                  <a:pt x="178149" y="101600"/>
                </a:cubicBezTo>
                <a:cubicBezTo>
                  <a:pt x="159739" y="121851"/>
                  <a:pt x="131666" y="134856"/>
                  <a:pt x="120092" y="159657"/>
                </a:cubicBezTo>
                <a:cubicBezTo>
                  <a:pt x="96764" y="209645"/>
                  <a:pt x="94908" y="267296"/>
                  <a:pt x="76549" y="319314"/>
                </a:cubicBezTo>
                <a:cubicBezTo>
                  <a:pt x="65747" y="349919"/>
                  <a:pt x="44657" y="376108"/>
                  <a:pt x="33006" y="406400"/>
                </a:cubicBezTo>
                <a:cubicBezTo>
                  <a:pt x="20362" y="439274"/>
                  <a:pt x="13653" y="474133"/>
                  <a:pt x="3977" y="508000"/>
                </a:cubicBezTo>
                <a:cubicBezTo>
                  <a:pt x="8815" y="604762"/>
                  <a:pt x="0" y="703184"/>
                  <a:pt x="18492" y="798286"/>
                </a:cubicBezTo>
                <a:cubicBezTo>
                  <a:pt x="120866" y="1324780"/>
                  <a:pt x="105577" y="814328"/>
                  <a:pt x="105577" y="1161143"/>
                </a:cubicBezTo>
              </a:path>
            </a:pathLst>
          </a:custGeom>
          <a:noFill/>
          <a:ln w="9360">
            <a:solidFill>
              <a:srgbClr val="ffffff">
                <a:alpha val="82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任意多边形 26"/>
          <p:cNvSpPr/>
          <p:nvPr/>
        </p:nvSpPr>
        <p:spPr>
          <a:xfrm rot="3817200">
            <a:off x="7359120" y="1222200"/>
            <a:ext cx="54000" cy="60120"/>
          </a:xfrm>
          <a:custGeom>
            <a:avLst/>
            <a:gdLst/>
            <a:ahLst/>
            <a:rect l="l" t="t" r="r" b="b"/>
            <a:pathLst>
              <a:path w="110176" h="313955">
                <a:moveTo>
                  <a:pt x="31485" y="81727"/>
                </a:moveTo>
                <a:cubicBezTo>
                  <a:pt x="84416" y="240523"/>
                  <a:pt x="0" y="0"/>
                  <a:pt x="75028" y="168813"/>
                </a:cubicBezTo>
                <a:cubicBezTo>
                  <a:pt x="110176" y="247895"/>
                  <a:pt x="104056" y="241972"/>
                  <a:pt x="104056" y="313955"/>
                </a:cubicBezTo>
              </a:path>
            </a:pathLst>
          </a:custGeom>
          <a:noFill/>
          <a:ln w="9360">
            <a:solidFill>
              <a:srgbClr val="ffffff">
                <a:alpha val="82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任意多边形 27"/>
          <p:cNvSpPr/>
          <p:nvPr/>
        </p:nvSpPr>
        <p:spPr>
          <a:xfrm rot="3817200">
            <a:off x="7762680" y="4670280"/>
            <a:ext cx="44280" cy="76320"/>
          </a:xfrm>
          <a:custGeom>
            <a:avLst/>
            <a:gdLst/>
            <a:ahLst/>
            <a:rect l="l" t="t" r="r" b="b"/>
            <a:pathLst>
              <a:path w="75941" h="391886">
                <a:moveTo>
                  <a:pt x="0" y="0"/>
                </a:moveTo>
                <a:cubicBezTo>
                  <a:pt x="4838" y="33867"/>
                  <a:pt x="6217" y="68411"/>
                  <a:pt x="14514" y="101600"/>
                </a:cubicBezTo>
                <a:cubicBezTo>
                  <a:pt x="20833" y="126876"/>
                  <a:pt x="36056" y="149216"/>
                  <a:pt x="43543" y="174171"/>
                </a:cubicBezTo>
                <a:cubicBezTo>
                  <a:pt x="50632" y="197800"/>
                  <a:pt x="52074" y="222810"/>
                  <a:pt x="58057" y="246743"/>
                </a:cubicBezTo>
                <a:cubicBezTo>
                  <a:pt x="61768" y="261586"/>
                  <a:pt x="71049" y="275063"/>
                  <a:pt x="72571" y="290286"/>
                </a:cubicBezTo>
                <a:cubicBezTo>
                  <a:pt x="75941" y="323985"/>
                  <a:pt x="72571" y="358019"/>
                  <a:pt x="72571" y="391886"/>
                </a:cubicBezTo>
              </a:path>
            </a:pathLst>
          </a:custGeom>
          <a:noFill/>
          <a:ln w="9360">
            <a:solidFill>
              <a:srgbClr val="ffffff">
                <a:alpha val="82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任意多边形 28"/>
          <p:cNvSpPr/>
          <p:nvPr/>
        </p:nvSpPr>
        <p:spPr>
          <a:xfrm rot="3817200">
            <a:off x="6598440" y="4659840"/>
            <a:ext cx="44280" cy="46080"/>
          </a:xfrm>
          <a:custGeom>
            <a:avLst/>
            <a:gdLst/>
            <a:ahLst/>
            <a:rect l="l" t="t" r="r" b="b"/>
            <a:pathLst>
              <a:path w="44450" h="159657">
                <a:moveTo>
                  <a:pt x="0" y="0"/>
                </a:moveTo>
                <a:lnTo>
                  <a:pt x="0" y="159657"/>
                </a:lnTo>
              </a:path>
            </a:pathLst>
          </a:custGeom>
          <a:noFill/>
          <a:ln w="9360">
            <a:solidFill>
              <a:srgbClr val="ffffff">
                <a:alpha val="82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任意多边形 29"/>
          <p:cNvSpPr/>
          <p:nvPr/>
        </p:nvSpPr>
        <p:spPr>
          <a:xfrm rot="3817200">
            <a:off x="7961400" y="6115680"/>
            <a:ext cx="255600" cy="88920"/>
          </a:xfrm>
          <a:custGeom>
            <a:avLst/>
            <a:gdLst/>
            <a:ahLst/>
            <a:rect l="l" t="t" r="r" b="b"/>
            <a:pathLst>
              <a:path w="522514" h="624115">
                <a:moveTo>
                  <a:pt x="522514" y="0"/>
                </a:moveTo>
                <a:cubicBezTo>
                  <a:pt x="503162" y="9676"/>
                  <a:pt x="482063" y="16453"/>
                  <a:pt x="464457" y="29029"/>
                </a:cubicBezTo>
                <a:cubicBezTo>
                  <a:pt x="447754" y="40960"/>
                  <a:pt x="434551" y="57230"/>
                  <a:pt x="420914" y="72572"/>
                </a:cubicBezTo>
                <a:cubicBezTo>
                  <a:pt x="395810" y="100814"/>
                  <a:pt x="371688" y="129945"/>
                  <a:pt x="348342" y="159658"/>
                </a:cubicBezTo>
                <a:cubicBezTo>
                  <a:pt x="318451" y="197701"/>
                  <a:pt x="294073" y="240222"/>
                  <a:pt x="261257" y="275772"/>
                </a:cubicBezTo>
                <a:cubicBezTo>
                  <a:pt x="235627" y="303538"/>
                  <a:pt x="205611" y="327383"/>
                  <a:pt x="174171" y="348343"/>
                </a:cubicBezTo>
                <a:cubicBezTo>
                  <a:pt x="161441" y="356830"/>
                  <a:pt x="145142" y="358020"/>
                  <a:pt x="130628" y="362858"/>
                </a:cubicBezTo>
                <a:cubicBezTo>
                  <a:pt x="92510" y="400976"/>
                  <a:pt x="0" y="484783"/>
                  <a:pt x="0" y="537029"/>
                </a:cubicBezTo>
                <a:lnTo>
                  <a:pt x="0" y="624115"/>
                </a:lnTo>
              </a:path>
            </a:pathLst>
          </a:custGeom>
          <a:noFill/>
          <a:ln w="9360">
            <a:solidFill>
              <a:srgbClr val="ffffff">
                <a:alpha val="82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任意多边形 30"/>
          <p:cNvSpPr/>
          <p:nvPr/>
        </p:nvSpPr>
        <p:spPr>
          <a:xfrm rot="7547400">
            <a:off x="2286720" y="5110920"/>
            <a:ext cx="130320" cy="293760"/>
          </a:xfrm>
          <a:custGeom>
            <a:avLst/>
            <a:gdLst/>
            <a:ahLst/>
            <a:rect l="l" t="t" r="r" b="b"/>
            <a:pathLst>
              <a:path w="624114" h="580572">
                <a:moveTo>
                  <a:pt x="0" y="0"/>
                </a:moveTo>
                <a:cubicBezTo>
                  <a:pt x="11749" y="14686"/>
                  <a:pt x="111127" y="149862"/>
                  <a:pt x="159657" y="188686"/>
                </a:cubicBezTo>
                <a:cubicBezTo>
                  <a:pt x="192156" y="214685"/>
                  <a:pt x="229486" y="234374"/>
                  <a:pt x="261257" y="261257"/>
                </a:cubicBezTo>
                <a:cubicBezTo>
                  <a:pt x="388562" y="368977"/>
                  <a:pt x="295827" y="335214"/>
                  <a:pt x="406400" y="362857"/>
                </a:cubicBezTo>
                <a:cubicBezTo>
                  <a:pt x="445105" y="387048"/>
                  <a:pt x="483089" y="412431"/>
                  <a:pt x="522514" y="435429"/>
                </a:cubicBezTo>
                <a:cubicBezTo>
                  <a:pt x="541203" y="446331"/>
                  <a:pt x="566491" y="448029"/>
                  <a:pt x="580572" y="464457"/>
                </a:cubicBezTo>
                <a:cubicBezTo>
                  <a:pt x="597528" y="484239"/>
                  <a:pt x="600452" y="512634"/>
                  <a:pt x="609600" y="537029"/>
                </a:cubicBezTo>
                <a:cubicBezTo>
                  <a:pt x="614972" y="551354"/>
                  <a:pt x="624114" y="580572"/>
                  <a:pt x="624114" y="580572"/>
                </a:cubicBezTo>
              </a:path>
            </a:pathLst>
          </a:custGeom>
          <a:noFill/>
          <a:ln w="9360">
            <a:solidFill>
              <a:srgbClr val="ffffff">
                <a:alpha val="82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任意多边形 31"/>
          <p:cNvSpPr/>
          <p:nvPr/>
        </p:nvSpPr>
        <p:spPr>
          <a:xfrm>
            <a:off x="4110120" y="4818240"/>
            <a:ext cx="331560" cy="276120"/>
          </a:xfrm>
          <a:custGeom>
            <a:avLst/>
            <a:gdLst/>
            <a:ahLst/>
            <a:rect l="l" t="t" r="r" b="b"/>
            <a:pathLst>
              <a:path w="1115350" h="2133600">
                <a:moveTo>
                  <a:pt x="56174" y="0"/>
                </a:moveTo>
                <a:cubicBezTo>
                  <a:pt x="41054" y="173872"/>
                  <a:pt x="0" y="476087"/>
                  <a:pt x="41660" y="653143"/>
                </a:cubicBezTo>
                <a:cubicBezTo>
                  <a:pt x="73491" y="788425"/>
                  <a:pt x="150159" y="815892"/>
                  <a:pt x="215831" y="914400"/>
                </a:cubicBezTo>
                <a:cubicBezTo>
                  <a:pt x="490412" y="1326271"/>
                  <a:pt x="171603" y="950722"/>
                  <a:pt x="578688" y="1320800"/>
                </a:cubicBezTo>
                <a:cubicBezTo>
                  <a:pt x="611693" y="1350805"/>
                  <a:pt x="633393" y="1391723"/>
                  <a:pt x="665774" y="1422400"/>
                </a:cubicBezTo>
                <a:cubicBezTo>
                  <a:pt x="725585" y="1479063"/>
                  <a:pt x="793616" y="1526504"/>
                  <a:pt x="854460" y="1582057"/>
                </a:cubicBezTo>
                <a:cubicBezTo>
                  <a:pt x="1033815" y="1745817"/>
                  <a:pt x="929461" y="1703820"/>
                  <a:pt x="1043145" y="1741714"/>
                </a:cubicBezTo>
                <a:cubicBezTo>
                  <a:pt x="909324" y="1830929"/>
                  <a:pt x="1115350" y="1701560"/>
                  <a:pt x="927031" y="1785257"/>
                </a:cubicBezTo>
                <a:cubicBezTo>
                  <a:pt x="904925" y="1795082"/>
                  <a:pt x="888326" y="1814286"/>
                  <a:pt x="868974" y="1828800"/>
                </a:cubicBezTo>
                <a:cubicBezTo>
                  <a:pt x="864136" y="1852990"/>
                  <a:pt x="863122" y="1878272"/>
                  <a:pt x="854460" y="1901371"/>
                </a:cubicBezTo>
                <a:cubicBezTo>
                  <a:pt x="848335" y="1917704"/>
                  <a:pt x="830947" y="1928365"/>
                  <a:pt x="825431" y="1944914"/>
                </a:cubicBezTo>
                <a:cubicBezTo>
                  <a:pt x="785701" y="2064105"/>
                  <a:pt x="848651" y="2006845"/>
                  <a:pt x="767374" y="2061028"/>
                </a:cubicBezTo>
                <a:lnTo>
                  <a:pt x="723831" y="2133600"/>
                </a:lnTo>
              </a:path>
            </a:pathLst>
          </a:custGeom>
          <a:noFill/>
          <a:ln w="9360">
            <a:solidFill>
              <a:srgbClr val="ffffff">
                <a:alpha val="82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任意多边形 32"/>
          <p:cNvSpPr/>
          <p:nvPr/>
        </p:nvSpPr>
        <p:spPr>
          <a:xfrm>
            <a:off x="5724360" y="392040"/>
            <a:ext cx="182880" cy="463680"/>
          </a:xfrm>
          <a:custGeom>
            <a:avLst/>
            <a:gdLst/>
            <a:ahLst/>
            <a:rect l="l" t="t" r="r" b="b"/>
            <a:pathLst>
              <a:path w="255749" h="595086">
                <a:moveTo>
                  <a:pt x="211234" y="0"/>
                </a:moveTo>
                <a:cubicBezTo>
                  <a:pt x="197541" y="41081"/>
                  <a:pt x="180051" y="100395"/>
                  <a:pt x="153177" y="130628"/>
                </a:cubicBezTo>
                <a:cubicBezTo>
                  <a:pt x="134435" y="151713"/>
                  <a:pt x="104796" y="159657"/>
                  <a:pt x="80606" y="174171"/>
                </a:cubicBezTo>
                <a:cubicBezTo>
                  <a:pt x="23902" y="268677"/>
                  <a:pt x="0" y="276497"/>
                  <a:pt x="51577" y="420914"/>
                </a:cubicBezTo>
                <a:cubicBezTo>
                  <a:pt x="58854" y="441290"/>
                  <a:pt x="90282" y="440267"/>
                  <a:pt x="109634" y="449943"/>
                </a:cubicBezTo>
                <a:cubicBezTo>
                  <a:pt x="114472" y="464457"/>
                  <a:pt x="113331" y="482668"/>
                  <a:pt x="124149" y="493486"/>
                </a:cubicBezTo>
                <a:cubicBezTo>
                  <a:pt x="142695" y="512032"/>
                  <a:pt x="230733" y="511077"/>
                  <a:pt x="240263" y="522514"/>
                </a:cubicBezTo>
                <a:cubicBezTo>
                  <a:pt x="255749" y="541098"/>
                  <a:pt x="240263" y="570895"/>
                  <a:pt x="240263" y="595086"/>
                </a:cubicBezTo>
              </a:path>
            </a:pathLst>
          </a:custGeom>
          <a:noFill/>
          <a:ln w="9360">
            <a:solidFill>
              <a:srgbClr val="ffffff">
                <a:alpha val="82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任意多边形 33"/>
          <p:cNvSpPr/>
          <p:nvPr/>
        </p:nvSpPr>
        <p:spPr>
          <a:xfrm>
            <a:off x="1617840" y="5791320"/>
            <a:ext cx="182520" cy="465120"/>
          </a:xfrm>
          <a:custGeom>
            <a:avLst/>
            <a:gdLst/>
            <a:ahLst/>
            <a:rect l="l" t="t" r="r" b="b"/>
            <a:pathLst>
              <a:path w="255749" h="595086">
                <a:moveTo>
                  <a:pt x="211234" y="0"/>
                </a:moveTo>
                <a:cubicBezTo>
                  <a:pt x="197541" y="41081"/>
                  <a:pt x="180051" y="100395"/>
                  <a:pt x="153177" y="130628"/>
                </a:cubicBezTo>
                <a:cubicBezTo>
                  <a:pt x="134435" y="151713"/>
                  <a:pt x="104796" y="159657"/>
                  <a:pt x="80606" y="174171"/>
                </a:cubicBezTo>
                <a:cubicBezTo>
                  <a:pt x="23902" y="268677"/>
                  <a:pt x="0" y="276497"/>
                  <a:pt x="51577" y="420914"/>
                </a:cubicBezTo>
                <a:cubicBezTo>
                  <a:pt x="58854" y="441290"/>
                  <a:pt x="90282" y="440267"/>
                  <a:pt x="109634" y="449943"/>
                </a:cubicBezTo>
                <a:cubicBezTo>
                  <a:pt x="114472" y="464457"/>
                  <a:pt x="113331" y="482668"/>
                  <a:pt x="124149" y="493486"/>
                </a:cubicBezTo>
                <a:cubicBezTo>
                  <a:pt x="142695" y="512032"/>
                  <a:pt x="230733" y="511077"/>
                  <a:pt x="240263" y="522514"/>
                </a:cubicBezTo>
                <a:cubicBezTo>
                  <a:pt x="255749" y="541098"/>
                  <a:pt x="240263" y="570895"/>
                  <a:pt x="240263" y="595086"/>
                </a:cubicBezTo>
              </a:path>
            </a:pathLst>
          </a:custGeom>
          <a:noFill/>
          <a:ln w="9360">
            <a:solidFill>
              <a:srgbClr val="ffffff">
                <a:alpha val="82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444680" y="2225520"/>
            <a:ext cx="5962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00"/>
                </a:solidFill>
                <a:latin typeface="Arial"/>
                <a:ea typeface="仿宋"/>
              </a:rPr>
              <a:t>清雅竹趣幻灯片打包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98360" y="644040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3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xit" presetID="10">
                                  <p:stCondLst>
                                    <p:cond delay="7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" dur="2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3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xit" presetID="10">
                                  <p:stCondLst>
                                    <p:cond delay="14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" dur="2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3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xit" presetID="10">
                                  <p:stCondLst>
                                    <p:cond delay="9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" dur="2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3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xit" presetID="10">
                                  <p:stCondLst>
                                    <p:cond delay="7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" dur="2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0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3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xit" presetID="10">
                                  <p:stCondLst>
                                    <p:cond delay="2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" dur="3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3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xit" presetID="10">
                                  <p:stCondLst>
                                    <p:cond delay="2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" dur="2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0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xit" presetID="10">
                                  <p:stCondLst>
                                    <p:cond delay="1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" dur="2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3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" dur="2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0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xit" presetID="10">
                                  <p:stCondLst>
                                    <p:cond delay="9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" dur="2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xit" presetID="10">
                                  <p:stCondLst>
                                    <p:cond delay="1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" dur="22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21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path" presetID="63">
                                  <p:stCondLst>
                                    <p:cond delay="2200"/>
                                  </p:stCondLst>
                                  <p:childTnLst>
                                    <p:animMotion origin="layout" path="M -5E-006 0 L 1.28542 0 E">
                                      <p:cBhvr>
                                        <p:cTn id="66" dur="1000" fill="hold"/>
                                        <p:tgtEl>
                                          <p:spTgt spid="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7" nodeType="withEffect" fill="hold" presetClass="path" presetID="63">
                                  <p:stCondLst>
                                    <p:cond delay="2200"/>
                                  </p:stCondLst>
                                  <p:childTnLst>
                                    <p:animMotion origin="layout" path="M 0.12917 0 L -1.44375 0 E">
                                      <p:cBhvr>
                                        <p:cTn id="68" dur="1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4" presetSubtype="10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1" dur="9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1" presetSubtype="4">
                                  <p:stCondLst>
                                    <p:cond delay="330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4" dur="4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3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xit" presetID="10">
                                  <p:stCondLst>
                                    <p:cond delay="7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9" dur="2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0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3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5" dur="3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3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xit" presetID="10">
                                  <p:stCondLst>
                                    <p:cond delay="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1" dur="2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3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xit" presetID="10">
                                  <p:stCondLst>
                                    <p:cond delay="1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7" dur="2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3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xit" presetID="10">
                                  <p:stCondLst>
                                    <p:cond delay="7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" dur="2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3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xit" presetID="10">
                                  <p:stCondLst>
                                    <p:cond delay="24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9" dur="3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5" dur="2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0">
                                  <p:stCondLst>
                                    <p:cond delay="270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" dur="2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3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xit" presetID="10">
                                  <p:stCondLst>
                                    <p:cond delay="17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" dur="2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0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xit" presetID="10">
                                  <p:stCondLst>
                                    <p:cond delay="9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3" dur="2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0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9" dur="2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3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xit" presetID="10">
                                  <p:stCondLst>
                                    <p:cond delay="19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5" dur="2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0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xit" presetID="10">
                                  <p:stCondLst>
                                    <p:cond delay="1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1" dur="2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3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xit" presetID="10">
                                  <p:stCondLst>
                                    <p:cond delay="2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7" dur="4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图片 3" descr="04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99" name="TextBox 12" descr=""/>
          <p:cNvPicPr/>
          <p:nvPr/>
        </p:nvPicPr>
        <p:blipFill>
          <a:blip r:embed="rId2"/>
          <a:stretch/>
        </p:blipFill>
        <p:spPr>
          <a:xfrm>
            <a:off x="927000" y="4224240"/>
            <a:ext cx="1316160" cy="1444680"/>
          </a:xfrm>
          <a:prstGeom prst="rect">
            <a:avLst/>
          </a:prstGeom>
          <a:ln w="0">
            <a:noFill/>
          </a:ln>
        </p:spPr>
      </p:pic>
      <p:pic>
        <p:nvPicPr>
          <p:cNvPr id="200" name="TextBox 13" descr=""/>
          <p:cNvPicPr/>
          <p:nvPr/>
        </p:nvPicPr>
        <p:blipFill>
          <a:blip r:embed="rId3"/>
          <a:stretch/>
        </p:blipFill>
        <p:spPr>
          <a:xfrm>
            <a:off x="1779480" y="4541760"/>
            <a:ext cx="1311480" cy="1451160"/>
          </a:xfrm>
          <a:prstGeom prst="rect">
            <a:avLst/>
          </a:prstGeom>
          <a:ln w="0">
            <a:noFill/>
          </a:ln>
        </p:spPr>
      </p:pic>
      <p:pic>
        <p:nvPicPr>
          <p:cNvPr id="201" name="TextBox 14" descr=""/>
          <p:cNvPicPr/>
          <p:nvPr/>
        </p:nvPicPr>
        <p:blipFill>
          <a:blip r:embed="rId4"/>
          <a:stretch/>
        </p:blipFill>
        <p:spPr>
          <a:xfrm>
            <a:off x="3382920" y="4992840"/>
            <a:ext cx="1579680" cy="585720"/>
          </a:xfrm>
          <a:prstGeom prst="rect">
            <a:avLst/>
          </a:prstGeom>
          <a:ln w="0">
            <a:noFill/>
          </a:ln>
        </p:spPr>
      </p:pic>
      <p:pic>
        <p:nvPicPr>
          <p:cNvPr id="202" name="图片 15" descr="02.png"/>
          <p:cNvPicPr/>
          <p:nvPr/>
        </p:nvPicPr>
        <p:blipFill>
          <a:blip r:embed="rId5"/>
          <a:stretch/>
        </p:blipFill>
        <p:spPr>
          <a:xfrm>
            <a:off x="187200" y="1214280"/>
            <a:ext cx="8769600" cy="2660760"/>
          </a:xfrm>
          <a:prstGeom prst="rect">
            <a:avLst/>
          </a:prstGeom>
          <a:ln cap="sq" w="88920">
            <a:solidFill>
              <a:srgbClr val="ffffff"/>
            </a:solidFill>
            <a:miter/>
          </a:ln>
          <a:effectLst>
            <a:outerShdw dist="18000" dir="5400000" blurRad="0" rotWithShape="0">
              <a:srgbClr val="000000">
                <a:alpha val="38000"/>
              </a:srgbClr>
            </a:outerShdw>
          </a:effectLst>
        </p:spPr>
      </p:pic>
      <p:pic>
        <p:nvPicPr>
          <p:cNvPr id="203" name="图片 16" descr="02.png"/>
          <p:cNvPicPr/>
          <p:nvPr/>
        </p:nvPicPr>
        <p:blipFill>
          <a:blip r:embed="rId6"/>
          <a:stretch/>
        </p:blipFill>
        <p:spPr>
          <a:xfrm>
            <a:off x="187200" y="1214280"/>
            <a:ext cx="8769600" cy="2660760"/>
          </a:xfrm>
          <a:prstGeom prst="rect">
            <a:avLst/>
          </a:prstGeom>
          <a:ln w="0">
            <a:noFill/>
          </a:ln>
          <a:effectLst>
            <a:outerShdw dist="18000" dir="5400000" blurRad="0" rotWithShape="0">
              <a:srgbClr val="000000">
                <a:alpha val="38000"/>
              </a:srgbClr>
            </a:outerShdw>
          </a:effectLst>
        </p:spPr>
      </p:pic>
      <p:sp>
        <p:nvSpPr>
          <p:cNvPr id="204" name="矩形 17"/>
          <p:cNvSpPr/>
          <p:nvPr/>
        </p:nvSpPr>
        <p:spPr>
          <a:xfrm>
            <a:off x="-1428840" y="1233360"/>
            <a:ext cx="1428840" cy="2627280"/>
          </a:xfrm>
          <a:prstGeom prst="rect">
            <a:avLst/>
          </a:prstGeom>
          <a:gradFill rotWithShape="0">
            <a:gsLst>
              <a:gs pos="0">
                <a:srgbClr val="ffffff">
                  <a:alpha val="38039"/>
                </a:srgbClr>
              </a:gs>
              <a:gs pos="100000">
                <a:srgbClr val="ffffff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矩形 18"/>
          <p:cNvSpPr/>
          <p:nvPr/>
        </p:nvSpPr>
        <p:spPr>
          <a:xfrm rot="10800000">
            <a:off x="9143640" y="1233360"/>
            <a:ext cx="647640" cy="2627280"/>
          </a:xfrm>
          <a:prstGeom prst="rect">
            <a:avLst/>
          </a:prstGeom>
          <a:gradFill rotWithShape="0">
            <a:gsLst>
              <a:gs pos="0">
                <a:srgbClr val="ffffff">
                  <a:alpha val="38039"/>
                </a:srgbClr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0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E-006 0 L 1.28542 0 E">
                                      <p:cBhvr>
                                        <p:cTn id="337" dur="1000" fill="hold"/>
                                        <p:tgtEl>
                                          <p:spTgt spid="2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8" nodeType="withEffect" fill="hold" presetClass="path" presetID="63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0.12917 0 L -1.44375 0 E">
                                      <p:cBhvr>
                                        <p:cTn id="339" dur="1000" fill="hold"/>
                                        <p:tgtEl>
                                          <p:spTgt spid="2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14" presetSubtype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2" dur="9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21" presetSubtype="4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45" dur="4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1600"/>
                            </p:stCondLst>
                            <p:childTnLst>
                              <p:par>
                                <p:cTn id="347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23" presetSubtype="3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2" presetSubtype="8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57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图片 3" descr="04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13"/>
          <p:cNvSpPr/>
          <p:nvPr/>
        </p:nvSpPr>
        <p:spPr>
          <a:xfrm>
            <a:off x="879120" y="6227640"/>
            <a:ext cx="164664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适用于抽象及相关类别演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图片 10" descr="02.png"/>
          <p:cNvPicPr/>
          <p:nvPr/>
        </p:nvPicPr>
        <p:blipFill>
          <a:blip r:embed="rId2"/>
          <a:stretch/>
        </p:blipFill>
        <p:spPr>
          <a:xfrm>
            <a:off x="187200" y="1214280"/>
            <a:ext cx="8769600" cy="2660760"/>
          </a:xfrm>
          <a:prstGeom prst="rect">
            <a:avLst/>
          </a:prstGeom>
          <a:ln cap="sq" w="88920">
            <a:solidFill>
              <a:srgbClr val="ffffff"/>
            </a:solidFill>
            <a:miter/>
          </a:ln>
          <a:effectLst>
            <a:outerShdw dist="18000" dir="5400000" blurRad="0" rotWithShape="0">
              <a:srgbClr val="000000">
                <a:alpha val="38000"/>
              </a:srgbClr>
            </a:outerShdw>
          </a:effectLst>
        </p:spPr>
      </p:pic>
      <p:pic>
        <p:nvPicPr>
          <p:cNvPr id="116" name="图片 11" descr="02.png"/>
          <p:cNvPicPr/>
          <p:nvPr/>
        </p:nvPicPr>
        <p:blipFill>
          <a:blip r:embed="rId3"/>
          <a:stretch/>
        </p:blipFill>
        <p:spPr>
          <a:xfrm>
            <a:off x="187200" y="1214280"/>
            <a:ext cx="8769600" cy="2660760"/>
          </a:xfrm>
          <a:prstGeom prst="rect">
            <a:avLst/>
          </a:prstGeom>
          <a:ln w="0">
            <a:noFill/>
          </a:ln>
          <a:effectLst>
            <a:outerShdw dist="18000" dir="5400000" blurRad="0" rotWithShape="0">
              <a:srgbClr val="000000">
                <a:alpha val="38000"/>
              </a:srgbClr>
            </a:outerShdw>
          </a:effectLst>
        </p:spPr>
      </p:pic>
      <p:pic>
        <p:nvPicPr>
          <p:cNvPr id="117" name="图片 5" descr="01.png"/>
          <p:cNvPicPr/>
          <p:nvPr/>
        </p:nvPicPr>
        <p:blipFill>
          <a:blip r:embed="rId4"/>
          <a:stretch/>
        </p:blipFill>
        <p:spPr>
          <a:xfrm>
            <a:off x="7607160" y="4040280"/>
            <a:ext cx="1766880" cy="65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000"/>
                            </p:stCondLst>
                            <p:childTnLst>
                              <p:par>
                                <p:cTn id="16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" name="组合 8"/>
          <p:cNvGrpSpPr/>
          <p:nvPr/>
        </p:nvGrpSpPr>
        <p:grpSpPr>
          <a:xfrm>
            <a:off x="500040" y="2071800"/>
            <a:ext cx="8143920" cy="2955960"/>
            <a:chOff x="500040" y="2071800"/>
            <a:chExt cx="8143920" cy="2955960"/>
          </a:xfrm>
        </p:grpSpPr>
        <p:sp>
          <p:nvSpPr>
            <p:cNvPr id="119" name="AutoShape 3"/>
            <p:cNvSpPr/>
            <p:nvPr/>
          </p:nvSpPr>
          <p:spPr>
            <a:xfrm>
              <a:off x="500040" y="2071800"/>
              <a:ext cx="8143920" cy="2955960"/>
            </a:xfrm>
            <a:prstGeom prst="roundRect">
              <a:avLst>
                <a:gd name="adj" fmla="val 2449"/>
              </a:avLst>
            </a:prstGeom>
            <a:gradFill rotWithShape="0">
              <a:gsLst>
                <a:gs pos="0">
                  <a:srgbClr val="d9d9d9"/>
                </a:gs>
                <a:gs pos="100000">
                  <a:srgbClr val="40404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AutoShape 3"/>
            <p:cNvSpPr/>
            <p:nvPr/>
          </p:nvSpPr>
          <p:spPr>
            <a:xfrm>
              <a:off x="502920" y="2170080"/>
              <a:ext cx="8137800" cy="2748240"/>
            </a:xfrm>
            <a:prstGeom prst="roundRect">
              <a:avLst>
                <a:gd name="adj" fmla="val 2731"/>
              </a:avLst>
            </a:prstGeom>
            <a:solidFill>
              <a:srgbClr val="f2f2f2">
                <a:alpha val="8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Text Box 11"/>
          <p:cNvSpPr/>
          <p:nvPr/>
        </p:nvSpPr>
        <p:spPr>
          <a:xfrm>
            <a:off x="770040" y="2670120"/>
            <a:ext cx="760392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一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网：杜绝平庸、专做精品！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100%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专业；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100%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尽心；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100%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创意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3"/>
          <p:cNvSpPr/>
          <p:nvPr/>
        </p:nvSpPr>
        <p:spPr>
          <a:xfrm>
            <a:off x="7992360" y="334800"/>
            <a:ext cx="7430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前　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500"/>
                            </p:stCondLst>
                            <p:childTnLst>
                              <p:par>
                                <p:cTn id="1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13"/>
          <p:cNvSpPr/>
          <p:nvPr/>
        </p:nvSpPr>
        <p:spPr>
          <a:xfrm>
            <a:off x="7992360" y="334800"/>
            <a:ext cx="7430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　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组合 7"/>
          <p:cNvGrpSpPr/>
          <p:nvPr/>
        </p:nvGrpSpPr>
        <p:grpSpPr>
          <a:xfrm>
            <a:off x="1457280" y="1785960"/>
            <a:ext cx="6229440" cy="719280"/>
            <a:chOff x="1457280" y="1785960"/>
            <a:chExt cx="6229440" cy="719280"/>
          </a:xfrm>
        </p:grpSpPr>
        <p:sp>
          <p:nvSpPr>
            <p:cNvPr id="125" name="AutoShape 3"/>
            <p:cNvSpPr/>
            <p:nvPr/>
          </p:nvSpPr>
          <p:spPr>
            <a:xfrm>
              <a:off x="1458720" y="1785960"/>
              <a:ext cx="6226560" cy="719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fbfbf"/>
                </a:gs>
                <a:gs pos="100000">
                  <a:srgbClr val="7f7f7f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AutoShape 3"/>
            <p:cNvSpPr/>
            <p:nvPr/>
          </p:nvSpPr>
          <p:spPr>
            <a:xfrm>
              <a:off x="1457280" y="1874880"/>
              <a:ext cx="6229440" cy="541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ee0b"/>
                </a:gs>
                <a:gs pos="100000">
                  <a:srgbClr val="04600d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Rectangle 13"/>
          <p:cNvSpPr/>
          <p:nvPr/>
        </p:nvSpPr>
        <p:spPr>
          <a:xfrm>
            <a:off x="3198960" y="1960560"/>
            <a:ext cx="274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组合 11"/>
          <p:cNvGrpSpPr/>
          <p:nvPr/>
        </p:nvGrpSpPr>
        <p:grpSpPr>
          <a:xfrm>
            <a:off x="1457280" y="2720880"/>
            <a:ext cx="6229440" cy="719280"/>
            <a:chOff x="1457280" y="2720880"/>
            <a:chExt cx="6229440" cy="719280"/>
          </a:xfrm>
        </p:grpSpPr>
        <p:sp>
          <p:nvSpPr>
            <p:cNvPr id="129" name="AutoShape 3"/>
            <p:cNvSpPr/>
            <p:nvPr/>
          </p:nvSpPr>
          <p:spPr>
            <a:xfrm>
              <a:off x="1457280" y="2720880"/>
              <a:ext cx="6229440" cy="719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fbfbf"/>
                </a:gs>
                <a:gs pos="100000">
                  <a:srgbClr val="7f7f7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AutoShape 3"/>
            <p:cNvSpPr/>
            <p:nvPr/>
          </p:nvSpPr>
          <p:spPr>
            <a:xfrm>
              <a:off x="1457280" y="2810160"/>
              <a:ext cx="6229440" cy="540360"/>
            </a:xfrm>
            <a:prstGeom prst="roundRect">
              <a:avLst>
                <a:gd name="adj" fmla="val 16667"/>
              </a:avLst>
            </a:prstGeom>
            <a:solidFill>
              <a:srgbClr val="777777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Rectangle 16"/>
          <p:cNvSpPr/>
          <p:nvPr/>
        </p:nvSpPr>
        <p:spPr>
          <a:xfrm>
            <a:off x="3198960" y="2895480"/>
            <a:ext cx="274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组合 15"/>
          <p:cNvGrpSpPr/>
          <p:nvPr/>
        </p:nvGrpSpPr>
        <p:grpSpPr>
          <a:xfrm>
            <a:off x="1459080" y="3701880"/>
            <a:ext cx="6225840" cy="719280"/>
            <a:chOff x="1459080" y="3701880"/>
            <a:chExt cx="6225840" cy="719280"/>
          </a:xfrm>
        </p:grpSpPr>
        <p:sp>
          <p:nvSpPr>
            <p:cNvPr id="133" name="AutoShape 3"/>
            <p:cNvSpPr/>
            <p:nvPr/>
          </p:nvSpPr>
          <p:spPr>
            <a:xfrm>
              <a:off x="1459080" y="3701880"/>
              <a:ext cx="6225840" cy="719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fbfbf"/>
                </a:gs>
                <a:gs pos="100000">
                  <a:srgbClr val="7f7f7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AutoShape 3"/>
            <p:cNvSpPr/>
            <p:nvPr/>
          </p:nvSpPr>
          <p:spPr>
            <a:xfrm>
              <a:off x="1459080" y="3790800"/>
              <a:ext cx="6225840" cy="541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ee0b"/>
                </a:gs>
                <a:gs pos="100000">
                  <a:srgbClr val="04600d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Rectangle 19"/>
          <p:cNvSpPr/>
          <p:nvPr/>
        </p:nvSpPr>
        <p:spPr>
          <a:xfrm>
            <a:off x="3198960" y="3876840"/>
            <a:ext cx="274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组合 19"/>
          <p:cNvGrpSpPr/>
          <p:nvPr/>
        </p:nvGrpSpPr>
        <p:grpSpPr>
          <a:xfrm>
            <a:off x="1457280" y="4707000"/>
            <a:ext cx="6229440" cy="718920"/>
            <a:chOff x="1457280" y="4707000"/>
            <a:chExt cx="6229440" cy="718920"/>
          </a:xfrm>
        </p:grpSpPr>
        <p:sp>
          <p:nvSpPr>
            <p:cNvPr id="137" name="AutoShape 3"/>
            <p:cNvSpPr/>
            <p:nvPr/>
          </p:nvSpPr>
          <p:spPr>
            <a:xfrm>
              <a:off x="1457280" y="4707000"/>
              <a:ext cx="6228000" cy="718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fbfbf"/>
                </a:gs>
                <a:gs pos="100000">
                  <a:srgbClr val="7f7f7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AutoShape 3"/>
            <p:cNvSpPr/>
            <p:nvPr/>
          </p:nvSpPr>
          <p:spPr>
            <a:xfrm>
              <a:off x="1457280" y="4796280"/>
              <a:ext cx="6229440" cy="540000"/>
            </a:xfrm>
            <a:prstGeom prst="roundRect">
              <a:avLst>
                <a:gd name="adj" fmla="val 16667"/>
              </a:avLst>
            </a:prstGeom>
            <a:solidFill>
              <a:srgbClr val="777777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Rectangle 22"/>
          <p:cNvSpPr/>
          <p:nvPr/>
        </p:nvSpPr>
        <p:spPr>
          <a:xfrm>
            <a:off x="3198960" y="4881600"/>
            <a:ext cx="274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57320" y="64231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000"/>
                            </p:stCondLst>
                            <p:childTnLst>
                              <p:par>
                                <p:cTn id="19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500"/>
                            </p:stCondLst>
                            <p:childTnLst>
                              <p:par>
                                <p:cTn id="2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2000"/>
                            </p:stCondLst>
                            <p:childTnLst>
                              <p:par>
                                <p:cTn id="20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2500"/>
                            </p:stCondLst>
                            <p:childTnLst>
                              <p:par>
                                <p:cTn id="2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3000"/>
                            </p:stCondLst>
                            <p:childTnLst>
                              <p:par>
                                <p:cTn id="21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3500"/>
                            </p:stCondLst>
                            <p:childTnLst>
                              <p:par>
                                <p:cTn id="2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13"/>
          <p:cNvSpPr/>
          <p:nvPr/>
        </p:nvSpPr>
        <p:spPr>
          <a:xfrm>
            <a:off x="8043480" y="334800"/>
            <a:ext cx="640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过渡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组合 4"/>
          <p:cNvGrpSpPr/>
          <p:nvPr/>
        </p:nvGrpSpPr>
        <p:grpSpPr>
          <a:xfrm>
            <a:off x="1457280" y="2967120"/>
            <a:ext cx="6229440" cy="718920"/>
            <a:chOff x="1457280" y="2967120"/>
            <a:chExt cx="6229440" cy="718920"/>
          </a:xfrm>
        </p:grpSpPr>
        <p:sp>
          <p:nvSpPr>
            <p:cNvPr id="143" name="AutoShape 3"/>
            <p:cNvSpPr/>
            <p:nvPr/>
          </p:nvSpPr>
          <p:spPr>
            <a:xfrm>
              <a:off x="1458720" y="2967120"/>
              <a:ext cx="6226560" cy="718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fbfbf"/>
                </a:gs>
                <a:gs pos="100000">
                  <a:srgbClr val="7f7f7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AutoShape 3"/>
            <p:cNvSpPr/>
            <p:nvPr/>
          </p:nvSpPr>
          <p:spPr>
            <a:xfrm>
              <a:off x="1457280" y="3055680"/>
              <a:ext cx="6229440" cy="541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ee0b"/>
                </a:gs>
                <a:gs pos="100000">
                  <a:srgbClr val="04600d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" name="Rectangle 13"/>
          <p:cNvSpPr/>
          <p:nvPr/>
        </p:nvSpPr>
        <p:spPr>
          <a:xfrm>
            <a:off x="3198960" y="3141720"/>
            <a:ext cx="274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0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500"/>
                            </p:stCondLst>
                            <p:childTnLst>
                              <p:par>
                                <p:cTn id="2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13"/>
          <p:cNvSpPr/>
          <p:nvPr/>
        </p:nvSpPr>
        <p:spPr>
          <a:xfrm>
            <a:off x="7500960" y="353880"/>
            <a:ext cx="1098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207"/>
          <p:cNvSpPr/>
          <p:nvPr/>
        </p:nvSpPr>
        <p:spPr>
          <a:xfrm>
            <a:off x="714240" y="1933560"/>
            <a:ext cx="7702560" cy="3792600"/>
          </a:xfrm>
          <a:prstGeom prst="roundRect">
            <a:avLst>
              <a:gd name="adj" fmla="val 4019"/>
            </a:avLst>
          </a:prstGeom>
          <a:solidFill>
            <a:srgbClr val="ffffff"/>
          </a:solidFill>
          <a:ln w="25560">
            <a:solidFill>
              <a:srgbClr val="bfbfb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196"/>
          <p:cNvSpPr/>
          <p:nvPr/>
        </p:nvSpPr>
        <p:spPr>
          <a:xfrm>
            <a:off x="1009800" y="3317760"/>
            <a:ext cx="2119320" cy="2195640"/>
          </a:xfrm>
          <a:custGeom>
            <a:avLst/>
            <a:gdLst>
              <a:gd name="textAreaLeft" fmla="*/ 23040 w 2119320"/>
              <a:gd name="textAreaRight" fmla="*/ 2096280 w 2119320"/>
              <a:gd name="textAreaTop" fmla="*/ 23040 h 2195640"/>
              <a:gd name="textAreaBottom" fmla="*/ 2172600 h 2195640"/>
            </a:gdLst>
            <a:ahLst/>
            <a:rect l="textAreaLeft" t="textAreaTop" r="textAreaRight" b="textAreaBottom"/>
            <a:pathLst>
              <a:path w="21600" h="22378">
                <a:moveTo>
                  <a:pt x="805" y="0"/>
                </a:moveTo>
                <a:arcTo wR="805" hR="805" stAng="16200000" swAng="-5400000"/>
                <a:lnTo>
                  <a:pt x="0" y="21573"/>
                </a:lnTo>
                <a:arcTo wR="805" hR="805" stAng="10800000" swAng="-5400000"/>
                <a:lnTo>
                  <a:pt x="20795" y="22378"/>
                </a:lnTo>
                <a:arcTo wR="805" hR="805" stAng="5400000" swAng="-5400000"/>
                <a:lnTo>
                  <a:pt x="21600" y="805"/>
                </a:lnTo>
                <a:arcTo wR="805" hR="805" stAng="0" swAng="-5400000"/>
                <a:close/>
              </a:path>
            </a:pathLst>
          </a:custGeom>
          <a:solidFill>
            <a:srgbClr val="d9d9d9">
              <a:alpha val="70000"/>
            </a:srgbClr>
          </a:solidFill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228"/>
          <p:cNvSpPr/>
          <p:nvPr/>
        </p:nvSpPr>
        <p:spPr>
          <a:xfrm>
            <a:off x="1284120" y="3911760"/>
            <a:ext cx="1571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229"/>
          <p:cNvSpPr/>
          <p:nvPr/>
        </p:nvSpPr>
        <p:spPr>
          <a:xfrm>
            <a:off x="1284120" y="4371840"/>
            <a:ext cx="1571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组合 11"/>
          <p:cNvGrpSpPr/>
          <p:nvPr/>
        </p:nvGrpSpPr>
        <p:grpSpPr>
          <a:xfrm>
            <a:off x="2208240" y="1571760"/>
            <a:ext cx="4751280" cy="718920"/>
            <a:chOff x="2208240" y="1571760"/>
            <a:chExt cx="4751280" cy="718920"/>
          </a:xfrm>
        </p:grpSpPr>
        <p:grpSp>
          <p:nvGrpSpPr>
            <p:cNvPr id="152" name="组合 41"/>
            <p:cNvGrpSpPr/>
            <p:nvPr/>
          </p:nvGrpSpPr>
          <p:grpSpPr>
            <a:xfrm>
              <a:off x="2208240" y="1571760"/>
              <a:ext cx="4751280" cy="718920"/>
              <a:chOff x="2208240" y="1571760"/>
              <a:chExt cx="4751280" cy="718920"/>
            </a:xfrm>
          </p:grpSpPr>
          <p:sp>
            <p:nvSpPr>
              <p:cNvPr id="153" name="AutoShape 3"/>
              <p:cNvSpPr/>
              <p:nvPr/>
            </p:nvSpPr>
            <p:spPr>
              <a:xfrm>
                <a:off x="2208240" y="1571760"/>
                <a:ext cx="4751280" cy="71892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bfbfbf"/>
                  </a:gs>
                  <a:gs pos="100000">
                    <a:srgbClr val="7f7f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AutoShape 3"/>
              <p:cNvSpPr/>
              <p:nvPr/>
            </p:nvSpPr>
            <p:spPr>
              <a:xfrm>
                <a:off x="2208240" y="1660320"/>
                <a:ext cx="4751280" cy="5414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00ee0b"/>
                  </a:gs>
                  <a:gs pos="100000">
                    <a:srgbClr val="04600d"/>
                  </a:gs>
                </a:gsLst>
                <a:lin ang="5400000"/>
              </a:gra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5" name="Rectangle 13"/>
            <p:cNvSpPr/>
            <p:nvPr/>
          </p:nvSpPr>
          <p:spPr>
            <a:xfrm>
              <a:off x="4041360" y="1731240"/>
              <a:ext cx="1095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组合 16"/>
          <p:cNvGrpSpPr/>
          <p:nvPr/>
        </p:nvGrpSpPr>
        <p:grpSpPr>
          <a:xfrm>
            <a:off x="917640" y="2550960"/>
            <a:ext cx="2303280" cy="776520"/>
            <a:chOff x="917640" y="2550960"/>
            <a:chExt cx="2303280" cy="776520"/>
          </a:xfrm>
        </p:grpSpPr>
        <p:grpSp>
          <p:nvGrpSpPr>
            <p:cNvPr id="157" name="组合 62"/>
            <p:cNvGrpSpPr/>
            <p:nvPr/>
          </p:nvGrpSpPr>
          <p:grpSpPr>
            <a:xfrm>
              <a:off x="917640" y="2550960"/>
              <a:ext cx="2303280" cy="721080"/>
              <a:chOff x="917640" y="2550960"/>
              <a:chExt cx="2303280" cy="721080"/>
            </a:xfrm>
          </p:grpSpPr>
          <p:grpSp>
            <p:nvGrpSpPr>
              <p:cNvPr id="158" name="组合 37"/>
              <p:cNvGrpSpPr/>
              <p:nvPr/>
            </p:nvGrpSpPr>
            <p:grpSpPr>
              <a:xfrm>
                <a:off x="917640" y="2550960"/>
                <a:ext cx="2303280" cy="721080"/>
                <a:chOff x="917640" y="2550960"/>
                <a:chExt cx="2303280" cy="721080"/>
              </a:xfrm>
            </p:grpSpPr>
            <p:sp>
              <p:nvSpPr>
                <p:cNvPr id="159" name="AutoShape 3"/>
                <p:cNvSpPr/>
                <p:nvPr/>
              </p:nvSpPr>
              <p:spPr>
                <a:xfrm>
                  <a:off x="917640" y="2550960"/>
                  <a:ext cx="2303280" cy="721080"/>
                </a:xfrm>
                <a:prstGeom prst="roundRect">
                  <a:avLst>
                    <a:gd name="adj" fmla="val 16667"/>
                  </a:avLst>
                </a:prstGeom>
                <a:gradFill rotWithShape="0">
                  <a:gsLst>
                    <a:gs pos="0">
                      <a:srgbClr val="bfbfbf"/>
                    </a:gs>
                    <a:gs pos="100000">
                      <a:srgbClr val="7f7f7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AutoShape 3"/>
                <p:cNvSpPr/>
                <p:nvPr/>
              </p:nvSpPr>
              <p:spPr>
                <a:xfrm>
                  <a:off x="917640" y="2640960"/>
                  <a:ext cx="2303280" cy="54036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777777"/>
                </a:solidFill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1" name="Text Box 229"/>
              <p:cNvSpPr/>
              <p:nvPr/>
            </p:nvSpPr>
            <p:spPr>
              <a:xfrm>
                <a:off x="1657440" y="2772720"/>
                <a:ext cx="8236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点击添加标题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2" name="AutoShape 222"/>
            <p:cNvSpPr/>
            <p:nvPr/>
          </p:nvSpPr>
          <p:spPr>
            <a:xfrm>
              <a:off x="988920" y="3252960"/>
              <a:ext cx="2160720" cy="74520"/>
            </a:xfrm>
            <a:custGeom>
              <a:avLst/>
              <a:gdLst>
                <a:gd name="textAreaLeft" fmla="*/ 220320 w 2160720"/>
                <a:gd name="textAreaRight" fmla="*/ 1940400 w 2160720"/>
                <a:gd name="textAreaTop" fmla="*/ 7560 h 74520"/>
                <a:gd name="textAreaBottom" fmla="*/ 66960 h 74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810" y="21600"/>
                  </a:lnTo>
                  <a:lnTo>
                    <a:pt x="2079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04040"/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AutoShape 196"/>
          <p:cNvSpPr/>
          <p:nvPr/>
        </p:nvSpPr>
        <p:spPr>
          <a:xfrm>
            <a:off x="3494160" y="3317760"/>
            <a:ext cx="2117520" cy="2195640"/>
          </a:xfrm>
          <a:custGeom>
            <a:avLst/>
            <a:gdLst>
              <a:gd name="textAreaLeft" fmla="*/ 23040 w 2117520"/>
              <a:gd name="textAreaRight" fmla="*/ 2094480 w 2117520"/>
              <a:gd name="textAreaTop" fmla="*/ 23040 h 2195640"/>
              <a:gd name="textAreaBottom" fmla="*/ 2172600 h 2195640"/>
            </a:gdLst>
            <a:ahLst/>
            <a:rect l="textAreaLeft" t="textAreaTop" r="textAreaRight" b="textAreaBottom"/>
            <a:pathLst>
              <a:path w="21600" h="22397">
                <a:moveTo>
                  <a:pt x="805" y="0"/>
                </a:moveTo>
                <a:arcTo wR="805" hR="805" stAng="16200000" swAng="-5400000"/>
                <a:lnTo>
                  <a:pt x="0" y="21592"/>
                </a:lnTo>
                <a:arcTo wR="805" hR="805" stAng="10800000" swAng="-5400000"/>
                <a:lnTo>
                  <a:pt x="20795" y="22397"/>
                </a:lnTo>
                <a:arcTo wR="805" hR="805" stAng="5400000" swAng="-5400000"/>
                <a:lnTo>
                  <a:pt x="21600" y="805"/>
                </a:lnTo>
                <a:arcTo wR="805" hR="805" stAng="0" swAng="-5400000"/>
                <a:close/>
              </a:path>
            </a:pathLst>
          </a:custGeom>
          <a:solidFill>
            <a:srgbClr val="d9d9d9">
              <a:alpha val="70000"/>
            </a:srgbClr>
          </a:solidFill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228"/>
          <p:cNvSpPr/>
          <p:nvPr/>
        </p:nvSpPr>
        <p:spPr>
          <a:xfrm>
            <a:off x="3767040" y="3911760"/>
            <a:ext cx="1571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29"/>
          <p:cNvSpPr/>
          <p:nvPr/>
        </p:nvSpPr>
        <p:spPr>
          <a:xfrm>
            <a:off x="3767040" y="4371840"/>
            <a:ext cx="1571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组合 30"/>
          <p:cNvGrpSpPr/>
          <p:nvPr/>
        </p:nvGrpSpPr>
        <p:grpSpPr>
          <a:xfrm>
            <a:off x="3400560" y="2550960"/>
            <a:ext cx="2305080" cy="776520"/>
            <a:chOff x="3400560" y="2550960"/>
            <a:chExt cx="2305080" cy="776520"/>
          </a:xfrm>
        </p:grpSpPr>
        <p:grpSp>
          <p:nvGrpSpPr>
            <p:cNvPr id="167" name="组合 63"/>
            <p:cNvGrpSpPr/>
            <p:nvPr/>
          </p:nvGrpSpPr>
          <p:grpSpPr>
            <a:xfrm>
              <a:off x="3400560" y="2550960"/>
              <a:ext cx="2305080" cy="721080"/>
              <a:chOff x="3400560" y="2550960"/>
              <a:chExt cx="2305080" cy="721080"/>
            </a:xfrm>
          </p:grpSpPr>
          <p:grpSp>
            <p:nvGrpSpPr>
              <p:cNvPr id="168" name="组合 49"/>
              <p:cNvGrpSpPr/>
              <p:nvPr/>
            </p:nvGrpSpPr>
            <p:grpSpPr>
              <a:xfrm>
                <a:off x="3400560" y="2550960"/>
                <a:ext cx="2305080" cy="721080"/>
                <a:chOff x="3400560" y="2550960"/>
                <a:chExt cx="2305080" cy="721080"/>
              </a:xfrm>
            </p:grpSpPr>
            <p:sp>
              <p:nvSpPr>
                <p:cNvPr id="169" name="AutoShape 3"/>
                <p:cNvSpPr/>
                <p:nvPr/>
              </p:nvSpPr>
              <p:spPr>
                <a:xfrm>
                  <a:off x="3400560" y="2550960"/>
                  <a:ext cx="2305080" cy="721080"/>
                </a:xfrm>
                <a:prstGeom prst="roundRect">
                  <a:avLst>
                    <a:gd name="adj" fmla="val 16667"/>
                  </a:avLst>
                </a:prstGeom>
                <a:gradFill rotWithShape="0">
                  <a:gsLst>
                    <a:gs pos="0">
                      <a:srgbClr val="bfbfbf"/>
                    </a:gs>
                    <a:gs pos="100000">
                      <a:srgbClr val="7f7f7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" name="AutoShape 3"/>
                <p:cNvSpPr/>
                <p:nvPr/>
              </p:nvSpPr>
              <p:spPr>
                <a:xfrm>
                  <a:off x="3400560" y="2640960"/>
                  <a:ext cx="2305080" cy="54036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777777"/>
                </a:solidFill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Text Box 229"/>
              <p:cNvSpPr/>
              <p:nvPr/>
            </p:nvSpPr>
            <p:spPr>
              <a:xfrm>
                <a:off x="4141080" y="2772720"/>
                <a:ext cx="8236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点击添加标题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2" name="AutoShape 222"/>
            <p:cNvSpPr/>
            <p:nvPr/>
          </p:nvSpPr>
          <p:spPr>
            <a:xfrm>
              <a:off x="3471840" y="3252960"/>
              <a:ext cx="2162520" cy="74520"/>
            </a:xfrm>
            <a:custGeom>
              <a:avLst/>
              <a:gdLst>
                <a:gd name="textAreaLeft" fmla="*/ 220680 w 2162520"/>
                <a:gd name="textAreaRight" fmla="*/ 1941840 w 2162520"/>
                <a:gd name="textAreaTop" fmla="*/ 7560 h 74520"/>
                <a:gd name="textAreaBottom" fmla="*/ 66960 h 74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810" y="21600"/>
                  </a:lnTo>
                  <a:lnTo>
                    <a:pt x="2079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04040"/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AutoShape 196"/>
          <p:cNvSpPr/>
          <p:nvPr/>
        </p:nvSpPr>
        <p:spPr>
          <a:xfrm>
            <a:off x="6002280" y="3317760"/>
            <a:ext cx="2117880" cy="2195640"/>
          </a:xfrm>
          <a:custGeom>
            <a:avLst/>
            <a:gdLst>
              <a:gd name="textAreaLeft" fmla="*/ 23040 w 2117880"/>
              <a:gd name="textAreaRight" fmla="*/ 2094840 w 2117880"/>
              <a:gd name="textAreaTop" fmla="*/ 23040 h 2195640"/>
              <a:gd name="textAreaBottom" fmla="*/ 2172600 h 2195640"/>
            </a:gdLst>
            <a:ahLst/>
            <a:rect l="textAreaLeft" t="textAreaTop" r="textAreaRight" b="textAreaBottom"/>
            <a:pathLst>
              <a:path w="21600" h="22393">
                <a:moveTo>
                  <a:pt x="805" y="0"/>
                </a:moveTo>
                <a:arcTo wR="805" hR="805" stAng="16200000" swAng="-5400000"/>
                <a:lnTo>
                  <a:pt x="0" y="21588"/>
                </a:lnTo>
                <a:arcTo wR="805" hR="805" stAng="10800000" swAng="-5400000"/>
                <a:lnTo>
                  <a:pt x="20795" y="22393"/>
                </a:lnTo>
                <a:arcTo wR="805" hR="805" stAng="5400000" swAng="-5400000"/>
                <a:lnTo>
                  <a:pt x="21600" y="805"/>
                </a:lnTo>
                <a:arcTo wR="805" hR="805" stAng="0" swAng="-5400000"/>
                <a:close/>
              </a:path>
            </a:pathLst>
          </a:custGeom>
          <a:solidFill>
            <a:srgbClr val="d9d9d9">
              <a:alpha val="70000"/>
            </a:srgbClr>
          </a:solidFill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228"/>
          <p:cNvSpPr/>
          <p:nvPr/>
        </p:nvSpPr>
        <p:spPr>
          <a:xfrm>
            <a:off x="6275520" y="3911760"/>
            <a:ext cx="1571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229"/>
          <p:cNvSpPr/>
          <p:nvPr/>
        </p:nvSpPr>
        <p:spPr>
          <a:xfrm>
            <a:off x="6275520" y="4371840"/>
            <a:ext cx="1571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组合 40"/>
          <p:cNvGrpSpPr/>
          <p:nvPr/>
        </p:nvGrpSpPr>
        <p:grpSpPr>
          <a:xfrm>
            <a:off x="5910120" y="2550960"/>
            <a:ext cx="2303640" cy="776520"/>
            <a:chOff x="5910120" y="2550960"/>
            <a:chExt cx="2303640" cy="776520"/>
          </a:xfrm>
        </p:grpSpPr>
        <p:grpSp>
          <p:nvGrpSpPr>
            <p:cNvPr id="177" name="组合 64"/>
            <p:cNvGrpSpPr/>
            <p:nvPr/>
          </p:nvGrpSpPr>
          <p:grpSpPr>
            <a:xfrm>
              <a:off x="5910120" y="2550960"/>
              <a:ext cx="2303640" cy="721080"/>
              <a:chOff x="5910120" y="2550960"/>
              <a:chExt cx="2303640" cy="721080"/>
            </a:xfrm>
          </p:grpSpPr>
          <p:grpSp>
            <p:nvGrpSpPr>
              <p:cNvPr id="178" name="组合 57"/>
              <p:cNvGrpSpPr/>
              <p:nvPr/>
            </p:nvGrpSpPr>
            <p:grpSpPr>
              <a:xfrm>
                <a:off x="5910120" y="2550960"/>
                <a:ext cx="2303640" cy="721080"/>
                <a:chOff x="5910120" y="2550960"/>
                <a:chExt cx="2303640" cy="721080"/>
              </a:xfrm>
            </p:grpSpPr>
            <p:sp>
              <p:nvSpPr>
                <p:cNvPr id="179" name="AutoShape 3"/>
                <p:cNvSpPr/>
                <p:nvPr/>
              </p:nvSpPr>
              <p:spPr>
                <a:xfrm>
                  <a:off x="5910120" y="2550960"/>
                  <a:ext cx="2303640" cy="721080"/>
                </a:xfrm>
                <a:prstGeom prst="roundRect">
                  <a:avLst>
                    <a:gd name="adj" fmla="val 16667"/>
                  </a:avLst>
                </a:prstGeom>
                <a:gradFill rotWithShape="0">
                  <a:gsLst>
                    <a:gs pos="0">
                      <a:srgbClr val="bfbfbf"/>
                    </a:gs>
                    <a:gs pos="100000">
                      <a:srgbClr val="7f7f7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" name="AutoShape 3"/>
                <p:cNvSpPr/>
                <p:nvPr/>
              </p:nvSpPr>
              <p:spPr>
                <a:xfrm>
                  <a:off x="5910120" y="2640960"/>
                  <a:ext cx="2303640" cy="54036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777777"/>
                </a:solidFill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1" name="Text Box 229"/>
              <p:cNvSpPr/>
              <p:nvPr/>
            </p:nvSpPr>
            <p:spPr>
              <a:xfrm>
                <a:off x="6649920" y="2772720"/>
                <a:ext cx="8236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点击添加标题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2" name="AutoShape 222"/>
            <p:cNvSpPr/>
            <p:nvPr/>
          </p:nvSpPr>
          <p:spPr>
            <a:xfrm>
              <a:off x="5981400" y="3252960"/>
              <a:ext cx="2161080" cy="74520"/>
            </a:xfrm>
            <a:custGeom>
              <a:avLst/>
              <a:gdLst>
                <a:gd name="textAreaLeft" fmla="*/ 220320 w 2161080"/>
                <a:gd name="textAreaRight" fmla="*/ 1940760 w 2161080"/>
                <a:gd name="textAreaTop" fmla="*/ 7560 h 74520"/>
                <a:gd name="textAreaBottom" fmla="*/ 66960 h 74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810" y="21600"/>
                  </a:lnTo>
                  <a:lnTo>
                    <a:pt x="2079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04040"/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0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4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4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4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500"/>
                            </p:stCondLst>
                            <p:childTnLst>
                              <p:par>
                                <p:cTn id="2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 Box 13"/>
          <p:cNvSpPr/>
          <p:nvPr/>
        </p:nvSpPr>
        <p:spPr>
          <a:xfrm>
            <a:off x="7500960" y="353880"/>
            <a:ext cx="1098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11"/>
          <p:cNvSpPr/>
          <p:nvPr/>
        </p:nvSpPr>
        <p:spPr>
          <a:xfrm>
            <a:off x="5834160" y="2583000"/>
            <a:ext cx="2307960" cy="9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禾本科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(Poaceae)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竹亚科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(Bambusoideae)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高大乔木状禾草类植物的通称。植物学文献中记载有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75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属以上，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1,200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多种，但其中许多是同物异名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3" descr=""/>
          <p:cNvPicPr/>
          <p:nvPr/>
        </p:nvPicPr>
        <p:blipFill>
          <a:blip r:embed="rId1"/>
          <a:stretch/>
        </p:blipFill>
        <p:spPr>
          <a:xfrm>
            <a:off x="917640" y="1338120"/>
            <a:ext cx="4317840" cy="4297680"/>
          </a:xfrm>
          <a:prstGeom prst="rect">
            <a:avLst/>
          </a:prstGeom>
          <a:ln cap="sq" w="88920">
            <a:solidFill>
              <a:srgbClr val="ffffff"/>
            </a:solidFill>
            <a:miter/>
          </a:ln>
          <a:effectLst>
            <a:outerShdw dist="18000" dir="5400000" blurRad="0" rotWithShape="0">
              <a:srgbClr val="000000">
                <a:alpha val="38000"/>
              </a:srgbClr>
            </a:outerShdw>
          </a:effectLst>
        </p:spPr>
      </p:pic>
      <p:sp>
        <p:nvSpPr>
          <p:cNvPr id="189" name=""/>
          <p:cNvSpPr/>
          <p:nvPr/>
        </p:nvSpPr>
        <p:spPr>
          <a:xfrm>
            <a:off x="157320" y="64231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0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图片 3" descr="04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91" name="TextBox 12" descr=""/>
          <p:cNvPicPr/>
          <p:nvPr/>
        </p:nvPicPr>
        <p:blipFill>
          <a:blip r:embed="rId2"/>
          <a:stretch/>
        </p:blipFill>
        <p:spPr>
          <a:xfrm>
            <a:off x="927000" y="4224240"/>
            <a:ext cx="1316160" cy="1444680"/>
          </a:xfrm>
          <a:prstGeom prst="rect">
            <a:avLst/>
          </a:prstGeom>
          <a:ln w="0">
            <a:noFill/>
          </a:ln>
        </p:spPr>
      </p:pic>
      <p:pic>
        <p:nvPicPr>
          <p:cNvPr id="192" name="TextBox 13" descr=""/>
          <p:cNvPicPr/>
          <p:nvPr/>
        </p:nvPicPr>
        <p:blipFill>
          <a:blip r:embed="rId3"/>
          <a:stretch/>
        </p:blipFill>
        <p:spPr>
          <a:xfrm>
            <a:off x="1779480" y="4541760"/>
            <a:ext cx="1311480" cy="1451160"/>
          </a:xfrm>
          <a:prstGeom prst="rect">
            <a:avLst/>
          </a:prstGeom>
          <a:ln w="0">
            <a:noFill/>
          </a:ln>
        </p:spPr>
      </p:pic>
      <p:pic>
        <p:nvPicPr>
          <p:cNvPr id="193" name="TextBox 14" descr=""/>
          <p:cNvPicPr/>
          <p:nvPr/>
        </p:nvPicPr>
        <p:blipFill>
          <a:blip r:embed="rId4"/>
          <a:stretch/>
        </p:blipFill>
        <p:spPr>
          <a:xfrm>
            <a:off x="3382920" y="4992840"/>
            <a:ext cx="1579680" cy="585720"/>
          </a:xfrm>
          <a:prstGeom prst="rect">
            <a:avLst/>
          </a:prstGeom>
          <a:ln w="0">
            <a:noFill/>
          </a:ln>
        </p:spPr>
      </p:pic>
      <p:pic>
        <p:nvPicPr>
          <p:cNvPr id="194" name="图片 15" descr="02.png"/>
          <p:cNvPicPr/>
          <p:nvPr/>
        </p:nvPicPr>
        <p:blipFill>
          <a:blip r:embed="rId5"/>
          <a:stretch/>
        </p:blipFill>
        <p:spPr>
          <a:xfrm>
            <a:off x="187200" y="1214280"/>
            <a:ext cx="8769600" cy="2660760"/>
          </a:xfrm>
          <a:prstGeom prst="rect">
            <a:avLst/>
          </a:prstGeom>
          <a:ln cap="sq" w="88920">
            <a:solidFill>
              <a:srgbClr val="ffffff"/>
            </a:solidFill>
            <a:miter/>
          </a:ln>
          <a:effectLst>
            <a:outerShdw dist="18000" dir="5400000" blurRad="0" rotWithShape="0">
              <a:srgbClr val="000000">
                <a:alpha val="38000"/>
              </a:srgbClr>
            </a:outerShdw>
          </a:effectLst>
        </p:spPr>
      </p:pic>
      <p:pic>
        <p:nvPicPr>
          <p:cNvPr id="195" name="图片 16" descr="02.png"/>
          <p:cNvPicPr/>
          <p:nvPr/>
        </p:nvPicPr>
        <p:blipFill>
          <a:blip r:embed="rId6"/>
          <a:stretch/>
        </p:blipFill>
        <p:spPr>
          <a:xfrm>
            <a:off x="187200" y="1214280"/>
            <a:ext cx="8769600" cy="2660760"/>
          </a:xfrm>
          <a:prstGeom prst="rect">
            <a:avLst/>
          </a:prstGeom>
          <a:ln w="0">
            <a:noFill/>
          </a:ln>
          <a:effectLst>
            <a:outerShdw dist="18000" dir="5400000" blurRad="0" rotWithShape="0">
              <a:srgbClr val="000000">
                <a:alpha val="38000"/>
              </a:srgbClr>
            </a:outerShdw>
          </a:effectLst>
        </p:spPr>
      </p:pic>
      <p:sp>
        <p:nvSpPr>
          <p:cNvPr id="196" name="矩形 17"/>
          <p:cNvSpPr/>
          <p:nvPr/>
        </p:nvSpPr>
        <p:spPr>
          <a:xfrm>
            <a:off x="-1428840" y="1233360"/>
            <a:ext cx="1428840" cy="2627280"/>
          </a:xfrm>
          <a:prstGeom prst="rect">
            <a:avLst/>
          </a:prstGeom>
          <a:gradFill rotWithShape="0">
            <a:gsLst>
              <a:gs pos="0">
                <a:srgbClr val="ffffff">
                  <a:alpha val="38039"/>
                </a:srgbClr>
              </a:gs>
              <a:gs pos="100000">
                <a:srgbClr val="ffffff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矩形 18"/>
          <p:cNvSpPr/>
          <p:nvPr/>
        </p:nvSpPr>
        <p:spPr>
          <a:xfrm rot="10800000">
            <a:off x="9143640" y="1233360"/>
            <a:ext cx="647640" cy="2627280"/>
          </a:xfrm>
          <a:prstGeom prst="rect">
            <a:avLst/>
          </a:prstGeom>
          <a:gradFill rotWithShape="0">
            <a:gsLst>
              <a:gs pos="0">
                <a:srgbClr val="ffffff">
                  <a:alpha val="38039"/>
                </a:srgbClr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E-006 0 L 1.28542 0 E">
                                      <p:cBhvr>
                                        <p:cTn id="311" dur="1000" fill="hold"/>
                                        <p:tgtEl>
                                          <p:spTgt spid="1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2" nodeType="withEffect" fill="hold" presetClass="path" presetID="63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0.12917 0 L -1.44375 0 E">
                                      <p:cBhvr>
                                        <p:cTn id="313" dur="1000" fill="hold"/>
                                        <p:tgtEl>
                                          <p:spTgt spid="1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14" presetSubtype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6" dur="9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1" presetSubtype="4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19" dur="4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600"/>
                            </p:stCondLst>
                            <p:childTnLst>
                              <p:par>
                                <p:cTn id="321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23" presetSubtype="3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2" presetSubtype="8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31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0T06:22:23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20T02:50:32Z</dcterms:modified>
  <cp:revision>16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