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AAB-056C-4C77-A4D0-6CD067EE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26D-4A72-4324-8464-A574DA5E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848CA-3E38-4D50-BD2B-E235F1A7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74802-8061-46BF-8A36-28626BF2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836B2-AF48-4B37-999D-0D02E17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057E0-8218-456C-9FA8-E5825C3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DBBAF-A440-4AD1-9D6F-5CA2B3BE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3AE6E-4FB8-4B79-BE86-8F43C7F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B639B-004C-4DBB-8CE2-65F83B8B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B1BD2-9FA9-4CF8-B623-A8929019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3B311-66AE-4BC4-9065-258442E7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5A589-1A2C-4D49-AAA8-2ED3E384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136-8C0C-46A6-99BA-6BA6FADF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0E51F-B953-4F0A-B895-3E52446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8708C-20DD-4B26-B100-2BF2BF0B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200A9-3FA6-4FDD-8CE4-6BA07004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8ACE1-FC66-4229-8A2F-562D1128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C98F8-B785-443A-9F1F-80E7A81B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95A2F-C8D1-4845-BE90-06360766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015CC-D8C2-40F2-AAD0-C532F664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972F9-C66F-489E-A7FF-49F08D99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310F4-2EAD-44FF-A963-48C918F7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60081-0649-412A-BD3D-B5DEC19D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A2E-F4B9-4AC3-935B-18708150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68CBF-4849-4260-8A6C-7667D109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E58DA-CD01-4CA6-A4FD-FCF406D9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390E0-6B97-4218-AA52-F4B0BC7E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DEA2B-9623-4F64-AE2D-7EF6A54E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574A7-4183-4518-B2EE-1386D1AE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529DF-4327-4235-A0C1-B20BD304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68D54-9A0A-4B91-8522-E93CF5AD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CA07E-2D65-46B6-9C27-F27D3C24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EAA11-01EB-44DA-8C19-52EB4063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523BB-3B67-4C8C-8DCB-79F82EFD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5B04-80BB-4ECA-A220-106B8096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4659D-A643-4731-A859-9BDCE107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917D1-0314-433B-B934-F6E2A6F2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6F7CC-3524-4447-BB0E-90AA9120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142DD-2666-45DA-814D-44B1DF95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3BF32-9F25-44C3-BE0B-2A0BA86E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C1FE4-008A-4480-8C8F-FA97304D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BF023-13FE-428E-89C7-784DD0E8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276F2-33E4-4FFD-BC02-85062072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F59F3-0890-420C-907B-49939FDD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04877-E678-4B9C-B2CB-2A0F468A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DFA4-1999-421B-AF21-7EF2E25C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B05E3-3C4D-4DEE-ACA9-6D2D33A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934BD-43FA-482C-B595-9645326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48D36-0D49-4CD6-87A0-3AD17E69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A2073-F854-4D04-888C-A868723D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9DEE1-882A-4842-9910-BB415818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EE98F-8467-47C8-8A7F-4597FB5A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2C52E-5250-452A-B3FE-D6D7B694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E7920-07AA-44F6-B61C-8391659A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0E63F-9D45-4E4B-85C8-D307B277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82DD7-A4DE-4FD0-ABD1-8FA4EF5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7636-7A94-4EA1-B603-661FD05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14FE9-55EC-40BF-A662-C8156397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F0552-2D22-463F-A5E2-63A16C4D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67A13-7382-4E49-830F-722E5F93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C5844-E593-40DD-ABD0-0C2E5205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465B3-F5DE-426B-8193-CF7302B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83473-00DC-4E36-8E30-71B5D121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7B1DC-CA98-4089-9983-CE0FE963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0E83-80CC-4248-BDDF-3F5A09BB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8986-7757-4380-A604-01EE621E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DED3-DC36-4D80-A417-89E95D63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6434-E353-490F-98B1-4D89812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C0E-1F37-4436-BFE6-76203AA7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692D-4047-46C5-9277-3754DA60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C949-3DC8-4957-8120-08EA2B1D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2991-30C3-40A8-AB7A-4629A6DB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9513-2768-47F2-9448-2A3BD59C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5D15-E3FB-4110-B968-558E85F6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5012-7F07-41AA-9D0F-A70C4143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09F5-C893-4CF8-9A21-AC9F200D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5142-15B9-435D-BDE6-8585B661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CCDA-1CFC-447A-AF41-3E117CD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AFC9-A362-4DE7-8016-1E1CAAE8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574-74C0-4B52-8542-7FFEB80C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7009-D1AD-4333-8946-84D28CC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1FF5-6A4D-492F-9217-51B87133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626C-BEF6-4A63-B22F-3F8D5FCA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A707-35CF-4995-BCE6-CD82EAEA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88D4-90B5-4B32-8C45-E2E8BD4E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21CF3-A738-4035-B70D-629139EC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529EE-10E7-40F5-949F-F2CBD8F6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5764-BFDA-4CFA-9BD3-D29DA826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39D99-624C-49A8-9FB2-A4B1F7EC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314C2-4338-453A-8F80-CC255A2E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A2C-78CC-4DC5-BCAA-389913DC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1E70-6BE4-44C9-ACF3-3E59C0F0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C1BE9-D948-4EA1-91FA-D8872E7B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BEE6-AE24-443F-8EFD-CEAF46B0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6EDFF-8365-4734-AC06-DFCEC6E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9E23-D227-4D40-8C53-78E38585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4846-56E9-4FCB-9004-8220D19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48F5-9718-4C2F-A567-3C9F88CF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F550-5151-4A68-B90B-8EF677CD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3AF4D-5086-4054-92E4-3111427B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8088D-D07C-44E5-A53F-EA9BB542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F75-EAAF-4DE0-B11A-1558D57C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12801-F451-49A0-AB72-BD00EDBF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2F2C-8A37-4368-91DE-1BD97F1B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4374A-D33A-4B9B-AD52-2AE9F80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7A66-69AA-4500-BF9F-EEDDAA4C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70D8-FEEB-4C45-A183-595CB1DF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7454C-F2A1-4E88-8C70-6115EC1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BD1A0-4C13-4B2A-AD10-E2192EB0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23CD-9121-4C9B-A7A9-9B62EA4E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4F967-E207-471A-ABA7-8A430A5A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83D65-770D-4B34-84D3-AE2452D4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1DD-A07A-4A9F-B6F6-2B14B726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EDB81-7B80-4F5F-BCB4-7F001958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D5790-8D34-4FBD-9A6D-7C1B42C6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03556-9A3C-4FA5-8426-2E8D615B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EFC57-F987-4E9C-97C1-F48F60BC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BEB39-D19E-4EEC-A77C-5C7D014E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88277-CDA3-47EF-BA10-CA5DE9E6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BBDD0-6AE8-436B-968D-734CE09F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4A2EC-DDE1-4763-A1CE-6C8433C6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BACF1-DAD1-452E-B4CC-9AD65BBC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60DF6-C5C8-445C-A1E9-35B03894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0DB-A713-4AA3-BC02-E2A79FF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83DB-D2E1-4767-B481-D1B0F0DF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7EAF2-3566-4236-A2F4-CE86BB61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D1A7B-DBBB-430C-9ADF-C926DE92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FA33D-26F4-4D6D-8B34-7630488F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9866E-6A94-4EBE-AB74-DC57C662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2230-1388-4692-9209-EF4D227D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205C-C1FD-4753-8564-FF22E455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38D7E-DC5D-44CB-B2AB-33E42EBF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119DE-2525-4146-B3BA-A6BCF100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754C0-F6AC-4519-A416-87FAEF9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F90-ECEE-4D68-B2AC-03396AB8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19157-4A17-421D-9BDB-865C5C11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B857B-304A-4FAA-9C35-1D286D1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00995-FAA8-4DC1-B736-038B4A0B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F3BBF-7731-4C2E-A569-714374A2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D443C-7251-4A6D-967A-F233DFA9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A433D-60C5-4AF8-A754-5AA170C4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FA0D2-E4FA-4BE5-A445-F465436E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491DA-CB96-4290-A1FB-ACBED320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4F8E0-1FBD-47FA-A5C3-417F79A6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B9A77-DB3B-4AA3-B56B-480F516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B55-7AC3-4772-B1CA-3C4A2C3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82E6A-DC2F-4D96-B716-0757C239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D7796-D9A2-4001-A993-6706D08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3646-0419-49D3-B8BF-297CBC86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A9CF7-9B06-4383-BA21-78BE2BC8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DD61A-F700-455F-BC6D-9315C4E8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BBC29-3FF0-4CF6-88E1-2508A4A4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7E32B-C5B4-4708-B87B-35F1DCE0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AF6FF-B9AC-418F-B9B2-A9940D1B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15B41-AF08-4462-AEC6-53C507A8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E59D7-E408-4A8F-A214-D25B1613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-OTF 新ゴ Pro 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3765-E211-4D57-B059-E13FFF0B450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-OTF 新ゴ Pro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F9C-8066-494D-B136-FA696E6E15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B411-EF9B-4E58-9E02-A39F365AFA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81FF-8A55-4655-8C1C-56FE47187E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D464-0110-4449-A6F4-A7B2CAC2A3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FB4E-3370-4231-AA88-700FE041A4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21F8-ACC0-4530-A941-08DB53AE57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8817-F76B-4242-843E-FB22718647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E63E-F334-422B-A6F8-9B20C6CDB6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4AF6-AD8F-49B4-8FC5-0B8B892917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5E7B-B73F-4C12-8644-5B800BA1A5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2FEA-3048-4C52-BF8B-9A8B914027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672C-4676-4682-8241-7A4F42B54C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5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88880" y="260280"/>
          <a:ext cx="3456000" cy="79236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Janu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5" name="Picture 158" descr=""/>
          <p:cNvPicPr/>
          <p:nvPr/>
        </p:nvPicPr>
        <p:blipFill>
          <a:blip r:embed="rId1"/>
          <a:srcRect l="0" t="0" r="0" b="16605"/>
          <a:stretch/>
        </p:blipFill>
        <p:spPr>
          <a:xfrm>
            <a:off x="7361280" y="1125360"/>
            <a:ext cx="2265480" cy="267840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537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元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矩形 1"/>
          <p:cNvSpPr/>
          <p:nvPr/>
        </p:nvSpPr>
        <p:spPr>
          <a:xfrm>
            <a:off x="3035880" y="-698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历欣赏个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矩形 10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3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454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498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77e2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99" name=""/>
          <p:cNvGraphicFramePr/>
          <p:nvPr/>
        </p:nvGraphicFramePr>
        <p:xfrm>
          <a:off x="488880" y="260280"/>
          <a:ext cx="4608720" cy="792360"/>
        </p:xfrm>
        <a:graphic>
          <a:graphicData uri="http://schemas.openxmlformats.org/drawingml/2006/table">
            <a:tbl>
              <a:tblPr/>
              <a:tblGrid>
                <a:gridCol w="4608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Octo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0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国庆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4" name="Picture 209" descr=""/>
          <p:cNvPicPr/>
          <p:nvPr/>
        </p:nvPicPr>
        <p:blipFill>
          <a:blip r:embed="rId1"/>
          <a:stretch/>
        </p:blipFill>
        <p:spPr>
          <a:xfrm>
            <a:off x="7400880" y="1525680"/>
            <a:ext cx="2232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5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556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00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cd1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1" name=""/>
          <p:cNvGraphicFramePr/>
          <p:nvPr/>
        </p:nvGraphicFramePr>
        <p:xfrm>
          <a:off x="488880" y="260280"/>
          <a:ext cx="4608720" cy="792360"/>
        </p:xfrm>
        <a:graphic>
          <a:graphicData uri="http://schemas.openxmlformats.org/drawingml/2006/table">
            <a:tbl>
              <a:tblPr/>
              <a:tblGrid>
                <a:gridCol w="4608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11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Nove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2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Gothic"/>
              </a:rPr>
              <a:t>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Gothic"/>
              </a:rPr>
              <a:t>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Gothic"/>
              </a:rPr>
              <a:t>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23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Arial"/>
                <a:ea typeface="MS Gothic"/>
              </a:rPr>
              <a:t>　　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6" name="Picture 211" descr=""/>
          <p:cNvPicPr/>
          <p:nvPr/>
        </p:nvPicPr>
        <p:blipFill>
          <a:blip r:embed="rId1"/>
          <a:srcRect l="7381" t="0" r="3683" b="0"/>
          <a:stretch/>
        </p:blipFill>
        <p:spPr>
          <a:xfrm>
            <a:off x="7400880" y="1916280"/>
            <a:ext cx="2225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7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658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02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010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3" name=""/>
          <p:cNvGraphicFramePr/>
          <p:nvPr/>
        </p:nvGraphicFramePr>
        <p:xfrm>
          <a:off x="488880" y="260280"/>
          <a:ext cx="4608720" cy="792360"/>
        </p:xfrm>
        <a:graphic>
          <a:graphicData uri="http://schemas.openxmlformats.org/drawingml/2006/table">
            <a:tbl>
              <a:tblPr/>
              <a:tblGrid>
                <a:gridCol w="4608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1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Dece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8" name="Picture 211" descr=""/>
          <p:cNvPicPr/>
          <p:nvPr/>
        </p:nvPicPr>
        <p:blipFill>
          <a:blip r:embed="rId1"/>
          <a:srcRect l="1923" t="1838" r="0" b="0"/>
          <a:stretch/>
        </p:blipFill>
        <p:spPr>
          <a:xfrm>
            <a:off x="7473960" y="1413000"/>
            <a:ext cx="22953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849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88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Rectangle 7"/>
          <p:cNvSpPr/>
          <p:nvPr/>
        </p:nvSpPr>
        <p:spPr>
          <a:xfrm>
            <a:off x="7667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189" descr=""/>
          <p:cNvPicPr/>
          <p:nvPr/>
        </p:nvPicPr>
        <p:blipFill>
          <a:blip r:embed="rId1"/>
          <a:stretch/>
        </p:blipFill>
        <p:spPr>
          <a:xfrm>
            <a:off x="7056360" y="1052640"/>
            <a:ext cx="2865600" cy="286524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3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639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83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29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Febru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Arial"/>
                <a:ea typeface="宋体"/>
              </a:rPr>
              <a:t>除夕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初一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初二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197" descr=""/>
          <p:cNvPicPr/>
          <p:nvPr/>
        </p:nvPicPr>
        <p:blipFill>
          <a:blip r:embed="rId1"/>
          <a:srcRect l="0" t="0" r="0" b="3687"/>
          <a:stretch/>
        </p:blipFill>
        <p:spPr>
          <a:xfrm>
            <a:off x="7473960" y="1160640"/>
            <a:ext cx="2122560" cy="2773080"/>
          </a:xfrm>
          <a:prstGeom prst="rect">
            <a:avLst/>
          </a:prstGeom>
          <a:ln w="0">
            <a:noFill/>
          </a:ln>
        </p:spPr>
      </p:pic>
      <p:grpSp>
        <p:nvGrpSpPr>
          <p:cNvPr id="740" name="Group 3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741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785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2901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M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7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妇女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23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Gothic"/>
              </a:rPr>
              <a:t>24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198" descr=""/>
          <p:cNvPicPr/>
          <p:nvPr/>
        </p:nvPicPr>
        <p:blipFill>
          <a:blip r:embed="rId1"/>
          <a:srcRect l="0" t="0" r="23750" b="0"/>
          <a:stretch/>
        </p:blipFill>
        <p:spPr>
          <a:xfrm>
            <a:off x="7219800" y="1268280"/>
            <a:ext cx="2451240" cy="2592360"/>
          </a:xfrm>
          <a:prstGeom prst="rect">
            <a:avLst/>
          </a:prstGeom>
          <a:ln w="0">
            <a:noFill/>
          </a:ln>
        </p:spPr>
      </p:pic>
      <p:grpSp>
        <p:nvGrpSpPr>
          <p:cNvPr id="842" name="Group 3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843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87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5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Apr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9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AutoShape 64"/>
          <p:cNvSpPr/>
          <p:nvPr/>
        </p:nvSpPr>
        <p:spPr>
          <a:xfrm>
            <a:off x="2381400" y="114300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944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88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85d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9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M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0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劳动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4" name="Picture 199" descr=""/>
          <p:cNvPicPr/>
          <p:nvPr/>
        </p:nvPicPr>
        <p:blipFill>
          <a:blip r:embed="rId1"/>
          <a:srcRect l="0" t="0" r="0" b="16605"/>
          <a:stretch/>
        </p:blipFill>
        <p:spPr>
          <a:xfrm>
            <a:off x="7400880" y="1184400"/>
            <a:ext cx="22208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046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90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c25c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1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Ju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2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儿童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8</a:t>
            </a:r>
            <a:br>
              <a:rPr sz="2000"/>
            </a:b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端午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6" name="Picture 200" descr=""/>
          <p:cNvPicPr/>
          <p:nvPr/>
        </p:nvPicPr>
        <p:blipFill>
          <a:blip r:embed="rId1"/>
          <a:srcRect l="0" t="0" r="0" b="12178"/>
          <a:stretch/>
        </p:blipFill>
        <p:spPr>
          <a:xfrm>
            <a:off x="7400880" y="1157400"/>
            <a:ext cx="223200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148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192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add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3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Ju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4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Picture 202" descr=""/>
          <p:cNvPicPr/>
          <p:nvPr/>
        </p:nvPicPr>
        <p:blipFill>
          <a:blip r:embed="rId1"/>
          <a:srcRect l="0" t="0" r="0" b="33222"/>
          <a:stretch/>
        </p:blipFill>
        <p:spPr>
          <a:xfrm>
            <a:off x="7292880" y="1125360"/>
            <a:ext cx="23400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9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250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294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5d71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5" name=""/>
          <p:cNvGraphicFramePr/>
          <p:nvPr/>
        </p:nvGraphicFramePr>
        <p:xfrm>
          <a:off x="488880" y="260280"/>
          <a:ext cx="3888000" cy="792360"/>
        </p:xfrm>
        <a:graphic>
          <a:graphicData uri="http://schemas.openxmlformats.org/drawingml/2006/table">
            <a:tbl>
              <a:tblPr/>
              <a:tblGrid>
                <a:gridCol w="3888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8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Augu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解放军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纪念日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24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MS Gothic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0" name="Picture 203" descr=""/>
          <p:cNvPicPr/>
          <p:nvPr/>
        </p:nvPicPr>
        <p:blipFill>
          <a:blip r:embed="rId1"/>
          <a:srcRect l="9531" t="0" r="19063" b="0"/>
          <a:stretch/>
        </p:blipFill>
        <p:spPr>
          <a:xfrm>
            <a:off x="7400880" y="1339920"/>
            <a:ext cx="2274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2"/>
          <p:cNvGrpSpPr/>
          <p:nvPr/>
        </p:nvGrpSpPr>
        <p:grpSpPr>
          <a:xfrm>
            <a:off x="439560" y="1149480"/>
            <a:ext cx="9217080" cy="5451480"/>
            <a:chOff x="439560" y="1149480"/>
            <a:chExt cx="9217080" cy="5451480"/>
          </a:xfrm>
        </p:grpSpPr>
        <p:sp>
          <p:nvSpPr>
            <p:cNvPr id="1352" name="AutoShape 59"/>
            <p:cNvSpPr/>
            <p:nvPr/>
          </p:nvSpPr>
          <p:spPr>
            <a:xfrm>
              <a:off x="44100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AutoShape 62"/>
            <p:cNvSpPr/>
            <p:nvPr/>
          </p:nvSpPr>
          <p:spPr>
            <a:xfrm>
              <a:off x="14266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AutoShape 64"/>
            <p:cNvSpPr/>
            <p:nvPr/>
          </p:nvSpPr>
          <p:spPr>
            <a:xfrm>
              <a:off x="2409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AutoShape 65"/>
            <p:cNvSpPr/>
            <p:nvPr/>
          </p:nvSpPr>
          <p:spPr>
            <a:xfrm>
              <a:off x="337644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AutoShape 66"/>
            <p:cNvSpPr/>
            <p:nvPr/>
          </p:nvSpPr>
          <p:spPr>
            <a:xfrm>
              <a:off x="430992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AutoShape 67"/>
            <p:cNvSpPr/>
            <p:nvPr/>
          </p:nvSpPr>
          <p:spPr>
            <a:xfrm>
              <a:off x="526248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AutoShape 68"/>
            <p:cNvSpPr/>
            <p:nvPr/>
          </p:nvSpPr>
          <p:spPr>
            <a:xfrm>
              <a:off x="6248160" y="1149480"/>
              <a:ext cx="880920" cy="37116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AutoShape 79"/>
            <p:cNvSpPr/>
            <p:nvPr/>
          </p:nvSpPr>
          <p:spPr>
            <a:xfrm>
              <a:off x="4395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AutoShape 80"/>
            <p:cNvSpPr/>
            <p:nvPr/>
          </p:nvSpPr>
          <p:spPr>
            <a:xfrm>
              <a:off x="14266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AutoShape 81"/>
            <p:cNvSpPr/>
            <p:nvPr/>
          </p:nvSpPr>
          <p:spPr>
            <a:xfrm>
              <a:off x="2409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AutoShape 82"/>
            <p:cNvSpPr/>
            <p:nvPr/>
          </p:nvSpPr>
          <p:spPr>
            <a:xfrm>
              <a:off x="337644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AutoShape 83"/>
            <p:cNvSpPr/>
            <p:nvPr/>
          </p:nvSpPr>
          <p:spPr>
            <a:xfrm>
              <a:off x="430992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AutoShape 84"/>
            <p:cNvSpPr/>
            <p:nvPr/>
          </p:nvSpPr>
          <p:spPr>
            <a:xfrm>
              <a:off x="526248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AutoShape 85"/>
            <p:cNvSpPr/>
            <p:nvPr/>
          </p:nvSpPr>
          <p:spPr>
            <a:xfrm>
              <a:off x="6248160" y="1633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AutoShape 86"/>
            <p:cNvSpPr/>
            <p:nvPr/>
          </p:nvSpPr>
          <p:spPr>
            <a:xfrm>
              <a:off x="4395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AutoShape 87"/>
            <p:cNvSpPr/>
            <p:nvPr/>
          </p:nvSpPr>
          <p:spPr>
            <a:xfrm>
              <a:off x="14266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AutoShape 88"/>
            <p:cNvSpPr/>
            <p:nvPr/>
          </p:nvSpPr>
          <p:spPr>
            <a:xfrm>
              <a:off x="2409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AutoShape 89"/>
            <p:cNvSpPr/>
            <p:nvPr/>
          </p:nvSpPr>
          <p:spPr>
            <a:xfrm>
              <a:off x="337644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AutoShape 90"/>
            <p:cNvSpPr/>
            <p:nvPr/>
          </p:nvSpPr>
          <p:spPr>
            <a:xfrm>
              <a:off x="430992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AutoShape 91"/>
            <p:cNvSpPr/>
            <p:nvPr/>
          </p:nvSpPr>
          <p:spPr>
            <a:xfrm>
              <a:off x="526248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AutoShape 92"/>
            <p:cNvSpPr/>
            <p:nvPr/>
          </p:nvSpPr>
          <p:spPr>
            <a:xfrm>
              <a:off x="6248160" y="26413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AutoShape 93"/>
            <p:cNvSpPr/>
            <p:nvPr/>
          </p:nvSpPr>
          <p:spPr>
            <a:xfrm>
              <a:off x="4395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AutoShape 94"/>
            <p:cNvSpPr/>
            <p:nvPr/>
          </p:nvSpPr>
          <p:spPr>
            <a:xfrm>
              <a:off x="14266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AutoShape 95"/>
            <p:cNvSpPr/>
            <p:nvPr/>
          </p:nvSpPr>
          <p:spPr>
            <a:xfrm>
              <a:off x="2409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AutoShape 96"/>
            <p:cNvSpPr/>
            <p:nvPr/>
          </p:nvSpPr>
          <p:spPr>
            <a:xfrm>
              <a:off x="337644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AutoShape 97"/>
            <p:cNvSpPr/>
            <p:nvPr/>
          </p:nvSpPr>
          <p:spPr>
            <a:xfrm>
              <a:off x="430992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AutoShape 98"/>
            <p:cNvSpPr/>
            <p:nvPr/>
          </p:nvSpPr>
          <p:spPr>
            <a:xfrm>
              <a:off x="526248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AutoShape 99"/>
            <p:cNvSpPr/>
            <p:nvPr/>
          </p:nvSpPr>
          <p:spPr>
            <a:xfrm>
              <a:off x="6248160" y="364752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AutoShape 100"/>
            <p:cNvSpPr/>
            <p:nvPr/>
          </p:nvSpPr>
          <p:spPr>
            <a:xfrm>
              <a:off x="4395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AutoShape 101"/>
            <p:cNvSpPr/>
            <p:nvPr/>
          </p:nvSpPr>
          <p:spPr>
            <a:xfrm>
              <a:off x="14266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AutoShape 102"/>
            <p:cNvSpPr/>
            <p:nvPr/>
          </p:nvSpPr>
          <p:spPr>
            <a:xfrm>
              <a:off x="2409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AutoShape 103"/>
            <p:cNvSpPr/>
            <p:nvPr/>
          </p:nvSpPr>
          <p:spPr>
            <a:xfrm>
              <a:off x="337644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AutoShape 104"/>
            <p:cNvSpPr/>
            <p:nvPr/>
          </p:nvSpPr>
          <p:spPr>
            <a:xfrm>
              <a:off x="430992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AutoShape 105"/>
            <p:cNvSpPr/>
            <p:nvPr/>
          </p:nvSpPr>
          <p:spPr>
            <a:xfrm>
              <a:off x="526248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AutoShape 106"/>
            <p:cNvSpPr/>
            <p:nvPr/>
          </p:nvSpPr>
          <p:spPr>
            <a:xfrm>
              <a:off x="6248160" y="4655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AutoShape 107"/>
            <p:cNvSpPr/>
            <p:nvPr/>
          </p:nvSpPr>
          <p:spPr>
            <a:xfrm>
              <a:off x="4395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AutoShape 108"/>
            <p:cNvSpPr/>
            <p:nvPr/>
          </p:nvSpPr>
          <p:spPr>
            <a:xfrm>
              <a:off x="14266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AutoShape 109"/>
            <p:cNvSpPr/>
            <p:nvPr/>
          </p:nvSpPr>
          <p:spPr>
            <a:xfrm>
              <a:off x="2409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AutoShape 110"/>
            <p:cNvSpPr/>
            <p:nvPr/>
          </p:nvSpPr>
          <p:spPr>
            <a:xfrm>
              <a:off x="337644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AutoShape 111"/>
            <p:cNvSpPr/>
            <p:nvPr/>
          </p:nvSpPr>
          <p:spPr>
            <a:xfrm>
              <a:off x="430992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AutoShape 112"/>
            <p:cNvSpPr/>
            <p:nvPr/>
          </p:nvSpPr>
          <p:spPr>
            <a:xfrm>
              <a:off x="526248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AutoShape 113"/>
            <p:cNvSpPr/>
            <p:nvPr/>
          </p:nvSpPr>
          <p:spPr>
            <a:xfrm>
              <a:off x="6248160" y="5663160"/>
              <a:ext cx="880920" cy="917280"/>
            </a:xfrm>
            <a:custGeom>
              <a:avLst/>
              <a:gdLst>
                <a:gd name="textAreaLeft" fmla="*/ 42840 w 880920"/>
                <a:gd name="textAreaRight" fmla="*/ 838080 w 880920"/>
                <a:gd name="textAreaTop" fmla="*/ 42840 h 917280"/>
                <a:gd name="textAreaBottom" fmla="*/ 874440 h 917280"/>
              </a:gdLst>
              <a:ahLst/>
              <a:rect l="textAreaLeft" t="textAreaTop" r="textAreaRight" b="textAreaBottom"/>
              <a:pathLst>
                <a:path w="21600" h="22491">
                  <a:moveTo>
                    <a:pt x="3600" y="0"/>
                  </a:moveTo>
                  <a:arcTo wR="3600" hR="3600" stAng="16200000" swAng="-5400000"/>
                  <a:lnTo>
                    <a:pt x="0" y="18891"/>
                  </a:lnTo>
                  <a:arcTo wR="3600" hR="3600" stAng="10800000" swAng="-5400000"/>
                  <a:lnTo>
                    <a:pt x="18000" y="224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AutoShape 160"/>
            <p:cNvSpPr/>
            <p:nvPr/>
          </p:nvSpPr>
          <p:spPr>
            <a:xfrm>
              <a:off x="7529400" y="4028400"/>
              <a:ext cx="2124000" cy="36000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AutoShape 161"/>
            <p:cNvSpPr/>
            <p:nvPr/>
          </p:nvSpPr>
          <p:spPr>
            <a:xfrm>
              <a:off x="7532640" y="4531680"/>
              <a:ext cx="2124000" cy="2069280"/>
            </a:xfrm>
            <a:prstGeom prst="roundRect">
              <a:avLst>
                <a:gd name="adj" fmla="val 16667"/>
              </a:avLst>
            </a:prstGeom>
            <a:solidFill>
              <a:srgbClr val="473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96" name=""/>
          <p:cNvGraphicFramePr/>
          <p:nvPr/>
        </p:nvGraphicFramePr>
        <p:xfrm>
          <a:off x="344520" y="189000"/>
          <a:ext cx="9288360" cy="792000"/>
        </p:xfrm>
        <a:graphic>
          <a:graphicData uri="http://schemas.openxmlformats.org/drawingml/2006/table">
            <a:tbl>
              <a:tblPr/>
              <a:tblGrid>
                <a:gridCol w="9288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569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7" name=""/>
          <p:cNvGraphicFramePr/>
          <p:nvPr/>
        </p:nvGraphicFramePr>
        <p:xfrm>
          <a:off x="488880" y="260280"/>
          <a:ext cx="4176720" cy="79236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2008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MS Gothic"/>
                        </a:rPr>
                        <a:t>Septe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8" name="AutoShape 59"/>
          <p:cNvSpPr/>
          <p:nvPr/>
        </p:nvSpPr>
        <p:spPr>
          <a:xfrm>
            <a:off x="41760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AutoShape 62"/>
          <p:cNvSpPr/>
          <p:nvPr/>
        </p:nvSpPr>
        <p:spPr>
          <a:xfrm>
            <a:off x="14032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m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AutoShape 64"/>
          <p:cNvSpPr/>
          <p:nvPr/>
        </p:nvSpPr>
        <p:spPr>
          <a:xfrm>
            <a:off x="238608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AutoShape 65"/>
          <p:cNvSpPr/>
          <p:nvPr/>
        </p:nvSpPr>
        <p:spPr>
          <a:xfrm>
            <a:off x="335268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AutoShape 66"/>
          <p:cNvSpPr/>
          <p:nvPr/>
        </p:nvSpPr>
        <p:spPr>
          <a:xfrm>
            <a:off x="4286160" y="1125360"/>
            <a:ext cx="88128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t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AutoShape 67"/>
          <p:cNvSpPr/>
          <p:nvPr/>
        </p:nvSpPr>
        <p:spPr>
          <a:xfrm>
            <a:off x="523872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650"/>
                </a:solidFill>
                <a:latin typeface="Arial"/>
              </a:rPr>
              <a:t>f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AutoShape 68"/>
          <p:cNvSpPr/>
          <p:nvPr/>
        </p:nvSpPr>
        <p:spPr>
          <a:xfrm>
            <a:off x="6224760" y="1125360"/>
            <a:ext cx="880920" cy="371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AutoShape 79"/>
          <p:cNvSpPr/>
          <p:nvPr/>
        </p:nvSpPr>
        <p:spPr>
          <a:xfrm>
            <a:off x="41580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AutoShape 80"/>
          <p:cNvSpPr/>
          <p:nvPr/>
        </p:nvSpPr>
        <p:spPr>
          <a:xfrm>
            <a:off x="14032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AutoShape 81"/>
          <p:cNvSpPr/>
          <p:nvPr/>
        </p:nvSpPr>
        <p:spPr>
          <a:xfrm>
            <a:off x="238608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AutoShape 82"/>
          <p:cNvSpPr/>
          <p:nvPr/>
        </p:nvSpPr>
        <p:spPr>
          <a:xfrm>
            <a:off x="335268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AutoShape 83"/>
          <p:cNvSpPr/>
          <p:nvPr/>
        </p:nvSpPr>
        <p:spPr>
          <a:xfrm>
            <a:off x="4286160" y="160956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AutoShape 84"/>
          <p:cNvSpPr/>
          <p:nvPr/>
        </p:nvSpPr>
        <p:spPr>
          <a:xfrm>
            <a:off x="523872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AutoShape 85"/>
          <p:cNvSpPr/>
          <p:nvPr/>
        </p:nvSpPr>
        <p:spPr>
          <a:xfrm>
            <a:off x="6224760" y="160956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AutoShape 86"/>
          <p:cNvSpPr/>
          <p:nvPr/>
        </p:nvSpPr>
        <p:spPr>
          <a:xfrm>
            <a:off x="41580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AutoShape 87"/>
          <p:cNvSpPr/>
          <p:nvPr/>
        </p:nvSpPr>
        <p:spPr>
          <a:xfrm>
            <a:off x="14032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AutoShape 88"/>
          <p:cNvSpPr/>
          <p:nvPr/>
        </p:nvSpPr>
        <p:spPr>
          <a:xfrm>
            <a:off x="238608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AutoShape 89"/>
          <p:cNvSpPr/>
          <p:nvPr/>
        </p:nvSpPr>
        <p:spPr>
          <a:xfrm>
            <a:off x="335268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AutoShape 90"/>
          <p:cNvSpPr/>
          <p:nvPr/>
        </p:nvSpPr>
        <p:spPr>
          <a:xfrm>
            <a:off x="4286160" y="261792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AutoShape 91"/>
          <p:cNvSpPr/>
          <p:nvPr/>
        </p:nvSpPr>
        <p:spPr>
          <a:xfrm>
            <a:off x="523872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AutoShape 92"/>
          <p:cNvSpPr/>
          <p:nvPr/>
        </p:nvSpPr>
        <p:spPr>
          <a:xfrm>
            <a:off x="6224760" y="261792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AutoShape 93"/>
          <p:cNvSpPr/>
          <p:nvPr/>
        </p:nvSpPr>
        <p:spPr>
          <a:xfrm>
            <a:off x="41580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中秋节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AutoShape 94"/>
          <p:cNvSpPr/>
          <p:nvPr/>
        </p:nvSpPr>
        <p:spPr>
          <a:xfrm>
            <a:off x="14032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AutoShape 95"/>
          <p:cNvSpPr/>
          <p:nvPr/>
        </p:nvSpPr>
        <p:spPr>
          <a:xfrm>
            <a:off x="238608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AutoShape 96"/>
          <p:cNvSpPr/>
          <p:nvPr/>
        </p:nvSpPr>
        <p:spPr>
          <a:xfrm>
            <a:off x="335268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AutoShape 97"/>
          <p:cNvSpPr/>
          <p:nvPr/>
        </p:nvSpPr>
        <p:spPr>
          <a:xfrm>
            <a:off x="4286160" y="362412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AutoShape 98"/>
          <p:cNvSpPr/>
          <p:nvPr/>
        </p:nvSpPr>
        <p:spPr>
          <a:xfrm>
            <a:off x="523872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AutoShape 99"/>
          <p:cNvSpPr/>
          <p:nvPr/>
        </p:nvSpPr>
        <p:spPr>
          <a:xfrm>
            <a:off x="6224760" y="362412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AutoShape 100"/>
          <p:cNvSpPr/>
          <p:nvPr/>
        </p:nvSpPr>
        <p:spPr>
          <a:xfrm>
            <a:off x="41580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AutoShape 101"/>
          <p:cNvSpPr/>
          <p:nvPr/>
        </p:nvSpPr>
        <p:spPr>
          <a:xfrm>
            <a:off x="14032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AutoShape 102"/>
          <p:cNvSpPr/>
          <p:nvPr/>
        </p:nvSpPr>
        <p:spPr>
          <a:xfrm>
            <a:off x="238608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AutoShape 103"/>
          <p:cNvSpPr/>
          <p:nvPr/>
        </p:nvSpPr>
        <p:spPr>
          <a:xfrm>
            <a:off x="335268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AutoShape 104"/>
          <p:cNvSpPr/>
          <p:nvPr/>
        </p:nvSpPr>
        <p:spPr>
          <a:xfrm>
            <a:off x="4286160" y="4632480"/>
            <a:ext cx="881280" cy="91728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82">
                <a:moveTo>
                  <a:pt x="3600" y="0"/>
                </a:moveTo>
                <a:arcTo wR="3600" hR="3600" stAng="16200000" swAng="-5400000"/>
                <a:lnTo>
                  <a:pt x="0" y="18882"/>
                </a:lnTo>
                <a:arcTo wR="3600" hR="3600" stAng="10800000" swAng="-5400000"/>
                <a:lnTo>
                  <a:pt x="18000" y="224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AutoShape 105"/>
          <p:cNvSpPr/>
          <p:nvPr/>
        </p:nvSpPr>
        <p:spPr>
          <a:xfrm>
            <a:off x="523872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AutoShape 106"/>
          <p:cNvSpPr/>
          <p:nvPr/>
        </p:nvSpPr>
        <p:spPr>
          <a:xfrm>
            <a:off x="6224760" y="4632480"/>
            <a:ext cx="880920" cy="91728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280"/>
              <a:gd name="textAreaBottom" fmla="*/ 874440 h 91728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MS Gothic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AutoShape 107"/>
          <p:cNvSpPr/>
          <p:nvPr/>
        </p:nvSpPr>
        <p:spPr>
          <a:xfrm>
            <a:off x="41580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Gothic"/>
              </a:rPr>
              <a:t>2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AutoShape 108"/>
          <p:cNvSpPr/>
          <p:nvPr/>
        </p:nvSpPr>
        <p:spPr>
          <a:xfrm>
            <a:off x="14032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AutoShape 109"/>
          <p:cNvSpPr/>
          <p:nvPr/>
        </p:nvSpPr>
        <p:spPr>
          <a:xfrm>
            <a:off x="238608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Gothic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AutoShape 110"/>
          <p:cNvSpPr/>
          <p:nvPr/>
        </p:nvSpPr>
        <p:spPr>
          <a:xfrm>
            <a:off x="335268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AutoShape 111"/>
          <p:cNvSpPr/>
          <p:nvPr/>
        </p:nvSpPr>
        <p:spPr>
          <a:xfrm>
            <a:off x="4286160" y="5640480"/>
            <a:ext cx="881280" cy="91764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491">
                <a:moveTo>
                  <a:pt x="3600" y="0"/>
                </a:moveTo>
                <a:arcTo wR="3600" hR="3600" stAng="16200000" swAng="-5400000"/>
                <a:lnTo>
                  <a:pt x="0" y="18891"/>
                </a:lnTo>
                <a:arcTo wR="3600" hR="3600" stAng="10800000" swAng="-5400000"/>
                <a:lnTo>
                  <a:pt x="18000" y="22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AutoShape 112"/>
          <p:cNvSpPr/>
          <p:nvPr/>
        </p:nvSpPr>
        <p:spPr>
          <a:xfrm>
            <a:off x="523872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AutoShape 113"/>
          <p:cNvSpPr/>
          <p:nvPr/>
        </p:nvSpPr>
        <p:spPr>
          <a:xfrm>
            <a:off x="6224760" y="5640480"/>
            <a:ext cx="880920" cy="91764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917640"/>
              <a:gd name="textAreaBottom" fmla="*/ 874800 h 917640"/>
            </a:gdLst>
            <a:ahLst/>
            <a:rect l="textAreaLeft" t="textAreaTop" r="textAreaRight" b="textAreaBottom"/>
            <a:pathLst>
              <a:path w="21600" h="22500">
                <a:moveTo>
                  <a:pt x="3600" y="0"/>
                </a:moveTo>
                <a:arcTo wR="3600" hR="3600" stAng="16200000" swAng="-5400000"/>
                <a:lnTo>
                  <a:pt x="0" y="18900"/>
                </a:lnTo>
                <a:arcTo wR="3600" hR="3600" stAng="10800000" swAng="-5400000"/>
                <a:lnTo>
                  <a:pt x="18000" y="225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AutoShape 160"/>
          <p:cNvSpPr/>
          <p:nvPr/>
        </p:nvSpPr>
        <p:spPr>
          <a:xfrm>
            <a:off x="7505640" y="4005360"/>
            <a:ext cx="2124000" cy="360360"/>
          </a:xfrm>
          <a:prstGeom prst="roundRect">
            <a:avLst>
              <a:gd name="adj" fmla="val 16667"/>
            </a:avLst>
          </a:prstGeom>
          <a:solidFill>
            <a:srgbClr val="a08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-OTF 新ゴ Pro M"/>
              </a:rPr>
              <a:t>M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AutoShape 161"/>
          <p:cNvSpPr/>
          <p:nvPr/>
        </p:nvSpPr>
        <p:spPr>
          <a:xfrm>
            <a:off x="7508880" y="4508640"/>
            <a:ext cx="2124000" cy="20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Line 170"/>
          <p:cNvSpPr/>
          <p:nvPr/>
        </p:nvSpPr>
        <p:spPr>
          <a:xfrm>
            <a:off x="7724880" y="4797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Line 171"/>
          <p:cNvSpPr/>
          <p:nvPr/>
        </p:nvSpPr>
        <p:spPr>
          <a:xfrm>
            <a:off x="7724880" y="4968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Line 172"/>
          <p:cNvSpPr/>
          <p:nvPr/>
        </p:nvSpPr>
        <p:spPr>
          <a:xfrm>
            <a:off x="7724880" y="51418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Line 173"/>
          <p:cNvSpPr/>
          <p:nvPr/>
        </p:nvSpPr>
        <p:spPr>
          <a:xfrm>
            <a:off x="7724880" y="53150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Line 174"/>
          <p:cNvSpPr/>
          <p:nvPr/>
        </p:nvSpPr>
        <p:spPr>
          <a:xfrm>
            <a:off x="7724880" y="548784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Line 175"/>
          <p:cNvSpPr/>
          <p:nvPr/>
        </p:nvSpPr>
        <p:spPr>
          <a:xfrm>
            <a:off x="7724880" y="5661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Line 176"/>
          <p:cNvSpPr/>
          <p:nvPr/>
        </p:nvSpPr>
        <p:spPr>
          <a:xfrm>
            <a:off x="7724880" y="5832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Line 177"/>
          <p:cNvSpPr/>
          <p:nvPr/>
        </p:nvSpPr>
        <p:spPr>
          <a:xfrm>
            <a:off x="7724880" y="600552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Line 179"/>
          <p:cNvSpPr/>
          <p:nvPr/>
        </p:nvSpPr>
        <p:spPr>
          <a:xfrm>
            <a:off x="7724880" y="6178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Line 180"/>
          <p:cNvSpPr/>
          <p:nvPr/>
        </p:nvSpPr>
        <p:spPr>
          <a:xfrm>
            <a:off x="7724880" y="6351480"/>
            <a:ext cx="180000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2" name="Picture 204" descr=""/>
          <p:cNvPicPr/>
          <p:nvPr/>
        </p:nvPicPr>
        <p:blipFill>
          <a:blip r:embed="rId1"/>
          <a:srcRect l="0" t="0" r="0" b="18455"/>
          <a:stretch/>
        </p:blipFill>
        <p:spPr>
          <a:xfrm>
            <a:off x="7365960" y="1197000"/>
            <a:ext cx="2340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18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_TemplateID">
    <vt:lpwstr>TC102508669990</vt:lpwstr>
  </property>
</Properties>
</file>