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C37-6CC2-4ED5-8B77-AF81E89B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3DD-15CC-477B-8045-89ED364C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2B4-2A3F-4B3A-9853-67BA7C06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DE7-871D-4931-B117-82B11C48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5F6-CA27-4EBD-B700-6BAEC0EC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F045-D4C6-470C-9E7A-769E26C6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A808-67EA-4A16-A54B-A8F597B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B96F-127D-4EB1-93B1-4AD5011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69BE-1309-4493-8039-88E434B4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DEAD-235F-4B6A-9FD6-B48F986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0D5-8E78-48DF-AB06-BF33928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3DD-584A-45DE-BE05-6304DE4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636-0D13-47DA-BA6D-38728AD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8898-F37B-4619-846C-5B11347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D8D0-D337-42F9-A880-401AFCC2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EE4-17C8-4EE5-9B3C-7B5A0121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98F4-78A1-4607-85B4-2734968D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D0C4-8E6D-4348-AAA2-5CBF2E8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43A1-7547-45DE-96B2-227FE79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D9CB-BBFD-4051-A01E-8FAC5AC1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DA8F-BA74-4FE9-B511-E3D1896E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A1F6-2F28-4D70-B491-3E5E05E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76A-2698-475C-BEC9-06D680C3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8B61-8A13-4DC6-AE5E-B066FE0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61E9-78AC-44C3-93C2-7F4ECF2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0E14-A1B7-4855-960E-542B74F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6485-F53F-4A94-8543-5B56D7B7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C7A1-D065-4893-9861-E23752A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3B2F-C2F1-45D1-A8D7-3D6637FB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A70D-317B-40A1-A57F-01FACB43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F342-0704-4E55-8724-35C61DDF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2572-949C-44D4-89DB-5F7DF558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D26D-E918-459E-B66D-3FEE5A5B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37D-BCF8-4058-BA00-9A6A8308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CB81A-4EC7-4E04-8AAF-6FD826C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974D-7324-4BF5-B2DA-6EA40442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5212-BD2E-4285-BAC1-A220DC70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0D05-5959-4B53-9BED-7E1B426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D6B3-EA73-471E-9396-68D6799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A156-D25C-4821-BD74-B6DC421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1276-9B49-4A96-A2EF-077471B9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B15B-6F14-4265-8396-14FDC654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C8CF-6131-444A-8C72-7440B208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41A3F-B991-4C52-8A43-F5B87875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37C-CF5C-475E-91BE-292B186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AEE8-E97F-461A-A70E-58234C62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FA09-8F5A-4A16-8F0B-B9E9E98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8591-B2F0-499C-816B-2413557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EC5A-F836-407B-87A8-E5A7D23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489A-1047-49FD-9133-F2BB77A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84A8-CDE5-4FDF-B3C0-184C9EB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BA402-F933-4436-A802-08AC8F82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7D96-34C7-453F-847D-712BF0B1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5CAB-3B5F-4293-977B-27692AE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D4C8-4999-4208-ABD5-A410C1F3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9A7-0243-46DF-815A-5C92EA49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31A7-F3F3-4C43-BA75-A21A885E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396-5687-4CC5-841B-A519373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ED1-1800-4A86-B425-46FCBDF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F83-9048-4D84-A265-327C046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C9D-962A-4EA3-9198-FD7E50245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F91B-3AC1-4B1B-9BFB-FB53ABF0B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8DBD-C424-45AF-BA69-261D8EF38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6A5-9A0A-4E24-9AC7-B76BFAE591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9BF1-3FEC-4CDF-8019-BD73E9BDD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46520" cy="5300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11280" y="2133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1456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1682640" cy="4508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1B120-449A-4D64-9700-A03842CEE6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/>
  <dc:description/>
  <dc:language>en-US</dc:language>
  <cp:lastModifiedBy>news</cp:lastModifiedBy>
  <dcterms:modified xsi:type="dcterms:W3CDTF">2015-07-21T02:44:5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