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2.jpeg" ContentType="image/jpeg"/>
  <Override PartName="/ppt/media/image9.jpeg" ContentType="image/jpeg"/>
  <Override PartName="/ppt/media/image32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3.png" ContentType="image/png"/>
  <Override PartName="/ppt/media/image34.png" ContentType="image/png"/>
  <Override PartName="/ppt/media/image44.jpeg" ContentType="image/jpeg"/>
  <Override PartName="/ppt/media/image35.png" ContentType="image/png"/>
  <Override PartName="/ppt/media/image26.jpeg" ContentType="image/jpe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jpeg" ContentType="image/jpeg"/>
  <Override PartName="/ppt/media/image11.wmf" ContentType="image/x-wmf"/>
  <Override PartName="/ppt/media/image40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BA2-1E63-4C9B-9016-F30D961D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90564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7AF-9F4F-4F86-B56D-CC480D80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112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5E2-820D-45A6-8D90-8EB05302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268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268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6A4-6CEE-4A24-BAC4-8B3DA142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6E34-1E26-4A23-AF4E-1F13DCDD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F6F1-6508-4892-B90F-422A7B49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9D87-9A10-4274-BEE7-D388CF66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08BE-B6C0-4F52-BB1A-FCFDD5A9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A611-36ED-4D6D-BAED-DA0AD2D2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3640" y="558360"/>
            <a:ext cx="550836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E1CE-1474-4F95-82FC-CB7E04F4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401E-0610-4A35-810B-E2D9DE0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9F2-C78E-41E8-A831-58F14C4A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4112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FDCF-7764-4CF5-904A-C7B53A63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DF7A-6586-48A0-A885-A7BBA9E4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00" y="390564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4795-02E5-41B2-A000-7F1CD14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4112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9249-7DAB-4E19-B09F-00BBB6E5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68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1360" y="155736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2400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68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1360" y="3905640"/>
            <a:ext cx="27126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A26C-28A0-410F-B624-F3546A77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941-E5C0-46CE-B879-A49E6FE8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8FA-B03C-4D04-89B6-B26B1005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10C-B8A9-4926-9260-87FF1287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558360"/>
            <a:ext cx="550836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C1E-E7E6-4B1D-9911-EE42D076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FCD-D4D3-4392-BC16-B6DA8A32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1120" y="390564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091-50A5-4413-BE0D-F7394B5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1120" y="1557360"/>
            <a:ext cx="411120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905640"/>
            <a:ext cx="84247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217-334A-497B-B57B-4C2613F0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3D-graphics_Grafity_colors_005117_"/>
          <p:cNvPicPr/>
          <p:nvPr/>
        </p:nvPicPr>
        <p:blipFill>
          <a:blip r:embed="rId2"/>
          <a:srcRect l="17975" t="15013" r="21350" b="14594"/>
          <a:stretch/>
        </p:blipFill>
        <p:spPr>
          <a:xfrm>
            <a:off x="8172360" y="61920"/>
            <a:ext cx="97164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11"/>
          <p:cNvSpPr/>
          <p:nvPr/>
        </p:nvSpPr>
        <p:spPr>
          <a:xfrm flipH="1">
            <a:off x="8423280" y="6137280"/>
            <a:ext cx="720720" cy="720720"/>
          </a:xfrm>
          <a:prstGeom prst="rtTriangl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2600">
            <a:solidFill>
              <a:srgbClr val="5aaa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549360"/>
            <a:ext cx="3490920" cy="79200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Click to edit the title text format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文泉驿微米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文泉驿微米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文泉驿微米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A063-FC98-4552-A26F-7F31D9BCFD84}" type="datetime"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文泉驿微米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7E4E-9625-466C-939F-92B66A1800B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2"/>
          <p:cNvSpPr/>
          <p:nvPr/>
        </p:nvSpPr>
        <p:spPr>
          <a:xfrm>
            <a:off x="0" y="582480"/>
            <a:ext cx="3492360" cy="792360"/>
          </a:xfrm>
          <a:custGeom>
            <a:avLst/>
            <a:gdLst>
              <a:gd name="textAreaLeft" fmla="*/ 0 w 3492360"/>
              <a:gd name="textAreaRight" fmla="*/ 3492720 w 34923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3" y="0"/>
                </a:lnTo>
                <a:lnTo>
                  <a:pt x="21600" y="10800"/>
                </a:lnTo>
                <a:lnTo>
                  <a:pt x="2039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" name="AutoShape 13"/>
          <p:cNvSpPr/>
          <p:nvPr/>
        </p:nvSpPr>
        <p:spPr>
          <a:xfrm>
            <a:off x="0" y="582480"/>
            <a:ext cx="3273480" cy="792360"/>
          </a:xfrm>
          <a:custGeom>
            <a:avLst/>
            <a:gdLst>
              <a:gd name="textAreaLeft" fmla="*/ 0 w 3273480"/>
              <a:gd name="textAreaRight" fmla="*/ 3273840 w 32734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16" y="0"/>
                </a:lnTo>
                <a:lnTo>
                  <a:pt x="21600" y="10800"/>
                </a:lnTo>
                <a:lnTo>
                  <a:pt x="204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" name="AutoShape 16"/>
          <p:cNvSpPr/>
          <p:nvPr/>
        </p:nvSpPr>
        <p:spPr>
          <a:xfrm rot="10800000">
            <a:off x="3635280" y="980280"/>
            <a:ext cx="5508720" cy="792360"/>
          </a:xfrm>
          <a:custGeom>
            <a:avLst/>
            <a:gdLst>
              <a:gd name="textAreaLeft" fmla="*/ 0 w 5508720"/>
              <a:gd name="textAreaRight" fmla="*/ 5508720 w 5508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0" y="0"/>
                </a:lnTo>
                <a:lnTo>
                  <a:pt x="21600" y="10800"/>
                </a:lnTo>
                <a:lnTo>
                  <a:pt x="208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7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" name="AutoShape 17"/>
          <p:cNvSpPr/>
          <p:nvPr/>
        </p:nvSpPr>
        <p:spPr>
          <a:xfrm rot="10800000">
            <a:off x="3839760" y="980280"/>
            <a:ext cx="5303880" cy="792360"/>
          </a:xfrm>
          <a:custGeom>
            <a:avLst/>
            <a:gdLst>
              <a:gd name="textAreaLeft" fmla="*/ 0 w 5303880"/>
              <a:gd name="textAreaRight" fmla="*/ 5304240 w 53038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5" y="0"/>
                </a:lnTo>
                <a:lnTo>
                  <a:pt x="21600" y="10800"/>
                </a:lnTo>
                <a:lnTo>
                  <a:pt x="209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" name="AutoShape 2"/>
          <p:cNvSpPr/>
          <p:nvPr/>
        </p:nvSpPr>
        <p:spPr>
          <a:xfrm flipH="1">
            <a:off x="8423280" y="6137280"/>
            <a:ext cx="720720" cy="720720"/>
          </a:xfrm>
          <a:prstGeom prst="rtTriangl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" name="Oval 8"/>
          <p:cNvSpPr/>
          <p:nvPr/>
        </p:nvSpPr>
        <p:spPr>
          <a:xfrm>
            <a:off x="8317080" y="260280"/>
            <a:ext cx="504720" cy="50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1" name="Picture 11" descr="3D-graphics_Grafity_colors_005117_"/>
          <p:cNvPicPr/>
          <p:nvPr/>
        </p:nvPicPr>
        <p:blipFill>
          <a:blip r:embed="rId2"/>
          <a:srcRect l="17975" t="15013" r="21350" b="14594"/>
          <a:stretch/>
        </p:blipFill>
        <p:spPr>
          <a:xfrm>
            <a:off x="8172360" y="135000"/>
            <a:ext cx="971640" cy="846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1442-B3DA-42DA-A524-B663740FBA88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Click to edit the title text format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24000" y="155736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文泉驿微米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文泉驿微米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文泉驿微米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文泉驿微米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7F1-C157-4646-8B9B-6854BB8CD602}" type="datetime"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文泉驿微米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A4AC-847E-42FF-A295-510198FC89C5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566E-C971-4B51-9DCF-140EF8218C5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96" name="Picture 11" descr="3D-graphics_Grafity_colors_005117_"/>
          <p:cNvPicPr/>
          <p:nvPr/>
        </p:nvPicPr>
        <p:blipFill>
          <a:blip r:embed="rId1"/>
          <a:srcRect l="18418" t="10520" r="21931" b="13911"/>
          <a:stretch/>
        </p:blipFill>
        <p:spPr>
          <a:xfrm>
            <a:off x="4140360" y="2492280"/>
            <a:ext cx="4321080" cy="4105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431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900" spc="-1" strike="noStrike">
                <a:solidFill>
                  <a:srgbClr val="c62400"/>
                </a:solidFill>
                <a:latin typeface="方正综艺简体"/>
                <a:ea typeface="方正综艺简体"/>
              </a:rPr>
              <a:t> </a:t>
            </a:r>
            <a:endParaRPr b="1" lang="en-US" sz="69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3455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a0c4"/>
                </a:solidFill>
                <a:latin typeface="方正综艺简体"/>
                <a:ea typeface="方正综艺简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314280" y="1844640"/>
            <a:ext cx="4105440" cy="0"/>
          </a:xfrm>
          <a:prstGeom prst="line">
            <a:avLst/>
          </a:prstGeom>
          <a:ln w="1908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0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文泉驿微米黑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文泉驿微米黑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1" name=""/>
          <p:cNvSpPr/>
          <p:nvPr/>
        </p:nvSpPr>
        <p:spPr>
          <a:xfrm>
            <a:off x="2330640" y="11736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色彩调和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80A3-5882-4542-92A8-32E45E441A7B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4" name="Rectangle 13"/>
          <p:cNvSpPr/>
          <p:nvPr/>
        </p:nvSpPr>
        <p:spPr>
          <a:xfrm rot="21333000">
            <a:off x="4733640" y="3573000"/>
            <a:ext cx="3654360" cy="6336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5" name="Rectangle 14"/>
          <p:cNvSpPr/>
          <p:nvPr/>
        </p:nvSpPr>
        <p:spPr>
          <a:xfrm rot="21333000">
            <a:off x="4733640" y="4797000"/>
            <a:ext cx="3654360" cy="6336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576360"/>
            <a:ext cx="352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12</a:t>
            </a: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轮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851280" cy="3851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5"/>
          <p:cNvSpPr/>
          <p:nvPr/>
        </p:nvSpPr>
        <p:spPr>
          <a:xfrm>
            <a:off x="4356000" y="1773360"/>
            <a:ext cx="4321440" cy="388764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9" name="Rectangle 7"/>
          <p:cNvSpPr/>
          <p:nvPr/>
        </p:nvSpPr>
        <p:spPr>
          <a:xfrm rot="21333000">
            <a:off x="4733640" y="2276280"/>
            <a:ext cx="3654360" cy="6332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572000" y="2060640"/>
            <a:ext cx="3887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由</a:t>
            </a:r>
            <a:r>
              <a:rPr b="1" lang="en-US" sz="3600" spc="-1" strike="noStrike">
                <a:solidFill>
                  <a:srgbClr val="c62400"/>
                </a:solidFill>
                <a:latin typeface="文泉驿微米黑"/>
              </a:rPr>
              <a:t>12</a:t>
            </a:r>
            <a:r>
              <a:rPr b="1" lang="zh-CN" sz="3600" spc="-1" strike="noStrike">
                <a:solidFill>
                  <a:srgbClr val="c62400"/>
                </a:solidFill>
                <a:latin typeface="文泉驿微米黑"/>
              </a:rPr>
              <a:t>种</a:t>
            </a: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颜色组成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572000" y="3357720"/>
            <a:ext cx="3887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最简单、最常见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572000" y="4653000"/>
            <a:ext cx="3887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配色从</a:t>
            </a:r>
            <a:r>
              <a:rPr b="0" lang="en-US" sz="3600" spc="-1" strike="noStrike">
                <a:solidFill>
                  <a:srgbClr val="0064b5"/>
                </a:solidFill>
                <a:latin typeface="文泉驿微米黑"/>
              </a:rPr>
              <a:t>12</a:t>
            </a: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色轮开始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3" name="Oval 1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4" name="Oval 1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6BD2-DA63-4F12-98E2-B11E15BD5C49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132000" y="4005360"/>
            <a:ext cx="4968720" cy="901080"/>
            <a:chOff x="3132000" y="4005360"/>
            <a:chExt cx="4968720" cy="901080"/>
          </a:xfrm>
        </p:grpSpPr>
        <p:sp>
          <p:nvSpPr>
            <p:cNvPr id="218" name="Rectangle 34"/>
            <p:cNvSpPr/>
            <p:nvPr/>
          </p:nvSpPr>
          <p:spPr>
            <a:xfrm rot="21333000">
              <a:off x="3398400" y="4221000"/>
              <a:ext cx="4667040" cy="5047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219" name="Rectangle 35"/>
            <p:cNvSpPr/>
            <p:nvPr/>
          </p:nvSpPr>
          <p:spPr>
            <a:xfrm>
              <a:off x="3132000" y="4005360"/>
              <a:ext cx="4968720" cy="720720"/>
            </a:xfrm>
            <a:prstGeom prst="rect">
              <a:avLst/>
            </a:prstGeom>
            <a:solidFill>
              <a:srgbClr val="cf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  <p:grpSp>
        <p:nvGrpSpPr>
          <p:cNvPr id="220" name="Group 6"/>
          <p:cNvGrpSpPr/>
          <p:nvPr/>
        </p:nvGrpSpPr>
        <p:grpSpPr>
          <a:xfrm>
            <a:off x="3132000" y="2060640"/>
            <a:ext cx="4968720" cy="901080"/>
            <a:chOff x="3132000" y="2060640"/>
            <a:chExt cx="4968720" cy="901080"/>
          </a:xfrm>
        </p:grpSpPr>
        <p:sp>
          <p:nvSpPr>
            <p:cNvPr id="221" name="Rectangle 30"/>
            <p:cNvSpPr/>
            <p:nvPr/>
          </p:nvSpPr>
          <p:spPr>
            <a:xfrm rot="21333000">
              <a:off x="3398400" y="2276280"/>
              <a:ext cx="4667040" cy="504720"/>
            </a:xfrm>
            <a:prstGeom prst="rect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222" name="Rectangle 31"/>
            <p:cNvSpPr/>
            <p:nvPr/>
          </p:nvSpPr>
          <p:spPr>
            <a:xfrm>
              <a:off x="3132000" y="2060640"/>
              <a:ext cx="4968720" cy="720720"/>
            </a:xfrm>
            <a:prstGeom prst="rect">
              <a:avLst/>
            </a:prstGeom>
            <a:solidFill>
              <a:srgbClr val="cf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558360"/>
            <a:ext cx="3492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彩调和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468360" y="1700280"/>
            <a:ext cx="8280360" cy="460836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435640" y="1341360"/>
            <a:ext cx="2881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文泉驿微米黑"/>
              </a:rPr>
              <a:t>两个基本概念</a:t>
            </a:r>
            <a:endParaRPr b="0" lang="en-US" sz="35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132000" y="2060640"/>
            <a:ext cx="4824720" cy="1439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色系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color scheme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若干种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≥2)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颜色的搭配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3132000" y="4653000"/>
            <a:ext cx="4896000" cy="936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62400"/>
                </a:solidFill>
                <a:latin typeface="文泉驿微米黑"/>
              </a:rPr>
              <a:t>色彩调和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文泉驿微米黑"/>
              </a:rPr>
              <a:t>color harmony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视觉效果令人愉悦的色系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（</a:t>
            </a:r>
            <a:r>
              <a:rPr b="0" lang="en-US" sz="2600" spc="-1" strike="noStrike">
                <a:solidFill>
                  <a:srgbClr val="0683ea"/>
                </a:solidFill>
                <a:latin typeface="文泉驿微米黑"/>
              </a:rPr>
              <a:t>Part 6</a:t>
            </a:r>
            <a:r>
              <a:rPr b="0" lang="zh-CN" sz="2600" spc="-1" strike="noStrike">
                <a:solidFill>
                  <a:srgbClr val="0683ea"/>
                </a:solidFill>
                <a:latin typeface="文泉驿微米黑"/>
              </a:rPr>
              <a:t>重点讲解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1185840" y="2205000"/>
            <a:ext cx="1152720" cy="1152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1690560" y="2205000"/>
            <a:ext cx="1152720" cy="1152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0" name="Oval 23"/>
          <p:cNvSpPr/>
          <p:nvPr/>
        </p:nvSpPr>
        <p:spPr>
          <a:xfrm>
            <a:off x="1042920" y="4581360"/>
            <a:ext cx="1152720" cy="1152720"/>
          </a:xfrm>
          <a:prstGeom prst="ellipse">
            <a:avLst/>
          </a:prstGeom>
          <a:solidFill>
            <a:srgbClr val="ff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1547640" y="4581360"/>
            <a:ext cx="1152720" cy="1152720"/>
          </a:xfrm>
          <a:prstGeom prst="ellipse">
            <a:avLst/>
          </a:prstGeom>
          <a:solidFill>
            <a:srgbClr val="0f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2" name="Oval 25"/>
          <p:cNvSpPr/>
          <p:nvPr/>
        </p:nvSpPr>
        <p:spPr>
          <a:xfrm>
            <a:off x="1979640" y="4581360"/>
            <a:ext cx="1152360" cy="1152720"/>
          </a:xfrm>
          <a:prstGeom prst="ellipse">
            <a:avLst/>
          </a:prstGeom>
          <a:solidFill>
            <a:srgbClr val="63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3" name="Line 26"/>
          <p:cNvSpPr/>
          <p:nvPr/>
        </p:nvSpPr>
        <p:spPr>
          <a:xfrm>
            <a:off x="755640" y="3789360"/>
            <a:ext cx="7488360" cy="0"/>
          </a:xfrm>
          <a:prstGeom prst="line">
            <a:avLst/>
          </a:prstGeom>
          <a:ln w="38160">
            <a:solidFill>
              <a:srgbClr val="0085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4" name="Oval 36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5" name="Oval 37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6" name="Oval 38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49AC-3DA4-4994-8AD9-631C2B26A8C2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239" name="Picture 1029" descr=""/>
          <p:cNvPicPr/>
          <p:nvPr/>
        </p:nvPicPr>
        <p:blipFill>
          <a:blip r:embed="rId1"/>
          <a:stretch/>
        </p:blipFill>
        <p:spPr>
          <a:xfrm>
            <a:off x="0" y="2700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利用色轮，构造色彩调和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彩调和，给人美的感受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243" name="Picture 10" descr="图片2"/>
          <p:cNvPicPr/>
          <p:nvPr/>
        </p:nvPicPr>
        <p:blipFill>
          <a:blip r:embed="rId2"/>
          <a:stretch/>
        </p:blipFill>
        <p:spPr>
          <a:xfrm>
            <a:off x="3132000" y="549360"/>
            <a:ext cx="11638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9AED-4DDC-4F50-845A-61B287AE995C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3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924000" y="932040"/>
            <a:ext cx="5111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原色 二次色 三次色</a:t>
            </a: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7" name="AutoShape 25"/>
          <p:cNvSpPr/>
          <p:nvPr/>
        </p:nvSpPr>
        <p:spPr>
          <a:xfrm>
            <a:off x="392436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三次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二次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原　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75F1-CF85-4AE2-9A12-41C8E2CAF290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0" name="Oval 6"/>
          <p:cNvSpPr/>
          <p:nvPr/>
        </p:nvSpPr>
        <p:spPr>
          <a:xfrm>
            <a:off x="684360" y="2492280"/>
            <a:ext cx="792000" cy="792360"/>
          </a:xfrm>
          <a:prstGeom prst="ellipse">
            <a:avLst/>
          </a:prstGeom>
          <a:solidFill>
            <a:srgbClr val="ea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1" name="Oval 7"/>
          <p:cNvSpPr/>
          <p:nvPr/>
        </p:nvSpPr>
        <p:spPr>
          <a:xfrm>
            <a:off x="684360" y="3573360"/>
            <a:ext cx="792000" cy="79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2" name="Oval 8"/>
          <p:cNvSpPr/>
          <p:nvPr/>
        </p:nvSpPr>
        <p:spPr>
          <a:xfrm>
            <a:off x="684360" y="4653000"/>
            <a:ext cx="792000" cy="792000"/>
          </a:xfrm>
          <a:prstGeom prst="ellipse">
            <a:avLst/>
          </a:prstGeom>
          <a:solidFill>
            <a:srgbClr val="00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395280" y="1916280"/>
            <a:ext cx="3889440" cy="367344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612720" y="1555920"/>
            <a:ext cx="2808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三种原色：红黄蓝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1620720" y="2205000"/>
            <a:ext cx="2016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红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red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黄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yellow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蓝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blue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6" name="Rectangle 16"/>
          <p:cNvSpPr/>
          <p:nvPr/>
        </p:nvSpPr>
        <p:spPr>
          <a:xfrm rot="21333000">
            <a:off x="5292360" y="2060280"/>
            <a:ext cx="3422520" cy="6332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5078520" y="1905120"/>
            <a:ext cx="3671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最基本的颜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8" name="Rectangle 20"/>
          <p:cNvSpPr/>
          <p:nvPr/>
        </p:nvSpPr>
        <p:spPr>
          <a:xfrm rot="21333000">
            <a:off x="5293800" y="3498480"/>
            <a:ext cx="3421080" cy="6336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5078520" y="3343320"/>
            <a:ext cx="3671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组成其他颜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0" name="Rectangle 22"/>
          <p:cNvSpPr/>
          <p:nvPr/>
        </p:nvSpPr>
        <p:spPr>
          <a:xfrm rot="21333000">
            <a:off x="5292360" y="4868640"/>
            <a:ext cx="3422520" cy="6332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5078520" y="4713120"/>
            <a:ext cx="3671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色彩调和的基础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Primary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原色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264" name="Oval 27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5" name="Oval 28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66" name="Oval 29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A8D2-254B-4725-8FD9-541AB655CFB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421160" cy="4421160"/>
          </a:xfrm>
          <a:prstGeom prst="rect">
            <a:avLst/>
          </a:prstGeom>
          <a:ln w="0">
            <a:noFill/>
          </a:ln>
        </p:spPr>
      </p:pic>
      <p:sp>
        <p:nvSpPr>
          <p:cNvPr id="269" name="Oval 6"/>
          <p:cNvSpPr/>
          <p:nvPr/>
        </p:nvSpPr>
        <p:spPr>
          <a:xfrm>
            <a:off x="4319640" y="213192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2771640" y="4581360"/>
            <a:ext cx="50508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796000" y="458136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971640" y="479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蓝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7093080" y="479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黄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971640" y="2133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红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1908000" y="501336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6227640" y="501336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908000" y="2421000"/>
            <a:ext cx="2376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轮上的原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79" name="Oval 17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0" name="Oval 18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1" name="Oval 19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145A-5DFA-4156-9F6A-465CEB7F0597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468360" y="2492280"/>
            <a:ext cx="792000" cy="792360"/>
          </a:xfrm>
          <a:prstGeom prst="ellipse">
            <a:avLst/>
          </a:prstGeom>
          <a:solidFill>
            <a:srgbClr val="ff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468360" y="3789360"/>
            <a:ext cx="792000" cy="792000"/>
          </a:xfrm>
          <a:prstGeom prst="ellipse">
            <a:avLst/>
          </a:prstGeom>
          <a:solidFill>
            <a:srgbClr val="0f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468360" y="5084640"/>
            <a:ext cx="792000" cy="792360"/>
          </a:xfrm>
          <a:prstGeom prst="ellipse">
            <a:avLst/>
          </a:prstGeom>
          <a:solidFill>
            <a:srgbClr val="63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324000" y="1916280"/>
            <a:ext cx="4105080" cy="4321080"/>
          </a:xfrm>
          <a:custGeom>
            <a:avLst/>
            <a:gdLst>
              <a:gd name="textAreaLeft" fmla="*/ 133560 w 4105080"/>
              <a:gd name="textAreaRight" fmla="*/ 3971520 w 4105080"/>
              <a:gd name="textAreaTop" fmla="*/ 133560 h 4321080"/>
              <a:gd name="textAreaBottom" fmla="*/ 4187520 h 4321080"/>
            </a:gdLst>
            <a:ahLst/>
            <a:rect l="textAreaLeft" t="textAreaTop" r="textAreaRight" b="textAreaBottom"/>
            <a:pathLst>
              <a:path w="21600" h="22736">
                <a:moveTo>
                  <a:pt x="2404" y="0"/>
                </a:moveTo>
                <a:arcTo wR="2404" hR="2404" stAng="16200000" swAng="-5400000"/>
                <a:lnTo>
                  <a:pt x="0" y="20332"/>
                </a:lnTo>
                <a:arcTo wR="2404" hR="2404" stAng="10800000" swAng="-5400000"/>
                <a:lnTo>
                  <a:pt x="19196" y="22736"/>
                </a:lnTo>
                <a:arcTo wR="2404" hR="2404" stAng="5400000" swAng="-5400000"/>
                <a:lnTo>
                  <a:pt x="21600" y="2404"/>
                </a:lnTo>
                <a:arcTo wR="2404" hR="2404" stAng="0" swAng="-5400000"/>
                <a:close/>
              </a:path>
            </a:pathLst>
          </a:cu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39640" y="1555920"/>
            <a:ext cx="331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三种二次色：橙绿紫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1333440" y="2347920"/>
            <a:ext cx="2016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橙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orange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绿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green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泉驿微米黑"/>
              </a:rPr>
              <a:t>紫 </a:t>
            </a:r>
            <a:r>
              <a:rPr b="0" lang="en-US" sz="4800" spc="-1" strike="noStrike">
                <a:solidFill>
                  <a:srgbClr val="000000"/>
                </a:solidFill>
                <a:latin typeface="文泉驿微米黑"/>
              </a:rPr>
              <a:t>violet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5075280" y="5446800"/>
            <a:ext cx="503280" cy="503280"/>
          </a:xfrm>
          <a:prstGeom prst="ellipse">
            <a:avLst/>
          </a:prstGeom>
          <a:solidFill>
            <a:srgbClr val="ea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4714920" y="5446800"/>
            <a:ext cx="503280" cy="503280"/>
          </a:xfrm>
          <a:prstGeom prst="ellipse">
            <a:avLst/>
          </a:prstGeom>
          <a:solidFill>
            <a:srgbClr val="00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1" name="Oval 17"/>
          <p:cNvSpPr/>
          <p:nvPr/>
        </p:nvSpPr>
        <p:spPr>
          <a:xfrm>
            <a:off x="6083280" y="5446800"/>
            <a:ext cx="503280" cy="503280"/>
          </a:xfrm>
          <a:prstGeom prst="ellipse">
            <a:avLst/>
          </a:prstGeom>
          <a:solidFill>
            <a:srgbClr val="63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2" name="Line 19"/>
          <p:cNvSpPr/>
          <p:nvPr/>
        </p:nvSpPr>
        <p:spPr>
          <a:xfrm flipV="1">
            <a:off x="5506920" y="5732640"/>
            <a:ext cx="574920" cy="1440"/>
          </a:xfrm>
          <a:prstGeom prst="line">
            <a:avLst/>
          </a:prstGeom>
          <a:ln w="38160">
            <a:solidFill>
              <a:srgbClr val="00a2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3" name="Rectangle 14"/>
          <p:cNvSpPr/>
          <p:nvPr/>
        </p:nvSpPr>
        <p:spPr>
          <a:xfrm rot="21333000">
            <a:off x="5073120" y="1855800"/>
            <a:ext cx="3422880" cy="6332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4648320" y="1700280"/>
            <a:ext cx="410040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4b5"/>
                </a:solidFill>
                <a:latin typeface="文泉驿微米黑"/>
              </a:rPr>
              <a:t>各由两种原色组合而成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Secondary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4643280" y="2708280"/>
            <a:ext cx="4105440" cy="3529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红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黄→橙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黄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蓝→绿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r">
              <a:lnSpc>
                <a:spcPct val="1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蓝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红→紫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075280" y="4365720"/>
            <a:ext cx="503280" cy="503280"/>
          </a:xfrm>
          <a:prstGeom prst="ellipse">
            <a:avLst/>
          </a:prstGeom>
          <a:solidFill>
            <a:srgbClr val="00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4714920" y="4365720"/>
            <a:ext cx="503280" cy="503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6083280" y="4365720"/>
            <a:ext cx="503280" cy="503280"/>
          </a:xfrm>
          <a:prstGeom prst="ellipse">
            <a:avLst/>
          </a:prstGeom>
          <a:solidFill>
            <a:srgbClr val="0f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0" name="Line 19"/>
          <p:cNvSpPr/>
          <p:nvPr/>
        </p:nvSpPr>
        <p:spPr>
          <a:xfrm flipV="1">
            <a:off x="5506920" y="4650840"/>
            <a:ext cx="574920" cy="1800"/>
          </a:xfrm>
          <a:prstGeom prst="line">
            <a:avLst/>
          </a:prstGeom>
          <a:ln w="38160">
            <a:solidFill>
              <a:srgbClr val="00a2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1" name="Oval 15"/>
          <p:cNvSpPr/>
          <p:nvPr/>
        </p:nvSpPr>
        <p:spPr>
          <a:xfrm>
            <a:off x="5075280" y="3176640"/>
            <a:ext cx="503280" cy="503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4714920" y="3176640"/>
            <a:ext cx="503280" cy="503280"/>
          </a:xfrm>
          <a:prstGeom prst="ellipse">
            <a:avLst/>
          </a:prstGeom>
          <a:solidFill>
            <a:srgbClr val="ea2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6083280" y="3176640"/>
            <a:ext cx="503280" cy="503280"/>
          </a:xfrm>
          <a:prstGeom prst="ellipse">
            <a:avLst/>
          </a:prstGeom>
          <a:solidFill>
            <a:srgbClr val="ff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4" name="Line 19"/>
          <p:cNvSpPr/>
          <p:nvPr/>
        </p:nvSpPr>
        <p:spPr>
          <a:xfrm flipV="1">
            <a:off x="5506920" y="3462480"/>
            <a:ext cx="574920" cy="1440"/>
          </a:xfrm>
          <a:prstGeom prst="line">
            <a:avLst/>
          </a:prstGeom>
          <a:ln w="38160">
            <a:solidFill>
              <a:srgbClr val="00a2c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二次色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06" name="Oval 35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7" name="Oval 36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08" name="Oval 37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EB25-3EF2-46A8-8039-CAD68CC855F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421160" cy="4421160"/>
          </a:xfrm>
          <a:prstGeom prst="rect">
            <a:avLst/>
          </a:prstGeom>
          <a:ln w="0">
            <a:noFill/>
          </a:ln>
        </p:spPr>
      </p:pic>
      <p:sp>
        <p:nvSpPr>
          <p:cNvPr id="311" name="Oval 5"/>
          <p:cNvSpPr/>
          <p:nvPr/>
        </p:nvSpPr>
        <p:spPr>
          <a:xfrm>
            <a:off x="2843280" y="285264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4319640" y="544500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796000" y="2852640"/>
            <a:ext cx="504720" cy="5050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971640" y="27781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紫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5" name="Line 11"/>
          <p:cNvSpPr/>
          <p:nvPr/>
        </p:nvSpPr>
        <p:spPr>
          <a:xfrm>
            <a:off x="1908000" y="306540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971640" y="5373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绿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7" name="Line 13"/>
          <p:cNvSpPr/>
          <p:nvPr/>
        </p:nvSpPr>
        <p:spPr>
          <a:xfrm>
            <a:off x="1908000" y="5661000"/>
            <a:ext cx="2376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020000" y="27781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橙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6300720" y="3065400"/>
            <a:ext cx="935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179280" y="558720"/>
            <a:ext cx="5508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轮上的二次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64D8-D3F9-4AC6-A188-C9D03521715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Tertiary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6" name="Oval 4"/>
          <p:cNvSpPr/>
          <p:nvPr/>
        </p:nvSpPr>
        <p:spPr>
          <a:xfrm>
            <a:off x="611280" y="2278080"/>
            <a:ext cx="792000" cy="7920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7" name="Oval 5"/>
          <p:cNvSpPr/>
          <p:nvPr/>
        </p:nvSpPr>
        <p:spPr>
          <a:xfrm>
            <a:off x="3346560" y="2278080"/>
            <a:ext cx="792000" cy="792000"/>
          </a:xfrm>
          <a:prstGeom prst="ellipse">
            <a:avLst/>
          </a:prstGeom>
          <a:solidFill>
            <a:srgbClr val="ff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5869080" y="2278080"/>
            <a:ext cx="792000" cy="792000"/>
          </a:xfrm>
          <a:prstGeom prst="ellipse">
            <a:avLst/>
          </a:prstGeom>
          <a:solidFill>
            <a:srgbClr val="8c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324000" y="1844640"/>
            <a:ext cx="8424720" cy="244944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684360" y="1484280"/>
            <a:ext cx="1800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六种三次色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1" name="Oval 17"/>
          <p:cNvSpPr/>
          <p:nvPr/>
        </p:nvSpPr>
        <p:spPr>
          <a:xfrm>
            <a:off x="611280" y="3357720"/>
            <a:ext cx="792000" cy="792000"/>
          </a:xfrm>
          <a:prstGeom prst="ellipse">
            <a:avLst/>
          </a:prstGeom>
          <a:solidFill>
            <a:srgbClr val="00a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2" name="Oval 18"/>
          <p:cNvSpPr/>
          <p:nvPr/>
        </p:nvSpPr>
        <p:spPr>
          <a:xfrm>
            <a:off x="3348000" y="3357720"/>
            <a:ext cx="792360" cy="792000"/>
          </a:xfrm>
          <a:prstGeom prst="ellipse">
            <a:avLst/>
          </a:prstGeom>
          <a:solidFill>
            <a:srgbClr val="001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3" name="Oval 19"/>
          <p:cNvSpPr/>
          <p:nvPr/>
        </p:nvSpPr>
        <p:spPr>
          <a:xfrm>
            <a:off x="5867280" y="3357720"/>
            <a:ext cx="792360" cy="792000"/>
          </a:xfrm>
          <a:prstGeom prst="ellipse">
            <a:avLst/>
          </a:prstGeom>
          <a:solidFill>
            <a:srgbClr val="c500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4" name="Rectangle 22"/>
          <p:cNvSpPr/>
          <p:nvPr/>
        </p:nvSpPr>
        <p:spPr>
          <a:xfrm>
            <a:off x="1547640" y="2278080"/>
            <a:ext cx="16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朱红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vermilion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4211640" y="2278080"/>
            <a:ext cx="165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琥珀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文泉驿微米黑"/>
              </a:rPr>
              <a:t>ambe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6661080" y="2278080"/>
            <a:ext cx="16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黄绿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文泉驿微米黑"/>
              </a:rPr>
              <a:t>chartreus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1547640" y="3357720"/>
            <a:ext cx="16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碧绿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文泉驿微米黑"/>
              </a:rPr>
              <a:t>aquamarine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4211640" y="3357720"/>
            <a:ext cx="165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靛青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文泉驿微米黑"/>
              </a:rPr>
              <a:t>indigo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6661080" y="3357720"/>
            <a:ext cx="16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文泉驿微米黑"/>
              </a:rPr>
              <a:t>紫红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文泉驿微米黑"/>
              </a:rPr>
              <a:t>violet red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0" name="Rectangle 28"/>
          <p:cNvSpPr/>
          <p:nvPr/>
        </p:nvSpPr>
        <p:spPr>
          <a:xfrm>
            <a:off x="216000" y="4508640"/>
            <a:ext cx="8964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将一种原色和一种二次色组合， 可得到一种三次色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红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橙→朱红　 ●橙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黄→琥珀　 ●黄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绿→黄绿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绿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蓝→碧绿　 ●蓝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紫→靛青　 ●紫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红→紫红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三次色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42" name="Oval 23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3" name="Oval 24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4" name="Oval 25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089B-5DEF-4A5F-8560-E8BEA3FE6B04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421160" cy="4421160"/>
          </a:xfrm>
          <a:prstGeom prst="rect">
            <a:avLst/>
          </a:prstGeom>
          <a:ln w="0">
            <a:noFill/>
          </a:ln>
        </p:spPr>
      </p:pic>
      <p:sp>
        <p:nvSpPr>
          <p:cNvPr id="347" name="Oval 5"/>
          <p:cNvSpPr/>
          <p:nvPr/>
        </p:nvSpPr>
        <p:spPr>
          <a:xfrm>
            <a:off x="3419640" y="220500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8" name="Oval 6"/>
          <p:cNvSpPr/>
          <p:nvPr/>
        </p:nvSpPr>
        <p:spPr>
          <a:xfrm>
            <a:off x="2698920" y="371628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49" name="Oval 7"/>
          <p:cNvSpPr/>
          <p:nvPr/>
        </p:nvSpPr>
        <p:spPr>
          <a:xfrm>
            <a:off x="5940360" y="371628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5148360" y="220500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5148360" y="515772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3419640" y="5157720"/>
            <a:ext cx="504720" cy="50472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971640" y="2060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紫红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5651640" y="2347920"/>
            <a:ext cx="1511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971640" y="522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碧绿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6" name="Line 16"/>
          <p:cNvSpPr/>
          <p:nvPr/>
        </p:nvSpPr>
        <p:spPr>
          <a:xfrm>
            <a:off x="1908000" y="5516640"/>
            <a:ext cx="151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971640" y="36464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靛青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1908000" y="3933720"/>
            <a:ext cx="79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093080" y="2060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朱红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0" name="Line 20"/>
          <p:cNvSpPr/>
          <p:nvPr/>
        </p:nvSpPr>
        <p:spPr>
          <a:xfrm>
            <a:off x="6443640" y="3932280"/>
            <a:ext cx="719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7093080" y="3645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琥珀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2" name="Line 22"/>
          <p:cNvSpPr/>
          <p:nvPr/>
        </p:nvSpPr>
        <p:spPr>
          <a:xfrm>
            <a:off x="5651640" y="5516640"/>
            <a:ext cx="1511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7093080" y="5229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黄绿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4" name="Line 24"/>
          <p:cNvSpPr/>
          <p:nvPr/>
        </p:nvSpPr>
        <p:spPr>
          <a:xfrm>
            <a:off x="1908000" y="2349360"/>
            <a:ext cx="15116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5" name="Rectangle 25"/>
          <p:cNvSpPr/>
          <p:nvPr/>
        </p:nvSpPr>
        <p:spPr>
          <a:xfrm>
            <a:off x="179280" y="558720"/>
            <a:ext cx="5508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轮上的三次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6" name="Oval 26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7" name="Oval 27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68" name="Oval 28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1DEA-A94E-445D-8D6F-B05A8160E664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【</a:t>
            </a: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目　录</a:t>
            </a:r>
            <a:r>
              <a:rPr b="1" lang="en-US" sz="3600" spc="-1" strike="noStrike">
                <a:solidFill>
                  <a:srgbClr val="0064b5"/>
                </a:solidFill>
                <a:latin typeface="文泉驿微米黑"/>
              </a:rPr>
              <a:t>】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82692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395280" y="3860640"/>
            <a:ext cx="86364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197964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7" name="Line 34"/>
          <p:cNvSpPr/>
          <p:nvPr/>
        </p:nvSpPr>
        <p:spPr>
          <a:xfrm>
            <a:off x="1547640" y="3860640"/>
            <a:ext cx="86364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334800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2627280" y="3860640"/>
            <a:ext cx="129528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471636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4068720" y="3860640"/>
            <a:ext cx="129528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615636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3" name="Line 40"/>
          <p:cNvSpPr/>
          <p:nvPr/>
        </p:nvSpPr>
        <p:spPr>
          <a:xfrm>
            <a:off x="5508720" y="3860640"/>
            <a:ext cx="129528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7596360" y="2924280"/>
            <a:ext cx="0" cy="93636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5" name="Line 42"/>
          <p:cNvSpPr/>
          <p:nvPr/>
        </p:nvSpPr>
        <p:spPr>
          <a:xfrm>
            <a:off x="6948360" y="3860640"/>
            <a:ext cx="1295640" cy="0"/>
          </a:xfrm>
          <a:prstGeom prst="line">
            <a:avLst/>
          </a:prstGeom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250920" y="4051440"/>
            <a:ext cx="1152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引言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1403280" y="4051440"/>
            <a:ext cx="115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轮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8" name="Text Box 45"/>
          <p:cNvSpPr/>
          <p:nvPr/>
        </p:nvSpPr>
        <p:spPr>
          <a:xfrm>
            <a:off x="2629080" y="4021200"/>
            <a:ext cx="1438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原色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二次色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三次色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3995640" y="4021200"/>
            <a:ext cx="1438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暖色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冷色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中性色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20" name="Text Box 47"/>
          <p:cNvSpPr/>
          <p:nvPr/>
        </p:nvSpPr>
        <p:spPr>
          <a:xfrm>
            <a:off x="5438880" y="4021200"/>
            <a:ext cx="14382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明调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暗调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灰调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21" name="Text Box 48"/>
          <p:cNvSpPr/>
          <p:nvPr/>
        </p:nvSpPr>
        <p:spPr>
          <a:xfrm>
            <a:off x="6877080" y="4021200"/>
            <a:ext cx="143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彩调和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grpSp>
        <p:nvGrpSpPr>
          <p:cNvPr id="122" name="Group 22"/>
          <p:cNvGrpSpPr/>
          <p:nvPr/>
        </p:nvGrpSpPr>
        <p:grpSpPr>
          <a:xfrm>
            <a:off x="179280" y="1924920"/>
            <a:ext cx="8805960" cy="4658400"/>
            <a:chOff x="179280" y="1924920"/>
            <a:chExt cx="8805960" cy="4658400"/>
          </a:xfrm>
        </p:grpSpPr>
        <p:sp>
          <p:nvSpPr>
            <p:cNvPr id="123" name="AutoShape 13"/>
            <p:cNvSpPr/>
            <p:nvPr/>
          </p:nvSpPr>
          <p:spPr>
            <a:xfrm rot="13500000">
              <a:off x="7768080" y="2133360"/>
              <a:ext cx="1008000" cy="1008720"/>
            </a:xfrm>
            <a:prstGeom prst="rtTriangle">
              <a:avLst/>
            </a:prstGeom>
            <a:solidFill>
              <a:srgbClr val="cfe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4" name="AutoShape 10"/>
            <p:cNvSpPr/>
            <p:nvPr/>
          </p:nvSpPr>
          <p:spPr>
            <a:xfrm rot="13500000">
              <a:off x="7884000" y="2215800"/>
              <a:ext cx="804960" cy="805320"/>
            </a:xfrm>
            <a:prstGeom prst="rtTriangle">
              <a:avLst/>
            </a:prstGeom>
            <a:solidFill>
              <a:srgbClr val="10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250560" y="2265480"/>
              <a:ext cx="8073360" cy="720720"/>
            </a:xfrm>
            <a:prstGeom prst="rect">
              <a:avLst/>
            </a:prstGeom>
            <a:solidFill>
              <a:srgbClr val="109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>
              <a:off x="140436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255780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399888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44032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688320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8287560" y="2265480"/>
              <a:ext cx="0" cy="431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179280" y="2175120"/>
              <a:ext cx="10818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32360" y="2175120"/>
              <a:ext cx="10818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4" name="Text Box 23"/>
            <p:cNvSpPr/>
            <p:nvPr/>
          </p:nvSpPr>
          <p:spPr>
            <a:xfrm>
              <a:off x="2629440" y="2175120"/>
              <a:ext cx="10818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070160" y="2175120"/>
              <a:ext cx="10818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5513040" y="2175120"/>
              <a:ext cx="10818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137" name="Text Box 28"/>
            <p:cNvSpPr/>
            <p:nvPr/>
          </p:nvSpPr>
          <p:spPr>
            <a:xfrm>
              <a:off x="6954480" y="2175120"/>
              <a:ext cx="10818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ffff"/>
                  </a:solidFill>
                  <a:latin typeface="文泉驿微米黑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F25B-EE46-465A-828C-352578ADCAE9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从原色出发，不断组合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最终就能得到所有颜色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74" name="Picture 12" descr=""/>
          <p:cNvPicPr/>
          <p:nvPr/>
        </p:nvPicPr>
        <p:blipFill>
          <a:blip r:embed="rId1"/>
          <a:srcRect l="0" t="10656" r="60170" b="50330"/>
          <a:stretch/>
        </p:blipFill>
        <p:spPr>
          <a:xfrm>
            <a:off x="0" y="549360"/>
            <a:ext cx="3059280" cy="2879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/>
          <p:cNvPicPr/>
          <p:nvPr/>
        </p:nvPicPr>
        <p:blipFill>
          <a:blip r:embed="rId2"/>
          <a:stretch/>
        </p:blipFill>
        <p:spPr>
          <a:xfrm>
            <a:off x="0" y="3429000"/>
            <a:ext cx="3059280" cy="3429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"/>
          <p:cNvPicPr/>
          <p:nvPr/>
        </p:nvPicPr>
        <p:blipFill>
          <a:blip r:embed="rId3"/>
          <a:srcRect l="47807" t="4265" r="2915" b="49057"/>
          <a:stretch/>
        </p:blipFill>
        <p:spPr>
          <a:xfrm>
            <a:off x="3059280" y="3514680"/>
            <a:ext cx="4192560" cy="32972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5"/>
          <p:cNvSpPr/>
          <p:nvPr/>
        </p:nvSpPr>
        <p:spPr>
          <a:xfrm>
            <a:off x="3132000" y="2496960"/>
            <a:ext cx="108108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8" name="Rectangle 16"/>
          <p:cNvSpPr/>
          <p:nvPr/>
        </p:nvSpPr>
        <p:spPr>
          <a:xfrm>
            <a:off x="4284720" y="2496960"/>
            <a:ext cx="86364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5221440" y="2496960"/>
            <a:ext cx="64764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0" name="Rectangle 18"/>
          <p:cNvSpPr/>
          <p:nvPr/>
        </p:nvSpPr>
        <p:spPr>
          <a:xfrm>
            <a:off x="5940360" y="2496960"/>
            <a:ext cx="50472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6518160" y="2496960"/>
            <a:ext cx="28728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2" name="Rectangle 20"/>
          <p:cNvSpPr/>
          <p:nvPr/>
        </p:nvSpPr>
        <p:spPr>
          <a:xfrm>
            <a:off x="6877080" y="2496960"/>
            <a:ext cx="142920" cy="86076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83" name="Picture 21" descr="图片2"/>
          <p:cNvPicPr/>
          <p:nvPr/>
        </p:nvPicPr>
        <p:blipFill>
          <a:blip r:embed="rId4"/>
          <a:stretch/>
        </p:blipFill>
        <p:spPr>
          <a:xfrm>
            <a:off x="3132000" y="549360"/>
            <a:ext cx="11638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43EF-04DC-4102-BE72-EF4C2C3FF41C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4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924000" y="932040"/>
            <a:ext cx="5111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暖色 冷色 中性色</a:t>
            </a: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7" name="AutoShape 25"/>
          <p:cNvSpPr/>
          <p:nvPr/>
        </p:nvSpPr>
        <p:spPr>
          <a:xfrm>
            <a:off x="370692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中性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冷　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暖　色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C5CC-1417-429C-920E-C01FA581350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274920" y="1700280"/>
            <a:ext cx="5472360" cy="3960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91" name="Rectangle 17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暖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92" name="Text Box 18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Warm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393" name="Line 19"/>
          <p:cNvSpPr/>
          <p:nvPr/>
        </p:nvSpPr>
        <p:spPr>
          <a:xfrm>
            <a:off x="3419640" y="3681360"/>
            <a:ext cx="518472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394" name="Picture 6" descr="2007101215528640_2"/>
          <p:cNvPicPr/>
          <p:nvPr/>
        </p:nvPicPr>
        <p:blipFill>
          <a:blip r:embed="rId1"/>
          <a:stretch/>
        </p:blipFill>
        <p:spPr>
          <a:xfrm>
            <a:off x="3351240" y="1916280"/>
            <a:ext cx="1440000" cy="1461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5" descr=""/>
          <p:cNvPicPr/>
          <p:nvPr/>
        </p:nvPicPr>
        <p:blipFill>
          <a:blip r:embed="rId2"/>
          <a:srcRect l="18707" t="17962" r="17591" b="14290"/>
          <a:stretch/>
        </p:blipFill>
        <p:spPr>
          <a:xfrm>
            <a:off x="3274920" y="3860640"/>
            <a:ext cx="1589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9"/>
          <p:cNvGrpSpPr/>
          <p:nvPr/>
        </p:nvGrpSpPr>
        <p:grpSpPr>
          <a:xfrm>
            <a:off x="324000" y="2168640"/>
            <a:ext cx="2871720" cy="3024000"/>
            <a:chOff x="324000" y="2168640"/>
            <a:chExt cx="2871720" cy="3024000"/>
          </a:xfrm>
        </p:grpSpPr>
        <p:pic>
          <p:nvPicPr>
            <p:cNvPr id="397" name="Picture 11" descr=""/>
            <p:cNvPicPr/>
            <p:nvPr/>
          </p:nvPicPr>
          <p:blipFill>
            <a:blip r:embed="rId3"/>
            <a:stretch/>
          </p:blipFill>
          <p:spPr>
            <a:xfrm>
              <a:off x="324000" y="2168640"/>
              <a:ext cx="287172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Rectangle 12"/>
            <p:cNvSpPr/>
            <p:nvPr/>
          </p:nvSpPr>
          <p:spPr>
            <a:xfrm>
              <a:off x="1897200" y="3105000"/>
              <a:ext cx="72072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2400"/>
                  </a:solidFill>
                  <a:latin typeface="文泉驿微米黑"/>
                </a:rPr>
                <a:t>暖色</a:t>
              </a:r>
              <a:endParaRPr b="0" lang="en-US" sz="32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399" name="Rectangle 13"/>
            <p:cNvSpPr/>
            <p:nvPr/>
          </p:nvSpPr>
          <p:spPr>
            <a:xfrm>
              <a:off x="817560" y="3465360"/>
              <a:ext cx="72072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文泉驿微米黑"/>
                </a:rPr>
                <a:t>冷色</a:t>
              </a:r>
              <a:endParaRPr b="0" lang="en-US" sz="2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  <p:sp>
        <p:nvSpPr>
          <p:cNvPr id="400" name="Oval 30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1" name="Oval 31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2" name="Oval 32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3" name="AutoShape 8"/>
          <p:cNvSpPr/>
          <p:nvPr/>
        </p:nvSpPr>
        <p:spPr>
          <a:xfrm>
            <a:off x="4788000" y="2287440"/>
            <a:ext cx="4895640" cy="863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暖色包括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红、橙、黄、黄绿等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4788000" y="4294080"/>
            <a:ext cx="4895640" cy="863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视觉感受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生动活泼、积极有力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36FD-35B6-480E-83B6-55B3CD0A8FE4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grpSp>
        <p:nvGrpSpPr>
          <p:cNvPr id="406" name="Group 3"/>
          <p:cNvGrpSpPr/>
          <p:nvPr/>
        </p:nvGrpSpPr>
        <p:grpSpPr>
          <a:xfrm>
            <a:off x="324000" y="2168640"/>
            <a:ext cx="2871720" cy="3024000"/>
            <a:chOff x="324000" y="2168640"/>
            <a:chExt cx="2871720" cy="3024000"/>
          </a:xfrm>
        </p:grpSpPr>
        <p:pic>
          <p:nvPicPr>
            <p:cNvPr id="407" name="Picture 11" descr=""/>
            <p:cNvPicPr/>
            <p:nvPr/>
          </p:nvPicPr>
          <p:blipFill>
            <a:blip r:embed="rId1"/>
            <a:stretch/>
          </p:blipFill>
          <p:spPr>
            <a:xfrm>
              <a:off x="324000" y="2168640"/>
              <a:ext cx="287172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Rectangle 12"/>
            <p:cNvSpPr/>
            <p:nvPr/>
          </p:nvSpPr>
          <p:spPr>
            <a:xfrm>
              <a:off x="1897200" y="3105000"/>
              <a:ext cx="72072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文泉驿微米黑"/>
                </a:rPr>
                <a:t>暖色</a:t>
              </a:r>
              <a:endParaRPr b="0" lang="en-US" sz="28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  <p:sp>
          <p:nvSpPr>
            <p:cNvPr id="409" name="Rectangle 13"/>
            <p:cNvSpPr/>
            <p:nvPr/>
          </p:nvSpPr>
          <p:spPr>
            <a:xfrm>
              <a:off x="817560" y="3465360"/>
              <a:ext cx="720720" cy="64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2400"/>
                  </a:solidFill>
                  <a:latin typeface="文泉驿微米黑"/>
                </a:rPr>
                <a:t>冷色</a:t>
              </a:r>
              <a:endParaRPr b="0" lang="en-US" sz="3200" spc="-1" strike="noStrike">
                <a:solidFill>
                  <a:srgbClr val="000000"/>
                </a:solidFill>
                <a:latin typeface="文泉驿微米黑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冷色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Cold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276720" y="1700280"/>
            <a:ext cx="5472000" cy="3960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3" name="Line 6"/>
          <p:cNvSpPr/>
          <p:nvPr/>
        </p:nvSpPr>
        <p:spPr>
          <a:xfrm>
            <a:off x="3421080" y="3681360"/>
            <a:ext cx="518472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14" name="Picture 8" descr=""/>
          <p:cNvPicPr/>
          <p:nvPr/>
        </p:nvPicPr>
        <p:blipFill>
          <a:blip r:embed="rId2"/>
          <a:srcRect l="18707" t="17962" r="17591" b="14290"/>
          <a:stretch/>
        </p:blipFill>
        <p:spPr>
          <a:xfrm>
            <a:off x="3276720" y="3860640"/>
            <a:ext cx="1589040" cy="1656000"/>
          </a:xfrm>
          <a:prstGeom prst="rect">
            <a:avLst/>
          </a:prstGeom>
          <a:ln w="0">
            <a:noFill/>
          </a:ln>
        </p:spPr>
      </p:pic>
      <p:sp>
        <p:nvSpPr>
          <p:cNvPr id="415" name="Oval 13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6" name="Oval 14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7" name="Oval 15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4789440" y="2287440"/>
            <a:ext cx="4896000" cy="863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冷色包括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靛青、紫、蓝、绿等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4789440" y="4294080"/>
            <a:ext cx="4896000" cy="863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视觉感受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平静镇定、舒缓淡泊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20" name="Picture 26" descr="slide0104_image011"/>
          <p:cNvPicPr/>
          <p:nvPr/>
        </p:nvPicPr>
        <p:blipFill>
          <a:blip r:embed="rId3"/>
          <a:stretch/>
        </p:blipFill>
        <p:spPr>
          <a:xfrm>
            <a:off x="3349800" y="1916280"/>
            <a:ext cx="146016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7A77-82E2-455D-A02A-1B374BDA98DE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2" name="AutoShape 12"/>
          <p:cNvSpPr/>
          <p:nvPr/>
        </p:nvSpPr>
        <p:spPr>
          <a:xfrm>
            <a:off x="395280" y="1700280"/>
            <a:ext cx="8353440" cy="4321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中性色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4" name="Text Box 19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Neutral color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611280" y="1917720"/>
            <a:ext cx="784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中性色有</a:t>
            </a:r>
            <a:r>
              <a:rPr b="1" lang="en-US" sz="4800" spc="-1" strike="noStrike">
                <a:solidFill>
                  <a:srgbClr val="c62400"/>
                </a:solidFill>
                <a:latin typeface="文泉驿微米黑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种：黑、灰、白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6" name="AutoShape 15"/>
          <p:cNvSpPr/>
          <p:nvPr/>
        </p:nvSpPr>
        <p:spPr>
          <a:xfrm>
            <a:off x="6657840" y="2637000"/>
            <a:ext cx="1009800" cy="1008000"/>
          </a:xfrm>
          <a:prstGeom prst="roundRect">
            <a:avLst>
              <a:gd name="adj" fmla="val 20167"/>
            </a:avLst>
          </a:prstGeom>
          <a:solidFill>
            <a:srgbClr val="ffffff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1476360" y="2637000"/>
            <a:ext cx="1009800" cy="1008000"/>
          </a:xfrm>
          <a:prstGeom prst="roundRect">
            <a:avLst>
              <a:gd name="adj" fmla="val 20167"/>
            </a:avLst>
          </a:prstGeom>
          <a:solidFill>
            <a:srgbClr val="000000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泉驿微米黑"/>
              </a:rPr>
              <a:t>黑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文泉驿微米黑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8" name="AutoShape 15"/>
          <p:cNvSpPr/>
          <p:nvPr/>
        </p:nvSpPr>
        <p:spPr>
          <a:xfrm>
            <a:off x="6657840" y="3933720"/>
            <a:ext cx="1009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泉驿微米黑"/>
              </a:rPr>
              <a:t>白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文泉驿微米黑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29" name="AutoShape 16"/>
          <p:cNvSpPr/>
          <p:nvPr/>
        </p:nvSpPr>
        <p:spPr>
          <a:xfrm>
            <a:off x="1476360" y="3933720"/>
            <a:ext cx="1009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泉驿微米黑"/>
              </a:rPr>
              <a:t>黑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文泉驿微米黑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0" name="AutoShape 17"/>
          <p:cNvSpPr/>
          <p:nvPr/>
        </p:nvSpPr>
        <p:spPr>
          <a:xfrm>
            <a:off x="4067280" y="3933720"/>
            <a:ext cx="100944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文泉驿微米黑"/>
              </a:rPr>
              <a:t>灰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文泉驿微米黑"/>
              </a:rPr>
              <a:t>gray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611280" y="5230800"/>
            <a:ext cx="784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灰色是由黑白按不同比例组成的一个</a:t>
            </a:r>
            <a:r>
              <a:rPr b="1" lang="zh-CN" sz="2400" spc="-1" strike="noStrike">
                <a:solidFill>
                  <a:srgbClr val="c62400"/>
                </a:solidFill>
                <a:latin typeface="文泉驿微米黑"/>
              </a:rPr>
              <a:t>色系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，这个比例称为</a:t>
            </a:r>
            <a:r>
              <a:rPr b="1" lang="zh-CN" sz="2400" spc="-1" strike="noStrike">
                <a:solidFill>
                  <a:srgbClr val="c62400"/>
                </a:solidFill>
                <a:latin typeface="文泉驿微米黑"/>
              </a:rPr>
              <a:t>灰度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2" name="Oval 29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3" name="Oval 30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4" name="Oval 31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5" name="AutoShape 17"/>
          <p:cNvSpPr/>
          <p:nvPr/>
        </p:nvSpPr>
        <p:spPr>
          <a:xfrm>
            <a:off x="34131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333333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6" name="AutoShape 17"/>
          <p:cNvSpPr/>
          <p:nvPr/>
        </p:nvSpPr>
        <p:spPr>
          <a:xfrm>
            <a:off x="40179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5f5f5f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7" name="AutoShape 17"/>
          <p:cNvSpPr/>
          <p:nvPr/>
        </p:nvSpPr>
        <p:spPr>
          <a:xfrm>
            <a:off x="46227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808080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8" name="AutoShape 17"/>
          <p:cNvSpPr/>
          <p:nvPr/>
        </p:nvSpPr>
        <p:spPr>
          <a:xfrm>
            <a:off x="52275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b2b2b2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58323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dddddd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0" name="AutoShape 17"/>
          <p:cNvSpPr/>
          <p:nvPr/>
        </p:nvSpPr>
        <p:spPr>
          <a:xfrm>
            <a:off x="2808360" y="2637000"/>
            <a:ext cx="503280" cy="1008000"/>
          </a:xfrm>
          <a:custGeom>
            <a:avLst/>
            <a:gdLst>
              <a:gd name="textAreaLeft" fmla="*/ 29520 w 503280"/>
              <a:gd name="textAreaRight" fmla="*/ 473760 w 503280"/>
              <a:gd name="textAreaTop" fmla="*/ 29520 h 1008000"/>
              <a:gd name="textAreaBottom" fmla="*/ 978480 h 1008000"/>
            </a:gdLst>
            <a:ahLst/>
            <a:rect l="textAreaLeft" t="textAreaTop" r="textAreaRight" b="textAreaBottom"/>
            <a:pathLst>
              <a:path w="21600" h="43246">
                <a:moveTo>
                  <a:pt x="4356" y="0"/>
                </a:moveTo>
                <a:arcTo wR="4356" hR="4356" stAng="16200000" swAng="-5400000"/>
                <a:lnTo>
                  <a:pt x="0" y="38890"/>
                </a:lnTo>
                <a:arcTo wR="4356" hR="4356" stAng="10800000" swAng="-5400000"/>
                <a:lnTo>
                  <a:pt x="17244" y="43246"/>
                </a:lnTo>
                <a:arcTo wR="4356" hR="4356" stAng="5400000" swAng="-5400000"/>
                <a:lnTo>
                  <a:pt x="21600" y="4356"/>
                </a:lnTo>
                <a:arcTo wR="4356" hR="4356" stAng="0" swAng="-5400000"/>
                <a:close/>
              </a:path>
            </a:pathLst>
          </a:custGeom>
          <a:solidFill>
            <a:srgbClr val="1c1c1c"/>
          </a:solidFill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C5B8-6287-4407-84E5-E7DC288214D7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由大量冷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暖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构成主色调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少量暖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冷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色和中性色起缓冲作用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132000" y="547560"/>
            <a:ext cx="1152720" cy="1873440"/>
          </a:xfrm>
          <a:prstGeom prst="rect">
            <a:avLst/>
          </a:prstGeom>
          <a:solidFill>
            <a:srgbClr val="08b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132000" y="907920"/>
            <a:ext cx="1152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ffff"/>
                </a:solidFill>
                <a:latin typeface="Victorian LE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6" name="Line 6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48" name="Picture 10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3961080" cy="3373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49" name="Picture 11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3132000" cy="2878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0" name="Picture 12" descr=""/>
          <p:cNvPicPr/>
          <p:nvPr/>
        </p:nvPicPr>
        <p:blipFill>
          <a:blip r:embed="rId3"/>
          <a:stretch/>
        </p:blipFill>
        <p:spPr>
          <a:xfrm>
            <a:off x="34920" y="3429000"/>
            <a:ext cx="3130560" cy="3365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51" name="Rectangle 13"/>
          <p:cNvSpPr/>
          <p:nvPr/>
        </p:nvSpPr>
        <p:spPr>
          <a:xfrm>
            <a:off x="3203640" y="2492280"/>
            <a:ext cx="108108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356000" y="2492280"/>
            <a:ext cx="86364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5292720" y="2492280"/>
            <a:ext cx="64764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6012000" y="2492280"/>
            <a:ext cx="50472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6589800" y="2492280"/>
            <a:ext cx="28728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6948360" y="2492280"/>
            <a:ext cx="142920" cy="860400"/>
          </a:xfrm>
          <a:prstGeom prst="rect">
            <a:avLst/>
          </a:prstGeom>
          <a:solidFill>
            <a:srgbClr val="109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D08C-A7FC-44D9-81D4-8F31FBF1B008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5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3924000" y="932040"/>
            <a:ext cx="5111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明调 暗调 灰调</a:t>
            </a: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0" name="AutoShape 25"/>
          <p:cNvSpPr/>
          <p:nvPr/>
        </p:nvSpPr>
        <p:spPr>
          <a:xfrm>
            <a:off x="349236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灰　调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暗　调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明　调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0AD5-9DEC-4E99-83E2-B1C585A36A2C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324000" y="1916280"/>
            <a:ext cx="8424720" cy="280800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755640" y="1555920"/>
            <a:ext cx="5329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明调：</a:t>
            </a:r>
            <a:r>
              <a:rPr b="1" lang="zh-CN" sz="2700" spc="-1" strike="noStrike">
                <a:solidFill>
                  <a:srgbClr val="c62400"/>
                </a:solidFill>
                <a:latin typeface="文泉驿微米黑"/>
              </a:rPr>
              <a:t>掺加白色</a:t>
            </a: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得到的一种纯色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5" name="AutoShape 7"/>
          <p:cNvSpPr/>
          <p:nvPr/>
        </p:nvSpPr>
        <p:spPr>
          <a:xfrm>
            <a:off x="755640" y="227664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2340000" y="227664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提高颜色的亮度，使其更加鲜明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755640" y="2997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手段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2340000" y="2997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向颜色中掺入白色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69" name="AutoShape 11"/>
          <p:cNvSpPr/>
          <p:nvPr/>
        </p:nvSpPr>
        <p:spPr>
          <a:xfrm>
            <a:off x="755640" y="4005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0" name="AutoShape 12"/>
          <p:cNvSpPr/>
          <p:nvPr/>
        </p:nvSpPr>
        <p:spPr>
          <a:xfrm>
            <a:off x="2340000" y="4005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得到明调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1" name="AutoShape 14"/>
          <p:cNvSpPr/>
          <p:nvPr/>
        </p:nvSpPr>
        <p:spPr>
          <a:xfrm flipV="1">
            <a:off x="755640" y="3716280"/>
            <a:ext cx="1224000" cy="216000"/>
          </a:xfrm>
          <a:prstGeom prst="triangle">
            <a:avLst>
              <a:gd name="adj" fmla="val 50000"/>
            </a:avLst>
          </a:prstGeom>
          <a:solidFill>
            <a:srgbClr val="c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72" name="Picture 15" descr=""/>
          <p:cNvPicPr/>
          <p:nvPr/>
        </p:nvPicPr>
        <p:blipFill>
          <a:blip r:embed="rId1"/>
          <a:stretch/>
        </p:blipFill>
        <p:spPr>
          <a:xfrm>
            <a:off x="324000" y="4869000"/>
            <a:ext cx="8424720" cy="13255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6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Tint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明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5" name="Oval 1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6" name="Oval 1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7" name="Oval 2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CABA-23B3-4952-86BE-F62B538F4160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755640" y="227664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2340000" y="227664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降低颜色的亮度，使其更加黯淡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755640" y="2997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手段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2340000" y="2997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向颜色中掺入黑色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3" name="AutoShape 10"/>
          <p:cNvSpPr/>
          <p:nvPr/>
        </p:nvSpPr>
        <p:spPr>
          <a:xfrm>
            <a:off x="755640" y="4005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4" name="AutoShape 11"/>
          <p:cNvSpPr/>
          <p:nvPr/>
        </p:nvSpPr>
        <p:spPr>
          <a:xfrm>
            <a:off x="2340000" y="4005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得到暗调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5" name="AutoShape 12"/>
          <p:cNvSpPr/>
          <p:nvPr/>
        </p:nvSpPr>
        <p:spPr>
          <a:xfrm flipV="1">
            <a:off x="755640" y="3716280"/>
            <a:ext cx="1224000" cy="216000"/>
          </a:xfrm>
          <a:prstGeom prst="triangle">
            <a:avLst>
              <a:gd name="adj" fmla="val 50000"/>
            </a:avLst>
          </a:prstGeom>
          <a:solidFill>
            <a:srgbClr val="c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486" name="Picture 14" descr=""/>
          <p:cNvPicPr/>
          <p:nvPr/>
        </p:nvPicPr>
        <p:blipFill>
          <a:blip r:embed="rId1"/>
          <a:stretch/>
        </p:blipFill>
        <p:spPr>
          <a:xfrm>
            <a:off x="324000" y="4869000"/>
            <a:ext cx="8424720" cy="13255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6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Shad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8" name="Rectangle 17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暗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89" name="Oval 1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0" name="Oval 1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1" name="Oval 2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324000" y="1916280"/>
            <a:ext cx="8424720" cy="280800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755640" y="1555920"/>
            <a:ext cx="5329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暗调：</a:t>
            </a:r>
            <a:r>
              <a:rPr b="1" lang="zh-CN" sz="2700" spc="-1" strike="noStrike">
                <a:solidFill>
                  <a:srgbClr val="c62400"/>
                </a:solidFill>
                <a:latin typeface="文泉驿微米黑"/>
              </a:rPr>
              <a:t>掺加黑色</a:t>
            </a: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得到的一种纯色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C2C2-6E3A-422A-A491-BC8173128879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755640" y="227664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2340000" y="227664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比明</a:t>
            </a:r>
            <a:r>
              <a:rPr b="0" lang="en-US" sz="3000" spc="-1" strike="noStrike">
                <a:solidFill>
                  <a:srgbClr val="000000"/>
                </a:solidFill>
                <a:latin typeface="文泉驿微米黑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暗调更精细地调节颜色的亮度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755640" y="2997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手段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8" name="AutoShape 9"/>
          <p:cNvSpPr/>
          <p:nvPr/>
        </p:nvSpPr>
        <p:spPr>
          <a:xfrm>
            <a:off x="2340000" y="2997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向颜色中掺入灰色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755640" y="4005360"/>
            <a:ext cx="1295280" cy="64764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文泉驿微米黑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2340000" y="4005360"/>
            <a:ext cx="5832360" cy="64764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得到灰调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1" name="AutoShape 12"/>
          <p:cNvSpPr/>
          <p:nvPr/>
        </p:nvSpPr>
        <p:spPr>
          <a:xfrm flipV="1">
            <a:off x="755640" y="3716280"/>
            <a:ext cx="1224000" cy="216000"/>
          </a:xfrm>
          <a:prstGeom prst="triangle">
            <a:avLst>
              <a:gd name="adj" fmla="val 50000"/>
            </a:avLst>
          </a:prstGeom>
          <a:solidFill>
            <a:srgbClr val="c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02" name="Picture 14" descr=""/>
          <p:cNvPicPr/>
          <p:nvPr/>
        </p:nvPicPr>
        <p:blipFill>
          <a:blip r:embed="rId1"/>
          <a:stretch/>
        </p:blipFill>
        <p:spPr>
          <a:xfrm>
            <a:off x="324000" y="4869000"/>
            <a:ext cx="8424720" cy="132372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6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4" name="Rectangle 17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灰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5" name="Oval 1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6" name="Oval 1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7" name="Oval 2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324000" y="1916280"/>
            <a:ext cx="8424720" cy="280800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755640" y="1555920"/>
            <a:ext cx="48974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灰调：</a:t>
            </a:r>
            <a:r>
              <a:rPr b="1" lang="zh-CN" sz="2700" spc="-1" strike="noStrike">
                <a:solidFill>
                  <a:srgbClr val="c62400"/>
                </a:solidFill>
                <a:latin typeface="文泉驿微米黑"/>
              </a:rPr>
              <a:t>掺加灰色</a:t>
            </a: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得到的一种纯色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D52-0FFC-437C-9259-034DE84FDBED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1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561840" y="931680"/>
            <a:ext cx="5473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　引　言　</a:t>
            </a:r>
            <a:r>
              <a:rPr b="0" lang="en-US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1" name="AutoShape 25"/>
          <p:cNvSpPr/>
          <p:nvPr/>
        </p:nvSpPr>
        <p:spPr>
          <a:xfrm>
            <a:off x="3922560" y="2135160"/>
            <a:ext cx="525780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彩正确搭配</a:t>
            </a: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34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彩作用于人</a:t>
            </a: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34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彩用于表达</a:t>
            </a:r>
            <a:r>
              <a:rPr b="0" lang="en-US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3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0BE4-23F7-4426-8682-4E60D324ABF9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12" name="Picture 9" descr=""/>
          <p:cNvPicPr/>
          <p:nvPr/>
        </p:nvPicPr>
        <p:blipFill>
          <a:blip r:embed="rId1"/>
          <a:stretch/>
        </p:blipFill>
        <p:spPr>
          <a:xfrm>
            <a:off x="34920" y="4221000"/>
            <a:ext cx="3673440" cy="2619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13" name="AutoShape 6"/>
          <p:cNvSpPr/>
          <p:nvPr/>
        </p:nvSpPr>
        <p:spPr>
          <a:xfrm>
            <a:off x="3562200" y="54756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从一种颜色出发，调配明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暗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灰调，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形成一系列明暗度深浅不一的色彩，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称为</a:t>
            </a: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单色配色，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是色彩调和的基础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2411280" y="907920"/>
            <a:ext cx="1152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15" name="Line 7"/>
          <p:cNvSpPr/>
          <p:nvPr/>
        </p:nvSpPr>
        <p:spPr>
          <a:xfrm>
            <a:off x="3635280" y="1987560"/>
            <a:ext cx="52578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076720" y="198756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17" name="Picture 10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2324160" cy="36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18" name="Picture 11" descr=""/>
          <p:cNvPicPr/>
          <p:nvPr/>
        </p:nvPicPr>
        <p:blipFill>
          <a:blip r:embed="rId3"/>
          <a:stretch/>
        </p:blipFill>
        <p:spPr>
          <a:xfrm>
            <a:off x="2411280" y="2492280"/>
            <a:ext cx="5545440" cy="169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19" name="Picture 12" descr=""/>
          <p:cNvPicPr/>
          <p:nvPr/>
        </p:nvPicPr>
        <p:blipFill>
          <a:blip r:embed="rId4"/>
          <a:stretch/>
        </p:blipFill>
        <p:spPr>
          <a:xfrm>
            <a:off x="3760920" y="4221000"/>
            <a:ext cx="4195800" cy="262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0" name="Picture 14" descr="图片2"/>
          <p:cNvPicPr/>
          <p:nvPr/>
        </p:nvPicPr>
        <p:blipFill>
          <a:blip r:embed="rId5"/>
          <a:stretch/>
        </p:blipFill>
        <p:spPr>
          <a:xfrm>
            <a:off x="2411280" y="549360"/>
            <a:ext cx="11638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AE8A-C434-4E0F-BE3E-3B6FA5A6401A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6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19640" y="932040"/>
            <a:ext cx="406872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色彩调和</a:t>
            </a:r>
            <a:r>
              <a:rPr b="0" lang="en-US" sz="36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24" name="AutoShape 25"/>
          <p:cNvSpPr/>
          <p:nvPr/>
        </p:nvSpPr>
        <p:spPr>
          <a:xfrm>
            <a:off x="248292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34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正方形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矩形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29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分割互补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三  色  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类似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互补色系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51E1-1669-4385-8658-4DD0EAE0EDF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179280" y="13399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6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Complementary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29" name="Rectangle 18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互补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484360" y="3860640"/>
            <a:ext cx="6264360" cy="2592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2771640" y="5516640"/>
            <a:ext cx="4411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在色轮上相对分布 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成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180°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角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的两种颜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complementary colors)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3" name="AutoShape 10"/>
          <p:cNvSpPr/>
          <p:nvPr/>
        </p:nvSpPr>
        <p:spPr>
          <a:xfrm>
            <a:off x="2771640" y="4294080"/>
            <a:ext cx="576108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由一对 </a:t>
            </a:r>
            <a:r>
              <a:rPr b="1" lang="zh-CN" sz="3700" spc="-1" strike="noStrike">
                <a:solidFill>
                  <a:srgbClr val="c62400"/>
                </a:solidFill>
                <a:latin typeface="文泉驿微米黑"/>
              </a:rPr>
              <a:t>互补色</a:t>
            </a: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  构成的色系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4" name="AutoShape 9"/>
          <p:cNvSpPr/>
          <p:nvPr/>
        </p:nvSpPr>
        <p:spPr>
          <a:xfrm>
            <a:off x="4284720" y="4078440"/>
            <a:ext cx="1511280" cy="71892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5" name="AutoShape 20"/>
          <p:cNvSpPr/>
          <p:nvPr/>
        </p:nvSpPr>
        <p:spPr>
          <a:xfrm rot="5400000">
            <a:off x="4607640" y="5041080"/>
            <a:ext cx="865080" cy="520560"/>
          </a:xfrm>
          <a:custGeom>
            <a:avLst/>
            <a:gdLst>
              <a:gd name="textAreaLeft" fmla="*/ 108000 w 865080"/>
              <a:gd name="textAreaRight" fmla="*/ 757080 w 865080"/>
              <a:gd name="textAreaTop" fmla="*/ 129960 h 520560"/>
              <a:gd name="textAreaBottom" fmla="*/ 390600 h 52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6" name="Oval 22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7" name="Oval 23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8" name="Oval 24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39" name="Oval 25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0" name="Oval 26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1" name="Oval 27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7D0F-253F-4FE5-B061-F72194FDEBE8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pic>
        <p:nvPicPr>
          <p:cNvPr id="545" name="Picture 14" descr=""/>
          <p:cNvPicPr/>
          <p:nvPr/>
        </p:nvPicPr>
        <p:blipFill>
          <a:blip r:embed="rId1"/>
          <a:stretch/>
        </p:blipFill>
        <p:spPr>
          <a:xfrm>
            <a:off x="693720" y="1844640"/>
            <a:ext cx="2365560" cy="189216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高度对比，难以驾驭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47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场合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凸显强调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不适用于大量文本对比</a:t>
            </a:r>
            <a:r>
              <a:rPr b="0" lang="en-US" sz="2000" spc="-1" strike="noStrike">
                <a:solidFill>
                  <a:srgbClr val="000000"/>
                </a:solidFill>
                <a:latin typeface="文泉驿微米黑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或背景色与文本色对比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48" name="Picture 26" descr=""/>
          <p:cNvPicPr/>
          <p:nvPr/>
        </p:nvPicPr>
        <p:blipFill>
          <a:blip r:embed="rId2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549" name="Line 27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0" name="Oval 2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1" name="Oval 2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2" name="Oval 3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4" name="Oval 32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5" name="Oval 33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0C76-FF96-44B1-A0C1-88CE0E8E88F4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Analogous 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类似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2484360" y="3860640"/>
            <a:ext cx="6264360" cy="2592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1" name="AutoShape 8"/>
          <p:cNvSpPr/>
          <p:nvPr/>
        </p:nvSpPr>
        <p:spPr>
          <a:xfrm>
            <a:off x="2771640" y="5516640"/>
            <a:ext cx="4411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在色轮上相邻分布 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夹角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&lt;90°)</a:t>
            </a: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的几种颜色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(analogous colors)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2" name="AutoShape 10"/>
          <p:cNvSpPr/>
          <p:nvPr/>
        </p:nvSpPr>
        <p:spPr>
          <a:xfrm>
            <a:off x="2771640" y="4294080"/>
            <a:ext cx="576108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由若干 </a:t>
            </a:r>
            <a:r>
              <a:rPr b="1" lang="zh-CN" sz="3700" spc="-1" strike="noStrike">
                <a:solidFill>
                  <a:srgbClr val="c62400"/>
                </a:solidFill>
                <a:latin typeface="文泉驿微米黑"/>
              </a:rPr>
              <a:t>类似色</a:t>
            </a: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  构成的色系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3" name="AutoShape 9"/>
          <p:cNvSpPr/>
          <p:nvPr/>
        </p:nvSpPr>
        <p:spPr>
          <a:xfrm>
            <a:off x="4284720" y="4078440"/>
            <a:ext cx="1511280" cy="71892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4" name="AutoShape 11"/>
          <p:cNvSpPr/>
          <p:nvPr/>
        </p:nvSpPr>
        <p:spPr>
          <a:xfrm rot="5400000">
            <a:off x="4607640" y="5041080"/>
            <a:ext cx="865080" cy="520560"/>
          </a:xfrm>
          <a:custGeom>
            <a:avLst/>
            <a:gdLst>
              <a:gd name="textAreaLeft" fmla="*/ 108000 w 865080"/>
              <a:gd name="textAreaRight" fmla="*/ 757080 w 865080"/>
              <a:gd name="textAreaTop" fmla="*/ 129960 h 520560"/>
              <a:gd name="textAreaBottom" fmla="*/ 390600 h 52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6" name="Oval 13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7" name="Oval 14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8" name="Oval 15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69" name="Oval 16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0" name="Oval 17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71" name="Picture 1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BF2-702F-4E9F-A8F7-E1F205B68054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575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搭配和谐，对比不强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场合广泛</a:t>
            </a:r>
            <a:r>
              <a:rPr b="1" lang="en-US" sz="3200" spc="-1" strike="noStrike">
                <a:solidFill>
                  <a:srgbClr val="c62400"/>
                </a:solidFill>
                <a:latin typeface="文泉驿微米黑"/>
              </a:rPr>
              <a:t>, </a:t>
            </a: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注意两条法则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易于区分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保证各种色彩有足够的对比度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均衡调配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主体色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辅助色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强调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77" name="Picture 7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578" name="Line 8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79" name="Oval 9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0" name="Oval 10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1" name="Oval 11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2" name="Oval 12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3" name="Oval 13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4" name="Oval 14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585" name="Picture 23" descr=""/>
          <p:cNvPicPr/>
          <p:nvPr/>
        </p:nvPicPr>
        <p:blipFill>
          <a:blip r:embed="rId2"/>
          <a:stretch/>
        </p:blipFill>
        <p:spPr>
          <a:xfrm>
            <a:off x="684360" y="1820880"/>
            <a:ext cx="236844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D537-9F4F-4C4F-B6E2-04CBB247FAFE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Triadic 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三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2484360" y="3860640"/>
            <a:ext cx="6264360" cy="2376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1" name="AutoShape 8"/>
          <p:cNvSpPr/>
          <p:nvPr/>
        </p:nvSpPr>
        <p:spPr>
          <a:xfrm>
            <a:off x="2627280" y="5445000"/>
            <a:ext cx="4411800" cy="1008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两两之间夹角为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2" name="AutoShape 10"/>
          <p:cNvSpPr/>
          <p:nvPr/>
        </p:nvSpPr>
        <p:spPr>
          <a:xfrm>
            <a:off x="2627280" y="4294080"/>
            <a:ext cx="590544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由 </a:t>
            </a:r>
            <a:r>
              <a:rPr b="1" lang="zh-CN" sz="3000" spc="-1" strike="noStrike">
                <a:solidFill>
                  <a:srgbClr val="c62400"/>
                </a:solidFill>
                <a:latin typeface="文泉驿微米黑"/>
              </a:rPr>
              <a:t>均衡分布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 的</a:t>
            </a:r>
            <a:r>
              <a:rPr b="0" lang="en-US" sz="3000" spc="-1" strike="noStrike">
                <a:solidFill>
                  <a:srgbClr val="000000"/>
                </a:solidFill>
                <a:latin typeface="文泉驿微米黑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种颜色构成的色系</a:t>
            </a:r>
            <a:br>
              <a:rPr sz="3700"/>
            </a:b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3132000" y="4076640"/>
            <a:ext cx="1511280" cy="71928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4" name="AutoShape 10"/>
          <p:cNvSpPr/>
          <p:nvPr/>
        </p:nvSpPr>
        <p:spPr>
          <a:xfrm rot="5400000">
            <a:off x="3462840" y="5041080"/>
            <a:ext cx="865080" cy="520920"/>
          </a:xfrm>
          <a:custGeom>
            <a:avLst/>
            <a:gdLst>
              <a:gd name="textAreaLeft" fmla="*/ 108000 w 865080"/>
              <a:gd name="textAreaRight" fmla="*/ 757080 w 865080"/>
              <a:gd name="textAreaTop" fmla="*/ 130320 h 520920"/>
              <a:gd name="textAreaBottom" fmla="*/ 390960 h 52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5" name="Oval 11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6" name="Oval 12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7" name="Oval 13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8" name="Oval 14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599" name="Oval 15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0" name="Oval 16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01" name="Picture 15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0A50-DAAF-4F5A-A25A-6F67EF62998D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05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既搭配和谐</a:t>
            </a:r>
            <a:r>
              <a:rPr b="0" lang="en-US" sz="3000" spc="-1" strike="noStrike">
                <a:solidFill>
                  <a:srgbClr val="000000"/>
                </a:solidFill>
                <a:latin typeface="文泉驿微米黑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又对比鲜明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场合广泛</a:t>
            </a:r>
            <a:r>
              <a:rPr b="1" lang="en-US" sz="3200" spc="-1" strike="noStrike">
                <a:solidFill>
                  <a:srgbClr val="c62400"/>
                </a:solidFill>
                <a:latin typeface="文泉驿微米黑"/>
              </a:rPr>
              <a:t>, </a:t>
            </a: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注意两条法则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均衡调配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主体色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辅助色</a:t>
            </a:r>
            <a:r>
              <a:rPr b="0" lang="en-US" sz="18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种强调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以二次色为佳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绿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橙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紫 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&gt; 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红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黄</a:t>
            </a:r>
            <a:r>
              <a:rPr b="0" lang="en-US" sz="2200" spc="-1" strike="noStrike">
                <a:solidFill>
                  <a:srgbClr val="000000"/>
                </a:solidFill>
                <a:latin typeface="文泉驿微米黑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蓝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07" name="Picture 6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608" name="Line 7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09" name="Oval 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0" name="Oval 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1" name="Oval 1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2" name="Oval 11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3" name="Oval 12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4" name="Oval 13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15" name="Picture 17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236376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BD14-5EAA-4BFE-91E2-1EB649C1BD38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3490920" y="260280"/>
            <a:ext cx="475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a2f4"/>
                </a:solidFill>
                <a:latin typeface="文泉驿微米黑"/>
              </a:rPr>
              <a:t>Split-complementary  color scheme</a:t>
            </a: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分割互补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4" name="Oval 16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25" name="Picture 19" descr=""/>
          <p:cNvPicPr/>
          <p:nvPr/>
        </p:nvPicPr>
        <p:blipFill>
          <a:blip r:embed="rId1"/>
          <a:stretch/>
        </p:blipFill>
        <p:spPr>
          <a:xfrm>
            <a:off x="108000" y="1270080"/>
            <a:ext cx="3022560" cy="3022560"/>
          </a:xfrm>
          <a:prstGeom prst="rect">
            <a:avLst/>
          </a:prstGeom>
          <a:ln w="0">
            <a:noFill/>
          </a:ln>
        </p:spPr>
      </p:pic>
      <p:sp>
        <p:nvSpPr>
          <p:cNvPr id="626" name="AutoShape 6"/>
          <p:cNvSpPr/>
          <p:nvPr/>
        </p:nvSpPr>
        <p:spPr>
          <a:xfrm>
            <a:off x="2874960" y="4078440"/>
            <a:ext cx="1049400" cy="50472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7" name="AutoShape 7"/>
          <p:cNvSpPr/>
          <p:nvPr/>
        </p:nvSpPr>
        <p:spPr>
          <a:xfrm>
            <a:off x="4011480" y="4076640"/>
            <a:ext cx="4953240" cy="504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文泉驿微米黑"/>
              </a:rPr>
              <a:t>一个互补色系由两种颜色构成</a:t>
            </a:r>
            <a:endParaRPr b="0" lang="en-US" sz="2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8" name="AutoShape 13"/>
          <p:cNvSpPr/>
          <p:nvPr/>
        </p:nvSpPr>
        <p:spPr>
          <a:xfrm>
            <a:off x="2874960" y="4797360"/>
            <a:ext cx="1049400" cy="50472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变换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29" name="AutoShape 14"/>
          <p:cNvSpPr/>
          <p:nvPr/>
        </p:nvSpPr>
        <p:spPr>
          <a:xfrm>
            <a:off x="3995640" y="4795920"/>
            <a:ext cx="4537080" cy="504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文泉驿微米黑"/>
              </a:rPr>
              <a:t>取出其中之一， 用色轮上左右相邻的两种颜色代替，形成新的色系</a:t>
            </a:r>
            <a:endParaRPr b="0" lang="en-US" sz="2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0" name="AutoShape 15"/>
          <p:cNvSpPr/>
          <p:nvPr/>
        </p:nvSpPr>
        <p:spPr>
          <a:xfrm>
            <a:off x="2874960" y="5662440"/>
            <a:ext cx="1049400" cy="505080"/>
          </a:xfrm>
          <a:prstGeom prst="roundRect">
            <a:avLst>
              <a:gd name="adj" fmla="val 20167"/>
            </a:avLst>
          </a:prstGeom>
          <a:noFill/>
          <a:ln w="2844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结果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1" name="AutoShape 16"/>
          <p:cNvSpPr/>
          <p:nvPr/>
        </p:nvSpPr>
        <p:spPr>
          <a:xfrm>
            <a:off x="4011480" y="5661000"/>
            <a:ext cx="4953240" cy="504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62400"/>
                </a:solidFill>
                <a:latin typeface="文泉驿微米黑"/>
              </a:rPr>
              <a:t>分割互补色系</a:t>
            </a:r>
            <a:endParaRPr b="0" lang="en-US" sz="2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2" name="AutoShape 20"/>
          <p:cNvSpPr/>
          <p:nvPr/>
        </p:nvSpPr>
        <p:spPr>
          <a:xfrm flipV="1">
            <a:off x="3019320" y="5373720"/>
            <a:ext cx="849240" cy="216000"/>
          </a:xfrm>
          <a:prstGeom prst="triangle">
            <a:avLst>
              <a:gd name="adj" fmla="val 50000"/>
            </a:avLst>
          </a:prstGeom>
          <a:solidFill>
            <a:srgbClr val="c5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2484360" y="3860640"/>
            <a:ext cx="6264360" cy="2521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7596360" y="3573360"/>
            <a:ext cx="6886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E2C8-85E5-4EB1-9087-CEE27CFDA0A2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6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38" name="AutoShape 8"/>
          <p:cNvSpPr/>
          <p:nvPr/>
        </p:nvSpPr>
        <p:spPr>
          <a:xfrm>
            <a:off x="305928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视觉对比强烈，不刺眼不混乱，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比互补色容易驾驭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39" name="AutoShape 10"/>
          <p:cNvSpPr/>
          <p:nvPr/>
        </p:nvSpPr>
        <p:spPr>
          <a:xfrm>
            <a:off x="305928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适合初学者使用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要做到均衡调配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文泉驿微米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种主体色</a:t>
            </a:r>
            <a:r>
              <a:rPr b="0" lang="en-US" sz="14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种辅助色</a:t>
            </a:r>
            <a:r>
              <a:rPr b="0" lang="en-US" sz="1400" spc="-1" strike="noStrike">
                <a:solidFill>
                  <a:srgbClr val="000000"/>
                </a:solidFill>
                <a:latin typeface="文泉驿微米黑"/>
              </a:rPr>
              <a:t>+1</a:t>
            </a:r>
            <a:r>
              <a:rPr b="0" lang="zh-CN" sz="1400" spc="-1" strike="noStrike">
                <a:solidFill>
                  <a:srgbClr val="000000"/>
                </a:solidFill>
                <a:latin typeface="文泉驿微米黑"/>
              </a:rPr>
              <a:t>种强调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40" name="Picture 6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641" name="Line 7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2" name="Oval 8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3" name="Oval 9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4" name="Oval 10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5" name="Oval 11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6" name="Oval 12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47" name="Oval 13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48" name="Picture 23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236844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5BB0-1846-4880-9D1B-4EF5403760FC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彩用于表达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48" name="Picture 4" descr="1You_are_entering"/>
          <p:cNvPicPr/>
          <p:nvPr/>
        </p:nvPicPr>
        <p:blipFill>
          <a:blip r:embed="rId1"/>
          <a:stretch/>
        </p:blipFill>
        <p:spPr>
          <a:xfrm>
            <a:off x="3349800" y="2133720"/>
            <a:ext cx="2442960" cy="266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slide0363_image045"/>
          <p:cNvPicPr/>
          <p:nvPr/>
        </p:nvPicPr>
        <p:blipFill>
          <a:blip r:embed="rId2"/>
          <a:stretch/>
        </p:blipFill>
        <p:spPr>
          <a:xfrm>
            <a:off x="6305400" y="2133720"/>
            <a:ext cx="2443320" cy="2663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5"/>
          <p:cNvSpPr/>
          <p:nvPr/>
        </p:nvSpPr>
        <p:spPr>
          <a:xfrm>
            <a:off x="3349800" y="5013360"/>
            <a:ext cx="237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渲染情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6372360" y="5013360"/>
            <a:ext cx="237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表达观点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52" name="Picture 20" descr="slide0045_image243"/>
          <p:cNvPicPr/>
          <p:nvPr/>
        </p:nvPicPr>
        <p:blipFill>
          <a:blip r:embed="rId3"/>
          <a:stretch/>
        </p:blipFill>
        <p:spPr>
          <a:xfrm>
            <a:off x="395280" y="2133720"/>
            <a:ext cx="2443320" cy="2630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1"/>
          <p:cNvSpPr/>
          <p:nvPr/>
        </p:nvSpPr>
        <p:spPr>
          <a:xfrm>
            <a:off x="392040" y="5011560"/>
            <a:ext cx="23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吸引眼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0004-9AF9-4640-9B73-2218C899F01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Rectangle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矩形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2" name="AutoShape 5"/>
          <p:cNvSpPr/>
          <p:nvPr/>
        </p:nvSpPr>
        <p:spPr>
          <a:xfrm>
            <a:off x="2484360" y="3860640"/>
            <a:ext cx="6264360" cy="2592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4" name="AutoShape 8"/>
          <p:cNvSpPr/>
          <p:nvPr/>
        </p:nvSpPr>
        <p:spPr>
          <a:xfrm>
            <a:off x="2771640" y="5516640"/>
            <a:ext cx="4411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四种颜色构成矩形，矩形对角线夹角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&lt;90°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5" name="AutoShape 10"/>
          <p:cNvSpPr/>
          <p:nvPr/>
        </p:nvSpPr>
        <p:spPr>
          <a:xfrm>
            <a:off x="2771640" y="4294080"/>
            <a:ext cx="576108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由 </a:t>
            </a:r>
            <a:r>
              <a:rPr b="0" lang="zh-CN" sz="3700" spc="-1" strike="noStrike">
                <a:solidFill>
                  <a:srgbClr val="c62400"/>
                </a:solidFill>
                <a:latin typeface="文泉驿微米黑"/>
              </a:rPr>
              <a:t>两组</a:t>
            </a:r>
            <a:r>
              <a:rPr b="1" lang="zh-CN" sz="3700" spc="-1" strike="noStrike">
                <a:solidFill>
                  <a:srgbClr val="c62400"/>
                </a:solidFill>
                <a:latin typeface="文泉驿微米黑"/>
              </a:rPr>
              <a:t>互补色</a:t>
            </a:r>
            <a:r>
              <a:rPr b="0" lang="zh-CN" sz="3700" spc="-1" strike="noStrike">
                <a:solidFill>
                  <a:srgbClr val="000000"/>
                </a:solidFill>
                <a:latin typeface="文泉驿微米黑"/>
              </a:rPr>
              <a:t>  构成的色系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6" name="AutoShape 9"/>
          <p:cNvSpPr/>
          <p:nvPr/>
        </p:nvSpPr>
        <p:spPr>
          <a:xfrm>
            <a:off x="3348000" y="4078440"/>
            <a:ext cx="2448000" cy="71892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7" name="AutoShape 10"/>
          <p:cNvSpPr/>
          <p:nvPr/>
        </p:nvSpPr>
        <p:spPr>
          <a:xfrm rot="5400000">
            <a:off x="4139280" y="5041080"/>
            <a:ext cx="865080" cy="520560"/>
          </a:xfrm>
          <a:custGeom>
            <a:avLst/>
            <a:gdLst>
              <a:gd name="textAreaLeft" fmla="*/ 108000 w 865080"/>
              <a:gd name="textAreaRight" fmla="*/ 757080 w 865080"/>
              <a:gd name="textAreaTop" fmla="*/ 129960 h 520560"/>
              <a:gd name="textAreaBottom" fmla="*/ 390600 h 520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8" name="Oval 11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59" name="Oval 12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0" name="Oval 13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1" name="Oval 14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2" name="Oval 15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3" name="Oval 16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64" name="Picture 13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0E78-28A7-4709-B16B-9FA786F5345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668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丰富多彩，变化无穷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69" name="Picture 7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670" name="Line 8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1" name="Oval 9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2" name="Oval 10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3" name="Oval 11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4" name="Oval 12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5" name="Oval 13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76" name="Oval 14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77" name="Picture 20" descr=""/>
          <p:cNvPicPr/>
          <p:nvPr/>
        </p:nvPicPr>
        <p:blipFill>
          <a:blip r:embed="rId2"/>
          <a:stretch/>
        </p:blipFill>
        <p:spPr>
          <a:xfrm>
            <a:off x="695160" y="1824120"/>
            <a:ext cx="2364120" cy="189216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，注意两条法则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主体色彩法则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以一种颜色为主体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冷暖平衡法则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冷色和暖色一定要平衡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A1CA-2366-418B-8829-6631BF2D1F61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Square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正方形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2" name="AutoShape 5"/>
          <p:cNvSpPr/>
          <p:nvPr/>
        </p:nvSpPr>
        <p:spPr>
          <a:xfrm>
            <a:off x="2484360" y="3860640"/>
            <a:ext cx="6264360" cy="2592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4" name="AutoShape 8"/>
          <p:cNvSpPr/>
          <p:nvPr/>
        </p:nvSpPr>
        <p:spPr>
          <a:xfrm>
            <a:off x="2771640" y="5516640"/>
            <a:ext cx="4411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两组互补色构成正方形， 两两之间夹角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5" name="AutoShape 10"/>
          <p:cNvSpPr/>
          <p:nvPr/>
        </p:nvSpPr>
        <p:spPr>
          <a:xfrm>
            <a:off x="2771640" y="4294080"/>
            <a:ext cx="576108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文泉驿微米黑"/>
              </a:rPr>
              <a:t>由 </a:t>
            </a:r>
            <a:r>
              <a:rPr b="0" lang="zh-CN" sz="2900" spc="-1" strike="noStrike">
                <a:solidFill>
                  <a:srgbClr val="c62400"/>
                </a:solidFill>
                <a:latin typeface="文泉驿微米黑"/>
              </a:rPr>
              <a:t>四种均匀分布的颜色</a:t>
            </a:r>
            <a:r>
              <a:rPr b="0" lang="zh-CN" sz="2900" spc="-1" strike="noStrike">
                <a:solidFill>
                  <a:srgbClr val="000000"/>
                </a:solidFill>
                <a:latin typeface="文泉驿微米黑"/>
              </a:rPr>
              <a:t> 构成的色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6" name="AutoShape 9"/>
          <p:cNvSpPr/>
          <p:nvPr/>
        </p:nvSpPr>
        <p:spPr>
          <a:xfrm>
            <a:off x="3203640" y="4149720"/>
            <a:ext cx="3456000" cy="71928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7" name="AutoShape 9"/>
          <p:cNvSpPr/>
          <p:nvPr/>
        </p:nvSpPr>
        <p:spPr>
          <a:xfrm rot="5400000">
            <a:off x="4497840" y="5041080"/>
            <a:ext cx="865080" cy="520920"/>
          </a:xfrm>
          <a:custGeom>
            <a:avLst/>
            <a:gdLst>
              <a:gd name="textAreaLeft" fmla="*/ 108000 w 865080"/>
              <a:gd name="textAreaRight" fmla="*/ 757080 w 865080"/>
              <a:gd name="textAreaTop" fmla="*/ 130320 h 520920"/>
              <a:gd name="textAreaBottom" fmla="*/ 390960 h 52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8" name="Oval 10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89" name="Oval 11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0" name="Oval 12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2" name="Oval 14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3" name="Oval 15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694" name="Picture 16" descr=""/>
          <p:cNvPicPr/>
          <p:nvPr/>
        </p:nvPicPr>
        <p:blipFill>
          <a:blip r:embed="rId1"/>
          <a:stretch/>
        </p:blipFill>
        <p:spPr>
          <a:xfrm>
            <a:off x="181080" y="1341360"/>
            <a:ext cx="295092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22DB-D243-4B2B-88BD-F358818DF3EC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6" name="Text Box 2"/>
          <p:cNvSpPr/>
          <p:nvPr/>
        </p:nvSpPr>
        <p:spPr>
          <a:xfrm>
            <a:off x="3490920" y="26028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Square color scheme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324000" y="558720"/>
            <a:ext cx="5508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正方形色系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8" name="AutoShape 5"/>
          <p:cNvSpPr/>
          <p:nvPr/>
        </p:nvSpPr>
        <p:spPr>
          <a:xfrm>
            <a:off x="2484360" y="3860640"/>
            <a:ext cx="6264360" cy="259272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7596360" y="3500280"/>
            <a:ext cx="6886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文泉驿微米黑"/>
              </a:rPr>
              <a:t>概念</a:t>
            </a:r>
            <a:endParaRPr b="0" lang="en-US" sz="27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0" name="AutoShape 8"/>
          <p:cNvSpPr/>
          <p:nvPr/>
        </p:nvSpPr>
        <p:spPr>
          <a:xfrm>
            <a:off x="2771640" y="5516640"/>
            <a:ext cx="4411800" cy="100800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文泉驿微米黑"/>
              </a:rPr>
              <a:t>两组互补色构成正方形， 两两之间夹角</a:t>
            </a:r>
            <a:r>
              <a:rPr b="0" lang="en-US" sz="2400" spc="-1" strike="noStrike">
                <a:solidFill>
                  <a:srgbClr val="000000"/>
                </a:solidFill>
                <a:latin typeface="文泉驿微米黑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1" name="AutoShape 10"/>
          <p:cNvSpPr/>
          <p:nvPr/>
        </p:nvSpPr>
        <p:spPr>
          <a:xfrm>
            <a:off x="2771640" y="4294080"/>
            <a:ext cx="5761080" cy="79236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文泉驿微米黑"/>
              </a:rPr>
              <a:t>由 </a:t>
            </a:r>
            <a:r>
              <a:rPr b="0" lang="zh-CN" sz="2900" spc="-1" strike="noStrike">
                <a:solidFill>
                  <a:srgbClr val="c62400"/>
                </a:solidFill>
                <a:latin typeface="文泉驿微米黑"/>
              </a:rPr>
              <a:t>四种均匀分布的颜色</a:t>
            </a:r>
            <a:r>
              <a:rPr b="0" lang="zh-CN" sz="2900" spc="-1" strike="noStrike">
                <a:solidFill>
                  <a:srgbClr val="000000"/>
                </a:solidFill>
                <a:latin typeface="文泉驿微米黑"/>
              </a:rPr>
              <a:t> 构成的色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2" name="AutoShape 9"/>
          <p:cNvSpPr/>
          <p:nvPr/>
        </p:nvSpPr>
        <p:spPr>
          <a:xfrm>
            <a:off x="3203640" y="4149720"/>
            <a:ext cx="3456000" cy="71928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3" name="AutoShape 9"/>
          <p:cNvSpPr/>
          <p:nvPr/>
        </p:nvSpPr>
        <p:spPr>
          <a:xfrm rot="5400000">
            <a:off x="4497840" y="5041080"/>
            <a:ext cx="865080" cy="520920"/>
          </a:xfrm>
          <a:custGeom>
            <a:avLst/>
            <a:gdLst>
              <a:gd name="textAreaLeft" fmla="*/ 108000 w 865080"/>
              <a:gd name="textAreaRight" fmla="*/ 757080 w 865080"/>
              <a:gd name="textAreaTop" fmla="*/ 130320 h 520920"/>
              <a:gd name="textAreaBottom" fmla="*/ 390960 h 520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4" name="Oval 10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6" name="Oval 12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7" name="Oval 13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8" name="Oval 14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09" name="Oval 15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710" name="Picture 16" descr=""/>
          <p:cNvPicPr/>
          <p:nvPr/>
        </p:nvPicPr>
        <p:blipFill>
          <a:blip r:embed="rId1"/>
          <a:stretch/>
        </p:blipFill>
        <p:spPr>
          <a:xfrm>
            <a:off x="181080" y="1341360"/>
            <a:ext cx="2950920" cy="295128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3132000" y="3141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4b5"/>
                </a:solidFill>
                <a:uFillTx/>
                <a:latin typeface="文泉驿微米黑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文泉驿微米黑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6088-5413-4541-AA15-B65B4326A26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13" name="AutoShape 5"/>
          <p:cNvSpPr/>
          <p:nvPr/>
        </p:nvSpPr>
        <p:spPr>
          <a:xfrm>
            <a:off x="324000" y="1700280"/>
            <a:ext cx="8424720" cy="4537080"/>
          </a:xfrm>
          <a:prstGeom prst="roundRect">
            <a:avLst>
              <a:gd name="adj" fmla="val 11130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特点与应用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3203640" y="1844640"/>
            <a:ext cx="4174920" cy="172872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特点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丰富多彩，变化无穷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716" name="Picture 5" descr=""/>
          <p:cNvPicPr/>
          <p:nvPr/>
        </p:nvPicPr>
        <p:blipFill>
          <a:blip r:embed="rId1"/>
          <a:srcRect l="0" t="46707" r="2816" b="0"/>
          <a:stretch/>
        </p:blipFill>
        <p:spPr>
          <a:xfrm>
            <a:off x="684360" y="4149720"/>
            <a:ext cx="2303280" cy="1990800"/>
          </a:xfrm>
          <a:prstGeom prst="rect">
            <a:avLst/>
          </a:prstGeom>
          <a:ln w="0">
            <a:noFill/>
          </a:ln>
        </p:spPr>
      </p:pic>
      <p:sp>
        <p:nvSpPr>
          <p:cNvPr id="717" name="Line 6"/>
          <p:cNvSpPr/>
          <p:nvPr/>
        </p:nvSpPr>
        <p:spPr>
          <a:xfrm>
            <a:off x="395280" y="3933720"/>
            <a:ext cx="8353440" cy="0"/>
          </a:xfrm>
          <a:prstGeom prst="line">
            <a:avLst/>
          </a:prstGeom>
          <a:ln w="19080">
            <a:solidFill>
              <a:srgbClr val="0085a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18" name="Oval 7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19" name="Oval 8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0" name="Oval 9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1" name="Oval 10"/>
          <p:cNvSpPr/>
          <p:nvPr/>
        </p:nvSpPr>
        <p:spPr>
          <a:xfrm>
            <a:off x="558000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2" name="Oval 11"/>
          <p:cNvSpPr/>
          <p:nvPr/>
        </p:nvSpPr>
        <p:spPr>
          <a:xfrm>
            <a:off x="615636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3" name="Oval 12"/>
          <p:cNvSpPr/>
          <p:nvPr/>
        </p:nvSpPr>
        <p:spPr>
          <a:xfrm>
            <a:off x="6732720" y="836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24" name="AutoShape 10"/>
          <p:cNvSpPr/>
          <p:nvPr/>
        </p:nvSpPr>
        <p:spPr>
          <a:xfrm>
            <a:off x="3203640" y="4076640"/>
            <a:ext cx="4895640" cy="2089080"/>
          </a:xfrm>
          <a:prstGeom prst="roundRect">
            <a:avLst>
              <a:gd name="adj" fmla="val 201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62400"/>
                </a:solidFill>
                <a:latin typeface="文泉驿微米黑"/>
              </a:rPr>
              <a:t>应用，注意两条法则</a:t>
            </a:r>
            <a:r>
              <a:rPr b="0" lang="zh-CN" sz="3200" spc="-1" strike="noStrike">
                <a:solidFill>
                  <a:srgbClr val="c62400"/>
                </a:solidFill>
                <a:latin typeface="文泉驿微米黑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主体色彩法则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文泉驿微米黑"/>
              </a:rPr>
              <a:t>以一种颜色为主体色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泉驿微米黑"/>
              </a:rPr>
              <a:t>冷暖平衡法则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文泉驿微米黑"/>
              </a:rPr>
              <a:t>冷色和暖色一定要平衡</a:t>
            </a:r>
            <a:r>
              <a:rPr b="0" lang="en-US" sz="3200" spc="-1" strike="noStrike">
                <a:solidFill>
                  <a:srgbClr val="000000"/>
                </a:solidFill>
                <a:latin typeface="文泉驿微米黑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725" name="Picture 15" descr=""/>
          <p:cNvPicPr/>
          <p:nvPr/>
        </p:nvPicPr>
        <p:blipFill>
          <a:blip r:embed="rId2"/>
          <a:stretch/>
        </p:blipFill>
        <p:spPr>
          <a:xfrm>
            <a:off x="684360" y="1820880"/>
            <a:ext cx="2368440" cy="189540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17"/>
          <p:cNvSpPr/>
          <p:nvPr/>
        </p:nvSpPr>
        <p:spPr>
          <a:xfrm>
            <a:off x="3706920" y="1484280"/>
            <a:ext cx="172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4b5"/>
                </a:solidFill>
                <a:latin typeface="文泉驿微米黑"/>
              </a:rPr>
              <a:t>同矩形色系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EEE8-47E3-4618-89AD-7A3B591DE85F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728" name="Picture 9" descr="MP900408894"/>
          <p:cNvPicPr/>
          <p:nvPr/>
        </p:nvPicPr>
        <p:blipFill>
          <a:blip r:embed="rId1"/>
          <a:stretch/>
        </p:blipFill>
        <p:spPr>
          <a:xfrm>
            <a:off x="0" y="0"/>
            <a:ext cx="802800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"/>
          <p:cNvPicPr/>
          <p:nvPr/>
        </p:nvPicPr>
        <p:blipFill>
          <a:blip r:embed="rId2"/>
          <a:stretch/>
        </p:blipFill>
        <p:spPr>
          <a:xfrm>
            <a:off x="2411280" y="306864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13"/>
          <p:cNvSpPr/>
          <p:nvPr/>
        </p:nvSpPr>
        <p:spPr>
          <a:xfrm>
            <a:off x="0" y="0"/>
            <a:ext cx="8028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5098"/>
                </a:srgbClr>
              </a:gs>
              <a:gs pos="100000">
                <a:srgbClr val="ffffff">
                  <a:alpha val="1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8028000" y="0"/>
            <a:ext cx="1116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一切</a:t>
            </a: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色彩调和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都离不开</a:t>
            </a:r>
            <a:r>
              <a:rPr b="1" lang="zh-CN" sz="2800" spc="-1" strike="noStrike">
                <a:solidFill>
                  <a:srgbClr val="c62400"/>
                </a:solidFill>
                <a:latin typeface="文泉驿微米黑"/>
              </a:rPr>
              <a:t>色轮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轮</a:t>
            </a:r>
            <a:r>
              <a:rPr b="0" lang="en-US" sz="2800" spc="-1" strike="noStrike">
                <a:solidFill>
                  <a:srgbClr val="000000"/>
                </a:solidFill>
                <a:latin typeface="文泉驿微米黑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是搭配色彩的基本工具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3" name="Line 7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735" name="Picture 14" descr="图片2"/>
          <p:cNvPicPr/>
          <p:nvPr/>
        </p:nvPicPr>
        <p:blipFill>
          <a:blip r:embed="rId3"/>
          <a:stretch/>
        </p:blipFill>
        <p:spPr>
          <a:xfrm>
            <a:off x="3132000" y="549360"/>
            <a:ext cx="11638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使用规范说明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文泉驿微米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文泉驿微米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文泉驿微米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文泉驿微米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文泉驿微米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文泉驿微米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文泉驿微米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文泉驿微米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文泉驿微米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64b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文泉驿微米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文泉驿微米黑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A49-5F4F-4C9A-B359-42629171C180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E172-AF4B-4BC0-805E-E13C6020BFC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彩作用于人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59" name="Picture 9" descr="MP910221005"/>
          <p:cNvPicPr/>
          <p:nvPr/>
        </p:nvPicPr>
        <p:blipFill>
          <a:blip r:embed="rId1"/>
          <a:stretch/>
        </p:blipFill>
        <p:spPr>
          <a:xfrm>
            <a:off x="395280" y="1125360"/>
            <a:ext cx="5256360" cy="4026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MP900443054"/>
          <p:cNvPicPr/>
          <p:nvPr/>
        </p:nvPicPr>
        <p:blipFill>
          <a:blip r:embed="rId2"/>
          <a:stretch/>
        </p:blipFill>
        <p:spPr>
          <a:xfrm>
            <a:off x="5641920" y="1484280"/>
            <a:ext cx="2459160" cy="3672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1"/>
          <p:cNvSpPr/>
          <p:nvPr/>
        </p:nvSpPr>
        <p:spPr>
          <a:xfrm>
            <a:off x="1116000" y="544500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让人活跃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5724360" y="5445000"/>
            <a:ext cx="237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让人沉静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5C73-C4D3-4B6C-AB90-A58F7279F22D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558360"/>
            <a:ext cx="55083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彩正确搭配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66" name="Oval 6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68" name="Picture 18" descr="200821ORtQoXNI186yekm"/>
          <p:cNvPicPr/>
          <p:nvPr/>
        </p:nvPicPr>
        <p:blipFill>
          <a:blip r:embed="rId1"/>
          <a:stretch/>
        </p:blipFill>
        <p:spPr>
          <a:xfrm>
            <a:off x="395280" y="1773360"/>
            <a:ext cx="3816360" cy="3190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MP900444049"/>
          <p:cNvPicPr/>
          <p:nvPr/>
        </p:nvPicPr>
        <p:blipFill>
          <a:blip r:embed="rId2"/>
          <a:stretch/>
        </p:blipFill>
        <p:spPr>
          <a:xfrm>
            <a:off x="4932360" y="1773360"/>
            <a:ext cx="3814920" cy="3195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0"/>
          <p:cNvSpPr/>
          <p:nvPr/>
        </p:nvSpPr>
        <p:spPr>
          <a:xfrm>
            <a:off x="395280" y="5049720"/>
            <a:ext cx="381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营造优雅的气氛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4932360" y="5049720"/>
            <a:ext cx="381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文泉驿微米黑"/>
              </a:rPr>
              <a:t>描摹多彩的青春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33F9-B4CD-433E-BD5A-4321323078DB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0"/>
            <a:ext cx="9144000" cy="609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74" name="Picture 10" descr="slide0349_image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>
            <a:off x="4282920" y="260280"/>
            <a:ext cx="4753080" cy="1440000"/>
          </a:xfrm>
          <a:prstGeom prst="roundRect">
            <a:avLst>
              <a:gd name="adj" fmla="val 15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色彩只要</a:t>
            </a:r>
            <a:r>
              <a:rPr b="1" lang="zh-CN" sz="4000" spc="-1" strike="noStrike">
                <a:solidFill>
                  <a:srgbClr val="c62400"/>
                </a:solidFill>
                <a:latin typeface="文泉驿微米黑"/>
              </a:rPr>
              <a:t>有效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运用， 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就会成为</a:t>
            </a:r>
            <a:r>
              <a:rPr b="1" lang="zh-CN" sz="3600" spc="-1" strike="noStrike">
                <a:solidFill>
                  <a:srgbClr val="c62400"/>
                </a:solidFill>
                <a:latin typeface="文泉驿微米黑"/>
              </a:rPr>
              <a:t>最给力</a:t>
            </a:r>
            <a:r>
              <a:rPr b="0" lang="zh-CN" sz="2800" spc="-1" strike="noStrike">
                <a:solidFill>
                  <a:srgbClr val="000000"/>
                </a:solidFill>
                <a:latin typeface="文泉驿微米黑"/>
              </a:rPr>
              <a:t>的设计元素</a:t>
            </a:r>
            <a:endParaRPr b="0" lang="en-US" sz="2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4356000" y="1700280"/>
            <a:ext cx="4464000" cy="0"/>
          </a:xfrm>
          <a:prstGeom prst="line">
            <a:avLst/>
          </a:prstGeom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5005440" y="191628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——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Kukmoon(</a:t>
            </a:r>
            <a:r>
              <a:rPr b="0" lang="zh-CN" sz="1800" spc="-1" strike="noStrike">
                <a:solidFill>
                  <a:srgbClr val="808080"/>
                </a:solidFill>
                <a:latin typeface="文泉驿微米黑"/>
              </a:rPr>
              <a:t>谷月</a:t>
            </a:r>
            <a:r>
              <a:rPr b="0" lang="en-US" sz="1800" spc="-1" strike="noStrike">
                <a:solidFill>
                  <a:srgbClr val="808080"/>
                </a:solidFill>
                <a:latin typeface="文泉驿微米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pic>
        <p:nvPicPr>
          <p:cNvPr id="178" name="Picture 22" descr="图片2"/>
          <p:cNvPicPr/>
          <p:nvPr/>
        </p:nvPicPr>
        <p:blipFill>
          <a:blip r:embed="rId2"/>
          <a:stretch/>
        </p:blipFill>
        <p:spPr>
          <a:xfrm>
            <a:off x="3132000" y="549360"/>
            <a:ext cx="11638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6FF8-6536-4328-A967-10BC59D68B9D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960" y="620280"/>
            <a:ext cx="2732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83ea"/>
                </a:solidFill>
                <a:latin typeface="方正综艺简体"/>
                <a:ea typeface="方正综艺简体"/>
              </a:rPr>
              <a:t>Part 2</a:t>
            </a:r>
            <a:endParaRPr b="1" lang="en-US" sz="4000" spc="-1" strike="noStrike">
              <a:solidFill>
                <a:srgbClr val="0064b5"/>
              </a:solidFill>
              <a:latin typeface="文泉驿微米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561840" y="931680"/>
            <a:ext cx="5473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【</a:t>
            </a:r>
            <a:r>
              <a:rPr b="0" lang="zh-CN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色　轮</a:t>
            </a:r>
            <a:r>
              <a:rPr b="0" lang="en-US" sz="4000" spc="-1" strike="noStrike">
                <a:solidFill>
                  <a:srgbClr val="215a89"/>
                </a:solidFill>
                <a:latin typeface="方正综艺简体"/>
                <a:ea typeface="方正综艺简体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2627280" y="2279520"/>
            <a:ext cx="6121440" cy="3454560"/>
          </a:xfrm>
          <a:prstGeom prst="roundRect">
            <a:avLst>
              <a:gd name="adj" fmla="val 44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彩调和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１２色轮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  <a:p>
            <a:pPr algn="ctr">
              <a:lnSpc>
                <a:spcPct val="2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〖</a:t>
            </a:r>
            <a:r>
              <a:rPr b="0" lang="zh-CN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色　　轮</a:t>
            </a:r>
            <a:r>
              <a:rPr b="0" lang="en-US" sz="42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〗</a:t>
            </a:r>
            <a:endParaRPr b="0" lang="en-US" sz="42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77600" y="1268280"/>
            <a:ext cx="9147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『 </a:t>
            </a:r>
            <a:r>
              <a:rPr b="1" lang="zh-CN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目　录 </a:t>
            </a:r>
            <a:r>
              <a:rPr b="1" lang="en-US" sz="60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』</a:t>
            </a:r>
            <a:r>
              <a:rPr b="1" lang="zh-CN" sz="4800" spc="-1" strike="noStrike">
                <a:solidFill>
                  <a:srgbClr val="109bbc"/>
                </a:solidFill>
                <a:latin typeface="方正综艺简体"/>
                <a:ea typeface="方正综艺简体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7020000" y="6454800"/>
            <a:ext cx="2133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56F-258F-4064-BDD8-442E6BA944F6}" type="slidenum">
              <a:rPr b="0" lang="en-US" sz="1400" spc="-1" strike="noStrike">
                <a:solidFill>
                  <a:srgbClr val="ffffff"/>
                </a:solidFill>
                <a:latin typeface="文泉驿微米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5" name="AutoShape 22"/>
          <p:cNvSpPr/>
          <p:nvPr/>
        </p:nvSpPr>
        <p:spPr>
          <a:xfrm rot="20770800">
            <a:off x="4625640" y="5446800"/>
            <a:ext cx="585720" cy="287280"/>
          </a:xfrm>
          <a:prstGeom prst="rtTriangl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6" name="Rectangle 23"/>
          <p:cNvSpPr/>
          <p:nvPr/>
        </p:nvSpPr>
        <p:spPr>
          <a:xfrm rot="21144000">
            <a:off x="5599080" y="5214600"/>
            <a:ext cx="2808360" cy="4316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7" name="AutoShape 21"/>
          <p:cNvSpPr/>
          <p:nvPr/>
        </p:nvSpPr>
        <p:spPr>
          <a:xfrm rot="20770800">
            <a:off x="4625640" y="4165560"/>
            <a:ext cx="585720" cy="287280"/>
          </a:xfrm>
          <a:prstGeom prst="rtTriangl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8" name="Rectangle 18"/>
          <p:cNvSpPr/>
          <p:nvPr/>
        </p:nvSpPr>
        <p:spPr>
          <a:xfrm rot="21144000">
            <a:off x="5599080" y="3933360"/>
            <a:ext cx="2808360" cy="43200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57636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4b5"/>
                </a:solidFill>
                <a:latin typeface="文泉驿微米黑"/>
              </a:rPr>
              <a:t>色　轮</a:t>
            </a:r>
            <a:endParaRPr b="1" lang="en-US" sz="3600" spc="-1" strike="noStrike">
              <a:solidFill>
                <a:srgbClr val="0064b5"/>
              </a:solidFill>
              <a:latin typeface="文泉驿微米黑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468360" y="2638440"/>
            <a:ext cx="33829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396720" y="1546200"/>
            <a:ext cx="856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62400"/>
                </a:solidFill>
                <a:latin typeface="文泉驿微米黑"/>
              </a:rPr>
              <a:t>色轮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：色彩排成的圆环，是 </a:t>
            </a:r>
            <a:r>
              <a:rPr b="0" lang="zh-CN" sz="3000" spc="-1" strike="noStrike">
                <a:solidFill>
                  <a:srgbClr val="c62400"/>
                </a:solidFill>
                <a:latin typeface="文泉驿微米黑"/>
              </a:rPr>
              <a:t>搭配色彩 </a:t>
            </a:r>
            <a:r>
              <a:rPr b="0" lang="zh-CN" sz="3000" spc="-1" strike="noStrike">
                <a:solidFill>
                  <a:srgbClr val="000000"/>
                </a:solidFill>
                <a:latin typeface="文泉驿微米黑"/>
              </a:rPr>
              <a:t>的基本工具</a:t>
            </a:r>
            <a:endParaRPr b="0" lang="en-US" sz="3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572000" y="3646440"/>
            <a:ext cx="72072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b5"/>
                </a:solidFill>
                <a:latin typeface="文泉驿微米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5508720" y="3646440"/>
            <a:ext cx="3095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选择一组色彩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572000" y="4940280"/>
            <a:ext cx="72072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b5"/>
                </a:solidFill>
                <a:latin typeface="文泉驿微米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5508720" y="4940280"/>
            <a:ext cx="3095640" cy="720720"/>
          </a:xfrm>
          <a:prstGeom prst="rect">
            <a:avLst/>
          </a:prstGeom>
          <a:solidFill>
            <a:srgbClr val="cfed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4b5"/>
                </a:solidFill>
                <a:latin typeface="文泉驿微米黑"/>
              </a:rPr>
              <a:t>构建</a:t>
            </a:r>
            <a:r>
              <a:rPr b="1" lang="zh-CN" sz="3600" spc="-1" strike="noStrike">
                <a:solidFill>
                  <a:srgbClr val="c62400"/>
                </a:solidFill>
                <a:latin typeface="文泉驿微米黑"/>
              </a:rPr>
              <a:t>色彩调和</a:t>
            </a:r>
            <a:endParaRPr b="0" lang="en-US" sz="36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5129280" y="1484280"/>
            <a:ext cx="1574640" cy="71928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4456080" y="3286080"/>
            <a:ext cx="4292640" cy="2735280"/>
          </a:xfrm>
          <a:prstGeom prst="roundRect">
            <a:avLst>
              <a:gd name="adj" fmla="val 4481"/>
            </a:avLst>
          </a:prstGeom>
          <a:noFill/>
          <a:ln cap="rnd" w="38160">
            <a:solidFill>
              <a:srgbClr val="0085a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8" name="AutoShape 17"/>
          <p:cNvSpPr/>
          <p:nvPr/>
        </p:nvSpPr>
        <p:spPr>
          <a:xfrm rot="5400000">
            <a:off x="5483880" y="2435760"/>
            <a:ext cx="865080" cy="689040"/>
          </a:xfrm>
          <a:custGeom>
            <a:avLst/>
            <a:gdLst>
              <a:gd name="textAreaLeft" fmla="*/ 108000 w 865080"/>
              <a:gd name="textAreaRight" fmla="*/ 757080 w 865080"/>
              <a:gd name="textAreaTop" fmla="*/ 172080 h 689040"/>
              <a:gd name="textAreaBottom" fmla="*/ 516960 h 689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8b4dc"/>
              </a:gs>
              <a:gs pos="100000">
                <a:srgbClr val="cfed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199" name="Oval 24"/>
          <p:cNvSpPr/>
          <p:nvPr/>
        </p:nvSpPr>
        <p:spPr>
          <a:xfrm>
            <a:off x="7308720" y="838080"/>
            <a:ext cx="287640" cy="287280"/>
          </a:xfrm>
          <a:prstGeom prst="ellipse">
            <a:avLst/>
          </a:prstGeom>
          <a:solidFill>
            <a:srgbClr val="0085a4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0" name="Oval 25"/>
          <p:cNvSpPr/>
          <p:nvPr/>
        </p:nvSpPr>
        <p:spPr>
          <a:xfrm>
            <a:off x="788508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1" name="Oval 26"/>
          <p:cNvSpPr/>
          <p:nvPr/>
        </p:nvSpPr>
        <p:spPr>
          <a:xfrm>
            <a:off x="8461440" y="838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8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文泉驿微米黑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3635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a2f4"/>
                </a:solidFill>
                <a:latin typeface="文泉驿微米黑"/>
              </a:rPr>
              <a:t>Color wheel</a:t>
            </a:r>
            <a:endParaRPr b="0" lang="en-US" sz="2400" spc="-1" strike="noStrike">
              <a:solidFill>
                <a:srgbClr val="000000"/>
              </a:solidFill>
              <a:latin typeface="文泉驿微米黑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4:36:29Z</dcterms:created>
  <dc:creator/>
  <dc:description/>
  <dc:language>en-US</dc:language>
  <cp:lastModifiedBy>a</cp:lastModifiedBy>
  <dcterms:modified xsi:type="dcterms:W3CDTF">2015-07-20T08:59:53Z</dcterms:modified>
  <cp:revision>76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语言">
    <vt:lpwstr>ddd</vt:lpwstr>
  </property>
</Properties>
</file>