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B9C-B63F-46B6-966E-608C6AB4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A59-D291-40A4-8664-F087B45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A72-9855-4E4A-A011-84246D80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8AF-02C4-4F4B-9A99-7667B5D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672-5043-47F0-AD62-F914ED7B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EF8-2938-405E-8319-7FB5A4C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02D-F42C-40BB-A743-D2649A29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388-2763-40A2-9642-2ADD9501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70D-1137-40D4-B9D2-5BE8A14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9AE-C4C1-46BD-9F13-522FE5A2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120-9EAD-46EE-AA2A-4C7AD871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68C-7281-42C6-AFCB-ADC35CFF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D744-0A02-4774-B175-8AA249AC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F23F-748B-45FE-A04D-60BE423E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B977-1553-4F75-9364-5FF0359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8193-5EF4-4F0B-A5BB-55BB0857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ADF4-A0B6-4A81-A388-59F287EE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EA3-0395-48D6-A87F-6E6A1E3E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2183-28E9-49C4-989B-4BCD1ED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FE67-AE7B-4A69-80E9-25BA4E6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C5C1-18E1-460C-8D01-F5C3DAC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4A25-3D81-4D8F-8F32-DEE1748D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E6A-541F-4E82-8B98-6456CB25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4EBB-8501-48F3-9CA1-C8514096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78280" y="6443640"/>
            <a:ext cx="32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Eras Demi ITC"/>
                <a:ea typeface="微软雅黑"/>
              </a:rPr>
              <a:t>http://blog.sina.com.cn/xiaowenzi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144000" cy="75240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9"/>
          <p:cNvGrpSpPr/>
          <p:nvPr/>
        </p:nvGrpSpPr>
        <p:grpSpPr>
          <a:xfrm>
            <a:off x="6588000" y="112680"/>
            <a:ext cx="2556000" cy="533520"/>
            <a:chOff x="6588000" y="112680"/>
            <a:chExt cx="2556000" cy="533520"/>
          </a:xfrm>
        </p:grpSpPr>
        <p:sp>
          <p:nvSpPr>
            <p:cNvPr id="42" name="Rectangle 10"/>
            <p:cNvSpPr/>
            <p:nvPr/>
          </p:nvSpPr>
          <p:spPr>
            <a:xfrm>
              <a:off x="6588000" y="112680"/>
              <a:ext cx="601560" cy="533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"/>
            <p:cNvSpPr/>
            <p:nvPr/>
          </p:nvSpPr>
          <p:spPr>
            <a:xfrm flipH="1">
              <a:off x="7238160" y="112680"/>
              <a:ext cx="601560" cy="533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2"/>
            <p:cNvSpPr/>
            <p:nvPr/>
          </p:nvSpPr>
          <p:spPr>
            <a:xfrm>
              <a:off x="7889760" y="112680"/>
              <a:ext cx="601560" cy="5335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3"/>
            <p:cNvSpPr/>
            <p:nvPr/>
          </p:nvSpPr>
          <p:spPr>
            <a:xfrm>
              <a:off x="8542080" y="112680"/>
              <a:ext cx="601920" cy="533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4"/>
          <p:cNvSpPr/>
          <p:nvPr/>
        </p:nvSpPr>
        <p:spPr>
          <a:xfrm>
            <a:off x="0" y="752400"/>
            <a:ext cx="9144000" cy="66600"/>
          </a:xfrm>
          <a:prstGeom prst="rect">
            <a:avLst/>
          </a:pr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ABC6-0B6B-465D-9D95-4E1C3A3676DC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4a444"/>
              </a:buClr>
              <a:buSzPct val="6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5c88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F22-7B2D-4E25-B4B3-06FD4FDBC62B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685800" y="30700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77817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4314960" y="4649760"/>
            <a:ext cx="4276440" cy="9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教程\PPT\PPT素材\3D小人\小人\图片1.jpg"/>
          <p:cNvPicPr/>
          <p:nvPr/>
        </p:nvPicPr>
        <p:blipFill>
          <a:blip r:embed="rId1"/>
          <a:srcRect l="0" t="5497" r="0" b="14561"/>
          <a:stretch/>
        </p:blipFill>
        <p:spPr>
          <a:xfrm>
            <a:off x="12600" y="2406600"/>
            <a:ext cx="9131400" cy="445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73080" y="677880"/>
            <a:ext cx="8928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技巧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熟悉行业、公司业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行业、公司业务及流程，若脱离行业认知和公司业务背景，分析的结果只会是脱了线的风筝，没有太大的实用价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2" descr="D:\教程\PPT\PPT素材\3D小人\8\Comp_8030640356.jpg"/>
          <p:cNvPicPr/>
          <p:nvPr/>
        </p:nvPicPr>
        <p:blipFill>
          <a:blip r:embed="rId1"/>
          <a:stretch/>
        </p:blipFill>
        <p:spPr>
          <a:xfrm>
            <a:off x="2525760" y="2295360"/>
            <a:ext cx="4092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明确分析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常有朋友问我这些数据可以做什么分析？这是典型的为了分析而分析。数据分析的前提需要先明确分析目的，这样分析才有意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教程\PPT\PPT素材\3D小人\目标\目标2.jpg"/>
          <p:cNvPicPr/>
          <p:nvPr/>
        </p:nvPicPr>
        <p:blipFill>
          <a:blip r:embed="rId1"/>
          <a:stretch/>
        </p:blipFill>
        <p:spPr>
          <a:xfrm>
            <a:off x="2708280" y="2478240"/>
            <a:ext cx="3727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运用营销、管理等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、管理等理论是数据分析的指导思想，使分析思路系统化。例如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P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等，从哪几个维度去分析？考虑哪几个方面？故而使数据分析变得有血有肉有脉络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真正做到理论指导实践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D:\教程\PPT\PPT素材\3D小人\2\www_tuweimei_comComp_22357487_KqjyNJsNtHzQcsMcA6CbqGKVyDCNTepd.jpg"/>
          <p:cNvPicPr/>
          <p:nvPr/>
        </p:nvPicPr>
        <p:blipFill>
          <a:blip r:embed="rId1"/>
          <a:stretch/>
        </p:blipFill>
        <p:spPr>
          <a:xfrm>
            <a:off x="2398680" y="2870280"/>
            <a:ext cx="4346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四、掌握有效数据分析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据分析流程，掌握数据分析基本原理与方法，并灵活运用到实践工作中，不论简单还是复杂的分析方法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方法就是好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:\教程\PPT\PPT素材\3D小人\8\Comp_8023312306.jpg"/>
          <p:cNvPicPr/>
          <p:nvPr/>
        </p:nvPicPr>
        <p:blipFill>
          <a:blip r:embed="rId1"/>
          <a:stretch/>
        </p:blipFill>
        <p:spPr>
          <a:xfrm>
            <a:off x="2581200" y="2881440"/>
            <a:ext cx="39816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五、玩转数据分析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分析工具，建议先玩转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CEL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透视表，有兴趣、时间、需要的话，再学习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SS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S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统计分析工具，同样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工具就是好工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:\教程\PPT\PPT素材\3D小人\工程\锤子8.jpg"/>
          <p:cNvPicPr/>
          <p:nvPr/>
        </p:nvPicPr>
        <p:blipFill>
          <a:blip r:embed="rId1"/>
          <a:srcRect l="0" t="7036" r="0" b="0"/>
          <a:stretch/>
        </p:blipFill>
        <p:spPr>
          <a:xfrm>
            <a:off x="2417760" y="2954160"/>
            <a:ext cx="430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六、学会用图表说话，玩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等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如何用图表有效展现分析结果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助于数据分析结果展现， 达人必备；水晶易表亦对分析结果的展现有很大帮助，选择性使用；思维导图可帮助理清分析思路，根据需要选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D:\教程\PPT\PPT素材\3D小人\数据\图片3.png"/>
          <p:cNvPicPr/>
          <p:nvPr/>
        </p:nvPicPr>
        <p:blipFill>
          <a:blip r:embed="rId1"/>
          <a:stretch/>
        </p:blipFill>
        <p:spPr>
          <a:xfrm>
            <a:off x="2643120" y="2759040"/>
            <a:ext cx="3857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6F9-EB62-4CD4-95AB-FB61889742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七、勤思考、多动手、多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1653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经常发问为什么是这样的？为什么不是那样的？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有这样才有突破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靠脑袋想是不够的，需要多动手实践，不要怕错，大不了错了重来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就是一个不断假设、验证的过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断总结分析方法、分析思路、分析流程，在总结中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D:\教程\PPT\PPT素材\3D小人\问号-3D小人\问号29.jpg"/>
          <p:cNvPicPr/>
          <p:nvPr/>
        </p:nvPicPr>
        <p:blipFill>
          <a:blip r:embed="rId1"/>
          <a:srcRect l="0" t="0" r="0" b="6224"/>
          <a:stretch/>
        </p:blipFill>
        <p:spPr>
          <a:xfrm>
            <a:off x="2928960" y="3444840"/>
            <a:ext cx="3176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30:17Z</dcterms:modified>
  <cp:revision>1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4953</vt:lpwstr>
  </property>
</Properties>
</file>