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DF4-93D5-4C43-BF6F-886CB04E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63D-6F8C-434B-B8B0-03BB87C2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BD6-F200-4069-961B-AA6574FB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F32-3F7B-47BC-8233-745349A6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2D9-AA84-42FD-9FC1-106C4D03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7B4-A7B8-4FDB-BDE3-D3B27C58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9D5-9218-446E-B5B8-8C1E5E1D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ADC-9876-4BDF-B678-722E33C4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371-18A8-4968-A4C6-7B0FF002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F3C-94CB-4014-A765-659C317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0E4-062D-4DC2-B590-CDD416E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B3C-15FC-4224-A378-7B339A0C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8D69-7021-4B55-974C-AA417E3721D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68BC-E512-4C73-A9E8-C6210FAD631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矩形 25"/>
          <p:cNvSpPr/>
          <p:nvPr/>
        </p:nvSpPr>
        <p:spPr>
          <a:xfrm>
            <a:off x="6480" y="4149720"/>
            <a:ext cx="914400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26"/>
          <p:cNvSpPr/>
          <p:nvPr/>
        </p:nvSpPr>
        <p:spPr>
          <a:xfrm>
            <a:off x="4651200" y="1289160"/>
            <a:ext cx="0" cy="4498920"/>
          </a:xfrm>
          <a:prstGeom prst="line">
            <a:avLst/>
          </a:prstGeom>
          <a:ln w="936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277920" y="1197000"/>
            <a:ext cx="4206600" cy="552600"/>
          </a:xfrm>
          <a:prstGeom prst="rect">
            <a:avLst/>
          </a:prstGeom>
          <a:solidFill>
            <a:srgbClr val="ffc000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753080" y="1197000"/>
            <a:ext cx="4140000" cy="552600"/>
          </a:xfrm>
          <a:prstGeom prst="rect">
            <a:avLst/>
          </a:prstGeom>
          <a:solidFill>
            <a:srgbClr val="43bbe1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表 9" descr=""/>
          <p:cNvPicPr/>
          <p:nvPr/>
        </p:nvPicPr>
        <p:blipFill>
          <a:blip r:embed="rId2"/>
          <a:stretch/>
        </p:blipFill>
        <p:spPr>
          <a:xfrm>
            <a:off x="-181080" y="2563920"/>
            <a:ext cx="4708800" cy="3458880"/>
          </a:xfrm>
          <a:prstGeom prst="rect">
            <a:avLst/>
          </a:prstGeom>
          <a:ln w="0">
            <a:noFill/>
          </a:ln>
        </p:spPr>
      </p:pic>
      <p:pic>
        <p:nvPicPr>
          <p:cNvPr id="47" name="图表 12" descr=""/>
          <p:cNvPicPr/>
          <p:nvPr/>
        </p:nvPicPr>
        <p:blipFill>
          <a:blip r:embed="rId3"/>
          <a:stretch/>
        </p:blipFill>
        <p:spPr>
          <a:xfrm>
            <a:off x="4894200" y="2924280"/>
            <a:ext cx="3857760" cy="3384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4500720" y="3549600"/>
            <a:ext cx="461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季度达标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219640" y="2084400"/>
            <a:ext cx="2190960" cy="2338920"/>
          </a:xfrm>
          <a:prstGeom prst="wedgeRoundRectCallout">
            <a:avLst>
              <a:gd name="adj1" fmla="val -20004"/>
              <a:gd name="adj2" fmla="val 18694"/>
              <a:gd name="adj3" fmla="val 16667"/>
            </a:avLst>
          </a:prstGeom>
          <a:solidFill>
            <a:srgbClr val="43bb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3.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1038240" y="2008080"/>
            <a:ext cx="2158920" cy="2338920"/>
          </a:xfrm>
          <a:prstGeom prst="wedgeRoundRectCallout">
            <a:avLst>
              <a:gd name="adj1" fmla="val -20009"/>
              <a:gd name="adj2" fmla="val 18694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2.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8600" y="11736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数据分析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5B5-BF5B-44B1-9FF4-89F665EF5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5Z</dcterms:modified>
  <cp:revision>10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