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3F4-3773-4412-B831-F46CCB9F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82C-1A64-45E7-BE65-78EE5760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31F-87A5-40BE-B60C-E0976A12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6A8-5B00-4ABD-A5CC-3156F41F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D126-23AE-4701-9D00-DAAA1A51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2281-161B-40CF-8E7C-947BC378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CD5C-653D-44AB-A9B3-0DE412D6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9332-42C2-43D9-8E7B-4B4F9B80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51C9-B73A-46D2-8E4A-D6327E84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FC05-7347-4998-B9AC-C2F978C3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BE32-221E-4A39-8A2B-8BE7043B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CCA-67DD-44E5-A18C-97B3590A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B596-2B6E-4972-B6B6-184512B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CBD7-E3EB-4A80-988A-B6F19A6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F367-B802-4EA9-A9DD-44F124C1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ADA5-A97F-4D4F-AB7F-AB952095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E952-6C32-4A6C-9539-10290131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4C6-B26A-4401-B228-467E8EC7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0FE-0997-471C-856B-5951EC3E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369-6243-476C-A66B-F5423579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7AE-687C-4933-96EB-0D6DE708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572-0788-471A-B5B9-BC997355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88A-95FB-489D-A9D3-9293913D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F59-5E48-4979-A38E-ED4FE347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F602-DD46-4B35-BC4A-05024059F784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7A28-19BB-43E1-93CF-13A21AB8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72320" y="620640"/>
            <a:ext cx="118584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77777"/>
                </a:solidFill>
                <a:latin typeface="Arial"/>
                <a:ea typeface="华文仿宋"/>
              </a:rPr>
              <a:t>放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4320" y="1413000"/>
            <a:ext cx="3934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tangCh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523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87600" y="438120"/>
            <a:ext cx="23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37680" y="692280"/>
            <a:ext cx="850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31000" y="1365120"/>
            <a:ext cx="3106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幻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那個一直桎梏在籠中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3640" y="38037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00560" y="4438800"/>
            <a:ext cx="248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skerville Old Fac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0440" y="333360"/>
            <a:ext cx="238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7360" y="1263600"/>
            <a:ext cx="68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放飛就是遠離城市的喧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擺脫日常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家庭和事業的羈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縱情於山水之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不同的錦繡風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各地的風俗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滿足好奇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求知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增加閱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賞心悅目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280480" y="1974960"/>
            <a:ext cx="164268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謝謝觀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2DF-0431-465B-902B-1AF88A0D3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5-07-21T06:39:01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