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C2EC-0E79-4E9E-BAA7-50ABE9E72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0BEC-CC63-44E4-AC23-A11BA70C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084833-70AE-469A-9547-A136AA725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E0F7C-E412-4B4A-841E-4F3E12ABB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ABE96D-1763-4853-913A-AF1000C66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D844B2-BBF8-46BC-97E0-2F06740D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387B0D-257B-4122-9130-2DA3C86F4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9BD447-BA9D-4987-B2AB-077466B23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AD1A8-D841-4E4F-AC16-CDBD3E99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165E3-CF80-483D-AF59-108561212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36755-0488-4944-A0B6-94CB85036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C14302-10E9-4814-9BCB-1B38AAEDB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E8B1-4CF7-4D8B-A160-280B2EA2C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522FA-4CB9-413B-8CDD-3F9B153C6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1C9762-AE0F-43DA-8CED-8B54D8209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5E8C29-360A-427E-AF8F-6E55EC89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7B92F7-DDE3-4285-BDA8-0B68BE01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7DFE41-5006-40D0-9E1A-540C613AB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AEF2FD-AF10-406A-B102-CD03317A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DBA05A-404B-4D1B-9E48-4B4DD984B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2E640F-4994-4A84-A1FA-BED5AB5A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8781A-47F7-4A52-B067-727243317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53F55F-0EF6-413E-A3A8-EF6FBFB75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3815-1A70-45B8-98A7-7386851B0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80890E-2B62-4E5F-A942-0C1305BE1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A04C9-C8E2-42BA-BA16-28AF97CEB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E47891-7130-4E50-A021-A4B54336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E096C8-3E67-431B-9C65-641D02B23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B9F92-2EDC-47A6-8C4C-4F921B46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FACB5E-07E0-480E-B9ED-0BF36DF3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CD3D20-EA20-4819-9E2D-48AE88BDD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EB871-9CB8-477D-B0A5-9543744A1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E54EBB-0692-452C-BFB1-3A25C18CC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859B68-2B57-4C33-8AA4-AD3CAFC0D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B316C-7164-495C-B48E-941D1706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BE2CE8-F68A-40DC-A016-4CAB3DD20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07729A-03F3-4611-AFD5-ED91F17B9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31ACE-D51E-48A1-BE55-C74FDE9C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BA731-93E5-4DEF-A0EC-5AF8D8B63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4B3FC3-518D-446D-9D90-7453CA43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0B9064-87F7-44F1-A326-EFB59C1F1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1100E-10FF-435C-8A37-9DBFCD98A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7C158A-7696-4FAE-81BE-301A4047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9E38C9-1629-45AB-9DA6-69FC1ACC8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2F815-59AF-412E-AA0B-12A61D4C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F8E95-A815-4BEF-8DCA-91598969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A17946-A1AC-4115-86B0-4082F48E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5605D-600D-488E-849E-F3AF8759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A3C22A-9B3E-4AF3-AED5-E172531BE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2E07B-FC21-4EB0-8940-2548BD310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8142EB-588F-4038-9A85-1AB3717C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CDD52-05A0-4FF0-B02E-41F0BB380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2E882-F690-4CE7-9076-6D9F6FC9B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CBD2A1-670F-4D8D-A55C-A5CF2D9F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51FBEF-7F19-48AA-9C07-33C7F7A4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C50949-820A-4F5F-8B7D-F9A10AB8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CBBF-B239-4791-95EE-AB7BFF7EB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A72347-8B50-48B6-9773-32AD959D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0C9E9-4E78-49B8-85EC-0353FDBCE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B21D11-D1D0-48A2-B44F-EA7F2282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E45CDC-3781-472E-8237-E123AD89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66EF159-4109-486F-9608-89F7FF33A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C56E6-8180-4F70-84A0-77B74862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B5D0319-8CF8-4444-9D64-25225AD32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44746-4C87-4827-8C02-9ED0983D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87BB-CF5C-476F-8D0E-2AE9BC12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0B264-553C-4119-805D-6B80142E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D9CA-960C-42B6-84E9-CF142592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0B63-8255-484E-ABF2-B56DD860A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1A4B6-FDF9-49E6-8DEA-28431B212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A2004-86C6-40F6-8AB7-02DBFE64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72B4-3175-4F73-8A36-9DB7CDC5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94738-904A-41F7-896F-26EB2F7B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F2E6F-B59B-4326-9A13-E5CA831F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30701-0FC9-47F8-A49B-196FE6D6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5390A-A989-4C71-B474-CE8FA49F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4ACCB-996F-4838-8238-E2314508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23346-7051-4F72-B91C-69BB2250E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AADF6-9676-4ADF-A2F0-AB6463629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318A7-DC08-45B1-AA44-4B0C4D7C0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478C2-A67D-49B5-959A-C82DAEDF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151350-AAEF-4166-B298-CBF43E969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FCC481-658F-4FC4-9B74-11FE5733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E0489-DE52-46A2-8AB1-DB029AF9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32217-9238-4AAE-A18D-A968231DF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5A4BF-FE08-4865-AD64-D18A02041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BDB9C-8FE5-4CA0-B13F-822D56A32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57AC40-F433-4E94-A158-E7FCE6114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104237-3FD7-4D77-A8F8-627F63C38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BE822-8D51-48C2-B2EB-C46C77D76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B361-4B38-4725-9332-D43F08310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64B6F-0E54-49F4-A299-40CC9E3E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1E90C-4361-45D9-9C2D-77E09E790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B57A9-FB23-42C8-9693-58BCF251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BA73CA-9EFB-40B3-B9DA-27DF19C15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98544-B0C2-4DA7-B174-1D3745B9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135B6-D7FC-4DA8-8C56-CF7823E69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152A20-CC83-4B1D-8EF5-5694B1923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E9AA19-656D-4985-8163-225BE16F5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C00C3-E381-4DAB-8299-C6F68F834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091FAC-9A4A-4AC4-BB71-C898C76FB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2956-DE6D-4984-86EF-DF9C3BF7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F89B5-218D-4717-B090-360AC96FC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3E2A8F-34E3-4A54-8173-C62E1FC38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D0EB82-B8E6-42FE-936D-DE470A80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7B9F8B-B069-4762-8937-B25D636B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4B286-5D17-414A-AAFC-7836ED02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8C4DB-D375-4652-8B90-FE95A0A9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12D2B8-2520-4A64-A2FB-9A030CD13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B47A89-A9FB-48B2-B5F2-5E11673F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5EC50-899B-4FDB-B131-F03625F3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7FF0C-8A9F-4D36-A14F-0214D1F09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5152-B573-4B91-86C2-E20C784B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72549-A234-4E31-933A-DA950BDBE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E4F134-47A9-4506-9802-F87E387F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8610D-3B87-4426-A5E6-48E6C832D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54E38-0BA6-4FE1-84BC-53A360B2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03B53-4BBB-46D6-97F9-296717862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72D23-4E84-491A-AEE0-CFB6AA8FD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59BAFD-AC6F-4EEF-BB42-85C46C82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0769C-B4AA-4B2B-9096-BE79AE91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9848B-E36D-488C-A373-CAFE98DCA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81538B-981D-4327-8560-B1BCEB8D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2678-1A6C-4E9E-A274-B6B7947F1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91458B-877D-4B31-9027-B9A0266F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FAFCD-59BC-49E8-8F8D-DB33CE444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649A8-F9AB-441C-B4B2-C4CDE3E4A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3B685F-CB5C-48CE-80C0-2045F7E0D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0D5B5E-0D72-4A63-9C76-5C4FEFA84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0E44A-4F07-4AAF-8369-0B020107D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28877-F3B7-416A-B9A5-9F7174E4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637C5-C6E8-48A2-BD5B-6C173BF6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5A740A-84B3-47F9-A1BF-6C97375B0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2F613-CF6A-4009-B537-AB6EE3321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0B07-BBE7-4481-8F6D-84B913E07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0FFEF9-A0EB-44CA-8F2F-4CE5B66D6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881C64-81E6-4916-BF99-6520A8DE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F17CE-245B-45C0-A7A7-B6B24DB94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106CE9-D609-469B-BF3E-9D791B689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C918C-0207-4B84-8F3E-195577A13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EB034-1849-495E-85B6-9B77EC87F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59749-9C93-4995-8F80-071E10F86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41E57-7C95-4E6D-9775-75729C24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18657-9EE4-4FFA-984C-E3CCACD92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E7462C-DC00-44F6-A89A-A62894D1E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9851-D663-4239-A9D0-D233BBC1A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5A197C-9FB2-48C1-B1CE-06903A6AC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802617-AA3A-462E-916A-E96674D4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80DB5-E56C-4DB2-92B6-1C21BC58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08FDF-D54D-4720-970A-294E09D3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57308C-046B-4F68-94A0-609BB654F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864C5D-23A5-4EB0-82E0-5EE7C8398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66DE9-61CE-42FE-8AF3-22F8FC47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85B968-C07F-4265-88E8-55EE21808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15908-682E-4F92-BD35-54975FA74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4A5854-F816-41C5-ABD8-D4332B88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"/>
          <p:cNvGraphicFramePr/>
          <p:nvPr/>
        </p:nvGraphicFramePr>
        <p:xfrm>
          <a:off x="0" y="-1440"/>
          <a:ext cx="990612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1440"/>
                    <a:ext cx="9906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89FFD-E810-49C2-8BE3-07ECD2EEF03C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C17C-549C-4962-ADEF-1BF927CAA9CE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9962-771B-4936-92FD-DEFA0E74301A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4AE4-542F-486E-B5F4-A56A32EBB922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7861E-8E1D-41C5-93C9-F2C10F78DF99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5CB6D-6DF5-4AC0-AFB6-BC9C9ED9801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B613-F3CA-407A-9F55-4419D8EFF81B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863C3-C144-40C6-AF21-095BC0B57DF4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1C6F-4F8B-4257-BB41-77014C901A60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3D9A-678B-4134-A04B-C623552BAF03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923E-2013-46C2-8085-B2040804F42A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1D73-65AF-4345-B57F-164DCAB3562B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Gulim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36E1-C646-45A1-A2CA-4CF4684BCE8E}" type="slidenum">
              <a:rPr b="0" lang="zh-CN" sz="1200" spc="-1" strike="noStrike">
                <a:solidFill>
                  <a:srgbClr val="898989"/>
                </a:solidFill>
                <a:latin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그림 81" descr="BG_004.jpg"/>
          <p:cNvPicPr/>
          <p:nvPr/>
        </p:nvPicPr>
        <p:blipFill>
          <a:blip r:embed="rId1"/>
          <a:stretch/>
        </p:blipFill>
        <p:spPr>
          <a:xfrm>
            <a:off x="0" y="0"/>
            <a:ext cx="992988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矩形 6"/>
          <p:cNvSpPr/>
          <p:nvPr/>
        </p:nvSpPr>
        <p:spPr>
          <a:xfrm>
            <a:off x="2874240" y="549360"/>
            <a:ext cx="383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00000"/>
                </a:solidFill>
                <a:latin typeface="华文隶书"/>
                <a:ea typeface="华文隶书"/>
              </a:rPr>
              <a:t>时尚女孩</a:t>
            </a:r>
            <a:r>
              <a:rPr b="0" lang="en-US" sz="4000" spc="-1" strike="noStrike">
                <a:solidFill>
                  <a:srgbClr val="c00000"/>
                </a:solidFill>
                <a:latin typeface="华文隶书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c00000"/>
                </a:solidFill>
                <a:latin typeface="华文隶书"/>
                <a:ea typeface="华文隶书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37" name="矩形 4"/>
          <p:cNvSpPr/>
          <p:nvPr/>
        </p:nvSpPr>
        <p:spPr>
          <a:xfrm>
            <a:off x="102240" y="6453360"/>
            <a:ext cx="32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Gulim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37"/>
          <p:cNvGrpSpPr/>
          <p:nvPr/>
        </p:nvGrpSpPr>
        <p:grpSpPr>
          <a:xfrm>
            <a:off x="2286000" y="2725560"/>
            <a:ext cx="5547600" cy="432000"/>
            <a:chOff x="2286000" y="2725560"/>
            <a:chExt cx="5547600" cy="432000"/>
          </a:xfrm>
        </p:grpSpPr>
        <p:sp>
          <p:nvSpPr>
            <p:cNvPr id="539" name="AutoShape 38"/>
            <p:cNvSpPr/>
            <p:nvPr/>
          </p:nvSpPr>
          <p:spPr>
            <a:xfrm>
              <a:off x="2286000" y="2725560"/>
              <a:ext cx="554760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43a7e5"/>
                </a:gs>
                <a:gs pos="50000">
                  <a:srgbClr val="1a558a"/>
                </a:gs>
                <a:gs pos="100000">
                  <a:srgbClr val="43a7e5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0" name="AutoShape 39"/>
            <p:cNvSpPr/>
            <p:nvPr/>
          </p:nvSpPr>
          <p:spPr>
            <a:xfrm>
              <a:off x="2395800" y="2729520"/>
              <a:ext cx="532296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41" name="Text Box 23"/>
          <p:cNvSpPr/>
          <p:nvPr/>
        </p:nvSpPr>
        <p:spPr>
          <a:xfrm>
            <a:off x="3189240" y="274320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2" name="Text Box 41"/>
          <p:cNvSpPr/>
          <p:nvPr/>
        </p:nvSpPr>
        <p:spPr>
          <a:xfrm>
            <a:off x="2300400" y="274320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Arial"/>
              </a:rPr>
              <a:t>01.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43" name="Group 112"/>
          <p:cNvGrpSpPr/>
          <p:nvPr/>
        </p:nvGrpSpPr>
        <p:grpSpPr>
          <a:xfrm>
            <a:off x="2286000" y="3335400"/>
            <a:ext cx="5547600" cy="431640"/>
            <a:chOff x="2286000" y="3335400"/>
            <a:chExt cx="5547600" cy="431640"/>
          </a:xfrm>
        </p:grpSpPr>
        <p:sp>
          <p:nvSpPr>
            <p:cNvPr id="544" name="AutoShape 113"/>
            <p:cNvSpPr/>
            <p:nvPr/>
          </p:nvSpPr>
          <p:spPr>
            <a:xfrm>
              <a:off x="2286000" y="3335400"/>
              <a:ext cx="5547600" cy="43164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43a7e5"/>
                </a:gs>
                <a:gs pos="50000">
                  <a:srgbClr val="1a558a"/>
                </a:gs>
                <a:gs pos="100000">
                  <a:srgbClr val="43a7e5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45" name="AutoShape 114"/>
            <p:cNvSpPr/>
            <p:nvPr/>
          </p:nvSpPr>
          <p:spPr>
            <a:xfrm>
              <a:off x="2395800" y="3339360"/>
              <a:ext cx="532296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46" name="Text Box 115"/>
          <p:cNvSpPr/>
          <p:nvPr/>
        </p:nvSpPr>
        <p:spPr>
          <a:xfrm>
            <a:off x="3189240" y="335268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47" name="Text Box 116"/>
          <p:cNvSpPr/>
          <p:nvPr/>
        </p:nvSpPr>
        <p:spPr>
          <a:xfrm>
            <a:off x="2300400" y="335268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Arial"/>
              </a:rPr>
              <a:t>02.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48" name="Group 117"/>
          <p:cNvGrpSpPr/>
          <p:nvPr/>
        </p:nvGrpSpPr>
        <p:grpSpPr>
          <a:xfrm>
            <a:off x="2286000" y="3944880"/>
            <a:ext cx="5547600" cy="432000"/>
            <a:chOff x="2286000" y="3944880"/>
            <a:chExt cx="5547600" cy="432000"/>
          </a:xfrm>
        </p:grpSpPr>
        <p:sp>
          <p:nvSpPr>
            <p:cNvPr id="549" name="AutoShape 118"/>
            <p:cNvSpPr/>
            <p:nvPr/>
          </p:nvSpPr>
          <p:spPr>
            <a:xfrm>
              <a:off x="2286000" y="3944880"/>
              <a:ext cx="554760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43a7e5"/>
                </a:gs>
                <a:gs pos="50000">
                  <a:srgbClr val="1a558a"/>
                </a:gs>
                <a:gs pos="100000">
                  <a:srgbClr val="43a7e5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0" name="AutoShape 119"/>
            <p:cNvSpPr/>
            <p:nvPr/>
          </p:nvSpPr>
          <p:spPr>
            <a:xfrm>
              <a:off x="2395800" y="3948840"/>
              <a:ext cx="532296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51" name="Text Box 120"/>
          <p:cNvSpPr/>
          <p:nvPr/>
        </p:nvSpPr>
        <p:spPr>
          <a:xfrm>
            <a:off x="3189240" y="396252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2" name="Text Box 121"/>
          <p:cNvSpPr/>
          <p:nvPr/>
        </p:nvSpPr>
        <p:spPr>
          <a:xfrm>
            <a:off x="2300400" y="396252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Arial"/>
              </a:rPr>
              <a:t>03.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53" name="Group 122"/>
          <p:cNvGrpSpPr/>
          <p:nvPr/>
        </p:nvGrpSpPr>
        <p:grpSpPr>
          <a:xfrm>
            <a:off x="2286000" y="4554360"/>
            <a:ext cx="5547600" cy="432000"/>
            <a:chOff x="2286000" y="4554360"/>
            <a:chExt cx="5547600" cy="432000"/>
          </a:xfrm>
        </p:grpSpPr>
        <p:sp>
          <p:nvSpPr>
            <p:cNvPr id="554" name="AutoShape 123"/>
            <p:cNvSpPr/>
            <p:nvPr/>
          </p:nvSpPr>
          <p:spPr>
            <a:xfrm>
              <a:off x="2286000" y="4554360"/>
              <a:ext cx="5547600" cy="43200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43a7e5"/>
                </a:gs>
                <a:gs pos="50000">
                  <a:srgbClr val="1a558a"/>
                </a:gs>
                <a:gs pos="100000">
                  <a:srgbClr val="43a7e5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55" name="AutoShape 124"/>
            <p:cNvSpPr/>
            <p:nvPr/>
          </p:nvSpPr>
          <p:spPr>
            <a:xfrm>
              <a:off x="2395800" y="4558320"/>
              <a:ext cx="532296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56" name="Text Box 125"/>
          <p:cNvSpPr/>
          <p:nvPr/>
        </p:nvSpPr>
        <p:spPr>
          <a:xfrm>
            <a:off x="3189240" y="457200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57" name="Text Box 126"/>
          <p:cNvSpPr/>
          <p:nvPr/>
        </p:nvSpPr>
        <p:spPr>
          <a:xfrm>
            <a:off x="2300400" y="457200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Arial"/>
              </a:rPr>
              <a:t>04.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grpSp>
        <p:nvGrpSpPr>
          <p:cNvPr id="558" name="Group 127"/>
          <p:cNvGrpSpPr/>
          <p:nvPr/>
        </p:nvGrpSpPr>
        <p:grpSpPr>
          <a:xfrm>
            <a:off x="2286000" y="5164200"/>
            <a:ext cx="5547600" cy="431640"/>
            <a:chOff x="2286000" y="5164200"/>
            <a:chExt cx="5547600" cy="431640"/>
          </a:xfrm>
        </p:grpSpPr>
        <p:sp>
          <p:nvSpPr>
            <p:cNvPr id="559" name="AutoShape 128"/>
            <p:cNvSpPr/>
            <p:nvPr/>
          </p:nvSpPr>
          <p:spPr>
            <a:xfrm>
              <a:off x="2286000" y="5164200"/>
              <a:ext cx="5547600" cy="431640"/>
            </a:xfrm>
            <a:prstGeom prst="roundRect">
              <a:avLst>
                <a:gd name="adj" fmla="val 28167"/>
              </a:avLst>
            </a:prstGeom>
            <a:gradFill rotWithShape="0">
              <a:gsLst>
                <a:gs pos="0">
                  <a:srgbClr val="43a7e5"/>
                </a:gs>
                <a:gs pos="50000">
                  <a:srgbClr val="1a558a"/>
                </a:gs>
                <a:gs pos="100000">
                  <a:srgbClr val="43a7e5"/>
                </a:gs>
              </a:gsLst>
              <a:lin ang="0"/>
            </a:gradFill>
            <a:ln w="190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1b83c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  <p:sp>
          <p:nvSpPr>
            <p:cNvPr id="560" name="AutoShape 129"/>
            <p:cNvSpPr/>
            <p:nvPr/>
          </p:nvSpPr>
          <p:spPr>
            <a:xfrm>
              <a:off x="2395800" y="5168160"/>
              <a:ext cx="5322960" cy="1202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beeff">
                    <a:alpha val="41176"/>
                  </a:srgbClr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61" name="Text Box 130"/>
          <p:cNvSpPr/>
          <p:nvPr/>
        </p:nvSpPr>
        <p:spPr>
          <a:xfrm>
            <a:off x="3189240" y="5181480"/>
            <a:ext cx="4495680" cy="371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Gulim"/>
                <a:ea typeface="Arial"/>
              </a:rPr>
              <a:t>Click to add title in here    </a:t>
            </a:r>
            <a:endParaRPr b="0" lang="en-US" sz="2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2" name="Text Box 131"/>
          <p:cNvSpPr/>
          <p:nvPr/>
        </p:nvSpPr>
        <p:spPr>
          <a:xfrm>
            <a:off x="2300400" y="5181480"/>
            <a:ext cx="869760" cy="310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8000" rIns="18000" tIns="18000" bIns="180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3a7e5"/>
                </a:solidFill>
                <a:latin typeface="Gulim"/>
                <a:ea typeface="Arial"/>
              </a:rPr>
              <a:t>05.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63" name="Picture 22" descr="bar"/>
          <p:cNvPicPr/>
          <p:nvPr/>
        </p:nvPicPr>
        <p:blipFill>
          <a:blip r:embed="rId1"/>
          <a:stretch/>
        </p:blipFill>
        <p:spPr>
          <a:xfrm>
            <a:off x="2405160" y="1773360"/>
            <a:ext cx="5427720" cy="593640"/>
          </a:xfrm>
          <a:prstGeom prst="rect">
            <a:avLst/>
          </a:prstGeom>
          <a:ln w="0">
            <a:noFill/>
          </a:ln>
        </p:spPr>
      </p:pic>
      <p:sp>
        <p:nvSpPr>
          <p:cNvPr id="564" name="Rectangle 13"/>
          <p:cNvSpPr/>
          <p:nvPr/>
        </p:nvSpPr>
        <p:spPr>
          <a:xfrm>
            <a:off x="2865600" y="1844640"/>
            <a:ext cx="45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직사각형 17"/>
          <p:cNvSpPr/>
          <p:nvPr/>
        </p:nvSpPr>
        <p:spPr>
          <a:xfrm>
            <a:off x="2571840" y="3143160"/>
            <a:ext cx="5000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a6a6a6"/>
                </a:solidFill>
                <a:latin typeface="Tahoma"/>
                <a:ea typeface="Galapogos BRK"/>
              </a:rPr>
              <a:t>Insert Text</a:t>
            </a:r>
            <a:endParaRPr b="0" lang="en-US" sz="50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66" name="직사각형 21" descr=""/>
          <p:cNvPicPr/>
          <p:nvPr/>
        </p:nvPicPr>
        <p:blipFill>
          <a:blip r:embed="rId1"/>
          <a:stretch/>
        </p:blipFill>
        <p:spPr>
          <a:xfrm>
            <a:off x="0" y="122400"/>
            <a:ext cx="3144960" cy="993600"/>
          </a:xfrm>
          <a:prstGeom prst="rect">
            <a:avLst/>
          </a:prstGeom>
          <a:ln w="0">
            <a:noFill/>
          </a:ln>
        </p:spPr>
      </p:pic>
      <p:sp>
        <p:nvSpPr>
          <p:cNvPr id="567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2"/>
          <p:cNvSpPr/>
          <p:nvPr/>
        </p:nvSpPr>
        <p:spPr>
          <a:xfrm>
            <a:off x="3405960" y="3032280"/>
            <a:ext cx="3192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HC헤드라인1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69" name="矩形 2"/>
          <p:cNvSpPr/>
          <p:nvPr/>
        </p:nvSpPr>
        <p:spPr>
          <a:xfrm>
            <a:off x="2268360" y="2708280"/>
            <a:ext cx="66060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Gulim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Gulim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5:05:3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6:39:2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