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projctor.wav" ContentType="audio/x-wav"/>
  <Override PartName="/ppt/media/type.wav" ContentType="audio/x-wav"/>
  <Override PartName="/ppt/media/chimes.wav" ContentType="audio/x-wav"/>
  <Override PartName="/ppt/media/image3.png" ContentType="image/png"/>
  <Override PartName="/ppt/media/image4.png" ContentType="image/png"/>
  <Override PartName="/ppt/media/%E7%A7%8B%E6%97%A5%E7%9A%84.wav" ContentType="audio/x-wav"/>
  <Override PartName="/ppt/media/cashreg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005-702D-42D2-98C9-1CE202D6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9FED-3E03-4D81-9BAE-06CF768E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09D5A-3567-423C-910E-E5BE4DFB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F8462-C00D-4CEA-9F30-DC54971E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EC8B9-E119-488C-96C8-7C973FB8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EBAD8-E258-419E-AB93-54ECFBF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D597B-0E04-444E-B488-832EE8E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49B51-834A-437F-8C3D-B4114C37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1E6A8-32C6-4871-8A6B-5AEFF490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35A4B-F263-4A15-878D-AF447F86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9882F-8734-42E7-A4B6-7D29EF79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1541B-72EC-4B82-AF1F-D94151F3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5D2-37C9-47E0-867B-7A0AEE8E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385F6-B585-4E25-B150-0411C1EC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B9170-B97D-4E98-AAE6-81CB1E2C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64ED3-E287-43E4-B46E-EC289072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AB547-A4ED-4E96-835F-5A76B0C3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4B165-A121-46DD-9B10-5A1394F7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3C74F-0B5F-469A-8D8A-B8C63285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CF92D-ED39-4F71-A9F8-23AB5373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5A248-E323-4368-889F-A8DCEAD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5B0CE-1845-4071-A729-E7CC8993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DBAA1-12BA-469C-8E4D-77258995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54A-C298-42D4-BA19-5B78550E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98A52-4286-4024-B4D2-489BF7DB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3FA80-CB81-4DA3-8129-E03D077F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D408B-83F1-4C1C-BEA8-3E2E4242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D01EF-6CB1-4CE5-8569-6D2296AB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78556-039B-44E9-8A2C-3095F7B1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9E80F-DD3B-43F4-B15F-1CC7A1E0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B8CE9-145B-45A3-815F-97274238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BDC5A-0456-4615-9B4D-C88D5F2A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9E0D7-35CE-4BEA-8FDD-BC918966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E868F-E050-4B80-B71A-7F6C75F5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B8BC-97E1-46CB-99E7-F3DFBF7E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53170-C2A3-4167-A015-3796F8E9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307DC-AF76-4475-8FAC-513A5930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D2157-6DC6-484A-BA69-0469961B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5307C-1634-4C36-BA1D-94753296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B600D-FA0E-4F51-AB31-CF1AD302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59F50-A6CC-467B-A732-94D5E483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EF969-F892-4F06-BDA9-8019A13C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F4195-6469-4FC3-AA86-E45C218A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0C1DD-3891-4C59-B8F3-6A4B024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DC924-37AA-4BC8-B679-5AE4371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A4A6-5A40-47E5-9B88-FA041A76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AF90F-48E7-4CA0-9768-36C044D3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07268-E6BC-4466-A8CA-E0EB6726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D5DA74-125B-4AB0-AE77-D484BE3D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796E1-E098-47E2-BBFF-BDA83B58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0F175-2E8C-4A56-9AB5-8BF46F1B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EA32F-E319-41FC-BD77-0FDADA149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5ADD2-7E38-4AA8-9FE2-BCDC8689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888942-CBB4-4EAA-9FF4-0BE3DB4C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1CB31-4ED7-43BC-AD73-8C91E770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E45E9-7663-400D-932F-FC80BB07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348E-EBCE-45D1-9707-FBCD7D9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681C0-7F96-4ED2-B7A0-2D4ACAE5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15447-87C6-4453-8B0B-A0E6A21B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2255F-2938-4879-8D5B-5371E7A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98D85-A292-4558-B21B-28EC0FBE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FADA93-7CA3-4FF7-A2BF-6A6086EB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756D8-EEA6-4CC1-B9E0-7F716FCF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B55D6-5959-4D0E-A72D-AE9491D0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275B-8BFB-4E08-855B-E98F2F5A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EBBF-AF6A-4506-8690-C488AE1E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73CC-FDB1-41AF-985E-C813B28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5E62-5F8B-4AB3-B92E-BED0EEF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21E-77D0-470C-8CF6-68BFC5D4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5173-D66C-4972-808F-42E22CEA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BD42-30C1-411C-AE9D-6AC6F479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83B2-C53B-48B3-8EE4-66FB55E7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6B9D-BE0B-4392-BCBB-C812C095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14EA-6704-468B-97EB-ACE6FEFD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97A5-E7F5-457A-8A70-820AEBA2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60A7-3F80-4498-AB6E-8E74DDE5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1EB1-AB16-4684-BE35-632ADDB1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225E-D05C-46E5-B127-F918F0C0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C37C-641C-408B-962B-89DDEE55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15C-C6FD-4D2F-A109-89D5200A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CCF9-C943-449A-9F19-8B034F4E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A0652-3276-41E0-B213-EBE790B3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A078-FF27-40A9-BAFB-EC145C5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A42E1-138E-41F9-A008-6809E731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7DD3-C0A6-4A96-899D-151F9D89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34579-7376-4D11-9A52-8913D81B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D0419-5107-4010-A32B-5159E465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685CF-4248-4182-A358-CF5BE268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A7323-C7CA-4015-BE52-2CB07A54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4ADA-D272-467A-B7B9-C846BD12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BE7-6C2B-43CB-8275-F987183C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5F93-BEBE-4A7E-A762-22BDF4BF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BEBBB-066E-4E99-8556-C917EE6F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625D0-5E53-411A-9A9E-B481227E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B36B-B81D-4F04-8FD4-7DF6CD4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AB1B-8B14-43B3-A666-83843E9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54314-BBD1-4AB1-963A-2C94D42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F3AB-6379-45A8-97FB-503EC832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AA5B-7385-4D6B-B803-624240C4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F7CE-613F-4E34-B88E-24E386BD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D55A-532E-455C-AB89-8EE30A5B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86C-7620-4EC8-AD06-0FAC6807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69659-E7B9-46FF-82A2-1DC60861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B2DFF-80AE-4162-82BC-C1A3D7DE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73AA4-5D40-4A07-B960-D4EC468A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1346-5FE4-486E-A102-A2FCC14A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7FA3F-F91B-4C41-91D5-88494CE9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A7BBC-2029-450F-B3E3-9D521FBC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6C06B-E79B-47AA-9492-379B2647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83E8-7152-4453-AC1C-26644B38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0090-73EC-47BE-A8DE-67357558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4ED1F-B9BE-4F3A-A1D3-86710B69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DBF-9751-4CD6-B351-EE9DFFFF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9F4FD-250D-4E31-A09B-1EC1FCA2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C9A0B-77C7-439F-819A-B8344177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F0120-786A-437B-B7AA-94AFD155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E568-4779-4AE2-806B-94413319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E741B-4CA1-4F67-BC8E-BBA0DDBB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1E2F-3825-4776-A2D6-38AC4094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B4A75-D8B8-466E-9EC6-00407897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E6045-7E49-46F7-B300-312D37C6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E2C6A-2064-46DB-880D-3B2FEBB9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A2BF-D180-4EF8-ACFF-6116C3B9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BB9-91D0-43C4-AF83-446112DA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1E432-5D09-4B58-9E23-A4D5A7F9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9F721-AE10-418B-ACBA-49CC138C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035B1-33D4-426C-A616-ABEE59BF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7A9B8-CB85-42D3-9243-D3DADA0CF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D8497-0DC1-4487-923E-C855DA91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F83D4-93C4-4310-A0F9-040BF114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49638-0FE4-47A8-998C-ECA2692C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7A46C-1737-4B1B-A983-0C08269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3A8FD-259E-4502-932B-666EBBA3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AB93F-BC5E-4007-98CE-FDB2058D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C86-12A0-4CD9-8534-0C94010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861BC-50F5-4BF5-AA61-C47889F7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44164-4977-43A9-AEDA-4E7D8E6E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921F7-5836-42B0-AE76-41DBA204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EDE13-ECEA-43FE-84D5-A117D766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8351C-3174-46CD-B718-8B347DB54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F6462-EE73-4324-B072-30BB405B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116FB-1C32-4288-9054-F889F223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F5CF3-1E1F-42A9-A914-157DBF25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9BCFE-92F5-45C6-A378-3FFA401D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3B0C7-97AA-44B2-AC23-898EA49C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CB9-BFB8-4730-9155-5D97D704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6CCD3-1DB9-407A-B8A5-1F8577B5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BF2A0-37FA-4D0B-BD87-D92B7880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00DC1-947C-4BED-92FC-C0B2255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4B4F7-B0C7-469E-96C0-99E6BA7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B897-BB90-4F7E-ACF4-9D23F1EF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B93C0-86BD-4AE1-862D-83A5CCB9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1FC57-D927-4BA9-B45C-3A82FDC8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326E7-BF03-43F0-A642-AB8DED47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9F1A6-C30E-4A7D-8ED4-56584E0C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6FEAD-77ED-4092-8CC5-29882184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7F5B-0C8A-4044-BB61-F56FAE77A12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3000" y="220680"/>
            <a:ext cx="197640" cy="6408000"/>
            <a:chOff x="8793000" y="220680"/>
            <a:chExt cx="19764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2240" y="220680"/>
              <a:ext cx="6804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3000" y="379800"/>
              <a:ext cx="7776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7120"/>
            <a:ext cx="8686800" cy="228600"/>
            <a:chOff x="412920" y="6477120"/>
            <a:chExt cx="8686800" cy="22860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1880"/>
              <a:ext cx="7632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5320"/>
            <a:ext cx="8745480" cy="162360"/>
            <a:chOff x="76320" y="175320"/>
            <a:chExt cx="8745480" cy="16236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7360" y="-3954960"/>
              <a:ext cx="5904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8640" y="-4167360"/>
              <a:ext cx="6084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5320"/>
            <a:ext cx="8745480" cy="162360"/>
            <a:chOff x="71280" y="175320"/>
            <a:chExt cx="8745480" cy="16236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2320" y="-3954960"/>
              <a:ext cx="5904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7360"/>
              <a:ext cx="6084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2338-0097-4216-92D5-A08687D889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C39D-DF21-473A-92F7-949988CF5E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8B79-DFCE-4621-842C-BD667BA1D9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584A-BA21-49C6-B48A-36D56B0371A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4D60-EC3D-4689-B70D-812BA19B51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50EE-5C54-4381-9220-BB10F80186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9EF8-2AB2-4ED5-B041-A5D8F9D3B1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7CFF-778A-4B93-80E0-C0D125333C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BC36-0127-4860-83DE-4291D57D09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9076-8A8A-4C72-B4AD-422E64BDB9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61CC-3120-401B-A0C2-295DC2A43B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DD15-E3E2-4F73-8B9E-6638692BAD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&#31179;&#26085;&#30340;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8"/>
          <p:cNvSpPr/>
          <p:nvPr/>
        </p:nvSpPr>
        <p:spPr>
          <a:xfrm>
            <a:off x="2422440" y="126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549" name="图片 4" descr=""/>
          <p:cNvPicPr/>
          <p:nvPr/>
        </p:nvPicPr>
        <p:blipFill>
          <a:blip r:embed="rId1"/>
          <a:srcRect l="0" t="0" r="0" b="4903"/>
          <a:stretch/>
        </p:blipFill>
        <p:spPr>
          <a:xfrm>
            <a:off x="324000" y="333360"/>
            <a:ext cx="8496000" cy="4967280"/>
          </a:xfrm>
          <a:prstGeom prst="rect">
            <a:avLst/>
          </a:prstGeom>
          <a:ln w="0">
            <a:noFill/>
          </a:ln>
        </p:spPr>
      </p:pic>
      <p:sp>
        <p:nvSpPr>
          <p:cNvPr id="550" name="矩形 1"/>
          <p:cNvSpPr/>
          <p:nvPr/>
        </p:nvSpPr>
        <p:spPr>
          <a:xfrm>
            <a:off x="2625480" y="67644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松鼠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模板免费下载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1" name="矩形 6"/>
          <p:cNvSpPr/>
          <p:nvPr/>
        </p:nvSpPr>
        <p:spPr>
          <a:xfrm>
            <a:off x="592200" y="609300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3"/>
          <p:cNvSpPr/>
          <p:nvPr/>
        </p:nvSpPr>
        <p:spPr>
          <a:xfrm>
            <a:off x="533520" y="380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6699ff"/>
                </a:solidFill>
                <a:latin typeface="Times New Roman"/>
                <a:ea typeface="隶书"/>
              </a:rPr>
              <a:t>松鼠玲珑的小面孔上，嵌着一双闪闪发光的小眼睛。一身灰褐色的毛，光滑得好像搽过油。一条毛茸茸的大尾巴总是向上翘着，显得格外漂亮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7" name="Text Box 5"/>
          <p:cNvSpPr/>
          <p:nvPr/>
        </p:nvSpPr>
        <p:spPr>
          <a:xfrm>
            <a:off x="457200" y="3657600"/>
            <a:ext cx="8153280" cy="53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一段话写了松鼠玲珑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闪闪发光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灰褐色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毛茸茸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把这四个方面综合起来，它们讲的都是松鼠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，因此，归纳成段意是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                    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                  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715000" y="3657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面孔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2057400" y="4191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眼睛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5638680" y="41911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毛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1066680" y="4724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尾巴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42670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外形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362320" y="5867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介绍松鼠的外形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6324480" y="5943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（综合法）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4"/>
          <p:cNvSpPr/>
          <p:nvPr/>
        </p:nvSpPr>
        <p:spPr>
          <a:xfrm>
            <a:off x="533520" y="228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666" name="Group 34"/>
          <p:cNvGrpSpPr/>
          <p:nvPr/>
        </p:nvGrpSpPr>
        <p:grpSpPr>
          <a:xfrm>
            <a:off x="304920" y="228600"/>
            <a:ext cx="8458200" cy="4267080"/>
            <a:chOff x="304920" y="228600"/>
            <a:chExt cx="8458200" cy="4267080"/>
          </a:xfrm>
        </p:grpSpPr>
        <p:grpSp>
          <p:nvGrpSpPr>
            <p:cNvPr id="667" name="Group 14"/>
            <p:cNvGrpSpPr/>
            <p:nvPr/>
          </p:nvGrpSpPr>
          <p:grpSpPr>
            <a:xfrm>
              <a:off x="3200400" y="4114800"/>
              <a:ext cx="152280" cy="380880"/>
              <a:chOff x="3200400" y="4114800"/>
              <a:chExt cx="152280" cy="380880"/>
            </a:xfrm>
          </p:grpSpPr>
          <p:sp>
            <p:nvSpPr>
              <p:cNvPr id="668" name="Line 15"/>
              <p:cNvSpPr/>
              <p:nvPr/>
            </p:nvSpPr>
            <p:spPr>
              <a:xfrm>
                <a:off x="3200400" y="4114800"/>
                <a:ext cx="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69" name="Line 16"/>
              <p:cNvSpPr/>
              <p:nvPr/>
            </p:nvSpPr>
            <p:spPr>
              <a:xfrm>
                <a:off x="3352680" y="4114800"/>
                <a:ext cx="0" cy="3808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33"/>
            <p:cNvGrpSpPr/>
            <p:nvPr/>
          </p:nvGrpSpPr>
          <p:grpSpPr>
            <a:xfrm>
              <a:off x="304920" y="228600"/>
              <a:ext cx="8458200" cy="3888720"/>
              <a:chOff x="304920" y="228600"/>
              <a:chExt cx="8458200" cy="3888720"/>
            </a:xfrm>
          </p:grpSpPr>
          <p:sp>
            <p:nvSpPr>
              <p:cNvPr id="671" name="Text Box 2"/>
              <p:cNvSpPr/>
              <p:nvPr/>
            </p:nvSpPr>
            <p:spPr>
              <a:xfrm>
                <a:off x="2743200" y="228600"/>
                <a:ext cx="266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猴子种果树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72" name="Text Box 4"/>
              <p:cNvSpPr/>
              <p:nvPr/>
            </p:nvSpPr>
            <p:spPr>
              <a:xfrm>
                <a:off x="381240" y="609480"/>
                <a:ext cx="838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猴子在家门口种了一棵梨树苗。他天天浇水、施肥呀，等待将来吃梨子。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              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73" name="Text Box 5"/>
              <p:cNvSpPr/>
              <p:nvPr/>
            </p:nvSpPr>
            <p:spPr>
              <a:xfrm>
                <a:off x="304920" y="1371600"/>
                <a:ext cx="830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正当梨树成活时，一只乌鸦对猴子说：“ 你怎么种梨树呢？梨树要五年才结果呢！”猴子一听，连忙拔掉梨树，改种杏树。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74" name="Text Box 6"/>
              <p:cNvSpPr/>
              <p:nvPr/>
            </p:nvSpPr>
            <p:spPr>
              <a:xfrm>
                <a:off x="304920" y="2133720"/>
                <a:ext cx="8229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正当杏树成活时，乌鸦又说：“你怎么种杏树呢？杏树要四年才结果呢！”猴子一听，拔掉杏树，改种桃树。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675" name="Text Box 7"/>
              <p:cNvSpPr/>
              <p:nvPr/>
            </p:nvSpPr>
            <p:spPr>
              <a:xfrm>
                <a:off x="304920" y="2895480"/>
                <a:ext cx="830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正当桃树成活时，乌鸦又说：“你怎么种桃树呢？桃树也要三年才结果呀！”猴子一听，又拔掉桃树，改种李树。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676" name="Group 13"/>
              <p:cNvGrpSpPr/>
              <p:nvPr/>
            </p:nvGrpSpPr>
            <p:grpSpPr>
              <a:xfrm>
                <a:off x="2590920" y="990720"/>
                <a:ext cx="152280" cy="380880"/>
                <a:chOff x="2590920" y="990720"/>
                <a:chExt cx="152280" cy="380880"/>
              </a:xfrm>
            </p:grpSpPr>
            <p:sp>
              <p:nvSpPr>
                <p:cNvPr id="677" name="Line 11"/>
                <p:cNvSpPr/>
                <p:nvPr/>
              </p:nvSpPr>
              <p:spPr>
                <a:xfrm>
                  <a:off x="2590920" y="99072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12"/>
                <p:cNvSpPr/>
                <p:nvPr/>
              </p:nvSpPr>
              <p:spPr>
                <a:xfrm>
                  <a:off x="2743200" y="99072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Text Box 8"/>
              <p:cNvSpPr/>
              <p:nvPr/>
            </p:nvSpPr>
            <p:spPr>
              <a:xfrm>
                <a:off x="304920" y="3657600"/>
                <a:ext cx="815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就这样，这只没有主见的猴子种了一辈子的树，可到头来什么树也没种成。</a:t>
                </a:r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grpSp>
            <p:nvGrpSpPr>
              <p:cNvPr id="680" name="Group 25"/>
              <p:cNvGrpSpPr/>
              <p:nvPr/>
            </p:nvGrpSpPr>
            <p:grpSpPr>
              <a:xfrm>
                <a:off x="7848720" y="3352680"/>
                <a:ext cx="152280" cy="380880"/>
                <a:chOff x="7848720" y="3352680"/>
                <a:chExt cx="152280" cy="380880"/>
              </a:xfrm>
            </p:grpSpPr>
            <p:sp>
              <p:nvSpPr>
                <p:cNvPr id="681" name="Line 26"/>
                <p:cNvSpPr/>
                <p:nvPr/>
              </p:nvSpPr>
              <p:spPr>
                <a:xfrm>
                  <a:off x="7848720" y="335268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27"/>
                <p:cNvSpPr/>
                <p:nvPr/>
              </p:nvSpPr>
              <p:spPr>
                <a:xfrm>
                  <a:off x="8001000" y="3352680"/>
                  <a:ext cx="0" cy="3808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83" name="Text Box 29"/>
          <p:cNvSpPr/>
          <p:nvPr/>
        </p:nvSpPr>
        <p:spPr>
          <a:xfrm>
            <a:off x="228600" y="1295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2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4" name="Text Box 30"/>
          <p:cNvSpPr/>
          <p:nvPr/>
        </p:nvSpPr>
        <p:spPr>
          <a:xfrm>
            <a:off x="0" y="2057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5" name="Text Box 31"/>
          <p:cNvSpPr/>
          <p:nvPr/>
        </p:nvSpPr>
        <p:spPr>
          <a:xfrm>
            <a:off x="228600" y="281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304920" y="4800600"/>
            <a:ext cx="6095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猴子拔梨树，种杏树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304920" y="52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猴子拔杏树，种桃树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304920" y="5715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</a:rPr>
              <a:t>猴子拔桃树，种李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9" name="AutoShape 40"/>
          <p:cNvSpPr/>
          <p:nvPr/>
        </p:nvSpPr>
        <p:spPr>
          <a:xfrm>
            <a:off x="3733920" y="50292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0" name="Text Box 42"/>
          <p:cNvSpPr/>
          <p:nvPr/>
        </p:nvSpPr>
        <p:spPr>
          <a:xfrm>
            <a:off x="3429000" y="51814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（综合法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1" name="Text Box 43"/>
          <p:cNvSpPr/>
          <p:nvPr/>
        </p:nvSpPr>
        <p:spPr>
          <a:xfrm>
            <a:off x="6248520" y="4876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2" name="Text Box 44"/>
          <p:cNvSpPr/>
          <p:nvPr/>
        </p:nvSpPr>
        <p:spPr>
          <a:xfrm>
            <a:off x="5791320" y="472428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猴子没有主见，拔了又种，种了又拔。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3" name="Text Box 30"/>
          <p:cNvSpPr/>
          <p:nvPr/>
        </p:nvSpPr>
        <p:spPr>
          <a:xfrm>
            <a:off x="250920" y="61657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026"/>
          <p:cNvSpPr/>
          <p:nvPr/>
        </p:nvSpPr>
        <p:spPr>
          <a:xfrm>
            <a:off x="1295280" y="10666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3" name="Text Box 1027"/>
          <p:cNvSpPr/>
          <p:nvPr/>
        </p:nvSpPr>
        <p:spPr>
          <a:xfrm>
            <a:off x="0" y="7621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）全文是按什么顺序写的？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4" name="Text Box 1029"/>
          <p:cNvSpPr/>
          <p:nvPr/>
        </p:nvSpPr>
        <p:spPr>
          <a:xfrm>
            <a:off x="1371600" y="190512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按事物的几个方面来写的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5" name="Text Box 1030"/>
          <p:cNvSpPr/>
          <p:nvPr/>
        </p:nvSpPr>
        <p:spPr>
          <a:xfrm>
            <a:off x="0" y="3048120"/>
            <a:ext cx="8915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）按这样的顺序，全文可分为几段？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6" name="Text Box 1033"/>
          <p:cNvSpPr/>
          <p:nvPr/>
        </p:nvSpPr>
        <p:spPr>
          <a:xfrm>
            <a:off x="2819520" y="45720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可分为三段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7" name="Line 1036"/>
          <p:cNvSpPr/>
          <p:nvPr/>
        </p:nvSpPr>
        <p:spPr>
          <a:xfrm>
            <a:off x="24382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58" name="Text Box 1035"/>
          <p:cNvSpPr/>
          <p:nvPr/>
        </p:nvSpPr>
        <p:spPr>
          <a:xfrm>
            <a:off x="1752480" y="56386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1       2        3       4       5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59" name="Group 1043"/>
          <p:cNvGrpSpPr/>
          <p:nvPr/>
        </p:nvGrpSpPr>
        <p:grpSpPr>
          <a:xfrm>
            <a:off x="2438280" y="5638680"/>
            <a:ext cx="152280" cy="838080"/>
            <a:chOff x="2438280" y="5638680"/>
            <a:chExt cx="152280" cy="838080"/>
          </a:xfrm>
        </p:grpSpPr>
        <p:sp>
          <p:nvSpPr>
            <p:cNvPr id="560" name="Line 1037"/>
            <p:cNvSpPr/>
            <p:nvPr/>
          </p:nvSpPr>
          <p:spPr>
            <a:xfrm>
              <a:off x="2438280" y="563868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1" name="Line 1038"/>
            <p:cNvSpPr/>
            <p:nvPr/>
          </p:nvSpPr>
          <p:spPr>
            <a:xfrm>
              <a:off x="2590560" y="563868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2" name="Group 1044"/>
          <p:cNvGrpSpPr/>
          <p:nvPr/>
        </p:nvGrpSpPr>
        <p:grpSpPr>
          <a:xfrm>
            <a:off x="7238880" y="5638680"/>
            <a:ext cx="152280" cy="838080"/>
            <a:chOff x="7238880" y="5638680"/>
            <a:chExt cx="152280" cy="838080"/>
          </a:xfrm>
        </p:grpSpPr>
        <p:sp>
          <p:nvSpPr>
            <p:cNvPr id="563" name="Line 1045"/>
            <p:cNvSpPr/>
            <p:nvPr/>
          </p:nvSpPr>
          <p:spPr>
            <a:xfrm>
              <a:off x="7238880" y="563868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4" name="Line 1046"/>
            <p:cNvSpPr/>
            <p:nvPr/>
          </p:nvSpPr>
          <p:spPr>
            <a:xfrm>
              <a:off x="7391160" y="563868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65" name="Group 1047"/>
          <p:cNvGrpSpPr/>
          <p:nvPr/>
        </p:nvGrpSpPr>
        <p:grpSpPr>
          <a:xfrm>
            <a:off x="6019920" y="5638680"/>
            <a:ext cx="152280" cy="838080"/>
            <a:chOff x="6019920" y="5638680"/>
            <a:chExt cx="152280" cy="838080"/>
          </a:xfrm>
        </p:grpSpPr>
        <p:sp>
          <p:nvSpPr>
            <p:cNvPr id="566" name="Line 1048"/>
            <p:cNvSpPr/>
            <p:nvPr/>
          </p:nvSpPr>
          <p:spPr>
            <a:xfrm>
              <a:off x="6019920" y="563868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67" name="Line 1049"/>
            <p:cNvSpPr/>
            <p:nvPr/>
          </p:nvSpPr>
          <p:spPr>
            <a:xfrm>
              <a:off x="6172200" y="5638680"/>
              <a:ext cx="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568" name="爱丽丝.wav" descr=""/>
          <p:cNvPicPr/>
          <p:nvPr/>
        </p:nvPicPr>
        <p:blipFill>
          <a:blip r:embed="rId1"/>
          <a:stretch/>
        </p:blipFill>
        <p:spPr>
          <a:xfrm>
            <a:off x="685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5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1"/>
          <p:cNvSpPr/>
          <p:nvPr/>
        </p:nvSpPr>
        <p:spPr>
          <a:xfrm>
            <a:off x="914400" y="533520"/>
            <a:ext cx="7086600" cy="9144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0" name="Text Box 2"/>
          <p:cNvSpPr/>
          <p:nvPr/>
        </p:nvSpPr>
        <p:spPr>
          <a:xfrm>
            <a:off x="533520" y="6858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松鼠是一种美丽的小动物。它玲珑的小面孔上，嵌着一对闪闪发光的小眼睛。一身灰褐色的毛，光滑得好像搽过油。一条毛茸茸的大尾巴总是向上翘着，显得格外漂亮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1" name="Line 4"/>
          <p:cNvSpPr/>
          <p:nvPr/>
        </p:nvSpPr>
        <p:spPr>
          <a:xfrm>
            <a:off x="7772400" y="838080"/>
            <a:ext cx="0" cy="609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2" name="Freeform 6"/>
          <p:cNvSpPr/>
          <p:nvPr/>
        </p:nvSpPr>
        <p:spPr>
          <a:xfrm>
            <a:off x="1371600" y="1371600"/>
            <a:ext cx="6045120" cy="1440"/>
          </a:xfrm>
          <a:custGeom>
            <a:avLst/>
            <a:gdLst/>
            <a:ahLst/>
            <a:rect l="l" t="t" r="r" b="b"/>
            <a:pathLst>
              <a:path w="3808" h="1">
                <a:moveTo>
                  <a:pt x="0" y="0"/>
                </a:moveTo>
                <a:cubicBezTo>
                  <a:pt x="1840" y="0"/>
                  <a:pt x="3680" y="0"/>
                  <a:pt x="3744" y="0"/>
                </a:cubicBezTo>
                <a:cubicBezTo>
                  <a:pt x="3808" y="0"/>
                  <a:pt x="952" y="0"/>
                  <a:pt x="384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380880" y="68580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松鼠是一种美丽的小动物。它玲珑的小面孔上，嵌着一对闪闪发光的小眼睛。一身灰褐色的毛，光滑得好像搽过油。一条毛茸茸的大尾巴总是向上翘着，显得格外漂亮。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4" name="Line 3"/>
          <p:cNvSpPr/>
          <p:nvPr/>
        </p:nvSpPr>
        <p:spPr>
          <a:xfrm>
            <a:off x="7620120" y="762120"/>
            <a:ext cx="0" cy="685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6858000" y="3049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总分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1143000" y="1371600"/>
            <a:ext cx="6248520" cy="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85800" y="5943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丽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78" name="Group 11"/>
          <p:cNvGrpSpPr/>
          <p:nvPr/>
        </p:nvGrpSpPr>
        <p:grpSpPr>
          <a:xfrm>
            <a:off x="457200" y="4952880"/>
            <a:ext cx="8153280" cy="1450080"/>
            <a:chOff x="457200" y="4952880"/>
            <a:chExt cx="8153280" cy="1450080"/>
          </a:xfrm>
        </p:grpSpPr>
        <p:sp>
          <p:nvSpPr>
            <p:cNvPr id="579" name="Rectangle 6"/>
            <p:cNvSpPr/>
            <p:nvPr/>
          </p:nvSpPr>
          <p:spPr>
            <a:xfrm>
              <a:off x="457200" y="4952880"/>
              <a:ext cx="815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第一段的段意是：松鼠是一种美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0" name="Text Box 10"/>
            <p:cNvSpPr/>
            <p:nvPr/>
          </p:nvSpPr>
          <p:spPr>
            <a:xfrm>
              <a:off x="685800" y="5638680"/>
              <a:ext cx="4343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丽的小动物。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581" name="Rectangle 12"/>
          <p:cNvSpPr/>
          <p:nvPr/>
        </p:nvSpPr>
        <p:spPr>
          <a:xfrm>
            <a:off x="5536440" y="5638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  <a:ea typeface="华文行楷"/>
              </a:rPr>
              <a:t>（摘句法）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2" name="AutoShape 13"/>
          <p:cNvSpPr/>
          <p:nvPr/>
        </p:nvSpPr>
        <p:spPr>
          <a:xfrm>
            <a:off x="914400" y="457200"/>
            <a:ext cx="6934320" cy="1143000"/>
          </a:xfrm>
          <a:prstGeom prst="flowChartProcess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9"/>
          <p:cNvGrpSpPr/>
          <p:nvPr/>
        </p:nvGrpSpPr>
        <p:grpSpPr>
          <a:xfrm>
            <a:off x="0" y="0"/>
            <a:ext cx="9296280" cy="6858000"/>
            <a:chOff x="0" y="0"/>
            <a:chExt cx="9296280" cy="6858000"/>
          </a:xfrm>
        </p:grpSpPr>
        <p:pic>
          <p:nvPicPr>
            <p:cNvPr id="584" name="Picture 3" descr="zjh3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2" descr="zjh3"/>
            <p:cNvPicPr/>
            <p:nvPr/>
          </p:nvPicPr>
          <p:blipFill>
            <a:blip r:embed="rId2">
              <a:lum bright="-6000"/>
              <a:alphaModFix amt="50000"/>
            </a:blip>
            <a:srcRect l="8858" t="1307" r="24613" b="32819"/>
            <a:stretch/>
          </p:blipFill>
          <p:spPr>
            <a:xfrm>
              <a:off x="7086600" y="4627440"/>
              <a:ext cx="2057400" cy="22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4" descr="zjh3"/>
            <p:cNvPicPr/>
            <p:nvPr/>
          </p:nvPicPr>
          <p:blipFill>
            <a:blip r:embed="rId3">
              <a:lum bright="-12000"/>
              <a:alphaModFix amt="50000"/>
            </a:blip>
            <a:srcRect l="8858" t="1307" r="24613" b="32819"/>
            <a:stretch/>
          </p:blipFill>
          <p:spPr>
            <a:xfrm>
              <a:off x="6872400" y="0"/>
              <a:ext cx="242388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zjh3"/>
            <p:cNvPicPr/>
            <p:nvPr/>
          </p:nvPicPr>
          <p:blipFill>
            <a:blip r:embed="rId4">
              <a:lum bright="-12000"/>
              <a:alphaModFix amt="50000"/>
            </a:blip>
            <a:srcRect l="8858" t="1307" r="24613" b="32819"/>
            <a:stretch/>
          </p:blipFill>
          <p:spPr>
            <a:xfrm>
              <a:off x="108000" y="3906720"/>
              <a:ext cx="2895480" cy="295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7%A7%8B%E6%97%A5%E7%9A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Line 10"/>
          <p:cNvSpPr/>
          <p:nvPr/>
        </p:nvSpPr>
        <p:spPr>
          <a:xfrm flipH="1">
            <a:off x="1828800" y="1828800"/>
            <a:ext cx="763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1676520" y="2286000"/>
            <a:ext cx="7596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0" name="Line 12"/>
          <p:cNvSpPr/>
          <p:nvPr/>
        </p:nvSpPr>
        <p:spPr>
          <a:xfrm flipH="1">
            <a:off x="1904760" y="236232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1" name="Line 13"/>
          <p:cNvSpPr/>
          <p:nvPr/>
        </p:nvSpPr>
        <p:spPr>
          <a:xfrm>
            <a:off x="2133720" y="2133720"/>
            <a:ext cx="7596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2" name="Line 14"/>
          <p:cNvSpPr/>
          <p:nvPr/>
        </p:nvSpPr>
        <p:spPr>
          <a:xfrm flipH="1">
            <a:off x="1981080" y="2666880"/>
            <a:ext cx="7632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3" name="Line 15"/>
          <p:cNvSpPr/>
          <p:nvPr/>
        </p:nvSpPr>
        <p:spPr>
          <a:xfrm>
            <a:off x="2362320" y="2133720"/>
            <a:ext cx="1522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4" name="Line 16"/>
          <p:cNvSpPr/>
          <p:nvPr/>
        </p:nvSpPr>
        <p:spPr>
          <a:xfrm>
            <a:off x="2286000" y="2666880"/>
            <a:ext cx="152280" cy="1752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5" name="Line 17"/>
          <p:cNvSpPr/>
          <p:nvPr/>
        </p:nvSpPr>
        <p:spPr>
          <a:xfrm flipH="1">
            <a:off x="1981080" y="403848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2286000" y="37339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1523880" y="19810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8" name="Line 20"/>
          <p:cNvSpPr/>
          <p:nvPr/>
        </p:nvSpPr>
        <p:spPr>
          <a:xfrm flipV="1">
            <a:off x="1676520" y="35049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99" name="Line 21"/>
          <p:cNvSpPr/>
          <p:nvPr/>
        </p:nvSpPr>
        <p:spPr>
          <a:xfrm flipH="1">
            <a:off x="5866920" y="2362320"/>
            <a:ext cx="38124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0" name="Line 22"/>
          <p:cNvSpPr/>
          <p:nvPr/>
        </p:nvSpPr>
        <p:spPr>
          <a:xfrm>
            <a:off x="5943600" y="2590920"/>
            <a:ext cx="15228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1" name="Line 23"/>
          <p:cNvSpPr/>
          <p:nvPr/>
        </p:nvSpPr>
        <p:spPr>
          <a:xfrm flipV="1">
            <a:off x="6019920" y="3200040"/>
            <a:ext cx="2286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2" name="Line 24"/>
          <p:cNvSpPr/>
          <p:nvPr/>
        </p:nvSpPr>
        <p:spPr>
          <a:xfrm>
            <a:off x="6019920" y="2362320"/>
            <a:ext cx="13716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3" name="Line 25"/>
          <p:cNvSpPr/>
          <p:nvPr/>
        </p:nvSpPr>
        <p:spPr>
          <a:xfrm>
            <a:off x="6477120" y="25146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6553080" y="3352680"/>
            <a:ext cx="457200" cy="152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5" name="Line 27"/>
          <p:cNvSpPr/>
          <p:nvPr/>
        </p:nvSpPr>
        <p:spPr>
          <a:xfrm flipV="1">
            <a:off x="5257800" y="3657600"/>
            <a:ext cx="2590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6" name="Line 28"/>
          <p:cNvSpPr/>
          <p:nvPr/>
        </p:nvSpPr>
        <p:spPr>
          <a:xfrm>
            <a:off x="5486400" y="35053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7" name="Line 29"/>
          <p:cNvSpPr/>
          <p:nvPr/>
        </p:nvSpPr>
        <p:spPr>
          <a:xfrm>
            <a:off x="6172200" y="32767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8" name="Line 30"/>
          <p:cNvSpPr/>
          <p:nvPr/>
        </p:nvSpPr>
        <p:spPr>
          <a:xfrm>
            <a:off x="6019920" y="4724280"/>
            <a:ext cx="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9" name="Line 31"/>
          <p:cNvSpPr/>
          <p:nvPr/>
        </p:nvSpPr>
        <p:spPr>
          <a:xfrm flipV="1">
            <a:off x="5943600" y="3733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0" name="Line 32"/>
          <p:cNvSpPr/>
          <p:nvPr/>
        </p:nvSpPr>
        <p:spPr>
          <a:xfrm flipV="1">
            <a:off x="6858000" y="3581280"/>
            <a:ext cx="304920" cy="4572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1" name="Line 33"/>
          <p:cNvSpPr/>
          <p:nvPr/>
        </p:nvSpPr>
        <p:spPr>
          <a:xfrm flipH="1">
            <a:off x="5409720" y="2362320"/>
            <a:ext cx="11430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2" name="Line 34"/>
          <p:cNvSpPr/>
          <p:nvPr/>
        </p:nvSpPr>
        <p:spPr>
          <a:xfrm>
            <a:off x="5715000" y="2895480"/>
            <a:ext cx="15228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3" name="Line 35"/>
          <p:cNvSpPr/>
          <p:nvPr/>
        </p:nvSpPr>
        <p:spPr>
          <a:xfrm flipV="1">
            <a:off x="5791320" y="34290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4" name="Line 36"/>
          <p:cNvSpPr/>
          <p:nvPr/>
        </p:nvSpPr>
        <p:spPr>
          <a:xfrm>
            <a:off x="6172200" y="1981080"/>
            <a:ext cx="121932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5" name="Line 37"/>
          <p:cNvSpPr/>
          <p:nvPr/>
        </p:nvSpPr>
        <p:spPr>
          <a:xfrm>
            <a:off x="6858000" y="24382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6553080" y="320040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7" name="Line 39"/>
          <p:cNvSpPr/>
          <p:nvPr/>
        </p:nvSpPr>
        <p:spPr>
          <a:xfrm>
            <a:off x="5083920" y="3876120"/>
            <a:ext cx="2492640" cy="13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8" name="Line 40"/>
          <p:cNvSpPr/>
          <p:nvPr/>
        </p:nvSpPr>
        <p:spPr>
          <a:xfrm>
            <a:off x="5867280" y="3809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19" name="Line 41"/>
          <p:cNvSpPr/>
          <p:nvPr/>
        </p:nvSpPr>
        <p:spPr>
          <a:xfrm flipV="1">
            <a:off x="6553080" y="3733560"/>
            <a:ext cx="228600" cy="2286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0" name="Line 42"/>
          <p:cNvSpPr/>
          <p:nvPr/>
        </p:nvSpPr>
        <p:spPr>
          <a:xfrm>
            <a:off x="5257800" y="3733920"/>
            <a:ext cx="2438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1" name="Line 43"/>
          <p:cNvSpPr/>
          <p:nvPr/>
        </p:nvSpPr>
        <p:spPr>
          <a:xfrm>
            <a:off x="6400800" y="396252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2" name="Line 44"/>
          <p:cNvSpPr/>
          <p:nvPr/>
        </p:nvSpPr>
        <p:spPr>
          <a:xfrm flipH="1">
            <a:off x="5337000" y="2190600"/>
            <a:ext cx="1136880" cy="201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3" name="Line 45"/>
          <p:cNvSpPr/>
          <p:nvPr/>
        </p:nvSpPr>
        <p:spPr>
          <a:xfrm>
            <a:off x="6172200" y="27432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4" name="Line 46"/>
          <p:cNvSpPr/>
          <p:nvPr/>
        </p:nvSpPr>
        <p:spPr>
          <a:xfrm flipV="1">
            <a:off x="6248520" y="3047760"/>
            <a:ext cx="30456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6095880" y="3657600"/>
            <a:ext cx="45720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6" name="Line 48"/>
          <p:cNvSpPr/>
          <p:nvPr/>
        </p:nvSpPr>
        <p:spPr>
          <a:xfrm flipV="1">
            <a:off x="6629400" y="304776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7" name="Line 49"/>
          <p:cNvSpPr/>
          <p:nvPr/>
        </p:nvSpPr>
        <p:spPr>
          <a:xfrm flipV="1">
            <a:off x="6248520" y="3276360"/>
            <a:ext cx="45720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8" name="Line 50"/>
          <p:cNvSpPr/>
          <p:nvPr/>
        </p:nvSpPr>
        <p:spPr>
          <a:xfrm flipH="1">
            <a:off x="5257800" y="2057400"/>
            <a:ext cx="144792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>
            <a:off x="5486400" y="3276720"/>
            <a:ext cx="763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0" name="Line 52"/>
          <p:cNvSpPr/>
          <p:nvPr/>
        </p:nvSpPr>
        <p:spPr>
          <a:xfrm>
            <a:off x="6172200" y="2209680"/>
            <a:ext cx="1447920" cy="221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1" name="Line 53"/>
          <p:cNvSpPr/>
          <p:nvPr/>
        </p:nvSpPr>
        <p:spPr>
          <a:xfrm>
            <a:off x="4800600" y="4038480"/>
            <a:ext cx="35053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2" name="Line 54"/>
          <p:cNvSpPr/>
          <p:nvPr/>
        </p:nvSpPr>
        <p:spPr>
          <a:xfrm flipH="1">
            <a:off x="5638320" y="1981080"/>
            <a:ext cx="685800" cy="221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3" name="Line 55"/>
          <p:cNvSpPr/>
          <p:nvPr/>
        </p:nvSpPr>
        <p:spPr>
          <a:xfrm>
            <a:off x="6248520" y="2590920"/>
            <a:ext cx="1066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4" name="Line 56"/>
          <p:cNvSpPr/>
          <p:nvPr/>
        </p:nvSpPr>
        <p:spPr>
          <a:xfrm flipV="1">
            <a:off x="5029200" y="3733920"/>
            <a:ext cx="28954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5" name="Line 58"/>
          <p:cNvSpPr/>
          <p:nvPr/>
        </p:nvSpPr>
        <p:spPr>
          <a:xfrm>
            <a:off x="6172200" y="3048120"/>
            <a:ext cx="533520" cy="533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6" name="Line 59"/>
          <p:cNvSpPr/>
          <p:nvPr/>
        </p:nvSpPr>
        <p:spPr>
          <a:xfrm flipV="1">
            <a:off x="5943600" y="3429000"/>
            <a:ext cx="7621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7" name="Line 60"/>
          <p:cNvSpPr/>
          <p:nvPr/>
        </p:nvSpPr>
        <p:spPr>
          <a:xfrm>
            <a:off x="6705720" y="3657600"/>
            <a:ext cx="53316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8" name="Line 61"/>
          <p:cNvSpPr/>
          <p:nvPr/>
        </p:nvSpPr>
        <p:spPr>
          <a:xfrm flipV="1">
            <a:off x="5715000" y="350496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9" name="Line 62"/>
          <p:cNvSpPr/>
          <p:nvPr/>
        </p:nvSpPr>
        <p:spPr>
          <a:xfrm>
            <a:off x="716292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0" name="Line 63"/>
          <p:cNvSpPr/>
          <p:nvPr/>
        </p:nvSpPr>
        <p:spPr>
          <a:xfrm>
            <a:off x="6095880" y="3276720"/>
            <a:ext cx="30492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1" name="Line 64"/>
          <p:cNvSpPr/>
          <p:nvPr/>
        </p:nvSpPr>
        <p:spPr>
          <a:xfrm>
            <a:off x="6095880" y="297180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2" name="Line 65"/>
          <p:cNvSpPr/>
          <p:nvPr/>
        </p:nvSpPr>
        <p:spPr>
          <a:xfrm>
            <a:off x="5867280" y="3505320"/>
            <a:ext cx="12193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3" name="Line 66"/>
          <p:cNvSpPr/>
          <p:nvPr/>
        </p:nvSpPr>
        <p:spPr>
          <a:xfrm>
            <a:off x="6095880" y="32004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4" name="Line 67"/>
          <p:cNvSpPr/>
          <p:nvPr/>
        </p:nvSpPr>
        <p:spPr>
          <a:xfrm flipV="1">
            <a:off x="6435720" y="3137760"/>
            <a:ext cx="387360" cy="1039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5" name="Line 68"/>
          <p:cNvSpPr/>
          <p:nvPr/>
        </p:nvSpPr>
        <p:spPr>
          <a:xfrm flipH="1">
            <a:off x="6324480" y="33526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6" name="Line 69"/>
          <p:cNvSpPr/>
          <p:nvPr/>
        </p:nvSpPr>
        <p:spPr>
          <a:xfrm>
            <a:off x="5943600" y="2057400"/>
            <a:ext cx="1905120" cy="2209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7" name="Text Box 70"/>
          <p:cNvSpPr/>
          <p:nvPr/>
        </p:nvSpPr>
        <p:spPr>
          <a:xfrm>
            <a:off x="5486400" y="45720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交  错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8" name="Text Box 62"/>
          <p:cNvSpPr/>
          <p:nvPr/>
        </p:nvSpPr>
        <p:spPr>
          <a:xfrm>
            <a:off x="324000" y="60930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457200" y="16002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第二段的段意是：介绍 松鼠的生活习性。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2514600" y="411480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（综合法）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1026"/>
          <p:cNvSpPr/>
          <p:nvPr/>
        </p:nvSpPr>
        <p:spPr>
          <a:xfrm>
            <a:off x="457200" y="11430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先把几个自然段或几层的意思综合起来，想想它的主要意思是什么，然后用自己的话说出来。像这种归纳段意的方法，就叫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综合法。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24000" y="61657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3:11:31Z</dcterms:created>
  <dc:creator/>
  <dc:description/>
  <cp:keywords>幻灯片之家 http:/www.eeppt.com</cp:keywords>
  <dc:language>en-US</dc:language>
  <cp:lastModifiedBy/>
  <dcterms:modified xsi:type="dcterms:W3CDTF">2015-07-20T03:07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