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275-3B97-4E18-9F62-19A2D337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7F6-DCD8-4315-A9FD-DD7297D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54D-A8A3-4E18-9664-0FD5330B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ED2-2F1D-4104-921D-50507A2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68F-6A7B-4C1C-B073-53D0E48E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B1C-1555-4A92-84DD-BE8A8EB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CF9D-1AF2-4780-BEC8-6CAFCBB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2408-008B-4368-8E64-0C9FACB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520-0F6C-4D83-9F4F-BA4B4BC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207C-DF4F-4D92-8EC7-1B54C30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3AA-5B55-4E2A-9A20-686B606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8D1-BC00-4C27-B05B-CBE02A48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20D7-C119-4ABD-9239-AB33340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D379-97B7-4C9F-BD74-868CA80F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160A-1FBC-47A6-BBCA-E9138FF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3DDF-6471-4134-9E02-F5986F05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11AB-4102-4950-9577-16240320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491E-A72D-41B5-83AE-2ECE8628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505B-68A5-460C-AE3B-3AEB0270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D087-FB9D-4594-A542-89FAEDF0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DBEB-919D-4F56-8191-64A1CCAA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5782-4A34-4D1C-ADE9-7A40379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5EE-F609-4EFD-B95F-442D23A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1818-9820-4402-A721-33FB51F3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451A-CDAF-43A8-8111-DA69758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71A4-A15E-4847-9519-D2EE9B4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532E-8A35-43B4-97EB-4C0B5B2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CB5B-E4C3-4FE0-8343-1DC2EEE9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3F0E-2AD0-4E65-8DB9-9F29DDAD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4373-22D3-403C-B8A2-5AF3250A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D63-0D31-4251-AEC3-F1FD908F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8B7-26F0-4441-B4EA-EA8F73AE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A2A-9518-4FA8-BC63-E898C140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5D4-6280-4268-81F9-E24799F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067-D080-4B59-A454-2EF3751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8A0-5E58-4F83-A1DB-5C193D0C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778-A62B-4B32-B7E9-FC5CC58B80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E2DA-0EC7-4381-ABB4-668D2F9E0D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7F1-F543-4DB1-A76A-574693A1C6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a5c47a80bfbfeef9bd3e1e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692360" y="404640"/>
            <a:ext cx="60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松鼠完整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驯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良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 榛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子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榉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实  橡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栗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矫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玲珑    帽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缨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 船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舵  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蛰伏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苔藓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狭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窄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勉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强  圆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你会认吗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197000"/>
            <a:ext cx="842472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       zhēn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ǔ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lì      jiǎ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óng      yīng      duò   zhé        tái x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á         miǎn        z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你能记住吗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915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乖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巧、驯良、清秀、矫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机警、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玲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珑、躲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藏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、追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强烈、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溪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流、警觉、触动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锐利、错杂、狭窄、勉强、遮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蔽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0092117464721877801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588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你知道文章是从哪些方面介绍我的吗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2585880" cy="4508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708360" y="2421000"/>
            <a:ext cx="381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漂亮的外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驯良的性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乖巧的行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8dcfac090280ba8c2eddd49e"/>
          <p:cNvPicPr/>
          <p:nvPr/>
        </p:nvPicPr>
        <p:blipFill>
          <a:blip r:embed="rId1"/>
          <a:stretch/>
        </p:blipFill>
        <p:spPr>
          <a:xfrm>
            <a:off x="4859280" y="4334040"/>
            <a:ext cx="4284720" cy="2523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如：我是一只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漂亮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小松鼠，我有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玲珑的面孔，还有一条帽缨形的大尾巴，显得格外漂亮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假如你是一只会说话的小松鼠，你准备怎样向别人介绍自己呢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2997360"/>
            <a:ext cx="914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我是一只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小松鼠，我有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2bdcc658d4871c082934f0a2"/>
          <p:cNvPicPr/>
          <p:nvPr/>
        </p:nvPicPr>
        <p:blipFill>
          <a:blip r:embed="rId2"/>
          <a:stretch/>
        </p:blipFill>
        <p:spPr>
          <a:xfrm>
            <a:off x="0" y="4341960"/>
            <a:ext cx="40672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想想课文在表达上与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《</a:t>
            </a: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鲸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》</a:t>
            </a: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有什么相同与不同？</a:t>
            </a:r>
            <a:br>
              <a:rPr sz="30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628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明的角度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侧重于介绍鲸的形体特点和生活习性，而本文侧重于介绍松鼠的外貌、性格和行动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表达的方法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运用了列数字、举例子、打比方、作比较、分类别等说明方法，而本文主要是采用比喻、拟人手法生动形象地说明事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语言风格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上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的语言精炼平实，而本文的语言生动传神，极具文学色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5280" y="1052640"/>
            <a:ext cx="8569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两篇课文都介绍了动物的外形和生活习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篇课文都是条理地按顺序叙述的，语言都很简练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2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1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