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541-3563-43C5-8EA0-0C38855A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076-BC7F-4841-9362-A6B871CA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7436E-0AB9-47AD-AFE6-2DA56D1B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638BB-1FAE-449B-9517-1634603D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23154-A2E3-492A-A298-5EA74F42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B7ADE-AD5C-4F6A-BAB4-D05F8E8E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D8679-0022-45BD-83E6-A45F29E6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160B0-1AED-47D1-9503-B787FB46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63CA8-7326-4CA6-811F-340A5996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7AC55-2F52-4069-8513-292B3FFA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1C650-0646-4825-9E17-D491F4A5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93805-88F7-40EE-8C48-54582532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FB1-ABE6-4F20-BF6E-44F52430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133DE-EA53-4790-A447-2A9D8AED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553E9-4300-4335-A4DC-8B5BE444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6A4A6-D658-4E2C-A390-E78A93C6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23924-382B-4433-963E-D45AE069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DE11C-8219-4577-BCB5-ACF896C8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6607E-B947-4289-B5EA-DF190601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07CCB-47ED-4A3D-9691-613D5B4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CB5B9-9FCF-47A4-894A-88912CED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3EDE1-E110-4606-8B4D-C6BC9E37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512DD-682D-4561-979F-2D2083FC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77D-6892-489A-9C37-0E6BE9E1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16D85-4CEF-4399-A167-AD32AC67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04B49-6153-49FA-AC5D-6EE189F0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5765B-D7D8-4C0F-9C0C-B449B80E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A6E4E-9C0B-4978-889E-2F8D60B5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E4EEF-185C-4C62-B6F6-13B189D8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D1B21-1C2D-40CC-8434-DA6541BD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283AA-3E66-4CFF-BE9E-78DC37EE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48E3A-E224-4AF3-9F2A-42ED0724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20084-2EFA-4B77-A317-977B8A7D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5024B-3DAF-4CA3-960B-48E037E1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1A89-148C-48C3-AEA6-CD925126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EDB14-C26F-46AA-ABF5-A5E28587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BACC5-90B1-4437-824B-8DDB4965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9E00F-D270-412C-A60B-31EA1BF4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88B29-F2CC-4A67-830C-67A3751C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28BA0-4FD4-46C4-BBED-8B0209DC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743B4-C79B-472A-9FD8-ADEADBAB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70645-C4E4-4BBF-9A6A-43678CE7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A2DB5-056A-45B6-9E02-52328BDB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9DE83-2BBB-4E15-99C7-D2A4D45C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9A685-40A1-4D83-8CB6-ECD08A9E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5CB1-BB91-4BD3-855B-28BFB7CB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4A5E8-CB9F-46A5-8A45-D63F07F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EE41C-3A45-49C4-9F34-921BCD67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7CE2C-A932-488F-8210-33CA252C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C3879-B606-4D72-ACA4-A7F12F1D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309D8-948C-4F84-B943-324424DF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FA90D-1C86-485D-B346-E79EE46E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C5BAE-1D0B-4C81-9D17-7FC0482A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BF226-7F50-4A74-B2F7-5E42C0B3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BDA7A-97BD-4370-8BB4-4F59B3F5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11A3A-AF8A-4B46-BD8E-EA39FB26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6856-4D70-4A29-B736-761EAFFF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5BF94-2192-4BFF-894C-4400C7C3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EEC3F-3527-41B2-B67E-569913AB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BC16F-7AC7-4AE2-B429-A0DF015A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BD773-2AD0-4780-8180-F46CFFD6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E50BF-3AF8-48A3-9369-BC3C50F4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148CD-71F5-4177-808F-DB4239BE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70B83-CB59-4CB3-AF56-AAA2C13B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20CA-32C3-4486-BBF6-DC4E3410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08F3-E49B-45D1-9A7A-F58D5F20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7ADD-FB81-4381-9233-81081396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5777-CF01-45CE-95C9-3ABB358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5CD-088F-448F-A215-89B23452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9BE0-0CF3-4BEC-BFFF-5BC32350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33AE-CBA3-4258-92B2-DFD3262D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8FB2-301B-4368-A611-C0147096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4C6C-213E-433E-8B68-0F6C044A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5F2B-069B-422B-868B-DEE22406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9B0A-438D-4277-9F05-D5DFC1B3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023B-BC58-4BB3-BC87-FFC802FC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7032-EE40-4F69-B78C-849A7275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8939C-51B9-43DE-8FD3-F1AF6AD0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52FE-58F3-4BD9-BCA1-750AFD26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C75-9C69-4025-A9C9-C59DA9C3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0A74-7628-4BFA-B1DA-D41D6FCE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64518-7D03-4065-BC7A-B67F7FCF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77655-755D-4A90-8EF0-22EDB748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0607-3AA5-418E-B8E7-AA54ECCE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070C-90A2-479A-BCBA-38A0451D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1B6FF-7645-40B4-8CD6-3FE456A9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672B-2B3F-425F-A3B4-314292A4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095F6-7DC7-4C1F-BF98-A1AD5287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6463D-B267-4EA9-B24C-C137A98F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A1108-962D-4877-A1E0-30E91376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1F1-2DC9-4C1E-9101-F53B9DEC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7BFBC-4FA4-4C52-A7A9-5F8D6CD5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E4F2C-BED0-4D78-A20B-5627CC8B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3F80E-AC7F-496F-B051-1466E3E7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3DAA1-B51B-4AAA-8AC0-F3BB88C5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65BCF-94BC-4AAD-A0D4-F62ECB4B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98D28-8A61-4A1B-AA1A-9625E858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AC6D-B119-4B25-A646-D685B475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279AB-A2D1-4535-83F5-26F89208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35BCA-B7B3-46B5-AD03-CD4FB6F7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399E0-95EE-4693-90CF-46A8AFD9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64E-C7AB-4FFF-80A5-CB6E064F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EA4F-C026-4AD7-A32C-D0173152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2AE92-017A-4F55-85CB-17BE817B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D81E-6320-4933-823C-859D790E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1EC6C-2E4C-44B9-BD83-2E08A6FB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8788A-C18D-4BFE-8406-479A31E1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CBBCE-59D4-442E-9F3F-17E94B89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C06B8-8AD9-4B3D-A834-890CA67F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28941-2CA5-43D0-9AC4-13398BAF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A1167-88D2-4C51-8B8C-986D77FE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557BF-8A8D-4258-8E98-01C3221A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A1F-2CA4-4D4F-BE6E-B61E7161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0CC5E-F642-48C1-986A-AA70A4C7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2A843-1F84-4636-88CF-ECE3ACC4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04A63-7E91-4320-803B-9445916E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CE471-CA5F-4BC4-BBFC-84D84984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B7891-67DA-4288-BAC2-82BFF90D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E858F-D5BC-4890-B687-3C98A2E8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F28A6-235A-4E9D-9646-B12765E7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FED12-BDFF-4E64-913D-9F56A9B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26C21-AB16-4D7F-B60F-58F2514E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91CBB-74EA-4458-8D17-CACAD300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6DA-FBD8-41AD-AE93-D06E1469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6FED5-F324-497E-942D-E75B4A88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2533C-9B44-4DAE-AE95-B4749FCF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CAFAE-4F75-43DF-BB3A-E01E8236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DB20C-2C59-46E1-8C07-0B4201B6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9E889-DF49-420C-A4BB-BD5EE752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D4BED-E0EA-4C20-84D4-CE8D85F4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9ADFE-7F78-444B-9FDB-0E90E888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8FF78-0963-4FB2-8B31-DDA09030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B6DE1-88EB-4864-867C-26A78473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9ABB8-A3AD-4A20-B73D-6EE16CA9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D56-A76B-4199-B96E-298E5788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19D89-8FBC-47DC-87FB-D88785D5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A902E-F896-48F9-B247-81A237DD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596D6-79DC-439F-A820-88B0AF1A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2F0AC-63C8-4EB7-8E94-E366312F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65CBF-EAA0-42B6-9571-867FACC6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D2769-7BD8-423E-9389-075AEA7E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8F70F-CB34-4A38-8999-C771AD66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732CE-CDE1-4096-A741-C7507055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98A00-944C-45FB-B060-52094A0C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DDD9E-FB75-4662-A101-0E184943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BD6-B184-441A-A5EB-5CFD0578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91BA1-E80A-42E9-A980-1FEF5510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1F890-2B9C-44D6-9D85-4FC5EBBA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2AEF4-325B-45BA-B0C3-13D585F2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0D0B1-29ED-4A7F-AC5E-A69345D3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B7CD1-5BE4-4164-9693-7F7F6B6D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8761C-BED3-4539-906F-4F8BBFDB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16A46-7844-4CBC-8C6F-C79160C0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2F42D-4E93-409B-A8C0-C1A0C90E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E2928-5588-4F6F-B7CD-19C73B80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A5A4F-F26C-4DE8-AB03-C3698A10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57D05-1832-40D6-92C0-5F10BE944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E6F5E-F60D-4E9B-8A39-E1C804CC20F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D0057-D038-477F-A5F9-637BFA26447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6DF9D-194C-4BE5-B905-80C4593C33F1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ACC1E-DC21-49BB-90D0-2B28A5048DC0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9B554AE-3938-4E40-B839-41901CB4256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C81FF-33D1-4A34-A075-F1561D2AE20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2B5B3-7B9F-4439-A03F-BC5D597B530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84C84-CC80-4CF1-B45D-33BF244063E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98638-D251-433A-8E57-0940F5F5A0E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5462D-97BF-467D-9F93-F3627CE8C98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6546E-24C9-4042-926D-36D214D3A33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76600-5345-4E48-B13D-3DE76074B48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3" descr="未标题-1.png"/>
          <p:cNvPicPr/>
          <p:nvPr/>
        </p:nvPicPr>
        <p:blipFill>
          <a:blip r:embed="rId2"/>
          <a:stretch/>
        </p:blipFill>
        <p:spPr>
          <a:xfrm>
            <a:off x="2070000" y="361800"/>
            <a:ext cx="7061400" cy="354348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14" descr="未标题-2.png"/>
          <p:cNvPicPr/>
          <p:nvPr/>
        </p:nvPicPr>
        <p:blipFill>
          <a:blip r:embed="rId3"/>
          <a:stretch/>
        </p:blipFill>
        <p:spPr>
          <a:xfrm>
            <a:off x="304920" y="1440"/>
            <a:ext cx="2043000" cy="272124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15" descr="未标题-4.png"/>
          <p:cNvPicPr/>
          <p:nvPr/>
        </p:nvPicPr>
        <p:blipFill>
          <a:blip r:embed="rId4"/>
          <a:stretch/>
        </p:blipFill>
        <p:spPr>
          <a:xfrm>
            <a:off x="0" y="1762200"/>
            <a:ext cx="3352680" cy="3344760"/>
          </a:xfrm>
          <a:prstGeom prst="rect">
            <a:avLst/>
          </a:prstGeom>
          <a:ln w="0">
            <a:noFill/>
          </a:ln>
        </p:spPr>
      </p:pic>
      <p:sp>
        <p:nvSpPr>
          <p:cNvPr id="536" name="矩形 16"/>
          <p:cNvSpPr/>
          <p:nvPr/>
        </p:nvSpPr>
        <p:spPr>
          <a:xfrm>
            <a:off x="609480" y="-19080"/>
            <a:ext cx="106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殊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7" descr="未标题-3.png"/>
          <p:cNvPicPr/>
          <p:nvPr/>
        </p:nvPicPr>
        <p:blipFill>
          <a:blip r:embed="rId5"/>
          <a:stretch/>
        </p:blipFill>
        <p:spPr>
          <a:xfrm>
            <a:off x="1289160" y="1504800"/>
            <a:ext cx="1073160" cy="1078200"/>
          </a:xfrm>
          <a:prstGeom prst="rect">
            <a:avLst/>
          </a:prstGeom>
          <a:ln w="0">
            <a:noFill/>
          </a:ln>
        </p:spPr>
      </p:pic>
      <p:sp>
        <p:nvSpPr>
          <p:cNvPr id="538" name="矩形 1"/>
          <p:cNvSpPr/>
          <p:nvPr/>
        </p:nvSpPr>
        <p:spPr>
          <a:xfrm>
            <a:off x="3031920" y="638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殊途完整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7"/>
          <p:cNvSpPr/>
          <p:nvPr/>
        </p:nvSpPr>
        <p:spPr>
          <a:xfrm>
            <a:off x="329400" y="47689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4" descr="未标题-2.png"/>
          <p:cNvPicPr/>
          <p:nvPr/>
        </p:nvPicPr>
        <p:blipFill>
          <a:blip r:embed="rId2"/>
          <a:stretch/>
        </p:blipFill>
        <p:spPr>
          <a:xfrm>
            <a:off x="304920" y="1440"/>
            <a:ext cx="2043000" cy="27212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5" descr="未标题-5.png"/>
          <p:cNvPicPr/>
          <p:nvPr/>
        </p:nvPicPr>
        <p:blipFill>
          <a:blip r:embed="rId3"/>
          <a:stretch/>
        </p:blipFill>
        <p:spPr>
          <a:xfrm>
            <a:off x="6477120" y="229860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42" name="矩形 6"/>
          <p:cNvSpPr/>
          <p:nvPr/>
        </p:nvSpPr>
        <p:spPr>
          <a:xfrm>
            <a:off x="1143000" y="-190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叶落作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图片 7" descr="未标题-3.png"/>
          <p:cNvPicPr/>
          <p:nvPr/>
        </p:nvPicPr>
        <p:blipFill>
          <a:blip r:embed="rId4"/>
          <a:stretch/>
        </p:blipFill>
        <p:spPr>
          <a:xfrm>
            <a:off x="525600" y="1657440"/>
            <a:ext cx="846000" cy="8492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6"/>
          <p:cNvSpPr/>
          <p:nvPr/>
        </p:nvSpPr>
        <p:spPr>
          <a:xfrm>
            <a:off x="762120" y="48387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04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