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5E1-1480-49EB-981C-F6102823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8EE-4FE8-4CB2-A524-7D6E610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4EB-F18A-4A4F-8C9A-C79375B8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422-7FB9-4E49-8D75-DA42A1BD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975E-DC13-4C8B-8207-F4CB18AC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EF50-529B-4D5E-960C-7EDFB1A7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A00-8583-4F27-AA57-EC7E67C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94A6-6119-4599-A500-3A62BE95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0039-E3F9-4EF2-B1B3-758F4ED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A71-6A9F-4E52-B3B7-D8484951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BF31-4A57-4523-B069-DCB5B33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374-C3DB-432B-B9F7-06070EB5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4495-3357-4191-AB65-5E5CDC16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E66B-57F4-47FD-B2F1-7E9DF80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067B-07A5-4EF4-A479-D8584AF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6B22-DCCF-497B-8C37-B65E34FA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C31-E88D-4418-B77A-1E86DF84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7E5-AB7C-4617-A599-EFB23C2D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B6E-A1A2-4C0E-9D0F-EA24B34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762-CDD2-47BE-B7B3-493131FD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9CF-D424-4DB3-B0FA-D817C93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DD7-DD1E-42FD-97B7-D572EF5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89F-35AC-4D38-8A92-FACB2F5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00E-2F73-4F23-829D-96FD3C0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952E-6F1A-44C1-B991-09DBAC10B8C8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69A-DBAB-4404-A1A3-07CBBA363F79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569880" y="1773360"/>
            <a:ext cx="97567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物基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在线下载</a:t>
            </a:r>
            <a:endParaRPr b="0" lang="en-US" sz="40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5445000"/>
            <a:ext cx="93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授课人：翟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老师：李新 刘冰妍 林金昌 陈丽芳 何云霞 肖义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050920" y="63104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洋葱内表皮细胞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×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QQ图片20141019124904_副本"/>
          <p:cNvPicPr/>
          <p:nvPr/>
        </p:nvPicPr>
        <p:blipFill>
          <a:blip r:embed="rId1"/>
          <a:stretch/>
        </p:blipFill>
        <p:spPr>
          <a:xfrm>
            <a:off x="1763640" y="981000"/>
            <a:ext cx="5761080" cy="5349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G_1852_副本"/>
          <p:cNvPicPr/>
          <p:nvPr/>
        </p:nvPicPr>
        <p:blipFill>
          <a:blip r:embed="rId1"/>
          <a:stretch/>
        </p:blipFill>
        <p:spPr>
          <a:xfrm>
            <a:off x="900000" y="927000"/>
            <a:ext cx="7201080" cy="53769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556000" y="63039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洋葱内表皮细胞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×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684e"/>
                </a:solidFill>
                <a:latin typeface="Verdana"/>
                <a:ea typeface="宋体"/>
              </a:rPr>
              <a:t>使用规范说明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56000" y="2421000"/>
            <a:ext cx="54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3300"/>
                </a:solidFill>
                <a:latin typeface="华文行楷"/>
                <a:ea typeface="华文行楷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940040" y="64072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G_2017_副本"/>
          <p:cNvPicPr/>
          <p:nvPr/>
        </p:nvPicPr>
        <p:blipFill>
          <a:blip r:embed="rId1"/>
          <a:stretch/>
        </p:blipFill>
        <p:spPr>
          <a:xfrm>
            <a:off x="324000" y="333360"/>
            <a:ext cx="8597880" cy="12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MG_2019_副本"/>
          <p:cNvPicPr/>
          <p:nvPr/>
        </p:nvPicPr>
        <p:blipFill>
          <a:blip r:embed="rId2"/>
          <a:stretch/>
        </p:blipFill>
        <p:spPr>
          <a:xfrm>
            <a:off x="324000" y="1844640"/>
            <a:ext cx="853272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IMG_2021_副本"/>
          <p:cNvPicPr/>
          <p:nvPr/>
        </p:nvPicPr>
        <p:blipFill>
          <a:blip r:embed="rId3"/>
          <a:stretch/>
        </p:blipFill>
        <p:spPr>
          <a:xfrm>
            <a:off x="611280" y="3213000"/>
            <a:ext cx="761976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IMG_2022_副本"/>
          <p:cNvPicPr/>
          <p:nvPr/>
        </p:nvPicPr>
        <p:blipFill>
          <a:blip r:embed="rId4"/>
          <a:stretch/>
        </p:blipFill>
        <p:spPr>
          <a:xfrm>
            <a:off x="1019160" y="4395960"/>
            <a:ext cx="7620120" cy="100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MG_2025_副本"/>
          <p:cNvPicPr/>
          <p:nvPr/>
        </p:nvPicPr>
        <p:blipFill>
          <a:blip r:embed="rId5"/>
          <a:stretch/>
        </p:blipFill>
        <p:spPr>
          <a:xfrm>
            <a:off x="108000" y="5654520"/>
            <a:ext cx="88138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49120" y="12682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1017720" y="1854360"/>
            <a:ext cx="701028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49120" y="3421080"/>
            <a:ext cx="576360" cy="57636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50920" y="5229360"/>
            <a:ext cx="57600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017720" y="5805360"/>
            <a:ext cx="692784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26920" y="1268280"/>
            <a:ext cx="7245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洋葱外表皮细胞置于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不同浓度的蔗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溶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可以比较蔗糖溶液的浓度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吗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017720" y="2579760"/>
            <a:ext cx="701028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969840" y="4149720"/>
            <a:ext cx="7010640" cy="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969840" y="4797360"/>
            <a:ext cx="7010640" cy="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224080" y="3494160"/>
            <a:ext cx="4325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洋葱外表皮细胞置于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同一浓度的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外界溶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细胞会发生质壁分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017720" y="5226120"/>
            <a:ext cx="72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究植物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细胞壁是否具有全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969840" y="3213000"/>
            <a:ext cx="701064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059280" y="34128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提出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059280" y="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设计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0920" y="1052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实验材料和试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844640"/>
          <a:ext cx="8229600" cy="4249800"/>
        </p:xfrm>
        <a:graphic>
          <a:graphicData uri="http://schemas.openxmlformats.org/drawingml/2006/table">
            <a:tbl>
              <a:tblPr/>
              <a:tblGrid>
                <a:gridCol w="1666800"/>
                <a:gridCol w="2232000"/>
                <a:gridCol w="43308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实验材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实验试剂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"/>
          <p:cNvSpPr/>
          <p:nvPr/>
        </p:nvSpPr>
        <p:spPr>
          <a:xfrm>
            <a:off x="1943280" y="286704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洋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表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5141160" y="2867040"/>
            <a:ext cx="272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种浓度蔗糖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908000" y="39337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洋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表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4610160" y="400536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g/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蔗糖溶液、葡萄糖溶液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ac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1908000" y="501336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洋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内表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4356000" y="502776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红墨水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3g/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蔗糖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620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实验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700280"/>
          <a:ext cx="8229600" cy="41767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7"/>
          <p:cNvSpPr/>
          <p:nvPr/>
        </p:nvSpPr>
        <p:spPr>
          <a:xfrm>
            <a:off x="1979640" y="187812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洋葱外表皮细胞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质壁分离及复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互讨论比较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种溶液浓度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979640" y="328464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洋葱外表皮细胞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质壁分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相互讨论并且尝试解释实验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979640" y="4437000"/>
            <a:ext cx="67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先让洋葱内表皮细胞发生质壁分离，再滴红墨水进行引流 ，观察红墨水是否出现在</a:t>
            </a:r>
            <a:r>
              <a:rPr b="1" lang="zh-CN" sz="2800" spc="-1" strike="noStrike">
                <a:solidFill>
                  <a:srgbClr val="fd3a2b"/>
                </a:solidFill>
                <a:latin typeface="Arial"/>
                <a:ea typeface="宋体"/>
              </a:rPr>
              <a:t>原生质层与细胞壁间隙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8000" y="1341360"/>
          <a:ext cx="8964720" cy="5362560"/>
        </p:xfrm>
        <a:graphic>
          <a:graphicData uri="http://schemas.openxmlformats.org/drawingml/2006/table">
            <a:tbl>
              <a:tblPr/>
              <a:tblGrid>
                <a:gridCol w="3240000"/>
                <a:gridCol w="2303640"/>
                <a:gridCol w="3421080"/>
              </a:tblGrid>
              <a:tr h="53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~3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将洋葱外表皮细胞置于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同一浓度的不同外界溶液中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细胞会发生质壁分离吗？</a:t>
                      </a: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~5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植物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细胞壁是否具有全透性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~8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将洋葱外表皮细胞置于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不同浓度的蔗糖溶液中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可以比较蔗糖溶液的浓度大小吗？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6f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Freeform 16"/>
          <p:cNvSpPr/>
          <p:nvPr/>
        </p:nvSpPr>
        <p:spPr>
          <a:xfrm>
            <a:off x="3419640" y="693720"/>
            <a:ext cx="2232000" cy="6476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315" h="227">
                <a:moveTo>
                  <a:pt x="0" y="0"/>
                </a:moveTo>
                <a:lnTo>
                  <a:pt x="227" y="227"/>
                </a:lnTo>
                <a:lnTo>
                  <a:pt x="1089" y="227"/>
                </a:lnTo>
                <a:lnTo>
                  <a:pt x="1315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76720" y="691920"/>
            <a:ext cx="223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684e"/>
                </a:solidFill>
                <a:latin typeface="Verdana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讲台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0" y="-79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进行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浓度_副本"/>
          <p:cNvPicPr/>
          <p:nvPr/>
        </p:nvPicPr>
        <p:blipFill>
          <a:blip r:embed="rId1"/>
          <a:stretch/>
        </p:blipFill>
        <p:spPr>
          <a:xfrm>
            <a:off x="0" y="1916280"/>
            <a:ext cx="2774880" cy="38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b浓度_副本_副本"/>
          <p:cNvPicPr/>
          <p:nvPr/>
        </p:nvPicPr>
        <p:blipFill>
          <a:blip r:embed="rId2"/>
          <a:stretch/>
        </p:blipFill>
        <p:spPr>
          <a:xfrm>
            <a:off x="2916360" y="1916280"/>
            <a:ext cx="2914560" cy="381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浓度_副本"/>
          <p:cNvPicPr/>
          <p:nvPr/>
        </p:nvPicPr>
        <p:blipFill>
          <a:blip r:embed="rId3"/>
          <a:stretch/>
        </p:blipFill>
        <p:spPr>
          <a:xfrm>
            <a:off x="6084720" y="1916280"/>
            <a:ext cx="2899080" cy="3811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79280" y="57276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            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      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16000" y="1125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三种浓度下质壁分离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76720" y="36360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b复原2_副本"/>
          <p:cNvPicPr/>
          <p:nvPr/>
        </p:nvPicPr>
        <p:blipFill>
          <a:blip r:embed="rId1"/>
          <a:stretch/>
        </p:blipFill>
        <p:spPr>
          <a:xfrm>
            <a:off x="900000" y="1341360"/>
            <a:ext cx="3183120" cy="417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复原_副本"/>
          <p:cNvPicPr/>
          <p:nvPr/>
        </p:nvPicPr>
        <p:blipFill>
          <a:blip r:embed="rId2"/>
          <a:stretch/>
        </p:blipFill>
        <p:spPr>
          <a:xfrm>
            <a:off x="4788000" y="1341360"/>
            <a:ext cx="3389040" cy="4175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116000" y="5475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两种浓度下质壁分离复原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981080" y="5516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                   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203640" y="59500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 &gt; B &gt;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5586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0.1g/ml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蔗糖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0.1g/ml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葡萄糖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0.1g/ml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50920" y="765000"/>
            <a:ext cx="90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同浓度的三种不同溶液下质壁分离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QQ图片20141019125952_副本"/>
          <p:cNvPicPr/>
          <p:nvPr/>
        </p:nvPicPr>
        <p:blipFill>
          <a:blip r:embed="rId1"/>
          <a:stretch/>
        </p:blipFill>
        <p:spPr>
          <a:xfrm>
            <a:off x="3132000" y="1557360"/>
            <a:ext cx="2946600" cy="4040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QQ图片20141019131600_副本"/>
          <p:cNvPicPr/>
          <p:nvPr/>
        </p:nvPicPr>
        <p:blipFill>
          <a:blip r:embed="rId2"/>
          <a:stretch/>
        </p:blipFill>
        <p:spPr>
          <a:xfrm>
            <a:off x="6278400" y="1554120"/>
            <a:ext cx="2865600" cy="403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QQ图片20141019130416_副本_副本"/>
          <p:cNvPicPr/>
          <p:nvPr/>
        </p:nvPicPr>
        <p:blipFill>
          <a:blip r:embed="rId3"/>
          <a:stretch/>
        </p:blipFill>
        <p:spPr>
          <a:xfrm>
            <a:off x="0" y="1554120"/>
            <a:ext cx="2916360" cy="4032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3276720" y="0"/>
            <a:ext cx="26143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37:54Z</dcterms:created>
  <dc:creator/>
  <dc:description>三联素材-www.3lian.com</dc:description>
  <cp:keywords/>
  <dc:language>en-US</dc:language>
  <cp:lastModifiedBy>a</cp:lastModifiedBy>
  <dcterms:modified xsi:type="dcterms:W3CDTF">2015-07-21T02:01:36Z</dcterms:modified>
  <cp:revision>9</cp:revision>
  <dc:subject/>
  <dc:title>三联素材-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103626432052</vt:lpwstr>
  </property>
</Properties>
</file>