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30D-BB1B-494A-94A7-051F5843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65-137F-4C05-9F7B-BC42AD7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641-EAE3-47CB-BBE9-C0869EA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883-F19A-4382-9E8D-1AA29DF7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B7F6-6F1B-4B64-B164-CF1178C9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632-7184-4A4B-B258-C4B9FC49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0E8-46C6-4408-8F2E-2757230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D6D3-ADF7-47D5-8407-4E621C3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925-DA54-4F7D-8415-3DCB7BD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F94D-F5F3-4AE7-B0D8-75F5FA7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E45-AA8A-4D81-8FB4-6E8B3648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A65-DDC4-4006-B7A1-2C1EEE17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97D-800B-43E8-8ABE-B73521A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E08-C74A-4DF2-A889-B0CE6F3A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5AB1-BE44-462E-8073-6C3E9C3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F27-2F8F-4F29-8206-43FDB89A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FC3-718B-426E-A1A9-B30B5854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559-3A8D-4999-A101-1C160E5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A41-9A40-4D0C-AAEF-B141E0A9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6A1-9AB9-46EB-88D1-AA42506F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E44-9485-4547-BACA-03EAA83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C35-E4CD-4901-AB6F-5664541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442-161D-498C-A9B9-74FA5E0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30-B1A2-41C6-B9C6-A4FF4DC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EB4-B9DF-433D-8BD8-22A6BEB7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5F28-ABF8-4133-A459-562122E71E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openg.com/kejijie/paint/page_01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kyz.net/yuwen/book2/e_fang/sucai/e_fangsc5.htm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intcn.net/13-ldmj/6-jxd/jxd-34-fb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aol.com/gb/tour/fj/wy_tour/landscape/03/ls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www.bgy.gd.cn/wenbo/&#23665;&#34892;.jpg&amp;f=http://www.bgy.gd.cn/wenbo/71.htm&amp;c=baidu" TargetMode="External"/><Relationship Id="rId2" Type="http://schemas.openxmlformats.org/officeDocument/2006/relationships/hyperlink" Target="http://image.baidu.com/ir?u=http://www.bgy.gd.cn/wenbo/&#23665;&#34892;.jpg&amp;f=http://www.bgy.gd.cn/wenbo/71.htm&amp;c=baidu" TargetMode="External"/><Relationship Id="rId3" Type="http://schemas.openxmlformats.org/officeDocument/2006/relationships/hyperlink" Target="http://image.baidu.com/ir?u=http://www.bgy.gd.cn/wenbo/&#23665;&#34892;.jpg&amp;f=http://www.bgy.gd.cn/wenbo/71.htm&amp;c=baidu" TargetMode="External"/><Relationship Id="rId4" Type="http://schemas.openxmlformats.org/officeDocument/2006/relationships/hyperlink" Target="http://image.baidu.com/ir?u=http://www.bgy.gd.cn/wenbo/&#23665;&#34892;.jpg&amp;f=http://www.bgy.gd.cn/wenbo/71.htm&amp;c=baidu" TargetMode="External"/><Relationship Id="rId5" Type="http://schemas.openxmlformats.org/officeDocument/2006/relationships/hyperlink" Target="http://image.baidu.com/ir?u=http://www.bgy.gd.cn/wenbo/&#23665;&#34892;.jpg&amp;f=http://www.bgy.gd.cn/wenbo/71.htm&amp;c=baidu" TargetMode="External"/><Relationship Id="rId6" Type="http://schemas.openxmlformats.org/officeDocument/2006/relationships/hyperlink" Target="http://yyxxedu.com/webs/yuanyizhichuang/kecheng/yuanyigushi/060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.baidu.com/ir?u=http://www.bgy.gd.cn/wenbo/&#23665;&#34892;.jpg&amp;f=http://www.bgy.gd.cn/wenbo/71.htm&amp;c=baidu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rii.cocolog-nifty.com/kiroku/cat296158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55yangkaiyu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山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简 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是一首优美的写景诗 。诗中描绘了深秋季节山行时所 见 到 的 枫 林 晚 景 。 写 秋 景 的 诗 历 来 悲 凉 ， 可 是 ， 诗 人 笔 下 的 秋 景 却 充 满 了 生 机 ， 真 可 谓 是 秋 天 里 的 春 天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头 两 句 描 绘 了 秋 山 远 景 。 第 一 句 描 写 了 秋 山 高 远 的 景 象 ， 表 现 了 诗 人 勇 于 攀 登 的 精 神 。 第 二 句 描 写 了 秋 山 中 的 一 个 特 定 场 景 ， 在 白 云 浮 动 的 天 空 下 山 窝 窝 里 有 几 户 人 家 隐 约 可 见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 两 句 描 绘 了 秋 山 近 景 。 “ 霜 叶 红 于 二 月 花 ” 一 句 ，   生 机 勃 勃 ， 鲜 艳 夺 目 ， 清 新 刚 劲 ， 形 象 鲜 明 ， 给 人 一 种 秋 光 胜 似 春 光 的 美 感 。 这 句 诗 成 为 千 百 年 来 人 们 广 为 传 诵 的 名 句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 首 诗 写 了 诗 人 登 山 的 活 动 ， 写 了 诗 人 登 山 时 看 到 的 美 景 ， 表 现 了 诗 人 登 山 时 的 思 想 感 情 。 写 人 、 写 景 、 写 情 ， 三 者 紧 密 结 合 ， 又 以 写 景 为 主 ， 这 就 是 本 诗 的 独 到 之 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4165560" y="32004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山 行 （动 画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x%5b1%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79246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山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远 上 寒 山 石 径 斜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白 云 生 处 有 人 家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停 车 坐 爱 枫 林 晚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霜 叶 红 于 二 月 花 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4_01862.WAV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6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远 上 寒 山 石 径 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4-fbs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305920" cy="4938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白 云 生 处 有 人 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001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停 车 坐 爱 枫 林 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4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5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p02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512720"/>
            <a:ext cx="82296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早发白帝城"/>
          <p:cNvPicPr/>
          <p:nvPr/>
        </p:nvPicPr>
        <p:blipFill>
          <a:blip r:embed="rId1"/>
          <a:stretch/>
        </p:blipFill>
        <p:spPr>
          <a:xfrm>
            <a:off x="2057400" y="0"/>
            <a:ext cx="5249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霜 叶 红 于 二 月 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C1225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译 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远处高山山间小路曲曲弯弯 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山密林中升腾着缕缕炊烟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停车是因为我爱看枫林晚景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霜的红叶比春花更加鲜艳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1:43Z</dcterms:created>
  <dc:creator/>
  <dc:description/>
  <cp:keywords>幻灯片之家 http:/www.eeppt.com</cp:keywords>
  <dc:language>en-US</dc:language>
  <cp:lastModifiedBy/>
  <dcterms:modified xsi:type="dcterms:W3CDTF">2015-07-20T02:58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