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34E1-B258-487F-B5FB-48E933301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B70F-28F9-4CD0-BAEE-2047A57A1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E3F1-2C2A-4EF7-9371-0780F5938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E58A-76B0-46AA-B4EF-AFE1E131D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1946F-CE13-428B-B194-8920FAC9F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E364B-541B-4A13-9072-4B5377A97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6EFEE-E38A-4294-A217-C17251661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F49FB-E20B-45DD-ACB5-9023AA4DD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5E9D2-8B17-41AB-B009-E5049554E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49DDE-E8F4-49A5-ADCB-11D62733A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A41B7-A6AF-433D-A4F1-82D5B029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4F4B-D7A9-4E43-84E2-429F89853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FEEC5-A30B-431D-A49B-503A19CDF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A3C2F-FFB6-476F-93D1-B9249578B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C4C0D-8B96-4580-B3D5-73EEAE06F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1ACCD-70D4-469B-8DE9-EA1255A37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91132-128E-45EB-ABF5-E6D25283A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3BB77-D3DC-48C7-B8C4-BFECE7305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0E25-A69C-4AB3-B4E2-23CF3123C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FF3D-0319-4F43-98B2-AD8584CEB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E9922-EC8E-42FE-9168-6E92A2AEA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908AF-AB22-48E0-A09E-63AE7F79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AFAC-23B7-4CEF-AB0B-04644231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C14B-B638-45DE-9096-93CBD4288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2A515-FCA1-4966-A593-07DA96075229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ECD01-6BC2-4547-881E-AAF7A95924EB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95A82-6B4E-460A-B022-E022DD26077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矩形 14"/>
          <p:cNvSpPr/>
          <p:nvPr/>
        </p:nvSpPr>
        <p:spPr>
          <a:xfrm>
            <a:off x="155520" y="663480"/>
            <a:ext cx="8809200" cy="600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36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34920" y="907920"/>
            <a:ext cx="9001080" cy="9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团队协作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</a:t>
            </a:r>
            <a:r>
              <a:rPr b="1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素材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图片 5" descr="3484168_140234208666_2.jpg"/>
          <p:cNvPicPr/>
          <p:nvPr/>
        </p:nvPicPr>
        <p:blipFill>
          <a:blip r:embed="rId2"/>
          <a:stretch/>
        </p:blipFill>
        <p:spPr>
          <a:xfrm>
            <a:off x="1460520" y="1838160"/>
            <a:ext cx="6486480" cy="398808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sp>
        <p:nvSpPr>
          <p:cNvPr id="86" name=""/>
          <p:cNvSpPr/>
          <p:nvPr/>
        </p:nvSpPr>
        <p:spPr>
          <a:xfrm>
            <a:off x="108000" y="63817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F8F71-D5BB-44D3-9DED-AE453BC0380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1T05:37:0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1:45:25Z</dcterms:modified>
  <cp:revision>869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Presentation">
    <vt:lpwstr>锐普图表</vt:lpwstr>
  </property>
</Properties>
</file>