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39603-442A-4E67-B746-427D855B3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9C7A-0E1C-4979-AAAA-50803F68B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897F6-4108-4053-849B-1FF5B11F1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26327-2638-4271-9687-1C4DC7A58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4B281-3085-4BA8-B520-295B5A05A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7818-7782-446E-827D-BEE38C83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74D1-6714-49A2-878D-97B13321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D167-EFA8-4793-BAE6-F4D55542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0D9D-168D-45E2-B5BB-35C28DE50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57DC-9CA4-4227-B80B-D9056FA4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0036-381C-47E1-A177-864B9C4E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2D4C-C63C-46B1-B3CD-1FC078BDD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2E4C-BBAA-4015-BF2D-9CCD64A92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dongtai/"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4360" y="623736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2" name=""/>
          <p:cNvSpPr/>
          <p:nvPr/>
        </p:nvSpPr>
        <p:spPr>
          <a:xfrm>
            <a:off x="4834440" y="2494080"/>
            <a:ext cx="36234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Arial"/>
              </a:rPr>
              <a:t>桃花动态</a:t>
            </a:r>
            <a:r>
              <a:rPr b="0" lang="zh-CN" sz="4500" spc="-1" strike="noStrike">
                <a:solidFill>
                  <a:srgbClr val="000000"/>
                </a:solidFill>
                <a:latin typeface="Arial"/>
              </a:rPr>
              <a:t>PPT</a:t>
            </a:r>
            <a:r>
              <a:rPr b="0" lang="zh-CN" sz="4500" spc="-1" strike="noStrike">
                <a:solidFill>
                  <a:srgbClr val="000000"/>
                </a:solidFill>
                <a:latin typeface="Arial"/>
              </a:rPr>
              <a:t>模板</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44" name="Text Box 5"/>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EF6D745-7539-4F5D-ABE0-75A2EDA5C4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117520" y="1159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49" name="Text Box 5"/>
          <p:cNvSpPr/>
          <p:nvPr/>
        </p:nvSpPr>
        <p:spPr>
          <a:xfrm>
            <a:off x="324000" y="1141560"/>
            <a:ext cx="885636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p:nvPr/>
        </p:nvSpPr>
        <p:spPr>
          <a:xfrm>
            <a:off x="468360" y="5877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07:08:41Z</dcterms:created>
  <dc:creator>幻灯片之家 http://www.eeppt.com</dc:creator>
  <dc:description/>
  <cp:keywords>幻灯片之家 http:/www.eeppt.com</cp:keywords>
  <dc:language>en-US</dc:language>
  <cp:lastModifiedBy/>
  <dcterms:modified xsi:type="dcterms:W3CDTF">2015-07-17T01:11:19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5206000000000001024140</vt:lpwstr>
  </property>
</Properties>
</file>