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8AC-4C7A-4B45-B796-883E4E67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1AC-49B9-424B-87BE-486DCF8B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E54-8986-4F47-91EE-ADF5DC64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6BF-BBAC-4C65-B791-1FA5F1F9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E419-2CA6-4FBC-8825-E8F82786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088A-DC77-4428-8B03-0D3AB6E3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DE2A-4C95-4659-A26F-61D862C6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0D52-BD4A-459F-BC79-E094EA6F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E870-99D9-48CA-AB1E-4E7ADACE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8CDD-49A5-42C6-80F0-6FCB2094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23B8-EEF6-45DD-99C3-CE45BD64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57B-F9A6-46B5-8BDD-B755BA33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ED1E-3B00-4322-B596-E26E8093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0E3F-FF20-463C-85B3-AED8EFC9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1865-1DD3-47BE-A7F9-BD6838A3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1E7C-217B-4A68-97D2-4F79C0FE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9380-048F-4BA6-8231-09C945C6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45C-6BF9-45D7-8434-6CD3E926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06A-88DE-4850-B881-E34C9193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2797-9CFF-43B9-BE4C-66068BF1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3E8C-E748-4744-B082-3229C92B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522-F2E1-419B-8A4E-FEDF9DC8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292D-BDE7-42D6-A786-0165BA19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32F0-DF14-4CAC-8258-BA96322E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5B90-DD5E-41F2-A126-CC95A7718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3D5B-8623-4A34-811A-FFD4DF658C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1908000" y="2205000"/>
            <a:ext cx="13669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新魏"/>
              </a:rPr>
              <a:t>我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3564000" y="2421000"/>
            <a:ext cx="19447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33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新魏"/>
              </a:rPr>
              <a:t>不能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5796000" y="2565360"/>
            <a:ext cx="2160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868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新魏"/>
              </a:rPr>
              <a:t>失信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3261240" y="79200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不能失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306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，妈妈。如果我忘记了这件事，明天见到她时，可以道歉；可是我并没有忘记，我不能失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759720" y="6423120"/>
            <a:ext cx="21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女儿宋庆龄显得特别高兴。她早就盼着到这位伯伯家去了。伯伯家养的鸽子，尖尖的嘴巴，红红的眼睛，漂亮极啦！伯伯还说准备送她一只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47640" y="3789000"/>
            <a:ext cx="72583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明白了，我们的庆龄是个守信用的孩子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望着庆龄笑了笑，说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你就留下来吧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庆龄点点头，甜甜地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人物的对话，在引用人物语言的时候，表达上有什么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父亲见庆龄停住了脚步，奇怪地问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庆龄，你怎么不走啦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，我昨天和小珍约好了，今天她来我们家，我教她叠花篮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庆龄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明白了，我们的庆龄是个守信用的孩子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望着庆龄笑了笑，说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你就留下来吧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人物的对话，在引用人物语言的时候，表达上有什么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父亲见庆龄停住了脚步，奇怪地问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庆龄，你怎么不走啦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，我昨天和小珍约好了，今天她来我们家，我教她叠花篮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庆龄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明白了，我们的庆龄是个守信用的孩子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妈妈望着庆龄笑了笑，说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你就留下来吧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插图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39640" y="907920"/>
            <a:ext cx="25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角色朗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79280" y="69228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华文细黑"/>
              </a:rPr>
              <a:t>   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细黑"/>
              </a:rPr>
              <a:t>你在日常生活中有没有遇到过类似的事？你是怎么处理的？读了本文后有何感想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故居"/>
          <p:cNvPicPr/>
          <p:nvPr/>
        </p:nvPicPr>
        <p:blipFill>
          <a:blip r:embed="rId1"/>
          <a:stretch/>
        </p:blipFill>
        <p:spPr>
          <a:xfrm>
            <a:off x="0" y="907920"/>
            <a:ext cx="3780000" cy="295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故居2"/>
          <p:cNvPicPr/>
          <p:nvPr/>
        </p:nvPicPr>
        <p:blipFill>
          <a:blip r:embed="rId2"/>
          <a:stretch/>
        </p:blipFill>
        <p:spPr>
          <a:xfrm>
            <a:off x="0" y="3860640"/>
            <a:ext cx="3780000" cy="3024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4211640" y="2421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宋庆龄故居位于什刹海后海北沿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46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号，这里原是醇亲王府花园，宋庆龄于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963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年起在这里居住，至直逝世，在这里居住了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WordArt 8" descr=""/>
          <p:cNvPicPr/>
          <p:nvPr/>
        </p:nvPicPr>
        <p:blipFill>
          <a:blip r:embed="rId3"/>
          <a:stretch/>
        </p:blipFill>
        <p:spPr>
          <a:xfrm>
            <a:off x="5578560" y="-103320"/>
            <a:ext cx="2438280" cy="1146240"/>
          </a:xfrm>
          <a:prstGeom prst="rect">
            <a:avLst/>
          </a:prstGeom>
          <a:ln w="0">
            <a:noFill/>
          </a:ln>
        </p:spPr>
      </p:pic>
      <p:pic>
        <p:nvPicPr>
          <p:cNvPr id="128" name="WordArt 9" descr=""/>
          <p:cNvPicPr/>
          <p:nvPr/>
        </p:nvPicPr>
        <p:blipFill>
          <a:blip r:embed="rId4"/>
          <a:stretch/>
        </p:blipFill>
        <p:spPr>
          <a:xfrm>
            <a:off x="755640" y="689040"/>
            <a:ext cx="2189160" cy="10065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1"/>
          <p:cNvSpPr/>
          <p:nvPr/>
        </p:nvSpPr>
        <p:spPr>
          <a:xfrm>
            <a:off x="3995640" y="1125360"/>
            <a:ext cx="485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宋庆龄故居主体建筑为一幢乳白色船形的假三层西式楼房，故居房前是一大片草坪，四周是终年苍翠的樟树，环境幽雅宁静。故居底层是过厅、客厅、餐厅和藏书室。宋庆龄于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948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年底迁到这里居住，故居内陈设保持宋庆龄生前原样。这里是宋庆龄长期居住和从事国务活动的地方，里面收藏了许多具有珍贵历史价值的文物，已被列为上海市重点文物保护单位。</a:t>
            </a:r>
            <a:br>
              <a:rPr sz="1800"/>
            </a:b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       过厅中陈列着林伯渠同志赠送给她的“百鸟朝凤”石刻摆件和外国人赠送的风景油画。客厅不大，但洁净、简朴、高雅，桌上摆着盛开的鲜花，与女主人的气质相称。北墙正中挂着孙中山的遗像，南墙上有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961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年毛泽东前来看望她时同她热烈握手的留影。在这间客厅里，她曾会见过刘少奇、周恩来、朱德等党和国家领导人，一些外国国家元首如金日成、西哈努克曾等也都来此作客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WordArt 12" descr=""/>
          <p:cNvPicPr/>
          <p:nvPr/>
        </p:nvPicPr>
        <p:blipFill>
          <a:blip r:embed="rId5"/>
          <a:stretch/>
        </p:blipFill>
        <p:spPr>
          <a:xfrm>
            <a:off x="5218200" y="944640"/>
            <a:ext cx="2438280" cy="115236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长城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92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8920" y="127008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0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，宋庆龄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岁。这一年，她被父母送到美国留学，进了佐治亚州梅肯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的威斯里安女子大学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宋庆龄是个文静而爱沉思的女孩子。她学习非常勤奋，尤其是想到将来要为穷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的祖国人民做事时，她就更加刻苦地学习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有一次，班里要讨论历史方面的问题，她认真地搜集资料，认真地思索，做了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分准备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在讨论会上，一位美国学生站起来发言。他说：“我认为，历史的发展是难以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计的，你们看，那些所谓文明古国，譬如亚洲的中国，已经被历史淘汰了。人民的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望在欧洲、在美洲、在我们这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…”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这时，坐在前排的宋庆龄不以为然地摇了摇头。她紧锁双眉，耐心地听着美国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学的发言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那位同学刚讲完，宋庆龄就站了起来。教室里立刻静下来了，宋庆龄显得有些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动，但她仍然用柔和的声调说：“历史确实是在不断变化的，但它永远属于亿万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众。具有五千年文明历史的中国，没有被淘汰，也不可能被淘汰。有人说中国像一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沉睡的狮子，但它决不会永远沉睡下去。总会有一天，东亚睡狮的吼声将震动全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界！因为它有广阔的土地，勤劳的人民，悠久的历史，富饶的物产，有无数革命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士，为了它的振兴在进行着艰苦卓绝的斗争！”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教室里响起了热烈的掌声。大家交口称赞：“说得好，以理服人。”“这些话多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有力量！”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宋庆龄虽然身在国外，但她时时刻刻关心着国内的情况，她常对同学说：“我不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忘掉中国，我对祖国充满了理想和希望！”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348000" y="7650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华文新魏"/>
                <a:ea typeface="华文新魏"/>
              </a:rPr>
              <a:t>我不能忘掉祖国</a:t>
            </a:r>
            <a:r>
              <a:rPr b="0" lang="zh-CN" sz="2800" spc="-1" strike="noStrike">
                <a:solidFill>
                  <a:srgbClr val="ff6600"/>
                </a:solidFill>
                <a:latin typeface="华文细黑"/>
                <a:ea typeface="华文细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WordArt 5" descr=""/>
          <p:cNvPicPr/>
          <p:nvPr/>
        </p:nvPicPr>
        <p:blipFill>
          <a:blip r:embed="rId2"/>
          <a:stretch/>
        </p:blipFill>
        <p:spPr>
          <a:xfrm>
            <a:off x="396720" y="334800"/>
            <a:ext cx="182880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835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机智勇敢的宋庆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，陈炯明在广州叛变，要逮捕孙中山。一天晚上，他派出部队包围了总统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凌晨两点钟，孙中山接到秘密报告，叛变的部队要攻打孙中山住的越秀楼了。孙中山要宋庆龄跟他一起撤离，宋庆龄想：如果和孙中山同时撤离，目标太大，很容易被敌军发现，于是她坚持自己留下，使敌军误以为孙中山还在，不会过早冲进府来．这样就能掩护孙中山秘密撒离。孙中山坚持要宋庆龄一起走，宋庆龄却坚定地说：“中国可以没有我，不可以没有先生。为了中国，你先走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孙中山只得忍痛和宋庆龄道别。他身穿长衫，头戴礼帽，肩背药箱，化装成去急诊的医生，由护卫带着出了总统府，避过叛军，平安地登上了永丰兵舰。按照和宋庆龄事先约好的信号，鸣炮三声，表示平安到达。炮声传到了越秀楼，宋庆龄放心地对身边的人说：“先生平安了。”大家这才松了一口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902280" y="6423120"/>
            <a:ext cx="21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凌晨两点半，叛军果然开始向越秀楼进攻，枪炮声不断。越秀楼上的五十余名卫士奋勇抗击四千余名叛军。一直坚持到早上八点钟，宋庆龄认为自己再留在这里已经没有意义了，才决定冲出包围圈。这时，叛军杀进了总统府，府内士兵向外冲，一片混乱。宋庆龄化装成士兵由卫士护卫冲出大门。遇到叛军阻拦，宋庆龄急中生智，打开手里的包袱，把钱物撒在地上，叛军立刻哄抢起来，宋庆龄和卫士乘机逃了出来。他们刚走不多远，忽然发现前面街道拐弯处过来几个敌兵，宋庆龄和卫士们立刻躺在街上的死尸中间，骗过了敌兵。等敌兵走远后，他们连忙爬起来，藏到一户人家去，才躲过了这次危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后，宋庆龄和卫士们也终于安全到达了永丰舰，和孙中山会合了。在场的人无不佩服宋庆龄的机智勇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前进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后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简单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复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谦虚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骄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寒冷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温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守信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失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5"/>
          <p:cNvPicPr/>
          <p:nvPr/>
        </p:nvPicPr>
        <p:blipFill>
          <a:blip r:embed="rId1"/>
          <a:stretch/>
        </p:blipFill>
        <p:spPr>
          <a:xfrm>
            <a:off x="0" y="836640"/>
            <a:ext cx="3708360" cy="6021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图片1"/>
          <p:cNvPicPr/>
          <p:nvPr/>
        </p:nvPicPr>
        <p:blipFill>
          <a:blip r:embed="rId2"/>
          <a:stretch/>
        </p:blipFill>
        <p:spPr>
          <a:xfrm>
            <a:off x="0" y="792000"/>
            <a:ext cx="3780000" cy="6093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插图2"/>
          <p:cNvPicPr/>
          <p:nvPr/>
        </p:nvPicPr>
        <p:blipFill>
          <a:blip r:embed="rId3"/>
          <a:stretch/>
        </p:blipFill>
        <p:spPr>
          <a:xfrm>
            <a:off x="0" y="765000"/>
            <a:ext cx="3780000" cy="612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1"/>
          <p:cNvPicPr/>
          <p:nvPr/>
        </p:nvPicPr>
        <p:blipFill>
          <a:blip r:embed="rId4"/>
          <a:stretch/>
        </p:blipFill>
        <p:spPr>
          <a:xfrm>
            <a:off x="0" y="4941720"/>
            <a:ext cx="3780000" cy="19162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9"/>
          <p:cNvSpPr/>
          <p:nvPr/>
        </p:nvSpPr>
        <p:spPr>
          <a:xfrm>
            <a:off x="3851280" y="242100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宋庆龄生前非常关心少年儿童的身心健康，在条件极为困难的情况下，她倡导和兴办了儿童文化教育的场所和保健机构，在我国起到了示范作用。她一生无私无畏，艰苦奋斗，执着追求。她的高风亮节和坦荡胸怀为我国各族人民所敬仰。她生前一直希望看到祖国统一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WordArt 10" descr=""/>
          <p:cNvPicPr/>
          <p:nvPr/>
        </p:nvPicPr>
        <p:blipFill>
          <a:blip r:embed="rId5"/>
          <a:stretch/>
        </p:blipFill>
        <p:spPr>
          <a:xfrm>
            <a:off x="5218200" y="907920"/>
            <a:ext cx="19018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140000" y="981000"/>
            <a:ext cx="4546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宋庆龄陵园有纪念广场、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庆龄汉白玉雕像、由邓小平同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亲笔题词的宋庆龄纪念碑、宋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龄生平事迹陈列室等纪念设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宋庆龄陵园还保留了万国公墓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籍人墓园，并建立了名人墓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人墓园安葬有爱国老人马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伯、抗日英雄谢晋元、“三毛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“张乐平等知名人士；外籍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墓园葬有来自世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国家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名外籍人士，其中有鲁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日本朋友山完造夫妇、宋庆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美籍女友耿丽淑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7"/>
          <p:cNvPicPr/>
          <p:nvPr/>
        </p:nvPicPr>
        <p:blipFill>
          <a:blip r:embed="rId1"/>
          <a:stretch/>
        </p:blipFill>
        <p:spPr>
          <a:xfrm>
            <a:off x="0" y="3716280"/>
            <a:ext cx="3995640" cy="3168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8"/>
          <p:cNvPicPr/>
          <p:nvPr/>
        </p:nvPicPr>
        <p:blipFill>
          <a:blip r:embed="rId2"/>
          <a:stretch/>
        </p:blipFill>
        <p:spPr>
          <a:xfrm>
            <a:off x="0" y="692280"/>
            <a:ext cx="3995640" cy="302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10"/>
          <p:cNvPicPr/>
          <p:nvPr/>
        </p:nvPicPr>
        <p:blipFill>
          <a:blip r:embed="rId3"/>
          <a:stretch/>
        </p:blipFill>
        <p:spPr>
          <a:xfrm>
            <a:off x="0" y="1773360"/>
            <a:ext cx="3995640" cy="324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6"/>
          <p:cNvPicPr/>
          <p:nvPr/>
        </p:nvPicPr>
        <p:blipFill>
          <a:blip r:embed="rId4"/>
          <a:stretch/>
        </p:blipFill>
        <p:spPr>
          <a:xfrm>
            <a:off x="0" y="692280"/>
            <a:ext cx="3995640" cy="6165720"/>
          </a:xfrm>
          <a:prstGeom prst="rect">
            <a:avLst/>
          </a:prstGeom>
          <a:ln w="0">
            <a:noFill/>
          </a:ln>
        </p:spPr>
      </p:pic>
      <p:pic>
        <p:nvPicPr>
          <p:cNvPr id="154" name="WordArt 9" descr=""/>
          <p:cNvPicPr/>
          <p:nvPr/>
        </p:nvPicPr>
        <p:blipFill>
          <a:blip r:embed="rId5"/>
          <a:stretch/>
        </p:blipFill>
        <p:spPr>
          <a:xfrm>
            <a:off x="249120" y="695160"/>
            <a:ext cx="1768680" cy="835200"/>
          </a:xfrm>
          <a:prstGeom prst="rect">
            <a:avLst/>
          </a:prstGeom>
          <a:ln w="0">
            <a:noFill/>
          </a:ln>
        </p:spPr>
      </p:pic>
      <p:pic>
        <p:nvPicPr>
          <p:cNvPr id="155" name="WordArt 10" descr=""/>
          <p:cNvPicPr/>
          <p:nvPr/>
        </p:nvPicPr>
        <p:blipFill>
          <a:blip r:embed="rId6"/>
          <a:stretch/>
        </p:blipFill>
        <p:spPr>
          <a:xfrm>
            <a:off x="5510160" y="79200"/>
            <a:ext cx="243360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348000" y="1052640"/>
            <a:ext cx="5554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宋耀如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：（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1863—1918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）原名宋乔荪，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耀如。他本姓韩，名教准，由于家境贫寒，年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岁就飘洋过海，到美国找舅父谋生，被舅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收为养子，改姓宋，英文名字是查理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琼斯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宋耀如不甘心于学徒经商的生活，为了获得求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深造的机会而离家出走。在他人的帮助之下，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入了达勒姆附近的圣三一学院（后改为杜克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学）学习。后来，他又进人万德比尔特大学神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院学习，于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1886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年毕业后被派赴中国上海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道。过了一段时间，宋耀如辞去了牧师的职务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改营工商业，成了上海第一个进口外国机械的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理商。宋耀如不是一个唯利是图的商人，他热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祖国，不满晚清政府的腐败无能，渴望献身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命。一个偶然的机会，宋耀如结识了孙中山，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人一见倾心，成了莫逆之交。宋耀如不但在经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上支援孙中山的革命活动，而且帮助孙中山秘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印制大量的革命宣传材料。正像时人所说：“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不断帮助孙先生推进他的革命事业，对此，简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是不分昼夜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父亲"/>
          <p:cNvPicPr/>
          <p:nvPr/>
        </p:nvPicPr>
        <p:blipFill>
          <a:blip r:embed="rId1"/>
          <a:stretch/>
        </p:blipFill>
        <p:spPr>
          <a:xfrm>
            <a:off x="0" y="1052640"/>
            <a:ext cx="3203640" cy="5832360"/>
          </a:xfrm>
          <a:prstGeom prst="rect">
            <a:avLst/>
          </a:prstGeom>
          <a:ln w="0">
            <a:noFill/>
          </a:ln>
        </p:spPr>
      </p:pic>
      <p:pic>
        <p:nvPicPr>
          <p:cNvPr id="158" name="WordArt 5" descr=""/>
          <p:cNvPicPr/>
          <p:nvPr/>
        </p:nvPicPr>
        <p:blipFill>
          <a:blip r:embed="rId2"/>
          <a:stretch/>
        </p:blipFill>
        <p:spPr>
          <a:xfrm>
            <a:off x="5510160" y="262080"/>
            <a:ext cx="203688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1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1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030040" y="2286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尖       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-1815120" y="1143000"/>
            <a:ext cx="122508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）嘴                笔（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）土                灰（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264400" y="320040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蓝      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57200" y="4038480"/>
            <a:ext cx="7620120" cy="37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）色            竹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）球           （        ）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241280" y="1284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6727680" y="1284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469880" y="2198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804000" y="2198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267560" y="4048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6220440" y="40384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1343880" y="50385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5584680" y="51703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644040" y="763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我知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301120" y="1557360"/>
            <a:ext cx="654480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亡羊补牢      九牛一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龙争虎斗      狐假虎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鱼目混珠      闻鸡起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守株待兔       一马当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羊开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609560" y="6477120"/>
            <a:ext cx="675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7"/>
          <p:cNvSpPr/>
          <p:nvPr/>
        </p:nvSpPr>
        <p:spPr>
          <a:xfrm>
            <a:off x="961920" y="1628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066920" y="764640"/>
            <a:ext cx="48178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宋庆龄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：（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89—1981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）海南省文昌县人，我国杰出的女政治活动家，世界和平运动活动家。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70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多年里，宋庆龄始终不渝地致力于中国民族解放和人民解放事业，是中华人民共和国的缔造者之一，她曾担任过中华人民共和国副主席和名誉主席。宋庆龄一直热情关注青少年和儿童的健康成长，长期主持中国救济总会、中国红十字会的工作。宋庆龄反对侵略战争，保卫世界和平，被国际上公认为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世纪最伟大的女性。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950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年，宋庆龄被选为世界和平理事会领导成员，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951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年，宋庆龄接受“加强国际和平斯大林国际奖金”，将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万卢布奖金全部捐赠中国福利会作为创办国际和平妇幼保健院之用，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952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年被选为亚洲及太平洋区域和平联络委员会主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宋庆龄"/>
          <p:cNvPicPr/>
          <p:nvPr/>
        </p:nvPicPr>
        <p:blipFill>
          <a:blip r:embed="rId1"/>
          <a:stretch/>
        </p:blipFill>
        <p:spPr>
          <a:xfrm>
            <a:off x="0" y="1052640"/>
            <a:ext cx="3995640" cy="5805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宋庆龄3"/>
          <p:cNvPicPr/>
          <p:nvPr/>
        </p:nvPicPr>
        <p:blipFill>
          <a:blip r:embed="rId2"/>
          <a:stretch/>
        </p:blipFill>
        <p:spPr>
          <a:xfrm>
            <a:off x="0" y="1052640"/>
            <a:ext cx="3995640" cy="5805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宋庆龄4"/>
          <p:cNvPicPr/>
          <p:nvPr/>
        </p:nvPicPr>
        <p:blipFill>
          <a:blip r:embed="rId3"/>
          <a:stretch/>
        </p:blipFill>
        <p:spPr>
          <a:xfrm>
            <a:off x="0" y="1052640"/>
            <a:ext cx="3995640" cy="5805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宋庆龄2"/>
          <p:cNvPicPr/>
          <p:nvPr/>
        </p:nvPicPr>
        <p:blipFill>
          <a:blip r:embed="rId4"/>
          <a:stretch/>
        </p:blipFill>
        <p:spPr>
          <a:xfrm>
            <a:off x="0" y="1052640"/>
            <a:ext cx="39956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12760" y="8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28200" y="1411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57720" y="1222200"/>
            <a:ext cx="7587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耀眼  照耀  闪耀  抽水  解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  歉意  道歉  失信  守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尖尖的嘴巴   红红的眼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叠花篮    甜甜地笑了   扑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4284720" y="14842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细黑"/>
              </a:rPr>
              <a:t>故事发生在什么间？文中讲到了哪几个人？他们间有着怎样的联系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708360" y="220500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细黑"/>
                <a:ea typeface="华文细黑"/>
              </a:rPr>
              <a:t>爸爸　　　伯伯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华文细黑"/>
                <a:ea typeface="华文细黑"/>
              </a:rPr>
              <a:t>　   宋庆龄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华文细黑"/>
                <a:ea typeface="华文细黑"/>
              </a:rPr>
              <a:t>妈妈　　　小珍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插图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50920" y="105264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课文主要讲了一件什么事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755640" y="69228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华文细黑"/>
              </a:rPr>
              <a:t>   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一个星期天，宋耀如一家准备到一位朋友家去，二女儿宋庆龄也很想去。她突然想起今天上午要教小珍学叠花篮，爸爸妈妈都劝她改天再教，但她为了守信就留了下来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9640" y="90792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细黑"/>
              </a:rPr>
              <a:t>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你觉得宋庆龄是个怎样的人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-171720" y="1773360"/>
            <a:ext cx="10335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重诺言   守信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2637000"/>
            <a:ext cx="7834320" cy="23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，我昨天和小珍约好了，今天他来我们家，我教她叠花篮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宋庆龄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306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行！不行！小珍来了会扑空的，那多不好啊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庆龄边说边把手抽回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>幻灯片之家 http:/www.eeppt.com</cp:keywords>
  <dc:language>en-US</dc:language>
  <cp:lastModifiedBy/>
  <dcterms:modified xsi:type="dcterms:W3CDTF">2015-07-20T03:20:5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