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6070-3210-4350-99F3-1557AE18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56F2-9598-4D57-8C7F-2D354E6A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C4A-EC51-4B13-BAA2-7939DC51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9B0-CFB2-4E7F-8297-BDAD10BE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0765-9109-498D-B7FB-680DB4AC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4906-66E4-4C1F-AD9A-60E2480D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779B-0158-41F1-89A2-EE0B1C04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5B9D-0854-4859-9A70-8A2B6EB9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CB0D-D99A-44EF-BB1C-6C7F3B39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3616-4C9B-48D6-8BF2-DE0033FC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69C7-70F2-4B95-86E6-22724D52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17A-1730-45DD-BC72-221EBEB0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FD17-78B9-4B28-B872-A5E3914C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30D8-819C-49F1-8712-1E7D7EA1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CAF9-AD24-4A83-8778-99465776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6D3D-3030-429A-8FC7-550300BE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FBAE-0010-4BA1-A990-00200E53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A17D-2C6E-493F-9706-C637BAB7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79D-1D19-42D1-9DBD-94D94DE1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5791-8957-4941-92ED-01BD224C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392-E149-426A-B4C3-3488EE5E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7CB-2210-4788-956F-9D8FF81F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D55F-07E0-4740-A78B-AB513D71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597D-A6E8-448C-B769-4BE2C58E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CC27-9F55-4031-8778-F9D77851447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B872-0981-49E7-9E3C-3062A6D3C6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ku.cc/tp/xzy/zyfg/332784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pic_141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WordArt 3" descr=""/>
          <p:cNvPicPr/>
          <p:nvPr/>
        </p:nvPicPr>
        <p:blipFill>
          <a:blip r:embed="rId2"/>
          <a:stretch/>
        </p:blipFill>
        <p:spPr>
          <a:xfrm>
            <a:off x="1438200" y="1195560"/>
            <a:ext cx="6357960" cy="2236680"/>
          </a:xfrm>
          <a:prstGeom prst="rect">
            <a:avLst/>
          </a:prstGeom>
          <a:ln w="0">
            <a:noFill/>
          </a:ln>
        </p:spPr>
      </p:pic>
      <p:sp>
        <p:nvSpPr>
          <p:cNvPr id="130" name="WordArt 4"/>
          <p:cNvSpPr txBox="1"/>
          <p:nvPr/>
        </p:nvSpPr>
        <p:spPr>
          <a:xfrm>
            <a:off x="5292720" y="39625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刘禹锡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图片1;''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920" y="1917360"/>
            <a:ext cx="813744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：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和谐，这里指水色和月色融为一体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秋月：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点明时间</a:t>
            </a:r>
            <a:r>
              <a:rPr b="1" lang="en-US" sz="3200" spc="-1" strike="noStrike">
                <a:solidFill>
                  <a:srgbClr val="703dff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秋天洞庭湖水色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秋天的月色融为一体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自己的话说说这两句诗的意思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4125600" y="12654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湖光秋月两相和，潭面无风镜未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5"/>
          <p:cNvSpPr txBox="1"/>
          <p:nvPr/>
        </p:nvSpPr>
        <p:spPr>
          <a:xfrm>
            <a:off x="539640" y="884160"/>
            <a:ext cx="2376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b200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华文新魏"/>
              </a:rPr>
              <a:t>诗句品读</a:t>
            </a:r>
            <a:endParaRPr b="0" lang="en-US" sz="1800" spc="1" strike="noStrike">
              <a:ln w="0">
                <a:noFill/>
              </a:ln>
              <a:solidFill>
                <a:srgbClr val="00b200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755640" y="4221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洞庭湖水色和秋天的月色融为一体，湖面上没有一点风吹过，就像一面还没有磨过的镜子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1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"/>
                            </p:stCondLst>
                            <p:childTnLst>
                              <p:par>
                                <p:cTn id="1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wd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6913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遥望：</a:t>
            </a:r>
            <a:r>
              <a:rPr b="1" lang="zh-CN" sz="3200" spc="-1" strike="noStrike">
                <a:solidFill>
                  <a:srgbClr val="00b200"/>
                </a:solidFill>
                <a:latin typeface="Comic Sans MS"/>
                <a:ea typeface="楷体_GB2312"/>
              </a:rPr>
              <a:t>远远地看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青螺：</a:t>
            </a:r>
            <a:r>
              <a:rPr b="1" lang="zh-CN" sz="3200" spc="-1" strike="noStrike">
                <a:solidFill>
                  <a:srgbClr val="00b200"/>
                </a:solidFill>
                <a:latin typeface="Comic Sans MS"/>
                <a:ea typeface="楷体_GB2312"/>
              </a:rPr>
              <a:t>这里形容洞庭湖中的君山</a:t>
            </a: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用自己的话说说这两句诗的意思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768200" y="10494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黑体"/>
              </a:rPr>
              <a:t>遥望洞庭山水色，白银盘里一青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124000" y="4076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b200"/>
                </a:solidFill>
                <a:latin typeface="Arial"/>
                <a:ea typeface="楷体_GB2312"/>
              </a:rPr>
              <a:t>远远地看去，洞庭湖山水苍色，像银盘子里放着一只青青的田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1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5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a11e96d941cabb7032fa1c2b"/>
          <p:cNvPicPr/>
          <p:nvPr/>
        </p:nvPicPr>
        <p:blipFill>
          <a:blip r:embed="rId1"/>
          <a:stretch/>
        </p:blipFill>
        <p:spPr>
          <a:xfrm>
            <a:off x="152280" y="17524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Fei_Cui_Luo__0"/>
          <p:cNvPicPr/>
          <p:nvPr/>
        </p:nvPicPr>
        <p:blipFill>
          <a:blip r:embed="rId2"/>
          <a:stretch/>
        </p:blipFill>
        <p:spPr>
          <a:xfrm>
            <a:off x="4572000" y="152280"/>
            <a:ext cx="4572000" cy="62485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W0200802165714465682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Comic Sans MS"/>
              </a:rPr>
              <a:t>比一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每一首诗都藏着作者不同的情感，你能用你的朗读把这不同的情感表现出来吗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诗歌表达了诗人怎样的情感？读一读，想一想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23880" y="685800"/>
            <a:ext cx="628020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望洞庭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                              刘禹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湖光秋月两相和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潭面无风</a:t>
            </a:r>
            <a:r>
              <a:rPr b="0" lang="zh-CN" sz="6000" spc="-1" strike="noStrike">
                <a:solidFill>
                  <a:srgbClr val="ff0000"/>
                </a:solidFill>
                <a:latin typeface="宋体"/>
              </a:rPr>
              <a:t>镜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未磨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遥望洞庭山水色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白</a:t>
            </a:r>
            <a:r>
              <a:rPr b="0" lang="zh-CN" sz="6000" spc="-1" strike="noStrike">
                <a:solidFill>
                  <a:srgbClr val="ff0000"/>
                </a:solidFill>
                <a:latin typeface="宋体"/>
              </a:rPr>
              <a:t>银盘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里一</a:t>
            </a:r>
            <a:r>
              <a:rPr b="0" lang="zh-CN" sz="6000" spc="-1" strike="noStrike">
                <a:solidFill>
                  <a:srgbClr val="ff0000"/>
                </a:solidFill>
                <a:latin typeface="宋体"/>
              </a:rPr>
              <a:t>青螺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2133720" y="23623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请同学们依据下列图画描     述一下你眼中的洞庭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261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Comic Sans MS"/>
              </a:rPr>
              <a:t>小小赛诗会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望洞庭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独坐敬亭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刘禹锡                唐　李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湖光秋月两相和，      众鸟高飞尽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潭面无风镜未磨。      孤云独去闲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遥望洞庭山水色，      相看两不厌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白银盘里一青螺。      只有敬亭山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7"/>
          <p:cNvSpPr/>
          <p:nvPr/>
        </p:nvSpPr>
        <p:spPr>
          <a:xfrm>
            <a:off x="3733920" y="16002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hina"/>
          <p:cNvPicPr/>
          <p:nvPr/>
        </p:nvPicPr>
        <p:blipFill>
          <a:blip r:embed="rId1"/>
          <a:srcRect l="0" t="0" r="695" b="29284"/>
          <a:stretch/>
        </p:blipFill>
        <p:spPr>
          <a:xfrm>
            <a:off x="76320" y="76320"/>
            <a:ext cx="8991360" cy="6705360"/>
          </a:xfrm>
          <a:prstGeom prst="rect">
            <a:avLst/>
          </a:prstGeom>
          <a:ln w="0">
            <a:noFill/>
          </a:ln>
        </p:spPr>
      </p:pic>
      <p:sp>
        <p:nvSpPr>
          <p:cNvPr id="134" name="Oval 3"/>
          <p:cNvSpPr/>
          <p:nvPr/>
        </p:nvSpPr>
        <p:spPr>
          <a:xfrm>
            <a:off x="5651640" y="4581360"/>
            <a:ext cx="1008000" cy="863640"/>
          </a:xfrm>
          <a:prstGeom prst="ellipse">
            <a:avLst/>
          </a:prstGeom>
          <a:noFill/>
          <a:ln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468360" y="83664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b200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华文新魏"/>
              </a:rPr>
              <a:t>找找看</a:t>
            </a:r>
            <a:endParaRPr b="0" lang="en-US" sz="1800" spc="1" strike="noStrike">
              <a:ln w="0">
                <a:noFill/>
              </a:ln>
              <a:solidFill>
                <a:srgbClr val="00b200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unan"/>
          <p:cNvPicPr/>
          <p:nvPr/>
        </p:nvPicPr>
        <p:blipFill>
          <a:blip r:embed="rId1"/>
          <a:srcRect l="0" t="0" r="841" b="6026"/>
          <a:stretch/>
        </p:blipFill>
        <p:spPr>
          <a:xfrm>
            <a:off x="179280" y="620640"/>
            <a:ext cx="8785440" cy="6048360"/>
          </a:xfrm>
          <a:prstGeom prst="rect">
            <a:avLst/>
          </a:prstGeom>
          <a:ln w="0">
            <a:noFill/>
          </a:ln>
        </p:spPr>
      </p:pic>
      <p:sp>
        <p:nvSpPr>
          <p:cNvPr id="137" name="Oval 3"/>
          <p:cNvSpPr/>
          <p:nvPr/>
        </p:nvSpPr>
        <p:spPr>
          <a:xfrm>
            <a:off x="5508720" y="1557360"/>
            <a:ext cx="1942920" cy="1295280"/>
          </a:xfrm>
          <a:prstGeom prst="ellipse">
            <a:avLst/>
          </a:prstGeom>
          <a:noFill/>
          <a:ln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752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28360" y="1555920"/>
            <a:ext cx="7272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洞庭湖位于湖南省的北部，岳阳市附近，是我国第二大淡水湖。八百里洞庭，烟波浩淼。水天相接，朝晖夕阴，气象万千。湖中有君山，山上有诸多名胜。著名诗人范仲淹来到洞庭，留下了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先天下之忧而忧，后天下之乐而乐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的经典之作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611280" y="1027080"/>
            <a:ext cx="2305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ef66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华文新魏"/>
              </a:rPr>
              <a:t>你知道吗</a:t>
            </a:r>
            <a:endParaRPr b="0" lang="en-US" sz="1800" spc="1" strike="noStrike">
              <a:ln w="0">
                <a:noFill/>
              </a:ln>
              <a:solidFill>
                <a:srgbClr val="ffef66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5" descr="20069201439125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200510716142570496"/>
          <p:cNvPicPr/>
          <p:nvPr/>
        </p:nvPicPr>
        <p:blipFill>
          <a:blip r:embed="rId1"/>
          <a:srcRect l="0" t="0" r="39143" b="262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87280" y="1842840"/>
            <a:ext cx="84614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Comic Sans MS"/>
                <a:ea typeface="楷体_GB2312"/>
              </a:rPr>
              <a:t>波光粼粼、银光闪闪、水平如镜、水天一色、迷迷蒙蒙、朦朦胧胧、宁静和谐、月明星稀、风清月朗、风月无边、皓月当空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WordArt 4"/>
          <p:cNvSpPr txBox="1"/>
          <p:nvPr/>
        </p:nvSpPr>
        <p:spPr>
          <a:xfrm>
            <a:off x="611280" y="10270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ef66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华文新魏"/>
              </a:rPr>
              <a:t>说一说、读一读</a:t>
            </a:r>
            <a:endParaRPr b="0" lang="en-US" sz="1800" spc="1" strike="noStrike">
              <a:ln w="0">
                <a:noFill/>
              </a:ln>
              <a:solidFill>
                <a:srgbClr val="ffef66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1066680" y="152280"/>
            <a:ext cx="6489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新魏"/>
              </a:rPr>
              <a:t>作者简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28240" y="1905120"/>
            <a:ext cx="4800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　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刘禹锡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7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4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字梦得，唐代诗人，被白居易称作“诗豪”。他的许多作品，立意新颖，思想深刻；七言绝句受到民歌的启发，写得明快清新，富有生活气息和地方色彩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7" descr="刘锡禹"/>
          <p:cNvPicPr/>
          <p:nvPr/>
        </p:nvPicPr>
        <p:blipFill>
          <a:blip r:embed="rId1"/>
          <a:stretch/>
        </p:blipFill>
        <p:spPr>
          <a:xfrm>
            <a:off x="5562720" y="2057400"/>
            <a:ext cx="28191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6"/>
          <p:cNvSpPr/>
          <p:nvPr/>
        </p:nvSpPr>
        <p:spPr>
          <a:xfrm>
            <a:off x="1523880" y="685800"/>
            <a:ext cx="628020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望洞庭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                              刘禹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湖光秋月两相和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潭面无风镜未磨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遥望洞庭山水色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白银盘里一青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必背古诗-望洞庭.mp3" descr=""/>
          <p:cNvPicPr/>
          <p:nvPr/>
        </p:nvPicPr>
        <p:blipFill>
          <a:blip r:embed="rId1"/>
          <a:stretch/>
        </p:blipFill>
        <p:spPr>
          <a:xfrm>
            <a:off x="81532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28333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9T05:56:41Z</dcterms:created>
  <dc:creator/>
  <dc:description/>
  <cp:keywords>幻灯片之家 http:/www.eeppt.com</cp:keywords>
  <dc:language>en-US</dc:language>
  <cp:lastModifiedBy/>
  <dcterms:modified xsi:type="dcterms:W3CDTF">2015-07-20T03:17:0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