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326D-B2E8-4161-BEE1-2555C5A9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9D6-1CBF-4051-86D1-853868CB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768-BDF7-4601-A74B-1853E9B86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978E-3BD5-46FE-A75C-FED2587B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D80D-2EEC-44B2-A48E-3BE6BEC0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8506-8006-4461-BF2B-AB272016D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E274-48A8-472B-9E50-0ED5812E2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475F-C574-4433-9769-FD7E9DE2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F311-3D27-4C60-BAF1-60EBDA77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7B75-948A-4E06-AE8F-5C002994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B550-3BA3-4AC3-AEDE-4FF964D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87A-8F94-40DD-9DCF-0D071F11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8980-4A5B-45AF-AABF-D31135D1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FBF8-0DE3-44CD-BE6B-8453F764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D743-22FE-45CE-9FE2-7BF10C7B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17ED-5C78-46B1-B968-22980DFE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A2A-F913-487E-BDCC-87E2E9A7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EA5-5AFB-48A1-84B4-705C8004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D1A9-62D5-4DBE-9144-381A660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227-395F-4DBD-B42A-235AFD864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475-E0E8-4253-808F-14872A18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F95-67BA-4773-B329-3EDA0B3D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7C92-5AE7-45C3-917E-ADEFF4E2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73C0-AEDA-4B0A-A923-47797E20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E1C-FB13-4CB5-88CF-38BE65128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556F-EB7E-4A8F-B0C3-6D9D82E66A71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www.eeppt.com/sucai/" TargetMode="External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47636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a77"/>
                </a:solidFill>
                <a:latin typeface="Arial"/>
                <a:ea typeface="黑体"/>
              </a:rPr>
              <a:t>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41320" y="4428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80c"/>
                </a:solidFill>
                <a:latin typeface="Arial"/>
              </a:rPr>
              <a:t>我的中国心</a:t>
            </a:r>
            <a:r>
              <a:rPr b="0" lang="zh-CN" sz="4000" spc="-1" strike="noStrike">
                <a:solidFill>
                  <a:srgbClr val="0c080c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c080c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03896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早已把我的一切烙上中国印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烙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字能否换成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盖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？为什么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187280" y="2796120"/>
            <a:ext cx="70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。“烙”准确而形象地表达了海外赤子跟祖国永远无法分离的骨肉关系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，而“盖”字程度远不及“烙”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755640" y="836280"/>
            <a:ext cx="809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长江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长城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黄山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黄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借代什么？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重千斤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表现了什么？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4360" y="3263040"/>
            <a:ext cx="806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长江”“长城”“黄山”“黄河”，都是能够代表祖国的“河山”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借代指祖国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。“重千斤”把不可以斤两计算的对祖国的感情用斤两来表现了出来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形象地表现祖国在海外游子心中的分量，表达强烈的爱国之情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无论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何时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无论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何地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从时间和空间两个方面，充分强调祖国在人们心中无法取代的地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00000" y="9079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   </a:t>
            </a:r>
            <a:r>
              <a:rPr b="1" lang="en-US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澎湃着中华的声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澎湃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中华的声音</a:t>
            </a:r>
            <a:r>
              <a:rPr b="1" lang="zh-CN" sz="36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如何理解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900000" y="3050280"/>
            <a:ext cx="77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澎湃”突出声音之响，“中华的声音”突出这是来自心中的声音，这是融在血液中的声音，是海外赤子永不改变的爱国之心的表白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324000" y="96624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歌词中直抒胸臆表达对祖国一片深情不可改变的句子有哪些？</a:t>
            </a:r>
            <a:r>
              <a:rPr b="0" lang="zh-CN" sz="3600" spc="-1" strike="noStrike">
                <a:solidFill>
                  <a:srgbClr val="007a77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11280" y="3331440"/>
            <a:ext cx="734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可是不管怎样，也改变不了我的中国心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无论何时，无论何地，心中一样亲。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就算身在他乡，也改变不了我的中国心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  <a:ea typeface="黑体"/>
              </a:rPr>
              <a:t>主旨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黑体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歌词通过一位海外游子的诉说，刻画了祖国的拳拳赤子之心。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07062912066656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黑体"/>
              </a:rPr>
              <a:t>想一想：香港为何会回到祖国的怀抱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香港回归具有十分重大的历史意义。成熟理智地总结经验的十分恰当的时间座标。从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840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鸦片战争开始，中国社会逐渐沦为半殖民地半封建社会。在中国近现代史上，中华民族饱尝了外国列强的侵略和压迫。中国的近现代史是一部屈辱的记录。其中，英国殖民者通过炮舰政策。海盗行径和不平等条约割占了香港，使之成为西方世界问鼎中华和掳掠东方财富的桥头堡。因而香港的历史命运正是中华民族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50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多年特殊遭遇的一个生动写照。今天，在中国政府和中国人民的不懈努力之下，香港回归祖国，百年的民族耻辱被洗刷，民族的神圣感情再次升华。这是香港回归历史意义的最基本的方面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18108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香港回归历史意义的另一个方面，在于它表现了中国人民长期反对强权政治的胆识和魄力。这一时期，正是邓小平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一个国家，两种制度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和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和平统一，一国两制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的构想趋于成熟定型的关键时期。当邓小平提出中国政府将在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997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日收回香港，并用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一国两制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方案来解决香港问题时，素有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铁娘子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之称的撒切尔夫人闻听此言，心慌走神，在人民大会堂的台阶上险些跌了一跤。挟马岛之战胜利余威来到北京的柴契尔夫人，在会谈开始时就抛出了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三个条约继续有效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的论调，声言中国只能收回新界，而香港岛和九龙则按条约永属英国。未料，此说被中国方面当场回绝，邓小平以坚定的口吻回答：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主权问题是不可以讨论的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。第二年，英国政府推出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以主权换治权</a:t>
            </a:r>
            <a:r>
              <a:rPr b="1" lang="zh-CN" sz="28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的方案，再次遭到中国政府代表团的否定。 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840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年到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997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年这样一个极大的历史跨度，包含了中国社会和历史的丰富内容，在世界历史发展中也占有极为特殊的重要地位。这</a:t>
            </a:r>
            <a:r>
              <a:rPr b="1" lang="en-US" sz="2800" spc="-1" strike="noStrike">
                <a:solidFill>
                  <a:srgbClr val="0c080c"/>
                </a:solidFill>
                <a:latin typeface="黑体"/>
                <a:ea typeface="黑体"/>
              </a:rPr>
              <a:t>150</a:t>
            </a:r>
            <a:r>
              <a:rPr b="1" lang="zh-CN" sz="2800" spc="-1" strike="noStrike">
                <a:solidFill>
                  <a:srgbClr val="0c080c"/>
                </a:solidFill>
                <a:latin typeface="黑体"/>
                <a:ea typeface="黑体"/>
              </a:rPr>
              <a:t>多年的时间，是中国人民不断探索，逐步走向民族振兴。国家富强和社会进步的现代化目标的过程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756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只有自己足够强大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才不会让心怀不轨的人小瞧中国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希望同学们好好学习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成为祖国未来的接班人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让祖国永远繁荣昌盛！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2843280" y="10526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Picture 3" descr="858af5ed3491e53a62d09f93"/>
          <p:cNvPicPr/>
          <p:nvPr/>
        </p:nvPicPr>
        <p:blipFill>
          <a:blip r:embed="rId2"/>
          <a:srcRect l="0" t="0" r="0" b="-133"/>
          <a:stretch/>
        </p:blipFill>
        <p:spPr>
          <a:xfrm>
            <a:off x="0" y="0"/>
            <a:ext cx="9753480" cy="7324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-252360" y="1916280"/>
            <a:ext cx="624024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河山只在我梦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祖国已多年未亲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可是不管怎样也改变不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的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洋装虽然穿在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心依然是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的祖先早已把我的一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烙上中国印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700360" y="765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我的中国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411280" y="1700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ahoma"/>
              </a:rPr>
              <a:t>词：黄霑     曲：王福龄     原唱：张明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608360" y="2060640"/>
            <a:ext cx="4535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长江 长城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黄山 黄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在我心中重千斤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无论何时  无论何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心中一样亲 流在心里的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澎湃着中华的声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就算生在他乡也改变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我的中国心</a:t>
            </a:r>
            <a:r>
              <a:rPr b="1" i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1" name="张明敏-我的中国心.mp3" descr=""/>
          <p:cNvPicPr/>
          <p:nvPr/>
        </p:nvPicPr>
        <p:blipFill>
          <a:blip r:embed="rId3"/>
          <a:stretch/>
        </p:blipFill>
        <p:spPr>
          <a:xfrm>
            <a:off x="9144000" y="6300720"/>
            <a:ext cx="557280" cy="557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00360" y="652608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166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549360"/>
            <a:ext cx="29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黑体"/>
              </a:rPr>
              <a:t>唱一唱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971640" y="1628640"/>
            <a:ext cx="71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在品味歌词的基础上，再次聆听歌曲，会唱的同学跟着哼唱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700360" y="342900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的中国心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FA52-7EF0-4387-AA5C-9A964D163D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843280" y="1052640"/>
            <a:ext cx="244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1" name="Picture 3" descr="858af5ed3491e53a62d09f93"/>
          <p:cNvPicPr/>
          <p:nvPr/>
        </p:nvPicPr>
        <p:blipFill>
          <a:blip r:embed="rId2"/>
          <a:srcRect l="0" t="0" r="0" b="-133"/>
          <a:stretch/>
        </p:blipFill>
        <p:spPr>
          <a:xfrm>
            <a:off x="0" y="0"/>
            <a:ext cx="9753480" cy="732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"/>
          <p:cNvSpPr/>
          <p:nvPr/>
        </p:nvSpPr>
        <p:spPr>
          <a:xfrm>
            <a:off x="0" y="1916280"/>
            <a:ext cx="6240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河山只在我梦萦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祖国已多年未亲近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可是不管怎样也改变不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的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洋装虽然穿在身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心依然是中国心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的祖先早已把我的一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烙上中国印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700360" y="765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ahoma"/>
                <a:ea typeface="黑体"/>
              </a:rPr>
              <a:t>我的中国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411280" y="170028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00"/>
                </a:solidFill>
                <a:latin typeface="Tahoma"/>
              </a:rPr>
              <a:t>词：黄霑     曲：王福龄     原唱：张明敏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932360" y="1916280"/>
            <a:ext cx="453564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长江 长城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黄山 黄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我心中重千斤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无论何时  无论何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心中一样亲 流在心里的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澎湃着中华的声音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就算生在他乡也改变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我的中国心</a:t>
            </a:r>
            <a:r>
              <a:rPr b="1" i="1" lang="zh-CN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"/>
          <p:cNvSpPr/>
          <p:nvPr/>
        </p:nvSpPr>
        <p:spPr>
          <a:xfrm>
            <a:off x="1500120" y="1557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5" descr="59l"/>
          <p:cNvPicPr/>
          <p:nvPr/>
        </p:nvPicPr>
        <p:blipFill>
          <a:blip r:embed="rId2"/>
          <a:stretch/>
        </p:blipFill>
        <p:spPr>
          <a:xfrm>
            <a:off x="0" y="1125360"/>
            <a:ext cx="4284720" cy="5732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4356000" y="0"/>
            <a:ext cx="47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黄霑，原名黄湛森，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4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生于广州，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49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随父母移居香港，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63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毕业于香港大学中文系。香港著名作家、词曲作家。与金庸、倪匡、蔡澜一起被称为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香港四大才子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。又与倪匡、蔡澜一同被称为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香港三大名嘴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，写出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2000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多首歌曲，被称为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流行歌词总讲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。从事媒体工作数十年，有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鬼才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之称 。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2004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日因病逝世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50920" y="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作者介绍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30200" y="620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c080c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82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下半年，日本文部省在审定中小学教科书时，公然篡改日本帝国主义侵略中国的历史，这激起了中国人民及港澳同胞极大的愤慨，黄霑和王福龄合作创作了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我的中国心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。经香港歌手张明敏演唱后，在港澳同胞中引起强烈共鸣，纷纷传唱，表达他们的爱国之情。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84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，英国时任首相撒切尔夫人来华访问，发表了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中英联合声明</a:t>
            </a:r>
            <a:r>
              <a:rPr b="1" lang="zh-CN" sz="3200" spc="-1" strike="noStrike">
                <a:solidFill>
                  <a:srgbClr val="0c080c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，中国政府将于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997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日收回香港主权。这一年的春节联欢晚会上，张明敏凭一曲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我的中国心</a:t>
            </a:r>
            <a:r>
              <a:rPr b="1" lang="en-US" sz="3200" spc="-1" strike="noStrike">
                <a:solidFill>
                  <a:srgbClr val="0c080c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c080c"/>
                </a:solidFill>
                <a:latin typeface="黑体"/>
                <a:ea typeface="黑体"/>
              </a:rPr>
              <a:t>第一个参加中国中央电视台春节联欢晚会的香港演员 ，并让这首歌曲红遍祖国的大江南北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歌曲简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9"/>
          <p:cNvSpPr/>
          <p:nvPr/>
        </p:nvSpPr>
        <p:spPr>
          <a:xfrm>
            <a:off x="250920" y="2060640"/>
            <a:ext cx="3960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聆  听  歌 曲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体  会  情 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走  入  情 境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5435640" y="213372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80c"/>
                </a:solidFill>
                <a:latin typeface="黑体"/>
                <a:ea typeface="黑体"/>
              </a:rPr>
              <a:t>有感情的朗读歌词，品味歌词的美妙之处。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4211640" y="3213000"/>
            <a:ext cx="865080" cy="503280"/>
          </a:xfrm>
          <a:prstGeom prst="rightArrow">
            <a:avLst>
              <a:gd name="adj1" fmla="val 50000"/>
              <a:gd name="adj2" fmla="val 4297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c080c"/>
                </a:solidFill>
                <a:latin typeface="Arial"/>
                <a:ea typeface="黑体"/>
              </a:rPr>
              <a:t>梳理结构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海外赤子有一颗不变的中国心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祖国永远在海外赤子心中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海外赤子之心永远不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547640" y="2637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19280" y="4005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47640" y="566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8"/>
          <p:cNvSpPr/>
          <p:nvPr/>
        </p:nvSpPr>
        <p:spPr>
          <a:xfrm>
            <a:off x="179280" y="54936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深入探究歌词，回答有关问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68360" y="170028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歌曲中反复吟唱的主题词是什么？如何理解？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84360" y="3213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歌词中反复吟唱的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中国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，也就是海外游子心中永远装着祖国，永远念着祖国 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6381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39640" y="620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c080c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、这首歌以什么样的身份来吟唱？从哪些地方可以看出来？</a:t>
            </a:r>
            <a:r>
              <a:rPr b="0" lang="zh-CN" sz="3600" spc="-1" strike="noStrike">
                <a:solidFill>
                  <a:srgbClr val="0c080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39640" y="191628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海外游子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河山只在我梦萦，祖国已多年未亲近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。 离开祖国已不知多少年，有的甚至从未踏上过祖国的河山。可是不管离开了多少年，哪怕从未见过，而梦里都是祖国山河的影子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梦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年未亲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点明了游子的身份，包含着深深地思念和遗憾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c080c"/>
                </a:solidFill>
                <a:latin typeface="Arial"/>
                <a:ea typeface="黑体"/>
              </a:rPr>
              <a:t>洋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虽然</a:t>
            </a:r>
            <a:r>
              <a:rPr b="1" lang="zh-CN" sz="4000" spc="-1" strike="noStrike">
                <a:solidFill>
                  <a:srgbClr val="0c080c"/>
                </a:solidFill>
                <a:latin typeface="Arial"/>
                <a:ea typeface="黑体"/>
              </a:rPr>
              <a:t>穿在身，我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依然</a:t>
            </a:r>
            <a:r>
              <a:rPr b="1" lang="zh-CN" sz="4000" spc="-1" strike="noStrike">
                <a:solidFill>
                  <a:srgbClr val="0c080c"/>
                </a:solidFill>
                <a:latin typeface="Arial"/>
                <a:ea typeface="黑体"/>
              </a:rPr>
              <a:t>是中国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虽然”、“依然”在结构上呼应，在内容上对比，通过内外对比，写出海外游子身在海外，心系祖国的情怀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7:43:59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dcterms:modified xsi:type="dcterms:W3CDTF">2015-07-20T11:41:53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