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EAC-3B68-40A9-B03E-CDF17CA2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84B-FD8E-4802-9914-1BDA4F4A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F23-763C-43D6-B417-6F0D4676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ABA-0978-4100-A2E9-BBCDA934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741-F03D-49CF-A932-9F05C2A3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409-B2A9-4048-A786-FAC48E0C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153-8154-481C-A209-AF995953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65D-63AE-4F22-8543-F1AD256A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B40-1A1A-4CA9-AE8E-25DC8B6F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B24-FFF4-4B61-9D9C-7E51C8BD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CE1-6F26-442F-8AD9-05C28A2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EF43-587D-44CB-84F3-86A4118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60E-9E9C-4E14-80EE-9C6231E1A22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0C87-116B-4D0E-BF59-8E30010491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slide" Target="slide1.xml"/><Relationship Id="rId19" Type="http://schemas.openxmlformats.org/officeDocument/2006/relationships/slide" Target="slide2.xml"/><Relationship Id="rId20" Type="http://schemas.openxmlformats.org/officeDocument/2006/relationships/slide" Target="slide3.xml"/><Relationship Id="rId21" Type="http://schemas.openxmlformats.org/officeDocument/2006/relationships/slide" Target="slide4.xml"/><Relationship Id="rId22" Type="http://schemas.openxmlformats.org/officeDocument/2006/relationships/image" Target="../media/image3.jpe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5"/>
          <p:cNvSpPr/>
          <p:nvPr/>
        </p:nvSpPr>
        <p:spPr>
          <a:xfrm>
            <a:off x="971640" y="37296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6"/>
          <a:srcRect l="0" t="26779" r="0" b="18761"/>
          <a:stretch/>
        </p:blipFill>
        <p:spPr>
          <a:xfrm>
            <a:off x="-65160" y="0"/>
            <a:ext cx="920916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-65160" y="0"/>
            <a:ext cx="9209160" cy="5143680"/>
          </a:xfrm>
          <a:prstGeom prst="rect">
            <a:avLst/>
          </a:prstGeom>
          <a:solidFill>
            <a:srgbClr val="7f7f7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7"/>
          <a:srcRect l="13524" t="0" r="15829" b="2299"/>
          <a:stretch/>
        </p:blipFill>
        <p:spPr>
          <a:xfrm>
            <a:off x="2771640" y="115920"/>
            <a:ext cx="3600720" cy="4911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2771640" y="115920"/>
            <a:ext cx="360072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951280" y="231840"/>
            <a:ext cx="3233520" cy="46800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7"/>
          <p:cNvSpPr/>
          <p:nvPr/>
        </p:nvSpPr>
        <p:spPr>
          <a:xfrm>
            <a:off x="2857680" y="320760"/>
            <a:ext cx="3416040" cy="45054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2857680" y="231840"/>
            <a:ext cx="4572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9"/>
          <p:cNvSpPr/>
          <p:nvPr/>
        </p:nvSpPr>
        <p:spPr>
          <a:xfrm>
            <a:off x="6227640" y="231840"/>
            <a:ext cx="4608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6227640" y="4867200"/>
            <a:ext cx="46080" cy="4464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2857680" y="4865760"/>
            <a:ext cx="45720" cy="460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82560" y="906480"/>
            <a:ext cx="7778880" cy="38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4"/>
          <p:cNvGrpSpPr/>
          <p:nvPr/>
        </p:nvGrpSpPr>
        <p:grpSpPr>
          <a:xfrm>
            <a:off x="3105360" y="243000"/>
            <a:ext cx="2584800" cy="607320"/>
            <a:chOff x="3105360" y="243000"/>
            <a:chExt cx="2584800" cy="607320"/>
          </a:xfrm>
        </p:grpSpPr>
        <p:sp>
          <p:nvSpPr>
            <p:cNvPr id="54" name="矩形 14"/>
            <p:cNvSpPr/>
            <p:nvPr/>
          </p:nvSpPr>
          <p:spPr>
            <a:xfrm>
              <a:off x="4560120" y="24300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5"/>
            <p:cNvSpPr/>
            <p:nvPr/>
          </p:nvSpPr>
          <p:spPr>
            <a:xfrm>
              <a:off x="3105360" y="2689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6"/>
            <p:cNvSpPr/>
            <p:nvPr/>
          </p:nvSpPr>
          <p:spPr>
            <a:xfrm>
              <a:off x="4305960" y="252000"/>
              <a:ext cx="90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8"/>
          <p:cNvSpPr/>
          <p:nvPr/>
        </p:nvSpPr>
        <p:spPr>
          <a:xfrm>
            <a:off x="4093920" y="671400"/>
            <a:ext cx="87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9"/>
          <p:cNvSpPr/>
          <p:nvPr/>
        </p:nvSpPr>
        <p:spPr>
          <a:xfrm>
            <a:off x="927000" y="1131840"/>
            <a:ext cx="7290000" cy="3240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648800" y="4371840"/>
            <a:ext cx="5887800" cy="368280"/>
            <a:chOff x="1648800" y="4371840"/>
            <a:chExt cx="5887800" cy="368280"/>
          </a:xfrm>
        </p:grpSpPr>
        <p:sp>
          <p:nvSpPr>
            <p:cNvPr id="60" name="矩形 34">
              <a:hlinkClick r:id="rId18" action="ppaction://hlinksldjump"/>
            </p:cNvPr>
            <p:cNvSpPr/>
            <p:nvPr/>
          </p:nvSpPr>
          <p:spPr>
            <a:xfrm>
              <a:off x="1648800" y="437184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5">
              <a:hlinkClick r:id="rId19" action="ppaction://hlinksldjump"/>
            </p:cNvPr>
            <p:cNvSpPr/>
            <p:nvPr/>
          </p:nvSpPr>
          <p:spPr>
            <a:xfrm>
              <a:off x="3161880" y="43718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6">
              <a:hlinkClick r:id="rId20" action="ppaction://hlinksldjump"/>
            </p:cNvPr>
            <p:cNvSpPr/>
            <p:nvPr/>
          </p:nvSpPr>
          <p:spPr>
            <a:xfrm>
              <a:off x="4287600" y="437184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37">
              <a:hlinkClick r:id="rId21" action="ppaction://hlinksldjump"/>
            </p:cNvPr>
            <p:cNvSpPr/>
            <p:nvPr/>
          </p:nvSpPr>
          <p:spPr>
            <a:xfrm>
              <a:off x="6235560" y="4371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27" descr=""/>
          <p:cNvPicPr/>
          <p:nvPr/>
        </p:nvPicPr>
        <p:blipFill>
          <a:blip r:embed="rId22"/>
          <a:srcRect l="609" t="5289" r="609" b="28829"/>
          <a:stretch/>
        </p:blipFill>
        <p:spPr>
          <a:xfrm>
            <a:off x="927000" y="1131840"/>
            <a:ext cx="729000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"/>
          <p:cNvSpPr/>
          <p:nvPr/>
        </p:nvSpPr>
        <p:spPr>
          <a:xfrm>
            <a:off x="2855520" y="133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结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183240" y="474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5160" y="0"/>
            <a:ext cx="9209160" cy="5143680"/>
          </a:xfrm>
          <a:prstGeom prst="rect">
            <a:avLst/>
          </a:prstGeom>
          <a:ln w="0">
            <a:noFill/>
          </a:ln>
        </p:spPr>
      </p:pic>
      <p:sp>
        <p:nvSpPr>
          <p:cNvPr id="68" name="矩形 8"/>
          <p:cNvSpPr/>
          <p:nvPr/>
        </p:nvSpPr>
        <p:spPr>
          <a:xfrm>
            <a:off x="-65160" y="0"/>
            <a:ext cx="9209160" cy="5143680"/>
          </a:xfrm>
          <a:prstGeom prst="rect">
            <a:avLst/>
          </a:prstGeom>
          <a:solidFill>
            <a:srgbClr val="7f7f7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rcRect l="13524" t="0" r="15829" b="2299"/>
          <a:stretch/>
        </p:blipFill>
        <p:spPr>
          <a:xfrm>
            <a:off x="2771640" y="115920"/>
            <a:ext cx="3600720" cy="4911840"/>
          </a:xfrm>
          <a:prstGeom prst="rect">
            <a:avLst/>
          </a:prstGeom>
          <a:ln w="0">
            <a:noFill/>
          </a:ln>
        </p:spPr>
      </p:pic>
      <p:sp>
        <p:nvSpPr>
          <p:cNvPr id="70" name="矩形 10"/>
          <p:cNvSpPr/>
          <p:nvPr/>
        </p:nvSpPr>
        <p:spPr>
          <a:xfrm>
            <a:off x="2771640" y="115920"/>
            <a:ext cx="360072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2951280" y="231840"/>
            <a:ext cx="3233520" cy="46800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7"/>
          <p:cNvSpPr/>
          <p:nvPr/>
        </p:nvSpPr>
        <p:spPr>
          <a:xfrm>
            <a:off x="2857680" y="320760"/>
            <a:ext cx="3416040" cy="45054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2857680" y="231840"/>
            <a:ext cx="4572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9"/>
          <p:cNvSpPr/>
          <p:nvPr/>
        </p:nvSpPr>
        <p:spPr>
          <a:xfrm>
            <a:off x="6227640" y="231840"/>
            <a:ext cx="4608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6227640" y="4867200"/>
            <a:ext cx="46080" cy="4464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2857680" y="4865760"/>
            <a:ext cx="45720" cy="460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82560" y="906480"/>
            <a:ext cx="7778880" cy="38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3105360" y="243000"/>
            <a:ext cx="2584800" cy="607320"/>
            <a:chOff x="3105360" y="243000"/>
            <a:chExt cx="2584800" cy="607320"/>
          </a:xfrm>
        </p:grpSpPr>
        <p:sp>
          <p:nvSpPr>
            <p:cNvPr id="79" name="矩形 14"/>
            <p:cNvSpPr/>
            <p:nvPr/>
          </p:nvSpPr>
          <p:spPr>
            <a:xfrm>
              <a:off x="4560120" y="24300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5"/>
            <p:cNvSpPr/>
            <p:nvPr/>
          </p:nvSpPr>
          <p:spPr>
            <a:xfrm>
              <a:off x="3105360" y="2689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6"/>
            <p:cNvSpPr/>
            <p:nvPr/>
          </p:nvSpPr>
          <p:spPr>
            <a:xfrm>
              <a:off x="4305960" y="252000"/>
              <a:ext cx="90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8"/>
          <p:cNvSpPr/>
          <p:nvPr/>
        </p:nvSpPr>
        <p:spPr>
          <a:xfrm>
            <a:off x="4093920" y="671400"/>
            <a:ext cx="87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9"/>
          <p:cNvSpPr/>
          <p:nvPr/>
        </p:nvSpPr>
        <p:spPr>
          <a:xfrm>
            <a:off x="927000" y="1131840"/>
            <a:ext cx="7290000" cy="3240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648800" y="4371840"/>
            <a:ext cx="5887800" cy="368280"/>
            <a:chOff x="1648800" y="4371840"/>
            <a:chExt cx="5887800" cy="368280"/>
          </a:xfrm>
        </p:grpSpPr>
        <p:sp>
          <p:nvSpPr>
            <p:cNvPr id="85" name="矩形 34">
              <a:hlinkClick r:id="rId3" action="ppaction://hlinksldjump"/>
            </p:cNvPr>
            <p:cNvSpPr/>
            <p:nvPr/>
          </p:nvSpPr>
          <p:spPr>
            <a:xfrm>
              <a:off x="1648800" y="437184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5">
              <a:hlinkClick r:id="rId4" action="ppaction://hlinksldjump"/>
            </p:cNvPr>
            <p:cNvSpPr/>
            <p:nvPr/>
          </p:nvSpPr>
          <p:spPr>
            <a:xfrm>
              <a:off x="3161880" y="43718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36">
              <a:hlinkClick r:id="rId5" action="ppaction://hlinksldjump"/>
            </p:cNvPr>
            <p:cNvSpPr/>
            <p:nvPr/>
          </p:nvSpPr>
          <p:spPr>
            <a:xfrm>
              <a:off x="4287600" y="437184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7">
              <a:hlinkClick r:id="rId6" action="ppaction://hlinksldjump"/>
            </p:cNvPr>
            <p:cNvSpPr/>
            <p:nvPr/>
          </p:nvSpPr>
          <p:spPr>
            <a:xfrm>
              <a:off x="6235560" y="4371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图片 27" descr=""/>
          <p:cNvPicPr/>
          <p:nvPr/>
        </p:nvPicPr>
        <p:blipFill>
          <a:blip r:embed="rId7"/>
          <a:srcRect l="609" t="5289" r="609" b="28829"/>
          <a:stretch/>
        </p:blipFill>
        <p:spPr>
          <a:xfrm>
            <a:off x="927000" y="1131840"/>
            <a:ext cx="7290000" cy="3240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5"/>
          <p:cNvGrpSpPr/>
          <p:nvPr/>
        </p:nvGrpSpPr>
        <p:grpSpPr>
          <a:xfrm>
            <a:off x="1311120" y="1376280"/>
            <a:ext cx="6964560" cy="3035880"/>
            <a:chOff x="1311120" y="1376280"/>
            <a:chExt cx="6964560" cy="3035880"/>
          </a:xfrm>
        </p:grpSpPr>
        <p:pic>
          <p:nvPicPr>
            <p:cNvPr id="91" name="图片 25" descr=""/>
            <p:cNvPicPr/>
            <p:nvPr/>
          </p:nvPicPr>
          <p:blipFill>
            <a:blip r:embed="rId8"/>
            <a:srcRect l="0" t="5091" r="4047" b="5091"/>
            <a:stretch/>
          </p:blipFill>
          <p:spPr>
            <a:xfrm>
              <a:off x="4937040" y="1376280"/>
              <a:ext cx="162828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92" name="图片 26" descr=""/>
            <p:cNvPicPr/>
            <p:nvPr/>
          </p:nvPicPr>
          <p:blipFill>
            <a:blip r:embed="rId9"/>
            <a:stretch/>
          </p:blipFill>
          <p:spPr>
            <a:xfrm>
              <a:off x="1311120" y="1376280"/>
              <a:ext cx="160632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93" name="图片 28" descr=""/>
            <p:cNvPicPr/>
            <p:nvPr/>
          </p:nvPicPr>
          <p:blipFill>
            <a:blip r:embed="rId10"/>
            <a:stretch/>
          </p:blipFill>
          <p:spPr>
            <a:xfrm>
              <a:off x="1311120" y="2853000"/>
              <a:ext cx="160488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94" name="图片 29" descr=""/>
            <p:cNvPicPr/>
            <p:nvPr/>
          </p:nvPicPr>
          <p:blipFill>
            <a:blip r:embed="rId11"/>
            <a:stretch/>
          </p:blipFill>
          <p:spPr>
            <a:xfrm>
              <a:off x="4937040" y="2853000"/>
              <a:ext cx="162828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grpSp>
          <p:nvGrpSpPr>
            <p:cNvPr id="95" name="Group 30"/>
            <p:cNvGrpSpPr/>
            <p:nvPr/>
          </p:nvGrpSpPr>
          <p:grpSpPr>
            <a:xfrm>
              <a:off x="1798560" y="1600920"/>
              <a:ext cx="630000" cy="630000"/>
              <a:chOff x="1798560" y="1600920"/>
              <a:chExt cx="630000" cy="630000"/>
            </a:xfrm>
          </p:grpSpPr>
          <p:sp>
            <p:nvSpPr>
              <p:cNvPr id="96" name="椭圆 50"/>
              <p:cNvSpPr/>
              <p:nvPr/>
            </p:nvSpPr>
            <p:spPr>
              <a:xfrm>
                <a:off x="1798560" y="160092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角三角形 51"/>
              <p:cNvSpPr/>
              <p:nvPr/>
            </p:nvSpPr>
            <p:spPr>
              <a:xfrm rot="13366800">
                <a:off x="1937880" y="179568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33"/>
            <p:cNvGrpSpPr/>
            <p:nvPr/>
          </p:nvGrpSpPr>
          <p:grpSpPr>
            <a:xfrm>
              <a:off x="5436360" y="1600920"/>
              <a:ext cx="630000" cy="630000"/>
              <a:chOff x="5436360" y="1600920"/>
              <a:chExt cx="630000" cy="630000"/>
            </a:xfrm>
          </p:grpSpPr>
          <p:sp>
            <p:nvSpPr>
              <p:cNvPr id="99" name="椭圆 48"/>
              <p:cNvSpPr/>
              <p:nvPr/>
            </p:nvSpPr>
            <p:spPr>
              <a:xfrm>
                <a:off x="5436360" y="160092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角三角形 49"/>
              <p:cNvSpPr/>
              <p:nvPr/>
            </p:nvSpPr>
            <p:spPr>
              <a:xfrm rot="13366800">
                <a:off x="5575680" y="179568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36"/>
            <p:cNvGrpSpPr/>
            <p:nvPr/>
          </p:nvGrpSpPr>
          <p:grpSpPr>
            <a:xfrm>
              <a:off x="5435640" y="3078000"/>
              <a:ext cx="630000" cy="630000"/>
              <a:chOff x="5435640" y="3078000"/>
              <a:chExt cx="630000" cy="630000"/>
            </a:xfrm>
          </p:grpSpPr>
          <p:sp>
            <p:nvSpPr>
              <p:cNvPr id="102" name="椭圆 46"/>
              <p:cNvSpPr/>
              <p:nvPr/>
            </p:nvSpPr>
            <p:spPr>
              <a:xfrm>
                <a:off x="5435640" y="307800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角三角形 47"/>
              <p:cNvSpPr/>
              <p:nvPr/>
            </p:nvSpPr>
            <p:spPr>
              <a:xfrm rot="13366800">
                <a:off x="5574960" y="327276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9"/>
            <p:cNvGrpSpPr/>
            <p:nvPr/>
          </p:nvGrpSpPr>
          <p:grpSpPr>
            <a:xfrm>
              <a:off x="1743480" y="3078000"/>
              <a:ext cx="630000" cy="630000"/>
              <a:chOff x="1743480" y="3078000"/>
              <a:chExt cx="630000" cy="630000"/>
            </a:xfrm>
          </p:grpSpPr>
          <p:sp>
            <p:nvSpPr>
              <p:cNvPr id="105" name="椭圆 44"/>
              <p:cNvSpPr/>
              <p:nvPr/>
            </p:nvSpPr>
            <p:spPr>
              <a:xfrm>
                <a:off x="1743480" y="307800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角三角形 45"/>
              <p:cNvSpPr/>
              <p:nvPr/>
            </p:nvSpPr>
            <p:spPr>
              <a:xfrm rot="13366800">
                <a:off x="1882800" y="327276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Box 40"/>
            <p:cNvSpPr/>
            <p:nvPr/>
          </p:nvSpPr>
          <p:spPr>
            <a:xfrm>
              <a:off x="2917440" y="209520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Romeo is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1"/>
            <p:cNvSpPr/>
            <p:nvPr/>
          </p:nvSpPr>
          <p:spPr>
            <a:xfrm>
              <a:off x="2945880" y="358668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Juliet is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2"/>
            <p:cNvSpPr/>
            <p:nvPr/>
          </p:nvSpPr>
          <p:spPr>
            <a:xfrm>
              <a:off x="6565320" y="200052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3"/>
            <p:cNvSpPr/>
            <p:nvPr/>
          </p:nvSpPr>
          <p:spPr>
            <a:xfrm>
              <a:off x="6552720" y="347724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心形 52"/>
          <p:cNvSpPr/>
          <p:nvPr/>
        </p:nvSpPr>
        <p:spPr>
          <a:xfrm rot="2427000">
            <a:off x="2739960" y="2865600"/>
            <a:ext cx="365040" cy="312480"/>
          </a:xfrm>
          <a:custGeom>
            <a:avLst/>
            <a:gdLst>
              <a:gd name="textAreaLeft" fmla="*/ 84960 w 365040"/>
              <a:gd name="textAreaRight" fmla="*/ 280080 w 365040"/>
              <a:gd name="textAreaTop" fmla="*/ 32760 h 312480"/>
              <a:gd name="textAreaBottom" fmla="*/ 198000 h 312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心形 53"/>
          <p:cNvSpPr/>
          <p:nvPr/>
        </p:nvSpPr>
        <p:spPr>
          <a:xfrm rot="19110600">
            <a:off x="3538080" y="264960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心形 54"/>
          <p:cNvSpPr/>
          <p:nvPr/>
        </p:nvSpPr>
        <p:spPr>
          <a:xfrm rot="6376800">
            <a:off x="2854440" y="2250360"/>
            <a:ext cx="360360" cy="307800"/>
          </a:xfrm>
          <a:custGeom>
            <a:avLst/>
            <a:gdLst>
              <a:gd name="textAreaLeft" fmla="*/ 83880 w 360360"/>
              <a:gd name="textAreaRight" fmla="*/ 276480 w 360360"/>
              <a:gd name="textAreaTop" fmla="*/ 32400 h 307800"/>
              <a:gd name="textAreaBottom" fmla="*/ 195120 h 307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心形 55"/>
          <p:cNvSpPr/>
          <p:nvPr/>
        </p:nvSpPr>
        <p:spPr>
          <a:xfrm>
            <a:off x="4070520" y="2120760"/>
            <a:ext cx="237960" cy="204840"/>
          </a:xfrm>
          <a:custGeom>
            <a:avLst/>
            <a:gdLst>
              <a:gd name="textAreaLeft" fmla="*/ 55440 w 237960"/>
              <a:gd name="textAreaRight" fmla="*/ 182520 w 2379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心形 56"/>
          <p:cNvSpPr/>
          <p:nvPr/>
        </p:nvSpPr>
        <p:spPr>
          <a:xfrm rot="3040200">
            <a:off x="4809600" y="3201840"/>
            <a:ext cx="378000" cy="324000"/>
          </a:xfrm>
          <a:custGeom>
            <a:avLst/>
            <a:gdLst>
              <a:gd name="textAreaLeft" fmla="*/ 88200 w 378000"/>
              <a:gd name="textAreaRight" fmla="*/ 289800 w 378000"/>
              <a:gd name="textAreaTop" fmla="*/ 33840 h 324000"/>
              <a:gd name="textAreaBottom" fmla="*/ 205200 h 32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心形 57"/>
          <p:cNvSpPr/>
          <p:nvPr/>
        </p:nvSpPr>
        <p:spPr>
          <a:xfrm rot="17826000">
            <a:off x="5164200" y="2301480"/>
            <a:ext cx="239400" cy="204840"/>
          </a:xfrm>
          <a:custGeom>
            <a:avLst/>
            <a:gdLst>
              <a:gd name="textAreaLeft" fmla="*/ 55800 w 239400"/>
              <a:gd name="textAreaRight" fmla="*/ 183600 w 23940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心形 58"/>
          <p:cNvSpPr/>
          <p:nvPr/>
        </p:nvSpPr>
        <p:spPr>
          <a:xfrm>
            <a:off x="5875200" y="284004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心形 59"/>
          <p:cNvSpPr/>
          <p:nvPr/>
        </p:nvSpPr>
        <p:spPr>
          <a:xfrm rot="18033000">
            <a:off x="5083920" y="2708640"/>
            <a:ext cx="239760" cy="2030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240 h 203040"/>
              <a:gd name="textAreaBottom" fmla="*/ 128520 h 203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心形 60"/>
          <p:cNvSpPr/>
          <p:nvPr/>
        </p:nvSpPr>
        <p:spPr>
          <a:xfrm rot="19457400">
            <a:off x="6164280" y="2174400"/>
            <a:ext cx="353880" cy="303480"/>
          </a:xfrm>
          <a:custGeom>
            <a:avLst/>
            <a:gdLst>
              <a:gd name="textAreaLeft" fmla="*/ 82440 w 353880"/>
              <a:gd name="textAreaRight" fmla="*/ 271440 w 353880"/>
              <a:gd name="textAreaTop" fmla="*/ 31680 h 303480"/>
              <a:gd name="textAreaBottom" fmla="*/ 192240 h 303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心形 61"/>
          <p:cNvSpPr/>
          <p:nvPr/>
        </p:nvSpPr>
        <p:spPr>
          <a:xfrm rot="3188400">
            <a:off x="4450680" y="275256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心形 62"/>
          <p:cNvSpPr/>
          <p:nvPr/>
        </p:nvSpPr>
        <p:spPr>
          <a:xfrm rot="1939200">
            <a:off x="5078160" y="1731960"/>
            <a:ext cx="409320" cy="351000"/>
          </a:xfrm>
          <a:custGeom>
            <a:avLst/>
            <a:gdLst>
              <a:gd name="textAreaLeft" fmla="*/ 95400 w 409320"/>
              <a:gd name="textAreaRight" fmla="*/ 313920 w 409320"/>
              <a:gd name="textAreaTop" fmla="*/ 36720 h 351000"/>
              <a:gd name="textAreaBottom" fmla="*/ 222120 h 351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83f8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心形 63"/>
          <p:cNvSpPr/>
          <p:nvPr/>
        </p:nvSpPr>
        <p:spPr>
          <a:xfrm rot="1617000">
            <a:off x="3394080" y="2126880"/>
            <a:ext cx="237960" cy="204840"/>
          </a:xfrm>
          <a:custGeom>
            <a:avLst/>
            <a:gdLst>
              <a:gd name="textAreaLeft" fmla="*/ 55440 w 237960"/>
              <a:gd name="textAreaRight" fmla="*/ 182520 w 2379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心形 64"/>
          <p:cNvSpPr/>
          <p:nvPr/>
        </p:nvSpPr>
        <p:spPr>
          <a:xfrm rot="666600">
            <a:off x="2230560" y="3331800"/>
            <a:ext cx="630000" cy="539640"/>
          </a:xfrm>
          <a:custGeom>
            <a:avLst/>
            <a:gdLst>
              <a:gd name="textAreaLeft" fmla="*/ 146880 w 630000"/>
              <a:gd name="textAreaRight" fmla="*/ 483120 w 630000"/>
              <a:gd name="textAreaTop" fmla="*/ 56880 h 539640"/>
              <a:gd name="textAreaBottom" fmla="*/ 341640 h 539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心形 65"/>
          <p:cNvSpPr/>
          <p:nvPr/>
        </p:nvSpPr>
        <p:spPr>
          <a:xfrm rot="666600">
            <a:off x="5978520" y="332424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心形 66"/>
          <p:cNvSpPr/>
          <p:nvPr/>
        </p:nvSpPr>
        <p:spPr>
          <a:xfrm rot="666600">
            <a:off x="6896160" y="213840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心形 67"/>
          <p:cNvSpPr/>
          <p:nvPr/>
        </p:nvSpPr>
        <p:spPr>
          <a:xfrm rot="666600">
            <a:off x="1325160" y="1526760"/>
            <a:ext cx="892080" cy="763560"/>
          </a:xfrm>
          <a:custGeom>
            <a:avLst/>
            <a:gdLst>
              <a:gd name="textAreaLeft" fmla="*/ 208080 w 892080"/>
              <a:gd name="textAreaRight" fmla="*/ 684000 w 892080"/>
              <a:gd name="textAreaTop" fmla="*/ 80280 h 763560"/>
              <a:gd name="textAreaBottom" fmla="*/ 483480 h 763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心形 68"/>
          <p:cNvSpPr/>
          <p:nvPr/>
        </p:nvSpPr>
        <p:spPr>
          <a:xfrm rot="666600">
            <a:off x="476280" y="206532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心形 69"/>
          <p:cNvSpPr/>
          <p:nvPr/>
        </p:nvSpPr>
        <p:spPr>
          <a:xfrm rot="666600">
            <a:off x="6127560" y="1321920"/>
            <a:ext cx="892080" cy="763560"/>
          </a:xfrm>
          <a:custGeom>
            <a:avLst/>
            <a:gdLst>
              <a:gd name="textAreaLeft" fmla="*/ 208080 w 892080"/>
              <a:gd name="textAreaRight" fmla="*/ 684000 w 892080"/>
              <a:gd name="textAreaTop" fmla="*/ 80280 h 763560"/>
              <a:gd name="textAreaBottom" fmla="*/ 483480 h 763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2099E-006 L 0.06232 0.0003 E">
                                      <p:cBhvr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232 0.0003 L 0.00312 -0.05247 E">
                                      <p:cBhvr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3.45679E-006 L 0.01094 0.00956 E">
                                      <p:cBhvr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094 0.00956 L 0.03108 -0.03488 E">
                                      <p:cBhvr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3.95062E-006 L -0.01597 0.02161 E">
                                      <p:cBhvr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97 0.02161 L 0.03438 0.02161 E">
                                      <p:cBhvr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3457E-006 L 0.01996 0.00525 E">
                                      <p:cBhvr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996 0.00525 L 0.03541 0.04876 E">
                                      <p:cBhvr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7284E-006 L 0.00781 -0.03426 E">
                                      <p:cBhvr>
                                        <p:cTn id="72" dur="4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400000">
                                      <p:cBhvr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81 -0.03426 L -0.04792 -0.02469 E">
                                      <p:cBhvr>
                                        <p:cTn id="80" dur="4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5062E-006 L -0.02934 -0.00956 E">
                                      <p:cBhvr>
                                        <p:cTn id="86" dur="6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6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934 -0.00956 L -0.04896 -0.02716 E">
                                      <p:cBhvr>
                                        <p:cTn id="94" dur="6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-3.58025E-006 L 0.0118 -0.03703 E">
                                      <p:cBhvr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8 -0.03703 L -0.04723 -0.05432 E">
                                      <p:cBhvr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0.01406 -0.02068 E">
                                      <p:cBhvr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06 -0.02068 L -0.03768 -0.01574 E">
                                      <p:cBhvr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-4.93827E-007 L -0.02604 -0.00463 E">
                                      <p:cBhvr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1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604 -0.00463 L -0.05555 0.03025 E">
                                      <p:cBhvr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4.81481E-006 L -0.01268 0.00772 E">
                                      <p:cBhvr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9600000">
                                      <p:cBhvr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268 0.00772 L -0.03056 -0.00555 E">
                                      <p:cBhvr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9.87654E-007 L -0.02136 -0.02562 E">
                                      <p:cBhvr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136 -0.02562 L -0.02257 0.02284 E">
                                      <p:cBhvr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382 -0.03148 E">
                                      <p:cBhvr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82 -0.03148 L 0.03941 -0.05277 E">
                                      <p:cBhvr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5802E-006 L 0.08385 0.11481 E">
                                      <p:cBhvr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1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385 0.11481 L 0.13316 -0.06019 E">
                                      <p:cBhvr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2951 0.1179 E">
                                      <p:cBhvr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51 0.1179 L 0.17726 0.03025 E">
                                      <p:cBhvr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7531E-006 L 0.07674 0.01605 E">
                                      <p:cBhvr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7674 0.01605 L 0.02743 0.03364 E">
                                      <p:cBhvr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4568E-006 L 0.06858 -0.09846 E">
                                      <p:cBhvr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858 -0.09846 L 0.04896 0.02407 E">
                                      <p:cBhvr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L -0.04809 0.04784 E">
                                      <p:cBhvr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809 0.04784 L 0.09965 0.03025 E">
                                      <p:cBhvr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3951E-006 L 0.09601 -0.07623 E">
                                      <p:cBhvr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601 -0.07623 L 0.09601 -0.02376 E">
                                      <p:cBhvr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5160" y="0"/>
            <a:ext cx="9209160" cy="514368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-65160" y="0"/>
            <a:ext cx="9209160" cy="5143680"/>
          </a:xfrm>
          <a:prstGeom prst="rect">
            <a:avLst/>
          </a:prstGeom>
          <a:solidFill>
            <a:srgbClr val="7f7f7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rcRect l="13524" t="0" r="15829" b="2299"/>
          <a:stretch/>
        </p:blipFill>
        <p:spPr>
          <a:xfrm>
            <a:off x="2771640" y="115920"/>
            <a:ext cx="3600720" cy="491184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2771640" y="115920"/>
            <a:ext cx="360072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951280" y="231840"/>
            <a:ext cx="3233520" cy="46800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2857680" y="320760"/>
            <a:ext cx="3416040" cy="45054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2857680" y="231840"/>
            <a:ext cx="4572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6227640" y="231840"/>
            <a:ext cx="4608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6227640" y="4867200"/>
            <a:ext cx="46080" cy="4464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1"/>
          <p:cNvSpPr/>
          <p:nvPr/>
        </p:nvSpPr>
        <p:spPr>
          <a:xfrm>
            <a:off x="2857680" y="4865760"/>
            <a:ext cx="45720" cy="460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682560" y="906480"/>
            <a:ext cx="7778880" cy="38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3105360" y="243000"/>
            <a:ext cx="2584800" cy="607320"/>
            <a:chOff x="3105360" y="243000"/>
            <a:chExt cx="2584800" cy="607320"/>
          </a:xfrm>
        </p:grpSpPr>
        <p:sp>
          <p:nvSpPr>
            <p:cNvPr id="141" name="矩形 14"/>
            <p:cNvSpPr/>
            <p:nvPr/>
          </p:nvSpPr>
          <p:spPr>
            <a:xfrm>
              <a:off x="4560120" y="24300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15"/>
            <p:cNvSpPr/>
            <p:nvPr/>
          </p:nvSpPr>
          <p:spPr>
            <a:xfrm>
              <a:off x="3105360" y="2689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6"/>
            <p:cNvSpPr/>
            <p:nvPr/>
          </p:nvSpPr>
          <p:spPr>
            <a:xfrm>
              <a:off x="4305960" y="252000"/>
              <a:ext cx="90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矩形 18"/>
          <p:cNvSpPr/>
          <p:nvPr/>
        </p:nvSpPr>
        <p:spPr>
          <a:xfrm>
            <a:off x="4093920" y="671400"/>
            <a:ext cx="87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9"/>
          <p:cNvSpPr/>
          <p:nvPr/>
        </p:nvSpPr>
        <p:spPr>
          <a:xfrm>
            <a:off x="927000" y="1131840"/>
            <a:ext cx="7290000" cy="3240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9"/>
          <p:cNvGrpSpPr/>
          <p:nvPr/>
        </p:nvGrpSpPr>
        <p:grpSpPr>
          <a:xfrm>
            <a:off x="1648800" y="4371840"/>
            <a:ext cx="5887800" cy="368280"/>
            <a:chOff x="1648800" y="4371840"/>
            <a:chExt cx="5887800" cy="368280"/>
          </a:xfrm>
        </p:grpSpPr>
        <p:sp>
          <p:nvSpPr>
            <p:cNvPr id="147" name="矩形 34">
              <a:hlinkClick r:id="rId3" action="ppaction://hlinksldjump"/>
            </p:cNvPr>
            <p:cNvSpPr/>
            <p:nvPr/>
          </p:nvSpPr>
          <p:spPr>
            <a:xfrm>
              <a:off x="1648800" y="437184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35">
              <a:hlinkClick r:id="rId4" action="ppaction://hlinksldjump"/>
            </p:cNvPr>
            <p:cNvSpPr/>
            <p:nvPr/>
          </p:nvSpPr>
          <p:spPr>
            <a:xfrm>
              <a:off x="3161880" y="43718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36">
              <a:hlinkClick r:id="rId5" action="ppaction://hlinksldjump"/>
            </p:cNvPr>
            <p:cNvSpPr/>
            <p:nvPr/>
          </p:nvSpPr>
          <p:spPr>
            <a:xfrm>
              <a:off x="4287600" y="437184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37">
              <a:hlinkClick r:id="rId6" action="ppaction://hlinksldjump"/>
            </p:cNvPr>
            <p:cNvSpPr/>
            <p:nvPr/>
          </p:nvSpPr>
          <p:spPr>
            <a:xfrm>
              <a:off x="6235560" y="4371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4"/>
          <p:cNvGrpSpPr/>
          <p:nvPr/>
        </p:nvGrpSpPr>
        <p:grpSpPr>
          <a:xfrm>
            <a:off x="1311120" y="1376280"/>
            <a:ext cx="6964560" cy="3035880"/>
            <a:chOff x="1311120" y="1376280"/>
            <a:chExt cx="6964560" cy="3035880"/>
          </a:xfrm>
        </p:grpSpPr>
        <p:pic>
          <p:nvPicPr>
            <p:cNvPr id="152" name="图片 25" descr=""/>
            <p:cNvPicPr/>
            <p:nvPr/>
          </p:nvPicPr>
          <p:blipFill>
            <a:blip r:embed="rId7"/>
            <a:srcRect l="0" t="5091" r="4047" b="5091"/>
            <a:stretch/>
          </p:blipFill>
          <p:spPr>
            <a:xfrm>
              <a:off x="4937040" y="1376280"/>
              <a:ext cx="162828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153" name="图片 26" descr=""/>
            <p:cNvPicPr/>
            <p:nvPr/>
          </p:nvPicPr>
          <p:blipFill>
            <a:blip r:embed="rId8"/>
            <a:stretch/>
          </p:blipFill>
          <p:spPr>
            <a:xfrm>
              <a:off x="1311120" y="1376280"/>
              <a:ext cx="160632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154" name="图片 28" descr=""/>
            <p:cNvPicPr/>
            <p:nvPr/>
          </p:nvPicPr>
          <p:blipFill>
            <a:blip r:embed="rId9"/>
            <a:stretch/>
          </p:blipFill>
          <p:spPr>
            <a:xfrm>
              <a:off x="1311120" y="2853000"/>
              <a:ext cx="160488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155" name="图片 29" descr=""/>
            <p:cNvPicPr/>
            <p:nvPr/>
          </p:nvPicPr>
          <p:blipFill>
            <a:blip r:embed="rId10"/>
            <a:stretch/>
          </p:blipFill>
          <p:spPr>
            <a:xfrm>
              <a:off x="4937040" y="2853000"/>
              <a:ext cx="1628280" cy="108000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grpSp>
          <p:nvGrpSpPr>
            <p:cNvPr id="156" name="Group 29"/>
            <p:cNvGrpSpPr/>
            <p:nvPr/>
          </p:nvGrpSpPr>
          <p:grpSpPr>
            <a:xfrm>
              <a:off x="1798560" y="1600920"/>
              <a:ext cx="630000" cy="630000"/>
              <a:chOff x="1798560" y="1600920"/>
              <a:chExt cx="630000" cy="630000"/>
            </a:xfrm>
          </p:grpSpPr>
          <p:sp>
            <p:nvSpPr>
              <p:cNvPr id="157" name="椭圆 50"/>
              <p:cNvSpPr/>
              <p:nvPr/>
            </p:nvSpPr>
            <p:spPr>
              <a:xfrm>
                <a:off x="1798560" y="160092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角三角形 51"/>
              <p:cNvSpPr/>
              <p:nvPr/>
            </p:nvSpPr>
            <p:spPr>
              <a:xfrm rot="13366800">
                <a:off x="1937880" y="179568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2"/>
            <p:cNvGrpSpPr/>
            <p:nvPr/>
          </p:nvGrpSpPr>
          <p:grpSpPr>
            <a:xfrm>
              <a:off x="5436360" y="1600920"/>
              <a:ext cx="630000" cy="630000"/>
              <a:chOff x="5436360" y="1600920"/>
              <a:chExt cx="630000" cy="630000"/>
            </a:xfrm>
          </p:grpSpPr>
          <p:sp>
            <p:nvSpPr>
              <p:cNvPr id="160" name="椭圆 48"/>
              <p:cNvSpPr/>
              <p:nvPr/>
            </p:nvSpPr>
            <p:spPr>
              <a:xfrm>
                <a:off x="5436360" y="160092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角三角形 49"/>
              <p:cNvSpPr/>
              <p:nvPr/>
            </p:nvSpPr>
            <p:spPr>
              <a:xfrm rot="13366800">
                <a:off x="5575680" y="179568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5"/>
            <p:cNvGrpSpPr/>
            <p:nvPr/>
          </p:nvGrpSpPr>
          <p:grpSpPr>
            <a:xfrm>
              <a:off x="5435640" y="3078000"/>
              <a:ext cx="630000" cy="630000"/>
              <a:chOff x="5435640" y="3078000"/>
              <a:chExt cx="630000" cy="630000"/>
            </a:xfrm>
          </p:grpSpPr>
          <p:sp>
            <p:nvSpPr>
              <p:cNvPr id="163" name="椭圆 46"/>
              <p:cNvSpPr/>
              <p:nvPr/>
            </p:nvSpPr>
            <p:spPr>
              <a:xfrm>
                <a:off x="5435640" y="307800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角三角形 47"/>
              <p:cNvSpPr/>
              <p:nvPr/>
            </p:nvSpPr>
            <p:spPr>
              <a:xfrm rot="13366800">
                <a:off x="5574960" y="327276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8"/>
            <p:cNvGrpSpPr/>
            <p:nvPr/>
          </p:nvGrpSpPr>
          <p:grpSpPr>
            <a:xfrm>
              <a:off x="1743480" y="3078000"/>
              <a:ext cx="630000" cy="630000"/>
              <a:chOff x="1743480" y="3078000"/>
              <a:chExt cx="630000" cy="630000"/>
            </a:xfrm>
          </p:grpSpPr>
          <p:sp>
            <p:nvSpPr>
              <p:cNvPr id="166" name="椭圆 44"/>
              <p:cNvSpPr/>
              <p:nvPr/>
            </p:nvSpPr>
            <p:spPr>
              <a:xfrm>
                <a:off x="1743480" y="3078000"/>
                <a:ext cx="630000" cy="630000"/>
              </a:xfrm>
              <a:prstGeom prst="ellipse">
                <a:avLst/>
              </a:prstGeom>
              <a:solidFill>
                <a:srgbClr val="ffffff">
                  <a:alpha val="2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角三角形 45"/>
              <p:cNvSpPr/>
              <p:nvPr/>
            </p:nvSpPr>
            <p:spPr>
              <a:xfrm rot="13366800">
                <a:off x="1882800" y="3272760"/>
                <a:ext cx="240480" cy="240480"/>
              </a:xfrm>
              <a:prstGeom prst="rtTriangl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TextBox 40"/>
            <p:cNvSpPr/>
            <p:nvPr/>
          </p:nvSpPr>
          <p:spPr>
            <a:xfrm>
              <a:off x="2917440" y="209520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Romeo is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41"/>
            <p:cNvSpPr/>
            <p:nvPr/>
          </p:nvSpPr>
          <p:spPr>
            <a:xfrm>
              <a:off x="2945880" y="358668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Juliet is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2"/>
            <p:cNvSpPr/>
            <p:nvPr/>
          </p:nvSpPr>
          <p:spPr>
            <a:xfrm>
              <a:off x="6565320" y="200052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43"/>
            <p:cNvSpPr/>
            <p:nvPr/>
          </p:nvSpPr>
          <p:spPr>
            <a:xfrm>
              <a:off x="6552720" y="3477240"/>
              <a:ext cx="171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45"/>
          <p:cNvGrpSpPr/>
          <p:nvPr/>
        </p:nvGrpSpPr>
        <p:grpSpPr>
          <a:xfrm>
            <a:off x="1290960" y="1903320"/>
            <a:ext cx="6926040" cy="2097720"/>
            <a:chOff x="1290960" y="1903320"/>
            <a:chExt cx="6926040" cy="2097720"/>
          </a:xfrm>
        </p:grpSpPr>
        <p:grpSp>
          <p:nvGrpSpPr>
            <p:cNvPr id="173" name="Group 46"/>
            <p:cNvGrpSpPr/>
            <p:nvPr/>
          </p:nvGrpSpPr>
          <p:grpSpPr>
            <a:xfrm>
              <a:off x="1531800" y="1903320"/>
              <a:ext cx="6079680" cy="906480"/>
              <a:chOff x="1531800" y="1903320"/>
              <a:chExt cx="6079680" cy="906480"/>
            </a:xfrm>
          </p:grpSpPr>
          <p:pic>
            <p:nvPicPr>
              <p:cNvPr id="174" name="图片 60" descr=""/>
              <p:cNvPicPr/>
              <p:nvPr/>
            </p:nvPicPr>
            <p:blipFill>
              <a:blip r:embed="rId11"/>
              <a:srcRect l="0" t="0" r="0" b="5587"/>
              <a:stretch/>
            </p:blipFill>
            <p:spPr>
              <a:xfrm>
                <a:off x="1531800" y="1903320"/>
                <a:ext cx="1440000" cy="90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图片 61" descr=""/>
              <p:cNvPicPr/>
              <p:nvPr/>
            </p:nvPicPr>
            <p:blipFill>
              <a:blip r:embed="rId12"/>
              <a:srcRect l="0" t="0" r="0" b="9299"/>
              <a:stretch/>
            </p:blipFill>
            <p:spPr>
              <a:xfrm>
                <a:off x="6171480" y="1903320"/>
                <a:ext cx="1440000" cy="87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图片 62" descr=""/>
              <p:cNvPicPr/>
              <p:nvPr/>
            </p:nvPicPr>
            <p:blipFill>
              <a:blip r:embed="rId13"/>
              <a:srcRect l="0" t="0" r="0" b="6749"/>
              <a:stretch/>
            </p:blipFill>
            <p:spPr>
              <a:xfrm>
                <a:off x="3110760" y="1903320"/>
                <a:ext cx="1440000" cy="89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图片 63" descr=""/>
              <p:cNvPicPr/>
              <p:nvPr/>
            </p:nvPicPr>
            <p:blipFill>
              <a:blip r:embed="rId14"/>
              <a:srcRect l="0" t="0" r="0" b="6937"/>
              <a:stretch/>
            </p:blipFill>
            <p:spPr>
              <a:xfrm>
                <a:off x="4641120" y="1903320"/>
                <a:ext cx="1440000" cy="89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矩形 54"/>
            <p:cNvSpPr/>
            <p:nvPr/>
          </p:nvSpPr>
          <p:spPr>
            <a:xfrm>
              <a:off x="1290960" y="28098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eco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55"/>
            <p:cNvSpPr/>
            <p:nvPr/>
          </p:nvSpPr>
          <p:spPr>
            <a:xfrm>
              <a:off x="2946600" y="280980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Wa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56"/>
            <p:cNvSpPr/>
            <p:nvPr/>
          </p:nvSpPr>
          <p:spPr>
            <a:xfrm>
              <a:off x="4342320" y="2799000"/>
              <a:ext cx="198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Ring to w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57"/>
            <p:cNvSpPr/>
            <p:nvPr/>
          </p:nvSpPr>
          <p:spPr>
            <a:xfrm>
              <a:off x="6041880" y="277452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58"/>
            <p:cNvSpPr/>
            <p:nvPr/>
          </p:nvSpPr>
          <p:spPr>
            <a:xfrm>
              <a:off x="4744440" y="3526560"/>
              <a:ext cx="3472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62185"/>
                  </a:solidFill>
                  <a:latin typeface="Edwardian Script ITC"/>
                </a:rPr>
                <a:t>Romantic ga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59"/>
            <p:cNvSpPr/>
            <p:nvPr/>
          </p:nvSpPr>
          <p:spPr>
            <a:xfrm>
              <a:off x="6732360" y="3754800"/>
              <a:ext cx="148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62185"/>
                  </a:solidFill>
                  <a:latin typeface="Edwardian Script ITC"/>
                </a:rPr>
                <a:t> </a:t>
              </a:r>
              <a:r>
                <a:rPr b="0" lang="en-US" sz="1000" spc="-1" strike="noStrike">
                  <a:solidFill>
                    <a:srgbClr val="f62185"/>
                  </a:solidFill>
                  <a:latin typeface="Edwardian Script ITC"/>
                </a:rPr>
                <a:t>October 23(rd),15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心形 64"/>
          <p:cNvSpPr/>
          <p:nvPr/>
        </p:nvSpPr>
        <p:spPr>
          <a:xfrm rot="2427000">
            <a:off x="2739960" y="2865600"/>
            <a:ext cx="365040" cy="312480"/>
          </a:xfrm>
          <a:custGeom>
            <a:avLst/>
            <a:gdLst>
              <a:gd name="textAreaLeft" fmla="*/ 84960 w 365040"/>
              <a:gd name="textAreaRight" fmla="*/ 280080 w 365040"/>
              <a:gd name="textAreaTop" fmla="*/ 32760 h 312480"/>
              <a:gd name="textAreaBottom" fmla="*/ 198000 h 312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心形 65"/>
          <p:cNvSpPr/>
          <p:nvPr/>
        </p:nvSpPr>
        <p:spPr>
          <a:xfrm rot="19110600">
            <a:off x="3538080" y="264960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心形 66"/>
          <p:cNvSpPr/>
          <p:nvPr/>
        </p:nvSpPr>
        <p:spPr>
          <a:xfrm rot="6376800">
            <a:off x="2854440" y="2250360"/>
            <a:ext cx="360360" cy="307800"/>
          </a:xfrm>
          <a:custGeom>
            <a:avLst/>
            <a:gdLst>
              <a:gd name="textAreaLeft" fmla="*/ 83880 w 360360"/>
              <a:gd name="textAreaRight" fmla="*/ 276480 w 360360"/>
              <a:gd name="textAreaTop" fmla="*/ 32400 h 307800"/>
              <a:gd name="textAreaBottom" fmla="*/ 195120 h 307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心形 67"/>
          <p:cNvSpPr/>
          <p:nvPr/>
        </p:nvSpPr>
        <p:spPr>
          <a:xfrm>
            <a:off x="4070520" y="2120760"/>
            <a:ext cx="237960" cy="204840"/>
          </a:xfrm>
          <a:custGeom>
            <a:avLst/>
            <a:gdLst>
              <a:gd name="textAreaLeft" fmla="*/ 55440 w 237960"/>
              <a:gd name="textAreaRight" fmla="*/ 182520 w 2379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心形 68"/>
          <p:cNvSpPr/>
          <p:nvPr/>
        </p:nvSpPr>
        <p:spPr>
          <a:xfrm rot="3040200">
            <a:off x="4809600" y="3201840"/>
            <a:ext cx="378000" cy="324000"/>
          </a:xfrm>
          <a:custGeom>
            <a:avLst/>
            <a:gdLst>
              <a:gd name="textAreaLeft" fmla="*/ 88200 w 378000"/>
              <a:gd name="textAreaRight" fmla="*/ 289800 w 378000"/>
              <a:gd name="textAreaTop" fmla="*/ 33840 h 324000"/>
              <a:gd name="textAreaBottom" fmla="*/ 205200 h 32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心形 69"/>
          <p:cNvSpPr/>
          <p:nvPr/>
        </p:nvSpPr>
        <p:spPr>
          <a:xfrm rot="17826000">
            <a:off x="5164200" y="2301480"/>
            <a:ext cx="239400" cy="204840"/>
          </a:xfrm>
          <a:custGeom>
            <a:avLst/>
            <a:gdLst>
              <a:gd name="textAreaLeft" fmla="*/ 55800 w 239400"/>
              <a:gd name="textAreaRight" fmla="*/ 183600 w 23940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心形 70"/>
          <p:cNvSpPr/>
          <p:nvPr/>
        </p:nvSpPr>
        <p:spPr>
          <a:xfrm>
            <a:off x="5875200" y="284004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心形 71"/>
          <p:cNvSpPr/>
          <p:nvPr/>
        </p:nvSpPr>
        <p:spPr>
          <a:xfrm rot="18033000">
            <a:off x="5083920" y="2708640"/>
            <a:ext cx="239760" cy="2030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240 h 203040"/>
              <a:gd name="textAreaBottom" fmla="*/ 128520 h 203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心形 72"/>
          <p:cNvSpPr/>
          <p:nvPr/>
        </p:nvSpPr>
        <p:spPr>
          <a:xfrm rot="19457400">
            <a:off x="6164280" y="2174400"/>
            <a:ext cx="353880" cy="303480"/>
          </a:xfrm>
          <a:custGeom>
            <a:avLst/>
            <a:gdLst>
              <a:gd name="textAreaLeft" fmla="*/ 82440 w 353880"/>
              <a:gd name="textAreaRight" fmla="*/ 271440 w 353880"/>
              <a:gd name="textAreaTop" fmla="*/ 31680 h 303480"/>
              <a:gd name="textAreaBottom" fmla="*/ 192240 h 303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心形 73"/>
          <p:cNvSpPr/>
          <p:nvPr/>
        </p:nvSpPr>
        <p:spPr>
          <a:xfrm rot="3188400">
            <a:off x="4450680" y="275256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心形 74"/>
          <p:cNvSpPr/>
          <p:nvPr/>
        </p:nvSpPr>
        <p:spPr>
          <a:xfrm rot="1939200">
            <a:off x="5078160" y="1731960"/>
            <a:ext cx="409320" cy="351000"/>
          </a:xfrm>
          <a:custGeom>
            <a:avLst/>
            <a:gdLst>
              <a:gd name="textAreaLeft" fmla="*/ 95400 w 409320"/>
              <a:gd name="textAreaRight" fmla="*/ 313920 w 409320"/>
              <a:gd name="textAreaTop" fmla="*/ 36720 h 351000"/>
              <a:gd name="textAreaBottom" fmla="*/ 222120 h 351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83f8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心形 75"/>
          <p:cNvSpPr/>
          <p:nvPr/>
        </p:nvSpPr>
        <p:spPr>
          <a:xfrm rot="1617000">
            <a:off x="3394080" y="2126880"/>
            <a:ext cx="237960" cy="204840"/>
          </a:xfrm>
          <a:custGeom>
            <a:avLst/>
            <a:gdLst>
              <a:gd name="textAreaLeft" fmla="*/ 55440 w 237960"/>
              <a:gd name="textAreaRight" fmla="*/ 182520 w 2379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心形 76"/>
          <p:cNvSpPr/>
          <p:nvPr/>
        </p:nvSpPr>
        <p:spPr>
          <a:xfrm rot="666600">
            <a:off x="2230560" y="3331800"/>
            <a:ext cx="630000" cy="539640"/>
          </a:xfrm>
          <a:custGeom>
            <a:avLst/>
            <a:gdLst>
              <a:gd name="textAreaLeft" fmla="*/ 146880 w 630000"/>
              <a:gd name="textAreaRight" fmla="*/ 483120 w 630000"/>
              <a:gd name="textAreaTop" fmla="*/ 56880 h 539640"/>
              <a:gd name="textAreaBottom" fmla="*/ 341640 h 539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心形 77"/>
          <p:cNvSpPr/>
          <p:nvPr/>
        </p:nvSpPr>
        <p:spPr>
          <a:xfrm rot="666600">
            <a:off x="5978520" y="332424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心形 78"/>
          <p:cNvSpPr/>
          <p:nvPr/>
        </p:nvSpPr>
        <p:spPr>
          <a:xfrm rot="666600">
            <a:off x="6896160" y="213840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心形 79"/>
          <p:cNvSpPr/>
          <p:nvPr/>
        </p:nvSpPr>
        <p:spPr>
          <a:xfrm rot="666600">
            <a:off x="1325160" y="1526760"/>
            <a:ext cx="892080" cy="763560"/>
          </a:xfrm>
          <a:custGeom>
            <a:avLst/>
            <a:gdLst>
              <a:gd name="textAreaLeft" fmla="*/ 208080 w 892080"/>
              <a:gd name="textAreaRight" fmla="*/ 684000 w 892080"/>
              <a:gd name="textAreaTop" fmla="*/ 80280 h 763560"/>
              <a:gd name="textAreaBottom" fmla="*/ 483480 h 763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心形 80"/>
          <p:cNvSpPr/>
          <p:nvPr/>
        </p:nvSpPr>
        <p:spPr>
          <a:xfrm rot="666600">
            <a:off x="476280" y="206532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心形 81"/>
          <p:cNvSpPr/>
          <p:nvPr/>
        </p:nvSpPr>
        <p:spPr>
          <a:xfrm rot="666600">
            <a:off x="6127560" y="1321920"/>
            <a:ext cx="892080" cy="763560"/>
          </a:xfrm>
          <a:custGeom>
            <a:avLst/>
            <a:gdLst>
              <a:gd name="textAreaLeft" fmla="*/ 208080 w 892080"/>
              <a:gd name="textAreaRight" fmla="*/ 684000 w 892080"/>
              <a:gd name="textAreaTop" fmla="*/ 80280 h 763560"/>
              <a:gd name="textAreaBottom" fmla="*/ 483480 h 763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2099E-006 L 0.06232 0.0003 E">
                                      <p:cBhvr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2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232 0.0003 L 0.00312 -0.05247 E">
                                      <p:cBhvr>
                                        <p:cTn id="286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3.45679E-006 L 0.01094 0.00956 E">
                                      <p:cBhvr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094 0.00956 L 0.03108 -0.03488 E">
                                      <p:cBhvr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3.95062E-006 L -0.01597 0.02161 E">
                                      <p:cBhvr>
                                        <p:cTn id="306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3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97 0.02161 L 0.03438 0.02161 E">
                                      <p:cBhvr>
                                        <p:cTn id="314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3457E-006 L 0.01996 0.00525 E">
                                      <p:cBhvr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3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996 0.00525 L 0.03541 0.04876 E">
                                      <p:cBhvr>
                                        <p:cTn id="328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7284E-006 L 0.00781 -0.03426 E">
                                      <p:cBhvr>
                                        <p:cTn id="334" dur="4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400000">
                                      <p:cBhvr>
                                        <p:cTn id="3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81 -0.03426 L -0.04792 -0.02469 E">
                                      <p:cBhvr>
                                        <p:cTn id="342" dur="4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5062E-006 L -0.02934 -0.00956 E">
                                      <p:cBhvr>
                                        <p:cTn id="348" dur="6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3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6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934 -0.00956 L -0.04896 -0.02716 E">
                                      <p:cBhvr>
                                        <p:cTn id="356" dur="6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-3.58025E-006 L 0.0118 -0.03703 E">
                                      <p:cBhvr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3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8 -0.03703 L -0.04723 -0.05432 E">
                                      <p:cBhvr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0.01406 -0.02068 E">
                                      <p:cBhvr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3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06 -0.02068 L -0.03768 -0.01574 E">
                                      <p:cBhvr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-4.93827E-007 L -0.02604 -0.00463 E">
                                      <p:cBhvr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3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604 -0.00463 L -0.05555 0.03025 E">
                                      <p:cBhvr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4.81481E-006 L -0.01268 0.00772 E">
                                      <p:cBhvr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9600000">
                                      <p:cBhvr>
                                        <p:cTn id="40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268 0.00772 L -0.03056 -0.00555 E">
                                      <p:cBhvr>
                                        <p:cTn id="412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9.87654E-007 L -0.02136 -0.02562 E">
                                      <p:cBhvr>
                                        <p:cTn id="418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4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136 -0.02562 L -0.02257 0.02284 E">
                                      <p:cBhvr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382 -0.03148 E">
                                      <p:cBhvr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4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82 -0.03148 L 0.03941 -0.05277 E">
                                      <p:cBhvr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5802E-006 L 0.08385 0.11481 E">
                                      <p:cBhvr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385 0.11481 L 0.13316 -0.06019 E">
                                      <p:cBhvr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2951 0.1179 E">
                                      <p:cBhvr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51 0.1179 L 0.17726 0.03025 E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7531E-006 L 0.07674 0.01605 E">
                                      <p:cBhvr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7674 0.01605 L 0.02743 0.03364 E">
                                      <p:cBhvr>
                                        <p:cTn id="482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4568E-006 L 0.06858 -0.09846 E">
                                      <p:cBhvr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858 -0.09846 L 0.04896 0.02407 E">
                                      <p:cBhvr>
                                        <p:cTn id="496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L -0.04809 0.04784 E">
                                      <p:cBhvr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5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809 0.04784 L 0.09965 0.03025 E">
                                      <p:cBhvr>
                                        <p:cTn id="510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3951E-006 L 0.09601 -0.07623 E">
                                      <p:cBhvr>
                                        <p:cTn id="516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5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601 -0.07623 L 0.09601 -0.02376 E">
                                      <p:cBhvr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5160" y="0"/>
            <a:ext cx="9209160" cy="5143680"/>
          </a:xfrm>
          <a:prstGeom prst="rect">
            <a:avLst/>
          </a:prstGeom>
          <a:ln w="0">
            <a:noFill/>
          </a:ln>
        </p:spPr>
      </p:pic>
      <p:sp>
        <p:nvSpPr>
          <p:cNvPr id="203" name="矩形 8"/>
          <p:cNvSpPr/>
          <p:nvPr/>
        </p:nvSpPr>
        <p:spPr>
          <a:xfrm>
            <a:off x="-65160" y="0"/>
            <a:ext cx="9209160" cy="5143680"/>
          </a:xfrm>
          <a:prstGeom prst="rect">
            <a:avLst/>
          </a:prstGeom>
          <a:solidFill>
            <a:srgbClr val="7f7f7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rcRect l="13524" t="0" r="15829" b="2299"/>
          <a:stretch/>
        </p:blipFill>
        <p:spPr>
          <a:xfrm>
            <a:off x="2771640" y="115920"/>
            <a:ext cx="3600720" cy="4911840"/>
          </a:xfrm>
          <a:prstGeom prst="rect">
            <a:avLst/>
          </a:prstGeom>
          <a:ln w="0">
            <a:noFill/>
          </a:ln>
        </p:spPr>
      </p:pic>
      <p:sp>
        <p:nvSpPr>
          <p:cNvPr id="205" name="矩形 10"/>
          <p:cNvSpPr/>
          <p:nvPr/>
        </p:nvSpPr>
        <p:spPr>
          <a:xfrm>
            <a:off x="2771640" y="115920"/>
            <a:ext cx="360072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951280" y="231840"/>
            <a:ext cx="3233520" cy="46800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857680" y="320760"/>
            <a:ext cx="3416040" cy="45054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2857680" y="231840"/>
            <a:ext cx="4572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6227640" y="231840"/>
            <a:ext cx="4608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6227640" y="4867200"/>
            <a:ext cx="46080" cy="4464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857680" y="4865760"/>
            <a:ext cx="45720" cy="460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682560" y="906480"/>
            <a:ext cx="7778880" cy="38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3"/>
          <p:cNvGrpSpPr/>
          <p:nvPr/>
        </p:nvGrpSpPr>
        <p:grpSpPr>
          <a:xfrm>
            <a:off x="3105360" y="243000"/>
            <a:ext cx="2584800" cy="607320"/>
            <a:chOff x="3105360" y="243000"/>
            <a:chExt cx="2584800" cy="607320"/>
          </a:xfrm>
        </p:grpSpPr>
        <p:sp>
          <p:nvSpPr>
            <p:cNvPr id="214" name="矩形 14"/>
            <p:cNvSpPr/>
            <p:nvPr/>
          </p:nvSpPr>
          <p:spPr>
            <a:xfrm>
              <a:off x="4560120" y="24300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15"/>
            <p:cNvSpPr/>
            <p:nvPr/>
          </p:nvSpPr>
          <p:spPr>
            <a:xfrm>
              <a:off x="3105360" y="2689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6"/>
            <p:cNvSpPr/>
            <p:nvPr/>
          </p:nvSpPr>
          <p:spPr>
            <a:xfrm>
              <a:off x="4305960" y="252000"/>
              <a:ext cx="90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18"/>
          <p:cNvSpPr/>
          <p:nvPr/>
        </p:nvSpPr>
        <p:spPr>
          <a:xfrm>
            <a:off x="4093920" y="671400"/>
            <a:ext cx="87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927000" y="1131840"/>
            <a:ext cx="7290000" cy="3240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1648800" y="4371840"/>
            <a:ext cx="5887800" cy="368280"/>
            <a:chOff x="1648800" y="4371840"/>
            <a:chExt cx="5887800" cy="368280"/>
          </a:xfrm>
        </p:grpSpPr>
        <p:sp>
          <p:nvSpPr>
            <p:cNvPr id="220" name="矩形 34">
              <a:hlinkClick r:id="rId3" action="ppaction://hlinksldjump"/>
            </p:cNvPr>
            <p:cNvSpPr/>
            <p:nvPr/>
          </p:nvSpPr>
          <p:spPr>
            <a:xfrm>
              <a:off x="1648800" y="437184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35">
              <a:hlinkClick r:id="rId4" action="ppaction://hlinksldjump"/>
            </p:cNvPr>
            <p:cNvSpPr/>
            <p:nvPr/>
          </p:nvSpPr>
          <p:spPr>
            <a:xfrm>
              <a:off x="3161880" y="43718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36">
              <a:hlinkClick r:id="rId5" action="ppaction://hlinksldjump"/>
            </p:cNvPr>
            <p:cNvSpPr/>
            <p:nvPr/>
          </p:nvSpPr>
          <p:spPr>
            <a:xfrm>
              <a:off x="4287600" y="437184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37">
              <a:hlinkClick r:id="rId6" action="ppaction://hlinksldjump"/>
            </p:cNvPr>
            <p:cNvSpPr/>
            <p:nvPr/>
          </p:nvSpPr>
          <p:spPr>
            <a:xfrm>
              <a:off x="6235560" y="4371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24"/>
          <p:cNvGrpSpPr/>
          <p:nvPr/>
        </p:nvGrpSpPr>
        <p:grpSpPr>
          <a:xfrm>
            <a:off x="1290960" y="1903320"/>
            <a:ext cx="6926040" cy="2097720"/>
            <a:chOff x="1290960" y="1903320"/>
            <a:chExt cx="6926040" cy="2097720"/>
          </a:xfrm>
        </p:grpSpPr>
        <p:grpSp>
          <p:nvGrpSpPr>
            <p:cNvPr id="225" name="Group 25"/>
            <p:cNvGrpSpPr/>
            <p:nvPr/>
          </p:nvGrpSpPr>
          <p:grpSpPr>
            <a:xfrm>
              <a:off x="1531800" y="1903320"/>
              <a:ext cx="6079680" cy="906480"/>
              <a:chOff x="1531800" y="1903320"/>
              <a:chExt cx="6079680" cy="906480"/>
            </a:xfrm>
          </p:grpSpPr>
          <p:pic>
            <p:nvPicPr>
              <p:cNvPr id="226" name="图片 33" descr=""/>
              <p:cNvPicPr/>
              <p:nvPr/>
            </p:nvPicPr>
            <p:blipFill>
              <a:blip r:embed="rId7"/>
              <a:srcRect l="0" t="0" r="0" b="5587"/>
              <a:stretch/>
            </p:blipFill>
            <p:spPr>
              <a:xfrm>
                <a:off x="1531800" y="1903320"/>
                <a:ext cx="1440000" cy="90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图片 40" descr=""/>
              <p:cNvPicPr/>
              <p:nvPr/>
            </p:nvPicPr>
            <p:blipFill>
              <a:blip r:embed="rId8"/>
              <a:srcRect l="0" t="0" r="0" b="9299"/>
              <a:stretch/>
            </p:blipFill>
            <p:spPr>
              <a:xfrm>
                <a:off x="6171480" y="1903320"/>
                <a:ext cx="1440000" cy="87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图片 41" descr=""/>
              <p:cNvPicPr/>
              <p:nvPr/>
            </p:nvPicPr>
            <p:blipFill>
              <a:blip r:embed="rId9"/>
              <a:srcRect l="0" t="0" r="0" b="6749"/>
              <a:stretch/>
            </p:blipFill>
            <p:spPr>
              <a:xfrm>
                <a:off x="3110760" y="1903320"/>
                <a:ext cx="1440000" cy="89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图片 42" descr=""/>
              <p:cNvPicPr/>
              <p:nvPr/>
            </p:nvPicPr>
            <p:blipFill>
              <a:blip r:embed="rId10"/>
              <a:srcRect l="0" t="0" r="0" b="6937"/>
              <a:stretch/>
            </p:blipFill>
            <p:spPr>
              <a:xfrm>
                <a:off x="4641120" y="1903320"/>
                <a:ext cx="1440000" cy="89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矩形 26"/>
            <p:cNvSpPr/>
            <p:nvPr/>
          </p:nvSpPr>
          <p:spPr>
            <a:xfrm>
              <a:off x="1290960" y="280980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ecor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28"/>
            <p:cNvSpPr/>
            <p:nvPr/>
          </p:nvSpPr>
          <p:spPr>
            <a:xfrm>
              <a:off x="2946600" y="280980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Wai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29"/>
            <p:cNvSpPr/>
            <p:nvPr/>
          </p:nvSpPr>
          <p:spPr>
            <a:xfrm>
              <a:off x="4342320" y="2799000"/>
              <a:ext cx="198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Ring to w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30"/>
            <p:cNvSpPr/>
            <p:nvPr/>
          </p:nvSpPr>
          <p:spPr>
            <a:xfrm>
              <a:off x="6041880" y="2774520"/>
              <a:ext cx="10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31"/>
            <p:cNvSpPr/>
            <p:nvPr/>
          </p:nvSpPr>
          <p:spPr>
            <a:xfrm>
              <a:off x="4744440" y="3526560"/>
              <a:ext cx="3472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62185"/>
                  </a:solidFill>
                  <a:latin typeface="Edwardian Script ITC"/>
                </a:rPr>
                <a:t>Romantic gar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32"/>
            <p:cNvSpPr/>
            <p:nvPr/>
          </p:nvSpPr>
          <p:spPr>
            <a:xfrm>
              <a:off x="6732360" y="3754800"/>
              <a:ext cx="148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62185"/>
                  </a:solidFill>
                  <a:latin typeface="Edwardian Script ITC"/>
                </a:rPr>
                <a:t> </a:t>
              </a:r>
              <a:r>
                <a:rPr b="0" lang="en-US" sz="1000" spc="-1" strike="noStrike">
                  <a:solidFill>
                    <a:srgbClr val="f62185"/>
                  </a:solidFill>
                  <a:latin typeface="Edwardian Script ITC"/>
                </a:rPr>
                <a:t>October 23(rd),15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36"/>
          <p:cNvGrpSpPr/>
          <p:nvPr/>
        </p:nvGrpSpPr>
        <p:grpSpPr>
          <a:xfrm>
            <a:off x="1569960" y="1596960"/>
            <a:ext cx="6242040" cy="2333520"/>
            <a:chOff x="1569960" y="1596960"/>
            <a:chExt cx="6242040" cy="2333520"/>
          </a:xfrm>
        </p:grpSpPr>
        <p:pic>
          <p:nvPicPr>
            <p:cNvPr id="237" name="图片 44" descr=""/>
            <p:cNvPicPr/>
            <p:nvPr/>
          </p:nvPicPr>
          <p:blipFill>
            <a:blip r:embed="rId11"/>
            <a:stretch/>
          </p:blipFill>
          <p:spPr>
            <a:xfrm>
              <a:off x="5021640" y="1596960"/>
              <a:ext cx="1534680" cy="230868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pic>
          <p:nvPicPr>
            <p:cNvPr id="238" name="图片 45" descr=""/>
            <p:cNvPicPr/>
            <p:nvPr/>
          </p:nvPicPr>
          <p:blipFill>
            <a:blip r:embed="rId12"/>
            <a:stretch/>
          </p:blipFill>
          <p:spPr>
            <a:xfrm>
              <a:off x="1569960" y="1596960"/>
              <a:ext cx="1800000" cy="230868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239" name="TextBox 46"/>
            <p:cNvSpPr/>
            <p:nvPr/>
          </p:nvSpPr>
          <p:spPr>
            <a:xfrm>
              <a:off x="3369960" y="3470760"/>
              <a:ext cx="13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2246a"/>
                  </a:solidFill>
                  <a:latin typeface="Edwardian Script ITC"/>
                </a:rPr>
                <a:t>Rom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47"/>
            <p:cNvSpPr/>
            <p:nvPr/>
          </p:nvSpPr>
          <p:spPr>
            <a:xfrm>
              <a:off x="6556680" y="3443760"/>
              <a:ext cx="12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2246a"/>
                  </a:solidFill>
                  <a:latin typeface="Edwardian Script ITC"/>
                </a:rPr>
                <a:t>Juli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心形 48"/>
          <p:cNvSpPr/>
          <p:nvPr/>
        </p:nvSpPr>
        <p:spPr>
          <a:xfrm rot="2427000">
            <a:off x="2739960" y="2865600"/>
            <a:ext cx="365040" cy="312480"/>
          </a:xfrm>
          <a:custGeom>
            <a:avLst/>
            <a:gdLst>
              <a:gd name="textAreaLeft" fmla="*/ 84960 w 365040"/>
              <a:gd name="textAreaRight" fmla="*/ 280080 w 365040"/>
              <a:gd name="textAreaTop" fmla="*/ 32760 h 312480"/>
              <a:gd name="textAreaBottom" fmla="*/ 198000 h 312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心形 49"/>
          <p:cNvSpPr/>
          <p:nvPr/>
        </p:nvSpPr>
        <p:spPr>
          <a:xfrm rot="19110600">
            <a:off x="3538080" y="264960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心形 50"/>
          <p:cNvSpPr/>
          <p:nvPr/>
        </p:nvSpPr>
        <p:spPr>
          <a:xfrm rot="6376800">
            <a:off x="2854440" y="2250360"/>
            <a:ext cx="360360" cy="307800"/>
          </a:xfrm>
          <a:custGeom>
            <a:avLst/>
            <a:gdLst>
              <a:gd name="textAreaLeft" fmla="*/ 83880 w 360360"/>
              <a:gd name="textAreaRight" fmla="*/ 276480 w 360360"/>
              <a:gd name="textAreaTop" fmla="*/ 32400 h 307800"/>
              <a:gd name="textAreaBottom" fmla="*/ 195120 h 307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心形 51"/>
          <p:cNvSpPr/>
          <p:nvPr/>
        </p:nvSpPr>
        <p:spPr>
          <a:xfrm>
            <a:off x="4070520" y="2120760"/>
            <a:ext cx="237960" cy="204840"/>
          </a:xfrm>
          <a:custGeom>
            <a:avLst/>
            <a:gdLst>
              <a:gd name="textAreaLeft" fmla="*/ 55440 w 237960"/>
              <a:gd name="textAreaRight" fmla="*/ 182520 w 2379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心形 52"/>
          <p:cNvSpPr/>
          <p:nvPr/>
        </p:nvSpPr>
        <p:spPr>
          <a:xfrm rot="3040200">
            <a:off x="4809600" y="3201840"/>
            <a:ext cx="378000" cy="324000"/>
          </a:xfrm>
          <a:custGeom>
            <a:avLst/>
            <a:gdLst>
              <a:gd name="textAreaLeft" fmla="*/ 88200 w 378000"/>
              <a:gd name="textAreaRight" fmla="*/ 289800 w 378000"/>
              <a:gd name="textAreaTop" fmla="*/ 33840 h 324000"/>
              <a:gd name="textAreaBottom" fmla="*/ 205200 h 324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心形 53"/>
          <p:cNvSpPr/>
          <p:nvPr/>
        </p:nvSpPr>
        <p:spPr>
          <a:xfrm rot="17826000">
            <a:off x="5164200" y="2301480"/>
            <a:ext cx="239400" cy="204840"/>
          </a:xfrm>
          <a:custGeom>
            <a:avLst/>
            <a:gdLst>
              <a:gd name="textAreaLeft" fmla="*/ 55800 w 239400"/>
              <a:gd name="textAreaRight" fmla="*/ 183600 w 23940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心形 54"/>
          <p:cNvSpPr/>
          <p:nvPr/>
        </p:nvSpPr>
        <p:spPr>
          <a:xfrm>
            <a:off x="5875200" y="284004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心形 55"/>
          <p:cNvSpPr/>
          <p:nvPr/>
        </p:nvSpPr>
        <p:spPr>
          <a:xfrm rot="18033000">
            <a:off x="5083920" y="2708640"/>
            <a:ext cx="239760" cy="2030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240 h 203040"/>
              <a:gd name="textAreaBottom" fmla="*/ 128520 h 2030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心形 56"/>
          <p:cNvSpPr/>
          <p:nvPr/>
        </p:nvSpPr>
        <p:spPr>
          <a:xfrm rot="19457400">
            <a:off x="6164280" y="2174400"/>
            <a:ext cx="353880" cy="303480"/>
          </a:xfrm>
          <a:custGeom>
            <a:avLst/>
            <a:gdLst>
              <a:gd name="textAreaLeft" fmla="*/ 82440 w 353880"/>
              <a:gd name="textAreaRight" fmla="*/ 271440 w 353880"/>
              <a:gd name="textAreaTop" fmla="*/ 31680 h 303480"/>
              <a:gd name="textAreaBottom" fmla="*/ 192240 h 303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心形 57"/>
          <p:cNvSpPr/>
          <p:nvPr/>
        </p:nvSpPr>
        <p:spPr>
          <a:xfrm rot="3188400">
            <a:off x="4450680" y="2752560"/>
            <a:ext cx="239760" cy="204840"/>
          </a:xfrm>
          <a:custGeom>
            <a:avLst/>
            <a:gdLst>
              <a:gd name="textAreaLeft" fmla="*/ 55800 w 239760"/>
              <a:gd name="textAreaRight" fmla="*/ 183960 w 2397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6218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心形 58"/>
          <p:cNvSpPr/>
          <p:nvPr/>
        </p:nvSpPr>
        <p:spPr>
          <a:xfrm rot="1939200">
            <a:off x="5078160" y="1731960"/>
            <a:ext cx="409320" cy="351000"/>
          </a:xfrm>
          <a:custGeom>
            <a:avLst/>
            <a:gdLst>
              <a:gd name="textAreaLeft" fmla="*/ 95400 w 409320"/>
              <a:gd name="textAreaRight" fmla="*/ 313920 w 409320"/>
              <a:gd name="textAreaTop" fmla="*/ 36720 h 351000"/>
              <a:gd name="textAreaBottom" fmla="*/ 222120 h 351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83f8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心形 59"/>
          <p:cNvSpPr/>
          <p:nvPr/>
        </p:nvSpPr>
        <p:spPr>
          <a:xfrm rot="1617000">
            <a:off x="3394080" y="2126880"/>
            <a:ext cx="237960" cy="204840"/>
          </a:xfrm>
          <a:custGeom>
            <a:avLst/>
            <a:gdLst>
              <a:gd name="textAreaLeft" fmla="*/ 55440 w 237960"/>
              <a:gd name="textAreaRight" fmla="*/ 182520 w 237960"/>
              <a:gd name="textAreaTop" fmla="*/ 21600 h 204840"/>
              <a:gd name="textAreaBottom" fmla="*/ 129600 h 204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心形 60"/>
          <p:cNvSpPr/>
          <p:nvPr/>
        </p:nvSpPr>
        <p:spPr>
          <a:xfrm rot="666600">
            <a:off x="2230560" y="3331800"/>
            <a:ext cx="630000" cy="539640"/>
          </a:xfrm>
          <a:custGeom>
            <a:avLst/>
            <a:gdLst>
              <a:gd name="textAreaLeft" fmla="*/ 146880 w 630000"/>
              <a:gd name="textAreaRight" fmla="*/ 483120 w 630000"/>
              <a:gd name="textAreaTop" fmla="*/ 56880 h 539640"/>
              <a:gd name="textAreaBottom" fmla="*/ 341640 h 5396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心形 61"/>
          <p:cNvSpPr/>
          <p:nvPr/>
        </p:nvSpPr>
        <p:spPr>
          <a:xfrm rot="666600">
            <a:off x="5978520" y="332424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心形 62"/>
          <p:cNvSpPr/>
          <p:nvPr/>
        </p:nvSpPr>
        <p:spPr>
          <a:xfrm rot="666600">
            <a:off x="6896160" y="213840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心形 63"/>
          <p:cNvSpPr/>
          <p:nvPr/>
        </p:nvSpPr>
        <p:spPr>
          <a:xfrm rot="666600">
            <a:off x="1325160" y="1526760"/>
            <a:ext cx="892080" cy="763560"/>
          </a:xfrm>
          <a:custGeom>
            <a:avLst/>
            <a:gdLst>
              <a:gd name="textAreaLeft" fmla="*/ 208080 w 892080"/>
              <a:gd name="textAreaRight" fmla="*/ 684000 w 892080"/>
              <a:gd name="textAreaTop" fmla="*/ 80280 h 763560"/>
              <a:gd name="textAreaBottom" fmla="*/ 483480 h 763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心形 64"/>
          <p:cNvSpPr/>
          <p:nvPr/>
        </p:nvSpPr>
        <p:spPr>
          <a:xfrm rot="666600">
            <a:off x="476280" y="2065320"/>
            <a:ext cx="609480" cy="522360"/>
          </a:xfrm>
          <a:custGeom>
            <a:avLst/>
            <a:gdLst>
              <a:gd name="textAreaLeft" fmla="*/ 142200 w 609480"/>
              <a:gd name="textAreaRight" fmla="*/ 467280 w 609480"/>
              <a:gd name="textAreaTop" fmla="*/ 55080 h 522360"/>
              <a:gd name="textAreaBottom" fmla="*/ 330840 h 522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心形 65"/>
          <p:cNvSpPr/>
          <p:nvPr/>
        </p:nvSpPr>
        <p:spPr>
          <a:xfrm rot="666600">
            <a:off x="6127560" y="1321920"/>
            <a:ext cx="892080" cy="763560"/>
          </a:xfrm>
          <a:custGeom>
            <a:avLst/>
            <a:gdLst>
              <a:gd name="textAreaLeft" fmla="*/ 208080 w 892080"/>
              <a:gd name="textAreaRight" fmla="*/ 684000 w 892080"/>
              <a:gd name="textAreaTop" fmla="*/ 80280 h 763560"/>
              <a:gd name="textAreaBottom" fmla="*/ 483480 h 763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2f2f2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2099E-006 L 0.06232 0.0003 E">
                                      <p:cBhvr>
                                        <p:cTn id="540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5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232 0.0003 L 0.00312 -0.05247 E">
                                      <p:cBhvr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3.45679E-006 L 0.01094 0.00956 E">
                                      <p:cBhvr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5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094 0.00956 L 0.03108 -0.03488 E">
                                      <p:cBhvr>
                                        <p:cTn id="562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3.95062E-006 L -0.01597 0.02161 E">
                                      <p:cBhvr>
                                        <p:cTn id="568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5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97 0.02161 L 0.03438 0.02161 E">
                                      <p:cBhvr>
                                        <p:cTn id="576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3457E-006 L 0.01996 0.00525 E">
                                      <p:cBhvr>
                                        <p:cTn id="582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5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996 0.00525 L 0.03541 0.04876 E">
                                      <p:cBhvr>
                                        <p:cTn id="59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7284E-006 L 0.00781 -0.03426 E">
                                      <p:cBhvr>
                                        <p:cTn id="596" dur="4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400000">
                                      <p:cBhvr>
                                        <p:cTn id="5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4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81 -0.03426 L -0.04792 -0.02469 E">
                                      <p:cBhvr>
                                        <p:cTn id="604" dur="4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6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5062E-006 L -0.02934 -0.00956 E">
                                      <p:cBhvr>
                                        <p:cTn id="610" dur="6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6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934 -0.00956 L -0.04896 -0.02716 E">
                                      <p:cBhvr>
                                        <p:cTn id="618" dur="6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-3.58025E-006 L 0.0118 -0.03703 E">
                                      <p:cBhvr>
                                        <p:cTn id="624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8 -0.03703 L -0.04723 -0.05432 E">
                                      <p:cBhvr>
                                        <p:cTn id="632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0.01406 -0.02068 E">
                                      <p:cBhvr>
                                        <p:cTn id="638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06 -0.02068 L -0.03768 -0.01574 E">
                                      <p:cBhvr>
                                        <p:cTn id="646" dur="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-4.93827E-007 L -0.02604 -0.00463 E">
                                      <p:cBhvr>
                                        <p:cTn id="652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6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604 -0.00463 L -0.05555 0.03025 E">
                                      <p:cBhvr>
                                        <p:cTn id="660" dur="5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4.81481E-006 L -0.01268 0.00772 E">
                                      <p:cBhvr>
                                        <p:cTn id="666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9600000">
                                      <p:cBhvr>
                                        <p:cTn id="6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268 0.00772 L -0.03056 -0.00555 E">
                                      <p:cBhvr>
                                        <p:cTn id="674" dur="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9.87654E-007 L -0.02136 -0.02562 E">
                                      <p:cBhvr>
                                        <p:cTn id="680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6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136 -0.02562 L -0.02257 0.02284 E">
                                      <p:cBhvr>
                                        <p:cTn id="688" dur="5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382 -0.03148 E">
                                      <p:cBhvr>
                                        <p:cTn id="694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82 -0.03148 L 0.03941 -0.05277 E">
                                      <p:cBhvr>
                                        <p:cTn id="702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5802E-006 L 0.08385 0.11481 E">
                                      <p:cBhvr>
                                        <p:cTn id="708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385 0.11481 L 0.13316 -0.06019 E">
                                      <p:cBhvr>
                                        <p:cTn id="716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2951 0.1179 E">
                                      <p:cBhvr>
                                        <p:cTn id="722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51 0.1179 L 0.17726 0.03025 E">
                                      <p:cBhvr>
                                        <p:cTn id="730" dur="5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7531E-006 L 0.07674 0.01605 E">
                                      <p:cBhvr>
                                        <p:cTn id="736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7674 0.01605 L 0.02743 0.03364 E">
                                      <p:cBhvr>
                                        <p:cTn id="744" dur="5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4568E-006 L 0.06858 -0.09846 E">
                                      <p:cBhvr>
                                        <p:cTn id="750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858 -0.09846 L 0.04896 0.02407 E">
                                      <p:cBhvr>
                                        <p:cTn id="758" dur="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L -0.04809 0.04784 E">
                                      <p:cBhvr>
                                        <p:cTn id="764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809 0.04784 L 0.09965 0.03025 E">
                                      <p:cBhvr>
                                        <p:cTn id="772" dur="5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3951E-006 L 0.09601 -0.07623 E">
                                      <p:cBhvr>
                                        <p:cTn id="778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601 -0.07623 L 0.09601 -0.02376 E">
                                      <p:cBhvr>
                                        <p:cTn id="786" dur="5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5160" y="0"/>
            <a:ext cx="9209160" cy="5143680"/>
          </a:xfrm>
          <a:prstGeom prst="rect">
            <a:avLst/>
          </a:prstGeom>
          <a:ln w="0">
            <a:noFill/>
          </a:ln>
        </p:spPr>
      </p:pic>
      <p:sp>
        <p:nvSpPr>
          <p:cNvPr id="260" name="矩形 8"/>
          <p:cNvSpPr/>
          <p:nvPr/>
        </p:nvSpPr>
        <p:spPr>
          <a:xfrm>
            <a:off x="-65160" y="0"/>
            <a:ext cx="9209160" cy="5143680"/>
          </a:xfrm>
          <a:prstGeom prst="rect">
            <a:avLst/>
          </a:prstGeom>
          <a:solidFill>
            <a:srgbClr val="7f7f7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rcRect l="13524" t="0" r="15829" b="2299"/>
          <a:stretch/>
        </p:blipFill>
        <p:spPr>
          <a:xfrm>
            <a:off x="2771640" y="115920"/>
            <a:ext cx="3600720" cy="4911840"/>
          </a:xfrm>
          <a:prstGeom prst="rect">
            <a:avLst/>
          </a:prstGeom>
          <a:ln w="0">
            <a:noFill/>
          </a:ln>
        </p:spPr>
      </p:pic>
      <p:sp>
        <p:nvSpPr>
          <p:cNvPr id="262" name="矩形 10"/>
          <p:cNvSpPr/>
          <p:nvPr/>
        </p:nvSpPr>
        <p:spPr>
          <a:xfrm>
            <a:off x="2771640" y="115920"/>
            <a:ext cx="360072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2951280" y="231840"/>
            <a:ext cx="3233520" cy="46800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7"/>
          <p:cNvSpPr/>
          <p:nvPr/>
        </p:nvSpPr>
        <p:spPr>
          <a:xfrm>
            <a:off x="2857680" y="320760"/>
            <a:ext cx="3416040" cy="4505400"/>
          </a:xfrm>
          <a:prstGeom prst="rect">
            <a:avLst/>
          </a:prstGeom>
          <a:noFill/>
          <a:ln w="3240">
            <a:solidFill>
              <a:srgbClr val="b83f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3"/>
          <p:cNvSpPr/>
          <p:nvPr/>
        </p:nvSpPr>
        <p:spPr>
          <a:xfrm>
            <a:off x="2857680" y="231840"/>
            <a:ext cx="4572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9"/>
          <p:cNvSpPr/>
          <p:nvPr/>
        </p:nvSpPr>
        <p:spPr>
          <a:xfrm>
            <a:off x="6227640" y="231840"/>
            <a:ext cx="46080" cy="442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227640" y="4867200"/>
            <a:ext cx="46080" cy="4464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1"/>
          <p:cNvSpPr/>
          <p:nvPr/>
        </p:nvSpPr>
        <p:spPr>
          <a:xfrm>
            <a:off x="2857680" y="4865760"/>
            <a:ext cx="45720" cy="46080"/>
          </a:xfrm>
          <a:prstGeom prst="rect">
            <a:avLst/>
          </a:prstGeom>
          <a:solidFill>
            <a:srgbClr val="b83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682560" y="906480"/>
            <a:ext cx="7778880" cy="3825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3"/>
          <p:cNvGrpSpPr/>
          <p:nvPr/>
        </p:nvGrpSpPr>
        <p:grpSpPr>
          <a:xfrm>
            <a:off x="3105360" y="243000"/>
            <a:ext cx="2584800" cy="607320"/>
            <a:chOff x="3105360" y="243000"/>
            <a:chExt cx="2584800" cy="607320"/>
          </a:xfrm>
        </p:grpSpPr>
        <p:sp>
          <p:nvSpPr>
            <p:cNvPr id="271" name="矩形 14"/>
            <p:cNvSpPr/>
            <p:nvPr/>
          </p:nvSpPr>
          <p:spPr>
            <a:xfrm>
              <a:off x="4560120" y="243000"/>
              <a:ext cx="113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5"/>
            <p:cNvSpPr/>
            <p:nvPr/>
          </p:nvSpPr>
          <p:spPr>
            <a:xfrm>
              <a:off x="3105360" y="26892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6"/>
            <p:cNvSpPr/>
            <p:nvPr/>
          </p:nvSpPr>
          <p:spPr>
            <a:xfrm>
              <a:off x="4305960" y="252000"/>
              <a:ext cx="90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18"/>
          <p:cNvSpPr/>
          <p:nvPr/>
        </p:nvSpPr>
        <p:spPr>
          <a:xfrm>
            <a:off x="4093920" y="671400"/>
            <a:ext cx="874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9"/>
          <p:cNvSpPr/>
          <p:nvPr/>
        </p:nvSpPr>
        <p:spPr>
          <a:xfrm>
            <a:off x="927000" y="1131840"/>
            <a:ext cx="7290000" cy="3240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9"/>
          <p:cNvGrpSpPr/>
          <p:nvPr/>
        </p:nvGrpSpPr>
        <p:grpSpPr>
          <a:xfrm>
            <a:off x="1648800" y="4371840"/>
            <a:ext cx="5887800" cy="368280"/>
            <a:chOff x="1648800" y="4371840"/>
            <a:chExt cx="5887800" cy="368280"/>
          </a:xfrm>
        </p:grpSpPr>
        <p:sp>
          <p:nvSpPr>
            <p:cNvPr id="277" name="矩形 34"/>
            <p:cNvSpPr/>
            <p:nvPr/>
          </p:nvSpPr>
          <p:spPr>
            <a:xfrm>
              <a:off x="1648800" y="437184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35"/>
            <p:cNvSpPr/>
            <p:nvPr/>
          </p:nvSpPr>
          <p:spPr>
            <a:xfrm>
              <a:off x="3161880" y="43718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36"/>
            <p:cNvSpPr/>
            <p:nvPr/>
          </p:nvSpPr>
          <p:spPr>
            <a:xfrm>
              <a:off x="4287600" y="4371840"/>
              <a:ext cx="18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37"/>
            <p:cNvSpPr/>
            <p:nvPr/>
          </p:nvSpPr>
          <p:spPr>
            <a:xfrm>
              <a:off x="6235560" y="43718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Box 23"/>
          <p:cNvSpPr/>
          <p:nvPr/>
        </p:nvSpPr>
        <p:spPr>
          <a:xfrm>
            <a:off x="1044720" y="2276640"/>
            <a:ext cx="71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8184e"/>
                </a:solidFill>
                <a:latin typeface="Kozuka Mincho Pro B"/>
                <a:ea typeface="Kozuka Mincho Pro B"/>
              </a:rPr>
              <a:t>WWW.HUIYI8.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25"/>
          <p:cNvGrpSpPr/>
          <p:nvPr/>
        </p:nvGrpSpPr>
        <p:grpSpPr>
          <a:xfrm>
            <a:off x="2171880" y="1220760"/>
            <a:ext cx="566640" cy="709200"/>
            <a:chOff x="2171880" y="1220760"/>
            <a:chExt cx="566640" cy="709200"/>
          </a:xfrm>
        </p:grpSpPr>
        <p:sp>
          <p:nvSpPr>
            <p:cNvPr id="283" name="椭圆 25"/>
            <p:cNvSpPr/>
            <p:nvPr/>
          </p:nvSpPr>
          <p:spPr>
            <a:xfrm>
              <a:off x="2171880" y="1303560"/>
              <a:ext cx="56664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6"/>
            <p:cNvSpPr/>
            <p:nvPr/>
          </p:nvSpPr>
          <p:spPr>
            <a:xfrm>
              <a:off x="2426760" y="154836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8"/>
            <p:cNvGrpSpPr/>
            <p:nvPr/>
          </p:nvGrpSpPr>
          <p:grpSpPr>
            <a:xfrm>
              <a:off x="2445480" y="1220760"/>
              <a:ext cx="24480" cy="709200"/>
              <a:chOff x="2445480" y="1220760"/>
              <a:chExt cx="24480" cy="709200"/>
            </a:xfrm>
          </p:grpSpPr>
          <p:sp>
            <p:nvSpPr>
              <p:cNvPr id="286" name="等腰三角形 43"/>
              <p:cNvSpPr/>
              <p:nvPr/>
            </p:nvSpPr>
            <p:spPr>
              <a:xfrm flipH="1" rot="10800000">
                <a:off x="2445480" y="157176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等腰三角形 44"/>
              <p:cNvSpPr/>
              <p:nvPr/>
            </p:nvSpPr>
            <p:spPr>
              <a:xfrm flipH="1">
                <a:off x="2445480" y="122076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1"/>
            <p:cNvGrpSpPr/>
            <p:nvPr/>
          </p:nvGrpSpPr>
          <p:grpSpPr>
            <a:xfrm>
              <a:off x="2198160" y="1566360"/>
              <a:ext cx="528480" cy="25200"/>
              <a:chOff x="2198160" y="1566360"/>
              <a:chExt cx="528480" cy="25200"/>
            </a:xfrm>
          </p:grpSpPr>
          <p:sp>
            <p:nvSpPr>
              <p:cNvPr id="289" name="等腰三角形 41"/>
              <p:cNvSpPr/>
              <p:nvPr/>
            </p:nvSpPr>
            <p:spPr>
              <a:xfrm flipH="1" rot="5400000">
                <a:off x="2582280" y="144648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等腰三角形 42"/>
              <p:cNvSpPr/>
              <p:nvPr/>
            </p:nvSpPr>
            <p:spPr>
              <a:xfrm rot="16200000">
                <a:off x="2318040" y="144720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4"/>
            <p:cNvGrpSpPr/>
            <p:nvPr/>
          </p:nvGrpSpPr>
          <p:grpSpPr>
            <a:xfrm>
              <a:off x="2363760" y="1448280"/>
              <a:ext cx="190800" cy="289080"/>
              <a:chOff x="2363760" y="1448280"/>
              <a:chExt cx="190800" cy="289080"/>
            </a:xfrm>
          </p:grpSpPr>
          <p:sp>
            <p:nvSpPr>
              <p:cNvPr id="292" name="等腰三角形 33"/>
              <p:cNvSpPr/>
              <p:nvPr/>
            </p:nvSpPr>
            <p:spPr>
              <a:xfrm flipH="1" rot="12716400">
                <a:off x="2405520" y="15775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等腰三角形 40"/>
              <p:cNvSpPr/>
              <p:nvPr/>
            </p:nvSpPr>
            <p:spPr>
              <a:xfrm rot="1955400">
                <a:off x="2493360" y="143964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7"/>
            <p:cNvGrpSpPr/>
            <p:nvPr/>
          </p:nvGrpSpPr>
          <p:grpSpPr>
            <a:xfrm>
              <a:off x="2299680" y="1477440"/>
              <a:ext cx="278280" cy="188640"/>
              <a:chOff x="2299680" y="1477440"/>
              <a:chExt cx="278280" cy="188640"/>
            </a:xfrm>
          </p:grpSpPr>
          <p:sp>
            <p:nvSpPr>
              <p:cNvPr id="295" name="等腰三角形 31"/>
              <p:cNvSpPr/>
              <p:nvPr/>
            </p:nvSpPr>
            <p:spPr>
              <a:xfrm flipH="1" rot="7386600">
                <a:off x="2499120" y="1536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等腰三角形 32"/>
              <p:cNvSpPr/>
              <p:nvPr/>
            </p:nvSpPr>
            <p:spPr>
              <a:xfrm flipH="1" rot="18164400">
                <a:off x="2361960" y="144720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椭圆 45"/>
          <p:cNvSpPr/>
          <p:nvPr/>
        </p:nvSpPr>
        <p:spPr>
          <a:xfrm>
            <a:off x="4344840" y="2849400"/>
            <a:ext cx="1055880" cy="1055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1"/>
          <p:cNvGrpSpPr/>
          <p:nvPr/>
        </p:nvGrpSpPr>
        <p:grpSpPr>
          <a:xfrm>
            <a:off x="4867200" y="2720880"/>
            <a:ext cx="44640" cy="1325160"/>
            <a:chOff x="4867200" y="2720880"/>
            <a:chExt cx="44640" cy="1325160"/>
          </a:xfrm>
        </p:grpSpPr>
        <p:sp>
          <p:nvSpPr>
            <p:cNvPr id="299" name="等腰三角形 47"/>
            <p:cNvSpPr/>
            <p:nvPr/>
          </p:nvSpPr>
          <p:spPr>
            <a:xfrm flipH="1" rot="10800000">
              <a:off x="4867200" y="3376800"/>
              <a:ext cx="4464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等腰三角形 48"/>
            <p:cNvSpPr/>
            <p:nvPr/>
          </p:nvSpPr>
          <p:spPr>
            <a:xfrm flipH="1">
              <a:off x="4867200" y="2720880"/>
              <a:ext cx="4464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4"/>
          <p:cNvGrpSpPr/>
          <p:nvPr/>
        </p:nvGrpSpPr>
        <p:grpSpPr>
          <a:xfrm>
            <a:off x="4421160" y="3328560"/>
            <a:ext cx="982440" cy="47520"/>
            <a:chOff x="4421160" y="3328560"/>
            <a:chExt cx="982440" cy="47520"/>
          </a:xfrm>
        </p:grpSpPr>
        <p:sp>
          <p:nvSpPr>
            <p:cNvPr id="302" name="等腰三角形 50"/>
            <p:cNvSpPr/>
            <p:nvPr/>
          </p:nvSpPr>
          <p:spPr>
            <a:xfrm flipH="1" rot="5400000">
              <a:off x="5134320" y="3106080"/>
              <a:ext cx="4644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等腰三角形 51"/>
            <p:cNvSpPr/>
            <p:nvPr/>
          </p:nvSpPr>
          <p:spPr>
            <a:xfrm rot="16200000">
              <a:off x="4643640" y="3107160"/>
              <a:ext cx="4644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7"/>
          <p:cNvGrpSpPr/>
          <p:nvPr/>
        </p:nvGrpSpPr>
        <p:grpSpPr>
          <a:xfrm>
            <a:off x="4719600" y="3105000"/>
            <a:ext cx="356400" cy="540720"/>
            <a:chOff x="4719600" y="3105000"/>
            <a:chExt cx="356400" cy="540720"/>
          </a:xfrm>
        </p:grpSpPr>
        <p:sp>
          <p:nvSpPr>
            <p:cNvPr id="305" name="等腰三角形 53"/>
            <p:cNvSpPr/>
            <p:nvPr/>
          </p:nvSpPr>
          <p:spPr>
            <a:xfrm flipH="1" rot="12716400">
              <a:off x="4800240" y="334764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等腰三角形 54"/>
            <p:cNvSpPr/>
            <p:nvPr/>
          </p:nvSpPr>
          <p:spPr>
            <a:xfrm rot="1955400">
              <a:off x="4961520" y="308880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50"/>
          <p:cNvGrpSpPr/>
          <p:nvPr/>
        </p:nvGrpSpPr>
        <p:grpSpPr>
          <a:xfrm>
            <a:off x="4614840" y="3175920"/>
            <a:ext cx="517680" cy="352800"/>
            <a:chOff x="4614840" y="3175920"/>
            <a:chExt cx="517680" cy="352800"/>
          </a:xfrm>
        </p:grpSpPr>
        <p:sp>
          <p:nvSpPr>
            <p:cNvPr id="308" name="等腰三角形 56"/>
            <p:cNvSpPr/>
            <p:nvPr/>
          </p:nvSpPr>
          <p:spPr>
            <a:xfrm flipH="1" rot="7386600">
              <a:off x="4985280" y="328860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等腰三角形 57"/>
            <p:cNvSpPr/>
            <p:nvPr/>
          </p:nvSpPr>
          <p:spPr>
            <a:xfrm flipH="1" rot="18164400">
              <a:off x="4731120" y="3121560"/>
              <a:ext cx="30600" cy="294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椭圆 58"/>
          <p:cNvSpPr/>
          <p:nvPr/>
        </p:nvSpPr>
        <p:spPr>
          <a:xfrm>
            <a:off x="4849920" y="3305160"/>
            <a:ext cx="68040" cy="6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椭圆 59"/>
          <p:cNvSpPr/>
          <p:nvPr/>
        </p:nvSpPr>
        <p:spPr>
          <a:xfrm>
            <a:off x="2306520" y="2238480"/>
            <a:ext cx="1882800" cy="1882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3213000" y="2216160"/>
            <a:ext cx="46080" cy="1836360"/>
            <a:chOff x="3213000" y="2216160"/>
            <a:chExt cx="46080" cy="1836360"/>
          </a:xfrm>
        </p:grpSpPr>
        <p:sp>
          <p:nvSpPr>
            <p:cNvPr id="313" name="等腰三角形 61"/>
            <p:cNvSpPr/>
            <p:nvPr/>
          </p:nvSpPr>
          <p:spPr>
            <a:xfrm>
              <a:off x="3213000" y="2216160"/>
              <a:ext cx="46080" cy="972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62"/>
            <p:cNvSpPr/>
            <p:nvPr/>
          </p:nvSpPr>
          <p:spPr>
            <a:xfrm rot="10800000">
              <a:off x="3213000" y="3188160"/>
              <a:ext cx="46080" cy="864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8"/>
          <p:cNvGrpSpPr/>
          <p:nvPr/>
        </p:nvGrpSpPr>
        <p:grpSpPr>
          <a:xfrm>
            <a:off x="2437560" y="3130200"/>
            <a:ext cx="1640520" cy="49320"/>
            <a:chOff x="2437560" y="3130200"/>
            <a:chExt cx="1640520" cy="49320"/>
          </a:xfrm>
        </p:grpSpPr>
        <p:sp>
          <p:nvSpPr>
            <p:cNvPr id="316" name="等腰三角形 64"/>
            <p:cNvSpPr/>
            <p:nvPr/>
          </p:nvSpPr>
          <p:spPr>
            <a:xfrm flipH="1" rot="5400000">
              <a:off x="3644280" y="2746080"/>
              <a:ext cx="4932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等腰三角形 65"/>
            <p:cNvSpPr/>
            <p:nvPr/>
          </p:nvSpPr>
          <p:spPr>
            <a:xfrm flipH="1" rot="16200000">
              <a:off x="2823120" y="2744280"/>
              <a:ext cx="45360" cy="81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椭圆 66"/>
          <p:cNvSpPr/>
          <p:nvPr/>
        </p:nvSpPr>
        <p:spPr>
          <a:xfrm>
            <a:off x="3121200" y="3040200"/>
            <a:ext cx="230040" cy="23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62"/>
          <p:cNvGrpSpPr/>
          <p:nvPr/>
        </p:nvGrpSpPr>
        <p:grpSpPr>
          <a:xfrm>
            <a:off x="2905920" y="2770200"/>
            <a:ext cx="680040" cy="741240"/>
            <a:chOff x="2905920" y="2770200"/>
            <a:chExt cx="680040" cy="741240"/>
          </a:xfrm>
        </p:grpSpPr>
        <p:sp>
          <p:nvSpPr>
            <p:cNvPr id="320" name="等腰三角形 68"/>
            <p:cNvSpPr/>
            <p:nvPr/>
          </p:nvSpPr>
          <p:spPr>
            <a:xfrm flipH="1" rot="2486400">
              <a:off x="3400200" y="272988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等腰三角形 69"/>
            <p:cNvSpPr/>
            <p:nvPr/>
          </p:nvSpPr>
          <p:spPr>
            <a:xfrm flipH="1" rot="13327800">
              <a:off x="3046680" y="3113280"/>
              <a:ext cx="45720" cy="43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65"/>
          <p:cNvGrpSpPr/>
          <p:nvPr/>
        </p:nvGrpSpPr>
        <p:grpSpPr>
          <a:xfrm>
            <a:off x="4510080" y="1681200"/>
            <a:ext cx="566640" cy="710640"/>
            <a:chOff x="4510080" y="1681200"/>
            <a:chExt cx="566640" cy="710640"/>
          </a:xfrm>
        </p:grpSpPr>
        <p:sp>
          <p:nvSpPr>
            <p:cNvPr id="323" name="椭圆 71"/>
            <p:cNvSpPr/>
            <p:nvPr/>
          </p:nvSpPr>
          <p:spPr>
            <a:xfrm>
              <a:off x="4510080" y="1764000"/>
              <a:ext cx="56664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72"/>
            <p:cNvSpPr/>
            <p:nvPr/>
          </p:nvSpPr>
          <p:spPr>
            <a:xfrm>
              <a:off x="4764960" y="20095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Group 68"/>
            <p:cNvGrpSpPr/>
            <p:nvPr/>
          </p:nvGrpSpPr>
          <p:grpSpPr>
            <a:xfrm>
              <a:off x="4783680" y="1681200"/>
              <a:ext cx="24480" cy="710640"/>
              <a:chOff x="4783680" y="1681200"/>
              <a:chExt cx="24480" cy="710640"/>
            </a:xfrm>
          </p:grpSpPr>
          <p:sp>
            <p:nvSpPr>
              <p:cNvPr id="326" name="等腰三角形 83"/>
              <p:cNvSpPr/>
              <p:nvPr/>
            </p:nvSpPr>
            <p:spPr>
              <a:xfrm flipH="1" rot="10800000">
                <a:off x="4783680" y="203292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等腰三角形 84"/>
              <p:cNvSpPr/>
              <p:nvPr/>
            </p:nvSpPr>
            <p:spPr>
              <a:xfrm flipH="1">
                <a:off x="4783680" y="168120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71"/>
            <p:cNvGrpSpPr/>
            <p:nvPr/>
          </p:nvGrpSpPr>
          <p:grpSpPr>
            <a:xfrm>
              <a:off x="4536360" y="2027520"/>
              <a:ext cx="528480" cy="25200"/>
              <a:chOff x="4536360" y="2027520"/>
              <a:chExt cx="528480" cy="25200"/>
            </a:xfrm>
          </p:grpSpPr>
          <p:sp>
            <p:nvSpPr>
              <p:cNvPr id="329" name="等腰三角形 81"/>
              <p:cNvSpPr/>
              <p:nvPr/>
            </p:nvSpPr>
            <p:spPr>
              <a:xfrm flipH="1" rot="5400000">
                <a:off x="4920480" y="19076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等腰三角形 82"/>
              <p:cNvSpPr/>
              <p:nvPr/>
            </p:nvSpPr>
            <p:spPr>
              <a:xfrm rot="16200000">
                <a:off x="4656240" y="190836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74"/>
            <p:cNvGrpSpPr/>
            <p:nvPr/>
          </p:nvGrpSpPr>
          <p:grpSpPr>
            <a:xfrm>
              <a:off x="4701960" y="1909080"/>
              <a:ext cx="190800" cy="289440"/>
              <a:chOff x="4701960" y="1909080"/>
              <a:chExt cx="190800" cy="289440"/>
            </a:xfrm>
          </p:grpSpPr>
          <p:sp>
            <p:nvSpPr>
              <p:cNvPr id="332" name="等腰三角形 79"/>
              <p:cNvSpPr/>
              <p:nvPr/>
            </p:nvSpPr>
            <p:spPr>
              <a:xfrm flipH="1" rot="12716400">
                <a:off x="4744080" y="203796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等腰三角形 80"/>
              <p:cNvSpPr/>
              <p:nvPr/>
            </p:nvSpPr>
            <p:spPr>
              <a:xfrm rot="1955400">
                <a:off x="4831560" y="190044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77"/>
            <p:cNvGrpSpPr/>
            <p:nvPr/>
          </p:nvGrpSpPr>
          <p:grpSpPr>
            <a:xfrm>
              <a:off x="4637880" y="1938600"/>
              <a:ext cx="278280" cy="189000"/>
              <a:chOff x="4637880" y="1938600"/>
              <a:chExt cx="278280" cy="189000"/>
            </a:xfrm>
          </p:grpSpPr>
          <p:sp>
            <p:nvSpPr>
              <p:cNvPr id="335" name="等腰三角形 77"/>
              <p:cNvSpPr/>
              <p:nvPr/>
            </p:nvSpPr>
            <p:spPr>
              <a:xfrm flipH="1" rot="7386600">
                <a:off x="4837320" y="199836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等腰三角形 78"/>
              <p:cNvSpPr/>
              <p:nvPr/>
            </p:nvSpPr>
            <p:spPr>
              <a:xfrm flipH="1" rot="18164400">
                <a:off x="4700160" y="190836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80"/>
          <p:cNvGrpSpPr/>
          <p:nvPr/>
        </p:nvGrpSpPr>
        <p:grpSpPr>
          <a:xfrm>
            <a:off x="1706400" y="2425680"/>
            <a:ext cx="567000" cy="711360"/>
            <a:chOff x="1706400" y="2425680"/>
            <a:chExt cx="567000" cy="711360"/>
          </a:xfrm>
        </p:grpSpPr>
        <p:sp>
          <p:nvSpPr>
            <p:cNvPr id="338" name="椭圆 86"/>
            <p:cNvSpPr/>
            <p:nvPr/>
          </p:nvSpPr>
          <p:spPr>
            <a:xfrm>
              <a:off x="1706400" y="2508480"/>
              <a:ext cx="5670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87"/>
            <p:cNvSpPr/>
            <p:nvPr/>
          </p:nvSpPr>
          <p:spPr>
            <a:xfrm>
              <a:off x="1961640" y="275436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83"/>
            <p:cNvGrpSpPr/>
            <p:nvPr/>
          </p:nvGrpSpPr>
          <p:grpSpPr>
            <a:xfrm>
              <a:off x="1980360" y="2425680"/>
              <a:ext cx="24480" cy="711360"/>
              <a:chOff x="1980360" y="2425680"/>
              <a:chExt cx="24480" cy="711360"/>
            </a:xfrm>
          </p:grpSpPr>
          <p:sp>
            <p:nvSpPr>
              <p:cNvPr id="341" name="等腰三角形 98"/>
              <p:cNvSpPr/>
              <p:nvPr/>
            </p:nvSpPr>
            <p:spPr>
              <a:xfrm flipH="1" rot="10800000">
                <a:off x="1980360" y="277776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等腰三角形 99"/>
              <p:cNvSpPr/>
              <p:nvPr/>
            </p:nvSpPr>
            <p:spPr>
              <a:xfrm flipH="1">
                <a:off x="1980360" y="2425680"/>
                <a:ext cx="24480" cy="359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86"/>
            <p:cNvGrpSpPr/>
            <p:nvPr/>
          </p:nvGrpSpPr>
          <p:grpSpPr>
            <a:xfrm>
              <a:off x="1732680" y="2772360"/>
              <a:ext cx="528480" cy="25200"/>
              <a:chOff x="1732680" y="2772360"/>
              <a:chExt cx="528480" cy="25200"/>
            </a:xfrm>
          </p:grpSpPr>
          <p:sp>
            <p:nvSpPr>
              <p:cNvPr id="344" name="等腰三角形 96"/>
              <p:cNvSpPr/>
              <p:nvPr/>
            </p:nvSpPr>
            <p:spPr>
              <a:xfrm flipH="1" rot="5400000">
                <a:off x="2116080" y="2652120"/>
                <a:ext cx="24480" cy="26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等腰三角形 97"/>
              <p:cNvSpPr/>
              <p:nvPr/>
            </p:nvSpPr>
            <p:spPr>
              <a:xfrm rot="16200000">
                <a:off x="1852560" y="2652840"/>
                <a:ext cx="24480" cy="26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89"/>
            <p:cNvGrpSpPr/>
            <p:nvPr/>
          </p:nvGrpSpPr>
          <p:grpSpPr>
            <a:xfrm>
              <a:off x="1898280" y="2653560"/>
              <a:ext cx="191160" cy="290160"/>
              <a:chOff x="1898280" y="2653560"/>
              <a:chExt cx="191160" cy="290160"/>
            </a:xfrm>
          </p:grpSpPr>
          <p:sp>
            <p:nvSpPr>
              <p:cNvPr id="347" name="等腰三角形 94"/>
              <p:cNvSpPr/>
              <p:nvPr/>
            </p:nvSpPr>
            <p:spPr>
              <a:xfrm flipH="1" rot="12716400">
                <a:off x="1940400" y="278280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等腰三角形 95"/>
              <p:cNvSpPr/>
              <p:nvPr/>
            </p:nvSpPr>
            <p:spPr>
              <a:xfrm rot="1955400">
                <a:off x="2028240" y="2644920"/>
                <a:ext cx="17280" cy="168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92"/>
            <p:cNvGrpSpPr/>
            <p:nvPr/>
          </p:nvGrpSpPr>
          <p:grpSpPr>
            <a:xfrm>
              <a:off x="1834200" y="2683080"/>
              <a:ext cx="278280" cy="189000"/>
              <a:chOff x="1834200" y="2683080"/>
              <a:chExt cx="278280" cy="189000"/>
            </a:xfrm>
          </p:grpSpPr>
          <p:sp>
            <p:nvSpPr>
              <p:cNvPr id="350" name="等腰三角形 92"/>
              <p:cNvSpPr/>
              <p:nvPr/>
            </p:nvSpPr>
            <p:spPr>
              <a:xfrm flipH="1" rot="7386600">
                <a:off x="2033640" y="2742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等腰三角形 93"/>
              <p:cNvSpPr/>
              <p:nvPr/>
            </p:nvSpPr>
            <p:spPr>
              <a:xfrm flipH="1" rot="18164400">
                <a:off x="1896480" y="26528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95"/>
          <p:cNvGrpSpPr/>
          <p:nvPr/>
        </p:nvGrpSpPr>
        <p:grpSpPr>
          <a:xfrm>
            <a:off x="6748560" y="2703600"/>
            <a:ext cx="566640" cy="709200"/>
            <a:chOff x="6748560" y="2703600"/>
            <a:chExt cx="566640" cy="709200"/>
          </a:xfrm>
        </p:grpSpPr>
        <p:sp>
          <p:nvSpPr>
            <p:cNvPr id="353" name="椭圆 101"/>
            <p:cNvSpPr/>
            <p:nvPr/>
          </p:nvSpPr>
          <p:spPr>
            <a:xfrm>
              <a:off x="6748560" y="2786400"/>
              <a:ext cx="56664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02"/>
            <p:cNvSpPr/>
            <p:nvPr/>
          </p:nvSpPr>
          <p:spPr>
            <a:xfrm>
              <a:off x="7003440" y="30312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98"/>
            <p:cNvGrpSpPr/>
            <p:nvPr/>
          </p:nvGrpSpPr>
          <p:grpSpPr>
            <a:xfrm>
              <a:off x="7022160" y="2703600"/>
              <a:ext cx="24480" cy="709200"/>
              <a:chOff x="7022160" y="2703600"/>
              <a:chExt cx="24480" cy="709200"/>
            </a:xfrm>
          </p:grpSpPr>
          <p:sp>
            <p:nvSpPr>
              <p:cNvPr id="356" name="等腰三角形 113"/>
              <p:cNvSpPr/>
              <p:nvPr/>
            </p:nvSpPr>
            <p:spPr>
              <a:xfrm flipH="1" rot="10800000">
                <a:off x="7022160" y="305460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等腰三角形 114"/>
              <p:cNvSpPr/>
              <p:nvPr/>
            </p:nvSpPr>
            <p:spPr>
              <a:xfrm flipH="1">
                <a:off x="7022160" y="270360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101"/>
            <p:cNvGrpSpPr/>
            <p:nvPr/>
          </p:nvGrpSpPr>
          <p:grpSpPr>
            <a:xfrm>
              <a:off x="6774840" y="3049200"/>
              <a:ext cx="528480" cy="25200"/>
              <a:chOff x="6774840" y="3049200"/>
              <a:chExt cx="528480" cy="25200"/>
            </a:xfrm>
          </p:grpSpPr>
          <p:sp>
            <p:nvSpPr>
              <p:cNvPr id="359" name="等腰三角形 111"/>
              <p:cNvSpPr/>
              <p:nvPr/>
            </p:nvSpPr>
            <p:spPr>
              <a:xfrm flipH="1" rot="5400000">
                <a:off x="7158960" y="292932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等腰三角形 112"/>
              <p:cNvSpPr/>
              <p:nvPr/>
            </p:nvSpPr>
            <p:spPr>
              <a:xfrm rot="16200000">
                <a:off x="6894720" y="2930040"/>
                <a:ext cx="24480" cy="264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104"/>
            <p:cNvGrpSpPr/>
            <p:nvPr/>
          </p:nvGrpSpPr>
          <p:grpSpPr>
            <a:xfrm>
              <a:off x="6940440" y="2931120"/>
              <a:ext cx="190800" cy="289080"/>
              <a:chOff x="6940440" y="2931120"/>
              <a:chExt cx="190800" cy="289080"/>
            </a:xfrm>
          </p:grpSpPr>
          <p:sp>
            <p:nvSpPr>
              <p:cNvPr id="362" name="等腰三角形 109"/>
              <p:cNvSpPr/>
              <p:nvPr/>
            </p:nvSpPr>
            <p:spPr>
              <a:xfrm flipH="1" rot="12716400">
                <a:off x="6982200" y="306036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等腰三角形 110"/>
              <p:cNvSpPr/>
              <p:nvPr/>
            </p:nvSpPr>
            <p:spPr>
              <a:xfrm rot="1955400">
                <a:off x="7070040" y="29224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107"/>
            <p:cNvGrpSpPr/>
            <p:nvPr/>
          </p:nvGrpSpPr>
          <p:grpSpPr>
            <a:xfrm>
              <a:off x="6876360" y="2960280"/>
              <a:ext cx="278280" cy="188640"/>
              <a:chOff x="6876360" y="2960280"/>
              <a:chExt cx="278280" cy="188640"/>
            </a:xfrm>
          </p:grpSpPr>
          <p:sp>
            <p:nvSpPr>
              <p:cNvPr id="365" name="等腰三角形 107"/>
              <p:cNvSpPr/>
              <p:nvPr/>
            </p:nvSpPr>
            <p:spPr>
              <a:xfrm flipH="1" rot="7386600">
                <a:off x="7075800" y="30196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等腰三角形 108"/>
              <p:cNvSpPr/>
              <p:nvPr/>
            </p:nvSpPr>
            <p:spPr>
              <a:xfrm flipH="1" rot="18164400">
                <a:off x="6938640" y="29300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椭圆 115"/>
          <p:cNvSpPr/>
          <p:nvPr/>
        </p:nvSpPr>
        <p:spPr>
          <a:xfrm>
            <a:off x="6940440" y="1736640"/>
            <a:ext cx="1055880" cy="1054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1"/>
          <p:cNvGrpSpPr/>
          <p:nvPr/>
        </p:nvGrpSpPr>
        <p:grpSpPr>
          <a:xfrm>
            <a:off x="7444800" y="1622520"/>
            <a:ext cx="44640" cy="1325160"/>
            <a:chOff x="7444800" y="1622520"/>
            <a:chExt cx="44640" cy="1325160"/>
          </a:xfrm>
        </p:grpSpPr>
        <p:sp>
          <p:nvSpPr>
            <p:cNvPr id="369" name="等腰三角形 117"/>
            <p:cNvSpPr/>
            <p:nvPr/>
          </p:nvSpPr>
          <p:spPr>
            <a:xfrm flipH="1" rot="10800000">
              <a:off x="7444440" y="2278440"/>
              <a:ext cx="442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等腰三角形 118"/>
            <p:cNvSpPr/>
            <p:nvPr/>
          </p:nvSpPr>
          <p:spPr>
            <a:xfrm flipH="1">
              <a:off x="7444800" y="1622520"/>
              <a:ext cx="44280" cy="669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14"/>
          <p:cNvGrpSpPr/>
          <p:nvPr/>
        </p:nvGrpSpPr>
        <p:grpSpPr>
          <a:xfrm>
            <a:off x="6999120" y="2230200"/>
            <a:ext cx="982440" cy="46080"/>
            <a:chOff x="6999120" y="2230200"/>
            <a:chExt cx="982440" cy="46080"/>
          </a:xfrm>
        </p:grpSpPr>
        <p:sp>
          <p:nvSpPr>
            <p:cNvPr id="372" name="等腰三角形 120"/>
            <p:cNvSpPr/>
            <p:nvPr/>
          </p:nvSpPr>
          <p:spPr>
            <a:xfrm flipH="1" rot="5400000">
              <a:off x="7713000" y="2007000"/>
              <a:ext cx="450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等腰三角形 121"/>
            <p:cNvSpPr/>
            <p:nvPr/>
          </p:nvSpPr>
          <p:spPr>
            <a:xfrm rot="16200000">
              <a:off x="7222320" y="2008080"/>
              <a:ext cx="45000" cy="49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17"/>
          <p:cNvGrpSpPr/>
          <p:nvPr/>
        </p:nvGrpSpPr>
        <p:grpSpPr>
          <a:xfrm>
            <a:off x="7297560" y="2006640"/>
            <a:ext cx="356400" cy="540360"/>
            <a:chOff x="7297560" y="2006640"/>
            <a:chExt cx="356400" cy="540360"/>
          </a:xfrm>
        </p:grpSpPr>
        <p:sp>
          <p:nvSpPr>
            <p:cNvPr id="375" name="等腰三角形 123"/>
            <p:cNvSpPr/>
            <p:nvPr/>
          </p:nvSpPr>
          <p:spPr>
            <a:xfrm flipH="1" rot="12716400">
              <a:off x="7378200" y="224892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124"/>
            <p:cNvSpPr/>
            <p:nvPr/>
          </p:nvSpPr>
          <p:spPr>
            <a:xfrm rot="1955400">
              <a:off x="7539480" y="19904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20"/>
          <p:cNvGrpSpPr/>
          <p:nvPr/>
        </p:nvGrpSpPr>
        <p:grpSpPr>
          <a:xfrm>
            <a:off x="7193880" y="2077200"/>
            <a:ext cx="516960" cy="352800"/>
            <a:chOff x="7193880" y="2077200"/>
            <a:chExt cx="516960" cy="352800"/>
          </a:xfrm>
        </p:grpSpPr>
        <p:sp>
          <p:nvSpPr>
            <p:cNvPr id="378" name="等腰三角形 126"/>
            <p:cNvSpPr/>
            <p:nvPr/>
          </p:nvSpPr>
          <p:spPr>
            <a:xfrm flipH="1" rot="7386600">
              <a:off x="7563240" y="219024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等腰三角形 127"/>
            <p:cNvSpPr/>
            <p:nvPr/>
          </p:nvSpPr>
          <p:spPr>
            <a:xfrm flipH="1" rot="18164400">
              <a:off x="7309800" y="2022840"/>
              <a:ext cx="30600" cy="2937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椭圆 128"/>
          <p:cNvSpPr/>
          <p:nvPr/>
        </p:nvSpPr>
        <p:spPr>
          <a:xfrm>
            <a:off x="7427880" y="2206800"/>
            <a:ext cx="68400" cy="68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24"/>
          <p:cNvGrpSpPr/>
          <p:nvPr/>
        </p:nvGrpSpPr>
        <p:grpSpPr>
          <a:xfrm>
            <a:off x="6243480" y="3094200"/>
            <a:ext cx="567000" cy="709200"/>
            <a:chOff x="6243480" y="3094200"/>
            <a:chExt cx="567000" cy="709200"/>
          </a:xfrm>
        </p:grpSpPr>
        <p:sp>
          <p:nvSpPr>
            <p:cNvPr id="382" name="椭圆 130"/>
            <p:cNvSpPr/>
            <p:nvPr/>
          </p:nvSpPr>
          <p:spPr>
            <a:xfrm>
              <a:off x="6243480" y="3177000"/>
              <a:ext cx="567000" cy="564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131"/>
            <p:cNvSpPr/>
            <p:nvPr/>
          </p:nvSpPr>
          <p:spPr>
            <a:xfrm>
              <a:off x="6498720" y="342180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27"/>
            <p:cNvGrpSpPr/>
            <p:nvPr/>
          </p:nvGrpSpPr>
          <p:grpSpPr>
            <a:xfrm>
              <a:off x="6517440" y="3094200"/>
              <a:ext cx="24480" cy="709200"/>
              <a:chOff x="6517440" y="3094200"/>
              <a:chExt cx="24480" cy="709200"/>
            </a:xfrm>
          </p:grpSpPr>
          <p:sp>
            <p:nvSpPr>
              <p:cNvPr id="385" name="等腰三角形 142"/>
              <p:cNvSpPr/>
              <p:nvPr/>
            </p:nvSpPr>
            <p:spPr>
              <a:xfrm flipH="1" rot="10800000">
                <a:off x="6517440" y="344520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等腰三角形 143"/>
              <p:cNvSpPr/>
              <p:nvPr/>
            </p:nvSpPr>
            <p:spPr>
              <a:xfrm flipH="1">
                <a:off x="6517440" y="3094200"/>
                <a:ext cx="24480" cy="358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30"/>
            <p:cNvGrpSpPr/>
            <p:nvPr/>
          </p:nvGrpSpPr>
          <p:grpSpPr>
            <a:xfrm>
              <a:off x="6269760" y="3439800"/>
              <a:ext cx="528480" cy="25200"/>
              <a:chOff x="6269760" y="3439800"/>
              <a:chExt cx="528480" cy="25200"/>
            </a:xfrm>
          </p:grpSpPr>
          <p:sp>
            <p:nvSpPr>
              <p:cNvPr id="388" name="等腰三角形 140"/>
              <p:cNvSpPr/>
              <p:nvPr/>
            </p:nvSpPr>
            <p:spPr>
              <a:xfrm flipH="1" rot="5400000">
                <a:off x="6653160" y="3319560"/>
                <a:ext cx="24480" cy="26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等腰三角形 141"/>
              <p:cNvSpPr/>
              <p:nvPr/>
            </p:nvSpPr>
            <p:spPr>
              <a:xfrm rot="16200000">
                <a:off x="6389640" y="3320280"/>
                <a:ext cx="24480" cy="264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33"/>
            <p:cNvGrpSpPr/>
            <p:nvPr/>
          </p:nvGrpSpPr>
          <p:grpSpPr>
            <a:xfrm>
              <a:off x="6435360" y="3321720"/>
              <a:ext cx="190800" cy="289080"/>
              <a:chOff x="6435360" y="3321720"/>
              <a:chExt cx="190800" cy="289080"/>
            </a:xfrm>
          </p:grpSpPr>
          <p:sp>
            <p:nvSpPr>
              <p:cNvPr id="391" name="等腰三角形 138"/>
              <p:cNvSpPr/>
              <p:nvPr/>
            </p:nvSpPr>
            <p:spPr>
              <a:xfrm flipH="1" rot="12716400">
                <a:off x="6477120" y="345096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等腰三角形 139"/>
              <p:cNvSpPr/>
              <p:nvPr/>
            </p:nvSpPr>
            <p:spPr>
              <a:xfrm rot="1955400">
                <a:off x="6564960" y="33130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36"/>
            <p:cNvGrpSpPr/>
            <p:nvPr/>
          </p:nvGrpSpPr>
          <p:grpSpPr>
            <a:xfrm>
              <a:off x="6371280" y="3350880"/>
              <a:ext cx="278280" cy="188640"/>
              <a:chOff x="6371280" y="3350880"/>
              <a:chExt cx="278280" cy="188640"/>
            </a:xfrm>
          </p:grpSpPr>
          <p:sp>
            <p:nvSpPr>
              <p:cNvPr id="394" name="等腰三角形 136"/>
              <p:cNvSpPr/>
              <p:nvPr/>
            </p:nvSpPr>
            <p:spPr>
              <a:xfrm flipH="1" rot="7386600">
                <a:off x="6570720" y="341028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等腰三角形 137"/>
              <p:cNvSpPr/>
              <p:nvPr/>
            </p:nvSpPr>
            <p:spPr>
              <a:xfrm flipH="1" rot="18164400">
                <a:off x="6433560" y="3320640"/>
                <a:ext cx="16200" cy="15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Group 139"/>
          <p:cNvGrpSpPr/>
          <p:nvPr/>
        </p:nvGrpSpPr>
        <p:grpSpPr>
          <a:xfrm>
            <a:off x="5665680" y="2478240"/>
            <a:ext cx="565200" cy="710640"/>
            <a:chOff x="5665680" y="2478240"/>
            <a:chExt cx="565200" cy="710640"/>
          </a:xfrm>
        </p:grpSpPr>
        <p:sp>
          <p:nvSpPr>
            <p:cNvPr id="397" name="椭圆 145"/>
            <p:cNvSpPr/>
            <p:nvPr/>
          </p:nvSpPr>
          <p:spPr>
            <a:xfrm>
              <a:off x="5665680" y="2561040"/>
              <a:ext cx="565200" cy="56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146"/>
            <p:cNvSpPr/>
            <p:nvPr/>
          </p:nvSpPr>
          <p:spPr>
            <a:xfrm>
              <a:off x="5919840" y="280656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Group 142"/>
            <p:cNvGrpSpPr/>
            <p:nvPr/>
          </p:nvGrpSpPr>
          <p:grpSpPr>
            <a:xfrm>
              <a:off x="5938560" y="2478240"/>
              <a:ext cx="24480" cy="710640"/>
              <a:chOff x="5938560" y="2478240"/>
              <a:chExt cx="24480" cy="710640"/>
            </a:xfrm>
          </p:grpSpPr>
          <p:sp>
            <p:nvSpPr>
              <p:cNvPr id="400" name="等腰三角形 157"/>
              <p:cNvSpPr/>
              <p:nvPr/>
            </p:nvSpPr>
            <p:spPr>
              <a:xfrm flipH="1" rot="10800000">
                <a:off x="5938560" y="282996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等腰三角形 158"/>
              <p:cNvSpPr/>
              <p:nvPr/>
            </p:nvSpPr>
            <p:spPr>
              <a:xfrm flipH="1">
                <a:off x="5938560" y="2478240"/>
                <a:ext cx="24480" cy="358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45"/>
            <p:cNvGrpSpPr/>
            <p:nvPr/>
          </p:nvGrpSpPr>
          <p:grpSpPr>
            <a:xfrm>
              <a:off x="5691600" y="2824560"/>
              <a:ext cx="527040" cy="25200"/>
              <a:chOff x="5691600" y="2824560"/>
              <a:chExt cx="527040" cy="25200"/>
            </a:xfrm>
          </p:grpSpPr>
          <p:sp>
            <p:nvSpPr>
              <p:cNvPr id="403" name="等腰三角形 155"/>
              <p:cNvSpPr/>
              <p:nvPr/>
            </p:nvSpPr>
            <p:spPr>
              <a:xfrm flipH="1" rot="5400000">
                <a:off x="6074640" y="270504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等腰三角形 156"/>
              <p:cNvSpPr/>
              <p:nvPr/>
            </p:nvSpPr>
            <p:spPr>
              <a:xfrm rot="16200000">
                <a:off x="5811120" y="2705760"/>
                <a:ext cx="24480" cy="2635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48"/>
            <p:cNvGrpSpPr/>
            <p:nvPr/>
          </p:nvGrpSpPr>
          <p:grpSpPr>
            <a:xfrm>
              <a:off x="5856840" y="2706120"/>
              <a:ext cx="190440" cy="289440"/>
              <a:chOff x="5856840" y="2706120"/>
              <a:chExt cx="190440" cy="289440"/>
            </a:xfrm>
          </p:grpSpPr>
          <p:sp>
            <p:nvSpPr>
              <p:cNvPr id="406" name="等腰三角形 153"/>
              <p:cNvSpPr/>
              <p:nvPr/>
            </p:nvSpPr>
            <p:spPr>
              <a:xfrm flipH="1" rot="12716400">
                <a:off x="5898960" y="283500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等腰三角形 154"/>
              <p:cNvSpPr/>
              <p:nvPr/>
            </p:nvSpPr>
            <p:spPr>
              <a:xfrm rot="1955400">
                <a:off x="5986080" y="2697480"/>
                <a:ext cx="17280" cy="168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51"/>
            <p:cNvGrpSpPr/>
            <p:nvPr/>
          </p:nvGrpSpPr>
          <p:grpSpPr>
            <a:xfrm>
              <a:off x="5793840" y="2735640"/>
              <a:ext cx="277200" cy="189000"/>
              <a:chOff x="5793840" y="2735640"/>
              <a:chExt cx="277200" cy="189000"/>
            </a:xfrm>
          </p:grpSpPr>
          <p:sp>
            <p:nvSpPr>
              <p:cNvPr id="409" name="等腰三角形 151"/>
              <p:cNvSpPr/>
              <p:nvPr/>
            </p:nvSpPr>
            <p:spPr>
              <a:xfrm flipH="1" rot="7386600">
                <a:off x="5992200" y="27954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等腰三角形 152"/>
              <p:cNvSpPr/>
              <p:nvPr/>
            </p:nvSpPr>
            <p:spPr>
              <a:xfrm flipH="1" rot="18164400">
                <a:off x="5856480" y="2705400"/>
                <a:ext cx="1620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0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795" dur="625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59940">
                                      <p:cBhvr>
                                        <p:cTn id="807" dur="42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1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838" dur="2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844" dur="2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939">
                                      <p:cBhvr>
                                        <p:cTn id="850" dur="2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799939">
                                      <p:cBhvr>
                                        <p:cTn id="852" dur="2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2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5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8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1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7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940">
                                      <p:cBhvr>
                                        <p:cTn id="894" dur="1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19940">
                                      <p:cBhvr>
                                        <p:cTn id="903" dur="1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912" dur="1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1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4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0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3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6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75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75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7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7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7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7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7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7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963" dur="2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1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59940">
                                      <p:cBhvr>
                                        <p:cTn id="975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987" dur="1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9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0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0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939">
                                      <p:cBhvr>
                                        <p:cTn id="10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799939">
                                      <p:cBhvr>
                                        <p:cTn id="10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59940">
                                      <p:cBhvr>
                                        <p:cTn id="1067" dur="2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9" dur="7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1079" dur="27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1" dur="7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08:17:00Z</dcterms:created>
  <dc:creator>微软中国</dc:creator>
  <dc:description/>
  <cp:keywords/>
  <dc:language>en-US</dc:language>
  <cp:lastModifiedBy>a</cp:lastModifiedBy>
  <dcterms:modified xsi:type="dcterms:W3CDTF">2015-07-21T01:12:40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