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DE3-15FC-45A7-8A9F-66E4E4C8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BB9-5A65-4407-8A71-A237310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1BE-D425-4015-B17F-4247FB78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BC6-915C-4AFF-80B8-FFD1025F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17B-09CC-4281-BA5A-1022D53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3E40-B860-4C94-9163-7758A89B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05B2-3079-4539-B735-A4AFC6D3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A69-EFCA-4993-858B-F5EB16E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E40-B89B-4F2A-A733-BE0507D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BB1-0E38-4DA7-A730-900EDE8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993-3C9E-4EFC-9EB2-D5A9074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635-D87E-4D25-96D1-CB9BB84E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DE0-03E2-4B32-B29F-317F955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398-A757-453A-BCEF-9B2E84D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584-EA52-437E-91E0-26583D7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243-B94A-4A42-8919-04A2E45B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879-D4C1-469C-8A6D-1C29F25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156-72CE-4AFD-AE9A-8323D3E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71F-2047-42C9-9E3B-B6C1F26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30B-911B-4526-9864-6F65889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149-A8FF-4F37-832F-74F0DBC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D04-32EA-43CC-ACCB-0965FDB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675-EA97-4B45-824D-EC10683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0E9-1902-4E67-BAE8-367569B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CF0D-F676-4044-BDAA-E140DDB518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BE3E-FE2D-4D73-B8B8-EEDD242F1A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2CEA-7746-4758-A7F8-935D510EC4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9F99-9AB6-4462-9FB8-C9B44465A9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4716360" y="1917720"/>
            <a:ext cx="4248360" cy="4941720"/>
          </a:xfrm>
          <a:prstGeom prst="rect">
            <a:avLst/>
          </a:prstGeom>
          <a:solidFill>
            <a:srgbClr val="0099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32360" y="2060640"/>
            <a:ext cx="40435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我想，我是不是好久没有认真的看一下这个美丽的世界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好好的欣赏一下这个美丽的世界</a:t>
            </a:r>
            <a:r>
              <a:rPr b="0" lang="en-US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抬头仰望一下那似海水一般湛蓝的天空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舒展一下紧蹙的眉头，把嘴角上扬会心的微笑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静下心来，尽情地享受一下属于生命的美好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24360" cy="659772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241440" y="7840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蒲公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0" y="4508640"/>
            <a:ext cx="8677440" cy="158436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468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河流弯弯，记录岁月哀愁。小溪潺潺，承载流年往昔。记忆，越来越淡了，淡得似乎已想不起你的容颜。印象，越来越浅了，浅得宛如那天边的云彩，一阵风就会将它吹散。记忆，容颜，印象，吹散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5508720" y="692280"/>
            <a:ext cx="3384360" cy="6165720"/>
          </a:xfrm>
          <a:prstGeom prst="rect">
            <a:avLst/>
          </a:prstGeom>
          <a:solidFill>
            <a:srgbClr val="ff00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16360" y="691920"/>
            <a:ext cx="3251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旁的花，色彩斑斓，开得妖娆灿烂，暗香浮动。浓春烟景，似人间仙境。岁月悠悠，时过境迁，人非物换，悲喜无常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急景流年里，我只愿用一颗永恒的心去应对人生的风风雨雨，喜怒无常。流深静水，往事如烟云。唯愿记住快乐，忘却痛苦。记住欢喜，忘记悲凉。将美好的曾经和过往，永久珍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好好爱，别让美丽变尘埃。给自己一份好心情，让世界对着你微笑：给别人一份好心情，让生活对我们微笑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5" descr=""/>
          <p:cNvPicPr/>
          <p:nvPr/>
        </p:nvPicPr>
        <p:blipFill>
          <a:blip r:embed="rId2"/>
          <a:stretch/>
        </p:blipFill>
        <p:spPr>
          <a:xfrm>
            <a:off x="0" y="1268280"/>
            <a:ext cx="5192640" cy="5748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1:0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7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