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6AF-C897-4723-B0F3-B5B22A48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DDA-90C3-47ED-8F1B-BE1BE366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D21-186C-4AAD-9F9C-79987048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EA1-0609-4225-95CC-3738F224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F9F-626D-4C20-8D1D-F54E9AA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94E-2372-42BE-8E84-0508880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A22-986F-4F8D-B70A-82656391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435-A9D7-46A0-ACC1-5328AC50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CCB-E526-4959-BD19-9DEAB8C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3C7-58F1-4D3A-A946-5B60373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6B9-F87A-49F9-AF04-E5EDB26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E3F-882C-42FF-BCDB-C0C9DC3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033-4C92-4022-9A09-B12D2A89B0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03640" y="1125360"/>
            <a:ext cx="62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唯美校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572080" y="17985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5357880" y="1789200"/>
            <a:ext cx="250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6572160" y="19288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429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640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069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569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569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72000" y="638172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442656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497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354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50695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855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500720" y="645336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569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997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926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3211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283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212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7069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a</cp:lastModifiedBy>
  <dcterms:modified xsi:type="dcterms:W3CDTF">2015-07-21T04:40:06Z</dcterms:modified>
  <cp:revision>1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