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6E5A-2B9E-444E-88DF-F414B224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DED6-25AA-4E93-B825-9ED5C2DE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C771-2FB9-41F0-AD77-9AECABEB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5C46-A9A4-417F-A267-674326E3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9E35-3D53-40D7-A275-4BCF68AD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D825-8AC6-4163-88A2-9E21CB8E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B66C-1935-4C4A-B51B-C95C8726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EF5C-389A-440D-A76D-962CB511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A95E-D61F-4950-989A-E17473AB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1E9C-9A15-4C5C-BFB8-7105486D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B8B5-0FA2-4D42-8A33-742FEB19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528B-89AF-48C2-9209-11DEDC03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5510-EE48-47A7-AC46-BEA91EE8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89ED-64A7-4E60-8D70-58D37024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76BF-9B86-438B-8068-36CC89DD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9239-4671-45C9-996A-1F361112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F1EA-4636-41C7-A5A1-B73FC866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4B1B5-1652-4E85-9983-402B716B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79E24-F6C6-4FD3-A43F-6D34E1A6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C976F-4A9B-4FFE-A9D9-835EF366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85807-9BA4-4518-A94C-6B824005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198F1-78B9-4198-BF45-49D3D58B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4DAE-F3F5-4873-B07D-74E2EB2B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9F5EE-7207-4564-89A6-CB9FF7C3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A225F-92A4-4847-9F76-3490CD4A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C9A5A-14C7-429A-BCA4-6BE501BC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286D4-6543-41A4-9156-0E537AFC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DE526-5487-4DC7-B002-81941931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92560-9CC6-437F-BA96-F06DDA79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6C8C7-7279-4D63-BA77-3FA724F1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55CE-9239-4910-9AF4-CD0EC955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5575-C9C5-4939-A53D-4FEBC5E9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2853-B174-41BC-86DB-EE13CACD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EF2B-32EB-4B4D-9B31-8228E2AA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B70F-7A06-4EC5-A74C-04B0DDAB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951C-F178-4045-B8D7-843AED67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6B5C-01ED-481E-AB02-20CE0057E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33BB-EA59-43DC-9B3D-6AD43C53B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C728-7133-411F-BFA2-6A0C2A082DD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汉仪行楷简"/>
                <a:ea typeface="汉仪行楷简"/>
              </a:rPr>
              <a:t>蜗牛</a:t>
            </a:r>
            <a:r>
              <a:rPr b="0" lang="en-US" sz="4000" spc="-1" strike="noStrike">
                <a:solidFill>
                  <a:srgbClr val="ffffff"/>
                </a:solidFill>
                <a:latin typeface="汉仪行楷简"/>
                <a:ea typeface="汉仪行楷简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汉仪行楷简"/>
                <a:ea typeface="汉仪行楷简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609560" y="6118200"/>
            <a:ext cx="675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0T12:09:5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20:4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