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BC8C-0833-4210-AA4A-C4DE7844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7E12-AE28-4E28-BF4A-6AF9C62E8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0CD-9FD2-4125-B92D-DF1AA98D4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CB27-D351-4503-87B1-6E3E9A37B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EE043-1691-44C9-BD73-9AD1AE853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FDA7-45CD-4FEA-BD53-138376052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6EC4-D882-46EA-BC69-7E12257F5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7774D-5FB6-406F-80C2-3962C035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07A06-C52D-41F8-B978-24A99C8EF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185A9-59D4-4CB1-96AA-903EB0A6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1B8D-E385-4ABA-BD75-A5C8D10F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0981-4E11-4741-AE08-BB306E47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70EC2-5DB6-44E4-8393-B17FB404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3A31-53E6-4275-94F2-EB8F56FC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B572-4F6B-4C45-B668-CBFBD715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711C1-1814-4D1D-A3AB-131602E5A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D9AF-1A40-4AF6-A578-07FD4DE0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27D1-6F01-428E-B025-D081B2A3D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6A2A-BE37-490E-A338-45E96E65B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D3BF-DC2E-42C8-BB1E-37D503F6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CF4B-D38E-4FEE-92A9-58301BE2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400-EC26-4129-A1B2-20F566E06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2F8-A797-416D-BCA8-C94411BE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77B7-13A1-4C75-9718-068D7C08F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441-BD8E-41D1-8A7F-8A2D00A892F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A1FB-1A5D-44C5-AD70-56EC9078D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AE81-74FB-4D43-931F-BBD5635C23B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4726-3DC4-48EB-BAA6-0B3F19DDD1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1160" y="11160"/>
            <a:ext cx="9123480" cy="6872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6360" y="645336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76880" y="142884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握手</a:t>
            </a:r>
            <a:r>
              <a:rPr b="0" lang="en-US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DD3B-3358-49E8-851E-DB77B8784F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04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