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8BA7-3B4F-4098-A246-F03D0A1C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EEB0-F48D-4884-9C91-8528CF53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1C62-E1F5-4BAA-A9AC-B34BE497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436-33BC-45D2-B9AF-0A66E09E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5F9B-A1E8-4FD9-BA1F-990C34AB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1501-1EEE-43E4-B552-38845A9A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CF25-EF62-4E1E-B1CC-41290E0F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0138-3B4B-401C-ACBD-2C7D3E4A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001E-A23A-499F-A743-AD61A7F7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58CB-8121-4562-98B3-4CF328A8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DA7-4ACE-420F-B554-EEB2D5BB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C01E-DFEC-40D7-9684-9E49B68F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CBE4-26F9-41CB-AB9F-F7F0529E54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"/>
          <p:cNvPicPr/>
          <p:nvPr/>
        </p:nvPicPr>
        <p:blipFill>
          <a:blip r:embed="rId1"/>
          <a:stretch/>
        </p:blipFill>
        <p:spPr>
          <a:xfrm>
            <a:off x="95400" y="-12600"/>
            <a:ext cx="12150720" cy="688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4840" y="6483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625920" y="82440"/>
            <a:ext cx="42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文学家之莫言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演示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2"/>
          <p:cNvPicPr/>
          <p:nvPr/>
        </p:nvPicPr>
        <p:blipFill>
          <a:blip r:embed="rId1"/>
          <a:stretch/>
        </p:blipFill>
        <p:spPr>
          <a:xfrm>
            <a:off x="-3240" y="-14400"/>
            <a:ext cx="1218888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3"/>
          <p:cNvPicPr/>
          <p:nvPr/>
        </p:nvPicPr>
        <p:blipFill>
          <a:blip r:embed="rId1"/>
          <a:stretch/>
        </p:blipFill>
        <p:spPr>
          <a:xfrm>
            <a:off x="4680" y="4680"/>
            <a:ext cx="12193560" cy="68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4"/>
          <p:cNvPicPr/>
          <p:nvPr/>
        </p:nvPicPr>
        <p:blipFill>
          <a:blip r:embed="rId1"/>
          <a:stretch/>
        </p:blipFill>
        <p:spPr>
          <a:xfrm>
            <a:off x="0" y="-4680"/>
            <a:ext cx="12206160" cy="6862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5"/>
          <p:cNvPicPr/>
          <p:nvPr/>
        </p:nvPicPr>
        <p:blipFill>
          <a:blip r:embed="rId1"/>
          <a:stretch/>
        </p:blipFill>
        <p:spPr>
          <a:xfrm>
            <a:off x="3240" y="4680"/>
            <a:ext cx="1221408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6"/>
          <p:cNvPicPr/>
          <p:nvPr/>
        </p:nvPicPr>
        <p:blipFill>
          <a:blip r:embed="rId1"/>
          <a:stretch/>
        </p:blipFill>
        <p:spPr>
          <a:xfrm>
            <a:off x="-1440" y="-12600"/>
            <a:ext cx="122094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7"/>
          <p:cNvPicPr/>
          <p:nvPr/>
        </p:nvPicPr>
        <p:blipFill>
          <a:blip r:embed="rId1"/>
          <a:stretch/>
        </p:blipFill>
        <p:spPr>
          <a:xfrm>
            <a:off x="3240" y="-12600"/>
            <a:ext cx="12196800" cy="68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B255-8B24-4052-A783-B48BF14AC8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a</cp:lastModifiedBy>
  <dcterms:modified xsi:type="dcterms:W3CDTF">2015-07-20T08:57:5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