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362-371A-4F39-9001-A0763EEC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FE1-1500-47AA-9475-57FF7308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982-3F55-4138-A2AD-56748FC0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7E2-D7F7-4842-B738-CA95CE41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68AF-186A-49C4-AFE4-4EB372AD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3774-9B32-4583-9CAD-52E9D0C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0972-717F-447E-8656-E760F221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301F-BC08-43AE-85E0-7BFD601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74B2-E697-492F-BEBB-742525D7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C05-66B9-445C-94AC-3872E770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1F60-0B7D-41AB-88CD-E69D393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615-6674-40F1-A117-1BC1C3A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F4C-205C-41B6-8892-58AD2E7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4273-1102-433B-ABDE-560777A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978F-281B-4586-8888-13DB840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448A-78D4-4259-BAB7-FD179B59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EA05-5A25-4D87-912F-A98888A1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5EB-96D8-4478-825E-00F46D5F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0BD-0FDA-4E06-BCEB-D95881F4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8D7-AF10-463C-982F-50F6251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091-24B9-4458-8769-5AB95229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B79-7176-45E0-88FF-279EFE4C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F45-B062-4E3A-BE5D-3FF7032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F7D-CD23-4874-A141-B046BB0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8F13-3D4C-4D4F-900E-8D73DCAB9E0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C82F-E55D-4865-BECF-9A207E5C4D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844-86FA-45E6-A20B-E1B654566D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836640"/>
            <a:ext cx="9001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白人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00360" y="1917720"/>
            <a:ext cx="3335400" cy="436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C243-F5E9-4659-A0FF-665E590C5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3Z</dcterms:modified>
  <cp:revision>8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