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3A0-4858-475F-BE7D-6C5E72D2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2B5-604B-47FB-B6C3-4B187479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599FB-0D25-4166-A4F9-8E691B30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FABF-E80D-4659-8718-B9FA2B69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97F42-A554-4677-8D8A-25EAD54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685B2-3BD3-4449-BB12-5980062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AA447-5D97-43E3-B8AD-61D2D60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30320-1ECE-4BF7-8084-B4E4962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6C81B-3868-4C04-B7CD-6D330B01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FA3BB-03D6-4D53-89AD-822934CD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1C60-94D6-4B65-85B5-0D3054E0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92F1D-CA47-45E8-B6A1-3379A9BC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C68-877E-4A15-90D6-5B857FE8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BBBE9-9C05-4028-A770-A32EC38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0D883-4343-4990-AFAC-CE1618F5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0BC03-2CFC-4BDE-8B68-185F4C0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3AC73-0675-446B-A55C-6AF55B7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157C4-5503-4457-AA1E-D09AA0B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84D2-301A-4C88-BECE-10F2D81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5C051-7728-41B5-B36B-77A6555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F7FBD-74DB-4837-892B-8200782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78C8D-001F-43DE-9C16-CCE16143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6D3B1-C1B3-40B4-822E-91E0FAEC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033-DC48-4578-9ED8-C0E2C4D1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EAD64-EA6B-4B58-8DFD-6D5F788C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97279-664D-4F73-AFFF-84553FCC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BD1C-D7DC-4DC3-9BEA-FC242A8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BD483-79D7-4140-8ED0-F514FEE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E9369-306C-4528-98BE-94D7A58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E6C33-AC6D-46C6-9509-CB7E742F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41D1C-9205-436C-B9E8-D4D2E0C1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6D990-0D8A-4C9F-BEFB-5F318BD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4CBE-706D-49B4-8BDB-DF88447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CDEA5-F220-42D3-90FE-C761A867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7232-ED35-42E8-A2F3-D01E87CE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1F47-FB66-4089-898E-2F64DEE9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34A80-1062-47A5-AC8E-AF6C5843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850D-F033-4335-8FFE-B4D13709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97B0C-C2CB-4C1E-8751-3C7E5DD3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BE060-1CF5-4B16-B277-05087704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5F29E-A0B9-4297-B914-88D472C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741C5-20D1-4907-8284-5A947B03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56A52-8B4F-42BF-B773-0DD9E050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7CBE3-DD20-4138-B45B-6261C39F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96FDD-2DAA-4F06-9D18-C97E90E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CB7-0F94-45AD-9F0E-E6A6C1EC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478DE-0675-401D-89C8-C8C1AB4F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CF12-9D8B-42DF-BF4A-9614466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2A2C-F7A6-4900-AA74-9E46B5CA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FA33B-0CB4-4BC6-BC7E-8BD83EDB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6013C-DB6C-4A82-8B6D-FFD52B5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D82D9-BA27-4BDD-87CE-894C38F6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8A9CE-654C-4C93-8F61-30CCE041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117DC-0F8A-45B9-81EE-4106A4D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2F066-FB0A-4D81-9262-62E4B08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4052B-612C-4F31-9783-7EE355F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7D6A-CA8C-439F-AFDF-3A0C14E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662FB-7E46-4638-BD64-B0877B9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D3CC3-BF11-4266-816A-81F609A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D0936-E3B3-407C-85BE-76E5945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7C405-F8AE-43A8-912E-9B86E79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4652E-567A-4BCD-BED2-C249A41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6568C-7EA8-44A7-BE58-0EE7F8BD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64C01-8F43-4CA4-A1B0-7E25DD3A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FDB-8130-4FA8-8B42-735207A0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19F9-2095-4E97-BEEB-10EA881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4B1-64D2-4E83-BEF5-718039FC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ADBC-6509-47BE-9137-09B40E8A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520-791D-4597-A86A-E352E79B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9FFD-8613-4C58-A9DE-04FCC54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FCC-D106-41B9-BC15-6FADF7D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1992-8FD5-4818-B32A-804CCEE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FCD-C1D5-4DCC-8F72-89699841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22B2-D65A-4C34-A90E-F4D7719C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6292-418B-4F58-9FEB-02F19326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D33C-A17C-46DC-808C-544F464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990F-3683-4EE1-8990-4C9BE90F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BDE4-23E3-400C-A34A-29D06605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A319-8946-425F-9D9C-61BD0D4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189-223A-41A8-83FA-AF849D2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B5AE-31C8-4C21-B968-3BB9468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668D-43FE-4CCC-866F-51903D5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872B-0B90-4698-A8EC-4AFA2F6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C6C0-E96F-459A-826C-96AF3C3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2AD6-4807-4C25-B672-4DB653E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21C2-2F61-499B-AE5F-31C601E8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FDAE-11C6-412F-A66D-221EBCAB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3FDD-65ED-4A4B-BB49-39A033E1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6668-E3B5-4F5A-BB98-40FC0AE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A631-E42A-4DE4-9868-3C62B8B0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B48-FDBF-406D-8FCE-90180248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B89F-8E3C-492D-BA2C-3AEFAAFB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3863-55F4-42C4-A332-24AC4DE8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72A3-0B42-4F07-B7C5-C9442C5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03FEE-A831-41DE-9FE1-6BDBEF20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3C98-D803-4F48-9540-9012960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3E37-CD6C-4ADF-B441-7ACFA8D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6DFA-808C-4E1A-B8DA-9AB4A2FD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2ABE-5B8F-4085-863D-62D4EA8C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452C-64F8-4A9B-95DE-E7BEDA6B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748B-D096-473E-94B0-B8326D47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350-2773-4691-A0CC-8004D06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7718-4C24-41B7-9BC2-F61F609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71C18-86B3-433B-A299-2C7D03C8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5074-B8B7-458D-BB83-FB242ABD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2330-A295-4059-9953-E39F33B1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5D6B-BF08-49A6-BE9C-85986ECB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C7D9E-2DC8-4DE3-9802-1944F14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9DCA-01E9-46B4-ACC7-17A8D0A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F9F2-058B-46FD-8131-76B3E5E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3AEB-0653-40FE-AB80-44C18CE3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D980B-86B1-4C16-9E88-45563D8D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376-906A-4901-B39F-6AE6DE0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5986-2781-4472-96A2-32E98A05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A0A1-F71C-4019-BF31-B3F7FA98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664E-8F1E-42A6-AB62-D6E0B02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FAE7-B933-42CE-B3B4-80348F8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8C5D-E034-4131-BF7C-0A4E22C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FB8C-C0BE-4A2D-886A-8B8DF725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B8D1-8C57-4300-81CD-5852F640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F9F47-BC4E-4199-A720-A25D012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ECCEC-ED88-49FB-B554-6B803CC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87E4-8EB3-419C-872D-1FAC682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CB5-0B3A-415F-A2FB-7A8A788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259A-489F-408D-A699-8018986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565F-260C-49D9-88E0-7048D65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8FEF-FF02-47C2-A38C-49CBB1B4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3BD1-B192-4217-AF98-5C35DA9F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FCD6-1593-478D-B5A3-D6075012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E9E6F-12B5-4D4A-8ADA-3A260ACB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8FEC-DDE6-47F7-8545-9138FBC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AE32-7862-44B3-B5A1-9C4F836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EA19-2701-4E9A-A44D-DD321797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49A0-32C9-4F11-8D77-C7079CC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4DE-89CA-46D1-8C26-FCC65BA7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2740-C779-4828-9D59-759ADFB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EA1B-6BBD-4FE2-B25E-07D498FC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5B4DA-4353-4C2F-8DB5-278B9D1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7F40-5A0C-4FC2-82AF-A291433A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533AB-AB72-4879-912D-F69BF63D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64E38-AADB-4825-A3C4-6BE73121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193F-CC43-4EAB-911A-A64C4B6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B55E-D1DC-4525-9F23-FFD00C2C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93760-2E84-4FE4-985E-82AED51A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C07BA-20DD-4A54-9137-9DD3E049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402-05C1-4F5E-BB56-726A39D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C3757-AB46-4A0D-94BE-D986A789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9DB73-ED6F-4663-BD00-58D372CC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08438-46DE-4DA0-B05D-7152CFD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6C76-38D9-44B3-9DC1-EAE290E3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E5285-7C1A-4074-8CCE-A8EA1795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3D08-9EFE-4163-91EC-F152B466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3F06-7EE9-4CDC-83A6-9DE23149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69720-041A-472F-98DE-763447B9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BACF3-5C47-47D1-A97F-01D49801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085CE-6833-4276-8AD6-22FEDBA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80E1-2F4F-4937-9C9A-6C01515E993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B362-82F4-460D-9B94-729E1D68BB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A64D-A4B8-4A8E-8C40-9A848A64C0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B58-64C2-46EA-B09D-9D07BEE517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230-8C8F-437A-8293-3DE99CFB36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01A7-B995-45A6-AD22-F44F02E717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A40D-7F18-4DDB-A07C-A273529EDC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4EF-84B2-42C3-9158-A0623DD708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F15-1B21-4252-8B15-813A5CC574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7FE0-A613-4EC1-9619-192F3F8335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FC6-41DD-4B65-8AD7-B12F86BB65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953-6813-4B01-86D6-447B6DAD71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DC52-5DD8-4143-86F9-A33D0F3F9D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7AB-E41E-4DE2-B09F-AAA94DA369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81B-9FEC-486C-A4AC-2ECCA26F48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2709-013C-4B9D-8B64-FE1A408054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4DE-8D8C-4776-AAF7-215EDBB130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9A35-7939-4FD9-95FA-ED48EA07A2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D3A-4F93-4F7C-AFAD-A3FFA9AB05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BF96-4B00-427E-9C1D-C28C6577BE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F140-A634-4C16-9020-8832A31F85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FF0-4B2F-4840-A446-97C297348C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7242-519D-4E89-A25A-A150C299A7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351-8B36-4030-93E2-CAF13ADD48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3580-6DD9-442D-8619-2E7BCE6A91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9222-1B55-49BA-9672-9FB511E0B4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sucai/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9"/>
          <p:cNvSpPr/>
          <p:nvPr/>
        </p:nvSpPr>
        <p:spPr>
          <a:xfrm>
            <a:off x="4911840" y="2152800"/>
            <a:ext cx="1908000" cy="1908000"/>
          </a:xfrm>
          <a:prstGeom prst="ellipse">
            <a:avLst/>
          </a:prstGeom>
          <a:solidFill>
            <a:srgbClr val="ffffff">
              <a:alpha val="25000"/>
            </a:srgbClr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30"/>
          <p:cNvSpPr/>
          <p:nvPr/>
        </p:nvSpPr>
        <p:spPr>
          <a:xfrm>
            <a:off x="5127480" y="2368440"/>
            <a:ext cx="1474920" cy="147492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1"/>
          <p:cNvSpPr/>
          <p:nvPr/>
        </p:nvSpPr>
        <p:spPr>
          <a:xfrm>
            <a:off x="2349360" y="2152800"/>
            <a:ext cx="1908360" cy="1908000"/>
          </a:xfrm>
          <a:prstGeom prst="ellipse">
            <a:avLst/>
          </a:prstGeom>
          <a:solidFill>
            <a:srgbClr val="ffffff">
              <a:alpha val="25000"/>
            </a:srgbClr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32"/>
          <p:cNvSpPr/>
          <p:nvPr/>
        </p:nvSpPr>
        <p:spPr>
          <a:xfrm>
            <a:off x="2565360" y="2368440"/>
            <a:ext cx="1476360" cy="147492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同心圆 33"/>
          <p:cNvSpPr/>
          <p:nvPr/>
        </p:nvSpPr>
        <p:spPr>
          <a:xfrm>
            <a:off x="4352760" y="1593720"/>
            <a:ext cx="3024360" cy="3024360"/>
          </a:xfrm>
          <a:custGeom>
            <a:avLst/>
            <a:gdLst>
              <a:gd name="textAreaLeft" fmla="*/ 442800 w 3024360"/>
              <a:gd name="textAreaRight" fmla="*/ 2581560 w 3024360"/>
              <a:gd name="textAreaTop" fmla="*/ 442800 h 3024360"/>
              <a:gd name="textAreaBottom" fmla="*/ 258156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26" y="10800"/>
                </a:moveTo>
                <a:cubicBezTo>
                  <a:pt x="3126" y="15038"/>
                  <a:pt x="6562" y="18474"/>
                  <a:pt x="10800" y="18474"/>
                </a:cubicBezTo>
                <a:cubicBezTo>
                  <a:pt x="15038" y="18474"/>
                  <a:pt x="18474" y="15038"/>
                  <a:pt x="18474" y="10800"/>
                </a:cubicBezTo>
                <a:cubicBezTo>
                  <a:pt x="18474" y="6562"/>
                  <a:pt x="15038" y="3126"/>
                  <a:pt x="10800" y="3126"/>
                </a:cubicBezTo>
                <a:cubicBezTo>
                  <a:pt x="6562" y="3126"/>
                  <a:pt x="3126" y="6562"/>
                  <a:pt x="3126" y="10800"/>
                </a:cubicBezTo>
                <a:close/>
              </a:path>
            </a:pathLst>
          </a:custGeom>
          <a:gradFill rotWithShape="0">
            <a:gsLst>
              <a:gs pos="0">
                <a:srgbClr val="6eff01"/>
              </a:gs>
              <a:gs pos="100000">
                <a:srgbClr val="0f5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46"/>
          <p:cNvSpPr/>
          <p:nvPr/>
        </p:nvSpPr>
        <p:spPr>
          <a:xfrm>
            <a:off x="2498760" y="27208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46"/>
          <p:cNvSpPr/>
          <p:nvPr/>
        </p:nvSpPr>
        <p:spPr>
          <a:xfrm>
            <a:off x="4998960" y="27208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5000"/>
                </a:solidFill>
                <a:latin typeface="微软雅黑"/>
                <a:ea typeface="微软雅黑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标注 36"/>
          <p:cNvSpPr/>
          <p:nvPr/>
        </p:nvSpPr>
        <p:spPr>
          <a:xfrm>
            <a:off x="803160" y="4832280"/>
            <a:ext cx="3060720" cy="900360"/>
          </a:xfrm>
          <a:prstGeom prst="wedgeRectCallout">
            <a:avLst>
              <a:gd name="adj1" fmla="val 35018"/>
              <a:gd name="adj2" fmla="val -69337"/>
            </a:avLst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标注 37"/>
          <p:cNvSpPr/>
          <p:nvPr/>
        </p:nvSpPr>
        <p:spPr>
          <a:xfrm>
            <a:off x="5256360" y="4832280"/>
            <a:ext cx="3060720" cy="900360"/>
          </a:xfrm>
          <a:prstGeom prst="wedgeRectCallout">
            <a:avLst>
              <a:gd name="adj1" fmla="val -34708"/>
              <a:gd name="adj2" fmla="val -68125"/>
            </a:avLst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46"/>
          <p:cNvSpPr/>
          <p:nvPr/>
        </p:nvSpPr>
        <p:spPr>
          <a:xfrm>
            <a:off x="1058760" y="5111640"/>
            <a:ext cx="27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3"/>
          <p:cNvSpPr/>
          <p:nvPr/>
        </p:nvSpPr>
        <p:spPr>
          <a:xfrm>
            <a:off x="2085840" y="4842000"/>
            <a:ext cx="16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46"/>
          <p:cNvSpPr/>
          <p:nvPr/>
        </p:nvSpPr>
        <p:spPr>
          <a:xfrm>
            <a:off x="5315040" y="511164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3"/>
          <p:cNvSpPr/>
          <p:nvPr/>
        </p:nvSpPr>
        <p:spPr>
          <a:xfrm>
            <a:off x="5315040" y="4842000"/>
            <a:ext cx="16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f5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"/>
          <p:cNvSpPr/>
          <p:nvPr/>
        </p:nvSpPr>
        <p:spPr>
          <a:xfrm>
            <a:off x="1778040" y="1506600"/>
            <a:ext cx="4933800" cy="3095640"/>
          </a:xfrm>
          <a:custGeom>
            <a:avLst/>
            <a:gdLst>
              <a:gd name="textAreaLeft" fmla="*/ 0 w 4933800"/>
              <a:gd name="textAreaRight" fmla="*/ 4934160 w 49338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518" h="325">
                <a:moveTo>
                  <a:pt x="470" y="16"/>
                </a:moveTo>
                <a:cubicBezTo>
                  <a:pt x="456" y="12"/>
                  <a:pt x="440" y="10"/>
                  <a:pt x="425" y="10"/>
                </a:cubicBezTo>
                <a:cubicBezTo>
                  <a:pt x="368" y="10"/>
                  <a:pt x="319" y="40"/>
                  <a:pt x="291" y="84"/>
                </a:cubicBezTo>
                <a:cubicBezTo>
                  <a:pt x="263" y="40"/>
                  <a:pt x="214" y="10"/>
                  <a:pt x="157" y="10"/>
                </a:cubicBezTo>
                <a:cubicBezTo>
                  <a:pt x="70" y="10"/>
                  <a:pt x="0" y="81"/>
                  <a:pt x="0" y="168"/>
                </a:cubicBezTo>
                <a:cubicBezTo>
                  <a:pt x="0" y="255"/>
                  <a:pt x="70" y="325"/>
                  <a:pt x="157" y="325"/>
                </a:cubicBezTo>
                <a:cubicBezTo>
                  <a:pt x="214" y="325"/>
                  <a:pt x="263" y="296"/>
                  <a:pt x="291" y="251"/>
                </a:cubicBezTo>
                <a:cubicBezTo>
                  <a:pt x="306" y="227"/>
                  <a:pt x="315" y="199"/>
                  <a:pt x="315" y="168"/>
                </a:cubicBezTo>
                <a:cubicBezTo>
                  <a:pt x="315" y="161"/>
                  <a:pt x="314" y="155"/>
                  <a:pt x="314" y="148"/>
                </a:cubicBezTo>
                <a:cubicBezTo>
                  <a:pt x="323" y="95"/>
                  <a:pt x="369" y="54"/>
                  <a:pt x="426" y="54"/>
                </a:cubicBezTo>
                <a:cubicBezTo>
                  <a:pt x="437" y="54"/>
                  <a:pt x="449" y="56"/>
                  <a:pt x="457" y="58"/>
                </a:cubicBezTo>
                <a:lnTo>
                  <a:pt x="451" y="76"/>
                </a:lnTo>
                <a:lnTo>
                  <a:pt x="518" y="55"/>
                </a:lnTo>
                <a:lnTo>
                  <a:pt x="474" y="0"/>
                </a:lnTo>
                <a:lnTo>
                  <a:pt x="470" y="16"/>
                </a:lnTo>
                <a:close/>
                <a:moveTo>
                  <a:pt x="157" y="54"/>
                </a:moveTo>
                <a:cubicBezTo>
                  <a:pt x="220" y="54"/>
                  <a:pt x="271" y="105"/>
                  <a:pt x="271" y="168"/>
                </a:cubicBezTo>
                <a:cubicBezTo>
                  <a:pt x="271" y="231"/>
                  <a:pt x="220" y="282"/>
                  <a:pt x="157" y="282"/>
                </a:cubicBezTo>
                <a:cubicBezTo>
                  <a:pt x="94" y="282"/>
                  <a:pt x="43" y="231"/>
                  <a:pt x="43" y="168"/>
                </a:cubicBezTo>
                <a:cubicBezTo>
                  <a:pt x="43" y="105"/>
                  <a:pt x="94" y="54"/>
                  <a:pt x="157" y="54"/>
                </a:cubicBezTo>
                <a:close/>
              </a:path>
            </a:pathLst>
          </a:custGeom>
          <a:gradFill rotWithShape="0">
            <a:gsLst>
              <a:gs pos="0">
                <a:srgbClr val="00dff6"/>
              </a:gs>
              <a:gs pos="100000">
                <a:srgbClr val="00277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2342880" y="-824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循环箭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9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2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Presentation">
    <vt:lpwstr>锐普图表</vt:lpwstr>
  </property>
</Properties>
</file>