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051F-530F-4ADF-87C1-F6F3C9AA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BE7-2A2C-4EA0-B653-8A6A2939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D08A-A31F-4E70-A6EF-FBD37EAB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6C7-83F8-423A-88D9-76E7D09A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69FB-56D9-4A8C-85DD-CA630073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60AE-5B21-4F21-8058-266D9FA9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D7E-1EE5-4678-A998-3F8F70CA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9A3-4762-4051-9E9E-1B54D908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F75-1528-41F6-AD2C-8EBA9A27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3355-F9FD-4CEE-B900-56DB5B04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C504-39BD-4DFD-9720-76B23748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D0E-5F8F-4FD4-8DA1-D8A5CEC3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CA45-C76B-495F-B345-32F9412C42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4572000" y="76320"/>
            <a:ext cx="4578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4008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1480" y="152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鲜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4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xpic3871"/>
          <p:cNvPicPr/>
          <p:nvPr/>
        </p:nvPicPr>
        <p:blipFill>
          <a:blip r:embed="rId15"/>
          <a:stretch/>
        </p:blipFill>
        <p:spPr>
          <a:xfrm>
            <a:off x="0" y="-1598760"/>
            <a:ext cx="9215280" cy="138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A6F-E241-4913-B6BF-0DB8BEEC16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xpic4035"/>
          <p:cNvPicPr/>
          <p:nvPr/>
        </p:nvPicPr>
        <p:blipFill>
          <a:blip r:embed="rId1"/>
          <a:stretch/>
        </p:blipFill>
        <p:spPr>
          <a:xfrm>
            <a:off x="0" y="-2085840"/>
            <a:ext cx="9144000" cy="89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08:20:13Z</dcterms:created>
  <dc:creator>lenovo</dc:creator>
  <dc:description/>
  <dc:language>en-US</dc:language>
  <cp:lastModifiedBy>lenovo</cp:lastModifiedBy>
  <dcterms:modified xsi:type="dcterms:W3CDTF">2015-07-21T06:20:3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