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0BF-4327-44B5-9B54-7B16DD2A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C96-A0D0-4AF0-99A1-1B127998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066-5A26-4E6B-B7E9-5780C453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85B-BFA3-4A29-B9F7-2B38564B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DD9F-4730-4ED9-94FE-69478795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66D8-5F59-4653-8C48-6D64CEAA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C4AD-8055-454B-9354-E2037EDA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B088-BFDE-404E-B2A9-9BD9B11F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B6CE-182D-454C-8706-D4CD5275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2A8A-7D4C-49AA-AF7A-43C46257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99E0-B947-489A-8F37-A6D2EED5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609-4BAD-45C0-99F2-0C02F22F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AEBB-B196-4F61-B829-4E60B87E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DC86-B349-478F-BE10-5658CC25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166F-4FBF-4456-8686-8305ECCA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7554-5605-4C9A-BC89-56F12261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58D7-7DCF-46FF-B199-10C8DEEC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E8D-E452-4381-A5C9-470B35A3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933-DB54-42B6-8367-D97F550D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AF3-74EF-4840-8DC8-E0462CC5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AF1-B55C-4024-80B8-9CA43223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265-3CEB-473D-A6BA-2B128DE7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385-9580-4072-90D8-D113F406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7B7-6DF9-4995-BE85-AF03B7D1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C2F6-29B7-48D6-A14E-9258D7DE37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FD3C-700A-4BE8-A223-DE652A51BF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"/>
          <p:cNvSpPr/>
          <p:nvPr/>
        </p:nvSpPr>
        <p:spPr>
          <a:xfrm>
            <a:off x="2616120" y="2814480"/>
            <a:ext cx="1447920" cy="19544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954440"/>
              <a:gd name="textAreaBottom" fmla="*/ 1954800 h 1954440"/>
            </a:gdLst>
            <a:ahLst/>
            <a:rect l="textAreaLeft" t="textAreaTop" r="textAreaRight" b="textAreaBottom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b66d48"/>
              </a:gs>
              <a:gs pos="100000">
                <a:srgbClr val="5432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"/>
          <p:cNvSpPr/>
          <p:nvPr/>
        </p:nvSpPr>
        <p:spPr>
          <a:xfrm rot="7200000">
            <a:off x="4307760" y="1734480"/>
            <a:ext cx="1365120" cy="2071440"/>
          </a:xfrm>
          <a:custGeom>
            <a:avLst/>
            <a:gdLst>
              <a:gd name="textAreaLeft" fmla="*/ 0 w 1365120"/>
              <a:gd name="textAreaRight" fmla="*/ 1365480 w 1365120"/>
              <a:gd name="textAreaTop" fmla="*/ 0 h 2071440"/>
              <a:gd name="textAreaBottom" fmla="*/ 2071800 h 2071440"/>
            </a:gdLst>
            <a:ahLst/>
            <a:rect l="textAreaLeft" t="textAreaTop" r="textAreaRight" b="textAreaBottom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419366"/>
              </a:gs>
              <a:gs pos="100000">
                <a:srgbClr val="1e442f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2644560" y="1477440"/>
            <a:ext cx="2482920" cy="2629800"/>
            <a:chOff x="2644560" y="1477440"/>
            <a:chExt cx="2482920" cy="2629800"/>
          </a:xfrm>
        </p:grpSpPr>
        <p:sp>
          <p:nvSpPr>
            <p:cNvPr id="85" name="AutoShape 6"/>
            <p:cNvSpPr/>
            <p:nvPr/>
          </p:nvSpPr>
          <p:spPr>
            <a:xfrm rot="12600000">
              <a:off x="2698560" y="318420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 rot="7200000">
              <a:off x="3093840" y="2388960"/>
              <a:ext cx="1505160" cy="80640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 rot="7200000">
              <a:off x="4167000" y="1461960"/>
              <a:ext cx="622440" cy="113976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419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9"/>
          <p:cNvSpPr/>
          <p:nvPr/>
        </p:nvSpPr>
        <p:spPr>
          <a:xfrm rot="14400000">
            <a:off x="4421520" y="3587760"/>
            <a:ext cx="1365480" cy="207180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487da4"/>
              </a:gs>
              <a:gs pos="100000">
                <a:srgbClr val="213a4c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4457160" y="2365560"/>
            <a:ext cx="2172960" cy="2759400"/>
            <a:chOff x="4457160" y="2365560"/>
            <a:chExt cx="2172960" cy="2759400"/>
          </a:xfrm>
        </p:grpSpPr>
        <p:sp>
          <p:nvSpPr>
            <p:cNvPr id="90" name="AutoShape 11"/>
            <p:cNvSpPr/>
            <p:nvPr/>
          </p:nvSpPr>
          <p:spPr>
            <a:xfrm rot="19800000">
              <a:off x="4511520" y="2684160"/>
              <a:ext cx="1438200" cy="603360"/>
            </a:xfrm>
            <a:prstGeom prst="triangle">
              <a:avLst>
                <a:gd name="adj" fmla="val 50000"/>
              </a:avLst>
            </a:pr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 rot="14400000">
              <a:off x="4899600" y="3275280"/>
              <a:ext cx="1505160" cy="80460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804600"/>
                <a:gd name="textAreaBottom" fmla="*/ 804960 h 80460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 rot="14400000">
              <a:off x="5724360" y="4032000"/>
              <a:ext cx="549360" cy="11397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487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2608200" y="4019400"/>
            <a:ext cx="2493720" cy="1395360"/>
            <a:chOff x="2608200" y="4019400"/>
            <a:chExt cx="2493720" cy="1395360"/>
          </a:xfrm>
        </p:grpSpPr>
        <p:sp>
          <p:nvSpPr>
            <p:cNvPr id="94" name="Freeform 15"/>
            <p:cNvSpPr/>
            <p:nvPr/>
          </p:nvSpPr>
          <p:spPr>
            <a:xfrm>
              <a:off x="2608200" y="4019400"/>
              <a:ext cx="582120" cy="1102680"/>
            </a:xfrm>
            <a:custGeom>
              <a:avLst/>
              <a:gdLst>
                <a:gd name="textAreaLeft" fmla="*/ 0 w 582120"/>
                <a:gd name="textAreaRight" fmla="*/ 582480 w 582120"/>
                <a:gd name="textAreaTop" fmla="*/ 0 h 1102680"/>
                <a:gd name="textAreaBottom" fmla="*/ 1103040 h 110268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6"/>
            <p:cNvSpPr/>
            <p:nvPr/>
          </p:nvSpPr>
          <p:spPr>
            <a:xfrm rot="5400000">
              <a:off x="4087080" y="4399920"/>
              <a:ext cx="1388880" cy="640800"/>
            </a:xfrm>
            <a:prstGeom prst="triangle">
              <a:avLst>
                <a:gd name="adj" fmla="val 50000"/>
              </a:avLst>
            </a:pr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132720" y="4342680"/>
              <a:ext cx="1598400" cy="779040"/>
            </a:xfrm>
            <a:custGeom>
              <a:avLst/>
              <a:gdLst>
                <a:gd name="textAreaLeft" fmla="*/ 0 w 1598400"/>
                <a:gd name="textAreaRight" fmla="*/ 1598760 w 159840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b66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8"/>
          <p:cNvSpPr/>
          <p:nvPr/>
        </p:nvSpPr>
        <p:spPr>
          <a:xfrm>
            <a:off x="736560" y="45291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6281640" y="45291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3544920" y="12160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4680" y="47628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B13C-1F8A-4AF4-8FC5-C2CA5A4C38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0Z</dcterms:modified>
  <cp:revision>6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