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79218-57BB-4005-940A-98031B558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66F01-3128-4D73-88A3-03D812EB3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333A8-219C-4D54-8D60-E823EF780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A9FDE-D74B-43DF-BA00-17D0EC25E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796F1-0101-4283-A20C-649E59436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337D6-5FA1-4A66-8F42-F07692A6D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4A1D1-A9CD-4177-AAE1-6FA8ECFA6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31B8A-3768-485F-BEE4-F74D9CA34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593DC-2316-48D4-8D42-6ECD92DB1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C2FEF-DF19-467E-9C2F-58CA41C2D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EB062-36F3-4839-B3F2-1568EC48A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A81F4-C32E-42AE-8580-D7C8ED176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CE6A0-9D56-487C-8CE5-1C2BDE3B2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E01DA-FEE4-44B2-81FC-C2106D873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54887-13F4-4A8F-823C-0CCA5F1CA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5A7D5-EE29-4938-9629-D65E572A2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B1B86-1F9E-4807-A3B5-9006E69DC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4DF3F-75EC-4B43-9AD9-DB5CEA29C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74FFD-FAB6-4BE8-A745-79AC9071E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ABD55-641E-448F-B32A-EC31431C6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A8D51-6605-4B5E-AF3D-B6569B9A7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1F065-92C0-4B84-BF3F-D0A6F7C88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BA066-EB99-4DC8-AA65-4250F01AC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2F2A3-5615-47BD-AC14-14E52E869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44614-CAB7-44BC-A69A-7BB05243C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27CB5-88E0-4E1A-A0B0-91DE2C5C5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D5F2A-E007-4DAF-A23C-53D65B25F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71B1A-5B25-4820-8765-C36000373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76BEE-479E-4121-846F-480DEA265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2C5A6-A5B4-40AC-88DC-DABFD58EF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4434B-9559-4066-9A01-046B2A4B9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BD4B4-97B1-4323-A3D7-618D9EE45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0A6C1-49F8-4286-AE6B-2DA3E98DF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B2EC1-D467-42BF-B91F-FB3E99BE5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F4FBE-EC7C-4F39-9B3E-459743DE7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144DE-6CA9-4202-9D29-3EF667440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5E653-C00A-4DC5-8535-5D6588D51A3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39899-E837-4A92-B949-3A63456A681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18D75-2BA2-4A75-96E2-9654DCB35FB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76320" y="64771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244600" y="147600"/>
            <a:ext cx="40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楷体"/>
                <a:ea typeface="楷体"/>
              </a:rPr>
              <a:t>谢幕的</a:t>
            </a:r>
            <a:r>
              <a:rPr b="0" lang="zh-CN" sz="4000" spc="-1" strike="noStrike">
                <a:solidFill>
                  <a:srgbClr val="ffffff"/>
                </a:solidFill>
                <a:latin typeface="楷体"/>
                <a:ea typeface="楷体"/>
              </a:rPr>
              <a:t>PPT</a:t>
            </a:r>
            <a:r>
              <a:rPr b="0" lang="en-US" sz="4000" spc="-1" strike="noStrike">
                <a:solidFill>
                  <a:srgbClr val="ffffff"/>
                </a:solidFill>
                <a:latin typeface="楷体"/>
                <a:ea typeface="楷体"/>
              </a:rPr>
              <a:t>素材免费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86534-EE4C-418E-8AC0-7BA8AF12B1E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2T03:22:4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37:07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  <property fmtid="{D5CDD505-2E9C-101B-9397-08002B2CF9AE}" pid="3" name="Version">
    <vt:r8>9</vt:r8>
  </property>
</Properties>
</file>