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E61-5CA9-4589-A8D1-F2FDD47E9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822-BEB6-4B68-B6FF-64BCE650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3EA-7229-4570-A28F-A38DE0CF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603-5583-4C49-9FC5-D8F4C2A7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DC8-DF0C-436F-AC70-40C4A1CA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9DD-2F06-43C6-884C-39117A30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97D-97F1-40F0-983F-C068A417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6DD-240F-438A-86AC-39530930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41C-4859-41B4-9216-62C1A8EB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395-45A6-4154-A6F9-2B528CDC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C53-3DEE-4B2F-8D04-30AEFEC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32D-39FB-4943-AC51-67B24C4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41A1-202A-4F9D-AEDB-BFD519A7B4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E:\新模板\logo定白 [Converted].png"/>
          <p:cNvPicPr/>
          <p:nvPr/>
        </p:nvPicPr>
        <p:blipFill>
          <a:blip r:embed="rId1"/>
          <a:stretch/>
        </p:blipFill>
        <p:spPr>
          <a:xfrm>
            <a:off x="3097080" y="2104920"/>
            <a:ext cx="2949840" cy="1040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2010\2011元旦\未标题-2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E:\2010\2011元旦\未标题-1.png"/>
          <p:cNvPicPr/>
          <p:nvPr/>
        </p:nvPicPr>
        <p:blipFill>
          <a:blip r:embed="rId3"/>
          <a:srcRect l="31154" t="52926" r="31154" b="42570"/>
          <a:stretch/>
        </p:blipFill>
        <p:spPr>
          <a:xfrm>
            <a:off x="2847960" y="3119400"/>
            <a:ext cx="3448080" cy="25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E:\2010\2011元旦\未标题-6.png"/>
          <p:cNvPicPr/>
          <p:nvPr/>
        </p:nvPicPr>
        <p:blipFill>
          <a:blip r:embed="rId4"/>
          <a:srcRect l="40311" t="41600" r="40465" b="46835"/>
          <a:stretch/>
        </p:blipFill>
        <p:spPr>
          <a:xfrm>
            <a:off x="2066760" y="2487600"/>
            <a:ext cx="1567080" cy="588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E:\2010\2011元旦\未标题-6.png"/>
          <p:cNvPicPr/>
          <p:nvPr/>
        </p:nvPicPr>
        <p:blipFill>
          <a:blip r:embed="rId5"/>
          <a:srcRect l="40311" t="41600" r="40465" b="46835"/>
          <a:stretch/>
        </p:blipFill>
        <p:spPr>
          <a:xfrm>
            <a:off x="3635280" y="2425680"/>
            <a:ext cx="1567080" cy="58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:\2010\2011元旦\未标题-5.png"/>
          <p:cNvPicPr/>
          <p:nvPr/>
        </p:nvPicPr>
        <p:blipFill>
          <a:blip r:embed="rId6"/>
          <a:srcRect l="40465" t="12309" r="40465" b="47080"/>
          <a:stretch/>
        </p:blipFill>
        <p:spPr>
          <a:xfrm>
            <a:off x="-1743120" y="703440"/>
            <a:ext cx="1743120" cy="232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E:\2010\2011元旦\未标题-4.png"/>
          <p:cNvPicPr/>
          <p:nvPr/>
        </p:nvPicPr>
        <p:blipFill>
          <a:blip r:embed="rId7"/>
          <a:srcRect l="37949" t="25335" r="58752" b="58261"/>
          <a:stretch/>
        </p:blipFill>
        <p:spPr>
          <a:xfrm>
            <a:off x="5372280" y="3424320"/>
            <a:ext cx="301320" cy="93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E:\2010\2011元旦\未标题-4.png"/>
          <p:cNvPicPr/>
          <p:nvPr/>
        </p:nvPicPr>
        <p:blipFill>
          <a:blip r:embed="rId8"/>
          <a:srcRect l="53984" t="58261" r="42634" b="25335"/>
          <a:stretch/>
        </p:blipFill>
        <p:spPr>
          <a:xfrm>
            <a:off x="4935600" y="3424320"/>
            <a:ext cx="311040" cy="938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E:\2010\2011元旦\未标题-4.png"/>
          <p:cNvPicPr/>
          <p:nvPr/>
        </p:nvPicPr>
        <p:blipFill>
          <a:blip r:embed="rId9"/>
          <a:srcRect l="45472" t="58261" r="46043" b="25335"/>
          <a:stretch/>
        </p:blipFill>
        <p:spPr>
          <a:xfrm>
            <a:off x="4157640" y="3424320"/>
            <a:ext cx="776160" cy="9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E:\2010\2011元旦\未标题-4.png"/>
          <p:cNvPicPr/>
          <p:nvPr/>
        </p:nvPicPr>
        <p:blipFill>
          <a:blip r:embed="rId10"/>
          <a:srcRect l="37567" t="58261" r="54531" b="25335"/>
          <a:stretch/>
        </p:blipFill>
        <p:spPr>
          <a:xfrm>
            <a:off x="3435480" y="3424320"/>
            <a:ext cx="722160" cy="938160"/>
          </a:xfrm>
          <a:prstGeom prst="rect">
            <a:avLst/>
          </a:prstGeom>
          <a:ln w="0">
            <a:noFill/>
          </a:ln>
        </p:spPr>
      </p:pic>
      <p:sp>
        <p:nvSpPr>
          <p:cNvPr id="51" name="圆角矩形 12"/>
          <p:cNvSpPr/>
          <p:nvPr/>
        </p:nvSpPr>
        <p:spPr>
          <a:xfrm>
            <a:off x="9396360" y="0"/>
            <a:ext cx="397080" cy="625320"/>
          </a:xfrm>
          <a:custGeom>
            <a:avLst/>
            <a:gdLst>
              <a:gd name="textAreaLeft" fmla="*/ 19080 w 397080"/>
              <a:gd name="textAreaRight" fmla="*/ 378000 w 397080"/>
              <a:gd name="textAreaTop" fmla="*/ 19080 h 625320"/>
              <a:gd name="textAreaBottom" fmla="*/ 606240 h 625320"/>
            </a:gdLst>
            <a:ahLst/>
            <a:rect l="textAreaLeft" t="textAreaTop" r="textAreaRight" b="textAreaBottom"/>
            <a:pathLst>
              <a:path w="21600" h="34004">
                <a:moveTo>
                  <a:pt x="3600" y="0"/>
                </a:moveTo>
                <a:arcTo wR="3600" hR="3600" stAng="16200000" swAng="-5400000"/>
                <a:lnTo>
                  <a:pt x="0" y="30404"/>
                </a:lnTo>
                <a:arcTo wR="3600" hR="3600" stAng="10800000" swAng="-5400000"/>
                <a:lnTo>
                  <a:pt x="18000" y="340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378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01600" y="1224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新年贺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C 0.03212 -0.03667 0.09739 -0.21611 0.19323 -0.21944 C 0.30781 -0.22944 0.39357 -0.08611 0.41198 -0.00611 E">
                                      <p:cBhvr>
                                        <p:cTn id="12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00"/>
                            </p:stCondLst>
                            <p:childTnLst>
                              <p:par>
                                <p:cTn id="19" nodeType="after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41198 -0.00611 C 0.42673 -0.02083 0.43975 -0.09278 0.50087 -0.095 C 0.56198 -0.08833 0.57569 -0.01583 0.59531 0.005 E">
                                      <p:cBhvr>
                                        <p:cTn id="20" dur="3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42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300"/>
                            </p:stCondLst>
                            <p:childTnLst>
                              <p:par>
                                <p:cTn id="3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3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3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800"/>
                            </p:stCondLst>
                            <p:childTnLst>
                              <p:par>
                                <p:cTn id="4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10799760">
                                      <p:cBhvr>
                                        <p:cTn id="1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4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E:\2010\2011元旦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E:\2010\2011元旦\未标题-6.png"/>
          <p:cNvPicPr/>
          <p:nvPr/>
        </p:nvPicPr>
        <p:blipFill>
          <a:blip r:embed="rId2"/>
          <a:srcRect l="40311" t="41600" r="40465" b="46835"/>
          <a:stretch/>
        </p:blipFill>
        <p:spPr>
          <a:xfrm>
            <a:off x="3665520" y="2487600"/>
            <a:ext cx="1566720" cy="5889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847960" y="3119400"/>
            <a:ext cx="3448080" cy="1243080"/>
            <a:chOff x="2847960" y="3119400"/>
            <a:chExt cx="3448080" cy="1243080"/>
          </a:xfrm>
        </p:grpSpPr>
        <p:pic>
          <p:nvPicPr>
            <p:cNvPr id="57" name="Picture 3" descr="E:\2010\2011元旦\未标题-1.png"/>
            <p:cNvPicPr/>
            <p:nvPr/>
          </p:nvPicPr>
          <p:blipFill>
            <a:blip r:embed="rId3"/>
            <a:srcRect l="31154" t="52926" r="31154" b="42570"/>
            <a:stretch/>
          </p:blipFill>
          <p:spPr>
            <a:xfrm>
              <a:off x="2847960" y="3119400"/>
              <a:ext cx="3448080" cy="2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" descr="E:\2010\2011元旦\未标题-4.png"/>
            <p:cNvPicPr/>
            <p:nvPr/>
          </p:nvPicPr>
          <p:blipFill>
            <a:blip r:embed="rId4"/>
            <a:srcRect l="37567" t="58261" r="37780" b="25335"/>
            <a:stretch/>
          </p:blipFill>
          <p:spPr>
            <a:xfrm>
              <a:off x="3434400" y="3424320"/>
              <a:ext cx="225576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" name="Picture 7" descr="E:\2010\2011元旦\未标题-5.png"/>
          <p:cNvPicPr/>
          <p:nvPr/>
        </p:nvPicPr>
        <p:blipFill>
          <a:blip r:embed="rId5"/>
          <a:srcRect l="40465" t="12309" r="40465" b="47080"/>
          <a:stretch/>
        </p:blipFill>
        <p:spPr>
          <a:xfrm>
            <a:off x="3700440" y="725400"/>
            <a:ext cx="1743120" cy="2320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E:\2010\2011元旦\未标题-7.png"/>
          <p:cNvPicPr/>
          <p:nvPr/>
        </p:nvPicPr>
        <p:blipFill>
          <a:blip r:embed="rId6"/>
          <a:srcRect l="0" t="81506" r="0" b="0"/>
          <a:stretch/>
        </p:blipFill>
        <p:spPr>
          <a:xfrm>
            <a:off x="0" y="4657680"/>
            <a:ext cx="9144000" cy="1057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E:\2010\2011元旦\未标题-9.png"/>
          <p:cNvPicPr/>
          <p:nvPr/>
        </p:nvPicPr>
        <p:blipFill>
          <a:blip r:embed="rId7"/>
          <a:srcRect l="75992" t="70167" r="0" b="18501"/>
          <a:stretch/>
        </p:blipFill>
        <p:spPr>
          <a:xfrm>
            <a:off x="6948360" y="4010040"/>
            <a:ext cx="219564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E:\2010\2011元旦\未标题-8.png"/>
          <p:cNvPicPr/>
          <p:nvPr/>
        </p:nvPicPr>
        <p:blipFill>
          <a:blip r:embed="rId8"/>
          <a:srcRect l="0" t="70167" r="68114" b="18501"/>
          <a:stretch/>
        </p:blipFill>
        <p:spPr>
          <a:xfrm>
            <a:off x="0" y="4010040"/>
            <a:ext cx="2916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28 C 0.03628 -0.02861 0.15365 -0.17778 0.21736 -0.17 C 0.30538 -0.14222 0.34444 -0.075 0.38264 0.04556 C 0.41892 0.16583 0.42448 0.44639 0.43542 0.55167 E">
                                      <p:cBhvr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800" fill="hold"/>
                                        <p:tgtEl>
                                          <p:spTgt spid="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43542 0.55194 L 0.43542 0.41444 E">
                                      <p:cBhvr>
                                        <p:cTn id="139" dur="3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xit" presetID="3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1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4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2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:\2010\2011元旦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0" y="4010040"/>
            <a:ext cx="9144000" cy="1704960"/>
            <a:chOff x="0" y="4010040"/>
            <a:chExt cx="9144000" cy="1704960"/>
          </a:xfrm>
        </p:grpSpPr>
        <p:pic>
          <p:nvPicPr>
            <p:cNvPr id="65" name="Picture 3" descr="E:\2010\2011元旦\未标题-7.png"/>
            <p:cNvPicPr/>
            <p:nvPr/>
          </p:nvPicPr>
          <p:blipFill>
            <a:blip r:embed="rId2"/>
            <a:srcRect l="0" t="81506" r="0" b="0"/>
            <a:stretch/>
          </p:blipFill>
          <p:spPr>
            <a:xfrm>
              <a:off x="0" y="4658040"/>
              <a:ext cx="9144000" cy="10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E:\2010\2011元旦\未标题-9.png"/>
            <p:cNvPicPr/>
            <p:nvPr/>
          </p:nvPicPr>
          <p:blipFill>
            <a:blip r:embed="rId3"/>
            <a:srcRect l="75992" t="70167" r="0" b="18501"/>
            <a:stretch/>
          </p:blipFill>
          <p:spPr>
            <a:xfrm>
              <a:off x="6948360" y="4010040"/>
              <a:ext cx="2195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E:\2010\2011元旦\未标题-8.png"/>
            <p:cNvPicPr/>
            <p:nvPr/>
          </p:nvPicPr>
          <p:blipFill>
            <a:blip r:embed="rId4"/>
            <a:srcRect l="0" t="70167" r="68114" b="18501"/>
            <a:stretch/>
          </p:blipFill>
          <p:spPr>
            <a:xfrm>
              <a:off x="0" y="4010040"/>
              <a:ext cx="291564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Box 17"/>
          <p:cNvSpPr/>
          <p:nvPr/>
        </p:nvSpPr>
        <p:spPr>
          <a:xfrm>
            <a:off x="1187280" y="1587600"/>
            <a:ext cx="676944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尊敬的阁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非常感谢您一年来对我们的支持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籍新春佳节之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祝您</a:t>
            </a:r>
            <a:r>
              <a:rPr b="1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新年</a:t>
            </a: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愉快，身体健康，万事如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847960" y="3119400"/>
            <a:ext cx="3448080" cy="1243080"/>
            <a:chOff x="2847960" y="3119400"/>
            <a:chExt cx="3448080" cy="1243080"/>
          </a:xfrm>
        </p:grpSpPr>
        <p:pic>
          <p:nvPicPr>
            <p:cNvPr id="70" name="Picture 3" descr="E:\2010\2011元旦\未标题-1.png"/>
            <p:cNvPicPr/>
            <p:nvPr/>
          </p:nvPicPr>
          <p:blipFill>
            <a:blip r:embed="rId5"/>
            <a:srcRect l="31154" t="52926" r="31154" b="42570"/>
            <a:stretch/>
          </p:blipFill>
          <p:spPr>
            <a:xfrm>
              <a:off x="2847960" y="3119400"/>
              <a:ext cx="3448080" cy="2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" descr="E:\2010\2011元旦\未标题-4.png"/>
            <p:cNvPicPr/>
            <p:nvPr/>
          </p:nvPicPr>
          <p:blipFill>
            <a:blip r:embed="rId6"/>
            <a:srcRect l="37567" t="58261" r="37780" b="25335"/>
            <a:stretch/>
          </p:blipFill>
          <p:spPr>
            <a:xfrm>
              <a:off x="3434400" y="3424320"/>
              <a:ext cx="2255760" cy="93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1116000" y="9144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861 L 0 -0.51082 E">
                                      <p:cBhvr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 0.18584 E">
                                      <p:cBhvr>
                                        <p:cTn id="160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E:\2010\2011元旦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7"/>
          <p:cNvSpPr/>
          <p:nvPr/>
        </p:nvSpPr>
        <p:spPr>
          <a:xfrm>
            <a:off x="1187280" y="1587600"/>
            <a:ext cx="6769440" cy="21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尊敬的阁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非常感谢您一年来对我们的支持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籍新春佳节之即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祝您</a:t>
            </a:r>
            <a:r>
              <a:rPr b="1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新年</a:t>
            </a:r>
            <a:r>
              <a:rPr b="0" lang="zh-CN" sz="2600" spc="-1" strike="noStrike">
                <a:solidFill>
                  <a:srgbClr val="ffffff"/>
                </a:solidFill>
                <a:latin typeface="方正平黑繁体"/>
                <a:ea typeface="方正平黑繁体"/>
              </a:rPr>
              <a:t>愉快，身体健康，万事如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5065560"/>
            <a:ext cx="9144000" cy="648000"/>
            <a:chOff x="0" y="5065560"/>
            <a:chExt cx="9144000" cy="648000"/>
          </a:xfrm>
        </p:grpSpPr>
        <p:pic>
          <p:nvPicPr>
            <p:cNvPr id="76" name="Picture 4" descr="E:\2010\2011元旦\未标题-9.png"/>
            <p:cNvPicPr/>
            <p:nvPr/>
          </p:nvPicPr>
          <p:blipFill>
            <a:blip r:embed="rId2"/>
            <a:srcRect l="75992" t="70167" r="0" b="18501"/>
            <a:stretch/>
          </p:blipFill>
          <p:spPr>
            <a:xfrm>
              <a:off x="6948360" y="5065560"/>
              <a:ext cx="219564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E:\2010\2011元旦\未标题-8.png"/>
            <p:cNvPicPr/>
            <p:nvPr/>
          </p:nvPicPr>
          <p:blipFill>
            <a:blip r:embed="rId3"/>
            <a:srcRect l="0" t="70167" r="68114" b="18501"/>
            <a:stretch/>
          </p:blipFill>
          <p:spPr>
            <a:xfrm>
              <a:off x="0" y="5065560"/>
              <a:ext cx="291564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2847960" y="203040"/>
            <a:ext cx="3448080" cy="1243080"/>
            <a:chOff x="2847960" y="203040"/>
            <a:chExt cx="3448080" cy="1243080"/>
          </a:xfrm>
        </p:grpSpPr>
        <p:pic>
          <p:nvPicPr>
            <p:cNvPr id="79" name="Picture 3" descr="E:\2010\2011元旦\未标题-1.png"/>
            <p:cNvPicPr/>
            <p:nvPr/>
          </p:nvPicPr>
          <p:blipFill>
            <a:blip r:embed="rId4"/>
            <a:srcRect l="31154" t="52926" r="31154" b="42570"/>
            <a:stretch/>
          </p:blipFill>
          <p:spPr>
            <a:xfrm>
              <a:off x="2847960" y="203040"/>
              <a:ext cx="3448080" cy="25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2" descr="E:\2010\2011元旦\未标题-4.png"/>
            <p:cNvPicPr/>
            <p:nvPr/>
          </p:nvPicPr>
          <p:blipFill>
            <a:blip r:embed="rId5"/>
            <a:srcRect l="37567" t="58261" r="37780" b="25335"/>
            <a:stretch/>
          </p:blipFill>
          <p:spPr>
            <a:xfrm>
              <a:off x="3434400" y="507960"/>
              <a:ext cx="2255760" cy="9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3" descr="E:\2010\2011元旦\未标题-14.png"/>
          <p:cNvPicPr/>
          <p:nvPr/>
        </p:nvPicPr>
        <p:blipFill>
          <a:blip r:embed="rId6"/>
          <a:srcRect l="24012" t="42841" r="24012" b="47087"/>
          <a:stretch/>
        </p:blipFill>
        <p:spPr>
          <a:xfrm>
            <a:off x="2195640" y="2209680"/>
            <a:ext cx="4752720" cy="5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E:\2010\2011元旦\未标题-14.png"/>
          <p:cNvPicPr/>
          <p:nvPr/>
        </p:nvPicPr>
        <p:blipFill>
          <a:blip r:embed="rId7"/>
          <a:srcRect l="24012" t="54186" r="24012" b="38261"/>
          <a:stretch/>
        </p:blipFill>
        <p:spPr>
          <a:xfrm>
            <a:off x="2195640" y="2828880"/>
            <a:ext cx="4752720" cy="43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E:\2010\2011元旦\未标题-5.png"/>
          <p:cNvPicPr/>
          <p:nvPr/>
        </p:nvPicPr>
        <p:blipFill>
          <a:blip r:embed="rId8"/>
          <a:srcRect l="40465" t="12309" r="40465" b="47080"/>
          <a:stretch/>
        </p:blipFill>
        <p:spPr>
          <a:xfrm>
            <a:off x="-826920" y="4802040"/>
            <a:ext cx="82692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5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600"/>
                            </p:stCondLst>
                            <p:childTnLst>
                              <p:par>
                                <p:cTn id="1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6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600"/>
                            </p:stCondLst>
                            <p:childTnLst>
                              <p:par>
                                <p:cTn id="20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1.76013E-006 C 0.04253 -0.03664 0.12882 -0.21599 0.25573 -0.21932 C 0.40729 -0.22932 0.52083 -0.08606 0.54531 -0.00611 E">
                                      <p:cBhvr>
                                        <p:cTn id="210" dur="7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ACB-DC03-4BAE-BB2B-9045F2475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8:36:00Z</dcterms:created>
  <dc:creator>Chris</dc:creator>
  <dc:description/>
  <dc:language>en-US</dc:language>
  <cp:lastModifiedBy>User</cp:lastModifiedBy>
  <dcterms:modified xsi:type="dcterms:W3CDTF">2015-07-21T01:32:00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