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88E-B12F-4A77-9C3F-DA4A63F8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949-9D5C-472A-9251-D6A409C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5AC-8C2F-4745-A0B9-ECEA60D9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488-F8C3-4EF5-831C-F7CB8651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A47-31C1-4625-A4D0-78B4F80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9AC-02D0-49E7-A14F-3BDB8656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14B-C22F-4D8E-86A3-F169120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6E4-CC10-4E23-86D3-50FBBB5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F02-0279-45D7-817C-CB87F7D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2D7-5E11-481F-907E-F898977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E78-42F8-4971-8E09-DD27077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26A-3BF4-40BB-A7E4-E61C11C2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FF70D-25E3-4E89-8F43-650BF193F6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791EC-65C7-42E7-89BE-2A08DCE5C2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380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7156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新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 rot="10800000">
            <a:off x="-11160" y="-54360"/>
            <a:ext cx="91728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4C2-575D-454C-8655-BE7E507153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46:00Z</dcterms:created>
  <dc:creator>outline</dc:creator>
  <dc:description/>
  <dc:language>en-US</dc:language>
  <cp:lastModifiedBy>lenovo</cp:lastModifiedBy>
  <dcterms:modified xsi:type="dcterms:W3CDTF">2015-07-20T11:34:56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