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3211-DA1F-43FA-BDB4-484923A9A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F836-7174-470F-875D-2B418097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FC83-365C-4D96-B2BC-1636ECCB7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757D-A44A-4124-B812-78CDDB144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840B-9AA4-4AB6-AEE6-FC97CCD1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C91B-1CD9-4DB3-99D3-6D358FFA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0E11-268A-4C18-BE17-927F0137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9274-A6D4-4F3D-834A-1A1BBFFF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F75B-BC93-4EC3-84B1-A83FB80F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2480-613E-4D71-9C94-C7161675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9E83-3F60-47E3-8CE1-938847A7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E37D-7E2C-4C25-9BD2-DCD81E1F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B0F2-33EB-4E16-9129-71480C0724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6165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05240" y="981000"/>
            <a:ext cx="295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喜庆动态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8D62-EF2B-4351-97E9-A089D58E52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08:25:56Z</dcterms:created>
  <dc:creator>幻灯片之家 http://www.eeppt.com; An</dc:creator>
  <dc:description/>
  <cp:keywords>幻灯片之家 http:/www.eeppt.com</cp:keywords>
  <dc:language>en-US</dc:language>
  <cp:lastModifiedBy/>
  <dcterms:modified xsi:type="dcterms:W3CDTF">2015-07-17T01:10:54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