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C53-653A-4349-BB7D-725900A5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5ED-95D6-497D-84DF-43E67210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21A-335A-4A0C-BD11-9576E0F4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48A-37FB-4BE9-A7C7-3FDF2810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B842-6FEA-41B7-AAFD-6CCC5691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64E-7529-4448-9199-7F28352A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F419-5E84-4D08-9B52-7A5F66B3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27D8-87B3-42D1-BE2D-7FF4FFC8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33E4-B5B1-4948-AFE7-306F06A8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1CD5-C63E-4983-A5FB-6901F404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321C-A0EE-49F6-819C-C2EC65D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81D-26C9-4C41-B84F-2369FEB3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4732-8739-4BC2-B756-61095FD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EFF3-3273-44ED-BB5E-49A19BD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D878-1ECC-4496-93DC-49A9FAB6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0DDA-06BF-4B3B-9503-2165C520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2E1B-7429-48C2-BB22-D8374343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6C2-3AD5-4DD1-AE1F-BCF64A45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A08-F343-4325-AF55-C57F561F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574-5514-4427-9471-26D10458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908-8131-4343-950E-01421A60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570-1319-4DE4-82B2-D0BD7DB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011-4D47-42C6-B9D2-61E93303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CD2-0D9A-4352-B7EE-A49FCE6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4C48-3C3D-45BE-9A86-B6646136DF7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F82D-5AAF-4429-9738-884115407C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A3C3-1495-4315-875E-8EAF753214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090880" y="1127160"/>
            <a:ext cx="4857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istrator.WWW-D1797C5692D\桌面\2商务礼仪\素材\3D设计 第三辑\3D设计-3-8.jpg"/>
          <p:cNvPicPr/>
          <p:nvPr/>
        </p:nvPicPr>
        <p:blipFill>
          <a:blip r:embed="rId2"/>
          <a:stretch/>
        </p:blipFill>
        <p:spPr>
          <a:xfrm>
            <a:off x="1403280" y="1989000"/>
            <a:ext cx="5688000" cy="448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8000" y="6308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0000" y="119700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人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B92D-B7A9-4867-80FC-732FD650D6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3Z</dcterms:modified>
  <cp:revision>8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