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8C836-3EB2-42E1-BC04-0EBBA7474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B5081-0D2A-4F5F-8500-8B0BD8411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AF379-F43D-4E94-A94E-C46217C96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2C26E-A0BC-4598-8661-3C073CE74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F2E88-D321-466A-886D-BAB9CD5BA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C3957-13CB-4BC2-B439-9181F3335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EE551-9CCB-4C98-97BD-D94D0565E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2BB7C-D63C-4211-B729-0BA2CF058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5F3F3-7CC6-448E-93FD-9C4F0BBC4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393DA-5E36-4B9A-BA02-00C2032E9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09C53-2D8C-4E4E-B821-8B8458227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70D0E-A3C6-491E-98AD-0BFD3D453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01610-D31B-4829-A89B-8C2C881DB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8F3F5-B0EF-408E-90F6-9FBD094C0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A40B2-37E7-4AE3-BD3D-3534E44AE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45F3C-AFC8-478F-8697-3A48AAF53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8A489-336C-4CEF-AE6E-F2A424C9E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3EE0B-0746-4C0C-B79B-48AC0BF95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6A080-B947-4990-8ACA-31810A56F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D4C88-7A58-4008-B7FF-303B19708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0A631-7B19-465A-81FE-3F25C9093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D3E5B-A792-48D7-9CD8-AE4DD0734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1241D-6DEF-49BC-99D8-B0AB2BB6A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5965E-D14D-4DAA-A2D6-6F49ABCEC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4EC9F-3802-42D0-9D76-F30E75EC83F9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3C4C1-F620-4383-9AAA-22F880E4053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0105D-4852-4F8E-8025-A79A74CBADB3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ED5CC-5B9A-400B-B3CA-6386480EE1D6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1143000" y="0"/>
            <a:ext cx="6858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36360" y="6453360"/>
            <a:ext cx="508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-27720" y="0"/>
            <a:ext cx="1399320" cy="645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小人图标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素材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8984F-84C3-4DC7-B559-189FF3E4B20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1T03:04:32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