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A8E8F-EB54-4455-8D27-8F8A32FEB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4866-A868-4CDF-909A-5F6660C59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6881D-07D7-45E1-AE90-ADED9574A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E4897-95C6-4DBF-9007-D8AFEAA2F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45303-B5D9-45D4-A8CB-52B73CF1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74C97-1CFC-4434-A791-D9ADB323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E6455-4BDC-4C8E-AFFE-AEE5A8AB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D79CB-700B-4DD6-9D29-C206A6B9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B8F52-DCB6-4232-816D-5C7A6792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B669A-7B84-4242-8EB6-EDC437C7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4B31A-4E92-4641-9B34-22EF3F70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BA7D-8B5C-482E-A62D-B5462D08D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1B881-C646-45DA-9FCE-B03BB5D0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74B99-A562-4464-AEE4-35397028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D76B7-828F-4391-A42C-AE38D7D2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4FB0B-3A2E-44A2-B219-D027898F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DE039-B01A-4835-8406-DF33E5B9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C0F0D-95B4-47AA-81FD-DFC3A8E9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BA84E-852B-43EE-A2A1-B5CBAF71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52789-B5D3-4F9E-A23A-D8F1F7C5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E54DE-A959-4C70-85F5-1D7912F6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7DDAE-0E6B-4F87-B556-60354459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19E87-2C7E-4841-90CD-981217130B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A6D27-D5AA-4F7E-B918-C4909A6B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86AA8-0B8A-46C0-8501-131F8928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1D3F3-61BE-4F9C-9C93-4BD83D1A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AC64A-25FC-448B-9683-CAE3F728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33BE9-E97D-4F8F-8F91-8F199AE3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A087A-9DF1-4E90-988B-1BAD428B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5211D-1AE0-4CBC-B6ED-03BF894C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B78866-3E89-44A0-A69A-13B93D61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C8BC95-24AA-4C42-91FA-FBE73CCA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785A6-2D23-49ED-AB0A-FE797F1E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BCDAB-832C-4701-9544-11E1D31290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3EB48-9553-4EFE-8DFC-6DB0E043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85900C-214A-49C8-B87D-0C1CB65D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EE63D-9AB3-4129-A00D-64501443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CAF19D-98CA-4124-A065-EB10777C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D545D5-17DA-415C-B060-77778BC7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FFFF50-64CF-47EF-9718-DE78007F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F1E9A-AFAD-4133-AC09-F976F538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040FC9-3C31-477B-93CD-1A202149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6D812E-0518-4DFE-933A-76677355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15137-8B83-4B96-8DA1-BEBD2746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F3D7-0119-4863-B81B-DD6CE2679B4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98000-3662-48DD-81C9-EE6C2FBC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D5CB4E-B2F6-4DC4-B67D-AA3085C9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53042-3990-4014-8F0B-59374DA5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AEEC0-E52A-4146-941F-1AC93A22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67C6F-5731-4B75-A064-A5F251DE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DDE4B-8501-4CBB-9428-38F6DDBA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45127-7880-49DC-AEBA-24CD0DA5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37479-DC6F-4AD5-AA1E-FD289A06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60EAF-7398-4B64-951F-65B2B80F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F4887-AD33-4C97-BC4C-00E656F3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AF27C-64C7-48B3-AC0D-5122239942A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94679-6A4F-478F-9609-0269390B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4AD48-F80F-4DD4-870A-47A432A0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22195-3027-447D-8A89-7B901FFD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880B2-9A53-404F-B9E2-D31DF332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9F31F-81D3-440D-9B63-DEDE56BF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E3021-F536-4170-80CF-02456953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6D9EAA-FEF0-4A36-9420-DAECD78F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BDB174-9855-405F-9356-27A7B115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D89F67-AD56-4F4D-8F93-58B30315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76A34-2E80-4652-9157-4E562C99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AAE69-5C8C-4034-8592-5C4D8E1CAD8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1068E-EB63-4EDC-9E19-BE952EDE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E5945D-E011-4A21-BB28-37542A0E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6BE682-85C5-48F5-8F16-291C9869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1A112-F7D1-43AC-8A6E-C5959FE4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B421F-A027-46D0-A1BD-20C8F06B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25417C-86C7-496D-8135-BF793922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EFF856-64A7-4DAD-B060-67B672EB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6F27F-089C-43EF-8DC5-010B7968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A22CC-408F-4F15-AFF4-C6EAF86D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A8C6A-A351-469B-833E-3E963279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2A707-02AB-49F1-BB29-57EA0857499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4E59FC-A236-4908-A87D-7BB76C3A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22B50A-E58D-45DC-A792-0C3D6A63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A158E8-8AFC-4A49-AB43-8DA14502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7F95C2-9B74-4355-AC48-12699F8B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D69A9-B22B-49E7-8404-0F62E9FA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66DE0-8EC7-4ED7-A16C-A7C43EDEA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logo"/>
          <p:cNvPicPr/>
          <p:nvPr/>
        </p:nvPicPr>
        <p:blipFill>
          <a:blip r:embed="rId3"/>
          <a:stretch/>
        </p:blipFill>
        <p:spPr>
          <a:xfrm>
            <a:off x="380880" y="6019920"/>
            <a:ext cx="1714680" cy="59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5CEC-93B0-4403-AA20-B5A52A2D7C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230B-4F75-49E9-B746-1D2FAA62FB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C372-D935-409E-A156-A2401B966F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A116-AE6D-403E-91EE-12D935D6B9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66F8-EC98-42AE-94CC-18D633934D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6643-5A09-49DC-9245-E22881B8F4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39BF-7452-4138-97A9-4A6F4E92183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9"/>
          <p:cNvSpPr/>
          <p:nvPr/>
        </p:nvSpPr>
        <p:spPr>
          <a:xfrm>
            <a:off x="533520" y="5335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人教新课标二年级美术下册第四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2927160" y="19051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新鲜的包装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16" name="Picture 7" descr="0100130036"/>
          <p:cNvPicPr/>
          <p:nvPr/>
        </p:nvPicPr>
        <p:blipFill>
          <a:blip r:embed="rId1"/>
          <a:stretch/>
        </p:blipFill>
        <p:spPr>
          <a:xfrm>
            <a:off x="2819520" y="1828800"/>
            <a:ext cx="2514600" cy="209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0100130159"/>
          <p:cNvPicPr/>
          <p:nvPr/>
        </p:nvPicPr>
        <p:blipFill>
          <a:blip r:embed="rId2"/>
          <a:stretch/>
        </p:blipFill>
        <p:spPr>
          <a:xfrm>
            <a:off x="5715000" y="1828800"/>
            <a:ext cx="2514600" cy="2095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0100130250"/>
          <p:cNvPicPr/>
          <p:nvPr/>
        </p:nvPicPr>
        <p:blipFill>
          <a:blip r:embed="rId3"/>
          <a:stretch/>
        </p:blipFill>
        <p:spPr>
          <a:xfrm>
            <a:off x="2819520" y="4114800"/>
            <a:ext cx="2514600" cy="20937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3" descr="0100130335"/>
          <p:cNvPicPr/>
          <p:nvPr/>
        </p:nvPicPr>
        <p:blipFill>
          <a:blip r:embed="rId4"/>
          <a:stretch/>
        </p:blipFill>
        <p:spPr>
          <a:xfrm>
            <a:off x="5715000" y="4114800"/>
            <a:ext cx="251460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21" name="Picture 9" descr="0100130393"/>
          <p:cNvPicPr/>
          <p:nvPr/>
        </p:nvPicPr>
        <p:blipFill>
          <a:blip r:embed="rId1"/>
          <a:stretch/>
        </p:blipFill>
        <p:spPr>
          <a:xfrm>
            <a:off x="2666880" y="1523880"/>
            <a:ext cx="2667240" cy="2222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0100130624"/>
          <p:cNvPicPr/>
          <p:nvPr/>
        </p:nvPicPr>
        <p:blipFill>
          <a:blip r:embed="rId2"/>
          <a:stretch/>
        </p:blipFill>
        <p:spPr>
          <a:xfrm>
            <a:off x="5638680" y="1523880"/>
            <a:ext cx="2667240" cy="2222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0100130780"/>
          <p:cNvPicPr/>
          <p:nvPr/>
        </p:nvPicPr>
        <p:blipFill>
          <a:blip r:embed="rId3"/>
          <a:stretch/>
        </p:blipFill>
        <p:spPr>
          <a:xfrm>
            <a:off x="2666880" y="3886200"/>
            <a:ext cx="2667240" cy="22082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0100130868"/>
          <p:cNvPicPr/>
          <p:nvPr/>
        </p:nvPicPr>
        <p:blipFill>
          <a:blip r:embed="rId4"/>
          <a:stretch/>
        </p:blipFill>
        <p:spPr>
          <a:xfrm>
            <a:off x="5638680" y="3886200"/>
            <a:ext cx="2667240" cy="222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26" name="Picture 9" descr="无标题"/>
          <p:cNvPicPr/>
          <p:nvPr/>
        </p:nvPicPr>
        <p:blipFill>
          <a:blip r:embed="rId1"/>
          <a:stretch/>
        </p:blipFill>
        <p:spPr>
          <a:xfrm>
            <a:off x="2779560" y="160020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2009052502025505151239672967010710631"/>
          <p:cNvPicPr/>
          <p:nvPr/>
        </p:nvPicPr>
        <p:blipFill>
          <a:blip r:embed="rId2"/>
          <a:stretch/>
        </p:blipFill>
        <p:spPr>
          <a:xfrm>
            <a:off x="6019920" y="1600200"/>
            <a:ext cx="2895480" cy="2185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2009052502024008121239672968997576191"/>
          <p:cNvPicPr/>
          <p:nvPr/>
        </p:nvPicPr>
        <p:blipFill>
          <a:blip r:embed="rId3"/>
          <a:stretch/>
        </p:blipFill>
        <p:spPr>
          <a:xfrm>
            <a:off x="2743200" y="3962520"/>
            <a:ext cx="2895480" cy="2187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147783372"/>
          <p:cNvPicPr/>
          <p:nvPr/>
        </p:nvPicPr>
        <p:blipFill>
          <a:blip r:embed="rId4"/>
          <a:stretch/>
        </p:blipFill>
        <p:spPr>
          <a:xfrm>
            <a:off x="6019920" y="3962520"/>
            <a:ext cx="2895480" cy="218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36576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作业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209680" y="228600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了刚才的排列方法外还可以根据自己的喜欢进行这种排列，只要漂亮就可以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6" descr="u=667419159,1515269218&amp;fm=0&amp;gp=0"/>
          <p:cNvPicPr/>
          <p:nvPr/>
        </p:nvPicPr>
        <p:blipFill>
          <a:blip r:embed="rId1"/>
          <a:stretch/>
        </p:blipFill>
        <p:spPr>
          <a:xfrm>
            <a:off x="7162920" y="48006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20,-5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20,-5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20,-5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20,-5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0" y="1828800"/>
            <a:ext cx="631656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你们还可以利用新颖的材料，如：碎布、闪光纸拼贴包装纸，运用本课所制作的包装纸，包装一件礼物送给小朋友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2" descr="u=1089927379,2577859402&amp;fm=0&amp;gp=0"/>
          <p:cNvPicPr/>
          <p:nvPr/>
        </p:nvPicPr>
        <p:blipFill>
          <a:blip r:embed="rId1"/>
          <a:stretch/>
        </p:blipFill>
        <p:spPr>
          <a:xfrm>
            <a:off x="6324480" y="4419720"/>
            <a:ext cx="2400480" cy="18000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20,-5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20,-5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12"/>
          <p:cNvSpPr txBox="1"/>
          <p:nvPr/>
        </p:nvSpPr>
        <p:spPr>
          <a:xfrm>
            <a:off x="2514600" y="2362320"/>
            <a:ext cx="4952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再见！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411200" y="6423120"/>
            <a:ext cx="67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5"/>
          <p:cNvSpPr/>
          <p:nvPr/>
        </p:nvSpPr>
        <p:spPr>
          <a:xfrm>
            <a:off x="3505320" y="358128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5120" y="6854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生活中我们常互送小礼物，包装纸让礼物穿上新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%C9%FA%BB%EE_%BD%F0%C8%DA_%C0%F1%CE%EF%B0%FC%D7%B0_003"/>
          <p:cNvPicPr/>
          <p:nvPr/>
        </p:nvPicPr>
        <p:blipFill>
          <a:blip r:embed="rId1"/>
          <a:stretch/>
        </p:blipFill>
        <p:spPr>
          <a:xfrm>
            <a:off x="2693880" y="2209680"/>
            <a:ext cx="3086280" cy="3276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%C9%FA%BB%EE_%BD%F0%C8%DA_%C0%F1%CE%EF%B0%FC%D7%B0_064"/>
          <p:cNvPicPr/>
          <p:nvPr/>
        </p:nvPicPr>
        <p:blipFill>
          <a:blip r:embed="rId2"/>
          <a:stretch/>
        </p:blipFill>
        <p:spPr>
          <a:xfrm>
            <a:off x="5932440" y="2238480"/>
            <a:ext cx="3087720" cy="32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20,-5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20,-5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74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95" name="Picture 8" descr="3866842_b"/>
          <p:cNvPicPr/>
          <p:nvPr/>
        </p:nvPicPr>
        <p:blipFill>
          <a:blip r:embed="rId1"/>
          <a:stretch/>
        </p:blipFill>
        <p:spPr>
          <a:xfrm>
            <a:off x="2693880" y="2319480"/>
            <a:ext cx="3086280" cy="3085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20094149465049111"/>
          <p:cNvPicPr/>
          <p:nvPr/>
        </p:nvPicPr>
        <p:blipFill>
          <a:blip r:embed="rId2"/>
          <a:stretch/>
        </p:blipFill>
        <p:spPr>
          <a:xfrm>
            <a:off x="5791320" y="2362320"/>
            <a:ext cx="3124080" cy="304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98" name="Picture 3" descr="a38dbef66a3c2d85c88c1815a3b7bbd0"/>
          <p:cNvPicPr/>
          <p:nvPr/>
        </p:nvPicPr>
        <p:blipFill>
          <a:blip r:embed="rId1"/>
          <a:stretch/>
        </p:blipFill>
        <p:spPr>
          <a:xfrm>
            <a:off x="2693880" y="182880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aea339105078e13eb8127b41"/>
          <p:cNvPicPr/>
          <p:nvPr/>
        </p:nvPicPr>
        <p:blipFill>
          <a:blip r:embed="rId2"/>
          <a:stretch/>
        </p:blipFill>
        <p:spPr>
          <a:xfrm>
            <a:off x="5932440" y="1805040"/>
            <a:ext cx="3087720" cy="41162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02" name="Picture 6" descr="2009_3_28_3_55_055886497"/>
          <p:cNvPicPr/>
          <p:nvPr/>
        </p:nvPicPr>
        <p:blipFill>
          <a:blip r:embed="rId1"/>
          <a:stretch/>
        </p:blipFill>
        <p:spPr>
          <a:xfrm>
            <a:off x="2666880" y="1600200"/>
            <a:ext cx="6096240" cy="452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04" name="Picture 6" descr="OOOPIC_sxzj_20090207823b78a421d19663"/>
          <p:cNvPicPr/>
          <p:nvPr/>
        </p:nvPicPr>
        <p:blipFill>
          <a:blip r:embed="rId1"/>
          <a:stretch/>
        </p:blipFill>
        <p:spPr>
          <a:xfrm>
            <a:off x="2590920" y="990720"/>
            <a:ext cx="6019560" cy="513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同类型的包装纸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0,0,228,19741,308,231,99a82701"/>
          <p:cNvPicPr/>
          <p:nvPr/>
        </p:nvPicPr>
        <p:blipFill>
          <a:blip r:embed="rId1"/>
          <a:stretch/>
        </p:blipFill>
        <p:spPr>
          <a:xfrm>
            <a:off x="2362320" y="1676520"/>
            <a:ext cx="3276360" cy="2971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20090205_a3e9818fb306a6e2dabc9fvXPzk3JMNM"/>
          <p:cNvPicPr/>
          <p:nvPr/>
        </p:nvPicPr>
        <p:blipFill>
          <a:blip r:embed="rId2"/>
          <a:stretch/>
        </p:blipFill>
        <p:spPr>
          <a:xfrm>
            <a:off x="5715000" y="2743200"/>
            <a:ext cx="312408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09" name="Picture 7" descr="0,0,313,50929,600,450,15764594"/>
          <p:cNvPicPr/>
          <p:nvPr/>
        </p:nvPicPr>
        <p:blipFill>
          <a:blip r:embed="rId1"/>
          <a:stretch/>
        </p:blipFill>
        <p:spPr>
          <a:xfrm>
            <a:off x="2362320" y="2362320"/>
            <a:ext cx="3429000" cy="3047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819104"/>
          <p:cNvPicPr/>
          <p:nvPr/>
        </p:nvPicPr>
        <p:blipFill>
          <a:blip r:embed="rId2"/>
          <a:stretch/>
        </p:blipFill>
        <p:spPr>
          <a:xfrm>
            <a:off x="5932440" y="2319480"/>
            <a:ext cx="3087720" cy="308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12" name="Picture 7" descr="83556927"/>
          <p:cNvPicPr/>
          <p:nvPr/>
        </p:nvPicPr>
        <p:blipFill>
          <a:blip r:embed="rId1"/>
          <a:stretch/>
        </p:blipFill>
        <p:spPr>
          <a:xfrm>
            <a:off x="2514600" y="2286000"/>
            <a:ext cx="3086280" cy="3124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93531991"/>
          <p:cNvPicPr/>
          <p:nvPr/>
        </p:nvPicPr>
        <p:blipFill>
          <a:blip r:embed="rId2"/>
          <a:stretch/>
        </p:blipFill>
        <p:spPr>
          <a:xfrm>
            <a:off x="5932440" y="2319480"/>
            <a:ext cx="3087720" cy="30877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17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