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B9EA-16F2-438D-AF01-A24DE2A23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FE8A-4451-4C72-87AB-19E22781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2B9F-6AA8-4130-99FE-FB4BD1F9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373-7FB5-47C1-A2FC-18448CDB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7041-8F0E-41E0-B41D-5D398C76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172-8782-4FF7-B355-306CCE2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806-BE2C-47F4-9F1F-538A1CE9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548C-23C2-48FB-A8DD-F86440224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EAD8-57B7-4769-B894-960C4D2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602C-9491-4F9B-B09F-D572B542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6A29-30AB-456F-87F6-C31BD69D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408-8F07-4C7D-8A66-B90829D1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0075-8084-4E91-A36A-E08C15C6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4D0A-E44D-4600-A92C-9C4F0DF8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32F2-5CE3-4FEF-9131-01DFA7CE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C871-298B-45BB-9F17-73394F65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036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121200"/>
            <a:ext cx="264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8EAB-5088-4BD5-AEA1-C57CC3D8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D27E-990B-4557-A9D6-BB7782ED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1A99-D2F8-4914-9231-FA5D25E2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B3B-61F7-4845-B5AB-8C7DA637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6000"/>
            <a:ext cx="82296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1393-E290-44CF-9F4B-EF386535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1A80-A61C-4EAA-85BC-BD90120C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2120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CB3-6092-4925-91DC-BD2C9B99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0360"/>
            <a:ext cx="40158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21200"/>
            <a:ext cx="8229600" cy="16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891-D910-4D25-BA4B-FA57544C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916160"/>
            <a:ext cx="289584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916160"/>
            <a:ext cx="2133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DE2C-CCD3-4940-9EFB-E6A3768880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6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60360"/>
            <a:ext cx="82296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003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003280"/>
            <a:ext cx="28958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003280"/>
            <a:ext cx="21337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309B-AAB2-445C-8577-5FA05E4EF4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-31680" y="3209760"/>
            <a:ext cx="9139320" cy="2189160"/>
          </a:xfrm>
          <a:prstGeom prst="rect">
            <a:avLst/>
          </a:prstGeom>
          <a:solidFill>
            <a:srgbClr val="00669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6720" y="111276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006699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324000" y="34941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zh-CN" sz="4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f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49400"/>
            <a:ext cx="82072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000080"/>
            <a:ext cx="89280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262080"/>
            <a:ext cx="1388880" cy="2743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4BA2-7509-42CD-9E21-04C15FE285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6:0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