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C51-552C-427F-8D72-9B8EE938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C2E-533B-417D-814E-206211E1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386-1B29-49EF-9F69-1133E4BE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0D2-2CBA-46BA-B7F2-8CF15858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08A5-2394-4503-9D79-F6C85801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16A8-8E1B-4E43-A21B-CFEE3AB4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FA13-74C1-4C49-AA4C-1D33987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0667-2076-479E-8D19-A917646D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5FEB-68AA-42BA-9739-B62EEDCE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9883-6460-4520-9CAF-D38675C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9624-2008-4B12-937B-24A2A316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BE7-BADF-445E-B4DD-3D4F23FE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E8D5-095D-418A-8A4E-7A695A83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38AC-7B95-4D71-A823-F9CD853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BCE7-4726-488A-8919-D8A8AD7F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3AF9-39F4-43F9-AE85-0BEC45FC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C77F-F477-43E4-9704-C75E8350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4201-B452-4943-9E43-BB353E0A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4B55-9B63-4E7D-B26B-B15E1BD2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0E63-1936-4EA4-90F3-7651F9C0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ACD5-E5B7-4ACD-ABB1-8CC2D1ED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8AE0-1B01-4CAA-BDF8-94B17D6B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BC1-0A88-4A66-9FB7-8C042817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B555-2483-4F86-83C2-14BDD83D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ECD2-95C3-465F-A4D8-092D0632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2A9F-C029-4350-988B-DB7C8B3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21A2-8D2C-4D17-889E-77E69D35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40A59-5045-4A63-A4F7-7136D6E6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E9A9-AD6C-4FDD-8965-14BDE8A9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A655-4102-4388-A988-3A9CC1D5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D3C-4779-441F-8787-5876D0B0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C32-2E72-48F9-81FE-39218121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C48-0CD2-456E-99FD-01513C94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8AF-2194-412A-AFF5-2859200F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77D-7EAD-4442-B391-E214E334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CAB-403F-4BE1-9782-35227EF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370C-C9F3-41E9-8AA7-43C4EC7A47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D6BB-CB6E-4820-B353-BB22D1855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16CD-91A7-403C-B85F-A33026A4ED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真心的付出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心的微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3000960" y="54936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学家长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206280" y="6381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孩子的学习习惯有差异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如何减少差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是重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听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是抓作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是抓阅读重方法（答案就在原文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是抓写字、及时改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250920" y="260280"/>
            <a:ext cx="1081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ziliao/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倾听的好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会否都听，一是修养的体现，二能取长补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学生认真审题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关键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学生认真独立的完成作业和自觉检查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对家长提一些建议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是要正确看待分数，我们需要培养的是一个身心健康全面发展的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老师：了解孩子情况、了解对学生的基本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创建良好的家庭环境，多与孩子交流，多鼓励，让他们自信，有良好的人生态度（认真、耐性、执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常带孩子外出，了解社会、生活（体育锻炼、手抄报、交友、编作文集、小发明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在平日的学习中，我希望家长配合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督促孩子及时完成作业，态度认真一看便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督促孩子完成口头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现问题及时联系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督促孩子认真阅读课外书，最好与孩子一起读，一起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孩子形成积极健康的观念，安全时刻在心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66920" y="6381720"/>
            <a:ext cx="67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3:14:3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3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