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C41-89DB-4644-A492-89251918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D74-B8EA-4006-9C56-242EDA7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F4A-B362-4A48-BECA-7AABCC00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3D9-4A53-412B-BD43-D52CA358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422-A013-4367-921A-D6BBFEE0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E9EE-A9A4-4187-8DF0-EC085B17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DDF-18CE-4D2B-AFAE-D4750F2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9F3-F789-4506-92F8-021F9D27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9245-AD22-453C-A4EE-18D1103C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5FEB-2659-4BDD-A436-0096506C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714-41C0-4C0B-83C2-AB94F55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A5A-AF5C-4304-9D67-7AC7B84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4B9A-9B26-4E94-B76E-C2CDF18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E285-A2A9-465D-8C52-32620F6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CD69-5DEC-422D-8F1D-02AC9D5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1D2-77C0-45C3-837D-03CB0FA0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555-76F3-48F4-8EBF-7DA60218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4FB6-834A-45CB-88F4-0F94994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6F6-3019-4AED-8E30-73FE1456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AFA-FB7C-40F2-BF93-5BBF5171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F3D-1FCE-4D01-8BBA-C30DA329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3F2-696E-4A6E-8916-CE1F955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B8B-B406-4D65-83E8-9FE98D4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5C3-06E6-4FFC-A5F5-C60463A2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1B8-3445-4116-966D-F4E3F2F77C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BD34-4C65-47DA-A67A-23F712ABE1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BDB-E375-48BD-865B-1AD2CD08E4CF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BDC9-8FBE-442E-B733-731B3CB13CA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r.png"/>
          <p:cNvPicPr/>
          <p:nvPr/>
        </p:nvPicPr>
        <p:blipFill>
          <a:blip r:embed="rId2"/>
          <a:stretch/>
        </p:blipFill>
        <p:spPr>
          <a:xfrm rot="21302400">
            <a:off x="919080" y="579240"/>
            <a:ext cx="6873840" cy="1725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692800">
            <a:off x="4839840" y="14954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教学学习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195640" y="5378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53053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2431800" y="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"/>
          <p:cNvSpPr/>
          <p:nvPr/>
        </p:nvSpPr>
        <p:spPr>
          <a:xfrm>
            <a:off x="2714760" y="17114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876480" y="1854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790000" y="17114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6"/>
          <p:cNvSpPr/>
          <p:nvPr/>
        </p:nvSpPr>
        <p:spPr>
          <a:xfrm>
            <a:off x="2714760" y="24940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876480" y="263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90000" y="249408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"/>
          <p:cNvSpPr/>
          <p:nvPr/>
        </p:nvSpPr>
        <p:spPr>
          <a:xfrm>
            <a:off x="2714760" y="3282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3876480" y="342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790000" y="32828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99" name="Rectangle 4"/>
            <p:cNvSpPr/>
            <p:nvPr/>
          </p:nvSpPr>
          <p:spPr>
            <a:xfrm>
              <a:off x="152388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152388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152388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152388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364248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64248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364248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364248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76144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76144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576144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576144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116" name="Oval 4"/>
            <p:cNvSpPr/>
            <p:nvPr/>
          </p:nvSpPr>
          <p:spPr>
            <a:xfrm>
              <a:off x="3683880" y="8254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3944160" y="10051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 rot="2160000">
              <a:off x="5404320" y="176796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 rot="2160000">
              <a:off x="5418000" y="182196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5844240" y="19090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6104160" y="20887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"/>
            <p:cNvSpPr/>
            <p:nvPr/>
          </p:nvSpPr>
          <p:spPr>
            <a:xfrm rot="6480000">
              <a:off x="6159600" y="3090600"/>
              <a:ext cx="326880" cy="5994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 rot="17280000">
              <a:off x="6230880" y="3164040"/>
              <a:ext cx="2289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5019120" y="366300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5279040" y="384264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 rot="10800000">
              <a:off x="4348440" y="406944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4490640" y="415224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2348640" y="366300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608920" y="384264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8"/>
            <p:cNvSpPr/>
            <p:nvPr/>
          </p:nvSpPr>
          <p:spPr>
            <a:xfrm rot="15120000">
              <a:off x="2664720" y="3108240"/>
              <a:ext cx="326880" cy="5994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 rot="4320000">
              <a:off x="2735280" y="3274920"/>
              <a:ext cx="2289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1523880" y="19090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1783800" y="20887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 rot="19440000">
              <a:off x="3244320" y="177912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 rot="19440000">
              <a:off x="3257280" y="189036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上弧形箭头 4"/>
          <p:cNvSpPr/>
          <p:nvPr/>
        </p:nvSpPr>
        <p:spPr>
          <a:xfrm>
            <a:off x="973080" y="1406520"/>
            <a:ext cx="2513160" cy="1511280"/>
          </a:xfrm>
          <a:custGeom>
            <a:avLst/>
            <a:gdLst>
              <a:gd name="textAreaLeft" fmla="*/ 383040 w 2513160"/>
              <a:gd name="textAreaRight" fmla="*/ 1853280 w 251316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89" hR="21600" stAng="10800000" swAng="5400000"/>
                <a:lnTo>
                  <a:pt x="12633" y="0"/>
                </a:lnTo>
                <a:arcTo wR="6589" hR="21600" stAng="-5400000" swAng="3239919"/>
                <a:lnTo>
                  <a:pt x="21444" y="16926"/>
                </a:lnTo>
                <a:lnTo>
                  <a:pt x="16200" y="21600"/>
                </a:lnTo>
                <a:lnTo>
                  <a:pt x="10644" y="16926"/>
                </a:lnTo>
                <a:lnTo>
                  <a:pt x="13022" y="16926"/>
                </a:lnTo>
                <a:arcTo wR="6589" hR="21600" stAng="-2160081" swAng="-2703075"/>
                <a:lnTo>
                  <a:pt x="9611" y="2406"/>
                </a:lnTo>
                <a:arcTo wR="6589" hR="21600" stAng="-5936844" swAng="-4863156"/>
                <a:close/>
              </a:path>
              <a:path fill="darkenLess" w="21600" h="21600">
                <a:moveTo>
                  <a:pt x="0" y="21600"/>
                </a:moveTo>
                <a:arcTo wR="6589" hR="21600" stAng="10800000" swAng="5400000"/>
                <a:lnTo>
                  <a:pt x="6589" y="0"/>
                </a:lnTo>
                <a:arcTo wR="6589" hR="21600" stAng="-5400000" swAng="536844"/>
                <a:lnTo>
                  <a:pt x="9611" y="2406"/>
                </a:lnTo>
                <a:arcTo wR="6589" hR="21600" stAng="-5936844" swAng="-4863156"/>
                <a:close/>
              </a:path>
            </a:pathLst>
          </a:cu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上弧形箭头 5"/>
          <p:cNvSpPr/>
          <p:nvPr/>
        </p:nvSpPr>
        <p:spPr>
          <a:xfrm flipH="1" flipV="1">
            <a:off x="848880" y="2952000"/>
            <a:ext cx="2260800" cy="1360440"/>
          </a:xfrm>
          <a:custGeom>
            <a:avLst/>
            <a:gdLst>
              <a:gd name="textAreaLeft" fmla="*/ 345240 w 2260800"/>
              <a:gd name="textAreaRight" fmla="*/ 1667520 w 2260800"/>
              <a:gd name="textAreaTop" fmla="*/ 182160 h 1360440"/>
              <a:gd name="textAreaBottom" fmla="*/ 117828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91" hR="21600" stAng="10800000" swAng="5400000"/>
                <a:lnTo>
                  <a:pt x="12633" y="0"/>
                </a:lnTo>
                <a:arcTo wR="6591" hR="21600" stAng="-5400000" swAng="3240291"/>
                <a:lnTo>
                  <a:pt x="21444" y="16926"/>
                </a:lnTo>
                <a:lnTo>
                  <a:pt x="16202" y="21600"/>
                </a:lnTo>
                <a:lnTo>
                  <a:pt x="10648" y="16926"/>
                </a:lnTo>
                <a:lnTo>
                  <a:pt x="13025" y="16926"/>
                </a:lnTo>
                <a:arcTo wR="6591" hR="21600" stAng="-2159709" swAng="-2703700"/>
                <a:lnTo>
                  <a:pt x="9612" y="2403"/>
                </a:lnTo>
                <a:arcTo wR="6591" hR="21600" stAng="-5936590" swAng="-4863410"/>
                <a:close/>
              </a:path>
              <a:path fill="darkenLess" w="21600" h="21600">
                <a:moveTo>
                  <a:pt x="0" y="21600"/>
                </a:moveTo>
                <a:arcTo wR="6591" hR="21600" stAng="10800000" swAng="5400000"/>
                <a:lnTo>
                  <a:pt x="6591" y="0"/>
                </a:lnTo>
                <a:arcTo wR="6591" hR="21600" stAng="-5400000" swAng="536590"/>
                <a:lnTo>
                  <a:pt x="9612" y="2403"/>
                </a:lnTo>
                <a:arcTo wR="6591" hR="21600" stAng="-5936590" swAng="-4863410"/>
                <a:close/>
              </a:path>
            </a:pathLst>
          </a:cu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​​ 14"/>
          <p:cNvSpPr/>
          <p:nvPr/>
        </p:nvSpPr>
        <p:spPr>
          <a:xfrm>
            <a:off x="2700360" y="1944720"/>
            <a:ext cx="5400720" cy="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​​ 15"/>
          <p:cNvSpPr/>
          <p:nvPr/>
        </p:nvSpPr>
        <p:spPr>
          <a:xfrm>
            <a:off x="2700360" y="3960720"/>
            <a:ext cx="5400720" cy="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885280" y="135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885280" y="324324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971640" y="48736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7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9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