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85B-271B-4F42-9349-20AF21DD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92B-7969-4482-BBAF-C27A160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64E-0C22-4E27-8C31-4E530D5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FF8-D0D3-46BF-8DC8-023F56C5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AD8-6935-4874-B491-6F83D20F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98F-83F0-4F15-9540-CF412C5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0E8-FA0A-4B6F-AF04-F58A052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959-949F-4CDC-BB75-E0B69DB0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DF9-A05E-4723-AAFB-95B8D58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F46-4405-4251-A6D1-8BFB357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C46-60CD-4996-BD67-E92F6D2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255-B13B-4DE5-AE89-5128125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CB0-FF8A-4EF7-A176-8FB7B5BA9A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31640" y="692280"/>
            <a:ext cx="1619280" cy="1620720"/>
            <a:chOff x="431640" y="692280"/>
            <a:chExt cx="1619280" cy="1620720"/>
          </a:xfrm>
        </p:grpSpPr>
        <p:sp>
          <p:nvSpPr>
            <p:cNvPr id="42" name="十字星 3"/>
            <p:cNvSpPr/>
            <p:nvPr/>
          </p:nvSpPr>
          <p:spPr>
            <a:xfrm>
              <a:off x="431640" y="692280"/>
              <a:ext cx="1619280" cy="1620720"/>
            </a:xfrm>
            <a:custGeom>
              <a:avLst/>
              <a:gdLst>
                <a:gd name="textAreaLeft" fmla="*/ 763560 w 1619280"/>
                <a:gd name="textAreaRight" fmla="*/ 855720 w 1619280"/>
                <a:gd name="textAreaTop" fmla="*/ 764280 h 1620720"/>
                <a:gd name="textAreaBottom" fmla="*/ 856440 h 16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十字星 4"/>
            <p:cNvSpPr/>
            <p:nvPr/>
          </p:nvSpPr>
          <p:spPr>
            <a:xfrm rot="2700000">
              <a:off x="673560" y="936000"/>
              <a:ext cx="1134720" cy="1133640"/>
            </a:xfrm>
            <a:custGeom>
              <a:avLst/>
              <a:gdLst>
                <a:gd name="textAreaLeft" fmla="*/ 534960 w 1134720"/>
                <a:gd name="textAreaRight" fmla="*/ 599760 w 1134720"/>
                <a:gd name="textAreaTop" fmla="*/ 534600 h 1133640"/>
                <a:gd name="textAreaBottom" fmla="*/ 599040 h 11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椭圆 5"/>
            <p:cNvSpPr/>
            <p:nvPr/>
          </p:nvSpPr>
          <p:spPr>
            <a:xfrm>
              <a:off x="1086840" y="1348200"/>
              <a:ext cx="308520" cy="3088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04000" y="3357720"/>
            <a:ext cx="1944720" cy="1942920"/>
            <a:chOff x="6804000" y="3357720"/>
            <a:chExt cx="1944720" cy="1942920"/>
          </a:xfrm>
        </p:grpSpPr>
        <p:sp>
          <p:nvSpPr>
            <p:cNvPr id="46" name="十字星 8"/>
            <p:cNvSpPr/>
            <p:nvPr/>
          </p:nvSpPr>
          <p:spPr>
            <a:xfrm>
              <a:off x="6804000" y="3357720"/>
              <a:ext cx="1944720" cy="1942920"/>
            </a:xfrm>
            <a:custGeom>
              <a:avLst/>
              <a:gdLst>
                <a:gd name="textAreaLeft" fmla="*/ 917280 w 1944720"/>
                <a:gd name="textAreaRight" fmla="*/ 1027440 w 1944720"/>
                <a:gd name="textAreaTop" fmla="*/ 916200 h 1942920"/>
                <a:gd name="textAreaBottom" fmla="*/ 10267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十字星 9"/>
            <p:cNvSpPr/>
            <p:nvPr/>
          </p:nvSpPr>
          <p:spPr>
            <a:xfrm rot="2700000">
              <a:off x="7095960" y="3647880"/>
              <a:ext cx="1360080" cy="1361520"/>
            </a:xfrm>
            <a:custGeom>
              <a:avLst/>
              <a:gdLst>
                <a:gd name="textAreaLeft" fmla="*/ 641520 w 1360080"/>
                <a:gd name="textAreaRight" fmla="*/ 718560 w 1360080"/>
                <a:gd name="textAreaTop" fmla="*/ 642240 h 1361520"/>
                <a:gd name="textAreaBottom" fmla="*/ 7192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10"/>
            <p:cNvSpPr/>
            <p:nvPr/>
          </p:nvSpPr>
          <p:spPr>
            <a:xfrm>
              <a:off x="7590960" y="4143960"/>
              <a:ext cx="370800" cy="370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240000" y="1305000"/>
            <a:ext cx="2430720" cy="2430360"/>
            <a:chOff x="3240000" y="1305000"/>
            <a:chExt cx="2430720" cy="2430360"/>
          </a:xfrm>
        </p:grpSpPr>
        <p:sp>
          <p:nvSpPr>
            <p:cNvPr id="50" name="十字星 12"/>
            <p:cNvSpPr/>
            <p:nvPr/>
          </p:nvSpPr>
          <p:spPr>
            <a:xfrm>
              <a:off x="3240000" y="1305000"/>
              <a:ext cx="2430720" cy="2430360"/>
            </a:xfrm>
            <a:custGeom>
              <a:avLst/>
              <a:gdLst>
                <a:gd name="textAreaLeft" fmla="*/ 1146240 w 2430720"/>
                <a:gd name="textAreaRight" fmla="*/ 1284480 w 2430720"/>
                <a:gd name="textAreaTop" fmla="*/ 1146240 h 2430360"/>
                <a:gd name="textAreaBottom" fmla="*/ 1284120 h 24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十字星 13"/>
            <p:cNvSpPr/>
            <p:nvPr/>
          </p:nvSpPr>
          <p:spPr>
            <a:xfrm rot="2700000">
              <a:off x="3859920" y="1924560"/>
              <a:ext cx="1190880" cy="1190880"/>
            </a:xfrm>
            <a:custGeom>
              <a:avLst/>
              <a:gdLst>
                <a:gd name="textAreaLeft" fmla="*/ 561600 w 1190880"/>
                <a:gd name="textAreaRight" fmla="*/ 629280 w 1190880"/>
                <a:gd name="textAreaTop" fmla="*/ 561600 h 1190880"/>
                <a:gd name="textAreaBottom" fmla="*/ 629280 h 119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14"/>
            <p:cNvSpPr/>
            <p:nvPr/>
          </p:nvSpPr>
          <p:spPr>
            <a:xfrm>
              <a:off x="4223520" y="2288520"/>
              <a:ext cx="463320" cy="46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4616280"/>
            <a:ext cx="1135080" cy="1135080"/>
            <a:chOff x="2627280" y="4616280"/>
            <a:chExt cx="1135080" cy="1135080"/>
          </a:xfrm>
        </p:grpSpPr>
        <p:sp>
          <p:nvSpPr>
            <p:cNvPr id="54" name="十字星 16"/>
            <p:cNvSpPr/>
            <p:nvPr/>
          </p:nvSpPr>
          <p:spPr>
            <a:xfrm>
              <a:off x="2627280" y="4616280"/>
              <a:ext cx="1135080" cy="1135080"/>
            </a:xfrm>
            <a:custGeom>
              <a:avLst/>
              <a:gdLst>
                <a:gd name="textAreaLeft" fmla="*/ 535320 w 1135080"/>
                <a:gd name="textAreaRight" fmla="*/ 599760 w 1135080"/>
                <a:gd name="textAreaTop" fmla="*/ 535320 h 1135080"/>
                <a:gd name="textAreaBottom" fmla="*/ 599760 h 113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十字星 17"/>
            <p:cNvSpPr/>
            <p:nvPr/>
          </p:nvSpPr>
          <p:spPr>
            <a:xfrm rot="2700000">
              <a:off x="2797200" y="4786560"/>
              <a:ext cx="794520" cy="794520"/>
            </a:xfrm>
            <a:custGeom>
              <a:avLst/>
              <a:gdLst>
                <a:gd name="textAreaLeft" fmla="*/ 374760 w 794520"/>
                <a:gd name="textAreaRight" fmla="*/ 419760 w 794520"/>
                <a:gd name="textAreaTop" fmla="*/ 374760 h 794520"/>
                <a:gd name="textAreaBottom" fmla="*/ 419760 h 79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18"/>
            <p:cNvSpPr/>
            <p:nvPr/>
          </p:nvSpPr>
          <p:spPr>
            <a:xfrm>
              <a:off x="3086640" y="5075640"/>
              <a:ext cx="216360" cy="216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24720" y="297000"/>
            <a:ext cx="1295280" cy="1295280"/>
            <a:chOff x="6624720" y="297000"/>
            <a:chExt cx="1295280" cy="1295280"/>
          </a:xfrm>
        </p:grpSpPr>
        <p:sp>
          <p:nvSpPr>
            <p:cNvPr id="58" name="十字星 24"/>
            <p:cNvSpPr/>
            <p:nvPr/>
          </p:nvSpPr>
          <p:spPr>
            <a:xfrm>
              <a:off x="6624720" y="297000"/>
              <a:ext cx="1295280" cy="1295280"/>
            </a:xfrm>
            <a:custGeom>
              <a:avLst/>
              <a:gdLst>
                <a:gd name="textAreaLeft" fmla="*/ 610920 w 1295280"/>
                <a:gd name="textAreaRight" fmla="*/ 684360 w 1295280"/>
                <a:gd name="textAreaTop" fmla="*/ 610920 h 1295280"/>
                <a:gd name="textAreaBottom" fmla="*/ 6843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十字星 25"/>
            <p:cNvSpPr/>
            <p:nvPr/>
          </p:nvSpPr>
          <p:spPr>
            <a:xfrm rot="2700000">
              <a:off x="6818400" y="491040"/>
              <a:ext cx="906840" cy="906840"/>
            </a:xfrm>
            <a:custGeom>
              <a:avLst/>
              <a:gdLst>
                <a:gd name="textAreaLeft" fmla="*/ 427680 w 906840"/>
                <a:gd name="textAreaRight" fmla="*/ 479160 w 906840"/>
                <a:gd name="textAreaTop" fmla="*/ 427680 h 906840"/>
                <a:gd name="textAreaBottom" fmla="*/ 479160 h 90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186" y="10186"/>
                  </a:lnTo>
                  <a:lnTo>
                    <a:pt x="10800" y="0"/>
                  </a:lnTo>
                  <a:lnTo>
                    <a:pt x="11414" y="10186"/>
                  </a:lnTo>
                  <a:lnTo>
                    <a:pt x="21600" y="10800"/>
                  </a:lnTo>
                  <a:lnTo>
                    <a:pt x="11414" y="11414"/>
                  </a:lnTo>
                  <a:lnTo>
                    <a:pt x="10800" y="21600"/>
                  </a:lnTo>
                  <a:lnTo>
                    <a:pt x="10186" y="114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26"/>
            <p:cNvSpPr/>
            <p:nvPr/>
          </p:nvSpPr>
          <p:spPr>
            <a:xfrm>
              <a:off x="7148880" y="821160"/>
              <a:ext cx="246960" cy="246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100000">
                  <a:srgbClr val="e1e8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835360" y="58572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星星主题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restart="never" nodeType="withEffect" fill="hold" presetClass="entr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" autoRev="1" restart="never" fill="hold" repeatCount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Rot by="21600000" from="0" to="21600000">
                                      <p:cBhvr>
                                        <p:cTn id="8" dur="12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360"/>
                                      </p:to>
                                    </p:animRot>
                                    <p:animScale>
                                      <p:cBhvr>
                                        <p:cTn id="9" dur="500" autoRev="1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Effect filter="fade" transition="in">
                                      <p:cBhvr additive="base">
                                        <p:cTn id="10" dur="5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restart="never" nodeType="withEffect" fill="hold" presetClass="entr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33" autoRev="1" restart="never" fill="hold" repeatCount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" dur="300" autoRev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Effect filter="fade" transition="in">
                                      <p:cBhvr additive="base">
                                        <p:cTn id="15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restart="never" nodeType="withEffect" fill="hold" presetClass="entr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300" autoRev="1" restart="never" fill="hold" repeatCount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Rot by="21600000" from="0" to="21600000">
                                      <p:cBhvr>
                                        <p:cTn id="19" dur="12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360"/>
                                      </p:to>
                                    </p:animRot>
                                    <p:animScale>
                                      <p:cBhvr>
                                        <p:cTn id="20" dur="500" autoRev="1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Effect filter="fade" transition="in">
                                      <p:cBhvr additive="base">
                                        <p:cTn id="21" dur="5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restart="never" nodeType="withEffect" fill="hold" presetClass="entr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300" autoRev="1" restart="never" fill="hold" repeatCount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Rot by="21600000" from="0" to="10800000">
                                      <p:cBhvr>
                                        <p:cTn id="25" dur="1200" autoRev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180"/>
                                      </p:to>
                                    </p:animRot>
                                    <p:animScale>
                                      <p:cBhvr>
                                        <p:cTn id="26" dur="500" autoRev="1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Effect filter="fade" transition="in">
                                      <p:cBhvr additive="base">
                                        <p:cTn id="27" dur="5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restart="never" nodeType="withEffect" fill="hold" presetClass="entr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300" autoRev="1" restart="never" fill="hold" repeatCount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Rot by="21600000" from="0" to="21600000">
                                      <p:cBhvr>
                                        <p:cTn id="31" dur="12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360"/>
                                      </p:to>
                                    </p:animRot>
                                    <p:animScale>
                                      <p:cBhvr>
                                        <p:cTn id="32" dur="500" autoRev="1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Effect filter="fade" transition="in">
                                      <p:cBhvr additive="base">
                                        <p:cTn id="33" dur="5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C07-6CAA-401C-9522-F7AAC0C9B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4:44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